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327-578C-4719-A13F-9BCEA5C4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E19-8B01-4FBA-8CEF-F296F983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F68-7D3A-4BAD-9AA0-46B861FA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95D-8F8D-4853-A16A-DC8CC1E1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803-ABCD-48C6-833A-E5F72B85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6B3-275D-43CE-939B-C702C6DB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175-65EB-438A-A551-47B6F47A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EA5-E7FA-438E-8C83-A07D84DA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E3C-015B-4511-8144-6B1BD4A5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7FB-1C15-4EB5-9951-CFF053FB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A09-F038-42B8-A9F9-EA374341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9BC-A742-469B-ABC0-8375AFBF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189" b="0"/>
          <a:stretch/>
        </p:blipFill>
        <p:spPr>
          <a:xfrm>
            <a:off x="-3240" y="0"/>
            <a:ext cx="9147240" cy="5327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11661" r="0" b="20381"/>
          <a:stretch/>
        </p:blipFill>
        <p:spPr>
          <a:xfrm>
            <a:off x="971640" y="404640"/>
            <a:ext cx="7561080" cy="237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4ac"/>
                </a:solidFill>
                <a:latin typeface="Myriad Pro"/>
              </a:rPr>
              <a:t>Click to edit the title text format</a:t>
            </a:r>
            <a:endParaRPr b="0" lang="en-US" sz="2600" spc="-1" strike="noStrike">
              <a:solidFill>
                <a:srgbClr val="0064ac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3a3a"/>
              </a:buClr>
              <a:buFont typeface="Helvetica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a3a"/>
                </a:solidFill>
                <a:latin typeface="Myriad Pro"/>
              </a:rPr>
              <a:t>Click to edit the outline text format</a:t>
            </a:r>
            <a:endParaRPr b="0" lang="en-US" sz="2000" spc="-1" strike="noStrike">
              <a:solidFill>
                <a:srgbClr val="3a3a3a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3a3a3a"/>
              </a:buClr>
              <a:buFont typeface="Helvetic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3a3a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3a3a3a"/>
              </a:solidFill>
              <a:latin typeface="Myriad Pro"/>
            </a:endParaRPr>
          </a:p>
          <a:p>
            <a:pPr lvl="2" marL="1143000" indent="-228600">
              <a:spcBef>
                <a:spcPts val="400"/>
              </a:spcBef>
              <a:buClr>
                <a:srgbClr val="3a3a3a"/>
              </a:buClr>
              <a:buFont typeface="Helvetica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3a3a"/>
                </a:solidFill>
                <a:latin typeface="Myriad Pro"/>
              </a:rPr>
              <a:t>Third Outline Level</a:t>
            </a:r>
            <a:endParaRPr b="0" lang="en-US" sz="1600" spc="-1" strike="noStrike">
              <a:solidFill>
                <a:srgbClr val="3a3a3a"/>
              </a:solidFill>
              <a:latin typeface="Myriad Pro"/>
            </a:endParaRPr>
          </a:p>
          <a:p>
            <a:pPr lvl="3" marL="1600200" indent="-228600">
              <a:spcBef>
                <a:spcPts val="349"/>
              </a:spcBef>
              <a:buClr>
                <a:srgbClr val="3a3a3a"/>
              </a:buClr>
              <a:buFont typeface="Helvetica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3a3a"/>
                </a:solidFill>
                <a:latin typeface="Myriad Pro"/>
              </a:rPr>
              <a:t>Fourth Outline Level</a:t>
            </a:r>
            <a:endParaRPr b="0" lang="en-US" sz="1400" spc="-1" strike="noStrike">
              <a:solidFill>
                <a:srgbClr val="3a3a3a"/>
              </a:solidFill>
              <a:latin typeface="Myriad Pro"/>
            </a:endParaRPr>
          </a:p>
          <a:p>
            <a:pPr lvl="4" marL="2057400" indent="-228600">
              <a:spcBef>
                <a:spcPts val="349"/>
              </a:spcBef>
              <a:buClr>
                <a:srgbClr val="3a3a3a"/>
              </a:buClr>
              <a:buFont typeface="Helvetica C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3a3a"/>
                </a:solidFill>
                <a:latin typeface="Myriad Pro"/>
              </a:rPr>
              <a:t>Fifth Outline Level</a:t>
            </a:r>
            <a:endParaRPr b="0" lang="en-US" sz="1400" spc="-1" strike="noStrike">
              <a:solidFill>
                <a:srgbClr val="3a3a3a"/>
              </a:solidFill>
              <a:latin typeface="Myriad Pro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Helvetic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3a3a"/>
                </a:solidFill>
                <a:latin typeface="Myriad Pro"/>
              </a:rPr>
              <a:t>Sixth Outline Level</a:t>
            </a:r>
            <a:endParaRPr b="0" lang="en-US" sz="1400" spc="-1" strike="noStrike">
              <a:solidFill>
                <a:srgbClr val="3a3a3a"/>
              </a:solidFill>
              <a:latin typeface="Myriad Pro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Helvetic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3a3a"/>
                </a:solidFill>
                <a:latin typeface="Myriad Pro"/>
              </a:rPr>
              <a:t>Seventh Outline Level</a:t>
            </a:r>
            <a:endParaRPr b="0" lang="en-US" sz="1400" spc="-1" strike="noStrike">
              <a:solidFill>
                <a:srgbClr val="3a3a3a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FABF-19F2-4E20-8B23-6EFCABC73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3333"/>
          <p:cNvPicPr/>
          <p:nvPr/>
        </p:nvPicPr>
        <p:blipFill>
          <a:blip r:embed="rId2"/>
          <a:srcRect l="0" t="0" r="35270" b="0"/>
          <a:stretch/>
        </p:blipFill>
        <p:spPr>
          <a:xfrm>
            <a:off x="2556000" y="6273720"/>
            <a:ext cx="6264000" cy="395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8029440" y="6423120"/>
            <a:ext cx="432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F891-DC9C-4CFE-8F2A-EAC2BC6342E1}" type="slidenum">
              <a:rPr b="0" lang="en-US" sz="1400" spc="-1" strike="noStrike">
                <a:solidFill>
                  <a:srgbClr val="0064ac"/>
                </a:solidFill>
                <a:latin typeface="Myriad Pro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9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74160" y="476280"/>
            <a:ext cx="34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洋保险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素材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98400" y="541440"/>
            <a:ext cx="80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素材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E11-2BE9-4696-9C89-0F80241E5E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06:49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00:43Z</dcterms:modified>
  <cp:revision>150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