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01B-EBB2-4A5F-944E-A9A59232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0B9A-8314-4499-8950-AACFB981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E16-C13B-4DBF-8492-05BEDBAA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19D-AE9F-485E-A847-A9AAED60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F08A-C87E-426F-A067-B6841519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1F72-98B3-4AD2-806F-193CC31C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079A-9B73-4A5E-BCA6-379BD5E4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94F7-01A3-4F90-87D1-C36BC70F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4788-CC10-4385-AAB6-0E2F8F91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EC7E-1C4F-4202-9290-F987C441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52A3-27E6-4879-944A-4BA0EFD9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22E-CD68-4639-94C0-313A409D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574E-663B-41A0-BD28-BD1619EC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2E24-DD74-4EC9-B18E-95E77DC7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F560-4C3E-4B4A-90FC-103134E8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EC60-2637-418E-801F-7762BFE7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8AC1-6A5A-46D7-891E-0669B611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8944-AB2C-4BB0-9BB6-77AC2D50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E08-3F02-4229-BCDD-B452FB3B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E313-6D11-4D56-A10F-C536E949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81B-BF65-4010-A474-D45EAF60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782-30C0-44CC-80F0-A2FAB00D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404-FE34-402A-8E4B-D0AEDDDE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544-C437-4D51-A1C1-A16D2041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d1e1e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1e1e3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9b5b0"/>
              </a:buClr>
              <a:buSzPct val="70000"/>
              <a:buFont typeface="Wingdings" charset="2"/>
              <a:buChar char="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4bc4c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7785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776a5b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b4b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9b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495D-5F8F-44B0-AFA6-E8D81EA60A49}" type="datetime">
              <a:rPr b="0" lang="en-US" sz="1400" spc="-1" strike="noStrike">
                <a:solidFill>
                  <a:srgbClr val="ffffff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1e1e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4507-85C9-4C61-A314-AA810C43BB56}" type="slidenum">
              <a:rPr b="1" lang="en-US" sz="1400" spc="-1" strike="noStrike">
                <a:solidFill>
                  <a:srgbClr val="d1e1e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9b5b0"/>
              </a:buClr>
              <a:buSzPct val="70000"/>
              <a:buFont typeface="Wingdings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4bc4c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7785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776a5b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4b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9b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a606e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D1EB-4830-467E-B258-B6BA4FCBC7C4}" type="datetime">
              <a:rPr b="0" lang="en-US" sz="1400" spc="-1" strike="noStrike">
                <a:solidFill>
                  <a:srgbClr val="4a606e"/>
                </a:solidFill>
                <a:latin typeface="Tw Cen MT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B395-AA7B-448B-99C1-FDA16A93ADB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28920" y="6071760"/>
            <a:ext cx="64771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Tw Cen MT"/>
              </a:rPr>
              <a:t>PRESENTATION  NAME</a:t>
            </a:r>
            <a:endParaRPr b="0" lang="en-US" sz="4000" spc="-1" strike="noStrike">
              <a:solidFill>
                <a:srgbClr val="d1e1e3"/>
              </a:solidFill>
              <a:latin typeface="Tw Cen MT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15920" y="2602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园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素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a606e"/>
                </a:solidFill>
                <a:latin typeface="Tw Cen MT"/>
              </a:rPr>
              <a:t>Title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900" spc="-1" strike="noStrike">
                <a:solidFill>
                  <a:srgbClr val="000000"/>
                </a:solidFill>
                <a:latin typeface="Tw Cen MT"/>
              </a:rPr>
              <a:t>Cont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321300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ecced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a606e"/>
                </a:solidFill>
                <a:latin typeface="Tw Cen MT"/>
              </a:rPr>
              <a:t>使用规范说明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w Cen MT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w Cen MT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w Cen MT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w Cen MT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w Cen MT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ecced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573A-1DBA-4AE7-AF37-8F6C47A32F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19:09:1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2:14:2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