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BDF7-2512-4DFF-ADA3-F2E162C3286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2107-F811-43A3-B0E5-63C7AA28CBA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3CE9-4976-4AD0-BAC5-A0127BF7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C9EC-8478-4E27-BCBF-98782BCB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079-D62F-434D-AB20-F91DBDC7C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B4A-03C0-4E5C-95B8-2160739A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CD9D-D6D5-41E5-A2C8-BF1F2968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4F78-7AF4-407E-9732-BA80DB7E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7589-C052-4046-A2FE-E3F144E6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37DB-2FF2-4516-AAEF-2E543BA2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F518-1585-4DAA-AEA0-50CEDAFE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34AC-C238-4C2A-8829-7BF75DFDD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B56E-92AD-4711-AEAD-98A94590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537-EA48-4C26-AE7A-4A210F1E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A556-74F4-4064-A09F-DDD93C4A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3005-6370-4A45-AB73-4CDEE56A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2B03-21E7-4124-A143-83EA73D9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F0E0-8FEE-47A0-A927-74681C65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342E-FD81-4501-A48F-82C29FDE5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EC6B-F474-4E93-B1A6-690F10CB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93574-167E-49C5-9A69-D5ECF981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4DCDB-7B93-44BE-9CA0-90ABF5BB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DB56-D99C-4A57-8B86-AE71E7EF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F4AC-46A1-45F3-B4E2-8D5C92DD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DE4-43A0-47EA-9EEC-8EAFB05E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9AEE1-3F85-4FF2-BDAC-F2498B2D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E1435-1993-4E28-877E-B5E0D760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FF649-6FDB-47EB-8064-353F30A1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FF1B-82BA-4127-B59B-EC8D26E5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8F583-8843-4238-986A-A606FD76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E9333-6302-47D3-B943-3A8A09C9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4008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1400" y="114264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12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4008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1400" y="369000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0392A-76C8-4F64-9D32-00651A6A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20D-7DB4-4C83-A54A-A2088EE8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87A6-730F-421A-A9DE-353F7BFC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10F8-F722-4990-A3A9-F09A6FED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A2E-BAC4-47A8-B10A-4C6BBBFA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8400" y="369000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A54-9BF5-462A-81F3-D416626C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8400" y="114264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120" y="369000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37D-5E2F-49F6-A481-B82E1DE5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277-07B8-418D-8246-0183D840D1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4032-0D69-478B-912C-4AA25216F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13CA-1D17-40E2-876D-93FB603BC8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4872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玉米秋天收获通用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428640" y="11426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0000"/>
              </a:solidFill>
              <a:latin typeface="Arial"/>
              <a:ea typeface="宋体"/>
            </a:endParaRPr>
          </a:p>
        </p:txBody>
      </p:sp>
      <p:sp>
        <p:nvSpPr>
          <p:cNvPr id="13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thanksgiving_basket_harvest_food_sway_hg_clr"/>
          <p:cNvPicPr/>
          <p:nvPr/>
        </p:nvPicPr>
        <p:blipFill>
          <a:blip r:embed="rId2"/>
          <a:stretch/>
        </p:blipFill>
        <p:spPr>
          <a:xfrm>
            <a:off x="7086600" y="4900680"/>
            <a:ext cx="213372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  <a:ea typeface="宋体"/>
              </a:rPr>
              <a:t>Your Topic Goes Here</a:t>
            </a:r>
            <a:endParaRPr b="1" i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0492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2:41:34Z</dcterms:created>
  <dc:creator>eclipse</dc:creator>
  <dc:description/>
  <dc:language>en-US</dc:language>
  <cp:lastModifiedBy>王玉清</cp:lastModifiedBy>
  <dcterms:modified xsi:type="dcterms:W3CDTF">2016-02-22T03:40:00Z</dcterms:modified>
  <cp:revision>15</cp:revision>
  <dc:subject/>
  <dc:title>Thankful Turkey</dc:title>
</cp:coreProperties>
</file>