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51BA-4025-44D7-9D37-CFC0B481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20B9-78BC-4718-BCBB-7D1E4726E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5A9B-78D7-47DE-A332-879F4223C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54880"/>
            <a:ext cx="264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067E-7DEC-4FA7-AA85-38EBFBA6E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6E3F-06B3-45F4-8B33-27A36A4E8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47DD-67E3-4286-934F-DA115C215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4392-4DDB-41B4-B759-487422EA8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ED80-EF0F-4ED8-AA87-51A8413D3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90360" y="108000"/>
            <a:ext cx="79246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92D0-4CF1-4416-A4F9-D9FA312B9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29AA-3A2E-402A-A797-543F620F9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5488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1F41-634F-40A9-9ED0-979B1BFAB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4880"/>
            <a:ext cx="8229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5EC2-6BFF-42BD-B190-FE2937032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9"/>
          <p:cNvSpPr/>
          <p:nvPr/>
        </p:nvSpPr>
        <p:spPr>
          <a:xfrm>
            <a:off x="316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90"/>
          <p:cNvSpPr/>
          <p:nvPr/>
        </p:nvSpPr>
        <p:spPr>
          <a:xfrm>
            <a:off x="8893080" y="1052640"/>
            <a:ext cx="250920" cy="580536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" name="Object 91" descr=""/>
          <p:cNvPicPr/>
          <p:nvPr/>
        </p:nvPicPr>
        <p:blipFill>
          <a:blip r:embed="rId2"/>
          <a:stretch/>
        </p:blipFill>
        <p:spPr>
          <a:xfrm>
            <a:off x="0" y="0"/>
            <a:ext cx="9091440" cy="11970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2"/>
          <p:cNvSpPr/>
          <p:nvPr/>
        </p:nvSpPr>
        <p:spPr>
          <a:xfrm>
            <a:off x="0" y="6453360"/>
            <a:ext cx="9109080" cy="404640"/>
          </a:xfrm>
          <a:prstGeom prst="rect">
            <a:avLst/>
          </a:prstGeom>
          <a:solidFill>
            <a:srgbClr val="3b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380520" y="6477120"/>
            <a:ext cx="838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384-9287-4F6B-973E-85A9819875C1}" type="slidenum"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3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" name="AutoShape 94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Freeform 95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Freeform 96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97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98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Oval 99"/>
          <p:cNvSpPr/>
          <p:nvPr/>
        </p:nvSpPr>
        <p:spPr>
          <a:xfrm>
            <a:off x="7451640" y="260280"/>
            <a:ext cx="86544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Oval 100"/>
          <p:cNvSpPr/>
          <p:nvPr/>
        </p:nvSpPr>
        <p:spPr>
          <a:xfrm>
            <a:off x="651672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Oval 101"/>
          <p:cNvSpPr/>
          <p:nvPr/>
        </p:nvSpPr>
        <p:spPr>
          <a:xfrm>
            <a:off x="5580000" y="260280"/>
            <a:ext cx="865080" cy="865080"/>
          </a:xfrm>
          <a:prstGeom prst="ellipse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6248520" y="6477120"/>
            <a:ext cx="2590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b5ab1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6a4d0"/>
              </a:buClr>
              <a:buSzPct val="25000"/>
              <a:buFont typeface="Wingdings" charset="2"/>
              <a:buChar char="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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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"/>
            </a:pPr>
            <a:r>
              <a:rPr b="1" lang="en-US" sz="2800" spc="-1" strike="noStrike">
                <a:solidFill>
                  <a:srgbClr val="36a4d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6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6a4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14" name="AutoShape 5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6" y="0"/>
                  </a:moveTo>
                  <a:arcTo wR="1966" hR="1966" stAng="16200000" swAng="-5400000"/>
                  <a:lnTo>
                    <a:pt x="0" y="22831"/>
                  </a:lnTo>
                  <a:arcTo wR="1966" hR="1966" stAng="10800000" swAng="-5400000"/>
                  <a:lnTo>
                    <a:pt x="19634" y="24797"/>
                  </a:lnTo>
                  <a:arcTo wR="1966" hR="1966" stAng="5400000" swAng="-5400000"/>
                  <a:lnTo>
                    <a:pt x="21600" y="1966"/>
                  </a:lnTo>
                  <a:arcTo wR="1966" hR="1966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15" name="Object 6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7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AutoShape 8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AutoShape 9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AutoShape 10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6" y="0"/>
                  </a:moveTo>
                  <a:arcTo wR="1966" hR="1966" stAng="16200000" swAng="-5400000"/>
                  <a:lnTo>
                    <a:pt x="0" y="22831"/>
                  </a:lnTo>
                  <a:arcTo wR="1966" hR="1966" stAng="10800000" swAng="-5400000"/>
                  <a:lnTo>
                    <a:pt x="19634" y="24797"/>
                  </a:lnTo>
                  <a:arcTo wR="1966" hR="1966" stAng="5400000" swAng="-5400000"/>
                  <a:lnTo>
                    <a:pt x="21600" y="1966"/>
                  </a:lnTo>
                  <a:arcTo wR="1966" hR="1966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36a4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20" name="Object 11" descr=""/>
            <p:cNvPicPr/>
            <p:nvPr/>
          </p:nvPicPr>
          <p:blipFill>
            <a:blip r:embed="rId2"/>
            <a:stretch/>
          </p:blipFill>
          <p:spPr>
            <a:xfrm>
              <a:off x="4856400" y="229284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AutoShape 12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AutoShape 13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AutoShape 14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99"/>
          <p:cNvGrpSpPr/>
          <p:nvPr/>
        </p:nvGrpSpPr>
        <p:grpSpPr>
          <a:xfrm>
            <a:off x="0" y="1752480"/>
            <a:ext cx="9144000" cy="4548600"/>
            <a:chOff x="0" y="1752480"/>
            <a:chExt cx="9144000" cy="4548600"/>
          </a:xfrm>
        </p:grpSpPr>
        <p:grpSp>
          <p:nvGrpSpPr>
            <p:cNvPr id="326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27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8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5"/>
            <p:cNvGrpSpPr/>
            <p:nvPr/>
          </p:nvGrpSpPr>
          <p:grpSpPr>
            <a:xfrm>
              <a:off x="1379520" y="2609640"/>
              <a:ext cx="2056680" cy="3548160"/>
              <a:chOff x="1379520" y="2609640"/>
              <a:chExt cx="2056680" cy="3548160"/>
            </a:xfrm>
          </p:grpSpPr>
          <p:grpSp>
            <p:nvGrpSpPr>
              <p:cNvPr id="330" name="Group 59"/>
              <p:cNvGrpSpPr/>
              <p:nvPr/>
            </p:nvGrpSpPr>
            <p:grpSpPr>
              <a:xfrm>
                <a:off x="1785240" y="3449520"/>
                <a:ext cx="1526040" cy="2425320"/>
                <a:chOff x="1785240" y="3449520"/>
                <a:chExt cx="1526040" cy="2425320"/>
              </a:xfrm>
            </p:grpSpPr>
            <p:grpSp>
              <p:nvGrpSpPr>
                <p:cNvPr id="331" name="Group 60"/>
                <p:cNvGrpSpPr/>
                <p:nvPr/>
              </p:nvGrpSpPr>
              <p:grpSpPr>
                <a:xfrm>
                  <a:off x="1785240" y="3607560"/>
                  <a:ext cx="1420560" cy="2267280"/>
                  <a:chOff x="1785240" y="3607560"/>
                  <a:chExt cx="1420560" cy="2267280"/>
                </a:xfrm>
              </p:grpSpPr>
              <p:sp>
                <p:nvSpPr>
                  <p:cNvPr id="332" name="Freeform 61"/>
                  <p:cNvSpPr/>
                  <p:nvPr/>
                </p:nvSpPr>
                <p:spPr>
                  <a:xfrm rot="3876600">
                    <a:off x="1357200" y="449496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62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Group 63"/>
                <p:cNvGrpSpPr/>
                <p:nvPr/>
              </p:nvGrpSpPr>
              <p:grpSpPr>
                <a:xfrm>
                  <a:off x="2221560" y="3449520"/>
                  <a:ext cx="1089720" cy="1739880"/>
                  <a:chOff x="2221560" y="3449520"/>
                  <a:chExt cx="1089720" cy="1739880"/>
                </a:xfrm>
              </p:grpSpPr>
              <p:sp>
                <p:nvSpPr>
                  <p:cNvPr id="335" name="Freeform 64"/>
                  <p:cNvSpPr/>
                  <p:nvPr/>
                </p:nvSpPr>
                <p:spPr>
                  <a:xfrm flipV="1" rot="3876600">
                    <a:off x="1892880" y="4130280"/>
                    <a:ext cx="174672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65"/>
                  <p:cNvSpPr/>
                  <p:nvPr/>
                </p:nvSpPr>
                <p:spPr>
                  <a:xfrm flipV="1" rot="3876600">
                    <a:off x="2926440" y="48124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66"/>
              <p:cNvGrpSpPr/>
              <p:nvPr/>
            </p:nvGrpSpPr>
            <p:grpSpPr>
              <a:xfrm>
                <a:off x="1379520" y="2609640"/>
                <a:ext cx="1270440" cy="1310040"/>
                <a:chOff x="1379520" y="2609640"/>
                <a:chExt cx="1270440" cy="1310040"/>
              </a:xfrm>
            </p:grpSpPr>
            <p:sp>
              <p:nvSpPr>
                <p:cNvPr id="338" name="Oval 67"/>
                <p:cNvSpPr/>
                <p:nvPr/>
              </p:nvSpPr>
              <p:spPr>
                <a:xfrm>
                  <a:off x="13795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9" name="Oval 68"/>
                <p:cNvSpPr/>
                <p:nvPr/>
              </p:nvSpPr>
              <p:spPr>
                <a:xfrm>
                  <a:off x="13795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0" name="Oval 69"/>
                <p:cNvSpPr/>
                <p:nvPr/>
              </p:nvSpPr>
              <p:spPr>
                <a:xfrm>
                  <a:off x="1463400" y="269460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1" name="Oval 70"/>
                <p:cNvSpPr/>
                <p:nvPr/>
              </p:nvSpPr>
              <p:spPr>
                <a:xfrm>
                  <a:off x="1463400" y="269748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2" name="Oval 71"/>
                <p:cNvSpPr/>
                <p:nvPr/>
              </p:nvSpPr>
              <p:spPr>
                <a:xfrm>
                  <a:off x="1518120" y="2752560"/>
                  <a:ext cx="99288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43" name="Group 72"/>
                <p:cNvGrpSpPr/>
                <p:nvPr/>
              </p:nvGrpSpPr>
              <p:grpSpPr>
                <a:xfrm>
                  <a:off x="1533240" y="2768400"/>
                  <a:ext cx="962280" cy="993600"/>
                  <a:chOff x="1533240" y="2768400"/>
                  <a:chExt cx="962280" cy="993600"/>
                </a:xfrm>
              </p:grpSpPr>
              <p:sp>
                <p:nvSpPr>
                  <p:cNvPr id="344" name="Oval 73"/>
                  <p:cNvSpPr/>
                  <p:nvPr/>
                </p:nvSpPr>
                <p:spPr>
                  <a:xfrm>
                    <a:off x="1533240" y="2768400"/>
                    <a:ext cx="96228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Oval 74"/>
                  <p:cNvSpPr/>
                  <p:nvPr/>
                </p:nvSpPr>
                <p:spPr>
                  <a:xfrm>
                    <a:off x="1545480" y="2773800"/>
                    <a:ext cx="9392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75"/>
                  <p:cNvSpPr/>
                  <p:nvPr/>
                </p:nvSpPr>
                <p:spPr>
                  <a:xfrm>
                    <a:off x="1555200" y="2783520"/>
                    <a:ext cx="8931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76"/>
                  <p:cNvSpPr/>
                  <p:nvPr/>
                </p:nvSpPr>
                <p:spPr>
                  <a:xfrm>
                    <a:off x="1607760" y="2808720"/>
                    <a:ext cx="7938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Text Box 77"/>
              <p:cNvSpPr/>
              <p:nvPr/>
            </p:nvSpPr>
            <p:spPr>
              <a:xfrm rot="3925800">
                <a:off x="83196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Text Box 78"/>
              <p:cNvSpPr/>
              <p:nvPr/>
            </p:nvSpPr>
            <p:spPr>
              <a:xfrm rot="3925800">
                <a:off x="129240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96"/>
            <p:cNvGrpSpPr/>
            <p:nvPr/>
          </p:nvGrpSpPr>
          <p:grpSpPr>
            <a:xfrm>
              <a:off x="3127320" y="2609640"/>
              <a:ext cx="2049840" cy="3548160"/>
              <a:chOff x="3127320" y="2609640"/>
              <a:chExt cx="2049840" cy="3548160"/>
            </a:xfrm>
          </p:grpSpPr>
          <p:grpSp>
            <p:nvGrpSpPr>
              <p:cNvPr id="351" name="Group 41"/>
              <p:cNvGrpSpPr/>
              <p:nvPr/>
            </p:nvGrpSpPr>
            <p:grpSpPr>
              <a:xfrm>
                <a:off x="3531960" y="3449520"/>
                <a:ext cx="1526400" cy="2424960"/>
                <a:chOff x="3531960" y="3449520"/>
                <a:chExt cx="1526400" cy="2424960"/>
              </a:xfrm>
            </p:grpSpPr>
            <p:grpSp>
              <p:nvGrpSpPr>
                <p:cNvPr id="352" name="Group 42"/>
                <p:cNvGrpSpPr/>
                <p:nvPr/>
              </p:nvGrpSpPr>
              <p:grpSpPr>
                <a:xfrm>
                  <a:off x="3531960" y="3607200"/>
                  <a:ext cx="1420560" cy="2267280"/>
                  <a:chOff x="3531960" y="3607200"/>
                  <a:chExt cx="1420560" cy="2267280"/>
                </a:xfrm>
              </p:grpSpPr>
              <p:sp>
                <p:nvSpPr>
                  <p:cNvPr id="353" name="Freeform 43"/>
                  <p:cNvSpPr/>
                  <p:nvPr/>
                </p:nvSpPr>
                <p:spPr>
                  <a:xfrm rot="3876600">
                    <a:off x="3103920" y="449460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44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45"/>
                <p:cNvGrpSpPr/>
                <p:nvPr/>
              </p:nvGrpSpPr>
              <p:grpSpPr>
                <a:xfrm>
                  <a:off x="3968280" y="3449520"/>
                  <a:ext cx="1090080" cy="1739880"/>
                  <a:chOff x="3968280" y="3449520"/>
                  <a:chExt cx="1090080" cy="1739880"/>
                </a:xfrm>
              </p:grpSpPr>
              <p:sp>
                <p:nvSpPr>
                  <p:cNvPr id="356" name="Freeform 46"/>
                  <p:cNvSpPr/>
                  <p:nvPr/>
                </p:nvSpPr>
                <p:spPr>
                  <a:xfrm flipV="1" rot="3876600">
                    <a:off x="3639960" y="4129920"/>
                    <a:ext cx="174672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47"/>
                  <p:cNvSpPr/>
                  <p:nvPr/>
                </p:nvSpPr>
                <p:spPr>
                  <a:xfrm flipV="1" rot="3876600">
                    <a:off x="4673520" y="481140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" name="Group 48"/>
              <p:cNvGrpSpPr/>
              <p:nvPr/>
            </p:nvGrpSpPr>
            <p:grpSpPr>
              <a:xfrm>
                <a:off x="3127320" y="2609640"/>
                <a:ext cx="1270440" cy="1310040"/>
                <a:chOff x="3127320" y="2609640"/>
                <a:chExt cx="1270440" cy="1310040"/>
              </a:xfrm>
            </p:grpSpPr>
            <p:sp>
              <p:nvSpPr>
                <p:cNvPr id="359" name="Oval 49"/>
                <p:cNvSpPr/>
                <p:nvPr/>
              </p:nvSpPr>
              <p:spPr>
                <a:xfrm>
                  <a:off x="31273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0" name="Oval 50"/>
                <p:cNvSpPr/>
                <p:nvPr/>
              </p:nvSpPr>
              <p:spPr>
                <a:xfrm>
                  <a:off x="3127320" y="2609640"/>
                  <a:ext cx="12704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1"/>
                <p:cNvSpPr/>
                <p:nvPr/>
              </p:nvSpPr>
              <p:spPr>
                <a:xfrm>
                  <a:off x="3211200" y="269460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2" name="Oval 52"/>
                <p:cNvSpPr/>
                <p:nvPr/>
              </p:nvSpPr>
              <p:spPr>
                <a:xfrm>
                  <a:off x="3211200" y="2697480"/>
                  <a:ext cx="11019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63" name="Oval 53"/>
                <p:cNvSpPr/>
                <p:nvPr/>
              </p:nvSpPr>
              <p:spPr>
                <a:xfrm>
                  <a:off x="3265920" y="2752560"/>
                  <a:ext cx="99288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Group 54"/>
                <p:cNvGrpSpPr/>
                <p:nvPr/>
              </p:nvGrpSpPr>
              <p:grpSpPr>
                <a:xfrm>
                  <a:off x="3281040" y="2768400"/>
                  <a:ext cx="962280" cy="993600"/>
                  <a:chOff x="3281040" y="2768400"/>
                  <a:chExt cx="962280" cy="993600"/>
                </a:xfrm>
              </p:grpSpPr>
              <p:sp>
                <p:nvSpPr>
                  <p:cNvPr id="365" name="Oval 55"/>
                  <p:cNvSpPr/>
                  <p:nvPr/>
                </p:nvSpPr>
                <p:spPr>
                  <a:xfrm>
                    <a:off x="3281040" y="2768400"/>
                    <a:ext cx="96228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Oval 56"/>
                  <p:cNvSpPr/>
                  <p:nvPr/>
                </p:nvSpPr>
                <p:spPr>
                  <a:xfrm>
                    <a:off x="3293280" y="2773800"/>
                    <a:ext cx="9392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Oval 57"/>
                  <p:cNvSpPr/>
                  <p:nvPr/>
                </p:nvSpPr>
                <p:spPr>
                  <a:xfrm>
                    <a:off x="3303000" y="2783520"/>
                    <a:ext cx="8931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58"/>
                  <p:cNvSpPr/>
                  <p:nvPr/>
                </p:nvSpPr>
                <p:spPr>
                  <a:xfrm>
                    <a:off x="3355560" y="2808720"/>
                    <a:ext cx="7938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9" name="Text Box 79"/>
              <p:cNvSpPr/>
              <p:nvPr/>
            </p:nvSpPr>
            <p:spPr>
              <a:xfrm rot="3925800">
                <a:off x="257328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0" name="Text Box 80"/>
              <p:cNvSpPr/>
              <p:nvPr/>
            </p:nvSpPr>
            <p:spPr>
              <a:xfrm rot="3925800">
                <a:off x="303336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97"/>
            <p:cNvGrpSpPr/>
            <p:nvPr/>
          </p:nvGrpSpPr>
          <p:grpSpPr>
            <a:xfrm>
              <a:off x="4930920" y="2609640"/>
              <a:ext cx="2059920" cy="3548160"/>
              <a:chOff x="4930920" y="2609640"/>
              <a:chExt cx="2059920" cy="3548160"/>
            </a:xfrm>
          </p:grpSpPr>
          <p:grpSp>
            <p:nvGrpSpPr>
              <p:cNvPr id="372" name="Group 6"/>
              <p:cNvGrpSpPr/>
              <p:nvPr/>
            </p:nvGrpSpPr>
            <p:grpSpPr>
              <a:xfrm>
                <a:off x="5336640" y="3449520"/>
                <a:ext cx="1526040" cy="2425320"/>
                <a:chOff x="5336640" y="3449520"/>
                <a:chExt cx="1526040" cy="2425320"/>
              </a:xfrm>
            </p:grpSpPr>
            <p:grpSp>
              <p:nvGrpSpPr>
                <p:cNvPr id="373" name="Group 7"/>
                <p:cNvGrpSpPr/>
                <p:nvPr/>
              </p:nvGrpSpPr>
              <p:grpSpPr>
                <a:xfrm>
                  <a:off x="5336640" y="3607560"/>
                  <a:ext cx="1420560" cy="2267280"/>
                  <a:chOff x="5336640" y="3607560"/>
                  <a:chExt cx="1420560" cy="2267280"/>
                </a:xfrm>
              </p:grpSpPr>
              <p:sp>
                <p:nvSpPr>
                  <p:cNvPr id="374" name="Freeform 8"/>
                  <p:cNvSpPr/>
                  <p:nvPr/>
                </p:nvSpPr>
                <p:spPr>
                  <a:xfrm rot="3876600">
                    <a:off x="4908600" y="4494960"/>
                    <a:ext cx="227628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9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0"/>
                <p:cNvGrpSpPr/>
                <p:nvPr/>
              </p:nvGrpSpPr>
              <p:grpSpPr>
                <a:xfrm>
                  <a:off x="5772960" y="3449520"/>
                  <a:ext cx="1089720" cy="1739880"/>
                  <a:chOff x="5772960" y="3449520"/>
                  <a:chExt cx="1089720" cy="1739880"/>
                </a:xfrm>
              </p:grpSpPr>
              <p:sp>
                <p:nvSpPr>
                  <p:cNvPr id="377" name="Freeform 11"/>
                  <p:cNvSpPr/>
                  <p:nvPr/>
                </p:nvSpPr>
                <p:spPr>
                  <a:xfrm flipV="1" rot="3876600">
                    <a:off x="5444280" y="4130280"/>
                    <a:ext cx="174672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2"/>
                  <p:cNvSpPr/>
                  <p:nvPr/>
                </p:nvSpPr>
                <p:spPr>
                  <a:xfrm flipV="1" rot="3876600">
                    <a:off x="6477840" y="48124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13"/>
              <p:cNvGrpSpPr/>
              <p:nvPr/>
            </p:nvGrpSpPr>
            <p:grpSpPr>
              <a:xfrm>
                <a:off x="4930920" y="2609640"/>
                <a:ext cx="1272240" cy="1310040"/>
                <a:chOff x="4930920" y="2609640"/>
                <a:chExt cx="1272240" cy="1310040"/>
              </a:xfrm>
            </p:grpSpPr>
            <p:sp>
              <p:nvSpPr>
                <p:cNvPr id="380" name="Oval 14"/>
                <p:cNvSpPr/>
                <p:nvPr/>
              </p:nvSpPr>
              <p:spPr>
                <a:xfrm>
                  <a:off x="4930920" y="2609640"/>
                  <a:ext cx="12722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1" name="Oval 15"/>
                <p:cNvSpPr/>
                <p:nvPr/>
              </p:nvSpPr>
              <p:spPr>
                <a:xfrm>
                  <a:off x="4930920" y="2609640"/>
                  <a:ext cx="127224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6"/>
                <p:cNvSpPr/>
                <p:nvPr/>
              </p:nvSpPr>
              <p:spPr>
                <a:xfrm>
                  <a:off x="5015160" y="2694600"/>
                  <a:ext cx="110340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7"/>
                <p:cNvSpPr/>
                <p:nvPr/>
              </p:nvSpPr>
              <p:spPr>
                <a:xfrm>
                  <a:off x="5015160" y="2697480"/>
                  <a:ext cx="110340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8"/>
                <p:cNvSpPr/>
                <p:nvPr/>
              </p:nvSpPr>
              <p:spPr>
                <a:xfrm>
                  <a:off x="5069880" y="2752560"/>
                  <a:ext cx="99396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Group 19"/>
                <p:cNvGrpSpPr/>
                <p:nvPr/>
              </p:nvGrpSpPr>
              <p:grpSpPr>
                <a:xfrm>
                  <a:off x="5085000" y="2768400"/>
                  <a:ext cx="963720" cy="993600"/>
                  <a:chOff x="5085000" y="2768400"/>
                  <a:chExt cx="963720" cy="993600"/>
                </a:xfrm>
              </p:grpSpPr>
              <p:sp>
                <p:nvSpPr>
                  <p:cNvPr id="386" name="Oval 20"/>
                  <p:cNvSpPr/>
                  <p:nvPr/>
                </p:nvSpPr>
                <p:spPr>
                  <a:xfrm>
                    <a:off x="5085000" y="2768400"/>
                    <a:ext cx="96372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Oval 21"/>
                  <p:cNvSpPr/>
                  <p:nvPr/>
                </p:nvSpPr>
                <p:spPr>
                  <a:xfrm>
                    <a:off x="5097240" y="277380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Oval 22"/>
                  <p:cNvSpPr/>
                  <p:nvPr/>
                </p:nvSpPr>
                <p:spPr>
                  <a:xfrm>
                    <a:off x="5107320" y="2783520"/>
                    <a:ext cx="89424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Oval 23"/>
                  <p:cNvSpPr/>
                  <p:nvPr/>
                </p:nvSpPr>
                <p:spPr>
                  <a:xfrm>
                    <a:off x="5159520" y="2808720"/>
                    <a:ext cx="79524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0" name="Text Box 81"/>
              <p:cNvSpPr/>
              <p:nvPr/>
            </p:nvSpPr>
            <p:spPr>
              <a:xfrm rot="3925800">
                <a:off x="4386600" y="442800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1" name="Text Box 82"/>
              <p:cNvSpPr/>
              <p:nvPr/>
            </p:nvSpPr>
            <p:spPr>
              <a:xfrm rot="3925800">
                <a:off x="4847040" y="414864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98"/>
            <p:cNvGrpSpPr/>
            <p:nvPr/>
          </p:nvGrpSpPr>
          <p:grpSpPr>
            <a:xfrm>
              <a:off x="6707160" y="2465280"/>
              <a:ext cx="2234520" cy="3835800"/>
              <a:chOff x="6707160" y="2465280"/>
              <a:chExt cx="2234520" cy="3835800"/>
            </a:xfrm>
          </p:grpSpPr>
          <p:grpSp>
            <p:nvGrpSpPr>
              <p:cNvPr id="393" name="Group 24"/>
              <p:cNvGrpSpPr/>
              <p:nvPr/>
            </p:nvGrpSpPr>
            <p:grpSpPr>
              <a:xfrm>
                <a:off x="7303320" y="3516120"/>
                <a:ext cx="1526040" cy="2425320"/>
                <a:chOff x="7303320" y="3516120"/>
                <a:chExt cx="1526040" cy="2425320"/>
              </a:xfrm>
            </p:grpSpPr>
            <p:grpSp>
              <p:nvGrpSpPr>
                <p:cNvPr id="394" name="Group 25"/>
                <p:cNvGrpSpPr/>
                <p:nvPr/>
              </p:nvGrpSpPr>
              <p:grpSpPr>
                <a:xfrm>
                  <a:off x="7303320" y="3674160"/>
                  <a:ext cx="1420560" cy="2267280"/>
                  <a:chOff x="7303320" y="3674160"/>
                  <a:chExt cx="1420560" cy="2267280"/>
                </a:xfrm>
              </p:grpSpPr>
              <p:sp>
                <p:nvSpPr>
                  <p:cNvPr id="395" name="Freeform 26"/>
                  <p:cNvSpPr/>
                  <p:nvPr/>
                </p:nvSpPr>
                <p:spPr>
                  <a:xfrm rot="3876600">
                    <a:off x="6875280" y="4561560"/>
                    <a:ext cx="227628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27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8"/>
                <p:cNvGrpSpPr/>
                <p:nvPr/>
              </p:nvGrpSpPr>
              <p:grpSpPr>
                <a:xfrm>
                  <a:off x="7739640" y="3516120"/>
                  <a:ext cx="1089720" cy="1739880"/>
                  <a:chOff x="7739640" y="3516120"/>
                  <a:chExt cx="1089720" cy="1739880"/>
                </a:xfrm>
              </p:grpSpPr>
              <p:sp>
                <p:nvSpPr>
                  <p:cNvPr id="398" name="Freeform 29"/>
                  <p:cNvSpPr/>
                  <p:nvPr/>
                </p:nvSpPr>
                <p:spPr>
                  <a:xfrm flipV="1" rot="3876600">
                    <a:off x="7410960" y="4196880"/>
                    <a:ext cx="174672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0"/>
                  <p:cNvSpPr/>
                  <p:nvPr/>
                </p:nvSpPr>
                <p:spPr>
                  <a:xfrm flipV="1" rot="3876600">
                    <a:off x="8444520" y="487908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0" name="Oval 31"/>
              <p:cNvSpPr/>
              <p:nvPr/>
            </p:nvSpPr>
            <p:spPr>
              <a:xfrm>
                <a:off x="6707160" y="2465280"/>
                <a:ext cx="152640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Oval 32"/>
              <p:cNvSpPr/>
              <p:nvPr/>
            </p:nvSpPr>
            <p:spPr>
              <a:xfrm>
                <a:off x="6707160" y="2465280"/>
                <a:ext cx="1526400" cy="157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Oval 33"/>
              <p:cNvSpPr/>
              <p:nvPr/>
            </p:nvSpPr>
            <p:spPr>
              <a:xfrm>
                <a:off x="6808680" y="2568600"/>
                <a:ext cx="1326240" cy="136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Oval 34"/>
              <p:cNvSpPr/>
              <p:nvPr/>
            </p:nvSpPr>
            <p:spPr>
              <a:xfrm>
                <a:off x="6810480" y="2571480"/>
                <a:ext cx="1325880" cy="136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4" name="Oval 35"/>
              <p:cNvSpPr/>
              <p:nvPr/>
            </p:nvSpPr>
            <p:spPr>
              <a:xfrm>
                <a:off x="6873840" y="2636640"/>
                <a:ext cx="119412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05" name="Group 36"/>
              <p:cNvGrpSpPr/>
              <p:nvPr/>
            </p:nvGrpSpPr>
            <p:grpSpPr>
              <a:xfrm>
                <a:off x="6892920" y="2655720"/>
                <a:ext cx="1157400" cy="1190520"/>
                <a:chOff x="6892920" y="2655720"/>
                <a:chExt cx="1157400" cy="1190520"/>
              </a:xfrm>
            </p:grpSpPr>
            <p:sp>
              <p:nvSpPr>
                <p:cNvPr id="406" name="Oval 37"/>
                <p:cNvSpPr/>
                <p:nvPr/>
              </p:nvSpPr>
              <p:spPr>
                <a:xfrm>
                  <a:off x="6892920" y="2655720"/>
                  <a:ext cx="115740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7" name="Oval 38"/>
                <p:cNvSpPr/>
                <p:nvPr/>
              </p:nvSpPr>
              <p:spPr>
                <a:xfrm>
                  <a:off x="6907680" y="2662200"/>
                  <a:ext cx="112932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8" name="Oval 39"/>
                <p:cNvSpPr/>
                <p:nvPr/>
              </p:nvSpPr>
              <p:spPr>
                <a:xfrm>
                  <a:off x="6919560" y="2673720"/>
                  <a:ext cx="107424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09" name="Oval 40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83"/>
              <p:cNvSpPr/>
              <p:nvPr/>
            </p:nvSpPr>
            <p:spPr>
              <a:xfrm rot="3925800">
                <a:off x="6338880" y="457128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Text Box 84"/>
              <p:cNvSpPr/>
              <p:nvPr/>
            </p:nvSpPr>
            <p:spPr>
              <a:xfrm rot="3925800">
                <a:off x="6797880" y="429156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85"/>
            <p:cNvGrpSpPr/>
            <p:nvPr/>
          </p:nvGrpSpPr>
          <p:grpSpPr>
            <a:xfrm>
              <a:off x="804960" y="1752480"/>
              <a:ext cx="7885080" cy="407880"/>
              <a:chOff x="804960" y="1752480"/>
              <a:chExt cx="7885080" cy="407880"/>
            </a:xfrm>
          </p:grpSpPr>
          <p:sp>
            <p:nvSpPr>
              <p:cNvPr id="413" name="Text Box 86"/>
              <p:cNvSpPr/>
              <p:nvPr/>
            </p:nvSpPr>
            <p:spPr>
              <a:xfrm>
                <a:off x="80496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Text Box 87"/>
              <p:cNvSpPr/>
              <p:nvPr/>
            </p:nvSpPr>
            <p:spPr>
              <a:xfrm>
                <a:off x="255888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Text Box 88"/>
              <p:cNvSpPr/>
              <p:nvPr/>
            </p:nvSpPr>
            <p:spPr>
              <a:xfrm>
                <a:off x="4304880" y="179208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Text Box 89"/>
              <p:cNvSpPr/>
              <p:nvPr/>
            </p:nvSpPr>
            <p:spPr>
              <a:xfrm>
                <a:off x="6095160" y="1752480"/>
                <a:ext cx="25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cxnSp>
            <p:nvCxnSpPr>
              <p:cNvPr id="417" name="AutoShape 90"/>
              <p:cNvCxnSpPr>
                <a:stCxn id="413" idx="3"/>
                <a:endCxn id="414" idx="1"/>
              </p:cNvCxnSpPr>
              <p:nvPr/>
            </p:nvCxnSpPr>
            <p:spPr>
              <a:xfrm>
                <a:off x="2455560" y="1976400"/>
                <a:ext cx="98640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8" name="AutoShape 91"/>
              <p:cNvCxnSpPr>
                <a:stCxn id="414" idx="3"/>
                <a:endCxn id="415" idx="1"/>
              </p:cNvCxnSpPr>
              <p:nvPr/>
            </p:nvCxnSpPr>
            <p:spPr>
              <a:xfrm>
                <a:off x="4209480" y="1976400"/>
                <a:ext cx="97812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419" name="AutoShape 92"/>
              <p:cNvCxnSpPr/>
              <p:nvPr/>
            </p:nvCxnSpPr>
            <p:spPr>
              <a:xfrm>
                <a:off x="5955840" y="1981080"/>
                <a:ext cx="978120" cy="216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422" name="AutoShape 4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AutoShape 5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AutoShape 6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AutoShape 7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AutoShape 9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8" y="0"/>
                </a:moveTo>
                <a:arcTo wR="2968" hR="2968" stAng="16200000" swAng="-5400000"/>
                <a:lnTo>
                  <a:pt x="0" y="33733"/>
                </a:lnTo>
                <a:arcTo wR="2968" hR="2968" stAng="10800000" swAng="-5400000"/>
                <a:lnTo>
                  <a:pt x="18632" y="3670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8" y="0"/>
                </a:moveTo>
                <a:arcTo wR="2968" hR="2968" stAng="16200000" swAng="-5400000"/>
                <a:lnTo>
                  <a:pt x="0" y="34848"/>
                </a:lnTo>
                <a:arcTo wR="2968" hR="2968" stAng="10800000" swAng="-5400000"/>
                <a:lnTo>
                  <a:pt x="18632" y="3781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3" name="Group 7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434" name="Rectangle 8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35" name="Group 9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436" name="Oval 10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Rectangle 11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Oval 12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Oval 13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0" name="Rectangle 14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1" name="Group 15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442" name="Oval 16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3" name="Rectangle 17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4" name="Oval 18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Oval 19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46" name="Rectangle 20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7" name="Group 21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448" name="Oval 22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Oval 24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Oval 25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6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3" name="Rectangle 27"/>
          <p:cNvSpPr/>
          <p:nvPr/>
        </p:nvSpPr>
        <p:spPr>
          <a:xfrm>
            <a:off x="68076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Rectangle 28"/>
          <p:cNvSpPr/>
          <p:nvPr/>
        </p:nvSpPr>
        <p:spPr>
          <a:xfrm>
            <a:off x="23760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Rectangle 29"/>
          <p:cNvSpPr/>
          <p:nvPr/>
        </p:nvSpPr>
        <p:spPr>
          <a:xfrm>
            <a:off x="39222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Rectangle 30"/>
          <p:cNvSpPr/>
          <p:nvPr/>
        </p:nvSpPr>
        <p:spPr>
          <a:xfrm>
            <a:off x="5617800" y="20541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Rectangle 31"/>
          <p:cNvSpPr/>
          <p:nvPr/>
        </p:nvSpPr>
        <p:spPr>
          <a:xfrm>
            <a:off x="6868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>
            <a:off x="23806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Rectangle 33"/>
          <p:cNvSpPr/>
          <p:nvPr/>
        </p:nvSpPr>
        <p:spPr>
          <a:xfrm>
            <a:off x="40762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34"/>
          <p:cNvSpPr/>
          <p:nvPr/>
        </p:nvSpPr>
        <p:spPr>
          <a:xfrm>
            <a:off x="5771880" y="334656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1195560" y="1210680"/>
            <a:ext cx="6729120" cy="4675320"/>
            <a:chOff x="1195560" y="1210680"/>
            <a:chExt cx="6729120" cy="4675320"/>
          </a:xfrm>
        </p:grpSpPr>
        <p:sp>
          <p:nvSpPr>
            <p:cNvPr id="463" name="Oval 4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Oval 5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Oval 6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Arc 7"/>
            <p:cNvSpPr/>
            <p:nvPr/>
          </p:nvSpPr>
          <p:spPr>
            <a:xfrm rot="20601600">
              <a:off x="4211280" y="2023560"/>
              <a:ext cx="2851200" cy="153828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Arc 8"/>
            <p:cNvSpPr/>
            <p:nvPr/>
          </p:nvSpPr>
          <p:spPr>
            <a:xfrm flipH="1" rot="20602200">
              <a:off x="1617480" y="3336480"/>
              <a:ext cx="2876400" cy="1630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Arc 9"/>
            <p:cNvSpPr/>
            <p:nvPr/>
          </p:nvSpPr>
          <p:spPr>
            <a:xfrm rot="20601600">
              <a:off x="3456000" y="1752120"/>
              <a:ext cx="2813040" cy="1417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Arc 10"/>
            <p:cNvSpPr/>
            <p:nvPr/>
          </p:nvSpPr>
          <p:spPr>
            <a:xfrm flipH="1" rot="20602200">
              <a:off x="1417320" y="2404440"/>
              <a:ext cx="2762280" cy="138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Oval 11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1425600" y="28828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330720" y="19684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006880" y="24256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Freeform 15"/>
            <p:cNvSpPr/>
            <p:nvPr/>
          </p:nvSpPr>
          <p:spPr>
            <a:xfrm>
              <a:off x="6346800" y="2958840"/>
              <a:ext cx="1295640" cy="1711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Arc 16"/>
            <p:cNvSpPr/>
            <p:nvPr/>
          </p:nvSpPr>
          <p:spPr>
            <a:xfrm rot="20539200">
              <a:off x="4744800" y="2964960"/>
              <a:ext cx="2984400" cy="134604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Freeform 17"/>
            <p:cNvSpPr/>
            <p:nvPr/>
          </p:nvSpPr>
          <p:spPr>
            <a:xfrm>
              <a:off x="4646520" y="3440160"/>
              <a:ext cx="1758960" cy="1236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Text Box 18"/>
            <p:cNvSpPr/>
            <p:nvPr/>
          </p:nvSpPr>
          <p:spPr>
            <a:xfrm>
              <a:off x="5006880" y="341604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Text Box 19"/>
            <p:cNvSpPr/>
            <p:nvPr/>
          </p:nvSpPr>
          <p:spPr>
            <a:xfrm>
              <a:off x="3254400" y="417816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Text Box 20"/>
            <p:cNvSpPr/>
            <p:nvPr/>
          </p:nvSpPr>
          <p:spPr>
            <a:xfrm>
              <a:off x="1349280" y="4025880"/>
              <a:ext cx="25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21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Freeform 22"/>
            <p:cNvSpPr/>
            <p:nvPr/>
          </p:nvSpPr>
          <p:spPr>
            <a:xfrm>
              <a:off x="4822920" y="3835440"/>
              <a:ext cx="1282680" cy="1028520"/>
            </a:xfrm>
            <a:prstGeom prst="pie">
              <a:avLst/>
            </a:pr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714600" y="1492200"/>
            <a:ext cx="7128360" cy="4755960"/>
            <a:chOff x="714600" y="1492200"/>
            <a:chExt cx="7128360" cy="4755960"/>
          </a:xfrm>
        </p:grpSpPr>
        <p:sp>
          <p:nvSpPr>
            <p:cNvPr id="484" name="Oval 4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Oval 5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Oval 6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Oval 7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Rectangle 8"/>
            <p:cNvSpPr/>
            <p:nvPr/>
          </p:nvSpPr>
          <p:spPr>
            <a:xfrm rot="13770000">
              <a:off x="4831560" y="377388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Rectangle 9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90" name="Group 10"/>
            <p:cNvGrpSpPr/>
            <p:nvPr/>
          </p:nvGrpSpPr>
          <p:grpSpPr>
            <a:xfrm>
              <a:off x="2976120" y="2131920"/>
              <a:ext cx="3227040" cy="1719000"/>
              <a:chOff x="2976120" y="2131920"/>
              <a:chExt cx="3227040" cy="1719000"/>
            </a:xfrm>
          </p:grpSpPr>
          <p:sp>
            <p:nvSpPr>
              <p:cNvPr id="491" name="Rectangle 11"/>
              <p:cNvSpPr/>
              <p:nvPr/>
            </p:nvSpPr>
            <p:spPr>
              <a:xfrm rot="18394200">
                <a:off x="4952160" y="2330640"/>
                <a:ext cx="55728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92" name="Group 12"/>
              <p:cNvGrpSpPr/>
              <p:nvPr/>
            </p:nvGrpSpPr>
            <p:grpSpPr>
              <a:xfrm>
                <a:off x="3852000" y="2365200"/>
                <a:ext cx="1507680" cy="1485720"/>
                <a:chOff x="3852000" y="2365200"/>
                <a:chExt cx="1507680" cy="1485720"/>
              </a:xfrm>
            </p:grpSpPr>
            <p:sp>
              <p:nvSpPr>
                <p:cNvPr id="493" name="Oval 13"/>
                <p:cNvSpPr/>
                <p:nvPr/>
              </p:nvSpPr>
              <p:spPr>
                <a:xfrm>
                  <a:off x="3852000" y="2365200"/>
                  <a:ext cx="1507680" cy="14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14"/>
                <p:cNvSpPr/>
                <p:nvPr/>
              </p:nvSpPr>
              <p:spPr>
                <a:xfrm>
                  <a:off x="4024080" y="2389680"/>
                  <a:ext cx="1163160" cy="56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Text Box 15"/>
              <p:cNvSpPr/>
              <p:nvPr/>
            </p:nvSpPr>
            <p:spPr>
              <a:xfrm>
                <a:off x="2976120" y="30117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6"/>
            <p:cNvGrpSpPr/>
            <p:nvPr/>
          </p:nvGrpSpPr>
          <p:grpSpPr>
            <a:xfrm>
              <a:off x="4250880" y="1492200"/>
              <a:ext cx="2700000" cy="807120"/>
              <a:chOff x="4250880" y="1492200"/>
              <a:chExt cx="2700000" cy="807120"/>
            </a:xfrm>
          </p:grpSpPr>
          <p:grpSp>
            <p:nvGrpSpPr>
              <p:cNvPr id="497" name="Group 17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498" name="Oval 18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19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20"/>
              <p:cNvSpPr/>
              <p:nvPr/>
            </p:nvSpPr>
            <p:spPr>
              <a:xfrm>
                <a:off x="4250880" y="1802880"/>
                <a:ext cx="27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1"/>
            <p:cNvGrpSpPr/>
            <p:nvPr/>
          </p:nvGrpSpPr>
          <p:grpSpPr>
            <a:xfrm>
              <a:off x="714600" y="2733480"/>
              <a:ext cx="3372120" cy="1676880"/>
              <a:chOff x="714600" y="2733480"/>
              <a:chExt cx="3372120" cy="1676880"/>
            </a:xfrm>
          </p:grpSpPr>
          <p:grpSp>
            <p:nvGrpSpPr>
              <p:cNvPr id="502" name="Group 22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503" name="Oval 23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24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 Box 25"/>
              <p:cNvSpPr/>
              <p:nvPr/>
            </p:nvSpPr>
            <p:spPr>
              <a:xfrm>
                <a:off x="714600" y="34779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26"/>
            <p:cNvGrpSpPr/>
            <p:nvPr/>
          </p:nvGrpSpPr>
          <p:grpSpPr>
            <a:xfrm>
              <a:off x="4413240" y="3913920"/>
              <a:ext cx="3429720" cy="1863000"/>
              <a:chOff x="4413240" y="3913920"/>
              <a:chExt cx="3429720" cy="1863000"/>
            </a:xfrm>
          </p:grpSpPr>
          <p:grpSp>
            <p:nvGrpSpPr>
              <p:cNvPr id="507" name="Group 27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508" name="Oval 28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29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Text Box 30"/>
              <p:cNvSpPr/>
              <p:nvPr/>
            </p:nvSpPr>
            <p:spPr>
              <a:xfrm>
                <a:off x="4413240" y="47210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66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3b5ab1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714600" y="1492200"/>
            <a:ext cx="7128360" cy="4755960"/>
            <a:chOff x="714600" y="1492200"/>
            <a:chExt cx="7128360" cy="4755960"/>
          </a:xfrm>
        </p:grpSpPr>
        <p:sp>
          <p:nvSpPr>
            <p:cNvPr id="514" name="Oval 4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Oval 5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Oval 6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Oval 7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 rot="13770000">
              <a:off x="4831560" y="3773880"/>
              <a:ext cx="899280" cy="18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0" name="Group 10"/>
            <p:cNvGrpSpPr/>
            <p:nvPr/>
          </p:nvGrpSpPr>
          <p:grpSpPr>
            <a:xfrm>
              <a:off x="2976120" y="2131920"/>
              <a:ext cx="3227040" cy="1719000"/>
              <a:chOff x="2976120" y="2131920"/>
              <a:chExt cx="3227040" cy="1719000"/>
            </a:xfrm>
          </p:grpSpPr>
          <p:sp>
            <p:nvSpPr>
              <p:cNvPr id="521" name="Rectangle 11"/>
              <p:cNvSpPr/>
              <p:nvPr/>
            </p:nvSpPr>
            <p:spPr>
              <a:xfrm rot="18394200">
                <a:off x="4952160" y="2330640"/>
                <a:ext cx="55728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522" name="Group 12"/>
              <p:cNvGrpSpPr/>
              <p:nvPr/>
            </p:nvGrpSpPr>
            <p:grpSpPr>
              <a:xfrm>
                <a:off x="3852000" y="2365200"/>
                <a:ext cx="1507680" cy="1485720"/>
                <a:chOff x="3852000" y="2365200"/>
                <a:chExt cx="1507680" cy="1485720"/>
              </a:xfrm>
            </p:grpSpPr>
            <p:sp>
              <p:nvSpPr>
                <p:cNvPr id="523" name="Oval 13"/>
                <p:cNvSpPr/>
                <p:nvPr/>
              </p:nvSpPr>
              <p:spPr>
                <a:xfrm>
                  <a:off x="3852000" y="2365200"/>
                  <a:ext cx="1507680" cy="148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4"/>
                <p:cNvSpPr/>
                <p:nvPr/>
              </p:nvSpPr>
              <p:spPr>
                <a:xfrm>
                  <a:off x="4024080" y="2389680"/>
                  <a:ext cx="1163160" cy="56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15"/>
              <p:cNvSpPr/>
              <p:nvPr/>
            </p:nvSpPr>
            <p:spPr>
              <a:xfrm>
                <a:off x="2976120" y="30117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6"/>
            <p:cNvGrpSpPr/>
            <p:nvPr/>
          </p:nvGrpSpPr>
          <p:grpSpPr>
            <a:xfrm>
              <a:off x="4250880" y="1492200"/>
              <a:ext cx="2700000" cy="807120"/>
              <a:chOff x="4250880" y="1492200"/>
              <a:chExt cx="2700000" cy="807120"/>
            </a:xfrm>
          </p:grpSpPr>
          <p:grpSp>
            <p:nvGrpSpPr>
              <p:cNvPr id="527" name="Group 17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528" name="Oval 18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9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0" name="Text Box 20"/>
              <p:cNvSpPr/>
              <p:nvPr/>
            </p:nvSpPr>
            <p:spPr>
              <a:xfrm>
                <a:off x="4250880" y="1802880"/>
                <a:ext cx="270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21"/>
            <p:cNvGrpSpPr/>
            <p:nvPr/>
          </p:nvGrpSpPr>
          <p:grpSpPr>
            <a:xfrm>
              <a:off x="714600" y="2733480"/>
              <a:ext cx="3372120" cy="1676880"/>
              <a:chOff x="714600" y="2733480"/>
              <a:chExt cx="3372120" cy="1676880"/>
            </a:xfrm>
          </p:grpSpPr>
          <p:grpSp>
            <p:nvGrpSpPr>
              <p:cNvPr id="532" name="Group 22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533" name="Oval 23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4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 Box 25"/>
              <p:cNvSpPr/>
              <p:nvPr/>
            </p:nvSpPr>
            <p:spPr>
              <a:xfrm>
                <a:off x="714600" y="347796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26"/>
            <p:cNvGrpSpPr/>
            <p:nvPr/>
          </p:nvGrpSpPr>
          <p:grpSpPr>
            <a:xfrm>
              <a:off x="4413240" y="3913920"/>
              <a:ext cx="3429720" cy="1863000"/>
              <a:chOff x="4413240" y="3913920"/>
              <a:chExt cx="3429720" cy="1863000"/>
            </a:xfrm>
          </p:grpSpPr>
          <p:grpSp>
            <p:nvGrpSpPr>
              <p:cNvPr id="537" name="Group 27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538" name="Oval 28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9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Text Box 30"/>
              <p:cNvSpPr/>
              <p:nvPr/>
            </p:nvSpPr>
            <p:spPr>
              <a:xfrm>
                <a:off x="4413240" y="47210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42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544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9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WordArt 3"/>
          <p:cNvSpPr/>
          <p:nvPr/>
        </p:nvSpPr>
        <p:spPr>
          <a:xfrm>
            <a:off x="2133720" y="1447920"/>
            <a:ext cx="4952880" cy="609480"/>
          </a:xfrm>
          <a:custGeom>
            <a:avLst/>
            <a:gdLst>
              <a:gd name="textAreaLeft" fmla="*/ 0 w 4952880"/>
              <a:gd name="textAreaRight" fmla="*/ 4952880 w 49528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b5ab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A887-91AF-4533-BBAC-546A2111CB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8"/>
          <p:cNvSpPr/>
          <p:nvPr/>
        </p:nvSpPr>
        <p:spPr>
          <a:xfrm>
            <a:off x="84240" y="4581360"/>
            <a:ext cx="8994600" cy="2276640"/>
          </a:xfrm>
          <a:prstGeom prst="rect">
            <a:avLst/>
          </a:prstGeom>
          <a:solidFill>
            <a:srgbClr val="36a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Picture 89" descr="AA053737"/>
          <p:cNvPicPr/>
          <p:nvPr/>
        </p:nvPicPr>
        <p:blipFill>
          <a:blip r:embed="rId1"/>
          <a:srcRect l="0" t="46794" r="0" b="14692"/>
          <a:stretch/>
        </p:blipFill>
        <p:spPr>
          <a:xfrm>
            <a:off x="0" y="2276640"/>
            <a:ext cx="9144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91"/>
          <p:cNvGrpSpPr/>
          <p:nvPr/>
        </p:nvGrpSpPr>
        <p:grpSpPr>
          <a:xfrm>
            <a:off x="0" y="0"/>
            <a:ext cx="9150480" cy="6859440"/>
            <a:chOff x="0" y="0"/>
            <a:chExt cx="9150480" cy="6859440"/>
          </a:xfrm>
        </p:grpSpPr>
        <p:sp>
          <p:nvSpPr>
            <p:cNvPr id="68" name="AutoShape 92"/>
            <p:cNvSpPr/>
            <p:nvPr/>
          </p:nvSpPr>
          <p:spPr>
            <a:xfrm>
              <a:off x="42840" y="38160"/>
              <a:ext cx="906768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Freeform 93"/>
            <p:cNvSpPr/>
            <p:nvPr/>
          </p:nvSpPr>
          <p:spPr>
            <a:xfrm>
              <a:off x="0" y="0"/>
              <a:ext cx="45720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Freeform 94"/>
            <p:cNvSpPr/>
            <p:nvPr/>
          </p:nvSpPr>
          <p:spPr>
            <a:xfrm>
              <a:off x="7920" y="6326280"/>
              <a:ext cx="387360" cy="53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Freeform 95"/>
            <p:cNvSpPr/>
            <p:nvPr/>
          </p:nvSpPr>
          <p:spPr>
            <a:xfrm>
              <a:off x="8748720" y="6396120"/>
              <a:ext cx="401760" cy="4604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Freeform 96"/>
            <p:cNvSpPr/>
            <p:nvPr/>
          </p:nvSpPr>
          <p:spPr>
            <a:xfrm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" name="Oval 97"/>
          <p:cNvSpPr/>
          <p:nvPr/>
        </p:nvSpPr>
        <p:spPr>
          <a:xfrm>
            <a:off x="795672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Oval 98"/>
          <p:cNvSpPr/>
          <p:nvPr/>
        </p:nvSpPr>
        <p:spPr>
          <a:xfrm>
            <a:off x="831708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Oval 99"/>
          <p:cNvSpPr/>
          <p:nvPr/>
        </p:nvSpPr>
        <p:spPr>
          <a:xfrm>
            <a:off x="8677440" y="18446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6a4d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128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医学类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65760" y="2176560"/>
            <a:ext cx="6125400" cy="664920"/>
            <a:chOff x="1265760" y="2176560"/>
            <a:chExt cx="6125400" cy="664920"/>
          </a:xfrm>
        </p:grpSpPr>
        <p:grpSp>
          <p:nvGrpSpPr>
            <p:cNvPr id="81" name="Group 8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82" name="AutoShape 9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" name="AutoShape 10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" name="AutoShape 11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590560" y="2785680"/>
              <a:ext cx="4800600" cy="1440"/>
              <a:chOff x="2590560" y="2785680"/>
              <a:chExt cx="4800600" cy="1440"/>
            </a:xfrm>
          </p:grpSpPr>
          <p:sp>
            <p:nvSpPr>
              <p:cNvPr id="86" name="Line 16"/>
              <p:cNvSpPr/>
              <p:nvPr/>
            </p:nvSpPr>
            <p:spPr>
              <a:xfrm>
                <a:off x="2590560" y="2785680"/>
                <a:ext cx="4800600" cy="144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2590560" y="27856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8" name="Text Box 17"/>
            <p:cNvSpPr/>
            <p:nvPr/>
          </p:nvSpPr>
          <p:spPr>
            <a:xfrm>
              <a:off x="2670120" y="22525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Text Box 18"/>
            <p:cNvSpPr/>
            <p:nvPr/>
          </p:nvSpPr>
          <p:spPr>
            <a:xfrm>
              <a:off x="1265760" y="22744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" name="Group 37"/>
          <p:cNvGrpSpPr/>
          <p:nvPr/>
        </p:nvGrpSpPr>
        <p:grpSpPr>
          <a:xfrm>
            <a:off x="1265760" y="3090960"/>
            <a:ext cx="6125400" cy="664920"/>
            <a:chOff x="1265760" y="3090960"/>
            <a:chExt cx="6125400" cy="664920"/>
          </a:xfrm>
        </p:grpSpPr>
        <p:grpSp>
          <p:nvGrpSpPr>
            <p:cNvPr id="91" name="Group 12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92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" name="AutoShape 15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590560" y="3700080"/>
              <a:ext cx="4800600" cy="1440"/>
              <a:chOff x="2590560" y="3700080"/>
              <a:chExt cx="4800600" cy="1440"/>
            </a:xfrm>
          </p:grpSpPr>
          <p:sp>
            <p:nvSpPr>
              <p:cNvPr id="96" name="Line 19"/>
              <p:cNvSpPr/>
              <p:nvPr/>
            </p:nvSpPr>
            <p:spPr>
              <a:xfrm>
                <a:off x="2590560" y="3700080"/>
                <a:ext cx="4800600" cy="144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2590560" y="37000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8" name="Text Box 20"/>
            <p:cNvSpPr/>
            <p:nvPr/>
          </p:nvSpPr>
          <p:spPr>
            <a:xfrm>
              <a:off x="2670120" y="31669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>
              <a:off x="1265760" y="3188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" name="Group 38"/>
          <p:cNvGrpSpPr/>
          <p:nvPr/>
        </p:nvGrpSpPr>
        <p:grpSpPr>
          <a:xfrm>
            <a:off x="1265760" y="3983040"/>
            <a:ext cx="6125400" cy="665280"/>
            <a:chOff x="1265760" y="3983040"/>
            <a:chExt cx="6125400" cy="665280"/>
          </a:xfrm>
        </p:grpSpPr>
        <p:grpSp>
          <p:nvGrpSpPr>
            <p:cNvPr id="101" name="Group 22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02" name="AutoShape 23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3" name="AutoShape 24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4" name="AutoShape 25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590560" y="4592520"/>
              <a:ext cx="4800600" cy="1800"/>
              <a:chOff x="2590560" y="4592520"/>
              <a:chExt cx="4800600" cy="1800"/>
            </a:xfrm>
          </p:grpSpPr>
          <p:sp>
            <p:nvSpPr>
              <p:cNvPr id="106" name="Line 30"/>
              <p:cNvSpPr/>
              <p:nvPr/>
            </p:nvSpPr>
            <p:spPr>
              <a:xfrm>
                <a:off x="2590560" y="4592520"/>
                <a:ext cx="4800600" cy="180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90560" y="4592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08" name="Text Box 31"/>
            <p:cNvSpPr/>
            <p:nvPr/>
          </p:nvSpPr>
          <p:spPr>
            <a:xfrm>
              <a:off x="2670120" y="40593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Text Box 32"/>
            <p:cNvSpPr/>
            <p:nvPr/>
          </p:nvSpPr>
          <p:spPr>
            <a:xfrm>
              <a:off x="1265760" y="40813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0" name="Group 39"/>
          <p:cNvGrpSpPr/>
          <p:nvPr/>
        </p:nvGrpSpPr>
        <p:grpSpPr>
          <a:xfrm>
            <a:off x="1265760" y="4897440"/>
            <a:ext cx="6125400" cy="665280"/>
            <a:chOff x="1265760" y="4897440"/>
            <a:chExt cx="6125400" cy="665280"/>
          </a:xfrm>
        </p:grpSpPr>
        <p:grpSp>
          <p:nvGrpSpPr>
            <p:cNvPr id="111" name="Group 26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12" name="AutoShape 27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AutoShape 28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AutoShape 29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90560" y="5506920"/>
              <a:ext cx="4800600" cy="1800"/>
              <a:chOff x="2590560" y="5506920"/>
              <a:chExt cx="4800600" cy="1800"/>
            </a:xfrm>
          </p:grpSpPr>
          <p:sp>
            <p:nvSpPr>
              <p:cNvPr id="116" name="Line 33"/>
              <p:cNvSpPr/>
              <p:nvPr/>
            </p:nvSpPr>
            <p:spPr>
              <a:xfrm>
                <a:off x="2590560" y="5506920"/>
                <a:ext cx="4800600" cy="1800"/>
              </a:xfrm>
              <a:prstGeom prst="line">
                <a:avLst/>
              </a:prstGeom>
              <a:ln w="25560">
                <a:solidFill>
                  <a:srgbClr val="666699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2590560" y="5506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8" name="Text Box 34"/>
            <p:cNvSpPr/>
            <p:nvPr/>
          </p:nvSpPr>
          <p:spPr>
            <a:xfrm>
              <a:off x="2670120" y="49737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Text Box 35"/>
            <p:cNvSpPr/>
            <p:nvPr/>
          </p:nvSpPr>
          <p:spPr>
            <a:xfrm>
              <a:off x="1265760" y="49957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22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3320640" y="326340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3320640" y="3769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3320640" y="427680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1365480" y="2537640"/>
              <a:ext cx="154836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153120" y="2537640"/>
              <a:ext cx="15487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3298680" y="196344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298680" y="5510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0"/>
          <p:cNvGrpSpPr/>
          <p:nvPr/>
        </p:nvGrpSpPr>
        <p:grpSpPr>
          <a:xfrm>
            <a:off x="761760" y="2209680"/>
            <a:ext cx="7551720" cy="3352680"/>
            <a:chOff x="761760" y="2209680"/>
            <a:chExt cx="7551720" cy="3352680"/>
          </a:xfrm>
        </p:grpSpPr>
        <p:sp>
          <p:nvSpPr>
            <p:cNvPr id="142" name="AutoShape 5"/>
            <p:cNvSpPr/>
            <p:nvPr/>
          </p:nvSpPr>
          <p:spPr>
            <a:xfrm flipH="1" rot="16200000">
              <a:off x="3000600" y="3255120"/>
              <a:ext cx="460440" cy="29664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 flipH="1" rot="5400000">
              <a:off x="5602680" y="3205080"/>
              <a:ext cx="458640" cy="29628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85"/>
                <a:gd name="adj2" fmla="val 100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10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Oval 12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AutoShape 15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AutoShape 16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AutoShape 17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AutoShape 18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2937600" y="3208320"/>
              <a:ext cx="32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761760" y="285588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Text Box 23"/>
            <p:cNvSpPr/>
            <p:nvPr/>
          </p:nvSpPr>
          <p:spPr>
            <a:xfrm>
              <a:off x="761760" y="3355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Text Box 24"/>
            <p:cNvSpPr/>
            <p:nvPr/>
          </p:nvSpPr>
          <p:spPr>
            <a:xfrm>
              <a:off x="761760" y="3854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5859000" y="285588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6"/>
            <p:cNvSpPr/>
            <p:nvPr/>
          </p:nvSpPr>
          <p:spPr>
            <a:xfrm>
              <a:off x="5859000" y="335592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5859000" y="3854160"/>
              <a:ext cx="24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581760" y="2362320"/>
            <a:ext cx="7462080" cy="3352680"/>
            <a:chOff x="581760" y="2362320"/>
            <a:chExt cx="7462080" cy="3352680"/>
          </a:xfrm>
        </p:grpSpPr>
        <p:sp>
          <p:nvSpPr>
            <p:cNvPr id="167" name="Freeform 4"/>
            <p:cNvSpPr/>
            <p:nvPr/>
          </p:nvSpPr>
          <p:spPr>
            <a:xfrm>
              <a:off x="7518240" y="2362320"/>
              <a:ext cx="519120" cy="84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5027400" y="2362320"/>
              <a:ext cx="3016440" cy="541440"/>
            </a:xfrm>
            <a:prstGeom prst="pi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994440" y="3203640"/>
              <a:ext cx="520560" cy="84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4278240" y="3203640"/>
              <a:ext cx="3241800" cy="539640"/>
            </a:xfrm>
            <a:prstGeom prst="pie">
              <a:avLst/>
            </a:pr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6470640" y="4035600"/>
              <a:ext cx="517320" cy="844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949720" y="4869000"/>
              <a:ext cx="520920" cy="846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2789280" y="4873680"/>
              <a:ext cx="3681360" cy="539640"/>
            </a:xfrm>
            <a:prstGeom prst="pie">
              <a:avLst/>
            </a:pr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307880" y="4869000"/>
              <a:ext cx="2022480" cy="1440"/>
              <a:chOff x="1307880" y="4869000"/>
              <a:chExt cx="2022480" cy="1440"/>
            </a:xfrm>
          </p:grpSpPr>
          <p:sp>
            <p:nvSpPr>
              <p:cNvPr id="175" name="Line 11"/>
              <p:cNvSpPr/>
              <p:nvPr/>
            </p:nvSpPr>
            <p:spPr>
              <a:xfrm flipH="1">
                <a:off x="1307880" y="4869000"/>
                <a:ext cx="202248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1307880" y="4869000"/>
                <a:ext cx="2022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294920" y="4038840"/>
              <a:ext cx="2856240" cy="1440"/>
              <a:chOff x="1294920" y="4038840"/>
              <a:chExt cx="2856240" cy="1440"/>
            </a:xfrm>
          </p:grpSpPr>
          <p:sp>
            <p:nvSpPr>
              <p:cNvPr id="178" name="Line 12"/>
              <p:cNvSpPr/>
              <p:nvPr/>
            </p:nvSpPr>
            <p:spPr>
              <a:xfrm flipH="1">
                <a:off x="1294920" y="4038840"/>
                <a:ext cx="285588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295280" y="4038840"/>
                <a:ext cx="28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95280" y="3210120"/>
              <a:ext cx="3687840" cy="1440"/>
              <a:chOff x="1295280" y="3210120"/>
              <a:chExt cx="3687840" cy="1440"/>
            </a:xfrm>
          </p:grpSpPr>
          <p:sp>
            <p:nvSpPr>
              <p:cNvPr id="181" name="Line 13"/>
              <p:cNvSpPr/>
              <p:nvPr/>
            </p:nvSpPr>
            <p:spPr>
              <a:xfrm flipH="1">
                <a:off x="1295280" y="3210120"/>
                <a:ext cx="368784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1295280" y="3210120"/>
                <a:ext cx="3687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295280" y="2368800"/>
              <a:ext cx="4519440" cy="1440"/>
              <a:chOff x="1295280" y="2368800"/>
              <a:chExt cx="4519440" cy="1440"/>
            </a:xfrm>
          </p:grpSpPr>
          <p:sp>
            <p:nvSpPr>
              <p:cNvPr id="184" name="Line 14"/>
              <p:cNvSpPr/>
              <p:nvPr/>
            </p:nvSpPr>
            <p:spPr>
              <a:xfrm flipH="1">
                <a:off x="1295280" y="2368800"/>
                <a:ext cx="4519440" cy="14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1295280" y="2368800"/>
                <a:ext cx="4519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1457280" y="2362320"/>
              <a:ext cx="1440" cy="871560"/>
              <a:chOff x="1457280" y="2362320"/>
              <a:chExt cx="1440" cy="871560"/>
            </a:xfrm>
          </p:grpSpPr>
          <p:sp>
            <p:nvSpPr>
              <p:cNvPr id="187" name="Line 15"/>
              <p:cNvSpPr/>
              <p:nvPr/>
            </p:nvSpPr>
            <p:spPr>
              <a:xfrm>
                <a:off x="1457280" y="2362320"/>
                <a:ext cx="1440" cy="871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1457280" y="2362320"/>
                <a:ext cx="144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57280" y="3233880"/>
              <a:ext cx="1440" cy="817560"/>
              <a:chOff x="1457280" y="3233880"/>
              <a:chExt cx="1440" cy="817560"/>
            </a:xfrm>
          </p:grpSpPr>
          <p:sp>
            <p:nvSpPr>
              <p:cNvPr id="190" name="Line 16"/>
              <p:cNvSpPr/>
              <p:nvPr/>
            </p:nvSpPr>
            <p:spPr>
              <a:xfrm>
                <a:off x="1457280" y="3233880"/>
                <a:ext cx="1440" cy="817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1457280" y="3233880"/>
                <a:ext cx="144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457280" y="4051440"/>
              <a:ext cx="1440" cy="816120"/>
              <a:chOff x="1457280" y="4051440"/>
              <a:chExt cx="1440" cy="816120"/>
            </a:xfrm>
          </p:grpSpPr>
          <p:sp>
            <p:nvSpPr>
              <p:cNvPr id="193" name="Line 17"/>
              <p:cNvSpPr/>
              <p:nvPr/>
            </p:nvSpPr>
            <p:spPr>
              <a:xfrm>
                <a:off x="1457280" y="4051440"/>
                <a:ext cx="144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1457280" y="4051440"/>
                <a:ext cx="144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457280" y="4869000"/>
              <a:ext cx="1440" cy="816120"/>
              <a:chOff x="1457280" y="4869000"/>
              <a:chExt cx="1440" cy="816120"/>
            </a:xfrm>
          </p:grpSpPr>
          <p:sp>
            <p:nvSpPr>
              <p:cNvPr id="196" name="Line 18"/>
              <p:cNvSpPr/>
              <p:nvPr/>
            </p:nvSpPr>
            <p:spPr>
              <a:xfrm>
                <a:off x="1457280" y="4869000"/>
                <a:ext cx="1440" cy="8161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1457280" y="4869000"/>
                <a:ext cx="144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8" name="Freeform 19"/>
            <p:cNvSpPr/>
            <p:nvPr/>
          </p:nvSpPr>
          <p:spPr>
            <a:xfrm>
              <a:off x="3355920" y="2525760"/>
              <a:ext cx="1658880" cy="272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3535200" y="4035600"/>
              <a:ext cx="3459240" cy="54432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Rectangle 23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581760" y="268632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581760" y="351324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581760" y="437688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581760" y="518328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294920" y="5703840"/>
              <a:ext cx="1462320" cy="1800"/>
              <a:chOff x="1294920" y="5703840"/>
              <a:chExt cx="1462320" cy="1800"/>
            </a:xfrm>
          </p:grpSpPr>
          <p:sp>
            <p:nvSpPr>
              <p:cNvPr id="209" name="Line 29"/>
              <p:cNvSpPr/>
              <p:nvPr/>
            </p:nvSpPr>
            <p:spPr>
              <a:xfrm flipH="1">
                <a:off x="1294920" y="5703840"/>
                <a:ext cx="1461960" cy="18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295280" y="5703840"/>
                <a:ext cx="14619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761760" y="2362320"/>
            <a:ext cx="7646040" cy="2971800"/>
            <a:chOff x="761760" y="2362320"/>
            <a:chExt cx="7646040" cy="2971800"/>
          </a:xfrm>
        </p:grpSpPr>
        <p:sp>
          <p:nvSpPr>
            <p:cNvPr id="213" name="AutoShape 4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AutoShape 5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b5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11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12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13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14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15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25" name="Group 16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226" name="Oval 17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7" name="Oval 18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30" name="Oval 21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Oval 22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Oval 23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Oval 24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Oval 25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35" name="Group 26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236" name="Oval 27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7" name="Oval 28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8" name="Oval 29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30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Oval 33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3" name="Oval 34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4" name="Oval 35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45" name="AutoShape 36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AutoShape 37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AutoShape 38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76176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Text Box 40"/>
            <p:cNvSpPr/>
            <p:nvPr/>
          </p:nvSpPr>
          <p:spPr>
            <a:xfrm>
              <a:off x="328428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Text Box 41"/>
            <p:cNvSpPr/>
            <p:nvPr/>
          </p:nvSpPr>
          <p:spPr>
            <a:xfrm>
              <a:off x="5805360" y="316080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959400" y="1447920"/>
            <a:ext cx="7498800" cy="4476600"/>
            <a:chOff x="959400" y="1447920"/>
            <a:chExt cx="7498800" cy="4476600"/>
          </a:xfrm>
        </p:grpSpPr>
        <p:sp>
          <p:nvSpPr>
            <p:cNvPr id="253" name="Freeform 4"/>
            <p:cNvSpPr/>
            <p:nvPr/>
          </p:nvSpPr>
          <p:spPr>
            <a:xfrm>
              <a:off x="1371600" y="1886040"/>
              <a:ext cx="5943600" cy="403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6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8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3056040" y="4284720"/>
              <a:ext cx="27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2" name="Group 13"/>
            <p:cNvGrpSpPr/>
            <p:nvPr/>
          </p:nvGrpSpPr>
          <p:grpSpPr>
            <a:xfrm>
              <a:off x="1068120" y="3276720"/>
              <a:ext cx="2602440" cy="1441080"/>
              <a:chOff x="1068120" y="3276720"/>
              <a:chExt cx="2602440" cy="1441080"/>
            </a:xfrm>
          </p:grpSpPr>
          <p:sp>
            <p:nvSpPr>
              <p:cNvPr id="263" name="Oval 14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4" name="Oval 15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Oval 16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Oval 17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Text Box 18"/>
              <p:cNvSpPr/>
              <p:nvPr/>
            </p:nvSpPr>
            <p:spPr>
              <a:xfrm>
                <a:off x="1068120" y="3782880"/>
                <a:ext cx="260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68" name="Oval 19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Oval 20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Oval 21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959400" y="225432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Oval 25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Oval 26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Text Box 30"/>
            <p:cNvSpPr/>
            <p:nvPr/>
          </p:nvSpPr>
          <p:spPr>
            <a:xfrm>
              <a:off x="2145600" y="1671840"/>
              <a:ext cx="23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108000"/>
            <a:ext cx="79246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3"/>
          <p:cNvGrpSpPr/>
          <p:nvPr/>
        </p:nvGrpSpPr>
        <p:grpSpPr>
          <a:xfrm>
            <a:off x="-161640" y="1828800"/>
            <a:ext cx="9111600" cy="3770280"/>
            <a:chOff x="-161640" y="1828800"/>
            <a:chExt cx="9111600" cy="3770280"/>
          </a:xfrm>
        </p:grpSpPr>
        <p:sp>
          <p:nvSpPr>
            <p:cNvPr id="282" name="AutoShape 3"/>
            <p:cNvSpPr/>
            <p:nvPr/>
          </p:nvSpPr>
          <p:spPr>
            <a:xfrm rot="17973000">
              <a:off x="4559760" y="253404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AutoShape 4"/>
            <p:cNvSpPr/>
            <p:nvPr/>
          </p:nvSpPr>
          <p:spPr>
            <a:xfrm rot="3465600">
              <a:off x="4610520" y="464436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 rot="14368800">
              <a:off x="3391200" y="255636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 rot="7534800">
              <a:off x="3352680" y="4610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36a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464220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Text Box 11"/>
            <p:cNvSpPr/>
            <p:nvPr/>
          </p:nvSpPr>
          <p:spPr>
            <a:xfrm>
              <a:off x="75276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Text Box 12"/>
            <p:cNvSpPr/>
            <p:nvPr/>
          </p:nvSpPr>
          <p:spPr>
            <a:xfrm>
              <a:off x="555660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ext Box 13"/>
            <p:cNvSpPr/>
            <p:nvPr/>
          </p:nvSpPr>
          <p:spPr>
            <a:xfrm>
              <a:off x="4642200" y="51814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-16164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Text Box 15"/>
            <p:cNvSpPr/>
            <p:nvPr/>
          </p:nvSpPr>
          <p:spPr>
            <a:xfrm>
              <a:off x="676440" y="511956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9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Oval 2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6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07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8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09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0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11" name="Text Box 32"/>
            <p:cNvSpPr/>
            <p:nvPr/>
          </p:nvSpPr>
          <p:spPr>
            <a:xfrm>
              <a:off x="3099960" y="356076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7:4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8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