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CE1B-9373-4C50-ACC9-98735342FE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221A-A154-4703-B420-0FA24CAC1BD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76A8-A255-45BC-A8DB-7DAE61C92F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2CB2-643C-4287-B50D-861CE69F6C4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6B5D-1CBE-4488-8238-3AC548E047E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4982-4908-470F-B059-D3CAAF4B1A2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7833-4AD5-4AA0-BD93-44218DF0494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2C55-55C7-463C-B88C-23472BA3BD8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CCDF-26C0-4BA6-8E67-99C7D5BFEDB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0339-44F2-4664-94A1-C95E255F078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8D9-7D9B-4405-AF73-23CBAFF3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4D9-10AB-4C22-88C6-CC35DD36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2B1-C42F-474D-B3B9-2FFA5C7F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A90-36DE-48CE-A865-26BEBA29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22D-4136-434A-8BBF-A2860241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E96-BEC6-424A-81EF-2C4E0BC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3E7-B572-49E8-BFD2-94293171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712-E532-4F25-8825-AF310334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2B5-B266-4088-9BEF-1D88C43F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6B8-6A6E-491E-B8A4-44F88254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4AD-C2B3-4DF5-B5E7-D39F2643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14B-AA53-4CA6-98AF-F625BD5C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orporate1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36FE-5761-400E-ADB9-36C58F81B03F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corporate1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0520" y="174096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雅致蓝色风格商务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Verdana"/>
                <a:ea typeface="宋体"/>
              </a:rPr>
              <a:t>Presenter Nam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宋体"/>
              </a:rPr>
              <a:t>Example Bullet Point Sli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  <a:ea typeface="宋体"/>
              </a:rPr>
              <a:t>Bullet poin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  <a:ea typeface="宋体"/>
              </a:rPr>
              <a:t>Bullet poin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宋体"/>
              </a:rPr>
              <a:t>Sub Bulle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宋体"/>
              </a:rPr>
              <a:t>Colour schem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30280" y="3322800"/>
            <a:ext cx="8272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506680" y="3322800"/>
            <a:ext cx="826920" cy="610920"/>
          </a:xfrm>
          <a:prstGeom prst="rect">
            <a:avLst/>
          </a:prstGeom>
          <a:solidFill>
            <a:srgbClr val="808080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635360" y="3322800"/>
            <a:ext cx="827280" cy="610920"/>
          </a:xfrm>
          <a:prstGeom prst="rect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703840" y="3322800"/>
            <a:ext cx="827280" cy="610920"/>
          </a:xfrm>
          <a:prstGeom prst="rect">
            <a:avLst/>
          </a:prstGeom>
          <a:solidFill>
            <a:srgbClr val="99ff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772320" y="3322800"/>
            <a:ext cx="826920" cy="610920"/>
          </a:xfrm>
          <a:prstGeom prst="rect">
            <a:avLst/>
          </a:prstGeom>
          <a:solidFill>
            <a:srgbClr val="ffff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42240" y="3322800"/>
            <a:ext cx="826920" cy="610920"/>
          </a:xfrm>
          <a:prstGeom prst="rect">
            <a:avLst/>
          </a:prstGeom>
          <a:solidFill>
            <a:srgbClr val="cc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567240" y="3322800"/>
            <a:ext cx="82692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61800" y="3322800"/>
            <a:ext cx="8272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144000" y="26827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1462320" y="25606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412000" y="26827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692880" y="2560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4777920" y="268272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5725440" y="26827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6659640" y="25606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7740720" y="25588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宋体"/>
              </a:rPr>
              <a:t>Picture sli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80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  <a:ea typeface="宋体"/>
              </a:rPr>
              <a:t>Bullet 1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  <a:ea typeface="宋体"/>
              </a:rPr>
              <a:t>Bullet 2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4" descr="snowdrop"/>
          <p:cNvPicPr/>
          <p:nvPr/>
        </p:nvPicPr>
        <p:blipFill>
          <a:blip r:embed="rId1"/>
          <a:stretch/>
        </p:blipFill>
        <p:spPr>
          <a:xfrm>
            <a:off x="5805360" y="2152800"/>
            <a:ext cx="2094120" cy="3528720"/>
          </a:xfrm>
          <a:prstGeom prst="rect">
            <a:avLst/>
          </a:prstGeom>
          <a:ln w="38160">
            <a:solidFill>
              <a:srgbClr val="33cc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宋体"/>
              </a:rPr>
              <a:t>Sample Graph (3 colours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1374840" y="2062080"/>
          <a:ext cx="6732360" cy="37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062080"/>
                    <a:ext cx="673236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685800" y="6416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ffff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宋体"/>
              </a:rPr>
              <a:t>Example of a ta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31640" y="2044800"/>
          <a:ext cx="6229440" cy="3168720"/>
        </p:xfrm>
        <a:graphic>
          <a:graphicData uri="http://schemas.openxmlformats.org/drawingml/2006/table">
            <a:tbl>
              <a:tblPr/>
              <a:tblGrid>
                <a:gridCol w="3114720"/>
                <a:gridCol w="3114720"/>
              </a:tblGrid>
              <a:tr h="452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1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1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Dat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Dat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ccff"/>
                      </a:solidFill>
                    </a:lnL>
                    <a:lnR w="5760">
                      <a:solidFill>
                        <a:srgbClr val="33ccff"/>
                      </a:solidFill>
                    </a:lnR>
                    <a:lnT w="5760">
                      <a:solidFill>
                        <a:srgbClr val="33ccff"/>
                      </a:solidFill>
                    </a:lnT>
                    <a:lnB w="5760">
                      <a:solidFill>
                        <a:srgbClr val="33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29"/>
          <p:cNvSpPr/>
          <p:nvPr/>
        </p:nvSpPr>
        <p:spPr>
          <a:xfrm>
            <a:off x="2232000" y="5624640"/>
            <a:ext cx="41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Note: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PowerPoint does not allow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you to have nice default tables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– but you can cut and paste this 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宋体"/>
              </a:rPr>
              <a:t>Two column bullet point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81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  <a:ea typeface="宋体"/>
              </a:rPr>
              <a:t>Bullets go in her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2920" y="1980720"/>
            <a:ext cx="381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  <a:ea typeface="宋体"/>
              </a:rPr>
              <a:t>And also in her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宋体"/>
              </a:rPr>
              <a:t>Examples of default styl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2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  <a:ea typeface="宋体"/>
              </a:rPr>
              <a:t>Text and lines are like thi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ffff99"/>
                </a:solidFill>
                <a:uFillTx/>
                <a:latin typeface="Verdana"/>
                <a:ea typeface="宋体"/>
              </a:rPr>
              <a:t>Hyperlinks like thi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ccccff"/>
                </a:solidFill>
                <a:uFillTx/>
                <a:latin typeface="Verdana"/>
                <a:ea typeface="宋体"/>
              </a:rPr>
              <a:t>Visited hyperlinks like thi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97480" y="2136600"/>
          <a:ext cx="2995560" cy="1251000"/>
        </p:xfrm>
        <a:graphic>
          <a:graphicData uri="http://schemas.openxmlformats.org/drawingml/2006/table">
            <a:tbl>
              <a:tblPr/>
              <a:tblGrid>
                <a:gridCol w="1498680"/>
                <a:gridCol w="149688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abl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5"/>
          <p:cNvSpPr/>
          <p:nvPr/>
        </p:nvSpPr>
        <p:spPr>
          <a:xfrm>
            <a:off x="792000" y="4568760"/>
            <a:ext cx="2232360" cy="13683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3672000" y="4568760"/>
            <a:ext cx="2232000" cy="13683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  <a:ea typeface="宋体"/>
              </a:rPr>
              <a:t>Example Bullet Point Sli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76440" y="1905120"/>
            <a:ext cx="795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宋体"/>
              </a:rPr>
              <a:t>You are free to use these templates for your personal and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宋体"/>
              </a:rPr>
              <a:t>business presentatio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41520" y="3459240"/>
            <a:ext cx="37177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Use these templates for your present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633920" y="3459240"/>
            <a:ext cx="39686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Don’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Resell or distribute these templates or include the graphics in your work for re-s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Pass off any of our created content as your own 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33200" y="5708520"/>
            <a:ext cx="839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00200" y="2801880"/>
            <a:ext cx="783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We have put a lot of work into developing all these templates and retain the copyright in them.  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You can use them freely providing that you do not redistribute or sell the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ppt宝藏</dc:creator>
  <dc:description/>
  <dc:language>en-US</dc:language>
  <cp:lastModifiedBy>a</cp:lastModifiedBy>
  <dcterms:modified xsi:type="dcterms:W3CDTF">2015-07-25T06:51:22Z</dcterms:modified>
  <cp:revision>6</cp:revision>
  <dc:subject/>
  <dc:title>www.pptbz.com</dc:title>
</cp:coreProperties>
</file>