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FCEA7A-7D7E-4C89-93D8-76A6C53F4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CFD3E0A-789A-447B-AF47-064DE1ABFF7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425-2DCA-449E-AE9A-FF4E37A7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699-F6E2-477C-AD7A-A38935B7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2C58-2E8E-4982-918C-CA17D02A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B71-7C5C-4DED-88CE-CCBF1C06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EE4D-6D3F-4663-8073-1990111D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1D24-C1E4-426E-ADE6-F7013E33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944C-4886-45EF-AF97-1DF5C46F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5085-2AD5-482A-B4EE-D779DF12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EA5C-47D7-4B16-86B5-9862F7C0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735F-9B73-4D9C-9FC2-0703D142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15A6-37B4-4ED8-B36C-9E037AED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BBF-EC12-4364-9E7F-78137F08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4D65-AD61-4FED-AB92-AB9BFCE3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3125-471A-4961-BFFC-3A65448F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712A-BE3C-415F-B419-8499E478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2F27-E2B6-4756-8629-D3121870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9F0A-DA61-4CDF-A7AC-001A7A23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262-4FC9-44A7-B7E4-56E97200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2863-2E8E-47E5-97CC-6DE48341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674-0025-4411-A542-E74E2907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EC1-DCAB-47B2-A0B1-52FB5624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A5B4-7091-4D0F-B654-B2EB4021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7B75-CBAC-4065-9D21-3DF231C7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0943-6C24-417E-9331-FE84DB4B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6693FB-7DB2-4562-8905-9621783A4B1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919F78-7AFE-4918-8105-837736E5688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4.png"/><Relationship Id="rId3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8" name="直接连接符 70"/>
          <p:cNvCxnSpPr/>
          <p:nvPr/>
        </p:nvCxnSpPr>
        <p:spPr>
          <a:xfrm flipH="1">
            <a:off x="930240" y="2603160"/>
            <a:ext cx="743040" cy="21243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</a:ln>
        </p:spPr>
      </p:cxnSp>
      <p:sp>
        <p:nvSpPr>
          <p:cNvPr id="89" name="矩形 3"/>
          <p:cNvSpPr/>
          <p:nvPr/>
        </p:nvSpPr>
        <p:spPr>
          <a:xfrm rot="21051600">
            <a:off x="-687600" y="-1300680"/>
            <a:ext cx="13619160" cy="4631040"/>
          </a:xfrm>
          <a:prstGeom prst="rect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pic>
        <p:nvPicPr>
          <p:cNvPr id="90" name="图片 26" descr=""/>
          <p:cNvPicPr/>
          <p:nvPr/>
        </p:nvPicPr>
        <p:blipFill>
          <a:blip r:embed="rId1"/>
          <a:stretch/>
        </p:blipFill>
        <p:spPr>
          <a:xfrm>
            <a:off x="10692000" y="5461920"/>
            <a:ext cx="1404720" cy="13464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24" descr=""/>
          <p:cNvPicPr/>
          <p:nvPr/>
        </p:nvPicPr>
        <p:blipFill>
          <a:blip r:embed="rId2"/>
          <a:stretch/>
        </p:blipFill>
        <p:spPr>
          <a:xfrm>
            <a:off x="8043480" y="3936600"/>
            <a:ext cx="2996280" cy="28717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5" descr=""/>
          <p:cNvPicPr/>
          <p:nvPr/>
        </p:nvPicPr>
        <p:blipFill>
          <a:blip r:embed="rId3"/>
          <a:stretch/>
        </p:blipFill>
        <p:spPr>
          <a:xfrm>
            <a:off x="7484760" y="5461920"/>
            <a:ext cx="1404720" cy="1346400"/>
          </a:xfrm>
          <a:prstGeom prst="rect">
            <a:avLst/>
          </a:prstGeom>
          <a:ln w="0">
            <a:noFill/>
          </a:ln>
        </p:spPr>
      </p:pic>
      <p:sp>
        <p:nvSpPr>
          <p:cNvPr id="93" name="文本框 27"/>
          <p:cNvSpPr/>
          <p:nvPr/>
        </p:nvSpPr>
        <p:spPr>
          <a:xfrm rot="20921400">
            <a:off x="2936160" y="1045440"/>
            <a:ext cx="568080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谁</a:t>
            </a:r>
            <a:r>
              <a:rPr b="0" lang="zh-CN" sz="13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背</a:t>
            </a:r>
            <a:r>
              <a:rPr b="0" lang="zh-CN" sz="5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上了猴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32"/>
          <p:cNvSpPr/>
          <p:nvPr/>
        </p:nvSpPr>
        <p:spPr>
          <a:xfrm>
            <a:off x="9033480" y="1645920"/>
            <a:ext cx="2148840" cy="21488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椭圆 33"/>
          <p:cNvSpPr/>
          <p:nvPr/>
        </p:nvSpPr>
        <p:spPr>
          <a:xfrm>
            <a:off x="10698840" y="1852200"/>
            <a:ext cx="1018440" cy="1018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椭圆 34"/>
          <p:cNvSpPr/>
          <p:nvPr/>
        </p:nvSpPr>
        <p:spPr>
          <a:xfrm>
            <a:off x="8602560" y="2507040"/>
            <a:ext cx="604440" cy="6044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7" name="组合 81"/>
          <p:cNvGrpSpPr/>
          <p:nvPr/>
        </p:nvGrpSpPr>
        <p:grpSpPr>
          <a:xfrm>
            <a:off x="-785520" y="-94680"/>
            <a:ext cx="8633160" cy="2068560"/>
            <a:chOff x="-785520" y="-94680"/>
            <a:chExt cx="8633160" cy="2068560"/>
          </a:xfrm>
        </p:grpSpPr>
        <p:sp>
          <p:nvSpPr>
            <p:cNvPr id="98" name="文本框 28"/>
            <p:cNvSpPr/>
            <p:nvPr/>
          </p:nvSpPr>
          <p:spPr>
            <a:xfrm rot="20968800">
              <a:off x="369720" y="583920"/>
              <a:ext cx="748800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《</a:t>
              </a:r>
              <a:r>
                <a:rPr b="0" lang="zh-CN" sz="3200" spc="-1" strike="noStrike">
                  <a:solidFill>
                    <a:srgbClr val="ffffff"/>
                  </a:solidFill>
                  <a:latin typeface="方正粗宋简体"/>
                  <a:ea typeface="方正粗宋简体"/>
                </a:rPr>
                <a:t>哈佛商业评论》经典解读系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平行四边形 29"/>
            <p:cNvSpPr/>
            <p:nvPr/>
          </p:nvSpPr>
          <p:spPr>
            <a:xfrm rot="21051600">
              <a:off x="-752400" y="1350000"/>
              <a:ext cx="1328040" cy="521280"/>
            </a:xfrm>
            <a:prstGeom prst="parallelogram">
              <a:avLst>
                <a:gd name="adj" fmla="val 48241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00" name="直接连接符 40"/>
            <p:cNvCxnSpPr/>
            <p:nvPr/>
          </p:nvCxnSpPr>
          <p:spPr>
            <a:xfrm flipH="1">
              <a:off x="450720" y="1247760"/>
              <a:ext cx="158400" cy="56880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</p:grpSp>
      <p:cxnSp>
        <p:nvCxnSpPr>
          <p:cNvPr id="101" name="直接连接符 58"/>
          <p:cNvCxnSpPr/>
          <p:nvPr/>
        </p:nvCxnSpPr>
        <p:spPr>
          <a:xfrm flipH="1">
            <a:off x="2351520" y="2594520"/>
            <a:ext cx="743040" cy="2670120"/>
          </a:xfrm>
          <a:prstGeom prst="straightConnector1">
            <a:avLst/>
          </a:prstGeom>
          <a:ln w="28575">
            <a:solidFill>
              <a:srgbClr val="ffffff"/>
            </a:solidFill>
          </a:ln>
        </p:spPr>
      </p:cxnSp>
      <p:sp>
        <p:nvSpPr>
          <p:cNvPr id="102" name="文本框 71"/>
          <p:cNvSpPr/>
          <p:nvPr/>
        </p:nvSpPr>
        <p:spPr>
          <a:xfrm rot="21079800">
            <a:off x="1098000" y="3805200"/>
            <a:ext cx="5680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PPT</a:t>
            </a: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制作：</a:t>
            </a:r>
            <a:r>
              <a:rPr b="0" lang="en-US" sz="28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@</a:t>
            </a:r>
            <a:r>
              <a:rPr b="0" lang="zh-CN" sz="28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小巴</a:t>
            </a:r>
            <a:r>
              <a:rPr b="0" lang="en-US" sz="28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_1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73"/>
          <p:cNvSpPr/>
          <p:nvPr/>
        </p:nvSpPr>
        <p:spPr>
          <a:xfrm>
            <a:off x="196920" y="5838120"/>
            <a:ext cx="748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一张图教你如何摆脱重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4"/>
          <p:cNvSpPr/>
          <p:nvPr/>
        </p:nvSpPr>
        <p:spPr>
          <a:xfrm>
            <a:off x="183240" y="5755680"/>
            <a:ext cx="6335640" cy="63720"/>
          </a:xfrm>
          <a:prstGeom prst="rect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矩形 77"/>
          <p:cNvSpPr/>
          <p:nvPr/>
        </p:nvSpPr>
        <p:spPr>
          <a:xfrm>
            <a:off x="183240" y="6553080"/>
            <a:ext cx="6335640" cy="63720"/>
          </a:xfrm>
          <a:prstGeom prst="rect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31"/>
          <p:cNvSpPr/>
          <p:nvPr/>
        </p:nvSpPr>
        <p:spPr>
          <a:xfrm rot="21056400">
            <a:off x="6516000" y="3038400"/>
            <a:ext cx="3702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   </a:t>
            </a: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指导老师：</a:t>
            </a:r>
            <a:r>
              <a:rPr b="0" lang="zh-CN" sz="28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智慧云</a:t>
            </a:r>
            <a:r>
              <a:rPr b="0" lang="en-US" sz="28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CEO</a:t>
            </a:r>
            <a:r>
              <a:rPr b="0" lang="zh-CN" sz="28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陈雪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"/>
          <p:cNvSpPr/>
          <p:nvPr/>
        </p:nvSpPr>
        <p:spPr>
          <a:xfrm>
            <a:off x="8706240" y="109080"/>
            <a:ext cx="3889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原文作者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威廉</a:t>
            </a:r>
            <a:r>
              <a:rPr b="0" lang="ja-JP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・</a:t>
            </a: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翁肯</a:t>
            </a:r>
            <a:r>
              <a:rPr b="0" lang="en-US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&amp;</a:t>
            </a: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唐纳德</a:t>
            </a:r>
            <a:r>
              <a:rPr b="0" lang="ja-JP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・</a:t>
            </a:r>
            <a:r>
              <a:rPr b="0" lang="zh-CN" sz="2000" spc="-1" strike="noStrike">
                <a:solidFill>
                  <a:srgbClr val="ffffff"/>
                </a:solidFill>
                <a:latin typeface="华文细黑"/>
                <a:ea typeface="华文细黑"/>
              </a:rPr>
              <a:t>沃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2"/>
          <p:cNvSpPr/>
          <p:nvPr/>
        </p:nvSpPr>
        <p:spPr>
          <a:xfrm>
            <a:off x="4066920" y="0"/>
            <a:ext cx="3998520" cy="406332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225" name="文本框 3"/>
          <p:cNvSpPr/>
          <p:nvPr/>
        </p:nvSpPr>
        <p:spPr>
          <a:xfrm>
            <a:off x="2322360" y="3389400"/>
            <a:ext cx="748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解决问题的关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4"/>
          <p:cNvSpPr/>
          <p:nvPr/>
        </p:nvSpPr>
        <p:spPr>
          <a:xfrm>
            <a:off x="4313520" y="4328280"/>
            <a:ext cx="42958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把主动权还给下属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直接连接符 5"/>
          <p:cNvCxnSpPr/>
          <p:nvPr/>
        </p:nvCxnSpPr>
        <p:spPr>
          <a:xfrm>
            <a:off x="2892240" y="5283360"/>
            <a:ext cx="6480360" cy="360"/>
          </a:xfrm>
          <a:prstGeom prst="straightConnector1">
            <a:avLst/>
          </a:prstGeom>
          <a:ln w="28575">
            <a:solidFill>
              <a:srgbClr val="ffffff">
                <a:lumMod val="65000"/>
              </a:srgbClr>
            </a:solidFill>
          </a:ln>
        </p:spPr>
      </p:cxnSp>
      <p:cxnSp>
        <p:nvCxnSpPr>
          <p:cNvPr id="228" name="直接连接符 6"/>
          <p:cNvCxnSpPr/>
          <p:nvPr/>
        </p:nvCxnSpPr>
        <p:spPr>
          <a:xfrm>
            <a:off x="2892240" y="4177800"/>
            <a:ext cx="6480360" cy="360"/>
          </a:xfrm>
          <a:prstGeom prst="straightConnector1">
            <a:avLst/>
          </a:prstGeom>
          <a:ln w="76200">
            <a:solidFill>
              <a:srgbClr val="ffffff">
                <a:lumMod val="65000"/>
              </a:srgbClr>
            </a:solidFill>
          </a:ln>
        </p:spPr>
      </p:cxnSp>
      <p:cxnSp>
        <p:nvCxnSpPr>
          <p:cNvPr id="229" name="直接连接符 7"/>
          <p:cNvCxnSpPr/>
          <p:nvPr/>
        </p:nvCxnSpPr>
        <p:spPr>
          <a:xfrm>
            <a:off x="2892240" y="4287240"/>
            <a:ext cx="6480360" cy="360"/>
          </a:xfrm>
          <a:prstGeom prst="straightConnector1">
            <a:avLst/>
          </a:prstGeom>
          <a:ln w="28575">
            <a:solidFill>
              <a:srgbClr val="ffffff">
                <a:lumMod val="65000"/>
              </a:srgbClr>
            </a:solidFill>
          </a:ln>
        </p:spPr>
      </p:cxnSp>
      <p:cxnSp>
        <p:nvCxnSpPr>
          <p:cNvPr id="230" name="直接连接符 8"/>
          <p:cNvCxnSpPr/>
          <p:nvPr/>
        </p:nvCxnSpPr>
        <p:spPr>
          <a:xfrm>
            <a:off x="2892240" y="5394960"/>
            <a:ext cx="6480360" cy="360"/>
          </a:xfrm>
          <a:prstGeom prst="straightConnector1">
            <a:avLst/>
          </a:prstGeom>
          <a:ln w="76200">
            <a:solidFill>
              <a:srgbClr val="ffffff">
                <a:lumMod val="65000"/>
              </a:srgbClr>
            </a:solidFill>
          </a:ln>
        </p:spPr>
      </p:cxnSp>
      <p:sp>
        <p:nvSpPr>
          <p:cNvPr id="231" name="矩形 9"/>
          <p:cNvSpPr/>
          <p:nvPr/>
        </p:nvSpPr>
        <p:spPr>
          <a:xfrm>
            <a:off x="2892600" y="5368680"/>
            <a:ext cx="6783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808080"/>
                </a:solidFill>
                <a:latin typeface="华文细黑"/>
                <a:ea typeface="华文细黑"/>
              </a:rPr>
              <a:t>经理必须合理分配自己的工作时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20"/>
          <p:cNvSpPr/>
          <p:nvPr/>
        </p:nvSpPr>
        <p:spPr>
          <a:xfrm>
            <a:off x="6047280" y="1970640"/>
            <a:ext cx="5962320" cy="735120"/>
          </a:xfrm>
          <a:prstGeom prst="rect">
            <a:avLst/>
          </a:prstGeom>
          <a:noFill/>
          <a:ln w="38100">
            <a:solidFill>
              <a:srgbClr val="0089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233" name="矩形 21"/>
          <p:cNvSpPr/>
          <p:nvPr/>
        </p:nvSpPr>
        <p:spPr>
          <a:xfrm>
            <a:off x="6091920" y="3378960"/>
            <a:ext cx="5962320" cy="735120"/>
          </a:xfrm>
          <a:prstGeom prst="rect">
            <a:avLst/>
          </a:prstGeom>
          <a:noFill/>
          <a:ln w="38100">
            <a:solidFill>
              <a:srgbClr val="0089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234" name="矩形 22"/>
          <p:cNvSpPr/>
          <p:nvPr/>
        </p:nvSpPr>
        <p:spPr>
          <a:xfrm>
            <a:off x="6091920" y="4827240"/>
            <a:ext cx="5962320" cy="735120"/>
          </a:xfrm>
          <a:prstGeom prst="rect">
            <a:avLst/>
          </a:prstGeom>
          <a:noFill/>
          <a:ln w="38100">
            <a:solidFill>
              <a:srgbClr val="0089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235" name="文本框 1"/>
          <p:cNvSpPr/>
          <p:nvPr/>
        </p:nvSpPr>
        <p:spPr>
          <a:xfrm>
            <a:off x="1813320" y="313200"/>
            <a:ext cx="8565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经理的时间分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19"/>
          <p:cNvGrpSpPr/>
          <p:nvPr/>
        </p:nvGrpSpPr>
        <p:grpSpPr>
          <a:xfrm>
            <a:off x="231480" y="1828440"/>
            <a:ext cx="3384360" cy="3384360"/>
            <a:chOff x="231480" y="1828440"/>
            <a:chExt cx="3384360" cy="3384360"/>
          </a:xfrm>
        </p:grpSpPr>
        <p:sp>
          <p:nvSpPr>
            <p:cNvPr id="237" name="椭圆 2"/>
            <p:cNvSpPr/>
            <p:nvPr/>
          </p:nvSpPr>
          <p:spPr>
            <a:xfrm>
              <a:off x="231480" y="1828440"/>
              <a:ext cx="3384360" cy="338436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38" name="椭圆 3"/>
            <p:cNvSpPr/>
            <p:nvPr/>
          </p:nvSpPr>
          <p:spPr>
            <a:xfrm>
              <a:off x="360000" y="1956960"/>
              <a:ext cx="3127320" cy="312732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39" name="图片 11" descr=""/>
            <p:cNvPicPr/>
            <p:nvPr/>
          </p:nvPicPr>
          <p:blipFill>
            <a:blip r:embed="rId1"/>
            <a:stretch/>
          </p:blipFill>
          <p:spPr>
            <a:xfrm rot="20646000">
              <a:off x="1223280" y="2602800"/>
              <a:ext cx="1400400" cy="134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椭圆 4"/>
            <p:cNvSpPr/>
            <p:nvPr/>
          </p:nvSpPr>
          <p:spPr>
            <a:xfrm>
              <a:off x="1783440" y="2027520"/>
              <a:ext cx="280440" cy="28044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1" name="椭圆 5"/>
            <p:cNvSpPr/>
            <p:nvPr/>
          </p:nvSpPr>
          <p:spPr>
            <a:xfrm>
              <a:off x="1783440" y="4720320"/>
              <a:ext cx="280440" cy="28044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2" name="椭圆 6"/>
            <p:cNvSpPr/>
            <p:nvPr/>
          </p:nvSpPr>
          <p:spPr>
            <a:xfrm>
              <a:off x="3130560" y="3380400"/>
              <a:ext cx="280440" cy="28044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椭圆 7"/>
            <p:cNvSpPr/>
            <p:nvPr/>
          </p:nvSpPr>
          <p:spPr>
            <a:xfrm>
              <a:off x="441720" y="3380400"/>
              <a:ext cx="280440" cy="28044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圆角矩形 8"/>
            <p:cNvSpPr/>
            <p:nvPr/>
          </p:nvSpPr>
          <p:spPr>
            <a:xfrm>
              <a:off x="1842840" y="2337840"/>
              <a:ext cx="167400" cy="1212120"/>
            </a:xfrm>
            <a:prstGeom prst="roundRect">
              <a:avLst>
                <a:gd name="adj" fmla="val 16667"/>
              </a:avLst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5" name="圆角矩形 9"/>
            <p:cNvSpPr/>
            <p:nvPr/>
          </p:nvSpPr>
          <p:spPr>
            <a:xfrm rot="19704000">
              <a:off x="2019600" y="3263040"/>
              <a:ext cx="616680" cy="209520"/>
            </a:xfrm>
            <a:prstGeom prst="roundRect">
              <a:avLst>
                <a:gd name="adj" fmla="val 16667"/>
              </a:avLst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6" name="椭圆 10"/>
            <p:cNvSpPr/>
            <p:nvPr/>
          </p:nvSpPr>
          <p:spPr>
            <a:xfrm>
              <a:off x="1801800" y="3385080"/>
              <a:ext cx="351720" cy="35172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47" name="组合 18"/>
          <p:cNvGrpSpPr/>
          <p:nvPr/>
        </p:nvGrpSpPr>
        <p:grpSpPr>
          <a:xfrm>
            <a:off x="3407760" y="1937160"/>
            <a:ext cx="2721600" cy="3637440"/>
            <a:chOff x="3407760" y="1937160"/>
            <a:chExt cx="2721600" cy="3637440"/>
          </a:xfrm>
        </p:grpSpPr>
        <p:sp>
          <p:nvSpPr>
            <p:cNvPr id="248" name="等腰三角形 12"/>
            <p:cNvSpPr/>
            <p:nvPr/>
          </p:nvSpPr>
          <p:spPr>
            <a:xfrm rot="14326200">
              <a:off x="4280760" y="1680840"/>
              <a:ext cx="710280" cy="232596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/>
                </a:solidFill>
                <a:latin typeface="Calibri"/>
              </a:endParaRPr>
            </a:p>
          </p:txBody>
        </p:sp>
        <p:sp>
          <p:nvSpPr>
            <p:cNvPr id="249" name="矩形 13"/>
            <p:cNvSpPr/>
            <p:nvPr/>
          </p:nvSpPr>
          <p:spPr>
            <a:xfrm>
              <a:off x="5373720" y="1956960"/>
              <a:ext cx="755640" cy="75564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/>
                </a:solidFill>
                <a:latin typeface="Calibri"/>
              </a:endParaRPr>
            </a:p>
          </p:txBody>
        </p:sp>
        <p:sp>
          <p:nvSpPr>
            <p:cNvPr id="250" name="等腰三角形 14"/>
            <p:cNvSpPr/>
            <p:nvPr/>
          </p:nvSpPr>
          <p:spPr>
            <a:xfrm rot="16707000">
              <a:off x="4188960" y="2666880"/>
              <a:ext cx="775800" cy="187560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/>
                </a:solidFill>
                <a:latin typeface="Calibri"/>
              </a:endParaRPr>
            </a:p>
          </p:txBody>
        </p:sp>
        <p:sp>
          <p:nvSpPr>
            <p:cNvPr id="251" name="矩形 15"/>
            <p:cNvSpPr/>
            <p:nvPr/>
          </p:nvSpPr>
          <p:spPr>
            <a:xfrm>
              <a:off x="5373720" y="3370680"/>
              <a:ext cx="755640" cy="75564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/>
                </a:solidFill>
                <a:latin typeface="Calibri"/>
              </a:endParaRPr>
            </a:p>
          </p:txBody>
        </p:sp>
        <p:sp>
          <p:nvSpPr>
            <p:cNvPr id="252" name="等腰三角形 16"/>
            <p:cNvSpPr/>
            <p:nvPr/>
          </p:nvSpPr>
          <p:spPr>
            <a:xfrm rot="18769200">
              <a:off x="4286520" y="3078360"/>
              <a:ext cx="648360" cy="2680200"/>
            </a:xfrm>
            <a:prstGeom prst="triangle">
              <a:avLst>
                <a:gd name="adj" fmla="val 50000"/>
              </a:avLst>
            </a:prstGeom>
            <a:solidFill>
              <a:schemeClr val="bg1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/>
                </a:solidFill>
                <a:latin typeface="Calibri"/>
              </a:endParaRPr>
            </a:p>
          </p:txBody>
        </p:sp>
        <p:sp>
          <p:nvSpPr>
            <p:cNvPr id="253" name="矩形 17"/>
            <p:cNvSpPr/>
            <p:nvPr/>
          </p:nvSpPr>
          <p:spPr>
            <a:xfrm>
              <a:off x="5373720" y="4818960"/>
              <a:ext cx="755640" cy="75564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accent6"/>
                </a:solidFill>
                <a:latin typeface="Calibri"/>
              </a:endParaRPr>
            </a:p>
          </p:txBody>
        </p:sp>
      </p:grpSp>
      <p:sp>
        <p:nvSpPr>
          <p:cNvPr id="254" name="矩形 23"/>
          <p:cNvSpPr/>
          <p:nvPr/>
        </p:nvSpPr>
        <p:spPr>
          <a:xfrm>
            <a:off x="5513760" y="1988640"/>
            <a:ext cx="5148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4"/>
          <p:cNvSpPr/>
          <p:nvPr/>
        </p:nvSpPr>
        <p:spPr>
          <a:xfrm>
            <a:off x="5536440" y="3388320"/>
            <a:ext cx="5148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5"/>
          <p:cNvSpPr/>
          <p:nvPr/>
        </p:nvSpPr>
        <p:spPr>
          <a:xfrm>
            <a:off x="5536440" y="4828320"/>
            <a:ext cx="5148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6"/>
          <p:cNvSpPr/>
          <p:nvPr/>
        </p:nvSpPr>
        <p:spPr>
          <a:xfrm>
            <a:off x="7150320" y="2063160"/>
            <a:ext cx="3878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受上司支配的时间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不可掉以轻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7"/>
          <p:cNvSpPr/>
          <p:nvPr/>
        </p:nvSpPr>
        <p:spPr>
          <a:xfrm>
            <a:off x="7150320" y="3485160"/>
            <a:ext cx="3878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受组织支配的时间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满足同级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8"/>
          <p:cNvSpPr/>
          <p:nvPr/>
        </p:nvSpPr>
        <p:spPr>
          <a:xfrm>
            <a:off x="6998040" y="4935240"/>
            <a:ext cx="4096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个人</a:t>
            </a:r>
            <a:r>
              <a:rPr b="0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&amp;</a:t>
            </a:r>
            <a:r>
              <a:rPr b="0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属支配的时间——此消彼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9"/>
          <p:cNvSpPr/>
          <p:nvPr/>
        </p:nvSpPr>
        <p:spPr>
          <a:xfrm flipH="1">
            <a:off x="5751720" y="5548680"/>
            <a:ext cx="686160" cy="1308960"/>
          </a:xfrm>
          <a:custGeom>
            <a:avLst/>
            <a:gdLst>
              <a:gd name="textAreaLeft" fmla="*/ 360 w 686160"/>
              <a:gd name="textAreaRight" fmla="*/ 686880 w 686160"/>
              <a:gd name="textAreaTop" fmla="*/ 0 h 1308960"/>
              <a:gd name="textAreaBottom" fmla="*/ 1309320 h 1308960"/>
            </a:gdLst>
            <a:ahLst/>
            <a:rect l="textAreaLeft" t="textAreaTop" r="textAreaRight" b="textAreaBottom"/>
            <a:pathLst>
              <a:path w="1433469" h="1228299">
                <a:moveTo>
                  <a:pt x="1433469" y="0"/>
                </a:moveTo>
                <a:cubicBezTo>
                  <a:pt x="1431461" y="20083"/>
                  <a:pt x="1430166" y="134233"/>
                  <a:pt x="1406173" y="177421"/>
                </a:cubicBezTo>
                <a:cubicBezTo>
                  <a:pt x="1390241" y="206098"/>
                  <a:pt x="1369779" y="232012"/>
                  <a:pt x="1351582" y="259308"/>
                </a:cubicBezTo>
                <a:lnTo>
                  <a:pt x="1324287" y="300251"/>
                </a:lnTo>
                <a:cubicBezTo>
                  <a:pt x="1315188" y="313899"/>
                  <a:pt x="1310639" y="332095"/>
                  <a:pt x="1296991" y="341194"/>
                </a:cubicBezTo>
                <a:cubicBezTo>
                  <a:pt x="1283343" y="350293"/>
                  <a:pt x="1268649" y="357989"/>
                  <a:pt x="1256048" y="368490"/>
                </a:cubicBezTo>
                <a:cubicBezTo>
                  <a:pt x="1121901" y="480280"/>
                  <a:pt x="1295163" y="343022"/>
                  <a:pt x="1187809" y="450376"/>
                </a:cubicBezTo>
                <a:cubicBezTo>
                  <a:pt x="1176211" y="461974"/>
                  <a:pt x="1159467" y="467171"/>
                  <a:pt x="1146866" y="477672"/>
                </a:cubicBezTo>
                <a:cubicBezTo>
                  <a:pt x="1018587" y="584570"/>
                  <a:pt x="1230993" y="435233"/>
                  <a:pt x="1024036" y="573206"/>
                </a:cubicBezTo>
                <a:cubicBezTo>
                  <a:pt x="1010388" y="582305"/>
                  <a:pt x="998654" y="595315"/>
                  <a:pt x="983093" y="600502"/>
                </a:cubicBezTo>
                <a:lnTo>
                  <a:pt x="901206" y="627797"/>
                </a:lnTo>
                <a:cubicBezTo>
                  <a:pt x="803712" y="692793"/>
                  <a:pt x="851145" y="674431"/>
                  <a:pt x="764728" y="696036"/>
                </a:cubicBezTo>
                <a:cubicBezTo>
                  <a:pt x="751080" y="705135"/>
                  <a:pt x="738861" y="716871"/>
                  <a:pt x="723785" y="723332"/>
                </a:cubicBezTo>
                <a:cubicBezTo>
                  <a:pt x="692853" y="736588"/>
                  <a:pt x="658138" y="734023"/>
                  <a:pt x="628251" y="750627"/>
                </a:cubicBezTo>
                <a:cubicBezTo>
                  <a:pt x="599574" y="766559"/>
                  <a:pt x="577486" y="794844"/>
                  <a:pt x="546364" y="805218"/>
                </a:cubicBezTo>
                <a:cubicBezTo>
                  <a:pt x="443443" y="839526"/>
                  <a:pt x="570315" y="793244"/>
                  <a:pt x="464478" y="846162"/>
                </a:cubicBezTo>
                <a:cubicBezTo>
                  <a:pt x="451611" y="852596"/>
                  <a:pt x="437182" y="855260"/>
                  <a:pt x="423534" y="859809"/>
                </a:cubicBezTo>
                <a:cubicBezTo>
                  <a:pt x="326041" y="924805"/>
                  <a:pt x="373473" y="906443"/>
                  <a:pt x="287057" y="928048"/>
                </a:cubicBezTo>
                <a:cubicBezTo>
                  <a:pt x="273409" y="937147"/>
                  <a:pt x="258714" y="944843"/>
                  <a:pt x="246113" y="955344"/>
                </a:cubicBezTo>
                <a:cubicBezTo>
                  <a:pt x="200837" y="993074"/>
                  <a:pt x="215055" y="998168"/>
                  <a:pt x="164227" y="1023582"/>
                </a:cubicBezTo>
                <a:cubicBezTo>
                  <a:pt x="151360" y="1030016"/>
                  <a:pt x="136932" y="1032681"/>
                  <a:pt x="123284" y="1037230"/>
                </a:cubicBezTo>
                <a:cubicBezTo>
                  <a:pt x="109636" y="1050878"/>
                  <a:pt x="94696" y="1063346"/>
                  <a:pt x="82340" y="1078174"/>
                </a:cubicBezTo>
                <a:cubicBezTo>
                  <a:pt x="71839" y="1090775"/>
                  <a:pt x="66643" y="1107519"/>
                  <a:pt x="55045" y="1119117"/>
                </a:cubicBezTo>
                <a:cubicBezTo>
                  <a:pt x="43447" y="1130715"/>
                  <a:pt x="27750" y="1137314"/>
                  <a:pt x="14102" y="1146412"/>
                </a:cubicBezTo>
                <a:cubicBezTo>
                  <a:pt x="-3862" y="1200303"/>
                  <a:pt x="454" y="1172970"/>
                  <a:pt x="454" y="1228299"/>
                </a:cubicBezTo>
              </a:path>
            </a:pathLst>
          </a:custGeom>
          <a:noFill/>
          <a:ln w="38100">
            <a:solidFill>
              <a:srgbClr val="0089f0"/>
            </a:solidFill>
            <a:prstDash val="sysDash"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61" name="直接连接符 31"/>
          <p:cNvCxnSpPr/>
          <p:nvPr/>
        </p:nvCxnSpPr>
        <p:spPr>
          <a:xfrm>
            <a:off x="8548560" y="774720"/>
            <a:ext cx="4143960" cy="2880"/>
          </a:xfrm>
          <a:prstGeom prst="straightConnector1">
            <a:avLst/>
          </a:prstGeom>
          <a:ln w="38100">
            <a:solidFill>
              <a:srgbClr val="ffffff">
                <a:lumMod val="65000"/>
              </a:srgbClr>
            </a:solidFill>
          </a:ln>
        </p:spPr>
      </p:cxnSp>
      <p:cxnSp>
        <p:nvCxnSpPr>
          <p:cNvPr id="262" name="直接连接符 33"/>
          <p:cNvCxnSpPr/>
          <p:nvPr/>
        </p:nvCxnSpPr>
        <p:spPr>
          <a:xfrm>
            <a:off x="-500400" y="774720"/>
            <a:ext cx="4143960" cy="2880"/>
          </a:xfrm>
          <a:prstGeom prst="straightConnector1">
            <a:avLst/>
          </a:prstGeom>
          <a:ln w="38100">
            <a:solidFill>
              <a:srgbClr val="ffffff">
                <a:lumMod val="65000"/>
              </a:srgbClr>
            </a:solidFill>
          </a:ln>
        </p:spPr>
      </p:cxn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圆角矩形 27"/>
          <p:cNvSpPr/>
          <p:nvPr/>
        </p:nvSpPr>
        <p:spPr>
          <a:xfrm>
            <a:off x="356400" y="4708080"/>
            <a:ext cx="11500200" cy="1833120"/>
          </a:xfrm>
          <a:prstGeom prst="roundRect">
            <a:avLst>
              <a:gd name="adj" fmla="val 9223"/>
            </a:avLst>
          </a:prstGeom>
          <a:noFill/>
          <a:ln w="28575">
            <a:solidFill>
              <a:srgbClr val="0089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264" name="文本框 3"/>
          <p:cNvSpPr/>
          <p:nvPr/>
        </p:nvSpPr>
        <p:spPr>
          <a:xfrm>
            <a:off x="3396240" y="299520"/>
            <a:ext cx="51098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“</a:t>
            </a:r>
            <a:r>
              <a:rPr b="0" lang="zh-CN" sz="54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三步走”战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4"/>
          <p:cNvSpPr/>
          <p:nvPr/>
        </p:nvSpPr>
        <p:spPr>
          <a:xfrm>
            <a:off x="4602600" y="1015920"/>
            <a:ext cx="2954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华文细黑"/>
                <a:ea typeface="华文细黑"/>
              </a:rPr>
              <a:t>管理工作时间，控制工作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直接连接符 5"/>
          <p:cNvCxnSpPr/>
          <p:nvPr/>
        </p:nvCxnSpPr>
        <p:spPr>
          <a:xfrm>
            <a:off x="8548560" y="774720"/>
            <a:ext cx="4143960" cy="2880"/>
          </a:xfrm>
          <a:prstGeom prst="straightConnector1">
            <a:avLst/>
          </a:prstGeom>
          <a:ln w="38100">
            <a:solidFill>
              <a:srgbClr val="ffffff">
                <a:lumMod val="65000"/>
              </a:srgbClr>
            </a:solidFill>
          </a:ln>
        </p:spPr>
      </p:cxnSp>
      <p:cxnSp>
        <p:nvCxnSpPr>
          <p:cNvPr id="267" name="直接连接符 6"/>
          <p:cNvCxnSpPr/>
          <p:nvPr/>
        </p:nvCxnSpPr>
        <p:spPr>
          <a:xfrm>
            <a:off x="-500400" y="774720"/>
            <a:ext cx="4143960" cy="2880"/>
          </a:xfrm>
          <a:prstGeom prst="straightConnector1">
            <a:avLst/>
          </a:prstGeom>
          <a:ln w="38100">
            <a:solidFill>
              <a:srgbClr val="ffffff">
                <a:lumMod val="65000"/>
              </a:srgbClr>
            </a:solidFill>
          </a:ln>
        </p:spPr>
      </p:cxnSp>
      <p:sp>
        <p:nvSpPr>
          <p:cNvPr id="268" name="矩形 7"/>
          <p:cNvSpPr/>
          <p:nvPr/>
        </p:nvSpPr>
        <p:spPr>
          <a:xfrm>
            <a:off x="3583080" y="4673160"/>
            <a:ext cx="5812560" cy="18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1</a:t>
            </a: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、要消除受下属支配的时间扩大自由支配的时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2</a:t>
            </a: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、把增加时间的一部分用来确保下属具有主动性和发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3</a:t>
            </a: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、把增加时间的另一部分用来控制上司和同级之间分派的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8"/>
          <p:cNvGrpSpPr/>
          <p:nvPr/>
        </p:nvGrpSpPr>
        <p:grpSpPr>
          <a:xfrm>
            <a:off x="1400040" y="1662840"/>
            <a:ext cx="1787040" cy="1787040"/>
            <a:chOff x="1400040" y="1662840"/>
            <a:chExt cx="1787040" cy="1787040"/>
          </a:xfrm>
        </p:grpSpPr>
        <p:sp>
          <p:nvSpPr>
            <p:cNvPr id="270" name="椭圆 9"/>
            <p:cNvSpPr/>
            <p:nvPr/>
          </p:nvSpPr>
          <p:spPr>
            <a:xfrm>
              <a:off x="1400040" y="1662840"/>
              <a:ext cx="1787040" cy="178704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椭圆 10"/>
            <p:cNvSpPr/>
            <p:nvPr/>
          </p:nvSpPr>
          <p:spPr>
            <a:xfrm>
              <a:off x="1467720" y="1730880"/>
              <a:ext cx="1651320" cy="165132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272" name="图片 11" descr=""/>
            <p:cNvPicPr/>
            <p:nvPr/>
          </p:nvPicPr>
          <p:blipFill>
            <a:blip r:embed="rId1"/>
            <a:stretch/>
          </p:blipFill>
          <p:spPr>
            <a:xfrm rot="20646000">
              <a:off x="1923480" y="2071800"/>
              <a:ext cx="739440" cy="70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椭圆 12"/>
            <p:cNvSpPr/>
            <p:nvPr/>
          </p:nvSpPr>
          <p:spPr>
            <a:xfrm>
              <a:off x="2219400" y="1767960"/>
              <a:ext cx="147960" cy="14796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" name="椭圆 13"/>
            <p:cNvSpPr/>
            <p:nvPr/>
          </p:nvSpPr>
          <p:spPr>
            <a:xfrm>
              <a:off x="2219400" y="3190320"/>
              <a:ext cx="147960" cy="14796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" name="椭圆 14"/>
            <p:cNvSpPr/>
            <p:nvPr/>
          </p:nvSpPr>
          <p:spPr>
            <a:xfrm>
              <a:off x="2931120" y="2482560"/>
              <a:ext cx="147960" cy="14796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" name="椭圆 15"/>
            <p:cNvSpPr/>
            <p:nvPr/>
          </p:nvSpPr>
          <p:spPr>
            <a:xfrm>
              <a:off x="1511280" y="2482560"/>
              <a:ext cx="147960" cy="14796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" name="圆角矩形 16"/>
            <p:cNvSpPr/>
            <p:nvPr/>
          </p:nvSpPr>
          <p:spPr>
            <a:xfrm>
              <a:off x="2251080" y="1932120"/>
              <a:ext cx="88200" cy="640080"/>
            </a:xfrm>
            <a:prstGeom prst="roundRect">
              <a:avLst>
                <a:gd name="adj" fmla="val 16667"/>
              </a:avLst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圆角矩形 17"/>
            <p:cNvSpPr/>
            <p:nvPr/>
          </p:nvSpPr>
          <p:spPr>
            <a:xfrm rot="19704000">
              <a:off x="2344320" y="2420640"/>
              <a:ext cx="325440" cy="110520"/>
            </a:xfrm>
            <a:prstGeom prst="roundRect">
              <a:avLst>
                <a:gd name="adj" fmla="val 16667"/>
              </a:avLst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" name="椭圆 18"/>
            <p:cNvSpPr/>
            <p:nvPr/>
          </p:nvSpPr>
          <p:spPr>
            <a:xfrm>
              <a:off x="2229480" y="2485080"/>
              <a:ext cx="185400" cy="185400"/>
            </a:xfrm>
            <a:prstGeom prst="ellipse">
              <a:avLst/>
            </a:prstGeom>
            <a:solidFill>
              <a:srgbClr val="0089f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80" name="矩形 19"/>
          <p:cNvSpPr/>
          <p:nvPr/>
        </p:nvSpPr>
        <p:spPr>
          <a:xfrm>
            <a:off x="1576800" y="3450600"/>
            <a:ext cx="16441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华文细黑"/>
                <a:ea typeface="华文细黑"/>
              </a:rPr>
              <a:t>消除下属支配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808080"/>
                </a:solidFill>
                <a:latin typeface="华文细黑"/>
                <a:ea typeface="华文细黑"/>
              </a:rPr>
              <a:t>增加个人支配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21"/>
          <p:cNvSpPr/>
          <p:nvPr/>
        </p:nvSpPr>
        <p:spPr>
          <a:xfrm>
            <a:off x="3300840" y="2880000"/>
            <a:ext cx="4349880" cy="745560"/>
          </a:xfrm>
          <a:custGeom>
            <a:avLst/>
            <a:gdLst>
              <a:gd name="textAreaLeft" fmla="*/ 0 w 4349880"/>
              <a:gd name="textAreaRight" fmla="*/ 4350240 w 4349880"/>
              <a:gd name="textAreaTop" fmla="*/ 0 h 745560"/>
              <a:gd name="textAreaBottom" fmla="*/ 745920 h 745560"/>
            </a:gdLst>
            <a:ahLst/>
            <a:rect l="textAreaLeft" t="textAreaTop" r="textAreaRight" b="textAreaBottom"/>
            <a:pathLst>
              <a:path w="3234520" h="245660">
                <a:moveTo>
                  <a:pt x="0" y="0"/>
                </a:moveTo>
                <a:cubicBezTo>
                  <a:pt x="31845" y="18197"/>
                  <a:pt x="62730" y="38188"/>
                  <a:pt x="95535" y="54591"/>
                </a:cubicBezTo>
                <a:cubicBezTo>
                  <a:pt x="108402" y="61025"/>
                  <a:pt x="123611" y="61805"/>
                  <a:pt x="136478" y="68239"/>
                </a:cubicBezTo>
                <a:cubicBezTo>
                  <a:pt x="160204" y="80102"/>
                  <a:pt x="179364" y="101381"/>
                  <a:pt x="204717" y="109182"/>
                </a:cubicBezTo>
                <a:cubicBezTo>
                  <a:pt x="239772" y="119968"/>
                  <a:pt x="277505" y="118281"/>
                  <a:pt x="313899" y="122830"/>
                </a:cubicBezTo>
                <a:cubicBezTo>
                  <a:pt x="336645" y="131929"/>
                  <a:pt x="358115" y="145321"/>
                  <a:pt x="382138" y="150126"/>
                </a:cubicBezTo>
                <a:cubicBezTo>
                  <a:pt x="426969" y="159092"/>
                  <a:pt x="473175" y="158725"/>
                  <a:pt x="518615" y="163774"/>
                </a:cubicBezTo>
                <a:cubicBezTo>
                  <a:pt x="555068" y="167824"/>
                  <a:pt x="591442" y="172574"/>
                  <a:pt x="627797" y="177421"/>
                </a:cubicBezTo>
                <a:cubicBezTo>
                  <a:pt x="857724" y="208077"/>
                  <a:pt x="560154" y="176551"/>
                  <a:pt x="982639" y="204717"/>
                </a:cubicBezTo>
                <a:cubicBezTo>
                  <a:pt x="1196231" y="218957"/>
                  <a:pt x="1064425" y="215389"/>
                  <a:pt x="1255594" y="232012"/>
                </a:cubicBezTo>
                <a:cubicBezTo>
                  <a:pt x="1319206" y="237543"/>
                  <a:pt x="1382973" y="241111"/>
                  <a:pt x="1446663" y="245660"/>
                </a:cubicBezTo>
                <a:lnTo>
                  <a:pt x="2456597" y="232012"/>
                </a:lnTo>
                <a:cubicBezTo>
                  <a:pt x="2511362" y="230738"/>
                  <a:pt x="2565658" y="221101"/>
                  <a:pt x="2620370" y="218365"/>
                </a:cubicBezTo>
                <a:cubicBezTo>
                  <a:pt x="2747672" y="212000"/>
                  <a:pt x="2875129" y="209266"/>
                  <a:pt x="3002508" y="204717"/>
                </a:cubicBezTo>
                <a:cubicBezTo>
                  <a:pt x="3057099" y="200168"/>
                  <a:pt x="3111876" y="197470"/>
                  <a:pt x="3166281" y="191069"/>
                </a:cubicBezTo>
                <a:cubicBezTo>
                  <a:pt x="3189319" y="188359"/>
                  <a:pt x="3234520" y="177421"/>
                  <a:pt x="3234520" y="177421"/>
                </a:cubicBezTo>
              </a:path>
            </a:pathLst>
          </a:custGeom>
          <a:noFill/>
          <a:ln w="38100">
            <a:solidFill>
              <a:srgbClr val="0089f0"/>
            </a:solidFill>
            <a:prstDash val="sysDash"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任意多边形 22"/>
          <p:cNvSpPr/>
          <p:nvPr/>
        </p:nvSpPr>
        <p:spPr>
          <a:xfrm rot="20525400">
            <a:off x="3322080" y="2236680"/>
            <a:ext cx="3849480" cy="745560"/>
          </a:xfrm>
          <a:custGeom>
            <a:avLst/>
            <a:gdLst>
              <a:gd name="textAreaLeft" fmla="*/ 0 w 3849480"/>
              <a:gd name="textAreaRight" fmla="*/ 3849840 w 3849480"/>
              <a:gd name="textAreaTop" fmla="*/ 0 h 745560"/>
              <a:gd name="textAreaBottom" fmla="*/ 745920 h 745560"/>
            </a:gdLst>
            <a:ahLst/>
            <a:rect l="textAreaLeft" t="textAreaTop" r="textAreaRight" b="textAreaBottom"/>
            <a:pathLst>
              <a:path w="3234520" h="245660">
                <a:moveTo>
                  <a:pt x="0" y="0"/>
                </a:moveTo>
                <a:cubicBezTo>
                  <a:pt x="31845" y="18197"/>
                  <a:pt x="62730" y="38188"/>
                  <a:pt x="95535" y="54591"/>
                </a:cubicBezTo>
                <a:cubicBezTo>
                  <a:pt x="108402" y="61025"/>
                  <a:pt x="123611" y="61805"/>
                  <a:pt x="136478" y="68239"/>
                </a:cubicBezTo>
                <a:cubicBezTo>
                  <a:pt x="160204" y="80102"/>
                  <a:pt x="179364" y="101381"/>
                  <a:pt x="204717" y="109182"/>
                </a:cubicBezTo>
                <a:cubicBezTo>
                  <a:pt x="239772" y="119968"/>
                  <a:pt x="277505" y="118281"/>
                  <a:pt x="313899" y="122830"/>
                </a:cubicBezTo>
                <a:cubicBezTo>
                  <a:pt x="336645" y="131929"/>
                  <a:pt x="358115" y="145321"/>
                  <a:pt x="382138" y="150126"/>
                </a:cubicBezTo>
                <a:cubicBezTo>
                  <a:pt x="426969" y="159092"/>
                  <a:pt x="473175" y="158725"/>
                  <a:pt x="518615" y="163774"/>
                </a:cubicBezTo>
                <a:cubicBezTo>
                  <a:pt x="555068" y="167824"/>
                  <a:pt x="591442" y="172574"/>
                  <a:pt x="627797" y="177421"/>
                </a:cubicBezTo>
                <a:cubicBezTo>
                  <a:pt x="857724" y="208077"/>
                  <a:pt x="560154" y="176551"/>
                  <a:pt x="982639" y="204717"/>
                </a:cubicBezTo>
                <a:cubicBezTo>
                  <a:pt x="1196231" y="218957"/>
                  <a:pt x="1064425" y="215389"/>
                  <a:pt x="1255594" y="232012"/>
                </a:cubicBezTo>
                <a:cubicBezTo>
                  <a:pt x="1319206" y="237543"/>
                  <a:pt x="1382973" y="241111"/>
                  <a:pt x="1446663" y="245660"/>
                </a:cubicBezTo>
                <a:lnTo>
                  <a:pt x="2456597" y="232012"/>
                </a:lnTo>
                <a:cubicBezTo>
                  <a:pt x="2511362" y="230738"/>
                  <a:pt x="2565658" y="221101"/>
                  <a:pt x="2620370" y="218365"/>
                </a:cubicBezTo>
                <a:cubicBezTo>
                  <a:pt x="2747672" y="212000"/>
                  <a:pt x="2875129" y="209266"/>
                  <a:pt x="3002508" y="204717"/>
                </a:cubicBezTo>
                <a:cubicBezTo>
                  <a:pt x="3057099" y="200168"/>
                  <a:pt x="3111876" y="197470"/>
                  <a:pt x="3166281" y="191069"/>
                </a:cubicBezTo>
                <a:cubicBezTo>
                  <a:pt x="3189319" y="188359"/>
                  <a:pt x="3234520" y="177421"/>
                  <a:pt x="3234520" y="177421"/>
                </a:cubicBezTo>
              </a:path>
            </a:pathLst>
          </a:custGeom>
          <a:noFill/>
          <a:ln w="38100">
            <a:solidFill>
              <a:srgbClr val="0089f0"/>
            </a:solidFill>
            <a:prstDash val="sysDash"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矩形 23"/>
          <p:cNvSpPr/>
          <p:nvPr/>
        </p:nvSpPr>
        <p:spPr>
          <a:xfrm>
            <a:off x="7220880" y="1892880"/>
            <a:ext cx="3866040" cy="7556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284" name="矩形 24"/>
          <p:cNvSpPr/>
          <p:nvPr/>
        </p:nvSpPr>
        <p:spPr>
          <a:xfrm>
            <a:off x="7675200" y="3211200"/>
            <a:ext cx="3442680" cy="7556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285" name="矩形 25"/>
          <p:cNvSpPr/>
          <p:nvPr/>
        </p:nvSpPr>
        <p:spPr>
          <a:xfrm>
            <a:off x="9110520" y="2043360"/>
            <a:ext cx="354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提高下属工作的主动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6"/>
          <p:cNvSpPr/>
          <p:nvPr/>
        </p:nvSpPr>
        <p:spPr>
          <a:xfrm>
            <a:off x="9361080" y="3347280"/>
            <a:ext cx="354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处理上司及同事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3"/>
          <p:cNvSpPr/>
          <p:nvPr/>
        </p:nvSpPr>
        <p:spPr>
          <a:xfrm>
            <a:off x="5229720" y="2930400"/>
            <a:ext cx="3838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怎样提高下属工作主动性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直接连接符 4"/>
          <p:cNvCxnSpPr/>
          <p:nvPr/>
        </p:nvCxnSpPr>
        <p:spPr>
          <a:xfrm>
            <a:off x="-709560" y="3511080"/>
            <a:ext cx="4572000" cy="360"/>
          </a:xfrm>
          <a:prstGeom prst="straightConnector1">
            <a:avLst/>
          </a:prstGeom>
          <a:ln w="28575">
            <a:solidFill>
              <a:srgbClr val="ffffff">
                <a:lumMod val="65000"/>
              </a:srgbClr>
            </a:solidFill>
          </a:ln>
        </p:spPr>
      </p:cxnSp>
      <p:cxnSp>
        <p:nvCxnSpPr>
          <p:cNvPr id="289" name="直接连接符 5"/>
          <p:cNvCxnSpPr/>
          <p:nvPr/>
        </p:nvCxnSpPr>
        <p:spPr>
          <a:xfrm flipV="1">
            <a:off x="3921840" y="2890800"/>
            <a:ext cx="360" cy="612360"/>
          </a:xfrm>
          <a:prstGeom prst="straightConnector1">
            <a:avLst/>
          </a:prstGeom>
          <a:ln w="38100">
            <a:solidFill>
              <a:srgbClr val="ffffff">
                <a:lumMod val="65000"/>
              </a:srgbClr>
            </a:solidFill>
          </a:ln>
        </p:spPr>
      </p:cxnSp>
      <p:cxnSp>
        <p:nvCxnSpPr>
          <p:cNvPr id="290" name="直接连接符 6"/>
          <p:cNvCxnSpPr/>
          <p:nvPr/>
        </p:nvCxnSpPr>
        <p:spPr>
          <a:xfrm flipV="1">
            <a:off x="4006440" y="3068280"/>
            <a:ext cx="360" cy="432360"/>
          </a:xfrm>
          <a:prstGeom prst="straightConnector1">
            <a:avLst/>
          </a:prstGeom>
          <a:ln w="38100">
            <a:solidFill>
              <a:srgbClr val="0089f0"/>
            </a:solidFill>
          </a:ln>
        </p:spPr>
      </p:cxn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24"/>
          <p:cNvSpPr/>
          <p:nvPr/>
        </p:nvSpPr>
        <p:spPr>
          <a:xfrm>
            <a:off x="-92520" y="192960"/>
            <a:ext cx="490320" cy="17240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矩形 3"/>
          <p:cNvSpPr/>
          <p:nvPr/>
        </p:nvSpPr>
        <p:spPr>
          <a:xfrm>
            <a:off x="371520" y="158040"/>
            <a:ext cx="89658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工作主动性发挥的</a:t>
            </a:r>
            <a:r>
              <a:rPr b="0" lang="zh-CN" sz="66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五个层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10"/>
          <p:cNvSpPr/>
          <p:nvPr/>
        </p:nvSpPr>
        <p:spPr>
          <a:xfrm>
            <a:off x="4107960" y="5991840"/>
            <a:ext cx="8083800" cy="8658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4" name="矩形 11"/>
          <p:cNvSpPr/>
          <p:nvPr/>
        </p:nvSpPr>
        <p:spPr>
          <a:xfrm>
            <a:off x="5614200" y="5128560"/>
            <a:ext cx="6577200" cy="8658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矩形 12"/>
          <p:cNvSpPr/>
          <p:nvPr/>
        </p:nvSpPr>
        <p:spPr>
          <a:xfrm>
            <a:off x="6567840" y="4265280"/>
            <a:ext cx="5623920" cy="8658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矩形 13"/>
          <p:cNvSpPr/>
          <p:nvPr/>
        </p:nvSpPr>
        <p:spPr>
          <a:xfrm>
            <a:off x="7683840" y="3401640"/>
            <a:ext cx="4507920" cy="8658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矩形 14"/>
          <p:cNvSpPr/>
          <p:nvPr/>
        </p:nvSpPr>
        <p:spPr>
          <a:xfrm>
            <a:off x="8651880" y="2538360"/>
            <a:ext cx="3539880" cy="8658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矩形 15"/>
          <p:cNvSpPr/>
          <p:nvPr/>
        </p:nvSpPr>
        <p:spPr>
          <a:xfrm>
            <a:off x="10402920" y="2655360"/>
            <a:ext cx="354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主动行事，定期汇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6"/>
          <p:cNvSpPr/>
          <p:nvPr/>
        </p:nvSpPr>
        <p:spPr>
          <a:xfrm>
            <a:off x="8593560" y="3538440"/>
            <a:ext cx="2954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采取行动，但立即提出建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7"/>
          <p:cNvSpPr/>
          <p:nvPr/>
        </p:nvSpPr>
        <p:spPr>
          <a:xfrm>
            <a:off x="7734960" y="4492080"/>
            <a:ext cx="3594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提出建议，然后就采取相应的行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8"/>
          <p:cNvSpPr/>
          <p:nvPr/>
        </p:nvSpPr>
        <p:spPr>
          <a:xfrm>
            <a:off x="6312240" y="5358240"/>
            <a:ext cx="1887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询问该做些什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19"/>
          <p:cNvSpPr/>
          <p:nvPr/>
        </p:nvSpPr>
        <p:spPr>
          <a:xfrm>
            <a:off x="5439600" y="6224760"/>
            <a:ext cx="3808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等待别人吩咐（最低层次的主动性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20" descr=""/>
          <p:cNvPicPr/>
          <p:nvPr/>
        </p:nvPicPr>
        <p:blipFill>
          <a:blip r:embed="rId1"/>
          <a:stretch/>
        </p:blipFill>
        <p:spPr>
          <a:xfrm>
            <a:off x="9062280" y="121680"/>
            <a:ext cx="2387520" cy="2288160"/>
          </a:xfrm>
          <a:prstGeom prst="rect">
            <a:avLst/>
          </a:prstGeom>
          <a:ln w="0">
            <a:noFill/>
          </a:ln>
        </p:spPr>
      </p:pic>
      <p:sp>
        <p:nvSpPr>
          <p:cNvPr id="304" name="任意多边形 22"/>
          <p:cNvSpPr/>
          <p:nvPr/>
        </p:nvSpPr>
        <p:spPr>
          <a:xfrm rot="376200">
            <a:off x="3232440" y="1337040"/>
            <a:ext cx="6059160" cy="4912920"/>
          </a:xfrm>
          <a:custGeom>
            <a:avLst/>
            <a:gdLst>
              <a:gd name="textAreaLeft" fmla="*/ 0 w 6059160"/>
              <a:gd name="textAreaRight" fmla="*/ 6059520 w 6059160"/>
              <a:gd name="textAreaTop" fmla="*/ 0 h 4912920"/>
              <a:gd name="textAreaBottom" fmla="*/ 4913280 h 4912920"/>
            </a:gdLst>
            <a:ahLst/>
            <a:rect l="textAreaLeft" t="textAreaTop" r="textAreaRight" b="textAreaBottom"/>
            <a:pathLst>
              <a:path w="6059606" h="4913194">
                <a:moveTo>
                  <a:pt x="0" y="4913194"/>
                </a:moveTo>
                <a:cubicBezTo>
                  <a:pt x="21948" y="4693702"/>
                  <a:pt x="-2972" y="4841707"/>
                  <a:pt x="27295" y="4735773"/>
                </a:cubicBezTo>
                <a:cubicBezTo>
                  <a:pt x="32448" y="4717738"/>
                  <a:pt x="33554" y="4698422"/>
                  <a:pt x="40943" y="4681182"/>
                </a:cubicBezTo>
                <a:cubicBezTo>
                  <a:pt x="47404" y="4666106"/>
                  <a:pt x="60903" y="4654910"/>
                  <a:pt x="68238" y="4640239"/>
                </a:cubicBezTo>
                <a:cubicBezTo>
                  <a:pt x="74672" y="4627372"/>
                  <a:pt x="72676" y="4610348"/>
                  <a:pt x="81886" y="4599296"/>
                </a:cubicBezTo>
                <a:cubicBezTo>
                  <a:pt x="96448" y="4581822"/>
                  <a:pt x="120393" y="4574437"/>
                  <a:pt x="136477" y="4558353"/>
                </a:cubicBezTo>
                <a:cubicBezTo>
                  <a:pt x="152561" y="4542269"/>
                  <a:pt x="164199" y="4522271"/>
                  <a:pt x="177420" y="4503762"/>
                </a:cubicBezTo>
                <a:cubicBezTo>
                  <a:pt x="186954" y="4490414"/>
                  <a:pt x="193117" y="4474417"/>
                  <a:pt x="204716" y="4462818"/>
                </a:cubicBezTo>
                <a:cubicBezTo>
                  <a:pt x="220800" y="4446734"/>
                  <a:pt x="242400" y="4437091"/>
                  <a:pt x="259307" y="4421875"/>
                </a:cubicBezTo>
                <a:cubicBezTo>
                  <a:pt x="288000" y="4396052"/>
                  <a:pt x="310312" y="4363149"/>
                  <a:pt x="341194" y="4339988"/>
                </a:cubicBezTo>
                <a:cubicBezTo>
                  <a:pt x="359391" y="4326340"/>
                  <a:pt x="378878" y="4314261"/>
                  <a:pt x="395785" y="4299045"/>
                </a:cubicBezTo>
                <a:cubicBezTo>
                  <a:pt x="424477" y="4273222"/>
                  <a:pt x="445553" y="4238572"/>
                  <a:pt x="477671" y="4217159"/>
                </a:cubicBezTo>
                <a:cubicBezTo>
                  <a:pt x="491319" y="4208060"/>
                  <a:pt x="505349" y="4199511"/>
                  <a:pt x="518614" y="4189863"/>
                </a:cubicBezTo>
                <a:cubicBezTo>
                  <a:pt x="555406" y="4163105"/>
                  <a:pt x="589945" y="4133211"/>
                  <a:pt x="627797" y="4107976"/>
                </a:cubicBezTo>
                <a:cubicBezTo>
                  <a:pt x="672656" y="4078070"/>
                  <a:pt x="660243" y="4081159"/>
                  <a:pt x="709683" y="4067033"/>
                </a:cubicBezTo>
                <a:cubicBezTo>
                  <a:pt x="727718" y="4061880"/>
                  <a:pt x="746308" y="4058775"/>
                  <a:pt x="764274" y="4053385"/>
                </a:cubicBezTo>
                <a:cubicBezTo>
                  <a:pt x="791833" y="4045117"/>
                  <a:pt x="846161" y="4026090"/>
                  <a:pt x="846161" y="4026090"/>
                </a:cubicBezTo>
                <a:cubicBezTo>
                  <a:pt x="887104" y="4030639"/>
                  <a:pt x="928356" y="4032966"/>
                  <a:pt x="968991" y="4039738"/>
                </a:cubicBezTo>
                <a:cubicBezTo>
                  <a:pt x="983181" y="4042103"/>
                  <a:pt x="998701" y="4044398"/>
                  <a:pt x="1009934" y="4053385"/>
                </a:cubicBezTo>
                <a:cubicBezTo>
                  <a:pt x="1136491" y="4154631"/>
                  <a:pt x="951983" y="4036378"/>
                  <a:pt x="1050877" y="4135272"/>
                </a:cubicBezTo>
                <a:cubicBezTo>
                  <a:pt x="1061049" y="4145444"/>
                  <a:pt x="1078172" y="4144371"/>
                  <a:pt x="1091820" y="4148920"/>
                </a:cubicBezTo>
                <a:cubicBezTo>
                  <a:pt x="1164608" y="4039738"/>
                  <a:pt x="1069075" y="4171664"/>
                  <a:pt x="1160059" y="4080681"/>
                </a:cubicBezTo>
                <a:cubicBezTo>
                  <a:pt x="1176143" y="4064597"/>
                  <a:pt x="1183733" y="4040893"/>
                  <a:pt x="1201003" y="4026090"/>
                </a:cubicBezTo>
                <a:cubicBezTo>
                  <a:pt x="1216450" y="4012850"/>
                  <a:pt x="1239039" y="4010619"/>
                  <a:pt x="1255594" y="3998794"/>
                </a:cubicBezTo>
                <a:cubicBezTo>
                  <a:pt x="1271300" y="3987576"/>
                  <a:pt x="1281883" y="3970412"/>
                  <a:pt x="1296537" y="3957851"/>
                </a:cubicBezTo>
                <a:cubicBezTo>
                  <a:pt x="1313807" y="3943048"/>
                  <a:pt x="1332619" y="3930129"/>
                  <a:pt x="1351128" y="3916908"/>
                </a:cubicBezTo>
                <a:cubicBezTo>
                  <a:pt x="1364475" y="3907374"/>
                  <a:pt x="1379470" y="3900113"/>
                  <a:pt x="1392071" y="3889612"/>
                </a:cubicBezTo>
                <a:cubicBezTo>
                  <a:pt x="1406898" y="3877256"/>
                  <a:pt x="1418187" y="3861025"/>
                  <a:pt x="1433014" y="3848669"/>
                </a:cubicBezTo>
                <a:cubicBezTo>
                  <a:pt x="1445615" y="3838168"/>
                  <a:pt x="1461766" y="3832346"/>
                  <a:pt x="1473958" y="3821373"/>
                </a:cubicBezTo>
                <a:cubicBezTo>
                  <a:pt x="1507432" y="3791246"/>
                  <a:pt x="1537647" y="3757684"/>
                  <a:pt x="1569492" y="3725839"/>
                </a:cubicBezTo>
                <a:lnTo>
                  <a:pt x="1692322" y="3603009"/>
                </a:lnTo>
                <a:cubicBezTo>
                  <a:pt x="1811936" y="3483393"/>
                  <a:pt x="1665557" y="3635128"/>
                  <a:pt x="1760561" y="3521123"/>
                </a:cubicBezTo>
                <a:cubicBezTo>
                  <a:pt x="1772917" y="3506296"/>
                  <a:pt x="1789148" y="3495006"/>
                  <a:pt x="1801504" y="3480179"/>
                </a:cubicBezTo>
                <a:cubicBezTo>
                  <a:pt x="1850300" y="3421624"/>
                  <a:pt x="1804501" y="3452662"/>
                  <a:pt x="1869743" y="3398293"/>
                </a:cubicBezTo>
                <a:cubicBezTo>
                  <a:pt x="1882344" y="3387792"/>
                  <a:pt x="1894507" y="3373694"/>
                  <a:pt x="1910686" y="3370997"/>
                </a:cubicBezTo>
                <a:cubicBezTo>
                  <a:pt x="1978146" y="3359754"/>
                  <a:pt x="2047249" y="3363029"/>
                  <a:pt x="2115403" y="3357350"/>
                </a:cubicBezTo>
                <a:cubicBezTo>
                  <a:pt x="2156456" y="3353929"/>
                  <a:pt x="2197289" y="3348251"/>
                  <a:pt x="2238232" y="3343702"/>
                </a:cubicBezTo>
                <a:cubicBezTo>
                  <a:pt x="2267325" y="3324307"/>
                  <a:pt x="2337432" y="3285302"/>
                  <a:pt x="2361062" y="3248168"/>
                </a:cubicBezTo>
                <a:cubicBezTo>
                  <a:pt x="2471699" y="3074308"/>
                  <a:pt x="2364390" y="3190247"/>
                  <a:pt x="2456597" y="3098042"/>
                </a:cubicBezTo>
                <a:cubicBezTo>
                  <a:pt x="2485460" y="2982583"/>
                  <a:pt x="2446140" y="3100080"/>
                  <a:pt x="2511188" y="3002508"/>
                </a:cubicBezTo>
                <a:cubicBezTo>
                  <a:pt x="2519168" y="2990538"/>
                  <a:pt x="2515848" y="2972798"/>
                  <a:pt x="2524835" y="2961565"/>
                </a:cubicBezTo>
                <a:cubicBezTo>
                  <a:pt x="2535082" y="2948757"/>
                  <a:pt x="2553519" y="2945167"/>
                  <a:pt x="2565779" y="2934269"/>
                </a:cubicBezTo>
                <a:cubicBezTo>
                  <a:pt x="2594630" y="2908623"/>
                  <a:pt x="2616784" y="2875543"/>
                  <a:pt x="2647665" y="2852382"/>
                </a:cubicBezTo>
                <a:cubicBezTo>
                  <a:pt x="2665862" y="2838734"/>
                  <a:pt x="2681911" y="2821611"/>
                  <a:pt x="2702256" y="2811439"/>
                </a:cubicBezTo>
                <a:cubicBezTo>
                  <a:pt x="2835220" y="2744958"/>
                  <a:pt x="3095615" y="2773403"/>
                  <a:pt x="3179928" y="2770496"/>
                </a:cubicBezTo>
                <a:cubicBezTo>
                  <a:pt x="3198125" y="2756848"/>
                  <a:pt x="3216010" y="2742774"/>
                  <a:pt x="3234519" y="2729553"/>
                </a:cubicBezTo>
                <a:cubicBezTo>
                  <a:pt x="3247866" y="2720019"/>
                  <a:pt x="3262861" y="2712758"/>
                  <a:pt x="3275462" y="2702257"/>
                </a:cubicBezTo>
                <a:cubicBezTo>
                  <a:pt x="3290289" y="2689901"/>
                  <a:pt x="3301752" y="2673875"/>
                  <a:pt x="3316406" y="2661314"/>
                </a:cubicBezTo>
                <a:cubicBezTo>
                  <a:pt x="3333676" y="2646511"/>
                  <a:pt x="3352800" y="2634019"/>
                  <a:pt x="3370997" y="2620371"/>
                </a:cubicBezTo>
                <a:cubicBezTo>
                  <a:pt x="3402287" y="2526495"/>
                  <a:pt x="3359489" y="2640509"/>
                  <a:pt x="3425588" y="2524836"/>
                </a:cubicBezTo>
                <a:cubicBezTo>
                  <a:pt x="3432725" y="2512346"/>
                  <a:pt x="3432249" y="2496469"/>
                  <a:pt x="3439235" y="2483893"/>
                </a:cubicBezTo>
                <a:cubicBezTo>
                  <a:pt x="3455166" y="2455216"/>
                  <a:pt x="3481642" y="2432465"/>
                  <a:pt x="3493826" y="2402006"/>
                </a:cubicBezTo>
                <a:cubicBezTo>
                  <a:pt x="3529570" y="2312649"/>
                  <a:pt x="3506423" y="2353367"/>
                  <a:pt x="3562065" y="2279176"/>
                </a:cubicBezTo>
                <a:cubicBezTo>
                  <a:pt x="3566438" y="2261683"/>
                  <a:pt x="3579571" y="2203222"/>
                  <a:pt x="3589361" y="2183642"/>
                </a:cubicBezTo>
                <a:cubicBezTo>
                  <a:pt x="3596696" y="2168971"/>
                  <a:pt x="3609994" y="2157688"/>
                  <a:pt x="3616656" y="2142699"/>
                </a:cubicBezTo>
                <a:cubicBezTo>
                  <a:pt x="3679362" y="2001610"/>
                  <a:pt x="3604382" y="2113573"/>
                  <a:pt x="3684895" y="2006221"/>
                </a:cubicBezTo>
                <a:lnTo>
                  <a:pt x="3712191" y="1924335"/>
                </a:lnTo>
                <a:cubicBezTo>
                  <a:pt x="3725871" y="1883296"/>
                  <a:pt x="3723734" y="1877727"/>
                  <a:pt x="3753134" y="1842448"/>
                </a:cubicBezTo>
                <a:cubicBezTo>
                  <a:pt x="3782311" y="1807435"/>
                  <a:pt x="3811458" y="1787141"/>
                  <a:pt x="3848668" y="1760562"/>
                </a:cubicBezTo>
                <a:cubicBezTo>
                  <a:pt x="3882939" y="1736082"/>
                  <a:pt x="3904212" y="1723110"/>
                  <a:pt x="3944203" y="1705971"/>
                </a:cubicBezTo>
                <a:cubicBezTo>
                  <a:pt x="3957426" y="1700304"/>
                  <a:pt x="3972279" y="1698757"/>
                  <a:pt x="3985146" y="1692323"/>
                </a:cubicBezTo>
                <a:cubicBezTo>
                  <a:pt x="4017951" y="1675920"/>
                  <a:pt x="4048481" y="1655295"/>
                  <a:pt x="4080680" y="1637732"/>
                </a:cubicBezTo>
                <a:cubicBezTo>
                  <a:pt x="4098541" y="1627990"/>
                  <a:pt x="4117074" y="1619535"/>
                  <a:pt x="4135271" y="1610436"/>
                </a:cubicBezTo>
                <a:cubicBezTo>
                  <a:pt x="4251255" y="1455789"/>
                  <a:pt x="4099668" y="1640953"/>
                  <a:pt x="4230806" y="1528550"/>
                </a:cubicBezTo>
                <a:cubicBezTo>
                  <a:pt x="4248076" y="1513747"/>
                  <a:pt x="4257345" y="1491564"/>
                  <a:pt x="4271749" y="1473959"/>
                </a:cubicBezTo>
                <a:cubicBezTo>
                  <a:pt x="4382824" y="1338199"/>
                  <a:pt x="4323129" y="1424182"/>
                  <a:pt x="4380931" y="1337481"/>
                </a:cubicBezTo>
                <a:cubicBezTo>
                  <a:pt x="4410591" y="1159518"/>
                  <a:pt x="4390724" y="1226212"/>
                  <a:pt x="4421874" y="1132765"/>
                </a:cubicBezTo>
                <a:cubicBezTo>
                  <a:pt x="4426423" y="1000836"/>
                  <a:pt x="4411195" y="866725"/>
                  <a:pt x="4435522" y="736979"/>
                </a:cubicBezTo>
                <a:cubicBezTo>
                  <a:pt x="4440411" y="710907"/>
                  <a:pt x="4480035" y="707899"/>
                  <a:pt x="4503761" y="696036"/>
                </a:cubicBezTo>
                <a:cubicBezTo>
                  <a:pt x="4525673" y="685080"/>
                  <a:pt x="4549613" y="678691"/>
                  <a:pt x="4572000" y="668741"/>
                </a:cubicBezTo>
                <a:cubicBezTo>
                  <a:pt x="4590591" y="660478"/>
                  <a:pt x="4608000" y="649708"/>
                  <a:pt x="4626591" y="641445"/>
                </a:cubicBezTo>
                <a:cubicBezTo>
                  <a:pt x="4648978" y="631495"/>
                  <a:pt x="4671158" y="620462"/>
                  <a:pt x="4694829" y="614150"/>
                </a:cubicBezTo>
                <a:cubicBezTo>
                  <a:pt x="4775836" y="592548"/>
                  <a:pt x="4857558" y="582420"/>
                  <a:pt x="4940489" y="573206"/>
                </a:cubicBezTo>
                <a:cubicBezTo>
                  <a:pt x="4985929" y="568157"/>
                  <a:pt x="5031601" y="565230"/>
                  <a:pt x="5076967" y="559559"/>
                </a:cubicBezTo>
                <a:cubicBezTo>
                  <a:pt x="5104425" y="556127"/>
                  <a:pt x="5131395" y="549343"/>
                  <a:pt x="5158853" y="545911"/>
                </a:cubicBezTo>
                <a:cubicBezTo>
                  <a:pt x="5264275" y="532733"/>
                  <a:pt x="5294443" y="536146"/>
                  <a:pt x="5390865" y="518615"/>
                </a:cubicBezTo>
                <a:cubicBezTo>
                  <a:pt x="5409319" y="515260"/>
                  <a:pt x="5427259" y="509517"/>
                  <a:pt x="5445456" y="504968"/>
                </a:cubicBezTo>
                <a:cubicBezTo>
                  <a:pt x="5562793" y="426744"/>
                  <a:pt x="5414338" y="520527"/>
                  <a:pt x="5527343" y="464024"/>
                </a:cubicBezTo>
                <a:cubicBezTo>
                  <a:pt x="5633169" y="411111"/>
                  <a:pt x="5506317" y="457386"/>
                  <a:pt x="5609229" y="423081"/>
                </a:cubicBezTo>
                <a:cubicBezTo>
                  <a:pt x="5636525" y="395785"/>
                  <a:pt x="5658997" y="362606"/>
                  <a:pt x="5691116" y="341194"/>
                </a:cubicBezTo>
                <a:cubicBezTo>
                  <a:pt x="5704764" y="332096"/>
                  <a:pt x="5719458" y="324399"/>
                  <a:pt x="5732059" y="313899"/>
                </a:cubicBezTo>
                <a:cubicBezTo>
                  <a:pt x="5866206" y="202112"/>
                  <a:pt x="5692947" y="339365"/>
                  <a:pt x="5800298" y="232012"/>
                </a:cubicBezTo>
                <a:cubicBezTo>
                  <a:pt x="5811896" y="220414"/>
                  <a:pt x="5827593" y="213815"/>
                  <a:pt x="5841241" y="204717"/>
                </a:cubicBezTo>
                <a:cubicBezTo>
                  <a:pt x="5850340" y="191069"/>
                  <a:pt x="5856938" y="175372"/>
                  <a:pt x="5868537" y="163773"/>
                </a:cubicBezTo>
                <a:cubicBezTo>
                  <a:pt x="5958908" y="73402"/>
                  <a:pt x="5889786" y="171028"/>
                  <a:pt x="5964071" y="81887"/>
                </a:cubicBezTo>
                <a:cubicBezTo>
                  <a:pt x="5974572" y="69286"/>
                  <a:pt x="5978559" y="51191"/>
                  <a:pt x="5991367" y="40944"/>
                </a:cubicBezTo>
                <a:cubicBezTo>
                  <a:pt x="6002601" y="31957"/>
                  <a:pt x="6019974" y="34698"/>
                  <a:pt x="6032310" y="27296"/>
                </a:cubicBezTo>
                <a:cubicBezTo>
                  <a:pt x="6043344" y="20676"/>
                  <a:pt x="6050507" y="9099"/>
                  <a:pt x="6059606" y="0"/>
                </a:cubicBezTo>
              </a:path>
            </a:pathLst>
          </a:custGeom>
          <a:noFill/>
          <a:ln w="38100">
            <a:solidFill>
              <a:srgbClr val="0089f0"/>
            </a:solidFill>
            <a:prstDash val="sysDash"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05" name="图片 2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71680" y="4345560"/>
            <a:ext cx="2505960" cy="2401920"/>
          </a:xfrm>
          <a:prstGeom prst="rect">
            <a:avLst/>
          </a:prstGeom>
          <a:ln w="0">
            <a:noFill/>
          </a:ln>
        </p:spPr>
      </p:pic>
      <p:sp>
        <p:nvSpPr>
          <p:cNvPr id="306" name="矩形 25"/>
          <p:cNvSpPr/>
          <p:nvPr/>
        </p:nvSpPr>
        <p:spPr>
          <a:xfrm>
            <a:off x="5356800" y="5194440"/>
            <a:ext cx="5162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6"/>
          <p:cNvSpPr/>
          <p:nvPr/>
        </p:nvSpPr>
        <p:spPr>
          <a:xfrm>
            <a:off x="3849480" y="6040080"/>
            <a:ext cx="51624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27"/>
          <p:cNvSpPr/>
          <p:nvPr/>
        </p:nvSpPr>
        <p:spPr>
          <a:xfrm>
            <a:off x="2163960" y="1167480"/>
            <a:ext cx="39013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808080"/>
                </a:solidFill>
                <a:latin typeface="华文细黑"/>
                <a:ea typeface="华文细黑"/>
              </a:rPr>
              <a:t>1</a:t>
            </a:r>
            <a:r>
              <a:rPr b="0" lang="zh-CN" sz="2400" spc="-1" strike="noStrike">
                <a:solidFill>
                  <a:srgbClr val="808080"/>
                </a:solidFill>
                <a:latin typeface="华文细黑"/>
                <a:ea typeface="华文细黑"/>
              </a:rPr>
              <a:t>、禁止下属采取第一和第二层次的主动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808080"/>
                </a:solidFill>
                <a:latin typeface="华文细黑"/>
                <a:ea typeface="华文细黑"/>
              </a:rPr>
              <a:t>2</a:t>
            </a:r>
            <a:r>
              <a:rPr b="0" lang="zh-CN" sz="2400" spc="-1" strike="noStrike">
                <a:solidFill>
                  <a:srgbClr val="808080"/>
                </a:solidFill>
                <a:latin typeface="华文细黑"/>
                <a:ea typeface="华文细黑"/>
              </a:rPr>
              <a:t>、确保下属带着问题离开，并约定好下次见面安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连接符 29"/>
          <p:cNvCxnSpPr/>
          <p:nvPr/>
        </p:nvCxnSpPr>
        <p:spPr>
          <a:xfrm>
            <a:off x="398160" y="1171080"/>
            <a:ext cx="7092360" cy="3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</a:ln>
        </p:spPr>
      </p:cxnSp>
      <p:sp>
        <p:nvSpPr>
          <p:cNvPr id="310" name="Text Box 4"/>
          <p:cNvSpPr/>
          <p:nvPr/>
        </p:nvSpPr>
        <p:spPr>
          <a:xfrm>
            <a:off x="102960" y="65232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7"/>
          <p:cNvSpPr/>
          <p:nvPr/>
        </p:nvSpPr>
        <p:spPr>
          <a:xfrm>
            <a:off x="4408200" y="309960"/>
            <a:ext cx="3884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从猴子的喂养学管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8"/>
          <p:cNvSpPr/>
          <p:nvPr/>
        </p:nvSpPr>
        <p:spPr>
          <a:xfrm rot="2716800">
            <a:off x="5304240" y="1717200"/>
            <a:ext cx="1619640" cy="1619640"/>
          </a:xfrm>
          <a:prstGeom prst="rect">
            <a:avLst/>
          </a:prstGeom>
          <a:solidFill>
            <a:schemeClr val="bg1">
              <a:lumMod val="8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313" name="矩形 9"/>
          <p:cNvSpPr/>
          <p:nvPr/>
        </p:nvSpPr>
        <p:spPr>
          <a:xfrm rot="2716800">
            <a:off x="371520" y="1717200"/>
            <a:ext cx="1619640" cy="1619640"/>
          </a:xfrm>
          <a:prstGeom prst="rect">
            <a:avLst/>
          </a:prstGeom>
          <a:solidFill>
            <a:schemeClr val="bg1">
              <a:lumMod val="8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314" name="矩形 10"/>
          <p:cNvSpPr/>
          <p:nvPr/>
        </p:nvSpPr>
        <p:spPr>
          <a:xfrm rot="2716800">
            <a:off x="2837880" y="1717200"/>
            <a:ext cx="1619640" cy="1619640"/>
          </a:xfrm>
          <a:prstGeom prst="rect">
            <a:avLst/>
          </a:prstGeom>
          <a:solidFill>
            <a:schemeClr val="bg1">
              <a:lumMod val="8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315" name="矩形 11"/>
          <p:cNvSpPr/>
          <p:nvPr/>
        </p:nvSpPr>
        <p:spPr>
          <a:xfrm rot="2716800">
            <a:off x="7770600" y="1717200"/>
            <a:ext cx="1619640" cy="1619640"/>
          </a:xfrm>
          <a:prstGeom prst="rect">
            <a:avLst/>
          </a:prstGeom>
          <a:solidFill>
            <a:schemeClr val="bg1">
              <a:lumMod val="8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316" name="矩形 12"/>
          <p:cNvSpPr/>
          <p:nvPr/>
        </p:nvSpPr>
        <p:spPr>
          <a:xfrm rot="2716800">
            <a:off x="10236960" y="1717200"/>
            <a:ext cx="1619640" cy="1619640"/>
          </a:xfrm>
          <a:prstGeom prst="rect">
            <a:avLst/>
          </a:prstGeom>
          <a:solidFill>
            <a:schemeClr val="bg1">
              <a:lumMod val="8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317" name="矩形 13"/>
          <p:cNvSpPr/>
          <p:nvPr/>
        </p:nvSpPr>
        <p:spPr>
          <a:xfrm>
            <a:off x="664560" y="2050560"/>
            <a:ext cx="1034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华文细黑"/>
                <a:ea typeface="华文细黑"/>
              </a:rPr>
              <a:t>要么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华文细黑"/>
                <a:ea typeface="华文细黑"/>
              </a:rPr>
              <a:t>要么打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5"/>
          <p:cNvSpPr/>
          <p:nvPr/>
        </p:nvSpPr>
        <p:spPr>
          <a:xfrm>
            <a:off x="2983320" y="2050560"/>
            <a:ext cx="14655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华文细黑"/>
                <a:ea typeface="华文细黑"/>
              </a:rPr>
              <a:t>数量</a:t>
            </a:r>
            <a:r>
              <a:rPr b="0" lang="en-US" sz="2800" spc="-1" strike="noStrike">
                <a:solidFill>
                  <a:srgbClr val="0089f0"/>
                </a:solidFill>
                <a:latin typeface="华文细黑"/>
                <a:ea typeface="华文细黑"/>
              </a:rPr>
              <a:t>&amp;</a:t>
            </a:r>
            <a:r>
              <a:rPr b="0" lang="zh-CN" sz="2800" spc="-1" strike="noStrike">
                <a:solidFill>
                  <a:srgbClr val="0089f0"/>
                </a:solidFill>
                <a:latin typeface="华文细黑"/>
                <a:ea typeface="华文细黑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华文细黑"/>
                <a:ea typeface="华文细黑"/>
              </a:rPr>
              <a:t>要可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6"/>
          <p:cNvSpPr/>
          <p:nvPr/>
        </p:nvSpPr>
        <p:spPr>
          <a:xfrm>
            <a:off x="5544720" y="2107080"/>
            <a:ext cx="12477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华文细黑"/>
                <a:ea typeface="华文细黑"/>
              </a:rPr>
              <a:t>在约定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华文细黑"/>
                <a:ea typeface="华文细黑"/>
              </a:rPr>
              <a:t>喂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7"/>
          <p:cNvSpPr/>
          <p:nvPr/>
        </p:nvSpPr>
        <p:spPr>
          <a:xfrm>
            <a:off x="8027640" y="2306520"/>
            <a:ext cx="124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华文细黑"/>
                <a:ea typeface="华文细黑"/>
              </a:rPr>
              <a:t>面对面喂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8"/>
          <p:cNvSpPr/>
          <p:nvPr/>
        </p:nvSpPr>
        <p:spPr>
          <a:xfrm>
            <a:off x="10585440" y="2107080"/>
            <a:ext cx="10346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华文细黑"/>
                <a:ea typeface="华文细黑"/>
              </a:rPr>
              <a:t>确定下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89f0"/>
                </a:solidFill>
                <a:latin typeface="华文细黑"/>
                <a:ea typeface="华文细黑"/>
              </a:rPr>
              <a:t>喂养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9"/>
          <p:cNvSpPr/>
          <p:nvPr/>
        </p:nvSpPr>
        <p:spPr>
          <a:xfrm rot="2794800">
            <a:off x="1071000" y="1686960"/>
            <a:ext cx="681840" cy="255600"/>
          </a:xfrm>
          <a:prstGeom prst="rect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矩形 20"/>
          <p:cNvSpPr/>
          <p:nvPr/>
        </p:nvSpPr>
        <p:spPr>
          <a:xfrm rot="2794800">
            <a:off x="3543480" y="1686960"/>
            <a:ext cx="681840" cy="255600"/>
          </a:xfrm>
          <a:prstGeom prst="rect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矩形 22"/>
          <p:cNvSpPr/>
          <p:nvPr/>
        </p:nvSpPr>
        <p:spPr>
          <a:xfrm rot="2794800">
            <a:off x="6016680" y="1688760"/>
            <a:ext cx="681840" cy="255600"/>
          </a:xfrm>
          <a:prstGeom prst="rect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矩形 23"/>
          <p:cNvSpPr/>
          <p:nvPr/>
        </p:nvSpPr>
        <p:spPr>
          <a:xfrm rot="2794800">
            <a:off x="8489160" y="1688760"/>
            <a:ext cx="681840" cy="255600"/>
          </a:xfrm>
          <a:prstGeom prst="rect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矩形 25"/>
          <p:cNvSpPr/>
          <p:nvPr/>
        </p:nvSpPr>
        <p:spPr>
          <a:xfrm rot="2794800">
            <a:off x="10961640" y="1693800"/>
            <a:ext cx="681840" cy="255600"/>
          </a:xfrm>
          <a:prstGeom prst="rect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327" name="直接连接符 24"/>
          <p:cNvCxnSpPr/>
          <p:nvPr/>
        </p:nvCxnSpPr>
        <p:spPr>
          <a:xfrm>
            <a:off x="9480240" y="774720"/>
            <a:ext cx="3672360" cy="360"/>
          </a:xfrm>
          <a:prstGeom prst="straightConnector1">
            <a:avLst/>
          </a:prstGeom>
          <a:ln w="38100">
            <a:solidFill>
              <a:srgbClr val="ffffff">
                <a:lumMod val="65000"/>
              </a:srgbClr>
            </a:solidFill>
          </a:ln>
        </p:spPr>
      </p:cxnSp>
      <p:cxnSp>
        <p:nvCxnSpPr>
          <p:cNvPr id="328" name="直接连接符 26"/>
          <p:cNvCxnSpPr/>
          <p:nvPr/>
        </p:nvCxnSpPr>
        <p:spPr>
          <a:xfrm>
            <a:off x="-500400" y="774720"/>
            <a:ext cx="3672000" cy="360"/>
          </a:xfrm>
          <a:prstGeom prst="straightConnector1">
            <a:avLst/>
          </a:prstGeom>
          <a:ln w="38100">
            <a:solidFill>
              <a:srgbClr val="ffffff">
                <a:lumMod val="65000"/>
              </a:srgbClr>
            </a:solidFill>
          </a:ln>
        </p:spPr>
      </p:cxnSp>
      <p:grpSp>
        <p:nvGrpSpPr>
          <p:cNvPr id="329" name="组合 2"/>
          <p:cNvGrpSpPr/>
          <p:nvPr/>
        </p:nvGrpSpPr>
        <p:grpSpPr>
          <a:xfrm>
            <a:off x="166680" y="4321440"/>
            <a:ext cx="11727000" cy="2348640"/>
            <a:chOff x="166680" y="4321440"/>
            <a:chExt cx="11727000" cy="2348640"/>
          </a:xfrm>
        </p:grpSpPr>
        <p:pic>
          <p:nvPicPr>
            <p:cNvPr id="330" name="图片 3" descr=""/>
            <p:cNvPicPr/>
            <p:nvPr/>
          </p:nvPicPr>
          <p:blipFill>
            <a:blip r:embed="rId1"/>
            <a:stretch/>
          </p:blipFill>
          <p:spPr>
            <a:xfrm>
              <a:off x="10344960" y="5077440"/>
              <a:ext cx="154872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图片 32" descr=""/>
            <p:cNvPicPr/>
            <p:nvPr/>
          </p:nvPicPr>
          <p:blipFill>
            <a:blip r:embed="rId2"/>
            <a:stretch/>
          </p:blipFill>
          <p:spPr>
            <a:xfrm>
              <a:off x="9397800" y="5566680"/>
              <a:ext cx="1049400" cy="100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图片 28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1275480" y="5550840"/>
              <a:ext cx="114192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图片 30" descr=""/>
            <p:cNvPicPr/>
            <p:nvPr/>
          </p:nvPicPr>
          <p:blipFill>
            <a:blip r:embed="rId4">
              <a:grayscl/>
            </a:blip>
            <a:stretch/>
          </p:blipFill>
          <p:spPr>
            <a:xfrm>
              <a:off x="2678760" y="5023440"/>
              <a:ext cx="862200" cy="82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图片 31" descr=""/>
            <p:cNvPicPr/>
            <p:nvPr/>
          </p:nvPicPr>
          <p:blipFill>
            <a:blip r:embed="rId5">
              <a:grayscl/>
            </a:blip>
            <a:stretch/>
          </p:blipFill>
          <p:spPr>
            <a:xfrm>
              <a:off x="2238120" y="5286600"/>
              <a:ext cx="660240" cy="63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图片 29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1468440" y="4321440"/>
              <a:ext cx="1141920" cy="109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图片 4" descr=""/>
            <p:cNvPicPr/>
            <p:nvPr/>
          </p:nvPicPr>
          <p:blipFill>
            <a:blip r:embed="rId7">
              <a:grayscl/>
            </a:blip>
            <a:stretch/>
          </p:blipFill>
          <p:spPr>
            <a:xfrm>
              <a:off x="2365200" y="6037200"/>
              <a:ext cx="660240" cy="63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任意多边形 6"/>
            <p:cNvSpPr/>
            <p:nvPr/>
          </p:nvSpPr>
          <p:spPr>
            <a:xfrm>
              <a:off x="3400560" y="5316840"/>
              <a:ext cx="6639840" cy="1066680"/>
            </a:xfrm>
            <a:custGeom>
              <a:avLst/>
              <a:gdLst>
                <a:gd name="textAreaLeft" fmla="*/ 0 w 6639840"/>
                <a:gd name="textAreaRight" fmla="*/ 6640200 w 663984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5022376" h="712124">
                  <a:moveTo>
                    <a:pt x="0" y="300287"/>
                  </a:moveTo>
                  <a:cubicBezTo>
                    <a:pt x="27296" y="277541"/>
                    <a:pt x="53152" y="252946"/>
                    <a:pt x="81887" y="232048"/>
                  </a:cubicBezTo>
                  <a:cubicBezTo>
                    <a:pt x="144390" y="186591"/>
                    <a:pt x="144179" y="198402"/>
                    <a:pt x="204717" y="163809"/>
                  </a:cubicBezTo>
                  <a:cubicBezTo>
                    <a:pt x="218958" y="155671"/>
                    <a:pt x="230671" y="143176"/>
                    <a:pt x="245660" y="136514"/>
                  </a:cubicBezTo>
                  <a:cubicBezTo>
                    <a:pt x="279680" y="121394"/>
                    <a:pt x="342440" y="104392"/>
                    <a:pt x="382138" y="95570"/>
                  </a:cubicBezTo>
                  <a:cubicBezTo>
                    <a:pt x="404782" y="90538"/>
                    <a:pt x="427732" y="86955"/>
                    <a:pt x="450376" y="81923"/>
                  </a:cubicBezTo>
                  <a:cubicBezTo>
                    <a:pt x="546358" y="60594"/>
                    <a:pt x="466131" y="77422"/>
                    <a:pt x="545911" y="54627"/>
                  </a:cubicBezTo>
                  <a:cubicBezTo>
                    <a:pt x="563946" y="49474"/>
                    <a:pt x="582305" y="45528"/>
                    <a:pt x="600502" y="40979"/>
                  </a:cubicBezTo>
                  <a:cubicBezTo>
                    <a:pt x="750627" y="45528"/>
                    <a:pt x="900881" y="46935"/>
                    <a:pt x="1050878" y="54627"/>
                  </a:cubicBezTo>
                  <a:cubicBezTo>
                    <a:pt x="1078514" y="56044"/>
                    <a:pt x="1106259" y="60324"/>
                    <a:pt x="1132764" y="68275"/>
                  </a:cubicBezTo>
                  <a:cubicBezTo>
                    <a:pt x="1153626" y="74534"/>
                    <a:pt x="1209450" y="107158"/>
                    <a:pt x="1228299" y="122866"/>
                  </a:cubicBezTo>
                  <a:cubicBezTo>
                    <a:pt x="1273650" y="160659"/>
                    <a:pt x="1305144" y="210838"/>
                    <a:pt x="1337481" y="259344"/>
                  </a:cubicBezTo>
                  <a:cubicBezTo>
                    <a:pt x="1357670" y="340098"/>
                    <a:pt x="1377376" y="394467"/>
                    <a:pt x="1337481" y="491355"/>
                  </a:cubicBezTo>
                  <a:cubicBezTo>
                    <a:pt x="1320644" y="532244"/>
                    <a:pt x="1208668" y="561589"/>
                    <a:pt x="1173708" y="573242"/>
                  </a:cubicBezTo>
                  <a:lnTo>
                    <a:pt x="1132764" y="586890"/>
                  </a:lnTo>
                  <a:cubicBezTo>
                    <a:pt x="1008358" y="574449"/>
                    <a:pt x="1006453" y="608091"/>
                    <a:pt x="955344" y="518651"/>
                  </a:cubicBezTo>
                  <a:cubicBezTo>
                    <a:pt x="948207" y="506161"/>
                    <a:pt x="946245" y="491356"/>
                    <a:pt x="941696" y="477708"/>
                  </a:cubicBezTo>
                  <a:cubicBezTo>
                    <a:pt x="946245" y="464060"/>
                    <a:pt x="946357" y="447998"/>
                    <a:pt x="955344" y="436764"/>
                  </a:cubicBezTo>
                  <a:cubicBezTo>
                    <a:pt x="981417" y="404172"/>
                    <a:pt x="1004266" y="412303"/>
                    <a:pt x="1037230" y="395821"/>
                  </a:cubicBezTo>
                  <a:cubicBezTo>
                    <a:pt x="1153695" y="337589"/>
                    <a:pt x="958561" y="379400"/>
                    <a:pt x="1228299" y="354878"/>
                  </a:cubicBezTo>
                  <a:cubicBezTo>
                    <a:pt x="1378424" y="359427"/>
                    <a:pt x="1528688" y="360632"/>
                    <a:pt x="1678675" y="368526"/>
                  </a:cubicBezTo>
                  <a:cubicBezTo>
                    <a:pt x="1816896" y="375801"/>
                    <a:pt x="1977559" y="377170"/>
                    <a:pt x="2115403" y="423117"/>
                  </a:cubicBezTo>
                  <a:lnTo>
                    <a:pt x="2197290" y="450412"/>
                  </a:lnTo>
                  <a:cubicBezTo>
                    <a:pt x="2210938" y="454961"/>
                    <a:pt x="2226263" y="456080"/>
                    <a:pt x="2238233" y="464060"/>
                  </a:cubicBezTo>
                  <a:lnTo>
                    <a:pt x="2279176" y="491355"/>
                  </a:lnTo>
                  <a:cubicBezTo>
                    <a:pt x="2288275" y="505003"/>
                    <a:pt x="2300011" y="517222"/>
                    <a:pt x="2306472" y="532299"/>
                  </a:cubicBezTo>
                  <a:cubicBezTo>
                    <a:pt x="2359351" y="655683"/>
                    <a:pt x="2278888" y="525041"/>
                    <a:pt x="2347415" y="627833"/>
                  </a:cubicBezTo>
                  <a:cubicBezTo>
                    <a:pt x="2342866" y="646030"/>
                    <a:pt x="2344172" y="666817"/>
                    <a:pt x="2333767" y="682424"/>
                  </a:cubicBezTo>
                  <a:cubicBezTo>
                    <a:pt x="2297454" y="736894"/>
                    <a:pt x="2211413" y="700674"/>
                    <a:pt x="2169994" y="696072"/>
                  </a:cubicBezTo>
                  <a:cubicBezTo>
                    <a:pt x="2107423" y="602215"/>
                    <a:pt x="2125776" y="645307"/>
                    <a:pt x="2101756" y="573242"/>
                  </a:cubicBezTo>
                  <a:cubicBezTo>
                    <a:pt x="2110346" y="513109"/>
                    <a:pt x="2101321" y="478142"/>
                    <a:pt x="2142699" y="436764"/>
                  </a:cubicBezTo>
                  <a:cubicBezTo>
                    <a:pt x="2175482" y="403981"/>
                    <a:pt x="2185737" y="412470"/>
                    <a:pt x="2224585" y="395821"/>
                  </a:cubicBezTo>
                  <a:cubicBezTo>
                    <a:pt x="2243285" y="387807"/>
                    <a:pt x="2260127" y="375669"/>
                    <a:pt x="2279176" y="368526"/>
                  </a:cubicBezTo>
                  <a:cubicBezTo>
                    <a:pt x="2296739" y="361940"/>
                    <a:pt x="2316204" y="361464"/>
                    <a:pt x="2333767" y="354878"/>
                  </a:cubicBezTo>
                  <a:cubicBezTo>
                    <a:pt x="2352817" y="347734"/>
                    <a:pt x="2368534" y="332157"/>
                    <a:pt x="2388358" y="327582"/>
                  </a:cubicBezTo>
                  <a:cubicBezTo>
                    <a:pt x="2440026" y="315659"/>
                    <a:pt x="2701068" y="301276"/>
                    <a:pt x="2715905" y="300287"/>
                  </a:cubicBezTo>
                  <a:lnTo>
                    <a:pt x="3439236" y="313935"/>
                  </a:lnTo>
                  <a:cubicBezTo>
                    <a:pt x="3471386" y="315007"/>
                    <a:pt x="3502822" y="323824"/>
                    <a:pt x="3534770" y="327582"/>
                  </a:cubicBezTo>
                  <a:cubicBezTo>
                    <a:pt x="3627545" y="338496"/>
                    <a:pt x="3743361" y="347240"/>
                    <a:pt x="3835021" y="354878"/>
                  </a:cubicBezTo>
                  <a:cubicBezTo>
                    <a:pt x="4016991" y="350329"/>
                    <a:pt x="4199101" y="349687"/>
                    <a:pt x="4380932" y="341230"/>
                  </a:cubicBezTo>
                  <a:cubicBezTo>
                    <a:pt x="4395302" y="340562"/>
                    <a:pt x="4408043" y="331534"/>
                    <a:pt x="4421875" y="327582"/>
                  </a:cubicBezTo>
                  <a:cubicBezTo>
                    <a:pt x="4439910" y="322429"/>
                    <a:pt x="4458500" y="319325"/>
                    <a:pt x="4476466" y="313935"/>
                  </a:cubicBezTo>
                  <a:cubicBezTo>
                    <a:pt x="4504025" y="305667"/>
                    <a:pt x="4530440" y="293617"/>
                    <a:pt x="4558353" y="286639"/>
                  </a:cubicBezTo>
                  <a:cubicBezTo>
                    <a:pt x="4626900" y="269502"/>
                    <a:pt x="4595149" y="278922"/>
                    <a:pt x="4653887" y="259344"/>
                  </a:cubicBezTo>
                  <a:cubicBezTo>
                    <a:pt x="4667535" y="250245"/>
                    <a:pt x="4680159" y="239384"/>
                    <a:pt x="4694830" y="232048"/>
                  </a:cubicBezTo>
                  <a:cubicBezTo>
                    <a:pt x="4707697" y="225614"/>
                    <a:pt x="4723197" y="225386"/>
                    <a:pt x="4735773" y="218400"/>
                  </a:cubicBezTo>
                  <a:cubicBezTo>
                    <a:pt x="4764450" y="202468"/>
                    <a:pt x="4817660" y="163809"/>
                    <a:pt x="4817660" y="163809"/>
                  </a:cubicBezTo>
                  <a:cubicBezTo>
                    <a:pt x="4842555" y="89125"/>
                    <a:pt x="4825342" y="84906"/>
                    <a:pt x="4885899" y="54627"/>
                  </a:cubicBezTo>
                  <a:cubicBezTo>
                    <a:pt x="4898766" y="48193"/>
                    <a:pt x="4913975" y="47413"/>
                    <a:pt x="4926842" y="40979"/>
                  </a:cubicBezTo>
                  <a:cubicBezTo>
                    <a:pt x="4941513" y="33644"/>
                    <a:pt x="4953114" y="21019"/>
                    <a:pt x="4967785" y="13684"/>
                  </a:cubicBezTo>
                  <a:cubicBezTo>
                    <a:pt x="4997958" y="-1403"/>
                    <a:pt x="4999113" y="36"/>
                    <a:pt x="5022376" y="36"/>
                  </a:cubicBezTo>
                </a:path>
              </a:pathLst>
            </a:custGeom>
            <a:noFill/>
            <a:ln w="38100">
              <a:solidFill>
                <a:srgbClr val="0089f0"/>
              </a:solidFill>
              <a:prstDash val="sysDash"/>
              <a:tailEnd len="med" type="arrow" w="med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8" name="矩形 14"/>
            <p:cNvSpPr/>
            <p:nvPr/>
          </p:nvSpPr>
          <p:spPr>
            <a:xfrm>
              <a:off x="5587920" y="4868640"/>
              <a:ext cx="182700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5400" spc="-1" strike="noStrike">
                  <a:solidFill>
                    <a:srgbClr val="808080"/>
                  </a:solidFill>
                  <a:latin typeface="方正粗宋简体"/>
                  <a:ea typeface="方正粗宋简体"/>
                </a:rPr>
                <a:t>五条原则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图片 27" descr=""/>
            <p:cNvPicPr/>
            <p:nvPr/>
          </p:nvPicPr>
          <p:blipFill>
            <a:blip r:embed="rId8">
              <a:grayscl/>
            </a:blip>
            <a:stretch/>
          </p:blipFill>
          <p:spPr>
            <a:xfrm>
              <a:off x="166680" y="4631760"/>
              <a:ext cx="146592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图片 33" descr=""/>
            <p:cNvPicPr/>
            <p:nvPr/>
          </p:nvPicPr>
          <p:blipFill>
            <a:blip r:embed="rId9"/>
            <a:stretch/>
          </p:blipFill>
          <p:spPr>
            <a:xfrm>
              <a:off x="9904320" y="4399200"/>
              <a:ext cx="1049400" cy="1005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圆角矩形 5"/>
          <p:cNvSpPr/>
          <p:nvPr/>
        </p:nvSpPr>
        <p:spPr>
          <a:xfrm>
            <a:off x="4517280" y="2897640"/>
            <a:ext cx="7233120" cy="3286440"/>
          </a:xfrm>
          <a:prstGeom prst="roundRect">
            <a:avLst>
              <a:gd name="adj" fmla="val 8363"/>
            </a:avLst>
          </a:prstGeom>
          <a:noFill/>
          <a:ln w="28575">
            <a:solidFill>
              <a:srgbClr val="0089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6"/>
              </a:solidFill>
              <a:latin typeface="Calibri"/>
            </a:endParaRPr>
          </a:p>
        </p:txBody>
      </p:sp>
      <p:sp>
        <p:nvSpPr>
          <p:cNvPr id="342" name="矩形 8"/>
          <p:cNvSpPr/>
          <p:nvPr/>
        </p:nvSpPr>
        <p:spPr>
          <a:xfrm>
            <a:off x="360" y="549360"/>
            <a:ext cx="334440" cy="163404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343" name="矩形 4"/>
          <p:cNvSpPr/>
          <p:nvPr/>
        </p:nvSpPr>
        <p:spPr>
          <a:xfrm>
            <a:off x="1179720" y="549360"/>
            <a:ext cx="26499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经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可以这样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7"/>
          <p:cNvSpPr/>
          <p:nvPr/>
        </p:nvSpPr>
        <p:spPr>
          <a:xfrm>
            <a:off x="8024760" y="2986920"/>
            <a:ext cx="81684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1</a:t>
            </a: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、要么解决问题，要么消灭问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2</a:t>
            </a: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、不能超出正常处理问题的范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3</a:t>
            </a: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、只在事先约定的情况下解决问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3</a:t>
            </a: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、面对面或电话处理，不要通过邮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4</a:t>
            </a:r>
            <a:r>
              <a:rPr b="0" lang="zh-CN" sz="2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、必须约定好下次会谈的确定时间地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任意多边形 1"/>
          <p:cNvSpPr/>
          <p:nvPr/>
        </p:nvSpPr>
        <p:spPr>
          <a:xfrm rot="879600">
            <a:off x="7560720" y="2480760"/>
            <a:ext cx="794520" cy="718920"/>
          </a:xfrm>
          <a:custGeom>
            <a:avLst/>
            <a:gdLst>
              <a:gd name="textAreaLeft" fmla="*/ 0 w 794520"/>
              <a:gd name="textAreaRight" fmla="*/ 794880 w 79452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794762" h="682389">
                <a:moveTo>
                  <a:pt x="777923" y="682389"/>
                </a:moveTo>
                <a:cubicBezTo>
                  <a:pt x="794941" y="478161"/>
                  <a:pt x="805228" y="436813"/>
                  <a:pt x="777923" y="191069"/>
                </a:cubicBezTo>
                <a:cubicBezTo>
                  <a:pt x="772100" y="138665"/>
                  <a:pt x="700526" y="133425"/>
                  <a:pt x="668741" y="122830"/>
                </a:cubicBezTo>
                <a:lnTo>
                  <a:pt x="627797" y="109183"/>
                </a:lnTo>
                <a:cubicBezTo>
                  <a:pt x="606342" y="94879"/>
                  <a:pt x="556357" y="59110"/>
                  <a:pt x="532263" y="54592"/>
                </a:cubicBezTo>
                <a:cubicBezTo>
                  <a:pt x="478421" y="44497"/>
                  <a:pt x="422969" y="46679"/>
                  <a:pt x="368490" y="40944"/>
                </a:cubicBezTo>
                <a:cubicBezTo>
                  <a:pt x="336498" y="37576"/>
                  <a:pt x="304927" y="30848"/>
                  <a:pt x="272955" y="27296"/>
                </a:cubicBezTo>
                <a:cubicBezTo>
                  <a:pt x="182075" y="17198"/>
                  <a:pt x="0" y="0"/>
                  <a:pt x="0" y="0"/>
                </a:cubicBezTo>
              </a:path>
            </a:pathLst>
          </a:custGeom>
          <a:noFill/>
          <a:ln w="38100">
            <a:solidFill>
              <a:srgbClr val="ffffff">
                <a:lumMod val="75000"/>
              </a:srgbClr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2069640" y="2840760"/>
            <a:ext cx="8565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经理，我们有个问题…</a:t>
            </a:r>
            <a:r>
              <a:rPr b="0" lang="en-US" sz="54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4" descr=""/>
          <p:cNvPicPr/>
          <p:nvPr/>
        </p:nvPicPr>
        <p:blipFill>
          <a:blip r:embed="rId1"/>
          <a:stretch/>
        </p:blipFill>
        <p:spPr>
          <a:xfrm rot="490200">
            <a:off x="7892640" y="1096200"/>
            <a:ext cx="1599120" cy="1532880"/>
          </a:xfrm>
          <a:prstGeom prst="rect">
            <a:avLst/>
          </a:prstGeom>
          <a:ln w="0">
            <a:noFill/>
          </a:ln>
        </p:spPr>
      </p:pic>
      <p:sp>
        <p:nvSpPr>
          <p:cNvPr id="112" name="任意多边形 5"/>
          <p:cNvSpPr/>
          <p:nvPr/>
        </p:nvSpPr>
        <p:spPr>
          <a:xfrm rot="796800">
            <a:off x="5771160" y="3713040"/>
            <a:ext cx="779760" cy="3099240"/>
          </a:xfrm>
          <a:custGeom>
            <a:avLst/>
            <a:gdLst>
              <a:gd name="textAreaLeft" fmla="*/ 0 w 779760"/>
              <a:gd name="textAreaRight" fmla="*/ 780120 w 779760"/>
              <a:gd name="textAreaTop" fmla="*/ 0 h 3099240"/>
              <a:gd name="textAreaBottom" fmla="*/ 3099600 h 3099240"/>
            </a:gdLst>
            <a:ahLst/>
            <a:rect l="textAreaLeft" t="textAreaTop" r="textAreaRight" b="textAreaBottom"/>
            <a:pathLst>
              <a:path w="724412" h="3029802">
                <a:moveTo>
                  <a:pt x="314594" y="0"/>
                </a:moveTo>
                <a:cubicBezTo>
                  <a:pt x="282749" y="4549"/>
                  <a:pt x="249871" y="4404"/>
                  <a:pt x="219060" y="13647"/>
                </a:cubicBezTo>
                <a:cubicBezTo>
                  <a:pt x="203349" y="18360"/>
                  <a:pt x="192358" y="32805"/>
                  <a:pt x="178117" y="40943"/>
                </a:cubicBezTo>
                <a:cubicBezTo>
                  <a:pt x="160452" y="51037"/>
                  <a:pt x="141722" y="59140"/>
                  <a:pt x="123525" y="68238"/>
                </a:cubicBezTo>
                <a:cubicBezTo>
                  <a:pt x="109877" y="81886"/>
                  <a:pt x="93800" y="93476"/>
                  <a:pt x="82582" y="109182"/>
                </a:cubicBezTo>
                <a:cubicBezTo>
                  <a:pt x="57358" y="144496"/>
                  <a:pt x="55707" y="167201"/>
                  <a:pt x="41639" y="204716"/>
                </a:cubicBezTo>
                <a:cubicBezTo>
                  <a:pt x="33037" y="227655"/>
                  <a:pt x="23442" y="250209"/>
                  <a:pt x="14343" y="272955"/>
                </a:cubicBezTo>
                <a:cubicBezTo>
                  <a:pt x="18892" y="391236"/>
                  <a:pt x="20370" y="509674"/>
                  <a:pt x="27991" y="627797"/>
                </a:cubicBezTo>
                <a:cubicBezTo>
                  <a:pt x="29484" y="650945"/>
                  <a:pt x="33494" y="674315"/>
                  <a:pt x="41639" y="696035"/>
                </a:cubicBezTo>
                <a:cubicBezTo>
                  <a:pt x="47056" y="710479"/>
                  <a:pt x="106929" y="786852"/>
                  <a:pt x="109878" y="791570"/>
                </a:cubicBezTo>
                <a:cubicBezTo>
                  <a:pt x="120661" y="808822"/>
                  <a:pt x="122787" y="831775"/>
                  <a:pt x="137173" y="846161"/>
                </a:cubicBezTo>
                <a:cubicBezTo>
                  <a:pt x="171437" y="880425"/>
                  <a:pt x="263405" y="941690"/>
                  <a:pt x="314594" y="968991"/>
                </a:cubicBezTo>
                <a:cubicBezTo>
                  <a:pt x="359472" y="992926"/>
                  <a:pt x="401198" y="1027254"/>
                  <a:pt x="451072" y="1037229"/>
                </a:cubicBezTo>
                <a:cubicBezTo>
                  <a:pt x="533418" y="1053698"/>
                  <a:pt x="497305" y="1043541"/>
                  <a:pt x="560254" y="1064525"/>
                </a:cubicBezTo>
                <a:cubicBezTo>
                  <a:pt x="596060" y="1060944"/>
                  <a:pt x="713343" y="1084720"/>
                  <a:pt x="724027" y="1009934"/>
                </a:cubicBezTo>
                <a:cubicBezTo>
                  <a:pt x="726680" y="991365"/>
                  <a:pt x="714928" y="973540"/>
                  <a:pt x="710379" y="955343"/>
                </a:cubicBezTo>
                <a:cubicBezTo>
                  <a:pt x="610295" y="959892"/>
                  <a:pt x="510041" y="961590"/>
                  <a:pt x="410128" y="968991"/>
                </a:cubicBezTo>
                <a:cubicBezTo>
                  <a:pt x="386995" y="970705"/>
                  <a:pt x="363427" y="974023"/>
                  <a:pt x="341890" y="982638"/>
                </a:cubicBezTo>
                <a:cubicBezTo>
                  <a:pt x="317261" y="992490"/>
                  <a:pt x="296397" y="1009934"/>
                  <a:pt x="273651" y="1023582"/>
                </a:cubicBezTo>
                <a:cubicBezTo>
                  <a:pt x="264552" y="1037230"/>
                  <a:pt x="257252" y="1052266"/>
                  <a:pt x="246355" y="1064525"/>
                </a:cubicBezTo>
                <a:cubicBezTo>
                  <a:pt x="205811" y="1110136"/>
                  <a:pt x="131033" y="1164834"/>
                  <a:pt x="109878" y="1228298"/>
                </a:cubicBezTo>
                <a:cubicBezTo>
                  <a:pt x="74194" y="1335350"/>
                  <a:pt x="97385" y="1285513"/>
                  <a:pt x="41639" y="1378423"/>
                </a:cubicBezTo>
                <a:cubicBezTo>
                  <a:pt x="37090" y="1405719"/>
                  <a:pt x="35272" y="1433613"/>
                  <a:pt x="27991" y="1460310"/>
                </a:cubicBezTo>
                <a:cubicBezTo>
                  <a:pt x="21545" y="1483945"/>
                  <a:pt x="1919" y="1504081"/>
                  <a:pt x="696" y="1528549"/>
                </a:cubicBezTo>
                <a:cubicBezTo>
                  <a:pt x="-2759" y="1597645"/>
                  <a:pt x="5320" y="1781144"/>
                  <a:pt x="55287" y="1856095"/>
                </a:cubicBezTo>
                <a:cubicBezTo>
                  <a:pt x="73484" y="1883391"/>
                  <a:pt x="86681" y="1914785"/>
                  <a:pt x="109878" y="1937982"/>
                </a:cubicBezTo>
                <a:cubicBezTo>
                  <a:pt x="123526" y="1951630"/>
                  <a:pt x="136167" y="1966364"/>
                  <a:pt x="150821" y="1978925"/>
                </a:cubicBezTo>
                <a:cubicBezTo>
                  <a:pt x="168091" y="1993728"/>
                  <a:pt x="185663" y="2008583"/>
                  <a:pt x="205412" y="2019868"/>
                </a:cubicBezTo>
                <a:cubicBezTo>
                  <a:pt x="217902" y="2027005"/>
                  <a:pt x="232523" y="2029564"/>
                  <a:pt x="246355" y="2033516"/>
                </a:cubicBezTo>
                <a:cubicBezTo>
                  <a:pt x="291333" y="2046367"/>
                  <a:pt x="322273" y="2051429"/>
                  <a:pt x="369185" y="2060811"/>
                </a:cubicBezTo>
                <a:cubicBezTo>
                  <a:pt x="428325" y="2056262"/>
                  <a:pt x="487617" y="2053373"/>
                  <a:pt x="546606" y="2047164"/>
                </a:cubicBezTo>
                <a:cubicBezTo>
                  <a:pt x="574126" y="2044267"/>
                  <a:pt x="601480" y="2039519"/>
                  <a:pt x="628493" y="2033516"/>
                </a:cubicBezTo>
                <a:cubicBezTo>
                  <a:pt x="642536" y="2030395"/>
                  <a:pt x="683822" y="2019868"/>
                  <a:pt x="669436" y="2019868"/>
                </a:cubicBezTo>
                <a:cubicBezTo>
                  <a:pt x="620535" y="2019868"/>
                  <a:pt x="567091" y="2035219"/>
                  <a:pt x="519311" y="2047164"/>
                </a:cubicBezTo>
                <a:cubicBezTo>
                  <a:pt x="492015" y="2065361"/>
                  <a:pt x="464299" y="2082943"/>
                  <a:pt x="437424" y="2101755"/>
                </a:cubicBezTo>
                <a:cubicBezTo>
                  <a:pt x="406155" y="2123643"/>
                  <a:pt x="366026" y="2152609"/>
                  <a:pt x="341890" y="2183641"/>
                </a:cubicBezTo>
                <a:cubicBezTo>
                  <a:pt x="321750" y="2209536"/>
                  <a:pt x="287299" y="2265528"/>
                  <a:pt x="287299" y="2265528"/>
                </a:cubicBezTo>
                <a:cubicBezTo>
                  <a:pt x="282750" y="2283725"/>
                  <a:pt x="281040" y="2302879"/>
                  <a:pt x="273651" y="2320119"/>
                </a:cubicBezTo>
                <a:cubicBezTo>
                  <a:pt x="267190" y="2335195"/>
                  <a:pt x="251542" y="2345501"/>
                  <a:pt x="246355" y="2361062"/>
                </a:cubicBezTo>
                <a:cubicBezTo>
                  <a:pt x="237604" y="2387314"/>
                  <a:pt x="237658" y="2415723"/>
                  <a:pt x="232708" y="2442949"/>
                </a:cubicBezTo>
                <a:cubicBezTo>
                  <a:pt x="194540" y="2652879"/>
                  <a:pt x="245650" y="2351651"/>
                  <a:pt x="205412" y="2593074"/>
                </a:cubicBezTo>
                <a:cubicBezTo>
                  <a:pt x="211218" y="2680157"/>
                  <a:pt x="208830" y="2778478"/>
                  <a:pt x="232708" y="2866029"/>
                </a:cubicBezTo>
                <a:cubicBezTo>
                  <a:pt x="240278" y="2893787"/>
                  <a:pt x="244043" y="2923976"/>
                  <a:pt x="260003" y="2947916"/>
                </a:cubicBezTo>
                <a:lnTo>
                  <a:pt x="314594" y="3029802"/>
                </a:lnTo>
                <a:lnTo>
                  <a:pt x="355537" y="3016155"/>
                </a:lnTo>
              </a:path>
            </a:pathLst>
          </a:custGeom>
          <a:noFill/>
          <a:ln w="38100">
            <a:solidFill>
              <a:srgbClr val="0089f0"/>
            </a:solidFill>
            <a:prstDash val="sysDash"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任意多边形 2"/>
          <p:cNvSpPr/>
          <p:nvPr/>
        </p:nvSpPr>
        <p:spPr>
          <a:xfrm rot="1389000">
            <a:off x="8426520" y="2780280"/>
            <a:ext cx="722880" cy="550080"/>
          </a:xfrm>
          <a:custGeom>
            <a:avLst/>
            <a:gdLst>
              <a:gd name="textAreaLeft" fmla="*/ 0 w 722880"/>
              <a:gd name="textAreaRight" fmla="*/ 723240 w 722880"/>
              <a:gd name="textAreaTop" fmla="*/ 0 h 550080"/>
              <a:gd name="textAreaBottom" fmla="*/ 550440 h 550080"/>
            </a:gdLst>
            <a:ahLst/>
            <a:rect l="textAreaLeft" t="textAreaTop" r="textAreaRight" b="textAreaBottom"/>
            <a:pathLst>
              <a:path w="723331" h="522221">
                <a:moveTo>
                  <a:pt x="0" y="522221"/>
                </a:moveTo>
                <a:cubicBezTo>
                  <a:pt x="4549" y="444884"/>
                  <a:pt x="7214" y="367412"/>
                  <a:pt x="13648" y="290209"/>
                </a:cubicBezTo>
                <a:cubicBezTo>
                  <a:pt x="15376" y="269472"/>
                  <a:pt x="23365" y="185374"/>
                  <a:pt x="40943" y="153732"/>
                </a:cubicBezTo>
                <a:cubicBezTo>
                  <a:pt x="56874" y="125055"/>
                  <a:pt x="68238" y="90042"/>
                  <a:pt x="95534" y="71845"/>
                </a:cubicBezTo>
                <a:cubicBezTo>
                  <a:pt x="109182" y="62747"/>
                  <a:pt x="121489" y="51212"/>
                  <a:pt x="136478" y="44550"/>
                </a:cubicBezTo>
                <a:cubicBezTo>
                  <a:pt x="317660" y="-35975"/>
                  <a:pt x="542875" y="17254"/>
                  <a:pt x="723331" y="17254"/>
                </a:cubicBezTo>
              </a:path>
            </a:pathLst>
          </a:custGeom>
          <a:noFill/>
          <a:ln w="38100">
            <a:solidFill>
              <a:srgbClr val="ffffff">
                <a:lumMod val="75000"/>
              </a:srgbClr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任意多边形 10"/>
          <p:cNvSpPr/>
          <p:nvPr/>
        </p:nvSpPr>
        <p:spPr>
          <a:xfrm>
            <a:off x="5090760" y="2347560"/>
            <a:ext cx="1285200" cy="2082240"/>
          </a:xfrm>
          <a:custGeom>
            <a:avLst/>
            <a:gdLst>
              <a:gd name="textAreaLeft" fmla="*/ 0 w 1285200"/>
              <a:gd name="textAreaRight" fmla="*/ 1285560 w 1285200"/>
              <a:gd name="textAreaTop" fmla="*/ 0 h 2082240"/>
              <a:gd name="textAreaBottom" fmla="*/ 2082600 h 2082240"/>
            </a:gdLst>
            <a:ahLst/>
            <a:rect l="textAreaLeft" t="textAreaTop" r="textAreaRight" b="textAreaBottom"/>
            <a:pathLst>
              <a:path w="1285516" h="1596788">
                <a:moveTo>
                  <a:pt x="109182" y="0"/>
                </a:moveTo>
                <a:cubicBezTo>
                  <a:pt x="95534" y="27295"/>
                  <a:pt x="83059" y="55209"/>
                  <a:pt x="68239" y="81886"/>
                </a:cubicBezTo>
                <a:cubicBezTo>
                  <a:pt x="60273" y="96225"/>
                  <a:pt x="46702" y="107472"/>
                  <a:pt x="40943" y="122830"/>
                </a:cubicBezTo>
                <a:cubicBezTo>
                  <a:pt x="32798" y="144550"/>
                  <a:pt x="32921" y="168565"/>
                  <a:pt x="27295" y="191069"/>
                </a:cubicBezTo>
                <a:cubicBezTo>
                  <a:pt x="23806" y="205025"/>
                  <a:pt x="17137" y="218056"/>
                  <a:pt x="13648" y="232012"/>
                </a:cubicBezTo>
                <a:cubicBezTo>
                  <a:pt x="8022" y="254516"/>
                  <a:pt x="4549" y="277505"/>
                  <a:pt x="0" y="300251"/>
                </a:cubicBezTo>
                <a:cubicBezTo>
                  <a:pt x="4549" y="386687"/>
                  <a:pt x="5812" y="473358"/>
                  <a:pt x="13648" y="559558"/>
                </a:cubicBezTo>
                <a:cubicBezTo>
                  <a:pt x="14950" y="573885"/>
                  <a:pt x="22244" y="587031"/>
                  <a:pt x="27295" y="600501"/>
                </a:cubicBezTo>
                <a:cubicBezTo>
                  <a:pt x="35897" y="623440"/>
                  <a:pt x="45989" y="645801"/>
                  <a:pt x="54591" y="668740"/>
                </a:cubicBezTo>
                <a:cubicBezTo>
                  <a:pt x="66771" y="701219"/>
                  <a:pt x="72980" y="736083"/>
                  <a:pt x="95534" y="764275"/>
                </a:cubicBezTo>
                <a:cubicBezTo>
                  <a:pt x="119648" y="794418"/>
                  <a:pt x="150125" y="818866"/>
                  <a:pt x="177421" y="846161"/>
                </a:cubicBezTo>
                <a:cubicBezTo>
                  <a:pt x="255210" y="923949"/>
                  <a:pt x="210598" y="886476"/>
                  <a:pt x="313898" y="955343"/>
                </a:cubicBezTo>
                <a:cubicBezTo>
                  <a:pt x="327546" y="964442"/>
                  <a:pt x="338929" y="978661"/>
                  <a:pt x="354842" y="982639"/>
                </a:cubicBezTo>
                <a:lnTo>
                  <a:pt x="409433" y="996286"/>
                </a:lnTo>
                <a:cubicBezTo>
                  <a:pt x="427630" y="1005385"/>
                  <a:pt x="443702" y="1022614"/>
                  <a:pt x="464024" y="1023582"/>
                </a:cubicBezTo>
                <a:cubicBezTo>
                  <a:pt x="474956" y="1024103"/>
                  <a:pt x="666261" y="1031645"/>
                  <a:pt x="736979" y="996286"/>
                </a:cubicBezTo>
                <a:cubicBezTo>
                  <a:pt x="751650" y="988951"/>
                  <a:pt x="764274" y="978089"/>
                  <a:pt x="777922" y="968991"/>
                </a:cubicBezTo>
                <a:cubicBezTo>
                  <a:pt x="782471" y="955343"/>
                  <a:pt x="785136" y="940915"/>
                  <a:pt x="791570" y="928048"/>
                </a:cubicBezTo>
                <a:cubicBezTo>
                  <a:pt x="812875" y="885438"/>
                  <a:pt x="841593" y="887075"/>
                  <a:pt x="805218" y="832513"/>
                </a:cubicBezTo>
                <a:cubicBezTo>
                  <a:pt x="796120" y="818865"/>
                  <a:pt x="777923" y="814316"/>
                  <a:pt x="764275" y="805218"/>
                </a:cubicBezTo>
                <a:cubicBezTo>
                  <a:pt x="746078" y="809767"/>
                  <a:pt x="725291" y="808461"/>
                  <a:pt x="709684" y="818866"/>
                </a:cubicBezTo>
                <a:cubicBezTo>
                  <a:pt x="680349" y="838422"/>
                  <a:pt x="682364" y="873503"/>
                  <a:pt x="668740" y="900752"/>
                </a:cubicBezTo>
                <a:cubicBezTo>
                  <a:pt x="661405" y="915423"/>
                  <a:pt x="649583" y="927454"/>
                  <a:pt x="641445" y="941695"/>
                </a:cubicBezTo>
                <a:cubicBezTo>
                  <a:pt x="631351" y="959359"/>
                  <a:pt x="623248" y="978089"/>
                  <a:pt x="614149" y="996286"/>
                </a:cubicBezTo>
                <a:cubicBezTo>
                  <a:pt x="590934" y="1089147"/>
                  <a:pt x="588082" y="1075630"/>
                  <a:pt x="614149" y="1214651"/>
                </a:cubicBezTo>
                <a:cubicBezTo>
                  <a:pt x="617898" y="1234647"/>
                  <a:pt x="628205" y="1253795"/>
                  <a:pt x="641445" y="1269242"/>
                </a:cubicBezTo>
                <a:cubicBezTo>
                  <a:pt x="656248" y="1286512"/>
                  <a:pt x="677527" y="1296964"/>
                  <a:pt x="696036" y="1310185"/>
                </a:cubicBezTo>
                <a:cubicBezTo>
                  <a:pt x="744296" y="1344657"/>
                  <a:pt x="750576" y="1347703"/>
                  <a:pt x="818866" y="1364776"/>
                </a:cubicBezTo>
                <a:cubicBezTo>
                  <a:pt x="1062345" y="1425647"/>
                  <a:pt x="811784" y="1366090"/>
                  <a:pt x="1009934" y="1405719"/>
                </a:cubicBezTo>
                <a:cubicBezTo>
                  <a:pt x="1028327" y="1409398"/>
                  <a:pt x="1046071" y="1416012"/>
                  <a:pt x="1064525" y="1419367"/>
                </a:cubicBezTo>
                <a:cubicBezTo>
                  <a:pt x="1105960" y="1426901"/>
                  <a:pt x="1231221" y="1441910"/>
                  <a:pt x="1269242" y="1446663"/>
                </a:cubicBezTo>
                <a:cubicBezTo>
                  <a:pt x="1294397" y="1522133"/>
                  <a:pt x="1282889" y="1473220"/>
                  <a:pt x="1282889" y="1596788"/>
                </a:cubicBezTo>
              </a:path>
            </a:pathLst>
          </a:custGeom>
          <a:noFill/>
          <a:ln w="38100">
            <a:solidFill>
              <a:srgbClr val="0089f0"/>
            </a:solidFill>
            <a:prstDash val="sysDash"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圆角矩形 11"/>
          <p:cNvSpPr/>
          <p:nvPr/>
        </p:nvSpPr>
        <p:spPr>
          <a:xfrm>
            <a:off x="215640" y="462600"/>
            <a:ext cx="6968520" cy="2419560"/>
          </a:xfrm>
          <a:prstGeom prst="roundRect">
            <a:avLst>
              <a:gd name="adj" fmla="val 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圆角矩形 12"/>
          <p:cNvSpPr/>
          <p:nvPr/>
        </p:nvSpPr>
        <p:spPr>
          <a:xfrm>
            <a:off x="264600" y="508320"/>
            <a:ext cx="6968520" cy="2419560"/>
          </a:xfrm>
          <a:prstGeom prst="roundRect">
            <a:avLst>
              <a:gd name="adj" fmla="val 0"/>
            </a:avLst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圆角矩形 9"/>
          <p:cNvSpPr/>
          <p:nvPr/>
        </p:nvSpPr>
        <p:spPr>
          <a:xfrm>
            <a:off x="3247200" y="4657320"/>
            <a:ext cx="5851080" cy="1050480"/>
          </a:xfrm>
          <a:prstGeom prst="roundRect">
            <a:avLst>
              <a:gd name="adj" fmla="val 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圆角矩形 8"/>
          <p:cNvSpPr/>
          <p:nvPr/>
        </p:nvSpPr>
        <p:spPr>
          <a:xfrm>
            <a:off x="3292560" y="4706640"/>
            <a:ext cx="5851080" cy="1050480"/>
          </a:xfrm>
          <a:prstGeom prst="roundRect">
            <a:avLst>
              <a:gd name="adj" fmla="val 0"/>
            </a:avLst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文本框 3"/>
          <p:cNvSpPr/>
          <p:nvPr/>
        </p:nvSpPr>
        <p:spPr>
          <a:xfrm>
            <a:off x="544320" y="532440"/>
            <a:ext cx="7412040" cy="23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71680" indent="-571680">
              <a:lnSpc>
                <a:spcPct val="14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这个问题，我会给你答复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把这个问题备忘录给我送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4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需要帮助的话，尽管告诉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375840" y="4143600"/>
            <a:ext cx="2697120" cy="2588400"/>
          </a:xfrm>
          <a:prstGeom prst="rect">
            <a:avLst/>
          </a:prstGeom>
          <a:ln w="0">
            <a:noFill/>
          </a:ln>
        </p:spPr>
      </p:pic>
      <p:sp>
        <p:nvSpPr>
          <p:cNvPr id="121" name="矩形 7"/>
          <p:cNvSpPr/>
          <p:nvPr/>
        </p:nvSpPr>
        <p:spPr>
          <a:xfrm>
            <a:off x="6201360" y="5008320"/>
            <a:ext cx="403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下属：好的经理，等您回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3"/>
          <p:cNvSpPr/>
          <p:nvPr/>
        </p:nvSpPr>
        <p:spPr>
          <a:xfrm rot="20851800">
            <a:off x="8185680" y="1316520"/>
            <a:ext cx="2314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808080"/>
                </a:solidFill>
                <a:latin typeface="华文细黑"/>
                <a:ea typeface="华文细黑"/>
              </a:rPr>
              <a:t>是不是经常用这几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5" descr=""/>
          <p:cNvPicPr/>
          <p:nvPr/>
        </p:nvPicPr>
        <p:blipFill>
          <a:blip r:embed="rId1"/>
          <a:stretch/>
        </p:blipFill>
        <p:spPr>
          <a:xfrm>
            <a:off x="4773600" y="1464480"/>
            <a:ext cx="1309680" cy="1256760"/>
          </a:xfrm>
          <a:prstGeom prst="rect">
            <a:avLst/>
          </a:prstGeom>
          <a:ln w="0">
            <a:noFill/>
          </a:ln>
        </p:spPr>
      </p:pic>
      <p:sp>
        <p:nvSpPr>
          <p:cNvPr id="124" name="平行四边形 5"/>
          <p:cNvSpPr/>
          <p:nvPr/>
        </p:nvSpPr>
        <p:spPr>
          <a:xfrm>
            <a:off x="9762480" y="5129640"/>
            <a:ext cx="2537640" cy="1515240"/>
          </a:xfrm>
          <a:prstGeom prst="parallelogram">
            <a:avLst>
              <a:gd name="adj" fmla="val 39634"/>
            </a:avLst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平行四边形 3"/>
          <p:cNvSpPr/>
          <p:nvPr/>
        </p:nvSpPr>
        <p:spPr>
          <a:xfrm>
            <a:off x="-259200" y="218520"/>
            <a:ext cx="2538000" cy="1514520"/>
          </a:xfrm>
          <a:prstGeom prst="parallelogram">
            <a:avLst>
              <a:gd name="adj" fmla="val 39634"/>
            </a:avLst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平行四边形 11"/>
          <p:cNvSpPr/>
          <p:nvPr/>
        </p:nvSpPr>
        <p:spPr>
          <a:xfrm>
            <a:off x="7034040" y="4160160"/>
            <a:ext cx="4822560" cy="1881720"/>
          </a:xfrm>
          <a:prstGeom prst="parallelogram">
            <a:avLst>
              <a:gd name="adj" fmla="val 39634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平行四边形 10"/>
          <p:cNvSpPr/>
          <p:nvPr/>
        </p:nvSpPr>
        <p:spPr>
          <a:xfrm>
            <a:off x="334080" y="823680"/>
            <a:ext cx="4822560" cy="1897560"/>
          </a:xfrm>
          <a:prstGeom prst="parallelogram">
            <a:avLst>
              <a:gd name="adj" fmla="val 39634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文本框 4"/>
          <p:cNvSpPr/>
          <p:nvPr/>
        </p:nvSpPr>
        <p:spPr>
          <a:xfrm>
            <a:off x="334080" y="250920"/>
            <a:ext cx="5887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下属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6"/>
          <p:cNvSpPr/>
          <p:nvPr/>
        </p:nvSpPr>
        <p:spPr>
          <a:xfrm>
            <a:off x="9868680" y="6032520"/>
            <a:ext cx="2431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经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8422920" y="4450680"/>
            <a:ext cx="2314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无言以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还是继续推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1786320" y="1137240"/>
            <a:ext cx="23148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领导还不解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没效率！无能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1939320" y="3049200"/>
            <a:ext cx="8565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经理，问题进行的怎么样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21" descr=""/>
          <p:cNvPicPr/>
          <p:nvPr/>
        </p:nvPicPr>
        <p:blipFill>
          <a:blip r:embed="rId2"/>
          <a:stretch/>
        </p:blipFill>
        <p:spPr>
          <a:xfrm>
            <a:off x="5666040" y="4689720"/>
            <a:ext cx="1400400" cy="1342440"/>
          </a:xfrm>
          <a:prstGeom prst="rect">
            <a:avLst/>
          </a:prstGeom>
          <a:ln w="0">
            <a:noFill/>
          </a:ln>
        </p:spPr>
      </p:pic>
      <p:sp>
        <p:nvSpPr>
          <p:cNvPr id="134" name="任意多边形 24"/>
          <p:cNvSpPr/>
          <p:nvPr/>
        </p:nvSpPr>
        <p:spPr>
          <a:xfrm rot="11034000">
            <a:off x="2639520" y="3978720"/>
            <a:ext cx="3314880" cy="1422000"/>
          </a:xfrm>
          <a:custGeom>
            <a:avLst/>
            <a:gdLst>
              <a:gd name="textAreaLeft" fmla="*/ 0 w 3314880"/>
              <a:gd name="textAreaRight" fmla="*/ 3315240 w 3314880"/>
              <a:gd name="textAreaTop" fmla="*/ 0 h 1422000"/>
              <a:gd name="textAreaBottom" fmla="*/ 1422360 h 1422000"/>
            </a:gdLst>
            <a:ahLst/>
            <a:rect l="textAreaLeft" t="textAreaTop" r="textAreaRight" b="textAreaBottom"/>
            <a:pathLst>
              <a:path w="2060812" h="1064525">
                <a:moveTo>
                  <a:pt x="2006221" y="1064525"/>
                </a:moveTo>
                <a:cubicBezTo>
                  <a:pt x="2020639" y="1028480"/>
                  <a:pt x="2036468" y="992779"/>
                  <a:pt x="2047164" y="955343"/>
                </a:cubicBezTo>
                <a:cubicBezTo>
                  <a:pt x="2052317" y="937308"/>
                  <a:pt x="2056263" y="918949"/>
                  <a:pt x="2060812" y="900752"/>
                </a:cubicBezTo>
                <a:cubicBezTo>
                  <a:pt x="2056263" y="814316"/>
                  <a:pt x="2057477" y="727383"/>
                  <a:pt x="2047164" y="641444"/>
                </a:cubicBezTo>
                <a:cubicBezTo>
                  <a:pt x="2043736" y="612877"/>
                  <a:pt x="2043809" y="575518"/>
                  <a:pt x="2019869" y="559558"/>
                </a:cubicBezTo>
                <a:cubicBezTo>
                  <a:pt x="2006221" y="550459"/>
                  <a:pt x="1991526" y="542763"/>
                  <a:pt x="1978925" y="532262"/>
                </a:cubicBezTo>
                <a:cubicBezTo>
                  <a:pt x="1933650" y="494533"/>
                  <a:pt x="1947866" y="489437"/>
                  <a:pt x="1897039" y="464024"/>
                </a:cubicBezTo>
                <a:cubicBezTo>
                  <a:pt x="1864045" y="447527"/>
                  <a:pt x="1836486" y="449846"/>
                  <a:pt x="1801504" y="436728"/>
                </a:cubicBezTo>
                <a:cubicBezTo>
                  <a:pt x="1782455" y="429585"/>
                  <a:pt x="1766214" y="415867"/>
                  <a:pt x="1746913" y="409433"/>
                </a:cubicBezTo>
                <a:cubicBezTo>
                  <a:pt x="1685553" y="388980"/>
                  <a:pt x="1619657" y="378306"/>
                  <a:pt x="1555845" y="368489"/>
                </a:cubicBezTo>
                <a:cubicBezTo>
                  <a:pt x="1454579" y="352909"/>
                  <a:pt x="1447397" y="353406"/>
                  <a:pt x="1337481" y="341194"/>
                </a:cubicBezTo>
                <a:cubicBezTo>
                  <a:pt x="1246496" y="345743"/>
                  <a:pt x="1155282" y="346949"/>
                  <a:pt x="1064525" y="354841"/>
                </a:cubicBezTo>
                <a:cubicBezTo>
                  <a:pt x="1037757" y="357169"/>
                  <a:pt x="989107" y="387164"/>
                  <a:pt x="968991" y="395785"/>
                </a:cubicBezTo>
                <a:cubicBezTo>
                  <a:pt x="955768" y="401452"/>
                  <a:pt x="941696" y="404884"/>
                  <a:pt x="928048" y="409433"/>
                </a:cubicBezTo>
                <a:cubicBezTo>
                  <a:pt x="860590" y="510620"/>
                  <a:pt x="867024" y="459151"/>
                  <a:pt x="887104" y="559558"/>
                </a:cubicBezTo>
                <a:cubicBezTo>
                  <a:pt x="932597" y="555009"/>
                  <a:pt x="978394" y="552862"/>
                  <a:pt x="1023582" y="545910"/>
                </a:cubicBezTo>
                <a:cubicBezTo>
                  <a:pt x="1073129" y="538287"/>
                  <a:pt x="1060488" y="527457"/>
                  <a:pt x="1105469" y="504967"/>
                </a:cubicBezTo>
                <a:cubicBezTo>
                  <a:pt x="1118336" y="498533"/>
                  <a:pt x="1133545" y="497753"/>
                  <a:pt x="1146412" y="491319"/>
                </a:cubicBezTo>
                <a:cubicBezTo>
                  <a:pt x="1161083" y="483984"/>
                  <a:pt x="1172684" y="471359"/>
                  <a:pt x="1187355" y="464024"/>
                </a:cubicBezTo>
                <a:cubicBezTo>
                  <a:pt x="1300360" y="407521"/>
                  <a:pt x="1151905" y="501304"/>
                  <a:pt x="1269242" y="423080"/>
                </a:cubicBezTo>
                <a:cubicBezTo>
                  <a:pt x="1278340" y="409432"/>
                  <a:pt x="1295279" y="398491"/>
                  <a:pt x="1296537" y="382137"/>
                </a:cubicBezTo>
                <a:cubicBezTo>
                  <a:pt x="1300043" y="336552"/>
                  <a:pt x="1296334" y="289357"/>
                  <a:pt x="1282889" y="245659"/>
                </a:cubicBezTo>
                <a:cubicBezTo>
                  <a:pt x="1277300" y="227496"/>
                  <a:pt x="1196766" y="170495"/>
                  <a:pt x="1187355" y="163773"/>
                </a:cubicBezTo>
                <a:cubicBezTo>
                  <a:pt x="1112250" y="110126"/>
                  <a:pt x="1169069" y="153129"/>
                  <a:pt x="1037230" y="109182"/>
                </a:cubicBezTo>
                <a:lnTo>
                  <a:pt x="955343" y="81886"/>
                </a:lnTo>
                <a:cubicBezTo>
                  <a:pt x="907141" y="65818"/>
                  <a:pt x="854481" y="47101"/>
                  <a:pt x="805218" y="40943"/>
                </a:cubicBezTo>
                <a:lnTo>
                  <a:pt x="696036" y="27295"/>
                </a:lnTo>
                <a:cubicBezTo>
                  <a:pt x="668642" y="23382"/>
                  <a:pt x="641684" y="16400"/>
                  <a:pt x="614149" y="13647"/>
                </a:cubicBezTo>
                <a:cubicBezTo>
                  <a:pt x="550614" y="7294"/>
                  <a:pt x="486770" y="4549"/>
                  <a:pt x="423081" y="0"/>
                </a:cubicBezTo>
                <a:cubicBezTo>
                  <a:pt x="295702" y="4549"/>
                  <a:pt x="168139" y="5441"/>
                  <a:pt x="40943" y="13647"/>
                </a:cubicBezTo>
                <a:cubicBezTo>
                  <a:pt x="26587" y="14573"/>
                  <a:pt x="0" y="27295"/>
                  <a:pt x="0" y="27295"/>
                </a:cubicBezTo>
              </a:path>
            </a:pathLst>
          </a:custGeom>
          <a:noFill/>
          <a:ln w="38100">
            <a:solidFill>
              <a:srgbClr val="0089f0"/>
            </a:solidFill>
            <a:prstDash val="sysDash"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35" name="直接连接符 16"/>
          <p:cNvCxnSpPr/>
          <p:nvPr/>
        </p:nvCxnSpPr>
        <p:spPr>
          <a:xfrm>
            <a:off x="10026000" y="3544920"/>
            <a:ext cx="4144320" cy="2880"/>
          </a:xfrm>
          <a:prstGeom prst="straightConnector1">
            <a:avLst/>
          </a:prstGeom>
          <a:ln w="38100">
            <a:solidFill>
              <a:srgbClr val="ffffff">
                <a:lumMod val="65000"/>
              </a:srgbClr>
            </a:solidFill>
          </a:ln>
        </p:spPr>
      </p:cxnSp>
      <p:cxnSp>
        <p:nvCxnSpPr>
          <p:cNvPr id="136" name="直接连接符 17"/>
          <p:cNvCxnSpPr/>
          <p:nvPr/>
        </p:nvCxnSpPr>
        <p:spPr>
          <a:xfrm>
            <a:off x="-2331000" y="3544920"/>
            <a:ext cx="4143960" cy="2880"/>
          </a:xfrm>
          <a:prstGeom prst="straightConnector1">
            <a:avLst/>
          </a:prstGeom>
          <a:ln w="38100">
            <a:solidFill>
              <a:srgbClr val="ffffff">
                <a:lumMod val="65000"/>
              </a:srgbClr>
            </a:solidFill>
          </a:ln>
        </p:spPr>
      </p:cxn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3"/>
          <p:cNvSpPr/>
          <p:nvPr/>
        </p:nvSpPr>
        <p:spPr>
          <a:xfrm>
            <a:off x="4554720" y="2664720"/>
            <a:ext cx="4753080" cy="22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3800" spc="-1" strike="noStrike" baseline="20000">
                <a:solidFill>
                  <a:srgbClr val="0089f0"/>
                </a:solidFill>
                <a:latin typeface="方正粗宋简体"/>
                <a:ea typeface="方正粗宋简体"/>
              </a:rPr>
              <a:t>谁</a:t>
            </a:r>
            <a:r>
              <a:rPr b="0" lang="zh-CN" sz="36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在</a:t>
            </a:r>
            <a:r>
              <a:rPr b="0" lang="zh-CN" sz="13800" spc="-1" strike="noStrike" baseline="-14000">
                <a:solidFill>
                  <a:srgbClr val="0089f0"/>
                </a:solidFill>
                <a:latin typeface="方正粗宋简体"/>
                <a:ea typeface="方正粗宋简体"/>
              </a:rPr>
              <a:t>为谁</a:t>
            </a:r>
            <a:r>
              <a:rPr b="0" lang="zh-CN" sz="36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工作，谁在监督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4"/>
          <p:cNvSpPr/>
          <p:nvPr/>
        </p:nvSpPr>
        <p:spPr>
          <a:xfrm rot="21051600">
            <a:off x="-785160" y="-2801160"/>
            <a:ext cx="13619160" cy="46310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139" name="矩形 5"/>
          <p:cNvSpPr/>
          <p:nvPr/>
        </p:nvSpPr>
        <p:spPr>
          <a:xfrm rot="21051600">
            <a:off x="-270720" y="4590000"/>
            <a:ext cx="13619160" cy="463104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pic>
        <p:nvPicPr>
          <p:cNvPr id="140" name="图片 6" descr=""/>
          <p:cNvPicPr/>
          <p:nvPr/>
        </p:nvPicPr>
        <p:blipFill>
          <a:blip r:embed="rId1"/>
          <a:stretch/>
        </p:blipFill>
        <p:spPr>
          <a:xfrm>
            <a:off x="1447560" y="2814120"/>
            <a:ext cx="1400400" cy="134244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06520" y="37440"/>
            <a:ext cx="15073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好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9"/>
          <p:cNvSpPr/>
          <p:nvPr/>
        </p:nvSpPr>
        <p:spPr>
          <a:xfrm rot="427800">
            <a:off x="9667800" y="3104640"/>
            <a:ext cx="2368080" cy="44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7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？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0"/>
          <p:cNvSpPr/>
          <p:nvPr/>
        </p:nvSpPr>
        <p:spPr>
          <a:xfrm rot="19799400">
            <a:off x="8094960" y="4506120"/>
            <a:ext cx="144612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6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？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1"/>
          <p:cNvSpPr/>
          <p:nvPr/>
        </p:nvSpPr>
        <p:spPr>
          <a:xfrm rot="1117200">
            <a:off x="11042640" y="5081400"/>
            <a:ext cx="123264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3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1732680" y="169920"/>
            <a:ext cx="1507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7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加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2848680" y="937800"/>
            <a:ext cx="15073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熬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4268880" y="211320"/>
            <a:ext cx="2158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恶性循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"/>
          <p:cNvSpPr/>
          <p:nvPr/>
        </p:nvSpPr>
        <p:spPr>
          <a:xfrm>
            <a:off x="6397560" y="268200"/>
            <a:ext cx="103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丧失威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69"/>
          <p:cNvGrpSpPr/>
          <p:nvPr/>
        </p:nvGrpSpPr>
        <p:grpSpPr>
          <a:xfrm>
            <a:off x="-1019880" y="1371240"/>
            <a:ext cx="13411800" cy="4524120"/>
            <a:chOff x="-1019880" y="1371240"/>
            <a:chExt cx="13411800" cy="4524120"/>
          </a:xfrm>
        </p:grpSpPr>
        <p:grpSp>
          <p:nvGrpSpPr>
            <p:cNvPr id="150" name="组合 68"/>
            <p:cNvGrpSpPr/>
            <p:nvPr/>
          </p:nvGrpSpPr>
          <p:grpSpPr>
            <a:xfrm>
              <a:off x="-1019880" y="1371240"/>
              <a:ext cx="8226360" cy="4495680"/>
              <a:chOff x="-1019880" y="1371240"/>
              <a:chExt cx="8226360" cy="4495680"/>
            </a:xfrm>
          </p:grpSpPr>
          <p:grpSp>
            <p:nvGrpSpPr>
              <p:cNvPr id="151" name="组合 44"/>
              <p:cNvGrpSpPr/>
              <p:nvPr/>
            </p:nvGrpSpPr>
            <p:grpSpPr>
              <a:xfrm>
                <a:off x="4134960" y="1371240"/>
                <a:ext cx="3071520" cy="4495680"/>
                <a:chOff x="4134960" y="1371240"/>
                <a:chExt cx="3071520" cy="4495680"/>
              </a:xfrm>
            </p:grpSpPr>
            <p:pic>
              <p:nvPicPr>
                <p:cNvPr id="152" name="图片 45" descr=""/>
                <p:cNvPicPr/>
                <p:nvPr/>
              </p:nvPicPr>
              <p:blipFill>
                <a:blip r:embed="rId1"/>
                <a:stretch/>
              </p:blipFill>
              <p:spPr>
                <a:xfrm rot="1318800">
                  <a:off x="5605560" y="158436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3" name="图片 46" descr=""/>
                <p:cNvPicPr/>
                <p:nvPr/>
              </p:nvPicPr>
              <p:blipFill>
                <a:blip r:embed="rId2"/>
                <a:stretch/>
              </p:blipFill>
              <p:spPr>
                <a:xfrm rot="1318800">
                  <a:off x="5605560" y="292716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图片 47" descr=""/>
                <p:cNvPicPr/>
                <p:nvPr/>
              </p:nvPicPr>
              <p:blipFill>
                <a:blip r:embed="rId3"/>
                <a:stretch/>
              </p:blipFill>
              <p:spPr>
                <a:xfrm rot="1318800">
                  <a:off x="5605560" y="426996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" name="组合 48"/>
                <p:cNvGrpSpPr/>
                <p:nvPr/>
              </p:nvGrpSpPr>
              <p:grpSpPr>
                <a:xfrm>
                  <a:off x="4134960" y="1412640"/>
                  <a:ext cx="1801080" cy="4454280"/>
                  <a:chOff x="4134960" y="1412640"/>
                  <a:chExt cx="1801080" cy="4454280"/>
                </a:xfrm>
              </p:grpSpPr>
              <p:pic>
                <p:nvPicPr>
                  <p:cNvPr id="156" name="图片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rot="1318800">
                    <a:off x="4335120" y="1625760"/>
                    <a:ext cx="1400400" cy="13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7" name="图片 5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rot="1318800">
                    <a:off x="4335120" y="2968200"/>
                    <a:ext cx="1400400" cy="13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图片 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318800">
                    <a:off x="4335120" y="4311000"/>
                    <a:ext cx="1400400" cy="13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59" name="组合 52"/>
              <p:cNvGrpSpPr/>
              <p:nvPr/>
            </p:nvGrpSpPr>
            <p:grpSpPr>
              <a:xfrm>
                <a:off x="1487520" y="1371240"/>
                <a:ext cx="3071520" cy="4495680"/>
                <a:chOff x="1487520" y="1371240"/>
                <a:chExt cx="3071520" cy="4495680"/>
              </a:xfrm>
            </p:grpSpPr>
            <p:pic>
              <p:nvPicPr>
                <p:cNvPr id="160" name="图片 53" descr=""/>
                <p:cNvPicPr/>
                <p:nvPr/>
              </p:nvPicPr>
              <p:blipFill>
                <a:blip r:embed="rId7"/>
                <a:stretch/>
              </p:blipFill>
              <p:spPr>
                <a:xfrm rot="1318800">
                  <a:off x="2958120" y="158436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1" name="图片 54" descr=""/>
                <p:cNvPicPr/>
                <p:nvPr/>
              </p:nvPicPr>
              <p:blipFill>
                <a:blip r:embed="rId8"/>
                <a:stretch/>
              </p:blipFill>
              <p:spPr>
                <a:xfrm rot="1318800">
                  <a:off x="2958120" y="292716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2" name="图片 55" descr=""/>
                <p:cNvPicPr/>
                <p:nvPr/>
              </p:nvPicPr>
              <p:blipFill>
                <a:blip r:embed="rId9"/>
                <a:stretch/>
              </p:blipFill>
              <p:spPr>
                <a:xfrm rot="1318800">
                  <a:off x="2958120" y="426996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3" name="组合 56"/>
                <p:cNvGrpSpPr/>
                <p:nvPr/>
              </p:nvGrpSpPr>
              <p:grpSpPr>
                <a:xfrm>
                  <a:off x="1487520" y="1412640"/>
                  <a:ext cx="1801080" cy="4454280"/>
                  <a:chOff x="1487520" y="1412640"/>
                  <a:chExt cx="1801080" cy="4454280"/>
                </a:xfrm>
              </p:grpSpPr>
              <p:pic>
                <p:nvPicPr>
                  <p:cNvPr id="164" name="图片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318800">
                    <a:off x="1687680" y="1625760"/>
                    <a:ext cx="1400400" cy="13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" name="图片 5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 rot="1318800">
                    <a:off x="1687680" y="2968200"/>
                    <a:ext cx="1400400" cy="13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图片 5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 rot="1318800">
                    <a:off x="1687680" y="4311000"/>
                    <a:ext cx="1400400" cy="13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67" name="组合 60"/>
              <p:cNvGrpSpPr/>
              <p:nvPr/>
            </p:nvGrpSpPr>
            <p:grpSpPr>
              <a:xfrm>
                <a:off x="-1019880" y="1371240"/>
                <a:ext cx="3071520" cy="4495680"/>
                <a:chOff x="-1019880" y="1371240"/>
                <a:chExt cx="3071520" cy="4495680"/>
              </a:xfrm>
            </p:grpSpPr>
            <p:pic>
              <p:nvPicPr>
                <p:cNvPr id="168" name="图片 61" descr=""/>
                <p:cNvPicPr/>
                <p:nvPr/>
              </p:nvPicPr>
              <p:blipFill>
                <a:blip r:embed="rId13"/>
                <a:stretch/>
              </p:blipFill>
              <p:spPr>
                <a:xfrm rot="1318800">
                  <a:off x="450720" y="158436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图片 62" descr=""/>
                <p:cNvPicPr/>
                <p:nvPr/>
              </p:nvPicPr>
              <p:blipFill>
                <a:blip r:embed="rId14"/>
                <a:stretch/>
              </p:blipFill>
              <p:spPr>
                <a:xfrm rot="1318800">
                  <a:off x="450720" y="292716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图片 63" descr=""/>
                <p:cNvPicPr/>
                <p:nvPr/>
              </p:nvPicPr>
              <p:blipFill>
                <a:blip r:embed="rId15"/>
                <a:stretch/>
              </p:blipFill>
              <p:spPr>
                <a:xfrm rot="1318800">
                  <a:off x="450720" y="426996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71" name="组合 64"/>
                <p:cNvGrpSpPr/>
                <p:nvPr/>
              </p:nvGrpSpPr>
              <p:grpSpPr>
                <a:xfrm>
                  <a:off x="-1019880" y="1412640"/>
                  <a:ext cx="1801080" cy="4454280"/>
                  <a:chOff x="-1019880" y="1412640"/>
                  <a:chExt cx="1801080" cy="4454280"/>
                </a:xfrm>
              </p:grpSpPr>
              <p:pic>
                <p:nvPicPr>
                  <p:cNvPr id="172" name="图片 6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 rot="1318800">
                    <a:off x="-819360" y="1625760"/>
                    <a:ext cx="1400400" cy="13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3" name="图片 66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 rot="1318800">
                    <a:off x="-819360" y="2968200"/>
                    <a:ext cx="1400400" cy="13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4" name="图片 6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 rot="1318800">
                    <a:off x="-819360" y="4311000"/>
                    <a:ext cx="1400400" cy="134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grpSp>
          <p:nvGrpSpPr>
            <p:cNvPr id="175" name="组合 35"/>
            <p:cNvGrpSpPr/>
            <p:nvPr/>
          </p:nvGrpSpPr>
          <p:grpSpPr>
            <a:xfrm>
              <a:off x="9320040" y="1371240"/>
              <a:ext cx="3071880" cy="4495680"/>
              <a:chOff x="9320040" y="1371240"/>
              <a:chExt cx="3071880" cy="4495680"/>
            </a:xfrm>
          </p:grpSpPr>
          <p:pic>
            <p:nvPicPr>
              <p:cNvPr id="176" name="图片 15" descr=""/>
              <p:cNvPicPr/>
              <p:nvPr/>
            </p:nvPicPr>
            <p:blipFill>
              <a:blip r:embed="rId19"/>
              <a:stretch/>
            </p:blipFill>
            <p:spPr>
              <a:xfrm rot="1318800">
                <a:off x="10791000" y="1584360"/>
                <a:ext cx="1400400" cy="134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图片 14" descr=""/>
              <p:cNvPicPr/>
              <p:nvPr/>
            </p:nvPicPr>
            <p:blipFill>
              <a:blip r:embed="rId20"/>
              <a:stretch/>
            </p:blipFill>
            <p:spPr>
              <a:xfrm rot="1318800">
                <a:off x="10791000" y="2927160"/>
                <a:ext cx="1400400" cy="134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图片 13" descr=""/>
              <p:cNvPicPr/>
              <p:nvPr/>
            </p:nvPicPr>
            <p:blipFill>
              <a:blip r:embed="rId21"/>
              <a:stretch/>
            </p:blipFill>
            <p:spPr>
              <a:xfrm rot="1318800">
                <a:off x="10791000" y="4269960"/>
                <a:ext cx="1400400" cy="1342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9" name="组合 34"/>
              <p:cNvGrpSpPr/>
              <p:nvPr/>
            </p:nvGrpSpPr>
            <p:grpSpPr>
              <a:xfrm>
                <a:off x="9320040" y="1412640"/>
                <a:ext cx="1801080" cy="4454280"/>
                <a:chOff x="9320040" y="1412640"/>
                <a:chExt cx="1801080" cy="4454280"/>
              </a:xfrm>
            </p:grpSpPr>
            <p:pic>
              <p:nvPicPr>
                <p:cNvPr id="180" name="图片 31" descr=""/>
                <p:cNvPicPr/>
                <p:nvPr/>
              </p:nvPicPr>
              <p:blipFill>
                <a:blip r:embed="rId22"/>
                <a:stretch/>
              </p:blipFill>
              <p:spPr>
                <a:xfrm rot="1318800">
                  <a:off x="9520200" y="162576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图片 32" descr=""/>
                <p:cNvPicPr/>
                <p:nvPr/>
              </p:nvPicPr>
              <p:blipFill>
                <a:blip r:embed="rId23"/>
                <a:stretch/>
              </p:blipFill>
              <p:spPr>
                <a:xfrm rot="1318800">
                  <a:off x="9520200" y="296820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图片 33" descr=""/>
                <p:cNvPicPr/>
                <p:nvPr/>
              </p:nvPicPr>
              <p:blipFill>
                <a:blip r:embed="rId24"/>
                <a:stretch/>
              </p:blipFill>
              <p:spPr>
                <a:xfrm rot="1318800">
                  <a:off x="9520200" y="431100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83" name="组合 36"/>
            <p:cNvGrpSpPr/>
            <p:nvPr/>
          </p:nvGrpSpPr>
          <p:grpSpPr>
            <a:xfrm>
              <a:off x="6687720" y="1399680"/>
              <a:ext cx="3071880" cy="4495680"/>
              <a:chOff x="6687720" y="1399680"/>
              <a:chExt cx="3071880" cy="4495680"/>
            </a:xfrm>
          </p:grpSpPr>
          <p:pic>
            <p:nvPicPr>
              <p:cNvPr id="184" name="图片 37" descr=""/>
              <p:cNvPicPr/>
              <p:nvPr/>
            </p:nvPicPr>
            <p:blipFill>
              <a:blip r:embed="rId25"/>
              <a:stretch/>
            </p:blipFill>
            <p:spPr>
              <a:xfrm rot="1318800">
                <a:off x="8158680" y="1612800"/>
                <a:ext cx="1400400" cy="134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图片 38" descr=""/>
              <p:cNvPicPr/>
              <p:nvPr/>
            </p:nvPicPr>
            <p:blipFill>
              <a:blip r:embed="rId26"/>
              <a:stretch/>
            </p:blipFill>
            <p:spPr>
              <a:xfrm rot="1318800">
                <a:off x="8158680" y="2955600"/>
                <a:ext cx="1400400" cy="134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图片 39" descr=""/>
              <p:cNvPicPr/>
              <p:nvPr/>
            </p:nvPicPr>
            <p:blipFill>
              <a:blip r:embed="rId27"/>
              <a:stretch/>
            </p:blipFill>
            <p:spPr>
              <a:xfrm rot="1318800">
                <a:off x="8158680" y="4298040"/>
                <a:ext cx="1400400" cy="1342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7" name="组合 40"/>
              <p:cNvGrpSpPr/>
              <p:nvPr/>
            </p:nvGrpSpPr>
            <p:grpSpPr>
              <a:xfrm>
                <a:off x="6687720" y="1440720"/>
                <a:ext cx="1801080" cy="4454640"/>
                <a:chOff x="6687720" y="1440720"/>
                <a:chExt cx="1801080" cy="4454640"/>
              </a:xfrm>
            </p:grpSpPr>
            <p:pic>
              <p:nvPicPr>
                <p:cNvPr id="188" name="图片 41" descr=""/>
                <p:cNvPicPr/>
                <p:nvPr/>
              </p:nvPicPr>
              <p:blipFill>
                <a:blip r:embed="rId28"/>
                <a:stretch/>
              </p:blipFill>
              <p:spPr>
                <a:xfrm rot="1318800">
                  <a:off x="6887880" y="165384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图片 42" descr=""/>
                <p:cNvPicPr/>
                <p:nvPr/>
              </p:nvPicPr>
              <p:blipFill>
                <a:blip r:embed="rId29"/>
                <a:stretch/>
              </p:blipFill>
              <p:spPr>
                <a:xfrm rot="1318800">
                  <a:off x="6887880" y="299664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图片 43" descr=""/>
                <p:cNvPicPr/>
                <p:nvPr/>
              </p:nvPicPr>
              <p:blipFill>
                <a:blip r:embed="rId30"/>
                <a:stretch/>
              </p:blipFill>
              <p:spPr>
                <a:xfrm rot="1318800">
                  <a:off x="6887880" y="4339440"/>
                  <a:ext cx="1400400" cy="1342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91" name="组合 9"/>
          <p:cNvGrpSpPr/>
          <p:nvPr/>
        </p:nvGrpSpPr>
        <p:grpSpPr>
          <a:xfrm>
            <a:off x="2218680" y="1344240"/>
            <a:ext cx="7462440" cy="4463640"/>
            <a:chOff x="2218680" y="1344240"/>
            <a:chExt cx="7462440" cy="4463640"/>
          </a:xfrm>
        </p:grpSpPr>
        <p:sp>
          <p:nvSpPr>
            <p:cNvPr id="192" name="矩形 7"/>
            <p:cNvSpPr/>
            <p:nvPr/>
          </p:nvSpPr>
          <p:spPr>
            <a:xfrm>
              <a:off x="2218680" y="2992320"/>
              <a:ext cx="1446120" cy="26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6600" spc="-1" strike="noStrike">
                  <a:solidFill>
                    <a:srgbClr val="0089f0"/>
                  </a:solidFill>
                  <a:latin typeface="方正粗宋简体"/>
                  <a:ea typeface="方正粗宋简体"/>
                </a:rPr>
                <a:t>忙</a:t>
              </a:r>
              <a:endParaRPr b="0" lang="en-US" sz="1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8"/>
            <p:cNvSpPr/>
            <p:nvPr/>
          </p:nvSpPr>
          <p:spPr>
            <a:xfrm>
              <a:off x="4398480" y="2001240"/>
              <a:ext cx="2002320" cy="37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3900" spc="-1" strike="noStrike">
                  <a:solidFill>
                    <a:srgbClr val="0089f0"/>
                  </a:solidFill>
                  <a:latin typeface="方正粗宋简体"/>
                  <a:ea typeface="方正粗宋简体"/>
                </a:rPr>
                <a:t>忙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矩形 4"/>
            <p:cNvSpPr/>
            <p:nvPr/>
          </p:nvSpPr>
          <p:spPr>
            <a:xfrm>
              <a:off x="7313040" y="1344240"/>
              <a:ext cx="2368080" cy="44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700" spc="-1" strike="noStrike">
                  <a:solidFill>
                    <a:srgbClr val="0089f0"/>
                  </a:solidFill>
                  <a:latin typeface="方正粗宋简体"/>
                  <a:ea typeface="方正粗宋简体"/>
                </a:rPr>
                <a:t>忙</a:t>
              </a:r>
              <a:endParaRPr b="0" lang="en-US" sz="28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图片 10" descr=""/>
          <p:cNvPicPr/>
          <p:nvPr/>
        </p:nvPicPr>
        <p:blipFill>
          <a:blip r:embed="rId31"/>
          <a:stretch/>
        </p:blipFill>
        <p:spPr>
          <a:xfrm>
            <a:off x="1694520" y="60480"/>
            <a:ext cx="1400400" cy="134244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11"/>
          <p:cNvSpPr/>
          <p:nvPr/>
        </p:nvSpPr>
        <p:spPr>
          <a:xfrm>
            <a:off x="3228120" y="550800"/>
            <a:ext cx="85651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做好领导真的好累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任意多边形 12"/>
          <p:cNvSpPr/>
          <p:nvPr/>
        </p:nvSpPr>
        <p:spPr>
          <a:xfrm rot="18172200">
            <a:off x="5776560" y="5105520"/>
            <a:ext cx="3247560" cy="1577160"/>
          </a:xfrm>
          <a:custGeom>
            <a:avLst/>
            <a:gdLst>
              <a:gd name="textAreaLeft" fmla="*/ 0 w 3247560"/>
              <a:gd name="textAreaRight" fmla="*/ 3247920 w 3247560"/>
              <a:gd name="textAreaTop" fmla="*/ 0 h 1577160"/>
              <a:gd name="textAreaBottom" fmla="*/ 1577520 h 1577160"/>
            </a:gdLst>
            <a:ahLst/>
            <a:rect l="textAreaLeft" t="textAreaTop" r="textAreaRight" b="textAreaBottom"/>
            <a:pathLst>
              <a:path w="2060812" h="1064525">
                <a:moveTo>
                  <a:pt x="2006221" y="1064525"/>
                </a:moveTo>
                <a:cubicBezTo>
                  <a:pt x="2020639" y="1028480"/>
                  <a:pt x="2036468" y="992779"/>
                  <a:pt x="2047164" y="955343"/>
                </a:cubicBezTo>
                <a:cubicBezTo>
                  <a:pt x="2052317" y="937308"/>
                  <a:pt x="2056263" y="918949"/>
                  <a:pt x="2060812" y="900752"/>
                </a:cubicBezTo>
                <a:cubicBezTo>
                  <a:pt x="2056263" y="814316"/>
                  <a:pt x="2057477" y="727383"/>
                  <a:pt x="2047164" y="641444"/>
                </a:cubicBezTo>
                <a:cubicBezTo>
                  <a:pt x="2043736" y="612877"/>
                  <a:pt x="2043809" y="575518"/>
                  <a:pt x="2019869" y="559558"/>
                </a:cubicBezTo>
                <a:cubicBezTo>
                  <a:pt x="2006221" y="550459"/>
                  <a:pt x="1991526" y="542763"/>
                  <a:pt x="1978925" y="532262"/>
                </a:cubicBezTo>
                <a:cubicBezTo>
                  <a:pt x="1933650" y="494533"/>
                  <a:pt x="1947866" y="489437"/>
                  <a:pt x="1897039" y="464024"/>
                </a:cubicBezTo>
                <a:cubicBezTo>
                  <a:pt x="1864045" y="447527"/>
                  <a:pt x="1836486" y="449846"/>
                  <a:pt x="1801504" y="436728"/>
                </a:cubicBezTo>
                <a:cubicBezTo>
                  <a:pt x="1782455" y="429585"/>
                  <a:pt x="1766214" y="415867"/>
                  <a:pt x="1746913" y="409433"/>
                </a:cubicBezTo>
                <a:cubicBezTo>
                  <a:pt x="1685553" y="388980"/>
                  <a:pt x="1619657" y="378306"/>
                  <a:pt x="1555845" y="368489"/>
                </a:cubicBezTo>
                <a:cubicBezTo>
                  <a:pt x="1454579" y="352909"/>
                  <a:pt x="1447397" y="353406"/>
                  <a:pt x="1337481" y="341194"/>
                </a:cubicBezTo>
                <a:cubicBezTo>
                  <a:pt x="1246496" y="345743"/>
                  <a:pt x="1155282" y="346949"/>
                  <a:pt x="1064525" y="354841"/>
                </a:cubicBezTo>
                <a:cubicBezTo>
                  <a:pt x="1037757" y="357169"/>
                  <a:pt x="989107" y="387164"/>
                  <a:pt x="968991" y="395785"/>
                </a:cubicBezTo>
                <a:cubicBezTo>
                  <a:pt x="955768" y="401452"/>
                  <a:pt x="941696" y="404884"/>
                  <a:pt x="928048" y="409433"/>
                </a:cubicBezTo>
                <a:cubicBezTo>
                  <a:pt x="860590" y="510620"/>
                  <a:pt x="867024" y="459151"/>
                  <a:pt x="887104" y="559558"/>
                </a:cubicBezTo>
                <a:cubicBezTo>
                  <a:pt x="932597" y="555009"/>
                  <a:pt x="978394" y="552862"/>
                  <a:pt x="1023582" y="545910"/>
                </a:cubicBezTo>
                <a:cubicBezTo>
                  <a:pt x="1073129" y="538287"/>
                  <a:pt x="1060488" y="527457"/>
                  <a:pt x="1105469" y="504967"/>
                </a:cubicBezTo>
                <a:cubicBezTo>
                  <a:pt x="1118336" y="498533"/>
                  <a:pt x="1133545" y="497753"/>
                  <a:pt x="1146412" y="491319"/>
                </a:cubicBezTo>
                <a:cubicBezTo>
                  <a:pt x="1161083" y="483984"/>
                  <a:pt x="1172684" y="471359"/>
                  <a:pt x="1187355" y="464024"/>
                </a:cubicBezTo>
                <a:cubicBezTo>
                  <a:pt x="1300360" y="407521"/>
                  <a:pt x="1151905" y="501304"/>
                  <a:pt x="1269242" y="423080"/>
                </a:cubicBezTo>
                <a:cubicBezTo>
                  <a:pt x="1278340" y="409432"/>
                  <a:pt x="1295279" y="398491"/>
                  <a:pt x="1296537" y="382137"/>
                </a:cubicBezTo>
                <a:cubicBezTo>
                  <a:pt x="1300043" y="336552"/>
                  <a:pt x="1296334" y="289357"/>
                  <a:pt x="1282889" y="245659"/>
                </a:cubicBezTo>
                <a:cubicBezTo>
                  <a:pt x="1277300" y="227496"/>
                  <a:pt x="1196766" y="170495"/>
                  <a:pt x="1187355" y="163773"/>
                </a:cubicBezTo>
                <a:cubicBezTo>
                  <a:pt x="1112250" y="110126"/>
                  <a:pt x="1169069" y="153129"/>
                  <a:pt x="1037230" y="109182"/>
                </a:cubicBezTo>
                <a:lnTo>
                  <a:pt x="955343" y="81886"/>
                </a:lnTo>
                <a:cubicBezTo>
                  <a:pt x="907141" y="65818"/>
                  <a:pt x="854481" y="47101"/>
                  <a:pt x="805218" y="40943"/>
                </a:cubicBezTo>
                <a:lnTo>
                  <a:pt x="696036" y="27295"/>
                </a:lnTo>
                <a:cubicBezTo>
                  <a:pt x="668642" y="23382"/>
                  <a:pt x="641684" y="16400"/>
                  <a:pt x="614149" y="13647"/>
                </a:cubicBezTo>
                <a:cubicBezTo>
                  <a:pt x="550614" y="7294"/>
                  <a:pt x="486770" y="4549"/>
                  <a:pt x="423081" y="0"/>
                </a:cubicBezTo>
                <a:cubicBezTo>
                  <a:pt x="295702" y="4549"/>
                  <a:pt x="168139" y="5441"/>
                  <a:pt x="40943" y="13647"/>
                </a:cubicBezTo>
                <a:cubicBezTo>
                  <a:pt x="26587" y="14573"/>
                  <a:pt x="0" y="27295"/>
                  <a:pt x="0" y="27295"/>
                </a:cubicBezTo>
              </a:path>
            </a:pathLst>
          </a:custGeom>
          <a:noFill/>
          <a:ln w="38100">
            <a:solidFill>
              <a:srgbClr val="0089f0"/>
            </a:solidFill>
            <a:prstDash val="sysDash"/>
            <a:tailEnd len="med" type="arrow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3"/>
          <p:cNvSpPr/>
          <p:nvPr/>
        </p:nvSpPr>
        <p:spPr>
          <a:xfrm>
            <a:off x="2048400" y="2397960"/>
            <a:ext cx="85651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8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更令你生气的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你忙的不可开交，下属却无所事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"/>
          <p:cNvSpPr/>
          <p:nvPr/>
        </p:nvSpPr>
        <p:spPr>
          <a:xfrm>
            <a:off x="0" y="2463480"/>
            <a:ext cx="1814760" cy="1996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200" name="矩形 5"/>
          <p:cNvSpPr/>
          <p:nvPr/>
        </p:nvSpPr>
        <p:spPr>
          <a:xfrm>
            <a:off x="10401840" y="2463480"/>
            <a:ext cx="1789920" cy="199620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3"/>
          <p:cNvSpPr/>
          <p:nvPr/>
        </p:nvSpPr>
        <p:spPr>
          <a:xfrm>
            <a:off x="6575040" y="2930400"/>
            <a:ext cx="429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与其相互抱怨，不如找找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直接连接符 4"/>
          <p:cNvCxnSpPr/>
          <p:nvPr/>
        </p:nvCxnSpPr>
        <p:spPr>
          <a:xfrm>
            <a:off x="-1581840" y="3511080"/>
            <a:ext cx="4572000" cy="360"/>
          </a:xfrm>
          <a:prstGeom prst="straightConnector1">
            <a:avLst/>
          </a:prstGeom>
          <a:ln w="28575">
            <a:solidFill>
              <a:srgbClr val="ffffff">
                <a:lumMod val="65000"/>
              </a:srgbClr>
            </a:solidFill>
          </a:ln>
        </p:spPr>
      </p:cxnSp>
      <p:cxnSp>
        <p:nvCxnSpPr>
          <p:cNvPr id="203" name="直接连接符 5"/>
          <p:cNvCxnSpPr/>
          <p:nvPr/>
        </p:nvCxnSpPr>
        <p:spPr>
          <a:xfrm flipV="1">
            <a:off x="3049560" y="2890800"/>
            <a:ext cx="360" cy="612360"/>
          </a:xfrm>
          <a:prstGeom prst="straightConnector1">
            <a:avLst/>
          </a:prstGeom>
          <a:ln w="38100">
            <a:solidFill>
              <a:srgbClr val="ffffff">
                <a:lumMod val="65000"/>
              </a:srgbClr>
            </a:solidFill>
          </a:ln>
        </p:spPr>
      </p:cxnSp>
      <p:cxnSp>
        <p:nvCxnSpPr>
          <p:cNvPr id="204" name="直接连接符 6"/>
          <p:cNvCxnSpPr/>
          <p:nvPr/>
        </p:nvCxnSpPr>
        <p:spPr>
          <a:xfrm flipV="1">
            <a:off x="3134160" y="3068280"/>
            <a:ext cx="360" cy="432360"/>
          </a:xfrm>
          <a:prstGeom prst="straightConnector1">
            <a:avLst/>
          </a:prstGeom>
          <a:ln w="38100">
            <a:solidFill>
              <a:srgbClr val="0089f0"/>
            </a:solidFill>
          </a:ln>
        </p:spPr>
      </p:cxn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椭圆 11"/>
          <p:cNvSpPr/>
          <p:nvPr/>
        </p:nvSpPr>
        <p:spPr>
          <a:xfrm>
            <a:off x="605880" y="3187080"/>
            <a:ext cx="2357640" cy="2396160"/>
          </a:xfrm>
          <a:prstGeom prst="ellips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206" name="椭圆 12"/>
          <p:cNvSpPr/>
          <p:nvPr/>
        </p:nvSpPr>
        <p:spPr>
          <a:xfrm>
            <a:off x="3485160" y="3187080"/>
            <a:ext cx="2357640" cy="2396160"/>
          </a:xfrm>
          <a:prstGeom prst="ellips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207" name="椭圆 13"/>
          <p:cNvSpPr/>
          <p:nvPr/>
        </p:nvSpPr>
        <p:spPr>
          <a:xfrm>
            <a:off x="6364800" y="3187080"/>
            <a:ext cx="2357640" cy="2396160"/>
          </a:xfrm>
          <a:prstGeom prst="ellips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208" name="椭圆 14"/>
          <p:cNvSpPr/>
          <p:nvPr/>
        </p:nvSpPr>
        <p:spPr>
          <a:xfrm>
            <a:off x="9244080" y="3187080"/>
            <a:ext cx="2357640" cy="2396160"/>
          </a:xfrm>
          <a:prstGeom prst="ellipse">
            <a:avLst/>
          </a:prstGeom>
          <a:solidFill>
            <a:srgbClr val="0089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209" name="椭圆 7"/>
          <p:cNvSpPr/>
          <p:nvPr/>
        </p:nvSpPr>
        <p:spPr>
          <a:xfrm>
            <a:off x="494280" y="3150360"/>
            <a:ext cx="2357640" cy="239616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210" name="椭圆 8"/>
          <p:cNvSpPr/>
          <p:nvPr/>
        </p:nvSpPr>
        <p:spPr>
          <a:xfrm>
            <a:off x="3373920" y="3150360"/>
            <a:ext cx="2357640" cy="239616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211" name="椭圆 9"/>
          <p:cNvSpPr/>
          <p:nvPr/>
        </p:nvSpPr>
        <p:spPr>
          <a:xfrm>
            <a:off x="6253200" y="3150360"/>
            <a:ext cx="2357640" cy="239616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212" name="椭圆 10"/>
          <p:cNvSpPr/>
          <p:nvPr/>
        </p:nvSpPr>
        <p:spPr>
          <a:xfrm>
            <a:off x="9132840" y="3150360"/>
            <a:ext cx="2357640" cy="2396160"/>
          </a:xfrm>
          <a:prstGeom prst="ellipse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213" name="矩形 15"/>
          <p:cNvSpPr/>
          <p:nvPr/>
        </p:nvSpPr>
        <p:spPr>
          <a:xfrm>
            <a:off x="1075680" y="418644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89f0"/>
                </a:solidFill>
                <a:latin typeface="华文细黑"/>
                <a:ea typeface="华文细黑"/>
              </a:rPr>
              <a:t>请教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6"/>
          <p:cNvSpPr/>
          <p:nvPr/>
        </p:nvSpPr>
        <p:spPr>
          <a:xfrm>
            <a:off x="4013640" y="418644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89f0"/>
                </a:solidFill>
                <a:latin typeface="华文细黑"/>
                <a:ea typeface="华文细黑"/>
              </a:rPr>
              <a:t>进度跟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7"/>
          <p:cNvSpPr/>
          <p:nvPr/>
        </p:nvSpPr>
        <p:spPr>
          <a:xfrm>
            <a:off x="6965280" y="418644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89f0"/>
                </a:solidFill>
                <a:latin typeface="华文细黑"/>
                <a:ea typeface="华文细黑"/>
              </a:rPr>
              <a:t>寻求支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8"/>
          <p:cNvSpPr/>
          <p:nvPr/>
        </p:nvSpPr>
        <p:spPr>
          <a:xfrm>
            <a:off x="9794520" y="416304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89f0"/>
                </a:solidFill>
                <a:latin typeface="华文细黑"/>
                <a:ea typeface="华文细黑"/>
              </a:rPr>
              <a:t>分配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20"/>
          <p:cNvSpPr/>
          <p:nvPr/>
        </p:nvSpPr>
        <p:spPr>
          <a:xfrm>
            <a:off x="1406880" y="3565800"/>
            <a:ext cx="5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1"/>
          <p:cNvSpPr/>
          <p:nvPr/>
        </p:nvSpPr>
        <p:spPr>
          <a:xfrm>
            <a:off x="4262400" y="3565800"/>
            <a:ext cx="876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22"/>
          <p:cNvSpPr/>
          <p:nvPr/>
        </p:nvSpPr>
        <p:spPr>
          <a:xfrm>
            <a:off x="7167600" y="3565800"/>
            <a:ext cx="5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3"/>
          <p:cNvSpPr/>
          <p:nvPr/>
        </p:nvSpPr>
        <p:spPr>
          <a:xfrm>
            <a:off x="10150200" y="3556080"/>
            <a:ext cx="528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89f0"/>
                </a:solidFill>
                <a:latin typeface="方正粗宋简体"/>
                <a:ea typeface="方正粗宋简体"/>
              </a:rPr>
              <a:t>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4"/>
          <p:cNvSpPr/>
          <p:nvPr/>
        </p:nvSpPr>
        <p:spPr>
          <a:xfrm>
            <a:off x="4066920" y="0"/>
            <a:ext cx="3998520" cy="1705680"/>
          </a:xfrm>
          <a:prstGeom prst="rect">
            <a:avLst/>
          </a:prstGeom>
          <a:solidFill>
            <a:schemeClr val="bg1">
              <a:lumMod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89f0"/>
              </a:solidFill>
              <a:latin typeface="Calibri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3637800" y="1042200"/>
            <a:ext cx="45914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“</a:t>
            </a:r>
            <a:r>
              <a:rPr b="0" lang="zh-CN" sz="3600" spc="-1" strike="noStrike">
                <a:solidFill>
                  <a:srgbClr val="808080"/>
                </a:solidFill>
                <a:latin typeface="方正粗宋简体"/>
                <a:ea typeface="方正粗宋简体"/>
              </a:rPr>
              <a:t>猴子” 最易出现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8000" spc="-1" strike="noStrike">
                <a:solidFill>
                  <a:srgbClr val="0073e8"/>
                </a:solidFill>
                <a:latin typeface="方正粗宋简体"/>
                <a:ea typeface="方正粗宋简体"/>
              </a:rPr>
              <a:t>四大场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02960" y="65232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  <Words>529</Words>
  <Paragraphs>9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2:07:18Z</dcterms:created>
  <dc:creator>xiaoba ba</dc:creator>
  <dc:description/>
  <dc:language>en-US</dc:language>
  <cp:lastModifiedBy>王玉清</cp:lastModifiedBy>
  <dcterms:modified xsi:type="dcterms:W3CDTF">2016-02-23T02:37:13Z</dcterms:modified>
  <cp:revision>4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6</vt:r8>
  </property>
</Properties>
</file>