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56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895120"/>
            <a:ext cx="7315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925160"/>
            <a:ext cx="7315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56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89512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89512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92516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92516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56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895120"/>
            <a:ext cx="235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895120"/>
            <a:ext cx="235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895120"/>
            <a:ext cx="235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925160"/>
            <a:ext cx="235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925160"/>
            <a:ext cx="235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925160"/>
            <a:ext cx="235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956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956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89512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956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895120"/>
            <a:ext cx="3569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895120"/>
            <a:ext cx="3569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56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9807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956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89512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895120"/>
            <a:ext cx="3569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92516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956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956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895120"/>
            <a:ext cx="3569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89512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92516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56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89512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89512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925160"/>
            <a:ext cx="7315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56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895120"/>
            <a:ext cx="7315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925160"/>
            <a:ext cx="7315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56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89512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89512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92516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92516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56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895120"/>
            <a:ext cx="235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895120"/>
            <a:ext cx="235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895120"/>
            <a:ext cx="235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925160"/>
            <a:ext cx="235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925160"/>
            <a:ext cx="235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925160"/>
            <a:ext cx="235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956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89512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956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895120"/>
            <a:ext cx="3569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895120"/>
            <a:ext cx="3569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956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9807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956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89512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895120"/>
            <a:ext cx="3569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92516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956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895120"/>
            <a:ext cx="3569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89512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92516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56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89512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89512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925160"/>
            <a:ext cx="7315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9807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89512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98400" indent="-26856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74240" indent="-2145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504080" indent="-21456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33920" indent="-21456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33920" indent="-21456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33920" indent="-21456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807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89512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98400" indent="-26856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74240" indent="-2145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504080" indent="-21456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33920" indent="-21456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33920" indent="-21456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33920" indent="-21456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2280" y="6477120"/>
            <a:ext cx="460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69520" y="533520"/>
            <a:ext cx="188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宋体"/>
              </a:rPr>
              <a:t>望远镜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07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d4d4d"/>
              </a:solidFill>
              <a:latin typeface="黑体"/>
              <a:ea typeface="黑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289512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cd891c"/>
                </a:solidFill>
                <a:latin typeface="Microsoft Sans Serif"/>
                <a:ea typeface="宋体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0"/>
          <p:cNvSpPr/>
          <p:nvPr/>
        </p:nvSpPr>
        <p:spPr>
          <a:xfrm>
            <a:off x="2411280" y="4941720"/>
            <a:ext cx="4753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zh-CN" sz="2400" spc="-1" strike="noStrike" baseline="-25000">
                <a:solidFill>
                  <a:srgbClr val="c00000"/>
                </a:solidFill>
                <a:latin typeface="微软雅黑"/>
                <a:ea typeface="微软雅黑"/>
              </a:rPr>
              <a:t>亲，想把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 baseline="-25000">
                <a:solidFill>
                  <a:srgbClr val="c00000"/>
                </a:solidFill>
                <a:latin typeface="微软雅黑"/>
                <a:ea typeface="微软雅黑"/>
              </a:rPr>
              <a:t>设计得更出色吗？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直接连接符 11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2590920"/>
            <a:ext cx="496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edd02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http://www.eeppt.com/sucai/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d4d4d"/>
                </a:solidFill>
                <a:latin typeface="Microsoft Sans Serif"/>
              </a:rPr>
              <a:t>使用规范说明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edd0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edd0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特别说明：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edd02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edd02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edd02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edd02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edd02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edd02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edd02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edd02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edd02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edd02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edd02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edd02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edd02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edd02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edd02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edd02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edd02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edd02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edd02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edd02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edd02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edd02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edd02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05:06:4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06:28Z</dcterms:modified>
  <cp:revision>1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