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D8E-0A6B-4344-82F2-4ED6996B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04B-E1CE-4443-A726-47A42427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3D7-ECC4-4A05-849E-2A42FE25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F18-360C-47BE-88DD-7FB51030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657-4843-4B8E-8DD3-44D124AE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31E-F589-46C1-9C12-23D0F4E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9BF-A0BB-4699-A441-D52BA4A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CED-AEB0-462C-BAA6-907C4455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C74F-01EB-48E5-8E1C-A16A0DA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FBE-53B4-48AF-BA84-7D8B036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2F0-CDA3-4658-B610-1AC5AC5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4BF-E624-41C7-9272-8E2F153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C234-824D-4204-821C-C1C9441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16BA-833D-4FA9-97C9-02904B4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C04-414E-463C-826D-7141B1A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CFB-CB24-4997-BBD4-4F609115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038E-DB1F-4019-99D9-180F9984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FD2-D798-4866-9F15-C32BC066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934-9E51-4437-BCCD-72E7BBF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38C-4570-470C-B655-6378281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65E-42AE-434A-9099-EA125E43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D91-B7D2-4AD5-A3A9-E59D9B6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326-5F63-4A4D-890F-CEAC4C5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F3E-B909-416A-8434-F9FA1B6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ED39-A313-4102-A317-449B0CC43298}" type="slidenum"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7D95-021A-4043-9411-FD321E5293D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twist"/>
          <p:cNvPicPr/>
          <p:nvPr/>
        </p:nvPicPr>
        <p:blipFill>
          <a:blip r:embed="rId2"/>
          <a:stretch/>
        </p:blipFill>
        <p:spPr>
          <a:xfrm>
            <a:off x="1440" y="1854360"/>
            <a:ext cx="9142560" cy="3149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设计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star"/>
          <p:cNvPicPr/>
          <p:nvPr/>
        </p:nvPicPr>
        <p:blipFill>
          <a:blip r:embed="rId3"/>
          <a:stretch/>
        </p:blipFill>
        <p:spPr>
          <a:xfrm>
            <a:off x="2482920" y="20289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star"/>
          <p:cNvPicPr/>
          <p:nvPr/>
        </p:nvPicPr>
        <p:blipFill>
          <a:blip r:embed="rId4"/>
          <a:stretch/>
        </p:blipFill>
        <p:spPr>
          <a:xfrm rot="2940000">
            <a:off x="4611240" y="2349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733040" y="11113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紫金韵律质感简约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enu_b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08000" y="2997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特点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范围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别细分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范例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menu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771640" y="314964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ontents_bg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460520" y="69228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460520" y="1413000"/>
            <a:ext cx="6208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由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erox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施乐）首先发明，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以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tel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”方式操作的，因为你可以用鼠标来点击按钮来进行操作，很直观。而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不具备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所以他只能输入命令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这种界面叫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 (Command line User Interface )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令行模式的人机接口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aphical User Interface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简称，即图形用户界面，通常人机交互图形化用户界面设计经常读做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-ee”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来说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屏幕产品的视觉体验和互动操作部分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种结合计算机科学、美学、心理学、行为学，及各商业领域需求分析的人机系统工程，强调人—机—环境三者作为一个系统进行总体设计。这种面向客户的系统工程设计其目的是优化产品的性能，使操作更人性化，减轻使用者的认知负担，使其更适合用户的操作需求，直接提升产品的市场竞争力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0240" y="65199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twist"/>
          <p:cNvPicPr/>
          <p:nvPr/>
        </p:nvPicPr>
        <p:blipFill>
          <a:blip r:embed="rId2"/>
          <a:stretch/>
        </p:blipFill>
        <p:spPr>
          <a:xfrm>
            <a:off x="0" y="1854360"/>
            <a:ext cx="9144000" cy="31492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感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star"/>
          <p:cNvPicPr/>
          <p:nvPr/>
        </p:nvPicPr>
        <p:blipFill>
          <a:blip r:embed="rId3"/>
          <a:stretch/>
        </p:blipFill>
        <p:spPr>
          <a:xfrm>
            <a:off x="2627280" y="234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tar"/>
          <p:cNvPicPr/>
          <p:nvPr/>
        </p:nvPicPr>
        <p:blipFill>
          <a:blip r:embed="rId4"/>
          <a:stretch/>
        </p:blipFill>
        <p:spPr>
          <a:xfrm rot="2940000">
            <a:off x="5004000" y="20444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王玉清</cp:lastModifiedBy>
  <dcterms:modified xsi:type="dcterms:W3CDTF">2016-03-01T06:59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