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304-09E0-4D03-90DA-6A9EC9B1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505-A1C4-4F45-B750-432CBEB8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2EE-CC47-45F6-97F9-FAC56F97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CDE-39FA-4919-B584-436F7F20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4CF9-4611-4297-A28D-C4EE07C1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CEA6-A1F2-4462-B52F-96F7EA35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F10D-D01C-496A-BE2E-CDA881FC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B45A-362D-4982-9406-35BDC86F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63F0-85AE-47A4-90D7-4A525906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580C-CB6F-435A-B0E9-2A636B5C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FDB4-5832-4B24-BA28-CDBC2D98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334-B9E4-49F2-B33C-069956FF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C508-9133-4866-B7EB-9F3E7733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2973-E16D-486E-9762-D7703034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A758-9A5E-437E-90C3-785018A2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65E8-116D-4F69-B9DD-EEFA9C76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6B71-29B6-46CF-B249-EED137F0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985-92C4-480A-920B-602B7BEF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A41-82C3-48C1-B4E7-67E287B2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414-BD3C-44D8-8BC3-D15AE996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39A-1C60-40FD-9A3D-B701555C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BD7-1ECD-4FC3-B036-FB69D930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410-F8C4-4FC4-8E3A-8A08213C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2DE-FF57-444B-AE59-B8ACC118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129F01-5B7A-4DBC-9CA4-B43016AFFA8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F2D520-A708-47EA-B49D-B98B794FC3D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0720" y="1989000"/>
            <a:ext cx="87825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炫丽红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光盘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D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D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D</Template>
  <TotalTime>3</TotalTime>
  <Application>LibreOffice/7.4.7.2$Linux_X86_64 LibreOffice_project/40$Build-2</Application>
  <AppVersion>15.0000</AppVersion>
  <Words>17</Words>
  <Paragraphs>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11:20:59Z</dcterms:created>
  <dc:creator>haobaopc04</dc:creator>
  <dc:description/>
  <dc:language>en-US</dc:language>
  <cp:lastModifiedBy>王玉清</cp:lastModifiedBy>
  <dcterms:modified xsi:type="dcterms:W3CDTF">2016-02-29T07:51:14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