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0A7C15-2F6B-48C5-8A9B-C4497B296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7809BB-193E-44C3-AE65-78C8A479B00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6CEAF5-26FE-4D31-A78C-AC657651315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CCB-D82E-461D-9BE2-6791DA85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3EB-8279-474F-805E-B0DAFD11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660-10F8-4B02-ABE0-9B91A282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225-B8B9-4DD7-AC19-03E6F02C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D3B0-8316-4FB4-93A7-17BE0804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F036-16E9-4281-8B4D-3F165B49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77F1-2B75-4CFC-A879-5450C5A2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8118-D899-4936-9D0C-31B21043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9DD1-EB1D-4746-9C00-5FCAB51E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D2B1-0398-42C2-B6C6-C821799B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AC5D-FABC-434E-9F0B-C8EE3DE0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67B-B0D0-42D5-95AF-2A9908AD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774A-8585-48F9-B734-1D4845FC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71FA-4560-4F10-9B31-672CEDB1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566A-3E6D-415F-9AF3-E7CFF9BE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2643-A632-4753-B468-7022ECCD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BF43-7F8B-4CCC-A869-D3135923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AA5-D550-4489-8392-CAF3EF43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C66-3C33-4158-B574-05043351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678-2EB3-46E2-9597-11A85660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F77-0C11-4C84-A731-D1A1B858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4EE-32BD-4DC3-ACA0-C54BA9BF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8B4-B1AD-44CA-8B59-CEE8868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CC9-752E-4A2E-89E7-7ECEE77D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5EE420-3CFD-4C3B-BA64-479C316336E4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BAEA89-6EE0-4C35-975C-13DEC1488DCB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7"/>
          <p:cNvSpPr/>
          <p:nvPr/>
        </p:nvSpPr>
        <p:spPr>
          <a:xfrm>
            <a:off x="0" y="1196640"/>
            <a:ext cx="9143640" cy="56610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2f2f2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2565000"/>
            <a:ext cx="9144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炫丽圆点背景商务工作总结汇报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40000" y="3933000"/>
            <a:ext cx="41760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适用于公司内部总结汇报演示及相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4" descr=""/>
          <p:cNvPicPr/>
          <p:nvPr/>
        </p:nvPicPr>
        <p:blipFill>
          <a:blip r:embed="rId1"/>
          <a:stretch/>
        </p:blipFill>
        <p:spPr>
          <a:xfrm>
            <a:off x="611640" y="415080"/>
            <a:ext cx="1439640" cy="410760"/>
          </a:xfrm>
          <a:prstGeom prst="rect">
            <a:avLst/>
          </a:prstGeom>
          <a:ln w="0">
            <a:noFill/>
          </a:ln>
        </p:spPr>
      </p:pic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780000" y="2709000"/>
            <a:ext cx="51123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140000" y="3933000"/>
            <a:ext cx="41760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谢谢观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4" descr=""/>
          <p:cNvPicPr/>
          <p:nvPr/>
        </p:nvPicPr>
        <p:blipFill>
          <a:blip r:embed="rId1"/>
          <a:stretch/>
        </p:blipFill>
        <p:spPr>
          <a:xfrm>
            <a:off x="611640" y="41508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9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12"/>
          <p:cNvGrpSpPr/>
          <p:nvPr/>
        </p:nvGrpSpPr>
        <p:grpSpPr>
          <a:xfrm>
            <a:off x="2339640" y="2205000"/>
            <a:ext cx="4392000" cy="575640"/>
            <a:chOff x="2339640" y="2205000"/>
            <a:chExt cx="4392000" cy="575640"/>
          </a:xfrm>
        </p:grpSpPr>
        <p:sp>
          <p:nvSpPr>
            <p:cNvPr id="98" name="圆角矩形 3"/>
            <p:cNvSpPr/>
            <p:nvPr/>
          </p:nvSpPr>
          <p:spPr>
            <a:xfrm>
              <a:off x="2339640" y="2205000"/>
              <a:ext cx="439200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99" name="TextBox 10"/>
            <p:cNvSpPr/>
            <p:nvPr/>
          </p:nvSpPr>
          <p:spPr>
            <a:xfrm>
              <a:off x="2879640" y="2308320"/>
              <a:ext cx="64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1"/>
            <p:cNvSpPr/>
            <p:nvPr/>
          </p:nvSpPr>
          <p:spPr>
            <a:xfrm>
              <a:off x="3780000" y="2308320"/>
              <a:ext cx="252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3"/>
          <p:cNvGrpSpPr/>
          <p:nvPr/>
        </p:nvGrpSpPr>
        <p:grpSpPr>
          <a:xfrm>
            <a:off x="2339640" y="3116880"/>
            <a:ext cx="4392000" cy="575640"/>
            <a:chOff x="2339640" y="3116880"/>
            <a:chExt cx="4392000" cy="575640"/>
          </a:xfrm>
        </p:grpSpPr>
        <p:sp>
          <p:nvSpPr>
            <p:cNvPr id="102" name="圆角矩形 14"/>
            <p:cNvSpPr/>
            <p:nvPr/>
          </p:nvSpPr>
          <p:spPr>
            <a:xfrm>
              <a:off x="2339640" y="3116880"/>
              <a:ext cx="439200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3" name="TextBox 15"/>
            <p:cNvSpPr/>
            <p:nvPr/>
          </p:nvSpPr>
          <p:spPr>
            <a:xfrm>
              <a:off x="2879640" y="3220200"/>
              <a:ext cx="64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6"/>
            <p:cNvSpPr/>
            <p:nvPr/>
          </p:nvSpPr>
          <p:spPr>
            <a:xfrm>
              <a:off x="3780000" y="3220200"/>
              <a:ext cx="252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7"/>
          <p:cNvGrpSpPr/>
          <p:nvPr/>
        </p:nvGrpSpPr>
        <p:grpSpPr>
          <a:xfrm>
            <a:off x="2339640" y="4029120"/>
            <a:ext cx="4392000" cy="575640"/>
            <a:chOff x="2339640" y="4029120"/>
            <a:chExt cx="4392000" cy="575640"/>
          </a:xfrm>
        </p:grpSpPr>
        <p:sp>
          <p:nvSpPr>
            <p:cNvPr id="106" name="圆角矩形 18"/>
            <p:cNvSpPr/>
            <p:nvPr/>
          </p:nvSpPr>
          <p:spPr>
            <a:xfrm>
              <a:off x="2339640" y="4029120"/>
              <a:ext cx="439200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7" name="TextBox 19"/>
            <p:cNvSpPr/>
            <p:nvPr/>
          </p:nvSpPr>
          <p:spPr>
            <a:xfrm>
              <a:off x="2879640" y="4132440"/>
              <a:ext cx="64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0"/>
            <p:cNvSpPr/>
            <p:nvPr/>
          </p:nvSpPr>
          <p:spPr>
            <a:xfrm>
              <a:off x="3780000" y="4132440"/>
              <a:ext cx="252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21"/>
          <p:cNvGrpSpPr/>
          <p:nvPr/>
        </p:nvGrpSpPr>
        <p:grpSpPr>
          <a:xfrm>
            <a:off x="2339640" y="4941000"/>
            <a:ext cx="4392000" cy="575640"/>
            <a:chOff x="2339640" y="4941000"/>
            <a:chExt cx="4392000" cy="575640"/>
          </a:xfrm>
        </p:grpSpPr>
        <p:sp>
          <p:nvSpPr>
            <p:cNvPr id="110" name="圆角矩形 22"/>
            <p:cNvSpPr/>
            <p:nvPr/>
          </p:nvSpPr>
          <p:spPr>
            <a:xfrm>
              <a:off x="2339640" y="4941000"/>
              <a:ext cx="439200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1" name="TextBox 23"/>
            <p:cNvSpPr/>
            <p:nvPr/>
          </p:nvSpPr>
          <p:spPr>
            <a:xfrm>
              <a:off x="2879640" y="5044680"/>
              <a:ext cx="64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4"/>
            <p:cNvSpPr/>
            <p:nvPr/>
          </p:nvSpPr>
          <p:spPr>
            <a:xfrm>
              <a:off x="3780000" y="5044680"/>
              <a:ext cx="252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2339640" y="3285000"/>
            <a:ext cx="4392000" cy="575640"/>
            <a:chOff x="2339640" y="3285000"/>
            <a:chExt cx="4392000" cy="575640"/>
          </a:xfrm>
        </p:grpSpPr>
        <p:sp>
          <p:nvSpPr>
            <p:cNvPr id="115" name="圆角矩形 4"/>
            <p:cNvSpPr/>
            <p:nvPr/>
          </p:nvSpPr>
          <p:spPr>
            <a:xfrm>
              <a:off x="2339640" y="3285000"/>
              <a:ext cx="439200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2879640" y="3388320"/>
              <a:ext cx="64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6"/>
            <p:cNvSpPr/>
            <p:nvPr/>
          </p:nvSpPr>
          <p:spPr>
            <a:xfrm>
              <a:off x="3780000" y="3388320"/>
              <a:ext cx="252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图片 7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"/>
          <p:cNvSpPr/>
          <p:nvPr/>
        </p:nvSpPr>
        <p:spPr>
          <a:xfrm flipH="1">
            <a:off x="5631840" y="3944520"/>
            <a:ext cx="875880" cy="236160"/>
          </a:xfrm>
          <a:custGeom>
            <a:avLst/>
            <a:gdLst>
              <a:gd name="textAreaLeft" fmla="*/ -360 w 875880"/>
              <a:gd name="textAreaRight" fmla="*/ 875880 w 8758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-181080" y="4006440"/>
            <a:ext cx="983880" cy="363240"/>
          </a:xfrm>
          <a:custGeom>
            <a:avLst/>
            <a:gdLst>
              <a:gd name="textAreaLeft" fmla="*/ 0 w 983880"/>
              <a:gd name="textAreaRight" fmla="*/ 984240 w 983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c0504d">
                  <a:alpha val="0"/>
                </a:srgbClr>
              </a:gs>
              <a:gs pos="100000">
                <a:srgbClr val="682b29">
                  <a:alpha val="5019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2" name="Freeform 4"/>
          <p:cNvSpPr/>
          <p:nvPr/>
        </p:nvSpPr>
        <p:spPr>
          <a:xfrm flipH="1">
            <a:off x="6921360" y="3862080"/>
            <a:ext cx="863280" cy="388440"/>
          </a:xfrm>
          <a:custGeom>
            <a:avLst/>
            <a:gdLst>
              <a:gd name="textAreaLeft" fmla="*/ 360 w 863280"/>
              <a:gd name="textAreaRight" fmla="*/ 864000 w 86328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3" name="Freeform 5"/>
          <p:cNvSpPr/>
          <p:nvPr/>
        </p:nvSpPr>
        <p:spPr>
          <a:xfrm flipH="1">
            <a:off x="8336880" y="3998520"/>
            <a:ext cx="837720" cy="363240"/>
          </a:xfrm>
          <a:custGeom>
            <a:avLst/>
            <a:gdLst>
              <a:gd name="textAreaLeft" fmla="*/ -360 w 837720"/>
              <a:gd name="textAreaRight" fmla="*/ 83772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1343160" y="3865320"/>
            <a:ext cx="837720" cy="363240"/>
          </a:xfrm>
          <a:custGeom>
            <a:avLst/>
            <a:gdLst>
              <a:gd name="textAreaLeft" fmla="*/ 0 w 837720"/>
              <a:gd name="textAreaRight" fmla="*/ 83808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5" name="Freeform 7"/>
          <p:cNvSpPr/>
          <p:nvPr/>
        </p:nvSpPr>
        <p:spPr>
          <a:xfrm>
            <a:off x="2638440" y="3944520"/>
            <a:ext cx="885600" cy="236160"/>
          </a:xfrm>
          <a:custGeom>
            <a:avLst/>
            <a:gdLst>
              <a:gd name="textAreaLeft" fmla="*/ 0 w 885600"/>
              <a:gd name="textAreaRight" fmla="*/ 885960 w 88560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806400" y="2972880"/>
            <a:ext cx="1118880" cy="139176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7" name="Freeform 9"/>
          <p:cNvSpPr/>
          <p:nvPr/>
        </p:nvSpPr>
        <p:spPr>
          <a:xfrm>
            <a:off x="428760" y="2972880"/>
            <a:ext cx="377640" cy="1391760"/>
          </a:xfrm>
          <a:custGeom>
            <a:avLst/>
            <a:gdLst>
              <a:gd name="textAreaLeft" fmla="*/ 0 w 377640"/>
              <a:gd name="textAreaRight" fmla="*/ 37800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195640" y="3069720"/>
            <a:ext cx="1082160" cy="1188720"/>
          </a:xfrm>
          <a:custGeom>
            <a:avLst/>
            <a:gdLst>
              <a:gd name="textAreaLeft" fmla="*/ 0 w 1082160"/>
              <a:gd name="textAreaRight" fmla="*/ 108252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9" name="Freeform 11"/>
          <p:cNvSpPr/>
          <p:nvPr/>
        </p:nvSpPr>
        <p:spPr>
          <a:xfrm>
            <a:off x="1986120" y="3055680"/>
            <a:ext cx="218880" cy="118872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3490920" y="3109680"/>
            <a:ext cx="1015560" cy="1080720"/>
          </a:xfrm>
          <a:custGeom>
            <a:avLst/>
            <a:gdLst>
              <a:gd name="textAreaLeft" fmla="*/ 0 w 1015560"/>
              <a:gd name="textAreaRight" fmla="*/ 101592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3414600" y="3109680"/>
            <a:ext cx="75960" cy="1080720"/>
          </a:xfrm>
          <a:custGeom>
            <a:avLst/>
            <a:gdLst>
              <a:gd name="textAreaLeft" fmla="*/ 0 w 75960"/>
              <a:gd name="textAreaRight" fmla="*/ 7632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2" name="Freeform 14"/>
          <p:cNvSpPr/>
          <p:nvPr/>
        </p:nvSpPr>
        <p:spPr>
          <a:xfrm flipH="1">
            <a:off x="7213680" y="2972880"/>
            <a:ext cx="1118880" cy="1391760"/>
          </a:xfrm>
          <a:custGeom>
            <a:avLst/>
            <a:gdLst>
              <a:gd name="textAreaLeft" fmla="*/ 360 w 1118880"/>
              <a:gd name="textAreaRight" fmla="*/ 111960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3" name="Freeform 15"/>
          <p:cNvSpPr/>
          <p:nvPr/>
        </p:nvSpPr>
        <p:spPr>
          <a:xfrm flipH="1">
            <a:off x="8332200" y="2972880"/>
            <a:ext cx="377640" cy="139176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4" name="Freeform 16"/>
          <p:cNvSpPr/>
          <p:nvPr/>
        </p:nvSpPr>
        <p:spPr>
          <a:xfrm flipH="1">
            <a:off x="5851440" y="3055680"/>
            <a:ext cx="1082160" cy="1188720"/>
          </a:xfrm>
          <a:custGeom>
            <a:avLst/>
            <a:gdLst>
              <a:gd name="textAreaLeft" fmla="*/ 360 w 1082160"/>
              <a:gd name="textAreaRight" fmla="*/ 108288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5" name="Freeform 17"/>
          <p:cNvSpPr/>
          <p:nvPr/>
        </p:nvSpPr>
        <p:spPr>
          <a:xfrm flipH="1">
            <a:off x="6934320" y="3055680"/>
            <a:ext cx="218880" cy="118872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6" name="Freeform 18"/>
          <p:cNvSpPr/>
          <p:nvPr/>
        </p:nvSpPr>
        <p:spPr>
          <a:xfrm flipH="1">
            <a:off x="4631760" y="3109680"/>
            <a:ext cx="1015560" cy="1080720"/>
          </a:xfrm>
          <a:custGeom>
            <a:avLst/>
            <a:gdLst>
              <a:gd name="textAreaLeft" fmla="*/ -360 w 1015560"/>
              <a:gd name="textAreaRight" fmla="*/ 101556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7" name="Freeform 19"/>
          <p:cNvSpPr/>
          <p:nvPr/>
        </p:nvSpPr>
        <p:spPr>
          <a:xfrm flipH="1">
            <a:off x="5647680" y="3109680"/>
            <a:ext cx="75960" cy="108072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434880" y="177300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 flipV="1">
            <a:off x="452160" y="1868040"/>
            <a:ext cx="360" cy="1193760"/>
          </a:xfrm>
          <a:prstGeom prst="line">
            <a:avLst/>
          </a:prstGeom>
          <a:ln w="12700">
            <a:solidFill>
              <a:srgbClr val="ffb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459240" y="177300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 flipV="1">
            <a:off x="3473280" y="1879200"/>
            <a:ext cx="360" cy="1193760"/>
          </a:xfrm>
          <a:prstGeom prst="line">
            <a:avLst/>
          </a:prstGeom>
          <a:ln w="127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5867280" y="177300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5867280" y="1877400"/>
            <a:ext cx="360" cy="1193760"/>
          </a:xfrm>
          <a:prstGeom prst="line">
            <a:avLst/>
          </a:prstGeom>
          <a:ln w="127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2195640" y="475740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 flipV="1">
            <a:off x="2215800" y="4252320"/>
            <a:ext cx="360" cy="123840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4643280" y="476532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 flipV="1">
            <a:off x="4652640" y="4182480"/>
            <a:ext cx="360" cy="133848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7203960" y="476532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 flipV="1">
            <a:off x="7213320" y="4293720"/>
            <a:ext cx="360" cy="122724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50" name="Freeform 32"/>
          <p:cNvSpPr/>
          <p:nvPr/>
        </p:nvSpPr>
        <p:spPr>
          <a:xfrm>
            <a:off x="2124000" y="430668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51" name="WordArt 33"/>
          <p:cNvSpPr txBox="1"/>
          <p:nvPr/>
        </p:nvSpPr>
        <p:spPr>
          <a:xfrm>
            <a:off x="939960" y="3951000"/>
            <a:ext cx="13788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4"/>
          <p:cNvSpPr txBox="1"/>
          <p:nvPr/>
        </p:nvSpPr>
        <p:spPr>
          <a:xfrm>
            <a:off x="2287440" y="386856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35"/>
          <p:cNvSpPr txBox="1"/>
          <p:nvPr/>
        </p:nvSpPr>
        <p:spPr>
          <a:xfrm>
            <a:off x="3575160" y="386208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36"/>
          <p:cNvSpPr txBox="1"/>
          <p:nvPr/>
        </p:nvSpPr>
        <p:spPr>
          <a:xfrm>
            <a:off x="4711680" y="386208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37"/>
          <p:cNvSpPr txBox="1"/>
          <p:nvPr/>
        </p:nvSpPr>
        <p:spPr>
          <a:xfrm>
            <a:off x="5940360" y="386856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8"/>
          <p:cNvSpPr txBox="1"/>
          <p:nvPr/>
        </p:nvSpPr>
        <p:spPr>
          <a:xfrm>
            <a:off x="7308720" y="3933360"/>
            <a:ext cx="18216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9"/>
          <p:cNvSpPr/>
          <p:nvPr/>
        </p:nvSpPr>
        <p:spPr>
          <a:xfrm>
            <a:off x="1781280" y="479556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pic>
        <p:nvPicPr>
          <p:cNvPr id="158" name="图片 41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2"/>
          <p:cNvSpPr/>
          <p:nvPr/>
        </p:nvSpPr>
        <p:spPr>
          <a:xfrm>
            <a:off x="4572000" y="3744360"/>
            <a:ext cx="360" cy="1105200"/>
          </a:xfrm>
          <a:prstGeom prst="line">
            <a:avLst/>
          </a:prstGeom>
          <a:ln cap="rnd"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3743280" y="1601640"/>
            <a:ext cx="166032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双击添加标题文字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 rot="10800000">
            <a:off x="3510360" y="4911840"/>
            <a:ext cx="212832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8"/>
          <p:cNvGrpSpPr/>
          <p:nvPr/>
        </p:nvGrpSpPr>
        <p:grpSpPr>
          <a:xfrm>
            <a:off x="802080" y="4446720"/>
            <a:ext cx="7467120" cy="894960"/>
            <a:chOff x="802080" y="4446720"/>
            <a:chExt cx="7467120" cy="894960"/>
          </a:xfrm>
        </p:grpSpPr>
        <p:sp>
          <p:nvSpPr>
            <p:cNvPr id="164" name="AutoShape 4"/>
            <p:cNvSpPr/>
            <p:nvPr/>
          </p:nvSpPr>
          <p:spPr>
            <a:xfrm rot="10800000">
              <a:off x="802080" y="444672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rot="10800000">
              <a:off x="6140880" y="444672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7"/>
          <p:cNvSpPr/>
          <p:nvPr/>
        </p:nvSpPr>
        <p:spPr>
          <a:xfrm>
            <a:off x="2963880" y="174924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2930400" y="1544400"/>
            <a:ext cx="3284280" cy="46944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424320" y="347940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3398760" y="3274920"/>
            <a:ext cx="2346120" cy="417240"/>
          </a:xfrm>
          <a:prstGeom prst="roundRect">
            <a:avLst>
              <a:gd name="adj" fmla="val 22537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5"/>
          <p:cNvGrpSpPr/>
          <p:nvPr/>
        </p:nvGrpSpPr>
        <p:grpSpPr>
          <a:xfrm>
            <a:off x="692280" y="2923920"/>
            <a:ext cx="7695720" cy="547200"/>
            <a:chOff x="692280" y="2923920"/>
            <a:chExt cx="7695720" cy="547200"/>
          </a:xfrm>
        </p:grpSpPr>
        <p:sp>
          <p:nvSpPr>
            <p:cNvPr id="171" name="Rectangle 11"/>
            <p:cNvSpPr/>
            <p:nvPr/>
          </p:nvSpPr>
          <p:spPr>
            <a:xfrm>
              <a:off x="718200" y="3146400"/>
              <a:ext cx="2296440" cy="3247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2" name="AutoShape 12"/>
            <p:cNvSpPr/>
            <p:nvPr/>
          </p:nvSpPr>
          <p:spPr>
            <a:xfrm>
              <a:off x="692280" y="2923920"/>
              <a:ext cx="2345040" cy="415440"/>
            </a:xfrm>
            <a:prstGeom prst="roundRect">
              <a:avLst>
                <a:gd name="adj" fmla="val 2253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6068880" y="3146400"/>
              <a:ext cx="2296440" cy="3247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6042960" y="2923920"/>
              <a:ext cx="2345040" cy="415440"/>
            </a:xfrm>
            <a:prstGeom prst="roundRect">
              <a:avLst>
                <a:gd name="adj" fmla="val 23944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7"/>
          <p:cNvGrpSpPr/>
          <p:nvPr/>
        </p:nvGrpSpPr>
        <p:grpSpPr>
          <a:xfrm>
            <a:off x="1904760" y="4077720"/>
            <a:ext cx="5332680" cy="331920"/>
            <a:chOff x="1904760" y="4077720"/>
            <a:chExt cx="5332680" cy="331920"/>
          </a:xfrm>
        </p:grpSpPr>
        <p:sp>
          <p:nvSpPr>
            <p:cNvPr id="176" name="Line 15"/>
            <p:cNvSpPr/>
            <p:nvPr/>
          </p:nvSpPr>
          <p:spPr>
            <a:xfrm>
              <a:off x="1904760" y="4077720"/>
              <a:ext cx="5332320" cy="36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1904760" y="4077720"/>
              <a:ext cx="360" cy="33192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7237080" y="4077720"/>
              <a:ext cx="360" cy="33192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79" name="Line 18"/>
          <p:cNvSpPr/>
          <p:nvPr/>
        </p:nvSpPr>
        <p:spPr>
          <a:xfrm>
            <a:off x="4572000" y="2072880"/>
            <a:ext cx="360" cy="1149480"/>
          </a:xfrm>
          <a:prstGeom prst="line">
            <a:avLst/>
          </a:prstGeom>
          <a:ln cap="rnd" w="19050">
            <a:solidFill>
              <a:srgbClr val="f7b02c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180" name="Group 26"/>
          <p:cNvGrpSpPr/>
          <p:nvPr/>
        </p:nvGrpSpPr>
        <p:grpSpPr>
          <a:xfrm>
            <a:off x="1904760" y="2406240"/>
            <a:ext cx="5332680" cy="473040"/>
            <a:chOff x="1904760" y="2406240"/>
            <a:chExt cx="5332680" cy="473040"/>
          </a:xfrm>
        </p:grpSpPr>
        <p:sp>
          <p:nvSpPr>
            <p:cNvPr id="181" name="Line 19"/>
            <p:cNvSpPr/>
            <p:nvPr/>
          </p:nvSpPr>
          <p:spPr>
            <a:xfrm>
              <a:off x="1904760" y="2406240"/>
              <a:ext cx="5332320" cy="360"/>
            </a:xfrm>
            <a:prstGeom prst="line">
              <a:avLst/>
            </a:prstGeom>
            <a:ln cap="rnd" w="19050">
              <a:solidFill>
                <a:srgbClr val="f7b02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182" name="Group 20"/>
            <p:cNvGrpSpPr/>
            <p:nvPr/>
          </p:nvGrpSpPr>
          <p:grpSpPr>
            <a:xfrm>
              <a:off x="1904760" y="2406240"/>
              <a:ext cx="5332680" cy="473040"/>
              <a:chOff x="1904760" y="2406240"/>
              <a:chExt cx="5332680" cy="473040"/>
            </a:xfrm>
          </p:grpSpPr>
          <p:sp>
            <p:nvSpPr>
              <p:cNvPr id="183" name="Line 21"/>
              <p:cNvSpPr/>
              <p:nvPr/>
            </p:nvSpPr>
            <p:spPr>
              <a:xfrm>
                <a:off x="1904760" y="2406240"/>
                <a:ext cx="360" cy="473040"/>
              </a:xfrm>
              <a:prstGeom prst="line">
                <a:avLst/>
              </a:prstGeom>
              <a:ln cap="rnd" w="19050">
                <a:solidFill>
                  <a:srgbClr val="f7b02c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184" name="Line 22"/>
              <p:cNvSpPr/>
              <p:nvPr/>
            </p:nvSpPr>
            <p:spPr>
              <a:xfrm>
                <a:off x="7237080" y="2406240"/>
                <a:ext cx="360" cy="473040"/>
              </a:xfrm>
              <a:prstGeom prst="line">
                <a:avLst/>
              </a:prstGeom>
              <a:ln cap="rnd" w="19050">
                <a:solidFill>
                  <a:srgbClr val="f7b02c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</p:grpSp>
      </p:grpSp>
      <p:pic>
        <p:nvPicPr>
          <p:cNvPr id="185" name="图片 28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27"/>
          <p:cNvGrpSpPr/>
          <p:nvPr/>
        </p:nvGrpSpPr>
        <p:grpSpPr>
          <a:xfrm>
            <a:off x="666720" y="1917000"/>
            <a:ext cx="3580920" cy="631440"/>
            <a:chOff x="666720" y="1917000"/>
            <a:chExt cx="3580920" cy="631440"/>
          </a:xfrm>
        </p:grpSpPr>
        <p:sp>
          <p:nvSpPr>
            <p:cNvPr id="188" name="圆角矩形 4"/>
            <p:cNvSpPr/>
            <p:nvPr/>
          </p:nvSpPr>
          <p:spPr>
            <a:xfrm>
              <a:off x="666720" y="1917000"/>
              <a:ext cx="3580920" cy="631440"/>
            </a:xfrm>
            <a:prstGeom prst="roundRect">
              <a:avLst>
                <a:gd name="adj" fmla="val 19262"/>
              </a:avLst>
            </a:prstGeom>
            <a:solidFill>
              <a:schemeClr val="bg1">
                <a:lumMod val="50000"/>
              </a:schemeClr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89" name="圆角矩形 5"/>
            <p:cNvSpPr/>
            <p:nvPr/>
          </p:nvSpPr>
          <p:spPr>
            <a:xfrm>
              <a:off x="690480" y="1940760"/>
              <a:ext cx="352872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5400000"/>
            </a:gradFill>
            <a:ln w="285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0" name="TextBox 6"/>
            <p:cNvSpPr/>
            <p:nvPr/>
          </p:nvSpPr>
          <p:spPr>
            <a:xfrm>
              <a:off x="1542960" y="2015280"/>
              <a:ext cx="182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同侧圆角矩形 7"/>
            <p:cNvSpPr/>
            <p:nvPr/>
          </p:nvSpPr>
          <p:spPr>
            <a:xfrm rot="16200000">
              <a:off x="610200" y="2062440"/>
              <a:ext cx="547200" cy="342360"/>
            </a:xfrm>
            <a:prstGeom prst="round2SameRect">
              <a:avLst>
                <a:gd name="adj1" fmla="val 24886"/>
                <a:gd name="adj2" fmla="val 0"/>
              </a:avLst>
            </a:prstGeom>
            <a:solidFill>
              <a:srgbClr val="ffb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2" name="L 形 8"/>
            <p:cNvSpPr/>
            <p:nvPr/>
          </p:nvSpPr>
          <p:spPr>
            <a:xfrm rot="13500000">
              <a:off x="771480" y="2153880"/>
              <a:ext cx="162720" cy="162720"/>
            </a:xfrm>
            <a:prstGeom prst="corner">
              <a:avLst>
                <a:gd name="adj1" fmla="val 26712"/>
                <a:gd name="adj2" fmla="val 26712"/>
              </a:avLst>
            </a:prstGeom>
            <a:solidFill>
              <a:schemeClr val="tx1"/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93" name="组合 45"/>
          <p:cNvGrpSpPr/>
          <p:nvPr/>
        </p:nvGrpSpPr>
        <p:grpSpPr>
          <a:xfrm>
            <a:off x="5004000" y="1917000"/>
            <a:ext cx="3580920" cy="631440"/>
            <a:chOff x="5004000" y="1917000"/>
            <a:chExt cx="3580920" cy="631440"/>
          </a:xfrm>
        </p:grpSpPr>
        <p:sp>
          <p:nvSpPr>
            <p:cNvPr id="194" name="圆角矩形 10"/>
            <p:cNvSpPr/>
            <p:nvPr/>
          </p:nvSpPr>
          <p:spPr>
            <a:xfrm>
              <a:off x="5004000" y="1917000"/>
              <a:ext cx="3580920" cy="631440"/>
            </a:xfrm>
            <a:prstGeom prst="roundRect">
              <a:avLst>
                <a:gd name="adj" fmla="val 19262"/>
              </a:avLst>
            </a:prstGeom>
            <a:solidFill>
              <a:schemeClr val="bg1">
                <a:lumMod val="50000"/>
              </a:schemeClr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5" name="圆角矩形 11"/>
            <p:cNvSpPr/>
            <p:nvPr/>
          </p:nvSpPr>
          <p:spPr>
            <a:xfrm>
              <a:off x="5027760" y="1940760"/>
              <a:ext cx="352872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5400000"/>
            </a:gradFill>
            <a:ln w="285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6" name="TextBox 12"/>
            <p:cNvSpPr/>
            <p:nvPr/>
          </p:nvSpPr>
          <p:spPr>
            <a:xfrm>
              <a:off x="5880240" y="2015280"/>
              <a:ext cx="182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同侧圆角矩形 13"/>
            <p:cNvSpPr/>
            <p:nvPr/>
          </p:nvSpPr>
          <p:spPr>
            <a:xfrm rot="16200000">
              <a:off x="4947480" y="2062440"/>
              <a:ext cx="547200" cy="342360"/>
            </a:xfrm>
            <a:prstGeom prst="round2SameRect">
              <a:avLst>
                <a:gd name="adj1" fmla="val 24886"/>
                <a:gd name="adj2" fmla="val 0"/>
              </a:avLst>
            </a:prstGeom>
            <a:solidFill>
              <a:srgbClr val="ffb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8" name="L 形 14"/>
            <p:cNvSpPr/>
            <p:nvPr/>
          </p:nvSpPr>
          <p:spPr>
            <a:xfrm rot="13500000">
              <a:off x="5108760" y="2153880"/>
              <a:ext cx="162720" cy="162720"/>
            </a:xfrm>
            <a:prstGeom prst="corner">
              <a:avLst>
                <a:gd name="adj1" fmla="val 26712"/>
                <a:gd name="adj2" fmla="val 26712"/>
              </a:avLst>
            </a:prstGeom>
            <a:solidFill>
              <a:schemeClr val="tx1"/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sp>
        <p:nvSpPr>
          <p:cNvPr id="199" name="TextBox 15"/>
          <p:cNvSpPr/>
          <p:nvPr/>
        </p:nvSpPr>
        <p:spPr>
          <a:xfrm>
            <a:off x="888840" y="308376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40"/>
          <p:cNvSpPr/>
          <p:nvPr/>
        </p:nvSpPr>
        <p:spPr>
          <a:xfrm>
            <a:off x="825480" y="3161520"/>
            <a:ext cx="198000" cy="1998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01" name="TextBox 17"/>
          <p:cNvSpPr/>
          <p:nvPr/>
        </p:nvSpPr>
        <p:spPr>
          <a:xfrm>
            <a:off x="888840" y="384408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40"/>
          <p:cNvSpPr/>
          <p:nvPr/>
        </p:nvSpPr>
        <p:spPr>
          <a:xfrm>
            <a:off x="825480" y="3921840"/>
            <a:ext cx="198000" cy="1998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888840" y="456480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0"/>
          <p:cNvSpPr/>
          <p:nvPr/>
        </p:nvSpPr>
        <p:spPr>
          <a:xfrm>
            <a:off x="825480" y="4642560"/>
            <a:ext cx="198000" cy="1980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888840" y="535680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40"/>
          <p:cNvSpPr/>
          <p:nvPr/>
        </p:nvSpPr>
        <p:spPr>
          <a:xfrm>
            <a:off x="825480" y="5434560"/>
            <a:ext cx="198000" cy="1980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07" name="TextBox 23"/>
          <p:cNvSpPr/>
          <p:nvPr/>
        </p:nvSpPr>
        <p:spPr>
          <a:xfrm>
            <a:off x="5212080" y="309168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40"/>
          <p:cNvSpPr/>
          <p:nvPr/>
        </p:nvSpPr>
        <p:spPr>
          <a:xfrm>
            <a:off x="5148360" y="3169440"/>
            <a:ext cx="199800" cy="1998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09" name="TextBox 25"/>
          <p:cNvSpPr/>
          <p:nvPr/>
        </p:nvSpPr>
        <p:spPr>
          <a:xfrm>
            <a:off x="5212080" y="385200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40"/>
          <p:cNvSpPr/>
          <p:nvPr/>
        </p:nvSpPr>
        <p:spPr>
          <a:xfrm>
            <a:off x="5148360" y="3929760"/>
            <a:ext cx="199800" cy="1998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11" name="TextBox 27"/>
          <p:cNvSpPr/>
          <p:nvPr/>
        </p:nvSpPr>
        <p:spPr>
          <a:xfrm>
            <a:off x="5212080" y="457272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40"/>
          <p:cNvSpPr/>
          <p:nvPr/>
        </p:nvSpPr>
        <p:spPr>
          <a:xfrm>
            <a:off x="5148360" y="4650480"/>
            <a:ext cx="199800" cy="1980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5212080" y="536472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40"/>
          <p:cNvSpPr/>
          <p:nvPr/>
        </p:nvSpPr>
        <p:spPr>
          <a:xfrm>
            <a:off x="5148360" y="5442840"/>
            <a:ext cx="199800" cy="1980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pic>
        <p:nvPicPr>
          <p:cNvPr id="215" name="图片 31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菱形 3"/>
          <p:cNvSpPr/>
          <p:nvPr/>
        </p:nvSpPr>
        <p:spPr>
          <a:xfrm>
            <a:off x="2760840" y="1773360"/>
            <a:ext cx="3677760" cy="3677760"/>
          </a:xfrm>
          <a:prstGeom prst="diamond">
            <a:avLst/>
          </a:prstGeom>
          <a:gradFill rotWithShape="0">
            <a:gsLst>
              <a:gs pos="0">
                <a:srgbClr val="d9d9d9">
                  <a:alpha val="0"/>
                </a:srgbClr>
              </a:gs>
              <a:gs pos="100000">
                <a:srgbClr val="bfbfbf">
                  <a:alpha val="45098"/>
                </a:srgbClr>
              </a:gs>
            </a:gsLst>
            <a:path path="circle">
              <a:fillToRect l="50000" t="50000" r="50000" b="50000"/>
            </a:path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4"/>
          <p:cNvSpPr/>
          <p:nvPr/>
        </p:nvSpPr>
        <p:spPr>
          <a:xfrm>
            <a:off x="2982960" y="2138400"/>
            <a:ext cx="1434600" cy="143460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1434600"/>
              <a:gd name="textAreaBottom" fmla="*/ 1434960 h 143460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5"/>
          <p:cNvSpPr/>
          <p:nvPr/>
        </p:nvSpPr>
        <p:spPr>
          <a:xfrm>
            <a:off x="4689360" y="2138400"/>
            <a:ext cx="1434600" cy="143460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1434600"/>
              <a:gd name="textAreaBottom" fmla="*/ 1434960 h 143460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6"/>
          <p:cNvSpPr/>
          <p:nvPr/>
        </p:nvSpPr>
        <p:spPr>
          <a:xfrm>
            <a:off x="2982960" y="3844800"/>
            <a:ext cx="1434600" cy="143460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1434600"/>
              <a:gd name="textAreaBottom" fmla="*/ 1434960 h 143460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7"/>
          <p:cNvSpPr/>
          <p:nvPr/>
        </p:nvSpPr>
        <p:spPr>
          <a:xfrm>
            <a:off x="4689360" y="3844800"/>
            <a:ext cx="1434600" cy="143460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1434600"/>
              <a:gd name="textAreaBottom" fmla="*/ 1434960 h 143460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1115640" y="2116080"/>
            <a:ext cx="1649880" cy="14346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6380280" y="2116080"/>
            <a:ext cx="1647720" cy="14346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0"/>
          <p:cNvSpPr/>
          <p:nvPr/>
        </p:nvSpPr>
        <p:spPr>
          <a:xfrm>
            <a:off x="1115640" y="3844800"/>
            <a:ext cx="1649880" cy="14346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1"/>
          <p:cNvSpPr/>
          <p:nvPr/>
        </p:nvSpPr>
        <p:spPr>
          <a:xfrm>
            <a:off x="6380280" y="3844800"/>
            <a:ext cx="1647720" cy="14346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2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流程图: 可选过程 3"/>
          <p:cNvSpPr/>
          <p:nvPr/>
        </p:nvSpPr>
        <p:spPr>
          <a:xfrm>
            <a:off x="3239640" y="2492280"/>
            <a:ext cx="5256000" cy="504360"/>
          </a:xfrm>
          <a:prstGeom prst="flowChartAlternateProcess">
            <a:avLst/>
          </a:prstGeom>
          <a:solidFill>
            <a:schemeClr val="bg1">
              <a:lumMod val="75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29" name="流程图: 可选过程 4"/>
          <p:cNvSpPr/>
          <p:nvPr/>
        </p:nvSpPr>
        <p:spPr>
          <a:xfrm>
            <a:off x="3239640" y="2509560"/>
            <a:ext cx="3666600" cy="443160"/>
          </a:xfrm>
          <a:prstGeom prst="flowChartAlternateProcess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0" name="圆角矩形标注 5"/>
          <p:cNvSpPr/>
          <p:nvPr/>
        </p:nvSpPr>
        <p:spPr>
          <a:xfrm>
            <a:off x="5724000" y="2959560"/>
            <a:ext cx="504360" cy="325080"/>
          </a:xfrm>
          <a:prstGeom prst="wedgeRoundRectCallout">
            <a:avLst>
              <a:gd name="adj1" fmla="val -24568"/>
              <a:gd name="adj2" fmla="val 69970"/>
              <a:gd name="adj3" fmla="val 16667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流程图: 可选过程 6"/>
          <p:cNvSpPr/>
          <p:nvPr/>
        </p:nvSpPr>
        <p:spPr>
          <a:xfrm>
            <a:off x="3239640" y="3322440"/>
            <a:ext cx="5256000" cy="504360"/>
          </a:xfrm>
          <a:prstGeom prst="flowChartAlternateProcess">
            <a:avLst/>
          </a:prstGeom>
          <a:solidFill>
            <a:schemeClr val="bg1">
              <a:lumMod val="75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32" name="流程图: 可选过程 7"/>
          <p:cNvSpPr/>
          <p:nvPr/>
        </p:nvSpPr>
        <p:spPr>
          <a:xfrm>
            <a:off x="3239640" y="3339720"/>
            <a:ext cx="2628720" cy="443160"/>
          </a:xfrm>
          <a:prstGeom prst="flowChartAlternateProcess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3" name="流程图: 可选过程 8"/>
          <p:cNvSpPr/>
          <p:nvPr/>
        </p:nvSpPr>
        <p:spPr>
          <a:xfrm>
            <a:off x="3276360" y="4113000"/>
            <a:ext cx="5256000" cy="507240"/>
          </a:xfrm>
          <a:prstGeom prst="flowChartAlternateProcess">
            <a:avLst/>
          </a:prstGeom>
          <a:solidFill>
            <a:schemeClr val="bg1">
              <a:lumMod val="75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34" name="流程图: 可选过程 9"/>
          <p:cNvSpPr/>
          <p:nvPr/>
        </p:nvSpPr>
        <p:spPr>
          <a:xfrm>
            <a:off x="3276360" y="4132080"/>
            <a:ext cx="1796760" cy="440280"/>
          </a:xfrm>
          <a:prstGeom prst="flowChartAlternateProcess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235" name="流程图: 可选过程 10"/>
          <p:cNvSpPr/>
          <p:nvPr/>
        </p:nvSpPr>
        <p:spPr>
          <a:xfrm>
            <a:off x="3276360" y="4865760"/>
            <a:ext cx="5256000" cy="507240"/>
          </a:xfrm>
          <a:prstGeom prst="flowChartAlternateProcess">
            <a:avLst/>
          </a:prstGeom>
          <a:solidFill>
            <a:schemeClr val="bg1">
              <a:lumMod val="75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36" name="流程图: 可选过程 11"/>
          <p:cNvSpPr/>
          <p:nvPr/>
        </p:nvSpPr>
        <p:spPr>
          <a:xfrm>
            <a:off x="3276360" y="4883040"/>
            <a:ext cx="4463640" cy="443160"/>
          </a:xfrm>
          <a:prstGeom prst="flowChartAlternateProcess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7" name="圆角矩形标注 12"/>
          <p:cNvSpPr/>
          <p:nvPr/>
        </p:nvSpPr>
        <p:spPr>
          <a:xfrm>
            <a:off x="4932000" y="3717000"/>
            <a:ext cx="404280" cy="354960"/>
          </a:xfrm>
          <a:prstGeom prst="wedgeRoundRectCallout">
            <a:avLst>
              <a:gd name="adj1" fmla="val -24568"/>
              <a:gd name="adj2" fmla="val 69970"/>
              <a:gd name="adj3" fmla="val 16667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标注 13"/>
          <p:cNvSpPr/>
          <p:nvPr/>
        </p:nvSpPr>
        <p:spPr>
          <a:xfrm>
            <a:off x="6732360" y="1980360"/>
            <a:ext cx="504360" cy="440280"/>
          </a:xfrm>
          <a:prstGeom prst="wedgeRoundRectCallout">
            <a:avLst>
              <a:gd name="adj1" fmla="val -24568"/>
              <a:gd name="adj2" fmla="val 69970"/>
              <a:gd name="adj3" fmla="val 16667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标注 14"/>
          <p:cNvSpPr/>
          <p:nvPr/>
        </p:nvSpPr>
        <p:spPr>
          <a:xfrm>
            <a:off x="7595640" y="4505400"/>
            <a:ext cx="504360" cy="443160"/>
          </a:xfrm>
          <a:prstGeom prst="wedgeRoundRectCallout">
            <a:avLst>
              <a:gd name="adj1" fmla="val -24568"/>
              <a:gd name="adj2" fmla="val 69970"/>
              <a:gd name="adj3" fmla="val 16667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接连接符 15"/>
          <p:cNvCxnSpPr/>
          <p:nvPr/>
        </p:nvCxnSpPr>
        <p:spPr>
          <a:xfrm>
            <a:off x="3060000" y="2060640"/>
            <a:ext cx="360" cy="3816720"/>
          </a:xfrm>
          <a:prstGeom prst="straightConnector1">
            <a:avLst/>
          </a:prstGeom>
          <a:ln w="28575">
            <a:solidFill>
              <a:srgbClr val="625348"/>
            </a:solidFill>
            <a:round/>
          </a:ln>
        </p:spPr>
      </p:cxnSp>
      <p:grpSp>
        <p:nvGrpSpPr>
          <p:cNvPr id="241" name="组合 16"/>
          <p:cNvGrpSpPr/>
          <p:nvPr/>
        </p:nvGrpSpPr>
        <p:grpSpPr>
          <a:xfrm>
            <a:off x="611640" y="2492280"/>
            <a:ext cx="2232000" cy="2880720"/>
            <a:chOff x="611640" y="2492280"/>
            <a:chExt cx="2232000" cy="2880720"/>
          </a:xfrm>
        </p:grpSpPr>
        <p:sp>
          <p:nvSpPr>
            <p:cNvPr id="242" name="TextBox 17"/>
            <p:cNvSpPr/>
            <p:nvPr/>
          </p:nvSpPr>
          <p:spPr>
            <a:xfrm>
              <a:off x="611640" y="2492280"/>
              <a:ext cx="2232000" cy="1384560"/>
            </a:xfrm>
            <a:prstGeom prst="rect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8"/>
            <p:cNvSpPr/>
            <p:nvPr/>
          </p:nvSpPr>
          <p:spPr>
            <a:xfrm>
              <a:off x="611640" y="3988440"/>
              <a:ext cx="2232000" cy="1384560"/>
            </a:xfrm>
            <a:prstGeom prst="rect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图片 22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0" y="64267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圆角矩形 3"/>
          <p:cNvSpPr/>
          <p:nvPr/>
        </p:nvSpPr>
        <p:spPr>
          <a:xfrm>
            <a:off x="1295280" y="3468600"/>
            <a:ext cx="6552720" cy="280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248" name="组合 4"/>
          <p:cNvGrpSpPr/>
          <p:nvPr/>
        </p:nvGrpSpPr>
        <p:grpSpPr>
          <a:xfrm>
            <a:off x="2627280" y="3213000"/>
            <a:ext cx="791640" cy="791640"/>
            <a:chOff x="2627280" y="3213000"/>
            <a:chExt cx="791640" cy="791640"/>
          </a:xfrm>
        </p:grpSpPr>
        <p:sp>
          <p:nvSpPr>
            <p:cNvPr id="249" name="椭圆 5"/>
            <p:cNvSpPr/>
            <p:nvPr/>
          </p:nvSpPr>
          <p:spPr>
            <a:xfrm>
              <a:off x="2627280" y="3213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50" name="椭圆 6"/>
            <p:cNvSpPr/>
            <p:nvPr/>
          </p:nvSpPr>
          <p:spPr>
            <a:xfrm>
              <a:off x="2664000" y="324936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7"/>
          <p:cNvGrpSpPr/>
          <p:nvPr/>
        </p:nvGrpSpPr>
        <p:grpSpPr>
          <a:xfrm>
            <a:off x="4140360" y="3213000"/>
            <a:ext cx="791640" cy="791640"/>
            <a:chOff x="4140360" y="3213000"/>
            <a:chExt cx="791640" cy="791640"/>
          </a:xfrm>
        </p:grpSpPr>
        <p:sp>
          <p:nvSpPr>
            <p:cNvPr id="252" name="椭圆 8"/>
            <p:cNvSpPr/>
            <p:nvPr/>
          </p:nvSpPr>
          <p:spPr>
            <a:xfrm>
              <a:off x="4140360" y="3213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53" name="椭圆 9"/>
            <p:cNvSpPr/>
            <p:nvPr/>
          </p:nvSpPr>
          <p:spPr>
            <a:xfrm>
              <a:off x="4176720" y="324936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10"/>
          <p:cNvGrpSpPr/>
          <p:nvPr/>
        </p:nvGrpSpPr>
        <p:grpSpPr>
          <a:xfrm>
            <a:off x="1258920" y="3213000"/>
            <a:ext cx="791640" cy="791640"/>
            <a:chOff x="1258920" y="3213000"/>
            <a:chExt cx="791640" cy="791640"/>
          </a:xfrm>
        </p:grpSpPr>
        <p:sp>
          <p:nvSpPr>
            <p:cNvPr id="255" name="椭圆 11"/>
            <p:cNvSpPr/>
            <p:nvPr/>
          </p:nvSpPr>
          <p:spPr>
            <a:xfrm>
              <a:off x="1258920" y="3213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56" name="椭圆 12"/>
            <p:cNvSpPr/>
            <p:nvPr/>
          </p:nvSpPr>
          <p:spPr>
            <a:xfrm>
              <a:off x="1295280" y="324936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13"/>
          <p:cNvGrpSpPr/>
          <p:nvPr/>
        </p:nvGrpSpPr>
        <p:grpSpPr>
          <a:xfrm>
            <a:off x="5580000" y="3213000"/>
            <a:ext cx="791640" cy="791640"/>
            <a:chOff x="5580000" y="3213000"/>
            <a:chExt cx="791640" cy="791640"/>
          </a:xfrm>
        </p:grpSpPr>
        <p:sp>
          <p:nvSpPr>
            <p:cNvPr id="258" name="椭圆 14"/>
            <p:cNvSpPr/>
            <p:nvPr/>
          </p:nvSpPr>
          <p:spPr>
            <a:xfrm>
              <a:off x="5580000" y="3213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59" name="椭圆 15"/>
            <p:cNvSpPr/>
            <p:nvPr/>
          </p:nvSpPr>
          <p:spPr>
            <a:xfrm>
              <a:off x="5616720" y="324936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6"/>
          <p:cNvGrpSpPr/>
          <p:nvPr/>
        </p:nvGrpSpPr>
        <p:grpSpPr>
          <a:xfrm>
            <a:off x="7093080" y="3213000"/>
            <a:ext cx="791640" cy="791640"/>
            <a:chOff x="7093080" y="3213000"/>
            <a:chExt cx="791640" cy="791640"/>
          </a:xfrm>
        </p:grpSpPr>
        <p:sp>
          <p:nvSpPr>
            <p:cNvPr id="261" name="椭圆 17"/>
            <p:cNvSpPr/>
            <p:nvPr/>
          </p:nvSpPr>
          <p:spPr>
            <a:xfrm>
              <a:off x="7093080" y="3213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62" name="椭圆 18"/>
            <p:cNvSpPr/>
            <p:nvPr/>
          </p:nvSpPr>
          <p:spPr>
            <a:xfrm>
              <a:off x="7129440" y="324936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右箭头 19"/>
          <p:cNvSpPr/>
          <p:nvPr/>
        </p:nvSpPr>
        <p:spPr>
          <a:xfrm>
            <a:off x="2268360" y="3516120"/>
            <a:ext cx="286920" cy="201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264" name="右箭头 20"/>
          <p:cNvSpPr/>
          <p:nvPr/>
        </p:nvSpPr>
        <p:spPr>
          <a:xfrm>
            <a:off x="3635280" y="3516120"/>
            <a:ext cx="288720" cy="201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265" name="右箭头 21"/>
          <p:cNvSpPr/>
          <p:nvPr/>
        </p:nvSpPr>
        <p:spPr>
          <a:xfrm>
            <a:off x="5148360" y="3516120"/>
            <a:ext cx="286920" cy="201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266" name="右箭头 22"/>
          <p:cNvSpPr/>
          <p:nvPr/>
        </p:nvSpPr>
        <p:spPr>
          <a:xfrm>
            <a:off x="6659640" y="3516120"/>
            <a:ext cx="288720" cy="201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763560" y="4242960"/>
            <a:ext cx="1711080" cy="3330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4"/>
          <p:cNvSpPr/>
          <p:nvPr/>
        </p:nvSpPr>
        <p:spPr>
          <a:xfrm>
            <a:off x="763560" y="4593240"/>
            <a:ext cx="1711080" cy="106776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5"/>
          <p:cNvSpPr/>
          <p:nvPr/>
        </p:nvSpPr>
        <p:spPr>
          <a:xfrm>
            <a:off x="3708360" y="4242960"/>
            <a:ext cx="1711080" cy="3330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6"/>
          <p:cNvSpPr/>
          <p:nvPr/>
        </p:nvSpPr>
        <p:spPr>
          <a:xfrm>
            <a:off x="3708360" y="4593240"/>
            <a:ext cx="1711080" cy="106776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7"/>
          <p:cNvSpPr/>
          <p:nvPr/>
        </p:nvSpPr>
        <p:spPr>
          <a:xfrm>
            <a:off x="6676920" y="4242960"/>
            <a:ext cx="1711080" cy="3330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8"/>
          <p:cNvSpPr/>
          <p:nvPr/>
        </p:nvSpPr>
        <p:spPr>
          <a:xfrm>
            <a:off x="6676920" y="4593240"/>
            <a:ext cx="1711080" cy="106776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9"/>
          <p:cNvSpPr/>
          <p:nvPr/>
        </p:nvSpPr>
        <p:spPr>
          <a:xfrm>
            <a:off x="2195640" y="2709000"/>
            <a:ext cx="1711080" cy="3330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0"/>
          <p:cNvSpPr/>
          <p:nvPr/>
        </p:nvSpPr>
        <p:spPr>
          <a:xfrm>
            <a:off x="2195640" y="1772640"/>
            <a:ext cx="1711080" cy="9104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1"/>
          <p:cNvSpPr/>
          <p:nvPr/>
        </p:nvSpPr>
        <p:spPr>
          <a:xfrm>
            <a:off x="5148360" y="2709000"/>
            <a:ext cx="1711080" cy="3330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2"/>
          <p:cNvSpPr/>
          <p:nvPr/>
        </p:nvSpPr>
        <p:spPr>
          <a:xfrm>
            <a:off x="5148360" y="1772640"/>
            <a:ext cx="1711080" cy="9104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33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254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254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25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254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248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248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24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248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251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251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25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251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  <Words>431</Words>
  <Paragraphs>1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5:11:27Z</dcterms:created>
  <dc:creator>www.pptbz.com</dc:creator>
  <dc:description/>
  <dc:language>en-US</dc:language>
  <cp:lastModifiedBy>a</cp:lastModifiedBy>
  <dcterms:modified xsi:type="dcterms:W3CDTF">2015-07-25T02:16:20Z</dcterms:modified>
  <cp:revision>16</cp:revision>
  <dc:subject/>
  <dc:title>橙黄工作应用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0</vt:r8>
  </property>
</Properties>
</file>