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CA92-5023-4D14-BDF7-77A7D9BA1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A3C8-804A-4F88-8EEF-7C11C0DE0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6DF6-DFC5-4B10-8AA1-0D90DB6DB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A99F-777B-48BB-B671-DCA5D413E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0B2B-9E07-4384-B50F-08FB4F179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EC9F-39F9-459B-ADBB-3326570F9B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1D1D-1022-4127-AB46-ABD520C63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AE4B-81A1-4357-980F-520A91D7B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17E0-E26C-42B1-A166-0D24F5032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A494-1C5C-4C54-938D-660657C21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9A71-50D4-4A40-B1AC-DE7E7132E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6B56-8612-484A-AE5C-1C2E9A2CF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851280" y="6524280"/>
            <a:ext cx="1440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0D3E269-954F-429E-8EFF-C2558F7AC5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4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4f791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23731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1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27B6DD2-3A09-4803-8CFA-F1231EF6F75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84360" y="377028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695160" y="1365120"/>
            <a:ext cx="2306160" cy="2305080"/>
            <a:chOff x="695160" y="1365120"/>
            <a:chExt cx="2306160" cy="2305080"/>
          </a:xfrm>
        </p:grpSpPr>
        <p:sp>
          <p:nvSpPr>
            <p:cNvPr id="127" name="Rectangle 5"/>
            <p:cNvSpPr/>
            <p:nvPr/>
          </p:nvSpPr>
          <p:spPr>
            <a:xfrm>
              <a:off x="695160" y="136512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 rot="5400000">
              <a:off x="2796480" y="244440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7" descr=""/>
            <p:cNvPicPr/>
            <p:nvPr/>
          </p:nvPicPr>
          <p:blipFill>
            <a:blip r:embed="rId1"/>
            <a:stretch/>
          </p:blipFill>
          <p:spPr>
            <a:xfrm>
              <a:off x="728640" y="142236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8"/>
          <p:cNvGrpSpPr/>
          <p:nvPr/>
        </p:nvGrpSpPr>
        <p:grpSpPr>
          <a:xfrm>
            <a:off x="3344760" y="1365120"/>
            <a:ext cx="2306160" cy="2305080"/>
            <a:chOff x="3344760" y="1365120"/>
            <a:chExt cx="2306160" cy="2305080"/>
          </a:xfrm>
        </p:grpSpPr>
        <p:sp>
          <p:nvSpPr>
            <p:cNvPr id="131" name="Rectangle 9"/>
            <p:cNvSpPr/>
            <p:nvPr/>
          </p:nvSpPr>
          <p:spPr>
            <a:xfrm>
              <a:off x="3344760" y="136512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 rot="5400000">
              <a:off x="5446080" y="244440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1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0148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2"/>
          <p:cNvGrpSpPr/>
          <p:nvPr/>
        </p:nvGrpSpPr>
        <p:grpSpPr>
          <a:xfrm>
            <a:off x="6002280" y="1365120"/>
            <a:ext cx="2160720" cy="2305080"/>
            <a:chOff x="6002280" y="1365120"/>
            <a:chExt cx="2160720" cy="2305080"/>
          </a:xfrm>
        </p:grpSpPr>
        <p:sp>
          <p:nvSpPr>
            <p:cNvPr id="135" name="Rectangle 13"/>
            <p:cNvSpPr/>
            <p:nvPr/>
          </p:nvSpPr>
          <p:spPr>
            <a:xfrm>
              <a:off x="6002280" y="136512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4" descr=""/>
            <p:cNvPicPr/>
            <p:nvPr/>
          </p:nvPicPr>
          <p:blipFill>
            <a:blip r:embed="rId3"/>
            <a:stretch/>
          </p:blipFill>
          <p:spPr>
            <a:xfrm>
              <a:off x="6122880" y="216216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15"/>
          <p:cNvSpPr/>
          <p:nvPr/>
        </p:nvSpPr>
        <p:spPr>
          <a:xfrm>
            <a:off x="3297240" y="377028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12000" y="377028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3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A0C2537-7D40-40BB-8E89-7171FE6B6EE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2627280" y="1557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观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08000" y="638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 u="sng">
                <a:solidFill>
                  <a:srgbClr val="26420a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王玉清</cp:lastModifiedBy>
  <cp:lastPrinted>1899-12-30T00:00:00Z</cp:lastPrinted>
  <dcterms:modified xsi:type="dcterms:W3CDTF">2016-02-22T02:55:10Z</dcterms:modified>
  <cp:revision>269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</Properties>
</file>