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hdphoto5.wdp" ContentType="image/vnd.ms-photo"/>
  <Override PartName="/ppt/media/image15.png" ContentType="image/png"/>
  <Override PartName="/ppt/media/image21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8.png" ContentType="image/png"/>
  <Override PartName="/ppt/media/image25.png" ContentType="image/png"/>
  <Override PartName="/ppt/media/image2.png" ContentType="image/png"/>
  <Override PartName="/ppt/media/image9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hdphoto1.wdp" ContentType="image/vnd.ms-photo"/>
  <Override PartName="/ppt/media/image11.png" ContentType="image/png"/>
  <Override PartName="/ppt/media/image17.png" ContentType="image/png"/>
  <Override PartName="/ppt/media/hdphoto2.wdp" ContentType="image/vnd.ms-photo"/>
  <Override PartName="/ppt/media/image12.png" ContentType="image/png"/>
  <Override PartName="/ppt/media/image18.png" ContentType="image/png"/>
  <Override PartName="/ppt/media/image20.png" ContentType="image/png"/>
  <Override PartName="/ppt/media/hdphoto3.wdp" ContentType="image/vnd.ms-photo"/>
  <Override PartName="/ppt/media/image13.png" ContentType="image/png"/>
  <Override PartName="/ppt/media/image19.png" ContentType="image/png"/>
  <Override PartName="/ppt/media/hdphoto4.wdp" ContentType="image/vnd.ms-photo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197F0AD-C181-41D9-907D-9F06112B445B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FD6F3289-C7E7-41C6-9C3B-D08D623CC249}">
      <dgm:prSet phldrT="[文本]" custT="1"/>
      <dgm:spPr>
        <a:solidFill>
          <a:srgbClr val="2FA1CF"/>
        </a:solidFill>
      </dgm:spPr>
      <dgm:t>
        <a:bodyPr/>
        <a:lstStyle/>
        <a:p>
          <a:endParaRPr lang="zh-CN" altLang="en-US" sz="1800" dirty="0"/>
        </a:p>
      </dgm:t>
    </dgm:pt>
    <dgm:pt modelId="{4705F2CD-8C81-4797-94E6-BCC48685C340}" type="parTrans" cxnId="{7B1B322C-A3F2-4575-A6C3-2F8F27227D56}">
      <dgm:prSet/>
      <dgm:spPr/>
      <dgm:t>
        <a:bodyPr/>
        <a:lstStyle/>
        <a:p>
          <a:endParaRPr lang="zh-CN" altLang="en-US"/>
        </a:p>
      </dgm:t>
    </dgm:pt>
    <dgm:pt modelId="{EEF7AB97-BB71-4E6D-98E1-2CA07C46537C}" type="sibTrans" cxnId="{7B1B322C-A3F2-4575-A6C3-2F8F27227D56}">
      <dgm:prSet/>
      <dgm:spPr/>
      <dgm:t>
        <a:bodyPr/>
        <a:lstStyle/>
        <a:p>
          <a:endParaRPr lang="zh-CN" altLang="en-US"/>
        </a:p>
      </dgm:t>
    </dgm:pt>
    <dgm:pt modelId="{6812942D-FECD-45BB-A193-E61811004E9C}">
      <dgm:prSet/>
      <dgm:spPr>
        <a:solidFill>
          <a:srgbClr val="2FA1CF"/>
        </a:solidFill>
      </dgm:spPr>
      <dgm:t>
        <a:bodyPr/>
        <a:lstStyle/>
        <a:p>
          <a:endParaRPr lang="zh-CN" altLang="en-US"/>
        </a:p>
      </dgm:t>
    </dgm:pt>
    <dgm:pt modelId="{7DB70942-87F9-418E-92AB-802060146A2F}" type="parTrans" cxnId="{6BF896EB-363A-49A8-B1C1-7BF6BB2B3FED}">
      <dgm:prSet/>
      <dgm:spPr/>
      <dgm:t>
        <a:bodyPr/>
        <a:lstStyle/>
        <a:p>
          <a:endParaRPr lang="zh-CN" altLang="en-US"/>
        </a:p>
      </dgm:t>
    </dgm:pt>
    <dgm:pt modelId="{F5CF741F-F2BA-4ACF-AFCA-927698B0AD05}" type="sibTrans" cxnId="{6BF896EB-363A-49A8-B1C1-7BF6BB2B3FED}">
      <dgm:prSet/>
      <dgm:spPr/>
      <dgm:t>
        <a:bodyPr/>
        <a:lstStyle/>
        <a:p>
          <a:endParaRPr lang="zh-CN" altLang="en-US"/>
        </a:p>
      </dgm:t>
    </dgm:pt>
    <dgm:pt modelId="{C146C0CB-925E-4F07-AA4A-12C5FE7C5E36}">
      <dgm:prSet/>
      <dgm:spPr>
        <a:solidFill>
          <a:srgbClr val="2FA1CF"/>
        </a:solidFill>
      </dgm:spPr>
      <dgm:t>
        <a:bodyPr/>
        <a:lstStyle/>
        <a:p>
          <a:endParaRPr lang="zh-CN" altLang="en-US" dirty="0"/>
        </a:p>
      </dgm:t>
    </dgm:pt>
    <dgm:pt modelId="{DAA9DC78-03A9-47A6-BEED-15D628CC9767}" type="parTrans" cxnId="{4420E34F-9EF5-4555-9E0E-C7E2898F03BA}">
      <dgm:prSet/>
      <dgm:spPr/>
      <dgm:t>
        <a:bodyPr/>
        <a:lstStyle/>
        <a:p>
          <a:endParaRPr lang="zh-CN" altLang="en-US"/>
        </a:p>
      </dgm:t>
    </dgm:pt>
    <dgm:pt modelId="{923A6F7E-5730-4313-BC1A-87C64566DA99}" type="sibTrans" cxnId="{4420E34F-9EF5-4555-9E0E-C7E2898F03BA}">
      <dgm:prSet/>
      <dgm:spPr/>
      <dgm:t>
        <a:bodyPr/>
        <a:lstStyle/>
        <a:p>
          <a:endParaRPr lang="zh-CN" altLang="en-US"/>
        </a:p>
      </dgm:t>
    </dgm:pt>
    <dgm:pt modelId="{CDDADB55-D6C4-49DD-A767-03863978DE3C}">
      <dgm:prSet phldrT="[文本]"/>
      <dgm:spPr>
        <a:solidFill>
          <a:srgbClr val="2FA1CF"/>
        </a:solidFill>
      </dgm:spPr>
      <dgm:t>
        <a:bodyPr/>
        <a:lstStyle/>
        <a:p>
          <a:r>
            <a:rPr lang="en-US" altLang="zh-CN" dirty="0" smtClean="0">
              <a:solidFill>
                <a:srgbClr val="2FA1CF"/>
              </a:solidFill>
            </a:rPr>
            <a:t>.</a:t>
          </a:r>
          <a:endParaRPr lang="zh-CN" altLang="en-US" dirty="0">
            <a:solidFill>
              <a:srgbClr val="2FA1CF"/>
            </a:solidFill>
          </a:endParaRPr>
        </a:p>
      </dgm:t>
    </dgm:pt>
    <dgm:pt modelId="{580E57E4-F7E5-41FE-8EEF-9D870355F702}" type="sibTrans" cxnId="{15331A71-C2DF-49D0-869B-7CCC65D0A369}">
      <dgm:prSet/>
      <dgm:spPr/>
      <dgm:t>
        <a:bodyPr/>
        <a:lstStyle/>
        <a:p>
          <a:endParaRPr lang="zh-CN" altLang="en-US"/>
        </a:p>
      </dgm:t>
    </dgm:pt>
    <dgm:pt modelId="{BD014995-E08B-40C7-A5DD-9B9723376A21}" type="parTrans" cxnId="{15331A71-C2DF-49D0-869B-7CCC65D0A369}">
      <dgm:prSet/>
      <dgm:spPr/>
      <dgm:t>
        <a:bodyPr/>
        <a:lstStyle/>
        <a:p>
          <a:endParaRPr lang="zh-CN" altLang="en-US"/>
        </a:p>
      </dgm:t>
    </dgm:pt>
    <dgm:pt modelId="{195311DE-6338-4E44-A0D0-7D6327F9EA83}">
      <dgm:prSet phldrT="[文本]"/>
      <dgm:spPr>
        <a:solidFill>
          <a:srgbClr val="2FA1CF"/>
        </a:solidFill>
      </dgm:spPr>
      <dgm:t>
        <a:bodyPr/>
        <a:lstStyle/>
        <a:p>
          <a:r>
            <a:rPr lang="en-US" altLang="zh-CN" dirty="0" smtClean="0">
              <a:solidFill>
                <a:srgbClr val="2FA1CF"/>
              </a:solidFill>
            </a:rPr>
            <a:t>.</a:t>
          </a:r>
          <a:endParaRPr lang="zh-CN" altLang="en-US" dirty="0">
            <a:solidFill>
              <a:srgbClr val="2FA1CF"/>
            </a:solidFill>
          </a:endParaRPr>
        </a:p>
      </dgm:t>
    </dgm:pt>
    <dgm:pt modelId="{E51D12A0-7486-47F3-983A-601AE212E9E0}" type="sibTrans" cxnId="{C9292B2C-FD8C-4AE8-BCC3-1ADFA55A53BD}">
      <dgm:prSet/>
      <dgm:spPr/>
      <dgm:t>
        <a:bodyPr/>
        <a:lstStyle/>
        <a:p>
          <a:endParaRPr lang="zh-CN" altLang="en-US"/>
        </a:p>
      </dgm:t>
    </dgm:pt>
    <dgm:pt modelId="{407B0728-8B78-461E-96D4-CFC8F3DE975A}" type="parTrans" cxnId="{C9292B2C-FD8C-4AE8-BCC3-1ADFA55A53BD}">
      <dgm:prSet/>
      <dgm:spPr/>
      <dgm:t>
        <a:bodyPr/>
        <a:lstStyle/>
        <a:p>
          <a:endParaRPr lang="zh-CN" altLang="en-US"/>
        </a:p>
      </dgm:t>
    </dgm:pt>
    <dgm:pt modelId="{73A87E17-9AFB-4868-8D96-F27C62EB55F2}" type="pres">
      <dgm:prSet presAssocID="{1197F0AD-C181-41D9-907D-9F06112B445B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1BEB5724-A23E-4EAD-8E18-03E0B0AC94EE}" type="pres">
      <dgm:prSet presAssocID="{FD6F3289-C7E7-41C6-9C3B-D08D623CC249}" presName="parentLin" presStyleCnt="0"/>
      <dgm:spPr/>
    </dgm:pt>
    <dgm:pt modelId="{DEDB34A7-7D82-4C7B-8419-205AB3EEA12E}" type="pres">
      <dgm:prSet presAssocID="{FD6F3289-C7E7-41C6-9C3B-D08D623CC249}" presName="parentLeftMargin" presStyleLbl="node1" presStyleIdx="0" presStyleCnt="5"/>
      <dgm:spPr/>
      <dgm:t>
        <a:bodyPr/>
        <a:lstStyle/>
        <a:p>
          <a:endParaRPr lang="zh-CN" altLang="en-US"/>
        </a:p>
      </dgm:t>
    </dgm:pt>
    <dgm:pt modelId="{2C5FE874-C089-44F8-8761-62F84B355737}" type="pres">
      <dgm:prSet presAssocID="{FD6F3289-C7E7-41C6-9C3B-D08D623CC249}" presName="parentText" presStyleLbl="node1" presStyleIdx="0" presStyleCnt="5" custScaleX="94910" custScaleY="243902" custLinFactNeighborX="-96429" custLinFactNeighborY="19475">
        <dgm:presLayoutVars>
          <dgm:chMax val="0"/>
          <dgm:bulletEnabled val="1"/>
        </dgm:presLayoutVars>
      </dgm:prSet>
      <dgm:spPr>
        <a:prstGeom prst="snip1Rect">
          <a:avLst/>
        </a:prstGeom>
      </dgm:spPr>
      <dgm:t>
        <a:bodyPr/>
        <a:lstStyle/>
        <a:p>
          <a:endParaRPr lang="zh-CN" altLang="en-US"/>
        </a:p>
      </dgm:t>
    </dgm:pt>
    <dgm:pt modelId="{AF1CC69F-BFBB-4E85-BA87-FED664FDA274}" type="pres">
      <dgm:prSet presAssocID="{FD6F3289-C7E7-41C6-9C3B-D08D623CC249}" presName="negativeSpace" presStyleCnt="0"/>
      <dgm:spPr/>
    </dgm:pt>
    <dgm:pt modelId="{B1D3D2B6-1A54-4BF4-80D8-5E3DA856C822}" type="pres">
      <dgm:prSet presAssocID="{FD6F3289-C7E7-41C6-9C3B-D08D623CC249}" presName="childText" presStyleLbl="conFgAcc1" presStyleIdx="0" presStyleCnt="5" custScaleX="79724">
        <dgm:presLayoutVars>
          <dgm:bulletEnabled val="1"/>
        </dgm:presLayoutVars>
      </dgm:prSet>
      <dgm:spPr>
        <a:ln>
          <a:solidFill>
            <a:srgbClr val="2FA1CF"/>
          </a:solidFill>
        </a:ln>
      </dgm:spPr>
    </dgm:pt>
    <dgm:pt modelId="{8A333E03-471A-4243-8DF4-933A4EFC8F1E}" type="pres">
      <dgm:prSet presAssocID="{EEF7AB97-BB71-4E6D-98E1-2CA07C46537C}" presName="spaceBetweenRectangles" presStyleCnt="0"/>
      <dgm:spPr/>
    </dgm:pt>
    <dgm:pt modelId="{8E058EBD-477D-4FCD-A897-4266BB79D377}" type="pres">
      <dgm:prSet presAssocID="{6812942D-FECD-45BB-A193-E61811004E9C}" presName="parentLin" presStyleCnt="0"/>
      <dgm:spPr/>
    </dgm:pt>
    <dgm:pt modelId="{F959D381-7FEA-40C9-8046-FCA66FE51E76}" type="pres">
      <dgm:prSet presAssocID="{6812942D-FECD-45BB-A193-E61811004E9C}" presName="parentLeftMargin" presStyleLbl="node1" presStyleIdx="0" presStyleCnt="5"/>
      <dgm:spPr/>
      <dgm:t>
        <a:bodyPr/>
        <a:lstStyle/>
        <a:p>
          <a:endParaRPr lang="zh-CN" altLang="en-US"/>
        </a:p>
      </dgm:t>
    </dgm:pt>
    <dgm:pt modelId="{03F88256-C4F1-4DF5-90B7-7AF201340DAA}" type="pres">
      <dgm:prSet presAssocID="{6812942D-FECD-45BB-A193-E61811004E9C}" presName="parentText" presStyleLbl="node1" presStyleIdx="1" presStyleCnt="5" custScaleX="94910" custScaleY="261324" custLinFactNeighborX="-100000" custLinFactNeighborY="-2235">
        <dgm:presLayoutVars>
          <dgm:chMax val="0"/>
          <dgm:bulletEnabled val="1"/>
        </dgm:presLayoutVars>
      </dgm:prSet>
      <dgm:spPr>
        <a:prstGeom prst="snip1Rect">
          <a:avLst/>
        </a:prstGeom>
      </dgm:spPr>
      <dgm:t>
        <a:bodyPr/>
        <a:lstStyle/>
        <a:p>
          <a:endParaRPr lang="zh-CN" altLang="en-US"/>
        </a:p>
      </dgm:t>
    </dgm:pt>
    <dgm:pt modelId="{7CE7095B-3ADA-4AC6-A8B0-9E92C8C1C7DE}" type="pres">
      <dgm:prSet presAssocID="{6812942D-FECD-45BB-A193-E61811004E9C}" presName="negativeSpace" presStyleCnt="0"/>
      <dgm:spPr/>
    </dgm:pt>
    <dgm:pt modelId="{6C3AE250-39C5-48DD-B150-0556126813AF}" type="pres">
      <dgm:prSet presAssocID="{6812942D-FECD-45BB-A193-E61811004E9C}" presName="childText" presStyleLbl="conFgAcc1" presStyleIdx="1" presStyleCnt="5" custScaleX="79724">
        <dgm:presLayoutVars>
          <dgm:bulletEnabled val="1"/>
        </dgm:presLayoutVars>
      </dgm:prSet>
      <dgm:spPr>
        <a:ln>
          <a:solidFill>
            <a:srgbClr val="2FA1CF"/>
          </a:solidFill>
        </a:ln>
      </dgm:spPr>
    </dgm:pt>
    <dgm:pt modelId="{9257D45B-3481-4265-9DE7-5E3C0670C125}" type="pres">
      <dgm:prSet presAssocID="{F5CF741F-F2BA-4ACF-AFCA-927698B0AD05}" presName="spaceBetweenRectangles" presStyleCnt="0"/>
      <dgm:spPr/>
    </dgm:pt>
    <dgm:pt modelId="{B7DBF481-9FAB-4FFE-9F05-C8F0758665AB}" type="pres">
      <dgm:prSet presAssocID="{C146C0CB-925E-4F07-AA4A-12C5FE7C5E36}" presName="parentLin" presStyleCnt="0"/>
      <dgm:spPr/>
    </dgm:pt>
    <dgm:pt modelId="{3224E5EB-4841-4F13-99CD-32FE344ECAC7}" type="pres">
      <dgm:prSet presAssocID="{C146C0CB-925E-4F07-AA4A-12C5FE7C5E36}" presName="parentLeftMargin" presStyleLbl="node1" presStyleIdx="1" presStyleCnt="5"/>
      <dgm:spPr/>
      <dgm:t>
        <a:bodyPr/>
        <a:lstStyle/>
        <a:p>
          <a:endParaRPr lang="zh-CN" altLang="en-US"/>
        </a:p>
      </dgm:t>
    </dgm:pt>
    <dgm:pt modelId="{A488DF86-57E7-49DD-B3CC-B6E0B29140A3}" type="pres">
      <dgm:prSet presAssocID="{C146C0CB-925E-4F07-AA4A-12C5FE7C5E36}" presName="parentText" presStyleLbl="node1" presStyleIdx="2" presStyleCnt="5" custScaleX="94910" custScaleY="281426" custLinFactNeighborX="-100000" custLinFactNeighborY="1200">
        <dgm:presLayoutVars>
          <dgm:chMax val="0"/>
          <dgm:bulletEnabled val="1"/>
        </dgm:presLayoutVars>
      </dgm:prSet>
      <dgm:spPr>
        <a:prstGeom prst="snip1Rect">
          <a:avLst/>
        </a:prstGeom>
      </dgm:spPr>
      <dgm:t>
        <a:bodyPr/>
        <a:lstStyle/>
        <a:p>
          <a:endParaRPr lang="zh-CN" altLang="en-US"/>
        </a:p>
      </dgm:t>
    </dgm:pt>
    <dgm:pt modelId="{1DD82CB4-7725-43C0-BA5B-BAB8EE2B37DA}" type="pres">
      <dgm:prSet presAssocID="{C146C0CB-925E-4F07-AA4A-12C5FE7C5E36}" presName="negativeSpace" presStyleCnt="0"/>
      <dgm:spPr/>
    </dgm:pt>
    <dgm:pt modelId="{87D245AF-0E24-467A-8137-368E096ABC73}" type="pres">
      <dgm:prSet presAssocID="{C146C0CB-925E-4F07-AA4A-12C5FE7C5E36}" presName="childText" presStyleLbl="conFgAcc1" presStyleIdx="2" presStyleCnt="5" custScaleX="79724">
        <dgm:presLayoutVars>
          <dgm:bulletEnabled val="1"/>
        </dgm:presLayoutVars>
      </dgm:prSet>
      <dgm:spPr>
        <a:ln>
          <a:solidFill>
            <a:srgbClr val="2FA1CF"/>
          </a:solidFill>
        </a:ln>
      </dgm:spPr>
    </dgm:pt>
    <dgm:pt modelId="{9396D426-CBE8-49EB-AF4B-6001B6A1B885}" type="pres">
      <dgm:prSet presAssocID="{923A6F7E-5730-4313-BC1A-87C64566DA99}" presName="spaceBetweenRectangles" presStyleCnt="0"/>
      <dgm:spPr/>
    </dgm:pt>
    <dgm:pt modelId="{7CC2F26A-CB3A-4AEC-991B-B611C6CF2D4F}" type="pres">
      <dgm:prSet presAssocID="{CDDADB55-D6C4-49DD-A767-03863978DE3C}" presName="parentLin" presStyleCnt="0"/>
      <dgm:spPr/>
    </dgm:pt>
    <dgm:pt modelId="{12FD556A-9EC3-4A7E-89D4-805F86EC4531}" type="pres">
      <dgm:prSet presAssocID="{CDDADB55-D6C4-49DD-A767-03863978DE3C}" presName="parentLeftMargin" presStyleLbl="node1" presStyleIdx="2" presStyleCnt="5"/>
      <dgm:spPr/>
      <dgm:t>
        <a:bodyPr/>
        <a:lstStyle/>
        <a:p>
          <a:endParaRPr lang="zh-CN" altLang="en-US"/>
        </a:p>
      </dgm:t>
    </dgm:pt>
    <dgm:pt modelId="{E4834C71-8380-481D-BBCF-606F51C2A3F4}" type="pres">
      <dgm:prSet presAssocID="{CDDADB55-D6C4-49DD-A767-03863978DE3C}" presName="parentText" presStyleLbl="node1" presStyleIdx="3" presStyleCnt="5" custScaleX="94910" custScaleY="304878" custLinFactNeighborX="-100000" custLinFactNeighborY="-2215">
        <dgm:presLayoutVars>
          <dgm:chMax val="0"/>
          <dgm:bulletEnabled val="1"/>
        </dgm:presLayoutVars>
      </dgm:prSet>
      <dgm:spPr>
        <a:prstGeom prst="snip1Rect">
          <a:avLst/>
        </a:prstGeom>
      </dgm:spPr>
      <dgm:t>
        <a:bodyPr/>
        <a:lstStyle/>
        <a:p>
          <a:endParaRPr lang="zh-CN" altLang="en-US"/>
        </a:p>
      </dgm:t>
    </dgm:pt>
    <dgm:pt modelId="{B3FE2714-2E3C-405C-BB28-27E842DFA6FC}" type="pres">
      <dgm:prSet presAssocID="{CDDADB55-D6C4-49DD-A767-03863978DE3C}" presName="negativeSpace" presStyleCnt="0"/>
      <dgm:spPr/>
    </dgm:pt>
    <dgm:pt modelId="{C5F70C34-3A94-4D53-AB9C-71AC1D37265E}" type="pres">
      <dgm:prSet presAssocID="{CDDADB55-D6C4-49DD-A767-03863978DE3C}" presName="childText" presStyleLbl="conFgAcc1" presStyleIdx="3" presStyleCnt="5" custScaleX="79724">
        <dgm:presLayoutVars>
          <dgm:bulletEnabled val="1"/>
        </dgm:presLayoutVars>
      </dgm:prSet>
      <dgm:spPr>
        <a:ln>
          <a:solidFill>
            <a:srgbClr val="2FA1CF"/>
          </a:solidFill>
        </a:ln>
      </dgm:spPr>
    </dgm:pt>
    <dgm:pt modelId="{E3FA2130-292C-48E0-B93C-323B6932B757}" type="pres">
      <dgm:prSet presAssocID="{580E57E4-F7E5-41FE-8EEF-9D870355F702}" presName="spaceBetweenRectangles" presStyleCnt="0"/>
      <dgm:spPr/>
    </dgm:pt>
    <dgm:pt modelId="{968BDFD6-79DC-4F03-BC50-3B59B4E0FE2A}" type="pres">
      <dgm:prSet presAssocID="{195311DE-6338-4E44-A0D0-7D6327F9EA83}" presName="parentLin" presStyleCnt="0"/>
      <dgm:spPr/>
    </dgm:pt>
    <dgm:pt modelId="{7C691BC5-C482-4C7E-BAA0-34DAAF20BF92}" type="pres">
      <dgm:prSet presAssocID="{195311DE-6338-4E44-A0D0-7D6327F9EA83}" presName="parentLeftMargin" presStyleLbl="node1" presStyleIdx="3" presStyleCnt="5"/>
      <dgm:spPr/>
      <dgm:t>
        <a:bodyPr/>
        <a:lstStyle/>
        <a:p>
          <a:endParaRPr lang="zh-CN" altLang="en-US"/>
        </a:p>
      </dgm:t>
    </dgm:pt>
    <dgm:pt modelId="{B571212C-B829-4D26-B1CF-5C8A01DEAD8B}" type="pres">
      <dgm:prSet presAssocID="{195311DE-6338-4E44-A0D0-7D6327F9EA83}" presName="parentText" presStyleLbl="node1" presStyleIdx="4" presStyleCnt="5" custScaleX="94910" custScaleY="332594" custLinFactNeighborX="-100000" custLinFactNeighborY="13545">
        <dgm:presLayoutVars>
          <dgm:chMax val="0"/>
          <dgm:bulletEnabled val="1"/>
        </dgm:presLayoutVars>
      </dgm:prSet>
      <dgm:spPr>
        <a:prstGeom prst="snip1Rect">
          <a:avLst/>
        </a:prstGeom>
      </dgm:spPr>
      <dgm:t>
        <a:bodyPr/>
        <a:lstStyle/>
        <a:p>
          <a:endParaRPr lang="zh-CN" altLang="en-US"/>
        </a:p>
      </dgm:t>
    </dgm:pt>
    <dgm:pt modelId="{FA8B54B6-0BD4-4CED-BA9D-CB5FF23E2FF5}" type="pres">
      <dgm:prSet presAssocID="{195311DE-6338-4E44-A0D0-7D6327F9EA83}" presName="negativeSpace" presStyleCnt="0"/>
      <dgm:spPr/>
    </dgm:pt>
    <dgm:pt modelId="{100B43E1-29B3-478F-BE8E-27A2B7CE4A20}" type="pres">
      <dgm:prSet presAssocID="{195311DE-6338-4E44-A0D0-7D6327F9EA83}" presName="childText" presStyleLbl="conFgAcc1" presStyleIdx="4" presStyleCnt="5" custScaleX="79724">
        <dgm:presLayoutVars>
          <dgm:bulletEnabled val="1"/>
        </dgm:presLayoutVars>
      </dgm:prSet>
      <dgm:spPr>
        <a:ln>
          <a:solidFill>
            <a:srgbClr val="2FA1CF"/>
          </a:solidFill>
        </a:ln>
      </dgm:spPr>
    </dgm:pt>
  </dgm:ptLst>
  <dgm:cxnLst>
    <dgm:cxn modelId="{C243AC26-DEBC-4C8A-8DD3-E89C8F8C15AB}" type="presOf" srcId="{195311DE-6338-4E44-A0D0-7D6327F9EA83}" destId="{7C691BC5-C482-4C7E-BAA0-34DAAF20BF92}" srcOrd="0" destOrd="0" presId="urn:microsoft.com/office/officeart/2005/8/layout/list1"/>
    <dgm:cxn modelId="{EDC2AE33-F473-461F-9E37-0FE68303FF34}" type="presOf" srcId="{CDDADB55-D6C4-49DD-A767-03863978DE3C}" destId="{12FD556A-9EC3-4A7E-89D4-805F86EC4531}" srcOrd="0" destOrd="0" presId="urn:microsoft.com/office/officeart/2005/8/layout/list1"/>
    <dgm:cxn modelId="{E5EC9CB3-66F7-4A35-8193-D7716019074B}" type="presOf" srcId="{FD6F3289-C7E7-41C6-9C3B-D08D623CC249}" destId="{2C5FE874-C089-44F8-8761-62F84B355737}" srcOrd="1" destOrd="0" presId="urn:microsoft.com/office/officeart/2005/8/layout/list1"/>
    <dgm:cxn modelId="{15331A71-C2DF-49D0-869B-7CCC65D0A369}" srcId="{1197F0AD-C181-41D9-907D-9F06112B445B}" destId="{CDDADB55-D6C4-49DD-A767-03863978DE3C}" srcOrd="3" destOrd="0" parTransId="{BD014995-E08B-40C7-A5DD-9B9723376A21}" sibTransId="{580E57E4-F7E5-41FE-8EEF-9D870355F702}"/>
    <dgm:cxn modelId="{7B1B322C-A3F2-4575-A6C3-2F8F27227D56}" srcId="{1197F0AD-C181-41D9-907D-9F06112B445B}" destId="{FD6F3289-C7E7-41C6-9C3B-D08D623CC249}" srcOrd="0" destOrd="0" parTransId="{4705F2CD-8C81-4797-94E6-BCC48685C340}" sibTransId="{EEF7AB97-BB71-4E6D-98E1-2CA07C46537C}"/>
    <dgm:cxn modelId="{C9292B2C-FD8C-4AE8-BCC3-1ADFA55A53BD}" srcId="{1197F0AD-C181-41D9-907D-9F06112B445B}" destId="{195311DE-6338-4E44-A0D0-7D6327F9EA83}" srcOrd="4" destOrd="0" parTransId="{407B0728-8B78-461E-96D4-CFC8F3DE975A}" sibTransId="{E51D12A0-7486-47F3-983A-601AE212E9E0}"/>
    <dgm:cxn modelId="{E06482D4-39E8-4385-BC66-C0B88989BC44}" type="presOf" srcId="{FD6F3289-C7E7-41C6-9C3B-D08D623CC249}" destId="{DEDB34A7-7D82-4C7B-8419-205AB3EEA12E}" srcOrd="0" destOrd="0" presId="urn:microsoft.com/office/officeart/2005/8/layout/list1"/>
    <dgm:cxn modelId="{4420E34F-9EF5-4555-9E0E-C7E2898F03BA}" srcId="{1197F0AD-C181-41D9-907D-9F06112B445B}" destId="{C146C0CB-925E-4F07-AA4A-12C5FE7C5E36}" srcOrd="2" destOrd="0" parTransId="{DAA9DC78-03A9-47A6-BEED-15D628CC9767}" sibTransId="{923A6F7E-5730-4313-BC1A-87C64566DA99}"/>
    <dgm:cxn modelId="{3EAD77C6-671C-4C18-AF99-F39C4DB35905}" type="presOf" srcId="{195311DE-6338-4E44-A0D0-7D6327F9EA83}" destId="{B571212C-B829-4D26-B1CF-5C8A01DEAD8B}" srcOrd="1" destOrd="0" presId="urn:microsoft.com/office/officeart/2005/8/layout/list1"/>
    <dgm:cxn modelId="{6BF896EB-363A-49A8-B1C1-7BF6BB2B3FED}" srcId="{1197F0AD-C181-41D9-907D-9F06112B445B}" destId="{6812942D-FECD-45BB-A193-E61811004E9C}" srcOrd="1" destOrd="0" parTransId="{7DB70942-87F9-418E-92AB-802060146A2F}" sibTransId="{F5CF741F-F2BA-4ACF-AFCA-927698B0AD05}"/>
    <dgm:cxn modelId="{546C7372-6681-4FA9-9BEF-CB0F81AB1F48}" type="presOf" srcId="{6812942D-FECD-45BB-A193-E61811004E9C}" destId="{03F88256-C4F1-4DF5-90B7-7AF201340DAA}" srcOrd="1" destOrd="0" presId="urn:microsoft.com/office/officeart/2005/8/layout/list1"/>
    <dgm:cxn modelId="{D70237DD-6422-4D01-AA46-9F14B43B3CCF}" type="presOf" srcId="{6812942D-FECD-45BB-A193-E61811004E9C}" destId="{F959D381-7FEA-40C9-8046-FCA66FE51E76}" srcOrd="0" destOrd="0" presId="urn:microsoft.com/office/officeart/2005/8/layout/list1"/>
    <dgm:cxn modelId="{F8B61A08-B624-4F01-BCB5-5C2283287A78}" type="presOf" srcId="{CDDADB55-D6C4-49DD-A767-03863978DE3C}" destId="{E4834C71-8380-481D-BBCF-606F51C2A3F4}" srcOrd="1" destOrd="0" presId="urn:microsoft.com/office/officeart/2005/8/layout/list1"/>
    <dgm:cxn modelId="{5747D388-D323-4D6B-9F49-0A6ECB8B28FC}" type="presOf" srcId="{1197F0AD-C181-41D9-907D-9F06112B445B}" destId="{73A87E17-9AFB-4868-8D96-F27C62EB55F2}" srcOrd="0" destOrd="0" presId="urn:microsoft.com/office/officeart/2005/8/layout/list1"/>
    <dgm:cxn modelId="{F12D58CB-8698-4A19-B04C-8FDD7E593AE6}" type="presOf" srcId="{C146C0CB-925E-4F07-AA4A-12C5FE7C5E36}" destId="{3224E5EB-4841-4F13-99CD-32FE344ECAC7}" srcOrd="0" destOrd="0" presId="urn:microsoft.com/office/officeart/2005/8/layout/list1"/>
    <dgm:cxn modelId="{6B38A463-0EF1-4EC5-9E9B-9D8CF92C9A88}" type="presOf" srcId="{C146C0CB-925E-4F07-AA4A-12C5FE7C5E36}" destId="{A488DF86-57E7-49DD-B3CC-B6E0B29140A3}" srcOrd="1" destOrd="0" presId="urn:microsoft.com/office/officeart/2005/8/layout/list1"/>
    <dgm:cxn modelId="{4521D132-221D-4751-9C09-419C08913DAE}" type="presParOf" srcId="{73A87E17-9AFB-4868-8D96-F27C62EB55F2}" destId="{1BEB5724-A23E-4EAD-8E18-03E0B0AC94EE}" srcOrd="0" destOrd="0" presId="urn:microsoft.com/office/officeart/2005/8/layout/list1"/>
    <dgm:cxn modelId="{29661E3F-FBE6-4005-952A-D5A70B813AB6}" type="presParOf" srcId="{1BEB5724-A23E-4EAD-8E18-03E0B0AC94EE}" destId="{DEDB34A7-7D82-4C7B-8419-205AB3EEA12E}" srcOrd="0" destOrd="0" presId="urn:microsoft.com/office/officeart/2005/8/layout/list1"/>
    <dgm:cxn modelId="{5AC0AC8E-8C4D-4E46-AF1F-417E59681FC4}" type="presParOf" srcId="{1BEB5724-A23E-4EAD-8E18-03E0B0AC94EE}" destId="{2C5FE874-C089-44F8-8761-62F84B355737}" srcOrd="1" destOrd="0" presId="urn:microsoft.com/office/officeart/2005/8/layout/list1"/>
    <dgm:cxn modelId="{9B8A6FB8-4717-43AB-A149-24B8CDC0B2D1}" type="presParOf" srcId="{73A87E17-9AFB-4868-8D96-F27C62EB55F2}" destId="{AF1CC69F-BFBB-4E85-BA87-FED664FDA274}" srcOrd="1" destOrd="0" presId="urn:microsoft.com/office/officeart/2005/8/layout/list1"/>
    <dgm:cxn modelId="{68EF7CCA-21BA-43B6-A243-6289D9A15631}" type="presParOf" srcId="{73A87E17-9AFB-4868-8D96-F27C62EB55F2}" destId="{B1D3D2B6-1A54-4BF4-80D8-5E3DA856C822}" srcOrd="2" destOrd="0" presId="urn:microsoft.com/office/officeart/2005/8/layout/list1"/>
    <dgm:cxn modelId="{1D82567C-CF54-4220-AC46-FF465446AA31}" type="presParOf" srcId="{73A87E17-9AFB-4868-8D96-F27C62EB55F2}" destId="{8A333E03-471A-4243-8DF4-933A4EFC8F1E}" srcOrd="3" destOrd="0" presId="urn:microsoft.com/office/officeart/2005/8/layout/list1"/>
    <dgm:cxn modelId="{56B50DD8-7840-4BF9-881F-28AFD26F5150}" type="presParOf" srcId="{73A87E17-9AFB-4868-8D96-F27C62EB55F2}" destId="{8E058EBD-477D-4FCD-A897-4266BB79D377}" srcOrd="4" destOrd="0" presId="urn:microsoft.com/office/officeart/2005/8/layout/list1"/>
    <dgm:cxn modelId="{CA51CBE1-AAA4-43B8-843C-C63146398D16}" type="presParOf" srcId="{8E058EBD-477D-4FCD-A897-4266BB79D377}" destId="{F959D381-7FEA-40C9-8046-FCA66FE51E76}" srcOrd="0" destOrd="0" presId="urn:microsoft.com/office/officeart/2005/8/layout/list1"/>
    <dgm:cxn modelId="{17BB75D0-C8DF-4A9B-B155-0E4A3A3B7C25}" type="presParOf" srcId="{8E058EBD-477D-4FCD-A897-4266BB79D377}" destId="{03F88256-C4F1-4DF5-90B7-7AF201340DAA}" srcOrd="1" destOrd="0" presId="urn:microsoft.com/office/officeart/2005/8/layout/list1"/>
    <dgm:cxn modelId="{B46BE764-4AE3-4711-93F4-81A0A278BB28}" type="presParOf" srcId="{73A87E17-9AFB-4868-8D96-F27C62EB55F2}" destId="{7CE7095B-3ADA-4AC6-A8B0-9E92C8C1C7DE}" srcOrd="5" destOrd="0" presId="urn:microsoft.com/office/officeart/2005/8/layout/list1"/>
    <dgm:cxn modelId="{768B4631-A88E-403C-BFF0-8B50F504829E}" type="presParOf" srcId="{73A87E17-9AFB-4868-8D96-F27C62EB55F2}" destId="{6C3AE250-39C5-48DD-B150-0556126813AF}" srcOrd="6" destOrd="0" presId="urn:microsoft.com/office/officeart/2005/8/layout/list1"/>
    <dgm:cxn modelId="{4EEAF2F5-FBF5-4ED6-BA6C-4AB0669F7DDF}" type="presParOf" srcId="{73A87E17-9AFB-4868-8D96-F27C62EB55F2}" destId="{9257D45B-3481-4265-9DE7-5E3C0670C125}" srcOrd="7" destOrd="0" presId="urn:microsoft.com/office/officeart/2005/8/layout/list1"/>
    <dgm:cxn modelId="{DD761941-4FEF-4D32-9417-C46E826C140D}" type="presParOf" srcId="{73A87E17-9AFB-4868-8D96-F27C62EB55F2}" destId="{B7DBF481-9FAB-4FFE-9F05-C8F0758665AB}" srcOrd="8" destOrd="0" presId="urn:microsoft.com/office/officeart/2005/8/layout/list1"/>
    <dgm:cxn modelId="{A3B9E0F6-8A27-435B-9138-A2059E21B048}" type="presParOf" srcId="{B7DBF481-9FAB-4FFE-9F05-C8F0758665AB}" destId="{3224E5EB-4841-4F13-99CD-32FE344ECAC7}" srcOrd="0" destOrd="0" presId="urn:microsoft.com/office/officeart/2005/8/layout/list1"/>
    <dgm:cxn modelId="{69FEAFA9-6C7C-4FA8-ACC9-E45484550562}" type="presParOf" srcId="{B7DBF481-9FAB-4FFE-9F05-C8F0758665AB}" destId="{A488DF86-57E7-49DD-B3CC-B6E0B29140A3}" srcOrd="1" destOrd="0" presId="urn:microsoft.com/office/officeart/2005/8/layout/list1"/>
    <dgm:cxn modelId="{73693CF7-D98D-4C09-A285-EBD16B86F327}" type="presParOf" srcId="{73A87E17-9AFB-4868-8D96-F27C62EB55F2}" destId="{1DD82CB4-7725-43C0-BA5B-BAB8EE2B37DA}" srcOrd="9" destOrd="0" presId="urn:microsoft.com/office/officeart/2005/8/layout/list1"/>
    <dgm:cxn modelId="{BA1C8452-238A-4A61-9D07-D6C2AB36C926}" type="presParOf" srcId="{73A87E17-9AFB-4868-8D96-F27C62EB55F2}" destId="{87D245AF-0E24-467A-8137-368E096ABC73}" srcOrd="10" destOrd="0" presId="urn:microsoft.com/office/officeart/2005/8/layout/list1"/>
    <dgm:cxn modelId="{EFAB424A-945A-466E-9E32-3E82384EAF09}" type="presParOf" srcId="{73A87E17-9AFB-4868-8D96-F27C62EB55F2}" destId="{9396D426-CBE8-49EB-AF4B-6001B6A1B885}" srcOrd="11" destOrd="0" presId="urn:microsoft.com/office/officeart/2005/8/layout/list1"/>
    <dgm:cxn modelId="{DF0A0154-F19C-4D4B-9966-72BECEF591A8}" type="presParOf" srcId="{73A87E17-9AFB-4868-8D96-F27C62EB55F2}" destId="{7CC2F26A-CB3A-4AEC-991B-B611C6CF2D4F}" srcOrd="12" destOrd="0" presId="urn:microsoft.com/office/officeart/2005/8/layout/list1"/>
    <dgm:cxn modelId="{D5C31711-4610-4070-B75E-39D32C2B46FB}" type="presParOf" srcId="{7CC2F26A-CB3A-4AEC-991B-B611C6CF2D4F}" destId="{12FD556A-9EC3-4A7E-89D4-805F86EC4531}" srcOrd="0" destOrd="0" presId="urn:microsoft.com/office/officeart/2005/8/layout/list1"/>
    <dgm:cxn modelId="{10147E7A-2B37-43DC-BA42-FA88B8A85E0E}" type="presParOf" srcId="{7CC2F26A-CB3A-4AEC-991B-B611C6CF2D4F}" destId="{E4834C71-8380-481D-BBCF-606F51C2A3F4}" srcOrd="1" destOrd="0" presId="urn:microsoft.com/office/officeart/2005/8/layout/list1"/>
    <dgm:cxn modelId="{A91C5B36-CBDD-4436-9401-E39526E5350A}" type="presParOf" srcId="{73A87E17-9AFB-4868-8D96-F27C62EB55F2}" destId="{B3FE2714-2E3C-405C-BB28-27E842DFA6FC}" srcOrd="13" destOrd="0" presId="urn:microsoft.com/office/officeart/2005/8/layout/list1"/>
    <dgm:cxn modelId="{1BFB268E-8940-41D3-B8D9-5BF034E1A3A9}" type="presParOf" srcId="{73A87E17-9AFB-4868-8D96-F27C62EB55F2}" destId="{C5F70C34-3A94-4D53-AB9C-71AC1D37265E}" srcOrd="14" destOrd="0" presId="urn:microsoft.com/office/officeart/2005/8/layout/list1"/>
    <dgm:cxn modelId="{1D329053-6724-457E-B719-2A8D7075BB15}" type="presParOf" srcId="{73A87E17-9AFB-4868-8D96-F27C62EB55F2}" destId="{E3FA2130-292C-48E0-B93C-323B6932B757}" srcOrd="15" destOrd="0" presId="urn:microsoft.com/office/officeart/2005/8/layout/list1"/>
    <dgm:cxn modelId="{8C4ACAF6-6F4B-490A-BDCB-58685BCB7D78}" type="presParOf" srcId="{73A87E17-9AFB-4868-8D96-F27C62EB55F2}" destId="{968BDFD6-79DC-4F03-BC50-3B59B4E0FE2A}" srcOrd="16" destOrd="0" presId="urn:microsoft.com/office/officeart/2005/8/layout/list1"/>
    <dgm:cxn modelId="{7D6EB8B2-8661-4DC1-A514-01044FC9C514}" type="presParOf" srcId="{968BDFD6-79DC-4F03-BC50-3B59B4E0FE2A}" destId="{7C691BC5-C482-4C7E-BAA0-34DAAF20BF92}" srcOrd="0" destOrd="0" presId="urn:microsoft.com/office/officeart/2005/8/layout/list1"/>
    <dgm:cxn modelId="{1853C832-D107-4618-9496-B70D01153739}" type="presParOf" srcId="{968BDFD6-79DC-4F03-BC50-3B59B4E0FE2A}" destId="{B571212C-B829-4D26-B1CF-5C8A01DEAD8B}" srcOrd="1" destOrd="0" presId="urn:microsoft.com/office/officeart/2005/8/layout/list1"/>
    <dgm:cxn modelId="{A0EA1A43-D54C-4E97-80EC-DD7AD464449D}" type="presParOf" srcId="{73A87E17-9AFB-4868-8D96-F27C62EB55F2}" destId="{FA8B54B6-0BD4-4CED-BA9D-CB5FF23E2FF5}" srcOrd="17" destOrd="0" presId="urn:microsoft.com/office/officeart/2005/8/layout/list1"/>
    <dgm:cxn modelId="{EDDD94B4-2524-4195-84B1-9D78B6EE53C9}" type="presParOf" srcId="{73A87E17-9AFB-4868-8D96-F27C62EB55F2}" destId="{100B43E1-29B3-478F-BE8E-27A2B7CE4A20}" srcOrd="18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9D39BCFA-6155-4C33-AD76-21E7685B2519}" type="doc">
      <dgm:prSet loTypeId="urn:microsoft.com/office/officeart/2005/8/layout/StepDown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4A6241F1-7DEE-45A6-8A45-CC0DEDD67B8D}">
      <dgm:prSet phldrT="[文本]"/>
      <dgm:spPr>
        <a:solidFill>
          <a:srgbClr val="FD5B5F"/>
        </a:solidFill>
      </dgm:spPr>
      <dgm:t>
        <a:bodyPr/>
        <a:lstStyle/>
        <a:p>
          <a:r>
            <a:rPr lang="en-US" altLang="zh-CN" dirty="0" smtClean="0"/>
            <a:t> </a:t>
          </a:r>
          <a:endParaRPr lang="zh-CN" altLang="en-US" dirty="0"/>
        </a:p>
      </dgm:t>
    </dgm:pt>
    <dgm:pt modelId="{7CB9653C-B0B0-4E71-AA80-834ED032B59D}" type="parTrans" cxnId="{3F5DD0FF-F363-4419-9A0A-10E4C944E297}">
      <dgm:prSet/>
      <dgm:spPr/>
      <dgm:t>
        <a:bodyPr/>
        <a:lstStyle/>
        <a:p>
          <a:endParaRPr lang="zh-CN" altLang="en-US"/>
        </a:p>
      </dgm:t>
    </dgm:pt>
    <dgm:pt modelId="{C9788707-3212-4917-BDFD-EC96C4B0B73C}" type="sibTrans" cxnId="{3F5DD0FF-F363-4419-9A0A-10E4C944E297}">
      <dgm:prSet/>
      <dgm:spPr/>
      <dgm:t>
        <a:bodyPr/>
        <a:lstStyle/>
        <a:p>
          <a:endParaRPr lang="zh-CN" altLang="en-US"/>
        </a:p>
      </dgm:t>
    </dgm:pt>
    <dgm:pt modelId="{BCDE28D4-BE6F-4734-996D-18B7322A9E7B}">
      <dgm:prSet phldrT="[文本]"/>
      <dgm:spPr>
        <a:solidFill>
          <a:srgbClr val="FD5B5F"/>
        </a:solidFill>
      </dgm:spPr>
      <dgm:t>
        <a:bodyPr/>
        <a:lstStyle/>
        <a:p>
          <a:r>
            <a:rPr lang="en-US" altLang="zh-CN" dirty="0" smtClean="0"/>
            <a:t> </a:t>
          </a:r>
          <a:endParaRPr lang="zh-CN" altLang="en-US" dirty="0"/>
        </a:p>
      </dgm:t>
    </dgm:pt>
    <dgm:pt modelId="{75A6861C-9787-48B8-98FF-E9632E0A2573}" type="parTrans" cxnId="{15D9DADA-7B3E-4659-B428-09B42B03AD24}">
      <dgm:prSet/>
      <dgm:spPr/>
      <dgm:t>
        <a:bodyPr/>
        <a:lstStyle/>
        <a:p>
          <a:endParaRPr lang="zh-CN" altLang="en-US"/>
        </a:p>
      </dgm:t>
    </dgm:pt>
    <dgm:pt modelId="{262309BB-D9C7-4F6F-A055-A87F5B86ABAC}" type="sibTrans" cxnId="{15D9DADA-7B3E-4659-B428-09B42B03AD24}">
      <dgm:prSet/>
      <dgm:spPr/>
      <dgm:t>
        <a:bodyPr/>
        <a:lstStyle/>
        <a:p>
          <a:endParaRPr lang="zh-CN" altLang="en-US"/>
        </a:p>
      </dgm:t>
    </dgm:pt>
    <dgm:pt modelId="{ECF4185F-7A47-4C96-B428-D7AEE6DFD332}">
      <dgm:prSet phldrT="[文本]"/>
      <dgm:spPr>
        <a:solidFill>
          <a:srgbClr val="FD5B5F"/>
        </a:solidFill>
      </dgm:spPr>
      <dgm:t>
        <a:bodyPr/>
        <a:lstStyle/>
        <a:p>
          <a:r>
            <a:rPr lang="en-US" altLang="zh-CN" dirty="0" smtClean="0"/>
            <a:t> </a:t>
          </a:r>
          <a:endParaRPr lang="zh-CN" altLang="en-US" dirty="0"/>
        </a:p>
      </dgm:t>
    </dgm:pt>
    <dgm:pt modelId="{A886895B-F1FF-4899-9414-9FBAA08E6B6E}" type="parTrans" cxnId="{DC323C34-B0B5-4383-8C36-FA6215FB2384}">
      <dgm:prSet/>
      <dgm:spPr/>
      <dgm:t>
        <a:bodyPr/>
        <a:lstStyle/>
        <a:p>
          <a:endParaRPr lang="zh-CN" altLang="en-US"/>
        </a:p>
      </dgm:t>
    </dgm:pt>
    <dgm:pt modelId="{ED23C2AE-E9C9-4EEB-9CB6-C51DAA3A400D}" type="sibTrans" cxnId="{DC323C34-B0B5-4383-8C36-FA6215FB2384}">
      <dgm:prSet/>
      <dgm:spPr/>
      <dgm:t>
        <a:bodyPr/>
        <a:lstStyle/>
        <a:p>
          <a:endParaRPr lang="zh-CN" altLang="en-US"/>
        </a:p>
      </dgm:t>
    </dgm:pt>
    <dgm:pt modelId="{053D5030-975F-45F3-AC83-824175C01724}">
      <dgm:prSet/>
      <dgm:spPr>
        <a:solidFill>
          <a:srgbClr val="FD5B5F"/>
        </a:solidFill>
      </dgm:spPr>
      <dgm:t>
        <a:bodyPr/>
        <a:lstStyle/>
        <a:p>
          <a:endParaRPr lang="zh-CN" altLang="en-US" dirty="0"/>
        </a:p>
      </dgm:t>
    </dgm:pt>
    <dgm:pt modelId="{885039EA-70F8-46F6-A164-6B4D85F5E0E7}" type="parTrans" cxnId="{27463C3A-5E4B-4CCC-8C0F-980CFC8AD387}">
      <dgm:prSet/>
      <dgm:spPr/>
      <dgm:t>
        <a:bodyPr/>
        <a:lstStyle/>
        <a:p>
          <a:endParaRPr lang="zh-CN" altLang="en-US"/>
        </a:p>
      </dgm:t>
    </dgm:pt>
    <dgm:pt modelId="{D8C72A5A-C77F-44E9-9801-9B7E34642DD6}" type="sibTrans" cxnId="{27463C3A-5E4B-4CCC-8C0F-980CFC8AD387}">
      <dgm:prSet/>
      <dgm:spPr/>
      <dgm:t>
        <a:bodyPr/>
        <a:lstStyle/>
        <a:p>
          <a:endParaRPr lang="zh-CN" altLang="en-US"/>
        </a:p>
      </dgm:t>
    </dgm:pt>
    <dgm:pt modelId="{083C70A0-696C-4AEA-A938-822DB35455B3}">
      <dgm:prSet/>
      <dgm:spPr>
        <a:solidFill>
          <a:srgbClr val="FD5B5F"/>
        </a:solidFill>
      </dgm:spPr>
      <dgm:t>
        <a:bodyPr/>
        <a:lstStyle/>
        <a:p>
          <a:endParaRPr lang="zh-CN" altLang="en-US"/>
        </a:p>
      </dgm:t>
    </dgm:pt>
    <dgm:pt modelId="{B9B8FCE9-D59A-4532-9DF2-E1D1C6A415DD}" type="parTrans" cxnId="{F194D4C7-3561-4B92-B4AA-1FF618D264ED}">
      <dgm:prSet/>
      <dgm:spPr/>
      <dgm:t>
        <a:bodyPr/>
        <a:lstStyle/>
        <a:p>
          <a:endParaRPr lang="zh-CN" altLang="en-US"/>
        </a:p>
      </dgm:t>
    </dgm:pt>
    <dgm:pt modelId="{20338CAB-70CE-4AB8-AEA8-707E3046AB8C}" type="sibTrans" cxnId="{F194D4C7-3561-4B92-B4AA-1FF618D264ED}">
      <dgm:prSet/>
      <dgm:spPr/>
      <dgm:t>
        <a:bodyPr/>
        <a:lstStyle/>
        <a:p>
          <a:endParaRPr lang="zh-CN" altLang="en-US"/>
        </a:p>
      </dgm:t>
    </dgm:pt>
    <dgm:pt modelId="{1C724878-BE03-49E7-A3D9-AF4EC2CF21EA}" type="pres">
      <dgm:prSet presAssocID="{9D39BCFA-6155-4C33-AD76-21E7685B2519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zh-CN" altLang="en-US"/>
        </a:p>
      </dgm:t>
    </dgm:pt>
    <dgm:pt modelId="{B72D23CC-E1C5-451D-A813-C43B240EFAD1}" type="pres">
      <dgm:prSet presAssocID="{4A6241F1-7DEE-45A6-8A45-CC0DEDD67B8D}" presName="composite" presStyleCnt="0"/>
      <dgm:spPr/>
    </dgm:pt>
    <dgm:pt modelId="{2A7563A9-6EF5-4664-A9D8-E401984C2BA5}" type="pres">
      <dgm:prSet presAssocID="{4A6241F1-7DEE-45A6-8A45-CC0DEDD67B8D}" presName="bentUpArrow1" presStyleLbl="alignImgPlace1" presStyleIdx="0" presStyleCnt="4"/>
      <dgm:spPr>
        <a:solidFill>
          <a:srgbClr val="FD5B5F">
            <a:alpha val="71000"/>
          </a:srgbClr>
        </a:solidFill>
      </dgm:spPr>
    </dgm:pt>
    <dgm:pt modelId="{C55B2DF2-831B-43AB-B895-090EC82B4D40}" type="pres">
      <dgm:prSet presAssocID="{4A6241F1-7DEE-45A6-8A45-CC0DEDD67B8D}" presName="ParentText" presStyleLbl="node1" presStyleIdx="0" presStyleCnt="5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82B71DF-4CBE-46CC-993A-C7AFA39BC04C}" type="pres">
      <dgm:prSet presAssocID="{4A6241F1-7DEE-45A6-8A45-CC0DEDD67B8D}" presName="ChildText" presStyleLbl="revTx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20C05E8-5533-4C93-85BA-607EAA1EADEE}" type="pres">
      <dgm:prSet presAssocID="{C9788707-3212-4917-BDFD-EC96C4B0B73C}" presName="sibTrans" presStyleCnt="0"/>
      <dgm:spPr/>
    </dgm:pt>
    <dgm:pt modelId="{BB7C6EFB-3110-48D1-9E7E-B940FBD3984C}" type="pres">
      <dgm:prSet presAssocID="{BCDE28D4-BE6F-4734-996D-18B7322A9E7B}" presName="composite" presStyleCnt="0"/>
      <dgm:spPr/>
    </dgm:pt>
    <dgm:pt modelId="{2565942C-7A8D-457E-A244-72E09CE55AED}" type="pres">
      <dgm:prSet presAssocID="{BCDE28D4-BE6F-4734-996D-18B7322A9E7B}" presName="bentUpArrow1" presStyleLbl="alignImgPlace1" presStyleIdx="1" presStyleCnt="4"/>
      <dgm:spPr>
        <a:solidFill>
          <a:srgbClr val="FD5B5F">
            <a:alpha val="71000"/>
          </a:srgbClr>
        </a:solidFill>
      </dgm:spPr>
    </dgm:pt>
    <dgm:pt modelId="{CBD21ECD-D014-4CA6-B848-B413937A3B04}" type="pres">
      <dgm:prSet presAssocID="{BCDE28D4-BE6F-4734-996D-18B7322A9E7B}" presName="ParentText" presStyleLbl="node1" presStyleIdx="1" presStyleCnt="5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CF8A727-9F42-4631-8828-C23035C77130}" type="pres">
      <dgm:prSet presAssocID="{BCDE28D4-BE6F-4734-996D-18B7322A9E7B}" presName="ChildText" presStyleLbl="revTx" presStyleIdx="1" presStyleCnt="4">
        <dgm:presLayoutVars>
          <dgm:chMax val="0"/>
          <dgm:chPref val="0"/>
          <dgm:bulletEnabled val="1"/>
        </dgm:presLayoutVars>
      </dgm:prSet>
      <dgm:spPr/>
    </dgm:pt>
    <dgm:pt modelId="{D8CE840F-0E12-4A11-9DAD-52118CDFEF18}" type="pres">
      <dgm:prSet presAssocID="{262309BB-D9C7-4F6F-A055-A87F5B86ABAC}" presName="sibTrans" presStyleCnt="0"/>
      <dgm:spPr/>
    </dgm:pt>
    <dgm:pt modelId="{E2AD881F-C0C5-41EE-A27E-7F9BD357BC62}" type="pres">
      <dgm:prSet presAssocID="{053D5030-975F-45F3-AC83-824175C01724}" presName="composite" presStyleCnt="0"/>
      <dgm:spPr/>
    </dgm:pt>
    <dgm:pt modelId="{2B167044-E6DA-4C6F-B551-2971DFFE2913}" type="pres">
      <dgm:prSet presAssocID="{053D5030-975F-45F3-AC83-824175C01724}" presName="bentUpArrow1" presStyleLbl="alignImgPlace1" presStyleIdx="2" presStyleCnt="4"/>
      <dgm:spPr>
        <a:solidFill>
          <a:srgbClr val="FD5B5F">
            <a:alpha val="71000"/>
          </a:srgbClr>
        </a:solidFill>
      </dgm:spPr>
    </dgm:pt>
    <dgm:pt modelId="{0562A3A2-0CD1-42D8-9357-59CBFB94A3A2}" type="pres">
      <dgm:prSet presAssocID="{053D5030-975F-45F3-AC83-824175C01724}" presName="ParentText" presStyleLbl="node1" presStyleIdx="2" presStyleCnt="5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7B9C40-79CC-4593-B0F7-7EDD6DD67ECA}" type="pres">
      <dgm:prSet presAssocID="{053D5030-975F-45F3-AC83-824175C01724}" presName="ChildText" presStyleLbl="revTx" presStyleIdx="2" presStyleCnt="4">
        <dgm:presLayoutVars>
          <dgm:chMax val="0"/>
          <dgm:chPref val="0"/>
          <dgm:bulletEnabled val="1"/>
        </dgm:presLayoutVars>
      </dgm:prSet>
      <dgm:spPr/>
    </dgm:pt>
    <dgm:pt modelId="{4C95C6A0-A792-4A86-AEF2-77B4DDAE9082}" type="pres">
      <dgm:prSet presAssocID="{D8C72A5A-C77F-44E9-9801-9B7E34642DD6}" presName="sibTrans" presStyleCnt="0"/>
      <dgm:spPr/>
    </dgm:pt>
    <dgm:pt modelId="{F086DB67-1F1E-4F91-AA54-6D0F413CE7DD}" type="pres">
      <dgm:prSet presAssocID="{083C70A0-696C-4AEA-A938-822DB35455B3}" presName="composite" presStyleCnt="0"/>
      <dgm:spPr/>
    </dgm:pt>
    <dgm:pt modelId="{0D8DC3EC-BC86-4905-BF45-7C81A0498136}" type="pres">
      <dgm:prSet presAssocID="{083C70A0-696C-4AEA-A938-822DB35455B3}" presName="bentUpArrow1" presStyleLbl="alignImgPlace1" presStyleIdx="3" presStyleCnt="4"/>
      <dgm:spPr>
        <a:solidFill>
          <a:srgbClr val="FD5B5F">
            <a:alpha val="71000"/>
          </a:srgbClr>
        </a:solidFill>
      </dgm:spPr>
    </dgm:pt>
    <dgm:pt modelId="{30C86A9A-49C1-48B7-8146-9B0812438423}" type="pres">
      <dgm:prSet presAssocID="{083C70A0-696C-4AEA-A938-822DB35455B3}" presName="ParentText" presStyleLbl="node1" presStyleIdx="3" presStyleCnt="5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511DB3A-8401-4284-B046-2698E5423D74}" type="pres">
      <dgm:prSet presAssocID="{083C70A0-696C-4AEA-A938-822DB35455B3}" presName="ChildText" presStyleLbl="revTx" presStyleIdx="3" presStyleCnt="4">
        <dgm:presLayoutVars>
          <dgm:chMax val="0"/>
          <dgm:chPref val="0"/>
          <dgm:bulletEnabled val="1"/>
        </dgm:presLayoutVars>
      </dgm:prSet>
      <dgm:spPr/>
    </dgm:pt>
    <dgm:pt modelId="{402221E5-D592-4AB2-8517-9BA62E854868}" type="pres">
      <dgm:prSet presAssocID="{20338CAB-70CE-4AB8-AEA8-707E3046AB8C}" presName="sibTrans" presStyleCnt="0"/>
      <dgm:spPr/>
    </dgm:pt>
    <dgm:pt modelId="{12404F6E-EDE0-445D-9938-A4FFD297717C}" type="pres">
      <dgm:prSet presAssocID="{ECF4185F-7A47-4C96-B428-D7AEE6DFD332}" presName="composite" presStyleCnt="0"/>
      <dgm:spPr/>
    </dgm:pt>
    <dgm:pt modelId="{7C5807B7-759D-414F-B851-D9AEE7AA5DF9}" type="pres">
      <dgm:prSet presAssocID="{ECF4185F-7A47-4C96-B428-D7AEE6DFD332}" presName="ParentText" presStyleLbl="node1" presStyleIdx="4" presStyleCnt="5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892F1182-41D6-41E4-9D3B-1B814749C77C}" type="presOf" srcId="{053D5030-975F-45F3-AC83-824175C01724}" destId="{0562A3A2-0CD1-42D8-9357-59CBFB94A3A2}" srcOrd="0" destOrd="0" presId="urn:microsoft.com/office/officeart/2005/8/layout/StepDownProcess"/>
    <dgm:cxn modelId="{DC323C34-B0B5-4383-8C36-FA6215FB2384}" srcId="{9D39BCFA-6155-4C33-AD76-21E7685B2519}" destId="{ECF4185F-7A47-4C96-B428-D7AEE6DFD332}" srcOrd="4" destOrd="0" parTransId="{A886895B-F1FF-4899-9414-9FBAA08E6B6E}" sibTransId="{ED23C2AE-E9C9-4EEB-9CB6-C51DAA3A400D}"/>
    <dgm:cxn modelId="{3F5DD0FF-F363-4419-9A0A-10E4C944E297}" srcId="{9D39BCFA-6155-4C33-AD76-21E7685B2519}" destId="{4A6241F1-7DEE-45A6-8A45-CC0DEDD67B8D}" srcOrd="0" destOrd="0" parTransId="{7CB9653C-B0B0-4E71-AA80-834ED032B59D}" sibTransId="{C9788707-3212-4917-BDFD-EC96C4B0B73C}"/>
    <dgm:cxn modelId="{15D9DADA-7B3E-4659-B428-09B42B03AD24}" srcId="{9D39BCFA-6155-4C33-AD76-21E7685B2519}" destId="{BCDE28D4-BE6F-4734-996D-18B7322A9E7B}" srcOrd="1" destOrd="0" parTransId="{75A6861C-9787-48B8-98FF-E9632E0A2573}" sibTransId="{262309BB-D9C7-4F6F-A055-A87F5B86ABAC}"/>
    <dgm:cxn modelId="{784ED190-B62A-436F-9C1C-7777E1913EE3}" type="presOf" srcId="{4A6241F1-7DEE-45A6-8A45-CC0DEDD67B8D}" destId="{C55B2DF2-831B-43AB-B895-090EC82B4D40}" srcOrd="0" destOrd="0" presId="urn:microsoft.com/office/officeart/2005/8/layout/StepDownProcess"/>
    <dgm:cxn modelId="{F0ECE95C-5AD0-4E11-B64A-1893778C4BAA}" type="presOf" srcId="{083C70A0-696C-4AEA-A938-822DB35455B3}" destId="{30C86A9A-49C1-48B7-8146-9B0812438423}" srcOrd="0" destOrd="0" presId="urn:microsoft.com/office/officeart/2005/8/layout/StepDownProcess"/>
    <dgm:cxn modelId="{F194D4C7-3561-4B92-B4AA-1FF618D264ED}" srcId="{9D39BCFA-6155-4C33-AD76-21E7685B2519}" destId="{083C70A0-696C-4AEA-A938-822DB35455B3}" srcOrd="3" destOrd="0" parTransId="{B9B8FCE9-D59A-4532-9DF2-E1D1C6A415DD}" sibTransId="{20338CAB-70CE-4AB8-AEA8-707E3046AB8C}"/>
    <dgm:cxn modelId="{27463C3A-5E4B-4CCC-8C0F-980CFC8AD387}" srcId="{9D39BCFA-6155-4C33-AD76-21E7685B2519}" destId="{053D5030-975F-45F3-AC83-824175C01724}" srcOrd="2" destOrd="0" parTransId="{885039EA-70F8-46F6-A164-6B4D85F5E0E7}" sibTransId="{D8C72A5A-C77F-44E9-9801-9B7E34642DD6}"/>
    <dgm:cxn modelId="{8A904693-F065-4FFE-B94C-A363E521C5AA}" type="presOf" srcId="{9D39BCFA-6155-4C33-AD76-21E7685B2519}" destId="{1C724878-BE03-49E7-A3D9-AF4EC2CF21EA}" srcOrd="0" destOrd="0" presId="urn:microsoft.com/office/officeart/2005/8/layout/StepDownProcess"/>
    <dgm:cxn modelId="{CFC91F31-2BB7-4E52-8F2F-10343B20E759}" type="presOf" srcId="{ECF4185F-7A47-4C96-B428-D7AEE6DFD332}" destId="{7C5807B7-759D-414F-B851-D9AEE7AA5DF9}" srcOrd="0" destOrd="0" presId="urn:microsoft.com/office/officeart/2005/8/layout/StepDownProcess"/>
    <dgm:cxn modelId="{B74B1888-2FA7-4EAF-9E06-F9CA2D0C7561}" type="presOf" srcId="{BCDE28D4-BE6F-4734-996D-18B7322A9E7B}" destId="{CBD21ECD-D014-4CA6-B848-B413937A3B04}" srcOrd="0" destOrd="0" presId="urn:microsoft.com/office/officeart/2005/8/layout/StepDownProcess"/>
    <dgm:cxn modelId="{45E8F1FA-C882-41E4-95EE-9F9DEAABFECE}" type="presParOf" srcId="{1C724878-BE03-49E7-A3D9-AF4EC2CF21EA}" destId="{B72D23CC-E1C5-451D-A813-C43B240EFAD1}" srcOrd="0" destOrd="0" presId="urn:microsoft.com/office/officeart/2005/8/layout/StepDownProcess"/>
    <dgm:cxn modelId="{AD875F59-FFBB-407E-9504-686705E61592}" type="presParOf" srcId="{B72D23CC-E1C5-451D-A813-C43B240EFAD1}" destId="{2A7563A9-6EF5-4664-A9D8-E401984C2BA5}" srcOrd="0" destOrd="0" presId="urn:microsoft.com/office/officeart/2005/8/layout/StepDownProcess"/>
    <dgm:cxn modelId="{3B5BF4CB-844F-4B2A-B295-44295E206BEA}" type="presParOf" srcId="{B72D23CC-E1C5-451D-A813-C43B240EFAD1}" destId="{C55B2DF2-831B-43AB-B895-090EC82B4D40}" srcOrd="1" destOrd="0" presId="urn:microsoft.com/office/officeart/2005/8/layout/StepDownProcess"/>
    <dgm:cxn modelId="{B0D7A365-E527-4196-835A-8128A326AEC9}" type="presParOf" srcId="{B72D23CC-E1C5-451D-A813-C43B240EFAD1}" destId="{C82B71DF-4CBE-46CC-993A-C7AFA39BC04C}" srcOrd="2" destOrd="0" presId="urn:microsoft.com/office/officeart/2005/8/layout/StepDownProcess"/>
    <dgm:cxn modelId="{C6987CAF-46E2-4BAE-8E41-0CF1036744F3}" type="presParOf" srcId="{1C724878-BE03-49E7-A3D9-AF4EC2CF21EA}" destId="{B20C05E8-5533-4C93-85BA-607EAA1EADEE}" srcOrd="1" destOrd="0" presId="urn:microsoft.com/office/officeart/2005/8/layout/StepDownProcess"/>
    <dgm:cxn modelId="{1053DE53-DF80-475B-BD94-81A887058CAC}" type="presParOf" srcId="{1C724878-BE03-49E7-A3D9-AF4EC2CF21EA}" destId="{BB7C6EFB-3110-48D1-9E7E-B940FBD3984C}" srcOrd="2" destOrd="0" presId="urn:microsoft.com/office/officeart/2005/8/layout/StepDownProcess"/>
    <dgm:cxn modelId="{06BFDF35-8C96-4107-9DE2-1B3D7943DAE0}" type="presParOf" srcId="{BB7C6EFB-3110-48D1-9E7E-B940FBD3984C}" destId="{2565942C-7A8D-457E-A244-72E09CE55AED}" srcOrd="0" destOrd="0" presId="urn:microsoft.com/office/officeart/2005/8/layout/StepDownProcess"/>
    <dgm:cxn modelId="{48093608-9D0E-4757-92F6-F928B07C7BD7}" type="presParOf" srcId="{BB7C6EFB-3110-48D1-9E7E-B940FBD3984C}" destId="{CBD21ECD-D014-4CA6-B848-B413937A3B04}" srcOrd="1" destOrd="0" presId="urn:microsoft.com/office/officeart/2005/8/layout/StepDownProcess"/>
    <dgm:cxn modelId="{ABAF5553-F0E6-4670-86ED-F541B0B84B90}" type="presParOf" srcId="{BB7C6EFB-3110-48D1-9E7E-B940FBD3984C}" destId="{DCF8A727-9F42-4631-8828-C23035C77130}" srcOrd="2" destOrd="0" presId="urn:microsoft.com/office/officeart/2005/8/layout/StepDownProcess"/>
    <dgm:cxn modelId="{EA572219-BBDC-4EF9-AD43-79572FC98D01}" type="presParOf" srcId="{1C724878-BE03-49E7-A3D9-AF4EC2CF21EA}" destId="{D8CE840F-0E12-4A11-9DAD-52118CDFEF18}" srcOrd="3" destOrd="0" presId="urn:microsoft.com/office/officeart/2005/8/layout/StepDownProcess"/>
    <dgm:cxn modelId="{B725FA6B-4D68-4FA3-BA1B-7FB2C7F26EBF}" type="presParOf" srcId="{1C724878-BE03-49E7-A3D9-AF4EC2CF21EA}" destId="{E2AD881F-C0C5-41EE-A27E-7F9BD357BC62}" srcOrd="4" destOrd="0" presId="urn:microsoft.com/office/officeart/2005/8/layout/StepDownProcess"/>
    <dgm:cxn modelId="{AFA4B30D-2E80-4ADE-8C93-6751D0F89F05}" type="presParOf" srcId="{E2AD881F-C0C5-41EE-A27E-7F9BD357BC62}" destId="{2B167044-E6DA-4C6F-B551-2971DFFE2913}" srcOrd="0" destOrd="0" presId="urn:microsoft.com/office/officeart/2005/8/layout/StepDownProcess"/>
    <dgm:cxn modelId="{6D37459F-59A5-46D2-AC45-E829FBD6E4A1}" type="presParOf" srcId="{E2AD881F-C0C5-41EE-A27E-7F9BD357BC62}" destId="{0562A3A2-0CD1-42D8-9357-59CBFB94A3A2}" srcOrd="1" destOrd="0" presId="urn:microsoft.com/office/officeart/2005/8/layout/StepDownProcess"/>
    <dgm:cxn modelId="{7AACCA14-D2E8-4458-A637-0BA7E4C9397B}" type="presParOf" srcId="{E2AD881F-C0C5-41EE-A27E-7F9BD357BC62}" destId="{6D7B9C40-79CC-4593-B0F7-7EDD6DD67ECA}" srcOrd="2" destOrd="0" presId="urn:microsoft.com/office/officeart/2005/8/layout/StepDownProcess"/>
    <dgm:cxn modelId="{253F1CA1-ADE1-45E8-944F-43F2ADD4672F}" type="presParOf" srcId="{1C724878-BE03-49E7-A3D9-AF4EC2CF21EA}" destId="{4C95C6A0-A792-4A86-AEF2-77B4DDAE9082}" srcOrd="5" destOrd="0" presId="urn:microsoft.com/office/officeart/2005/8/layout/StepDownProcess"/>
    <dgm:cxn modelId="{393F0512-6C9C-4E50-96F9-17A6728A0F41}" type="presParOf" srcId="{1C724878-BE03-49E7-A3D9-AF4EC2CF21EA}" destId="{F086DB67-1F1E-4F91-AA54-6D0F413CE7DD}" srcOrd="6" destOrd="0" presId="urn:microsoft.com/office/officeart/2005/8/layout/StepDownProcess"/>
    <dgm:cxn modelId="{EF2AE0B1-D4F9-4671-9629-FBD0BE8D93BE}" type="presParOf" srcId="{F086DB67-1F1E-4F91-AA54-6D0F413CE7DD}" destId="{0D8DC3EC-BC86-4905-BF45-7C81A0498136}" srcOrd="0" destOrd="0" presId="urn:microsoft.com/office/officeart/2005/8/layout/StepDownProcess"/>
    <dgm:cxn modelId="{7B6900CE-1A5E-4193-8F1D-9011ECD39789}" type="presParOf" srcId="{F086DB67-1F1E-4F91-AA54-6D0F413CE7DD}" destId="{30C86A9A-49C1-48B7-8146-9B0812438423}" srcOrd="1" destOrd="0" presId="urn:microsoft.com/office/officeart/2005/8/layout/StepDownProcess"/>
    <dgm:cxn modelId="{3B84320A-A742-4916-A953-03B6B6DCB2E7}" type="presParOf" srcId="{F086DB67-1F1E-4F91-AA54-6D0F413CE7DD}" destId="{E511DB3A-8401-4284-B046-2698E5423D74}" srcOrd="2" destOrd="0" presId="urn:microsoft.com/office/officeart/2005/8/layout/StepDownProcess"/>
    <dgm:cxn modelId="{B6E2BC1A-4203-4518-8BA4-C71EBE5F1CA2}" type="presParOf" srcId="{1C724878-BE03-49E7-A3D9-AF4EC2CF21EA}" destId="{402221E5-D592-4AB2-8517-9BA62E854868}" srcOrd="7" destOrd="0" presId="urn:microsoft.com/office/officeart/2005/8/layout/StepDownProcess"/>
    <dgm:cxn modelId="{A37CEDDA-BF1D-4067-B695-5DF553B2ABD0}" type="presParOf" srcId="{1C724878-BE03-49E7-A3D9-AF4EC2CF21EA}" destId="{12404F6E-EDE0-445D-9938-A4FFD297717C}" srcOrd="8" destOrd="0" presId="urn:microsoft.com/office/officeart/2005/8/layout/StepDownProcess"/>
    <dgm:cxn modelId="{E0DD9D27-CE5A-4676-9C21-BF8478AF4EE3}" type="presParOf" srcId="{12404F6E-EDE0-445D-9938-A4FFD297717C}" destId="{7C5807B7-759D-414F-B851-D9AEE7AA5DF9}" srcOrd="0" destOrd="0" presId="urn:microsoft.com/office/officeart/2005/8/layout/StepDownProcess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StepDownProcess">
  <dgm:title val=""/>
  <dgm:desc val=""/>
  <dgm:catLst>
    <dgm:cat type="process" pri="16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t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t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hoose name="Name3">
      <dgm:if name="Name4" func="var" arg="dir" op="equ" val="norm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if>
      <dgm:else name="Name5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else>
    </dgm:choose>
    <dgm:forEach name="nodesForEach" axis="ch" ptType="node">
      <dgm:layoutNode name="composite">
        <dgm:alg type="composite">
          <dgm:param type="ar" val="1.2439"/>
        </dgm:alg>
        <dgm:shape xmlns:r="http://schemas.openxmlformats.org/officeDocument/2006/relationships" r:blip="">
          <dgm:adjLst/>
        </dgm:shape>
        <dgm:choose name="Name6">
          <dgm:if name="Name7" func="var" arg="dir" op="equ" val="norm">
            <dgm:constrLst>
              <dgm:constr type="l" for="ch" forName="bentUpArrow1" refType="w" fact="0.0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refFor="ch" refForName="ParentText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refFor="ch" refForName="ParentText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if>
          <dgm:else name="Name8">
            <dgm:constrLst>
              <dgm:constr type="r" for="ch" forName="bentUpArrow1" refType="w" fact="0.9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.4316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fact="0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fact="0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else>
        </dgm:choose>
        <dgm:choose name="Name9">
          <dgm:if name="Name10" axis="followSib" ptType="node" func="cnt" op="gte" val="1">
            <dgm:layoutNode name="bentUpArrow1" styleLbl="alignImgPlace1">
              <dgm:alg type="sp"/>
              <dgm:choose name="Name11">
                <dgm:if name="Name12" func="var" arg="dir" op="equ" val="norm">
                  <dgm:shape xmlns:r="http://schemas.openxmlformats.org/officeDocument/2006/relationships" rot="90" type="bentUpArrow" r:blip="">
                    <dgm:adjLst>
                      <dgm:adj idx="1" val="0.3284"/>
                      <dgm:adj idx="2" val="0.25"/>
                      <dgm:adj idx="3" val="0.3578"/>
                    </dgm:adjLst>
                  </dgm:shape>
                </dgm:if>
                <dgm:else name="Name13">
                  <dgm:shape xmlns:r="http://schemas.openxmlformats.org/officeDocument/2006/relationships" rot="180" type="bentArrow" r:blip="">
                    <dgm:adjLst>
                      <dgm:adj idx="1" val="0.3284"/>
                      <dgm:adj idx="2" val="0.25"/>
                      <dgm:adj idx="3" val="0.3578"/>
                      <dgm:adj idx="4" val="0"/>
                    </dgm:adjLst>
                  </dgm:shape>
                </dgm:else>
              </dgm:choose>
              <dgm:presOf/>
            </dgm:layoutNode>
          </dgm:if>
          <dgm:else name="Name14"/>
        </dgm:choose>
        <dgm:layoutNode name="ParentText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66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15">
          <dgm:if name="Name16" axis="followSib" ptType="node" func="cnt" op="equ" val="0">
            <dgm:choose name="Name17">
              <dgm:if name="Name18" axis="ch" ptType="node" func="cnt" op="gte" val="1">
                <dgm:layoutNode name="FinalChildText" styleLbl="revTx">
                  <dgm:varLst>
                    <dgm:chMax val="0"/>
                    <dgm:chPref val="0"/>
                    <dgm:bulletEnabled val="1"/>
                  </dgm:varLst>
                  <dgm:alg type="tx">
                    <dgm:param type="stBulletLvl" val="1"/>
                    <dgm:param type="txAnchorVertCh" val="mid"/>
                    <dgm:param type="parTxLTRAlign" val="l"/>
                  </dgm:alg>
                  <dgm:shape xmlns:r="http://schemas.openxmlformats.org/officeDocument/2006/relationships" type="rect" r:blip="">
                    <dgm:adjLst/>
                  </dgm:shape>
                  <dgm:presOf axis="des" ptType="node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9"/>
            </dgm:choose>
          </dgm:if>
          <dgm:else name="Name20">
            <dgm:layoutNode name="ChildText" styleLbl="revTx">
              <dgm:varLst>
                <dgm:chMax val="0"/>
                <dgm:chPref val="0"/>
                <dgm:bulletEnabled val="1"/>
              </dgm:varLst>
              <dgm:alg type="tx">
                <dgm:param type="stBulletLvl" val="1"/>
                <dgm:param type="txAnchorVertCh" val="mid"/>
                <dgm:param type="parTxLTRAlign" val="l"/>
              </dgm:alg>
              <dgm:shape xmlns:r="http://schemas.openxmlformats.org/officeDocument/2006/relationships" type="rect" r:blip="">
                <dgm:adjLst/>
              </dgm:shape>
              <dgm:presOf axis="des" ptType="node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else>
        </dgm:choos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E07D13-FFB3-45B6-AD3A-E892FD08A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F1FACB-C788-4877-9952-2C76A30CE3E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243731-EF26-413F-8D63-78598835F01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5D8494-9D6D-4F2B-B963-68758E882FA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57BDAA-42D9-4556-8752-E25C8689598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8F9E7D-5FC8-46B7-A481-6ABD1EF969B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AD1-B424-4855-AB41-D11987B4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7A7-CF66-466A-9B2B-F852F8D2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BA9-1315-49D9-AB85-5760F022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932-FA13-4F24-A070-EA2156DB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9EB2-BB2E-4B79-8B30-987F4925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C82F-B930-4B2C-8070-FB5E7F5A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9F43-3F89-45C9-A60A-0D590704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264E-408D-4425-9B7B-6F4D1B1C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52DA-0CFC-4044-AA18-7B6AE082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7646-DCFF-48CA-8475-19D75102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095B-6C56-4629-BB36-F22C8FC9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701-8342-4EF6-B26F-58FCB5C7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C684-191A-48BA-8721-B6ECDB59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2334-E948-4E13-A7B5-47A9CAD7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1A92-3D09-4E52-851E-A97EF0BB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7A36-54B9-4502-B6A9-6E729D54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7438-293F-4A67-8090-812D7197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16A-2FAA-4DF4-9460-FDA2D710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270-0B22-4ABC-AC5A-0B9BE205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104-318C-4D2D-8426-EF20BC52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0E8-E503-4FE6-B68B-E7F12B60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003-AFF9-41BD-BCB6-2A441F07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A11-0BFC-409F-B574-CB66148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1E6-BE93-4014-9B2B-2AE700F0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1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3EED63-9D17-4D4A-A18B-D0949D163966}" type="slidenum">
              <a:rPr b="0" lang="en-US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1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E9F80B-CAD7-48F0-B2FB-C716033696C9}" type="slidenum">
              <a:rPr b="0" lang="en-US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hyperlink" Target="http://www.eeppt.com/moban/" TargetMode="External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microsoft.com/office/2007/relationships/hdphoto" Target="../media/hdphoto1.wdp"/><Relationship Id="rId4" Type="http://schemas.openxmlformats.org/officeDocument/2006/relationships/image" Target="../media/image17.png"/><Relationship Id="rId5" Type="http://schemas.microsoft.com/office/2007/relationships/hdphoto" Target="../media/hdphoto2.wdp"/><Relationship Id="rId6" Type="http://schemas.openxmlformats.org/officeDocument/2006/relationships/image" Target="../media/image18.png"/><Relationship Id="rId7" Type="http://schemas.microsoft.com/office/2007/relationships/hdphoto" Target="../media/hdphoto3.wdp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microsoft.com/office/2007/relationships/hdphoto" Target="../media/hdphoto4.wdp"/><Relationship Id="rId11" Type="http://schemas.openxmlformats.org/officeDocument/2006/relationships/image" Target="../media/image21.png"/><Relationship Id="rId12" Type="http://schemas.microsoft.com/office/2007/relationships/hdphoto" Target="../media/hdphoto5.wdp"/><Relationship Id="rId1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8" descr=""/>
          <p:cNvPicPr/>
          <p:nvPr/>
        </p:nvPicPr>
        <p:blipFill>
          <a:blip r:embed="rId1"/>
          <a:srcRect l="0" t="56893" r="0" b="0"/>
          <a:stretch/>
        </p:blipFill>
        <p:spPr>
          <a:xfrm>
            <a:off x="0" y="5322960"/>
            <a:ext cx="12191760" cy="2114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"/>
          <p:cNvPicPr/>
          <p:nvPr/>
        </p:nvPicPr>
        <p:blipFill>
          <a:blip r:embed="rId2"/>
          <a:stretch/>
        </p:blipFill>
        <p:spPr>
          <a:xfrm flipH="1" rot="10800000">
            <a:off x="-1080" y="-184320"/>
            <a:ext cx="12192840" cy="2078640"/>
          </a:xfrm>
          <a:prstGeom prst="rect">
            <a:avLst/>
          </a:prstGeom>
          <a:ln w="0">
            <a:noFill/>
          </a:ln>
        </p:spPr>
      </p:pic>
      <p:sp>
        <p:nvSpPr>
          <p:cNvPr id="90" name="矩形 6"/>
          <p:cNvSpPr/>
          <p:nvPr/>
        </p:nvSpPr>
        <p:spPr>
          <a:xfrm>
            <a:off x="-1080" y="1460880"/>
            <a:ext cx="12192840" cy="3875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文本框 115"/>
          <p:cNvSpPr/>
          <p:nvPr/>
        </p:nvSpPr>
        <p:spPr>
          <a:xfrm>
            <a:off x="3914280" y="2570040"/>
            <a:ext cx="2561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fd5b5f"/>
                </a:solidFill>
                <a:latin typeface="Arial"/>
              </a:rPr>
              <a:t>40</a:t>
            </a:r>
            <a:r>
              <a:rPr b="1" lang="zh-CN" sz="9600" spc="-1" strike="noStrike">
                <a:solidFill>
                  <a:srgbClr val="fd5b5f"/>
                </a:solidFill>
                <a:latin typeface="Arial"/>
              </a:rPr>
              <a:t>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2"/>
          <p:cNvGrpSpPr/>
          <p:nvPr/>
        </p:nvGrpSpPr>
        <p:grpSpPr>
          <a:xfrm>
            <a:off x="6935040" y="2318400"/>
            <a:ext cx="3835080" cy="2233800"/>
            <a:chOff x="6935040" y="2318400"/>
            <a:chExt cx="3835080" cy="2233800"/>
          </a:xfrm>
        </p:grpSpPr>
        <p:sp>
          <p:nvSpPr>
            <p:cNvPr id="93" name="文本框 126"/>
            <p:cNvSpPr/>
            <p:nvPr/>
          </p:nvSpPr>
          <p:spPr>
            <a:xfrm>
              <a:off x="6935040" y="2318400"/>
              <a:ext cx="3791520" cy="11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d5b5f"/>
                  </a:solidFill>
                  <a:latin typeface="方正超粗黑简体"/>
                  <a:ea typeface="方正超粗黑简体"/>
                </a:rPr>
                <a:t>玩转移动营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d5b5f"/>
                  </a:solidFill>
                  <a:latin typeface="Arial Narrow"/>
                  <a:ea typeface="方正超粗黑简体"/>
                </a:rPr>
                <a:t>Mobile Marketing:An Hour a D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127"/>
            <p:cNvSpPr/>
            <p:nvPr/>
          </p:nvSpPr>
          <p:spPr>
            <a:xfrm>
              <a:off x="7476840" y="3576600"/>
              <a:ext cx="249840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作者：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[</a:t>
              </a: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美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雷切尔 帕斯卡 诺亚 埃尔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徐彬 等译       机械工业出版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直接连接符 129"/>
            <p:cNvCxnSpPr/>
            <p:nvPr/>
          </p:nvCxnSpPr>
          <p:spPr>
            <a:xfrm>
              <a:off x="6947280" y="3528000"/>
              <a:ext cx="3823200" cy="360"/>
            </a:xfrm>
            <a:prstGeom prst="straightConnector1">
              <a:avLst/>
            </a:prstGeom>
            <a:ln>
              <a:solidFill>
                <a:srgbClr val="ff0000"/>
              </a:solidFill>
            </a:ln>
          </p:spPr>
        </p:cxnSp>
        <p:sp>
          <p:nvSpPr>
            <p:cNvPr id="96" name="文本框 1"/>
            <p:cNvSpPr/>
            <p:nvPr/>
          </p:nvSpPr>
          <p:spPr>
            <a:xfrm>
              <a:off x="7900560" y="4219200"/>
              <a:ext cx="18385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读书笔记：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@</a:t>
              </a: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布衣白菜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图片 13" descr=""/>
          <p:cNvPicPr/>
          <p:nvPr/>
        </p:nvPicPr>
        <p:blipFill>
          <a:blip r:embed="rId3"/>
          <a:srcRect l="0" t="0" r="0" b="11834"/>
          <a:stretch/>
        </p:blipFill>
        <p:spPr>
          <a:xfrm>
            <a:off x="-38160" y="1305000"/>
            <a:ext cx="4417200" cy="3894480"/>
          </a:xfrm>
          <a:prstGeom prst="rect">
            <a:avLst/>
          </a:prstGeom>
          <a:ln w="0">
            <a:noFill/>
          </a:ln>
        </p:spPr>
      </p:pic>
      <p:sp>
        <p:nvSpPr>
          <p:cNvPr id="9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5079960" y="1870920"/>
            <a:ext cx="6377760" cy="16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短信也是一种战术其原因有二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它覆盖最大范围的潜在的移动受众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它在整个购买过程漏斗中扮演着至关重要的角色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21" name="直接连接符 3"/>
          <p:cNvCxnSpPr/>
          <p:nvPr/>
        </p:nvCxnSpPr>
        <p:spPr>
          <a:xfrm flipH="1">
            <a:off x="3877200" y="0"/>
            <a:ext cx="1713600" cy="4342680"/>
          </a:xfrm>
          <a:prstGeom prst="straightConnector1">
            <a:avLst/>
          </a:prstGeom>
          <a:ln>
            <a:solidFill>
              <a:srgbClr val="d9d9d9"/>
            </a:solidFill>
          </a:ln>
        </p:spPr>
      </p:cxnSp>
      <p:sp>
        <p:nvSpPr>
          <p:cNvPr id="322" name="文本框 4"/>
          <p:cNvSpPr/>
          <p:nvPr/>
        </p:nvSpPr>
        <p:spPr>
          <a:xfrm>
            <a:off x="1677240" y="207792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5"/>
          <p:cNvSpPr/>
          <p:nvPr/>
        </p:nvSpPr>
        <p:spPr>
          <a:xfrm>
            <a:off x="2564640" y="302868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6"/>
          <p:cNvSpPr/>
          <p:nvPr/>
        </p:nvSpPr>
        <p:spPr>
          <a:xfrm>
            <a:off x="4515840" y="3524400"/>
            <a:ext cx="60955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短信不仅是全方位多功能的移动营销工具，它更像一种在线的，传统的，甚至是移动营销的方法，并用来跟进信息的工具。</a:t>
            </a:r>
            <a:r>
              <a:rPr b="0" lang="zh-CN" sz="1800" spc="-1" strike="noStrike">
                <a:solidFill>
                  <a:srgbClr val="fd5b5f"/>
                </a:solidFill>
                <a:latin typeface="Verdana"/>
              </a:rPr>
              <a:t>它像胶水一样凝聚着你整个的营销活动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，紧紧抓住每一位客户，并推动他们进入更为丰富的体验之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组合 208"/>
          <p:cNvGrpSpPr/>
          <p:nvPr/>
        </p:nvGrpSpPr>
        <p:grpSpPr>
          <a:xfrm>
            <a:off x="1117800" y="2275560"/>
            <a:ext cx="3674160" cy="2164320"/>
            <a:chOff x="1117800" y="2275560"/>
            <a:chExt cx="3674160" cy="2164320"/>
          </a:xfrm>
        </p:grpSpPr>
        <p:grpSp>
          <p:nvGrpSpPr>
            <p:cNvPr id="326" name="组合 196"/>
            <p:cNvGrpSpPr/>
            <p:nvPr/>
          </p:nvGrpSpPr>
          <p:grpSpPr>
            <a:xfrm>
              <a:off x="1117800" y="2275560"/>
              <a:ext cx="1296360" cy="2164320"/>
              <a:chOff x="1117800" y="2275560"/>
              <a:chExt cx="1296360" cy="2164320"/>
            </a:xfrm>
          </p:grpSpPr>
          <p:sp>
            <p:nvSpPr>
              <p:cNvPr id="327" name="文本框 187"/>
              <p:cNvSpPr/>
              <p:nvPr/>
            </p:nvSpPr>
            <p:spPr>
              <a:xfrm>
                <a:off x="1882080" y="2522880"/>
                <a:ext cx="532080" cy="8611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861120"/>
                  <a:gd name="textAreaBottom" fmla="*/ 861480 h 861120"/>
                </a:gdLst>
                <a:ahLst/>
                <a:rect l="textAreaLeft" t="textAreaTop" r="textAreaRight" b="textAreaBottom"/>
                <a:pathLst>
                  <a:path w="532498" h="861460">
                    <a:moveTo>
                      <a:pt x="375478" y="0"/>
                    </a:moveTo>
                    <a:lnTo>
                      <a:pt x="420493" y="33112"/>
                    </a:lnTo>
                    <a:cubicBezTo>
                      <a:pt x="435211" y="47309"/>
                      <a:pt x="448539" y="63857"/>
                      <a:pt x="460478" y="82756"/>
                    </a:cubicBezTo>
                    <a:cubicBezTo>
                      <a:pt x="508236" y="158351"/>
                      <a:pt x="532242" y="269329"/>
                      <a:pt x="532498" y="415690"/>
                    </a:cubicBezTo>
                    <a:lnTo>
                      <a:pt x="532498" y="416805"/>
                    </a:lnTo>
                    <a:cubicBezTo>
                      <a:pt x="532242" y="561610"/>
                      <a:pt x="508236" y="671799"/>
                      <a:pt x="460478" y="747371"/>
                    </a:cubicBezTo>
                    <a:cubicBezTo>
                      <a:pt x="412720" y="822943"/>
                      <a:pt x="342743" y="860973"/>
                      <a:pt x="250548" y="861460"/>
                    </a:cubicBezTo>
                    <a:cubicBezTo>
                      <a:pt x="157912" y="860996"/>
                      <a:pt x="87981" y="822920"/>
                      <a:pt x="40758" y="747232"/>
                    </a:cubicBezTo>
                    <a:cubicBezTo>
                      <a:pt x="28952" y="728310"/>
                      <a:pt x="18618" y="707211"/>
                      <a:pt x="9754" y="683936"/>
                    </a:cubicBezTo>
                    <a:lnTo>
                      <a:pt x="0" y="650347"/>
                    </a:lnTo>
                    <a:lnTo>
                      <a:pt x="51287" y="561515"/>
                    </a:lnTo>
                    <a:lnTo>
                      <a:pt x="54810" y="588896"/>
                    </a:lnTo>
                    <a:cubicBezTo>
                      <a:pt x="63841" y="637397"/>
                      <a:pt x="77313" y="677035"/>
                      <a:pt x="95225" y="707809"/>
                    </a:cubicBezTo>
                    <a:cubicBezTo>
                      <a:pt x="131049" y="769358"/>
                      <a:pt x="182824" y="799772"/>
                      <a:pt x="250548" y="799052"/>
                    </a:cubicBezTo>
                    <a:cubicBezTo>
                      <a:pt x="318319" y="799795"/>
                      <a:pt x="370279" y="769334"/>
                      <a:pt x="406428" y="707670"/>
                    </a:cubicBezTo>
                    <a:cubicBezTo>
                      <a:pt x="442577" y="646005"/>
                      <a:pt x="460826" y="548678"/>
                      <a:pt x="461174" y="415690"/>
                    </a:cubicBezTo>
                    <a:cubicBezTo>
                      <a:pt x="460826" y="281588"/>
                      <a:pt x="442577" y="183426"/>
                      <a:pt x="406428" y="121204"/>
                    </a:cubicBezTo>
                    <a:cubicBezTo>
                      <a:pt x="397391" y="105648"/>
                      <a:pt x="387366" y="92060"/>
                      <a:pt x="376352" y="80440"/>
                    </a:cubicBezTo>
                    <a:lnTo>
                      <a:pt x="344040" y="54453"/>
                    </a:lnTo>
                    <a:lnTo>
                      <a:pt x="375478" y="0"/>
                    </a:lnTo>
                    <a:close/>
                  </a:path>
                </a:pathLst>
              </a:custGeom>
              <a:solidFill>
                <a:srgbClr val="fd5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8800" spc="-1" strike="noStrike">
                  <a:solidFill>
                    <a:srgbClr val="fd5b5f"/>
                  </a:solidFill>
                  <a:latin typeface="AXIS Std L"/>
                  <a:ea typeface="AXIS Std L"/>
                </a:endParaRPr>
              </a:p>
            </p:txBody>
          </p:sp>
          <p:cxnSp>
            <p:nvCxnSpPr>
              <p:cNvPr id="328" name="直接连接符 193"/>
              <p:cNvCxnSpPr/>
              <p:nvPr/>
            </p:nvCxnSpPr>
            <p:spPr>
              <a:xfrm flipH="1">
                <a:off x="1117800" y="2275560"/>
                <a:ext cx="1293480" cy="2164680"/>
              </a:xfrm>
              <a:prstGeom prst="straightConnector1">
                <a:avLst/>
              </a:prstGeom>
              <a:ln>
                <a:solidFill>
                  <a:srgbClr val="fd5b5f"/>
                </a:solidFill>
              </a:ln>
            </p:spPr>
          </p:cxnSp>
        </p:grpSp>
        <p:sp>
          <p:nvSpPr>
            <p:cNvPr id="329" name="文本框 197"/>
            <p:cNvSpPr/>
            <p:nvPr/>
          </p:nvSpPr>
          <p:spPr>
            <a:xfrm>
              <a:off x="1994040" y="3612960"/>
              <a:ext cx="2797920" cy="821160"/>
            </a:xfrm>
            <a:prstGeom prst="rect">
              <a:avLst/>
            </a:prstGeom>
            <a:solidFill>
              <a:srgbClr val="fd5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第三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开发你的移动战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52"/>
          <p:cNvSpPr/>
          <p:nvPr/>
        </p:nvSpPr>
        <p:spPr>
          <a:xfrm>
            <a:off x="2353320" y="2230560"/>
            <a:ext cx="8028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d5b5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2"/>
          <p:cNvGrpSpPr/>
          <p:nvPr/>
        </p:nvGrpSpPr>
        <p:grpSpPr>
          <a:xfrm>
            <a:off x="4949280" y="382320"/>
            <a:ext cx="2291040" cy="6004080"/>
            <a:chOff x="4949280" y="382320"/>
            <a:chExt cx="2291040" cy="6004080"/>
          </a:xfrm>
        </p:grpSpPr>
        <p:sp>
          <p:nvSpPr>
            <p:cNvPr id="332" name="环形箭头 3"/>
            <p:cNvSpPr/>
            <p:nvPr/>
          </p:nvSpPr>
          <p:spPr>
            <a:xfrm>
              <a:off x="5447520" y="382320"/>
              <a:ext cx="1792800" cy="1859760"/>
            </a:xfrm>
            <a:prstGeom prst="circularArrow">
              <a:avLst>
                <a:gd name="adj1" fmla="val 10980"/>
                <a:gd name="adj2" fmla="val 1142322"/>
                <a:gd name="adj3" fmla="val 4500000"/>
                <a:gd name="adj4" fmla="val 10800000"/>
                <a:gd name="adj5" fmla="val 12500"/>
              </a:avLst>
            </a:prstGeom>
            <a:solidFill>
              <a:srgbClr val="fd5b5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形状 8"/>
            <p:cNvSpPr/>
            <p:nvPr/>
          </p:nvSpPr>
          <p:spPr>
            <a:xfrm>
              <a:off x="4949280" y="1451160"/>
              <a:ext cx="1792800" cy="1859760"/>
            </a:xfrm>
            <a:prstGeom prst="leftCircularArrow">
              <a:avLst>
                <a:gd name="adj1" fmla="val 10980"/>
                <a:gd name="adj2" fmla="val 1142322"/>
                <a:gd name="adj3" fmla="val 6300000"/>
                <a:gd name="adj4" fmla="val 18900000"/>
                <a:gd name="adj5" fmla="val 12500"/>
              </a:avLst>
            </a:prstGeom>
            <a:solidFill>
              <a:srgbClr val="fd5b5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环形箭头 10"/>
            <p:cNvSpPr/>
            <p:nvPr/>
          </p:nvSpPr>
          <p:spPr>
            <a:xfrm>
              <a:off x="5447520" y="2524680"/>
              <a:ext cx="1792800" cy="1859760"/>
            </a:xfrm>
            <a:prstGeom prst="circularArrow">
              <a:avLst>
                <a:gd name="adj1" fmla="val 10980"/>
                <a:gd name="adj2" fmla="val 1142322"/>
                <a:gd name="adj3" fmla="val 4500000"/>
                <a:gd name="adj4" fmla="val 13500000"/>
                <a:gd name="adj5" fmla="val 12500"/>
              </a:avLst>
            </a:prstGeom>
            <a:solidFill>
              <a:srgbClr val="fd5b5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形状 12"/>
            <p:cNvSpPr/>
            <p:nvPr/>
          </p:nvSpPr>
          <p:spPr>
            <a:xfrm>
              <a:off x="4949280" y="3595320"/>
              <a:ext cx="1792800" cy="1859760"/>
            </a:xfrm>
            <a:prstGeom prst="leftCircularArrow">
              <a:avLst>
                <a:gd name="adj1" fmla="val 10980"/>
                <a:gd name="adj2" fmla="val 1142322"/>
                <a:gd name="adj3" fmla="val 6300000"/>
                <a:gd name="adj4" fmla="val 18900000"/>
                <a:gd name="adj5" fmla="val 12500"/>
              </a:avLst>
            </a:prstGeom>
            <a:solidFill>
              <a:srgbClr val="fd5b5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空心弧 14"/>
            <p:cNvSpPr/>
            <p:nvPr/>
          </p:nvSpPr>
          <p:spPr>
            <a:xfrm>
              <a:off x="5574960" y="4787640"/>
              <a:ext cx="1540080" cy="1598760"/>
            </a:xfrm>
            <a:prstGeom prst="blockArc">
              <a:avLst>
                <a:gd name="adj1" fmla="val 13500000"/>
                <a:gd name="adj2" fmla="val 10800000"/>
                <a:gd name="adj3" fmla="val 12740"/>
              </a:avLst>
            </a:prstGeom>
            <a:solidFill>
              <a:srgbClr val="fd5b5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73"/>
          <p:cNvSpPr/>
          <p:nvPr/>
        </p:nvSpPr>
        <p:spPr>
          <a:xfrm>
            <a:off x="7891560" y="745200"/>
            <a:ext cx="1456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一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确产开发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74"/>
          <p:cNvSpPr/>
          <p:nvPr/>
        </p:nvSpPr>
        <p:spPr>
          <a:xfrm>
            <a:off x="7818120" y="1938960"/>
            <a:ext cx="1648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二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Tu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决定设计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76"/>
          <p:cNvSpPr/>
          <p:nvPr/>
        </p:nvSpPr>
        <p:spPr>
          <a:xfrm>
            <a:off x="7825680" y="3158280"/>
            <a:ext cx="2011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三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Wedn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作出关键开发决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7"/>
          <p:cNvSpPr/>
          <p:nvPr/>
        </p:nvSpPr>
        <p:spPr>
          <a:xfrm>
            <a:off x="8523720" y="4265640"/>
            <a:ext cx="264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四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通过搜索引擎优化使你的网站可以被找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78"/>
          <p:cNvSpPr/>
          <p:nvPr/>
        </p:nvSpPr>
        <p:spPr>
          <a:xfrm>
            <a:off x="7885080" y="5538240"/>
            <a:ext cx="142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五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明确你的移动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25"/>
          <p:cNvGrpSpPr/>
          <p:nvPr/>
        </p:nvGrpSpPr>
        <p:grpSpPr>
          <a:xfrm>
            <a:off x="4788360" y="1201680"/>
            <a:ext cx="330840" cy="4786920"/>
            <a:chOff x="4788360" y="1201680"/>
            <a:chExt cx="330840" cy="4786920"/>
          </a:xfrm>
        </p:grpSpPr>
        <p:cxnSp>
          <p:nvCxnSpPr>
            <p:cNvPr id="343" name="直接连接符 79"/>
            <p:cNvCxnSpPr/>
            <p:nvPr/>
          </p:nvCxnSpPr>
          <p:spPr>
            <a:xfrm flipH="1">
              <a:off x="4788360" y="1201680"/>
              <a:ext cx="15120" cy="4787280"/>
            </a:xfrm>
            <a:prstGeom prst="straightConnector1">
              <a:avLst/>
            </a:prstGeom>
            <a:ln>
              <a:solidFill>
                <a:srgbClr val="fd5b5f"/>
              </a:solidFill>
            </a:ln>
          </p:spPr>
        </p:cxnSp>
        <p:cxnSp>
          <p:nvCxnSpPr>
            <p:cNvPr id="344" name="直接箭头连接符 80"/>
            <p:cNvCxnSpPr/>
            <p:nvPr/>
          </p:nvCxnSpPr>
          <p:spPr>
            <a:xfrm>
              <a:off x="4803120" y="1201680"/>
              <a:ext cx="316440" cy="360"/>
            </a:xfrm>
            <a:prstGeom prst="straightConnector1">
              <a:avLst/>
            </a:prstGeom>
            <a:ln>
              <a:solidFill>
                <a:srgbClr val="fd5b5f"/>
              </a:solidFill>
              <a:tailEnd len="med" type="triangle" w="med"/>
            </a:ln>
          </p:spPr>
        </p:cxnSp>
        <p:cxnSp>
          <p:nvCxnSpPr>
            <p:cNvPr id="345" name="直接箭头连接符 81"/>
            <p:cNvCxnSpPr/>
            <p:nvPr/>
          </p:nvCxnSpPr>
          <p:spPr>
            <a:xfrm>
              <a:off x="4803120" y="2398320"/>
              <a:ext cx="316440" cy="360"/>
            </a:xfrm>
            <a:prstGeom prst="straightConnector1">
              <a:avLst/>
            </a:prstGeom>
            <a:ln>
              <a:solidFill>
                <a:srgbClr val="fd5b5f"/>
              </a:solidFill>
              <a:tailEnd len="med" type="triangle" w="med"/>
            </a:ln>
          </p:spPr>
        </p:cxnSp>
        <p:cxnSp>
          <p:nvCxnSpPr>
            <p:cNvPr id="346" name="直接箭头连接符 82"/>
            <p:cNvCxnSpPr/>
            <p:nvPr/>
          </p:nvCxnSpPr>
          <p:spPr>
            <a:xfrm>
              <a:off x="4803120" y="3594960"/>
              <a:ext cx="316440" cy="360"/>
            </a:xfrm>
            <a:prstGeom prst="straightConnector1">
              <a:avLst/>
            </a:prstGeom>
            <a:ln>
              <a:solidFill>
                <a:srgbClr val="fd5b5f"/>
              </a:solidFill>
              <a:tailEnd len="med" type="triangle" w="med"/>
            </a:ln>
          </p:spPr>
        </p:cxnSp>
        <p:cxnSp>
          <p:nvCxnSpPr>
            <p:cNvPr id="347" name="直接箭头连接符 83"/>
            <p:cNvCxnSpPr/>
            <p:nvPr/>
          </p:nvCxnSpPr>
          <p:spPr>
            <a:xfrm>
              <a:off x="4803120" y="4791600"/>
              <a:ext cx="316440" cy="360"/>
            </a:xfrm>
            <a:prstGeom prst="straightConnector1">
              <a:avLst/>
            </a:prstGeom>
            <a:ln>
              <a:solidFill>
                <a:srgbClr val="fd5b5f"/>
              </a:solidFill>
              <a:tailEnd len="med" type="triangle" w="med"/>
            </a:ln>
          </p:spPr>
        </p:cxnSp>
        <p:cxnSp>
          <p:nvCxnSpPr>
            <p:cNvPr id="348" name="直接箭头连接符 84"/>
            <p:cNvCxnSpPr/>
            <p:nvPr/>
          </p:nvCxnSpPr>
          <p:spPr>
            <a:xfrm>
              <a:off x="4803120" y="5988600"/>
              <a:ext cx="316440" cy="360"/>
            </a:xfrm>
            <a:prstGeom prst="straightConnector1">
              <a:avLst/>
            </a:prstGeom>
            <a:ln>
              <a:solidFill>
                <a:srgbClr val="fd5b5f"/>
              </a:solidFill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文本框 4"/>
          <p:cNvSpPr/>
          <p:nvPr/>
        </p:nvSpPr>
        <p:spPr>
          <a:xfrm>
            <a:off x="4362120" y="3260880"/>
            <a:ext cx="6841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我们大力主强先</a:t>
            </a:r>
            <a:r>
              <a:rPr b="0" lang="zh-CN" sz="1800" spc="-1" strike="noStrike">
                <a:solidFill>
                  <a:srgbClr val="fd5b5f"/>
                </a:solidFill>
                <a:latin typeface="Verdana"/>
              </a:rPr>
              <a:t>致力于移动网站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，就是因为浏览器更为普遍一些，你能够通过调整好的移动网站来实现自己 发展规划的最大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直接连接符 5"/>
          <p:cNvCxnSpPr/>
          <p:nvPr/>
        </p:nvCxnSpPr>
        <p:spPr>
          <a:xfrm flipH="1">
            <a:off x="3877200" y="0"/>
            <a:ext cx="1713600" cy="4342680"/>
          </a:xfrm>
          <a:prstGeom prst="straightConnector1">
            <a:avLst/>
          </a:prstGeom>
          <a:ln>
            <a:solidFill>
              <a:srgbClr val="d9d9d9"/>
            </a:solidFill>
          </a:ln>
        </p:spPr>
      </p:cxnSp>
      <p:sp>
        <p:nvSpPr>
          <p:cNvPr id="351" name="文本框 6"/>
          <p:cNvSpPr/>
          <p:nvPr/>
        </p:nvSpPr>
        <p:spPr>
          <a:xfrm>
            <a:off x="1677240" y="207792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7"/>
          <p:cNvSpPr/>
          <p:nvPr/>
        </p:nvSpPr>
        <p:spPr>
          <a:xfrm>
            <a:off x="2564640" y="302868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442080" y="634752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组合 208"/>
          <p:cNvGrpSpPr/>
          <p:nvPr/>
        </p:nvGrpSpPr>
        <p:grpSpPr>
          <a:xfrm>
            <a:off x="1175400" y="1680840"/>
            <a:ext cx="5054400" cy="2335320"/>
            <a:chOff x="1175400" y="1680840"/>
            <a:chExt cx="5054400" cy="2335320"/>
          </a:xfrm>
        </p:grpSpPr>
        <p:grpSp>
          <p:nvGrpSpPr>
            <p:cNvPr id="355" name="组合 196"/>
            <p:cNvGrpSpPr/>
            <p:nvPr/>
          </p:nvGrpSpPr>
          <p:grpSpPr>
            <a:xfrm>
              <a:off x="1175400" y="1680840"/>
              <a:ext cx="1283400" cy="2335320"/>
              <a:chOff x="1175400" y="1680840"/>
              <a:chExt cx="1283400" cy="2335320"/>
            </a:xfrm>
          </p:grpSpPr>
          <p:sp>
            <p:nvSpPr>
              <p:cNvPr id="356" name="文本框 187"/>
              <p:cNvSpPr/>
              <p:nvPr/>
            </p:nvSpPr>
            <p:spPr>
              <a:xfrm>
                <a:off x="1898640" y="2076840"/>
                <a:ext cx="532080" cy="8611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861120"/>
                  <a:gd name="textAreaBottom" fmla="*/ 861480 h 861120"/>
                </a:gdLst>
                <a:ahLst/>
                <a:rect l="textAreaLeft" t="textAreaTop" r="textAreaRight" b="textAreaBottom"/>
                <a:pathLst>
                  <a:path w="532498" h="861460">
                    <a:moveTo>
                      <a:pt x="375478" y="0"/>
                    </a:moveTo>
                    <a:lnTo>
                      <a:pt x="420493" y="33112"/>
                    </a:lnTo>
                    <a:cubicBezTo>
                      <a:pt x="435211" y="47309"/>
                      <a:pt x="448539" y="63857"/>
                      <a:pt x="460478" y="82756"/>
                    </a:cubicBezTo>
                    <a:cubicBezTo>
                      <a:pt x="508236" y="158351"/>
                      <a:pt x="532242" y="269329"/>
                      <a:pt x="532498" y="415690"/>
                    </a:cubicBezTo>
                    <a:lnTo>
                      <a:pt x="532498" y="416805"/>
                    </a:lnTo>
                    <a:cubicBezTo>
                      <a:pt x="532242" y="561610"/>
                      <a:pt x="508236" y="671799"/>
                      <a:pt x="460478" y="747371"/>
                    </a:cubicBezTo>
                    <a:cubicBezTo>
                      <a:pt x="412720" y="822943"/>
                      <a:pt x="342743" y="860973"/>
                      <a:pt x="250548" y="861460"/>
                    </a:cubicBezTo>
                    <a:cubicBezTo>
                      <a:pt x="157912" y="860996"/>
                      <a:pt x="87981" y="822920"/>
                      <a:pt x="40758" y="747232"/>
                    </a:cubicBezTo>
                    <a:cubicBezTo>
                      <a:pt x="28952" y="728310"/>
                      <a:pt x="18618" y="707211"/>
                      <a:pt x="9754" y="683936"/>
                    </a:cubicBezTo>
                    <a:lnTo>
                      <a:pt x="0" y="650347"/>
                    </a:lnTo>
                    <a:lnTo>
                      <a:pt x="51287" y="561515"/>
                    </a:lnTo>
                    <a:lnTo>
                      <a:pt x="54810" y="588896"/>
                    </a:lnTo>
                    <a:cubicBezTo>
                      <a:pt x="63841" y="637397"/>
                      <a:pt x="77313" y="677035"/>
                      <a:pt x="95225" y="707809"/>
                    </a:cubicBezTo>
                    <a:cubicBezTo>
                      <a:pt x="131049" y="769358"/>
                      <a:pt x="182824" y="799772"/>
                      <a:pt x="250548" y="799052"/>
                    </a:cubicBezTo>
                    <a:cubicBezTo>
                      <a:pt x="318319" y="799795"/>
                      <a:pt x="370279" y="769334"/>
                      <a:pt x="406428" y="707670"/>
                    </a:cubicBezTo>
                    <a:cubicBezTo>
                      <a:pt x="442577" y="646005"/>
                      <a:pt x="460826" y="548678"/>
                      <a:pt x="461174" y="415690"/>
                    </a:cubicBezTo>
                    <a:cubicBezTo>
                      <a:pt x="460826" y="281588"/>
                      <a:pt x="442577" y="183426"/>
                      <a:pt x="406428" y="121204"/>
                    </a:cubicBezTo>
                    <a:cubicBezTo>
                      <a:pt x="397391" y="105648"/>
                      <a:pt x="387366" y="92060"/>
                      <a:pt x="376352" y="80440"/>
                    </a:cubicBezTo>
                    <a:lnTo>
                      <a:pt x="344040" y="54453"/>
                    </a:lnTo>
                    <a:lnTo>
                      <a:pt x="375478" y="0"/>
                    </a:lnTo>
                    <a:close/>
                  </a:path>
                </a:pathLst>
              </a:custGeom>
              <a:solidFill>
                <a:srgbClr val="2fa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8800" spc="-1" strike="noStrike">
                  <a:solidFill>
                    <a:srgbClr val="fd5b5f"/>
                  </a:solidFill>
                  <a:latin typeface="AXIS Std L"/>
                  <a:ea typeface="AXIS Std L"/>
                </a:endParaRPr>
              </a:p>
            </p:txBody>
          </p:sp>
          <p:cxnSp>
            <p:nvCxnSpPr>
              <p:cNvPr id="357" name="直接连接符 193"/>
              <p:cNvCxnSpPr/>
              <p:nvPr/>
            </p:nvCxnSpPr>
            <p:spPr>
              <a:xfrm flipH="1">
                <a:off x="1175400" y="1680840"/>
                <a:ext cx="1283760" cy="2335680"/>
              </a:xfrm>
              <a:prstGeom prst="straightConnector1">
                <a:avLst/>
              </a:prstGeom>
              <a:ln>
                <a:solidFill>
                  <a:srgbClr val="2fa1cf"/>
                </a:solidFill>
              </a:ln>
            </p:spPr>
          </p:cxnSp>
        </p:grpSp>
        <p:sp>
          <p:nvSpPr>
            <p:cNvPr id="358" name="文本框 197"/>
            <p:cNvSpPr/>
            <p:nvPr/>
          </p:nvSpPr>
          <p:spPr>
            <a:xfrm>
              <a:off x="2386080" y="3105000"/>
              <a:ext cx="3843720" cy="821160"/>
            </a:xfrm>
            <a:prstGeom prst="rect">
              <a:avLst/>
            </a:prstGeom>
            <a:solidFill>
              <a:srgbClr val="2fa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第四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最大化使用移动应用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1"/>
          <p:cNvSpPr/>
          <p:nvPr/>
        </p:nvSpPr>
        <p:spPr>
          <a:xfrm>
            <a:off x="2496600" y="1767600"/>
            <a:ext cx="8028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2fa1c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55"/>
          <p:cNvSpPr/>
          <p:nvPr/>
        </p:nvSpPr>
        <p:spPr>
          <a:xfrm>
            <a:off x="9319680" y="768600"/>
            <a:ext cx="1456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一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理解本地化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56"/>
          <p:cNvSpPr/>
          <p:nvPr/>
        </p:nvSpPr>
        <p:spPr>
          <a:xfrm>
            <a:off x="8415000" y="1946880"/>
            <a:ext cx="1648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二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Tu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建立应用程序内容战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57"/>
          <p:cNvSpPr/>
          <p:nvPr/>
        </p:nvSpPr>
        <p:spPr>
          <a:xfrm>
            <a:off x="8141760" y="3253680"/>
            <a:ext cx="2011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三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Wedn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考虑开发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8"/>
          <p:cNvSpPr/>
          <p:nvPr/>
        </p:nvSpPr>
        <p:spPr>
          <a:xfrm>
            <a:off x="8302680" y="4487760"/>
            <a:ext cx="176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四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建立应用程序营销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60"/>
          <p:cNvSpPr/>
          <p:nvPr/>
        </p:nvSpPr>
        <p:spPr>
          <a:xfrm>
            <a:off x="9319320" y="5553360"/>
            <a:ext cx="1689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五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概述关于本地化应用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独特评估策略和最佳战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任意多边形 19"/>
          <p:cNvSpPr/>
          <p:nvPr/>
        </p:nvSpPr>
        <p:spPr>
          <a:xfrm>
            <a:off x="452160" y="3653640"/>
            <a:ext cx="3701880" cy="1908720"/>
          </a:xfrm>
          <a:custGeom>
            <a:avLst/>
            <a:gdLst>
              <a:gd name="textAreaLeft" fmla="*/ 0 w 3701880"/>
              <a:gd name="textAreaRight" fmla="*/ 3702240 w 37018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2600960" h="1341120">
                <a:moveTo>
                  <a:pt x="0" y="0"/>
                </a:moveTo>
                <a:lnTo>
                  <a:pt x="2600960" y="0"/>
                </a:lnTo>
                <a:lnTo>
                  <a:pt x="2600960" y="1341120"/>
                </a:lnTo>
                <a:lnTo>
                  <a:pt x="0" y="1341120"/>
                </a:lnTo>
                <a:lnTo>
                  <a:pt x="0" y="0"/>
                </a:lnTo>
                <a:close/>
              </a:path>
            </a:pathLst>
          </a:custGeom>
          <a:noFill/>
          <a:ln>
            <a:noFill/>
          </a:ln>
        </p:spPr>
        <p:style>
          <a:lnRef idx="2"/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0" rIns="0" tIns="0" bIns="0" anchor="b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366" name="组合 35"/>
          <p:cNvGrpSpPr/>
          <p:nvPr/>
        </p:nvGrpSpPr>
        <p:grpSpPr>
          <a:xfrm>
            <a:off x="6219720" y="582120"/>
            <a:ext cx="2697480" cy="5784120"/>
            <a:chOff x="6219720" y="582120"/>
            <a:chExt cx="2697480" cy="5784120"/>
          </a:xfrm>
        </p:grpSpPr>
        <p:sp>
          <p:nvSpPr>
            <p:cNvPr id="367" name="直接连接符 12"/>
            <p:cNvSpPr/>
            <p:nvPr/>
          </p:nvSpPr>
          <p:spPr>
            <a:xfrm>
              <a:off x="6239880" y="3468960"/>
              <a:ext cx="1018800" cy="1387800"/>
            </a:xfrm>
            <a:prstGeom prst="line">
              <a:avLst/>
            </a:prstGeom>
            <a:ln>
              <a:solidFill>
                <a:srgbClr val="2fa1cf"/>
              </a:solidFill>
              <a:prstDash val="dash"/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14"/>
            <p:cNvSpPr/>
            <p:nvPr/>
          </p:nvSpPr>
          <p:spPr>
            <a:xfrm>
              <a:off x="6219720" y="3474360"/>
              <a:ext cx="711000" cy="360"/>
            </a:xfrm>
            <a:prstGeom prst="line">
              <a:avLst/>
            </a:prstGeom>
            <a:ln>
              <a:solidFill>
                <a:srgbClr val="2fa1cf"/>
              </a:solidFill>
              <a:prstDash val="dash"/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7"/>
            <p:cNvSpPr/>
            <p:nvPr/>
          </p:nvSpPr>
          <p:spPr>
            <a:xfrm flipV="1">
              <a:off x="6219720" y="1102680"/>
              <a:ext cx="1947600" cy="2376000"/>
            </a:xfrm>
            <a:prstGeom prst="line">
              <a:avLst/>
            </a:prstGeom>
            <a:ln>
              <a:solidFill>
                <a:srgbClr val="2fa1cf"/>
              </a:solidFill>
              <a:prstDash val="dash"/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10"/>
            <p:cNvSpPr/>
            <p:nvPr/>
          </p:nvSpPr>
          <p:spPr>
            <a:xfrm>
              <a:off x="6239880" y="3478680"/>
              <a:ext cx="1991160" cy="2369160"/>
            </a:xfrm>
            <a:prstGeom prst="line">
              <a:avLst/>
            </a:prstGeom>
            <a:ln>
              <a:solidFill>
                <a:srgbClr val="2fa1cf"/>
              </a:solidFill>
              <a:prstDash val="dash"/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6"/>
            <p:cNvSpPr/>
            <p:nvPr/>
          </p:nvSpPr>
          <p:spPr>
            <a:xfrm flipV="1">
              <a:off x="6229800" y="2091600"/>
              <a:ext cx="1028880" cy="1382760"/>
            </a:xfrm>
            <a:prstGeom prst="line">
              <a:avLst/>
            </a:prstGeom>
            <a:ln>
              <a:solidFill>
                <a:srgbClr val="2fa1cf"/>
              </a:solidFill>
              <a:prstDash val="dash"/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椭圆 20"/>
            <p:cNvSpPr/>
            <p:nvPr/>
          </p:nvSpPr>
          <p:spPr>
            <a:xfrm>
              <a:off x="7646760" y="582120"/>
              <a:ext cx="1040760" cy="1040760"/>
            </a:xfrm>
            <a:prstGeom prst="ellipse">
              <a:avLst/>
            </a:prstGeom>
            <a:solidFill>
              <a:srgbClr val="2fa1c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21"/>
            <p:cNvSpPr/>
            <p:nvPr/>
          </p:nvSpPr>
          <p:spPr>
            <a:xfrm>
              <a:off x="8688240" y="582120"/>
              <a:ext cx="228960" cy="104076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1040760"/>
                <a:gd name="textAreaBottom" fmla="*/ 1041120 h 1040760"/>
              </a:gdLst>
              <a:ahLst/>
              <a:rect l="textAreaLeft" t="textAreaTop" r="textAreaRight" b="textAreaBottom"/>
              <a:pathLst>
                <a:path w="161015" h="731520">
                  <a:moveTo>
                    <a:pt x="0" y="0"/>
                  </a:moveTo>
                  <a:lnTo>
                    <a:pt x="161015" y="0"/>
                  </a:lnTo>
                  <a:lnTo>
                    <a:pt x="161015" y="731520"/>
                  </a:lnTo>
                  <a:lnTo>
                    <a:pt x="0" y="7315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>
              <a:schemeClr val="dk1">
                <a:alpha val="0"/>
                <a:hueOff val="0"/>
                <a:satOff val="0"/>
                <a:lumOff val="0"/>
                <a:alphaOff val="0"/>
              </a:schemeClr>
            </a:lnRef>
            <a:fillRef idx="0">
              <a:schemeClr val="lt1">
                <a:alpha val="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98000" rIns="1980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820"/>
                </a:spcAft>
              </a:pPr>
              <a:endParaRPr b="0" lang="en-US" sz="5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椭圆 22"/>
            <p:cNvSpPr/>
            <p:nvPr/>
          </p:nvSpPr>
          <p:spPr>
            <a:xfrm>
              <a:off x="6738120" y="1571400"/>
              <a:ext cx="1040760" cy="1040760"/>
            </a:xfrm>
            <a:prstGeom prst="ellipse">
              <a:avLst/>
            </a:prstGeom>
            <a:solidFill>
              <a:srgbClr val="2fa1c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 23"/>
            <p:cNvSpPr/>
            <p:nvPr/>
          </p:nvSpPr>
          <p:spPr>
            <a:xfrm>
              <a:off x="7779240" y="1571400"/>
              <a:ext cx="319680" cy="1040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040760"/>
                <a:gd name="textAreaBottom" fmla="*/ 1041120 h 1040760"/>
              </a:gdLst>
              <a:ahLst/>
              <a:rect l="textAreaLeft" t="textAreaTop" r="textAreaRight" b="textAreaBottom"/>
              <a:pathLst>
                <a:path w="224861" h="731520">
                  <a:moveTo>
                    <a:pt x="0" y="0"/>
                  </a:moveTo>
                  <a:lnTo>
                    <a:pt x="224861" y="0"/>
                  </a:lnTo>
                  <a:lnTo>
                    <a:pt x="224861" y="731520"/>
                  </a:lnTo>
                  <a:lnTo>
                    <a:pt x="0" y="7315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>
              <a:schemeClr val="dk1">
                <a:alpha val="0"/>
                <a:hueOff val="0"/>
                <a:satOff val="0"/>
                <a:lumOff val="0"/>
                <a:alphaOff val="0"/>
              </a:schemeClr>
            </a:lnRef>
            <a:fillRef idx="0">
              <a:schemeClr val="lt1">
                <a:alpha val="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98000" rIns="1980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820"/>
                </a:spcAft>
              </a:pPr>
              <a:endParaRPr b="0" lang="en-US" sz="5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椭圆 24"/>
            <p:cNvSpPr/>
            <p:nvPr/>
          </p:nvSpPr>
          <p:spPr>
            <a:xfrm>
              <a:off x="6669360" y="2948760"/>
              <a:ext cx="1040760" cy="1040760"/>
            </a:xfrm>
            <a:prstGeom prst="ellipse">
              <a:avLst/>
            </a:prstGeom>
            <a:solidFill>
              <a:srgbClr val="2fa1c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25"/>
            <p:cNvSpPr/>
            <p:nvPr/>
          </p:nvSpPr>
          <p:spPr>
            <a:xfrm>
              <a:off x="7451280" y="2953800"/>
              <a:ext cx="352440" cy="10407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040760"/>
                <a:gd name="textAreaBottom" fmla="*/ 1041120 h 1040760"/>
              </a:gdLst>
              <a:ahLst/>
              <a:rect l="textAreaLeft" t="textAreaTop" r="textAreaRight" b="textAreaBottom"/>
              <a:pathLst>
                <a:path w="247904" h="731520">
                  <a:moveTo>
                    <a:pt x="0" y="0"/>
                  </a:moveTo>
                  <a:lnTo>
                    <a:pt x="247904" y="0"/>
                  </a:lnTo>
                  <a:lnTo>
                    <a:pt x="247904" y="731520"/>
                  </a:lnTo>
                  <a:lnTo>
                    <a:pt x="0" y="7315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>
              <a:schemeClr val="dk1">
                <a:alpha val="0"/>
                <a:hueOff val="0"/>
                <a:satOff val="0"/>
                <a:lumOff val="0"/>
                <a:alphaOff val="0"/>
              </a:schemeClr>
            </a:lnRef>
            <a:fillRef idx="0">
              <a:schemeClr val="lt1">
                <a:alpha val="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3040" rIns="2304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210"/>
                </a:spcAft>
              </a:pP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椭圆 26"/>
            <p:cNvSpPr/>
            <p:nvPr/>
          </p:nvSpPr>
          <p:spPr>
            <a:xfrm>
              <a:off x="6738120" y="4336200"/>
              <a:ext cx="1040760" cy="1040760"/>
            </a:xfrm>
            <a:prstGeom prst="ellipse">
              <a:avLst/>
            </a:prstGeom>
            <a:solidFill>
              <a:srgbClr val="2fa1c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27"/>
            <p:cNvSpPr/>
            <p:nvPr/>
          </p:nvSpPr>
          <p:spPr>
            <a:xfrm>
              <a:off x="7779240" y="4336200"/>
              <a:ext cx="319680" cy="1040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040760"/>
                <a:gd name="textAreaBottom" fmla="*/ 1041120 h 1040760"/>
              </a:gdLst>
              <a:ahLst/>
              <a:rect l="textAreaLeft" t="textAreaTop" r="textAreaRight" b="textAreaBottom"/>
              <a:pathLst>
                <a:path w="224861" h="731520">
                  <a:moveTo>
                    <a:pt x="0" y="0"/>
                  </a:moveTo>
                  <a:lnTo>
                    <a:pt x="224861" y="0"/>
                  </a:lnTo>
                  <a:lnTo>
                    <a:pt x="224861" y="731520"/>
                  </a:lnTo>
                  <a:lnTo>
                    <a:pt x="0" y="7315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>
              <a:schemeClr val="dk1">
                <a:alpha val="0"/>
                <a:hueOff val="0"/>
                <a:satOff val="0"/>
                <a:lumOff val="0"/>
                <a:alphaOff val="0"/>
              </a:schemeClr>
            </a:lnRef>
            <a:fillRef idx="0">
              <a:schemeClr val="lt1">
                <a:alpha val="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9080" rIns="19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6"/>
                </a:spcAft>
              </a:pPr>
              <a:endParaRPr b="0" lang="en-US" sz="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椭圆 28"/>
            <p:cNvSpPr/>
            <p:nvPr/>
          </p:nvSpPr>
          <p:spPr>
            <a:xfrm>
              <a:off x="7646760" y="5325480"/>
              <a:ext cx="1040760" cy="1040760"/>
            </a:xfrm>
            <a:prstGeom prst="ellipse">
              <a:avLst/>
            </a:prstGeom>
            <a:solidFill>
              <a:srgbClr val="2fa1c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29"/>
            <p:cNvSpPr/>
            <p:nvPr/>
          </p:nvSpPr>
          <p:spPr>
            <a:xfrm>
              <a:off x="8688240" y="5325480"/>
              <a:ext cx="228960" cy="104076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1040760"/>
                <a:gd name="textAreaBottom" fmla="*/ 1041120 h 1040760"/>
              </a:gdLst>
              <a:ahLst/>
              <a:rect l="textAreaLeft" t="textAreaTop" r="textAreaRight" b="textAreaBottom"/>
              <a:pathLst>
                <a:path w="161015" h="731520">
                  <a:moveTo>
                    <a:pt x="0" y="0"/>
                  </a:moveTo>
                  <a:lnTo>
                    <a:pt x="161015" y="0"/>
                  </a:lnTo>
                  <a:lnTo>
                    <a:pt x="161015" y="731520"/>
                  </a:lnTo>
                  <a:lnTo>
                    <a:pt x="0" y="7315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>
              <a:schemeClr val="dk1">
                <a:alpha val="0"/>
                <a:hueOff val="0"/>
                <a:satOff val="0"/>
                <a:lumOff val="0"/>
                <a:alphaOff val="0"/>
              </a:schemeClr>
            </a:lnRef>
            <a:fillRef idx="0">
              <a:schemeClr val="lt1">
                <a:alpha val="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9080" rIns="19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6"/>
                </a:spcAft>
              </a:pPr>
              <a:endParaRPr b="0" lang="en-US" sz="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2" name="矩形 31"/>
            <p:cNvSpPr/>
            <p:nvPr/>
          </p:nvSpPr>
          <p:spPr>
            <a:xfrm>
              <a:off x="7812720" y="718200"/>
              <a:ext cx="708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Verdana"/>
                </a:rPr>
                <a:t>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32"/>
            <p:cNvSpPr/>
            <p:nvPr/>
          </p:nvSpPr>
          <p:spPr>
            <a:xfrm>
              <a:off x="7006320" y="1707120"/>
              <a:ext cx="504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33"/>
            <p:cNvSpPr/>
            <p:nvPr/>
          </p:nvSpPr>
          <p:spPr>
            <a:xfrm>
              <a:off x="6828480" y="3084480"/>
              <a:ext cx="722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Verdana"/>
                </a:rPr>
                <a:t>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34"/>
            <p:cNvSpPr/>
            <p:nvPr/>
          </p:nvSpPr>
          <p:spPr>
            <a:xfrm>
              <a:off x="7006320" y="4472280"/>
              <a:ext cx="504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61"/>
            <p:cNvSpPr/>
            <p:nvPr/>
          </p:nvSpPr>
          <p:spPr>
            <a:xfrm>
              <a:off x="7923600" y="5461560"/>
              <a:ext cx="48744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文本框 4"/>
          <p:cNvSpPr/>
          <p:nvPr/>
        </p:nvSpPr>
        <p:spPr>
          <a:xfrm>
            <a:off x="4362120" y="3260880"/>
            <a:ext cx="6841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管你是效力于某品牌，设计应用是为了支持生意， 还是说应用就是你的生意或服务，都要关心和照料它，以确保你的用户与你同在并不断加深与你之间的关系。他们停留的时间越长，使用你的应用越多，对你而言就越有价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5"/>
          <p:cNvCxnSpPr/>
          <p:nvPr/>
        </p:nvCxnSpPr>
        <p:spPr>
          <a:xfrm flipH="1">
            <a:off x="3877200" y="0"/>
            <a:ext cx="1713600" cy="4342680"/>
          </a:xfrm>
          <a:prstGeom prst="straightConnector1">
            <a:avLst/>
          </a:prstGeom>
          <a:ln>
            <a:solidFill>
              <a:srgbClr val="d9d9d9"/>
            </a:solidFill>
          </a:ln>
        </p:spPr>
      </p:cxnSp>
      <p:sp>
        <p:nvSpPr>
          <p:cNvPr id="389" name="文本框 6"/>
          <p:cNvSpPr/>
          <p:nvPr/>
        </p:nvSpPr>
        <p:spPr>
          <a:xfrm>
            <a:off x="1677240" y="207792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7"/>
          <p:cNvSpPr/>
          <p:nvPr/>
        </p:nvSpPr>
        <p:spPr>
          <a:xfrm>
            <a:off x="2564640" y="302868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491791189"/>
              </p:ext>
            </p:extLst>
          </p:nvPr>
        </p:nvGraphicFramePr>
        <p:xfrm>
          <a:off x="2392920" y="509760"/>
          <a:ext cx="812772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391" name="组合 208"/>
          <p:cNvGrpSpPr/>
          <p:nvPr/>
        </p:nvGrpSpPr>
        <p:grpSpPr>
          <a:xfrm>
            <a:off x="1117800" y="2275560"/>
            <a:ext cx="4329360" cy="2164320"/>
            <a:chOff x="1117800" y="2275560"/>
            <a:chExt cx="4329360" cy="2164320"/>
          </a:xfrm>
        </p:grpSpPr>
        <p:grpSp>
          <p:nvGrpSpPr>
            <p:cNvPr id="392" name="组合 196"/>
            <p:cNvGrpSpPr/>
            <p:nvPr/>
          </p:nvGrpSpPr>
          <p:grpSpPr>
            <a:xfrm>
              <a:off x="1117800" y="2275560"/>
              <a:ext cx="1296360" cy="2164320"/>
              <a:chOff x="1117800" y="2275560"/>
              <a:chExt cx="1296360" cy="2164320"/>
            </a:xfrm>
          </p:grpSpPr>
          <p:sp>
            <p:nvSpPr>
              <p:cNvPr id="393" name="文本框 187"/>
              <p:cNvSpPr/>
              <p:nvPr/>
            </p:nvSpPr>
            <p:spPr>
              <a:xfrm>
                <a:off x="1882080" y="2522880"/>
                <a:ext cx="532080" cy="8611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861120"/>
                  <a:gd name="textAreaBottom" fmla="*/ 861480 h 861120"/>
                </a:gdLst>
                <a:ahLst/>
                <a:rect l="textAreaLeft" t="textAreaTop" r="textAreaRight" b="textAreaBottom"/>
                <a:pathLst>
                  <a:path w="532498" h="861460">
                    <a:moveTo>
                      <a:pt x="375478" y="0"/>
                    </a:moveTo>
                    <a:lnTo>
                      <a:pt x="420493" y="33112"/>
                    </a:lnTo>
                    <a:cubicBezTo>
                      <a:pt x="435211" y="47309"/>
                      <a:pt x="448539" y="63857"/>
                      <a:pt x="460478" y="82756"/>
                    </a:cubicBezTo>
                    <a:cubicBezTo>
                      <a:pt x="508236" y="158351"/>
                      <a:pt x="532242" y="269329"/>
                      <a:pt x="532498" y="415690"/>
                    </a:cubicBezTo>
                    <a:lnTo>
                      <a:pt x="532498" y="416805"/>
                    </a:lnTo>
                    <a:cubicBezTo>
                      <a:pt x="532242" y="561610"/>
                      <a:pt x="508236" y="671799"/>
                      <a:pt x="460478" y="747371"/>
                    </a:cubicBezTo>
                    <a:cubicBezTo>
                      <a:pt x="412720" y="822943"/>
                      <a:pt x="342743" y="860973"/>
                      <a:pt x="250548" y="861460"/>
                    </a:cubicBezTo>
                    <a:cubicBezTo>
                      <a:pt x="157912" y="860996"/>
                      <a:pt x="87981" y="822920"/>
                      <a:pt x="40758" y="747232"/>
                    </a:cubicBezTo>
                    <a:cubicBezTo>
                      <a:pt x="28952" y="728310"/>
                      <a:pt x="18618" y="707211"/>
                      <a:pt x="9754" y="683936"/>
                    </a:cubicBezTo>
                    <a:lnTo>
                      <a:pt x="0" y="650347"/>
                    </a:lnTo>
                    <a:lnTo>
                      <a:pt x="51287" y="561515"/>
                    </a:lnTo>
                    <a:lnTo>
                      <a:pt x="54810" y="588896"/>
                    </a:lnTo>
                    <a:cubicBezTo>
                      <a:pt x="63841" y="637397"/>
                      <a:pt x="77313" y="677035"/>
                      <a:pt x="95225" y="707809"/>
                    </a:cubicBezTo>
                    <a:cubicBezTo>
                      <a:pt x="131049" y="769358"/>
                      <a:pt x="182824" y="799772"/>
                      <a:pt x="250548" y="799052"/>
                    </a:cubicBezTo>
                    <a:cubicBezTo>
                      <a:pt x="318319" y="799795"/>
                      <a:pt x="370279" y="769334"/>
                      <a:pt x="406428" y="707670"/>
                    </a:cubicBezTo>
                    <a:cubicBezTo>
                      <a:pt x="442577" y="646005"/>
                      <a:pt x="460826" y="548678"/>
                      <a:pt x="461174" y="415690"/>
                    </a:cubicBezTo>
                    <a:cubicBezTo>
                      <a:pt x="460826" y="281588"/>
                      <a:pt x="442577" y="183426"/>
                      <a:pt x="406428" y="121204"/>
                    </a:cubicBezTo>
                    <a:cubicBezTo>
                      <a:pt x="397391" y="105648"/>
                      <a:pt x="387366" y="92060"/>
                      <a:pt x="376352" y="80440"/>
                    </a:cubicBezTo>
                    <a:lnTo>
                      <a:pt x="344040" y="54453"/>
                    </a:lnTo>
                    <a:lnTo>
                      <a:pt x="375478" y="0"/>
                    </a:lnTo>
                    <a:close/>
                  </a:path>
                </a:pathLst>
              </a:custGeom>
              <a:solidFill>
                <a:srgbClr val="fd5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8800" spc="-1" strike="noStrike">
                  <a:solidFill>
                    <a:srgbClr val="fd5b5f"/>
                  </a:solidFill>
                  <a:latin typeface="AXIS Std L"/>
                  <a:ea typeface="AXIS Std L"/>
                </a:endParaRPr>
              </a:p>
            </p:txBody>
          </p:sp>
          <p:cxnSp>
            <p:nvCxnSpPr>
              <p:cNvPr id="394" name="直接连接符 193"/>
              <p:cNvCxnSpPr/>
              <p:nvPr/>
            </p:nvCxnSpPr>
            <p:spPr>
              <a:xfrm flipH="1">
                <a:off x="1117800" y="2275560"/>
                <a:ext cx="1293480" cy="2164680"/>
              </a:xfrm>
              <a:prstGeom prst="straightConnector1">
                <a:avLst/>
              </a:prstGeom>
              <a:ln>
                <a:solidFill>
                  <a:srgbClr val="fd5b5f"/>
                </a:solidFill>
              </a:ln>
            </p:spPr>
          </p:cxnSp>
        </p:grpSp>
        <p:sp>
          <p:nvSpPr>
            <p:cNvPr id="395" name="文本框 197"/>
            <p:cNvSpPr/>
            <p:nvPr/>
          </p:nvSpPr>
          <p:spPr>
            <a:xfrm>
              <a:off x="1994040" y="3612960"/>
              <a:ext cx="3453120" cy="821160"/>
            </a:xfrm>
            <a:prstGeom prst="rect">
              <a:avLst/>
            </a:prstGeom>
            <a:solidFill>
              <a:srgbClr val="fd5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第五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通过移动广告推广信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文本框 52"/>
          <p:cNvSpPr/>
          <p:nvPr/>
        </p:nvSpPr>
        <p:spPr>
          <a:xfrm>
            <a:off x="2353320" y="2230560"/>
            <a:ext cx="8028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d5b5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73"/>
          <p:cNvSpPr/>
          <p:nvPr/>
        </p:nvSpPr>
        <p:spPr>
          <a:xfrm>
            <a:off x="5814720" y="89208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开发移动广告活动战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74"/>
          <p:cNvSpPr/>
          <p:nvPr/>
        </p:nvSpPr>
        <p:spPr>
          <a:xfrm>
            <a:off x="7107480" y="1907280"/>
            <a:ext cx="210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确定你的移动搜索引擎营销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76"/>
          <p:cNvSpPr/>
          <p:nvPr/>
        </p:nvSpPr>
        <p:spPr>
          <a:xfrm>
            <a:off x="8164440" y="304524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确定你的移动呈现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77"/>
          <p:cNvSpPr/>
          <p:nvPr/>
        </p:nvSpPr>
        <p:spPr>
          <a:xfrm>
            <a:off x="9043560" y="3952440"/>
            <a:ext cx="141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决定移动邮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在移动营销中的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78"/>
          <p:cNvSpPr/>
          <p:nvPr/>
        </p:nvSpPr>
        <p:spPr>
          <a:xfrm>
            <a:off x="9999720" y="5116680"/>
            <a:ext cx="155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概述移动广告活动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追踪和分析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6"/>
          <p:cNvSpPr/>
          <p:nvPr/>
        </p:nvSpPr>
        <p:spPr>
          <a:xfrm>
            <a:off x="3640320" y="728280"/>
            <a:ext cx="1101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星期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9"/>
          <p:cNvSpPr/>
          <p:nvPr/>
        </p:nvSpPr>
        <p:spPr>
          <a:xfrm>
            <a:off x="4776840" y="1781640"/>
            <a:ext cx="1115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星期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1"/>
          <p:cNvSpPr/>
          <p:nvPr/>
        </p:nvSpPr>
        <p:spPr>
          <a:xfrm>
            <a:off x="5915160" y="2922120"/>
            <a:ext cx="1202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Wednes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3"/>
          <p:cNvSpPr/>
          <p:nvPr/>
        </p:nvSpPr>
        <p:spPr>
          <a:xfrm>
            <a:off x="7006680" y="3995640"/>
            <a:ext cx="1246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5"/>
          <p:cNvSpPr/>
          <p:nvPr/>
        </p:nvSpPr>
        <p:spPr>
          <a:xfrm>
            <a:off x="8325360" y="5136480"/>
            <a:ext cx="892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文本框 4"/>
          <p:cNvSpPr/>
          <p:nvPr/>
        </p:nvSpPr>
        <p:spPr>
          <a:xfrm>
            <a:off x="4362120" y="3260880"/>
            <a:ext cx="6841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移动搜索引擎营销和显示广告将助于拉动你网站和应用的访问量，但同样也逐渐演变为现实体验的重要推手，能够将交易引进店内并在线下引发各种真实行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直接连接符 5"/>
          <p:cNvCxnSpPr/>
          <p:nvPr/>
        </p:nvCxnSpPr>
        <p:spPr>
          <a:xfrm flipH="1">
            <a:off x="3877200" y="0"/>
            <a:ext cx="1713600" cy="4342680"/>
          </a:xfrm>
          <a:prstGeom prst="straightConnector1">
            <a:avLst/>
          </a:prstGeom>
          <a:ln>
            <a:solidFill>
              <a:srgbClr val="d9d9d9"/>
            </a:solidFill>
          </a:ln>
        </p:spPr>
      </p:cxnSp>
      <p:sp>
        <p:nvSpPr>
          <p:cNvPr id="409" name="文本框 6"/>
          <p:cNvSpPr/>
          <p:nvPr/>
        </p:nvSpPr>
        <p:spPr>
          <a:xfrm>
            <a:off x="1677240" y="207792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7"/>
          <p:cNvSpPr/>
          <p:nvPr/>
        </p:nvSpPr>
        <p:spPr>
          <a:xfrm>
            <a:off x="2564640" y="302868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组合 208"/>
          <p:cNvGrpSpPr/>
          <p:nvPr/>
        </p:nvGrpSpPr>
        <p:grpSpPr>
          <a:xfrm>
            <a:off x="1175400" y="1680840"/>
            <a:ext cx="2978640" cy="2611080"/>
            <a:chOff x="1175400" y="1680840"/>
            <a:chExt cx="2978640" cy="2611080"/>
          </a:xfrm>
        </p:grpSpPr>
        <p:grpSp>
          <p:nvGrpSpPr>
            <p:cNvPr id="412" name="组合 196"/>
            <p:cNvGrpSpPr/>
            <p:nvPr/>
          </p:nvGrpSpPr>
          <p:grpSpPr>
            <a:xfrm>
              <a:off x="1175400" y="1680840"/>
              <a:ext cx="1283400" cy="2335320"/>
              <a:chOff x="1175400" y="1680840"/>
              <a:chExt cx="1283400" cy="2335320"/>
            </a:xfrm>
          </p:grpSpPr>
          <p:sp>
            <p:nvSpPr>
              <p:cNvPr id="413" name="文本框 187"/>
              <p:cNvSpPr/>
              <p:nvPr/>
            </p:nvSpPr>
            <p:spPr>
              <a:xfrm>
                <a:off x="1898640" y="2076840"/>
                <a:ext cx="532080" cy="8611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861120"/>
                  <a:gd name="textAreaBottom" fmla="*/ 861480 h 861120"/>
                </a:gdLst>
                <a:ahLst/>
                <a:rect l="textAreaLeft" t="textAreaTop" r="textAreaRight" b="textAreaBottom"/>
                <a:pathLst>
                  <a:path w="532498" h="861460">
                    <a:moveTo>
                      <a:pt x="375478" y="0"/>
                    </a:moveTo>
                    <a:lnTo>
                      <a:pt x="420493" y="33112"/>
                    </a:lnTo>
                    <a:cubicBezTo>
                      <a:pt x="435211" y="47309"/>
                      <a:pt x="448539" y="63857"/>
                      <a:pt x="460478" y="82756"/>
                    </a:cubicBezTo>
                    <a:cubicBezTo>
                      <a:pt x="508236" y="158351"/>
                      <a:pt x="532242" y="269329"/>
                      <a:pt x="532498" y="415690"/>
                    </a:cubicBezTo>
                    <a:lnTo>
                      <a:pt x="532498" y="416805"/>
                    </a:lnTo>
                    <a:cubicBezTo>
                      <a:pt x="532242" y="561610"/>
                      <a:pt x="508236" y="671799"/>
                      <a:pt x="460478" y="747371"/>
                    </a:cubicBezTo>
                    <a:cubicBezTo>
                      <a:pt x="412720" y="822943"/>
                      <a:pt x="342743" y="860973"/>
                      <a:pt x="250548" y="861460"/>
                    </a:cubicBezTo>
                    <a:cubicBezTo>
                      <a:pt x="157912" y="860996"/>
                      <a:pt x="87981" y="822920"/>
                      <a:pt x="40758" y="747232"/>
                    </a:cubicBezTo>
                    <a:cubicBezTo>
                      <a:pt x="28952" y="728310"/>
                      <a:pt x="18618" y="707211"/>
                      <a:pt x="9754" y="683936"/>
                    </a:cubicBezTo>
                    <a:lnTo>
                      <a:pt x="0" y="650347"/>
                    </a:lnTo>
                    <a:lnTo>
                      <a:pt x="51287" y="561515"/>
                    </a:lnTo>
                    <a:lnTo>
                      <a:pt x="54810" y="588896"/>
                    </a:lnTo>
                    <a:cubicBezTo>
                      <a:pt x="63841" y="637397"/>
                      <a:pt x="77313" y="677035"/>
                      <a:pt x="95225" y="707809"/>
                    </a:cubicBezTo>
                    <a:cubicBezTo>
                      <a:pt x="131049" y="769358"/>
                      <a:pt x="182824" y="799772"/>
                      <a:pt x="250548" y="799052"/>
                    </a:cubicBezTo>
                    <a:cubicBezTo>
                      <a:pt x="318319" y="799795"/>
                      <a:pt x="370279" y="769334"/>
                      <a:pt x="406428" y="707670"/>
                    </a:cubicBezTo>
                    <a:cubicBezTo>
                      <a:pt x="442577" y="646005"/>
                      <a:pt x="460826" y="548678"/>
                      <a:pt x="461174" y="415690"/>
                    </a:cubicBezTo>
                    <a:cubicBezTo>
                      <a:pt x="460826" y="281588"/>
                      <a:pt x="442577" y="183426"/>
                      <a:pt x="406428" y="121204"/>
                    </a:cubicBezTo>
                    <a:cubicBezTo>
                      <a:pt x="397391" y="105648"/>
                      <a:pt x="387366" y="92060"/>
                      <a:pt x="376352" y="80440"/>
                    </a:cubicBezTo>
                    <a:lnTo>
                      <a:pt x="344040" y="54453"/>
                    </a:lnTo>
                    <a:lnTo>
                      <a:pt x="375478" y="0"/>
                    </a:lnTo>
                    <a:close/>
                  </a:path>
                </a:pathLst>
              </a:custGeom>
              <a:solidFill>
                <a:srgbClr val="2fa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8800" spc="-1" strike="noStrike">
                  <a:solidFill>
                    <a:srgbClr val="fd5b5f"/>
                  </a:solidFill>
                  <a:latin typeface="AXIS Std L"/>
                  <a:ea typeface="AXIS Std L"/>
                </a:endParaRPr>
              </a:p>
            </p:txBody>
          </p:sp>
          <p:cxnSp>
            <p:nvCxnSpPr>
              <p:cNvPr id="414" name="直接连接符 193"/>
              <p:cNvCxnSpPr/>
              <p:nvPr/>
            </p:nvCxnSpPr>
            <p:spPr>
              <a:xfrm flipH="1">
                <a:off x="1175400" y="1680840"/>
                <a:ext cx="1283760" cy="2335680"/>
              </a:xfrm>
              <a:prstGeom prst="straightConnector1">
                <a:avLst/>
              </a:prstGeom>
              <a:ln>
                <a:solidFill>
                  <a:srgbClr val="2fa1cf"/>
                </a:solidFill>
              </a:ln>
            </p:spPr>
          </p:cxnSp>
        </p:grpSp>
        <p:sp>
          <p:nvSpPr>
            <p:cNvPr id="415" name="文本框 197"/>
            <p:cNvSpPr/>
            <p:nvPr/>
          </p:nvSpPr>
          <p:spPr>
            <a:xfrm>
              <a:off x="2386080" y="3105000"/>
              <a:ext cx="1767960" cy="1186920"/>
            </a:xfrm>
            <a:prstGeom prst="rect">
              <a:avLst/>
            </a:prstGeom>
            <a:solidFill>
              <a:srgbClr val="2fa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第六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利用社交性本地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移动性关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文本框 1"/>
          <p:cNvSpPr/>
          <p:nvPr/>
        </p:nvSpPr>
        <p:spPr>
          <a:xfrm>
            <a:off x="2496600" y="1767600"/>
            <a:ext cx="8028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2fa1c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任意多边形 19"/>
          <p:cNvSpPr/>
          <p:nvPr/>
        </p:nvSpPr>
        <p:spPr>
          <a:xfrm>
            <a:off x="452160" y="3653640"/>
            <a:ext cx="3701880" cy="1908720"/>
          </a:xfrm>
          <a:custGeom>
            <a:avLst/>
            <a:gdLst>
              <a:gd name="textAreaLeft" fmla="*/ 0 w 3701880"/>
              <a:gd name="textAreaRight" fmla="*/ 3702240 w 37018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2600960" h="1341120">
                <a:moveTo>
                  <a:pt x="0" y="0"/>
                </a:moveTo>
                <a:lnTo>
                  <a:pt x="2600960" y="0"/>
                </a:lnTo>
                <a:lnTo>
                  <a:pt x="2600960" y="1341120"/>
                </a:lnTo>
                <a:lnTo>
                  <a:pt x="0" y="1341120"/>
                </a:lnTo>
                <a:lnTo>
                  <a:pt x="0" y="0"/>
                </a:lnTo>
                <a:close/>
              </a:path>
            </a:pathLst>
          </a:custGeom>
          <a:noFill/>
          <a:ln>
            <a:noFill/>
          </a:ln>
        </p:spPr>
        <p:style>
          <a:lnRef idx="2"/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0" rIns="0" tIns="0" bIns="0" anchor="b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Verdana"/>
            </a:endParaRPr>
          </a:p>
        </p:txBody>
      </p:sp>
      <p:cxnSp>
        <p:nvCxnSpPr>
          <p:cNvPr id="418" name="直接连接符 93"/>
          <p:cNvCxnSpPr/>
          <p:nvPr/>
        </p:nvCxnSpPr>
        <p:spPr>
          <a:xfrm flipH="1">
            <a:off x="4138200" y="917640"/>
            <a:ext cx="1635840" cy="3024360"/>
          </a:xfrm>
          <a:prstGeom prst="straightConnector1">
            <a:avLst/>
          </a:prstGeom>
          <a:ln w="9525">
            <a:solidFill>
              <a:srgbClr val="ffffff">
                <a:lumMod val="65000"/>
              </a:srgbClr>
            </a:solidFill>
            <a:prstDash val="dash"/>
          </a:ln>
        </p:spPr>
      </p:cxnSp>
      <p:grpSp>
        <p:nvGrpSpPr>
          <p:cNvPr id="419" name="组合 85"/>
          <p:cNvGrpSpPr/>
          <p:nvPr/>
        </p:nvGrpSpPr>
        <p:grpSpPr>
          <a:xfrm>
            <a:off x="5740200" y="596880"/>
            <a:ext cx="3998160" cy="5627160"/>
            <a:chOff x="5740200" y="596880"/>
            <a:chExt cx="3998160" cy="5627160"/>
          </a:xfrm>
        </p:grpSpPr>
        <p:grpSp>
          <p:nvGrpSpPr>
            <p:cNvPr id="420" name="组合 80"/>
            <p:cNvGrpSpPr/>
            <p:nvPr/>
          </p:nvGrpSpPr>
          <p:grpSpPr>
            <a:xfrm>
              <a:off x="6286680" y="596880"/>
              <a:ext cx="3451680" cy="5627160"/>
              <a:chOff x="6286680" y="596880"/>
              <a:chExt cx="3451680" cy="5627160"/>
            </a:xfrm>
          </p:grpSpPr>
          <p:grpSp>
            <p:nvGrpSpPr>
              <p:cNvPr id="421" name="组合 74"/>
              <p:cNvGrpSpPr/>
              <p:nvPr/>
            </p:nvGrpSpPr>
            <p:grpSpPr>
              <a:xfrm>
                <a:off x="6286680" y="596880"/>
                <a:ext cx="2757600" cy="638280"/>
                <a:chOff x="6286680" y="596880"/>
                <a:chExt cx="2757600" cy="638280"/>
              </a:xfrm>
            </p:grpSpPr>
            <p:sp>
              <p:nvSpPr>
                <p:cNvPr id="422" name="文本框 55"/>
                <p:cNvSpPr/>
                <p:nvPr/>
              </p:nvSpPr>
              <p:spPr>
                <a:xfrm>
                  <a:off x="7587720" y="596880"/>
                  <a:ext cx="145656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rgbClr val="808080"/>
                      </a:solidFill>
                      <a:latin typeface="Verdana"/>
                    </a:rPr>
                    <a:t>星期一  </a:t>
                  </a:r>
                  <a:r>
                    <a:rPr b="0" lang="en-US" sz="1800" spc="-1" strike="noStrike">
                      <a:solidFill>
                        <a:srgbClr val="bfbfbf"/>
                      </a:solidFill>
                      <a:latin typeface="Verdana"/>
                    </a:rPr>
                    <a:t>Monda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zh-CN" sz="1800" spc="-1" strike="noStrike">
                      <a:solidFill>
                        <a:srgbClr val="808080"/>
                      </a:solidFill>
                      <a:latin typeface="Verdana"/>
                    </a:rPr>
                    <a:t>理解机遇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组合 69"/>
                <p:cNvGrpSpPr/>
                <p:nvPr/>
              </p:nvGrpSpPr>
              <p:grpSpPr>
                <a:xfrm>
                  <a:off x="6286680" y="625680"/>
                  <a:ext cx="588600" cy="588600"/>
                  <a:chOff x="6286680" y="625680"/>
                  <a:chExt cx="588600" cy="588600"/>
                </a:xfrm>
              </p:grpSpPr>
              <p:sp>
                <p:nvSpPr>
                  <p:cNvPr id="424" name="椭圆 38"/>
                  <p:cNvSpPr/>
                  <p:nvPr/>
                </p:nvSpPr>
                <p:spPr>
                  <a:xfrm>
                    <a:off x="6286680" y="625680"/>
                    <a:ext cx="588600" cy="588600"/>
                  </a:xfrm>
                  <a:prstGeom prst="ellipse">
                    <a:avLst/>
                  </a:prstGeom>
                  <a:solidFill>
                    <a:srgbClr val="d1deef"/>
                  </a:solidFill>
                  <a:ln w="0">
                    <a:noFill/>
                  </a:ln>
                </p:spPr>
                <p:style>
                  <a:lnRef idx="0">
                    <a:schemeClr val="accent1">
                      <a:hueOff val="0"/>
                      <a:satOff val="0"/>
                      <a:lumOff val="0"/>
                      <a:alphaOff val="0"/>
                    </a:schemeClr>
                  </a:lnRef>
                  <a:fillRef idx="1">
                    <a:schemeClr val="accent1">
                      <a:tint val="40000"/>
                      <a:hueOff val="0"/>
                      <a:satOff val="0"/>
                      <a:lumOff val="0"/>
                      <a:alphaOff val="0"/>
                    </a:schemeClr>
                  </a:fillRef>
                  <a:effectRef idx="0">
                    <a:schemeClr val="accent1">
                      <a:tint val="40000"/>
                      <a:hueOff val="0"/>
                      <a:satOff val="0"/>
                      <a:lumOff val="0"/>
                      <a:alphaOff val="0"/>
                    </a:schemeClr>
                  </a:effectRef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弦形 39"/>
                  <p:cNvSpPr/>
                  <p:nvPr/>
                </p:nvSpPr>
                <p:spPr>
                  <a:xfrm>
                    <a:off x="6345720" y="684720"/>
                    <a:ext cx="470880" cy="470880"/>
                  </a:xfrm>
                  <a:prstGeom prst="chord">
                    <a:avLst>
                      <a:gd name="adj1" fmla="val 2332194"/>
                      <a:gd name="adj2" fmla="val 8587806"/>
                    </a:avLst>
                  </a:prstGeom>
                  <a:solidFill>
                    <a:srgbClr val="2fa1c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hueOff val="0"/>
                      <a:satOff val="0"/>
                      <a:lumOff val="0"/>
                      <a:alphaOff val="0"/>
                    </a:schemeClr>
                  </a:lnRef>
                  <a:fillRef idx="1">
                    <a:schemeClr val="accent1">
                      <a:hueOff val="0"/>
                      <a:satOff val="0"/>
                      <a:lumOff val="0"/>
                      <a:alphaOff val="0"/>
                    </a:schemeClr>
                  </a:fillRef>
                  <a:effectRef idx="0">
                    <a:schemeClr val="accent1">
                      <a:hueOff val="0"/>
                      <a:satOff val="0"/>
                      <a:lumOff val="0"/>
                      <a:alphaOff val="0"/>
                    </a:schemeClr>
                  </a:effectRef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组合 76"/>
              <p:cNvGrpSpPr/>
              <p:nvPr/>
            </p:nvGrpSpPr>
            <p:grpSpPr>
              <a:xfrm>
                <a:off x="6286680" y="1844280"/>
                <a:ext cx="2876040" cy="638280"/>
                <a:chOff x="6286680" y="1844280"/>
                <a:chExt cx="2876040" cy="638280"/>
              </a:xfrm>
            </p:grpSpPr>
            <p:sp>
              <p:nvSpPr>
                <p:cNvPr id="427" name="文本框 56"/>
                <p:cNvSpPr/>
                <p:nvPr/>
              </p:nvSpPr>
              <p:spPr>
                <a:xfrm>
                  <a:off x="7514280" y="1844280"/>
                  <a:ext cx="16484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rgbClr val="808080"/>
                      </a:solidFill>
                      <a:latin typeface="Verdana"/>
                    </a:rPr>
                    <a:t>星期二  </a:t>
                  </a:r>
                  <a:r>
                    <a:rPr b="0" lang="en-US" sz="1800" spc="-1" strike="noStrike">
                      <a:solidFill>
                        <a:srgbClr val="bfbfbf"/>
                      </a:solidFill>
                      <a:latin typeface="Verdana"/>
                    </a:rPr>
                    <a:t>Tuesda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zh-CN" sz="1800" spc="-1" strike="noStrike">
                      <a:solidFill>
                        <a:srgbClr val="808080"/>
                      </a:solidFill>
                      <a:latin typeface="Verdana"/>
                    </a:rPr>
                    <a:t>确定用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组合 67"/>
                <p:cNvGrpSpPr/>
                <p:nvPr/>
              </p:nvGrpSpPr>
              <p:grpSpPr>
                <a:xfrm>
                  <a:off x="6286680" y="1872720"/>
                  <a:ext cx="588600" cy="588600"/>
                  <a:chOff x="6286680" y="1872720"/>
                  <a:chExt cx="588600" cy="588600"/>
                </a:xfrm>
              </p:grpSpPr>
              <p:sp>
                <p:nvSpPr>
                  <p:cNvPr id="429" name="椭圆 41"/>
                  <p:cNvSpPr/>
                  <p:nvPr/>
                </p:nvSpPr>
                <p:spPr>
                  <a:xfrm>
                    <a:off x="6286680" y="1872720"/>
                    <a:ext cx="588600" cy="588600"/>
                  </a:xfrm>
                  <a:prstGeom prst="ellipse">
                    <a:avLst/>
                  </a:prstGeom>
                  <a:solidFill>
                    <a:srgbClr val="d1deef"/>
                  </a:solidFill>
                  <a:ln w="0">
                    <a:noFill/>
                  </a:ln>
                </p:spPr>
                <p:style>
                  <a:lnRef idx="0">
                    <a:schemeClr val="accent1">
                      <a:hueOff val="0"/>
                      <a:satOff val="0"/>
                      <a:lumOff val="0"/>
                      <a:alphaOff val="0"/>
                    </a:schemeClr>
                  </a:lnRef>
                  <a:fillRef idx="1">
                    <a:schemeClr val="accent1">
                      <a:tint val="40000"/>
                      <a:hueOff val="0"/>
                      <a:satOff val="0"/>
                      <a:lumOff val="0"/>
                      <a:alphaOff val="0"/>
                    </a:schemeClr>
                  </a:fillRef>
                  <a:effectRef idx="0">
                    <a:schemeClr val="accent1">
                      <a:tint val="40000"/>
                      <a:hueOff val="0"/>
                      <a:satOff val="0"/>
                      <a:lumOff val="0"/>
                      <a:alphaOff val="0"/>
                    </a:schemeClr>
                  </a:effectRef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弦形 42"/>
                  <p:cNvSpPr/>
                  <p:nvPr/>
                </p:nvSpPr>
                <p:spPr>
                  <a:xfrm>
                    <a:off x="6345720" y="1931760"/>
                    <a:ext cx="470880" cy="470880"/>
                  </a:xfrm>
                  <a:prstGeom prst="chord">
                    <a:avLst>
                      <a:gd name="adj1" fmla="val 692220"/>
                      <a:gd name="adj2" fmla="val 10107780"/>
                    </a:avLst>
                  </a:prstGeom>
                  <a:solidFill>
                    <a:srgbClr val="2fa1c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hueOff val="0"/>
                      <a:satOff val="0"/>
                      <a:lumOff val="0"/>
                      <a:alphaOff val="0"/>
                    </a:schemeClr>
                  </a:lnRef>
                  <a:fillRef idx="1">
                    <a:schemeClr val="accent1">
                      <a:hueOff val="0"/>
                      <a:satOff val="0"/>
                      <a:lumOff val="0"/>
                      <a:alphaOff val="0"/>
                    </a:schemeClr>
                  </a:fillRef>
                  <a:effectRef idx="0">
                    <a:schemeClr val="accent1">
                      <a:hueOff val="0"/>
                      <a:satOff val="0"/>
                      <a:lumOff val="0"/>
                      <a:alphaOff val="0"/>
                    </a:schemeClr>
                  </a:effectRef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组合 77"/>
              <p:cNvGrpSpPr/>
              <p:nvPr/>
            </p:nvGrpSpPr>
            <p:grpSpPr>
              <a:xfrm>
                <a:off x="6286680" y="3091320"/>
                <a:ext cx="3246480" cy="638280"/>
                <a:chOff x="6286680" y="3091320"/>
                <a:chExt cx="3246480" cy="638280"/>
              </a:xfrm>
            </p:grpSpPr>
            <p:sp>
              <p:nvSpPr>
                <p:cNvPr id="432" name="文本框 57"/>
                <p:cNvSpPr/>
                <p:nvPr/>
              </p:nvSpPr>
              <p:spPr>
                <a:xfrm>
                  <a:off x="7521840" y="3091320"/>
                  <a:ext cx="201132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rgbClr val="808080"/>
                      </a:solidFill>
                      <a:latin typeface="Verdana"/>
                    </a:rPr>
                    <a:t>星期三  </a:t>
                  </a:r>
                  <a:r>
                    <a:rPr b="0" lang="en-US" sz="1800" spc="-1" strike="noStrike">
                      <a:solidFill>
                        <a:srgbClr val="bfbfbf"/>
                      </a:solidFill>
                      <a:latin typeface="Verdana"/>
                    </a:rPr>
                    <a:t>Wednesda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zh-CN" sz="1800" spc="-1" strike="noStrike">
                      <a:solidFill>
                        <a:srgbClr val="808080"/>
                      </a:solidFill>
                      <a:latin typeface="Verdana"/>
                    </a:rPr>
                    <a:t>选择你的合作伙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组合 66"/>
                <p:cNvGrpSpPr/>
                <p:nvPr/>
              </p:nvGrpSpPr>
              <p:grpSpPr>
                <a:xfrm>
                  <a:off x="6286680" y="3120120"/>
                  <a:ext cx="588600" cy="588600"/>
                  <a:chOff x="6286680" y="3120120"/>
                  <a:chExt cx="588600" cy="588600"/>
                </a:xfrm>
              </p:grpSpPr>
              <p:sp>
                <p:nvSpPr>
                  <p:cNvPr id="434" name="椭圆 44"/>
                  <p:cNvSpPr/>
                  <p:nvPr/>
                </p:nvSpPr>
                <p:spPr>
                  <a:xfrm>
                    <a:off x="6286680" y="3120120"/>
                    <a:ext cx="588600" cy="588600"/>
                  </a:xfrm>
                  <a:prstGeom prst="ellipse">
                    <a:avLst/>
                  </a:prstGeom>
                  <a:solidFill>
                    <a:srgbClr val="d1deef"/>
                  </a:solidFill>
                  <a:ln w="0">
                    <a:noFill/>
                  </a:ln>
                </p:spPr>
                <p:style>
                  <a:lnRef idx="0">
                    <a:schemeClr val="accent1">
                      <a:hueOff val="0"/>
                      <a:satOff val="0"/>
                      <a:lumOff val="0"/>
                      <a:alphaOff val="0"/>
                    </a:schemeClr>
                  </a:lnRef>
                  <a:fillRef idx="1">
                    <a:schemeClr val="accent1">
                      <a:tint val="40000"/>
                      <a:hueOff val="0"/>
                      <a:satOff val="0"/>
                      <a:lumOff val="0"/>
                      <a:alphaOff val="0"/>
                    </a:schemeClr>
                  </a:fillRef>
                  <a:effectRef idx="0">
                    <a:schemeClr val="accent1">
                      <a:tint val="40000"/>
                      <a:hueOff val="0"/>
                      <a:satOff val="0"/>
                      <a:lumOff val="0"/>
                      <a:alphaOff val="0"/>
                    </a:schemeClr>
                  </a:effectRef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弦形 45"/>
                  <p:cNvSpPr/>
                  <p:nvPr/>
                </p:nvSpPr>
                <p:spPr>
                  <a:xfrm>
                    <a:off x="6345720" y="3178800"/>
                    <a:ext cx="470880" cy="470880"/>
                  </a:xfrm>
                  <a:prstGeom prst="chord">
                    <a:avLst>
                      <a:gd name="adj1" fmla="val 20907780"/>
                      <a:gd name="adj2" fmla="val 11492220"/>
                    </a:avLst>
                  </a:prstGeom>
                  <a:solidFill>
                    <a:srgbClr val="2fa1c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hueOff val="0"/>
                      <a:satOff val="0"/>
                      <a:lumOff val="0"/>
                      <a:alphaOff val="0"/>
                    </a:schemeClr>
                  </a:lnRef>
                  <a:fillRef idx="1">
                    <a:schemeClr val="accent1">
                      <a:hueOff val="0"/>
                      <a:satOff val="0"/>
                      <a:lumOff val="0"/>
                      <a:alphaOff val="0"/>
                    </a:schemeClr>
                  </a:fillRef>
                  <a:effectRef idx="0">
                    <a:schemeClr val="accent1">
                      <a:hueOff val="0"/>
                      <a:satOff val="0"/>
                      <a:lumOff val="0"/>
                      <a:alphaOff val="0"/>
                    </a:schemeClr>
                  </a:effectRef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组合 78"/>
              <p:cNvGrpSpPr/>
              <p:nvPr/>
            </p:nvGrpSpPr>
            <p:grpSpPr>
              <a:xfrm>
                <a:off x="6286680" y="4338360"/>
                <a:ext cx="3451680" cy="638280"/>
                <a:chOff x="6286680" y="4338360"/>
                <a:chExt cx="3451680" cy="638280"/>
              </a:xfrm>
            </p:grpSpPr>
            <p:sp>
              <p:nvSpPr>
                <p:cNvPr id="437" name="文本框 58"/>
                <p:cNvSpPr/>
                <p:nvPr/>
              </p:nvSpPr>
              <p:spPr>
                <a:xfrm>
                  <a:off x="7911360" y="4338360"/>
                  <a:ext cx="182700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rgbClr val="808080"/>
                      </a:solidFill>
                      <a:latin typeface="Verdana"/>
                    </a:rPr>
                    <a:t>星期四  </a:t>
                  </a:r>
                  <a:r>
                    <a:rPr b="0" lang="en-US" sz="1800" spc="-1" strike="noStrike">
                      <a:solidFill>
                        <a:srgbClr val="bfbfbf"/>
                      </a:solidFill>
                      <a:latin typeface="Verdana"/>
                    </a:rPr>
                    <a:t>Thursda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zh-CN" sz="1800" spc="-1" strike="noStrike">
                      <a:solidFill>
                        <a:srgbClr val="808080"/>
                      </a:solidFill>
                      <a:latin typeface="Verdana"/>
                    </a:rPr>
                    <a:t>意识到基于位置的营销机遇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组合 65"/>
                <p:cNvGrpSpPr/>
                <p:nvPr/>
              </p:nvGrpSpPr>
              <p:grpSpPr>
                <a:xfrm>
                  <a:off x="6286680" y="4367160"/>
                  <a:ext cx="588600" cy="588600"/>
                  <a:chOff x="6286680" y="4367160"/>
                  <a:chExt cx="588600" cy="588600"/>
                </a:xfrm>
              </p:grpSpPr>
              <p:sp>
                <p:nvSpPr>
                  <p:cNvPr id="439" name="椭圆 48"/>
                  <p:cNvSpPr/>
                  <p:nvPr/>
                </p:nvSpPr>
                <p:spPr>
                  <a:xfrm>
                    <a:off x="6286680" y="4367160"/>
                    <a:ext cx="588600" cy="588600"/>
                  </a:xfrm>
                  <a:prstGeom prst="ellipse">
                    <a:avLst/>
                  </a:prstGeom>
                  <a:solidFill>
                    <a:srgbClr val="d1deef"/>
                  </a:solidFill>
                  <a:ln w="0">
                    <a:noFill/>
                  </a:ln>
                </p:spPr>
                <p:style>
                  <a:lnRef idx="0">
                    <a:schemeClr val="accent1">
                      <a:hueOff val="0"/>
                      <a:satOff val="0"/>
                      <a:lumOff val="0"/>
                      <a:alphaOff val="0"/>
                    </a:schemeClr>
                  </a:lnRef>
                  <a:fillRef idx="1">
                    <a:schemeClr val="accent1">
                      <a:tint val="40000"/>
                      <a:hueOff val="0"/>
                      <a:satOff val="0"/>
                      <a:lumOff val="0"/>
                      <a:alphaOff val="0"/>
                    </a:schemeClr>
                  </a:fillRef>
                  <a:effectRef idx="0">
                    <a:schemeClr val="accent1">
                      <a:tint val="40000"/>
                      <a:hueOff val="0"/>
                      <a:satOff val="0"/>
                      <a:lumOff val="0"/>
                      <a:alphaOff val="0"/>
                    </a:schemeClr>
                  </a:effectRef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弦形 49"/>
                  <p:cNvSpPr/>
                  <p:nvPr/>
                </p:nvSpPr>
                <p:spPr>
                  <a:xfrm>
                    <a:off x="6345720" y="4426200"/>
                    <a:ext cx="470880" cy="470880"/>
                  </a:xfrm>
                  <a:prstGeom prst="chord">
                    <a:avLst>
                      <a:gd name="adj1" fmla="val 19267806"/>
                      <a:gd name="adj2" fmla="val 13012194"/>
                    </a:avLst>
                  </a:prstGeom>
                  <a:solidFill>
                    <a:srgbClr val="2fa1c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hueOff val="0"/>
                      <a:satOff val="0"/>
                      <a:lumOff val="0"/>
                      <a:alphaOff val="0"/>
                    </a:schemeClr>
                  </a:lnRef>
                  <a:fillRef idx="1">
                    <a:schemeClr val="accent1">
                      <a:hueOff val="0"/>
                      <a:satOff val="0"/>
                      <a:lumOff val="0"/>
                      <a:alphaOff val="0"/>
                    </a:schemeClr>
                  </a:fillRef>
                  <a:effectRef idx="0">
                    <a:schemeClr val="accent1">
                      <a:hueOff val="0"/>
                      <a:satOff val="0"/>
                      <a:lumOff val="0"/>
                      <a:alphaOff val="0"/>
                    </a:schemeClr>
                  </a:effectRef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组合 79"/>
              <p:cNvGrpSpPr/>
              <p:nvPr/>
            </p:nvGrpSpPr>
            <p:grpSpPr>
              <a:xfrm>
                <a:off x="6286680" y="5585760"/>
                <a:ext cx="2673360" cy="638280"/>
                <a:chOff x="6286680" y="5585760"/>
                <a:chExt cx="2673360" cy="638280"/>
              </a:xfrm>
            </p:grpSpPr>
            <p:sp>
              <p:nvSpPr>
                <p:cNvPr id="442" name="文本框 60"/>
                <p:cNvSpPr/>
                <p:nvPr/>
              </p:nvSpPr>
              <p:spPr>
                <a:xfrm>
                  <a:off x="7535520" y="5585760"/>
                  <a:ext cx="142452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rgbClr val="808080"/>
                      </a:solidFill>
                      <a:latin typeface="Verdana"/>
                    </a:rPr>
                    <a:t>星期五  </a:t>
                  </a:r>
                  <a:r>
                    <a:rPr b="0" lang="en-US" sz="1800" spc="-1" strike="noStrike">
                      <a:solidFill>
                        <a:srgbClr val="bfbfbf"/>
                      </a:solidFill>
                      <a:latin typeface="Verdana"/>
                    </a:rPr>
                    <a:t>Frida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zh-CN" sz="1800" spc="-1" strike="noStrike">
                      <a:solidFill>
                        <a:srgbClr val="808080"/>
                      </a:solidFill>
                      <a:latin typeface="Verdana"/>
                    </a:rPr>
                    <a:t>砍定关键的分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组合 54"/>
                <p:cNvGrpSpPr/>
                <p:nvPr/>
              </p:nvGrpSpPr>
              <p:grpSpPr>
                <a:xfrm>
                  <a:off x="6286680" y="5614560"/>
                  <a:ext cx="588600" cy="588600"/>
                  <a:chOff x="6286680" y="5614560"/>
                  <a:chExt cx="588600" cy="588600"/>
                </a:xfrm>
              </p:grpSpPr>
              <p:sp>
                <p:nvSpPr>
                  <p:cNvPr id="444" name="椭圆 51"/>
                  <p:cNvSpPr/>
                  <p:nvPr/>
                </p:nvSpPr>
                <p:spPr>
                  <a:xfrm>
                    <a:off x="6286680" y="5614560"/>
                    <a:ext cx="588600" cy="588600"/>
                  </a:xfrm>
                  <a:prstGeom prst="ellipse">
                    <a:avLst/>
                  </a:prstGeom>
                  <a:solidFill>
                    <a:srgbClr val="d1deef"/>
                  </a:solidFill>
                  <a:ln w="0">
                    <a:noFill/>
                  </a:ln>
                </p:spPr>
                <p:style>
                  <a:lnRef idx="0">
                    <a:schemeClr val="accent1">
                      <a:hueOff val="0"/>
                      <a:satOff val="0"/>
                      <a:lumOff val="0"/>
                      <a:alphaOff val="0"/>
                    </a:schemeClr>
                  </a:lnRef>
                  <a:fillRef idx="1">
                    <a:schemeClr val="accent1">
                      <a:tint val="40000"/>
                      <a:hueOff val="0"/>
                      <a:satOff val="0"/>
                      <a:lumOff val="0"/>
                      <a:alphaOff val="0"/>
                    </a:schemeClr>
                  </a:fillRef>
                  <a:effectRef idx="0">
                    <a:schemeClr val="accent1">
                      <a:tint val="40000"/>
                      <a:hueOff val="0"/>
                      <a:satOff val="0"/>
                      <a:lumOff val="0"/>
                      <a:alphaOff val="0"/>
                    </a:schemeClr>
                  </a:effectRef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弦形 52"/>
                  <p:cNvSpPr/>
                  <p:nvPr/>
                </p:nvSpPr>
                <p:spPr>
                  <a:xfrm>
                    <a:off x="6345720" y="5673240"/>
                    <a:ext cx="470880" cy="470880"/>
                  </a:xfrm>
                  <a:prstGeom prst="chord">
                    <a:avLst>
                      <a:gd name="adj1" fmla="val 16200000"/>
                      <a:gd name="adj2" fmla="val 16200000"/>
                    </a:avLst>
                  </a:prstGeom>
                  <a:solidFill>
                    <a:srgbClr val="2fa1c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hueOff val="0"/>
                      <a:satOff val="0"/>
                      <a:lumOff val="0"/>
                      <a:alphaOff val="0"/>
                    </a:schemeClr>
                  </a:lnRef>
                  <a:fillRef idx="1">
                    <a:schemeClr val="accent1">
                      <a:hueOff val="0"/>
                      <a:satOff val="0"/>
                      <a:lumOff val="0"/>
                      <a:alphaOff val="0"/>
                    </a:schemeClr>
                  </a:fillRef>
                  <a:effectRef idx="0">
                    <a:schemeClr val="accent1">
                      <a:hueOff val="0"/>
                      <a:satOff val="0"/>
                      <a:lumOff val="0"/>
                      <a:alphaOff val="0"/>
                    </a:schemeClr>
                  </a:effectRef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cxnSp>
          <p:nvCxnSpPr>
            <p:cNvPr id="446" name="直接连接符 94"/>
            <p:cNvCxnSpPr/>
            <p:nvPr/>
          </p:nvCxnSpPr>
          <p:spPr>
            <a:xfrm flipH="1">
              <a:off x="5740200" y="917640"/>
              <a:ext cx="53172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447" name="直接连接符 95"/>
            <p:cNvCxnSpPr/>
            <p:nvPr/>
          </p:nvCxnSpPr>
          <p:spPr>
            <a:xfrm flipH="1">
              <a:off x="5740200" y="2176920"/>
              <a:ext cx="53172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448" name="直接连接符 96"/>
            <p:cNvCxnSpPr/>
            <p:nvPr/>
          </p:nvCxnSpPr>
          <p:spPr>
            <a:xfrm flipH="1">
              <a:off x="5740200" y="3389760"/>
              <a:ext cx="53172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449" name="直接连接符 97"/>
            <p:cNvCxnSpPr/>
            <p:nvPr/>
          </p:nvCxnSpPr>
          <p:spPr>
            <a:xfrm flipH="1">
              <a:off x="5740200" y="4657320"/>
              <a:ext cx="53172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450" name="直接连接符 98"/>
            <p:cNvCxnSpPr/>
            <p:nvPr/>
          </p:nvCxnSpPr>
          <p:spPr>
            <a:xfrm flipH="1">
              <a:off x="5740200" y="5908680"/>
              <a:ext cx="53172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</p:grpSp>
      <p:cxnSp>
        <p:nvCxnSpPr>
          <p:cNvPr id="451" name="直接连接符 102"/>
          <p:cNvCxnSpPr>
            <a:endCxn id="415" idx="3"/>
          </p:cNvCxnSpPr>
          <p:nvPr/>
        </p:nvCxnSpPr>
        <p:spPr>
          <a:xfrm flipH="1">
            <a:off x="4154040" y="2185200"/>
            <a:ext cx="1620000" cy="1704960"/>
          </a:xfrm>
          <a:prstGeom prst="straightConnector1">
            <a:avLst/>
          </a:prstGeom>
          <a:ln w="9525">
            <a:solidFill>
              <a:srgbClr val="ffffff">
                <a:lumMod val="65000"/>
              </a:srgbClr>
            </a:solidFill>
            <a:prstDash val="dash"/>
          </a:ln>
        </p:spPr>
      </p:cxnSp>
      <p:cxnSp>
        <p:nvCxnSpPr>
          <p:cNvPr id="452" name="直接连接符 105"/>
          <p:cNvCxnSpPr>
            <a:endCxn id="415" idx="3"/>
          </p:cNvCxnSpPr>
          <p:nvPr/>
        </p:nvCxnSpPr>
        <p:spPr>
          <a:xfrm flipH="1">
            <a:off x="4154040" y="3389760"/>
            <a:ext cx="1586520" cy="500400"/>
          </a:xfrm>
          <a:prstGeom prst="straightConnector1">
            <a:avLst/>
          </a:prstGeom>
          <a:ln w="9525">
            <a:solidFill>
              <a:srgbClr val="ffffff">
                <a:lumMod val="65000"/>
              </a:srgbClr>
            </a:solidFill>
            <a:prstDash val="dash"/>
          </a:ln>
        </p:spPr>
      </p:cxnSp>
      <p:cxnSp>
        <p:nvCxnSpPr>
          <p:cNvPr id="453" name="直接连接符 108"/>
          <p:cNvCxnSpPr>
            <a:endCxn id="415" idx="3"/>
          </p:cNvCxnSpPr>
          <p:nvPr/>
        </p:nvCxnSpPr>
        <p:spPr>
          <a:xfrm flipH="1" flipV="1">
            <a:off x="4154040" y="3889800"/>
            <a:ext cx="1635120" cy="785160"/>
          </a:xfrm>
          <a:prstGeom prst="straightConnector1">
            <a:avLst/>
          </a:prstGeom>
          <a:ln w="9525">
            <a:solidFill>
              <a:srgbClr val="ffffff">
                <a:lumMod val="65000"/>
              </a:srgbClr>
            </a:solidFill>
            <a:prstDash val="dash"/>
          </a:ln>
        </p:spPr>
      </p:cxnSp>
      <p:cxnSp>
        <p:nvCxnSpPr>
          <p:cNvPr id="454" name="直接连接符 111"/>
          <p:cNvCxnSpPr>
            <a:endCxn id="415" idx="3"/>
          </p:cNvCxnSpPr>
          <p:nvPr/>
        </p:nvCxnSpPr>
        <p:spPr>
          <a:xfrm flipH="1" flipV="1">
            <a:off x="4154040" y="3889800"/>
            <a:ext cx="1620000" cy="2036160"/>
          </a:xfrm>
          <a:prstGeom prst="straightConnector1">
            <a:avLst/>
          </a:prstGeom>
          <a:ln w="9525">
            <a:solidFill>
              <a:srgbClr val="ffffff">
                <a:lumMod val="6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文本框 4"/>
          <p:cNvSpPr/>
          <p:nvPr/>
        </p:nvSpPr>
        <p:spPr>
          <a:xfrm>
            <a:off x="4362120" y="3260880"/>
            <a:ext cx="6841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我们可以不断前行，但要抓住重点。科技真的改变了人们的行为和客户体验，并且在大多数情况下都是好的改变。我们坚信人们始终都会想要在购买前仔细看看并检查一下物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直接连接符 5"/>
          <p:cNvCxnSpPr/>
          <p:nvPr/>
        </p:nvCxnSpPr>
        <p:spPr>
          <a:xfrm flipH="1">
            <a:off x="3877200" y="0"/>
            <a:ext cx="1713600" cy="4342680"/>
          </a:xfrm>
          <a:prstGeom prst="straightConnector1">
            <a:avLst/>
          </a:prstGeom>
          <a:ln>
            <a:solidFill>
              <a:srgbClr val="d9d9d9"/>
            </a:solidFill>
          </a:ln>
        </p:spPr>
      </p:cxnSp>
      <p:sp>
        <p:nvSpPr>
          <p:cNvPr id="457" name="文本框 6"/>
          <p:cNvSpPr/>
          <p:nvPr/>
        </p:nvSpPr>
        <p:spPr>
          <a:xfrm>
            <a:off x="1677240" y="207792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7"/>
          <p:cNvSpPr/>
          <p:nvPr/>
        </p:nvSpPr>
        <p:spPr>
          <a:xfrm>
            <a:off x="2564640" y="302868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椭圆 37"/>
          <p:cNvSpPr/>
          <p:nvPr/>
        </p:nvSpPr>
        <p:spPr>
          <a:xfrm>
            <a:off x="8118000" y="5037480"/>
            <a:ext cx="773640" cy="874080"/>
          </a:xfrm>
          <a:prstGeom prst="ellipse">
            <a:avLst/>
          </a:prstGeom>
          <a:solidFill>
            <a:srgbClr val="fd5b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460" name="图片 33" descr=""/>
          <p:cNvPicPr/>
          <p:nvPr/>
        </p:nvPicPr>
        <p:blipFill>
          <a:blip r:embed="rId1"/>
          <a:stretch/>
        </p:blipFill>
        <p:spPr>
          <a:xfrm>
            <a:off x="7732800" y="4741560"/>
            <a:ext cx="1625040" cy="1625040"/>
          </a:xfrm>
          <a:prstGeom prst="rect">
            <a:avLst/>
          </a:prstGeom>
          <a:ln w="0">
            <a:noFill/>
          </a:ln>
        </p:spPr>
      </p:pic>
      <p:sp>
        <p:nvSpPr>
          <p:cNvPr id="461" name="椭圆 36"/>
          <p:cNvSpPr/>
          <p:nvPr/>
        </p:nvSpPr>
        <p:spPr>
          <a:xfrm>
            <a:off x="7216920" y="3895920"/>
            <a:ext cx="760320" cy="615960"/>
          </a:xfrm>
          <a:prstGeom prst="ellipse">
            <a:avLst/>
          </a:prstGeom>
          <a:solidFill>
            <a:srgbClr val="fd5b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462" name="图片 32" descr=""/>
          <p:cNvPicPr/>
          <p:nvPr/>
        </p:nvPicPr>
        <p:blipFill>
          <a:blip r:embed="rId2"/>
          <a:stretch/>
        </p:blipFill>
        <p:spPr>
          <a:xfrm>
            <a:off x="6837480" y="3353040"/>
            <a:ext cx="1625040" cy="1625040"/>
          </a:xfrm>
          <a:prstGeom prst="rect">
            <a:avLst/>
          </a:prstGeom>
          <a:ln w="0">
            <a:noFill/>
          </a:ln>
        </p:spPr>
      </p:pic>
      <p:sp>
        <p:nvSpPr>
          <p:cNvPr id="463" name="椭圆 35"/>
          <p:cNvSpPr/>
          <p:nvPr/>
        </p:nvSpPr>
        <p:spPr>
          <a:xfrm rot="5400000">
            <a:off x="6369480" y="2889360"/>
            <a:ext cx="507960" cy="621360"/>
          </a:xfrm>
          <a:prstGeom prst="ellipse">
            <a:avLst/>
          </a:prstGeom>
          <a:solidFill>
            <a:srgbClr val="fd5b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464" name="图片 31" descr=""/>
          <p:cNvPicPr/>
          <p:nvPr/>
        </p:nvPicPr>
        <p:blipFill>
          <a:blip r:embed="rId3"/>
          <a:stretch/>
        </p:blipFill>
        <p:spPr>
          <a:xfrm>
            <a:off x="5837040" y="2280960"/>
            <a:ext cx="1625040" cy="1625040"/>
          </a:xfrm>
          <a:prstGeom prst="rect">
            <a:avLst/>
          </a:prstGeom>
          <a:ln w="0">
            <a:noFill/>
          </a:ln>
        </p:spPr>
      </p:pic>
      <p:sp>
        <p:nvSpPr>
          <p:cNvPr id="465" name="椭圆 2"/>
          <p:cNvSpPr/>
          <p:nvPr/>
        </p:nvSpPr>
        <p:spPr>
          <a:xfrm>
            <a:off x="5216400" y="2044800"/>
            <a:ext cx="477360" cy="361440"/>
          </a:xfrm>
          <a:prstGeom prst="ellipse">
            <a:avLst/>
          </a:prstGeom>
          <a:solidFill>
            <a:srgbClr val="fd5b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466" name="组合 208"/>
          <p:cNvGrpSpPr/>
          <p:nvPr/>
        </p:nvGrpSpPr>
        <p:grpSpPr>
          <a:xfrm>
            <a:off x="1117800" y="2275560"/>
            <a:ext cx="3584880" cy="2164320"/>
            <a:chOff x="1117800" y="2275560"/>
            <a:chExt cx="3584880" cy="2164320"/>
          </a:xfrm>
        </p:grpSpPr>
        <p:grpSp>
          <p:nvGrpSpPr>
            <p:cNvPr id="467" name="组合 196"/>
            <p:cNvGrpSpPr/>
            <p:nvPr/>
          </p:nvGrpSpPr>
          <p:grpSpPr>
            <a:xfrm>
              <a:off x="1117800" y="2275560"/>
              <a:ext cx="1296360" cy="2164320"/>
              <a:chOff x="1117800" y="2275560"/>
              <a:chExt cx="1296360" cy="2164320"/>
            </a:xfrm>
          </p:grpSpPr>
          <p:sp>
            <p:nvSpPr>
              <p:cNvPr id="468" name="文本框 187"/>
              <p:cNvSpPr/>
              <p:nvPr/>
            </p:nvSpPr>
            <p:spPr>
              <a:xfrm>
                <a:off x="1882080" y="2522880"/>
                <a:ext cx="532080" cy="8611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861120"/>
                  <a:gd name="textAreaBottom" fmla="*/ 861480 h 861120"/>
                </a:gdLst>
                <a:ahLst/>
                <a:rect l="textAreaLeft" t="textAreaTop" r="textAreaRight" b="textAreaBottom"/>
                <a:pathLst>
                  <a:path w="532498" h="861460">
                    <a:moveTo>
                      <a:pt x="375478" y="0"/>
                    </a:moveTo>
                    <a:lnTo>
                      <a:pt x="420493" y="33112"/>
                    </a:lnTo>
                    <a:cubicBezTo>
                      <a:pt x="435211" y="47309"/>
                      <a:pt x="448539" y="63857"/>
                      <a:pt x="460478" y="82756"/>
                    </a:cubicBezTo>
                    <a:cubicBezTo>
                      <a:pt x="508236" y="158351"/>
                      <a:pt x="532242" y="269329"/>
                      <a:pt x="532498" y="415690"/>
                    </a:cubicBezTo>
                    <a:lnTo>
                      <a:pt x="532498" y="416805"/>
                    </a:lnTo>
                    <a:cubicBezTo>
                      <a:pt x="532242" y="561610"/>
                      <a:pt x="508236" y="671799"/>
                      <a:pt x="460478" y="747371"/>
                    </a:cubicBezTo>
                    <a:cubicBezTo>
                      <a:pt x="412720" y="822943"/>
                      <a:pt x="342743" y="860973"/>
                      <a:pt x="250548" y="861460"/>
                    </a:cubicBezTo>
                    <a:cubicBezTo>
                      <a:pt x="157912" y="860996"/>
                      <a:pt x="87981" y="822920"/>
                      <a:pt x="40758" y="747232"/>
                    </a:cubicBezTo>
                    <a:cubicBezTo>
                      <a:pt x="28952" y="728310"/>
                      <a:pt x="18618" y="707211"/>
                      <a:pt x="9754" y="683936"/>
                    </a:cubicBezTo>
                    <a:lnTo>
                      <a:pt x="0" y="650347"/>
                    </a:lnTo>
                    <a:lnTo>
                      <a:pt x="51287" y="561515"/>
                    </a:lnTo>
                    <a:lnTo>
                      <a:pt x="54810" y="588896"/>
                    </a:lnTo>
                    <a:cubicBezTo>
                      <a:pt x="63841" y="637397"/>
                      <a:pt x="77313" y="677035"/>
                      <a:pt x="95225" y="707809"/>
                    </a:cubicBezTo>
                    <a:cubicBezTo>
                      <a:pt x="131049" y="769358"/>
                      <a:pt x="182824" y="799772"/>
                      <a:pt x="250548" y="799052"/>
                    </a:cubicBezTo>
                    <a:cubicBezTo>
                      <a:pt x="318319" y="799795"/>
                      <a:pt x="370279" y="769334"/>
                      <a:pt x="406428" y="707670"/>
                    </a:cubicBezTo>
                    <a:cubicBezTo>
                      <a:pt x="442577" y="646005"/>
                      <a:pt x="460826" y="548678"/>
                      <a:pt x="461174" y="415690"/>
                    </a:cubicBezTo>
                    <a:cubicBezTo>
                      <a:pt x="460826" y="281588"/>
                      <a:pt x="442577" y="183426"/>
                      <a:pt x="406428" y="121204"/>
                    </a:cubicBezTo>
                    <a:cubicBezTo>
                      <a:pt x="397391" y="105648"/>
                      <a:pt x="387366" y="92060"/>
                      <a:pt x="376352" y="80440"/>
                    </a:cubicBezTo>
                    <a:lnTo>
                      <a:pt x="344040" y="54453"/>
                    </a:lnTo>
                    <a:lnTo>
                      <a:pt x="375478" y="0"/>
                    </a:lnTo>
                    <a:close/>
                  </a:path>
                </a:pathLst>
              </a:custGeom>
              <a:solidFill>
                <a:srgbClr val="fd5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8800" spc="-1" strike="noStrike">
                  <a:solidFill>
                    <a:srgbClr val="fd5b5f"/>
                  </a:solidFill>
                  <a:latin typeface="AXIS Std L"/>
                  <a:ea typeface="AXIS Std L"/>
                </a:endParaRPr>
              </a:p>
            </p:txBody>
          </p:sp>
          <p:cxnSp>
            <p:nvCxnSpPr>
              <p:cNvPr id="469" name="直接连接符 193"/>
              <p:cNvCxnSpPr/>
              <p:nvPr/>
            </p:nvCxnSpPr>
            <p:spPr>
              <a:xfrm flipH="1">
                <a:off x="1117800" y="2275560"/>
                <a:ext cx="1293480" cy="2164680"/>
              </a:xfrm>
              <a:prstGeom prst="straightConnector1">
                <a:avLst/>
              </a:prstGeom>
              <a:ln>
                <a:solidFill>
                  <a:srgbClr val="fd5b5f"/>
                </a:solidFill>
              </a:ln>
            </p:spPr>
          </p:cxnSp>
        </p:grpSp>
        <p:sp>
          <p:nvSpPr>
            <p:cNvPr id="470" name="文本框 197"/>
            <p:cNvSpPr/>
            <p:nvPr/>
          </p:nvSpPr>
          <p:spPr>
            <a:xfrm>
              <a:off x="1994040" y="3612960"/>
              <a:ext cx="2708640" cy="821160"/>
            </a:xfrm>
            <a:prstGeom prst="rect">
              <a:avLst/>
            </a:prstGeom>
            <a:solidFill>
              <a:srgbClr val="fd5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第七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聚焦移动电子商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文本框 52"/>
          <p:cNvSpPr/>
          <p:nvPr/>
        </p:nvSpPr>
        <p:spPr>
          <a:xfrm>
            <a:off x="2353320" y="2230560"/>
            <a:ext cx="8028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d5b5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73"/>
          <p:cNvSpPr/>
          <p:nvPr/>
        </p:nvSpPr>
        <p:spPr>
          <a:xfrm>
            <a:off x="5306760" y="89208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开发移动广告活动战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74"/>
          <p:cNvSpPr/>
          <p:nvPr/>
        </p:nvSpPr>
        <p:spPr>
          <a:xfrm>
            <a:off x="6599520" y="1907280"/>
            <a:ext cx="210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确定你的移动搜索引擎营销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76"/>
          <p:cNvSpPr/>
          <p:nvPr/>
        </p:nvSpPr>
        <p:spPr>
          <a:xfrm>
            <a:off x="7656480" y="304524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确定你的移动呈现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77"/>
          <p:cNvSpPr/>
          <p:nvPr/>
        </p:nvSpPr>
        <p:spPr>
          <a:xfrm>
            <a:off x="8535600" y="3952440"/>
            <a:ext cx="141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决定移动邮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在移动营销中的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78"/>
          <p:cNvSpPr/>
          <p:nvPr/>
        </p:nvSpPr>
        <p:spPr>
          <a:xfrm>
            <a:off x="9491760" y="5116680"/>
            <a:ext cx="155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概述移动广告活动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追踪和分析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1" descr=""/>
          <p:cNvPicPr/>
          <p:nvPr/>
        </p:nvPicPr>
        <p:blipFill>
          <a:blip r:embed="rId4"/>
          <a:stretch/>
        </p:blipFill>
        <p:spPr>
          <a:xfrm>
            <a:off x="3591000" y="200520"/>
            <a:ext cx="1625040" cy="162504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30" descr=""/>
          <p:cNvPicPr/>
          <p:nvPr/>
        </p:nvPicPr>
        <p:blipFill>
          <a:blip r:embed="rId5"/>
          <a:stretch/>
        </p:blipFill>
        <p:spPr>
          <a:xfrm>
            <a:off x="4687200" y="1210320"/>
            <a:ext cx="1625040" cy="162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46"/>
          <p:cNvGrpSpPr/>
          <p:nvPr/>
        </p:nvGrpSpPr>
        <p:grpSpPr>
          <a:xfrm>
            <a:off x="-328680" y="-137520"/>
            <a:ext cx="7281000" cy="7768440"/>
            <a:chOff x="-328680" y="-137520"/>
            <a:chExt cx="7281000" cy="7768440"/>
          </a:xfrm>
        </p:grpSpPr>
        <p:sp>
          <p:nvSpPr>
            <p:cNvPr id="100" name="等腰三角形 9"/>
            <p:cNvSpPr/>
            <p:nvPr/>
          </p:nvSpPr>
          <p:spPr>
            <a:xfrm rot="13633800">
              <a:off x="1900800" y="3539880"/>
              <a:ext cx="2858760" cy="3623040"/>
            </a:xfrm>
            <a:custGeom>
              <a:avLst/>
              <a:gdLst>
                <a:gd name="textAreaLeft" fmla="*/ 0 w 2858760"/>
                <a:gd name="textAreaRight" fmla="*/ 2859120 w 2858760"/>
                <a:gd name="textAreaTop" fmla="*/ 0 h 3623040"/>
                <a:gd name="textAreaBottom" fmla="*/ 3623400 h 3623040"/>
              </a:gdLst>
              <a:ahLst/>
              <a:rect l="textAreaLeft" t="textAreaTop" r="textAreaRight" b="textAreaBottom"/>
              <a:pathLst>
                <a:path w="3267456" h="4141057">
                  <a:moveTo>
                    <a:pt x="0" y="4141057"/>
                  </a:moveTo>
                  <a:lnTo>
                    <a:pt x="3267456" y="0"/>
                  </a:lnTo>
                  <a:lnTo>
                    <a:pt x="1341120" y="4141057"/>
                  </a:lnTo>
                  <a:lnTo>
                    <a:pt x="0" y="4141057"/>
                  </a:lnTo>
                  <a:close/>
                </a:path>
              </a:pathLst>
            </a:custGeom>
            <a:solidFill>
              <a:srgbClr val="2fa1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1" name="任意多边形 45"/>
            <p:cNvSpPr/>
            <p:nvPr/>
          </p:nvSpPr>
          <p:spPr>
            <a:xfrm rot="2833800">
              <a:off x="1214280" y="433080"/>
              <a:ext cx="4194720" cy="6038280"/>
            </a:xfrm>
            <a:custGeom>
              <a:avLst/>
              <a:gdLst>
                <a:gd name="textAreaLeft" fmla="*/ 0 w 4194720"/>
                <a:gd name="textAreaRight" fmla="*/ 4195080 w 4194720"/>
                <a:gd name="textAreaTop" fmla="*/ 0 h 6038280"/>
                <a:gd name="textAreaBottom" fmla="*/ 6038640 h 6038280"/>
              </a:gdLst>
              <a:ahLst/>
              <a:rect l="textAreaLeft" t="textAreaTop" r="textAreaRight" b="textAreaBottom"/>
              <a:pathLst>
                <a:path w="4741334" h="6886222">
                  <a:moveTo>
                    <a:pt x="0" y="5192889"/>
                  </a:moveTo>
                  <a:lnTo>
                    <a:pt x="4741334" y="0"/>
                  </a:lnTo>
                  <a:lnTo>
                    <a:pt x="4481689" y="2833511"/>
                  </a:lnTo>
                  <a:lnTo>
                    <a:pt x="2359378" y="6886222"/>
                  </a:lnTo>
                  <a:lnTo>
                    <a:pt x="56445" y="6874934"/>
                  </a:lnTo>
                  <a:lnTo>
                    <a:pt x="0" y="5192889"/>
                  </a:lnTo>
                  <a:close/>
                </a:path>
              </a:pathLst>
            </a:custGeom>
            <a:solidFill>
              <a:srgbClr val="fd5b5f"/>
            </a:solidFill>
            <a:ln>
              <a:noFill/>
            </a:ln>
            <a:effectLst>
              <a:outerShdw algn="t" blurRad="50760" dir="5400000" dist="216000" rotWithShape="0">
                <a:srgbClr val="000000">
                  <a:alpha val="7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grpSp>
        <p:nvGrpSpPr>
          <p:cNvPr id="102" name="组合 16"/>
          <p:cNvGrpSpPr/>
          <p:nvPr/>
        </p:nvGrpSpPr>
        <p:grpSpPr>
          <a:xfrm>
            <a:off x="3870720" y="1054440"/>
            <a:ext cx="1952640" cy="890640"/>
            <a:chOff x="3870720" y="1054440"/>
            <a:chExt cx="1952640" cy="890640"/>
          </a:xfrm>
        </p:grpSpPr>
        <p:sp>
          <p:nvSpPr>
            <p:cNvPr id="103" name="任意多边形 12"/>
            <p:cNvSpPr/>
            <p:nvPr/>
          </p:nvSpPr>
          <p:spPr>
            <a:xfrm rot="946800">
              <a:off x="3975840" y="1317600"/>
              <a:ext cx="1831320" cy="37224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738289" h="372585">
                  <a:moveTo>
                    <a:pt x="0" y="136565"/>
                  </a:moveTo>
                  <a:cubicBezTo>
                    <a:pt x="312208" y="54015"/>
                    <a:pt x="624417" y="-28535"/>
                    <a:pt x="850900" y="9565"/>
                  </a:cubicBezTo>
                  <a:cubicBezTo>
                    <a:pt x="1077383" y="47665"/>
                    <a:pt x="1214967" y="324948"/>
                    <a:pt x="1358900" y="365165"/>
                  </a:cubicBezTo>
                  <a:cubicBezTo>
                    <a:pt x="1502833" y="405382"/>
                    <a:pt x="1661583" y="269915"/>
                    <a:pt x="1714500" y="250865"/>
                  </a:cubicBezTo>
                  <a:cubicBezTo>
                    <a:pt x="1767417" y="231815"/>
                    <a:pt x="1721908" y="241340"/>
                    <a:pt x="1676400" y="250865"/>
                  </a:cubicBezTo>
                </a:path>
              </a:pathLst>
            </a:custGeom>
            <a:noFill/>
            <a:ln>
              <a:solidFill>
                <a:srgbClr val="c4c4c4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4" name="任意多边形 13"/>
            <p:cNvSpPr/>
            <p:nvPr/>
          </p:nvSpPr>
          <p:spPr>
            <a:xfrm rot="946800">
              <a:off x="3930120" y="1306080"/>
              <a:ext cx="1884960" cy="232560"/>
            </a:xfrm>
            <a:custGeom>
              <a:avLst/>
              <a:gdLst>
                <a:gd name="textAreaLeft" fmla="*/ 0 w 1884960"/>
                <a:gd name="textAreaRight" fmla="*/ 1885320 w 18849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789261" h="232941">
                  <a:moveTo>
                    <a:pt x="0" y="228619"/>
                  </a:moveTo>
                  <a:lnTo>
                    <a:pt x="1092200" y="203219"/>
                  </a:lnTo>
                  <a:cubicBezTo>
                    <a:pt x="1320800" y="165119"/>
                    <a:pt x="1261533" y="-2098"/>
                    <a:pt x="1371600" y="19"/>
                  </a:cubicBezTo>
                  <a:cubicBezTo>
                    <a:pt x="1481667" y="2136"/>
                    <a:pt x="1689100" y="182052"/>
                    <a:pt x="1752600" y="215919"/>
                  </a:cubicBezTo>
                  <a:cubicBezTo>
                    <a:pt x="1816100" y="249786"/>
                    <a:pt x="1784350" y="226502"/>
                    <a:pt x="1752600" y="203219"/>
                  </a:cubicBezTo>
                </a:path>
              </a:pathLst>
            </a:custGeom>
            <a:noFill/>
            <a:ln>
              <a:solidFill>
                <a:srgbClr val="c4c4c4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5" name="任意多边形 14"/>
            <p:cNvSpPr/>
            <p:nvPr/>
          </p:nvSpPr>
          <p:spPr>
            <a:xfrm rot="946800">
              <a:off x="3866040" y="1487520"/>
              <a:ext cx="1806120" cy="21564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714500" h="215900">
                  <a:moveTo>
                    <a:pt x="0" y="0"/>
                  </a:moveTo>
                  <a:cubicBezTo>
                    <a:pt x="161925" y="71966"/>
                    <a:pt x="323850" y="143933"/>
                    <a:pt x="444500" y="165100"/>
                  </a:cubicBezTo>
                  <a:cubicBezTo>
                    <a:pt x="565150" y="186267"/>
                    <a:pt x="592667" y="139700"/>
                    <a:pt x="723900" y="127000"/>
                  </a:cubicBezTo>
                  <a:cubicBezTo>
                    <a:pt x="855133" y="114300"/>
                    <a:pt x="1066800" y="74083"/>
                    <a:pt x="1231900" y="88900"/>
                  </a:cubicBezTo>
                  <a:cubicBezTo>
                    <a:pt x="1397000" y="103717"/>
                    <a:pt x="1714500" y="215900"/>
                    <a:pt x="1714500" y="215900"/>
                  </a:cubicBezTo>
                  <a:lnTo>
                    <a:pt x="1714500" y="215900"/>
                  </a:lnTo>
                </a:path>
              </a:pathLst>
            </a:custGeom>
            <a:noFill/>
            <a:ln>
              <a:solidFill>
                <a:srgbClr val="c4c4c4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6" name="任意多边形 15"/>
            <p:cNvSpPr/>
            <p:nvPr/>
          </p:nvSpPr>
          <p:spPr>
            <a:xfrm rot="946800">
              <a:off x="4059360" y="1532160"/>
              <a:ext cx="1705320" cy="120600"/>
            </a:xfrm>
            <a:custGeom>
              <a:avLst/>
              <a:gdLst>
                <a:gd name="textAreaLeft" fmla="*/ 0 w 1705320"/>
                <a:gd name="textAreaRight" fmla="*/ 1705680 w 1705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18781" h="120907">
                  <a:moveTo>
                    <a:pt x="0" y="19307"/>
                  </a:moveTo>
                  <a:cubicBezTo>
                    <a:pt x="12700" y="10840"/>
                    <a:pt x="25400" y="2374"/>
                    <a:pt x="101600" y="19307"/>
                  </a:cubicBezTo>
                  <a:cubicBezTo>
                    <a:pt x="177800" y="36240"/>
                    <a:pt x="315383" y="120907"/>
                    <a:pt x="457200" y="120907"/>
                  </a:cubicBezTo>
                  <a:cubicBezTo>
                    <a:pt x="599017" y="120907"/>
                    <a:pt x="806450" y="38357"/>
                    <a:pt x="952500" y="19307"/>
                  </a:cubicBezTo>
                  <a:cubicBezTo>
                    <a:pt x="1098550" y="257"/>
                    <a:pt x="1225550" y="-6093"/>
                    <a:pt x="1333500" y="6607"/>
                  </a:cubicBezTo>
                  <a:cubicBezTo>
                    <a:pt x="1441450" y="19307"/>
                    <a:pt x="1559983" y="80690"/>
                    <a:pt x="1600200" y="95507"/>
                  </a:cubicBezTo>
                  <a:cubicBezTo>
                    <a:pt x="1640417" y="110324"/>
                    <a:pt x="1607608" y="102915"/>
                    <a:pt x="1574800" y="95507"/>
                  </a:cubicBezTo>
                </a:path>
              </a:pathLst>
            </a:custGeom>
            <a:noFill/>
            <a:ln>
              <a:solidFill>
                <a:srgbClr val="c4c4c4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pic>
        <p:nvPicPr>
          <p:cNvPr id="107" name="图片 4" descr=""/>
          <p:cNvPicPr/>
          <p:nvPr/>
        </p:nvPicPr>
        <p:blipFill>
          <a:blip r:embed="rId1"/>
          <a:stretch/>
        </p:blipFill>
        <p:spPr>
          <a:xfrm>
            <a:off x="5860800" y="1331280"/>
            <a:ext cx="1421640" cy="14216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5" descr=""/>
          <p:cNvPicPr/>
          <p:nvPr/>
        </p:nvPicPr>
        <p:blipFill>
          <a:blip r:embed="rId2"/>
          <a:stretch/>
        </p:blipFill>
        <p:spPr>
          <a:xfrm>
            <a:off x="2234880" y="677520"/>
            <a:ext cx="1415160" cy="141516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32"/>
          <p:cNvGrpSpPr/>
          <p:nvPr/>
        </p:nvGrpSpPr>
        <p:grpSpPr>
          <a:xfrm>
            <a:off x="8212320" y="3948120"/>
            <a:ext cx="1681560" cy="1879200"/>
            <a:chOff x="8212320" y="3948120"/>
            <a:chExt cx="1681560" cy="1879200"/>
          </a:xfrm>
        </p:grpSpPr>
        <p:sp>
          <p:nvSpPr>
            <p:cNvPr id="110" name="任意多边形 20"/>
            <p:cNvSpPr/>
            <p:nvPr/>
          </p:nvSpPr>
          <p:spPr>
            <a:xfrm rot="17375400">
              <a:off x="8360640" y="4351320"/>
              <a:ext cx="1576080" cy="1020240"/>
            </a:xfrm>
            <a:custGeom>
              <a:avLst/>
              <a:gdLst>
                <a:gd name="textAreaLeft" fmla="*/ 0 w 1576080"/>
                <a:gd name="textAreaRight" fmla="*/ 1576440 w 1576080"/>
                <a:gd name="textAreaTop" fmla="*/ 0 h 1020240"/>
                <a:gd name="textAreaBottom" fmla="*/ 1020600 h 1020240"/>
              </a:gdLst>
              <a:ahLst/>
              <a:rect l="textAreaLeft" t="textAreaTop" r="textAreaRight" b="textAreaBottom"/>
              <a:pathLst>
                <a:path w="1828800" h="1524000">
                  <a:moveTo>
                    <a:pt x="0" y="0"/>
                  </a:moveTo>
                  <a:cubicBezTo>
                    <a:pt x="238125" y="197908"/>
                    <a:pt x="476250" y="395817"/>
                    <a:pt x="596900" y="520700"/>
                  </a:cubicBezTo>
                  <a:cubicBezTo>
                    <a:pt x="717550" y="645583"/>
                    <a:pt x="569383" y="687917"/>
                    <a:pt x="723900" y="749300"/>
                  </a:cubicBezTo>
                  <a:cubicBezTo>
                    <a:pt x="878417" y="810683"/>
                    <a:pt x="1401233" y="827617"/>
                    <a:pt x="1524000" y="889000"/>
                  </a:cubicBezTo>
                  <a:cubicBezTo>
                    <a:pt x="1646767" y="950383"/>
                    <a:pt x="1409700" y="1011767"/>
                    <a:pt x="1460500" y="1117600"/>
                  </a:cubicBezTo>
                  <a:cubicBezTo>
                    <a:pt x="1511300" y="1223433"/>
                    <a:pt x="1670050" y="1373716"/>
                    <a:pt x="1828800" y="1524000"/>
                  </a:cubicBezTo>
                </a:path>
              </a:pathLst>
            </a:custGeom>
            <a:noFill/>
            <a:ln>
              <a:solidFill>
                <a:srgbClr val="c4c4c4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grpSp>
          <p:nvGrpSpPr>
            <p:cNvPr id="111" name="组合 21"/>
            <p:cNvGrpSpPr/>
            <p:nvPr/>
          </p:nvGrpSpPr>
          <p:grpSpPr>
            <a:xfrm>
              <a:off x="8212320" y="4176360"/>
              <a:ext cx="1634760" cy="1650960"/>
              <a:chOff x="8212320" y="4176360"/>
              <a:chExt cx="1634760" cy="1650960"/>
            </a:xfrm>
          </p:grpSpPr>
          <p:sp>
            <p:nvSpPr>
              <p:cNvPr id="112" name="任意多边形 22"/>
              <p:cNvSpPr/>
              <p:nvPr/>
            </p:nvSpPr>
            <p:spPr>
              <a:xfrm rot="18920400">
                <a:off x="8076600" y="4825800"/>
                <a:ext cx="1958400" cy="269280"/>
              </a:xfrm>
              <a:custGeom>
                <a:avLst/>
                <a:gdLst>
                  <a:gd name="textAreaLeft" fmla="*/ 0 w 1958400"/>
                  <a:gd name="textAreaRight" fmla="*/ 1958760 w 195840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1738289" h="372585">
                    <a:moveTo>
                      <a:pt x="0" y="136565"/>
                    </a:moveTo>
                    <a:cubicBezTo>
                      <a:pt x="312208" y="54015"/>
                      <a:pt x="624417" y="-28535"/>
                      <a:pt x="850900" y="9565"/>
                    </a:cubicBezTo>
                    <a:cubicBezTo>
                      <a:pt x="1077383" y="47665"/>
                      <a:pt x="1214967" y="324948"/>
                      <a:pt x="1358900" y="365165"/>
                    </a:cubicBezTo>
                    <a:cubicBezTo>
                      <a:pt x="1502833" y="405382"/>
                      <a:pt x="1661583" y="269915"/>
                      <a:pt x="1714500" y="250865"/>
                    </a:cubicBezTo>
                    <a:cubicBezTo>
                      <a:pt x="1767417" y="231815"/>
                      <a:pt x="1721908" y="241340"/>
                      <a:pt x="1676400" y="250865"/>
                    </a:cubicBezTo>
                  </a:path>
                </a:pathLst>
              </a:custGeom>
              <a:noFill/>
              <a:ln>
                <a:solidFill>
                  <a:srgbClr val="c4c4c4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Verdana"/>
                </a:endParaRPr>
              </a:p>
            </p:txBody>
          </p:sp>
          <p:sp>
            <p:nvSpPr>
              <p:cNvPr id="113" name="任意多边形 23"/>
              <p:cNvSpPr/>
              <p:nvPr/>
            </p:nvSpPr>
            <p:spPr>
              <a:xfrm rot="18920400">
                <a:off x="7980480" y="4869000"/>
                <a:ext cx="2016000" cy="168480"/>
              </a:xfrm>
              <a:custGeom>
                <a:avLst/>
                <a:gdLst>
                  <a:gd name="textAreaLeft" fmla="*/ 0 w 2016000"/>
                  <a:gd name="textAreaRight" fmla="*/ 2016360 w 20160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789261" h="232941">
                    <a:moveTo>
                      <a:pt x="0" y="228619"/>
                    </a:moveTo>
                    <a:lnTo>
                      <a:pt x="1092200" y="203219"/>
                    </a:lnTo>
                    <a:cubicBezTo>
                      <a:pt x="1320800" y="165119"/>
                      <a:pt x="1261533" y="-2098"/>
                      <a:pt x="1371600" y="19"/>
                    </a:cubicBezTo>
                    <a:cubicBezTo>
                      <a:pt x="1481667" y="2136"/>
                      <a:pt x="1689100" y="182052"/>
                      <a:pt x="1752600" y="215919"/>
                    </a:cubicBezTo>
                    <a:cubicBezTo>
                      <a:pt x="1816100" y="249786"/>
                      <a:pt x="1784350" y="226502"/>
                      <a:pt x="1752600" y="203219"/>
                    </a:cubicBezTo>
                  </a:path>
                </a:pathLst>
              </a:custGeom>
              <a:noFill/>
              <a:ln>
                <a:solidFill>
                  <a:srgbClr val="c4c4c4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Verdana"/>
                </a:endParaRPr>
              </a:p>
            </p:txBody>
          </p:sp>
          <p:sp>
            <p:nvSpPr>
              <p:cNvPr id="114" name="任意多边形 24"/>
              <p:cNvSpPr/>
              <p:nvPr/>
            </p:nvSpPr>
            <p:spPr>
              <a:xfrm rot="18920400">
                <a:off x="8081280" y="5014800"/>
                <a:ext cx="1931760" cy="155880"/>
              </a:xfrm>
              <a:custGeom>
                <a:avLst/>
                <a:gdLst>
                  <a:gd name="textAreaLeft" fmla="*/ 0 w 1931760"/>
                  <a:gd name="textAreaRight" fmla="*/ 1932120 w 193176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714500" h="215900">
                    <a:moveTo>
                      <a:pt x="0" y="0"/>
                    </a:moveTo>
                    <a:cubicBezTo>
                      <a:pt x="161925" y="71966"/>
                      <a:pt x="323850" y="143933"/>
                      <a:pt x="444500" y="165100"/>
                    </a:cubicBezTo>
                    <a:cubicBezTo>
                      <a:pt x="565150" y="186267"/>
                      <a:pt x="592667" y="139700"/>
                      <a:pt x="723900" y="127000"/>
                    </a:cubicBezTo>
                    <a:cubicBezTo>
                      <a:pt x="855133" y="114300"/>
                      <a:pt x="1066800" y="74083"/>
                      <a:pt x="1231900" y="88900"/>
                    </a:cubicBezTo>
                    <a:cubicBezTo>
                      <a:pt x="1397000" y="103717"/>
                      <a:pt x="1714500" y="215900"/>
                      <a:pt x="1714500" y="215900"/>
                    </a:cubicBezTo>
                    <a:lnTo>
                      <a:pt x="1714500" y="215900"/>
                    </a:lnTo>
                  </a:path>
                </a:pathLst>
              </a:custGeom>
              <a:noFill/>
              <a:ln>
                <a:solidFill>
                  <a:srgbClr val="c4c4c4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Verdana"/>
                </a:endParaRPr>
              </a:p>
            </p:txBody>
          </p:sp>
          <p:sp>
            <p:nvSpPr>
              <p:cNvPr id="115" name="任意多边形 25"/>
              <p:cNvSpPr/>
              <p:nvPr/>
            </p:nvSpPr>
            <p:spPr>
              <a:xfrm rot="18920400">
                <a:off x="8218440" y="4925160"/>
                <a:ext cx="1823760" cy="87120"/>
              </a:xfrm>
              <a:custGeom>
                <a:avLst/>
                <a:gdLst>
                  <a:gd name="textAreaLeft" fmla="*/ 0 w 1823760"/>
                  <a:gd name="textAreaRight" fmla="*/ 1824120 w 18237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618781" h="120907">
                    <a:moveTo>
                      <a:pt x="0" y="19307"/>
                    </a:moveTo>
                    <a:cubicBezTo>
                      <a:pt x="12700" y="10840"/>
                      <a:pt x="25400" y="2374"/>
                      <a:pt x="101600" y="19307"/>
                    </a:cubicBezTo>
                    <a:cubicBezTo>
                      <a:pt x="177800" y="36240"/>
                      <a:pt x="315383" y="120907"/>
                      <a:pt x="457200" y="120907"/>
                    </a:cubicBezTo>
                    <a:cubicBezTo>
                      <a:pt x="599017" y="120907"/>
                      <a:pt x="806450" y="38357"/>
                      <a:pt x="952500" y="19307"/>
                    </a:cubicBezTo>
                    <a:cubicBezTo>
                      <a:pt x="1098550" y="257"/>
                      <a:pt x="1225550" y="-6093"/>
                      <a:pt x="1333500" y="6607"/>
                    </a:cubicBezTo>
                    <a:cubicBezTo>
                      <a:pt x="1441450" y="19307"/>
                      <a:pt x="1559983" y="80690"/>
                      <a:pt x="1600200" y="95507"/>
                    </a:cubicBezTo>
                    <a:cubicBezTo>
                      <a:pt x="1640417" y="110324"/>
                      <a:pt x="1607608" y="102915"/>
                      <a:pt x="1574800" y="95507"/>
                    </a:cubicBezTo>
                  </a:path>
                </a:pathLst>
              </a:custGeom>
              <a:noFill/>
              <a:ln>
                <a:solidFill>
                  <a:srgbClr val="c4c4c4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Verdana"/>
                </a:endParaRPr>
              </a:p>
            </p:txBody>
          </p:sp>
        </p:grpSp>
      </p:grpSp>
      <p:grpSp>
        <p:nvGrpSpPr>
          <p:cNvPr id="116" name="组合 31"/>
          <p:cNvGrpSpPr/>
          <p:nvPr/>
        </p:nvGrpSpPr>
        <p:grpSpPr>
          <a:xfrm>
            <a:off x="7400880" y="1799640"/>
            <a:ext cx="1514160" cy="1407600"/>
            <a:chOff x="7400880" y="1799640"/>
            <a:chExt cx="1514160" cy="1407600"/>
          </a:xfrm>
        </p:grpSpPr>
        <p:sp>
          <p:nvSpPr>
            <p:cNvPr id="117" name="任意多边形 17"/>
            <p:cNvSpPr/>
            <p:nvPr/>
          </p:nvSpPr>
          <p:spPr>
            <a:xfrm>
              <a:off x="7437240" y="1908000"/>
              <a:ext cx="1468080" cy="1117080"/>
            </a:xfrm>
            <a:custGeom>
              <a:avLst/>
              <a:gdLst>
                <a:gd name="textAreaLeft" fmla="*/ 0 w 1468080"/>
                <a:gd name="textAreaRight" fmla="*/ 1468440 w 1468080"/>
                <a:gd name="textAreaTop" fmla="*/ 0 h 1117080"/>
                <a:gd name="textAreaBottom" fmla="*/ 1117440 h 1117080"/>
              </a:gdLst>
              <a:ahLst/>
              <a:rect l="textAreaLeft" t="textAreaTop" r="textAreaRight" b="textAreaBottom"/>
              <a:pathLst>
                <a:path w="1782888" h="1253830">
                  <a:moveTo>
                    <a:pt x="0" y="20656"/>
                  </a:moveTo>
                  <a:cubicBezTo>
                    <a:pt x="22225" y="-511"/>
                    <a:pt x="44450" y="-21677"/>
                    <a:pt x="139700" y="46056"/>
                  </a:cubicBezTo>
                  <a:cubicBezTo>
                    <a:pt x="234950" y="113789"/>
                    <a:pt x="374650" y="363556"/>
                    <a:pt x="571500" y="427056"/>
                  </a:cubicBezTo>
                  <a:cubicBezTo>
                    <a:pt x="768350" y="490556"/>
                    <a:pt x="1128183" y="297939"/>
                    <a:pt x="1320800" y="427056"/>
                  </a:cubicBezTo>
                  <a:cubicBezTo>
                    <a:pt x="1513417" y="556173"/>
                    <a:pt x="1651000" y="1074756"/>
                    <a:pt x="1727200" y="1201756"/>
                  </a:cubicBezTo>
                  <a:cubicBezTo>
                    <a:pt x="1803400" y="1328756"/>
                    <a:pt x="1769533" y="1182706"/>
                    <a:pt x="1778000" y="1189056"/>
                  </a:cubicBezTo>
                  <a:cubicBezTo>
                    <a:pt x="1786467" y="1195406"/>
                    <a:pt x="1782233" y="1217631"/>
                    <a:pt x="1778000" y="1239856"/>
                  </a:cubicBezTo>
                </a:path>
              </a:pathLst>
            </a:custGeom>
            <a:noFill/>
            <a:ln>
              <a:solidFill>
                <a:srgbClr val="c4c4c4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8" name="任意多边形 18"/>
            <p:cNvSpPr/>
            <p:nvPr/>
          </p:nvSpPr>
          <p:spPr>
            <a:xfrm>
              <a:off x="7426800" y="1835640"/>
              <a:ext cx="1474560" cy="121068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210680"/>
                <a:gd name="textAreaBottom" fmla="*/ 1211040 h 1210680"/>
              </a:gdLst>
              <a:ahLst/>
              <a:rect l="textAreaLeft" t="textAreaTop" r="textAreaRight" b="textAreaBottom"/>
              <a:pathLst>
                <a:path w="1790700" h="1358900">
                  <a:moveTo>
                    <a:pt x="0" y="0"/>
                  </a:moveTo>
                  <a:cubicBezTo>
                    <a:pt x="77258" y="101600"/>
                    <a:pt x="154517" y="203200"/>
                    <a:pt x="241300" y="279400"/>
                  </a:cubicBezTo>
                  <a:cubicBezTo>
                    <a:pt x="328083" y="355600"/>
                    <a:pt x="397933" y="391583"/>
                    <a:pt x="520700" y="457200"/>
                  </a:cubicBezTo>
                  <a:cubicBezTo>
                    <a:pt x="643467" y="522817"/>
                    <a:pt x="840317" y="654050"/>
                    <a:pt x="977900" y="673100"/>
                  </a:cubicBezTo>
                  <a:cubicBezTo>
                    <a:pt x="1115483" y="692150"/>
                    <a:pt x="1248833" y="529167"/>
                    <a:pt x="1346200" y="571500"/>
                  </a:cubicBezTo>
                  <a:cubicBezTo>
                    <a:pt x="1443567" y="613833"/>
                    <a:pt x="1524000" y="810683"/>
                    <a:pt x="1562100" y="927100"/>
                  </a:cubicBezTo>
                  <a:cubicBezTo>
                    <a:pt x="1600200" y="1043517"/>
                    <a:pt x="1536700" y="1198033"/>
                    <a:pt x="1574800" y="1270000"/>
                  </a:cubicBezTo>
                  <a:cubicBezTo>
                    <a:pt x="1612900" y="1341967"/>
                    <a:pt x="1701800" y="1350433"/>
                    <a:pt x="1790700" y="1358900"/>
                  </a:cubicBezTo>
                </a:path>
              </a:pathLst>
            </a:custGeom>
            <a:noFill/>
            <a:ln>
              <a:solidFill>
                <a:srgbClr val="c4c4c4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" name="任意多边形 19"/>
            <p:cNvSpPr/>
            <p:nvPr/>
          </p:nvSpPr>
          <p:spPr>
            <a:xfrm>
              <a:off x="7458480" y="2037240"/>
              <a:ext cx="1456560" cy="1170000"/>
            </a:xfrm>
            <a:custGeom>
              <a:avLst/>
              <a:gdLst>
                <a:gd name="textAreaLeft" fmla="*/ 0 w 1456560"/>
                <a:gd name="textAreaRight" fmla="*/ 1456920 w 145656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768966" h="1313218">
                  <a:moveTo>
                    <a:pt x="0" y="2400"/>
                  </a:moveTo>
                  <a:cubicBezTo>
                    <a:pt x="14816" y="-775"/>
                    <a:pt x="29633" y="-3950"/>
                    <a:pt x="114300" y="15100"/>
                  </a:cubicBezTo>
                  <a:cubicBezTo>
                    <a:pt x="198967" y="34150"/>
                    <a:pt x="385233" y="68017"/>
                    <a:pt x="508000" y="116700"/>
                  </a:cubicBezTo>
                  <a:cubicBezTo>
                    <a:pt x="630767" y="165383"/>
                    <a:pt x="764117" y="231000"/>
                    <a:pt x="850900" y="307200"/>
                  </a:cubicBezTo>
                  <a:cubicBezTo>
                    <a:pt x="937683" y="383400"/>
                    <a:pt x="946150" y="540033"/>
                    <a:pt x="1028700" y="573900"/>
                  </a:cubicBezTo>
                  <a:cubicBezTo>
                    <a:pt x="1111250" y="607767"/>
                    <a:pt x="1270000" y="470183"/>
                    <a:pt x="1346200" y="510400"/>
                  </a:cubicBezTo>
                  <a:cubicBezTo>
                    <a:pt x="1422400" y="550617"/>
                    <a:pt x="1428750" y="686083"/>
                    <a:pt x="1485900" y="815200"/>
                  </a:cubicBezTo>
                  <a:cubicBezTo>
                    <a:pt x="1543050" y="944317"/>
                    <a:pt x="1648883" y="1211017"/>
                    <a:pt x="1689100" y="1285100"/>
                  </a:cubicBezTo>
                  <a:cubicBezTo>
                    <a:pt x="1729317" y="1359183"/>
                    <a:pt x="1714500" y="1263933"/>
                    <a:pt x="1727200" y="1259700"/>
                  </a:cubicBezTo>
                  <a:cubicBezTo>
                    <a:pt x="1739900" y="1255467"/>
                    <a:pt x="1758950" y="1261817"/>
                    <a:pt x="1765300" y="1259700"/>
                  </a:cubicBezTo>
                  <a:cubicBezTo>
                    <a:pt x="1771650" y="1257583"/>
                    <a:pt x="1768475" y="1252291"/>
                    <a:pt x="1765300" y="1247000"/>
                  </a:cubicBezTo>
                </a:path>
              </a:pathLst>
            </a:custGeom>
            <a:noFill/>
            <a:ln>
              <a:solidFill>
                <a:srgbClr val="c4c4c4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20" name="任意多边形 26"/>
            <p:cNvSpPr/>
            <p:nvPr/>
          </p:nvSpPr>
          <p:spPr>
            <a:xfrm>
              <a:off x="7400880" y="1799640"/>
              <a:ext cx="1505880" cy="1357560"/>
            </a:xfrm>
            <a:custGeom>
              <a:avLst/>
              <a:gdLst>
                <a:gd name="textAreaLeft" fmla="*/ 0 w 1505880"/>
                <a:gd name="textAreaRight" fmla="*/ 1506240 w 150588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1828800" h="1524000">
                  <a:moveTo>
                    <a:pt x="0" y="0"/>
                  </a:moveTo>
                  <a:cubicBezTo>
                    <a:pt x="238125" y="197908"/>
                    <a:pt x="476250" y="395817"/>
                    <a:pt x="596900" y="520700"/>
                  </a:cubicBezTo>
                  <a:cubicBezTo>
                    <a:pt x="717550" y="645583"/>
                    <a:pt x="569383" y="687917"/>
                    <a:pt x="723900" y="749300"/>
                  </a:cubicBezTo>
                  <a:cubicBezTo>
                    <a:pt x="878417" y="810683"/>
                    <a:pt x="1401233" y="827617"/>
                    <a:pt x="1524000" y="889000"/>
                  </a:cubicBezTo>
                  <a:cubicBezTo>
                    <a:pt x="1646767" y="950383"/>
                    <a:pt x="1409700" y="1011767"/>
                    <a:pt x="1460500" y="1117600"/>
                  </a:cubicBezTo>
                  <a:cubicBezTo>
                    <a:pt x="1511300" y="1223433"/>
                    <a:pt x="1670050" y="1373716"/>
                    <a:pt x="1828800" y="1524000"/>
                  </a:cubicBezTo>
                </a:path>
              </a:pathLst>
            </a:custGeom>
            <a:noFill/>
            <a:ln>
              <a:solidFill>
                <a:srgbClr val="c4c4c4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pic>
        <p:nvPicPr>
          <p:cNvPr id="121" name="图片 6" descr=""/>
          <p:cNvPicPr/>
          <p:nvPr/>
        </p:nvPicPr>
        <p:blipFill>
          <a:blip r:embed="rId3"/>
          <a:stretch/>
        </p:blipFill>
        <p:spPr>
          <a:xfrm>
            <a:off x="6468120" y="4804200"/>
            <a:ext cx="1834560" cy="18345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" descr=""/>
          <p:cNvPicPr/>
          <p:nvPr/>
        </p:nvPicPr>
        <p:blipFill>
          <a:blip r:embed="rId4"/>
          <a:stretch/>
        </p:blipFill>
        <p:spPr>
          <a:xfrm>
            <a:off x="9118800" y="26838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23" name="同心圆 27"/>
          <p:cNvSpPr/>
          <p:nvPr/>
        </p:nvSpPr>
        <p:spPr>
          <a:xfrm>
            <a:off x="2090520" y="336240"/>
            <a:ext cx="1954800" cy="1954800"/>
          </a:xfrm>
          <a:prstGeom prst="donut">
            <a:avLst>
              <a:gd name="adj" fmla="val 11535"/>
            </a:avLst>
          </a:prstGeom>
          <a:solidFill>
            <a:srgbClr val="bd64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同心圆 28"/>
          <p:cNvSpPr/>
          <p:nvPr/>
        </p:nvSpPr>
        <p:spPr>
          <a:xfrm>
            <a:off x="5582520" y="1034280"/>
            <a:ext cx="1918440" cy="1918440"/>
          </a:xfrm>
          <a:prstGeom prst="donut">
            <a:avLst>
              <a:gd name="adj" fmla="val 11535"/>
            </a:avLst>
          </a:prstGeom>
          <a:solidFill>
            <a:srgbClr val="00a6b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同心圆 29"/>
          <p:cNvSpPr/>
          <p:nvPr/>
        </p:nvSpPr>
        <p:spPr>
          <a:xfrm>
            <a:off x="8794080" y="2280960"/>
            <a:ext cx="2238120" cy="2238120"/>
          </a:xfrm>
          <a:prstGeom prst="donut">
            <a:avLst>
              <a:gd name="adj" fmla="val 11535"/>
            </a:avLst>
          </a:prstGeom>
          <a:solidFill>
            <a:srgbClr val="ff8b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同心圆 30"/>
          <p:cNvSpPr/>
          <p:nvPr/>
        </p:nvSpPr>
        <p:spPr>
          <a:xfrm>
            <a:off x="6158880" y="4614120"/>
            <a:ext cx="2344680" cy="2344680"/>
          </a:xfrm>
          <a:prstGeom prst="donut">
            <a:avLst>
              <a:gd name="adj" fmla="val 11535"/>
            </a:avLst>
          </a:prstGeom>
          <a:solidFill>
            <a:srgbClr val="84bc0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图片 3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4414320" y="210240"/>
            <a:ext cx="1316520" cy="13165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4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10938240" y="1422720"/>
            <a:ext cx="1015560" cy="10155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5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5620680" y="3299040"/>
            <a:ext cx="1045440" cy="10454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36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9286920" y="4797000"/>
            <a:ext cx="993600" cy="9936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37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5038560" y="5421600"/>
            <a:ext cx="815760" cy="815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8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8873640" y="818280"/>
            <a:ext cx="972360" cy="97236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39"/>
          <p:cNvSpPr/>
          <p:nvPr/>
        </p:nvSpPr>
        <p:spPr>
          <a:xfrm>
            <a:off x="699480" y="2935440"/>
            <a:ext cx="4324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玩转移动营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为期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天，以每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小时的形式系统的将移动营销的方法进行分解，使复杂的问题变得明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0"/>
          <p:cNvSpPr/>
          <p:nvPr/>
        </p:nvSpPr>
        <p:spPr>
          <a:xfrm>
            <a:off x="743040" y="119232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d5b5f"/>
                </a:solidFill>
                <a:latin typeface="Verdana"/>
              </a:rPr>
              <a:t>设计和优化网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1"/>
          <p:cNvSpPr/>
          <p:nvPr/>
        </p:nvSpPr>
        <p:spPr>
          <a:xfrm>
            <a:off x="7710120" y="75888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d5b5f"/>
                </a:solidFill>
                <a:latin typeface="Verdana"/>
              </a:rPr>
              <a:t>投放现场广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6984000" y="3336480"/>
            <a:ext cx="1482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d5b5f"/>
                </a:solidFill>
                <a:latin typeface="Verdana"/>
              </a:rPr>
              <a:t>创建高人气的</a:t>
            </a:r>
            <a:r>
              <a:rPr b="0" lang="en-US" sz="1800" spc="-1" strike="noStrike">
                <a:solidFill>
                  <a:srgbClr val="fd5b5f"/>
                </a:solidFill>
                <a:latin typeface="Verdana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3"/>
          <p:cNvSpPr/>
          <p:nvPr/>
        </p:nvSpPr>
        <p:spPr>
          <a:xfrm>
            <a:off x="8600040" y="6218640"/>
            <a:ext cx="210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d5b5f"/>
                </a:solidFill>
                <a:latin typeface="Verdana"/>
              </a:rPr>
              <a:t>破译分析并利用强大的社交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4"/>
          <p:cNvSpPr/>
          <p:nvPr/>
        </p:nvSpPr>
        <p:spPr>
          <a:xfrm>
            <a:off x="4362120" y="3260880"/>
            <a:ext cx="6841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管你是效力于某品牌，设计应用是为了支持生意， 还是说应用就是你的生意或服务，都要关心和照料它，以确保你的用户与你同在并不断加深与你之间的关系。他们停留的时间越长，使用你的应用越多，对你而言就越有价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直接连接符 5"/>
          <p:cNvCxnSpPr/>
          <p:nvPr/>
        </p:nvCxnSpPr>
        <p:spPr>
          <a:xfrm flipH="1">
            <a:off x="3877200" y="0"/>
            <a:ext cx="1713600" cy="4342680"/>
          </a:xfrm>
          <a:prstGeom prst="straightConnector1">
            <a:avLst/>
          </a:prstGeom>
          <a:ln>
            <a:solidFill>
              <a:srgbClr val="d9d9d9"/>
            </a:solidFill>
          </a:ln>
        </p:spPr>
      </p:cxnSp>
      <p:sp>
        <p:nvSpPr>
          <p:cNvPr id="481" name="文本框 6"/>
          <p:cNvSpPr/>
          <p:nvPr/>
        </p:nvSpPr>
        <p:spPr>
          <a:xfrm>
            <a:off x="1677240" y="207792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7"/>
          <p:cNvSpPr/>
          <p:nvPr/>
        </p:nvSpPr>
        <p:spPr>
          <a:xfrm>
            <a:off x="2564640" y="302868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组合 8"/>
          <p:cNvGrpSpPr/>
          <p:nvPr/>
        </p:nvGrpSpPr>
        <p:grpSpPr>
          <a:xfrm>
            <a:off x="1175400" y="1680840"/>
            <a:ext cx="3277080" cy="2335320"/>
            <a:chOff x="1175400" y="1680840"/>
            <a:chExt cx="3277080" cy="2335320"/>
          </a:xfrm>
        </p:grpSpPr>
        <p:grpSp>
          <p:nvGrpSpPr>
            <p:cNvPr id="484" name="组合 9"/>
            <p:cNvGrpSpPr/>
            <p:nvPr/>
          </p:nvGrpSpPr>
          <p:grpSpPr>
            <a:xfrm>
              <a:off x="1175400" y="1680840"/>
              <a:ext cx="1283400" cy="2335320"/>
              <a:chOff x="1175400" y="1680840"/>
              <a:chExt cx="1283400" cy="2335320"/>
            </a:xfrm>
          </p:grpSpPr>
          <p:sp>
            <p:nvSpPr>
              <p:cNvPr id="485" name="文本框 11"/>
              <p:cNvSpPr/>
              <p:nvPr/>
            </p:nvSpPr>
            <p:spPr>
              <a:xfrm>
                <a:off x="1898640" y="2076840"/>
                <a:ext cx="532080" cy="8611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861120"/>
                  <a:gd name="textAreaBottom" fmla="*/ 861480 h 861120"/>
                </a:gdLst>
                <a:ahLst/>
                <a:rect l="textAreaLeft" t="textAreaTop" r="textAreaRight" b="textAreaBottom"/>
                <a:pathLst>
                  <a:path w="532498" h="861460">
                    <a:moveTo>
                      <a:pt x="375478" y="0"/>
                    </a:moveTo>
                    <a:lnTo>
                      <a:pt x="420493" y="33112"/>
                    </a:lnTo>
                    <a:cubicBezTo>
                      <a:pt x="435211" y="47309"/>
                      <a:pt x="448539" y="63857"/>
                      <a:pt x="460478" y="82756"/>
                    </a:cubicBezTo>
                    <a:cubicBezTo>
                      <a:pt x="508236" y="158351"/>
                      <a:pt x="532242" y="269329"/>
                      <a:pt x="532498" y="415690"/>
                    </a:cubicBezTo>
                    <a:lnTo>
                      <a:pt x="532498" y="416805"/>
                    </a:lnTo>
                    <a:cubicBezTo>
                      <a:pt x="532242" y="561610"/>
                      <a:pt x="508236" y="671799"/>
                      <a:pt x="460478" y="747371"/>
                    </a:cubicBezTo>
                    <a:cubicBezTo>
                      <a:pt x="412720" y="822943"/>
                      <a:pt x="342743" y="860973"/>
                      <a:pt x="250548" y="861460"/>
                    </a:cubicBezTo>
                    <a:cubicBezTo>
                      <a:pt x="157912" y="860996"/>
                      <a:pt x="87981" y="822920"/>
                      <a:pt x="40758" y="747232"/>
                    </a:cubicBezTo>
                    <a:cubicBezTo>
                      <a:pt x="28952" y="728310"/>
                      <a:pt x="18618" y="707211"/>
                      <a:pt x="9754" y="683936"/>
                    </a:cubicBezTo>
                    <a:lnTo>
                      <a:pt x="0" y="650347"/>
                    </a:lnTo>
                    <a:lnTo>
                      <a:pt x="51287" y="561515"/>
                    </a:lnTo>
                    <a:lnTo>
                      <a:pt x="54810" y="588896"/>
                    </a:lnTo>
                    <a:cubicBezTo>
                      <a:pt x="63841" y="637397"/>
                      <a:pt x="77313" y="677035"/>
                      <a:pt x="95225" y="707809"/>
                    </a:cubicBezTo>
                    <a:cubicBezTo>
                      <a:pt x="131049" y="769358"/>
                      <a:pt x="182824" y="799772"/>
                      <a:pt x="250548" y="799052"/>
                    </a:cubicBezTo>
                    <a:cubicBezTo>
                      <a:pt x="318319" y="799795"/>
                      <a:pt x="370279" y="769334"/>
                      <a:pt x="406428" y="707670"/>
                    </a:cubicBezTo>
                    <a:cubicBezTo>
                      <a:pt x="442577" y="646005"/>
                      <a:pt x="460826" y="548678"/>
                      <a:pt x="461174" y="415690"/>
                    </a:cubicBezTo>
                    <a:cubicBezTo>
                      <a:pt x="460826" y="281588"/>
                      <a:pt x="442577" y="183426"/>
                      <a:pt x="406428" y="121204"/>
                    </a:cubicBezTo>
                    <a:cubicBezTo>
                      <a:pt x="397391" y="105648"/>
                      <a:pt x="387366" y="92060"/>
                      <a:pt x="376352" y="80440"/>
                    </a:cubicBezTo>
                    <a:lnTo>
                      <a:pt x="344040" y="54453"/>
                    </a:lnTo>
                    <a:lnTo>
                      <a:pt x="375478" y="0"/>
                    </a:lnTo>
                    <a:close/>
                  </a:path>
                </a:pathLst>
              </a:custGeom>
              <a:solidFill>
                <a:srgbClr val="2fa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8800" spc="-1" strike="noStrike">
                  <a:solidFill>
                    <a:srgbClr val="fd5b5f"/>
                  </a:solidFill>
                  <a:latin typeface="AXIS Std L"/>
                  <a:ea typeface="AXIS Std L"/>
                </a:endParaRPr>
              </a:p>
            </p:txBody>
          </p:sp>
          <p:cxnSp>
            <p:nvCxnSpPr>
              <p:cNvPr id="486" name="直接连接符 12"/>
              <p:cNvCxnSpPr/>
              <p:nvPr/>
            </p:nvCxnSpPr>
            <p:spPr>
              <a:xfrm flipH="1">
                <a:off x="1175400" y="1680840"/>
                <a:ext cx="1283760" cy="2335680"/>
              </a:xfrm>
              <a:prstGeom prst="straightConnector1">
                <a:avLst/>
              </a:prstGeom>
              <a:ln>
                <a:solidFill>
                  <a:srgbClr val="2fa1cf"/>
                </a:solidFill>
              </a:ln>
            </p:spPr>
          </p:cxnSp>
        </p:grpSp>
        <p:sp>
          <p:nvSpPr>
            <p:cNvPr id="487" name="文本框 10"/>
            <p:cNvSpPr/>
            <p:nvPr/>
          </p:nvSpPr>
          <p:spPr>
            <a:xfrm>
              <a:off x="2386080" y="3105000"/>
              <a:ext cx="2066400" cy="821160"/>
            </a:xfrm>
            <a:prstGeom prst="rect">
              <a:avLst/>
            </a:prstGeom>
            <a:solidFill>
              <a:srgbClr val="2fa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第八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重视环境媒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弧形 16"/>
          <p:cNvSpPr/>
          <p:nvPr/>
        </p:nvSpPr>
        <p:spPr>
          <a:xfrm rot="10800000">
            <a:off x="893520" y="5231880"/>
            <a:ext cx="647280" cy="647280"/>
          </a:xfrm>
          <a:prstGeom prst="arc">
            <a:avLst>
              <a:gd name="adj1" fmla="val 16200000"/>
              <a:gd name="adj2" fmla="val 0"/>
            </a:avLst>
          </a:prstGeom>
          <a:noFill/>
          <a:ln w="38100">
            <a:solidFill>
              <a:srgbClr val="fd5b5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 baseline="-25000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椭圆 18"/>
          <p:cNvSpPr/>
          <p:nvPr/>
        </p:nvSpPr>
        <p:spPr>
          <a:xfrm rot="16200000">
            <a:off x="1148400" y="5817960"/>
            <a:ext cx="225720" cy="225720"/>
          </a:xfrm>
          <a:prstGeom prst="ellipse">
            <a:avLst/>
          </a:prstGeom>
          <a:solidFill>
            <a:schemeClr val="bg1"/>
          </a:solidFill>
          <a:ln w="5715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90" name="文本框 19"/>
          <p:cNvSpPr/>
          <p:nvPr/>
        </p:nvSpPr>
        <p:spPr>
          <a:xfrm>
            <a:off x="2496600" y="1767600"/>
            <a:ext cx="8028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2fa1c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21"/>
          <p:cNvSpPr/>
          <p:nvPr/>
        </p:nvSpPr>
        <p:spPr>
          <a:xfrm>
            <a:off x="452160" y="3653640"/>
            <a:ext cx="3701880" cy="1908720"/>
          </a:xfrm>
          <a:custGeom>
            <a:avLst/>
            <a:gdLst>
              <a:gd name="textAreaLeft" fmla="*/ 0 w 3701880"/>
              <a:gd name="textAreaRight" fmla="*/ 3702240 w 37018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2600960" h="1341120">
                <a:moveTo>
                  <a:pt x="0" y="0"/>
                </a:moveTo>
                <a:lnTo>
                  <a:pt x="2600960" y="0"/>
                </a:lnTo>
                <a:lnTo>
                  <a:pt x="2600960" y="1341120"/>
                </a:lnTo>
                <a:lnTo>
                  <a:pt x="0" y="1341120"/>
                </a:lnTo>
                <a:lnTo>
                  <a:pt x="0" y="0"/>
                </a:lnTo>
                <a:close/>
              </a:path>
            </a:pathLst>
          </a:custGeom>
          <a:noFill/>
          <a:ln>
            <a:noFill/>
          </a:ln>
        </p:spPr>
        <p:style>
          <a:lnRef idx="2"/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0" rIns="0" tIns="0" bIns="0" anchor="b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492" name="图片 22" descr=""/>
          <p:cNvPicPr/>
          <p:nvPr/>
        </p:nvPicPr>
        <p:blipFill>
          <a:blip r:embed="rId1"/>
          <a:stretch/>
        </p:blipFill>
        <p:spPr>
          <a:xfrm>
            <a:off x="586080" y="5102280"/>
            <a:ext cx="1675800" cy="1503720"/>
          </a:xfrm>
          <a:prstGeom prst="rect">
            <a:avLst/>
          </a:prstGeom>
          <a:ln w="0">
            <a:noFill/>
          </a:ln>
        </p:spPr>
      </p:pic>
      <p:sp>
        <p:nvSpPr>
          <p:cNvPr id="493" name="图片 28"/>
          <p:cNvSpPr/>
          <p:nvPr/>
        </p:nvSpPr>
        <p:spPr>
          <a:xfrm>
            <a:off x="5870520" y="1196280"/>
            <a:ext cx="426240" cy="148680"/>
          </a:xfrm>
          <a:custGeom>
            <a:avLst/>
            <a:gdLst>
              <a:gd name="textAreaLeft" fmla="*/ 0 w 426240"/>
              <a:gd name="textAreaRight" fmla="*/ 426600 w 426240"/>
              <a:gd name="textAreaTop" fmla="*/ 0 h 148680"/>
              <a:gd name="textAreaBottom" fmla="*/ 149040 h 148680"/>
            </a:gdLst>
            <a:ahLst/>
            <a:rect l="textAreaLeft" t="textAreaTop" r="textAreaRight" b="textAreaBottom"/>
            <a:pathLst>
              <a:path w="1292352" h="451317">
                <a:moveTo>
                  <a:pt x="0" y="0"/>
                </a:moveTo>
                <a:lnTo>
                  <a:pt x="1292352" y="0"/>
                </a:lnTo>
                <a:lnTo>
                  <a:pt x="1292352" y="451317"/>
                </a:lnTo>
                <a:lnTo>
                  <a:pt x="0" y="4513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图片 29"/>
          <p:cNvSpPr/>
          <p:nvPr/>
        </p:nvSpPr>
        <p:spPr>
          <a:xfrm>
            <a:off x="5724000" y="802440"/>
            <a:ext cx="718920" cy="718920"/>
          </a:xfrm>
          <a:custGeom>
            <a:avLst/>
            <a:gdLst>
              <a:gd name="textAreaLeft" fmla="*/ 0 w 718920"/>
              <a:gd name="textAreaRight" fmla="*/ 719280 w 7189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438400" h="2438400">
                <a:moveTo>
                  <a:pt x="0" y="0"/>
                </a:moveTo>
                <a:lnTo>
                  <a:pt x="2438400" y="0"/>
                </a:lnTo>
                <a:lnTo>
                  <a:pt x="2438400" y="2438400"/>
                </a:lnTo>
                <a:lnTo>
                  <a:pt x="0" y="2438400"/>
                </a:lnTo>
                <a:lnTo>
                  <a:pt x="0" y="0"/>
                </a:lnTo>
                <a:close/>
                <a:moveTo>
                  <a:pt x="573024" y="86607"/>
                </a:moveTo>
                <a:lnTo>
                  <a:pt x="573024" y="537924"/>
                </a:lnTo>
                <a:lnTo>
                  <a:pt x="1865376" y="537924"/>
                </a:lnTo>
                <a:lnTo>
                  <a:pt x="1865376" y="86607"/>
                </a:lnTo>
                <a:lnTo>
                  <a:pt x="573024" y="86607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图片 30"/>
          <p:cNvSpPr/>
          <p:nvPr/>
        </p:nvSpPr>
        <p:spPr>
          <a:xfrm>
            <a:off x="5724000" y="1994400"/>
            <a:ext cx="718920" cy="718920"/>
          </a:xfrm>
          <a:custGeom>
            <a:avLst/>
            <a:gdLst>
              <a:gd name="textAreaLeft" fmla="*/ 0 w 718920"/>
              <a:gd name="textAreaRight" fmla="*/ 719280 w 7189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438400" h="2438400">
                <a:moveTo>
                  <a:pt x="0" y="0"/>
                </a:moveTo>
                <a:lnTo>
                  <a:pt x="2438400" y="0"/>
                </a:lnTo>
                <a:lnTo>
                  <a:pt x="2438400" y="2438400"/>
                </a:lnTo>
                <a:lnTo>
                  <a:pt x="0" y="2438400"/>
                </a:lnTo>
                <a:lnTo>
                  <a:pt x="0" y="0"/>
                </a:lnTo>
                <a:close/>
                <a:moveTo>
                  <a:pt x="573024" y="86607"/>
                </a:moveTo>
                <a:lnTo>
                  <a:pt x="573024" y="537924"/>
                </a:lnTo>
                <a:lnTo>
                  <a:pt x="1865376" y="537924"/>
                </a:lnTo>
                <a:lnTo>
                  <a:pt x="1865376" y="86607"/>
                </a:lnTo>
                <a:lnTo>
                  <a:pt x="573024" y="8660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图片 31"/>
          <p:cNvSpPr/>
          <p:nvPr/>
        </p:nvSpPr>
        <p:spPr>
          <a:xfrm>
            <a:off x="5724000" y="3186720"/>
            <a:ext cx="718920" cy="718920"/>
          </a:xfrm>
          <a:custGeom>
            <a:avLst/>
            <a:gdLst>
              <a:gd name="textAreaLeft" fmla="*/ 0 w 718920"/>
              <a:gd name="textAreaRight" fmla="*/ 719280 w 7189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438400" h="2438400">
                <a:moveTo>
                  <a:pt x="0" y="0"/>
                </a:moveTo>
                <a:lnTo>
                  <a:pt x="2438400" y="0"/>
                </a:lnTo>
                <a:lnTo>
                  <a:pt x="2438400" y="2438400"/>
                </a:lnTo>
                <a:lnTo>
                  <a:pt x="0" y="2438400"/>
                </a:lnTo>
                <a:lnTo>
                  <a:pt x="0" y="0"/>
                </a:lnTo>
                <a:close/>
                <a:moveTo>
                  <a:pt x="573024" y="86607"/>
                </a:moveTo>
                <a:lnTo>
                  <a:pt x="573024" y="537924"/>
                </a:lnTo>
                <a:lnTo>
                  <a:pt x="1865376" y="537924"/>
                </a:lnTo>
                <a:lnTo>
                  <a:pt x="1865376" y="86607"/>
                </a:lnTo>
                <a:lnTo>
                  <a:pt x="573024" y="86607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图片 32"/>
          <p:cNvSpPr/>
          <p:nvPr/>
        </p:nvSpPr>
        <p:spPr>
          <a:xfrm>
            <a:off x="5724000" y="4378680"/>
            <a:ext cx="718920" cy="718920"/>
          </a:xfrm>
          <a:custGeom>
            <a:avLst/>
            <a:gdLst>
              <a:gd name="textAreaLeft" fmla="*/ 0 w 718920"/>
              <a:gd name="textAreaRight" fmla="*/ 719280 w 7189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438400" h="2438400">
                <a:moveTo>
                  <a:pt x="0" y="0"/>
                </a:moveTo>
                <a:lnTo>
                  <a:pt x="2438400" y="0"/>
                </a:lnTo>
                <a:lnTo>
                  <a:pt x="2438400" y="2438400"/>
                </a:lnTo>
                <a:lnTo>
                  <a:pt x="0" y="2438400"/>
                </a:lnTo>
                <a:lnTo>
                  <a:pt x="0" y="0"/>
                </a:lnTo>
                <a:close/>
                <a:moveTo>
                  <a:pt x="573024" y="86607"/>
                </a:moveTo>
                <a:lnTo>
                  <a:pt x="573024" y="537924"/>
                </a:lnTo>
                <a:lnTo>
                  <a:pt x="1865376" y="537924"/>
                </a:lnTo>
                <a:lnTo>
                  <a:pt x="1865376" y="86607"/>
                </a:lnTo>
                <a:lnTo>
                  <a:pt x="573024" y="86607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图片 33"/>
          <p:cNvSpPr/>
          <p:nvPr/>
        </p:nvSpPr>
        <p:spPr>
          <a:xfrm>
            <a:off x="5724000" y="5570640"/>
            <a:ext cx="718920" cy="718920"/>
          </a:xfrm>
          <a:custGeom>
            <a:avLst/>
            <a:gdLst>
              <a:gd name="textAreaLeft" fmla="*/ 0 w 718920"/>
              <a:gd name="textAreaRight" fmla="*/ 719280 w 7189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438400" h="2438400">
                <a:moveTo>
                  <a:pt x="0" y="0"/>
                </a:moveTo>
                <a:lnTo>
                  <a:pt x="2438400" y="0"/>
                </a:lnTo>
                <a:lnTo>
                  <a:pt x="2438400" y="2438400"/>
                </a:lnTo>
                <a:lnTo>
                  <a:pt x="0" y="2438400"/>
                </a:lnTo>
                <a:lnTo>
                  <a:pt x="0" y="0"/>
                </a:lnTo>
                <a:close/>
                <a:moveTo>
                  <a:pt x="573024" y="86607"/>
                </a:moveTo>
                <a:lnTo>
                  <a:pt x="573024" y="537924"/>
                </a:lnTo>
                <a:lnTo>
                  <a:pt x="1865376" y="537924"/>
                </a:lnTo>
                <a:lnTo>
                  <a:pt x="1865376" y="86607"/>
                </a:lnTo>
                <a:lnTo>
                  <a:pt x="573024" y="86607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图片 34"/>
          <p:cNvSpPr/>
          <p:nvPr/>
        </p:nvSpPr>
        <p:spPr>
          <a:xfrm>
            <a:off x="5870520" y="3373920"/>
            <a:ext cx="426240" cy="148680"/>
          </a:xfrm>
          <a:custGeom>
            <a:avLst/>
            <a:gdLst>
              <a:gd name="textAreaLeft" fmla="*/ 0 w 426240"/>
              <a:gd name="textAreaRight" fmla="*/ 426600 w 426240"/>
              <a:gd name="textAreaTop" fmla="*/ 0 h 148680"/>
              <a:gd name="textAreaBottom" fmla="*/ 149040 h 148680"/>
            </a:gdLst>
            <a:ahLst/>
            <a:rect l="textAreaLeft" t="textAreaTop" r="textAreaRight" b="textAreaBottom"/>
            <a:pathLst>
              <a:path w="1292352" h="451317">
                <a:moveTo>
                  <a:pt x="0" y="0"/>
                </a:moveTo>
                <a:lnTo>
                  <a:pt x="1292352" y="0"/>
                </a:lnTo>
                <a:lnTo>
                  <a:pt x="1292352" y="451317"/>
                </a:lnTo>
                <a:lnTo>
                  <a:pt x="0" y="4513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图片 35"/>
          <p:cNvSpPr/>
          <p:nvPr/>
        </p:nvSpPr>
        <p:spPr>
          <a:xfrm>
            <a:off x="5870520" y="2268000"/>
            <a:ext cx="426240" cy="148680"/>
          </a:xfrm>
          <a:custGeom>
            <a:avLst/>
            <a:gdLst>
              <a:gd name="textAreaLeft" fmla="*/ 0 w 426240"/>
              <a:gd name="textAreaRight" fmla="*/ 426600 w 426240"/>
              <a:gd name="textAreaTop" fmla="*/ 0 h 148680"/>
              <a:gd name="textAreaBottom" fmla="*/ 149040 h 148680"/>
            </a:gdLst>
            <a:ahLst/>
            <a:rect l="textAreaLeft" t="textAreaTop" r="textAreaRight" b="textAreaBottom"/>
            <a:pathLst>
              <a:path w="1292352" h="451317">
                <a:moveTo>
                  <a:pt x="0" y="0"/>
                </a:moveTo>
                <a:lnTo>
                  <a:pt x="1292352" y="0"/>
                </a:lnTo>
                <a:lnTo>
                  <a:pt x="1292352" y="451317"/>
                </a:lnTo>
                <a:lnTo>
                  <a:pt x="0" y="4513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图片 36"/>
          <p:cNvSpPr/>
          <p:nvPr/>
        </p:nvSpPr>
        <p:spPr>
          <a:xfrm>
            <a:off x="5808960" y="5517360"/>
            <a:ext cx="549360" cy="191520"/>
          </a:xfrm>
          <a:custGeom>
            <a:avLst/>
            <a:gdLst>
              <a:gd name="textAreaLeft" fmla="*/ 0 w 549360"/>
              <a:gd name="textAreaRight" fmla="*/ 549720 w 549360"/>
              <a:gd name="textAreaTop" fmla="*/ 0 h 191520"/>
              <a:gd name="textAreaBottom" fmla="*/ 191880 h 191520"/>
            </a:gdLst>
            <a:ahLst/>
            <a:rect l="textAreaLeft" t="textAreaTop" r="textAreaRight" b="textAreaBottom"/>
            <a:pathLst>
              <a:path w="1292352" h="451317">
                <a:moveTo>
                  <a:pt x="0" y="0"/>
                </a:moveTo>
                <a:lnTo>
                  <a:pt x="1292352" y="0"/>
                </a:lnTo>
                <a:lnTo>
                  <a:pt x="1292352" y="451317"/>
                </a:lnTo>
                <a:lnTo>
                  <a:pt x="0" y="4513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图片 37"/>
          <p:cNvSpPr/>
          <p:nvPr/>
        </p:nvSpPr>
        <p:spPr>
          <a:xfrm>
            <a:off x="5808960" y="4410000"/>
            <a:ext cx="549360" cy="191520"/>
          </a:xfrm>
          <a:custGeom>
            <a:avLst/>
            <a:gdLst>
              <a:gd name="textAreaLeft" fmla="*/ 0 w 549360"/>
              <a:gd name="textAreaRight" fmla="*/ 549720 w 549360"/>
              <a:gd name="textAreaTop" fmla="*/ 0 h 191520"/>
              <a:gd name="textAreaBottom" fmla="*/ 191880 h 191520"/>
            </a:gdLst>
            <a:ahLst/>
            <a:rect l="textAreaLeft" t="textAreaTop" r="textAreaRight" b="textAreaBottom"/>
            <a:pathLst>
              <a:path w="1292352" h="451317">
                <a:moveTo>
                  <a:pt x="0" y="0"/>
                </a:moveTo>
                <a:lnTo>
                  <a:pt x="1292352" y="0"/>
                </a:lnTo>
                <a:lnTo>
                  <a:pt x="1292352" y="451317"/>
                </a:lnTo>
                <a:lnTo>
                  <a:pt x="0" y="4513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8"/>
          <p:cNvSpPr/>
          <p:nvPr/>
        </p:nvSpPr>
        <p:spPr>
          <a:xfrm>
            <a:off x="7895520" y="802440"/>
            <a:ext cx="1456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一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图像技术：二维码、图像识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9"/>
          <p:cNvSpPr/>
          <p:nvPr/>
        </p:nvSpPr>
        <p:spPr>
          <a:xfrm>
            <a:off x="7197480" y="1996560"/>
            <a:ext cx="1648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二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Tu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增强现实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40"/>
          <p:cNvSpPr/>
          <p:nvPr/>
        </p:nvSpPr>
        <p:spPr>
          <a:xfrm>
            <a:off x="7205040" y="3215880"/>
            <a:ext cx="2011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三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Wedn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近距离无线通信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41"/>
          <p:cNvSpPr/>
          <p:nvPr/>
        </p:nvSpPr>
        <p:spPr>
          <a:xfrm>
            <a:off x="7441560" y="4322880"/>
            <a:ext cx="1965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四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移动广播： </a:t>
            </a: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WI-FI </a:t>
            </a: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蓝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42"/>
          <p:cNvSpPr/>
          <p:nvPr/>
        </p:nvSpPr>
        <p:spPr>
          <a:xfrm>
            <a:off x="7380360" y="5595480"/>
            <a:ext cx="142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Verdana"/>
              </a:rPr>
              <a:t>星期五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住家以外的数位媒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442080" y="634752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4"/>
          <p:cNvSpPr/>
          <p:nvPr/>
        </p:nvSpPr>
        <p:spPr>
          <a:xfrm>
            <a:off x="4362120" y="3260880"/>
            <a:ext cx="6841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对于今后而言，不仅仅是移动营销，而且是整个营销在我们看来都将呈现三项关键的特性：移动性、社交性和环境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我们认为你需要将其融入到营销中的“四性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——便携性、接近性、偏好性以及存在性——和移动创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直接连接符 5"/>
          <p:cNvCxnSpPr/>
          <p:nvPr/>
        </p:nvCxnSpPr>
        <p:spPr>
          <a:xfrm flipH="1">
            <a:off x="3877200" y="0"/>
            <a:ext cx="1713600" cy="4342680"/>
          </a:xfrm>
          <a:prstGeom prst="straightConnector1">
            <a:avLst/>
          </a:prstGeom>
          <a:ln>
            <a:solidFill>
              <a:srgbClr val="d9d9d9"/>
            </a:solidFill>
          </a:ln>
        </p:spPr>
      </p:cxnSp>
      <p:sp>
        <p:nvSpPr>
          <p:cNvPr id="511" name="文本框 6"/>
          <p:cNvSpPr/>
          <p:nvPr/>
        </p:nvSpPr>
        <p:spPr>
          <a:xfrm>
            <a:off x="1677240" y="207792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7"/>
          <p:cNvSpPr/>
          <p:nvPr/>
        </p:nvSpPr>
        <p:spPr>
          <a:xfrm>
            <a:off x="2564640" y="302868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组合 29"/>
          <p:cNvGrpSpPr/>
          <p:nvPr/>
        </p:nvGrpSpPr>
        <p:grpSpPr>
          <a:xfrm>
            <a:off x="2303640" y="2569320"/>
            <a:ext cx="7461720" cy="2293920"/>
            <a:chOff x="2303640" y="2569320"/>
            <a:chExt cx="7461720" cy="2293920"/>
          </a:xfrm>
        </p:grpSpPr>
        <p:pic>
          <p:nvPicPr>
            <p:cNvPr id="514" name="图片 26" descr=""/>
            <p:cNvPicPr/>
            <p:nvPr/>
          </p:nvPicPr>
          <p:blipFill>
            <a:blip r:embed="rId1"/>
            <a:stretch/>
          </p:blipFill>
          <p:spPr>
            <a:xfrm>
              <a:off x="3418560" y="2569320"/>
              <a:ext cx="6346800" cy="22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图片 2" descr=""/>
            <p:cNvPicPr/>
            <p:nvPr/>
          </p:nvPicPr>
          <p:blipFill>
            <a:blip r:embed="rId2"/>
            <a:srcRect l="78589" t="0" r="0" b="0"/>
            <a:stretch/>
          </p:blipFill>
          <p:spPr>
            <a:xfrm>
              <a:off x="2303640" y="2913840"/>
              <a:ext cx="1365840" cy="1218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16" name="直接连接符 27"/>
            <p:cNvCxnSpPr/>
            <p:nvPr/>
          </p:nvCxnSpPr>
          <p:spPr>
            <a:xfrm>
              <a:off x="3682800" y="3128040"/>
              <a:ext cx="360" cy="936360"/>
            </a:xfrm>
            <a:prstGeom prst="straightConnector1">
              <a:avLst/>
            </a:prstGeom>
            <a:ln>
              <a:solidFill>
                <a:srgbClr val="00b5fe"/>
              </a:solidFill>
            </a:ln>
          </p:spPr>
        </p:cxnSp>
      </p:grpSp>
      <p:pic>
        <p:nvPicPr>
          <p:cNvPr id="517" name="图片 30" descr=""/>
          <p:cNvPicPr/>
          <p:nvPr/>
        </p:nvPicPr>
        <p:blipFill>
          <a:blip r:embed="rId3"/>
          <a:stretch/>
        </p:blipFill>
        <p:spPr>
          <a:xfrm>
            <a:off x="9738360" y="3179880"/>
            <a:ext cx="7412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15"/>
          <p:cNvGrpSpPr/>
          <p:nvPr/>
        </p:nvGrpSpPr>
        <p:grpSpPr>
          <a:xfrm>
            <a:off x="4230360" y="1487160"/>
            <a:ext cx="2369160" cy="1412640"/>
            <a:chOff x="4230360" y="1487160"/>
            <a:chExt cx="2369160" cy="1412640"/>
          </a:xfrm>
        </p:grpSpPr>
        <p:cxnSp>
          <p:nvCxnSpPr>
            <p:cNvPr id="139" name="直接连接符 11"/>
            <p:cNvCxnSpPr/>
            <p:nvPr/>
          </p:nvCxnSpPr>
          <p:spPr>
            <a:xfrm flipH="1">
              <a:off x="4230360" y="1499400"/>
              <a:ext cx="951480" cy="14007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140" name="直接连接符 12"/>
            <p:cNvCxnSpPr/>
            <p:nvPr/>
          </p:nvCxnSpPr>
          <p:spPr>
            <a:xfrm flipH="1">
              <a:off x="5181480" y="1487160"/>
              <a:ext cx="141840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</p:grpSp>
      <p:grpSp>
        <p:nvGrpSpPr>
          <p:cNvPr id="141" name="组合 16"/>
          <p:cNvGrpSpPr/>
          <p:nvPr/>
        </p:nvGrpSpPr>
        <p:grpSpPr>
          <a:xfrm>
            <a:off x="4960440" y="2478960"/>
            <a:ext cx="1931400" cy="841320"/>
            <a:chOff x="4960440" y="2478960"/>
            <a:chExt cx="1931400" cy="841320"/>
          </a:xfrm>
        </p:grpSpPr>
        <p:cxnSp>
          <p:nvCxnSpPr>
            <p:cNvPr id="142" name="直接连接符 17"/>
            <p:cNvCxnSpPr/>
            <p:nvPr/>
          </p:nvCxnSpPr>
          <p:spPr>
            <a:xfrm flipH="1">
              <a:off x="4960440" y="2491200"/>
              <a:ext cx="514080" cy="82944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143" name="直接连接符 18"/>
            <p:cNvCxnSpPr/>
            <p:nvPr/>
          </p:nvCxnSpPr>
          <p:spPr>
            <a:xfrm flipH="1">
              <a:off x="5474160" y="2478960"/>
              <a:ext cx="141804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</p:grpSp>
      <p:sp>
        <p:nvSpPr>
          <p:cNvPr id="144" name="等腰三角形 9"/>
          <p:cNvSpPr/>
          <p:nvPr/>
        </p:nvSpPr>
        <p:spPr>
          <a:xfrm rot="10800000">
            <a:off x="2297880" y="2839320"/>
            <a:ext cx="3267000" cy="4140720"/>
          </a:xfrm>
          <a:custGeom>
            <a:avLst/>
            <a:gdLst>
              <a:gd name="textAreaLeft" fmla="*/ 0 w 3267000"/>
              <a:gd name="textAreaRight" fmla="*/ 3267360 w 3267000"/>
              <a:gd name="textAreaTop" fmla="*/ 0 h 4140720"/>
              <a:gd name="textAreaBottom" fmla="*/ 4141080 h 4140720"/>
            </a:gdLst>
            <a:ahLst/>
            <a:rect l="textAreaLeft" t="textAreaTop" r="textAreaRight" b="textAreaBottom"/>
            <a:pathLst>
              <a:path w="3267456" h="4141057">
                <a:moveTo>
                  <a:pt x="0" y="4141057"/>
                </a:moveTo>
                <a:lnTo>
                  <a:pt x="3267456" y="0"/>
                </a:lnTo>
                <a:lnTo>
                  <a:pt x="1341120" y="4141057"/>
                </a:lnTo>
                <a:lnTo>
                  <a:pt x="0" y="4141057"/>
                </a:lnTo>
                <a:close/>
              </a:path>
            </a:pathLst>
          </a:custGeom>
          <a:solidFill>
            <a:srgbClr val="2fa1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5" name="任意多边形 6"/>
          <p:cNvSpPr/>
          <p:nvPr/>
        </p:nvSpPr>
        <p:spPr>
          <a:xfrm>
            <a:off x="-73080" y="0"/>
            <a:ext cx="4794120" cy="6901200"/>
          </a:xfrm>
          <a:custGeom>
            <a:avLst/>
            <a:gdLst>
              <a:gd name="textAreaLeft" fmla="*/ 0 w 4794120"/>
              <a:gd name="textAreaRight" fmla="*/ 4794480 w 4794120"/>
              <a:gd name="textAreaTop" fmla="*/ 0 h 6901200"/>
              <a:gd name="textAreaBottom" fmla="*/ 6901560 h 6901200"/>
            </a:gdLst>
            <a:ahLst/>
            <a:rect l="textAreaLeft" t="textAreaTop" r="textAreaRight" b="textAreaBottom"/>
            <a:pathLst>
              <a:path w="4741334" h="6886222">
                <a:moveTo>
                  <a:pt x="0" y="5192889"/>
                </a:moveTo>
                <a:lnTo>
                  <a:pt x="4741334" y="0"/>
                </a:lnTo>
                <a:lnTo>
                  <a:pt x="4481689" y="2833511"/>
                </a:lnTo>
                <a:lnTo>
                  <a:pt x="2359378" y="6886222"/>
                </a:lnTo>
                <a:lnTo>
                  <a:pt x="56445" y="6874934"/>
                </a:lnTo>
                <a:lnTo>
                  <a:pt x="0" y="5192889"/>
                </a:lnTo>
                <a:close/>
              </a:path>
            </a:pathLst>
          </a:custGeom>
          <a:solidFill>
            <a:srgbClr val="fd5b5f"/>
          </a:solidFill>
          <a:ln>
            <a:noFill/>
          </a:ln>
          <a:effectLst>
            <a:outerShdw algn="t" blurRad="50760" dir="5400000" dist="216000" rotWithShape="0">
              <a:srgbClr val="000000">
                <a:alpha val="7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146" name="组合 19"/>
          <p:cNvGrpSpPr/>
          <p:nvPr/>
        </p:nvGrpSpPr>
        <p:grpSpPr>
          <a:xfrm>
            <a:off x="5615640" y="3501000"/>
            <a:ext cx="1795320" cy="652320"/>
            <a:chOff x="5615640" y="3501000"/>
            <a:chExt cx="1795320" cy="652320"/>
          </a:xfrm>
        </p:grpSpPr>
        <p:cxnSp>
          <p:nvCxnSpPr>
            <p:cNvPr id="147" name="直接连接符 20"/>
            <p:cNvCxnSpPr/>
            <p:nvPr/>
          </p:nvCxnSpPr>
          <p:spPr>
            <a:xfrm flipH="1">
              <a:off x="5615640" y="3512880"/>
              <a:ext cx="417240" cy="64080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148" name="直接连接符 21"/>
            <p:cNvCxnSpPr/>
            <p:nvPr/>
          </p:nvCxnSpPr>
          <p:spPr>
            <a:xfrm flipH="1">
              <a:off x="6032520" y="3501000"/>
              <a:ext cx="137880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</p:grpSp>
      <p:grpSp>
        <p:nvGrpSpPr>
          <p:cNvPr id="149" name="组合 22"/>
          <p:cNvGrpSpPr/>
          <p:nvPr/>
        </p:nvGrpSpPr>
        <p:grpSpPr>
          <a:xfrm>
            <a:off x="5059440" y="4653360"/>
            <a:ext cx="2762280" cy="2204640"/>
            <a:chOff x="5059440" y="4653360"/>
            <a:chExt cx="2762280" cy="2204640"/>
          </a:xfrm>
        </p:grpSpPr>
        <p:cxnSp>
          <p:nvCxnSpPr>
            <p:cNvPr id="150" name="直接连接符 23"/>
            <p:cNvCxnSpPr/>
            <p:nvPr/>
          </p:nvCxnSpPr>
          <p:spPr>
            <a:xfrm flipH="1">
              <a:off x="5059440" y="4665600"/>
              <a:ext cx="1344600" cy="21927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151" name="直接连接符 24"/>
            <p:cNvCxnSpPr/>
            <p:nvPr/>
          </p:nvCxnSpPr>
          <p:spPr>
            <a:xfrm flipH="1">
              <a:off x="6403680" y="4653360"/>
              <a:ext cx="141840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</p:grpSp>
      <p:sp>
        <p:nvSpPr>
          <p:cNvPr id="152" name="文本框 28"/>
          <p:cNvSpPr/>
          <p:nvPr/>
        </p:nvSpPr>
        <p:spPr>
          <a:xfrm>
            <a:off x="7788960" y="1230840"/>
            <a:ext cx="100404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808080"/>
                </a:solidFill>
                <a:latin typeface="Verdana"/>
              </a:rPr>
              <a:t>开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你的移动战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36"/>
          <p:cNvGrpSpPr/>
          <p:nvPr/>
        </p:nvGrpSpPr>
        <p:grpSpPr>
          <a:xfrm>
            <a:off x="6466680" y="1079640"/>
            <a:ext cx="1039680" cy="1039680"/>
            <a:chOff x="6466680" y="1079640"/>
            <a:chExt cx="1039680" cy="1039680"/>
          </a:xfrm>
        </p:grpSpPr>
        <p:pic>
          <p:nvPicPr>
            <p:cNvPr id="154" name="图片 33" descr=""/>
            <p:cNvPicPr/>
            <p:nvPr/>
          </p:nvPicPr>
          <p:blipFill>
            <a:blip r:embed="rId1"/>
            <a:stretch/>
          </p:blipFill>
          <p:spPr>
            <a:xfrm>
              <a:off x="6466680" y="107964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34"/>
            <p:cNvSpPr/>
            <p:nvPr/>
          </p:nvSpPr>
          <p:spPr>
            <a:xfrm>
              <a:off x="6737040" y="1269720"/>
              <a:ext cx="486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35"/>
            <p:cNvSpPr/>
            <p:nvPr/>
          </p:nvSpPr>
          <p:spPr>
            <a:xfrm>
              <a:off x="6788880" y="1403280"/>
              <a:ext cx="32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a6a6a6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37"/>
          <p:cNvGrpSpPr/>
          <p:nvPr/>
        </p:nvGrpSpPr>
        <p:grpSpPr>
          <a:xfrm>
            <a:off x="6789240" y="2133720"/>
            <a:ext cx="1039680" cy="1039680"/>
            <a:chOff x="6789240" y="2133720"/>
            <a:chExt cx="1039680" cy="1039680"/>
          </a:xfrm>
        </p:grpSpPr>
        <p:pic>
          <p:nvPicPr>
            <p:cNvPr id="158" name="图片 38" descr=""/>
            <p:cNvPicPr/>
            <p:nvPr/>
          </p:nvPicPr>
          <p:blipFill>
            <a:blip r:embed="rId2"/>
            <a:stretch/>
          </p:blipFill>
          <p:spPr>
            <a:xfrm>
              <a:off x="6789240" y="213372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39"/>
            <p:cNvSpPr/>
            <p:nvPr/>
          </p:nvSpPr>
          <p:spPr>
            <a:xfrm>
              <a:off x="7059600" y="2323800"/>
              <a:ext cx="486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40"/>
            <p:cNvSpPr/>
            <p:nvPr/>
          </p:nvSpPr>
          <p:spPr>
            <a:xfrm>
              <a:off x="7111440" y="2457360"/>
              <a:ext cx="32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a6a6a6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41"/>
          <p:cNvGrpSpPr/>
          <p:nvPr/>
        </p:nvGrpSpPr>
        <p:grpSpPr>
          <a:xfrm>
            <a:off x="7265520" y="3113280"/>
            <a:ext cx="1039680" cy="1039680"/>
            <a:chOff x="7265520" y="3113280"/>
            <a:chExt cx="1039680" cy="1039680"/>
          </a:xfrm>
        </p:grpSpPr>
        <p:pic>
          <p:nvPicPr>
            <p:cNvPr id="162" name="图片 42" descr=""/>
            <p:cNvPicPr/>
            <p:nvPr/>
          </p:nvPicPr>
          <p:blipFill>
            <a:blip r:embed="rId3"/>
            <a:stretch/>
          </p:blipFill>
          <p:spPr>
            <a:xfrm>
              <a:off x="7265520" y="311328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文本框 43"/>
            <p:cNvSpPr/>
            <p:nvPr/>
          </p:nvSpPr>
          <p:spPr>
            <a:xfrm>
              <a:off x="7535880" y="3303360"/>
              <a:ext cx="486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44"/>
            <p:cNvSpPr/>
            <p:nvPr/>
          </p:nvSpPr>
          <p:spPr>
            <a:xfrm>
              <a:off x="7587720" y="3437280"/>
              <a:ext cx="32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a6a6a6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45"/>
          <p:cNvGrpSpPr/>
          <p:nvPr/>
        </p:nvGrpSpPr>
        <p:grpSpPr>
          <a:xfrm>
            <a:off x="7723800" y="4267800"/>
            <a:ext cx="1039680" cy="1039680"/>
            <a:chOff x="7723800" y="4267800"/>
            <a:chExt cx="1039680" cy="1039680"/>
          </a:xfrm>
        </p:grpSpPr>
        <p:pic>
          <p:nvPicPr>
            <p:cNvPr id="166" name="图片 46" descr=""/>
            <p:cNvPicPr/>
            <p:nvPr/>
          </p:nvPicPr>
          <p:blipFill>
            <a:blip r:embed="rId4"/>
            <a:stretch/>
          </p:blipFill>
          <p:spPr>
            <a:xfrm>
              <a:off x="7723800" y="426780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47"/>
            <p:cNvSpPr/>
            <p:nvPr/>
          </p:nvSpPr>
          <p:spPr>
            <a:xfrm>
              <a:off x="7994520" y="4457880"/>
              <a:ext cx="486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48"/>
            <p:cNvSpPr/>
            <p:nvPr/>
          </p:nvSpPr>
          <p:spPr>
            <a:xfrm>
              <a:off x="8046000" y="4591440"/>
              <a:ext cx="32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a6a6a6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49"/>
          <p:cNvSpPr/>
          <p:nvPr/>
        </p:nvSpPr>
        <p:spPr>
          <a:xfrm>
            <a:off x="8194320" y="2256120"/>
            <a:ext cx="100404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808080"/>
                </a:solidFill>
                <a:latin typeface="Verdana"/>
              </a:rPr>
              <a:t>短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从简单处入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50"/>
          <p:cNvSpPr/>
          <p:nvPr/>
        </p:nvSpPr>
        <p:spPr>
          <a:xfrm>
            <a:off x="8760600" y="3252240"/>
            <a:ext cx="168984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Verdana"/>
              </a:rPr>
              <a:t>最大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通过移动网站实现覆盖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51"/>
          <p:cNvSpPr/>
          <p:nvPr/>
        </p:nvSpPr>
        <p:spPr>
          <a:xfrm>
            <a:off x="9120960" y="4419000"/>
            <a:ext cx="127836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808080"/>
                </a:solidFill>
                <a:latin typeface="Verdana"/>
              </a:rPr>
              <a:t>最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使用移动应用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55"/>
          <p:cNvGrpSpPr/>
          <p:nvPr/>
        </p:nvGrpSpPr>
        <p:grpSpPr>
          <a:xfrm>
            <a:off x="3542760" y="4121280"/>
            <a:ext cx="2306880" cy="2180520"/>
            <a:chOff x="3542760" y="4121280"/>
            <a:chExt cx="2306880" cy="2180520"/>
          </a:xfrm>
        </p:grpSpPr>
        <p:sp>
          <p:nvSpPr>
            <p:cNvPr id="173" name="文本框 53"/>
            <p:cNvSpPr/>
            <p:nvPr/>
          </p:nvSpPr>
          <p:spPr>
            <a:xfrm rot="18480000">
              <a:off x="3360240" y="5192640"/>
              <a:ext cx="18817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808080"/>
                  </a:solidFill>
                  <a:latin typeface="Verdana"/>
                </a:rPr>
                <a:t>40</a:t>
              </a:r>
              <a:r>
                <a:rPr b="0" lang="zh-CN" sz="2400" spc="-1" strike="noStrike">
                  <a:solidFill>
                    <a:srgbClr val="808080"/>
                  </a:solidFill>
                  <a:latin typeface="Verdana"/>
                </a:rPr>
                <a:t>天玩转移动营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54"/>
            <p:cNvSpPr/>
            <p:nvPr/>
          </p:nvSpPr>
          <p:spPr>
            <a:xfrm rot="18480000">
              <a:off x="4997160" y="4315320"/>
              <a:ext cx="77400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d5b5f"/>
                  </a:solidFill>
                  <a:latin typeface="Verdana"/>
                </a:rPr>
                <a:t>目 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52"/>
          <p:cNvGrpSpPr/>
          <p:nvPr/>
        </p:nvGrpSpPr>
        <p:grpSpPr>
          <a:xfrm>
            <a:off x="748080" y="5471640"/>
            <a:ext cx="1702080" cy="912600"/>
            <a:chOff x="748080" y="5471640"/>
            <a:chExt cx="1702080" cy="912600"/>
          </a:xfrm>
        </p:grpSpPr>
        <p:sp>
          <p:nvSpPr>
            <p:cNvPr id="176" name="文本框 56"/>
            <p:cNvSpPr/>
            <p:nvPr/>
          </p:nvSpPr>
          <p:spPr>
            <a:xfrm>
              <a:off x="1008360" y="5610240"/>
              <a:ext cx="10040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r>
                <a:rPr b="0" lang="zh-CN" sz="1800" spc="-1" strike="noStrike">
                  <a:solidFill>
                    <a:srgbClr val="ffffff"/>
                  </a:solidFill>
                  <a:latin typeface="Verdana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</a:rPr>
                <a:t>玩转移动营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57"/>
            <p:cNvSpPr/>
            <p:nvPr/>
          </p:nvSpPr>
          <p:spPr>
            <a:xfrm>
              <a:off x="748080" y="5471640"/>
              <a:ext cx="17020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ffffff"/>
                  </a:solidFill>
                  <a:latin typeface="Verdana"/>
                </a:rPr>
                <a:t>[     ]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5"/>
          <p:cNvGrpSpPr/>
          <p:nvPr/>
        </p:nvGrpSpPr>
        <p:grpSpPr>
          <a:xfrm>
            <a:off x="4230360" y="1487160"/>
            <a:ext cx="2369160" cy="1412640"/>
            <a:chOff x="4230360" y="1487160"/>
            <a:chExt cx="2369160" cy="1412640"/>
          </a:xfrm>
        </p:grpSpPr>
        <p:cxnSp>
          <p:nvCxnSpPr>
            <p:cNvPr id="179" name="直接连接符 11"/>
            <p:cNvCxnSpPr/>
            <p:nvPr/>
          </p:nvCxnSpPr>
          <p:spPr>
            <a:xfrm flipH="1">
              <a:off x="4230360" y="1499400"/>
              <a:ext cx="951480" cy="14007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180" name="直接连接符 12"/>
            <p:cNvCxnSpPr/>
            <p:nvPr/>
          </p:nvCxnSpPr>
          <p:spPr>
            <a:xfrm flipH="1">
              <a:off x="5181480" y="1487160"/>
              <a:ext cx="141840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</p:grpSp>
      <p:grpSp>
        <p:nvGrpSpPr>
          <p:cNvPr id="181" name="组合 16"/>
          <p:cNvGrpSpPr/>
          <p:nvPr/>
        </p:nvGrpSpPr>
        <p:grpSpPr>
          <a:xfrm>
            <a:off x="4960440" y="2478960"/>
            <a:ext cx="1931400" cy="841320"/>
            <a:chOff x="4960440" y="2478960"/>
            <a:chExt cx="1931400" cy="841320"/>
          </a:xfrm>
        </p:grpSpPr>
        <p:cxnSp>
          <p:nvCxnSpPr>
            <p:cNvPr id="182" name="直接连接符 17"/>
            <p:cNvCxnSpPr/>
            <p:nvPr/>
          </p:nvCxnSpPr>
          <p:spPr>
            <a:xfrm flipH="1">
              <a:off x="4960440" y="2491200"/>
              <a:ext cx="514080" cy="82944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183" name="直接连接符 18"/>
            <p:cNvCxnSpPr/>
            <p:nvPr/>
          </p:nvCxnSpPr>
          <p:spPr>
            <a:xfrm flipH="1">
              <a:off x="5474160" y="2478960"/>
              <a:ext cx="141804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</p:grpSp>
      <p:grpSp>
        <p:nvGrpSpPr>
          <p:cNvPr id="184" name="组合 1"/>
          <p:cNvGrpSpPr/>
          <p:nvPr/>
        </p:nvGrpSpPr>
        <p:grpSpPr>
          <a:xfrm>
            <a:off x="-131760" y="-169200"/>
            <a:ext cx="5638320" cy="6979320"/>
            <a:chOff x="-131760" y="-169200"/>
            <a:chExt cx="5638320" cy="6979320"/>
          </a:xfrm>
        </p:grpSpPr>
        <p:sp>
          <p:nvSpPr>
            <p:cNvPr id="185" name="等腰三角形 9"/>
            <p:cNvSpPr/>
            <p:nvPr/>
          </p:nvSpPr>
          <p:spPr>
            <a:xfrm flipV="1" rot="10800000">
              <a:off x="2239560" y="-169200"/>
              <a:ext cx="3267000" cy="414072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360 h 4140720"/>
                <a:gd name="textAreaBottom" fmla="*/ 4141440 h 4140720"/>
              </a:gdLst>
              <a:ahLst/>
              <a:rect l="textAreaLeft" t="textAreaTop" r="textAreaRight" b="textAreaBottom"/>
              <a:pathLst>
                <a:path w="3267456" h="4141057">
                  <a:moveTo>
                    <a:pt x="0" y="4141057"/>
                  </a:moveTo>
                  <a:lnTo>
                    <a:pt x="3267456" y="0"/>
                  </a:lnTo>
                  <a:lnTo>
                    <a:pt x="1341120" y="4141057"/>
                  </a:lnTo>
                  <a:lnTo>
                    <a:pt x="0" y="4141057"/>
                  </a:lnTo>
                  <a:close/>
                </a:path>
              </a:pathLst>
            </a:custGeom>
            <a:solidFill>
              <a:srgbClr val="2fa1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86" name="任意多边形 6"/>
            <p:cNvSpPr/>
            <p:nvPr/>
          </p:nvSpPr>
          <p:spPr>
            <a:xfrm flipV="1">
              <a:off x="-131400" y="-91080"/>
              <a:ext cx="4794120" cy="6901200"/>
            </a:xfrm>
            <a:custGeom>
              <a:avLst/>
              <a:gdLst>
                <a:gd name="textAreaLeft" fmla="*/ 0 w 4794120"/>
                <a:gd name="textAreaRight" fmla="*/ 4794480 w 4794120"/>
                <a:gd name="textAreaTop" fmla="*/ 360 h 6901200"/>
                <a:gd name="textAreaBottom" fmla="*/ 6901920 h 6901200"/>
              </a:gdLst>
              <a:ahLst/>
              <a:rect l="textAreaLeft" t="textAreaTop" r="textAreaRight" b="textAreaBottom"/>
              <a:pathLst>
                <a:path w="4741334" h="6886222">
                  <a:moveTo>
                    <a:pt x="0" y="5192889"/>
                  </a:moveTo>
                  <a:lnTo>
                    <a:pt x="4741334" y="0"/>
                  </a:lnTo>
                  <a:lnTo>
                    <a:pt x="4481689" y="2833511"/>
                  </a:lnTo>
                  <a:lnTo>
                    <a:pt x="2359378" y="6886222"/>
                  </a:lnTo>
                  <a:lnTo>
                    <a:pt x="56445" y="6874934"/>
                  </a:lnTo>
                  <a:lnTo>
                    <a:pt x="0" y="5192889"/>
                  </a:lnTo>
                  <a:close/>
                </a:path>
              </a:pathLst>
            </a:custGeom>
            <a:solidFill>
              <a:srgbClr val="fd5b5f"/>
            </a:solidFill>
            <a:ln>
              <a:noFill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grpSp>
        <p:nvGrpSpPr>
          <p:cNvPr id="187" name="组合 19"/>
          <p:cNvGrpSpPr/>
          <p:nvPr/>
        </p:nvGrpSpPr>
        <p:grpSpPr>
          <a:xfrm>
            <a:off x="4565520" y="3501000"/>
            <a:ext cx="2845440" cy="2260800"/>
            <a:chOff x="4565520" y="3501000"/>
            <a:chExt cx="2845440" cy="2260800"/>
          </a:xfrm>
        </p:grpSpPr>
        <p:cxnSp>
          <p:nvCxnSpPr>
            <p:cNvPr id="188" name="直接连接符 20"/>
            <p:cNvCxnSpPr/>
            <p:nvPr/>
          </p:nvCxnSpPr>
          <p:spPr>
            <a:xfrm flipH="1">
              <a:off x="4565520" y="3512880"/>
              <a:ext cx="1467360" cy="224928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189" name="直接连接符 21"/>
            <p:cNvCxnSpPr/>
            <p:nvPr/>
          </p:nvCxnSpPr>
          <p:spPr>
            <a:xfrm flipH="1">
              <a:off x="6032520" y="3501000"/>
              <a:ext cx="137880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</p:grpSp>
      <p:grpSp>
        <p:nvGrpSpPr>
          <p:cNvPr id="190" name="组合 22"/>
          <p:cNvGrpSpPr/>
          <p:nvPr/>
        </p:nvGrpSpPr>
        <p:grpSpPr>
          <a:xfrm>
            <a:off x="5059440" y="4653360"/>
            <a:ext cx="2762280" cy="2204640"/>
            <a:chOff x="5059440" y="4653360"/>
            <a:chExt cx="2762280" cy="2204640"/>
          </a:xfrm>
        </p:grpSpPr>
        <p:cxnSp>
          <p:nvCxnSpPr>
            <p:cNvPr id="191" name="直接连接符 23"/>
            <p:cNvCxnSpPr/>
            <p:nvPr/>
          </p:nvCxnSpPr>
          <p:spPr>
            <a:xfrm flipH="1">
              <a:off x="5059440" y="4665600"/>
              <a:ext cx="1344600" cy="21927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cxnSp>
          <p:nvCxnSpPr>
            <p:cNvPr id="192" name="直接连接符 24"/>
            <p:cNvCxnSpPr/>
            <p:nvPr/>
          </p:nvCxnSpPr>
          <p:spPr>
            <a:xfrm flipH="1">
              <a:off x="6403680" y="4653360"/>
              <a:ext cx="1418400" cy="360"/>
            </a:xfrm>
            <a:prstGeom prst="straightConnector1">
              <a:avLst/>
            </a:prstGeom>
            <a:ln w="9525">
              <a:solidFill>
                <a:srgbClr val="ffffff">
                  <a:lumMod val="65000"/>
                </a:srgbClr>
              </a:solidFill>
              <a:prstDash val="dash"/>
            </a:ln>
          </p:spPr>
        </p:cxnSp>
      </p:grpSp>
      <p:sp>
        <p:nvSpPr>
          <p:cNvPr id="193" name="文本框 28"/>
          <p:cNvSpPr/>
          <p:nvPr/>
        </p:nvSpPr>
        <p:spPr>
          <a:xfrm>
            <a:off x="7788960" y="1307160"/>
            <a:ext cx="100404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Verdana"/>
              </a:rPr>
              <a:t>推广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通过移动广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36"/>
          <p:cNvGrpSpPr/>
          <p:nvPr/>
        </p:nvGrpSpPr>
        <p:grpSpPr>
          <a:xfrm>
            <a:off x="6466680" y="1079640"/>
            <a:ext cx="1039680" cy="1039680"/>
            <a:chOff x="6466680" y="1079640"/>
            <a:chExt cx="1039680" cy="1039680"/>
          </a:xfrm>
        </p:grpSpPr>
        <p:pic>
          <p:nvPicPr>
            <p:cNvPr id="195" name="图片 33" descr=""/>
            <p:cNvPicPr/>
            <p:nvPr/>
          </p:nvPicPr>
          <p:blipFill>
            <a:blip r:embed="rId1"/>
            <a:stretch/>
          </p:blipFill>
          <p:spPr>
            <a:xfrm>
              <a:off x="6466680" y="107964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文本框 34"/>
            <p:cNvSpPr/>
            <p:nvPr/>
          </p:nvSpPr>
          <p:spPr>
            <a:xfrm>
              <a:off x="6737040" y="1269720"/>
              <a:ext cx="486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35"/>
            <p:cNvSpPr/>
            <p:nvPr/>
          </p:nvSpPr>
          <p:spPr>
            <a:xfrm>
              <a:off x="6788880" y="1403280"/>
              <a:ext cx="32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a6a6a6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37"/>
          <p:cNvGrpSpPr/>
          <p:nvPr/>
        </p:nvGrpSpPr>
        <p:grpSpPr>
          <a:xfrm>
            <a:off x="6789240" y="2133720"/>
            <a:ext cx="1039680" cy="1039680"/>
            <a:chOff x="6789240" y="2133720"/>
            <a:chExt cx="1039680" cy="1039680"/>
          </a:xfrm>
        </p:grpSpPr>
        <p:pic>
          <p:nvPicPr>
            <p:cNvPr id="199" name="图片 38" descr=""/>
            <p:cNvPicPr/>
            <p:nvPr/>
          </p:nvPicPr>
          <p:blipFill>
            <a:blip r:embed="rId2"/>
            <a:stretch/>
          </p:blipFill>
          <p:spPr>
            <a:xfrm>
              <a:off x="6789240" y="213372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文本框 39"/>
            <p:cNvSpPr/>
            <p:nvPr/>
          </p:nvSpPr>
          <p:spPr>
            <a:xfrm>
              <a:off x="7059600" y="2323800"/>
              <a:ext cx="486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0"/>
            <p:cNvSpPr/>
            <p:nvPr/>
          </p:nvSpPr>
          <p:spPr>
            <a:xfrm>
              <a:off x="7111440" y="2457360"/>
              <a:ext cx="32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a6a6a6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1"/>
          <p:cNvGrpSpPr/>
          <p:nvPr/>
        </p:nvGrpSpPr>
        <p:grpSpPr>
          <a:xfrm>
            <a:off x="7265520" y="3113280"/>
            <a:ext cx="1039680" cy="1039680"/>
            <a:chOff x="7265520" y="3113280"/>
            <a:chExt cx="1039680" cy="1039680"/>
          </a:xfrm>
        </p:grpSpPr>
        <p:pic>
          <p:nvPicPr>
            <p:cNvPr id="203" name="图片 42" descr=""/>
            <p:cNvPicPr/>
            <p:nvPr/>
          </p:nvPicPr>
          <p:blipFill>
            <a:blip r:embed="rId3"/>
            <a:stretch/>
          </p:blipFill>
          <p:spPr>
            <a:xfrm>
              <a:off x="7265520" y="311328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文本框 43"/>
            <p:cNvSpPr/>
            <p:nvPr/>
          </p:nvSpPr>
          <p:spPr>
            <a:xfrm>
              <a:off x="7535880" y="3303360"/>
              <a:ext cx="486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44"/>
            <p:cNvSpPr/>
            <p:nvPr/>
          </p:nvSpPr>
          <p:spPr>
            <a:xfrm>
              <a:off x="7587720" y="3437280"/>
              <a:ext cx="32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a6a6a6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5"/>
          <p:cNvGrpSpPr/>
          <p:nvPr/>
        </p:nvGrpSpPr>
        <p:grpSpPr>
          <a:xfrm>
            <a:off x="7723800" y="4267800"/>
            <a:ext cx="1039680" cy="1039680"/>
            <a:chOff x="7723800" y="4267800"/>
            <a:chExt cx="1039680" cy="1039680"/>
          </a:xfrm>
        </p:grpSpPr>
        <p:pic>
          <p:nvPicPr>
            <p:cNvPr id="207" name="图片 46" descr=""/>
            <p:cNvPicPr/>
            <p:nvPr/>
          </p:nvPicPr>
          <p:blipFill>
            <a:blip r:embed="rId4"/>
            <a:stretch/>
          </p:blipFill>
          <p:spPr>
            <a:xfrm>
              <a:off x="7723800" y="426780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文本框 47"/>
            <p:cNvSpPr/>
            <p:nvPr/>
          </p:nvSpPr>
          <p:spPr>
            <a:xfrm>
              <a:off x="7994520" y="4457880"/>
              <a:ext cx="486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48"/>
            <p:cNvSpPr/>
            <p:nvPr/>
          </p:nvSpPr>
          <p:spPr>
            <a:xfrm>
              <a:off x="8046000" y="4591440"/>
              <a:ext cx="32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a6a6a6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文本框 49"/>
          <p:cNvSpPr/>
          <p:nvPr/>
        </p:nvSpPr>
        <p:spPr>
          <a:xfrm>
            <a:off x="9261360" y="2294280"/>
            <a:ext cx="486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Verdana"/>
              </a:rPr>
              <a:t>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利用社交性、本地性、移动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50"/>
          <p:cNvSpPr/>
          <p:nvPr/>
        </p:nvSpPr>
        <p:spPr>
          <a:xfrm>
            <a:off x="8526600" y="3341160"/>
            <a:ext cx="100404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Verdana"/>
              </a:rPr>
              <a:t>聚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移动电子商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51"/>
          <p:cNvSpPr/>
          <p:nvPr/>
        </p:nvSpPr>
        <p:spPr>
          <a:xfrm>
            <a:off x="8933760" y="4495320"/>
            <a:ext cx="729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Verdana"/>
              </a:rPr>
              <a:t>重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Verdana"/>
              </a:rPr>
              <a:t>环境媒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55"/>
          <p:cNvGrpSpPr/>
          <p:nvPr/>
        </p:nvGrpSpPr>
        <p:grpSpPr>
          <a:xfrm>
            <a:off x="932760" y="3572640"/>
            <a:ext cx="1908720" cy="2527920"/>
            <a:chOff x="932760" y="3572640"/>
            <a:chExt cx="1908720" cy="2527920"/>
          </a:xfrm>
        </p:grpSpPr>
        <p:sp>
          <p:nvSpPr>
            <p:cNvPr id="214" name="文本框 53"/>
            <p:cNvSpPr/>
            <p:nvPr/>
          </p:nvSpPr>
          <p:spPr>
            <a:xfrm rot="2842800">
              <a:off x="796680" y="4191120"/>
              <a:ext cx="1881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808080"/>
                  </a:solidFill>
                  <a:latin typeface="Verdana"/>
                </a:rPr>
                <a:t>40</a:t>
              </a:r>
              <a:r>
                <a:rPr b="0" lang="zh-CN" sz="2400" spc="-1" strike="noStrike">
                  <a:solidFill>
                    <a:srgbClr val="808080"/>
                  </a:solidFill>
                  <a:latin typeface="Verdana"/>
                </a:rPr>
                <a:t>天玩转移动营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54"/>
            <p:cNvSpPr/>
            <p:nvPr/>
          </p:nvSpPr>
          <p:spPr>
            <a:xfrm rot="2842800">
              <a:off x="1979640" y="5331600"/>
              <a:ext cx="77400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d5b5f"/>
                  </a:solidFill>
                  <a:latin typeface="Verdana"/>
                </a:rPr>
                <a:t>目 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52"/>
          <p:cNvGrpSpPr/>
          <p:nvPr/>
        </p:nvGrpSpPr>
        <p:grpSpPr>
          <a:xfrm>
            <a:off x="427680" y="0"/>
            <a:ext cx="1702080" cy="912600"/>
            <a:chOff x="427680" y="0"/>
            <a:chExt cx="1702080" cy="912600"/>
          </a:xfrm>
        </p:grpSpPr>
        <p:sp>
          <p:nvSpPr>
            <p:cNvPr id="217" name="文本框 56"/>
            <p:cNvSpPr/>
            <p:nvPr/>
          </p:nvSpPr>
          <p:spPr>
            <a:xfrm>
              <a:off x="687960" y="138600"/>
              <a:ext cx="10040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r>
                <a:rPr b="0" lang="zh-CN" sz="1800" spc="-1" strike="noStrike">
                  <a:solidFill>
                    <a:srgbClr val="ffffff"/>
                  </a:solidFill>
                  <a:latin typeface="Verdana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</a:rPr>
                <a:t>玩转移动营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57"/>
            <p:cNvSpPr/>
            <p:nvPr/>
          </p:nvSpPr>
          <p:spPr>
            <a:xfrm>
              <a:off x="427680" y="0"/>
              <a:ext cx="17020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ffffff"/>
                  </a:solidFill>
                  <a:latin typeface="Verdana"/>
                </a:rPr>
                <a:t>[     ]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椭圆 205"/>
          <p:cNvSpPr/>
          <p:nvPr/>
        </p:nvSpPr>
        <p:spPr>
          <a:xfrm>
            <a:off x="8717400" y="3196440"/>
            <a:ext cx="848880" cy="848880"/>
          </a:xfrm>
          <a:prstGeom prst="ellipse">
            <a:avLst/>
          </a:prstGeom>
          <a:solidFill>
            <a:srgbClr val="2fa1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0" name="椭圆 206"/>
          <p:cNvSpPr/>
          <p:nvPr/>
        </p:nvSpPr>
        <p:spPr>
          <a:xfrm>
            <a:off x="8717400" y="4200120"/>
            <a:ext cx="848880" cy="848880"/>
          </a:xfrm>
          <a:prstGeom prst="ellipse">
            <a:avLst/>
          </a:prstGeom>
          <a:solidFill>
            <a:srgbClr val="2fa1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221" name="组合 208"/>
          <p:cNvGrpSpPr/>
          <p:nvPr/>
        </p:nvGrpSpPr>
        <p:grpSpPr>
          <a:xfrm>
            <a:off x="1072440" y="2275560"/>
            <a:ext cx="1997280" cy="2176200"/>
            <a:chOff x="1072440" y="2275560"/>
            <a:chExt cx="1997280" cy="2176200"/>
          </a:xfrm>
        </p:grpSpPr>
        <p:grpSp>
          <p:nvGrpSpPr>
            <p:cNvPr id="222" name="组合 196"/>
            <p:cNvGrpSpPr/>
            <p:nvPr/>
          </p:nvGrpSpPr>
          <p:grpSpPr>
            <a:xfrm>
              <a:off x="1072440" y="2275560"/>
              <a:ext cx="1341720" cy="2164320"/>
              <a:chOff x="1072440" y="2275560"/>
              <a:chExt cx="1341720" cy="2164320"/>
            </a:xfrm>
          </p:grpSpPr>
          <p:sp>
            <p:nvSpPr>
              <p:cNvPr id="223" name="文本框 187"/>
              <p:cNvSpPr/>
              <p:nvPr/>
            </p:nvSpPr>
            <p:spPr>
              <a:xfrm>
                <a:off x="1882080" y="2522880"/>
                <a:ext cx="532080" cy="8611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861120"/>
                  <a:gd name="textAreaBottom" fmla="*/ 861480 h 861120"/>
                </a:gdLst>
                <a:ahLst/>
                <a:rect l="textAreaLeft" t="textAreaTop" r="textAreaRight" b="textAreaBottom"/>
                <a:pathLst>
                  <a:path w="532498" h="861460">
                    <a:moveTo>
                      <a:pt x="375478" y="0"/>
                    </a:moveTo>
                    <a:lnTo>
                      <a:pt x="420493" y="33112"/>
                    </a:lnTo>
                    <a:cubicBezTo>
                      <a:pt x="435211" y="47309"/>
                      <a:pt x="448539" y="63857"/>
                      <a:pt x="460478" y="82756"/>
                    </a:cubicBezTo>
                    <a:cubicBezTo>
                      <a:pt x="508236" y="158351"/>
                      <a:pt x="532242" y="269329"/>
                      <a:pt x="532498" y="415690"/>
                    </a:cubicBezTo>
                    <a:lnTo>
                      <a:pt x="532498" y="416805"/>
                    </a:lnTo>
                    <a:cubicBezTo>
                      <a:pt x="532242" y="561610"/>
                      <a:pt x="508236" y="671799"/>
                      <a:pt x="460478" y="747371"/>
                    </a:cubicBezTo>
                    <a:cubicBezTo>
                      <a:pt x="412720" y="822943"/>
                      <a:pt x="342743" y="860973"/>
                      <a:pt x="250548" y="861460"/>
                    </a:cubicBezTo>
                    <a:cubicBezTo>
                      <a:pt x="157912" y="860996"/>
                      <a:pt x="87981" y="822920"/>
                      <a:pt x="40758" y="747232"/>
                    </a:cubicBezTo>
                    <a:cubicBezTo>
                      <a:pt x="28952" y="728310"/>
                      <a:pt x="18618" y="707211"/>
                      <a:pt x="9754" y="683936"/>
                    </a:cubicBezTo>
                    <a:lnTo>
                      <a:pt x="0" y="650347"/>
                    </a:lnTo>
                    <a:lnTo>
                      <a:pt x="51287" y="561515"/>
                    </a:lnTo>
                    <a:lnTo>
                      <a:pt x="54810" y="588896"/>
                    </a:lnTo>
                    <a:cubicBezTo>
                      <a:pt x="63841" y="637397"/>
                      <a:pt x="77313" y="677035"/>
                      <a:pt x="95225" y="707809"/>
                    </a:cubicBezTo>
                    <a:cubicBezTo>
                      <a:pt x="131049" y="769358"/>
                      <a:pt x="182824" y="799772"/>
                      <a:pt x="250548" y="799052"/>
                    </a:cubicBezTo>
                    <a:cubicBezTo>
                      <a:pt x="318319" y="799795"/>
                      <a:pt x="370279" y="769334"/>
                      <a:pt x="406428" y="707670"/>
                    </a:cubicBezTo>
                    <a:cubicBezTo>
                      <a:pt x="442577" y="646005"/>
                      <a:pt x="460826" y="548678"/>
                      <a:pt x="461174" y="415690"/>
                    </a:cubicBezTo>
                    <a:cubicBezTo>
                      <a:pt x="460826" y="281588"/>
                      <a:pt x="442577" y="183426"/>
                      <a:pt x="406428" y="121204"/>
                    </a:cubicBezTo>
                    <a:cubicBezTo>
                      <a:pt x="397391" y="105648"/>
                      <a:pt x="387366" y="92060"/>
                      <a:pt x="376352" y="80440"/>
                    </a:cubicBezTo>
                    <a:lnTo>
                      <a:pt x="344040" y="54453"/>
                    </a:lnTo>
                    <a:lnTo>
                      <a:pt x="375478" y="0"/>
                    </a:lnTo>
                    <a:close/>
                  </a:path>
                </a:pathLst>
              </a:custGeom>
              <a:solidFill>
                <a:srgbClr val="2fa1cf"/>
              </a:solidFill>
              <a:ln w="0">
                <a:solidFill>
                  <a:srgbClr val="2fa1c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8800" spc="-1" strike="noStrike">
                  <a:solidFill>
                    <a:srgbClr val="fd5b5f"/>
                  </a:solidFill>
                  <a:latin typeface="AXIS Std L"/>
                  <a:ea typeface="AXIS Std L"/>
                </a:endParaRPr>
              </a:p>
            </p:txBody>
          </p:sp>
          <p:cxnSp>
            <p:nvCxnSpPr>
              <p:cNvPr id="224" name="直接连接符 193"/>
              <p:cNvCxnSpPr/>
              <p:nvPr/>
            </p:nvCxnSpPr>
            <p:spPr>
              <a:xfrm flipH="1">
                <a:off x="1072440" y="2275560"/>
                <a:ext cx="1338840" cy="2164680"/>
              </a:xfrm>
              <a:prstGeom prst="straightConnector1">
                <a:avLst/>
              </a:prstGeom>
              <a:ln>
                <a:solidFill>
                  <a:srgbClr val="2fa1cf"/>
                </a:solidFill>
              </a:ln>
            </p:spPr>
          </p:cxnSp>
        </p:grpSp>
        <p:sp>
          <p:nvSpPr>
            <p:cNvPr id="225" name="文本框 197"/>
            <p:cNvSpPr/>
            <p:nvPr/>
          </p:nvSpPr>
          <p:spPr>
            <a:xfrm>
              <a:off x="1791360" y="4087800"/>
              <a:ext cx="1278360" cy="363960"/>
            </a:xfrm>
            <a:prstGeom prst="rect">
              <a:avLst/>
            </a:prstGeom>
            <a:solidFill>
              <a:srgbClr val="2fa1cf"/>
            </a:solidFill>
            <a:ln w="0">
              <a:solidFill>
                <a:srgbClr val="2fa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</a:rPr>
                <a:t>绘制移动机遇图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图片 198" descr=""/>
          <p:cNvPicPr/>
          <p:nvPr/>
        </p:nvPicPr>
        <p:blipFill>
          <a:blip r:embed="rId1"/>
          <a:stretch/>
        </p:blipFill>
        <p:spPr>
          <a:xfrm>
            <a:off x="5570280" y="1003320"/>
            <a:ext cx="852120" cy="85212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199"/>
          <p:cNvSpPr/>
          <p:nvPr/>
        </p:nvSpPr>
        <p:spPr>
          <a:xfrm>
            <a:off x="6960960" y="12448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智能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02"/>
          <p:cNvSpPr/>
          <p:nvPr/>
        </p:nvSpPr>
        <p:spPr>
          <a:xfrm>
            <a:off x="6917400" y="24642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平板电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03"/>
          <p:cNvSpPr/>
          <p:nvPr/>
        </p:nvSpPr>
        <p:spPr>
          <a:xfrm>
            <a:off x="4055760" y="1614240"/>
            <a:ext cx="866880" cy="638280"/>
          </a:xfrm>
          <a:prstGeom prst="rect">
            <a:avLst/>
          </a:prstGeom>
          <a:noFill/>
          <a:ln w="0">
            <a:solidFill>
              <a:srgbClr val="2fa1c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智能产品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全球性增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04"/>
          <p:cNvSpPr/>
          <p:nvPr/>
        </p:nvSpPr>
        <p:spPr>
          <a:xfrm>
            <a:off x="6917400" y="4599720"/>
            <a:ext cx="729720" cy="638280"/>
          </a:xfrm>
          <a:prstGeom prst="rect">
            <a:avLst/>
          </a:prstGeom>
          <a:noFill/>
          <a:ln w="0">
            <a:solidFill>
              <a:srgbClr val="2fa1c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关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移动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207"/>
          <p:cNvSpPr/>
          <p:nvPr/>
        </p:nvSpPr>
        <p:spPr>
          <a:xfrm>
            <a:off x="8717400" y="5203440"/>
            <a:ext cx="848880" cy="848880"/>
          </a:xfrm>
          <a:prstGeom prst="ellipse">
            <a:avLst/>
          </a:prstGeom>
          <a:solidFill>
            <a:srgbClr val="2fa1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2" name="椭圆 209"/>
          <p:cNvSpPr/>
          <p:nvPr/>
        </p:nvSpPr>
        <p:spPr>
          <a:xfrm>
            <a:off x="8717400" y="2193120"/>
            <a:ext cx="848880" cy="848880"/>
          </a:xfrm>
          <a:prstGeom prst="ellipse">
            <a:avLst/>
          </a:prstGeom>
          <a:solidFill>
            <a:srgbClr val="2fa1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3" name="椭圆 210"/>
          <p:cNvSpPr/>
          <p:nvPr/>
        </p:nvSpPr>
        <p:spPr>
          <a:xfrm>
            <a:off x="8717400" y="1189440"/>
            <a:ext cx="848880" cy="848880"/>
          </a:xfrm>
          <a:prstGeom prst="ellipse">
            <a:avLst/>
          </a:prstGeom>
          <a:solidFill>
            <a:srgbClr val="2fa1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4" name="文本框 211"/>
          <p:cNvSpPr/>
          <p:nvPr/>
        </p:nvSpPr>
        <p:spPr>
          <a:xfrm>
            <a:off x="10237680" y="142956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发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12"/>
          <p:cNvSpPr/>
          <p:nvPr/>
        </p:nvSpPr>
        <p:spPr>
          <a:xfrm>
            <a:off x="10284480" y="24328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社交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13"/>
          <p:cNvSpPr/>
          <p:nvPr/>
        </p:nvSpPr>
        <p:spPr>
          <a:xfrm>
            <a:off x="10190520" y="34365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14"/>
          <p:cNvSpPr/>
          <p:nvPr/>
        </p:nvSpPr>
        <p:spPr>
          <a:xfrm>
            <a:off x="10190520" y="44398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购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15"/>
          <p:cNvSpPr/>
          <p:nvPr/>
        </p:nvSpPr>
        <p:spPr>
          <a:xfrm>
            <a:off x="10190520" y="54435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娱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直接连接符 217"/>
          <p:cNvCxnSpPr/>
          <p:nvPr/>
        </p:nvCxnSpPr>
        <p:spPr>
          <a:xfrm>
            <a:off x="3664080" y="1925640"/>
            <a:ext cx="360" cy="3010680"/>
          </a:xfrm>
          <a:prstGeom prst="straightConnector1">
            <a:avLst/>
          </a:prstGeom>
          <a:ln>
            <a:solidFill>
              <a:srgbClr val="2fa1cf"/>
            </a:solidFill>
          </a:ln>
        </p:spPr>
      </p:cxnSp>
      <p:cxnSp>
        <p:nvCxnSpPr>
          <p:cNvPr id="240" name="直接箭头连接符 219"/>
          <p:cNvCxnSpPr>
            <a:endCxn id="229" idx="1"/>
          </p:cNvCxnSpPr>
          <p:nvPr/>
        </p:nvCxnSpPr>
        <p:spPr>
          <a:xfrm>
            <a:off x="3664080" y="1925640"/>
            <a:ext cx="156240" cy="36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cxnSp>
        <p:nvCxnSpPr>
          <p:cNvPr id="241" name="直接箭头连接符 221"/>
          <p:cNvCxnSpPr>
            <a:endCxn id="230" idx="1"/>
          </p:cNvCxnSpPr>
          <p:nvPr/>
        </p:nvCxnSpPr>
        <p:spPr>
          <a:xfrm flipV="1">
            <a:off x="3679200" y="4922640"/>
            <a:ext cx="3049560" cy="13680"/>
          </a:xfrm>
          <a:prstGeom prst="straightConnector1">
            <a:avLst/>
          </a:prstGeom>
          <a:ln>
            <a:solidFill>
              <a:srgbClr val="2fa1cf"/>
            </a:solidFill>
            <a:tailEnd len="med" type="triangle" w="med"/>
          </a:ln>
        </p:spPr>
      </p:cxnSp>
      <p:cxnSp>
        <p:nvCxnSpPr>
          <p:cNvPr id="242" name="直接箭头连接符 223"/>
          <p:cNvCxnSpPr>
            <a:stCxn id="225" idx="3"/>
          </p:cNvCxnSpPr>
          <p:nvPr/>
        </p:nvCxnSpPr>
        <p:spPr>
          <a:xfrm>
            <a:off x="3446280" y="4272120"/>
            <a:ext cx="212760" cy="36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cxnSp>
        <p:nvCxnSpPr>
          <p:cNvPr id="243" name="直接连接符 225"/>
          <p:cNvCxnSpPr/>
          <p:nvPr/>
        </p:nvCxnSpPr>
        <p:spPr>
          <a:xfrm>
            <a:off x="5351040" y="1396800"/>
            <a:ext cx="360" cy="1224360"/>
          </a:xfrm>
          <a:prstGeom prst="straightConnector1">
            <a:avLst/>
          </a:prstGeom>
          <a:ln>
            <a:solidFill>
              <a:srgbClr val="2fa1cf"/>
            </a:solidFill>
          </a:ln>
        </p:spPr>
      </p:cxnSp>
      <p:cxnSp>
        <p:nvCxnSpPr>
          <p:cNvPr id="244" name="直接箭头连接符 227"/>
          <p:cNvCxnSpPr>
            <a:stCxn id="229" idx="3"/>
          </p:cNvCxnSpPr>
          <p:nvPr/>
        </p:nvCxnSpPr>
        <p:spPr>
          <a:xfrm>
            <a:off x="5158800" y="1937160"/>
            <a:ext cx="180360" cy="360"/>
          </a:xfrm>
          <a:prstGeom prst="straightConnector1">
            <a:avLst/>
          </a:prstGeom>
          <a:ln>
            <a:solidFill>
              <a:srgbClr val="2fa1cf"/>
            </a:solidFill>
            <a:tailEnd len="med" type="triangle" w="med"/>
          </a:ln>
        </p:spPr>
      </p:cxnSp>
      <p:cxnSp>
        <p:nvCxnSpPr>
          <p:cNvPr id="245" name="直接箭头连接符 228"/>
          <p:cNvCxnSpPr/>
          <p:nvPr/>
        </p:nvCxnSpPr>
        <p:spPr>
          <a:xfrm>
            <a:off x="5354280" y="1396800"/>
            <a:ext cx="216360" cy="360"/>
          </a:xfrm>
          <a:prstGeom prst="straightConnector1">
            <a:avLst/>
          </a:prstGeom>
          <a:ln>
            <a:solidFill>
              <a:srgbClr val="2fa1cf"/>
            </a:solidFill>
            <a:tailEnd len="med" type="triangle" w="med"/>
          </a:ln>
        </p:spPr>
      </p:cxnSp>
      <p:cxnSp>
        <p:nvCxnSpPr>
          <p:cNvPr id="246" name="直接箭头连接符 229"/>
          <p:cNvCxnSpPr/>
          <p:nvPr/>
        </p:nvCxnSpPr>
        <p:spPr>
          <a:xfrm>
            <a:off x="5351040" y="2619000"/>
            <a:ext cx="216360" cy="360"/>
          </a:xfrm>
          <a:prstGeom prst="straightConnector1">
            <a:avLst/>
          </a:prstGeom>
          <a:ln>
            <a:solidFill>
              <a:srgbClr val="2fa1cf"/>
            </a:solidFill>
            <a:tailEnd len="med" type="triangle" w="med"/>
          </a:ln>
        </p:spPr>
      </p:cxnSp>
      <p:cxnSp>
        <p:nvCxnSpPr>
          <p:cNvPr id="247" name="直接连接符 231"/>
          <p:cNvCxnSpPr/>
          <p:nvPr/>
        </p:nvCxnSpPr>
        <p:spPr>
          <a:xfrm>
            <a:off x="8284680" y="1648440"/>
            <a:ext cx="360" cy="4028040"/>
          </a:xfrm>
          <a:prstGeom prst="straightConnector1">
            <a:avLst/>
          </a:prstGeom>
          <a:ln>
            <a:solidFill>
              <a:srgbClr val="2fa1cf"/>
            </a:solidFill>
          </a:ln>
        </p:spPr>
      </p:cxnSp>
      <p:cxnSp>
        <p:nvCxnSpPr>
          <p:cNvPr id="248" name="直接箭头连接符 233"/>
          <p:cNvCxnSpPr/>
          <p:nvPr/>
        </p:nvCxnSpPr>
        <p:spPr>
          <a:xfrm>
            <a:off x="8284680" y="1648440"/>
            <a:ext cx="316440" cy="360"/>
          </a:xfrm>
          <a:prstGeom prst="straightConnector1">
            <a:avLst/>
          </a:prstGeom>
          <a:ln>
            <a:solidFill>
              <a:srgbClr val="2fa1cf"/>
            </a:solidFill>
            <a:tailEnd len="med" type="triangle" w="med"/>
          </a:ln>
        </p:spPr>
      </p:cxnSp>
      <p:cxnSp>
        <p:nvCxnSpPr>
          <p:cNvPr id="249" name="直接箭头连接符 235"/>
          <p:cNvCxnSpPr/>
          <p:nvPr/>
        </p:nvCxnSpPr>
        <p:spPr>
          <a:xfrm>
            <a:off x="8284680" y="2639520"/>
            <a:ext cx="316440" cy="360"/>
          </a:xfrm>
          <a:prstGeom prst="straightConnector1">
            <a:avLst/>
          </a:prstGeom>
          <a:ln>
            <a:solidFill>
              <a:srgbClr val="2fa1cf"/>
            </a:solidFill>
            <a:tailEnd len="med" type="triangle" w="med"/>
          </a:ln>
        </p:spPr>
      </p:cxnSp>
      <p:cxnSp>
        <p:nvCxnSpPr>
          <p:cNvPr id="250" name="直接箭头连接符 236"/>
          <p:cNvCxnSpPr/>
          <p:nvPr/>
        </p:nvCxnSpPr>
        <p:spPr>
          <a:xfrm>
            <a:off x="8284680" y="3688560"/>
            <a:ext cx="316440" cy="360"/>
          </a:xfrm>
          <a:prstGeom prst="straightConnector1">
            <a:avLst/>
          </a:prstGeom>
          <a:ln>
            <a:solidFill>
              <a:srgbClr val="2fa1cf"/>
            </a:solidFill>
            <a:tailEnd len="med" type="triangle" w="med"/>
          </a:ln>
        </p:spPr>
      </p:cxnSp>
      <p:cxnSp>
        <p:nvCxnSpPr>
          <p:cNvPr id="251" name="直接箭头连接符 237"/>
          <p:cNvCxnSpPr/>
          <p:nvPr/>
        </p:nvCxnSpPr>
        <p:spPr>
          <a:xfrm>
            <a:off x="8284680" y="4636440"/>
            <a:ext cx="316440" cy="360"/>
          </a:xfrm>
          <a:prstGeom prst="straightConnector1">
            <a:avLst/>
          </a:prstGeom>
          <a:ln>
            <a:solidFill>
              <a:srgbClr val="2fa1cf"/>
            </a:solidFill>
            <a:tailEnd len="med" type="triangle" w="med"/>
          </a:ln>
        </p:spPr>
      </p:cxnSp>
      <p:cxnSp>
        <p:nvCxnSpPr>
          <p:cNvPr id="252" name="直接箭头连接符 238"/>
          <p:cNvCxnSpPr/>
          <p:nvPr/>
        </p:nvCxnSpPr>
        <p:spPr>
          <a:xfrm>
            <a:off x="8284680" y="5676120"/>
            <a:ext cx="316440" cy="360"/>
          </a:xfrm>
          <a:prstGeom prst="straightConnector1">
            <a:avLst/>
          </a:prstGeom>
          <a:ln>
            <a:solidFill>
              <a:srgbClr val="2fa1cf"/>
            </a:solidFill>
            <a:tailEnd len="med" type="triangle" w="med"/>
          </a:ln>
        </p:spPr>
      </p:cxnSp>
      <p:cxnSp>
        <p:nvCxnSpPr>
          <p:cNvPr id="253" name="直接箭头连接符 240"/>
          <p:cNvCxnSpPr/>
          <p:nvPr/>
        </p:nvCxnSpPr>
        <p:spPr>
          <a:xfrm>
            <a:off x="7836120" y="4922640"/>
            <a:ext cx="448920" cy="36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pic>
        <p:nvPicPr>
          <p:cNvPr id="254" name="图片 244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8865000" y="5322240"/>
            <a:ext cx="611640" cy="61164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246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brightnessContrast amount="100000"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8866440" y="1322280"/>
            <a:ext cx="608760" cy="6087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47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8852040" y="2336400"/>
            <a:ext cx="609120" cy="609120"/>
          </a:xfrm>
          <a:prstGeom prst="rect">
            <a:avLst/>
          </a:prstGeom>
          <a:ln w="0">
            <a:noFill/>
          </a:ln>
        </p:spPr>
      </p:pic>
      <p:sp>
        <p:nvSpPr>
          <p:cNvPr id="257" name="文本框 250"/>
          <p:cNvSpPr/>
          <p:nvPr/>
        </p:nvSpPr>
        <p:spPr>
          <a:xfrm>
            <a:off x="2544480" y="223884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2fa1cf"/>
                </a:solidFill>
                <a:latin typeface="Verdana"/>
              </a:rPr>
              <a:t>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2" descr=""/>
          <p:cNvPicPr/>
          <p:nvPr/>
        </p:nvPicPr>
        <p:blipFill>
          <a:blip r:embed="rId8"/>
          <a:stretch/>
        </p:blipFill>
        <p:spPr>
          <a:xfrm>
            <a:off x="5575680" y="2219040"/>
            <a:ext cx="902880" cy="90288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" descr=""/>
          <p:cNvPicPr/>
          <p:nvPr/>
        </p:nvPicPr>
        <p:blipFill>
          <a:blip r:embed="rId9">
            <a:extLst>
              <a:ext uri="{BEBA8EAE-BF5A-486C-A8C5-ECC9F3942E4B}">
                <a14:imgProps xmlns:a14="http://schemas.microsoft.com/office/drawing/2010/main">
                  <a14:imgLayer r:embed="rId10">
                    <a14:imgEffect>
                      <a14:brightnessContrast bright="100000" contrast="6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8908920" y="3358080"/>
            <a:ext cx="479520" cy="4795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6" descr=""/>
          <p:cNvPicPr/>
          <p:nvPr/>
        </p:nvPicPr>
        <p:blipFill>
          <a:blip r:embed="rId11">
            <a:extLst>
              <a:ext uri="{BEBA8EAE-BF5A-486C-A8C5-ECC9F3942E4B}">
                <a14:imgProps xmlns:a14="http://schemas.microsoft.com/office/drawing/2010/main">
                  <a14:imgLayer r:embed="rId12">
                    <a14:imgEffect>
                      <a14:brightnessContrast bright="94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8804880" y="4272480"/>
            <a:ext cx="649800" cy="6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3"/>
          <p:cNvSpPr/>
          <p:nvPr/>
        </p:nvSpPr>
        <p:spPr>
          <a:xfrm>
            <a:off x="2788200" y="3651120"/>
            <a:ext cx="711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我们相信这一点同样适用于在移动领域获得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4743000" y="2081520"/>
            <a:ext cx="3532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人生的九成在于</a:t>
            </a:r>
            <a:r>
              <a:rPr b="0" lang="zh-CN" sz="96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秀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叶根友行书繁"/>
              </a:rPr>
              <a:t>出自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直接连接符 6"/>
          <p:cNvCxnSpPr/>
          <p:nvPr/>
        </p:nvCxnSpPr>
        <p:spPr>
          <a:xfrm flipH="1">
            <a:off x="1563120" y="891720"/>
            <a:ext cx="1713240" cy="4342680"/>
          </a:xfrm>
          <a:prstGeom prst="straightConnector1">
            <a:avLst/>
          </a:prstGeom>
          <a:ln>
            <a:solidFill>
              <a:srgbClr val="d9d9d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208"/>
          <p:cNvGrpSpPr/>
          <p:nvPr/>
        </p:nvGrpSpPr>
        <p:grpSpPr>
          <a:xfrm>
            <a:off x="1127160" y="2275560"/>
            <a:ext cx="3664800" cy="2168280"/>
            <a:chOff x="1127160" y="2275560"/>
            <a:chExt cx="3664800" cy="2168280"/>
          </a:xfrm>
        </p:grpSpPr>
        <p:grpSp>
          <p:nvGrpSpPr>
            <p:cNvPr id="265" name="组合 196"/>
            <p:cNvGrpSpPr/>
            <p:nvPr/>
          </p:nvGrpSpPr>
          <p:grpSpPr>
            <a:xfrm>
              <a:off x="1127160" y="2275560"/>
              <a:ext cx="1757520" cy="2168280"/>
              <a:chOff x="1127160" y="2275560"/>
              <a:chExt cx="1757520" cy="2168280"/>
            </a:xfrm>
          </p:grpSpPr>
          <p:sp>
            <p:nvSpPr>
              <p:cNvPr id="266" name="文本框 188"/>
              <p:cNvSpPr/>
              <p:nvPr/>
            </p:nvSpPr>
            <p:spPr>
              <a:xfrm>
                <a:off x="2623320" y="2500200"/>
                <a:ext cx="261360" cy="862200"/>
              </a:xfrm>
              <a:custGeom>
                <a:avLst/>
                <a:gdLst>
                  <a:gd name="textAreaLeft" fmla="*/ 0 w 261360"/>
                  <a:gd name="textAreaRight" fmla="*/ 261720 w 261360"/>
                  <a:gd name="textAreaTop" fmla="*/ 0 h 862200"/>
                  <a:gd name="textAreaBottom" fmla="*/ 862560 h 862200"/>
                </a:gdLst>
                <a:ahLst/>
                <a:rect l="textAreaLeft" t="textAreaTop" r="textAreaRight" b="textAreaBottom"/>
                <a:pathLst>
                  <a:path w="261889" h="862565">
                    <a:moveTo>
                      <a:pt x="208397" y="0"/>
                    </a:moveTo>
                    <a:lnTo>
                      <a:pt x="261889" y="0"/>
                    </a:lnTo>
                    <a:lnTo>
                      <a:pt x="261889" y="862565"/>
                    </a:lnTo>
                    <a:lnTo>
                      <a:pt x="191681" y="862565"/>
                    </a:lnTo>
                    <a:lnTo>
                      <a:pt x="191681" y="79124"/>
                    </a:lnTo>
                    <a:cubicBezTo>
                      <a:pt x="172225" y="90361"/>
                      <a:pt x="145943" y="103827"/>
                      <a:pt x="112835" y="119522"/>
                    </a:cubicBezTo>
                    <a:cubicBezTo>
                      <a:pt x="79727" y="135217"/>
                      <a:pt x="46202" y="149240"/>
                      <a:pt x="12258" y="161592"/>
                    </a:cubicBezTo>
                    <a:lnTo>
                      <a:pt x="0" y="105870"/>
                    </a:lnTo>
                    <a:cubicBezTo>
                      <a:pt x="37449" y="91708"/>
                      <a:pt x="76222" y="74620"/>
                      <a:pt x="116318" y="54607"/>
                    </a:cubicBezTo>
                    <a:cubicBezTo>
                      <a:pt x="156414" y="34594"/>
                      <a:pt x="187107" y="16391"/>
                      <a:pt x="208397" y="0"/>
                    </a:cubicBezTo>
                    <a:close/>
                  </a:path>
                </a:pathLst>
              </a:custGeom>
              <a:solidFill>
                <a:srgbClr val="fd5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8800" spc="-1" strike="noStrike">
                  <a:solidFill>
                    <a:srgbClr val="fd5b5f"/>
                  </a:solidFill>
                  <a:latin typeface="AXIS Std L"/>
                  <a:ea typeface="AXIS Std L"/>
                </a:endParaRPr>
              </a:p>
            </p:txBody>
          </p:sp>
          <p:sp>
            <p:nvSpPr>
              <p:cNvPr id="267" name="文本框 187"/>
              <p:cNvSpPr/>
              <p:nvPr/>
            </p:nvSpPr>
            <p:spPr>
              <a:xfrm>
                <a:off x="1882080" y="2522880"/>
                <a:ext cx="532080" cy="8611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861120"/>
                  <a:gd name="textAreaBottom" fmla="*/ 861480 h 861120"/>
                </a:gdLst>
                <a:ahLst/>
                <a:rect l="textAreaLeft" t="textAreaTop" r="textAreaRight" b="textAreaBottom"/>
                <a:pathLst>
                  <a:path w="532498" h="861460">
                    <a:moveTo>
                      <a:pt x="375478" y="0"/>
                    </a:moveTo>
                    <a:lnTo>
                      <a:pt x="420493" y="33112"/>
                    </a:lnTo>
                    <a:cubicBezTo>
                      <a:pt x="435211" y="47309"/>
                      <a:pt x="448539" y="63857"/>
                      <a:pt x="460478" y="82756"/>
                    </a:cubicBezTo>
                    <a:cubicBezTo>
                      <a:pt x="508236" y="158351"/>
                      <a:pt x="532242" y="269329"/>
                      <a:pt x="532498" y="415690"/>
                    </a:cubicBezTo>
                    <a:lnTo>
                      <a:pt x="532498" y="416805"/>
                    </a:lnTo>
                    <a:cubicBezTo>
                      <a:pt x="532242" y="561610"/>
                      <a:pt x="508236" y="671799"/>
                      <a:pt x="460478" y="747371"/>
                    </a:cubicBezTo>
                    <a:cubicBezTo>
                      <a:pt x="412720" y="822943"/>
                      <a:pt x="342743" y="860973"/>
                      <a:pt x="250548" y="861460"/>
                    </a:cubicBezTo>
                    <a:cubicBezTo>
                      <a:pt x="157912" y="860996"/>
                      <a:pt x="87981" y="822920"/>
                      <a:pt x="40758" y="747232"/>
                    </a:cubicBezTo>
                    <a:cubicBezTo>
                      <a:pt x="28952" y="728310"/>
                      <a:pt x="18618" y="707211"/>
                      <a:pt x="9754" y="683936"/>
                    </a:cubicBezTo>
                    <a:lnTo>
                      <a:pt x="0" y="650347"/>
                    </a:lnTo>
                    <a:lnTo>
                      <a:pt x="51287" y="561515"/>
                    </a:lnTo>
                    <a:lnTo>
                      <a:pt x="54810" y="588896"/>
                    </a:lnTo>
                    <a:cubicBezTo>
                      <a:pt x="63841" y="637397"/>
                      <a:pt x="77313" y="677035"/>
                      <a:pt x="95225" y="707809"/>
                    </a:cubicBezTo>
                    <a:cubicBezTo>
                      <a:pt x="131049" y="769358"/>
                      <a:pt x="182824" y="799772"/>
                      <a:pt x="250548" y="799052"/>
                    </a:cubicBezTo>
                    <a:cubicBezTo>
                      <a:pt x="318319" y="799795"/>
                      <a:pt x="370279" y="769334"/>
                      <a:pt x="406428" y="707670"/>
                    </a:cubicBezTo>
                    <a:cubicBezTo>
                      <a:pt x="442577" y="646005"/>
                      <a:pt x="460826" y="548678"/>
                      <a:pt x="461174" y="415690"/>
                    </a:cubicBezTo>
                    <a:cubicBezTo>
                      <a:pt x="460826" y="281588"/>
                      <a:pt x="442577" y="183426"/>
                      <a:pt x="406428" y="121204"/>
                    </a:cubicBezTo>
                    <a:cubicBezTo>
                      <a:pt x="397391" y="105648"/>
                      <a:pt x="387366" y="92060"/>
                      <a:pt x="376352" y="80440"/>
                    </a:cubicBezTo>
                    <a:lnTo>
                      <a:pt x="344040" y="54453"/>
                    </a:lnTo>
                    <a:lnTo>
                      <a:pt x="375478" y="0"/>
                    </a:lnTo>
                    <a:close/>
                  </a:path>
                </a:pathLst>
              </a:custGeom>
              <a:solidFill>
                <a:srgbClr val="fd5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8800" spc="-1" strike="noStrike">
                  <a:solidFill>
                    <a:srgbClr val="fd5b5f"/>
                  </a:solidFill>
                  <a:latin typeface="AXIS Std L"/>
                  <a:ea typeface="AXIS Std L"/>
                </a:endParaRPr>
              </a:p>
            </p:txBody>
          </p:sp>
          <p:cxnSp>
            <p:nvCxnSpPr>
              <p:cNvPr id="268" name="直接连接符 193"/>
              <p:cNvCxnSpPr/>
              <p:nvPr/>
            </p:nvCxnSpPr>
            <p:spPr>
              <a:xfrm flipH="1">
                <a:off x="1127160" y="2275560"/>
                <a:ext cx="1284120" cy="2168640"/>
              </a:xfrm>
              <a:prstGeom prst="straightConnector1">
                <a:avLst/>
              </a:prstGeom>
              <a:ln>
                <a:solidFill>
                  <a:srgbClr val="fd5b5f"/>
                </a:solidFill>
              </a:ln>
            </p:spPr>
          </p:cxnSp>
        </p:grpSp>
        <p:sp>
          <p:nvSpPr>
            <p:cNvPr id="269" name="文本框 197"/>
            <p:cNvSpPr/>
            <p:nvPr/>
          </p:nvSpPr>
          <p:spPr>
            <a:xfrm>
              <a:off x="1994040" y="3612960"/>
              <a:ext cx="2797920" cy="821160"/>
            </a:xfrm>
            <a:prstGeom prst="rect">
              <a:avLst/>
            </a:prstGeom>
            <a:solidFill>
              <a:srgbClr val="fd5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第一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开发你的移动战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30"/>
          <p:cNvGrpSpPr/>
          <p:nvPr/>
        </p:nvGrpSpPr>
        <p:grpSpPr>
          <a:xfrm>
            <a:off x="4791960" y="414360"/>
            <a:ext cx="4929480" cy="5939280"/>
            <a:chOff x="4791960" y="414360"/>
            <a:chExt cx="4929480" cy="5939280"/>
          </a:xfrm>
        </p:grpSpPr>
        <p:sp>
          <p:nvSpPr>
            <p:cNvPr id="271" name="文本框 211"/>
            <p:cNvSpPr/>
            <p:nvPr/>
          </p:nvSpPr>
          <p:spPr>
            <a:xfrm>
              <a:off x="7620120" y="674280"/>
              <a:ext cx="2101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Verdana"/>
                </a:rPr>
                <a:t>星期一  </a:t>
              </a:r>
              <a:r>
                <a:rPr b="0" lang="en-US" sz="1800" spc="-1" strike="noStrike">
                  <a:solidFill>
                    <a:srgbClr val="bfbfbf"/>
                  </a:solidFill>
                  <a:latin typeface="Verdana"/>
                </a:rPr>
                <a:t>Mon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808080"/>
                  </a:solidFill>
                  <a:latin typeface="Verdana"/>
                </a:rPr>
                <a:t>理解使用移动战略能取得的成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212"/>
            <p:cNvSpPr/>
            <p:nvPr/>
          </p:nvSpPr>
          <p:spPr>
            <a:xfrm>
              <a:off x="7573320" y="1868400"/>
              <a:ext cx="1964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Verdana"/>
                </a:rPr>
                <a:t>星期二  </a:t>
              </a:r>
              <a:r>
                <a:rPr b="0" lang="en-US" sz="1800" spc="-1" strike="noStrike">
                  <a:solidFill>
                    <a:srgbClr val="bfbfbf"/>
                  </a:solidFill>
                  <a:latin typeface="Verdana"/>
                </a:rPr>
                <a:t>Tues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808080"/>
                  </a:solidFill>
                  <a:latin typeface="Verdana"/>
                </a:rPr>
                <a:t>收集正确信息以建立商业实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213"/>
            <p:cNvSpPr/>
            <p:nvPr/>
          </p:nvSpPr>
          <p:spPr>
            <a:xfrm>
              <a:off x="7318800" y="3087720"/>
              <a:ext cx="2011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Verdana"/>
                </a:rPr>
                <a:t>星期三  </a:t>
              </a:r>
              <a:r>
                <a:rPr b="0" lang="en-US" sz="1800" spc="-1" strike="noStrike">
                  <a:solidFill>
                    <a:srgbClr val="bfbfbf"/>
                  </a:solidFill>
                  <a:latin typeface="Verdana"/>
                </a:rPr>
                <a:t>Wednes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808080"/>
                  </a:solidFill>
                  <a:latin typeface="Verdana"/>
                </a:rPr>
                <a:t>了解你的客户和移动机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214"/>
            <p:cNvSpPr/>
            <p:nvPr/>
          </p:nvSpPr>
          <p:spPr>
            <a:xfrm>
              <a:off x="7353000" y="4194720"/>
              <a:ext cx="1765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Verdana"/>
                </a:rPr>
                <a:t>星期四  </a:t>
              </a:r>
              <a:r>
                <a:rPr b="0" lang="en-US" sz="1800" spc="-1" strike="noStrike">
                  <a:solidFill>
                    <a:srgbClr val="bfbfbf"/>
                  </a:solidFill>
                  <a:latin typeface="Verdana"/>
                </a:rPr>
                <a:t>Thurs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808080"/>
                  </a:solidFill>
                  <a:latin typeface="Verdana"/>
                </a:rPr>
                <a:t>评估你现有的移动设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215"/>
            <p:cNvSpPr/>
            <p:nvPr/>
          </p:nvSpPr>
          <p:spPr>
            <a:xfrm>
              <a:off x="7550280" y="5467320"/>
              <a:ext cx="2101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Verdana"/>
                </a:rPr>
                <a:t>星期五  </a:t>
              </a:r>
              <a:r>
                <a:rPr b="0" lang="en-US" sz="1800" spc="-1" strike="noStrike">
                  <a:solidFill>
                    <a:srgbClr val="bfbfbf"/>
                  </a:solidFill>
                  <a:latin typeface="Verdana"/>
                </a:rPr>
                <a:t>Fri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808080"/>
                  </a:solidFill>
                  <a:latin typeface="Verdana"/>
                </a:rPr>
                <a:t>在你的企业中创建移动商业实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28"/>
            <p:cNvGrpSpPr/>
            <p:nvPr/>
          </p:nvGrpSpPr>
          <p:grpSpPr>
            <a:xfrm>
              <a:off x="5787360" y="414360"/>
              <a:ext cx="1370880" cy="5939280"/>
              <a:chOff x="5787360" y="414360"/>
              <a:chExt cx="1370880" cy="5939280"/>
            </a:xfrm>
          </p:grpSpPr>
          <p:grpSp>
            <p:nvGrpSpPr>
              <p:cNvPr id="277" name="组合 115"/>
              <p:cNvGrpSpPr/>
              <p:nvPr/>
            </p:nvGrpSpPr>
            <p:grpSpPr>
              <a:xfrm>
                <a:off x="6031080" y="4023720"/>
                <a:ext cx="1127160" cy="1127160"/>
                <a:chOff x="6031080" y="4023720"/>
                <a:chExt cx="1127160" cy="1127160"/>
              </a:xfrm>
            </p:grpSpPr>
            <p:sp>
              <p:nvSpPr>
                <p:cNvPr id="278" name="弦形 116"/>
                <p:cNvSpPr/>
                <p:nvPr/>
              </p:nvSpPr>
              <p:spPr>
                <a:xfrm rot="1342200">
                  <a:off x="6162840" y="4155480"/>
                  <a:ext cx="863640" cy="863640"/>
                </a:xfrm>
                <a:prstGeom prst="chord">
                  <a:avLst>
                    <a:gd name="adj1" fmla="val 2700000"/>
                    <a:gd name="adj2" fmla="val 16200000"/>
                  </a:avLst>
                </a:prstGeom>
                <a:solidFill>
                  <a:schemeClr val="bg1">
                    <a:lumMod val="8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Verdana"/>
                  </a:endParaRPr>
                </a:p>
              </p:txBody>
            </p:sp>
            <p:sp>
              <p:nvSpPr>
                <p:cNvPr id="279" name="饼形 117"/>
                <p:cNvSpPr/>
                <p:nvPr/>
              </p:nvSpPr>
              <p:spPr>
                <a:xfrm>
                  <a:off x="6269760" y="4231080"/>
                  <a:ext cx="719640" cy="719640"/>
                </a:xfrm>
                <a:prstGeom prst="pie">
                  <a:avLst>
                    <a:gd name="adj1" fmla="val 8244277"/>
                    <a:gd name="adj2" fmla="val 16200000"/>
                  </a:avLst>
                </a:prstGeom>
                <a:solidFill>
                  <a:srgbClr val="fd5b5f"/>
                </a:solidFill>
                <a:ln>
                  <a:noFill/>
                </a:ln>
                <a:effectLst>
                  <a:outerShdw algn="tr" blurRad="50760" dir="8100000" dist="37674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0" name="组合 112"/>
              <p:cNvGrpSpPr/>
              <p:nvPr/>
            </p:nvGrpSpPr>
            <p:grpSpPr>
              <a:xfrm>
                <a:off x="6031080" y="1617480"/>
                <a:ext cx="1127160" cy="1127160"/>
                <a:chOff x="6031080" y="1617480"/>
                <a:chExt cx="1127160" cy="1127160"/>
              </a:xfrm>
            </p:grpSpPr>
            <p:sp>
              <p:nvSpPr>
                <p:cNvPr id="281" name="弦形 113"/>
                <p:cNvSpPr/>
                <p:nvPr/>
              </p:nvSpPr>
              <p:spPr>
                <a:xfrm rot="1342200">
                  <a:off x="6162840" y="1749240"/>
                  <a:ext cx="863640" cy="863640"/>
                </a:xfrm>
                <a:prstGeom prst="chord">
                  <a:avLst>
                    <a:gd name="adj1" fmla="val 2700000"/>
                    <a:gd name="adj2" fmla="val 16200000"/>
                  </a:avLst>
                </a:prstGeom>
                <a:solidFill>
                  <a:schemeClr val="bg1">
                    <a:lumMod val="8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Verdana"/>
                  </a:endParaRPr>
                </a:p>
              </p:txBody>
            </p:sp>
            <p:sp>
              <p:nvSpPr>
                <p:cNvPr id="282" name="饼形 114"/>
                <p:cNvSpPr/>
                <p:nvPr/>
              </p:nvSpPr>
              <p:spPr>
                <a:xfrm>
                  <a:off x="6269760" y="1824840"/>
                  <a:ext cx="719640" cy="719640"/>
                </a:xfrm>
                <a:prstGeom prst="pie">
                  <a:avLst>
                    <a:gd name="adj1" fmla="val 13156604"/>
                    <a:gd name="adj2" fmla="val 16200000"/>
                  </a:avLst>
                </a:prstGeom>
                <a:solidFill>
                  <a:srgbClr val="fd5b5f"/>
                </a:solidFill>
                <a:ln>
                  <a:noFill/>
                </a:ln>
                <a:effectLst>
                  <a:outerShdw algn="tr" blurRad="50760" dir="8100000" dist="37674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cxnSp>
            <p:nvCxnSpPr>
              <p:cNvPr id="283" name="直接连接符 231"/>
              <p:cNvCxnSpPr/>
              <p:nvPr/>
            </p:nvCxnSpPr>
            <p:spPr>
              <a:xfrm flipH="1">
                <a:off x="5787360" y="1012680"/>
                <a:ext cx="15120" cy="4786920"/>
              </a:xfrm>
              <a:prstGeom prst="straightConnector1">
                <a:avLst/>
              </a:prstGeom>
              <a:ln>
                <a:solidFill>
                  <a:srgbClr val="fd5b5f"/>
                </a:solidFill>
              </a:ln>
            </p:spPr>
          </p:cxnSp>
          <p:grpSp>
            <p:nvGrpSpPr>
              <p:cNvPr id="284" name="组合 24"/>
              <p:cNvGrpSpPr/>
              <p:nvPr/>
            </p:nvGrpSpPr>
            <p:grpSpPr>
              <a:xfrm>
                <a:off x="5802120" y="1012680"/>
                <a:ext cx="316080" cy="4786560"/>
                <a:chOff x="5802120" y="1012680"/>
                <a:chExt cx="316080" cy="4786560"/>
              </a:xfrm>
            </p:grpSpPr>
            <p:cxnSp>
              <p:nvCxnSpPr>
                <p:cNvPr id="285" name="直接箭头连接符 233"/>
                <p:cNvCxnSpPr/>
                <p:nvPr/>
              </p:nvCxnSpPr>
              <p:spPr>
                <a:xfrm>
                  <a:off x="5802120" y="1012680"/>
                  <a:ext cx="316440" cy="360"/>
                </a:xfrm>
                <a:prstGeom prst="straightConnector1">
                  <a:avLst/>
                </a:prstGeom>
                <a:ln>
                  <a:solidFill>
                    <a:srgbClr val="fd5b5f"/>
                  </a:solidFill>
                  <a:tailEnd len="med" type="triangle" w="med"/>
                </a:ln>
              </p:spPr>
            </p:cxnSp>
            <p:cxnSp>
              <p:nvCxnSpPr>
                <p:cNvPr id="286" name="直接箭头连接符 235"/>
                <p:cNvCxnSpPr/>
                <p:nvPr/>
              </p:nvCxnSpPr>
              <p:spPr>
                <a:xfrm>
                  <a:off x="5802120" y="2209320"/>
                  <a:ext cx="316440" cy="360"/>
                </a:xfrm>
                <a:prstGeom prst="straightConnector1">
                  <a:avLst/>
                </a:prstGeom>
                <a:ln>
                  <a:solidFill>
                    <a:srgbClr val="fd5b5f"/>
                  </a:solidFill>
                  <a:tailEnd len="med" type="triangle" w="med"/>
                </a:ln>
              </p:spPr>
            </p:cxnSp>
            <p:cxnSp>
              <p:nvCxnSpPr>
                <p:cNvPr id="287" name="直接箭头连接符 236"/>
                <p:cNvCxnSpPr/>
                <p:nvPr/>
              </p:nvCxnSpPr>
              <p:spPr>
                <a:xfrm>
                  <a:off x="5802120" y="3405960"/>
                  <a:ext cx="316440" cy="360"/>
                </a:xfrm>
                <a:prstGeom prst="straightConnector1">
                  <a:avLst/>
                </a:prstGeom>
                <a:ln>
                  <a:solidFill>
                    <a:srgbClr val="fd5b5f"/>
                  </a:solidFill>
                  <a:tailEnd len="med" type="triangle" w="med"/>
                </a:ln>
              </p:spPr>
            </p:cxnSp>
            <p:cxnSp>
              <p:nvCxnSpPr>
                <p:cNvPr id="288" name="直接箭头连接符 237"/>
                <p:cNvCxnSpPr/>
                <p:nvPr/>
              </p:nvCxnSpPr>
              <p:spPr>
                <a:xfrm>
                  <a:off x="5802120" y="4602600"/>
                  <a:ext cx="316440" cy="360"/>
                </a:xfrm>
                <a:prstGeom prst="straightConnector1">
                  <a:avLst/>
                </a:prstGeom>
                <a:ln>
                  <a:solidFill>
                    <a:srgbClr val="fd5b5f"/>
                  </a:solidFill>
                  <a:tailEnd len="med" type="triangle" w="med"/>
                </a:ln>
              </p:spPr>
            </p:cxnSp>
            <p:cxnSp>
              <p:nvCxnSpPr>
                <p:cNvPr id="289" name="直接箭头连接符 238"/>
                <p:cNvCxnSpPr/>
                <p:nvPr/>
              </p:nvCxnSpPr>
              <p:spPr>
                <a:xfrm>
                  <a:off x="5802120" y="5799240"/>
                  <a:ext cx="316440" cy="360"/>
                </a:xfrm>
                <a:prstGeom prst="straightConnector1">
                  <a:avLst/>
                </a:prstGeom>
                <a:ln>
                  <a:solidFill>
                    <a:srgbClr val="fd5b5f"/>
                  </a:solidFill>
                  <a:tailEnd len="med" type="triangle" w="med"/>
                </a:ln>
              </p:spPr>
            </p:cxnSp>
          </p:grpSp>
          <p:grpSp>
            <p:nvGrpSpPr>
              <p:cNvPr id="290" name="组合 23"/>
              <p:cNvGrpSpPr/>
              <p:nvPr/>
            </p:nvGrpSpPr>
            <p:grpSpPr>
              <a:xfrm>
                <a:off x="6031080" y="414360"/>
                <a:ext cx="1127160" cy="1127160"/>
                <a:chOff x="6031080" y="414360"/>
                <a:chExt cx="1127160" cy="1127160"/>
              </a:xfrm>
            </p:grpSpPr>
            <p:sp>
              <p:nvSpPr>
                <p:cNvPr id="291" name="弦形 94"/>
                <p:cNvSpPr/>
                <p:nvPr/>
              </p:nvSpPr>
              <p:spPr>
                <a:xfrm rot="1342200">
                  <a:off x="6162840" y="546120"/>
                  <a:ext cx="863640" cy="863640"/>
                </a:xfrm>
                <a:prstGeom prst="chord">
                  <a:avLst>
                    <a:gd name="adj1" fmla="val 2700000"/>
                    <a:gd name="adj2" fmla="val 16200000"/>
                  </a:avLst>
                </a:prstGeom>
                <a:solidFill>
                  <a:schemeClr val="bg1">
                    <a:lumMod val="8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Verdana"/>
                  </a:endParaRPr>
                </a:p>
              </p:txBody>
            </p:sp>
            <p:sp>
              <p:nvSpPr>
                <p:cNvPr id="292" name="饼形 95"/>
                <p:cNvSpPr/>
                <p:nvPr/>
              </p:nvSpPr>
              <p:spPr>
                <a:xfrm>
                  <a:off x="6269760" y="621720"/>
                  <a:ext cx="719640" cy="719640"/>
                </a:xfrm>
                <a:prstGeom prst="pie">
                  <a:avLst>
                    <a:gd name="adj1" fmla="val 14322854"/>
                    <a:gd name="adj2" fmla="val 16200000"/>
                  </a:avLst>
                </a:prstGeom>
                <a:solidFill>
                  <a:srgbClr val="fd5b5f"/>
                </a:solidFill>
                <a:ln>
                  <a:noFill/>
                </a:ln>
                <a:effectLst>
                  <a:outerShdw algn="tr" blurRad="50760" dir="8100000" dist="37674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3" name="组合 106"/>
              <p:cNvGrpSpPr/>
              <p:nvPr/>
            </p:nvGrpSpPr>
            <p:grpSpPr>
              <a:xfrm>
                <a:off x="6031080" y="2820600"/>
                <a:ext cx="1127160" cy="1127160"/>
                <a:chOff x="6031080" y="2820600"/>
                <a:chExt cx="1127160" cy="1127160"/>
              </a:xfrm>
            </p:grpSpPr>
            <p:sp>
              <p:nvSpPr>
                <p:cNvPr id="294" name="弦形 107"/>
                <p:cNvSpPr/>
                <p:nvPr/>
              </p:nvSpPr>
              <p:spPr>
                <a:xfrm rot="1342200">
                  <a:off x="6162840" y="2952360"/>
                  <a:ext cx="863640" cy="863640"/>
                </a:xfrm>
                <a:prstGeom prst="chord">
                  <a:avLst>
                    <a:gd name="adj1" fmla="val 2700000"/>
                    <a:gd name="adj2" fmla="val 16200000"/>
                  </a:avLst>
                </a:prstGeom>
                <a:solidFill>
                  <a:schemeClr val="bg1">
                    <a:lumMod val="8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Verdana"/>
                  </a:endParaRPr>
                </a:p>
              </p:txBody>
            </p:sp>
            <p:sp>
              <p:nvSpPr>
                <p:cNvPr id="295" name="饼形 108"/>
                <p:cNvSpPr/>
                <p:nvPr/>
              </p:nvSpPr>
              <p:spPr>
                <a:xfrm>
                  <a:off x="6269760" y="3027960"/>
                  <a:ext cx="719640" cy="719640"/>
                </a:xfrm>
                <a:prstGeom prst="pie">
                  <a:avLst>
                    <a:gd name="adj1" fmla="val 10824905"/>
                    <a:gd name="adj2" fmla="val 16200000"/>
                  </a:avLst>
                </a:prstGeom>
                <a:solidFill>
                  <a:srgbClr val="fd5b5f"/>
                </a:solidFill>
                <a:ln>
                  <a:noFill/>
                </a:ln>
                <a:effectLst>
                  <a:outerShdw algn="tr" blurRad="50760" dir="8100000" dist="37674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6" name="组合 118"/>
              <p:cNvGrpSpPr/>
              <p:nvPr/>
            </p:nvGrpSpPr>
            <p:grpSpPr>
              <a:xfrm>
                <a:off x="6031080" y="5226480"/>
                <a:ext cx="1127160" cy="1127160"/>
                <a:chOff x="6031080" y="5226480"/>
                <a:chExt cx="1127160" cy="1127160"/>
              </a:xfrm>
            </p:grpSpPr>
            <p:sp>
              <p:nvSpPr>
                <p:cNvPr id="297" name="弦形 119"/>
                <p:cNvSpPr/>
                <p:nvPr/>
              </p:nvSpPr>
              <p:spPr>
                <a:xfrm rot="1342200">
                  <a:off x="6162840" y="5358240"/>
                  <a:ext cx="863640" cy="863640"/>
                </a:xfrm>
                <a:prstGeom prst="chord">
                  <a:avLst>
                    <a:gd name="adj1" fmla="val 2700000"/>
                    <a:gd name="adj2" fmla="val 16200000"/>
                  </a:avLst>
                </a:prstGeom>
                <a:solidFill>
                  <a:schemeClr val="bg1">
                    <a:lumMod val="8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Verdana"/>
                  </a:endParaRPr>
                </a:p>
              </p:txBody>
            </p:sp>
            <p:sp>
              <p:nvSpPr>
                <p:cNvPr id="298" name="饼形 120"/>
                <p:cNvSpPr/>
                <p:nvPr/>
              </p:nvSpPr>
              <p:spPr>
                <a:xfrm>
                  <a:off x="6269760" y="5433840"/>
                  <a:ext cx="719640" cy="719640"/>
                </a:xfrm>
                <a:prstGeom prst="pie">
                  <a:avLst>
                    <a:gd name="adj1" fmla="val 5442536"/>
                    <a:gd name="adj2" fmla="val 16200000"/>
                  </a:avLst>
                </a:prstGeom>
                <a:solidFill>
                  <a:srgbClr val="fd5b5f"/>
                </a:solidFill>
                <a:ln>
                  <a:noFill/>
                </a:ln>
                <a:effectLst>
                  <a:outerShdw algn="tr" blurRad="50760" dir="8100000" dist="37674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cxnSp>
          <p:nvCxnSpPr>
            <p:cNvPr id="299" name="直接箭头连接符 126"/>
            <p:cNvCxnSpPr>
              <a:stCxn id="269" idx="3"/>
            </p:cNvCxnSpPr>
            <p:nvPr/>
          </p:nvCxnSpPr>
          <p:spPr>
            <a:xfrm flipV="1">
              <a:off x="4791960" y="4023360"/>
              <a:ext cx="1010520" cy="5040"/>
            </a:xfrm>
            <a:prstGeom prst="straightConnector1">
              <a:avLst/>
            </a:prstGeom>
            <a:ln>
              <a:solidFill>
                <a:srgbClr val="fd5b5f"/>
              </a:solidFill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文本框 3"/>
          <p:cNvSpPr/>
          <p:nvPr/>
        </p:nvSpPr>
        <p:spPr>
          <a:xfrm>
            <a:off x="4569840" y="2801160"/>
            <a:ext cx="6518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移动不在于设备，而在于创造和发展与客户的实时关系。设备将发生变更，并且变更得非常迅速，因此要秉承这样的观念：</a:t>
            </a:r>
            <a:r>
              <a:rPr b="0" lang="zh-CN" sz="1800" spc="-1" strike="noStrike">
                <a:solidFill>
                  <a:srgbClr val="fd5b5f"/>
                </a:solidFill>
                <a:latin typeface="Verdana"/>
              </a:rPr>
              <a:t>唯有维持与客户的实时关系才是你所做事情的核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4"/>
          <p:cNvSpPr/>
          <p:nvPr/>
        </p:nvSpPr>
        <p:spPr>
          <a:xfrm>
            <a:off x="1659600" y="207792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5"/>
          <p:cNvSpPr/>
          <p:nvPr/>
        </p:nvSpPr>
        <p:spPr>
          <a:xfrm>
            <a:off x="2564640" y="3028680"/>
            <a:ext cx="851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d5b5f"/>
                </a:solidFill>
                <a:latin typeface="叶根友行书繁"/>
                <a:ea typeface="叶根友行书繁"/>
              </a:rPr>
              <a:t>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直接连接符 8"/>
          <p:cNvCxnSpPr/>
          <p:nvPr/>
        </p:nvCxnSpPr>
        <p:spPr>
          <a:xfrm flipH="1">
            <a:off x="3877200" y="0"/>
            <a:ext cx="1713600" cy="4342680"/>
          </a:xfrm>
          <a:prstGeom prst="straightConnector1">
            <a:avLst/>
          </a:prstGeom>
          <a:ln>
            <a:solidFill>
              <a:srgbClr val="d9d9d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组合 208"/>
          <p:cNvGrpSpPr/>
          <p:nvPr/>
        </p:nvGrpSpPr>
        <p:grpSpPr>
          <a:xfrm>
            <a:off x="1158480" y="2127240"/>
            <a:ext cx="3633480" cy="2334960"/>
            <a:chOff x="1158480" y="2127240"/>
            <a:chExt cx="3633480" cy="2334960"/>
          </a:xfrm>
        </p:grpSpPr>
        <p:grpSp>
          <p:nvGrpSpPr>
            <p:cNvPr id="305" name="组合 196"/>
            <p:cNvGrpSpPr/>
            <p:nvPr/>
          </p:nvGrpSpPr>
          <p:grpSpPr>
            <a:xfrm>
              <a:off x="1158480" y="2127240"/>
              <a:ext cx="1283400" cy="2334960"/>
              <a:chOff x="1158480" y="2127240"/>
              <a:chExt cx="1283400" cy="2334960"/>
            </a:xfrm>
          </p:grpSpPr>
          <p:sp>
            <p:nvSpPr>
              <p:cNvPr id="306" name="文本框 187"/>
              <p:cNvSpPr/>
              <p:nvPr/>
            </p:nvSpPr>
            <p:spPr>
              <a:xfrm>
                <a:off x="1882080" y="2522880"/>
                <a:ext cx="532080" cy="8611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861120"/>
                  <a:gd name="textAreaBottom" fmla="*/ 861480 h 861120"/>
                </a:gdLst>
                <a:ahLst/>
                <a:rect l="textAreaLeft" t="textAreaTop" r="textAreaRight" b="textAreaBottom"/>
                <a:pathLst>
                  <a:path w="532498" h="861460">
                    <a:moveTo>
                      <a:pt x="375478" y="0"/>
                    </a:moveTo>
                    <a:lnTo>
                      <a:pt x="420493" y="33112"/>
                    </a:lnTo>
                    <a:cubicBezTo>
                      <a:pt x="435211" y="47309"/>
                      <a:pt x="448539" y="63857"/>
                      <a:pt x="460478" y="82756"/>
                    </a:cubicBezTo>
                    <a:cubicBezTo>
                      <a:pt x="508236" y="158351"/>
                      <a:pt x="532242" y="269329"/>
                      <a:pt x="532498" y="415690"/>
                    </a:cubicBezTo>
                    <a:lnTo>
                      <a:pt x="532498" y="416805"/>
                    </a:lnTo>
                    <a:cubicBezTo>
                      <a:pt x="532242" y="561610"/>
                      <a:pt x="508236" y="671799"/>
                      <a:pt x="460478" y="747371"/>
                    </a:cubicBezTo>
                    <a:cubicBezTo>
                      <a:pt x="412720" y="822943"/>
                      <a:pt x="342743" y="860973"/>
                      <a:pt x="250548" y="861460"/>
                    </a:cubicBezTo>
                    <a:cubicBezTo>
                      <a:pt x="157912" y="860996"/>
                      <a:pt x="87981" y="822920"/>
                      <a:pt x="40758" y="747232"/>
                    </a:cubicBezTo>
                    <a:cubicBezTo>
                      <a:pt x="28952" y="728310"/>
                      <a:pt x="18618" y="707211"/>
                      <a:pt x="9754" y="683936"/>
                    </a:cubicBezTo>
                    <a:lnTo>
                      <a:pt x="0" y="650347"/>
                    </a:lnTo>
                    <a:lnTo>
                      <a:pt x="51287" y="561515"/>
                    </a:lnTo>
                    <a:lnTo>
                      <a:pt x="54810" y="588896"/>
                    </a:lnTo>
                    <a:cubicBezTo>
                      <a:pt x="63841" y="637397"/>
                      <a:pt x="77313" y="677035"/>
                      <a:pt x="95225" y="707809"/>
                    </a:cubicBezTo>
                    <a:cubicBezTo>
                      <a:pt x="131049" y="769358"/>
                      <a:pt x="182824" y="799772"/>
                      <a:pt x="250548" y="799052"/>
                    </a:cubicBezTo>
                    <a:cubicBezTo>
                      <a:pt x="318319" y="799795"/>
                      <a:pt x="370279" y="769334"/>
                      <a:pt x="406428" y="707670"/>
                    </a:cubicBezTo>
                    <a:cubicBezTo>
                      <a:pt x="442577" y="646005"/>
                      <a:pt x="460826" y="548678"/>
                      <a:pt x="461174" y="415690"/>
                    </a:cubicBezTo>
                    <a:cubicBezTo>
                      <a:pt x="460826" y="281588"/>
                      <a:pt x="442577" y="183426"/>
                      <a:pt x="406428" y="121204"/>
                    </a:cubicBezTo>
                    <a:cubicBezTo>
                      <a:pt x="397391" y="105648"/>
                      <a:pt x="387366" y="92060"/>
                      <a:pt x="376352" y="80440"/>
                    </a:cubicBezTo>
                    <a:lnTo>
                      <a:pt x="344040" y="54453"/>
                    </a:lnTo>
                    <a:lnTo>
                      <a:pt x="375478" y="0"/>
                    </a:lnTo>
                    <a:close/>
                  </a:path>
                </a:pathLst>
              </a:custGeom>
              <a:solidFill>
                <a:srgbClr val="2fa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8800" spc="-1" strike="noStrike">
                  <a:solidFill>
                    <a:srgbClr val="fd5b5f"/>
                  </a:solidFill>
                  <a:latin typeface="AXIS Std L"/>
                  <a:ea typeface="AXIS Std L"/>
                </a:endParaRPr>
              </a:p>
            </p:txBody>
          </p:sp>
          <p:cxnSp>
            <p:nvCxnSpPr>
              <p:cNvPr id="307" name="直接连接符 193"/>
              <p:cNvCxnSpPr/>
              <p:nvPr/>
            </p:nvCxnSpPr>
            <p:spPr>
              <a:xfrm flipH="1">
                <a:off x="1158480" y="2127240"/>
                <a:ext cx="1283760" cy="2335320"/>
              </a:xfrm>
              <a:prstGeom prst="straightConnector1">
                <a:avLst/>
              </a:prstGeom>
              <a:ln>
                <a:solidFill>
                  <a:srgbClr val="2fa1cf"/>
                </a:solidFill>
              </a:ln>
            </p:spPr>
          </p:cxnSp>
        </p:grpSp>
        <p:sp>
          <p:nvSpPr>
            <p:cNvPr id="308" name="文本框 197"/>
            <p:cNvSpPr/>
            <p:nvPr/>
          </p:nvSpPr>
          <p:spPr>
            <a:xfrm>
              <a:off x="1994040" y="3612960"/>
              <a:ext cx="2797920" cy="821160"/>
            </a:xfrm>
            <a:prstGeom prst="rect">
              <a:avLst/>
            </a:prstGeom>
            <a:solidFill>
              <a:srgbClr val="2fa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第二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</a:rPr>
                <a:t>从简单入手</a:t>
              </a: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—短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文本框 1"/>
          <p:cNvSpPr/>
          <p:nvPr/>
        </p:nvSpPr>
        <p:spPr>
          <a:xfrm>
            <a:off x="2353320" y="2254320"/>
            <a:ext cx="8028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2fa1cf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569724268"/>
              </p:ext>
            </p:extLst>
          </p:nvPr>
        </p:nvGraphicFramePr>
        <p:xfrm>
          <a:off x="5115240" y="478800"/>
          <a:ext cx="8127720" cy="5811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10" name="文本框 55"/>
          <p:cNvSpPr/>
          <p:nvPr/>
        </p:nvSpPr>
        <p:spPr>
          <a:xfrm>
            <a:off x="6611760" y="767520"/>
            <a:ext cx="1456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星期一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学习何时、何地、如何以及使用短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56"/>
          <p:cNvSpPr/>
          <p:nvPr/>
        </p:nvSpPr>
        <p:spPr>
          <a:xfrm>
            <a:off x="5567760" y="1716840"/>
            <a:ext cx="1648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星期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Tu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决断商业考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57"/>
          <p:cNvSpPr/>
          <p:nvPr/>
        </p:nvSpPr>
        <p:spPr>
          <a:xfrm>
            <a:off x="5757480" y="2768040"/>
            <a:ext cx="2011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星期三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Wedn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了解你的客户和移动机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58"/>
          <p:cNvSpPr/>
          <p:nvPr/>
        </p:nvSpPr>
        <p:spPr>
          <a:xfrm>
            <a:off x="6012000" y="3964680"/>
            <a:ext cx="196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星期四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将短信融入到整个营销战略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60"/>
          <p:cNvSpPr/>
          <p:nvPr/>
        </p:nvSpPr>
        <p:spPr>
          <a:xfrm>
            <a:off x="6012000" y="5229360"/>
            <a:ext cx="196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星期五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bfbfbf"/>
                </a:solidFill>
                <a:latin typeface="Verdana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管理并评估你的移动信息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直接连接符 6"/>
          <p:cNvCxnSpPr>
            <a:stCxn id="308" idx="3"/>
          </p:cNvCxnSpPr>
          <p:nvPr/>
        </p:nvCxnSpPr>
        <p:spPr>
          <a:xfrm flipV="1">
            <a:off x="4791960" y="3131640"/>
            <a:ext cx="321120" cy="896760"/>
          </a:xfrm>
          <a:prstGeom prst="straightConnector1">
            <a:avLst/>
          </a:prstGeom>
          <a:ln>
            <a:solidFill>
              <a:srgbClr val="2fa1cf"/>
            </a:solidFill>
          </a:ln>
        </p:spPr>
      </p:cxnSp>
      <p:cxnSp>
        <p:nvCxnSpPr>
          <p:cNvPr id="316" name="直接连接符 9"/>
          <p:cNvCxnSpPr>
            <a:stCxn id="308" idx="3"/>
          </p:cNvCxnSpPr>
          <p:nvPr/>
        </p:nvCxnSpPr>
        <p:spPr>
          <a:xfrm>
            <a:off x="4791960" y="4028040"/>
            <a:ext cx="321120" cy="270000"/>
          </a:xfrm>
          <a:prstGeom prst="straightConnector1">
            <a:avLst/>
          </a:prstGeom>
          <a:ln>
            <a:solidFill>
              <a:srgbClr val="2fa1cf"/>
            </a:solidFill>
          </a:ln>
        </p:spPr>
      </p:cxnSp>
      <p:cxnSp>
        <p:nvCxnSpPr>
          <p:cNvPr id="317" name="直接连接符 11"/>
          <p:cNvCxnSpPr>
            <a:stCxn id="308" idx="3"/>
          </p:cNvCxnSpPr>
          <p:nvPr/>
        </p:nvCxnSpPr>
        <p:spPr>
          <a:xfrm>
            <a:off x="4791960" y="4028040"/>
            <a:ext cx="321120" cy="1532520"/>
          </a:xfrm>
          <a:prstGeom prst="straightConnector1">
            <a:avLst/>
          </a:prstGeom>
          <a:ln>
            <a:solidFill>
              <a:srgbClr val="2fa1cf"/>
            </a:solidFill>
          </a:ln>
        </p:spPr>
      </p:cxnSp>
      <p:cxnSp>
        <p:nvCxnSpPr>
          <p:cNvPr id="318" name="直接连接符 13"/>
          <p:cNvCxnSpPr>
            <a:stCxn id="308" idx="3"/>
          </p:cNvCxnSpPr>
          <p:nvPr/>
        </p:nvCxnSpPr>
        <p:spPr>
          <a:xfrm flipV="1">
            <a:off x="4791960" y="2054520"/>
            <a:ext cx="321120" cy="1973880"/>
          </a:xfrm>
          <a:prstGeom prst="straightConnector1">
            <a:avLst/>
          </a:prstGeom>
          <a:ln>
            <a:solidFill>
              <a:srgbClr val="2fa1cf"/>
            </a:solidFill>
          </a:ln>
        </p:spPr>
      </p:cxnSp>
      <p:cxnSp>
        <p:nvCxnSpPr>
          <p:cNvPr id="319" name="直接连接符 15"/>
          <p:cNvCxnSpPr>
            <a:stCxn id="308" idx="3"/>
          </p:cNvCxnSpPr>
          <p:nvPr/>
        </p:nvCxnSpPr>
        <p:spPr>
          <a:xfrm flipV="1">
            <a:off x="4791960" y="1060920"/>
            <a:ext cx="321120" cy="2967480"/>
          </a:xfrm>
          <a:prstGeom prst="straightConnector1">
            <a:avLst/>
          </a:prstGeom>
          <a:ln>
            <a:solidFill>
              <a:srgbClr val="2fa1cf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  <Words>1117</Words>
  <Paragraphs>224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1T08:55:19Z</dcterms:created>
  <dc:creator>布衣白菜</dc:creator>
  <dc:description/>
  <dc:language>en-US</dc:language>
  <cp:lastModifiedBy>王玉清</cp:lastModifiedBy>
  <dcterms:modified xsi:type="dcterms:W3CDTF">2016-03-01T06:45:03Z</dcterms:modified>
  <cp:revision>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宽屏</vt:lpwstr>
  </property>
  <property fmtid="{D5CDD505-2E9C-101B-9397-08002B2CF9AE}" pid="4" name="Slides">
    <vt:r8>23</vt:r8>
  </property>
</Properties>
</file>