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1176480" y="403200"/>
            <a:ext cx="764352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1176480" y="3074400"/>
            <a:ext cx="764352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1176480" y="4032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093280" y="4032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1176480" y="30744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093280" y="30744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1176480" y="403200"/>
            <a:ext cx="2460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760920" y="403200"/>
            <a:ext cx="2460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345360" y="403200"/>
            <a:ext cx="2460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1176480" y="3074400"/>
            <a:ext cx="2460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760920" y="3074400"/>
            <a:ext cx="2460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345360" y="3074400"/>
            <a:ext cx="2460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 name="PlaceHolder 2"/>
          <p:cNvSpPr>
            <a:spLocks noGrp="1"/>
          </p:cNvSpPr>
          <p:nvPr>
            <p:ph type="subTitle"/>
          </p:nvPr>
        </p:nvSpPr>
        <p:spPr>
          <a:xfrm>
            <a:off x="1176480" y="403200"/>
            <a:ext cx="7643520" cy="5113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 name="PlaceHolder 2"/>
          <p:cNvSpPr>
            <a:spLocks noGrp="1"/>
          </p:cNvSpPr>
          <p:nvPr>
            <p:ph/>
          </p:nvPr>
        </p:nvSpPr>
        <p:spPr>
          <a:xfrm>
            <a:off x="1176480" y="403200"/>
            <a:ext cx="764352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p:nvPr>
        </p:nvSpPr>
        <p:spPr>
          <a:xfrm>
            <a:off x="1176480" y="403200"/>
            <a:ext cx="372996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093280" y="403200"/>
            <a:ext cx="372996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95280" y="6092640"/>
            <a:ext cx="763272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1176480" y="4032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093280" y="403200"/>
            <a:ext cx="372996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1176480" y="30744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1176480" y="403200"/>
            <a:ext cx="7643520" cy="5113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1176480" y="403200"/>
            <a:ext cx="372996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093280" y="4032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093280" y="30744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1176480" y="4032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093280" y="4032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1176480" y="3074400"/>
            <a:ext cx="764352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1176480" y="403200"/>
            <a:ext cx="764352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1176480" y="3074400"/>
            <a:ext cx="764352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1176480" y="4032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093280" y="4032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1176480" y="30744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093280" y="30744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1176480" y="403200"/>
            <a:ext cx="2460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760920" y="403200"/>
            <a:ext cx="2460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345360" y="403200"/>
            <a:ext cx="2460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1176480" y="3074400"/>
            <a:ext cx="2460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760920" y="3074400"/>
            <a:ext cx="2460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345360" y="3074400"/>
            <a:ext cx="2460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1176480" y="403200"/>
            <a:ext cx="764352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1176480" y="403200"/>
            <a:ext cx="372996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093280" y="403200"/>
            <a:ext cx="372996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95280" y="6092640"/>
            <a:ext cx="763272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1176480" y="4032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093280" y="403200"/>
            <a:ext cx="372996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1176480" y="30744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1176480" y="403200"/>
            <a:ext cx="372996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093280" y="4032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093280" y="30744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5280" y="6025320"/>
            <a:ext cx="7632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1176480" y="4032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093280" y="403200"/>
            <a:ext cx="37299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1176480" y="3074400"/>
            <a:ext cx="764352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6092640"/>
            <a:ext cx="76327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1176480" y="403200"/>
            <a:ext cx="7643520" cy="5113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95280" y="6092640"/>
            <a:ext cx="76327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 name="PlaceHolder 2"/>
          <p:cNvSpPr>
            <a:spLocks noGrp="1"/>
          </p:cNvSpPr>
          <p:nvPr>
            <p:ph type="body"/>
          </p:nvPr>
        </p:nvSpPr>
        <p:spPr>
          <a:xfrm>
            <a:off x="1176480" y="403200"/>
            <a:ext cx="7643520" cy="5113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02840" y="979200"/>
            <a:ext cx="805644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00"/>
                </a:solidFill>
                <a:latin typeface="Arial"/>
                <a:ea typeface="宋体"/>
              </a:rPr>
              <a:t>爱心礼物通用</a:t>
            </a:r>
            <a:r>
              <a:rPr b="0" lang="en-US" sz="4000" spc="-1" strike="noStrike">
                <a:solidFill>
                  <a:srgbClr val="990000"/>
                </a:solidFill>
                <a:latin typeface="Arial"/>
                <a:ea typeface="宋体"/>
              </a:rPr>
              <a:t>PPT</a:t>
            </a:r>
            <a:r>
              <a:rPr b="0" lang="zh-CN" sz="4000" spc="-1" strike="noStrike">
                <a:solidFill>
                  <a:srgbClr val="990000"/>
                </a:solidFill>
                <a:latin typeface="Arial"/>
                <a:ea typeface="宋体"/>
              </a:rPr>
              <a:t>模板完整版下载</a:t>
            </a:r>
            <a:endParaRPr b="1" lang="en-US" sz="4000" spc="-1" strike="noStrike">
              <a:solidFill>
                <a:srgbClr val="ffffff"/>
              </a:solidFill>
              <a:latin typeface="Arial"/>
            </a:endParaRPr>
          </a:p>
        </p:txBody>
      </p:sp>
      <p:sp>
        <p:nvSpPr>
          <p:cNvPr id="77" name="PlaceHolder 2"/>
          <p:cNvSpPr>
            <a:spLocks noGrp="1"/>
          </p:cNvSpPr>
          <p:nvPr>
            <p:ph type="subTitle"/>
          </p:nvPr>
        </p:nvSpPr>
        <p:spPr>
          <a:xfrm>
            <a:off x="468000" y="1557360"/>
            <a:ext cx="7272360" cy="5032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990000"/>
              </a:solidFill>
              <a:latin typeface="Arial"/>
            </a:endParaRPr>
          </a:p>
        </p:txBody>
      </p:sp>
      <p:sp>
        <p:nvSpPr>
          <p:cNvPr id="7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94920" y="5950080"/>
            <a:ext cx="77058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Second Page</a:t>
            </a:r>
            <a:endParaRPr b="1" lang="en-US" sz="3200" spc="-1" strike="noStrike">
              <a:solidFill>
                <a:srgbClr val="ffffff"/>
              </a:solidFill>
              <a:latin typeface="Arial"/>
            </a:endParaRPr>
          </a:p>
        </p:txBody>
      </p:sp>
      <p:sp>
        <p:nvSpPr>
          <p:cNvPr id="80" name="PlaceHolder 2"/>
          <p:cNvSpPr>
            <a:spLocks noGrp="1"/>
          </p:cNvSpPr>
          <p:nvPr>
            <p:ph/>
          </p:nvPr>
        </p:nvSpPr>
        <p:spPr>
          <a:xfrm>
            <a:off x="1042560" y="709560"/>
            <a:ext cx="6769080" cy="4448160"/>
          </a:xfrm>
          <a:prstGeom prst="rect">
            <a:avLst/>
          </a:prstGeom>
          <a:noFill/>
          <a:ln w="0">
            <a:noFill/>
          </a:ln>
        </p:spPr>
        <p:txBody>
          <a:bodyPr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8000" y="188640"/>
            <a:ext cx="7056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4d4d"/>
              </a:solidFill>
              <a:latin typeface="Arial"/>
              <a:ea typeface="宋体"/>
            </a:endParaRPr>
          </a:p>
        </p:txBody>
      </p:sp>
      <p:sp>
        <p:nvSpPr>
          <p:cNvPr id="82" name="PlaceHolder 2"/>
          <p:cNvSpPr>
            <a:spLocks noGrp="1"/>
          </p:cNvSpPr>
          <p:nvPr>
            <p:ph/>
          </p:nvPr>
        </p:nvSpPr>
        <p:spPr>
          <a:xfrm>
            <a:off x="1908000" y="1052280"/>
            <a:ext cx="7056720" cy="561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7T00:35:30Z</dcterms:created>
  <dc:creator>雨林木风</dc:creator>
  <dc:description/>
  <dc:language>en-US</dc:language>
  <cp:lastModifiedBy>王玉清</cp:lastModifiedBy>
  <dcterms:modified xsi:type="dcterms:W3CDTF">2016-02-20T04:27:21Z</dcterms:modified>
  <cp:revision>4</cp:revision>
  <dc:subject/>
  <dc:title>Name of presentation</dc:title>
</cp:coreProperties>
</file>