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C8D7-25CB-4A36-93FB-C6DABC9F0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820728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680640"/>
            <a:ext cx="820728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35AA-2B8A-4E66-A4FA-FF4CB121E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68064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68064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E430-6829-470C-8FA9-411EF6495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82980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82980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68064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68064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68064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E74E-0A97-4756-8F0B-C034C6AA2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829800"/>
            <a:ext cx="820728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820728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40050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829800"/>
            <a:ext cx="40050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4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829800"/>
            <a:ext cx="40050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68064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829800"/>
            <a:ext cx="8207280" cy="54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CD4F-D0A8-47AB-9355-AB57CDE05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40050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68064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680640"/>
            <a:ext cx="820728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820728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680640"/>
            <a:ext cx="820728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68064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68064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82980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82980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68064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68064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680640"/>
            <a:ext cx="26424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820728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0A2B-4741-4210-BBDD-A3C5EA9D4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40050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829800"/>
            <a:ext cx="40050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CAD3-F550-4F1C-97E2-47CE15975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5D05-9ADE-428C-A0B4-7E38ED4C8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-36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2DE0-499B-4C72-830A-06C070A67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829800"/>
            <a:ext cx="40050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68064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C643-8EAF-4187-AE74-F3E3DD18A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40050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68064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4626-61C7-4B9E-A9C9-DEB8EAA82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829800"/>
            <a:ext cx="400500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680640"/>
            <a:ext cx="8207280" cy="26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125F-199D-4CCA-A60E-BB8434322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0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11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829800"/>
            <a:ext cx="820728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2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2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110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98417D0-CEEB-436E-B2A2-C4C21C38C2E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" descr="2"/>
          <p:cNvPicPr/>
          <p:nvPr/>
        </p:nvPicPr>
        <p:blipFill>
          <a:blip r:embed="rId2"/>
          <a:stretch/>
        </p:blipFill>
        <p:spPr>
          <a:xfrm>
            <a:off x="2519280" y="0"/>
            <a:ext cx="6624720" cy="688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1" descr="1"/>
          <p:cNvPicPr/>
          <p:nvPr/>
        </p:nvPicPr>
        <p:blipFill>
          <a:blip r:embed="rId3"/>
          <a:stretch/>
        </p:blipFill>
        <p:spPr>
          <a:xfrm>
            <a:off x="0" y="0"/>
            <a:ext cx="709128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2867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68360" y="829800"/>
            <a:ext cx="820728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2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2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8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bs.ruideppt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9160" y="2090880"/>
            <a:ext cx="794088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奔跑的外国美女通用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90760" y="31698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>
            <a:hlinkClick r:id="rId1"/>
          </p:cNvPr>
          <p:cNvSpPr/>
          <p:nvPr/>
        </p:nvSpPr>
        <p:spPr>
          <a:xfrm>
            <a:off x="314280" y="5749920"/>
            <a:ext cx="501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模板网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904CD9DE-EAD4-4D51-B5CF-373F4BCC273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829800"/>
            <a:ext cx="820728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王玉清</cp:lastModifiedBy>
  <dcterms:modified xsi:type="dcterms:W3CDTF">2016-02-21T04:10:43Z</dcterms:modified>
  <cp:revision>191</cp:revision>
  <dc:subject/>
  <dc:title>PowerPoint Template</dc:title>
</cp:coreProperties>
</file>