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2E1161F-1BB5-42C2-8087-0ED0C100A9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3979543-1E83-4880-B17F-6A715DBC4F7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E338690-4A7C-4344-B18D-8D051BFB7A8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A908-9053-4F4E-A5D4-C22B0CA68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DF4E-B16E-45E2-B4C9-9F687ADA6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90CE-6AB4-4903-BF20-633A9057C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FD7F-0A9E-4EE1-8429-817B08EF3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7CF9A-6F0C-4A52-8858-5274F9866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AE085-21CA-4F70-BF60-97D9EBEC6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499C0-A2ED-4569-B75C-0BFAFEE9A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F64E7-A7A5-4656-BFF8-9664C87C6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AC9FE-E372-4A45-9AA1-B48937CEA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6E40D-EB3A-4400-BC56-5CD8D5901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92660-99CD-4B40-A03A-7FF9042B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EC5D-F2DD-4194-834B-03AC5701D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1BB7F-857E-4F2C-B042-D47413D5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10FE2-5452-40C0-B23F-73121276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7300E-7412-4A21-94D5-734485AC6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A31BF-D707-4186-BCC7-A44B9084A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71696-B0CE-4D97-A200-B527F5415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847B6-949A-4235-891A-3E29881F7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66E49-2588-4FFE-9AAA-3FF961873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D4C09-9511-446B-90DD-5D8387FF8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45A0E-6B8C-4472-90D0-533456109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BAED8-D61A-4C91-820E-CDD2FACEE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1B0B-2DF8-4D94-9242-BA8F8BD68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4DB55-71F6-4E73-88D9-AEC5F4E97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F36EB-BBF3-4BC0-A4A5-EC3AD521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803D6-EDD2-4443-AF5B-49413394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760D6-D6F6-44CC-B95D-4FC1505B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10A51-F17F-4C3E-8518-16909F8AB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B390E-1D00-47A0-B7CE-41398DCE8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AF59A-6870-46E4-B9DC-659597F13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8F74-2ECE-4BED-A03B-C74B68620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B5EC-F7E5-4709-BBAA-9F3F98C23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7DCA-C7DE-44B0-AC82-31D3D43A2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C38F-258F-462A-9A9E-4AD0C99B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2D19-0696-4E7C-85A8-78997449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7EBC-99DA-481D-8C61-08D19F76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BB61177-EF3E-402D-AE5A-673DBF19BC6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75F9E48-CB1B-4ED2-BFCE-1C976517B946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74D584D-4384-4358-B284-A30DB9370F4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圆角矩形 1027"/>
          <p:cNvSpPr/>
          <p:nvPr/>
        </p:nvSpPr>
        <p:spPr>
          <a:xfrm>
            <a:off x="0" y="1484280"/>
            <a:ext cx="9143640" cy="3960360"/>
          </a:xfrm>
          <a:prstGeom prst="roundRect">
            <a:avLst>
              <a:gd name="adj" fmla="val 0"/>
            </a:avLst>
          </a:prstGeom>
          <a:solidFill>
            <a:srgbClr val="e8121a">
              <a:alpha val="51000"/>
            </a:srgbClr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0" name="TextBox 23"/>
          <p:cNvSpPr/>
          <p:nvPr/>
        </p:nvSpPr>
        <p:spPr>
          <a:xfrm>
            <a:off x="1540800" y="5141160"/>
            <a:ext cx="136656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张志 著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Box 24"/>
          <p:cNvSpPr/>
          <p:nvPr/>
        </p:nvSpPr>
        <p:spPr>
          <a:xfrm rot="16200">
            <a:off x="3865320" y="1088280"/>
            <a:ext cx="22330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不是人生导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Box 26"/>
          <p:cNvSpPr/>
          <p:nvPr/>
        </p:nvSpPr>
        <p:spPr>
          <a:xfrm rot="21550800">
            <a:off x="1577520" y="1104840"/>
            <a:ext cx="21585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没有标准答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Box 27"/>
          <p:cNvSpPr/>
          <p:nvPr/>
        </p:nvSpPr>
        <p:spPr>
          <a:xfrm rot="15000">
            <a:off x="6227280" y="1093680"/>
            <a:ext cx="2231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不是心灵鸡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Box 1024"/>
          <p:cNvSpPr/>
          <p:nvPr/>
        </p:nvSpPr>
        <p:spPr>
          <a:xfrm>
            <a:off x="3716640" y="3357720"/>
            <a:ext cx="28666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一本真正帮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大学生</a:t>
            </a:r>
            <a:r>
              <a:rPr b="1" lang="zh-CN" sz="28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成长</a:t>
            </a:r>
            <a:r>
              <a:rPr b="1" lang="zh-CN" sz="18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的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Box 1032"/>
          <p:cNvSpPr/>
          <p:nvPr/>
        </p:nvSpPr>
        <p:spPr>
          <a:xfrm>
            <a:off x="1280880" y="1123200"/>
            <a:ext cx="431280" cy="211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800" spc="-1" strike="noStrike">
                <a:solidFill>
                  <a:srgbClr val="ffffff"/>
                </a:solidFill>
                <a:latin typeface="Calibri"/>
                <a:ea typeface="宋体"/>
              </a:rPr>
              <a:t>口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Box 42"/>
          <p:cNvSpPr/>
          <p:nvPr/>
        </p:nvSpPr>
        <p:spPr>
          <a:xfrm>
            <a:off x="5960880" y="1123200"/>
            <a:ext cx="433080" cy="211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800" spc="-1" strike="noStrike">
                <a:solidFill>
                  <a:srgbClr val="ffffff"/>
                </a:solidFill>
                <a:latin typeface="Calibri"/>
                <a:ea typeface="宋体"/>
              </a:rPr>
              <a:t>口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Box 43"/>
          <p:cNvSpPr/>
          <p:nvPr/>
        </p:nvSpPr>
        <p:spPr>
          <a:xfrm>
            <a:off x="3620880" y="1123200"/>
            <a:ext cx="431280" cy="211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800" spc="-1" strike="noStrike">
                <a:solidFill>
                  <a:srgbClr val="ffffff"/>
                </a:solidFill>
                <a:latin typeface="Calibri"/>
                <a:ea typeface="宋体"/>
              </a:rPr>
              <a:t>口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图片 18" descr="图片1.png"/>
          <p:cNvPicPr/>
          <p:nvPr/>
        </p:nvPicPr>
        <p:blipFill>
          <a:blip r:embed="rId1"/>
          <a:stretch/>
        </p:blipFill>
        <p:spPr>
          <a:xfrm rot="20625600">
            <a:off x="427320" y="1233720"/>
            <a:ext cx="2855880" cy="3728880"/>
          </a:xfrm>
          <a:prstGeom prst="rect">
            <a:avLst/>
          </a:prstGeom>
          <a:ln w="0">
            <a:noFill/>
          </a:ln>
          <a:effectLst>
            <a:outerShdw algn="tl" blurRad="190440" rotWithShape="0">
              <a:srgbClr val="000000">
                <a:alpha val="70000"/>
              </a:srgbClr>
            </a:outerShdw>
          </a:effectLst>
        </p:spPr>
      </p:pic>
      <p:sp>
        <p:nvSpPr>
          <p:cNvPr id="139" name="TextBox 24"/>
          <p:cNvSpPr/>
          <p:nvPr/>
        </p:nvSpPr>
        <p:spPr>
          <a:xfrm>
            <a:off x="1587240" y="5484960"/>
            <a:ext cx="22330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江苏文艺出版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矩形 1"/>
          <p:cNvSpPr/>
          <p:nvPr/>
        </p:nvSpPr>
        <p:spPr>
          <a:xfrm>
            <a:off x="2177280" y="438480"/>
            <a:ext cx="50680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不要等到毕业以后通用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图片 14" descr="003.JPG"/>
          <p:cNvPicPr/>
          <p:nvPr/>
        </p:nvPicPr>
        <p:blipFill>
          <a:blip r:embed="rId1"/>
          <a:stretch/>
        </p:blipFill>
        <p:spPr>
          <a:xfrm rot="-20182200">
            <a:off x="7444440" y="844560"/>
            <a:ext cx="1099800" cy="1628280"/>
          </a:xfrm>
          <a:prstGeom prst="rect">
            <a:avLst/>
          </a:prstGeom>
          <a:ln cap="sq" w="1905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30000"/>
              </a:srgbClr>
            </a:outerShdw>
          </a:effectLst>
          <a:scene3d>
            <a:camera prst="orthographicFront">
              <a:rot lat="0" lon="0" rev="360000"/>
            </a:camera>
            <a:lightRig dir="t" rig="twoPt">
              <a:rot lat="0" lon="0" rev="7200000"/>
            </a:lightRig>
          </a:scene3d>
          <a:sp3d contourW="12700">
            <a:bevelT w="25400" h="19050"/>
            <a:contourClr>
              <a:srgbClr val="969696"/>
            </a:contourClr>
          </a:sp3d>
        </p:spPr>
      </p:pic>
      <p:pic>
        <p:nvPicPr>
          <p:cNvPr id="224" name="图片 15" descr="4c4cee11jw1dva0fenv9vj.jpg"/>
          <p:cNvPicPr/>
          <p:nvPr/>
        </p:nvPicPr>
        <p:blipFill>
          <a:blip r:embed="rId2"/>
          <a:stretch/>
        </p:blipFill>
        <p:spPr>
          <a:xfrm rot="-20941200">
            <a:off x="5376600" y="4929840"/>
            <a:ext cx="1330920" cy="1772280"/>
          </a:xfrm>
          <a:prstGeom prst="rect">
            <a:avLst/>
          </a:prstGeom>
          <a:ln cap="sq" w="1905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30000"/>
              </a:srgbClr>
            </a:outerShdw>
          </a:effectLst>
          <a:scene3d>
            <a:camera prst="orthographicFront">
              <a:rot lat="0" lon="0" rev="360000"/>
            </a:camera>
            <a:lightRig dir="t" rig="twoPt">
              <a:rot lat="0" lon="0" rev="7200000"/>
            </a:lightRig>
          </a:scene3d>
          <a:sp3d contourW="12700">
            <a:bevelT w="25400" h="19050"/>
            <a:contourClr>
              <a:srgbClr val="969696"/>
            </a:contourClr>
          </a:sp3d>
        </p:spPr>
      </p:pic>
      <p:pic>
        <p:nvPicPr>
          <p:cNvPr id="225" name="图片 16" descr="008.JPG"/>
          <p:cNvPicPr/>
          <p:nvPr/>
        </p:nvPicPr>
        <p:blipFill>
          <a:blip r:embed="rId3"/>
          <a:stretch/>
        </p:blipFill>
        <p:spPr>
          <a:xfrm rot="-20488800">
            <a:off x="3259440" y="246600"/>
            <a:ext cx="941400" cy="1412280"/>
          </a:xfrm>
          <a:prstGeom prst="rect">
            <a:avLst/>
          </a:prstGeom>
          <a:ln cap="sq" w="1905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30000"/>
              </a:srgbClr>
            </a:outerShdw>
          </a:effectLst>
          <a:scene3d>
            <a:camera prst="orthographicFront">
              <a:rot lat="0" lon="0" rev="360000"/>
            </a:camera>
            <a:lightRig dir="t" rig="twoPt">
              <a:rot lat="0" lon="0" rev="7200000"/>
            </a:lightRig>
          </a:scene3d>
          <a:sp3d contourW="12700">
            <a:bevelT w="25400" h="19050"/>
            <a:contourClr>
              <a:srgbClr val="969696"/>
            </a:contourClr>
          </a:sp3d>
        </p:spPr>
      </p:pic>
      <p:pic>
        <p:nvPicPr>
          <p:cNvPr id="226" name="图片 17" descr="013.JPG"/>
          <p:cNvPicPr/>
          <p:nvPr/>
        </p:nvPicPr>
        <p:blipFill>
          <a:blip r:embed="rId4"/>
          <a:stretch/>
        </p:blipFill>
        <p:spPr>
          <a:xfrm rot="-20784600">
            <a:off x="7620480" y="3889080"/>
            <a:ext cx="1037520" cy="1556280"/>
          </a:xfrm>
          <a:prstGeom prst="rect">
            <a:avLst/>
          </a:prstGeom>
          <a:ln cap="sq" w="1905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30000"/>
              </a:srgbClr>
            </a:outerShdw>
          </a:effectLst>
          <a:scene3d>
            <a:camera prst="orthographicFront">
              <a:rot lat="0" lon="0" rev="360000"/>
            </a:camera>
            <a:lightRig dir="t" rig="twoPt">
              <a:rot lat="0" lon="0" rev="7200000"/>
            </a:lightRig>
          </a:scene3d>
          <a:sp3d contourW="12700">
            <a:bevelT w="25400" h="19050"/>
            <a:contourClr>
              <a:srgbClr val="969696"/>
            </a:contourClr>
          </a:sp3d>
        </p:spPr>
      </p:pic>
      <p:pic>
        <p:nvPicPr>
          <p:cNvPr id="227" name="图片 18" descr="016.JPG"/>
          <p:cNvPicPr/>
          <p:nvPr/>
        </p:nvPicPr>
        <p:blipFill>
          <a:blip r:embed="rId5"/>
          <a:stretch/>
        </p:blipFill>
        <p:spPr>
          <a:xfrm>
            <a:off x="6012000" y="1124640"/>
            <a:ext cx="959760" cy="1439640"/>
          </a:xfrm>
          <a:prstGeom prst="rect">
            <a:avLst/>
          </a:prstGeom>
          <a:ln cap="sq" w="1905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30000"/>
              </a:srgbClr>
            </a:outerShdw>
          </a:effectLst>
          <a:scene3d>
            <a:camera prst="orthographicFront">
              <a:rot lat="0" lon="0" rev="360000"/>
            </a:camera>
            <a:lightRig dir="t" rig="twoPt">
              <a:rot lat="0" lon="0" rev="7200000"/>
            </a:lightRig>
          </a:scene3d>
          <a:sp3d contourW="12700">
            <a:bevelT w="25400" h="19050"/>
            <a:contourClr>
              <a:srgbClr val="969696"/>
            </a:contourClr>
          </a:sp3d>
        </p:spPr>
      </p:pic>
      <p:pic>
        <p:nvPicPr>
          <p:cNvPr id="228" name="图片 20" descr="017.JPG"/>
          <p:cNvPicPr/>
          <p:nvPr/>
        </p:nvPicPr>
        <p:blipFill>
          <a:blip r:embed="rId6"/>
          <a:stretch/>
        </p:blipFill>
        <p:spPr>
          <a:xfrm>
            <a:off x="611280" y="1700640"/>
            <a:ext cx="1247760" cy="1872000"/>
          </a:xfrm>
          <a:prstGeom prst="rect">
            <a:avLst/>
          </a:prstGeom>
          <a:ln cap="sq" w="1905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30000"/>
              </a:srgbClr>
            </a:outerShdw>
          </a:effectLst>
          <a:scene3d>
            <a:camera prst="orthographicFront">
              <a:rot lat="0" lon="0" rev="360000"/>
            </a:camera>
            <a:lightRig dir="t" rig="twoPt">
              <a:rot lat="0" lon="0" rev="7200000"/>
            </a:lightRig>
          </a:scene3d>
          <a:sp3d contourW="12700">
            <a:bevelT w="25400" h="19050"/>
            <a:contourClr>
              <a:srgbClr val="969696"/>
            </a:contourClr>
          </a:sp3d>
        </p:spPr>
      </p:pic>
      <p:pic>
        <p:nvPicPr>
          <p:cNvPr id="229" name="图片 22" descr="019.JPG"/>
          <p:cNvPicPr/>
          <p:nvPr/>
        </p:nvPicPr>
        <p:blipFill>
          <a:blip r:embed="rId7"/>
          <a:stretch/>
        </p:blipFill>
        <p:spPr>
          <a:xfrm rot="-1315800">
            <a:off x="1791720" y="4464720"/>
            <a:ext cx="1295640" cy="1944000"/>
          </a:xfrm>
          <a:prstGeom prst="rect">
            <a:avLst/>
          </a:prstGeom>
          <a:ln cap="sq" w="1905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30000"/>
              </a:srgbClr>
            </a:outerShdw>
          </a:effectLst>
          <a:scene3d>
            <a:camera prst="orthographicFront">
              <a:rot lat="0" lon="0" rev="360000"/>
            </a:camera>
            <a:lightRig dir="t" rig="twoPt">
              <a:rot lat="0" lon="0" rev="7200000"/>
            </a:lightRig>
          </a:scene3d>
          <a:sp3d contourW="12700">
            <a:bevelT w="25400" h="19050"/>
            <a:contourClr>
              <a:srgbClr val="969696"/>
            </a:contourClr>
          </a:sp3d>
        </p:spPr>
      </p:pic>
      <p:pic>
        <p:nvPicPr>
          <p:cNvPr id="230" name="图片 23" descr="023.JPG"/>
          <p:cNvPicPr/>
          <p:nvPr/>
        </p:nvPicPr>
        <p:blipFill>
          <a:blip r:embed="rId8"/>
          <a:stretch/>
        </p:blipFill>
        <p:spPr>
          <a:xfrm>
            <a:off x="3635640" y="2060640"/>
            <a:ext cx="1853640" cy="2780640"/>
          </a:xfrm>
          <a:prstGeom prst="rect">
            <a:avLst/>
          </a:prstGeom>
          <a:ln cap="sq" w="1905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30000"/>
              </a:srgbClr>
            </a:outerShdw>
          </a:effectLst>
          <a:scene3d>
            <a:camera prst="orthographicFront">
              <a:rot lat="0" lon="0" rev="360000"/>
            </a:camera>
            <a:lightRig dir="t" rig="twoPt">
              <a:rot lat="0" lon="0" rev="7200000"/>
            </a:lightRig>
          </a:scene3d>
          <a:sp3d contourW="12700">
            <a:bevelT w="25400" h="19050"/>
            <a:contourClr>
              <a:srgbClr val="969696"/>
            </a:contourClr>
          </a:sp3d>
        </p:spPr>
      </p:pic>
      <p:sp>
        <p:nvSpPr>
          <p:cNvPr id="231" name="矩形 12"/>
          <p:cNvSpPr/>
          <p:nvPr/>
        </p:nvSpPr>
        <p:spPr>
          <a:xfrm>
            <a:off x="0" y="2280240"/>
            <a:ext cx="9143640" cy="2228400"/>
          </a:xfrm>
          <a:prstGeom prst="rect">
            <a:avLst/>
          </a:prstGeom>
          <a:solidFill>
            <a:schemeClr val="tx1">
              <a:alpha val="26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32" name="TextBox 14"/>
          <p:cNvSpPr/>
          <p:nvPr/>
        </p:nvSpPr>
        <p:spPr>
          <a:xfrm>
            <a:off x="1875240" y="2411280"/>
            <a:ext cx="2104200" cy="1461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作者简介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原名：张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俗称：秋叶大叔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大号：</a:t>
            </a:r>
            <a:r>
              <a:rPr b="0" lang="en-US" sz="18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Q</a:t>
            </a:r>
            <a:r>
              <a:rPr b="0" lang="zh-CN" sz="18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叔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人生信条：组织内</a:t>
            </a:r>
            <a:r>
              <a:rPr b="0" lang="en-US" sz="18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U</a:t>
            </a:r>
            <a:r>
              <a:rPr b="0" lang="zh-CN" sz="18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盘化生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Box 19"/>
          <p:cNvSpPr/>
          <p:nvPr/>
        </p:nvSpPr>
        <p:spPr>
          <a:xfrm>
            <a:off x="4601880" y="3851280"/>
            <a:ext cx="24102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制作：</a:t>
            </a:r>
            <a:r>
              <a:rPr b="0" lang="en-US" sz="18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@wm_</a:t>
            </a:r>
            <a:r>
              <a:rPr b="0" lang="zh-CN" sz="18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知易行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4" name="肘形连接符 21"/>
          <p:cNvCxnSpPr/>
          <p:nvPr/>
        </p:nvCxnSpPr>
        <p:spPr>
          <a:xfrm>
            <a:off x="1476360" y="3850920"/>
            <a:ext cx="5675400" cy="319680"/>
          </a:xfrm>
          <a:prstGeom prst="bentConnector2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235" name="TextBox 24"/>
          <p:cNvSpPr/>
          <p:nvPr/>
        </p:nvSpPr>
        <p:spPr>
          <a:xfrm>
            <a:off x="7277400" y="414036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谢谢观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图片 4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956360" y="2421000"/>
            <a:ext cx="1368000" cy="2060280"/>
          </a:xfrm>
          <a:prstGeom prst="rect">
            <a:avLst/>
          </a:prstGeom>
          <a:ln w="9525">
            <a:noFill/>
          </a:ln>
        </p:spPr>
      </p:pic>
      <p:pic>
        <p:nvPicPr>
          <p:cNvPr id="237" name="图片 7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49320" y="2305800"/>
            <a:ext cx="1474560" cy="2204640"/>
          </a:xfrm>
          <a:prstGeom prst="rect">
            <a:avLst/>
          </a:prstGeom>
          <a:ln w="9525">
            <a:noFill/>
          </a:ln>
        </p:spPr>
      </p:pic>
      <p:pic>
        <p:nvPicPr>
          <p:cNvPr id="238" name="图片 6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3303720" y="980640"/>
            <a:ext cx="2534760" cy="4163760"/>
          </a:xfrm>
          <a:prstGeom prst="rect">
            <a:avLst/>
          </a:prstGeom>
          <a:ln w="9525">
            <a:noFill/>
          </a:ln>
        </p:spPr>
      </p:pic>
      <p:sp>
        <p:nvSpPr>
          <p:cNvPr id="239" name="矩形 12"/>
          <p:cNvSpPr/>
          <p:nvPr/>
        </p:nvSpPr>
        <p:spPr>
          <a:xfrm>
            <a:off x="0" y="2280240"/>
            <a:ext cx="9143640" cy="2228400"/>
          </a:xfrm>
          <a:prstGeom prst="rect">
            <a:avLst/>
          </a:prstGeom>
          <a:solidFill>
            <a:schemeClr val="tx1">
              <a:alpha val="26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pic>
        <p:nvPicPr>
          <p:cNvPr id="240" name="图片 5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7164360" y="547560"/>
            <a:ext cx="1155240" cy="1728360"/>
          </a:xfrm>
          <a:prstGeom prst="rect">
            <a:avLst/>
          </a:prstGeom>
          <a:ln w="9525">
            <a:noFill/>
          </a:ln>
        </p:spPr>
      </p:pic>
      <p:pic>
        <p:nvPicPr>
          <p:cNvPr id="241" name="图片 8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1619280" y="406440"/>
            <a:ext cx="1393560" cy="2085480"/>
          </a:xfrm>
          <a:prstGeom prst="rect">
            <a:avLst/>
          </a:prstGeom>
          <a:ln w="9525">
            <a:noFill/>
          </a:ln>
        </p:spPr>
      </p:pic>
      <p:pic>
        <p:nvPicPr>
          <p:cNvPr id="242" name="图片 9" descr=""/>
          <p:cNvPicPr/>
          <p:nvPr/>
        </p:nvPicPr>
        <p:blipFill>
          <a:blip r:embed="rId6">
            <a:lum bright="70000" contrast="-70000"/>
          </a:blip>
          <a:stretch/>
        </p:blipFill>
        <p:spPr>
          <a:xfrm>
            <a:off x="5796000" y="4392720"/>
            <a:ext cx="1512360" cy="2491920"/>
          </a:xfrm>
          <a:prstGeom prst="rect">
            <a:avLst/>
          </a:prstGeom>
          <a:ln w="9525">
            <a:noFill/>
          </a:ln>
        </p:spPr>
      </p:pic>
      <p:pic>
        <p:nvPicPr>
          <p:cNvPr id="243" name="图片 10" descr=""/>
          <p:cNvPicPr/>
          <p:nvPr/>
        </p:nvPicPr>
        <p:blipFill>
          <a:blip r:embed="rId7">
            <a:lum bright="70000" contrast="-70000"/>
          </a:blip>
          <a:stretch/>
        </p:blipFill>
        <p:spPr>
          <a:xfrm>
            <a:off x="5435640" y="765000"/>
            <a:ext cx="1009440" cy="1510920"/>
          </a:xfrm>
          <a:prstGeom prst="rect">
            <a:avLst/>
          </a:prstGeom>
          <a:ln w="9525">
            <a:noFill/>
          </a:ln>
        </p:spPr>
      </p:pic>
      <p:pic>
        <p:nvPicPr>
          <p:cNvPr id="244" name="图片 11" descr=""/>
          <p:cNvPicPr/>
          <p:nvPr/>
        </p:nvPicPr>
        <p:blipFill>
          <a:blip r:embed="rId8">
            <a:lum bright="70000" contrast="-70000"/>
          </a:blip>
          <a:stretch/>
        </p:blipFill>
        <p:spPr>
          <a:xfrm>
            <a:off x="1547640" y="5024520"/>
            <a:ext cx="1223640" cy="1860120"/>
          </a:xfrm>
          <a:prstGeom prst="rect">
            <a:avLst/>
          </a:prstGeom>
          <a:ln w="9525">
            <a:noFill/>
          </a:ln>
        </p:spPr>
      </p:pic>
      <p:sp>
        <p:nvSpPr>
          <p:cNvPr id="245" name="TextBox 14"/>
          <p:cNvSpPr/>
          <p:nvPr/>
        </p:nvSpPr>
        <p:spPr>
          <a:xfrm>
            <a:off x="1875240" y="2411280"/>
            <a:ext cx="2104200" cy="1461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作者简介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原名：张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俗称：秋叶大叔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大号：</a:t>
            </a:r>
            <a:r>
              <a:rPr b="0" lang="en-US" sz="18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Q</a:t>
            </a:r>
            <a:r>
              <a:rPr b="0" lang="zh-CN" sz="18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叔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人生信条：组织内</a:t>
            </a:r>
            <a:r>
              <a:rPr b="0" lang="en-US" sz="18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U</a:t>
            </a:r>
            <a:r>
              <a:rPr b="0" lang="zh-CN" sz="18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盘化生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Box 19"/>
          <p:cNvSpPr/>
          <p:nvPr/>
        </p:nvSpPr>
        <p:spPr>
          <a:xfrm>
            <a:off x="4601880" y="3851280"/>
            <a:ext cx="24102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制作：</a:t>
            </a:r>
            <a:r>
              <a:rPr b="0" lang="en-US" sz="18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@wm_</a:t>
            </a:r>
            <a:r>
              <a:rPr b="0" lang="zh-CN" sz="18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知易行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7" name="肘形连接符 21"/>
          <p:cNvCxnSpPr/>
          <p:nvPr/>
        </p:nvCxnSpPr>
        <p:spPr>
          <a:xfrm>
            <a:off x="1476360" y="3850920"/>
            <a:ext cx="5675400" cy="319680"/>
          </a:xfrm>
          <a:prstGeom prst="bentConnector2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248" name="TextBox 24"/>
          <p:cNvSpPr/>
          <p:nvPr/>
        </p:nvSpPr>
        <p:spPr>
          <a:xfrm>
            <a:off x="7277400" y="414036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谢谢观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900000" y="907920"/>
            <a:ext cx="3058920" cy="4292280"/>
          </a:xfrm>
          <a:prstGeom prst="rect">
            <a:avLst/>
          </a:prstGeom>
          <a:ln w="9525">
            <a:noFill/>
          </a:ln>
        </p:spPr>
      </p:pic>
      <p:sp>
        <p:nvSpPr>
          <p:cNvPr id="143" name="TextBox 27"/>
          <p:cNvSpPr/>
          <p:nvPr/>
        </p:nvSpPr>
        <p:spPr>
          <a:xfrm>
            <a:off x="3564000" y="981000"/>
            <a:ext cx="37447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4000" spc="-1" strike="noStrike">
                <a:solidFill>
                  <a:srgbClr val="bfbfbf"/>
                </a:solidFill>
                <a:latin typeface="造字工房悦黑体验版常规体"/>
                <a:ea typeface="造字工房悦黑体验版常规体"/>
              </a:rPr>
              <a:t>专业和职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矩形 2048"/>
          <p:cNvSpPr/>
          <p:nvPr/>
        </p:nvSpPr>
        <p:spPr>
          <a:xfrm>
            <a:off x="2411280" y="2243160"/>
            <a:ext cx="4571640" cy="2529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了解自己的专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要学会独立学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培养兴趣很重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专业好不一定就业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Box 2058"/>
          <p:cNvSpPr/>
          <p:nvPr/>
        </p:nvSpPr>
        <p:spPr>
          <a:xfrm>
            <a:off x="4805640" y="5589360"/>
            <a:ext cx="22564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bfbfbf"/>
                </a:solidFill>
                <a:latin typeface="造字工房悦黑体验版常规体"/>
                <a:ea typeface="造字工房悦黑体验版常规体"/>
              </a:rPr>
              <a:t>推荐书籍：</a:t>
            </a:r>
            <a:r>
              <a:rPr b="0" lang="zh-CN" sz="1800" spc="-1" strike="noStrike">
                <a:solidFill>
                  <a:srgbClr val="bfbfbf"/>
                </a:solidFill>
                <a:latin typeface="造字工房悦黑体验版常规体"/>
                <a:ea typeface="造字工房悦黑体验版常规体"/>
              </a:rPr>
              <a:t>《思维导图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bfbfbf"/>
                </a:solidFill>
                <a:latin typeface="造字工房悦黑体验版常规体"/>
                <a:ea typeface="造字工房悦黑体验版常规体"/>
              </a:rPr>
              <a:t>推荐人物：  </a:t>
            </a:r>
            <a:r>
              <a:rPr b="0" lang="en-US" sz="1800" spc="-1" strike="noStrike">
                <a:solidFill>
                  <a:srgbClr val="bfbfbf"/>
                </a:solidFill>
                <a:latin typeface="造字工房悦黑体验版常规体"/>
                <a:ea typeface="造字工房悦黑体验版常规体"/>
              </a:rPr>
              <a:t>@</a:t>
            </a:r>
            <a:r>
              <a:rPr b="0" lang="zh-CN" sz="1800" spc="-1" strike="noStrike">
                <a:solidFill>
                  <a:srgbClr val="bfbfbf"/>
                </a:solidFill>
                <a:latin typeface="造字工房悦黑体验版常规体"/>
                <a:ea typeface="造字工房悦黑体验版常规体"/>
              </a:rPr>
              <a:t>小巴</a:t>
            </a:r>
            <a:r>
              <a:rPr b="0" lang="en-US" sz="1800" spc="-1" strike="noStrike">
                <a:solidFill>
                  <a:srgbClr val="bfbfbf"/>
                </a:solidFill>
                <a:latin typeface="造字工房悦黑体验版常规体"/>
                <a:ea typeface="造字工房悦黑体验版常规体"/>
              </a:rPr>
              <a:t>_199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Box 47"/>
          <p:cNvSpPr/>
          <p:nvPr/>
        </p:nvSpPr>
        <p:spPr>
          <a:xfrm>
            <a:off x="1835280" y="5591160"/>
            <a:ext cx="158400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NO</a:t>
            </a:r>
            <a:r>
              <a:rPr b="1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1</a:t>
            </a:r>
            <a:r>
              <a:rPr b="1" lang="en-US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7" name="肘形连接符 48"/>
          <p:cNvCxnSpPr/>
          <p:nvPr/>
        </p:nvCxnSpPr>
        <p:spPr>
          <a:xfrm flipV="1">
            <a:off x="3203280" y="971280"/>
            <a:ext cx="4321800" cy="5112360"/>
          </a:xfrm>
          <a:prstGeom prst="bentConnector2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148" name="Rectangle 2"/>
          <p:cNvSpPr/>
          <p:nvPr/>
        </p:nvSpPr>
        <p:spPr>
          <a:xfrm>
            <a:off x="6942600" y="2249640"/>
            <a:ext cx="3196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6942600" y="2857680"/>
            <a:ext cx="3196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6942600" y="3463920"/>
            <a:ext cx="3196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6942600" y="4070520"/>
            <a:ext cx="3196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5986440" y="1268280"/>
            <a:ext cx="2787120" cy="3951000"/>
          </a:xfrm>
          <a:prstGeom prst="rect">
            <a:avLst/>
          </a:prstGeom>
          <a:ln w="9525">
            <a:noFill/>
          </a:ln>
        </p:spPr>
      </p:pic>
      <p:sp>
        <p:nvSpPr>
          <p:cNvPr id="153" name="TextBox 5"/>
          <p:cNvSpPr/>
          <p:nvPr/>
        </p:nvSpPr>
        <p:spPr>
          <a:xfrm>
            <a:off x="1689120" y="1400040"/>
            <a:ext cx="28112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4000" spc="-1" strike="noStrike">
                <a:solidFill>
                  <a:srgbClr val="b2b2b2"/>
                </a:solidFill>
                <a:latin typeface="造字工房悦黑体验版常规体"/>
                <a:ea typeface="造字工房悦黑体验版常规体"/>
              </a:rPr>
              <a:t>读书和学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矩形 6"/>
          <p:cNvSpPr/>
          <p:nvPr/>
        </p:nvSpPr>
        <p:spPr>
          <a:xfrm>
            <a:off x="2124000" y="2343240"/>
            <a:ext cx="4571640" cy="2529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学会自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好书一定要精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写好论文写好长微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天才</a:t>
            </a:r>
            <a:r>
              <a:rPr b="0" lang="en-US" sz="20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=</a:t>
            </a:r>
            <a:r>
              <a:rPr b="0" lang="zh-CN" sz="20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科学训练</a:t>
            </a:r>
            <a:r>
              <a:rPr b="0" lang="en-US" sz="20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10000</a:t>
            </a:r>
            <a:r>
              <a:rPr b="0" lang="zh-CN" sz="20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个小时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Box 14"/>
          <p:cNvSpPr/>
          <p:nvPr/>
        </p:nvSpPr>
        <p:spPr>
          <a:xfrm>
            <a:off x="2364120" y="5591160"/>
            <a:ext cx="23266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b2b2b2"/>
                </a:solidFill>
                <a:latin typeface="造字工房悦黑体验版常规体"/>
                <a:ea typeface="造字工房悦黑体验版常规体"/>
              </a:rPr>
              <a:t>推荐书籍：</a:t>
            </a:r>
            <a:r>
              <a:rPr b="0" lang="zh-CN" sz="1800" spc="-1" strike="noStrike">
                <a:solidFill>
                  <a:srgbClr val="b2b2b2"/>
                </a:solidFill>
                <a:latin typeface="造字工房悦黑体验版常规体"/>
                <a:ea typeface="造字工房悦黑体验版常规体"/>
              </a:rPr>
              <a:t>《如何阅读一本书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b2b2b2"/>
                </a:solidFill>
                <a:latin typeface="造字工房悦黑体验版常规体"/>
                <a:ea typeface="造字工房悦黑体验版常规体"/>
              </a:rPr>
              <a:t>推荐人物：  </a:t>
            </a:r>
            <a:r>
              <a:rPr b="0" lang="en-US" sz="1800" spc="-1" strike="noStrike">
                <a:solidFill>
                  <a:srgbClr val="b2b2b2"/>
                </a:solidFill>
                <a:latin typeface="造字工房悦黑体验版常规体"/>
                <a:ea typeface="造字工房悦黑体验版常规体"/>
              </a:rPr>
              <a:t>@Dandoliy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Box 16"/>
          <p:cNvSpPr/>
          <p:nvPr/>
        </p:nvSpPr>
        <p:spPr>
          <a:xfrm>
            <a:off x="6318360" y="5735520"/>
            <a:ext cx="158400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NO</a:t>
            </a:r>
            <a:r>
              <a:rPr b="1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7" name="肘形连接符 17"/>
          <p:cNvCxnSpPr/>
          <p:nvPr/>
        </p:nvCxnSpPr>
        <p:spPr>
          <a:xfrm rot="10800000">
            <a:off x="1692000" y="1368360"/>
            <a:ext cx="4555080" cy="4869000"/>
          </a:xfrm>
          <a:prstGeom prst="bentConnector2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158" name="Rectangle 2"/>
          <p:cNvSpPr/>
          <p:nvPr/>
        </p:nvSpPr>
        <p:spPr>
          <a:xfrm>
            <a:off x="1868040" y="2368440"/>
            <a:ext cx="356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1868040" y="2971800"/>
            <a:ext cx="356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1868040" y="3575160"/>
            <a:ext cx="356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1868040" y="4179960"/>
            <a:ext cx="356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图片 1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109520" y="1328760"/>
            <a:ext cx="2242800" cy="3358800"/>
          </a:xfrm>
          <a:prstGeom prst="rect">
            <a:avLst/>
          </a:prstGeom>
          <a:ln w="9525">
            <a:noFill/>
          </a:ln>
        </p:spPr>
      </p:pic>
      <p:sp>
        <p:nvSpPr>
          <p:cNvPr id="163" name="TextBox 2"/>
          <p:cNvSpPr/>
          <p:nvPr/>
        </p:nvSpPr>
        <p:spPr>
          <a:xfrm>
            <a:off x="1619280" y="5591160"/>
            <a:ext cx="158400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NO</a:t>
            </a:r>
            <a:r>
              <a:rPr b="1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3</a:t>
            </a:r>
            <a:r>
              <a:rPr b="1" lang="en-US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4" name="肘形连接符 3"/>
          <p:cNvCxnSpPr/>
          <p:nvPr/>
        </p:nvCxnSpPr>
        <p:spPr>
          <a:xfrm flipV="1">
            <a:off x="2987640" y="971280"/>
            <a:ext cx="4321440" cy="5112360"/>
          </a:xfrm>
          <a:prstGeom prst="bentConnector2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165" name="TextBox 4"/>
          <p:cNvSpPr/>
          <p:nvPr/>
        </p:nvSpPr>
        <p:spPr>
          <a:xfrm>
            <a:off x="4356000" y="981000"/>
            <a:ext cx="2808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b2b2b2"/>
                </a:solidFill>
                <a:latin typeface="造字工房悦黑体验版常规体"/>
                <a:ea typeface="造字工房悦黑体验版常规体"/>
              </a:rPr>
              <a:t>社团和实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矩形 5"/>
          <p:cNvSpPr/>
          <p:nvPr/>
        </p:nvSpPr>
        <p:spPr>
          <a:xfrm>
            <a:off x="2195640" y="1989000"/>
            <a:ext cx="4571640" cy="2224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利用碎片时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培养能力是思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选择社团的理由很重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独立完成事情才是工作经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Box 6"/>
          <p:cNvSpPr/>
          <p:nvPr/>
        </p:nvSpPr>
        <p:spPr>
          <a:xfrm>
            <a:off x="5331960" y="5591160"/>
            <a:ext cx="13971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b2b2b2"/>
                </a:solidFill>
                <a:latin typeface="造字工房悦黑体验版常规体"/>
                <a:ea typeface="造字工房悦黑体验版常规体"/>
              </a:rPr>
              <a:t>推荐书籍：</a:t>
            </a:r>
            <a:r>
              <a:rPr b="0" lang="zh-CN" sz="1800" spc="-1" strike="noStrike">
                <a:solidFill>
                  <a:srgbClr val="b2b2b2"/>
                </a:solidFill>
                <a:latin typeface="造字工房悦黑体验版常规体"/>
                <a:ea typeface="造字工房悦黑体验版常规体"/>
              </a:rPr>
              <a:t>《公正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b2b2b2"/>
                </a:solidFill>
                <a:latin typeface="造字工房悦黑体验版常规体"/>
                <a:ea typeface="造字工房悦黑体验版常规体"/>
              </a:rPr>
              <a:t>推荐人物：  陈维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6726600" y="1989000"/>
            <a:ext cx="3196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6726600" y="2595600"/>
            <a:ext cx="3196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6726600" y="3201840"/>
            <a:ext cx="3196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6726600" y="3809880"/>
            <a:ext cx="3196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图片 1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5931000" y="738360"/>
            <a:ext cx="2145960" cy="3211200"/>
          </a:xfrm>
          <a:prstGeom prst="rect">
            <a:avLst/>
          </a:prstGeom>
          <a:ln w="9525">
            <a:noFill/>
          </a:ln>
        </p:spPr>
      </p:pic>
      <p:sp>
        <p:nvSpPr>
          <p:cNvPr id="173" name="TextBox 2"/>
          <p:cNvSpPr/>
          <p:nvPr/>
        </p:nvSpPr>
        <p:spPr>
          <a:xfrm>
            <a:off x="6516720" y="5735520"/>
            <a:ext cx="158400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NO</a:t>
            </a:r>
            <a:r>
              <a:rPr b="1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4</a:t>
            </a:r>
            <a:r>
              <a:rPr b="1" lang="en-US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4" name="肘形连接符 3"/>
          <p:cNvCxnSpPr/>
          <p:nvPr/>
        </p:nvCxnSpPr>
        <p:spPr>
          <a:xfrm rot="10800000">
            <a:off x="1888920" y="1368360"/>
            <a:ext cx="4555080" cy="4869000"/>
          </a:xfrm>
          <a:prstGeom prst="bentConnector2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175" name="TextBox 4"/>
          <p:cNvSpPr/>
          <p:nvPr/>
        </p:nvSpPr>
        <p:spPr>
          <a:xfrm>
            <a:off x="1692360" y="1352520"/>
            <a:ext cx="3024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4000" spc="-1" strike="noStrike">
                <a:solidFill>
                  <a:srgbClr val="b2b2b2"/>
                </a:solidFill>
                <a:latin typeface="造字工房悦黑体验版常规体"/>
                <a:ea typeface="造字工房悦黑体验版常规体"/>
              </a:rPr>
              <a:t>友情和爱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矩形 5"/>
          <p:cNvSpPr/>
          <p:nvPr/>
        </p:nvSpPr>
        <p:spPr>
          <a:xfrm>
            <a:off x="2303640" y="2249640"/>
            <a:ext cx="3420720" cy="3138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和名人微博互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学会和异性搭讪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学会欣赏别人的优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爱情是人生的宝贵经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Box 6"/>
          <p:cNvSpPr/>
          <p:nvPr/>
        </p:nvSpPr>
        <p:spPr>
          <a:xfrm>
            <a:off x="2586960" y="5591160"/>
            <a:ext cx="17125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b2b2b2"/>
                </a:solidFill>
                <a:latin typeface="造字工房悦黑体验版常规体"/>
                <a:ea typeface="造字工房悦黑体验版常规体"/>
              </a:rPr>
              <a:t>推荐书籍：</a:t>
            </a:r>
            <a:r>
              <a:rPr b="0" lang="zh-CN" sz="1800" spc="-1" strike="noStrike">
                <a:solidFill>
                  <a:srgbClr val="b2b2b2"/>
                </a:solidFill>
                <a:latin typeface="造字工房悦黑体验版常规体"/>
                <a:ea typeface="造字工房悦黑体验版常规体"/>
              </a:rPr>
              <a:t>《象与骑象人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b2b2b2"/>
                </a:solidFill>
                <a:latin typeface="造字工房悦黑体验版常规体"/>
                <a:ea typeface="造字工房悦黑体验版常规体"/>
              </a:rPr>
              <a:t>推荐人物：  </a:t>
            </a:r>
            <a:r>
              <a:rPr b="0" lang="en-US" sz="1800" spc="-1" strike="noStrike">
                <a:solidFill>
                  <a:srgbClr val="b2b2b2"/>
                </a:solidFill>
                <a:latin typeface="造字工房悦黑体验版常规体"/>
                <a:ea typeface="造字工房悦黑体验版常规体"/>
              </a:rPr>
              <a:t>@</a:t>
            </a:r>
            <a:r>
              <a:rPr b="0" lang="zh-CN" sz="1800" spc="-1" strike="noStrike">
                <a:solidFill>
                  <a:srgbClr val="b2b2b2"/>
                </a:solidFill>
                <a:latin typeface="造字工房悦黑体验版常规体"/>
                <a:ea typeface="造字工房悦黑体验版常规体"/>
              </a:rPr>
              <a:t>刘健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2007720" y="2259000"/>
            <a:ext cx="356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2007720" y="2862360"/>
            <a:ext cx="356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2007720" y="3467160"/>
            <a:ext cx="356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2007720" y="4070520"/>
            <a:ext cx="356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图片 1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463680" y="828720"/>
            <a:ext cx="2528640" cy="4163760"/>
          </a:xfrm>
          <a:prstGeom prst="rect">
            <a:avLst/>
          </a:prstGeom>
          <a:ln w="9525">
            <a:noFill/>
          </a:ln>
        </p:spPr>
      </p:pic>
      <p:sp>
        <p:nvSpPr>
          <p:cNvPr id="183" name="TextBox 3"/>
          <p:cNvSpPr/>
          <p:nvPr/>
        </p:nvSpPr>
        <p:spPr>
          <a:xfrm>
            <a:off x="1619280" y="5591160"/>
            <a:ext cx="158400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NO</a:t>
            </a:r>
            <a:r>
              <a:rPr b="1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5</a:t>
            </a:r>
            <a:r>
              <a:rPr b="1" lang="en-US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4" name="肘形连接符 4"/>
          <p:cNvCxnSpPr/>
          <p:nvPr/>
        </p:nvCxnSpPr>
        <p:spPr>
          <a:xfrm flipV="1">
            <a:off x="2987640" y="971280"/>
            <a:ext cx="4321440" cy="5112360"/>
          </a:xfrm>
          <a:prstGeom prst="bentConnector2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185" name="TextBox 5"/>
          <p:cNvSpPr/>
          <p:nvPr/>
        </p:nvSpPr>
        <p:spPr>
          <a:xfrm>
            <a:off x="3348000" y="981000"/>
            <a:ext cx="37447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4000" spc="-1" strike="noStrike">
                <a:solidFill>
                  <a:srgbClr val="b2b2b2"/>
                </a:solidFill>
                <a:latin typeface="造字工房悦黑体验版常规体"/>
                <a:ea typeface="造字工房悦黑体验版常规体"/>
              </a:rPr>
              <a:t>考研和就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矩形 6"/>
          <p:cNvSpPr/>
          <p:nvPr/>
        </p:nvSpPr>
        <p:spPr>
          <a:xfrm>
            <a:off x="2195640" y="1989000"/>
            <a:ext cx="4571640" cy="2224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考研决策因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考研风险评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公务员的利弊分析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考研就业只是走向目标的两条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Box 7"/>
          <p:cNvSpPr/>
          <p:nvPr/>
        </p:nvSpPr>
        <p:spPr>
          <a:xfrm>
            <a:off x="4056120" y="5591160"/>
            <a:ext cx="22824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b2b2b2"/>
                </a:solidFill>
                <a:latin typeface="造字工房悦黑体验版常规体"/>
                <a:ea typeface="造字工房悦黑体验版常规体"/>
              </a:rPr>
              <a:t>推荐书籍：</a:t>
            </a:r>
            <a:r>
              <a:rPr b="0" lang="zh-CN" sz="1800" spc="-1" strike="noStrike">
                <a:solidFill>
                  <a:srgbClr val="b2b2b2"/>
                </a:solidFill>
                <a:latin typeface="造字工房悦黑体验版常规体"/>
                <a:ea typeface="造字工房悦黑体验版常规体"/>
              </a:rPr>
              <a:t>《有了博士学位还不够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b2b2b2"/>
                </a:solidFill>
                <a:latin typeface="造字工房悦黑体验版常规体"/>
                <a:ea typeface="造字工房悦黑体验版常规体"/>
              </a:rPr>
              <a:t>推荐人物：  </a:t>
            </a:r>
            <a:r>
              <a:rPr b="0" lang="en-US" sz="1800" spc="-1" strike="noStrike">
                <a:solidFill>
                  <a:srgbClr val="b2b2b2"/>
                </a:solidFill>
                <a:latin typeface="造字工房悦黑体验版常规体"/>
                <a:ea typeface="造字工房悦黑体验版常规体"/>
              </a:rPr>
              <a:t>@</a:t>
            </a:r>
            <a:r>
              <a:rPr b="0" lang="zh-CN" sz="1800" spc="-1" strike="noStrike">
                <a:solidFill>
                  <a:srgbClr val="b2b2b2"/>
                </a:solidFill>
                <a:latin typeface="造字工房悦黑体验版常规体"/>
                <a:ea typeface="造字工房悦黑体验版常规体"/>
              </a:rPr>
              <a:t>曹将</a:t>
            </a:r>
            <a:r>
              <a:rPr b="0" lang="en-US" sz="1800" spc="-1" strike="noStrike">
                <a:solidFill>
                  <a:srgbClr val="b2b2b2"/>
                </a:solidFill>
                <a:latin typeface="造字工房悦黑体验版常规体"/>
                <a:ea typeface="造字工房悦黑体验版常规体"/>
              </a:rPr>
              <a:t>PPTa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6706080" y="1989000"/>
            <a:ext cx="3196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6706080" y="2595600"/>
            <a:ext cx="3196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6706080" y="3201840"/>
            <a:ext cx="3196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6706080" y="3809880"/>
            <a:ext cx="3196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图片 1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6291360" y="1530360"/>
            <a:ext cx="2858760" cy="3796920"/>
          </a:xfrm>
          <a:prstGeom prst="rect">
            <a:avLst/>
          </a:prstGeom>
          <a:ln w="9525">
            <a:noFill/>
          </a:ln>
        </p:spPr>
      </p:pic>
      <p:sp>
        <p:nvSpPr>
          <p:cNvPr id="193" name="TextBox 8"/>
          <p:cNvSpPr/>
          <p:nvPr/>
        </p:nvSpPr>
        <p:spPr>
          <a:xfrm>
            <a:off x="6516720" y="5735520"/>
            <a:ext cx="158400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NO</a:t>
            </a:r>
            <a:r>
              <a:rPr b="1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6</a:t>
            </a:r>
            <a:r>
              <a:rPr b="1" lang="en-US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4" name="肘形连接符 9"/>
          <p:cNvCxnSpPr/>
          <p:nvPr/>
        </p:nvCxnSpPr>
        <p:spPr>
          <a:xfrm rot="10800000">
            <a:off x="1888920" y="1368360"/>
            <a:ext cx="4555080" cy="4869000"/>
          </a:xfrm>
          <a:prstGeom prst="bentConnector2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195" name="TextBox 10"/>
          <p:cNvSpPr/>
          <p:nvPr/>
        </p:nvSpPr>
        <p:spPr>
          <a:xfrm>
            <a:off x="971640" y="1341360"/>
            <a:ext cx="37447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4000" spc="-1" strike="noStrike">
                <a:solidFill>
                  <a:srgbClr val="b2b2b2"/>
                </a:solidFill>
                <a:latin typeface="造字工房悦黑体验版常规体"/>
                <a:ea typeface="造字工房悦黑体验版常规体"/>
              </a:rPr>
              <a:t>求职和创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矩形 11"/>
          <p:cNvSpPr/>
          <p:nvPr/>
        </p:nvSpPr>
        <p:spPr>
          <a:xfrm>
            <a:off x="2376360" y="2249640"/>
            <a:ext cx="4571640" cy="2833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写好简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了解面试公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学习商务礼仪知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创业不是一件容易的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Box 12"/>
          <p:cNvSpPr/>
          <p:nvPr/>
        </p:nvSpPr>
        <p:spPr>
          <a:xfrm>
            <a:off x="2704680" y="5591160"/>
            <a:ext cx="2124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b2b2b2"/>
                </a:solidFill>
                <a:latin typeface="造字工房悦黑体验版常规体"/>
                <a:ea typeface="造字工房悦黑体验版常规体"/>
              </a:rPr>
              <a:t>推荐书籍：</a:t>
            </a:r>
            <a:r>
              <a:rPr b="0" lang="zh-CN" sz="1800" spc="-1" strike="noStrike">
                <a:solidFill>
                  <a:srgbClr val="b2b2b2"/>
                </a:solidFill>
                <a:latin typeface="造字工房悦黑体验版常规体"/>
                <a:ea typeface="造字工房悦黑体验版常规体"/>
              </a:rPr>
              <a:t>《创业的</a:t>
            </a:r>
            <a:r>
              <a:rPr b="0" lang="en-US" sz="1800" spc="-1" strike="noStrike">
                <a:solidFill>
                  <a:srgbClr val="b2b2b2"/>
                </a:solidFill>
                <a:latin typeface="造字工房悦黑体验版常规体"/>
                <a:ea typeface="造字工房悦黑体验版常规体"/>
              </a:rPr>
              <a:t>36</a:t>
            </a:r>
            <a:r>
              <a:rPr b="0" lang="zh-CN" sz="1800" spc="-1" strike="noStrike">
                <a:solidFill>
                  <a:srgbClr val="b2b2b2"/>
                </a:solidFill>
                <a:latin typeface="造字工房悦黑体验版常规体"/>
                <a:ea typeface="造字工房悦黑体验版常规体"/>
              </a:rPr>
              <a:t>条军规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b2b2b2"/>
                </a:solidFill>
                <a:latin typeface="造字工房悦黑体验版常规体"/>
                <a:ea typeface="造字工房悦黑体验版常规体"/>
              </a:rPr>
              <a:t>推荐人物：  </a:t>
            </a:r>
            <a:r>
              <a:rPr b="0" lang="en-US" sz="1800" spc="-1" strike="noStrike">
                <a:solidFill>
                  <a:srgbClr val="b2b2b2"/>
                </a:solidFill>
                <a:latin typeface="造字工房悦黑体验版常规体"/>
                <a:ea typeface="造字工房悦黑体验版常规体"/>
              </a:rPr>
              <a:t>@</a:t>
            </a:r>
            <a:r>
              <a:rPr b="0" lang="zh-CN" sz="1800" spc="-1" strike="noStrike">
                <a:solidFill>
                  <a:srgbClr val="b2b2b2"/>
                </a:solidFill>
                <a:latin typeface="造字工房悦黑体验版常规体"/>
                <a:ea typeface="造字工房悦黑体验版常规体"/>
              </a:rPr>
              <a:t>请叫我许胖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2079000" y="2259000"/>
            <a:ext cx="356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2079000" y="2862360"/>
            <a:ext cx="356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2079000" y="3467160"/>
            <a:ext cx="356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2079000" y="4070520"/>
            <a:ext cx="356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图片 1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-30240" y="1292400"/>
            <a:ext cx="2809440" cy="3858840"/>
          </a:xfrm>
          <a:prstGeom prst="rect">
            <a:avLst/>
          </a:prstGeom>
          <a:ln w="9525">
            <a:noFill/>
          </a:ln>
        </p:spPr>
      </p:pic>
      <p:sp>
        <p:nvSpPr>
          <p:cNvPr id="203" name="TextBox 2"/>
          <p:cNvSpPr/>
          <p:nvPr/>
        </p:nvSpPr>
        <p:spPr>
          <a:xfrm>
            <a:off x="1619280" y="5591160"/>
            <a:ext cx="158400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NO</a:t>
            </a:r>
            <a:r>
              <a:rPr b="1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7</a:t>
            </a:r>
            <a:r>
              <a:rPr b="1" lang="en-US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4" name="肘形连接符 3"/>
          <p:cNvCxnSpPr/>
          <p:nvPr/>
        </p:nvCxnSpPr>
        <p:spPr>
          <a:xfrm flipV="1">
            <a:off x="2987640" y="971280"/>
            <a:ext cx="4321440" cy="5112360"/>
          </a:xfrm>
          <a:prstGeom prst="bentConnector2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205" name="TextBox 4"/>
          <p:cNvSpPr/>
          <p:nvPr/>
        </p:nvSpPr>
        <p:spPr>
          <a:xfrm>
            <a:off x="3348000" y="981000"/>
            <a:ext cx="37447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4000" spc="-1" strike="noStrike">
                <a:solidFill>
                  <a:srgbClr val="b2b2b2"/>
                </a:solidFill>
                <a:latin typeface="造字工房悦黑体验版常规体"/>
                <a:ea typeface="造字工房悦黑体验版常规体"/>
              </a:rPr>
              <a:t>生活和习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矩形 5"/>
          <p:cNvSpPr/>
          <p:nvPr/>
        </p:nvSpPr>
        <p:spPr>
          <a:xfrm>
            <a:off x="2195640" y="1989000"/>
            <a:ext cx="4571640" cy="2224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击败拖延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培养专注力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学会记账培养理财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留住你的好奇心和观察力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Box 6"/>
          <p:cNvSpPr/>
          <p:nvPr/>
        </p:nvSpPr>
        <p:spPr>
          <a:xfrm>
            <a:off x="4670280" y="5591160"/>
            <a:ext cx="1771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b2b2b2"/>
                </a:solidFill>
                <a:latin typeface="造字工房悦黑体验版常规体"/>
                <a:ea typeface="造字工房悦黑体验版常规体"/>
              </a:rPr>
              <a:t>推荐书籍：</a:t>
            </a:r>
            <a:r>
              <a:rPr b="0" lang="zh-CN" sz="1800" spc="-1" strike="noStrike">
                <a:solidFill>
                  <a:srgbClr val="b2b2b2"/>
                </a:solidFill>
                <a:latin typeface="造字工房悦黑体验版常规体"/>
                <a:ea typeface="造字工房悦黑体验版常规体"/>
              </a:rPr>
              <a:t>《思考，快与慢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b2b2b2"/>
                </a:solidFill>
                <a:latin typeface="造字工房悦黑体验版常规体"/>
                <a:ea typeface="造字工房悦黑体验版常规体"/>
              </a:rPr>
              <a:t>推荐人物：  </a:t>
            </a:r>
            <a:r>
              <a:rPr b="0" lang="en-US" sz="1800" spc="-1" strike="noStrike">
                <a:solidFill>
                  <a:srgbClr val="b2b2b2"/>
                </a:solidFill>
                <a:latin typeface="造字工房悦黑体验版常规体"/>
                <a:ea typeface="造字工房悦黑体验版常规体"/>
              </a:rPr>
              <a:t>@</a:t>
            </a:r>
            <a:r>
              <a:rPr b="0" lang="zh-CN" sz="1800" spc="-1" strike="noStrike">
                <a:solidFill>
                  <a:srgbClr val="b2b2b2"/>
                </a:solidFill>
                <a:latin typeface="造字工房悦黑体验版常规体"/>
                <a:ea typeface="造字工房悦黑体验版常规体"/>
              </a:rPr>
              <a:t>谷月</a:t>
            </a:r>
            <a:r>
              <a:rPr b="0" lang="en-US" sz="1800" spc="-1" strike="noStrike">
                <a:solidFill>
                  <a:srgbClr val="b2b2b2"/>
                </a:solidFill>
                <a:latin typeface="造字工房悦黑体验版常规体"/>
                <a:ea typeface="造字工房悦黑体验版常规体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6706080" y="1989000"/>
            <a:ext cx="3196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6706080" y="2595600"/>
            <a:ext cx="3196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2"/>
          <p:cNvSpPr/>
          <p:nvPr/>
        </p:nvSpPr>
        <p:spPr>
          <a:xfrm>
            <a:off x="6706080" y="3201840"/>
            <a:ext cx="3196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6706080" y="3809880"/>
            <a:ext cx="3196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图片 1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5894280" y="1316160"/>
            <a:ext cx="3225600" cy="4425480"/>
          </a:xfrm>
          <a:prstGeom prst="rect">
            <a:avLst/>
          </a:prstGeom>
          <a:ln w="9525">
            <a:noFill/>
          </a:ln>
        </p:spPr>
      </p:pic>
      <p:sp>
        <p:nvSpPr>
          <p:cNvPr id="214" name="TextBox 2"/>
          <p:cNvSpPr/>
          <p:nvPr/>
        </p:nvSpPr>
        <p:spPr>
          <a:xfrm>
            <a:off x="6516720" y="5735520"/>
            <a:ext cx="158400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NO</a:t>
            </a:r>
            <a:r>
              <a:rPr b="1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8</a:t>
            </a:r>
            <a:r>
              <a:rPr b="1" lang="en-US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5" name="肘形连接符 3"/>
          <p:cNvCxnSpPr/>
          <p:nvPr/>
        </p:nvCxnSpPr>
        <p:spPr>
          <a:xfrm rot="10800000">
            <a:off x="1888920" y="1368360"/>
            <a:ext cx="4555080" cy="4869000"/>
          </a:xfrm>
          <a:prstGeom prst="bentConnector2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216" name="TextBox 4"/>
          <p:cNvSpPr/>
          <p:nvPr/>
        </p:nvSpPr>
        <p:spPr>
          <a:xfrm>
            <a:off x="1114560" y="1352520"/>
            <a:ext cx="37447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4000" spc="-1" strike="noStrike">
                <a:solidFill>
                  <a:srgbClr val="b2b2b2"/>
                </a:solidFill>
                <a:latin typeface="造字工房悦黑体验版常规体"/>
                <a:ea typeface="造字工房悦黑体验版常规体"/>
              </a:rPr>
              <a:t>个人和社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矩形 5"/>
          <p:cNvSpPr/>
          <p:nvPr/>
        </p:nvSpPr>
        <p:spPr>
          <a:xfrm>
            <a:off x="2448000" y="2249640"/>
            <a:ext cx="4571640" cy="2529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请拥抱社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寻找身边正能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做一个合格的公民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请学会养成独立思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Box 6"/>
          <p:cNvSpPr/>
          <p:nvPr/>
        </p:nvSpPr>
        <p:spPr>
          <a:xfrm>
            <a:off x="2648520" y="5591160"/>
            <a:ext cx="20721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b2b2b2"/>
                </a:solidFill>
                <a:latin typeface="造字工房悦黑体验版常规体"/>
                <a:ea typeface="造字工房悦黑体验版常规体"/>
              </a:rPr>
              <a:t>推荐书籍：</a:t>
            </a:r>
            <a:r>
              <a:rPr b="0" lang="zh-CN" sz="1800" spc="-1" strike="noStrike">
                <a:solidFill>
                  <a:srgbClr val="b2b2b2"/>
                </a:solidFill>
                <a:latin typeface="造字工房悦黑体验版常规体"/>
                <a:ea typeface="造字工房悦黑体验版常规体"/>
              </a:rPr>
              <a:t>《重新发现社会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b2b2b2"/>
                </a:solidFill>
                <a:latin typeface="造字工房悦黑体验版常规体"/>
                <a:ea typeface="造字工房悦黑体验版常规体"/>
              </a:rPr>
              <a:t>推荐人物：  </a:t>
            </a:r>
            <a:r>
              <a:rPr b="0" lang="en-US" sz="1800" spc="-1" strike="noStrike">
                <a:solidFill>
                  <a:srgbClr val="b2b2b2"/>
                </a:solidFill>
                <a:latin typeface="造字工房悦黑体验版常规体"/>
                <a:ea typeface="造字工房悦黑体验版常规体"/>
              </a:rPr>
              <a:t>@Dian</a:t>
            </a:r>
            <a:r>
              <a:rPr b="0" lang="zh-CN" sz="1800" spc="-1" strike="noStrike">
                <a:solidFill>
                  <a:srgbClr val="b2b2b2"/>
                </a:solidFill>
                <a:latin typeface="造字工房悦黑体验版常规体"/>
                <a:ea typeface="造字工房悦黑体验版常规体"/>
              </a:rPr>
              <a:t>小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2171160" y="2276640"/>
            <a:ext cx="356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"/>
          <p:cNvSpPr/>
          <p:nvPr/>
        </p:nvSpPr>
        <p:spPr>
          <a:xfrm>
            <a:off x="2171160" y="2881440"/>
            <a:ext cx="356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2171160" y="3484440"/>
            <a:ext cx="356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2171160" y="4087800"/>
            <a:ext cx="356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  <Words>467</Words>
  <Paragraphs>150</Paragraphs>
  <Company>Toshiba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4T05:04:55Z</dcterms:created>
  <dc:creator>wm</dc:creator>
  <dc:description/>
  <dc:language>en-US</dc:language>
  <cp:lastModifiedBy>王玉清</cp:lastModifiedBy>
  <dcterms:modified xsi:type="dcterms:W3CDTF">2016-03-01T06:59:40Z</dcterms:modified>
  <cp:revision>9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全屏显示(4:3)</vt:lpwstr>
  </property>
  <property fmtid="{D5CDD505-2E9C-101B-9397-08002B2CF9AE}" pid="4" name="Slides">
    <vt:r8>11</vt:r8>
  </property>
</Properties>
</file>