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B45-D381-4215-9302-E5C811B5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5DD-40CE-48A8-8CE1-DD743F65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E67-F385-4946-8631-3D5236D1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18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280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18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280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B80-906D-4FBE-B706-F007142E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A2ED-56B7-42D1-83EE-4521B5BE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1A47-CB50-44D3-915F-64CA7354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9678-E3D2-43CF-AE17-91452145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D8E4-9DE6-451E-9770-ABEC52B0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5648-B764-4D6B-8673-9F971EA0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C070-C9A6-491E-B676-B7A6AB05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0E85-0BD1-49CC-B57C-C4733BD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F0D-E660-472C-A8DE-EA5355BD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CBF2-A70D-44D9-B94F-7A9092D7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ADC6-8705-4D61-9160-42EE826C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FF04-EE93-44A6-8D7B-DC23A4C2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CB31-3A08-4CBE-885E-6C83B715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18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280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18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280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F05B-97EE-47CC-A28B-C3450190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85D-B0D4-40FF-9278-5A01439C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61F-EA16-4C7C-948E-5D78F6A6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77A-7F0B-420D-BF38-5EB45F13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EA4-4CCA-44F1-AA37-F242AE79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FCF-7965-4166-A81B-9228BE87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6BB7-6037-438A-B580-3F2A0F7D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D0D-9830-4782-9847-7D2D2452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4771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C67-0B2A-4C1D-BAA1-99F70D6938A2}" type="slidenum">
              <a:rPr b="0" lang="zh-CN" sz="10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F4E6-355D-4C59-810C-1E2FE58D9E5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达坏消息商务管理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们的问题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陈述坏消息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清楚，不要试图掩盖问题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种问题是如何发生的？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所有相关的历史、事实或策略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再有效的原始假设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考虑的备选课程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演示备选的操作课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探讨每个课程的优缺点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推荐或决定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陈述推荐的操作或决定课程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探讨推荐如何解决问题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探讨计划如何解决操作导致的困难 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们的未来构想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重申您的目标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设定对未来的期望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设定预期结果的时间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24000" y="65469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总结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记住的要点（将为听众带来信心或鼓舞士气） 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0:17:47Z</dcterms:created>
  <dc:creator>ppt宝藏</dc:creator>
  <dc:description/>
  <dc:language>en-US</dc:language>
  <cp:lastModifiedBy>a</cp:lastModifiedBy>
  <dcterms:modified xsi:type="dcterms:W3CDTF">2015-07-25T06:42:15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0582052</vt:lpwstr>
  </property>
</Properties>
</file>