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8CBD-5EAD-43DA-8BFC-F3D37EA22464}"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A1352-FC01-4EF8-93B1-90DE375A3212}"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9170-020F-436C-8266-ACD26AC817E4}"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0ABC-B71D-4BA6-8992-66ADCF275B5F}"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1A5315-5E1F-438E-BD6F-A88EF3CAA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7CE1D1-BFD8-44B2-A6D4-74D1D0879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B36043-45E4-4204-A98D-1B49201D4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B1486-7968-4A17-80B8-40106DA1EB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566A09-4F19-4FE1-AAE0-CCA9D8E434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EA034-7AED-40D7-A4BA-24BC8A270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1E9B39-74A0-4A38-B486-8A08C4C26C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523E3-A4AA-4241-A87C-C0C3E955D8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C482ED-C4CE-4742-B8E9-1C97847CB5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2ADA5-9E40-46CD-9BE1-94E0EC99E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5B5D35-72C5-48E8-9D57-671291715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A9040-C533-4DD8-B4EE-2CFC7279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644C6-DE25-42EE-9E87-2013913028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33399-650F-4AA6-B311-1987DAB32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DC9AF4-BF70-4A7E-94DA-873990254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3DB152-43CB-42DF-9B59-978743D04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4313CB-6EAA-4285-BF9A-59958198C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3940B-5516-41BE-A99E-AFB6E0B2B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5A1C3-6996-4453-A795-D64F86156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79B63-0795-4563-AA8E-E21AD08F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CA6A4-EB3B-4C44-BFF1-C5EE3CDC2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CD631B-8999-4AB5-B427-70DA0F575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4916C-954F-4E3E-8ED2-67D20D2CC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9E126-E94A-4A24-9D28-F6AF63EDE1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42C1-C73A-41F5-B5E6-E18D88725FDE}"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EB07B-E936-4058-986F-2F48B44CABDF}"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219320" y="5478120"/>
            <a:ext cx="731520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宋体"/>
              </a:rPr>
              <a:t>成功合作商务</a:t>
            </a:r>
            <a:r>
              <a:rPr b="1" lang="en-US" sz="4000" spc="-1" strike="noStrike">
                <a:solidFill>
                  <a:srgbClr val="000000"/>
                </a:solidFill>
                <a:latin typeface="Tahoma"/>
                <a:ea typeface="宋体"/>
              </a:rPr>
              <a:t>PPT</a:t>
            </a:r>
            <a:r>
              <a:rPr b="1" lang="zh-CN" sz="4000" spc="-1" strike="noStrike">
                <a:solidFill>
                  <a:srgbClr val="000000"/>
                </a:solidFill>
                <a:latin typeface="Tahoma"/>
                <a:ea typeface="宋体"/>
              </a:rPr>
              <a:t>模板在线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057400" y="6248160"/>
            <a:ext cx="5029200" cy="609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000" spc="-1" strike="noStrike">
              <a:solidFill>
                <a:srgbClr val="0d0d0d"/>
              </a:solidFill>
              <a:latin typeface="Arial"/>
              <a:ea typeface="宋体"/>
            </a:endParaRPr>
          </a:p>
        </p:txBody>
      </p:sp>
      <p:sp>
        <p:nvSpPr>
          <p:cNvPr id="91" name="矩形 12"/>
          <p:cNvSpPr/>
          <p:nvPr/>
        </p:nvSpPr>
        <p:spPr>
          <a:xfrm>
            <a:off x="206280" y="6553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1980720" y="1600200"/>
            <a:ext cx="670572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ppt宝藏</dc:creator>
  <dc:description/>
  <dc:language>en-US</dc:language>
  <cp:lastModifiedBy>a</cp:lastModifiedBy>
  <dcterms:modified xsi:type="dcterms:W3CDTF">2015-07-25T12:30:26Z</dcterms:modified>
  <cp:revision>34</cp:revision>
  <dc:subject/>
  <dc:title>www.pptbz.com</dc:title>
</cp:coreProperties>
</file>