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795C-7BA4-4531-86DE-97B2AFDB3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01F8-623F-4FE8-8671-135779B7B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1FFD-34EE-4F7C-9850-9DB013A5B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F9F5-3E5B-4A39-80E0-9B0E5C57B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6882-3DEB-4856-B8C6-1B3685942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B51B-D6CB-44C5-86E3-70CC72C97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9CC8-B5B3-4A59-A12C-659C9A872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3612-C24D-485E-8F1A-72B5DC7A7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C9ED-162C-4AFD-8CC9-3474495FC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6A3E-4D43-4D48-875B-110FC96D9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7FD9-4409-42A9-B3B5-2A846200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18AF-BA23-472E-922B-68031ECC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212A1-FBC0-4AD2-A930-CD31A4039E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640" y="112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成功之路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1T06:51:27Z</dcterms:created>
  <dc:creator>ppt宝藏</dc:creator>
  <dc:description/>
  <dc:language>en-US</dc:language>
  <cp:lastModifiedBy>a</cp:lastModifiedBy>
  <dcterms:modified xsi:type="dcterms:W3CDTF">2015-07-25T06:24:25Z</dcterms:modified>
  <cp:revision>4</cp:revision>
  <dc:subject/>
  <dc:title>www.pptbz.com</dc:title>
</cp:coreProperties>
</file>