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F8B-FEBB-4F2C-866A-2CFA2496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E74-AA84-4106-9895-1C57176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971-0491-4BAF-81FF-589572F8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979-2549-41F4-914F-2D8D1E4C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8BE-9682-4435-AA4F-0E1D87AE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339-E047-42D4-8BED-31A4D42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53B-FEE7-4F84-908D-40B89893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6931-BE39-419E-8569-E46A144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9EB-2703-4FCB-9EF9-DD30D56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F36D-8616-4DCA-81B0-486145A1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631F-1E9B-4D2F-B1B4-A480300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0B4-881C-4A4C-871A-D82B5A3D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4AE9-08E5-4AE0-BDF2-168A7D8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A4C-DCEC-4F39-B7C0-CF53550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C7F9-C88A-452F-9AF3-ED6DD79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944D-CFF4-4F9D-83D6-F713A3A0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E34-CAFC-420F-AED6-34D4A791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DB1-159F-42B2-95DA-D84D346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19E-B427-4201-A539-E5963F0F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1BF-967B-46E0-8F2B-B94E309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AF8-6C23-404C-8FE3-68B10A29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516-262E-4501-85AB-540308D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442-D51B-4E7F-9871-12BB11A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792-8165-48DE-A7FE-9E3A08F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052A50-76A3-4259-B6DA-032B804010A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B21DE9-31CB-497C-B297-17D4009B1C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733920"/>
            <a:ext cx="793908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Gulim"/>
              </a:rPr>
              <a:t>彩色蝴蝶通用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  <a:ea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Gulim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01956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2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  <a:ea typeface="Gulim"/>
              </a:rPr>
              <a:t>Text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  <a:ea typeface="Gulim"/>
              </a:rPr>
              <a:t>Print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4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蝴蝶ppt模板-www.51pptmoban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蝴蝶ppt模板-www.51pptmoban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蝴蝶ppt模板-www.51pptmoban.com</Template>
  <TotalTime>1</TotalTime>
  <Application>LibreOffice/7.4.7.2$Linux_X86_64 LibreOffice_project/40$Build-2</Application>
  <AppVersion>15.0000</AppVersion>
  <Words>100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2:31:02Z</dcterms:created>
  <dc:creator>for_yang@qq.com</dc:creator>
  <dc:description/>
  <dc:language>en-US</dc:language>
  <cp:lastModifiedBy>王玉清</cp:lastModifiedBy>
  <dcterms:modified xsi:type="dcterms:W3CDTF">2016-03-02T10:30:19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