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B447-F06C-4113-875B-335801956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819F-8117-4CE8-8FCD-47CD16AF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38BC-3775-4E44-B5B8-8609916B6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21D8-5F1B-4CA4-8DEF-CA9FD5C41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71B0-886C-45AA-974B-B3616B26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690C-1BA9-48E5-82B6-4EB0FC54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0DAF-2590-48CB-8EA5-6DF6B7D7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A485-1234-4FE7-9C61-0469C090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9228-6BEC-4D02-87DB-ACFF9325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3152-7DCE-4FEC-87E4-23C99CD1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BD3C-173F-4394-9697-9D291A37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2AA5-E816-44AA-87A5-9B75EF99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994B-DEC1-41E7-B44E-2DD63BA1A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"/>
          <p:cNvPicPr/>
          <p:nvPr/>
        </p:nvPicPr>
        <p:blipFill>
          <a:blip r:embed="rId2"/>
          <a:stretch/>
        </p:blipFill>
        <p:spPr>
          <a:xfrm>
            <a:off x="1089000" y="1649520"/>
            <a:ext cx="7443720" cy="5208480"/>
          </a:xfrm>
          <a:prstGeom prst="rect">
            <a:avLst/>
          </a:prstGeom>
          <a:ln w="0">
            <a:noFill/>
          </a:ln>
        </p:spPr>
      </p:pic>
      <p:sp>
        <p:nvSpPr>
          <p:cNvPr id="42" name="矩形 1"/>
          <p:cNvSpPr/>
          <p:nvPr/>
        </p:nvSpPr>
        <p:spPr>
          <a:xfrm>
            <a:off x="2124720" y="62064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厨师行业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4788000" y="1989000"/>
            <a:ext cx="4119480" cy="797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5508720" y="4724280"/>
            <a:ext cx="3095640" cy="1710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9"/>
          <p:cNvSpPr/>
          <p:nvPr/>
        </p:nvSpPr>
        <p:spPr>
          <a:xfrm>
            <a:off x="539640" y="62658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6T13:54:32Z</dcterms:created>
  <dc:creator>admin</dc:creator>
  <dc:description/>
  <dc:language>en-US</dc:language>
  <cp:lastModifiedBy>王玉清</cp:lastModifiedBy>
  <dcterms:modified xsi:type="dcterms:W3CDTF">2016-02-24T04:03:27Z</dcterms:modified>
  <cp:revision>80</cp:revision>
  <dc:subject/>
  <dc:title>幻灯片 1</dc:title>
</cp:coreProperties>
</file>