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20801220"/>
        <c:axId val="56800806"/>
      </c:barChart>
      <c:catAx>
        <c:axId val="208012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6800806"/>
        <c:crosses val="autoZero"/>
        <c:auto val="1"/>
        <c:lblAlgn val="ctr"/>
        <c:lblOffset val="100"/>
        <c:noMultiLvlLbl val="0"/>
      </c:catAx>
      <c:valAx>
        <c:axId val="56800806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080122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42182362"/>
        <c:axId val="43134907"/>
      </c:barChart>
      <c:catAx>
        <c:axId val="4218236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3134907"/>
        <c:crosses val="autoZero"/>
        <c:auto val="1"/>
        <c:lblAlgn val="ctr"/>
        <c:lblOffset val="100"/>
        <c:noMultiLvlLbl val="0"/>
      </c:catAx>
      <c:valAx>
        <c:axId val="4313490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2182362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83305488"/>
        <c:axId val="53456802"/>
      </c:lineChart>
      <c:catAx>
        <c:axId val="8330548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3456802"/>
        <c:crosses val="autoZero"/>
        <c:auto val="1"/>
        <c:lblAlgn val="ctr"/>
        <c:lblOffset val="100"/>
        <c:noMultiLvlLbl val="0"/>
      </c:catAx>
      <c:valAx>
        <c:axId val="53456802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3305488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60054414"/>
        <c:axId val="748479"/>
      </c:barChart>
      <c:catAx>
        <c:axId val="6005441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48479"/>
        <c:crosses val="autoZero"/>
        <c:auto val="1"/>
        <c:lblAlgn val="ctr"/>
        <c:lblOffset val="100"/>
        <c:noMultiLvlLbl val="0"/>
      </c:catAx>
      <c:valAx>
        <c:axId val="748479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0054414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6D94B9-913A-4744-B884-B510C3676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DDC275B1-5B5B-4B81-8CB2-BB4002C6A1B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5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A4BDFDB3-4C4E-4119-A81A-530FA5C315F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ADB-B0A7-40A8-A616-FDB92E69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E8B-9D4B-422F-A3D5-7B35CE83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6D5-E93F-4320-8524-C7DF89B1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FE1-06CB-4503-9A95-40001351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7986-589D-40C0-A84E-8B7399C5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940A-B872-4DB8-A789-E2BF1F2F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B85-2A2C-47C5-BE20-640C054F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7581-13E2-490F-9EF1-EC999A81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2F9B-45E3-43BA-9977-60531DF3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FD7A-4816-4E70-BE91-9A44773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D2ED-C0DF-46CF-8604-83879138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B1C-BBE1-484A-B5EB-38029FDB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E6A2-89A6-446A-871D-DA0268C1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A300-1F7D-4732-AA89-EAFDC2BB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BB69-8997-433C-8C01-A477A090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558A-717C-45D5-A064-7812198F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134D-6F0E-478C-9CD5-29ACB06A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4686-AB9D-4BCA-B488-EF794E72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5AEF-6F90-4B02-B542-67AFF5C3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2CC1-95BE-465A-AC62-7C566193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A8E6-ECFE-443D-981C-535917E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764C-39E4-491B-935B-09EFF4F5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98B-E4E6-4D3C-8254-6DB329E9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81F4-E3FA-4191-9EE3-AC7F7A4C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DAEC-C571-41CE-9A7B-DC001F7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BD38F-2294-449D-A97A-A5456681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74A3-AB0C-4993-88CD-E1E4A016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072A-34D8-4EFD-BF28-B93C17ED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B3A3-4316-47EA-B02E-BD57D8FB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A0B9-D7EB-4015-94E0-94A0015C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2283A-EEA8-4705-AC89-EC79DC30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1710-8996-4CC2-BC96-3A1F31C6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59E9-1570-44F0-BF9A-B966293D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171-FE8C-4A1A-B784-F890AE1A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9D30-0DA3-447A-A360-9858FE37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E6C4-F8EF-455F-B0B7-9E4EEF04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5B6BB-6FC0-43EB-BAD5-99E698E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709A-104C-42B7-8750-FDF06E5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0534D-E0CA-467A-9CD1-4765BC5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0023-F444-42C6-93D1-F52BF9F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2428A-6A84-4504-A83C-3BFD5D8A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E334-4810-4676-A759-ACFEBBEA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8270-D7B0-4066-9209-E3FAE0DB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CCDF-7209-4BFE-A3E4-5ECF19FA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E37-148B-49D2-91C3-F2CFC1C0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A21C4-79DF-45AC-B1FC-AED2EF90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6FB65-1F22-4CC5-84CE-F11DC11A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7F60-18A8-4924-B629-39266F17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8127-EC58-4340-AE6D-AD02B019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F2F7-FF68-4900-B7A0-E37970B6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67BBE-7CE3-434C-ACBB-A3DABF0D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2E076-362A-4730-A061-483104C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1300-3B33-4DC4-A2F9-DAE9F251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07CB-582B-4455-AE69-2A9C2334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53AE4-AB05-4B7F-9376-044B74D9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7EC-C054-465C-97D2-E2ED9B1C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38C03-31F4-47B8-9C30-2BFA5835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6DA8B-1AC3-4E67-9281-6554AA76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08AB-FB91-4742-AAA9-6208B3BB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AD93F-DF5D-4865-994D-6B3F97F3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915A0-01B9-489B-8E98-20CF9106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0C381-BCE3-461C-9532-92B5994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E3AF5-7375-46BD-8C76-E96DE6FF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1D834-5DE8-4FB4-B8F7-AE2C1BD5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842A2-B545-4923-B372-7EE1446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22494-8E42-4D57-B8C1-D03E9EA7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412-D561-4F44-B732-B449104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77023-E774-48DE-88E6-7A247833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7690C-07DA-4708-9DBE-1BB711F0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2CC5-FB27-44F2-9E5A-92B90F9A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C70E6-5931-4F98-89FD-71F23CCC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01086-D276-4AE6-903B-56985E8F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A052-594A-47A0-AFA2-BAFB55F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9D7C6-4B3B-43F1-A49F-FCD98E65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AF46-CD0B-4FDC-858B-9804696F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CCB9-1278-4500-A647-674D0023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10B4F-EB2E-4F06-8B64-A3EF159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E9F-0C57-45DA-9BF5-F3287FD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B314B-89A6-4B9D-82E9-005A698A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A347F-D71F-49E0-8A54-E7143E8E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2EFA-19D8-433F-9111-6D7E2AEA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5C81B-515A-4BF3-9EE7-EED8813D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EEB57-DACE-4057-BDC1-F8347892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F9176-957C-46BB-B6D9-435D6783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F5F82-8AD8-4E99-9459-E9B96C52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10E1B-FBF2-4E66-846A-09726633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6A7B5-5FA6-4801-BDEC-9BA89E68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78406-5902-498D-B21F-77D3ADB2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15F-BFBA-45AB-B685-52C2F92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C147B-4360-4DEB-B660-7D141153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04EFB-0C26-4FEF-A41A-FFFDA96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C1F69-A374-4525-A1C4-70896E8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DADBF-A97F-4708-9E16-55B77AFA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6E98E-5246-4B01-A9AF-49486AC1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99018-5FED-4BDC-8136-5B596702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B2C39-325B-43DE-BE9C-500D92BF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16)\bg1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2E5B951-47FF-458E-B615-86F3959C4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989650-C117-4B16-813E-51C4B025B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16)\bg1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1903D74-F14E-4316-8B90-C40B70192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177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110135-AC30-45F4-AA5E-A0267B294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D337D9E-7751-4B96-B8D1-C63D4D2C6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91C1D57-FB35-4CA8-9D31-5F81A1B7D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0C32AF-014A-493C-BD22-ACB9762AB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16)\bg1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D8039A0-C52E-4D35-BE52-9BFA2E99EA6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抽象城市建筑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27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490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194-DB46-4D36-A777-55D6DC55E79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F4062-4CBE-41A0-8A28-EB04B3D6174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87568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5AC3A94-48A0-45F8-9D82-B4E33AF47C31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916B1-D032-4652-8121-CCB679E5A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489600" y="64828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1652-8C9D-4E58-8104-D5A8B2B12C0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9CBB836-0BFA-4637-BE54-89C18889E926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7CAF-B785-433A-84D0-98ED099011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558E2EC8-3A02-44A2-8651-44592478A3B6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5807F29-C9CF-4D7C-BB03-933A1DAFF260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55AF5F-D89F-421E-87A0-FFB415243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177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BE02-6754-4E9E-B043-DBBA5CD493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9CEEA564-01EF-41C2-948E-B22CE7C8499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489600" y="64828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9188-DA6E-434A-B4EE-6CA7296384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0F30752F-5460-4A46-8D1F-C88ABDFEFF1D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01413975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42C9A-482C-4BBD-9B0F-2F1EA93254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826CCC55-074A-4A22-987E-9BE4D3C3AF7D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435701069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1A67-88DC-405D-B2DE-234F321ABA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2DE68AAE-246A-436F-841B-35186C57BBA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1EBAA-AC06-4C10-9BB3-3333EF3FA0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4452292C-0BF8-4CE7-8E10-8D5315BC18ED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2D1B-AB04-4C1B-BCC4-B06BF5D124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0C1DF09E-F575-4518-938B-F1D3D8AC725E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D9840-3588-4A48-B654-7A0B99D80B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3FACCF23-98BA-431F-BDB1-2671DAE2629E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2</Template>
  <TotalTime>1</TotalTime>
  <Application>LibreOffice/7.4.7.2$Linux_X86_64 LibreOffice_project/40$Build-2</Application>
  <AppVersion>15.0000</AppVersion>
  <Words>538</Words>
  <Paragraphs>1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0:32:45Z</dcterms:created>
  <dc:creator>lenovo</dc:creator>
  <dc:description>我爱PPT中文网</dc:description>
  <cp:keywords>XS-普屏 4：3 SC-淡蓝色 BG-浅色 DH-静态 XJ-二级</cp:keywords>
  <dc:language>en-US</dc:language>
  <cp:lastModifiedBy>王玉清</cp:lastModifiedBy>
  <dcterms:modified xsi:type="dcterms:W3CDTF">2016-02-21T04:09:05Z</dcterms:modified>
  <cp:revision>3</cp:revision>
  <dc:subject>TP-商务公关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