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B0F-E329-407D-B5AF-E7AE5A60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5D8-434B-4700-966A-813EB4D9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88E-DFF5-4445-A98E-0C9A5997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0AE-78A6-4FFD-9DF9-CA08D99E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F75E-D440-4305-88BC-BCB944AD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B1B-249C-422C-96F1-BDC110BF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3650-9119-4491-A838-CDB3A34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E992-7DCA-4D6E-9B8F-9D01FDC5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FA9C-B23C-4872-BDD5-B8E1008C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CDF5-CB98-49DC-9E3D-10A2CFB5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125F-385C-45DD-B16F-E41BC1A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B3C-3457-4D46-88A2-9CF41D95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C5F6-BE0B-4760-88FE-3F2356C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FEBF-1AD1-47C5-B300-EBB381E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BA32-204F-4048-88C1-1D162678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AA19-37AF-45B1-B300-808A9073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E6C3-8A88-487E-B754-9080A5D2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5A6-B117-4787-B7EA-326DFB69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04B-C39F-4CC5-9385-8707CF4E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BDF-B2F2-44EF-97CA-7BDB3635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079-EEB9-40AF-9E5B-0CF22D84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B7C-F56C-4F21-900A-6EEFBB7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34B-538A-4344-8B07-4890C1F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AA9-10DD-4EB4-A447-66A969DC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C0D0-2694-404E-869A-03CE1152C78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0ABD-7855-4F4F-B303-E6524E121D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2205000"/>
            <a:ext cx="84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抽象方块背景轻松工作动感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508840" y="789300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www.pptbz.com</dc:creator>
  <dc:description/>
  <cp:keywords>ppt宝藏</cp:keywords>
  <dc:language>en-US</dc:language>
  <cp:lastModifiedBy>a</cp:lastModifiedBy>
  <dcterms:modified xsi:type="dcterms:W3CDTF">2015-07-25T08:14:12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