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112-D8D1-438B-967C-9144D22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0C8-D82F-4936-8F26-5DECD78C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A87-DC16-4BF2-B11E-CF74E707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9FC-D368-4E8E-8855-F805314C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D76-465B-4DB9-B0BA-4B97593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5B0-60C1-4D82-AAF9-5F7EA886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237-6DEE-452C-9AFA-4765221D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845-2BC2-451C-B8FF-0DB86F7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D39-2AD5-4F93-9077-73DE04AB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221-6C30-44EE-93BF-4BBAFA1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372-4C19-45AB-AD8E-510960C3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4F4-0E52-4684-8D41-067FB91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125-F93D-4CA0-82AF-3F05D6F2F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抽象商务免费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1:58:43Z</dcterms:created>
  <dc:creator>pptbz</dc:creator>
  <dc:description/>
  <dc:language>en-US</dc:language>
  <cp:lastModifiedBy>a</cp:lastModifiedBy>
  <dcterms:modified xsi:type="dcterms:W3CDTF">2015-07-25T07:30:25Z</dcterms:modified>
  <cp:revision>17</cp:revision>
  <dc:subject/>
  <dc:title>www.pptbz.com</dc:title>
</cp:coreProperties>
</file>