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GB" sz="4400" spc="-1" strike="noStrike">
                <a:solidFill>
                  <a:srgbClr val="0e2fad"/>
                </a:solidFill>
                <a:latin typeface="Arial"/>
              </a:rPr>
              <a:t>Click to move the slide</a:t>
            </a: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4CC482-8734-43CC-8883-6594CA1F8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C89B00-75CD-4EB9-BD2E-0AC0F9BFEC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38C07C-65DF-4733-8D60-3614DC0AF6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B449F2-59D6-497E-A1EA-697D92E053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E6266D-B2DB-4C7A-BE33-74E7E4892A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5A87AE-F850-4105-A96E-9D0B100D2E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7DC305-DEB9-4889-8607-02AF83C704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4CCEB0-74F6-4BD6-9044-288D1DCE80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B9DE51-E994-4C5B-8D69-B0259A7238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28797B-671C-40C4-9B53-68F97FA9C1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4AAEB3-6F2A-4A90-A0CA-7A92D836AE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893-3C74-4A7A-8890-73F8CB76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BA4-3311-4ED4-8B34-4F356485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5DF-C169-4458-A1C0-AC4D76A6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E33-6D15-4E5F-AB3F-0E401D95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9484-AA49-4CD5-9FC5-4DBDFB0B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E761-A234-426E-8C35-69C49F16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6ABB-6BEB-4CAC-B492-4627C41D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8AD5-2565-4AC0-921E-EC3E395D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F51F-EEFA-4AEA-81F8-1FCBE907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4918-FEFC-40F9-A4EC-501EFB68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F5D8-C43A-43D0-8117-509A41D5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88E-7EB3-486A-9E44-2D271430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4130-7C60-4135-82BB-0BD61B40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A405-A58E-44A1-9D98-D806EC19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0AED-E9C2-4840-BBE9-CD993E40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C3A2-2456-48DF-8371-72D9611E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2555-4E2E-4C4A-8C1B-C3653254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DC801-87EA-4AC7-B88E-A7C13B3F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823B-840F-472E-A0BA-B9414B23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7686-3874-494A-8AF1-9F0AAA92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1049A-060D-4399-9BD1-3C28AB9E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A4D50-3ADF-49E6-B2CE-5230F01E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D91-349F-4789-8ABB-D544C96F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58527-83FF-4B95-AE63-9A78A422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F2BF9-423D-4D89-B501-B90D3FA0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E6A13-0F4A-462A-B1E9-DB21F231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A3F5B-570E-44EC-B831-6A87C256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E6784-E573-49AB-9B5E-FF02580F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7EAB1-FF43-4723-99FB-04754713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2699B-D57D-4097-BB83-F91882B5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AF022-D54D-4557-A414-E8ABEB1C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AD81E-EC2C-4DEA-BD55-501865C8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C3290-5C15-4C2F-8C50-9FE67336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674-9B5C-408A-ABE5-50AF5EA6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796AA-235C-4260-8F0C-30AA6272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8A887-2056-4DD6-A47A-090D77A4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222FE-5E0B-41DC-8F89-FBAD88F6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3DEB2-BF75-4345-9A8C-F7158336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8D25F-CE82-4069-B7FE-A7A71C7E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86CED-53B1-48B7-8927-9FB56170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15193-0976-4AAC-8316-4CBE22AE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36E06-0CE3-488E-B455-FADFAFFB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00931-13FD-4F0C-80E3-351D8DC6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ADAA2-86A2-47A8-B610-61930DD1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EDC-5E3A-4377-A736-F5C0E054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1087C-5297-4988-9914-AC06C1B3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E0838-7BDA-40F2-BA35-71DFD463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B6D9B-F11E-405E-8A00-8AC92177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CBA11-39B0-4BE8-819C-30161115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FB274-4AE2-44BA-B6E6-3BA9F89E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A24F2-EE68-4DD7-975E-8D3EA8D9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BB32B-ACBC-441E-B35F-3513CAE8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4F553-1D05-4C93-9944-77140DAC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D6BD4-ED2C-4B4F-9043-894301EA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B4891-AB87-45AF-8EDC-AE2F3B2E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7E4-2CEF-4E6F-805F-B5E77562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A2432-C020-4356-9919-D6FD6689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64A6F-238B-4C1A-805C-41A0AE4A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776BD-6B01-49BE-8B97-E5BB6EA8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DA9B3-B150-44AF-AB46-370BCDE5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00C22-FFC0-4613-A92F-17E3D58C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A7DD7-6060-470B-BE30-9022CBBF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26FE5-5AA7-439E-8073-3E197CAA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FEFE6-FAE7-4EBA-B6D9-A5AD9C43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C5465-296D-49D4-91F2-FC125B4F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468E3-0BF9-407C-8943-F9EFE2C1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1B3-87A0-4CE6-9F59-07400D31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6C18B-FD22-4803-8B7B-929878F3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3178F-66D6-4506-ABAC-0DDE9DBC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CF7F7-BD39-4F53-9548-6510C3C5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970-81EB-4145-BE31-EAD1C42E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000-18F8-491C-B835-06C6492D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3313B3-18B6-4435-837E-2EE1990F9FA5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A55C10-6321-4519-BDC1-565C133BDC02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39B8A5-D2C4-46A9-AC4E-DB1DEB3AF08C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8987E4-921D-435E-B64D-34CBAE0645F6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GB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471DB9-242A-41F9-86B4-3C4E0F84B2C9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8B3A8A-A7DC-4FBC-8045-D16E5043ABBE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xls"/><Relationship Id="rId3" Type="http://schemas.openxmlformats.org/officeDocument/2006/relationships/image" Target="../media/image4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3"/>
          <p:cNvSpPr/>
          <p:nvPr/>
        </p:nvSpPr>
        <p:spPr>
          <a:xfrm>
            <a:off x="5256360" y="3747960"/>
            <a:ext cx="23824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5172120" y="2036880"/>
            <a:ext cx="2552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"/>
          <p:cNvSpPr/>
          <p:nvPr/>
        </p:nvSpPr>
        <p:spPr>
          <a:xfrm>
            <a:off x="1866600" y="473040"/>
            <a:ext cx="531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货车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e2fa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e2fa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e2fa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539640" y="1268280"/>
            <a:ext cx="820872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015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se of templates</a:t>
            </a: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150920" y="1198440"/>
            <a:ext cx="6949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150920" y="2533680"/>
            <a:ext cx="3409560" cy="24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se these templates for your presen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4495680" y="2533680"/>
            <a:ext cx="3639600" cy="20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esell or distribute these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Wingdings" charset="2"/>
              <a:buChar char=""/>
              <a:tabLst>
                <a:tab algn="l" pos="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Pass off any of our created content as your own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1878120" y="5049720"/>
            <a:ext cx="57020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ctr">
              <a:lnSpc>
                <a:spcPct val="90000"/>
              </a:lnSpc>
              <a:spcBef>
                <a:spcPts val="320"/>
              </a:spcBef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You can find many more free PowerPoint templates on the Presentation Magazine 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1150920" y="2001960"/>
            <a:ext cx="6926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e have put a lot of work into developing all these templates and retain the copyright in them.  You can use them freely providing that you do not redistribute or sell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6960" y="16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xample Bullet Point Slide 1</a:t>
            </a: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41200" y="1190520"/>
            <a:ext cx="8361000" cy="4138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9960" y="1652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xample Bullet Point Slide 2</a:t>
            </a: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1200" y="1190520"/>
            <a:ext cx="8361000" cy="4138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GB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6800" y="174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olour scheme</a:t>
            </a: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686040" y="2306520"/>
            <a:ext cx="82656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4762440" y="2306520"/>
            <a:ext cx="826560" cy="6109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2633760" y="3921120"/>
            <a:ext cx="826560" cy="610920"/>
          </a:xfrm>
          <a:prstGeom prst="rect">
            <a:avLst/>
          </a:prstGeom>
          <a:solidFill>
            <a:schemeClr val="accent1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701880" y="3921120"/>
            <a:ext cx="82656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770360" y="3921120"/>
            <a:ext cx="826560" cy="61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5840280" y="3921120"/>
            <a:ext cx="826560" cy="610920"/>
          </a:xfrm>
          <a:prstGeom prst="rect">
            <a:avLst/>
          </a:prstGeom>
          <a:solidFill>
            <a:schemeClr val="accent1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5823000" y="2306520"/>
            <a:ext cx="826560" cy="6109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2617920" y="2306520"/>
            <a:ext cx="826560" cy="610920"/>
          </a:xfrm>
          <a:prstGeom prst="rect">
            <a:avLst/>
          </a:prstGeom>
          <a:solidFill>
            <a:schemeClr val="bg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2350800" y="1666800"/>
            <a:ext cx="1362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3709800" y="1544760"/>
            <a:ext cx="784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4641120" y="1666800"/>
            <a:ext cx="1069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5939280" y="1544760"/>
            <a:ext cx="59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itle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2754720" y="3281400"/>
            <a:ext cx="586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6"/>
          <p:cNvSpPr/>
          <p:nvPr/>
        </p:nvSpPr>
        <p:spPr>
          <a:xfrm>
            <a:off x="3696840" y="3281400"/>
            <a:ext cx="856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4619520" y="3159000"/>
            <a:ext cx="1104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8"/>
          <p:cNvSpPr/>
          <p:nvPr/>
        </p:nvSpPr>
        <p:spPr>
          <a:xfrm>
            <a:off x="5700600" y="3157560"/>
            <a:ext cx="1104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4600" y="181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ample Graph (3 colour)</a:t>
            </a: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graphicFrame>
        <p:nvGraphicFramePr>
          <p:cNvPr id="289" name="Object 3"/>
          <p:cNvGraphicFramePr/>
          <p:nvPr/>
        </p:nvGraphicFramePr>
        <p:xfrm>
          <a:off x="1473120" y="866880"/>
          <a:ext cx="6197400" cy="4165200"/>
        </p:xfrm>
        <a:graphic>
          <a:graphicData uri="http://schemas.openxmlformats.org/presentationml/2006/ole">
            <p:oleObj progId="Excel.Sheet.8" r:id="rId2" spid="">
              <p:embed/>
              <p:pic>
                <p:nvPicPr>
                  <p:cNvPr id="29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3120" y="866880"/>
                    <a:ext cx="6197400" cy="41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7"/>
          <p:cNvSpPr/>
          <p:nvPr/>
        </p:nvSpPr>
        <p:spPr>
          <a:xfrm>
            <a:off x="19548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ff9d3b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ff9d3b"/>
                </a:solidFill>
                <a:uFillTx/>
                <a:latin typeface="Arial"/>
                <a:ea typeface="宋体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0" y="1468440"/>
            <a:ext cx="2922120" cy="2453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llet 2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4" descr="IMG_9271"/>
          <p:cNvPicPr/>
          <p:nvPr/>
        </p:nvPicPr>
        <p:blipFill>
          <a:blip r:embed="rId2"/>
          <a:stretch/>
        </p:blipFill>
        <p:spPr>
          <a:xfrm>
            <a:off x="398520" y="1503360"/>
            <a:ext cx="3096720" cy="38509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2"/>
          <p:cNvSpPr/>
          <p:nvPr/>
        </p:nvSpPr>
        <p:spPr>
          <a:xfrm>
            <a:off x="471600" y="14616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" descr=""/>
          <p:cNvPicPr/>
          <p:nvPr/>
        </p:nvPicPr>
        <p:blipFill>
          <a:blip r:embed="rId1"/>
          <a:stretch/>
        </p:blipFill>
        <p:spPr>
          <a:xfrm>
            <a:off x="527040" y="1662120"/>
            <a:ext cx="1557000" cy="915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0" descr=""/>
          <p:cNvPicPr/>
          <p:nvPr/>
        </p:nvPicPr>
        <p:blipFill>
          <a:blip r:embed="rId2"/>
          <a:stretch/>
        </p:blipFill>
        <p:spPr>
          <a:xfrm>
            <a:off x="2109960" y="1671480"/>
            <a:ext cx="1555560" cy="915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1" descr=""/>
          <p:cNvPicPr/>
          <p:nvPr/>
        </p:nvPicPr>
        <p:blipFill>
          <a:blip r:embed="rId3"/>
          <a:stretch/>
        </p:blipFill>
        <p:spPr>
          <a:xfrm>
            <a:off x="6900840" y="1684440"/>
            <a:ext cx="1557000" cy="9154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2" descr=""/>
          <p:cNvPicPr/>
          <p:nvPr/>
        </p:nvPicPr>
        <p:blipFill>
          <a:blip r:embed="rId4"/>
          <a:stretch/>
        </p:blipFill>
        <p:spPr>
          <a:xfrm>
            <a:off x="5308560" y="1684440"/>
            <a:ext cx="1557000" cy="915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3" descr=""/>
          <p:cNvPicPr/>
          <p:nvPr/>
        </p:nvPicPr>
        <p:blipFill>
          <a:blip r:embed="rId5"/>
          <a:stretch/>
        </p:blipFill>
        <p:spPr>
          <a:xfrm>
            <a:off x="3703680" y="1671480"/>
            <a:ext cx="1557000" cy="9154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cess Flow</a:t>
            </a: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11280" y="2738520"/>
            <a:ext cx="137592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230560" y="2738520"/>
            <a:ext cx="137592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3824280" y="2738520"/>
            <a:ext cx="137592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5442120" y="2738520"/>
            <a:ext cx="137592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7037280" y="2738520"/>
            <a:ext cx="137592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2354400" y="1814400"/>
            <a:ext cx="66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627480" y="1812960"/>
            <a:ext cx="943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3885120" y="1814400"/>
            <a:ext cx="75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5554800" y="1812960"/>
            <a:ext cx="63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6891480" y="1814400"/>
            <a:ext cx="1119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3720" y="100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xample of a table</a:t>
            </a: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graphicFrame>
        <p:nvGraphicFramePr>
          <p:cNvPr id="313" name="Group 3"/>
          <p:cNvGraphicFramePr/>
          <p:nvPr/>
        </p:nvGraphicFramePr>
        <p:xfrm>
          <a:off x="819000" y="1379520"/>
          <a:ext cx="7402320" cy="2958840"/>
        </p:xfrm>
        <a:graphic>
          <a:graphicData uri="http://schemas.openxmlformats.org/drawingml/2006/table">
            <a:tbl>
              <a:tblPr/>
              <a:tblGrid>
                <a:gridCol w="3701880"/>
                <a:gridCol w="3700440"/>
              </a:tblGrid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chemeClr val="accent1">
                        <a:lumMod val="75000"/>
                      </a:scheme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chemeClr val="accent1">
                        <a:lumMod val="75000"/>
                      </a:schemeClr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29"/>
          <p:cNvSpPr/>
          <p:nvPr/>
        </p:nvSpPr>
        <p:spPr>
          <a:xfrm>
            <a:off x="1889280" y="5156280"/>
            <a:ext cx="5281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ote: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owerPoint does not allow you to have nice default tables - but you can cut and paste this 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xamples of default styles</a:t>
            </a:r>
            <a:endParaRPr b="0" lang="en-GB" sz="4400" spc="-1" strike="noStrike">
              <a:solidFill>
                <a:srgbClr val="0e2fa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444760" y="3267000"/>
            <a:ext cx="468900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Font typeface="Symbol" charset="2"/>
              <a:buChar char=""/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Hyperlinks like this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b0f0"/>
              </a:buClr>
              <a:buFont typeface="Symbol" charset="2"/>
              <a:buChar char=""/>
            </a:pPr>
            <a:r>
              <a:rPr b="0" lang="en-GB" sz="2400" spc="-1" strike="noStrike" u="sng">
                <a:solidFill>
                  <a:srgbClr val="00b0f0"/>
                </a:solidFill>
                <a:uFillTx/>
                <a:latin typeface="Arial"/>
              </a:rPr>
              <a:t>Visited hyperlinks like this</a:t>
            </a:r>
            <a:endParaRPr b="0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" name="Group 4"/>
          <p:cNvGraphicFramePr/>
          <p:nvPr/>
        </p:nvGraphicFramePr>
        <p:xfrm>
          <a:off x="3425760" y="1459080"/>
          <a:ext cx="2231640" cy="136800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</a:tblGrid>
              <a:tr h="684720">
                <a:tc>
                  <a:txBody>
                    <a:bodyPr lIns="69480" rIns="6948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9480" marR="6948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9480" rIns="6948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9480" marR="6948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69480" rIns="6948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9480" marR="6948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9480" rIns="69480" tIns="34560" bIns="34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9480" marR="6948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Rectangle 15"/>
          <p:cNvSpPr/>
          <p:nvPr/>
        </p:nvSpPr>
        <p:spPr>
          <a:xfrm>
            <a:off x="635040" y="1459080"/>
            <a:ext cx="2231640" cy="1368000"/>
          </a:xfrm>
          <a:prstGeom prst="rect">
            <a:avLst/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6"/>
          <p:cNvSpPr/>
          <p:nvPr/>
        </p:nvSpPr>
        <p:spPr>
          <a:xfrm>
            <a:off x="6197760" y="1459080"/>
            <a:ext cx="2231640" cy="1368000"/>
          </a:xfrm>
          <a:prstGeom prst="rect">
            <a:avLst/>
          </a:prstGeom>
          <a:solidFill>
            <a:schemeClr val="accent1">
              <a:lumMod val="75000"/>
            </a:schemeClr>
          </a:solidFill>
          <a:ln w="0">
            <a:noFill/>
          </a:ln>
          <a:effectLst>
            <a:outerShdw algn="ctr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19548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ff9d3b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9d3b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4">
      <a:dk1>
        <a:srgbClr val="0e2fad"/>
      </a:dk1>
      <a:lt1>
        <a:srgbClr val="ffffff"/>
      </a:lt1>
      <a:dk2>
        <a:srgbClr val="0e2fad"/>
      </a:dk2>
      <a:lt2>
        <a:srgbClr val="b3cce6"/>
      </a:lt2>
      <a:accent1>
        <a:srgbClr val="7fd7fc"/>
      </a:accent1>
      <a:accent2>
        <a:srgbClr val="6ba7f8"/>
      </a:accent2>
      <a:accent3>
        <a:srgbClr val="ffffff"/>
      </a:accent3>
      <a:accent4>
        <a:srgbClr val="0a2793"/>
      </a:accent4>
      <a:accent5>
        <a:srgbClr val="c0e8fd"/>
      </a:accent5>
      <a:accent6>
        <a:srgbClr val="6097e1"/>
      </a:accent6>
      <a:hlink>
        <a:srgbClr val="ff9d3b"/>
      </a:hlink>
      <a:folHlink>
        <a:srgbClr val="007b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Default Design 14">
      <a:dk1>
        <a:srgbClr val="0e2fad"/>
      </a:dk1>
      <a:lt1>
        <a:srgbClr val="ffffff"/>
      </a:lt1>
      <a:dk2>
        <a:srgbClr val="0e2fad"/>
      </a:dk2>
      <a:lt2>
        <a:srgbClr val="b3cce6"/>
      </a:lt2>
      <a:accent1>
        <a:srgbClr val="7fd7fc"/>
      </a:accent1>
      <a:accent2>
        <a:srgbClr val="6ba7f8"/>
      </a:accent2>
      <a:accent3>
        <a:srgbClr val="ffffff"/>
      </a:accent3>
      <a:accent4>
        <a:srgbClr val="0a2793"/>
      </a:accent4>
      <a:accent5>
        <a:srgbClr val="c0e8fd"/>
      </a:accent5>
      <a:accent6>
        <a:srgbClr val="6097e1"/>
      </a:accent6>
      <a:hlink>
        <a:srgbClr val="ff9d3b"/>
      </a:hlink>
      <a:folHlink>
        <a:srgbClr val="007b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fault Design">
  <a:themeElements>
    <a:clrScheme name="Default Design 14">
      <a:dk1>
        <a:srgbClr val="0e2fad"/>
      </a:dk1>
      <a:lt1>
        <a:srgbClr val="ffffff"/>
      </a:lt1>
      <a:dk2>
        <a:srgbClr val="0e2fad"/>
      </a:dk2>
      <a:lt2>
        <a:srgbClr val="b3cce6"/>
      </a:lt2>
      <a:accent1>
        <a:srgbClr val="7fd7fc"/>
      </a:accent1>
      <a:accent2>
        <a:srgbClr val="6ba7f8"/>
      </a:accent2>
      <a:accent3>
        <a:srgbClr val="ffffff"/>
      </a:accent3>
      <a:accent4>
        <a:srgbClr val="0a2793"/>
      </a:accent4>
      <a:accent5>
        <a:srgbClr val="c0e8fd"/>
      </a:accent5>
      <a:accent6>
        <a:srgbClr val="6097e1"/>
      </a:accent6>
      <a:hlink>
        <a:srgbClr val="ff9d3b"/>
      </a:hlink>
      <a:folHlink>
        <a:srgbClr val="007b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efault Design">
  <a:themeElements>
    <a:clrScheme name="Default Design 14">
      <a:dk1>
        <a:srgbClr val="0e2fad"/>
      </a:dk1>
      <a:lt1>
        <a:srgbClr val="ffffff"/>
      </a:lt1>
      <a:dk2>
        <a:srgbClr val="0e2fad"/>
      </a:dk2>
      <a:lt2>
        <a:srgbClr val="b3cce6"/>
      </a:lt2>
      <a:accent1>
        <a:srgbClr val="7fd7fc"/>
      </a:accent1>
      <a:accent2>
        <a:srgbClr val="6ba7f8"/>
      </a:accent2>
      <a:accent3>
        <a:srgbClr val="ffffff"/>
      </a:accent3>
      <a:accent4>
        <a:srgbClr val="0a2793"/>
      </a:accent4>
      <a:accent5>
        <a:srgbClr val="c0e8fd"/>
      </a:accent5>
      <a:accent6>
        <a:srgbClr val="6097e1"/>
      </a:accent6>
      <a:hlink>
        <a:srgbClr val="ff9d3b"/>
      </a:hlink>
      <a:folHlink>
        <a:srgbClr val="007b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Default Design">
  <a:themeElements>
    <a:clrScheme name="Default Design 14">
      <a:dk1>
        <a:srgbClr val="0e2fad"/>
      </a:dk1>
      <a:lt1>
        <a:srgbClr val="ffffff"/>
      </a:lt1>
      <a:dk2>
        <a:srgbClr val="0e2fad"/>
      </a:dk2>
      <a:lt2>
        <a:srgbClr val="b3cce6"/>
      </a:lt2>
      <a:accent1>
        <a:srgbClr val="7fd7fc"/>
      </a:accent1>
      <a:accent2>
        <a:srgbClr val="6ba7f8"/>
      </a:accent2>
      <a:accent3>
        <a:srgbClr val="ffffff"/>
      </a:accent3>
      <a:accent4>
        <a:srgbClr val="0a2793"/>
      </a:accent4>
      <a:accent5>
        <a:srgbClr val="c0e8fd"/>
      </a:accent5>
      <a:accent6>
        <a:srgbClr val="6097e1"/>
      </a:accent6>
      <a:hlink>
        <a:srgbClr val="ff9d3b"/>
      </a:hlink>
      <a:folHlink>
        <a:srgbClr val="007b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Default Design">
  <a:themeElements>
    <a:clrScheme name="Default Design 14">
      <a:dk1>
        <a:srgbClr val="0e2fad"/>
      </a:dk1>
      <a:lt1>
        <a:srgbClr val="ffffff"/>
      </a:lt1>
      <a:dk2>
        <a:srgbClr val="0e2fad"/>
      </a:dk2>
      <a:lt2>
        <a:srgbClr val="b3cce6"/>
      </a:lt2>
      <a:accent1>
        <a:srgbClr val="7fd7fc"/>
      </a:accent1>
      <a:accent2>
        <a:srgbClr val="6ba7f8"/>
      </a:accent2>
      <a:accent3>
        <a:srgbClr val="ffffff"/>
      </a:accent3>
      <a:accent4>
        <a:srgbClr val="0a2793"/>
      </a:accent4>
      <a:accent5>
        <a:srgbClr val="c0e8fd"/>
      </a:accent5>
      <a:accent6>
        <a:srgbClr val="6097e1"/>
      </a:accent6>
      <a:hlink>
        <a:srgbClr val="ff9d3b"/>
      </a:hlink>
      <a:folHlink>
        <a:srgbClr val="007b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e2fad"/>
      </a:dk2>
      <a:lt2>
        <a:srgbClr val="b3cce6"/>
      </a:lt2>
      <a:accent1>
        <a:srgbClr val="7fd7fc"/>
      </a:accent1>
      <a:accent2>
        <a:srgbClr val="6ba7f8"/>
      </a:accent2>
      <a:accent3>
        <a:srgbClr val="ffffff"/>
      </a:accent3>
      <a:accent4>
        <a:srgbClr val="0a2793"/>
      </a:accent4>
      <a:accent5>
        <a:srgbClr val="c0e8fd"/>
      </a:accent5>
      <a:accent6>
        <a:srgbClr val="6097e1"/>
      </a:accent6>
      <a:hlink>
        <a:srgbClr val="ff9d3b"/>
      </a:hlink>
      <a:folHlink>
        <a:srgbClr val="007b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  <Words>347</Words>
  <Paragraphs>89</Paragraphs>
  <Company>Clearly Presented Lt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www.pptbz.com</dc:creator>
  <dc:description/>
  <dc:language>en-US</dc:language>
  <cp:lastModifiedBy>王玉清</cp:lastModifiedBy>
  <dcterms:modified xsi:type="dcterms:W3CDTF">2016-03-06T03:30:32Z</dcterms:modified>
  <cp:revision>58</cp:revision>
  <dc:subject/>
  <dc:title>Lorry Template (blue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全屏显示(4:3)</vt:lpwstr>
  </property>
  <property fmtid="{D5CDD505-2E9C-101B-9397-08002B2CF9AE}" pid="4" name="Slides">
    <vt:r8>10</vt:r8>
  </property>
</Properties>
</file>