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69534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69534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19760" y="174096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19760" y="414612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223884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08000" y="1740960"/>
            <a:ext cx="223884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59160" y="1740960"/>
            <a:ext cx="223884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23884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808000" y="4146120"/>
            <a:ext cx="223884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159160" y="4146120"/>
            <a:ext cx="223884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DD6C-52E6-4B93-80C7-AE1ACF46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740960"/>
            <a:ext cx="6953400" cy="46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19A0-2F2F-4684-ADC3-59A4BF5A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69534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3B29-5D59-4CDD-8B4F-604E5DA1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33930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19760" y="1740960"/>
            <a:ext cx="33930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11CA-30F8-4940-A9F7-21CB391C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4E86-EFDA-4CE4-896F-6A28DFDE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260280"/>
            <a:ext cx="69534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E1E5-1AA9-4903-93E1-3391A525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19760" y="1740960"/>
            <a:ext cx="33930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637A-4DE5-4AB7-B9FC-B9B7B2CD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740960"/>
            <a:ext cx="6953400" cy="46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33930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19760" y="174096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019760" y="414612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BA0F-3673-4B48-9996-502C72E5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9760" y="174096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69534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6016-3F03-47A9-B573-456C3F33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69534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69534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7C08-94CB-4299-AFC7-B6251C76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9760" y="174096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019760" y="414612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77CA-2451-457E-A81E-2EC33379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223884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808000" y="1740960"/>
            <a:ext cx="223884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59160" y="1740960"/>
            <a:ext cx="223884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23884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808000" y="4146120"/>
            <a:ext cx="223884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159160" y="4146120"/>
            <a:ext cx="223884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8620-0A94-4BFA-A241-5A9B9154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69534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33930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19760" y="1740960"/>
            <a:ext cx="33930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260280"/>
            <a:ext cx="69534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19760" y="1740960"/>
            <a:ext cx="33930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33930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19760" y="174096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19760" y="414612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19760" y="174096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69534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40960"/>
            <a:ext cx="69534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1" descr="jackson-pollack-001-1"/>
          <p:cNvPicPr/>
          <p:nvPr/>
        </p:nvPicPr>
        <p:blipFill>
          <a:blip r:embed="rId2"/>
          <a:srcRect l="5383" t="0" r="22007" b="1720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740960"/>
            <a:ext cx="69534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605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素彩网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2214-1A01-4B6E-86A6-5D42F2427F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72880" y="4187520"/>
            <a:ext cx="6529320" cy="84276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PMingLiU"/>
              </a:rPr>
              <a:t>Your n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1172880" y="1611000"/>
            <a:ext cx="6716520" cy="195084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多彩斑点动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Example Bullet Point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695340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ub Bull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Colour sche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671920" y="2787480"/>
            <a:ext cx="82692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3747960" y="2787480"/>
            <a:ext cx="827280" cy="6112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19280" y="4402080"/>
            <a:ext cx="826920" cy="611280"/>
          </a:xfrm>
          <a:prstGeom prst="rect">
            <a:avLst/>
          </a:prstGeom>
          <a:solidFill>
            <a:srgbClr val="fff2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2687760" y="4402080"/>
            <a:ext cx="826920" cy="611280"/>
          </a:xfrm>
          <a:prstGeom prst="rect">
            <a:avLst/>
          </a:prstGeom>
          <a:solidFill>
            <a:srgbClr val="125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755880" y="4402080"/>
            <a:ext cx="827280" cy="611280"/>
          </a:xfrm>
          <a:prstGeom prst="rect">
            <a:avLst/>
          </a:prstGeom>
          <a:solidFill>
            <a:srgbClr val="d90e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4826160" y="4402080"/>
            <a:ext cx="826920" cy="611280"/>
          </a:xfrm>
          <a:prstGeom prst="rect">
            <a:avLst/>
          </a:prstGeom>
          <a:solidFill>
            <a:srgbClr val="f62b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4808520" y="2787480"/>
            <a:ext cx="82728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1603440" y="278748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1385280" y="214776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2703600" y="202572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Tex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653640" y="21477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Shad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4934520" y="202572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761840" y="376236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F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2709360" y="376236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Ac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643560" y="363996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Acc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4724640" y="363852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Follo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Sample Graph (3 colours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130320" y="1989000"/>
          <a:ext cx="6732360" cy="37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989000"/>
                    <a:ext cx="6732360" cy="37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Pictur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40960"/>
            <a:ext cx="340344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PMingLiU"/>
              </a:rPr>
              <a:t>Bullet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PMingLiU"/>
              </a:rPr>
              <a:t>Bullet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water 060"/>
          <p:cNvPicPr/>
          <p:nvPr/>
        </p:nvPicPr>
        <p:blipFill>
          <a:blip r:embed="rId1"/>
          <a:stretch/>
        </p:blipFill>
        <p:spPr>
          <a:xfrm>
            <a:off x="3260880" y="3139920"/>
            <a:ext cx="3241440" cy="3205440"/>
          </a:xfrm>
          <a:prstGeom prst="rect">
            <a:avLst/>
          </a:prstGeom>
          <a:ln w="57240">
            <a:solidFill>
              <a:srgbClr val="f62b26"/>
            </a:solidFill>
            <a:miter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PMingLiU"/>
              </a:rPr>
              <a:t>Process Flo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731880" y="3116160"/>
            <a:ext cx="1376280" cy="2354400"/>
          </a:xfrm>
          <a:prstGeom prst="rect">
            <a:avLst/>
          </a:prstGeom>
          <a:solidFill>
            <a:srgbClr val="748e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266920" y="3116160"/>
            <a:ext cx="1376280" cy="2354400"/>
          </a:xfrm>
          <a:prstGeom prst="rect">
            <a:avLst/>
          </a:prstGeom>
          <a:solidFill>
            <a:srgbClr val="0091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776760" y="3116160"/>
            <a:ext cx="1376280" cy="23544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5284800" y="3116160"/>
            <a:ext cx="1376280" cy="2354400"/>
          </a:xfrm>
          <a:prstGeom prst="rect">
            <a:avLst/>
          </a:prstGeom>
          <a:solidFill>
            <a:srgbClr val="ffab5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796080" y="3116160"/>
            <a:ext cx="1376280" cy="2354400"/>
          </a:xfrm>
          <a:prstGeom prst="rect">
            <a:avLst/>
          </a:prstGeom>
          <a:solidFill>
            <a:srgbClr val="ffc9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8"/>
          <p:cNvSpPr/>
          <p:nvPr/>
        </p:nvSpPr>
        <p:spPr>
          <a:xfrm>
            <a:off x="2266920" y="1643040"/>
            <a:ext cx="1854360" cy="12700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009193"/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9"/>
          <p:cNvSpPr/>
          <p:nvPr/>
        </p:nvSpPr>
        <p:spPr>
          <a:xfrm>
            <a:off x="731880" y="1643040"/>
            <a:ext cx="1898640" cy="127008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w="1196" h="800">
                <a:moveTo>
                  <a:pt x="1046" y="204"/>
                </a:moveTo>
                <a:lnTo>
                  <a:pt x="892" y="0"/>
                </a:lnTo>
                <a:lnTo>
                  <a:pt x="0" y="0"/>
                </a:lnTo>
                <a:lnTo>
                  <a:pt x="0" y="800"/>
                </a:lnTo>
                <a:lnTo>
                  <a:pt x="892" y="800"/>
                </a:lnTo>
                <a:lnTo>
                  <a:pt x="1046" y="596"/>
                </a:lnTo>
                <a:lnTo>
                  <a:pt x="1196" y="400"/>
                </a:lnTo>
                <a:lnTo>
                  <a:pt x="1046" y="204"/>
                </a:lnTo>
                <a:close/>
              </a:path>
            </a:pathLst>
          </a:custGeom>
          <a:solidFill>
            <a:srgbClr val="748ed6"/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20"/>
          <p:cNvSpPr/>
          <p:nvPr/>
        </p:nvSpPr>
        <p:spPr>
          <a:xfrm>
            <a:off x="3776760" y="1643040"/>
            <a:ext cx="1854000" cy="1270080"/>
          </a:xfrm>
          <a:custGeom>
            <a:avLst/>
            <a:gdLst>
              <a:gd name="textAreaLeft" fmla="*/ 0 w 1854000"/>
              <a:gd name="textAreaRight" fmla="*/ 1854360 w 185400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21"/>
          <p:cNvSpPr/>
          <p:nvPr/>
        </p:nvSpPr>
        <p:spPr>
          <a:xfrm>
            <a:off x="5284800" y="1643040"/>
            <a:ext cx="1857240" cy="12700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w="1170" h="800">
                <a:moveTo>
                  <a:pt x="1020" y="204"/>
                </a:moveTo>
                <a:lnTo>
                  <a:pt x="864" y="0"/>
                </a:lnTo>
                <a:lnTo>
                  <a:pt x="0" y="0"/>
                </a:lnTo>
                <a:lnTo>
                  <a:pt x="156" y="204"/>
                </a:lnTo>
                <a:lnTo>
                  <a:pt x="306" y="400"/>
                </a:lnTo>
                <a:lnTo>
                  <a:pt x="156" y="596"/>
                </a:lnTo>
                <a:lnTo>
                  <a:pt x="0" y="800"/>
                </a:lnTo>
                <a:lnTo>
                  <a:pt x="864" y="800"/>
                </a:lnTo>
                <a:lnTo>
                  <a:pt x="1020" y="596"/>
                </a:lnTo>
                <a:lnTo>
                  <a:pt x="1170" y="400"/>
                </a:lnTo>
                <a:lnTo>
                  <a:pt x="1020" y="204"/>
                </a:lnTo>
                <a:close/>
              </a:path>
            </a:pathLst>
          </a:custGeom>
          <a:solidFill>
            <a:srgbClr val="ffab57"/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2"/>
          <p:cNvSpPr/>
          <p:nvPr/>
        </p:nvSpPr>
        <p:spPr>
          <a:xfrm>
            <a:off x="6796080" y="1643040"/>
            <a:ext cx="1854360" cy="12700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ffc993"/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2918520" y="20955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1034640" y="209376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4449240" y="2095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6"/>
          <p:cNvSpPr/>
          <p:nvPr/>
        </p:nvSpPr>
        <p:spPr>
          <a:xfrm>
            <a:off x="5960880" y="2093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7368480" y="20955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Evalu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Example of a tab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36800" y="2063880"/>
          <a:ext cx="6256080" cy="3278160"/>
        </p:xfrm>
        <a:graphic>
          <a:graphicData uri="http://schemas.openxmlformats.org/drawingml/2006/table">
            <a:tbl>
              <a:tblPr/>
              <a:tblGrid>
                <a:gridCol w="3128760"/>
                <a:gridCol w="3127320"/>
              </a:tblGrid>
              <a:tr h="51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1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1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29"/>
          <p:cNvSpPr/>
          <p:nvPr/>
        </p:nvSpPr>
        <p:spPr>
          <a:xfrm>
            <a:off x="2630520" y="5473800"/>
            <a:ext cx="41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PMingLiU"/>
              </a:rPr>
              <a:t>Note: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PMingLiU"/>
              </a:rPr>
              <a:t>PowerPoint does not allow you to have nice default tables - but you can cut and paste this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49360" y="6308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90e0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Examples of default styl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396252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PMingLiU"/>
              </a:rPr>
              <a:t>Text and lines are like t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73520" y="1925640"/>
          <a:ext cx="2679840" cy="1643040"/>
        </p:xfrm>
        <a:graphic>
          <a:graphicData uri="http://schemas.openxmlformats.org/drawingml/2006/table">
            <a:tbl>
              <a:tblPr/>
              <a:tblGrid>
                <a:gridCol w="1339920"/>
                <a:gridCol w="13399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15"/>
          <p:cNvSpPr/>
          <p:nvPr/>
        </p:nvSpPr>
        <p:spPr>
          <a:xfrm>
            <a:off x="1577880" y="4824360"/>
            <a:ext cx="2232000" cy="1368360"/>
          </a:xfrm>
          <a:prstGeom prst="rect">
            <a:avLst/>
          </a:prstGeom>
          <a:solidFill>
            <a:srgbClr val="fff2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PMingLiU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4457880" y="4824360"/>
            <a:ext cx="2232000" cy="1368360"/>
          </a:xfrm>
          <a:prstGeom prst="rect">
            <a:avLst/>
          </a:prstGeom>
          <a:solidFill>
            <a:srgbClr val="fff21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PMingLiU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PMingLiU"/>
              </a:rPr>
              <a:t>With 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0:04:38Z</dcterms:created>
  <dc:creator>Administrator</dc:creator>
  <dc:description/>
  <cp:keywords/>
  <dc:language>en-US</dc:language>
  <cp:lastModifiedBy>王玉清</cp:lastModifiedBy>
  <dcterms:modified xsi:type="dcterms:W3CDTF">2016-02-19T07:13:22Z</dcterms:modified>
  <cp:revision>49</cp:revision>
  <dc:subject/>
  <dc:title>Jackson Pollock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