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8E6-8B9C-4700-A7F2-C4A96818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66C2-3BD7-4678-9E57-267E4F5E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6F6-118F-4754-9241-D33A1AC8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2D3-64BD-4614-8ADE-331929A7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B3D1-CD00-4642-B598-45A5FD18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5E01-F4D8-454C-9746-58BF75AC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E0C8-77C0-4CF4-B69B-42729792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9E85-ADEC-4B18-99DB-01C6AC68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8DA3-EEA3-4A33-9975-00F73D7D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D5E1-B9C8-4DA5-89F6-B702310D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4C2C-9A3A-4A09-BDE5-04F704B4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43B-03EA-4B3B-A89D-221FC6D6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1BC1-77B9-44AB-8297-DC5A8296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9CCB-F1A6-4285-A23E-E0341006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338F-8841-483D-84C8-6E02DF47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225C-78F1-452D-814D-A4DE2815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7BB8-4963-4C61-B16C-558530CE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9DE6-82AC-49BD-A9EF-4D1E6C5B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6CEF-C2BB-4241-B891-8AF07F67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22FA-62C3-4F4E-909A-B9D79531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85A-8DB0-4954-B766-5D5D36BD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8CED-96C6-4FA2-8620-3A3F346F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5A2-2774-43C4-ADA7-BF1BCEB1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5E5-67BA-41B3-BD30-8553B22F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FCE5-5028-4E70-97DF-5CF3D46B31A7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D9CB-EFFA-4E92-9FF0-00D860EB595A}" type="slidenum"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4"/>
          <p:cNvSpPr/>
          <p:nvPr/>
        </p:nvSpPr>
        <p:spPr>
          <a:xfrm>
            <a:off x="152280" y="5105520"/>
            <a:ext cx="8839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华康简综艺"/>
              </a:rPr>
              <a:t>地球古典商务通用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华康简综艺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华康简综艺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040" y="21337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25142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3048120" y="1522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tyle Bold Extended ATT"/>
                <a:ea typeface="宋体"/>
              </a:rPr>
              <a:t>TRANS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040" y="20570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tyle Bold Extended AT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crostyle Bold Extended AT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04:57:04Z</dcterms:created>
  <dc:creator>keke</dc:creator>
  <dc:description/>
  <dc:language>en-US</dc:language>
  <cp:lastModifiedBy>王玉清</cp:lastModifiedBy>
  <dcterms:modified xsi:type="dcterms:W3CDTF">2016-02-21T07:16:39Z</dcterms:modified>
  <cp:revision>3</cp:revision>
  <dc:subject/>
  <dc:title>幻灯片 1</dc:title>
</cp:coreProperties>
</file>