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85B-76D2-4E73-BFAF-A5E24A09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9C-A3A1-4DB6-8273-18E5519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C44-B8A7-4746-A146-DB99B851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53F-8BD7-4F3F-9D1A-638A92D2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451-5D0E-4198-BBF7-3C1C988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9CD-E6E4-4670-BFC5-A7E4BFC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690-E99A-4DDE-9EE0-A53D507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8A6-D132-4461-9C12-20531485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FCC-84E7-4C7D-BBA0-0418259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647-F2AC-43A5-B02F-BE4D392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942-83D0-4BD3-AA41-ED65A85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72C-93CF-4D0A-8E7E-79CBEEA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D:\Documents and Settings\Administrator\桌面\20\新建文件夹\新建文件夹\01.jpg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F89-22FC-4694-B164-0AD7FA22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地球上的思想者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05:08Z</dcterms:created>
  <dc:creator>ppt宝藏</dc:creator>
  <dc:description/>
  <dc:language>en-US</dc:language>
  <cp:lastModifiedBy>a</cp:lastModifiedBy>
  <dcterms:modified xsi:type="dcterms:W3CDTF">2015-07-25T07:11:12Z</dcterms:modified>
  <cp:revision>4</cp:revision>
  <dc:subject/>
  <dc:title>www.pptbz.com</dc:title>
</cp:coreProperties>
</file>