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76C-42F1-43A5-B3B7-635AFDDC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776-6912-4025-B5D7-9AC6B8FD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1F1-432B-409E-9985-EB4375C4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896-FE5C-4E0C-88E1-9DA169BE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A76-8EC1-4C66-95BA-AC02D9E0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8F6-C867-43AD-9EFF-BB38F99A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E96-89FF-407B-8576-A13CDC84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786-B020-4FD2-8025-60E968A4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1BF-98FA-4A4E-BD2E-4BDDBC82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D91-C413-4FC9-A989-C7AB946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67A-B939-48CA-A4A6-72DC4B60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80B-6A84-4F04-A882-C82C9F15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4CA2-EB22-4EEC-922F-021F9E53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封面底图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封面风筝"/>
          <p:cNvPicPr/>
          <p:nvPr/>
        </p:nvPicPr>
        <p:blipFill>
          <a:blip r:embed="rId2"/>
          <a:stretch/>
        </p:blipFill>
        <p:spPr>
          <a:xfrm>
            <a:off x="401760" y="552600"/>
            <a:ext cx="8742240" cy="6305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2324160" y="2335320"/>
            <a:ext cx="3024000" cy="50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KITE-FLY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587840" y="25192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eak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381400" y="3503520"/>
            <a:ext cx="4248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亲爱的。。我害怕你会离开，就像风筝断了线。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不会再回来了。。你。会吗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封面-标题"/>
          <p:cNvPicPr/>
          <p:nvPr/>
        </p:nvPicPr>
        <p:blipFill>
          <a:blip r:embed="rId3"/>
          <a:stretch/>
        </p:blipFill>
        <p:spPr>
          <a:xfrm>
            <a:off x="2371680" y="2867040"/>
            <a:ext cx="4862520" cy="64764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2391120" y="16574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风筝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内页底图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702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内页风筝"/>
          <p:cNvPicPr/>
          <p:nvPr/>
        </p:nvPicPr>
        <p:blipFill>
          <a:blip r:embed="rId2"/>
          <a:stretch/>
        </p:blipFill>
        <p:spPr>
          <a:xfrm>
            <a:off x="3240" y="-82440"/>
            <a:ext cx="1942920" cy="177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内页-标题"/>
          <p:cNvPicPr/>
          <p:nvPr/>
        </p:nvPicPr>
        <p:blipFill>
          <a:blip r:embed="rId3"/>
          <a:stretch/>
        </p:blipFill>
        <p:spPr>
          <a:xfrm>
            <a:off x="1019160" y="1920960"/>
            <a:ext cx="2462400" cy="36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内页-标头标题"/>
          <p:cNvPicPr/>
          <p:nvPr/>
        </p:nvPicPr>
        <p:blipFill>
          <a:blip r:embed="rId4"/>
          <a:stretch/>
        </p:blipFill>
        <p:spPr>
          <a:xfrm>
            <a:off x="2176560" y="266760"/>
            <a:ext cx="3609720" cy="609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990720" y="2473200"/>
            <a:ext cx="718956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亲爱的。。我害怕你会离开，就像风筝断了线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不会再回来了。。。。。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我，给不了你什么。就像“</a:t>
            </a:r>
            <a:r>
              <a:rPr b="1" lang="en-US" sz="1600" spc="-1" strike="noStrike">
                <a:solidFill>
                  <a:srgbClr val="07548b"/>
                </a:solidFill>
                <a:latin typeface="宋体"/>
              </a:rPr>
              <a:t>I MISS YOU”</a:t>
            </a: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中写到的“除了爱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除了思念、除了关心、体贴和祝福</a:t>
            </a:r>
            <a:r>
              <a:rPr b="1" lang="en-US" sz="1600" spc="-1" strike="noStrike">
                <a:solidFill>
                  <a:srgbClr val="07548b"/>
                </a:solidFill>
                <a:latin typeface="宋体"/>
              </a:rPr>
              <a:t>...</a:t>
            </a:r>
            <a:r>
              <a:rPr b="1" lang="zh-CN" sz="1600" spc="-1" strike="noStrike">
                <a:solidFill>
                  <a:srgbClr val="07548b"/>
                </a:solidFill>
                <a:latin typeface="宋体"/>
              </a:rPr>
              <a:t>我。还有什么可以给你呢。。。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3.7037E-007 L 2.77778E-006 3.7037E-007 E">
                                      <p:cBhvr>
                                        <p:cTn id="3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7:31:36Z</dcterms:created>
  <dc:creator>YE</dc:creator>
  <dc:description/>
  <dc:language>en-US</dc:language>
  <cp:lastModifiedBy>王玉清</cp:lastModifiedBy>
  <dcterms:modified xsi:type="dcterms:W3CDTF">2016-02-24T04:09:06Z</dcterms:modified>
  <cp:revision>22</cp:revision>
  <dc:subject/>
  <dc:title>幻灯片 1</dc:title>
</cp:coreProperties>
</file>