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12D-80C4-43EE-8F46-45F6B78A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575-48A3-4E35-ACEA-8EDE42E4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F53-A25A-4CDB-8A0E-E533808C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F92-DDCB-4BD6-B7CB-CBB5FA99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5D8-DFBC-49DC-A74D-6722BD7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66D-914A-4A28-B059-FB9A5A7D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BA9-7FD3-4D92-9097-0C84E1D6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AE4-159C-4504-9B06-C522749E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7F8-2064-4D7D-A6CA-3BA29506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76C-915A-4CF6-8150-7350B886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A4D-28B4-4C78-80F0-BDED696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27D-5F63-496A-917F-7B9DCDD4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8C1F-E04F-4A3C-A0A0-1D23621E0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456271944bfda7a34fa41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838080" y="1143000"/>
            <a:ext cx="30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095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2286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典古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Arial"/>
              </a:rPr>
              <a:t>单击此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9700"/>
                </a:solidFill>
                <a:latin typeface="Arial"/>
              </a:rPr>
              <a:t>单击此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684-6EC8-46B3-90CD-E86BA0C4D6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06:09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04:55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