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7"/>
          <p:cNvSpPr/>
          <p:nvPr/>
        </p:nvSpPr>
        <p:spPr>
          <a:xfrm>
            <a:off x="2121840" y="1623240"/>
            <a:ext cx="560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古代希腊民主政治通用</a:t>
            </a:r>
            <a:r>
              <a:rPr b="0" lang="en-US" sz="40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8"/>
          <p:cNvSpPr/>
          <p:nvPr/>
        </p:nvSpPr>
        <p:spPr>
          <a:xfrm>
            <a:off x="1441080" y="2533680"/>
            <a:ext cx="6050520" cy="4536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" name="椭圆 6"/>
          <p:cNvSpPr/>
          <p:nvPr/>
        </p:nvSpPr>
        <p:spPr>
          <a:xfrm>
            <a:off x="6156000" y="2698200"/>
            <a:ext cx="287640" cy="251280"/>
          </a:xfrm>
          <a:custGeom>
            <a:avLst/>
            <a:gdLst>
              <a:gd name="textAreaLeft" fmla="*/ 0 w 287640"/>
              <a:gd name="textAreaRight" fmla="*/ 288000 w 287640"/>
              <a:gd name="textAreaTop" fmla="*/ 0 h 251280"/>
              <a:gd name="textAreaBottom" fmla="*/ 251640 h 251280"/>
            </a:gdLst>
            <a:ahLst/>
            <a:rect l="textAreaLeft" t="textAreaTop" r="textAreaRight" b="textAreaBottom"/>
            <a:pathLst>
              <a:path w="1525201" h="1331982">
                <a:moveTo>
                  <a:pt x="502380" y="928320"/>
                </a:moveTo>
                <a:cubicBezTo>
                  <a:pt x="484758" y="925174"/>
                  <a:pt x="461770" y="934554"/>
                  <a:pt x="444089" y="953839"/>
                </a:cubicBezTo>
                <a:cubicBezTo>
                  <a:pt x="420514" y="979554"/>
                  <a:pt x="415299" y="1013142"/>
                  <a:pt x="432442" y="1028858"/>
                </a:cubicBezTo>
                <a:cubicBezTo>
                  <a:pt x="449585" y="1044575"/>
                  <a:pt x="482594" y="1036470"/>
                  <a:pt x="506169" y="1010756"/>
                </a:cubicBezTo>
                <a:cubicBezTo>
                  <a:pt x="529746" y="985042"/>
                  <a:pt x="534959" y="951454"/>
                  <a:pt x="517816" y="935737"/>
                </a:cubicBezTo>
                <a:cubicBezTo>
                  <a:pt x="513532" y="931808"/>
                  <a:pt x="508254" y="929369"/>
                  <a:pt x="502380" y="928320"/>
                </a:cubicBezTo>
                <a:close/>
                <a:moveTo>
                  <a:pt x="561870" y="878454"/>
                </a:moveTo>
                <a:cubicBezTo>
                  <a:pt x="550242" y="878453"/>
                  <a:pt x="540815" y="887880"/>
                  <a:pt x="540815" y="899509"/>
                </a:cubicBezTo>
                <a:cubicBezTo>
                  <a:pt x="540815" y="911137"/>
                  <a:pt x="550243" y="920564"/>
                  <a:pt x="561872" y="920564"/>
                </a:cubicBezTo>
                <a:cubicBezTo>
                  <a:pt x="573500" y="920564"/>
                  <a:pt x="582927" y="911139"/>
                  <a:pt x="582927" y="899509"/>
                </a:cubicBezTo>
                <a:cubicBezTo>
                  <a:pt x="582927" y="887880"/>
                  <a:pt x="573499" y="878453"/>
                  <a:pt x="561870" y="878454"/>
                </a:cubicBezTo>
                <a:close/>
                <a:moveTo>
                  <a:pt x="547780" y="740598"/>
                </a:moveTo>
                <a:cubicBezTo>
                  <a:pt x="565232" y="738576"/>
                  <a:pt x="582173" y="739168"/>
                  <a:pt x="598011" y="742501"/>
                </a:cubicBezTo>
                <a:cubicBezTo>
                  <a:pt x="619128" y="746945"/>
                  <a:pt x="638285" y="756259"/>
                  <a:pt x="654080" y="770741"/>
                </a:cubicBezTo>
                <a:cubicBezTo>
                  <a:pt x="717263" y="828667"/>
                  <a:pt x="702740" y="947333"/>
                  <a:pt x="621643" y="1035789"/>
                </a:cubicBezTo>
                <a:cubicBezTo>
                  <a:pt x="540546" y="1124246"/>
                  <a:pt x="423584" y="1148993"/>
                  <a:pt x="360401" y="1091067"/>
                </a:cubicBezTo>
                <a:cubicBezTo>
                  <a:pt x="297219" y="1033140"/>
                  <a:pt x="311742" y="914475"/>
                  <a:pt x="392839" y="826019"/>
                </a:cubicBezTo>
                <a:cubicBezTo>
                  <a:pt x="438457" y="776262"/>
                  <a:pt x="495421" y="746663"/>
                  <a:pt x="547780" y="740598"/>
                </a:cubicBezTo>
                <a:close/>
                <a:moveTo>
                  <a:pt x="600020" y="658129"/>
                </a:moveTo>
                <a:cubicBezTo>
                  <a:pt x="367420" y="658129"/>
                  <a:pt x="178861" y="776542"/>
                  <a:pt x="178861" y="922611"/>
                </a:cubicBezTo>
                <a:cubicBezTo>
                  <a:pt x="178861" y="1068681"/>
                  <a:pt x="367420" y="1187094"/>
                  <a:pt x="600020" y="1187094"/>
                </a:cubicBezTo>
                <a:cubicBezTo>
                  <a:pt x="832619" y="1187094"/>
                  <a:pt x="1021178" y="1068681"/>
                  <a:pt x="1021178" y="922611"/>
                </a:cubicBezTo>
                <a:cubicBezTo>
                  <a:pt x="1021178" y="776542"/>
                  <a:pt x="832619" y="658129"/>
                  <a:pt x="600020" y="658129"/>
                </a:cubicBezTo>
                <a:close/>
                <a:moveTo>
                  <a:pt x="1152128" y="171825"/>
                </a:moveTo>
                <a:cubicBezTo>
                  <a:pt x="1263824" y="171825"/>
                  <a:pt x="1357405" y="256341"/>
                  <a:pt x="1368747" y="367459"/>
                </a:cubicBezTo>
                <a:lnTo>
                  <a:pt x="1303818" y="374087"/>
                </a:lnTo>
                <a:cubicBezTo>
                  <a:pt x="1295876" y="296275"/>
                  <a:pt x="1230344" y="237092"/>
                  <a:pt x="1152128" y="237092"/>
                </a:cubicBezTo>
                <a:close/>
                <a:moveTo>
                  <a:pt x="645993" y="72680"/>
                </a:moveTo>
                <a:cubicBezTo>
                  <a:pt x="658686" y="74210"/>
                  <a:pt x="669946" y="78370"/>
                  <a:pt x="679494" y="85348"/>
                </a:cubicBezTo>
                <a:cubicBezTo>
                  <a:pt x="693579" y="95642"/>
                  <a:pt x="702954" y="111347"/>
                  <a:pt x="706629" y="131747"/>
                </a:cubicBezTo>
                <a:lnTo>
                  <a:pt x="717106" y="118644"/>
                </a:lnTo>
                <a:lnTo>
                  <a:pt x="711507" y="187121"/>
                </a:lnTo>
                <a:cubicBezTo>
                  <a:pt x="711518" y="187359"/>
                  <a:pt x="711501" y="187595"/>
                  <a:pt x="711449" y="187829"/>
                </a:cubicBezTo>
                <a:lnTo>
                  <a:pt x="690101" y="448902"/>
                </a:lnTo>
                <a:cubicBezTo>
                  <a:pt x="843364" y="370332"/>
                  <a:pt x="993666" y="332035"/>
                  <a:pt x="1098840" y="337506"/>
                </a:cubicBezTo>
                <a:cubicBezTo>
                  <a:pt x="1164517" y="340921"/>
                  <a:pt x="1212596" y="361402"/>
                  <a:pt x="1232908" y="399997"/>
                </a:cubicBezTo>
                <a:cubicBezTo>
                  <a:pt x="1260774" y="452952"/>
                  <a:pt x="1230937" y="529684"/>
                  <a:pt x="1159253" y="608935"/>
                </a:cubicBezTo>
                <a:lnTo>
                  <a:pt x="1195098" y="636004"/>
                </a:lnTo>
                <a:cubicBezTo>
                  <a:pt x="1201501" y="635213"/>
                  <a:pt x="1207823" y="635479"/>
                  <a:pt x="1214074" y="635877"/>
                </a:cubicBezTo>
                <a:cubicBezTo>
                  <a:pt x="1324025" y="642876"/>
                  <a:pt x="1412151" y="690678"/>
                  <a:pt x="1441510" y="770774"/>
                </a:cubicBezTo>
                <a:cubicBezTo>
                  <a:pt x="1475415" y="863267"/>
                  <a:pt x="1421684" y="973548"/>
                  <a:pt x="1314729" y="1054152"/>
                </a:cubicBezTo>
                <a:cubicBezTo>
                  <a:pt x="1221754" y="1216806"/>
                  <a:pt x="974420" y="1331982"/>
                  <a:pt x="684251" y="1331982"/>
                </a:cubicBezTo>
                <a:cubicBezTo>
                  <a:pt x="343154" y="1331982"/>
                  <a:pt x="61250" y="1172828"/>
                  <a:pt x="19528" y="965681"/>
                </a:cubicBezTo>
                <a:cubicBezTo>
                  <a:pt x="-32324" y="891015"/>
                  <a:pt x="21624" y="685064"/>
                  <a:pt x="151172" y="477029"/>
                </a:cubicBezTo>
                <a:cubicBezTo>
                  <a:pt x="249223" y="319574"/>
                  <a:pt x="365308" y="201513"/>
                  <a:pt x="455546" y="158929"/>
                </a:cubicBezTo>
                <a:cubicBezTo>
                  <a:pt x="529241" y="98839"/>
                  <a:pt x="597906" y="66881"/>
                  <a:pt x="645993" y="72680"/>
                </a:cubicBezTo>
                <a:close/>
                <a:moveTo>
                  <a:pt x="1164492" y="0"/>
                </a:moveTo>
                <a:cubicBezTo>
                  <a:pt x="1354452" y="6278"/>
                  <a:pt x="1509559" y="153911"/>
                  <a:pt x="1525201" y="343331"/>
                </a:cubicBezTo>
                <a:lnTo>
                  <a:pt x="1445804" y="349887"/>
                </a:lnTo>
                <a:cubicBezTo>
                  <a:pt x="1433491" y="200780"/>
                  <a:pt x="1311395" y="84566"/>
                  <a:pt x="1161862" y="79624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" name="矩形 12"/>
          <p:cNvSpPr/>
          <p:nvPr/>
        </p:nvSpPr>
        <p:spPr>
          <a:xfrm>
            <a:off x="46080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Box 1"/>
          <p:cNvSpPr/>
          <p:nvPr/>
        </p:nvSpPr>
        <p:spPr>
          <a:xfrm>
            <a:off x="674640" y="18000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改革的步伐没有停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2"/>
          <p:cNvSpPr/>
          <p:nvPr/>
        </p:nvSpPr>
        <p:spPr>
          <a:xfrm>
            <a:off x="1053720" y="543960"/>
            <a:ext cx="1845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公元前</a:t>
            </a:r>
            <a:r>
              <a:rPr b="0" lang="en-US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6</a:t>
            </a: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世纪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"/>
          <p:cNvSpPr/>
          <p:nvPr/>
        </p:nvSpPr>
        <p:spPr>
          <a:xfrm>
            <a:off x="5818320" y="444384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克里斯提尼</a:t>
            </a: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继续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AutoShape 6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AutoShape 8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6" name="组合 1030"/>
          <p:cNvGrpSpPr/>
          <p:nvPr/>
        </p:nvGrpSpPr>
        <p:grpSpPr>
          <a:xfrm>
            <a:off x="2711160" y="255960"/>
            <a:ext cx="4492440" cy="4935240"/>
            <a:chOff x="2711160" y="255960"/>
            <a:chExt cx="4492440" cy="4935240"/>
          </a:xfrm>
        </p:grpSpPr>
        <p:grpSp>
          <p:nvGrpSpPr>
            <p:cNvPr id="747" name="组合 21"/>
            <p:cNvGrpSpPr/>
            <p:nvPr/>
          </p:nvGrpSpPr>
          <p:grpSpPr>
            <a:xfrm>
              <a:off x="2868120" y="255960"/>
              <a:ext cx="2930040" cy="2752560"/>
              <a:chOff x="2868120" y="255960"/>
              <a:chExt cx="2930040" cy="2752560"/>
            </a:xfrm>
          </p:grpSpPr>
          <p:grpSp>
            <p:nvGrpSpPr>
              <p:cNvPr id="748" name="组合 6"/>
              <p:cNvGrpSpPr/>
              <p:nvPr/>
            </p:nvGrpSpPr>
            <p:grpSpPr>
              <a:xfrm>
                <a:off x="2868120" y="255960"/>
                <a:ext cx="2930040" cy="2282400"/>
                <a:chOff x="2868120" y="255960"/>
                <a:chExt cx="2930040" cy="2282400"/>
              </a:xfrm>
            </p:grpSpPr>
            <p:sp>
              <p:nvSpPr>
                <p:cNvPr id="749" name="流程图: 资料带 4"/>
                <p:cNvSpPr/>
                <p:nvPr/>
              </p:nvSpPr>
              <p:spPr>
                <a:xfrm rot="19431000">
                  <a:off x="3076560" y="605160"/>
                  <a:ext cx="1583640" cy="1223640"/>
                </a:xfrm>
                <a:prstGeom prst="flowChartPunchedTap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zh-CN" sz="1800" spc="-1" strike="noStrike">
                      <a:solidFill>
                        <a:srgbClr val="eeece1"/>
                      </a:solidFill>
                      <a:latin typeface="迷你简粗倩"/>
                      <a:ea typeface="迷你简粗倩"/>
                    </a:rPr>
                    <a:t>改革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5"/>
                <p:cNvSpPr/>
                <p:nvPr/>
              </p:nvSpPr>
              <p:spPr>
                <a:xfrm rot="19410600">
                  <a:off x="4955040" y="132120"/>
                  <a:ext cx="61920" cy="26470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51" name="椭圆 7"/>
              <p:cNvSpPr/>
              <p:nvPr/>
            </p:nvSpPr>
            <p:spPr>
              <a:xfrm rot="20130600">
                <a:off x="4682160" y="1662840"/>
                <a:ext cx="431640" cy="4316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2" name="椭圆 8"/>
              <p:cNvSpPr/>
              <p:nvPr/>
            </p:nvSpPr>
            <p:spPr>
              <a:xfrm rot="20488800">
                <a:off x="4673520" y="2097360"/>
                <a:ext cx="683640" cy="823680"/>
              </a:xfrm>
              <a:custGeom>
                <a:avLst/>
                <a:gdLst>
                  <a:gd name="textAreaLeft" fmla="*/ 0 w 683640"/>
                  <a:gd name="textAreaRight" fmla="*/ 684000 w 6836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936104" h="824203">
                    <a:moveTo>
                      <a:pt x="468052" y="0"/>
                    </a:moveTo>
                    <a:cubicBezTo>
                      <a:pt x="726550" y="0"/>
                      <a:pt x="936104" y="369008"/>
                      <a:pt x="936104" y="824203"/>
                    </a:cubicBezTo>
                    <a:lnTo>
                      <a:pt x="0" y="824203"/>
                    </a:lnTo>
                    <a:cubicBezTo>
                      <a:pt x="0" y="369008"/>
                      <a:pt x="209554" y="0"/>
                      <a:pt x="468052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3" name="圆角矩形 12"/>
              <p:cNvSpPr/>
              <p:nvPr/>
            </p:nvSpPr>
            <p:spPr>
              <a:xfrm rot="19638600">
                <a:off x="5004360" y="2082600"/>
                <a:ext cx="575640" cy="179640"/>
              </a:xfrm>
              <a:prstGeom prst="roundRect">
                <a:avLst>
                  <a:gd name="adj" fmla="val 50000"/>
                </a:avLst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4" name="圆角矩形 13"/>
              <p:cNvSpPr/>
              <p:nvPr/>
            </p:nvSpPr>
            <p:spPr>
              <a:xfrm rot="20130600">
                <a:off x="5119920" y="2272320"/>
                <a:ext cx="575640" cy="179640"/>
              </a:xfrm>
              <a:prstGeom prst="roundRect">
                <a:avLst>
                  <a:gd name="adj" fmla="val 50000"/>
                </a:avLst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55" name="椭圆 26"/>
            <p:cNvSpPr/>
            <p:nvPr/>
          </p:nvSpPr>
          <p:spPr>
            <a:xfrm rot="3964200">
              <a:off x="3985200" y="1454400"/>
              <a:ext cx="1944000" cy="4052520"/>
            </a:xfrm>
            <a:custGeom>
              <a:avLst/>
              <a:gdLst>
                <a:gd name="textAreaLeft" fmla="*/ 0 w 1944000"/>
                <a:gd name="textAreaRight" fmla="*/ 1944360 w 1944000"/>
                <a:gd name="textAreaTop" fmla="*/ 0 h 4052520"/>
                <a:gd name="textAreaBottom" fmla="*/ 4052880 h 4052520"/>
              </a:gdLst>
              <a:ahLst/>
              <a:rect l="textAreaLeft" t="textAreaTop" r="textAreaRight" b="textAreaBottom"/>
              <a:pathLst>
                <a:path w="1944216" h="4052813">
                  <a:moveTo>
                    <a:pt x="963138" y="0"/>
                  </a:moveTo>
                  <a:lnTo>
                    <a:pt x="963139" y="0"/>
                  </a:lnTo>
                  <a:cubicBezTo>
                    <a:pt x="1258441" y="106416"/>
                    <a:pt x="1477485" y="433223"/>
                    <a:pt x="1493811" y="826724"/>
                  </a:cubicBezTo>
                  <a:lnTo>
                    <a:pt x="1494228" y="826724"/>
                  </a:lnTo>
                  <a:lnTo>
                    <a:pt x="1494228" y="830740"/>
                  </a:lnTo>
                  <a:cubicBezTo>
                    <a:pt x="1494229" y="830743"/>
                    <a:pt x="1494229" y="830747"/>
                    <a:pt x="1494229" y="830750"/>
                  </a:cubicBezTo>
                  <a:lnTo>
                    <a:pt x="1494228" y="830750"/>
                  </a:lnTo>
                  <a:lnTo>
                    <a:pt x="1494228" y="1855213"/>
                  </a:lnTo>
                  <a:cubicBezTo>
                    <a:pt x="1763232" y="2097095"/>
                    <a:pt x="1944216" y="2552196"/>
                    <a:pt x="1944216" y="3073616"/>
                  </a:cubicBezTo>
                  <a:cubicBezTo>
                    <a:pt x="1944216" y="3099682"/>
                    <a:pt x="1943763" y="3125582"/>
                    <a:pt x="1939743" y="3151188"/>
                  </a:cubicBezTo>
                  <a:lnTo>
                    <a:pt x="1677922" y="3151188"/>
                  </a:lnTo>
                  <a:cubicBezTo>
                    <a:pt x="1750306" y="3216107"/>
                    <a:pt x="1799555" y="3354049"/>
                    <a:pt x="1799555" y="3513559"/>
                  </a:cubicBezTo>
                  <a:cubicBezTo>
                    <a:pt x="1799555" y="3571102"/>
                    <a:pt x="1793146" y="3625838"/>
                    <a:pt x="1781345" y="3675336"/>
                  </a:cubicBezTo>
                  <a:lnTo>
                    <a:pt x="1769834" y="3675336"/>
                  </a:lnTo>
                  <a:lnTo>
                    <a:pt x="1581116" y="4052813"/>
                  </a:lnTo>
                  <a:lnTo>
                    <a:pt x="1392398" y="3675336"/>
                  </a:lnTo>
                  <a:lnTo>
                    <a:pt x="1386363" y="3675336"/>
                  </a:lnTo>
                  <a:cubicBezTo>
                    <a:pt x="1374561" y="3625838"/>
                    <a:pt x="1368152" y="3571102"/>
                    <a:pt x="1368152" y="3513559"/>
                  </a:cubicBezTo>
                  <a:cubicBezTo>
                    <a:pt x="1368152" y="3354049"/>
                    <a:pt x="1417401" y="3216107"/>
                    <a:pt x="1489786" y="3151188"/>
                  </a:cubicBezTo>
                  <a:lnTo>
                    <a:pt x="1197661" y="3151188"/>
                  </a:lnTo>
                  <a:lnTo>
                    <a:pt x="1197661" y="2855432"/>
                  </a:lnTo>
                  <a:cubicBezTo>
                    <a:pt x="1132474" y="2910530"/>
                    <a:pt x="1050397" y="2942499"/>
                    <a:pt x="961475" y="2942499"/>
                  </a:cubicBezTo>
                  <a:cubicBezTo>
                    <a:pt x="882080" y="2942499"/>
                    <a:pt x="808140" y="2917012"/>
                    <a:pt x="746555" y="2872568"/>
                  </a:cubicBezTo>
                  <a:lnTo>
                    <a:pt x="746555" y="3144318"/>
                  </a:lnTo>
                  <a:lnTo>
                    <a:pt x="503447" y="3144318"/>
                  </a:lnTo>
                  <a:cubicBezTo>
                    <a:pt x="547984" y="3217813"/>
                    <a:pt x="575419" y="3324852"/>
                    <a:pt x="575419" y="3443906"/>
                  </a:cubicBezTo>
                  <a:cubicBezTo>
                    <a:pt x="575419" y="3501449"/>
                    <a:pt x="569010" y="3556185"/>
                    <a:pt x="557209" y="3605683"/>
                  </a:cubicBezTo>
                  <a:lnTo>
                    <a:pt x="545698" y="3605683"/>
                  </a:lnTo>
                  <a:lnTo>
                    <a:pt x="356980" y="3983160"/>
                  </a:lnTo>
                  <a:lnTo>
                    <a:pt x="168262" y="3605683"/>
                  </a:lnTo>
                  <a:lnTo>
                    <a:pt x="162227" y="3605683"/>
                  </a:lnTo>
                  <a:cubicBezTo>
                    <a:pt x="150425" y="3556185"/>
                    <a:pt x="144016" y="3501449"/>
                    <a:pt x="144016" y="3443906"/>
                  </a:cubicBezTo>
                  <a:cubicBezTo>
                    <a:pt x="144016" y="3324852"/>
                    <a:pt x="171451" y="3217813"/>
                    <a:pt x="215988" y="3144318"/>
                  </a:cubicBezTo>
                  <a:lnTo>
                    <a:pt x="4473" y="3144318"/>
                  </a:lnTo>
                  <a:cubicBezTo>
                    <a:pt x="453" y="3118712"/>
                    <a:pt x="0" y="3092812"/>
                    <a:pt x="0" y="3066746"/>
                  </a:cubicBezTo>
                  <a:cubicBezTo>
                    <a:pt x="0" y="2557390"/>
                    <a:pt x="172706" y="2111320"/>
                    <a:pt x="432047" y="1866088"/>
                  </a:cubicBezTo>
                  <a:lnTo>
                    <a:pt x="432047" y="826724"/>
                  </a:lnTo>
                  <a:lnTo>
                    <a:pt x="432467" y="826724"/>
                  </a:lnTo>
                  <a:cubicBezTo>
                    <a:pt x="448793" y="433223"/>
                    <a:pt x="667838" y="106417"/>
                    <a:pt x="963138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右箭头 39"/>
          <p:cNvSpPr/>
          <p:nvPr/>
        </p:nvSpPr>
        <p:spPr>
          <a:xfrm rot="18534000">
            <a:off x="4342680" y="2133720"/>
            <a:ext cx="1223640" cy="21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7" name="TextBox 1"/>
          <p:cNvSpPr/>
          <p:nvPr/>
        </p:nvSpPr>
        <p:spPr>
          <a:xfrm>
            <a:off x="627840" y="180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建立十个地区部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"/>
          <p:cNvSpPr/>
          <p:nvPr/>
        </p:nvSpPr>
        <p:spPr>
          <a:xfrm>
            <a:off x="1195200" y="543960"/>
            <a:ext cx="167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各部落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轮流执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5590080" y="4443840"/>
            <a:ext cx="231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雅典民主政治确立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6"/>
          <p:cNvSpPr/>
          <p:nvPr/>
        </p:nvSpPr>
        <p:spPr>
          <a:xfrm>
            <a:off x="3060000" y="1203480"/>
            <a:ext cx="3024000" cy="302400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61" name="组合 10"/>
          <p:cNvGrpSpPr/>
          <p:nvPr/>
        </p:nvGrpSpPr>
        <p:grpSpPr>
          <a:xfrm>
            <a:off x="3804840" y="973440"/>
            <a:ext cx="409680" cy="621720"/>
            <a:chOff x="3804840" y="973440"/>
            <a:chExt cx="409680" cy="621720"/>
          </a:xfrm>
        </p:grpSpPr>
        <p:sp>
          <p:nvSpPr>
            <p:cNvPr id="762" name="椭圆 7"/>
            <p:cNvSpPr/>
            <p:nvPr/>
          </p:nvSpPr>
          <p:spPr>
            <a:xfrm>
              <a:off x="3890520" y="97344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3" name="椭圆 8"/>
            <p:cNvSpPr/>
            <p:nvPr/>
          </p:nvSpPr>
          <p:spPr>
            <a:xfrm>
              <a:off x="3804840" y="121176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64" name="组合 11"/>
          <p:cNvGrpSpPr/>
          <p:nvPr/>
        </p:nvGrpSpPr>
        <p:grpSpPr>
          <a:xfrm>
            <a:off x="5292000" y="3553560"/>
            <a:ext cx="409680" cy="621360"/>
            <a:chOff x="5292000" y="3553560"/>
            <a:chExt cx="409680" cy="621360"/>
          </a:xfrm>
        </p:grpSpPr>
        <p:sp>
          <p:nvSpPr>
            <p:cNvPr id="765" name="椭圆 12"/>
            <p:cNvSpPr/>
            <p:nvPr/>
          </p:nvSpPr>
          <p:spPr>
            <a:xfrm>
              <a:off x="5378040" y="355356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6" name="椭圆 8"/>
            <p:cNvSpPr/>
            <p:nvPr/>
          </p:nvSpPr>
          <p:spPr>
            <a:xfrm>
              <a:off x="5292000" y="379152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67" name="组合 14"/>
          <p:cNvGrpSpPr/>
          <p:nvPr/>
        </p:nvGrpSpPr>
        <p:grpSpPr>
          <a:xfrm>
            <a:off x="4608000" y="805680"/>
            <a:ext cx="409680" cy="621720"/>
            <a:chOff x="4608000" y="805680"/>
            <a:chExt cx="409680" cy="621720"/>
          </a:xfrm>
        </p:grpSpPr>
        <p:sp>
          <p:nvSpPr>
            <p:cNvPr id="768" name="椭圆 15"/>
            <p:cNvSpPr/>
            <p:nvPr/>
          </p:nvSpPr>
          <p:spPr>
            <a:xfrm>
              <a:off x="4693680" y="80568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9" name="椭圆 8"/>
            <p:cNvSpPr/>
            <p:nvPr/>
          </p:nvSpPr>
          <p:spPr>
            <a:xfrm>
              <a:off x="4608000" y="104400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70" name="组合 17"/>
          <p:cNvGrpSpPr/>
          <p:nvPr/>
        </p:nvGrpSpPr>
        <p:grpSpPr>
          <a:xfrm>
            <a:off x="5378040" y="1116720"/>
            <a:ext cx="409680" cy="621360"/>
            <a:chOff x="5378040" y="1116720"/>
            <a:chExt cx="409680" cy="621360"/>
          </a:xfrm>
        </p:grpSpPr>
        <p:sp>
          <p:nvSpPr>
            <p:cNvPr id="771" name="椭圆 18"/>
            <p:cNvSpPr/>
            <p:nvPr/>
          </p:nvSpPr>
          <p:spPr>
            <a:xfrm>
              <a:off x="5463720" y="111672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2" name="椭圆 8"/>
            <p:cNvSpPr/>
            <p:nvPr/>
          </p:nvSpPr>
          <p:spPr>
            <a:xfrm>
              <a:off x="5378040" y="135468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73" name="组合 20"/>
          <p:cNvGrpSpPr/>
          <p:nvPr/>
        </p:nvGrpSpPr>
        <p:grpSpPr>
          <a:xfrm>
            <a:off x="5879160" y="1747800"/>
            <a:ext cx="409680" cy="621720"/>
            <a:chOff x="5879160" y="1747800"/>
            <a:chExt cx="409680" cy="621720"/>
          </a:xfrm>
        </p:grpSpPr>
        <p:sp>
          <p:nvSpPr>
            <p:cNvPr id="774" name="椭圆 21"/>
            <p:cNvSpPr/>
            <p:nvPr/>
          </p:nvSpPr>
          <p:spPr>
            <a:xfrm>
              <a:off x="5965200" y="174780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5" name="椭圆 8"/>
            <p:cNvSpPr/>
            <p:nvPr/>
          </p:nvSpPr>
          <p:spPr>
            <a:xfrm>
              <a:off x="5879160" y="198612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76" name="组合 23"/>
          <p:cNvGrpSpPr/>
          <p:nvPr/>
        </p:nvGrpSpPr>
        <p:grpSpPr>
          <a:xfrm>
            <a:off x="5800320" y="2715840"/>
            <a:ext cx="409680" cy="621720"/>
            <a:chOff x="5800320" y="2715840"/>
            <a:chExt cx="409680" cy="621720"/>
          </a:xfrm>
        </p:grpSpPr>
        <p:sp>
          <p:nvSpPr>
            <p:cNvPr id="777" name="椭圆 24"/>
            <p:cNvSpPr/>
            <p:nvPr/>
          </p:nvSpPr>
          <p:spPr>
            <a:xfrm>
              <a:off x="5886360" y="271584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8" name="椭圆 8"/>
            <p:cNvSpPr/>
            <p:nvPr/>
          </p:nvSpPr>
          <p:spPr>
            <a:xfrm>
              <a:off x="5800320" y="295416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79" name="组合 26"/>
          <p:cNvGrpSpPr/>
          <p:nvPr/>
        </p:nvGrpSpPr>
        <p:grpSpPr>
          <a:xfrm>
            <a:off x="3176640" y="1403640"/>
            <a:ext cx="409680" cy="621720"/>
            <a:chOff x="3176640" y="1403640"/>
            <a:chExt cx="409680" cy="621720"/>
          </a:xfrm>
        </p:grpSpPr>
        <p:sp>
          <p:nvSpPr>
            <p:cNvPr id="780" name="椭圆 27"/>
            <p:cNvSpPr/>
            <p:nvPr/>
          </p:nvSpPr>
          <p:spPr>
            <a:xfrm>
              <a:off x="3262680" y="140364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1" name="椭圆 8"/>
            <p:cNvSpPr/>
            <p:nvPr/>
          </p:nvSpPr>
          <p:spPr>
            <a:xfrm>
              <a:off x="3176640" y="164196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2" name="组合 29"/>
          <p:cNvGrpSpPr/>
          <p:nvPr/>
        </p:nvGrpSpPr>
        <p:grpSpPr>
          <a:xfrm>
            <a:off x="2876400" y="2404800"/>
            <a:ext cx="409680" cy="621720"/>
            <a:chOff x="2876400" y="2404800"/>
            <a:chExt cx="409680" cy="621720"/>
          </a:xfrm>
        </p:grpSpPr>
        <p:sp>
          <p:nvSpPr>
            <p:cNvPr id="783" name="椭圆 30"/>
            <p:cNvSpPr/>
            <p:nvPr/>
          </p:nvSpPr>
          <p:spPr>
            <a:xfrm>
              <a:off x="2962440" y="240480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4" name="椭圆 8"/>
            <p:cNvSpPr/>
            <p:nvPr/>
          </p:nvSpPr>
          <p:spPr>
            <a:xfrm>
              <a:off x="2876400" y="264312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5" name="组合 32"/>
          <p:cNvGrpSpPr/>
          <p:nvPr/>
        </p:nvGrpSpPr>
        <p:grpSpPr>
          <a:xfrm>
            <a:off x="3310200" y="3337560"/>
            <a:ext cx="409680" cy="621720"/>
            <a:chOff x="3310200" y="3337560"/>
            <a:chExt cx="409680" cy="621720"/>
          </a:xfrm>
        </p:grpSpPr>
        <p:sp>
          <p:nvSpPr>
            <p:cNvPr id="786" name="椭圆 33"/>
            <p:cNvSpPr/>
            <p:nvPr/>
          </p:nvSpPr>
          <p:spPr>
            <a:xfrm>
              <a:off x="3395880" y="333756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7" name="椭圆 8"/>
            <p:cNvSpPr/>
            <p:nvPr/>
          </p:nvSpPr>
          <p:spPr>
            <a:xfrm>
              <a:off x="3310200" y="357588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8" name="组合 35"/>
          <p:cNvGrpSpPr/>
          <p:nvPr/>
        </p:nvGrpSpPr>
        <p:grpSpPr>
          <a:xfrm>
            <a:off x="4366800" y="3794400"/>
            <a:ext cx="409680" cy="621720"/>
            <a:chOff x="4366800" y="3794400"/>
            <a:chExt cx="409680" cy="621720"/>
          </a:xfrm>
        </p:grpSpPr>
        <p:sp>
          <p:nvSpPr>
            <p:cNvPr id="789" name="椭圆 36"/>
            <p:cNvSpPr/>
            <p:nvPr/>
          </p:nvSpPr>
          <p:spPr>
            <a:xfrm>
              <a:off x="4452480" y="3794400"/>
              <a:ext cx="237960" cy="2379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90" name="椭圆 8"/>
            <p:cNvSpPr/>
            <p:nvPr/>
          </p:nvSpPr>
          <p:spPr>
            <a:xfrm>
              <a:off x="4366800" y="4032720"/>
              <a:ext cx="409680" cy="3834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495672" h="463860">
                  <a:moveTo>
                    <a:pt x="247836" y="0"/>
                  </a:moveTo>
                  <a:cubicBezTo>
                    <a:pt x="384712" y="0"/>
                    <a:pt x="495672" y="207677"/>
                    <a:pt x="495672" y="463860"/>
                  </a:cubicBezTo>
                  <a:lnTo>
                    <a:pt x="0" y="463860"/>
                  </a:lnTo>
                  <a:cubicBezTo>
                    <a:pt x="0" y="207677"/>
                    <a:pt x="110960" y="0"/>
                    <a:pt x="24783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91" name="圆角矩形 38"/>
          <p:cNvSpPr/>
          <p:nvPr/>
        </p:nvSpPr>
        <p:spPr>
          <a:xfrm>
            <a:off x="4170240" y="2500560"/>
            <a:ext cx="802800" cy="429840"/>
          </a:xfrm>
          <a:prstGeom prst="round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eeece1"/>
                </a:solidFill>
                <a:latin typeface="迷你简粗倩"/>
                <a:ea typeface="迷你简粗倩"/>
              </a:rPr>
              <a:t>执政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椭圆 13"/>
          <p:cNvSpPr/>
          <p:nvPr/>
        </p:nvSpPr>
        <p:spPr>
          <a:xfrm>
            <a:off x="3276000" y="1438560"/>
            <a:ext cx="575640" cy="575640"/>
          </a:xfrm>
          <a:custGeom>
            <a:avLst/>
            <a:gdLst>
              <a:gd name="textAreaLeft" fmla="*/ 0 w 575640"/>
              <a:gd name="textAreaRight" fmla="*/ 576000 w 575640"/>
              <a:gd name="textAreaTop" fmla="*/ 0 h 575640"/>
              <a:gd name="textAreaBottom" fmla="*/ 576000 h 575640"/>
            </a:gdLst>
            <a:ahLst/>
            <a:rect l="textAreaLeft" t="textAreaTop" r="textAreaRight" b="textAreaBottom"/>
            <a:pathLst>
              <a:path w="576064" h="576064">
                <a:moveTo>
                  <a:pt x="288032" y="209652"/>
                </a:moveTo>
                <a:cubicBezTo>
                  <a:pt x="244744" y="209652"/>
                  <a:pt x="209652" y="244744"/>
                  <a:pt x="209652" y="288032"/>
                </a:cubicBezTo>
                <a:cubicBezTo>
                  <a:pt x="209652" y="331320"/>
                  <a:pt x="244744" y="366412"/>
                  <a:pt x="288032" y="366412"/>
                </a:cubicBezTo>
                <a:cubicBezTo>
                  <a:pt x="331320" y="366412"/>
                  <a:pt x="366412" y="331320"/>
                  <a:pt x="366412" y="288032"/>
                </a:cubicBezTo>
                <a:cubicBezTo>
                  <a:pt x="366412" y="244744"/>
                  <a:pt x="331320" y="209652"/>
                  <a:pt x="288032" y="209652"/>
                </a:cubicBez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solidFill>
              <a:srgbClr val="eeec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3" name="TextBox 1"/>
          <p:cNvSpPr/>
          <p:nvPr/>
        </p:nvSpPr>
        <p:spPr>
          <a:xfrm>
            <a:off x="534240" y="180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可是不巧的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"/>
          <p:cNvSpPr/>
          <p:nvPr/>
        </p:nvSpPr>
        <p:spPr>
          <a:xfrm>
            <a:off x="1341000" y="54396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他搞了个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陶片放逐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"/>
          <p:cNvSpPr/>
          <p:nvPr/>
        </p:nvSpPr>
        <p:spPr>
          <a:xfrm>
            <a:off x="6131520" y="44438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然后自己被放逐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梯形 6"/>
          <p:cNvSpPr/>
          <p:nvPr/>
        </p:nvSpPr>
        <p:spPr>
          <a:xfrm rot="10800000">
            <a:off x="5292360" y="2716200"/>
            <a:ext cx="1689480" cy="1295640"/>
          </a:xfrm>
          <a:prstGeom prst="trapezoid">
            <a:avLst>
              <a:gd name="adj" fmla="val 25000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7" name="椭圆 7"/>
          <p:cNvSpPr/>
          <p:nvPr/>
        </p:nvSpPr>
        <p:spPr>
          <a:xfrm>
            <a:off x="1821240" y="1779840"/>
            <a:ext cx="575640" cy="57564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798" name="直接连接符 9"/>
          <p:cNvCxnSpPr/>
          <p:nvPr/>
        </p:nvCxnSpPr>
        <p:spPr>
          <a:xfrm>
            <a:off x="1820880" y="2067480"/>
            <a:ext cx="2535120" cy="360"/>
          </a:xfrm>
          <a:prstGeom prst="straightConnector1">
            <a:avLst/>
          </a:prstGeom>
          <a:ln>
            <a:solidFill>
              <a:srgbClr val="eeece1"/>
            </a:solidFill>
            <a:round/>
          </a:ln>
        </p:spPr>
      </p:cxnSp>
      <p:sp>
        <p:nvSpPr>
          <p:cNvPr id="799" name="椭圆 13"/>
          <p:cNvSpPr/>
          <p:nvPr/>
        </p:nvSpPr>
        <p:spPr>
          <a:xfrm>
            <a:off x="2109240" y="1635480"/>
            <a:ext cx="575640" cy="575640"/>
          </a:xfrm>
          <a:custGeom>
            <a:avLst/>
            <a:gdLst>
              <a:gd name="textAreaLeft" fmla="*/ 0 w 575640"/>
              <a:gd name="textAreaRight" fmla="*/ 576000 w 575640"/>
              <a:gd name="textAreaTop" fmla="*/ 0 h 575640"/>
              <a:gd name="textAreaBottom" fmla="*/ 576000 h 575640"/>
            </a:gdLst>
            <a:ahLst/>
            <a:rect l="textAreaLeft" t="textAreaTop" r="textAreaRight" b="textAreaBottom"/>
            <a:pathLst>
              <a:path w="576064" h="576064">
                <a:moveTo>
                  <a:pt x="288032" y="209652"/>
                </a:moveTo>
                <a:cubicBezTo>
                  <a:pt x="244744" y="209652"/>
                  <a:pt x="209652" y="244744"/>
                  <a:pt x="209652" y="288032"/>
                </a:cubicBezTo>
                <a:cubicBezTo>
                  <a:pt x="209652" y="331320"/>
                  <a:pt x="244744" y="366412"/>
                  <a:pt x="288032" y="366412"/>
                </a:cubicBezTo>
                <a:cubicBezTo>
                  <a:pt x="331320" y="366412"/>
                  <a:pt x="366412" y="331320"/>
                  <a:pt x="366412" y="288032"/>
                </a:cubicBezTo>
                <a:cubicBezTo>
                  <a:pt x="366412" y="244744"/>
                  <a:pt x="331320" y="209652"/>
                  <a:pt x="288032" y="209652"/>
                </a:cubicBez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solidFill>
              <a:srgbClr val="eeec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0" name="椭圆 13"/>
          <p:cNvSpPr/>
          <p:nvPr/>
        </p:nvSpPr>
        <p:spPr>
          <a:xfrm>
            <a:off x="2580480" y="1500120"/>
            <a:ext cx="575640" cy="575640"/>
          </a:xfrm>
          <a:custGeom>
            <a:avLst/>
            <a:gdLst>
              <a:gd name="textAreaLeft" fmla="*/ 0 w 575640"/>
              <a:gd name="textAreaRight" fmla="*/ 576000 w 575640"/>
              <a:gd name="textAreaTop" fmla="*/ 0 h 575640"/>
              <a:gd name="textAreaBottom" fmla="*/ 576000 h 575640"/>
            </a:gdLst>
            <a:ahLst/>
            <a:rect l="textAreaLeft" t="textAreaTop" r="textAreaRight" b="textAreaBottom"/>
            <a:pathLst>
              <a:path w="576064" h="576064">
                <a:moveTo>
                  <a:pt x="288032" y="209652"/>
                </a:moveTo>
                <a:cubicBezTo>
                  <a:pt x="244744" y="209652"/>
                  <a:pt x="209652" y="244744"/>
                  <a:pt x="209652" y="288032"/>
                </a:cubicBezTo>
                <a:cubicBezTo>
                  <a:pt x="209652" y="331320"/>
                  <a:pt x="244744" y="366412"/>
                  <a:pt x="288032" y="366412"/>
                </a:cubicBezTo>
                <a:cubicBezTo>
                  <a:pt x="331320" y="366412"/>
                  <a:pt x="366412" y="331320"/>
                  <a:pt x="366412" y="288032"/>
                </a:cubicBezTo>
                <a:cubicBezTo>
                  <a:pt x="366412" y="244744"/>
                  <a:pt x="331320" y="209652"/>
                  <a:pt x="288032" y="209652"/>
                </a:cubicBez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solidFill>
              <a:srgbClr val="eeec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1" name="椭圆 13"/>
          <p:cNvSpPr/>
          <p:nvPr/>
        </p:nvSpPr>
        <p:spPr>
          <a:xfrm>
            <a:off x="2580480" y="1779840"/>
            <a:ext cx="575640" cy="575640"/>
          </a:xfrm>
          <a:custGeom>
            <a:avLst/>
            <a:gdLst>
              <a:gd name="textAreaLeft" fmla="*/ 0 w 575640"/>
              <a:gd name="textAreaRight" fmla="*/ 576000 w 575640"/>
              <a:gd name="textAreaTop" fmla="*/ 0 h 575640"/>
              <a:gd name="textAreaBottom" fmla="*/ 576000 h 575640"/>
            </a:gdLst>
            <a:ahLst/>
            <a:rect l="textAreaLeft" t="textAreaTop" r="textAreaRight" b="textAreaBottom"/>
            <a:pathLst>
              <a:path w="576064" h="576064">
                <a:moveTo>
                  <a:pt x="288032" y="209652"/>
                </a:moveTo>
                <a:cubicBezTo>
                  <a:pt x="244744" y="209652"/>
                  <a:pt x="209652" y="244744"/>
                  <a:pt x="209652" y="288032"/>
                </a:cubicBezTo>
                <a:cubicBezTo>
                  <a:pt x="209652" y="331320"/>
                  <a:pt x="244744" y="366412"/>
                  <a:pt x="288032" y="366412"/>
                </a:cubicBezTo>
                <a:cubicBezTo>
                  <a:pt x="331320" y="366412"/>
                  <a:pt x="366412" y="331320"/>
                  <a:pt x="366412" y="288032"/>
                </a:cubicBezTo>
                <a:cubicBezTo>
                  <a:pt x="366412" y="244744"/>
                  <a:pt x="331320" y="209652"/>
                  <a:pt x="288032" y="209652"/>
                </a:cubicBez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solidFill>
              <a:srgbClr val="eeec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2" name="椭圆 13"/>
          <p:cNvSpPr/>
          <p:nvPr/>
        </p:nvSpPr>
        <p:spPr>
          <a:xfrm>
            <a:off x="3168000" y="1635480"/>
            <a:ext cx="575640" cy="575640"/>
          </a:xfrm>
          <a:custGeom>
            <a:avLst/>
            <a:gdLst>
              <a:gd name="textAreaLeft" fmla="*/ 0 w 575640"/>
              <a:gd name="textAreaRight" fmla="*/ 576000 w 575640"/>
              <a:gd name="textAreaTop" fmla="*/ 0 h 575640"/>
              <a:gd name="textAreaBottom" fmla="*/ 576000 h 575640"/>
            </a:gdLst>
            <a:ahLst/>
            <a:rect l="textAreaLeft" t="textAreaTop" r="textAreaRight" b="textAreaBottom"/>
            <a:pathLst>
              <a:path w="576064" h="576064">
                <a:moveTo>
                  <a:pt x="288032" y="209652"/>
                </a:moveTo>
                <a:cubicBezTo>
                  <a:pt x="244744" y="209652"/>
                  <a:pt x="209652" y="244744"/>
                  <a:pt x="209652" y="288032"/>
                </a:cubicBezTo>
                <a:cubicBezTo>
                  <a:pt x="209652" y="331320"/>
                  <a:pt x="244744" y="366412"/>
                  <a:pt x="288032" y="366412"/>
                </a:cubicBezTo>
                <a:cubicBezTo>
                  <a:pt x="331320" y="366412"/>
                  <a:pt x="366412" y="331320"/>
                  <a:pt x="366412" y="288032"/>
                </a:cubicBezTo>
                <a:cubicBezTo>
                  <a:pt x="366412" y="244744"/>
                  <a:pt x="331320" y="209652"/>
                  <a:pt x="288032" y="209652"/>
                </a:cubicBez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solidFill>
              <a:srgbClr val="eeec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3" name="椭圆 13"/>
          <p:cNvSpPr/>
          <p:nvPr/>
        </p:nvSpPr>
        <p:spPr>
          <a:xfrm>
            <a:off x="2874240" y="1635480"/>
            <a:ext cx="575640" cy="575640"/>
          </a:xfrm>
          <a:custGeom>
            <a:avLst/>
            <a:gdLst>
              <a:gd name="textAreaLeft" fmla="*/ 0 w 575640"/>
              <a:gd name="textAreaRight" fmla="*/ 576000 w 575640"/>
              <a:gd name="textAreaTop" fmla="*/ 0 h 575640"/>
              <a:gd name="textAreaBottom" fmla="*/ 576000 h 575640"/>
            </a:gdLst>
            <a:ahLst/>
            <a:rect l="textAreaLeft" t="textAreaTop" r="textAreaRight" b="textAreaBottom"/>
            <a:pathLst>
              <a:path w="576064" h="576064">
                <a:moveTo>
                  <a:pt x="288032" y="209652"/>
                </a:moveTo>
                <a:cubicBezTo>
                  <a:pt x="244744" y="209652"/>
                  <a:pt x="209652" y="244744"/>
                  <a:pt x="209652" y="288032"/>
                </a:cubicBezTo>
                <a:cubicBezTo>
                  <a:pt x="209652" y="331320"/>
                  <a:pt x="244744" y="366412"/>
                  <a:pt x="288032" y="366412"/>
                </a:cubicBezTo>
                <a:cubicBezTo>
                  <a:pt x="331320" y="366412"/>
                  <a:pt x="366412" y="331320"/>
                  <a:pt x="366412" y="288032"/>
                </a:cubicBezTo>
                <a:cubicBezTo>
                  <a:pt x="366412" y="244744"/>
                  <a:pt x="331320" y="209652"/>
                  <a:pt x="288032" y="209652"/>
                </a:cubicBez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solidFill>
              <a:srgbClr val="eeec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4" name="椭圆 13"/>
          <p:cNvSpPr/>
          <p:nvPr/>
        </p:nvSpPr>
        <p:spPr>
          <a:xfrm>
            <a:off x="3796560" y="1726560"/>
            <a:ext cx="575640" cy="575640"/>
          </a:xfrm>
          <a:custGeom>
            <a:avLst/>
            <a:gdLst>
              <a:gd name="textAreaLeft" fmla="*/ 0 w 575640"/>
              <a:gd name="textAreaRight" fmla="*/ 576000 w 575640"/>
              <a:gd name="textAreaTop" fmla="*/ 0 h 575640"/>
              <a:gd name="textAreaBottom" fmla="*/ 576000 h 575640"/>
            </a:gdLst>
            <a:ahLst/>
            <a:rect l="textAreaLeft" t="textAreaTop" r="textAreaRight" b="textAreaBottom"/>
            <a:pathLst>
              <a:path w="576064" h="576064">
                <a:moveTo>
                  <a:pt x="288032" y="209652"/>
                </a:moveTo>
                <a:cubicBezTo>
                  <a:pt x="244744" y="209652"/>
                  <a:pt x="209652" y="244744"/>
                  <a:pt x="209652" y="288032"/>
                </a:cubicBezTo>
                <a:cubicBezTo>
                  <a:pt x="209652" y="331320"/>
                  <a:pt x="244744" y="366412"/>
                  <a:pt x="288032" y="366412"/>
                </a:cubicBezTo>
                <a:cubicBezTo>
                  <a:pt x="331320" y="366412"/>
                  <a:pt x="366412" y="331320"/>
                  <a:pt x="366412" y="288032"/>
                </a:cubicBezTo>
                <a:cubicBezTo>
                  <a:pt x="366412" y="244744"/>
                  <a:pt x="331320" y="209652"/>
                  <a:pt x="288032" y="209652"/>
                </a:cubicBez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solidFill>
              <a:srgbClr val="eeec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5" name="椭圆 13"/>
          <p:cNvSpPr/>
          <p:nvPr/>
        </p:nvSpPr>
        <p:spPr>
          <a:xfrm>
            <a:off x="3637080" y="1593360"/>
            <a:ext cx="575640" cy="575640"/>
          </a:xfrm>
          <a:custGeom>
            <a:avLst/>
            <a:gdLst>
              <a:gd name="textAreaLeft" fmla="*/ 0 w 575640"/>
              <a:gd name="textAreaRight" fmla="*/ 576000 w 575640"/>
              <a:gd name="textAreaTop" fmla="*/ 0 h 575640"/>
              <a:gd name="textAreaBottom" fmla="*/ 576000 h 575640"/>
            </a:gdLst>
            <a:ahLst/>
            <a:rect l="textAreaLeft" t="textAreaTop" r="textAreaRight" b="textAreaBottom"/>
            <a:pathLst>
              <a:path w="576064" h="576064">
                <a:moveTo>
                  <a:pt x="288032" y="209652"/>
                </a:moveTo>
                <a:cubicBezTo>
                  <a:pt x="244744" y="209652"/>
                  <a:pt x="209652" y="244744"/>
                  <a:pt x="209652" y="288032"/>
                </a:cubicBezTo>
                <a:cubicBezTo>
                  <a:pt x="209652" y="331320"/>
                  <a:pt x="244744" y="366412"/>
                  <a:pt x="288032" y="366412"/>
                </a:cubicBezTo>
                <a:cubicBezTo>
                  <a:pt x="331320" y="366412"/>
                  <a:pt x="366412" y="331320"/>
                  <a:pt x="366412" y="288032"/>
                </a:cubicBezTo>
                <a:cubicBezTo>
                  <a:pt x="366412" y="244744"/>
                  <a:pt x="331320" y="209652"/>
                  <a:pt x="288032" y="209652"/>
                </a:cubicBez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solidFill>
              <a:srgbClr val="eeece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6" name="梯形 5"/>
          <p:cNvSpPr/>
          <p:nvPr/>
        </p:nvSpPr>
        <p:spPr>
          <a:xfrm rot="10800000">
            <a:off x="1821600" y="2067840"/>
            <a:ext cx="2534400" cy="1944000"/>
          </a:xfrm>
          <a:prstGeom prst="trapezoid">
            <a:avLst>
              <a:gd name="adj" fmla="val 25000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807" name="直接连接符 23"/>
          <p:cNvCxnSpPr/>
          <p:nvPr/>
        </p:nvCxnSpPr>
        <p:spPr>
          <a:xfrm>
            <a:off x="1763640" y="2075760"/>
            <a:ext cx="2608920" cy="360"/>
          </a:xfrm>
          <a:prstGeom prst="straightConnector1">
            <a:avLst/>
          </a:prstGeom>
          <a:ln>
            <a:solidFill>
              <a:srgbClr val="eeece1"/>
            </a:solidFill>
            <a:round/>
          </a:ln>
        </p:spPr>
      </p:cxnSp>
      <p:sp>
        <p:nvSpPr>
          <p:cNvPr id="808" name="TextBox 25"/>
          <p:cNvSpPr/>
          <p:nvPr/>
        </p:nvSpPr>
        <p:spPr>
          <a:xfrm>
            <a:off x="2443680" y="4074120"/>
            <a:ext cx="1247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放逐克里斯提尼的陶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26"/>
          <p:cNvSpPr/>
          <p:nvPr/>
        </p:nvSpPr>
        <p:spPr>
          <a:xfrm>
            <a:off x="5779440" y="4109040"/>
            <a:ext cx="714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放逐其他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27"/>
          <p:cNvSpPr/>
          <p:nvPr/>
        </p:nvSpPr>
        <p:spPr>
          <a:xfrm>
            <a:off x="5748120" y="3179160"/>
            <a:ext cx="77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eeece1"/>
                </a:solidFill>
                <a:latin typeface="Calibri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Box 1"/>
          <p:cNvSpPr/>
          <p:nvPr/>
        </p:nvSpPr>
        <p:spPr>
          <a:xfrm>
            <a:off x="627840" y="180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到了</a:t>
            </a:r>
            <a:r>
              <a:rPr b="0" lang="zh-CN" sz="1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伯利克里</a:t>
            </a: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时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2"/>
          <p:cNvSpPr/>
          <p:nvPr/>
        </p:nvSpPr>
        <p:spPr>
          <a:xfrm>
            <a:off x="1486800" y="543960"/>
            <a:ext cx="252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雅典民主政治发展到巅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3"/>
          <p:cNvSpPr/>
          <p:nvPr/>
        </p:nvSpPr>
        <p:spPr>
          <a:xfrm>
            <a:off x="5805360" y="444384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雅典民主的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黄金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组合 20"/>
          <p:cNvGrpSpPr/>
          <p:nvPr/>
        </p:nvGrpSpPr>
        <p:grpSpPr>
          <a:xfrm>
            <a:off x="3636000" y="1275480"/>
            <a:ext cx="1688400" cy="2828160"/>
            <a:chOff x="3636000" y="1275480"/>
            <a:chExt cx="1688400" cy="2828160"/>
          </a:xfrm>
        </p:grpSpPr>
        <p:sp>
          <p:nvSpPr>
            <p:cNvPr id="815" name="椭圆 18"/>
            <p:cNvSpPr/>
            <p:nvPr/>
          </p:nvSpPr>
          <p:spPr>
            <a:xfrm>
              <a:off x="3636000" y="2643120"/>
              <a:ext cx="1688400" cy="14605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460520"/>
                <a:gd name="textAreaBottom" fmla="*/ 1460880 h 1460520"/>
              </a:gdLst>
              <a:ahLst/>
              <a:rect l="textAreaLeft" t="textAreaTop" r="textAreaRight" b="textAreaBottom"/>
              <a:pathLst>
                <a:path w="1939033" h="1360510">
                  <a:moveTo>
                    <a:pt x="969516" y="0"/>
                  </a:moveTo>
                  <a:cubicBezTo>
                    <a:pt x="1489171" y="0"/>
                    <a:pt x="1913592" y="602469"/>
                    <a:pt x="1939033" y="1360510"/>
                  </a:cubicBezTo>
                  <a:lnTo>
                    <a:pt x="0" y="1360510"/>
                  </a:lnTo>
                  <a:cubicBezTo>
                    <a:pt x="25441" y="602469"/>
                    <a:pt x="449861" y="0"/>
                    <a:pt x="96951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16" name="组合 17"/>
            <p:cNvGrpSpPr/>
            <p:nvPr/>
          </p:nvGrpSpPr>
          <p:grpSpPr>
            <a:xfrm>
              <a:off x="4089240" y="1275480"/>
              <a:ext cx="798480" cy="1567800"/>
              <a:chOff x="4089240" y="1275480"/>
              <a:chExt cx="798480" cy="1567800"/>
            </a:xfrm>
          </p:grpSpPr>
          <p:sp>
            <p:nvSpPr>
              <p:cNvPr id="817" name="椭圆 11"/>
              <p:cNvSpPr/>
              <p:nvPr/>
            </p:nvSpPr>
            <p:spPr>
              <a:xfrm>
                <a:off x="4196160" y="2467080"/>
                <a:ext cx="187920" cy="1879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" name="椭圆 12"/>
              <p:cNvSpPr/>
              <p:nvPr/>
            </p:nvSpPr>
            <p:spPr>
              <a:xfrm>
                <a:off x="4215960" y="2567520"/>
                <a:ext cx="187920" cy="1879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" name="椭圆 13"/>
              <p:cNvSpPr/>
              <p:nvPr/>
            </p:nvSpPr>
            <p:spPr>
              <a:xfrm>
                <a:off x="4309920" y="2643120"/>
                <a:ext cx="187920" cy="1879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" name="椭圆 14"/>
              <p:cNvSpPr/>
              <p:nvPr/>
            </p:nvSpPr>
            <p:spPr>
              <a:xfrm>
                <a:off x="4422960" y="2655360"/>
                <a:ext cx="187920" cy="1879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" name="椭圆 15"/>
              <p:cNvSpPr/>
              <p:nvPr/>
            </p:nvSpPr>
            <p:spPr>
              <a:xfrm>
                <a:off x="4517280" y="2599920"/>
                <a:ext cx="187920" cy="1879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" name="椭圆 16"/>
              <p:cNvSpPr/>
              <p:nvPr/>
            </p:nvSpPr>
            <p:spPr>
              <a:xfrm>
                <a:off x="4583160" y="2505600"/>
                <a:ext cx="187920" cy="1879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23" name="组合 10"/>
              <p:cNvGrpSpPr/>
              <p:nvPr/>
            </p:nvGrpSpPr>
            <p:grpSpPr>
              <a:xfrm>
                <a:off x="4089240" y="1275480"/>
                <a:ext cx="798480" cy="1461600"/>
                <a:chOff x="4089240" y="1275480"/>
                <a:chExt cx="798480" cy="1461600"/>
              </a:xfrm>
            </p:grpSpPr>
            <p:sp>
              <p:nvSpPr>
                <p:cNvPr id="824" name="椭圆 9"/>
                <p:cNvSpPr/>
                <p:nvPr/>
              </p:nvSpPr>
              <p:spPr>
                <a:xfrm>
                  <a:off x="4147920" y="1745640"/>
                  <a:ext cx="681480" cy="99144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5" name="椭圆 4"/>
                <p:cNvSpPr/>
                <p:nvPr/>
              </p:nvSpPr>
              <p:spPr>
                <a:xfrm>
                  <a:off x="4089240" y="1275480"/>
                  <a:ext cx="798480" cy="991080"/>
                </a:xfrm>
                <a:custGeom>
                  <a:avLst/>
                  <a:gdLst>
                    <a:gd name="textAreaLeft" fmla="*/ 0 w 798480"/>
                    <a:gd name="textAreaRight" fmla="*/ 798840 w 798480"/>
                    <a:gd name="textAreaTop" fmla="*/ 0 h 991080"/>
                    <a:gd name="textAreaBottom" fmla="*/ 991440 h 991080"/>
                  </a:gdLst>
                  <a:ahLst/>
                  <a:rect l="textAreaLeft" t="textAreaTop" r="textAreaRight" b="textAreaBottom"/>
                  <a:pathLst>
                    <a:path w="622817" h="772900">
                      <a:moveTo>
                        <a:pt x="311408" y="0"/>
                      </a:moveTo>
                      <a:cubicBezTo>
                        <a:pt x="462461" y="105698"/>
                        <a:pt x="581449" y="399364"/>
                        <a:pt x="622817" y="772900"/>
                      </a:cubicBezTo>
                      <a:lnTo>
                        <a:pt x="311408" y="683926"/>
                      </a:lnTo>
                      <a:lnTo>
                        <a:pt x="0" y="772900"/>
                      </a:lnTo>
                      <a:cubicBezTo>
                        <a:pt x="41367" y="399364"/>
                        <a:pt x="160357" y="105698"/>
                        <a:pt x="311408" y="0"/>
                      </a:cubicBezTo>
                      <a:close/>
                    </a:path>
                  </a:pathLst>
                </a:cu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26" name="圆角矩形 21"/>
          <p:cNvSpPr/>
          <p:nvPr/>
        </p:nvSpPr>
        <p:spPr>
          <a:xfrm>
            <a:off x="4888080" y="2931840"/>
            <a:ext cx="835560" cy="358200"/>
          </a:xfrm>
          <a:prstGeom prst="roundRect">
            <a:avLst>
              <a:gd name="adj" fmla="val 28534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27" name="组合 26"/>
          <p:cNvGrpSpPr/>
          <p:nvPr/>
        </p:nvGrpSpPr>
        <p:grpSpPr>
          <a:xfrm>
            <a:off x="5534640" y="1077480"/>
            <a:ext cx="189360" cy="3044160"/>
            <a:chOff x="5534640" y="1077480"/>
            <a:chExt cx="189360" cy="3044160"/>
          </a:xfrm>
        </p:grpSpPr>
        <p:sp>
          <p:nvSpPr>
            <p:cNvPr id="828" name="圆角矩形 22"/>
            <p:cNvSpPr/>
            <p:nvPr/>
          </p:nvSpPr>
          <p:spPr>
            <a:xfrm>
              <a:off x="5593320" y="1881360"/>
              <a:ext cx="71640" cy="224028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9" name="椭圆 23"/>
            <p:cNvSpPr/>
            <p:nvPr/>
          </p:nvSpPr>
          <p:spPr>
            <a:xfrm>
              <a:off x="5534640" y="1077480"/>
              <a:ext cx="189360" cy="9399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432048" h="1278930">
                  <a:moveTo>
                    <a:pt x="216024" y="0"/>
                  </a:moveTo>
                  <a:cubicBezTo>
                    <a:pt x="340812" y="72612"/>
                    <a:pt x="432048" y="331517"/>
                    <a:pt x="432048" y="639465"/>
                  </a:cubicBezTo>
                  <a:cubicBezTo>
                    <a:pt x="432048" y="947413"/>
                    <a:pt x="340812" y="1206318"/>
                    <a:pt x="216024" y="1278930"/>
                  </a:cubicBezTo>
                  <a:cubicBezTo>
                    <a:pt x="91236" y="1206318"/>
                    <a:pt x="0" y="947413"/>
                    <a:pt x="0" y="639465"/>
                  </a:cubicBezTo>
                  <a:cubicBezTo>
                    <a:pt x="0" y="331517"/>
                    <a:pt x="91236" y="72612"/>
                    <a:pt x="216024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30" name="圆角矩形 27"/>
          <p:cNvSpPr/>
          <p:nvPr/>
        </p:nvSpPr>
        <p:spPr>
          <a:xfrm>
            <a:off x="3904200" y="3111120"/>
            <a:ext cx="1151640" cy="543240"/>
          </a:xfrm>
          <a:prstGeom prst="roundRect">
            <a:avLst>
              <a:gd name="adj" fmla="val 6885"/>
            </a:avLst>
          </a:prstGeom>
          <a:solidFill>
            <a:schemeClr val="bg2"/>
          </a:solidFill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Calibri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28"/>
          <p:cNvSpPr/>
          <p:nvPr/>
        </p:nvSpPr>
        <p:spPr>
          <a:xfrm>
            <a:off x="3679920" y="3194640"/>
            <a:ext cx="359640" cy="35820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组合 116"/>
          <p:cNvGrpSpPr/>
          <p:nvPr/>
        </p:nvGrpSpPr>
        <p:grpSpPr>
          <a:xfrm>
            <a:off x="3830400" y="2754720"/>
            <a:ext cx="916560" cy="783720"/>
            <a:chOff x="3830400" y="2754720"/>
            <a:chExt cx="916560" cy="783720"/>
          </a:xfrm>
        </p:grpSpPr>
        <p:grpSp>
          <p:nvGrpSpPr>
            <p:cNvPr id="833" name="组合 117"/>
            <p:cNvGrpSpPr/>
            <p:nvPr/>
          </p:nvGrpSpPr>
          <p:grpSpPr>
            <a:xfrm>
              <a:off x="4043160" y="2827800"/>
              <a:ext cx="491040" cy="710640"/>
              <a:chOff x="4043160" y="2827800"/>
              <a:chExt cx="491040" cy="710640"/>
            </a:xfrm>
          </p:grpSpPr>
          <p:sp>
            <p:nvSpPr>
              <p:cNvPr id="834" name="椭圆 120"/>
              <p:cNvSpPr/>
              <p:nvPr/>
            </p:nvSpPr>
            <p:spPr>
              <a:xfrm>
                <a:off x="4183920" y="2827800"/>
                <a:ext cx="209520" cy="20952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" name="椭圆 33"/>
              <p:cNvSpPr/>
              <p:nvPr/>
            </p:nvSpPr>
            <p:spPr>
              <a:xfrm>
                <a:off x="4043160" y="30488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36" name="圆角矩形 118"/>
            <p:cNvSpPr/>
            <p:nvPr/>
          </p:nvSpPr>
          <p:spPr>
            <a:xfrm rot="18415800">
              <a:off x="4253040" y="2958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7" name="圆角矩形 119"/>
            <p:cNvSpPr/>
            <p:nvPr/>
          </p:nvSpPr>
          <p:spPr>
            <a:xfrm flipH="1" rot="3184200">
              <a:off x="3760560" y="2974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38" name="组合 122"/>
          <p:cNvGrpSpPr/>
          <p:nvPr/>
        </p:nvGrpSpPr>
        <p:grpSpPr>
          <a:xfrm>
            <a:off x="4528080" y="2754720"/>
            <a:ext cx="916920" cy="783720"/>
            <a:chOff x="4528080" y="2754720"/>
            <a:chExt cx="916920" cy="783720"/>
          </a:xfrm>
        </p:grpSpPr>
        <p:grpSp>
          <p:nvGrpSpPr>
            <p:cNvPr id="839" name="组合 123"/>
            <p:cNvGrpSpPr/>
            <p:nvPr/>
          </p:nvGrpSpPr>
          <p:grpSpPr>
            <a:xfrm>
              <a:off x="4741200" y="2827800"/>
              <a:ext cx="491040" cy="710640"/>
              <a:chOff x="4741200" y="2827800"/>
              <a:chExt cx="491040" cy="710640"/>
            </a:xfrm>
          </p:grpSpPr>
          <p:sp>
            <p:nvSpPr>
              <p:cNvPr id="840" name="椭圆 126"/>
              <p:cNvSpPr/>
              <p:nvPr/>
            </p:nvSpPr>
            <p:spPr>
              <a:xfrm>
                <a:off x="4881960" y="2827800"/>
                <a:ext cx="209520" cy="20952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" name="椭圆 33"/>
              <p:cNvSpPr/>
              <p:nvPr/>
            </p:nvSpPr>
            <p:spPr>
              <a:xfrm>
                <a:off x="4741200" y="30488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42" name="圆角矩形 124"/>
            <p:cNvSpPr/>
            <p:nvPr/>
          </p:nvSpPr>
          <p:spPr>
            <a:xfrm rot="18415800">
              <a:off x="4951080" y="2958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3" name="圆角矩形 125"/>
            <p:cNvSpPr/>
            <p:nvPr/>
          </p:nvSpPr>
          <p:spPr>
            <a:xfrm flipH="1" rot="3184200">
              <a:off x="4458240" y="2974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44" name="组合 128"/>
          <p:cNvGrpSpPr/>
          <p:nvPr/>
        </p:nvGrpSpPr>
        <p:grpSpPr>
          <a:xfrm>
            <a:off x="5145840" y="2754720"/>
            <a:ext cx="916560" cy="783720"/>
            <a:chOff x="5145840" y="2754720"/>
            <a:chExt cx="916560" cy="783720"/>
          </a:xfrm>
        </p:grpSpPr>
        <p:grpSp>
          <p:nvGrpSpPr>
            <p:cNvPr id="845" name="组合 129"/>
            <p:cNvGrpSpPr/>
            <p:nvPr/>
          </p:nvGrpSpPr>
          <p:grpSpPr>
            <a:xfrm>
              <a:off x="5358600" y="2827800"/>
              <a:ext cx="491040" cy="710640"/>
              <a:chOff x="5358600" y="2827800"/>
              <a:chExt cx="491040" cy="710640"/>
            </a:xfrm>
          </p:grpSpPr>
          <p:sp>
            <p:nvSpPr>
              <p:cNvPr id="846" name="椭圆 132"/>
              <p:cNvSpPr/>
              <p:nvPr/>
            </p:nvSpPr>
            <p:spPr>
              <a:xfrm>
                <a:off x="5499360" y="2827800"/>
                <a:ext cx="209520" cy="20952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" name="椭圆 33"/>
              <p:cNvSpPr/>
              <p:nvPr/>
            </p:nvSpPr>
            <p:spPr>
              <a:xfrm>
                <a:off x="5358600" y="30488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48" name="圆角矩形 130"/>
            <p:cNvSpPr/>
            <p:nvPr/>
          </p:nvSpPr>
          <p:spPr>
            <a:xfrm rot="18415800">
              <a:off x="5568480" y="2958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9" name="圆角矩形 131"/>
            <p:cNvSpPr/>
            <p:nvPr/>
          </p:nvSpPr>
          <p:spPr>
            <a:xfrm flipH="1" rot="3184200">
              <a:off x="5076000" y="2974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50" name="组合 134"/>
          <p:cNvGrpSpPr/>
          <p:nvPr/>
        </p:nvGrpSpPr>
        <p:grpSpPr>
          <a:xfrm>
            <a:off x="5702760" y="2754720"/>
            <a:ext cx="916920" cy="783720"/>
            <a:chOff x="5702760" y="2754720"/>
            <a:chExt cx="916920" cy="783720"/>
          </a:xfrm>
        </p:grpSpPr>
        <p:grpSp>
          <p:nvGrpSpPr>
            <p:cNvPr id="851" name="组合 135"/>
            <p:cNvGrpSpPr/>
            <p:nvPr/>
          </p:nvGrpSpPr>
          <p:grpSpPr>
            <a:xfrm>
              <a:off x="5915520" y="2827800"/>
              <a:ext cx="491040" cy="710640"/>
              <a:chOff x="5915520" y="2827800"/>
              <a:chExt cx="491040" cy="710640"/>
            </a:xfrm>
          </p:grpSpPr>
          <p:sp>
            <p:nvSpPr>
              <p:cNvPr id="852" name="椭圆 138"/>
              <p:cNvSpPr/>
              <p:nvPr/>
            </p:nvSpPr>
            <p:spPr>
              <a:xfrm>
                <a:off x="6056280" y="2827800"/>
                <a:ext cx="209520" cy="20952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" name="椭圆 33"/>
              <p:cNvSpPr/>
              <p:nvPr/>
            </p:nvSpPr>
            <p:spPr>
              <a:xfrm>
                <a:off x="5915520" y="30488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54" name="圆角矩形 136"/>
            <p:cNvSpPr/>
            <p:nvPr/>
          </p:nvSpPr>
          <p:spPr>
            <a:xfrm rot="18415800">
              <a:off x="6125760" y="2958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5" name="圆角矩形 137"/>
            <p:cNvSpPr/>
            <p:nvPr/>
          </p:nvSpPr>
          <p:spPr>
            <a:xfrm flipH="1" rot="3184200">
              <a:off x="5632920" y="2974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56" name="组合 140"/>
          <p:cNvGrpSpPr/>
          <p:nvPr/>
        </p:nvGrpSpPr>
        <p:grpSpPr>
          <a:xfrm>
            <a:off x="6320160" y="2754720"/>
            <a:ext cx="916920" cy="783720"/>
            <a:chOff x="6320160" y="2754720"/>
            <a:chExt cx="916920" cy="783720"/>
          </a:xfrm>
        </p:grpSpPr>
        <p:grpSp>
          <p:nvGrpSpPr>
            <p:cNvPr id="857" name="组合 141"/>
            <p:cNvGrpSpPr/>
            <p:nvPr/>
          </p:nvGrpSpPr>
          <p:grpSpPr>
            <a:xfrm>
              <a:off x="6532920" y="2827800"/>
              <a:ext cx="491040" cy="710640"/>
              <a:chOff x="6532920" y="2827800"/>
              <a:chExt cx="491040" cy="710640"/>
            </a:xfrm>
          </p:grpSpPr>
          <p:sp>
            <p:nvSpPr>
              <p:cNvPr id="858" name="椭圆 144"/>
              <p:cNvSpPr/>
              <p:nvPr/>
            </p:nvSpPr>
            <p:spPr>
              <a:xfrm>
                <a:off x="6673680" y="2827800"/>
                <a:ext cx="209520" cy="20952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" name="椭圆 33"/>
              <p:cNvSpPr/>
              <p:nvPr/>
            </p:nvSpPr>
            <p:spPr>
              <a:xfrm>
                <a:off x="6532920" y="30488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60" name="圆角矩形 142"/>
            <p:cNvSpPr/>
            <p:nvPr/>
          </p:nvSpPr>
          <p:spPr>
            <a:xfrm rot="18415800">
              <a:off x="6743160" y="2958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1" name="圆角矩形 143"/>
            <p:cNvSpPr/>
            <p:nvPr/>
          </p:nvSpPr>
          <p:spPr>
            <a:xfrm flipH="1" rot="3184200">
              <a:off x="6250320" y="2974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62" name="组合 146"/>
          <p:cNvGrpSpPr/>
          <p:nvPr/>
        </p:nvGrpSpPr>
        <p:grpSpPr>
          <a:xfrm>
            <a:off x="7018200" y="2754720"/>
            <a:ext cx="916560" cy="783720"/>
            <a:chOff x="7018200" y="2754720"/>
            <a:chExt cx="916560" cy="783720"/>
          </a:xfrm>
        </p:grpSpPr>
        <p:grpSp>
          <p:nvGrpSpPr>
            <p:cNvPr id="863" name="组合 147"/>
            <p:cNvGrpSpPr/>
            <p:nvPr/>
          </p:nvGrpSpPr>
          <p:grpSpPr>
            <a:xfrm>
              <a:off x="7230960" y="2827800"/>
              <a:ext cx="491040" cy="710640"/>
              <a:chOff x="7230960" y="2827800"/>
              <a:chExt cx="491040" cy="710640"/>
            </a:xfrm>
          </p:grpSpPr>
          <p:sp>
            <p:nvSpPr>
              <p:cNvPr id="864" name="椭圆 150"/>
              <p:cNvSpPr/>
              <p:nvPr/>
            </p:nvSpPr>
            <p:spPr>
              <a:xfrm>
                <a:off x="7371720" y="2827800"/>
                <a:ext cx="209520" cy="20952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" name="椭圆 33"/>
              <p:cNvSpPr/>
              <p:nvPr/>
            </p:nvSpPr>
            <p:spPr>
              <a:xfrm>
                <a:off x="7230960" y="30488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66" name="圆角矩形 148"/>
            <p:cNvSpPr/>
            <p:nvPr/>
          </p:nvSpPr>
          <p:spPr>
            <a:xfrm rot="18415800">
              <a:off x="7440840" y="2958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7" name="圆角矩形 149"/>
            <p:cNvSpPr/>
            <p:nvPr/>
          </p:nvSpPr>
          <p:spPr>
            <a:xfrm flipH="1" rot="3184200">
              <a:off x="6948360" y="2974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68" name="组合 152"/>
          <p:cNvGrpSpPr/>
          <p:nvPr/>
        </p:nvGrpSpPr>
        <p:grpSpPr>
          <a:xfrm>
            <a:off x="7635600" y="2754720"/>
            <a:ext cx="916920" cy="783720"/>
            <a:chOff x="7635600" y="2754720"/>
            <a:chExt cx="916920" cy="783720"/>
          </a:xfrm>
        </p:grpSpPr>
        <p:grpSp>
          <p:nvGrpSpPr>
            <p:cNvPr id="869" name="组合 153"/>
            <p:cNvGrpSpPr/>
            <p:nvPr/>
          </p:nvGrpSpPr>
          <p:grpSpPr>
            <a:xfrm>
              <a:off x="7848360" y="2827800"/>
              <a:ext cx="491040" cy="710640"/>
              <a:chOff x="7848360" y="2827800"/>
              <a:chExt cx="491040" cy="710640"/>
            </a:xfrm>
          </p:grpSpPr>
          <p:sp>
            <p:nvSpPr>
              <p:cNvPr id="870" name="椭圆 156"/>
              <p:cNvSpPr/>
              <p:nvPr/>
            </p:nvSpPr>
            <p:spPr>
              <a:xfrm>
                <a:off x="7989120" y="2827800"/>
                <a:ext cx="209520" cy="20952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" name="椭圆 33"/>
              <p:cNvSpPr/>
              <p:nvPr/>
            </p:nvSpPr>
            <p:spPr>
              <a:xfrm>
                <a:off x="7848360" y="30488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72" name="圆角矩形 154"/>
            <p:cNvSpPr/>
            <p:nvPr/>
          </p:nvSpPr>
          <p:spPr>
            <a:xfrm rot="18415800">
              <a:off x="8058600" y="2958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73" name="圆角矩形 155"/>
            <p:cNvSpPr/>
            <p:nvPr/>
          </p:nvSpPr>
          <p:spPr>
            <a:xfrm flipH="1" rot="3184200">
              <a:off x="7565760" y="2974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74" name="组合 74"/>
          <p:cNvGrpSpPr/>
          <p:nvPr/>
        </p:nvGrpSpPr>
        <p:grpSpPr>
          <a:xfrm>
            <a:off x="3517560" y="2999880"/>
            <a:ext cx="916560" cy="783360"/>
            <a:chOff x="3517560" y="2999880"/>
            <a:chExt cx="916560" cy="783360"/>
          </a:xfrm>
        </p:grpSpPr>
        <p:grpSp>
          <p:nvGrpSpPr>
            <p:cNvPr id="875" name="组合 75"/>
            <p:cNvGrpSpPr/>
            <p:nvPr/>
          </p:nvGrpSpPr>
          <p:grpSpPr>
            <a:xfrm>
              <a:off x="3730320" y="3072960"/>
              <a:ext cx="491040" cy="710280"/>
              <a:chOff x="3730320" y="3072960"/>
              <a:chExt cx="491040" cy="710280"/>
            </a:xfrm>
          </p:grpSpPr>
          <p:sp>
            <p:nvSpPr>
              <p:cNvPr id="876" name="椭圆 78"/>
              <p:cNvSpPr/>
              <p:nvPr/>
            </p:nvSpPr>
            <p:spPr>
              <a:xfrm>
                <a:off x="3871080" y="3072960"/>
                <a:ext cx="209520" cy="20952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" name="椭圆 33"/>
              <p:cNvSpPr/>
              <p:nvPr/>
            </p:nvSpPr>
            <p:spPr>
              <a:xfrm>
                <a:off x="3730320" y="32936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78" name="圆角矩形 76"/>
            <p:cNvSpPr/>
            <p:nvPr/>
          </p:nvSpPr>
          <p:spPr>
            <a:xfrm rot="18415800">
              <a:off x="3940200" y="320328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79" name="圆角矩形 77"/>
            <p:cNvSpPr/>
            <p:nvPr/>
          </p:nvSpPr>
          <p:spPr>
            <a:xfrm flipH="1" rot="3184200">
              <a:off x="3447720" y="3219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80" name="组合 80"/>
          <p:cNvGrpSpPr/>
          <p:nvPr/>
        </p:nvGrpSpPr>
        <p:grpSpPr>
          <a:xfrm>
            <a:off x="4215240" y="2999880"/>
            <a:ext cx="916920" cy="783360"/>
            <a:chOff x="4215240" y="2999880"/>
            <a:chExt cx="916920" cy="783360"/>
          </a:xfrm>
        </p:grpSpPr>
        <p:grpSp>
          <p:nvGrpSpPr>
            <p:cNvPr id="881" name="组合 81"/>
            <p:cNvGrpSpPr/>
            <p:nvPr/>
          </p:nvGrpSpPr>
          <p:grpSpPr>
            <a:xfrm>
              <a:off x="4428360" y="3072960"/>
              <a:ext cx="491040" cy="710280"/>
              <a:chOff x="4428360" y="3072960"/>
              <a:chExt cx="491040" cy="710280"/>
            </a:xfrm>
          </p:grpSpPr>
          <p:sp>
            <p:nvSpPr>
              <p:cNvPr id="882" name="椭圆 84"/>
              <p:cNvSpPr/>
              <p:nvPr/>
            </p:nvSpPr>
            <p:spPr>
              <a:xfrm>
                <a:off x="4569120" y="3072960"/>
                <a:ext cx="209520" cy="20952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3" name="椭圆 33"/>
              <p:cNvSpPr/>
              <p:nvPr/>
            </p:nvSpPr>
            <p:spPr>
              <a:xfrm>
                <a:off x="4428360" y="32936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84" name="圆角矩形 82"/>
            <p:cNvSpPr/>
            <p:nvPr/>
          </p:nvSpPr>
          <p:spPr>
            <a:xfrm rot="18415800">
              <a:off x="4638240" y="320328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" name="圆角矩形 83"/>
            <p:cNvSpPr/>
            <p:nvPr/>
          </p:nvSpPr>
          <p:spPr>
            <a:xfrm flipH="1" rot="3184200">
              <a:off x="4145400" y="3219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86" name="组合 86"/>
          <p:cNvGrpSpPr/>
          <p:nvPr/>
        </p:nvGrpSpPr>
        <p:grpSpPr>
          <a:xfrm>
            <a:off x="4832640" y="2999880"/>
            <a:ext cx="916920" cy="783360"/>
            <a:chOff x="4832640" y="2999880"/>
            <a:chExt cx="916920" cy="783360"/>
          </a:xfrm>
        </p:grpSpPr>
        <p:grpSp>
          <p:nvGrpSpPr>
            <p:cNvPr id="887" name="组合 87"/>
            <p:cNvGrpSpPr/>
            <p:nvPr/>
          </p:nvGrpSpPr>
          <p:grpSpPr>
            <a:xfrm>
              <a:off x="5045760" y="3072960"/>
              <a:ext cx="491040" cy="710280"/>
              <a:chOff x="5045760" y="3072960"/>
              <a:chExt cx="491040" cy="710280"/>
            </a:xfrm>
          </p:grpSpPr>
          <p:sp>
            <p:nvSpPr>
              <p:cNvPr id="888" name="椭圆 90"/>
              <p:cNvSpPr/>
              <p:nvPr/>
            </p:nvSpPr>
            <p:spPr>
              <a:xfrm>
                <a:off x="5186520" y="3072960"/>
                <a:ext cx="209520" cy="20952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9" name="椭圆 33"/>
              <p:cNvSpPr/>
              <p:nvPr/>
            </p:nvSpPr>
            <p:spPr>
              <a:xfrm>
                <a:off x="5045760" y="32936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90" name="圆角矩形 88"/>
            <p:cNvSpPr/>
            <p:nvPr/>
          </p:nvSpPr>
          <p:spPr>
            <a:xfrm rot="18415800">
              <a:off x="5255640" y="320328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" name="圆角矩形 89"/>
            <p:cNvSpPr/>
            <p:nvPr/>
          </p:nvSpPr>
          <p:spPr>
            <a:xfrm flipH="1" rot="3184200">
              <a:off x="4762800" y="3219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92" name="组合 92"/>
          <p:cNvGrpSpPr/>
          <p:nvPr/>
        </p:nvGrpSpPr>
        <p:grpSpPr>
          <a:xfrm>
            <a:off x="5389920" y="2999880"/>
            <a:ext cx="916920" cy="783360"/>
            <a:chOff x="5389920" y="2999880"/>
            <a:chExt cx="916920" cy="783360"/>
          </a:xfrm>
        </p:grpSpPr>
        <p:grpSp>
          <p:nvGrpSpPr>
            <p:cNvPr id="893" name="组合 93"/>
            <p:cNvGrpSpPr/>
            <p:nvPr/>
          </p:nvGrpSpPr>
          <p:grpSpPr>
            <a:xfrm>
              <a:off x="5602680" y="3072960"/>
              <a:ext cx="491040" cy="710280"/>
              <a:chOff x="5602680" y="3072960"/>
              <a:chExt cx="491040" cy="710280"/>
            </a:xfrm>
          </p:grpSpPr>
          <p:sp>
            <p:nvSpPr>
              <p:cNvPr id="894" name="椭圆 96"/>
              <p:cNvSpPr/>
              <p:nvPr/>
            </p:nvSpPr>
            <p:spPr>
              <a:xfrm>
                <a:off x="5743440" y="3072960"/>
                <a:ext cx="209520" cy="20952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95" name="椭圆 33"/>
              <p:cNvSpPr/>
              <p:nvPr/>
            </p:nvSpPr>
            <p:spPr>
              <a:xfrm>
                <a:off x="5602680" y="32936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96" name="圆角矩形 94"/>
            <p:cNvSpPr/>
            <p:nvPr/>
          </p:nvSpPr>
          <p:spPr>
            <a:xfrm rot="18415800">
              <a:off x="5812920" y="320328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" name="圆角矩形 95"/>
            <p:cNvSpPr/>
            <p:nvPr/>
          </p:nvSpPr>
          <p:spPr>
            <a:xfrm flipH="1" rot="3184200">
              <a:off x="5320080" y="3219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98" name="组合 98"/>
          <p:cNvGrpSpPr/>
          <p:nvPr/>
        </p:nvGrpSpPr>
        <p:grpSpPr>
          <a:xfrm>
            <a:off x="6007320" y="2999880"/>
            <a:ext cx="916920" cy="783360"/>
            <a:chOff x="6007320" y="2999880"/>
            <a:chExt cx="916920" cy="783360"/>
          </a:xfrm>
        </p:grpSpPr>
        <p:grpSp>
          <p:nvGrpSpPr>
            <p:cNvPr id="899" name="组合 99"/>
            <p:cNvGrpSpPr/>
            <p:nvPr/>
          </p:nvGrpSpPr>
          <p:grpSpPr>
            <a:xfrm>
              <a:off x="6220080" y="3072960"/>
              <a:ext cx="491040" cy="710280"/>
              <a:chOff x="6220080" y="3072960"/>
              <a:chExt cx="491040" cy="710280"/>
            </a:xfrm>
          </p:grpSpPr>
          <p:sp>
            <p:nvSpPr>
              <p:cNvPr id="900" name="椭圆 102"/>
              <p:cNvSpPr/>
              <p:nvPr/>
            </p:nvSpPr>
            <p:spPr>
              <a:xfrm>
                <a:off x="6360840" y="3072960"/>
                <a:ext cx="209520" cy="20952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01" name="椭圆 33"/>
              <p:cNvSpPr/>
              <p:nvPr/>
            </p:nvSpPr>
            <p:spPr>
              <a:xfrm>
                <a:off x="6220080" y="32936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02" name="圆角矩形 100"/>
            <p:cNvSpPr/>
            <p:nvPr/>
          </p:nvSpPr>
          <p:spPr>
            <a:xfrm rot="18415800">
              <a:off x="6430320" y="320328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" name="圆角矩形 101"/>
            <p:cNvSpPr/>
            <p:nvPr/>
          </p:nvSpPr>
          <p:spPr>
            <a:xfrm flipH="1" rot="3184200">
              <a:off x="5937480" y="3219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4" name="组合 104"/>
          <p:cNvGrpSpPr/>
          <p:nvPr/>
        </p:nvGrpSpPr>
        <p:grpSpPr>
          <a:xfrm>
            <a:off x="6705360" y="2999880"/>
            <a:ext cx="916560" cy="783360"/>
            <a:chOff x="6705360" y="2999880"/>
            <a:chExt cx="916560" cy="783360"/>
          </a:xfrm>
        </p:grpSpPr>
        <p:grpSp>
          <p:nvGrpSpPr>
            <p:cNvPr id="905" name="组合 105"/>
            <p:cNvGrpSpPr/>
            <p:nvPr/>
          </p:nvGrpSpPr>
          <p:grpSpPr>
            <a:xfrm>
              <a:off x="6918120" y="3072960"/>
              <a:ext cx="491040" cy="710280"/>
              <a:chOff x="6918120" y="3072960"/>
              <a:chExt cx="491040" cy="710280"/>
            </a:xfrm>
          </p:grpSpPr>
          <p:sp>
            <p:nvSpPr>
              <p:cNvPr id="906" name="椭圆 108"/>
              <p:cNvSpPr/>
              <p:nvPr/>
            </p:nvSpPr>
            <p:spPr>
              <a:xfrm>
                <a:off x="7058880" y="3072960"/>
                <a:ext cx="209520" cy="20952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07" name="椭圆 33"/>
              <p:cNvSpPr/>
              <p:nvPr/>
            </p:nvSpPr>
            <p:spPr>
              <a:xfrm>
                <a:off x="6918120" y="32936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08" name="圆角矩形 106"/>
            <p:cNvSpPr/>
            <p:nvPr/>
          </p:nvSpPr>
          <p:spPr>
            <a:xfrm rot="18415800">
              <a:off x="7128000" y="320328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" name="圆角矩形 107"/>
            <p:cNvSpPr/>
            <p:nvPr/>
          </p:nvSpPr>
          <p:spPr>
            <a:xfrm flipH="1" rot="3184200">
              <a:off x="6635520" y="3219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0" name="组合 110"/>
          <p:cNvGrpSpPr/>
          <p:nvPr/>
        </p:nvGrpSpPr>
        <p:grpSpPr>
          <a:xfrm>
            <a:off x="7322760" y="2999880"/>
            <a:ext cx="916560" cy="783360"/>
            <a:chOff x="7322760" y="2999880"/>
            <a:chExt cx="916560" cy="783360"/>
          </a:xfrm>
        </p:grpSpPr>
        <p:grpSp>
          <p:nvGrpSpPr>
            <p:cNvPr id="911" name="组合 111"/>
            <p:cNvGrpSpPr/>
            <p:nvPr/>
          </p:nvGrpSpPr>
          <p:grpSpPr>
            <a:xfrm>
              <a:off x="7535520" y="3072960"/>
              <a:ext cx="491040" cy="710280"/>
              <a:chOff x="7535520" y="3072960"/>
              <a:chExt cx="491040" cy="710280"/>
            </a:xfrm>
          </p:grpSpPr>
          <p:sp>
            <p:nvSpPr>
              <p:cNvPr id="912" name="椭圆 114"/>
              <p:cNvSpPr/>
              <p:nvPr/>
            </p:nvSpPr>
            <p:spPr>
              <a:xfrm>
                <a:off x="7676280" y="3072960"/>
                <a:ext cx="209520" cy="20952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13" name="椭圆 33"/>
              <p:cNvSpPr/>
              <p:nvPr/>
            </p:nvSpPr>
            <p:spPr>
              <a:xfrm>
                <a:off x="7535520" y="329364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14" name="圆角矩形 112"/>
            <p:cNvSpPr/>
            <p:nvPr/>
          </p:nvSpPr>
          <p:spPr>
            <a:xfrm rot="18415800">
              <a:off x="7745400" y="320328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" name="圆角矩形 113"/>
            <p:cNvSpPr/>
            <p:nvPr/>
          </p:nvSpPr>
          <p:spPr>
            <a:xfrm flipH="1" rot="3184200">
              <a:off x="7252920" y="32191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16" name="TextBox 1"/>
          <p:cNvSpPr/>
          <p:nvPr/>
        </p:nvSpPr>
        <p:spPr>
          <a:xfrm>
            <a:off x="627840" y="180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伯利克里做了一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2"/>
          <p:cNvSpPr/>
          <p:nvPr/>
        </p:nvSpPr>
        <p:spPr>
          <a:xfrm>
            <a:off x="1341000" y="54396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考试特别爱考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3"/>
          <p:cNvSpPr/>
          <p:nvPr/>
        </p:nvSpPr>
        <p:spPr>
          <a:xfrm>
            <a:off x="6059520" y="44438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给参政公民发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津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组合 4"/>
          <p:cNvGrpSpPr/>
          <p:nvPr/>
        </p:nvGrpSpPr>
        <p:grpSpPr>
          <a:xfrm>
            <a:off x="1296000" y="1281600"/>
            <a:ext cx="1252080" cy="2097360"/>
            <a:chOff x="1296000" y="1281600"/>
            <a:chExt cx="1252080" cy="2097360"/>
          </a:xfrm>
        </p:grpSpPr>
        <p:sp>
          <p:nvSpPr>
            <p:cNvPr id="920" name="椭圆 18"/>
            <p:cNvSpPr/>
            <p:nvPr/>
          </p:nvSpPr>
          <p:spPr>
            <a:xfrm>
              <a:off x="1296000" y="2295720"/>
              <a:ext cx="1252080" cy="1083240"/>
            </a:xfrm>
            <a:custGeom>
              <a:avLst/>
              <a:gdLst>
                <a:gd name="textAreaLeft" fmla="*/ 0 w 1252080"/>
                <a:gd name="textAreaRight" fmla="*/ 1252440 w 1252080"/>
                <a:gd name="textAreaTop" fmla="*/ 0 h 1083240"/>
                <a:gd name="textAreaBottom" fmla="*/ 1083600 h 1083240"/>
              </a:gdLst>
              <a:ahLst/>
              <a:rect l="textAreaLeft" t="textAreaTop" r="textAreaRight" b="textAreaBottom"/>
              <a:pathLst>
                <a:path w="1939033" h="1360510">
                  <a:moveTo>
                    <a:pt x="969516" y="0"/>
                  </a:moveTo>
                  <a:cubicBezTo>
                    <a:pt x="1489171" y="0"/>
                    <a:pt x="1913592" y="602469"/>
                    <a:pt x="1939033" y="1360510"/>
                  </a:cubicBezTo>
                  <a:lnTo>
                    <a:pt x="0" y="1360510"/>
                  </a:lnTo>
                  <a:cubicBezTo>
                    <a:pt x="25441" y="602469"/>
                    <a:pt x="449861" y="0"/>
                    <a:pt x="969516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21" name="组合 6"/>
            <p:cNvGrpSpPr/>
            <p:nvPr/>
          </p:nvGrpSpPr>
          <p:grpSpPr>
            <a:xfrm>
              <a:off x="1632240" y="1281600"/>
              <a:ext cx="592200" cy="1162440"/>
              <a:chOff x="1632240" y="1281600"/>
              <a:chExt cx="592200" cy="1162440"/>
            </a:xfrm>
          </p:grpSpPr>
          <p:sp>
            <p:nvSpPr>
              <p:cNvPr id="922" name="椭圆 7"/>
              <p:cNvSpPr/>
              <p:nvPr/>
            </p:nvSpPr>
            <p:spPr>
              <a:xfrm>
                <a:off x="1711800" y="2165040"/>
                <a:ext cx="139320" cy="1393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3" name="椭圆 8"/>
              <p:cNvSpPr/>
              <p:nvPr/>
            </p:nvSpPr>
            <p:spPr>
              <a:xfrm>
                <a:off x="1726560" y="2239560"/>
                <a:ext cx="139320" cy="1393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4" name="椭圆 9"/>
              <p:cNvSpPr/>
              <p:nvPr/>
            </p:nvSpPr>
            <p:spPr>
              <a:xfrm>
                <a:off x="1796400" y="2295720"/>
                <a:ext cx="139320" cy="1393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5" name="椭圆 10"/>
              <p:cNvSpPr/>
              <p:nvPr/>
            </p:nvSpPr>
            <p:spPr>
              <a:xfrm>
                <a:off x="1879920" y="2304720"/>
                <a:ext cx="139320" cy="1393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6" name="椭圆 11"/>
              <p:cNvSpPr/>
              <p:nvPr/>
            </p:nvSpPr>
            <p:spPr>
              <a:xfrm>
                <a:off x="1949760" y="2263680"/>
                <a:ext cx="139320" cy="1393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7" name="椭圆 12"/>
              <p:cNvSpPr/>
              <p:nvPr/>
            </p:nvSpPr>
            <p:spPr>
              <a:xfrm>
                <a:off x="1998720" y="2193840"/>
                <a:ext cx="139320" cy="139320"/>
              </a:xfrm>
              <a:prstGeom prst="ellipse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28" name="组合 13"/>
              <p:cNvGrpSpPr/>
              <p:nvPr/>
            </p:nvGrpSpPr>
            <p:grpSpPr>
              <a:xfrm>
                <a:off x="1632240" y="1281600"/>
                <a:ext cx="592200" cy="1083600"/>
                <a:chOff x="1632240" y="1281600"/>
                <a:chExt cx="592200" cy="1083600"/>
              </a:xfrm>
            </p:grpSpPr>
            <p:sp>
              <p:nvSpPr>
                <p:cNvPr id="929" name="椭圆 14"/>
                <p:cNvSpPr/>
                <p:nvPr/>
              </p:nvSpPr>
              <p:spPr>
                <a:xfrm>
                  <a:off x="1675800" y="1630080"/>
                  <a:ext cx="505440" cy="73512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0" name="椭圆 4"/>
                <p:cNvSpPr/>
                <p:nvPr/>
              </p:nvSpPr>
              <p:spPr>
                <a:xfrm>
                  <a:off x="1632240" y="1281600"/>
                  <a:ext cx="592200" cy="73512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735120"/>
                    <a:gd name="textAreaBottom" fmla="*/ 735480 h 735120"/>
                  </a:gdLst>
                  <a:ahLst/>
                  <a:rect l="textAreaLeft" t="textAreaTop" r="textAreaRight" b="textAreaBottom"/>
                  <a:pathLst>
                    <a:path w="622817" h="772900">
                      <a:moveTo>
                        <a:pt x="311408" y="0"/>
                      </a:moveTo>
                      <a:cubicBezTo>
                        <a:pt x="462461" y="105698"/>
                        <a:pt x="581449" y="399364"/>
                        <a:pt x="622817" y="772900"/>
                      </a:cubicBezTo>
                      <a:lnTo>
                        <a:pt x="311408" y="683926"/>
                      </a:lnTo>
                      <a:lnTo>
                        <a:pt x="0" y="772900"/>
                      </a:lnTo>
                      <a:cubicBezTo>
                        <a:pt x="41367" y="399364"/>
                        <a:pt x="160357" y="105698"/>
                        <a:pt x="311408" y="0"/>
                      </a:cubicBezTo>
                      <a:close/>
                    </a:path>
                  </a:pathLst>
                </a:cu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31" name="圆角矩形 16"/>
          <p:cNvSpPr/>
          <p:nvPr/>
        </p:nvSpPr>
        <p:spPr>
          <a:xfrm rot="19017000">
            <a:off x="2062080" y="2426400"/>
            <a:ext cx="835560" cy="178920"/>
          </a:xfrm>
          <a:prstGeom prst="roundRect">
            <a:avLst>
              <a:gd name="adj" fmla="val 28534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2" name="波形 18"/>
          <p:cNvSpPr/>
          <p:nvPr/>
        </p:nvSpPr>
        <p:spPr>
          <a:xfrm rot="18375600">
            <a:off x="2840400" y="1593360"/>
            <a:ext cx="575640" cy="326520"/>
          </a:xfrm>
          <a:prstGeom prst="wave">
            <a:avLst>
              <a:gd name="adj1" fmla="val 5268"/>
              <a:gd name="adj2" fmla="val -179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3" name="波形 19"/>
          <p:cNvSpPr/>
          <p:nvPr/>
        </p:nvSpPr>
        <p:spPr>
          <a:xfrm rot="19884000">
            <a:off x="3624480" y="1331640"/>
            <a:ext cx="575640" cy="326520"/>
          </a:xfrm>
          <a:prstGeom prst="wave">
            <a:avLst>
              <a:gd name="adj1" fmla="val 5268"/>
              <a:gd name="adj2" fmla="val -179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" name="波形 20"/>
          <p:cNvSpPr/>
          <p:nvPr/>
        </p:nvSpPr>
        <p:spPr>
          <a:xfrm rot="21225000">
            <a:off x="4943160" y="1427040"/>
            <a:ext cx="575640" cy="326520"/>
          </a:xfrm>
          <a:prstGeom prst="wave">
            <a:avLst>
              <a:gd name="adj1" fmla="val 5268"/>
              <a:gd name="adj2" fmla="val -179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5" name="波形 21"/>
          <p:cNvSpPr/>
          <p:nvPr/>
        </p:nvSpPr>
        <p:spPr>
          <a:xfrm rot="19813800">
            <a:off x="3335760" y="1939680"/>
            <a:ext cx="575640" cy="326520"/>
          </a:xfrm>
          <a:prstGeom prst="wave">
            <a:avLst>
              <a:gd name="adj1" fmla="val 5268"/>
              <a:gd name="adj2" fmla="val -179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6" name="波形 22"/>
          <p:cNvSpPr/>
          <p:nvPr/>
        </p:nvSpPr>
        <p:spPr>
          <a:xfrm rot="1592400">
            <a:off x="4542480" y="2195640"/>
            <a:ext cx="575640" cy="326520"/>
          </a:xfrm>
          <a:prstGeom prst="wave">
            <a:avLst>
              <a:gd name="adj1" fmla="val 5268"/>
              <a:gd name="adj2" fmla="val -179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7" name="波形 23"/>
          <p:cNvSpPr/>
          <p:nvPr/>
        </p:nvSpPr>
        <p:spPr>
          <a:xfrm rot="3057000">
            <a:off x="5803560" y="2026080"/>
            <a:ext cx="575640" cy="326520"/>
          </a:xfrm>
          <a:prstGeom prst="wave">
            <a:avLst>
              <a:gd name="adj1" fmla="val 5268"/>
              <a:gd name="adj2" fmla="val -179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8" name="波形 24"/>
          <p:cNvSpPr/>
          <p:nvPr/>
        </p:nvSpPr>
        <p:spPr>
          <a:xfrm rot="1575600">
            <a:off x="6333120" y="1280880"/>
            <a:ext cx="575640" cy="326520"/>
          </a:xfrm>
          <a:prstGeom prst="wave">
            <a:avLst>
              <a:gd name="adj1" fmla="val 5268"/>
              <a:gd name="adj2" fmla="val -179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9" name="波形 25"/>
          <p:cNvSpPr/>
          <p:nvPr/>
        </p:nvSpPr>
        <p:spPr>
          <a:xfrm rot="1869000">
            <a:off x="3880800" y="2641320"/>
            <a:ext cx="575640" cy="326520"/>
          </a:xfrm>
          <a:prstGeom prst="wave">
            <a:avLst>
              <a:gd name="adj1" fmla="val 5268"/>
              <a:gd name="adj2" fmla="val -179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40" name="组合 26"/>
          <p:cNvGrpSpPr/>
          <p:nvPr/>
        </p:nvGrpSpPr>
        <p:grpSpPr>
          <a:xfrm>
            <a:off x="3333240" y="3292920"/>
            <a:ext cx="916560" cy="783360"/>
            <a:chOff x="3333240" y="3292920"/>
            <a:chExt cx="916560" cy="783360"/>
          </a:xfrm>
        </p:grpSpPr>
        <p:grpSp>
          <p:nvGrpSpPr>
            <p:cNvPr id="941" name="组合 27"/>
            <p:cNvGrpSpPr/>
            <p:nvPr/>
          </p:nvGrpSpPr>
          <p:grpSpPr>
            <a:xfrm>
              <a:off x="3546000" y="3366000"/>
              <a:ext cx="491040" cy="710280"/>
              <a:chOff x="3546000" y="3366000"/>
              <a:chExt cx="491040" cy="710280"/>
            </a:xfrm>
          </p:grpSpPr>
          <p:sp>
            <p:nvSpPr>
              <p:cNvPr id="942" name="椭圆 30"/>
              <p:cNvSpPr/>
              <p:nvPr/>
            </p:nvSpPr>
            <p:spPr>
              <a:xfrm>
                <a:off x="3686760" y="336600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43" name="椭圆 33"/>
              <p:cNvSpPr/>
              <p:nvPr/>
            </p:nvSpPr>
            <p:spPr>
              <a:xfrm>
                <a:off x="3546000" y="358668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44" name="圆角矩形 28"/>
            <p:cNvSpPr/>
            <p:nvPr/>
          </p:nvSpPr>
          <p:spPr>
            <a:xfrm rot="18415800">
              <a:off x="3755880" y="3496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5" name="圆角矩形 29"/>
            <p:cNvSpPr/>
            <p:nvPr/>
          </p:nvSpPr>
          <p:spPr>
            <a:xfrm flipH="1" rot="3184200">
              <a:off x="3263400" y="351216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46" name="组合 32"/>
          <p:cNvGrpSpPr/>
          <p:nvPr/>
        </p:nvGrpSpPr>
        <p:grpSpPr>
          <a:xfrm>
            <a:off x="3950640" y="3292920"/>
            <a:ext cx="916560" cy="783360"/>
            <a:chOff x="3950640" y="3292920"/>
            <a:chExt cx="916560" cy="783360"/>
          </a:xfrm>
        </p:grpSpPr>
        <p:grpSp>
          <p:nvGrpSpPr>
            <p:cNvPr id="947" name="组合 33"/>
            <p:cNvGrpSpPr/>
            <p:nvPr/>
          </p:nvGrpSpPr>
          <p:grpSpPr>
            <a:xfrm>
              <a:off x="4163400" y="3366000"/>
              <a:ext cx="491040" cy="710280"/>
              <a:chOff x="4163400" y="3366000"/>
              <a:chExt cx="491040" cy="710280"/>
            </a:xfrm>
          </p:grpSpPr>
          <p:sp>
            <p:nvSpPr>
              <p:cNvPr id="948" name="椭圆 36"/>
              <p:cNvSpPr/>
              <p:nvPr/>
            </p:nvSpPr>
            <p:spPr>
              <a:xfrm>
                <a:off x="4304160" y="336600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49" name="椭圆 33"/>
              <p:cNvSpPr/>
              <p:nvPr/>
            </p:nvSpPr>
            <p:spPr>
              <a:xfrm>
                <a:off x="4163400" y="358668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50" name="圆角矩形 34"/>
            <p:cNvSpPr/>
            <p:nvPr/>
          </p:nvSpPr>
          <p:spPr>
            <a:xfrm rot="18415800">
              <a:off x="4373280" y="3496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1" name="圆角矩形 35"/>
            <p:cNvSpPr/>
            <p:nvPr/>
          </p:nvSpPr>
          <p:spPr>
            <a:xfrm flipH="1" rot="3184200">
              <a:off x="3880800" y="351216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52" name="组合 38"/>
          <p:cNvGrpSpPr/>
          <p:nvPr/>
        </p:nvGrpSpPr>
        <p:grpSpPr>
          <a:xfrm>
            <a:off x="4648320" y="3292920"/>
            <a:ext cx="916920" cy="783360"/>
            <a:chOff x="4648320" y="3292920"/>
            <a:chExt cx="916920" cy="783360"/>
          </a:xfrm>
        </p:grpSpPr>
        <p:grpSp>
          <p:nvGrpSpPr>
            <p:cNvPr id="953" name="组合 39"/>
            <p:cNvGrpSpPr/>
            <p:nvPr/>
          </p:nvGrpSpPr>
          <p:grpSpPr>
            <a:xfrm>
              <a:off x="4861080" y="3366000"/>
              <a:ext cx="491040" cy="710280"/>
              <a:chOff x="4861080" y="3366000"/>
              <a:chExt cx="491040" cy="710280"/>
            </a:xfrm>
          </p:grpSpPr>
          <p:sp>
            <p:nvSpPr>
              <p:cNvPr id="954" name="椭圆 42"/>
              <p:cNvSpPr/>
              <p:nvPr/>
            </p:nvSpPr>
            <p:spPr>
              <a:xfrm>
                <a:off x="5002200" y="336600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55" name="椭圆 33"/>
              <p:cNvSpPr/>
              <p:nvPr/>
            </p:nvSpPr>
            <p:spPr>
              <a:xfrm>
                <a:off x="4861080" y="358668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56" name="圆角矩形 40"/>
            <p:cNvSpPr/>
            <p:nvPr/>
          </p:nvSpPr>
          <p:spPr>
            <a:xfrm rot="18415800">
              <a:off x="5071320" y="3496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7" name="圆角矩形 41"/>
            <p:cNvSpPr/>
            <p:nvPr/>
          </p:nvSpPr>
          <p:spPr>
            <a:xfrm flipH="1" rot="3184200">
              <a:off x="4578480" y="351216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58" name="组合 44"/>
          <p:cNvGrpSpPr/>
          <p:nvPr/>
        </p:nvGrpSpPr>
        <p:grpSpPr>
          <a:xfrm>
            <a:off x="5265720" y="3292920"/>
            <a:ext cx="916920" cy="783360"/>
            <a:chOff x="5265720" y="3292920"/>
            <a:chExt cx="916920" cy="783360"/>
          </a:xfrm>
        </p:grpSpPr>
        <p:grpSp>
          <p:nvGrpSpPr>
            <p:cNvPr id="959" name="组合 45"/>
            <p:cNvGrpSpPr/>
            <p:nvPr/>
          </p:nvGrpSpPr>
          <p:grpSpPr>
            <a:xfrm>
              <a:off x="5478480" y="3366000"/>
              <a:ext cx="491040" cy="710280"/>
              <a:chOff x="5478480" y="3366000"/>
              <a:chExt cx="491040" cy="710280"/>
            </a:xfrm>
          </p:grpSpPr>
          <p:sp>
            <p:nvSpPr>
              <p:cNvPr id="960" name="椭圆 48"/>
              <p:cNvSpPr/>
              <p:nvPr/>
            </p:nvSpPr>
            <p:spPr>
              <a:xfrm>
                <a:off x="5619600" y="336600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61" name="椭圆 33"/>
              <p:cNvSpPr/>
              <p:nvPr/>
            </p:nvSpPr>
            <p:spPr>
              <a:xfrm>
                <a:off x="5478480" y="358668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62" name="圆角矩形 46"/>
            <p:cNvSpPr/>
            <p:nvPr/>
          </p:nvSpPr>
          <p:spPr>
            <a:xfrm rot="18415800">
              <a:off x="5688720" y="3496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3" name="圆角矩形 47"/>
            <p:cNvSpPr/>
            <p:nvPr/>
          </p:nvSpPr>
          <p:spPr>
            <a:xfrm flipH="1" rot="3184200">
              <a:off x="5195880" y="351216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64" name="组合 50"/>
          <p:cNvGrpSpPr/>
          <p:nvPr/>
        </p:nvGrpSpPr>
        <p:grpSpPr>
          <a:xfrm>
            <a:off x="5823000" y="3292920"/>
            <a:ext cx="916920" cy="783360"/>
            <a:chOff x="5823000" y="3292920"/>
            <a:chExt cx="916920" cy="783360"/>
          </a:xfrm>
        </p:grpSpPr>
        <p:grpSp>
          <p:nvGrpSpPr>
            <p:cNvPr id="965" name="组合 51"/>
            <p:cNvGrpSpPr/>
            <p:nvPr/>
          </p:nvGrpSpPr>
          <p:grpSpPr>
            <a:xfrm>
              <a:off x="6035760" y="3366000"/>
              <a:ext cx="491040" cy="710280"/>
              <a:chOff x="6035760" y="3366000"/>
              <a:chExt cx="491040" cy="710280"/>
            </a:xfrm>
          </p:grpSpPr>
          <p:sp>
            <p:nvSpPr>
              <p:cNvPr id="966" name="椭圆 54"/>
              <p:cNvSpPr/>
              <p:nvPr/>
            </p:nvSpPr>
            <p:spPr>
              <a:xfrm>
                <a:off x="6176520" y="336600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67" name="椭圆 33"/>
              <p:cNvSpPr/>
              <p:nvPr/>
            </p:nvSpPr>
            <p:spPr>
              <a:xfrm>
                <a:off x="6035760" y="358668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68" name="圆角矩形 52"/>
            <p:cNvSpPr/>
            <p:nvPr/>
          </p:nvSpPr>
          <p:spPr>
            <a:xfrm rot="18415800">
              <a:off x="6246000" y="3496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9" name="圆角矩形 53"/>
            <p:cNvSpPr/>
            <p:nvPr/>
          </p:nvSpPr>
          <p:spPr>
            <a:xfrm flipH="1" rot="3184200">
              <a:off x="5753160" y="351216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70" name="组合 56"/>
          <p:cNvGrpSpPr/>
          <p:nvPr/>
        </p:nvGrpSpPr>
        <p:grpSpPr>
          <a:xfrm>
            <a:off x="6440400" y="3292920"/>
            <a:ext cx="916920" cy="783360"/>
            <a:chOff x="6440400" y="3292920"/>
            <a:chExt cx="916920" cy="783360"/>
          </a:xfrm>
        </p:grpSpPr>
        <p:grpSp>
          <p:nvGrpSpPr>
            <p:cNvPr id="971" name="组合 57"/>
            <p:cNvGrpSpPr/>
            <p:nvPr/>
          </p:nvGrpSpPr>
          <p:grpSpPr>
            <a:xfrm>
              <a:off x="6653160" y="3366000"/>
              <a:ext cx="491040" cy="710280"/>
              <a:chOff x="6653160" y="3366000"/>
              <a:chExt cx="491040" cy="710280"/>
            </a:xfrm>
          </p:grpSpPr>
          <p:sp>
            <p:nvSpPr>
              <p:cNvPr id="972" name="椭圆 60"/>
              <p:cNvSpPr/>
              <p:nvPr/>
            </p:nvSpPr>
            <p:spPr>
              <a:xfrm>
                <a:off x="6793920" y="336600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3" name="椭圆 33"/>
              <p:cNvSpPr/>
              <p:nvPr/>
            </p:nvSpPr>
            <p:spPr>
              <a:xfrm>
                <a:off x="6653160" y="358668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74" name="圆角矩形 58"/>
            <p:cNvSpPr/>
            <p:nvPr/>
          </p:nvSpPr>
          <p:spPr>
            <a:xfrm rot="18415800">
              <a:off x="6863400" y="3496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75" name="圆角矩形 59"/>
            <p:cNvSpPr/>
            <p:nvPr/>
          </p:nvSpPr>
          <p:spPr>
            <a:xfrm flipH="1" rot="3184200">
              <a:off x="6370560" y="351216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76" name="组合 62"/>
          <p:cNvGrpSpPr/>
          <p:nvPr/>
        </p:nvGrpSpPr>
        <p:grpSpPr>
          <a:xfrm>
            <a:off x="7138440" y="3292920"/>
            <a:ext cx="916560" cy="783360"/>
            <a:chOff x="7138440" y="3292920"/>
            <a:chExt cx="916560" cy="783360"/>
          </a:xfrm>
        </p:grpSpPr>
        <p:grpSp>
          <p:nvGrpSpPr>
            <p:cNvPr id="977" name="组合 63"/>
            <p:cNvGrpSpPr/>
            <p:nvPr/>
          </p:nvGrpSpPr>
          <p:grpSpPr>
            <a:xfrm>
              <a:off x="7351200" y="3366000"/>
              <a:ext cx="491040" cy="710280"/>
              <a:chOff x="7351200" y="3366000"/>
              <a:chExt cx="491040" cy="710280"/>
            </a:xfrm>
          </p:grpSpPr>
          <p:sp>
            <p:nvSpPr>
              <p:cNvPr id="978" name="椭圆 66"/>
              <p:cNvSpPr/>
              <p:nvPr/>
            </p:nvSpPr>
            <p:spPr>
              <a:xfrm>
                <a:off x="7491960" y="336600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9" name="椭圆 33"/>
              <p:cNvSpPr/>
              <p:nvPr/>
            </p:nvSpPr>
            <p:spPr>
              <a:xfrm>
                <a:off x="7351200" y="358668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80" name="圆角矩形 64"/>
            <p:cNvSpPr/>
            <p:nvPr/>
          </p:nvSpPr>
          <p:spPr>
            <a:xfrm rot="18415800">
              <a:off x="7561080" y="3496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1" name="圆角矩形 65"/>
            <p:cNvSpPr/>
            <p:nvPr/>
          </p:nvSpPr>
          <p:spPr>
            <a:xfrm flipH="1" rot="3184200">
              <a:off x="7068600" y="351216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82" name="组合 68"/>
          <p:cNvGrpSpPr/>
          <p:nvPr/>
        </p:nvGrpSpPr>
        <p:grpSpPr>
          <a:xfrm>
            <a:off x="7755840" y="3292920"/>
            <a:ext cx="916560" cy="783360"/>
            <a:chOff x="7755840" y="3292920"/>
            <a:chExt cx="916560" cy="783360"/>
          </a:xfrm>
        </p:grpSpPr>
        <p:grpSp>
          <p:nvGrpSpPr>
            <p:cNvPr id="983" name="组合 69"/>
            <p:cNvGrpSpPr/>
            <p:nvPr/>
          </p:nvGrpSpPr>
          <p:grpSpPr>
            <a:xfrm>
              <a:off x="7968600" y="3366000"/>
              <a:ext cx="491040" cy="710280"/>
              <a:chOff x="7968600" y="3366000"/>
              <a:chExt cx="491040" cy="710280"/>
            </a:xfrm>
          </p:grpSpPr>
          <p:sp>
            <p:nvSpPr>
              <p:cNvPr id="984" name="椭圆 72"/>
              <p:cNvSpPr/>
              <p:nvPr/>
            </p:nvSpPr>
            <p:spPr>
              <a:xfrm>
                <a:off x="8109360" y="336600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85" name="椭圆 33"/>
              <p:cNvSpPr/>
              <p:nvPr/>
            </p:nvSpPr>
            <p:spPr>
              <a:xfrm>
                <a:off x="7968600" y="358668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86" name="圆角矩形 70"/>
            <p:cNvSpPr/>
            <p:nvPr/>
          </p:nvSpPr>
          <p:spPr>
            <a:xfrm rot="18415800">
              <a:off x="8178480" y="349632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7" name="圆角矩形 71"/>
            <p:cNvSpPr/>
            <p:nvPr/>
          </p:nvSpPr>
          <p:spPr>
            <a:xfrm flipH="1" rot="3184200">
              <a:off x="7686000" y="351216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88" name="梯形 158"/>
          <p:cNvSpPr/>
          <p:nvPr/>
        </p:nvSpPr>
        <p:spPr>
          <a:xfrm>
            <a:off x="977760" y="3359880"/>
            <a:ext cx="1944000" cy="716760"/>
          </a:xfrm>
          <a:prstGeom prst="trapezoid">
            <a:avLst>
              <a:gd name="adj" fmla="val 25000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9" name="Text Box 6"/>
          <p:cNvSpPr/>
          <p:nvPr/>
        </p:nvSpPr>
        <p:spPr>
          <a:xfrm>
            <a:off x="251640" y="47206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Box 1"/>
          <p:cNvSpPr/>
          <p:nvPr/>
        </p:nvSpPr>
        <p:spPr>
          <a:xfrm>
            <a:off x="627840" y="180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当然，雅典的民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2"/>
          <p:cNvSpPr/>
          <p:nvPr/>
        </p:nvSpPr>
        <p:spPr>
          <a:xfrm>
            <a:off x="1267920" y="5439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是小国寡民的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"/>
          <p:cNvSpPr/>
          <p:nvPr/>
        </p:nvSpPr>
        <p:spPr>
          <a:xfrm>
            <a:off x="6594120" y="4443840"/>
            <a:ext cx="1389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是一种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直接民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组合 7"/>
          <p:cNvGrpSpPr/>
          <p:nvPr/>
        </p:nvGrpSpPr>
        <p:grpSpPr>
          <a:xfrm>
            <a:off x="3962160" y="2223360"/>
            <a:ext cx="537480" cy="729000"/>
            <a:chOff x="3962160" y="2223360"/>
            <a:chExt cx="537480" cy="729000"/>
          </a:xfrm>
        </p:grpSpPr>
        <p:sp>
          <p:nvSpPr>
            <p:cNvPr id="994" name="椭圆 4"/>
            <p:cNvSpPr/>
            <p:nvPr/>
          </p:nvSpPr>
          <p:spPr>
            <a:xfrm>
              <a:off x="4109400" y="2223360"/>
              <a:ext cx="243000" cy="24300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5" name="椭圆 5"/>
            <p:cNvSpPr/>
            <p:nvPr/>
          </p:nvSpPr>
          <p:spPr>
            <a:xfrm>
              <a:off x="3962160" y="2466360"/>
              <a:ext cx="537480" cy="486000"/>
            </a:xfrm>
            <a:custGeom>
              <a:avLst/>
              <a:gdLst>
                <a:gd name="textAreaLeft" fmla="*/ 0 w 537480"/>
                <a:gd name="textAreaRight" fmla="*/ 537840 w 537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637044" h="576064">
                  <a:moveTo>
                    <a:pt x="318522" y="0"/>
                  </a:moveTo>
                  <a:cubicBezTo>
                    <a:pt x="484858" y="0"/>
                    <a:pt x="621731" y="252291"/>
                    <a:pt x="637044" y="576064"/>
                  </a:cubicBezTo>
                  <a:lnTo>
                    <a:pt x="0" y="576064"/>
                  </a:lnTo>
                  <a:cubicBezTo>
                    <a:pt x="15314" y="252291"/>
                    <a:pt x="152186" y="0"/>
                    <a:pt x="318522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96" name="TextBox 8"/>
          <p:cNvSpPr/>
          <p:nvPr/>
        </p:nvSpPr>
        <p:spPr>
          <a:xfrm>
            <a:off x="3980160" y="295272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执政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组合 15"/>
          <p:cNvGrpSpPr/>
          <p:nvPr/>
        </p:nvGrpSpPr>
        <p:grpSpPr>
          <a:xfrm>
            <a:off x="5742360" y="2274840"/>
            <a:ext cx="394560" cy="826920"/>
            <a:chOff x="5742360" y="2274840"/>
            <a:chExt cx="394560" cy="826920"/>
          </a:xfrm>
        </p:grpSpPr>
        <p:grpSp>
          <p:nvGrpSpPr>
            <p:cNvPr id="998" name="组合 9"/>
            <p:cNvGrpSpPr/>
            <p:nvPr/>
          </p:nvGrpSpPr>
          <p:grpSpPr>
            <a:xfrm>
              <a:off x="5747040" y="2274840"/>
              <a:ext cx="385920" cy="523800"/>
              <a:chOff x="5747040" y="2274840"/>
              <a:chExt cx="385920" cy="523800"/>
            </a:xfrm>
          </p:grpSpPr>
          <p:sp>
            <p:nvSpPr>
              <p:cNvPr id="999" name="椭圆 10"/>
              <p:cNvSpPr/>
              <p:nvPr/>
            </p:nvSpPr>
            <p:spPr>
              <a:xfrm>
                <a:off x="5852880" y="2274840"/>
                <a:ext cx="174240" cy="1742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0" name="椭圆 5"/>
              <p:cNvSpPr/>
              <p:nvPr/>
            </p:nvSpPr>
            <p:spPr>
              <a:xfrm>
                <a:off x="5747040" y="2449800"/>
                <a:ext cx="385920" cy="34884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637044" h="576064">
                    <a:moveTo>
                      <a:pt x="318522" y="0"/>
                    </a:moveTo>
                    <a:cubicBezTo>
                      <a:pt x="484858" y="0"/>
                      <a:pt x="621731" y="252291"/>
                      <a:pt x="637044" y="576064"/>
                    </a:cubicBezTo>
                    <a:lnTo>
                      <a:pt x="0" y="576064"/>
                    </a:lnTo>
                    <a:cubicBezTo>
                      <a:pt x="15314" y="252291"/>
                      <a:pt x="152186" y="0"/>
                      <a:pt x="318522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01" name="TextBox 14"/>
            <p:cNvSpPr/>
            <p:nvPr/>
          </p:nvSpPr>
          <p:spPr>
            <a:xfrm>
              <a:off x="5742360" y="2799000"/>
              <a:ext cx="39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公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组合 16"/>
          <p:cNvGrpSpPr/>
          <p:nvPr/>
        </p:nvGrpSpPr>
        <p:grpSpPr>
          <a:xfrm>
            <a:off x="5180040" y="3363840"/>
            <a:ext cx="394560" cy="826920"/>
            <a:chOff x="5180040" y="3363840"/>
            <a:chExt cx="394560" cy="826920"/>
          </a:xfrm>
        </p:grpSpPr>
        <p:grpSp>
          <p:nvGrpSpPr>
            <p:cNvPr id="1003" name="组合 17"/>
            <p:cNvGrpSpPr/>
            <p:nvPr/>
          </p:nvGrpSpPr>
          <p:grpSpPr>
            <a:xfrm>
              <a:off x="5184720" y="3363840"/>
              <a:ext cx="385920" cy="523440"/>
              <a:chOff x="5184720" y="3363840"/>
              <a:chExt cx="385920" cy="523440"/>
            </a:xfrm>
          </p:grpSpPr>
          <p:sp>
            <p:nvSpPr>
              <p:cNvPr id="1004" name="椭圆 19"/>
              <p:cNvSpPr/>
              <p:nvPr/>
            </p:nvSpPr>
            <p:spPr>
              <a:xfrm>
                <a:off x="5290560" y="3363840"/>
                <a:ext cx="174240" cy="1742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5" name="椭圆 5"/>
              <p:cNvSpPr/>
              <p:nvPr/>
            </p:nvSpPr>
            <p:spPr>
              <a:xfrm>
                <a:off x="5184720" y="3538440"/>
                <a:ext cx="385920" cy="34884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637044" h="576064">
                    <a:moveTo>
                      <a:pt x="318522" y="0"/>
                    </a:moveTo>
                    <a:cubicBezTo>
                      <a:pt x="484858" y="0"/>
                      <a:pt x="621731" y="252291"/>
                      <a:pt x="637044" y="576064"/>
                    </a:cubicBezTo>
                    <a:lnTo>
                      <a:pt x="0" y="576064"/>
                    </a:lnTo>
                    <a:cubicBezTo>
                      <a:pt x="15314" y="252291"/>
                      <a:pt x="152186" y="0"/>
                      <a:pt x="318522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06" name="TextBox 18"/>
            <p:cNvSpPr/>
            <p:nvPr/>
          </p:nvSpPr>
          <p:spPr>
            <a:xfrm>
              <a:off x="5180040" y="3888000"/>
              <a:ext cx="39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公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21"/>
          <p:cNvGrpSpPr/>
          <p:nvPr/>
        </p:nvGrpSpPr>
        <p:grpSpPr>
          <a:xfrm>
            <a:off x="3882960" y="3713040"/>
            <a:ext cx="394560" cy="826920"/>
            <a:chOff x="3882960" y="3713040"/>
            <a:chExt cx="394560" cy="826920"/>
          </a:xfrm>
        </p:grpSpPr>
        <p:grpSp>
          <p:nvGrpSpPr>
            <p:cNvPr id="1008" name="组合 22"/>
            <p:cNvGrpSpPr/>
            <p:nvPr/>
          </p:nvGrpSpPr>
          <p:grpSpPr>
            <a:xfrm>
              <a:off x="3887640" y="3713040"/>
              <a:ext cx="385920" cy="523800"/>
              <a:chOff x="3887640" y="3713040"/>
              <a:chExt cx="385920" cy="523800"/>
            </a:xfrm>
          </p:grpSpPr>
          <p:sp>
            <p:nvSpPr>
              <p:cNvPr id="1009" name="椭圆 24"/>
              <p:cNvSpPr/>
              <p:nvPr/>
            </p:nvSpPr>
            <p:spPr>
              <a:xfrm>
                <a:off x="3993480" y="3713040"/>
                <a:ext cx="174240" cy="1742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0" name="椭圆 5"/>
              <p:cNvSpPr/>
              <p:nvPr/>
            </p:nvSpPr>
            <p:spPr>
              <a:xfrm>
                <a:off x="3887640" y="3888000"/>
                <a:ext cx="385920" cy="34884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637044" h="576064">
                    <a:moveTo>
                      <a:pt x="318522" y="0"/>
                    </a:moveTo>
                    <a:cubicBezTo>
                      <a:pt x="484858" y="0"/>
                      <a:pt x="621731" y="252291"/>
                      <a:pt x="637044" y="576064"/>
                    </a:cubicBezTo>
                    <a:lnTo>
                      <a:pt x="0" y="576064"/>
                    </a:lnTo>
                    <a:cubicBezTo>
                      <a:pt x="15314" y="252291"/>
                      <a:pt x="152186" y="0"/>
                      <a:pt x="318522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11" name="TextBox 23"/>
            <p:cNvSpPr/>
            <p:nvPr/>
          </p:nvSpPr>
          <p:spPr>
            <a:xfrm>
              <a:off x="3882960" y="4237200"/>
              <a:ext cx="39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公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组合 26"/>
          <p:cNvGrpSpPr/>
          <p:nvPr/>
        </p:nvGrpSpPr>
        <p:grpSpPr>
          <a:xfrm>
            <a:off x="2257200" y="2881440"/>
            <a:ext cx="394560" cy="826560"/>
            <a:chOff x="2257200" y="2881440"/>
            <a:chExt cx="394560" cy="826560"/>
          </a:xfrm>
        </p:grpSpPr>
        <p:grpSp>
          <p:nvGrpSpPr>
            <p:cNvPr id="1013" name="组合 27"/>
            <p:cNvGrpSpPr/>
            <p:nvPr/>
          </p:nvGrpSpPr>
          <p:grpSpPr>
            <a:xfrm>
              <a:off x="2261520" y="2881440"/>
              <a:ext cx="385920" cy="523440"/>
              <a:chOff x="2261520" y="2881440"/>
              <a:chExt cx="385920" cy="523440"/>
            </a:xfrm>
          </p:grpSpPr>
          <p:sp>
            <p:nvSpPr>
              <p:cNvPr id="1014" name="椭圆 29"/>
              <p:cNvSpPr/>
              <p:nvPr/>
            </p:nvSpPr>
            <p:spPr>
              <a:xfrm>
                <a:off x="2367360" y="2881440"/>
                <a:ext cx="174240" cy="1742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5" name="椭圆 5"/>
              <p:cNvSpPr/>
              <p:nvPr/>
            </p:nvSpPr>
            <p:spPr>
              <a:xfrm>
                <a:off x="2261520" y="3056040"/>
                <a:ext cx="385920" cy="34884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637044" h="576064">
                    <a:moveTo>
                      <a:pt x="318522" y="0"/>
                    </a:moveTo>
                    <a:cubicBezTo>
                      <a:pt x="484858" y="0"/>
                      <a:pt x="621731" y="252291"/>
                      <a:pt x="637044" y="576064"/>
                    </a:cubicBezTo>
                    <a:lnTo>
                      <a:pt x="0" y="576064"/>
                    </a:lnTo>
                    <a:cubicBezTo>
                      <a:pt x="15314" y="252291"/>
                      <a:pt x="152186" y="0"/>
                      <a:pt x="318522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16" name="TextBox 28"/>
            <p:cNvSpPr/>
            <p:nvPr/>
          </p:nvSpPr>
          <p:spPr>
            <a:xfrm>
              <a:off x="2257200" y="3405240"/>
              <a:ext cx="39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公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31"/>
          <p:cNvGrpSpPr/>
          <p:nvPr/>
        </p:nvGrpSpPr>
        <p:grpSpPr>
          <a:xfrm>
            <a:off x="2649960" y="1391400"/>
            <a:ext cx="394560" cy="826920"/>
            <a:chOff x="2649960" y="1391400"/>
            <a:chExt cx="394560" cy="826920"/>
          </a:xfrm>
        </p:grpSpPr>
        <p:grpSp>
          <p:nvGrpSpPr>
            <p:cNvPr id="1018" name="组合 32"/>
            <p:cNvGrpSpPr/>
            <p:nvPr/>
          </p:nvGrpSpPr>
          <p:grpSpPr>
            <a:xfrm>
              <a:off x="2654640" y="1391400"/>
              <a:ext cx="385920" cy="523800"/>
              <a:chOff x="2654640" y="1391400"/>
              <a:chExt cx="385920" cy="523800"/>
            </a:xfrm>
          </p:grpSpPr>
          <p:sp>
            <p:nvSpPr>
              <p:cNvPr id="1019" name="椭圆 34"/>
              <p:cNvSpPr/>
              <p:nvPr/>
            </p:nvSpPr>
            <p:spPr>
              <a:xfrm>
                <a:off x="2760480" y="1391400"/>
                <a:ext cx="174240" cy="1742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0" name="椭圆 5"/>
              <p:cNvSpPr/>
              <p:nvPr/>
            </p:nvSpPr>
            <p:spPr>
              <a:xfrm>
                <a:off x="2654640" y="1566360"/>
                <a:ext cx="385920" cy="34884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637044" h="576064">
                    <a:moveTo>
                      <a:pt x="318522" y="0"/>
                    </a:moveTo>
                    <a:cubicBezTo>
                      <a:pt x="484858" y="0"/>
                      <a:pt x="621731" y="252291"/>
                      <a:pt x="637044" y="576064"/>
                    </a:cubicBezTo>
                    <a:lnTo>
                      <a:pt x="0" y="576064"/>
                    </a:lnTo>
                    <a:cubicBezTo>
                      <a:pt x="15314" y="252291"/>
                      <a:pt x="152186" y="0"/>
                      <a:pt x="318522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21" name="TextBox 33"/>
            <p:cNvSpPr/>
            <p:nvPr/>
          </p:nvSpPr>
          <p:spPr>
            <a:xfrm>
              <a:off x="2649960" y="1915560"/>
              <a:ext cx="39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公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36"/>
          <p:cNvGrpSpPr/>
          <p:nvPr/>
        </p:nvGrpSpPr>
        <p:grpSpPr>
          <a:xfrm>
            <a:off x="4574160" y="975600"/>
            <a:ext cx="394560" cy="826920"/>
            <a:chOff x="4574160" y="975600"/>
            <a:chExt cx="394560" cy="826920"/>
          </a:xfrm>
        </p:grpSpPr>
        <p:grpSp>
          <p:nvGrpSpPr>
            <p:cNvPr id="1023" name="组合 37"/>
            <p:cNvGrpSpPr/>
            <p:nvPr/>
          </p:nvGrpSpPr>
          <p:grpSpPr>
            <a:xfrm>
              <a:off x="4578840" y="975600"/>
              <a:ext cx="385920" cy="523440"/>
              <a:chOff x="4578840" y="975600"/>
              <a:chExt cx="385920" cy="523440"/>
            </a:xfrm>
          </p:grpSpPr>
          <p:sp>
            <p:nvSpPr>
              <p:cNvPr id="1024" name="椭圆 39"/>
              <p:cNvSpPr/>
              <p:nvPr/>
            </p:nvSpPr>
            <p:spPr>
              <a:xfrm>
                <a:off x="4684680" y="975600"/>
                <a:ext cx="174240" cy="1742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5" name="椭圆 5"/>
              <p:cNvSpPr/>
              <p:nvPr/>
            </p:nvSpPr>
            <p:spPr>
              <a:xfrm>
                <a:off x="4578840" y="1150200"/>
                <a:ext cx="385920" cy="34884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637044" h="576064">
                    <a:moveTo>
                      <a:pt x="318522" y="0"/>
                    </a:moveTo>
                    <a:cubicBezTo>
                      <a:pt x="484858" y="0"/>
                      <a:pt x="621731" y="252291"/>
                      <a:pt x="637044" y="576064"/>
                    </a:cubicBezTo>
                    <a:lnTo>
                      <a:pt x="0" y="576064"/>
                    </a:lnTo>
                    <a:cubicBezTo>
                      <a:pt x="15314" y="252291"/>
                      <a:pt x="152186" y="0"/>
                      <a:pt x="318522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26" name="TextBox 38"/>
            <p:cNvSpPr/>
            <p:nvPr/>
          </p:nvSpPr>
          <p:spPr>
            <a:xfrm>
              <a:off x="4574160" y="1499760"/>
              <a:ext cx="39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公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27" name="直接连接符 43"/>
          <p:cNvCxnSpPr/>
          <p:nvPr/>
        </p:nvCxnSpPr>
        <p:spPr>
          <a:xfrm>
            <a:off x="3040560" y="1807200"/>
            <a:ext cx="1040400" cy="817200"/>
          </a:xfrm>
          <a:prstGeom prst="straightConnector1">
            <a:avLst/>
          </a:prstGeom>
          <a:ln w="12700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cxnSp>
        <p:nvCxnSpPr>
          <p:cNvPr id="1028" name="直接连接符 45"/>
          <p:cNvCxnSpPr/>
          <p:nvPr/>
        </p:nvCxnSpPr>
        <p:spPr>
          <a:xfrm flipV="1">
            <a:off x="2541960" y="2709360"/>
            <a:ext cx="1539000" cy="551520"/>
          </a:xfrm>
          <a:prstGeom prst="straightConnector1">
            <a:avLst/>
          </a:prstGeom>
          <a:ln w="12700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cxnSp>
        <p:nvCxnSpPr>
          <p:cNvPr id="1029" name="直接连接符 48"/>
          <p:cNvCxnSpPr/>
          <p:nvPr/>
        </p:nvCxnSpPr>
        <p:spPr>
          <a:xfrm flipH="1">
            <a:off x="4080600" y="2798640"/>
            <a:ext cx="150480" cy="1089360"/>
          </a:xfrm>
          <a:prstGeom prst="straightConnector1">
            <a:avLst/>
          </a:prstGeom>
          <a:ln w="12700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cxnSp>
        <p:nvCxnSpPr>
          <p:cNvPr id="1030" name="直接连接符 51"/>
          <p:cNvCxnSpPr/>
          <p:nvPr/>
        </p:nvCxnSpPr>
        <p:spPr>
          <a:xfrm>
            <a:off x="4352400" y="2881080"/>
            <a:ext cx="1025640" cy="832320"/>
          </a:xfrm>
          <a:prstGeom prst="straightConnector1">
            <a:avLst/>
          </a:prstGeom>
          <a:ln w="12700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cxnSp>
        <p:nvCxnSpPr>
          <p:cNvPr id="1031" name="直接连接符 54"/>
          <p:cNvCxnSpPr/>
          <p:nvPr/>
        </p:nvCxnSpPr>
        <p:spPr>
          <a:xfrm flipV="1">
            <a:off x="4383360" y="2624040"/>
            <a:ext cx="1557000" cy="85680"/>
          </a:xfrm>
          <a:prstGeom prst="straightConnector1">
            <a:avLst/>
          </a:prstGeom>
          <a:ln w="12700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cxnSp>
        <p:nvCxnSpPr>
          <p:cNvPr id="1032" name="直接连接符 57"/>
          <p:cNvCxnSpPr/>
          <p:nvPr/>
        </p:nvCxnSpPr>
        <p:spPr>
          <a:xfrm flipH="1">
            <a:off x="4230720" y="1391400"/>
            <a:ext cx="541440" cy="1318320"/>
          </a:xfrm>
          <a:prstGeom prst="straightConnector1">
            <a:avLst/>
          </a:prstGeom>
          <a:ln w="12700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sp>
        <p:nvSpPr>
          <p:cNvPr id="1033" name="TextBox 60"/>
          <p:cNvSpPr/>
          <p:nvPr/>
        </p:nvSpPr>
        <p:spPr>
          <a:xfrm>
            <a:off x="6847560" y="3363840"/>
            <a:ext cx="15678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国家小，人口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谁都有机会跟执政官直接对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Box 1"/>
          <p:cNvSpPr/>
          <p:nvPr/>
        </p:nvSpPr>
        <p:spPr>
          <a:xfrm>
            <a:off x="346680" y="1800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所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2"/>
          <p:cNvSpPr/>
          <p:nvPr/>
        </p:nvSpPr>
        <p:spPr>
          <a:xfrm>
            <a:off x="1267920" y="5439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从人口的角度出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3"/>
          <p:cNvSpPr/>
          <p:nvPr/>
        </p:nvSpPr>
        <p:spPr>
          <a:xfrm>
            <a:off x="5662080" y="4443840"/>
            <a:ext cx="231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某国真不适合直接民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4"/>
          <p:cNvGrpSpPr/>
          <p:nvPr/>
        </p:nvGrpSpPr>
        <p:grpSpPr>
          <a:xfrm>
            <a:off x="3492000" y="1542600"/>
            <a:ext cx="1804680" cy="2447640"/>
            <a:chOff x="3492000" y="1542600"/>
            <a:chExt cx="1804680" cy="2447640"/>
          </a:xfrm>
        </p:grpSpPr>
        <p:sp>
          <p:nvSpPr>
            <p:cNvPr id="1038" name="椭圆 5"/>
            <p:cNvSpPr/>
            <p:nvPr/>
          </p:nvSpPr>
          <p:spPr>
            <a:xfrm>
              <a:off x="3986280" y="1542600"/>
              <a:ext cx="815760" cy="8157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9" name="椭圆 5"/>
            <p:cNvSpPr/>
            <p:nvPr/>
          </p:nvSpPr>
          <p:spPr>
            <a:xfrm>
              <a:off x="3492000" y="2358360"/>
              <a:ext cx="1804680" cy="1631880"/>
            </a:xfrm>
            <a:custGeom>
              <a:avLst/>
              <a:gdLst>
                <a:gd name="textAreaLeft" fmla="*/ 0 w 1804680"/>
                <a:gd name="textAreaRight" fmla="*/ 1805040 w 1804680"/>
                <a:gd name="textAreaTop" fmla="*/ 0 h 1631880"/>
                <a:gd name="textAreaBottom" fmla="*/ 1632240 h 1631880"/>
              </a:gdLst>
              <a:ahLst/>
              <a:rect l="textAreaLeft" t="textAreaTop" r="textAreaRight" b="textAreaBottom"/>
              <a:pathLst>
                <a:path w="637044" h="576064">
                  <a:moveTo>
                    <a:pt x="318522" y="0"/>
                  </a:moveTo>
                  <a:cubicBezTo>
                    <a:pt x="484858" y="0"/>
                    <a:pt x="621731" y="252291"/>
                    <a:pt x="637044" y="576064"/>
                  </a:cubicBezTo>
                  <a:lnTo>
                    <a:pt x="0" y="576064"/>
                  </a:lnTo>
                  <a:cubicBezTo>
                    <a:pt x="15314" y="252291"/>
                    <a:pt x="152186" y="0"/>
                    <a:pt x="318522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40" name="圆角矩形 7"/>
          <p:cNvSpPr/>
          <p:nvPr/>
        </p:nvSpPr>
        <p:spPr>
          <a:xfrm>
            <a:off x="3632760" y="2766600"/>
            <a:ext cx="1522440" cy="815760"/>
          </a:xfrm>
          <a:prstGeom prst="roundRect">
            <a:avLst>
              <a:gd name="adj" fmla="val 10153"/>
            </a:avLst>
          </a:prstGeom>
          <a:solidFill>
            <a:schemeClr val="bg2"/>
          </a:solidFill>
          <a:ln w="5715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直接民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8"/>
          <p:cNvSpPr/>
          <p:nvPr/>
        </p:nvSpPr>
        <p:spPr>
          <a:xfrm>
            <a:off x="3535920" y="3058920"/>
            <a:ext cx="231120" cy="23112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2" name="椭圆 9"/>
          <p:cNvSpPr/>
          <p:nvPr/>
        </p:nvSpPr>
        <p:spPr>
          <a:xfrm>
            <a:off x="5040000" y="3058920"/>
            <a:ext cx="231120" cy="23112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43" name="组合 12"/>
          <p:cNvGrpSpPr/>
          <p:nvPr/>
        </p:nvGrpSpPr>
        <p:grpSpPr>
          <a:xfrm>
            <a:off x="4380840" y="3012840"/>
            <a:ext cx="1243800" cy="1243800"/>
            <a:chOff x="4380840" y="3012840"/>
            <a:chExt cx="1243800" cy="1243800"/>
          </a:xfrm>
        </p:grpSpPr>
        <p:sp>
          <p:nvSpPr>
            <p:cNvPr id="1044" name="同心圆 10"/>
            <p:cNvSpPr/>
            <p:nvPr/>
          </p:nvSpPr>
          <p:spPr>
            <a:xfrm>
              <a:off x="4426560" y="3058920"/>
              <a:ext cx="1151640" cy="1151640"/>
            </a:xfrm>
            <a:prstGeom prst="donut">
              <a:avLst>
                <a:gd name="adj" fmla="val 7052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十字形 11"/>
            <p:cNvSpPr/>
            <p:nvPr/>
          </p:nvSpPr>
          <p:spPr>
            <a:xfrm rot="2440200">
              <a:off x="4561560" y="3193560"/>
              <a:ext cx="882000" cy="882000"/>
            </a:xfrm>
            <a:prstGeom prst="plus">
              <a:avLst>
                <a:gd name="adj" fmla="val 43359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组合 1"/>
          <p:cNvGrpSpPr/>
          <p:nvPr/>
        </p:nvGrpSpPr>
        <p:grpSpPr>
          <a:xfrm>
            <a:off x="2980440" y="1563480"/>
            <a:ext cx="3107160" cy="1941840"/>
            <a:chOff x="2980440" y="1563480"/>
            <a:chExt cx="3107160" cy="1941840"/>
          </a:xfrm>
        </p:grpSpPr>
        <p:sp>
          <p:nvSpPr>
            <p:cNvPr id="1047" name="TextBox 2"/>
            <p:cNvSpPr/>
            <p:nvPr/>
          </p:nvSpPr>
          <p:spPr>
            <a:xfrm>
              <a:off x="2980440" y="1563480"/>
              <a:ext cx="31071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9600" spc="-1" strike="noStrike">
                  <a:solidFill>
                    <a:srgbClr val="000000"/>
                  </a:solidFill>
                  <a:latin typeface="迷你简粗倩"/>
                  <a:ea typeface="迷你简粗倩"/>
                </a:rPr>
                <a:t>谢谢欣赏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组合 3"/>
            <p:cNvGrpSpPr/>
            <p:nvPr/>
          </p:nvGrpSpPr>
          <p:grpSpPr>
            <a:xfrm>
              <a:off x="3022560" y="3141360"/>
              <a:ext cx="2343600" cy="363960"/>
              <a:chOff x="3022560" y="3141360"/>
              <a:chExt cx="2343600" cy="363960"/>
            </a:xfrm>
          </p:grpSpPr>
          <p:sp>
            <p:nvSpPr>
              <p:cNvPr id="1049" name="椭圆 6"/>
              <p:cNvSpPr/>
              <p:nvPr/>
            </p:nvSpPr>
            <p:spPr>
              <a:xfrm>
                <a:off x="5078520" y="3200040"/>
                <a:ext cx="287640" cy="25128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1525201" h="1331982">
                    <a:moveTo>
                      <a:pt x="502380" y="928320"/>
                    </a:moveTo>
                    <a:cubicBezTo>
                      <a:pt x="484758" y="925174"/>
                      <a:pt x="461770" y="934554"/>
                      <a:pt x="444089" y="953839"/>
                    </a:cubicBezTo>
                    <a:cubicBezTo>
                      <a:pt x="420514" y="979554"/>
                      <a:pt x="415299" y="1013142"/>
                      <a:pt x="432442" y="1028858"/>
                    </a:cubicBezTo>
                    <a:cubicBezTo>
                      <a:pt x="449585" y="1044575"/>
                      <a:pt x="482594" y="1036470"/>
                      <a:pt x="506169" y="1010756"/>
                    </a:cubicBezTo>
                    <a:cubicBezTo>
                      <a:pt x="529746" y="985042"/>
                      <a:pt x="534959" y="951454"/>
                      <a:pt x="517816" y="935737"/>
                    </a:cubicBezTo>
                    <a:cubicBezTo>
                      <a:pt x="513532" y="931808"/>
                      <a:pt x="508254" y="929369"/>
                      <a:pt x="502380" y="928320"/>
                    </a:cubicBezTo>
                    <a:close/>
                    <a:moveTo>
                      <a:pt x="561870" y="878454"/>
                    </a:moveTo>
                    <a:cubicBezTo>
                      <a:pt x="550242" y="878453"/>
                      <a:pt x="540815" y="887880"/>
                      <a:pt x="540815" y="899509"/>
                    </a:cubicBezTo>
                    <a:cubicBezTo>
                      <a:pt x="540815" y="911137"/>
                      <a:pt x="550243" y="920564"/>
                      <a:pt x="561872" y="920564"/>
                    </a:cubicBezTo>
                    <a:cubicBezTo>
                      <a:pt x="573500" y="920564"/>
                      <a:pt x="582927" y="911139"/>
                      <a:pt x="582927" y="899509"/>
                    </a:cubicBezTo>
                    <a:cubicBezTo>
                      <a:pt x="582927" y="887880"/>
                      <a:pt x="573499" y="878453"/>
                      <a:pt x="561870" y="878454"/>
                    </a:cubicBezTo>
                    <a:close/>
                    <a:moveTo>
                      <a:pt x="547780" y="740598"/>
                    </a:moveTo>
                    <a:cubicBezTo>
                      <a:pt x="565232" y="738576"/>
                      <a:pt x="582173" y="739168"/>
                      <a:pt x="598011" y="742501"/>
                    </a:cubicBezTo>
                    <a:cubicBezTo>
                      <a:pt x="619128" y="746945"/>
                      <a:pt x="638285" y="756259"/>
                      <a:pt x="654080" y="770741"/>
                    </a:cubicBezTo>
                    <a:cubicBezTo>
                      <a:pt x="717263" y="828667"/>
                      <a:pt x="702740" y="947333"/>
                      <a:pt x="621643" y="1035789"/>
                    </a:cubicBezTo>
                    <a:cubicBezTo>
                      <a:pt x="540546" y="1124246"/>
                      <a:pt x="423584" y="1148993"/>
                      <a:pt x="360401" y="1091067"/>
                    </a:cubicBezTo>
                    <a:cubicBezTo>
                      <a:pt x="297219" y="1033140"/>
                      <a:pt x="311742" y="914475"/>
                      <a:pt x="392839" y="826019"/>
                    </a:cubicBezTo>
                    <a:cubicBezTo>
                      <a:pt x="438457" y="776262"/>
                      <a:pt x="495421" y="746663"/>
                      <a:pt x="547780" y="740598"/>
                    </a:cubicBezTo>
                    <a:close/>
                    <a:moveTo>
                      <a:pt x="600020" y="658129"/>
                    </a:moveTo>
                    <a:cubicBezTo>
                      <a:pt x="367420" y="658129"/>
                      <a:pt x="178861" y="776542"/>
                      <a:pt x="178861" y="922611"/>
                    </a:cubicBezTo>
                    <a:cubicBezTo>
                      <a:pt x="178861" y="1068681"/>
                      <a:pt x="367420" y="1187094"/>
                      <a:pt x="600020" y="1187094"/>
                    </a:cubicBezTo>
                    <a:cubicBezTo>
                      <a:pt x="832619" y="1187094"/>
                      <a:pt x="1021178" y="1068681"/>
                      <a:pt x="1021178" y="922611"/>
                    </a:cubicBezTo>
                    <a:cubicBezTo>
                      <a:pt x="1021178" y="776542"/>
                      <a:pt x="832619" y="658129"/>
                      <a:pt x="600020" y="658129"/>
                    </a:cubicBezTo>
                    <a:close/>
                    <a:moveTo>
                      <a:pt x="1152128" y="171825"/>
                    </a:moveTo>
                    <a:cubicBezTo>
                      <a:pt x="1263824" y="171825"/>
                      <a:pt x="1357405" y="256341"/>
                      <a:pt x="1368747" y="367459"/>
                    </a:cubicBezTo>
                    <a:lnTo>
                      <a:pt x="1303818" y="374087"/>
                    </a:lnTo>
                    <a:cubicBezTo>
                      <a:pt x="1295876" y="296275"/>
                      <a:pt x="1230344" y="237092"/>
                      <a:pt x="1152128" y="237092"/>
                    </a:cubicBezTo>
                    <a:close/>
                    <a:moveTo>
                      <a:pt x="645993" y="72680"/>
                    </a:moveTo>
                    <a:cubicBezTo>
                      <a:pt x="658686" y="74210"/>
                      <a:pt x="669946" y="78370"/>
                      <a:pt x="679494" y="85348"/>
                    </a:cubicBezTo>
                    <a:cubicBezTo>
                      <a:pt x="693579" y="95642"/>
                      <a:pt x="702954" y="111347"/>
                      <a:pt x="706629" y="131747"/>
                    </a:cubicBezTo>
                    <a:lnTo>
                      <a:pt x="717106" y="118644"/>
                    </a:lnTo>
                    <a:lnTo>
                      <a:pt x="711507" y="187121"/>
                    </a:lnTo>
                    <a:cubicBezTo>
                      <a:pt x="711518" y="187359"/>
                      <a:pt x="711501" y="187595"/>
                      <a:pt x="711449" y="187829"/>
                    </a:cubicBezTo>
                    <a:lnTo>
                      <a:pt x="690101" y="448902"/>
                    </a:lnTo>
                    <a:cubicBezTo>
                      <a:pt x="843364" y="370332"/>
                      <a:pt x="993666" y="332035"/>
                      <a:pt x="1098840" y="337506"/>
                    </a:cubicBezTo>
                    <a:cubicBezTo>
                      <a:pt x="1164517" y="340921"/>
                      <a:pt x="1212596" y="361402"/>
                      <a:pt x="1232908" y="399997"/>
                    </a:cubicBezTo>
                    <a:cubicBezTo>
                      <a:pt x="1260774" y="452952"/>
                      <a:pt x="1230937" y="529684"/>
                      <a:pt x="1159253" y="608935"/>
                    </a:cubicBezTo>
                    <a:lnTo>
                      <a:pt x="1195098" y="636004"/>
                    </a:lnTo>
                    <a:cubicBezTo>
                      <a:pt x="1201501" y="635213"/>
                      <a:pt x="1207823" y="635479"/>
                      <a:pt x="1214074" y="635877"/>
                    </a:cubicBezTo>
                    <a:cubicBezTo>
                      <a:pt x="1324025" y="642876"/>
                      <a:pt x="1412151" y="690678"/>
                      <a:pt x="1441510" y="770774"/>
                    </a:cubicBezTo>
                    <a:cubicBezTo>
                      <a:pt x="1475415" y="863267"/>
                      <a:pt x="1421684" y="973548"/>
                      <a:pt x="1314729" y="1054152"/>
                    </a:cubicBezTo>
                    <a:cubicBezTo>
                      <a:pt x="1221754" y="1216806"/>
                      <a:pt x="974420" y="1331982"/>
                      <a:pt x="684251" y="1331982"/>
                    </a:cubicBezTo>
                    <a:cubicBezTo>
                      <a:pt x="343154" y="1331982"/>
                      <a:pt x="61250" y="1172828"/>
                      <a:pt x="19528" y="965681"/>
                    </a:cubicBezTo>
                    <a:cubicBezTo>
                      <a:pt x="-32324" y="891015"/>
                      <a:pt x="21624" y="685064"/>
                      <a:pt x="151172" y="477029"/>
                    </a:cubicBezTo>
                    <a:cubicBezTo>
                      <a:pt x="249223" y="319574"/>
                      <a:pt x="365308" y="201513"/>
                      <a:pt x="455546" y="158929"/>
                    </a:cubicBezTo>
                    <a:cubicBezTo>
                      <a:pt x="529241" y="98839"/>
                      <a:pt x="597906" y="66881"/>
                      <a:pt x="645993" y="72680"/>
                    </a:cubicBezTo>
                    <a:close/>
                    <a:moveTo>
                      <a:pt x="1164492" y="0"/>
                    </a:moveTo>
                    <a:cubicBezTo>
                      <a:pt x="1354452" y="6278"/>
                      <a:pt x="1509559" y="153911"/>
                      <a:pt x="1525201" y="343331"/>
                    </a:cubicBezTo>
                    <a:lnTo>
                      <a:pt x="1445804" y="349887"/>
                    </a:lnTo>
                    <a:cubicBezTo>
                      <a:pt x="1433491" y="200780"/>
                      <a:pt x="1311395" y="84566"/>
                      <a:pt x="1161862" y="79624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50" name="TextBox 6"/>
              <p:cNvSpPr/>
              <p:nvPr/>
            </p:nvSpPr>
            <p:spPr>
              <a:xfrm>
                <a:off x="3022560" y="3141360"/>
                <a:ext cx="15526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欢迎大家关注新浪微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128"/>
          <p:cNvGrpSpPr/>
          <p:nvPr/>
        </p:nvGrpSpPr>
        <p:grpSpPr>
          <a:xfrm>
            <a:off x="2939760" y="1042920"/>
            <a:ext cx="2999880" cy="2999880"/>
            <a:chOff x="2939760" y="1042920"/>
            <a:chExt cx="2999880" cy="2999880"/>
          </a:xfrm>
        </p:grpSpPr>
        <p:sp>
          <p:nvSpPr>
            <p:cNvPr id="43" name="椭圆 129"/>
            <p:cNvSpPr/>
            <p:nvPr/>
          </p:nvSpPr>
          <p:spPr>
            <a:xfrm>
              <a:off x="3939840" y="1042920"/>
              <a:ext cx="999720" cy="99972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" name="椭圆 79"/>
            <p:cNvSpPr/>
            <p:nvPr/>
          </p:nvSpPr>
          <p:spPr>
            <a:xfrm>
              <a:off x="2939760" y="2043000"/>
              <a:ext cx="2999880" cy="1999800"/>
            </a:xfrm>
            <a:custGeom>
              <a:avLst/>
              <a:gdLst>
                <a:gd name="textAreaLeft" fmla="*/ 0 w 2999880"/>
                <a:gd name="textAreaRight" fmla="*/ 3000240 w 2999880"/>
                <a:gd name="textAreaTop" fmla="*/ 0 h 1999800"/>
                <a:gd name="textAreaBottom" fmla="*/ 2000160 h 1999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Box 1"/>
          <p:cNvSpPr/>
          <p:nvPr/>
        </p:nvSpPr>
        <p:spPr>
          <a:xfrm>
            <a:off x="534240" y="180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什么是民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341000" y="54396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你是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民</a:t>
            </a: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我是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主</a:t>
            </a: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6131520" y="44438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这个是某国的说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81"/>
          <p:cNvGrpSpPr/>
          <p:nvPr/>
        </p:nvGrpSpPr>
        <p:grpSpPr>
          <a:xfrm>
            <a:off x="2262240" y="3395160"/>
            <a:ext cx="359640" cy="647640"/>
            <a:chOff x="2262240" y="3395160"/>
            <a:chExt cx="359640" cy="647640"/>
          </a:xfrm>
        </p:grpSpPr>
        <p:sp>
          <p:nvSpPr>
            <p:cNvPr id="49" name="椭圆 78"/>
            <p:cNvSpPr/>
            <p:nvPr/>
          </p:nvSpPr>
          <p:spPr>
            <a:xfrm>
              <a:off x="233424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椭圆 79"/>
            <p:cNvSpPr/>
            <p:nvPr/>
          </p:nvSpPr>
          <p:spPr>
            <a:xfrm>
              <a:off x="226224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组合 82"/>
          <p:cNvGrpSpPr/>
          <p:nvPr/>
        </p:nvGrpSpPr>
        <p:grpSpPr>
          <a:xfrm>
            <a:off x="2526120" y="3395160"/>
            <a:ext cx="359640" cy="647640"/>
            <a:chOff x="2526120" y="3395160"/>
            <a:chExt cx="359640" cy="647640"/>
          </a:xfrm>
        </p:grpSpPr>
        <p:sp>
          <p:nvSpPr>
            <p:cNvPr id="52" name="椭圆 83"/>
            <p:cNvSpPr/>
            <p:nvPr/>
          </p:nvSpPr>
          <p:spPr>
            <a:xfrm>
              <a:off x="259812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" name="椭圆 79"/>
            <p:cNvSpPr/>
            <p:nvPr/>
          </p:nvSpPr>
          <p:spPr>
            <a:xfrm>
              <a:off x="252612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组合 85"/>
          <p:cNvGrpSpPr/>
          <p:nvPr/>
        </p:nvGrpSpPr>
        <p:grpSpPr>
          <a:xfrm>
            <a:off x="2795760" y="3395160"/>
            <a:ext cx="359640" cy="647640"/>
            <a:chOff x="2795760" y="3395160"/>
            <a:chExt cx="359640" cy="647640"/>
          </a:xfrm>
        </p:grpSpPr>
        <p:sp>
          <p:nvSpPr>
            <p:cNvPr id="55" name="椭圆 86"/>
            <p:cNvSpPr/>
            <p:nvPr/>
          </p:nvSpPr>
          <p:spPr>
            <a:xfrm>
              <a:off x="286776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" name="椭圆 79"/>
            <p:cNvSpPr/>
            <p:nvPr/>
          </p:nvSpPr>
          <p:spPr>
            <a:xfrm>
              <a:off x="279576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组合 88"/>
          <p:cNvGrpSpPr/>
          <p:nvPr/>
        </p:nvGrpSpPr>
        <p:grpSpPr>
          <a:xfrm>
            <a:off x="3060000" y="3395160"/>
            <a:ext cx="359640" cy="647640"/>
            <a:chOff x="3060000" y="3395160"/>
            <a:chExt cx="359640" cy="647640"/>
          </a:xfrm>
        </p:grpSpPr>
        <p:sp>
          <p:nvSpPr>
            <p:cNvPr id="58" name="椭圆 89"/>
            <p:cNvSpPr/>
            <p:nvPr/>
          </p:nvSpPr>
          <p:spPr>
            <a:xfrm>
              <a:off x="313200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" name="椭圆 79"/>
            <p:cNvSpPr/>
            <p:nvPr/>
          </p:nvSpPr>
          <p:spPr>
            <a:xfrm>
              <a:off x="306000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组合 92"/>
          <p:cNvGrpSpPr/>
          <p:nvPr/>
        </p:nvGrpSpPr>
        <p:grpSpPr>
          <a:xfrm>
            <a:off x="3342240" y="3395160"/>
            <a:ext cx="359640" cy="647640"/>
            <a:chOff x="3342240" y="3395160"/>
            <a:chExt cx="359640" cy="647640"/>
          </a:xfrm>
        </p:grpSpPr>
        <p:sp>
          <p:nvSpPr>
            <p:cNvPr id="61" name="椭圆 93"/>
            <p:cNvSpPr/>
            <p:nvPr/>
          </p:nvSpPr>
          <p:spPr>
            <a:xfrm>
              <a:off x="341424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" name="椭圆 79"/>
            <p:cNvSpPr/>
            <p:nvPr/>
          </p:nvSpPr>
          <p:spPr>
            <a:xfrm>
              <a:off x="334224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组合 95"/>
          <p:cNvGrpSpPr/>
          <p:nvPr/>
        </p:nvGrpSpPr>
        <p:grpSpPr>
          <a:xfrm>
            <a:off x="3606480" y="3395160"/>
            <a:ext cx="359640" cy="647640"/>
            <a:chOff x="3606480" y="3395160"/>
            <a:chExt cx="359640" cy="647640"/>
          </a:xfrm>
        </p:grpSpPr>
        <p:sp>
          <p:nvSpPr>
            <p:cNvPr id="64" name="椭圆 96"/>
            <p:cNvSpPr/>
            <p:nvPr/>
          </p:nvSpPr>
          <p:spPr>
            <a:xfrm>
              <a:off x="367848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" name="椭圆 79"/>
            <p:cNvSpPr/>
            <p:nvPr/>
          </p:nvSpPr>
          <p:spPr>
            <a:xfrm>
              <a:off x="360648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组合 98"/>
          <p:cNvGrpSpPr/>
          <p:nvPr/>
        </p:nvGrpSpPr>
        <p:grpSpPr>
          <a:xfrm>
            <a:off x="3875760" y="3395160"/>
            <a:ext cx="359640" cy="647640"/>
            <a:chOff x="3875760" y="3395160"/>
            <a:chExt cx="359640" cy="647640"/>
          </a:xfrm>
        </p:grpSpPr>
        <p:sp>
          <p:nvSpPr>
            <p:cNvPr id="67" name="椭圆 99"/>
            <p:cNvSpPr/>
            <p:nvPr/>
          </p:nvSpPr>
          <p:spPr>
            <a:xfrm>
              <a:off x="394812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" name="椭圆 79"/>
            <p:cNvSpPr/>
            <p:nvPr/>
          </p:nvSpPr>
          <p:spPr>
            <a:xfrm>
              <a:off x="387576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01"/>
          <p:cNvGrpSpPr/>
          <p:nvPr/>
        </p:nvGrpSpPr>
        <p:grpSpPr>
          <a:xfrm>
            <a:off x="4140000" y="3395160"/>
            <a:ext cx="359640" cy="647640"/>
            <a:chOff x="4140000" y="3395160"/>
            <a:chExt cx="359640" cy="647640"/>
          </a:xfrm>
        </p:grpSpPr>
        <p:sp>
          <p:nvSpPr>
            <p:cNvPr id="70" name="椭圆 102"/>
            <p:cNvSpPr/>
            <p:nvPr/>
          </p:nvSpPr>
          <p:spPr>
            <a:xfrm>
              <a:off x="421200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" name="椭圆 79"/>
            <p:cNvSpPr/>
            <p:nvPr/>
          </p:nvSpPr>
          <p:spPr>
            <a:xfrm>
              <a:off x="414000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04"/>
          <p:cNvGrpSpPr/>
          <p:nvPr/>
        </p:nvGrpSpPr>
        <p:grpSpPr>
          <a:xfrm>
            <a:off x="4422600" y="3395160"/>
            <a:ext cx="359640" cy="647640"/>
            <a:chOff x="4422600" y="3395160"/>
            <a:chExt cx="359640" cy="647640"/>
          </a:xfrm>
        </p:grpSpPr>
        <p:sp>
          <p:nvSpPr>
            <p:cNvPr id="73" name="椭圆 105"/>
            <p:cNvSpPr/>
            <p:nvPr/>
          </p:nvSpPr>
          <p:spPr>
            <a:xfrm>
              <a:off x="449460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" name="椭圆 79"/>
            <p:cNvSpPr/>
            <p:nvPr/>
          </p:nvSpPr>
          <p:spPr>
            <a:xfrm>
              <a:off x="442260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07"/>
          <p:cNvGrpSpPr/>
          <p:nvPr/>
        </p:nvGrpSpPr>
        <p:grpSpPr>
          <a:xfrm>
            <a:off x="4686480" y="3395160"/>
            <a:ext cx="359640" cy="647640"/>
            <a:chOff x="4686480" y="3395160"/>
            <a:chExt cx="359640" cy="647640"/>
          </a:xfrm>
        </p:grpSpPr>
        <p:sp>
          <p:nvSpPr>
            <p:cNvPr id="76" name="椭圆 108"/>
            <p:cNvSpPr/>
            <p:nvPr/>
          </p:nvSpPr>
          <p:spPr>
            <a:xfrm>
              <a:off x="475848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" name="椭圆 79"/>
            <p:cNvSpPr/>
            <p:nvPr/>
          </p:nvSpPr>
          <p:spPr>
            <a:xfrm>
              <a:off x="468648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组合 110"/>
          <p:cNvGrpSpPr/>
          <p:nvPr/>
        </p:nvGrpSpPr>
        <p:grpSpPr>
          <a:xfrm>
            <a:off x="4956120" y="3395160"/>
            <a:ext cx="359640" cy="647640"/>
            <a:chOff x="4956120" y="3395160"/>
            <a:chExt cx="359640" cy="647640"/>
          </a:xfrm>
        </p:grpSpPr>
        <p:sp>
          <p:nvSpPr>
            <p:cNvPr id="79" name="椭圆 111"/>
            <p:cNvSpPr/>
            <p:nvPr/>
          </p:nvSpPr>
          <p:spPr>
            <a:xfrm>
              <a:off x="502812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" name="椭圆 79"/>
            <p:cNvSpPr/>
            <p:nvPr/>
          </p:nvSpPr>
          <p:spPr>
            <a:xfrm>
              <a:off x="495612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组合 113"/>
          <p:cNvGrpSpPr/>
          <p:nvPr/>
        </p:nvGrpSpPr>
        <p:grpSpPr>
          <a:xfrm>
            <a:off x="5220000" y="3395160"/>
            <a:ext cx="359640" cy="647640"/>
            <a:chOff x="5220000" y="3395160"/>
            <a:chExt cx="359640" cy="647640"/>
          </a:xfrm>
        </p:grpSpPr>
        <p:sp>
          <p:nvSpPr>
            <p:cNvPr id="82" name="椭圆 114"/>
            <p:cNvSpPr/>
            <p:nvPr/>
          </p:nvSpPr>
          <p:spPr>
            <a:xfrm>
              <a:off x="529200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椭圆 79"/>
            <p:cNvSpPr/>
            <p:nvPr/>
          </p:nvSpPr>
          <p:spPr>
            <a:xfrm>
              <a:off x="522000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组合 116"/>
          <p:cNvGrpSpPr/>
          <p:nvPr/>
        </p:nvGrpSpPr>
        <p:grpSpPr>
          <a:xfrm>
            <a:off x="5502600" y="3395160"/>
            <a:ext cx="359640" cy="647640"/>
            <a:chOff x="5502600" y="3395160"/>
            <a:chExt cx="359640" cy="647640"/>
          </a:xfrm>
        </p:grpSpPr>
        <p:sp>
          <p:nvSpPr>
            <p:cNvPr id="85" name="椭圆 117"/>
            <p:cNvSpPr/>
            <p:nvPr/>
          </p:nvSpPr>
          <p:spPr>
            <a:xfrm>
              <a:off x="557460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" name="椭圆 79"/>
            <p:cNvSpPr/>
            <p:nvPr/>
          </p:nvSpPr>
          <p:spPr>
            <a:xfrm>
              <a:off x="550260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" name="组合 119"/>
          <p:cNvGrpSpPr/>
          <p:nvPr/>
        </p:nvGrpSpPr>
        <p:grpSpPr>
          <a:xfrm>
            <a:off x="5766480" y="3395160"/>
            <a:ext cx="359640" cy="647640"/>
            <a:chOff x="5766480" y="3395160"/>
            <a:chExt cx="359640" cy="647640"/>
          </a:xfrm>
        </p:grpSpPr>
        <p:sp>
          <p:nvSpPr>
            <p:cNvPr id="88" name="椭圆 120"/>
            <p:cNvSpPr/>
            <p:nvPr/>
          </p:nvSpPr>
          <p:spPr>
            <a:xfrm>
              <a:off x="583848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椭圆 79"/>
            <p:cNvSpPr/>
            <p:nvPr/>
          </p:nvSpPr>
          <p:spPr>
            <a:xfrm>
              <a:off x="576648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组合 122"/>
          <p:cNvGrpSpPr/>
          <p:nvPr/>
        </p:nvGrpSpPr>
        <p:grpSpPr>
          <a:xfrm>
            <a:off x="6036120" y="3395160"/>
            <a:ext cx="359640" cy="647640"/>
            <a:chOff x="6036120" y="3395160"/>
            <a:chExt cx="359640" cy="647640"/>
          </a:xfrm>
        </p:grpSpPr>
        <p:sp>
          <p:nvSpPr>
            <p:cNvPr id="91" name="椭圆 123"/>
            <p:cNvSpPr/>
            <p:nvPr/>
          </p:nvSpPr>
          <p:spPr>
            <a:xfrm>
              <a:off x="610812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椭圆 79"/>
            <p:cNvSpPr/>
            <p:nvPr/>
          </p:nvSpPr>
          <p:spPr>
            <a:xfrm>
              <a:off x="603612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组合 125"/>
          <p:cNvGrpSpPr/>
          <p:nvPr/>
        </p:nvGrpSpPr>
        <p:grpSpPr>
          <a:xfrm>
            <a:off x="6300360" y="3395160"/>
            <a:ext cx="359640" cy="647640"/>
            <a:chOff x="6300360" y="3395160"/>
            <a:chExt cx="359640" cy="647640"/>
          </a:xfrm>
        </p:grpSpPr>
        <p:sp>
          <p:nvSpPr>
            <p:cNvPr id="94" name="椭圆 126"/>
            <p:cNvSpPr/>
            <p:nvPr/>
          </p:nvSpPr>
          <p:spPr>
            <a:xfrm>
              <a:off x="6372360" y="3395160"/>
              <a:ext cx="215640" cy="215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椭圆 79"/>
            <p:cNvSpPr/>
            <p:nvPr/>
          </p:nvSpPr>
          <p:spPr>
            <a:xfrm>
              <a:off x="6300360" y="3611160"/>
              <a:ext cx="359640" cy="43164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eeece1"/>
                  </a:solidFill>
                  <a:latin typeface="迷你简粗倩"/>
                  <a:ea typeface="迷你简粗倩"/>
                </a:rPr>
                <a:t>民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21440" y="18000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古希腊人可不这么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341000" y="54396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他们践行着城邦民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755760" y="4443840"/>
            <a:ext cx="344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小国寡民、独立自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4"/>
          <p:cNvGrpSpPr/>
          <p:nvPr/>
        </p:nvGrpSpPr>
        <p:grpSpPr>
          <a:xfrm>
            <a:off x="1644480" y="2593440"/>
            <a:ext cx="179640" cy="271800"/>
            <a:chOff x="1644480" y="2593440"/>
            <a:chExt cx="179640" cy="271800"/>
          </a:xfrm>
        </p:grpSpPr>
        <p:sp>
          <p:nvSpPr>
            <p:cNvPr id="100" name="椭圆 5"/>
            <p:cNvSpPr/>
            <p:nvPr/>
          </p:nvSpPr>
          <p:spPr>
            <a:xfrm>
              <a:off x="168048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椭圆 79"/>
            <p:cNvSpPr/>
            <p:nvPr/>
          </p:nvSpPr>
          <p:spPr>
            <a:xfrm>
              <a:off x="164448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02" name="组合 11"/>
          <p:cNvGrpSpPr/>
          <p:nvPr/>
        </p:nvGrpSpPr>
        <p:grpSpPr>
          <a:xfrm>
            <a:off x="1850760" y="2593440"/>
            <a:ext cx="179640" cy="271800"/>
            <a:chOff x="1850760" y="2593440"/>
            <a:chExt cx="179640" cy="271800"/>
          </a:xfrm>
        </p:grpSpPr>
        <p:sp>
          <p:nvSpPr>
            <p:cNvPr id="103" name="椭圆 12"/>
            <p:cNvSpPr/>
            <p:nvPr/>
          </p:nvSpPr>
          <p:spPr>
            <a:xfrm>
              <a:off x="188676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椭圆 79"/>
            <p:cNvSpPr/>
            <p:nvPr/>
          </p:nvSpPr>
          <p:spPr>
            <a:xfrm>
              <a:off x="185076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05" name="组合 14"/>
          <p:cNvGrpSpPr/>
          <p:nvPr/>
        </p:nvGrpSpPr>
        <p:grpSpPr>
          <a:xfrm>
            <a:off x="2047320" y="2593440"/>
            <a:ext cx="179640" cy="271800"/>
            <a:chOff x="2047320" y="2593440"/>
            <a:chExt cx="179640" cy="271800"/>
          </a:xfrm>
        </p:grpSpPr>
        <p:sp>
          <p:nvSpPr>
            <p:cNvPr id="106" name="椭圆 15"/>
            <p:cNvSpPr/>
            <p:nvPr/>
          </p:nvSpPr>
          <p:spPr>
            <a:xfrm>
              <a:off x="208332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椭圆 79"/>
            <p:cNvSpPr/>
            <p:nvPr/>
          </p:nvSpPr>
          <p:spPr>
            <a:xfrm>
              <a:off x="204732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2248920" y="2593440"/>
            <a:ext cx="179640" cy="271800"/>
            <a:chOff x="2248920" y="2593440"/>
            <a:chExt cx="179640" cy="271800"/>
          </a:xfrm>
        </p:grpSpPr>
        <p:sp>
          <p:nvSpPr>
            <p:cNvPr id="109" name="椭圆 18"/>
            <p:cNvSpPr/>
            <p:nvPr/>
          </p:nvSpPr>
          <p:spPr>
            <a:xfrm>
              <a:off x="228492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椭圆 79"/>
            <p:cNvSpPr/>
            <p:nvPr/>
          </p:nvSpPr>
          <p:spPr>
            <a:xfrm>
              <a:off x="224892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2462400" y="2593440"/>
            <a:ext cx="179640" cy="271800"/>
            <a:chOff x="2462400" y="2593440"/>
            <a:chExt cx="179640" cy="271800"/>
          </a:xfrm>
        </p:grpSpPr>
        <p:sp>
          <p:nvSpPr>
            <p:cNvPr id="112" name="椭圆 21"/>
            <p:cNvSpPr/>
            <p:nvPr/>
          </p:nvSpPr>
          <p:spPr>
            <a:xfrm>
              <a:off x="249840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3" name="椭圆 79"/>
            <p:cNvSpPr/>
            <p:nvPr/>
          </p:nvSpPr>
          <p:spPr>
            <a:xfrm>
              <a:off x="246240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2668680" y="2593440"/>
            <a:ext cx="179640" cy="271800"/>
            <a:chOff x="2668680" y="2593440"/>
            <a:chExt cx="179640" cy="271800"/>
          </a:xfrm>
        </p:grpSpPr>
        <p:sp>
          <p:nvSpPr>
            <p:cNvPr id="115" name="椭圆 24"/>
            <p:cNvSpPr/>
            <p:nvPr/>
          </p:nvSpPr>
          <p:spPr>
            <a:xfrm>
              <a:off x="270468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" name="椭圆 79"/>
            <p:cNvSpPr/>
            <p:nvPr/>
          </p:nvSpPr>
          <p:spPr>
            <a:xfrm>
              <a:off x="266868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65240" y="2593440"/>
            <a:ext cx="179640" cy="271800"/>
            <a:chOff x="2865240" y="2593440"/>
            <a:chExt cx="179640" cy="271800"/>
          </a:xfrm>
        </p:grpSpPr>
        <p:sp>
          <p:nvSpPr>
            <p:cNvPr id="118" name="椭圆 27"/>
            <p:cNvSpPr/>
            <p:nvPr/>
          </p:nvSpPr>
          <p:spPr>
            <a:xfrm>
              <a:off x="290124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9" name="椭圆 79"/>
            <p:cNvSpPr/>
            <p:nvPr/>
          </p:nvSpPr>
          <p:spPr>
            <a:xfrm>
              <a:off x="286524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20" name="组合 29"/>
          <p:cNvGrpSpPr/>
          <p:nvPr/>
        </p:nvGrpSpPr>
        <p:grpSpPr>
          <a:xfrm>
            <a:off x="3066840" y="2593440"/>
            <a:ext cx="179640" cy="271800"/>
            <a:chOff x="3066840" y="2593440"/>
            <a:chExt cx="179640" cy="271800"/>
          </a:xfrm>
        </p:grpSpPr>
        <p:sp>
          <p:nvSpPr>
            <p:cNvPr id="121" name="椭圆 30"/>
            <p:cNvSpPr/>
            <p:nvPr/>
          </p:nvSpPr>
          <p:spPr>
            <a:xfrm>
              <a:off x="310284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椭圆 79"/>
            <p:cNvSpPr/>
            <p:nvPr/>
          </p:nvSpPr>
          <p:spPr>
            <a:xfrm>
              <a:off x="306684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3283560" y="2593440"/>
            <a:ext cx="179640" cy="271800"/>
            <a:chOff x="3283560" y="2593440"/>
            <a:chExt cx="179640" cy="271800"/>
          </a:xfrm>
        </p:grpSpPr>
        <p:sp>
          <p:nvSpPr>
            <p:cNvPr id="124" name="椭圆 33"/>
            <p:cNvSpPr/>
            <p:nvPr/>
          </p:nvSpPr>
          <p:spPr>
            <a:xfrm>
              <a:off x="331956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" name="椭圆 79"/>
            <p:cNvSpPr/>
            <p:nvPr/>
          </p:nvSpPr>
          <p:spPr>
            <a:xfrm>
              <a:off x="328356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3489840" y="2593440"/>
            <a:ext cx="179640" cy="271800"/>
            <a:chOff x="3489840" y="2593440"/>
            <a:chExt cx="179640" cy="271800"/>
          </a:xfrm>
        </p:grpSpPr>
        <p:sp>
          <p:nvSpPr>
            <p:cNvPr id="127" name="椭圆 36"/>
            <p:cNvSpPr/>
            <p:nvPr/>
          </p:nvSpPr>
          <p:spPr>
            <a:xfrm>
              <a:off x="352584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椭圆 79"/>
            <p:cNvSpPr/>
            <p:nvPr/>
          </p:nvSpPr>
          <p:spPr>
            <a:xfrm>
              <a:off x="348984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29" name="组合 38"/>
          <p:cNvGrpSpPr/>
          <p:nvPr/>
        </p:nvGrpSpPr>
        <p:grpSpPr>
          <a:xfrm>
            <a:off x="3686040" y="2593440"/>
            <a:ext cx="179640" cy="271800"/>
            <a:chOff x="3686040" y="2593440"/>
            <a:chExt cx="179640" cy="271800"/>
          </a:xfrm>
        </p:grpSpPr>
        <p:sp>
          <p:nvSpPr>
            <p:cNvPr id="130" name="椭圆 39"/>
            <p:cNvSpPr/>
            <p:nvPr/>
          </p:nvSpPr>
          <p:spPr>
            <a:xfrm>
              <a:off x="372204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椭圆 79"/>
            <p:cNvSpPr/>
            <p:nvPr/>
          </p:nvSpPr>
          <p:spPr>
            <a:xfrm>
              <a:off x="368604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32" name="组合 41"/>
          <p:cNvGrpSpPr/>
          <p:nvPr/>
        </p:nvGrpSpPr>
        <p:grpSpPr>
          <a:xfrm>
            <a:off x="3888000" y="2593440"/>
            <a:ext cx="179640" cy="271800"/>
            <a:chOff x="3888000" y="2593440"/>
            <a:chExt cx="179640" cy="271800"/>
          </a:xfrm>
        </p:grpSpPr>
        <p:sp>
          <p:nvSpPr>
            <p:cNvPr id="133" name="椭圆 42"/>
            <p:cNvSpPr/>
            <p:nvPr/>
          </p:nvSpPr>
          <p:spPr>
            <a:xfrm>
              <a:off x="3924000" y="25934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椭圆 79"/>
            <p:cNvSpPr/>
            <p:nvPr/>
          </p:nvSpPr>
          <p:spPr>
            <a:xfrm>
              <a:off x="3888000" y="27014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35" name="组合 44"/>
          <p:cNvGrpSpPr/>
          <p:nvPr/>
        </p:nvGrpSpPr>
        <p:grpSpPr>
          <a:xfrm>
            <a:off x="1734480" y="2943720"/>
            <a:ext cx="179640" cy="271800"/>
            <a:chOff x="1734480" y="2943720"/>
            <a:chExt cx="179640" cy="271800"/>
          </a:xfrm>
        </p:grpSpPr>
        <p:sp>
          <p:nvSpPr>
            <p:cNvPr id="136" name="椭圆 45"/>
            <p:cNvSpPr/>
            <p:nvPr/>
          </p:nvSpPr>
          <p:spPr>
            <a:xfrm>
              <a:off x="177048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椭圆 79"/>
            <p:cNvSpPr/>
            <p:nvPr/>
          </p:nvSpPr>
          <p:spPr>
            <a:xfrm>
              <a:off x="173448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38" name="组合 47"/>
          <p:cNvGrpSpPr/>
          <p:nvPr/>
        </p:nvGrpSpPr>
        <p:grpSpPr>
          <a:xfrm>
            <a:off x="1930680" y="2943720"/>
            <a:ext cx="179640" cy="271800"/>
            <a:chOff x="1930680" y="2943720"/>
            <a:chExt cx="179640" cy="271800"/>
          </a:xfrm>
        </p:grpSpPr>
        <p:sp>
          <p:nvSpPr>
            <p:cNvPr id="139" name="椭圆 48"/>
            <p:cNvSpPr/>
            <p:nvPr/>
          </p:nvSpPr>
          <p:spPr>
            <a:xfrm>
              <a:off x="196668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椭圆 79"/>
            <p:cNvSpPr/>
            <p:nvPr/>
          </p:nvSpPr>
          <p:spPr>
            <a:xfrm>
              <a:off x="193068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41" name="组合 50"/>
          <p:cNvGrpSpPr/>
          <p:nvPr/>
        </p:nvGrpSpPr>
        <p:grpSpPr>
          <a:xfrm>
            <a:off x="2132640" y="2943720"/>
            <a:ext cx="179640" cy="271800"/>
            <a:chOff x="2132640" y="2943720"/>
            <a:chExt cx="179640" cy="271800"/>
          </a:xfrm>
        </p:grpSpPr>
        <p:sp>
          <p:nvSpPr>
            <p:cNvPr id="142" name="椭圆 51"/>
            <p:cNvSpPr/>
            <p:nvPr/>
          </p:nvSpPr>
          <p:spPr>
            <a:xfrm>
              <a:off x="216864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椭圆 79"/>
            <p:cNvSpPr/>
            <p:nvPr/>
          </p:nvSpPr>
          <p:spPr>
            <a:xfrm>
              <a:off x="213264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44" name="组合 53"/>
          <p:cNvGrpSpPr/>
          <p:nvPr/>
        </p:nvGrpSpPr>
        <p:grpSpPr>
          <a:xfrm>
            <a:off x="2345760" y="2943720"/>
            <a:ext cx="179640" cy="271800"/>
            <a:chOff x="2345760" y="2943720"/>
            <a:chExt cx="179640" cy="271800"/>
          </a:xfrm>
        </p:grpSpPr>
        <p:sp>
          <p:nvSpPr>
            <p:cNvPr id="145" name="椭圆 54"/>
            <p:cNvSpPr/>
            <p:nvPr/>
          </p:nvSpPr>
          <p:spPr>
            <a:xfrm>
              <a:off x="238176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椭圆 79"/>
            <p:cNvSpPr/>
            <p:nvPr/>
          </p:nvSpPr>
          <p:spPr>
            <a:xfrm>
              <a:off x="234576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47" name="组合 56"/>
          <p:cNvGrpSpPr/>
          <p:nvPr/>
        </p:nvGrpSpPr>
        <p:grpSpPr>
          <a:xfrm>
            <a:off x="2552400" y="2943720"/>
            <a:ext cx="179640" cy="271800"/>
            <a:chOff x="2552400" y="2943720"/>
            <a:chExt cx="179640" cy="271800"/>
          </a:xfrm>
        </p:grpSpPr>
        <p:sp>
          <p:nvSpPr>
            <p:cNvPr id="148" name="椭圆 57"/>
            <p:cNvSpPr/>
            <p:nvPr/>
          </p:nvSpPr>
          <p:spPr>
            <a:xfrm>
              <a:off x="258840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椭圆 79"/>
            <p:cNvSpPr/>
            <p:nvPr/>
          </p:nvSpPr>
          <p:spPr>
            <a:xfrm>
              <a:off x="255240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50" name="组合 59"/>
          <p:cNvGrpSpPr/>
          <p:nvPr/>
        </p:nvGrpSpPr>
        <p:grpSpPr>
          <a:xfrm>
            <a:off x="2748600" y="2943720"/>
            <a:ext cx="179640" cy="271800"/>
            <a:chOff x="2748600" y="2943720"/>
            <a:chExt cx="179640" cy="271800"/>
          </a:xfrm>
        </p:grpSpPr>
        <p:sp>
          <p:nvSpPr>
            <p:cNvPr id="151" name="椭圆 60"/>
            <p:cNvSpPr/>
            <p:nvPr/>
          </p:nvSpPr>
          <p:spPr>
            <a:xfrm>
              <a:off x="278460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椭圆 79"/>
            <p:cNvSpPr/>
            <p:nvPr/>
          </p:nvSpPr>
          <p:spPr>
            <a:xfrm>
              <a:off x="274860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53" name="组合 62"/>
          <p:cNvGrpSpPr/>
          <p:nvPr/>
        </p:nvGrpSpPr>
        <p:grpSpPr>
          <a:xfrm>
            <a:off x="2950560" y="2943720"/>
            <a:ext cx="179640" cy="271800"/>
            <a:chOff x="2950560" y="2943720"/>
            <a:chExt cx="179640" cy="271800"/>
          </a:xfrm>
        </p:grpSpPr>
        <p:sp>
          <p:nvSpPr>
            <p:cNvPr id="154" name="椭圆 63"/>
            <p:cNvSpPr/>
            <p:nvPr/>
          </p:nvSpPr>
          <p:spPr>
            <a:xfrm>
              <a:off x="298656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椭圆 79"/>
            <p:cNvSpPr/>
            <p:nvPr/>
          </p:nvSpPr>
          <p:spPr>
            <a:xfrm>
              <a:off x="295056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56" name="组合 65"/>
          <p:cNvGrpSpPr/>
          <p:nvPr/>
        </p:nvGrpSpPr>
        <p:grpSpPr>
          <a:xfrm>
            <a:off x="3166920" y="2943720"/>
            <a:ext cx="179640" cy="271800"/>
            <a:chOff x="3166920" y="2943720"/>
            <a:chExt cx="179640" cy="271800"/>
          </a:xfrm>
        </p:grpSpPr>
        <p:sp>
          <p:nvSpPr>
            <p:cNvPr id="157" name="椭圆 66"/>
            <p:cNvSpPr/>
            <p:nvPr/>
          </p:nvSpPr>
          <p:spPr>
            <a:xfrm>
              <a:off x="320292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椭圆 79"/>
            <p:cNvSpPr/>
            <p:nvPr/>
          </p:nvSpPr>
          <p:spPr>
            <a:xfrm>
              <a:off x="316692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59" name="组合 68"/>
          <p:cNvGrpSpPr/>
          <p:nvPr/>
        </p:nvGrpSpPr>
        <p:grpSpPr>
          <a:xfrm>
            <a:off x="3373560" y="2943720"/>
            <a:ext cx="179640" cy="271800"/>
            <a:chOff x="3373560" y="2943720"/>
            <a:chExt cx="179640" cy="271800"/>
          </a:xfrm>
        </p:grpSpPr>
        <p:sp>
          <p:nvSpPr>
            <p:cNvPr id="160" name="椭圆 69"/>
            <p:cNvSpPr/>
            <p:nvPr/>
          </p:nvSpPr>
          <p:spPr>
            <a:xfrm>
              <a:off x="340956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椭圆 79"/>
            <p:cNvSpPr/>
            <p:nvPr/>
          </p:nvSpPr>
          <p:spPr>
            <a:xfrm>
              <a:off x="337356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62" name="组合 71"/>
          <p:cNvGrpSpPr/>
          <p:nvPr/>
        </p:nvGrpSpPr>
        <p:grpSpPr>
          <a:xfrm>
            <a:off x="3569760" y="2943720"/>
            <a:ext cx="179640" cy="271800"/>
            <a:chOff x="3569760" y="2943720"/>
            <a:chExt cx="179640" cy="271800"/>
          </a:xfrm>
        </p:grpSpPr>
        <p:sp>
          <p:nvSpPr>
            <p:cNvPr id="163" name="椭圆 72"/>
            <p:cNvSpPr/>
            <p:nvPr/>
          </p:nvSpPr>
          <p:spPr>
            <a:xfrm>
              <a:off x="360576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椭圆 79"/>
            <p:cNvSpPr/>
            <p:nvPr/>
          </p:nvSpPr>
          <p:spPr>
            <a:xfrm>
              <a:off x="356976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65" name="组合 74"/>
          <p:cNvGrpSpPr/>
          <p:nvPr/>
        </p:nvGrpSpPr>
        <p:grpSpPr>
          <a:xfrm>
            <a:off x="3780360" y="2943720"/>
            <a:ext cx="179640" cy="271800"/>
            <a:chOff x="3780360" y="2943720"/>
            <a:chExt cx="179640" cy="271800"/>
          </a:xfrm>
        </p:grpSpPr>
        <p:sp>
          <p:nvSpPr>
            <p:cNvPr id="166" name="椭圆 75"/>
            <p:cNvSpPr/>
            <p:nvPr/>
          </p:nvSpPr>
          <p:spPr>
            <a:xfrm>
              <a:off x="3816360" y="29437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椭圆 79"/>
            <p:cNvSpPr/>
            <p:nvPr/>
          </p:nvSpPr>
          <p:spPr>
            <a:xfrm>
              <a:off x="3780360" y="30517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68" name="组合 77"/>
          <p:cNvGrpSpPr/>
          <p:nvPr/>
        </p:nvGrpSpPr>
        <p:grpSpPr>
          <a:xfrm>
            <a:off x="1744560" y="2227320"/>
            <a:ext cx="179640" cy="271800"/>
            <a:chOff x="1744560" y="2227320"/>
            <a:chExt cx="179640" cy="271800"/>
          </a:xfrm>
        </p:grpSpPr>
        <p:sp>
          <p:nvSpPr>
            <p:cNvPr id="169" name="椭圆 78"/>
            <p:cNvSpPr/>
            <p:nvPr/>
          </p:nvSpPr>
          <p:spPr>
            <a:xfrm>
              <a:off x="178056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椭圆 79"/>
            <p:cNvSpPr/>
            <p:nvPr/>
          </p:nvSpPr>
          <p:spPr>
            <a:xfrm>
              <a:off x="174456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71" name="组合 80"/>
          <p:cNvGrpSpPr/>
          <p:nvPr/>
        </p:nvGrpSpPr>
        <p:grpSpPr>
          <a:xfrm>
            <a:off x="1940760" y="2227320"/>
            <a:ext cx="179640" cy="271800"/>
            <a:chOff x="1940760" y="2227320"/>
            <a:chExt cx="179640" cy="271800"/>
          </a:xfrm>
        </p:grpSpPr>
        <p:sp>
          <p:nvSpPr>
            <p:cNvPr id="172" name="椭圆 81"/>
            <p:cNvSpPr/>
            <p:nvPr/>
          </p:nvSpPr>
          <p:spPr>
            <a:xfrm>
              <a:off x="197676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椭圆 79"/>
            <p:cNvSpPr/>
            <p:nvPr/>
          </p:nvSpPr>
          <p:spPr>
            <a:xfrm>
              <a:off x="194076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74" name="组合 83"/>
          <p:cNvGrpSpPr/>
          <p:nvPr/>
        </p:nvGrpSpPr>
        <p:grpSpPr>
          <a:xfrm>
            <a:off x="2142720" y="2227320"/>
            <a:ext cx="179640" cy="271800"/>
            <a:chOff x="2142720" y="2227320"/>
            <a:chExt cx="179640" cy="271800"/>
          </a:xfrm>
        </p:grpSpPr>
        <p:sp>
          <p:nvSpPr>
            <p:cNvPr id="175" name="椭圆 84"/>
            <p:cNvSpPr/>
            <p:nvPr/>
          </p:nvSpPr>
          <p:spPr>
            <a:xfrm>
              <a:off x="217872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椭圆 79"/>
            <p:cNvSpPr/>
            <p:nvPr/>
          </p:nvSpPr>
          <p:spPr>
            <a:xfrm>
              <a:off x="214272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77" name="组合 86"/>
          <p:cNvGrpSpPr/>
          <p:nvPr/>
        </p:nvGrpSpPr>
        <p:grpSpPr>
          <a:xfrm>
            <a:off x="2355840" y="2227320"/>
            <a:ext cx="179640" cy="271800"/>
            <a:chOff x="2355840" y="2227320"/>
            <a:chExt cx="179640" cy="271800"/>
          </a:xfrm>
        </p:grpSpPr>
        <p:sp>
          <p:nvSpPr>
            <p:cNvPr id="178" name="椭圆 87"/>
            <p:cNvSpPr/>
            <p:nvPr/>
          </p:nvSpPr>
          <p:spPr>
            <a:xfrm>
              <a:off x="239184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椭圆 79"/>
            <p:cNvSpPr/>
            <p:nvPr/>
          </p:nvSpPr>
          <p:spPr>
            <a:xfrm>
              <a:off x="235584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80" name="组合 89"/>
          <p:cNvGrpSpPr/>
          <p:nvPr/>
        </p:nvGrpSpPr>
        <p:grpSpPr>
          <a:xfrm>
            <a:off x="2562480" y="2227320"/>
            <a:ext cx="179640" cy="271800"/>
            <a:chOff x="2562480" y="2227320"/>
            <a:chExt cx="179640" cy="271800"/>
          </a:xfrm>
        </p:grpSpPr>
        <p:sp>
          <p:nvSpPr>
            <p:cNvPr id="181" name="椭圆 90"/>
            <p:cNvSpPr/>
            <p:nvPr/>
          </p:nvSpPr>
          <p:spPr>
            <a:xfrm>
              <a:off x="259848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2" name="椭圆 79"/>
            <p:cNvSpPr/>
            <p:nvPr/>
          </p:nvSpPr>
          <p:spPr>
            <a:xfrm>
              <a:off x="256248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83" name="组合 92"/>
          <p:cNvGrpSpPr/>
          <p:nvPr/>
        </p:nvGrpSpPr>
        <p:grpSpPr>
          <a:xfrm>
            <a:off x="2758680" y="2227320"/>
            <a:ext cx="179640" cy="271800"/>
            <a:chOff x="2758680" y="2227320"/>
            <a:chExt cx="179640" cy="271800"/>
          </a:xfrm>
        </p:grpSpPr>
        <p:sp>
          <p:nvSpPr>
            <p:cNvPr id="184" name="椭圆 93"/>
            <p:cNvSpPr/>
            <p:nvPr/>
          </p:nvSpPr>
          <p:spPr>
            <a:xfrm>
              <a:off x="279468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5" name="椭圆 79"/>
            <p:cNvSpPr/>
            <p:nvPr/>
          </p:nvSpPr>
          <p:spPr>
            <a:xfrm>
              <a:off x="275868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86" name="组合 95"/>
          <p:cNvGrpSpPr/>
          <p:nvPr/>
        </p:nvGrpSpPr>
        <p:grpSpPr>
          <a:xfrm>
            <a:off x="2960640" y="2227320"/>
            <a:ext cx="179640" cy="271800"/>
            <a:chOff x="2960640" y="2227320"/>
            <a:chExt cx="179640" cy="271800"/>
          </a:xfrm>
        </p:grpSpPr>
        <p:sp>
          <p:nvSpPr>
            <p:cNvPr id="187" name="椭圆 96"/>
            <p:cNvSpPr/>
            <p:nvPr/>
          </p:nvSpPr>
          <p:spPr>
            <a:xfrm>
              <a:off x="299664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椭圆 79"/>
            <p:cNvSpPr/>
            <p:nvPr/>
          </p:nvSpPr>
          <p:spPr>
            <a:xfrm>
              <a:off x="296064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89" name="组合 98"/>
          <p:cNvGrpSpPr/>
          <p:nvPr/>
        </p:nvGrpSpPr>
        <p:grpSpPr>
          <a:xfrm>
            <a:off x="3177000" y="2227320"/>
            <a:ext cx="179640" cy="271800"/>
            <a:chOff x="3177000" y="2227320"/>
            <a:chExt cx="179640" cy="271800"/>
          </a:xfrm>
        </p:grpSpPr>
        <p:sp>
          <p:nvSpPr>
            <p:cNvPr id="190" name="椭圆 99"/>
            <p:cNvSpPr/>
            <p:nvPr/>
          </p:nvSpPr>
          <p:spPr>
            <a:xfrm>
              <a:off x="321300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椭圆 79"/>
            <p:cNvSpPr/>
            <p:nvPr/>
          </p:nvSpPr>
          <p:spPr>
            <a:xfrm>
              <a:off x="317700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92" name="组合 101"/>
          <p:cNvGrpSpPr/>
          <p:nvPr/>
        </p:nvGrpSpPr>
        <p:grpSpPr>
          <a:xfrm>
            <a:off x="3383640" y="2227320"/>
            <a:ext cx="179640" cy="271800"/>
            <a:chOff x="3383640" y="2227320"/>
            <a:chExt cx="179640" cy="271800"/>
          </a:xfrm>
        </p:grpSpPr>
        <p:sp>
          <p:nvSpPr>
            <p:cNvPr id="193" name="椭圆 102"/>
            <p:cNvSpPr/>
            <p:nvPr/>
          </p:nvSpPr>
          <p:spPr>
            <a:xfrm>
              <a:off x="341964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4" name="椭圆 79"/>
            <p:cNvSpPr/>
            <p:nvPr/>
          </p:nvSpPr>
          <p:spPr>
            <a:xfrm>
              <a:off x="338364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95" name="组合 104"/>
          <p:cNvGrpSpPr/>
          <p:nvPr/>
        </p:nvGrpSpPr>
        <p:grpSpPr>
          <a:xfrm>
            <a:off x="3579840" y="2227320"/>
            <a:ext cx="179640" cy="271800"/>
            <a:chOff x="3579840" y="2227320"/>
            <a:chExt cx="179640" cy="271800"/>
          </a:xfrm>
        </p:grpSpPr>
        <p:sp>
          <p:nvSpPr>
            <p:cNvPr id="196" name="椭圆 105"/>
            <p:cNvSpPr/>
            <p:nvPr/>
          </p:nvSpPr>
          <p:spPr>
            <a:xfrm>
              <a:off x="361584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椭圆 79"/>
            <p:cNvSpPr/>
            <p:nvPr/>
          </p:nvSpPr>
          <p:spPr>
            <a:xfrm>
              <a:off x="357984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198" name="组合 107"/>
          <p:cNvGrpSpPr/>
          <p:nvPr/>
        </p:nvGrpSpPr>
        <p:grpSpPr>
          <a:xfrm>
            <a:off x="3790080" y="2227320"/>
            <a:ext cx="179640" cy="271800"/>
            <a:chOff x="3790080" y="2227320"/>
            <a:chExt cx="179640" cy="271800"/>
          </a:xfrm>
        </p:grpSpPr>
        <p:sp>
          <p:nvSpPr>
            <p:cNvPr id="199" name="椭圆 108"/>
            <p:cNvSpPr/>
            <p:nvPr/>
          </p:nvSpPr>
          <p:spPr>
            <a:xfrm>
              <a:off x="3826080" y="222732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" name="椭圆 79"/>
            <p:cNvSpPr/>
            <p:nvPr/>
          </p:nvSpPr>
          <p:spPr>
            <a:xfrm>
              <a:off x="3790080" y="233532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01" name="组合 110"/>
          <p:cNvGrpSpPr/>
          <p:nvPr/>
        </p:nvGrpSpPr>
        <p:grpSpPr>
          <a:xfrm>
            <a:off x="1947240" y="3247560"/>
            <a:ext cx="179640" cy="271800"/>
            <a:chOff x="1947240" y="3247560"/>
            <a:chExt cx="179640" cy="271800"/>
          </a:xfrm>
        </p:grpSpPr>
        <p:sp>
          <p:nvSpPr>
            <p:cNvPr id="202" name="椭圆 111"/>
            <p:cNvSpPr/>
            <p:nvPr/>
          </p:nvSpPr>
          <p:spPr>
            <a:xfrm>
              <a:off x="1983240" y="32475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3" name="椭圆 79"/>
            <p:cNvSpPr/>
            <p:nvPr/>
          </p:nvSpPr>
          <p:spPr>
            <a:xfrm>
              <a:off x="1947240" y="33555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04" name="组合 113"/>
          <p:cNvGrpSpPr/>
          <p:nvPr/>
        </p:nvGrpSpPr>
        <p:grpSpPr>
          <a:xfrm>
            <a:off x="2153520" y="3247560"/>
            <a:ext cx="179640" cy="271800"/>
            <a:chOff x="2153520" y="3247560"/>
            <a:chExt cx="179640" cy="271800"/>
          </a:xfrm>
        </p:grpSpPr>
        <p:sp>
          <p:nvSpPr>
            <p:cNvPr id="205" name="椭圆 114"/>
            <p:cNvSpPr/>
            <p:nvPr/>
          </p:nvSpPr>
          <p:spPr>
            <a:xfrm>
              <a:off x="2189520" y="32475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椭圆 79"/>
            <p:cNvSpPr/>
            <p:nvPr/>
          </p:nvSpPr>
          <p:spPr>
            <a:xfrm>
              <a:off x="2153520" y="33555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07" name="组合 116"/>
          <p:cNvGrpSpPr/>
          <p:nvPr/>
        </p:nvGrpSpPr>
        <p:grpSpPr>
          <a:xfrm>
            <a:off x="2350080" y="3247560"/>
            <a:ext cx="179640" cy="271800"/>
            <a:chOff x="2350080" y="3247560"/>
            <a:chExt cx="179640" cy="271800"/>
          </a:xfrm>
        </p:grpSpPr>
        <p:sp>
          <p:nvSpPr>
            <p:cNvPr id="208" name="椭圆 117"/>
            <p:cNvSpPr/>
            <p:nvPr/>
          </p:nvSpPr>
          <p:spPr>
            <a:xfrm>
              <a:off x="2386080" y="32475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椭圆 79"/>
            <p:cNvSpPr/>
            <p:nvPr/>
          </p:nvSpPr>
          <p:spPr>
            <a:xfrm>
              <a:off x="2350080" y="33555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10" name="组合 119"/>
          <p:cNvGrpSpPr/>
          <p:nvPr/>
        </p:nvGrpSpPr>
        <p:grpSpPr>
          <a:xfrm>
            <a:off x="2551680" y="3247560"/>
            <a:ext cx="179640" cy="271800"/>
            <a:chOff x="2551680" y="3247560"/>
            <a:chExt cx="179640" cy="271800"/>
          </a:xfrm>
        </p:grpSpPr>
        <p:sp>
          <p:nvSpPr>
            <p:cNvPr id="211" name="椭圆 120"/>
            <p:cNvSpPr/>
            <p:nvPr/>
          </p:nvSpPr>
          <p:spPr>
            <a:xfrm>
              <a:off x="2587680" y="32475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椭圆 79"/>
            <p:cNvSpPr/>
            <p:nvPr/>
          </p:nvSpPr>
          <p:spPr>
            <a:xfrm>
              <a:off x="2551680" y="33555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13" name="组合 122"/>
          <p:cNvGrpSpPr/>
          <p:nvPr/>
        </p:nvGrpSpPr>
        <p:grpSpPr>
          <a:xfrm>
            <a:off x="2768400" y="3247560"/>
            <a:ext cx="179640" cy="271800"/>
            <a:chOff x="2768400" y="3247560"/>
            <a:chExt cx="179640" cy="271800"/>
          </a:xfrm>
        </p:grpSpPr>
        <p:sp>
          <p:nvSpPr>
            <p:cNvPr id="214" name="椭圆 123"/>
            <p:cNvSpPr/>
            <p:nvPr/>
          </p:nvSpPr>
          <p:spPr>
            <a:xfrm>
              <a:off x="2804400" y="32475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椭圆 79"/>
            <p:cNvSpPr/>
            <p:nvPr/>
          </p:nvSpPr>
          <p:spPr>
            <a:xfrm>
              <a:off x="2768400" y="33555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16" name="组合 125"/>
          <p:cNvGrpSpPr/>
          <p:nvPr/>
        </p:nvGrpSpPr>
        <p:grpSpPr>
          <a:xfrm>
            <a:off x="2974680" y="3247560"/>
            <a:ext cx="179640" cy="271800"/>
            <a:chOff x="2974680" y="3247560"/>
            <a:chExt cx="179640" cy="271800"/>
          </a:xfrm>
        </p:grpSpPr>
        <p:sp>
          <p:nvSpPr>
            <p:cNvPr id="217" name="椭圆 126"/>
            <p:cNvSpPr/>
            <p:nvPr/>
          </p:nvSpPr>
          <p:spPr>
            <a:xfrm>
              <a:off x="3010680" y="32475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8" name="椭圆 79"/>
            <p:cNvSpPr/>
            <p:nvPr/>
          </p:nvSpPr>
          <p:spPr>
            <a:xfrm>
              <a:off x="2974680" y="33555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19" name="组合 128"/>
          <p:cNvGrpSpPr/>
          <p:nvPr/>
        </p:nvGrpSpPr>
        <p:grpSpPr>
          <a:xfrm>
            <a:off x="3171240" y="3247560"/>
            <a:ext cx="179640" cy="271800"/>
            <a:chOff x="3171240" y="3247560"/>
            <a:chExt cx="179640" cy="271800"/>
          </a:xfrm>
        </p:grpSpPr>
        <p:sp>
          <p:nvSpPr>
            <p:cNvPr id="220" name="椭圆 129"/>
            <p:cNvSpPr/>
            <p:nvPr/>
          </p:nvSpPr>
          <p:spPr>
            <a:xfrm>
              <a:off x="3207240" y="32475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椭圆 79"/>
            <p:cNvSpPr/>
            <p:nvPr/>
          </p:nvSpPr>
          <p:spPr>
            <a:xfrm>
              <a:off x="3171240" y="33555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22" name="组合 131"/>
          <p:cNvGrpSpPr/>
          <p:nvPr/>
        </p:nvGrpSpPr>
        <p:grpSpPr>
          <a:xfrm>
            <a:off x="3381480" y="3247560"/>
            <a:ext cx="179640" cy="271800"/>
            <a:chOff x="3381480" y="3247560"/>
            <a:chExt cx="179640" cy="271800"/>
          </a:xfrm>
        </p:grpSpPr>
        <p:sp>
          <p:nvSpPr>
            <p:cNvPr id="223" name="椭圆 132"/>
            <p:cNvSpPr/>
            <p:nvPr/>
          </p:nvSpPr>
          <p:spPr>
            <a:xfrm>
              <a:off x="3417480" y="32475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椭圆 79"/>
            <p:cNvSpPr/>
            <p:nvPr/>
          </p:nvSpPr>
          <p:spPr>
            <a:xfrm>
              <a:off x="3381480" y="33555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25" name="组合 134"/>
          <p:cNvGrpSpPr/>
          <p:nvPr/>
        </p:nvGrpSpPr>
        <p:grpSpPr>
          <a:xfrm>
            <a:off x="3583440" y="3247560"/>
            <a:ext cx="179640" cy="271800"/>
            <a:chOff x="3583440" y="3247560"/>
            <a:chExt cx="179640" cy="271800"/>
          </a:xfrm>
        </p:grpSpPr>
        <p:sp>
          <p:nvSpPr>
            <p:cNvPr id="226" name="椭圆 135"/>
            <p:cNvSpPr/>
            <p:nvPr/>
          </p:nvSpPr>
          <p:spPr>
            <a:xfrm>
              <a:off x="3619440" y="32475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椭圆 79"/>
            <p:cNvSpPr/>
            <p:nvPr/>
          </p:nvSpPr>
          <p:spPr>
            <a:xfrm>
              <a:off x="3583440" y="33555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28" name="组合 137"/>
          <p:cNvGrpSpPr/>
          <p:nvPr/>
        </p:nvGrpSpPr>
        <p:grpSpPr>
          <a:xfrm>
            <a:off x="1955160" y="1851840"/>
            <a:ext cx="179640" cy="271800"/>
            <a:chOff x="1955160" y="1851840"/>
            <a:chExt cx="179640" cy="271800"/>
          </a:xfrm>
        </p:grpSpPr>
        <p:sp>
          <p:nvSpPr>
            <p:cNvPr id="229" name="椭圆 138"/>
            <p:cNvSpPr/>
            <p:nvPr/>
          </p:nvSpPr>
          <p:spPr>
            <a:xfrm>
              <a:off x="1991160" y="18518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椭圆 79"/>
            <p:cNvSpPr/>
            <p:nvPr/>
          </p:nvSpPr>
          <p:spPr>
            <a:xfrm>
              <a:off x="1955160" y="19598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31" name="组合 140"/>
          <p:cNvGrpSpPr/>
          <p:nvPr/>
        </p:nvGrpSpPr>
        <p:grpSpPr>
          <a:xfrm>
            <a:off x="2161440" y="1851840"/>
            <a:ext cx="179640" cy="271800"/>
            <a:chOff x="2161440" y="1851840"/>
            <a:chExt cx="179640" cy="271800"/>
          </a:xfrm>
        </p:grpSpPr>
        <p:sp>
          <p:nvSpPr>
            <p:cNvPr id="232" name="椭圆 141"/>
            <p:cNvSpPr/>
            <p:nvPr/>
          </p:nvSpPr>
          <p:spPr>
            <a:xfrm>
              <a:off x="2197440" y="18518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椭圆 79"/>
            <p:cNvSpPr/>
            <p:nvPr/>
          </p:nvSpPr>
          <p:spPr>
            <a:xfrm>
              <a:off x="2161440" y="19598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34" name="组合 143"/>
          <p:cNvGrpSpPr/>
          <p:nvPr/>
        </p:nvGrpSpPr>
        <p:grpSpPr>
          <a:xfrm>
            <a:off x="2358000" y="1851840"/>
            <a:ext cx="179640" cy="271800"/>
            <a:chOff x="2358000" y="1851840"/>
            <a:chExt cx="179640" cy="271800"/>
          </a:xfrm>
        </p:grpSpPr>
        <p:sp>
          <p:nvSpPr>
            <p:cNvPr id="235" name="椭圆 144"/>
            <p:cNvSpPr/>
            <p:nvPr/>
          </p:nvSpPr>
          <p:spPr>
            <a:xfrm>
              <a:off x="2394000" y="18518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椭圆 79"/>
            <p:cNvSpPr/>
            <p:nvPr/>
          </p:nvSpPr>
          <p:spPr>
            <a:xfrm>
              <a:off x="2358000" y="19598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37" name="组合 146"/>
          <p:cNvGrpSpPr/>
          <p:nvPr/>
        </p:nvGrpSpPr>
        <p:grpSpPr>
          <a:xfrm>
            <a:off x="2559600" y="1851840"/>
            <a:ext cx="179640" cy="271800"/>
            <a:chOff x="2559600" y="1851840"/>
            <a:chExt cx="179640" cy="271800"/>
          </a:xfrm>
        </p:grpSpPr>
        <p:sp>
          <p:nvSpPr>
            <p:cNvPr id="238" name="椭圆 147"/>
            <p:cNvSpPr/>
            <p:nvPr/>
          </p:nvSpPr>
          <p:spPr>
            <a:xfrm>
              <a:off x="2595600" y="18518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椭圆 79"/>
            <p:cNvSpPr/>
            <p:nvPr/>
          </p:nvSpPr>
          <p:spPr>
            <a:xfrm>
              <a:off x="2559600" y="19598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40" name="组合 149"/>
          <p:cNvGrpSpPr/>
          <p:nvPr/>
        </p:nvGrpSpPr>
        <p:grpSpPr>
          <a:xfrm>
            <a:off x="2776320" y="1851840"/>
            <a:ext cx="179640" cy="271800"/>
            <a:chOff x="2776320" y="1851840"/>
            <a:chExt cx="179640" cy="271800"/>
          </a:xfrm>
        </p:grpSpPr>
        <p:sp>
          <p:nvSpPr>
            <p:cNvPr id="241" name="椭圆 150"/>
            <p:cNvSpPr/>
            <p:nvPr/>
          </p:nvSpPr>
          <p:spPr>
            <a:xfrm>
              <a:off x="2812320" y="18518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椭圆 79"/>
            <p:cNvSpPr/>
            <p:nvPr/>
          </p:nvSpPr>
          <p:spPr>
            <a:xfrm>
              <a:off x="2776320" y="19598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43" name="组合 152"/>
          <p:cNvGrpSpPr/>
          <p:nvPr/>
        </p:nvGrpSpPr>
        <p:grpSpPr>
          <a:xfrm>
            <a:off x="2982600" y="1851840"/>
            <a:ext cx="179640" cy="271800"/>
            <a:chOff x="2982600" y="1851840"/>
            <a:chExt cx="179640" cy="271800"/>
          </a:xfrm>
        </p:grpSpPr>
        <p:sp>
          <p:nvSpPr>
            <p:cNvPr id="244" name="椭圆 153"/>
            <p:cNvSpPr/>
            <p:nvPr/>
          </p:nvSpPr>
          <p:spPr>
            <a:xfrm>
              <a:off x="3018600" y="18518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椭圆 79"/>
            <p:cNvSpPr/>
            <p:nvPr/>
          </p:nvSpPr>
          <p:spPr>
            <a:xfrm>
              <a:off x="2982600" y="19598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46" name="组合 155"/>
          <p:cNvGrpSpPr/>
          <p:nvPr/>
        </p:nvGrpSpPr>
        <p:grpSpPr>
          <a:xfrm>
            <a:off x="3179160" y="1851840"/>
            <a:ext cx="179640" cy="271800"/>
            <a:chOff x="3179160" y="1851840"/>
            <a:chExt cx="179640" cy="271800"/>
          </a:xfrm>
        </p:grpSpPr>
        <p:sp>
          <p:nvSpPr>
            <p:cNvPr id="247" name="椭圆 156"/>
            <p:cNvSpPr/>
            <p:nvPr/>
          </p:nvSpPr>
          <p:spPr>
            <a:xfrm>
              <a:off x="3215160" y="18518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椭圆 79"/>
            <p:cNvSpPr/>
            <p:nvPr/>
          </p:nvSpPr>
          <p:spPr>
            <a:xfrm>
              <a:off x="3179160" y="19598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49" name="组合 158"/>
          <p:cNvGrpSpPr/>
          <p:nvPr/>
        </p:nvGrpSpPr>
        <p:grpSpPr>
          <a:xfrm>
            <a:off x="3389400" y="1851840"/>
            <a:ext cx="179640" cy="271800"/>
            <a:chOff x="3389400" y="1851840"/>
            <a:chExt cx="179640" cy="271800"/>
          </a:xfrm>
        </p:grpSpPr>
        <p:sp>
          <p:nvSpPr>
            <p:cNvPr id="250" name="椭圆 159"/>
            <p:cNvSpPr/>
            <p:nvPr/>
          </p:nvSpPr>
          <p:spPr>
            <a:xfrm>
              <a:off x="3425400" y="18518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椭圆 79"/>
            <p:cNvSpPr/>
            <p:nvPr/>
          </p:nvSpPr>
          <p:spPr>
            <a:xfrm>
              <a:off x="3389400" y="19598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52" name="组合 161"/>
          <p:cNvGrpSpPr/>
          <p:nvPr/>
        </p:nvGrpSpPr>
        <p:grpSpPr>
          <a:xfrm>
            <a:off x="3591360" y="1851840"/>
            <a:ext cx="179640" cy="271800"/>
            <a:chOff x="3591360" y="1851840"/>
            <a:chExt cx="179640" cy="271800"/>
          </a:xfrm>
        </p:grpSpPr>
        <p:sp>
          <p:nvSpPr>
            <p:cNvPr id="253" name="椭圆 162"/>
            <p:cNvSpPr/>
            <p:nvPr/>
          </p:nvSpPr>
          <p:spPr>
            <a:xfrm>
              <a:off x="3627360" y="185184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椭圆 79"/>
            <p:cNvSpPr/>
            <p:nvPr/>
          </p:nvSpPr>
          <p:spPr>
            <a:xfrm>
              <a:off x="3591360" y="195984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55" name="组合 164"/>
          <p:cNvGrpSpPr/>
          <p:nvPr/>
        </p:nvGrpSpPr>
        <p:grpSpPr>
          <a:xfrm>
            <a:off x="2410200" y="3575160"/>
            <a:ext cx="179640" cy="271800"/>
            <a:chOff x="2410200" y="3575160"/>
            <a:chExt cx="179640" cy="271800"/>
          </a:xfrm>
        </p:grpSpPr>
        <p:sp>
          <p:nvSpPr>
            <p:cNvPr id="256" name="椭圆 165"/>
            <p:cNvSpPr/>
            <p:nvPr/>
          </p:nvSpPr>
          <p:spPr>
            <a:xfrm>
              <a:off x="2446200" y="35751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椭圆 79"/>
            <p:cNvSpPr/>
            <p:nvPr/>
          </p:nvSpPr>
          <p:spPr>
            <a:xfrm>
              <a:off x="2410200" y="36831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58" name="组合 167"/>
          <p:cNvGrpSpPr/>
          <p:nvPr/>
        </p:nvGrpSpPr>
        <p:grpSpPr>
          <a:xfrm>
            <a:off x="2616480" y="3575160"/>
            <a:ext cx="179640" cy="271800"/>
            <a:chOff x="2616480" y="3575160"/>
            <a:chExt cx="179640" cy="271800"/>
          </a:xfrm>
        </p:grpSpPr>
        <p:sp>
          <p:nvSpPr>
            <p:cNvPr id="259" name="椭圆 168"/>
            <p:cNvSpPr/>
            <p:nvPr/>
          </p:nvSpPr>
          <p:spPr>
            <a:xfrm>
              <a:off x="2652480" y="35751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椭圆 79"/>
            <p:cNvSpPr/>
            <p:nvPr/>
          </p:nvSpPr>
          <p:spPr>
            <a:xfrm>
              <a:off x="2616480" y="36831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61" name="组合 170"/>
          <p:cNvGrpSpPr/>
          <p:nvPr/>
        </p:nvGrpSpPr>
        <p:grpSpPr>
          <a:xfrm>
            <a:off x="2813040" y="3575160"/>
            <a:ext cx="179640" cy="271800"/>
            <a:chOff x="2813040" y="3575160"/>
            <a:chExt cx="179640" cy="271800"/>
          </a:xfrm>
        </p:grpSpPr>
        <p:sp>
          <p:nvSpPr>
            <p:cNvPr id="262" name="椭圆 171"/>
            <p:cNvSpPr/>
            <p:nvPr/>
          </p:nvSpPr>
          <p:spPr>
            <a:xfrm>
              <a:off x="2849040" y="35751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椭圆 79"/>
            <p:cNvSpPr/>
            <p:nvPr/>
          </p:nvSpPr>
          <p:spPr>
            <a:xfrm>
              <a:off x="2813040" y="36831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64" name="组合 173"/>
          <p:cNvGrpSpPr/>
          <p:nvPr/>
        </p:nvGrpSpPr>
        <p:grpSpPr>
          <a:xfrm>
            <a:off x="3023280" y="3575160"/>
            <a:ext cx="179640" cy="271800"/>
            <a:chOff x="3023280" y="3575160"/>
            <a:chExt cx="179640" cy="271800"/>
          </a:xfrm>
        </p:grpSpPr>
        <p:sp>
          <p:nvSpPr>
            <p:cNvPr id="265" name="椭圆 174"/>
            <p:cNvSpPr/>
            <p:nvPr/>
          </p:nvSpPr>
          <p:spPr>
            <a:xfrm>
              <a:off x="3059280" y="35751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椭圆 79"/>
            <p:cNvSpPr/>
            <p:nvPr/>
          </p:nvSpPr>
          <p:spPr>
            <a:xfrm>
              <a:off x="3023280" y="36831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67" name="组合 176"/>
          <p:cNvGrpSpPr/>
          <p:nvPr/>
        </p:nvGrpSpPr>
        <p:grpSpPr>
          <a:xfrm>
            <a:off x="3225240" y="3575160"/>
            <a:ext cx="179640" cy="271800"/>
            <a:chOff x="3225240" y="3575160"/>
            <a:chExt cx="179640" cy="271800"/>
          </a:xfrm>
        </p:grpSpPr>
        <p:sp>
          <p:nvSpPr>
            <p:cNvPr id="268" name="椭圆 177"/>
            <p:cNvSpPr/>
            <p:nvPr/>
          </p:nvSpPr>
          <p:spPr>
            <a:xfrm>
              <a:off x="3261240" y="357516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椭圆 79"/>
            <p:cNvSpPr/>
            <p:nvPr/>
          </p:nvSpPr>
          <p:spPr>
            <a:xfrm>
              <a:off x="3225240" y="368316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70" name="组合 179"/>
          <p:cNvGrpSpPr/>
          <p:nvPr/>
        </p:nvGrpSpPr>
        <p:grpSpPr>
          <a:xfrm>
            <a:off x="2360520" y="1475280"/>
            <a:ext cx="179640" cy="271800"/>
            <a:chOff x="2360520" y="1475280"/>
            <a:chExt cx="179640" cy="271800"/>
          </a:xfrm>
        </p:grpSpPr>
        <p:sp>
          <p:nvSpPr>
            <p:cNvPr id="271" name="椭圆 180"/>
            <p:cNvSpPr/>
            <p:nvPr/>
          </p:nvSpPr>
          <p:spPr>
            <a:xfrm>
              <a:off x="2396520" y="147528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椭圆 79"/>
            <p:cNvSpPr/>
            <p:nvPr/>
          </p:nvSpPr>
          <p:spPr>
            <a:xfrm>
              <a:off x="2360520" y="158328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73" name="组合 182"/>
          <p:cNvGrpSpPr/>
          <p:nvPr/>
        </p:nvGrpSpPr>
        <p:grpSpPr>
          <a:xfrm>
            <a:off x="2566800" y="1475280"/>
            <a:ext cx="179640" cy="271800"/>
            <a:chOff x="2566800" y="1475280"/>
            <a:chExt cx="179640" cy="271800"/>
          </a:xfrm>
        </p:grpSpPr>
        <p:sp>
          <p:nvSpPr>
            <p:cNvPr id="274" name="椭圆 183"/>
            <p:cNvSpPr/>
            <p:nvPr/>
          </p:nvSpPr>
          <p:spPr>
            <a:xfrm>
              <a:off x="2602800" y="147528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" name="椭圆 79"/>
            <p:cNvSpPr/>
            <p:nvPr/>
          </p:nvSpPr>
          <p:spPr>
            <a:xfrm>
              <a:off x="2566800" y="158328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76" name="组合 185"/>
          <p:cNvGrpSpPr/>
          <p:nvPr/>
        </p:nvGrpSpPr>
        <p:grpSpPr>
          <a:xfrm>
            <a:off x="2763360" y="1475280"/>
            <a:ext cx="179640" cy="271800"/>
            <a:chOff x="2763360" y="1475280"/>
            <a:chExt cx="179640" cy="271800"/>
          </a:xfrm>
        </p:grpSpPr>
        <p:sp>
          <p:nvSpPr>
            <p:cNvPr id="277" name="椭圆 186"/>
            <p:cNvSpPr/>
            <p:nvPr/>
          </p:nvSpPr>
          <p:spPr>
            <a:xfrm>
              <a:off x="2799360" y="147528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椭圆 79"/>
            <p:cNvSpPr/>
            <p:nvPr/>
          </p:nvSpPr>
          <p:spPr>
            <a:xfrm>
              <a:off x="2763360" y="158328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79" name="组合 188"/>
          <p:cNvGrpSpPr/>
          <p:nvPr/>
        </p:nvGrpSpPr>
        <p:grpSpPr>
          <a:xfrm>
            <a:off x="2973600" y="1475280"/>
            <a:ext cx="179640" cy="271800"/>
            <a:chOff x="2973600" y="1475280"/>
            <a:chExt cx="179640" cy="271800"/>
          </a:xfrm>
        </p:grpSpPr>
        <p:sp>
          <p:nvSpPr>
            <p:cNvPr id="280" name="椭圆 189"/>
            <p:cNvSpPr/>
            <p:nvPr/>
          </p:nvSpPr>
          <p:spPr>
            <a:xfrm>
              <a:off x="3009600" y="147528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椭圆 79"/>
            <p:cNvSpPr/>
            <p:nvPr/>
          </p:nvSpPr>
          <p:spPr>
            <a:xfrm>
              <a:off x="2973600" y="158328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grpSp>
        <p:nvGrpSpPr>
          <p:cNvPr id="282" name="组合 191"/>
          <p:cNvGrpSpPr/>
          <p:nvPr/>
        </p:nvGrpSpPr>
        <p:grpSpPr>
          <a:xfrm>
            <a:off x="3175560" y="1475280"/>
            <a:ext cx="179640" cy="271800"/>
            <a:chOff x="3175560" y="1475280"/>
            <a:chExt cx="179640" cy="271800"/>
          </a:xfrm>
        </p:grpSpPr>
        <p:sp>
          <p:nvSpPr>
            <p:cNvPr id="283" name="椭圆 192"/>
            <p:cNvSpPr/>
            <p:nvPr/>
          </p:nvSpPr>
          <p:spPr>
            <a:xfrm>
              <a:off x="3211560" y="1475280"/>
              <a:ext cx="107640" cy="1076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椭圆 79"/>
            <p:cNvSpPr/>
            <p:nvPr/>
          </p:nvSpPr>
          <p:spPr>
            <a:xfrm>
              <a:off x="3175560" y="1583280"/>
              <a:ext cx="179640" cy="163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60040" h="720080">
                  <a:moveTo>
                    <a:pt x="180020" y="0"/>
                  </a:moveTo>
                  <a:cubicBezTo>
                    <a:pt x="279442" y="0"/>
                    <a:pt x="360040" y="322391"/>
                    <a:pt x="360040" y="720080"/>
                  </a:cubicBezTo>
                  <a:lnTo>
                    <a:pt x="0" y="720080"/>
                  </a:lnTo>
                  <a:cubicBezTo>
                    <a:pt x="0" y="322391"/>
                    <a:pt x="80598" y="0"/>
                    <a:pt x="18002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eeece1"/>
                </a:solidFill>
                <a:latin typeface="迷你简粗倩"/>
                <a:ea typeface="迷你简粗倩"/>
              </a:endParaRPr>
            </a:p>
          </p:txBody>
        </p:sp>
      </p:grpSp>
      <p:sp>
        <p:nvSpPr>
          <p:cNvPr id="285" name="椭圆 194"/>
          <p:cNvSpPr/>
          <p:nvPr/>
        </p:nvSpPr>
        <p:spPr>
          <a:xfrm>
            <a:off x="1456200" y="1265040"/>
            <a:ext cx="2764440" cy="276444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TextBox 195"/>
          <p:cNvSpPr/>
          <p:nvPr/>
        </p:nvSpPr>
        <p:spPr>
          <a:xfrm>
            <a:off x="2686320" y="413604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这么些个人就能是一个国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右箭头 196"/>
          <p:cNvSpPr/>
          <p:nvPr/>
        </p:nvSpPr>
        <p:spPr>
          <a:xfrm>
            <a:off x="4500000" y="2262240"/>
            <a:ext cx="1223640" cy="77004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>
                <a:lumMod val="85000"/>
                <a:lumOff val="1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圆角矩形 197"/>
          <p:cNvSpPr/>
          <p:nvPr/>
        </p:nvSpPr>
        <p:spPr>
          <a:xfrm>
            <a:off x="6012000" y="2335320"/>
            <a:ext cx="1828800" cy="6040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>
                <a:lumMod val="85000"/>
                <a:lumOff val="1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TextBox 198"/>
          <p:cNvSpPr/>
          <p:nvPr/>
        </p:nvSpPr>
        <p:spPr>
          <a:xfrm>
            <a:off x="6350040" y="235512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城邦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99"/>
          <p:cNvSpPr/>
          <p:nvPr/>
        </p:nvSpPr>
        <p:spPr>
          <a:xfrm>
            <a:off x="7111080" y="3351240"/>
            <a:ext cx="26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越小的国家越容易实现民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00"/>
          <p:cNvSpPr/>
          <p:nvPr/>
        </p:nvSpPr>
        <p:spPr>
          <a:xfrm>
            <a:off x="6921000" y="3611520"/>
            <a:ext cx="1567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来自法国的孟子（孟德斯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直接连接符 202"/>
          <p:cNvCxnSpPr>
            <a:endCxn id="291" idx="1"/>
          </p:cNvCxnSpPr>
          <p:nvPr/>
        </p:nvCxnSpPr>
        <p:spPr>
          <a:xfrm>
            <a:off x="6156000" y="3765240"/>
            <a:ext cx="290160" cy="360"/>
          </a:xfrm>
          <a:prstGeom prst="straightConnector1">
            <a:avLst/>
          </a:prstGeom>
          <a:ln w="28575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955800" y="180000"/>
            <a:ext cx="223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但古希腊的民主也不是谁都享有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1632240" y="543960"/>
            <a:ext cx="2954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你得是有本地户口的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公民</a:t>
            </a: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才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5303160" y="4443840"/>
            <a:ext cx="252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户口啊户口，求苏州户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4"/>
          <p:cNvGrpSpPr/>
          <p:nvPr/>
        </p:nvGrpSpPr>
        <p:grpSpPr>
          <a:xfrm>
            <a:off x="1060560" y="1807920"/>
            <a:ext cx="1173600" cy="1439280"/>
            <a:chOff x="1060560" y="1807920"/>
            <a:chExt cx="1173600" cy="1439280"/>
          </a:xfrm>
        </p:grpSpPr>
        <p:sp>
          <p:nvSpPr>
            <p:cNvPr id="297" name="梯形 8"/>
            <p:cNvSpPr/>
            <p:nvPr/>
          </p:nvSpPr>
          <p:spPr>
            <a:xfrm rot="10800000">
              <a:off x="1273680" y="2388240"/>
              <a:ext cx="776520" cy="858960"/>
            </a:xfrm>
            <a:prstGeom prst="trapezoid">
              <a:avLst>
                <a:gd name="adj" fmla="val 1069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椭圆 9"/>
            <p:cNvSpPr/>
            <p:nvPr/>
          </p:nvSpPr>
          <p:spPr>
            <a:xfrm>
              <a:off x="1454040" y="1807920"/>
              <a:ext cx="415440" cy="4154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" name="圆角矩形 4"/>
            <p:cNvSpPr/>
            <p:nvPr/>
          </p:nvSpPr>
          <p:spPr>
            <a:xfrm rot="1330800">
              <a:off x="1431720" y="2248920"/>
              <a:ext cx="685440" cy="75348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949983" h="945493">
                  <a:moveTo>
                    <a:pt x="724914" y="8101"/>
                  </a:moveTo>
                  <a:cubicBezTo>
                    <a:pt x="737247" y="2884"/>
                    <a:pt x="750807" y="0"/>
                    <a:pt x="765041" y="0"/>
                  </a:cubicBezTo>
                  <a:lnTo>
                    <a:pt x="846893" y="0"/>
                  </a:lnTo>
                  <a:cubicBezTo>
                    <a:pt x="903828" y="0"/>
                    <a:pt x="949983" y="46155"/>
                    <a:pt x="949983" y="103090"/>
                  </a:cubicBezTo>
                  <a:lnTo>
                    <a:pt x="949983" y="842403"/>
                  </a:lnTo>
                  <a:cubicBezTo>
                    <a:pt x="949983" y="899338"/>
                    <a:pt x="903828" y="945493"/>
                    <a:pt x="846893" y="945493"/>
                  </a:cubicBezTo>
                  <a:lnTo>
                    <a:pt x="765041" y="945493"/>
                  </a:lnTo>
                  <a:cubicBezTo>
                    <a:pt x="729810" y="945493"/>
                    <a:pt x="698707" y="927820"/>
                    <a:pt x="681680" y="899775"/>
                  </a:cubicBezTo>
                  <a:lnTo>
                    <a:pt x="83415" y="783339"/>
                  </a:lnTo>
                  <a:cubicBezTo>
                    <a:pt x="27529" y="772462"/>
                    <a:pt x="-8959" y="718340"/>
                    <a:pt x="1918" y="662453"/>
                  </a:cubicBezTo>
                  <a:lnTo>
                    <a:pt x="17555" y="582109"/>
                  </a:lnTo>
                  <a:cubicBezTo>
                    <a:pt x="28432" y="526223"/>
                    <a:pt x="82554" y="489735"/>
                    <a:pt x="138441" y="500612"/>
                  </a:cubicBezTo>
                  <a:lnTo>
                    <a:pt x="661951" y="602499"/>
                  </a:lnTo>
                  <a:lnTo>
                    <a:pt x="661951" y="103090"/>
                  </a:lnTo>
                  <a:cubicBezTo>
                    <a:pt x="661951" y="60389"/>
                    <a:pt x="687913" y="23751"/>
                    <a:pt x="724914" y="8101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eeece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圆角矩形 2"/>
            <p:cNvSpPr/>
            <p:nvPr/>
          </p:nvSpPr>
          <p:spPr>
            <a:xfrm rot="20191200">
              <a:off x="1187640" y="2234520"/>
              <a:ext cx="707760" cy="785160"/>
            </a:xfrm>
            <a:custGeom>
              <a:avLst/>
              <a:gdLst>
                <a:gd name="textAreaLeft" fmla="*/ 0 w 707760"/>
                <a:gd name="textAreaRight" fmla="*/ 708120 w 707760"/>
                <a:gd name="textAreaTop" fmla="*/ 0 h 785160"/>
                <a:gd name="textAreaBottom" fmla="*/ 785520 h 785160"/>
              </a:gdLst>
              <a:ahLst/>
              <a:rect l="textAreaLeft" t="textAreaTop" r="textAreaRight" b="textAreaBottom"/>
              <a:pathLst>
                <a:path w="981078" h="985056">
                  <a:moveTo>
                    <a:pt x="225069" y="8102"/>
                  </a:moveTo>
                  <a:cubicBezTo>
                    <a:pt x="262070" y="23751"/>
                    <a:pt x="288032" y="60389"/>
                    <a:pt x="288032" y="103090"/>
                  </a:cubicBezTo>
                  <a:lnTo>
                    <a:pt x="288032" y="667954"/>
                  </a:lnTo>
                  <a:lnTo>
                    <a:pt x="843651" y="563030"/>
                  </a:lnTo>
                  <a:cubicBezTo>
                    <a:pt x="899597" y="552465"/>
                    <a:pt x="953515" y="589254"/>
                    <a:pt x="964080" y="645201"/>
                  </a:cubicBezTo>
                  <a:lnTo>
                    <a:pt x="979269" y="725631"/>
                  </a:lnTo>
                  <a:cubicBezTo>
                    <a:pt x="989834" y="781577"/>
                    <a:pt x="953045" y="835495"/>
                    <a:pt x="897099" y="846060"/>
                  </a:cubicBezTo>
                  <a:lnTo>
                    <a:pt x="170626" y="983248"/>
                  </a:lnTo>
                  <a:cubicBezTo>
                    <a:pt x="128232" y="991254"/>
                    <a:pt x="87003" y="972069"/>
                    <a:pt x="65125" y="937829"/>
                  </a:cubicBezTo>
                  <a:cubicBezTo>
                    <a:pt x="26905" y="923059"/>
                    <a:pt x="0" y="885873"/>
                    <a:pt x="0" y="842403"/>
                  </a:cubicBezTo>
                  <a:lnTo>
                    <a:pt x="0" y="103090"/>
                  </a:lnTo>
                  <a:cubicBezTo>
                    <a:pt x="0" y="46155"/>
                    <a:pt x="46155" y="0"/>
                    <a:pt x="103090" y="0"/>
                  </a:cubicBezTo>
                  <a:lnTo>
                    <a:pt x="184942" y="0"/>
                  </a:lnTo>
                  <a:cubicBezTo>
                    <a:pt x="199176" y="0"/>
                    <a:pt x="212736" y="2885"/>
                    <a:pt x="225069" y="8102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eeece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1" name="组合 29"/>
          <p:cNvGrpSpPr/>
          <p:nvPr/>
        </p:nvGrpSpPr>
        <p:grpSpPr>
          <a:xfrm>
            <a:off x="3163320" y="1703880"/>
            <a:ext cx="1041120" cy="1545120"/>
            <a:chOff x="3163320" y="1703880"/>
            <a:chExt cx="1041120" cy="1545120"/>
          </a:xfrm>
        </p:grpSpPr>
        <p:sp>
          <p:nvSpPr>
            <p:cNvPr id="302" name="椭圆 15"/>
            <p:cNvSpPr/>
            <p:nvPr/>
          </p:nvSpPr>
          <p:spPr>
            <a:xfrm>
              <a:off x="3476160" y="1807920"/>
              <a:ext cx="415440" cy="4154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03" name="组合 27"/>
            <p:cNvGrpSpPr/>
            <p:nvPr/>
          </p:nvGrpSpPr>
          <p:grpSpPr>
            <a:xfrm>
              <a:off x="3163320" y="2283480"/>
              <a:ext cx="1041120" cy="965520"/>
              <a:chOff x="3163320" y="2283480"/>
              <a:chExt cx="1041120" cy="965520"/>
            </a:xfrm>
          </p:grpSpPr>
          <p:sp>
            <p:nvSpPr>
              <p:cNvPr id="304" name="椭圆 18"/>
              <p:cNvSpPr/>
              <p:nvPr/>
            </p:nvSpPr>
            <p:spPr>
              <a:xfrm>
                <a:off x="3163320" y="2297160"/>
                <a:ext cx="1041120" cy="933840"/>
              </a:xfrm>
              <a:custGeom>
                <a:avLst/>
                <a:gdLst>
                  <a:gd name="textAreaLeft" fmla="*/ 0 w 1041120"/>
                  <a:gd name="textAreaRight" fmla="*/ 1041480 w 1041120"/>
                  <a:gd name="textAreaTop" fmla="*/ 0 h 933840"/>
                  <a:gd name="textAreaBottom" fmla="*/ 934200 h 933840"/>
                </a:gdLst>
                <a:ahLst/>
                <a:rect l="textAreaLeft" t="textAreaTop" r="textAreaRight" b="textAreaBottom"/>
                <a:pathLst>
                  <a:path w="1041508" h="934282">
                    <a:moveTo>
                      <a:pt x="391454" y="0"/>
                    </a:moveTo>
                    <a:lnTo>
                      <a:pt x="520754" y="274361"/>
                    </a:lnTo>
                    <a:lnTo>
                      <a:pt x="650055" y="0"/>
                    </a:lnTo>
                    <a:cubicBezTo>
                      <a:pt x="875345" y="105914"/>
                      <a:pt x="1041508" y="484121"/>
                      <a:pt x="1041508" y="934282"/>
                    </a:cubicBezTo>
                    <a:lnTo>
                      <a:pt x="0" y="934282"/>
                    </a:lnTo>
                    <a:cubicBezTo>
                      <a:pt x="0" y="484121"/>
                      <a:pt x="166164" y="105914"/>
                      <a:pt x="391454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05" name="直接连接符 22"/>
              <p:cNvCxnSpPr/>
              <p:nvPr/>
            </p:nvCxnSpPr>
            <p:spPr>
              <a:xfrm flipH="1">
                <a:off x="3378960" y="2283480"/>
                <a:ext cx="432720" cy="948240"/>
              </a:xfrm>
              <a:prstGeom prst="straightConnector1">
                <a:avLst/>
              </a:prstGeom>
              <a:ln>
                <a:solidFill>
                  <a:srgbClr val="eeece1"/>
                </a:solidFill>
                <a:round/>
              </a:ln>
            </p:spPr>
          </p:cxnSp>
          <p:cxnSp>
            <p:nvCxnSpPr>
              <p:cNvPr id="306" name="直接连接符 26"/>
              <p:cNvCxnSpPr/>
              <p:nvPr/>
            </p:nvCxnSpPr>
            <p:spPr>
              <a:xfrm flipH="1">
                <a:off x="3451320" y="2301120"/>
                <a:ext cx="432360" cy="948240"/>
              </a:xfrm>
              <a:prstGeom prst="straightConnector1">
                <a:avLst/>
              </a:prstGeom>
              <a:ln>
                <a:solidFill>
                  <a:srgbClr val="eeece1"/>
                </a:solidFill>
                <a:round/>
              </a:ln>
            </p:spPr>
          </p:cxnSp>
        </p:grpSp>
        <p:sp>
          <p:nvSpPr>
            <p:cNvPr id="307" name="椭圆 28"/>
            <p:cNvSpPr/>
            <p:nvPr/>
          </p:nvSpPr>
          <p:spPr>
            <a:xfrm>
              <a:off x="3539880" y="1703880"/>
              <a:ext cx="287640" cy="2073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8" name="组合 12"/>
          <p:cNvGrpSpPr/>
          <p:nvPr/>
        </p:nvGrpSpPr>
        <p:grpSpPr>
          <a:xfrm>
            <a:off x="4961160" y="1716480"/>
            <a:ext cx="1313640" cy="1542600"/>
            <a:chOff x="4961160" y="1716480"/>
            <a:chExt cx="1313640" cy="1542600"/>
          </a:xfrm>
        </p:grpSpPr>
        <p:grpSp>
          <p:nvGrpSpPr>
            <p:cNvPr id="309" name="组合 35"/>
            <p:cNvGrpSpPr/>
            <p:nvPr/>
          </p:nvGrpSpPr>
          <p:grpSpPr>
            <a:xfrm>
              <a:off x="4961160" y="1716480"/>
              <a:ext cx="799920" cy="1075320"/>
              <a:chOff x="4961160" y="1716480"/>
              <a:chExt cx="799920" cy="1075320"/>
            </a:xfrm>
          </p:grpSpPr>
          <p:sp>
            <p:nvSpPr>
              <p:cNvPr id="310" name="椭圆 31"/>
              <p:cNvSpPr/>
              <p:nvPr/>
            </p:nvSpPr>
            <p:spPr>
              <a:xfrm rot="613800">
                <a:off x="5305680" y="173988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1" name="椭圆 33"/>
              <p:cNvSpPr/>
              <p:nvPr/>
            </p:nvSpPr>
            <p:spPr>
              <a:xfrm rot="613800">
                <a:off x="5016600" y="204948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12" name="梯形 36"/>
            <p:cNvSpPr/>
            <p:nvPr/>
          </p:nvSpPr>
          <p:spPr>
            <a:xfrm rot="10800000">
              <a:off x="5094720" y="2638080"/>
              <a:ext cx="489600" cy="60192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圆角矩形 37"/>
            <p:cNvSpPr/>
            <p:nvPr/>
          </p:nvSpPr>
          <p:spPr>
            <a:xfrm>
              <a:off x="5428440" y="2210760"/>
              <a:ext cx="522000" cy="194400"/>
            </a:xfrm>
            <a:prstGeom prst="roundRect">
              <a:avLst>
                <a:gd name="adj" fmla="val 42011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4" name="圆角矩形 38"/>
            <p:cNvSpPr/>
            <p:nvPr/>
          </p:nvSpPr>
          <p:spPr>
            <a:xfrm rot="16200000">
              <a:off x="5733720" y="25570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15" name="直接连接符 40"/>
            <p:cNvCxnSpPr/>
            <p:nvPr/>
          </p:nvCxnSpPr>
          <p:spPr>
            <a:xfrm flipV="1">
              <a:off x="5800680" y="243252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16" name="圆角矩形 44"/>
            <p:cNvSpPr/>
            <p:nvPr/>
          </p:nvSpPr>
          <p:spPr>
            <a:xfrm rot="16200000">
              <a:off x="5735520" y="23716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17" name="直接连接符 45"/>
            <p:cNvCxnSpPr/>
            <p:nvPr/>
          </p:nvCxnSpPr>
          <p:spPr>
            <a:xfrm flipV="1">
              <a:off x="5801040" y="225504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18" name="圆角矩形 47"/>
            <p:cNvSpPr/>
            <p:nvPr/>
          </p:nvSpPr>
          <p:spPr>
            <a:xfrm rot="16200000">
              <a:off x="5736240" y="273060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19" name="直接连接符 48"/>
            <p:cNvCxnSpPr/>
            <p:nvPr/>
          </p:nvCxnSpPr>
          <p:spPr>
            <a:xfrm flipV="1">
              <a:off x="5803200" y="260568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20" name="圆角矩形 30"/>
            <p:cNvSpPr/>
            <p:nvPr/>
          </p:nvSpPr>
          <p:spPr>
            <a:xfrm rot="16200000">
              <a:off x="5736240" y="290880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21" name="直接连接符 32"/>
            <p:cNvCxnSpPr/>
            <p:nvPr/>
          </p:nvCxnSpPr>
          <p:spPr>
            <a:xfrm flipV="1">
              <a:off x="5803200" y="278388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22" name="圆角矩形 34"/>
            <p:cNvSpPr/>
            <p:nvPr/>
          </p:nvSpPr>
          <p:spPr>
            <a:xfrm rot="16200000">
              <a:off x="5733720" y="30974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23" name="直接连接符 39"/>
            <p:cNvCxnSpPr/>
            <p:nvPr/>
          </p:nvCxnSpPr>
          <p:spPr>
            <a:xfrm flipV="1">
              <a:off x="5800320" y="297252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grpSp>
          <p:nvGrpSpPr>
            <p:cNvPr id="324" name="组合 7"/>
            <p:cNvGrpSpPr/>
            <p:nvPr/>
          </p:nvGrpSpPr>
          <p:grpSpPr>
            <a:xfrm>
              <a:off x="5798520" y="3149280"/>
              <a:ext cx="476280" cy="109800"/>
              <a:chOff x="5798520" y="3149280"/>
              <a:chExt cx="476280" cy="109800"/>
            </a:xfrm>
          </p:grpSpPr>
          <p:sp>
            <p:nvSpPr>
              <p:cNvPr id="325" name="圆角矩形 41"/>
              <p:cNvSpPr/>
              <p:nvPr/>
            </p:nvSpPr>
            <p:spPr>
              <a:xfrm rot="10800000">
                <a:off x="5898600" y="3165840"/>
                <a:ext cx="156240" cy="900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26" name="直接连接符 42"/>
              <p:cNvCxnSpPr/>
              <p:nvPr/>
            </p:nvCxnSpPr>
            <p:spPr>
              <a:xfrm flipH="1" flipV="1">
                <a:off x="5798520" y="3149280"/>
                <a:ext cx="131760" cy="8568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  <p:sp>
            <p:nvSpPr>
              <p:cNvPr id="327" name="圆角矩形 43"/>
              <p:cNvSpPr/>
              <p:nvPr/>
            </p:nvSpPr>
            <p:spPr>
              <a:xfrm rot="10800000">
                <a:off x="6118560" y="3169080"/>
                <a:ext cx="156240" cy="900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28" name="直接连接符 46"/>
              <p:cNvCxnSpPr/>
              <p:nvPr/>
            </p:nvCxnSpPr>
            <p:spPr>
              <a:xfrm flipH="1">
                <a:off x="6006240" y="3213720"/>
                <a:ext cx="15660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</p:grpSp>
      <p:grpSp>
        <p:nvGrpSpPr>
          <p:cNvPr id="329" name="组合 20"/>
          <p:cNvGrpSpPr/>
          <p:nvPr/>
        </p:nvGrpSpPr>
        <p:grpSpPr>
          <a:xfrm>
            <a:off x="6940080" y="1744920"/>
            <a:ext cx="1128240" cy="1494720"/>
            <a:chOff x="6940080" y="1744920"/>
            <a:chExt cx="1128240" cy="1494720"/>
          </a:xfrm>
        </p:grpSpPr>
        <p:sp>
          <p:nvSpPr>
            <p:cNvPr id="330" name="椭圆 13"/>
            <p:cNvSpPr/>
            <p:nvPr/>
          </p:nvSpPr>
          <p:spPr>
            <a:xfrm>
              <a:off x="7308360" y="1744920"/>
              <a:ext cx="402480" cy="40248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椭圆 49"/>
            <p:cNvSpPr/>
            <p:nvPr/>
          </p:nvSpPr>
          <p:spPr>
            <a:xfrm>
              <a:off x="6971760" y="2184840"/>
              <a:ext cx="1075680" cy="1054800"/>
            </a:xfrm>
            <a:custGeom>
              <a:avLst/>
              <a:gdLst>
                <a:gd name="textAreaLeft" fmla="*/ 0 w 1075680"/>
                <a:gd name="textAreaRight" fmla="*/ 1076040 w 1075680"/>
                <a:gd name="textAreaTop" fmla="*/ 0 h 1054800"/>
                <a:gd name="textAreaBottom" fmla="*/ 1055160 h 1054800"/>
              </a:gdLst>
              <a:ahLst/>
              <a:rect l="textAreaLeft" t="textAreaTop" r="textAreaRight" b="textAreaBottom"/>
              <a:pathLst>
                <a:path w="1075922" h="884603">
                  <a:moveTo>
                    <a:pt x="537961" y="0"/>
                  </a:moveTo>
                  <a:cubicBezTo>
                    <a:pt x="829248" y="0"/>
                    <a:pt x="1066673" y="392878"/>
                    <a:pt x="1075922" y="884603"/>
                  </a:cubicBezTo>
                  <a:lnTo>
                    <a:pt x="0" y="884603"/>
                  </a:lnTo>
                  <a:cubicBezTo>
                    <a:pt x="9249" y="392878"/>
                    <a:pt x="246674" y="0"/>
                    <a:pt x="537961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2" name="圆角矩形 17"/>
            <p:cNvSpPr/>
            <p:nvPr/>
          </p:nvSpPr>
          <p:spPr>
            <a:xfrm>
              <a:off x="7041600" y="2387520"/>
              <a:ext cx="935640" cy="500040"/>
            </a:xfrm>
            <a:prstGeom prst="roundRect">
              <a:avLst>
                <a:gd name="adj" fmla="val 11495"/>
              </a:avLst>
            </a:prstGeom>
            <a:solidFill>
              <a:schemeClr val="bg2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262626"/>
                  </a:solidFill>
                  <a:latin typeface="迷你简粗倩"/>
                  <a:ea typeface="迷你简粗倩"/>
                </a:rPr>
                <a:t>外地户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19"/>
            <p:cNvSpPr/>
            <p:nvPr/>
          </p:nvSpPr>
          <p:spPr>
            <a:xfrm>
              <a:off x="6940080" y="2558160"/>
              <a:ext cx="181440" cy="1814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椭圆 50"/>
            <p:cNvSpPr/>
            <p:nvPr/>
          </p:nvSpPr>
          <p:spPr>
            <a:xfrm>
              <a:off x="7886880" y="2581920"/>
              <a:ext cx="181440" cy="18144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35" name="TextBox 21"/>
          <p:cNvSpPr/>
          <p:nvPr/>
        </p:nvSpPr>
        <p:spPr>
          <a:xfrm>
            <a:off x="1250640" y="327204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本邦成年男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1"/>
          <p:cNvSpPr/>
          <p:nvPr/>
        </p:nvSpPr>
        <p:spPr>
          <a:xfrm>
            <a:off x="3486240" y="3272040"/>
            <a:ext cx="39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妇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2"/>
          <p:cNvSpPr/>
          <p:nvPr/>
        </p:nvSpPr>
        <p:spPr>
          <a:xfrm>
            <a:off x="5163120" y="3272040"/>
            <a:ext cx="394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奴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3"/>
          <p:cNvSpPr/>
          <p:nvPr/>
        </p:nvSpPr>
        <p:spPr>
          <a:xfrm>
            <a:off x="7259040" y="327204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外邦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25"/>
          <p:cNvSpPr/>
          <p:nvPr/>
        </p:nvSpPr>
        <p:spPr>
          <a:xfrm>
            <a:off x="1774800" y="3106800"/>
            <a:ext cx="689760" cy="505440"/>
          </a:xfrm>
          <a:custGeom>
            <a:avLst/>
            <a:gdLst>
              <a:gd name="textAreaLeft" fmla="*/ 0 w 689760"/>
              <a:gd name="textAreaRight" fmla="*/ 690120 w 689760"/>
              <a:gd name="textAreaTop" fmla="*/ 0 h 505440"/>
              <a:gd name="textAreaBottom" fmla="*/ 505800 h 505440"/>
            </a:gdLst>
            <a:ahLst/>
            <a:rect l="textAreaLeft" t="textAreaTop" r="textAreaRight" b="textAreaBottom"/>
            <a:pathLst>
              <a:path w="690113" h="505918">
                <a:moveTo>
                  <a:pt x="0" y="224287"/>
                </a:moveTo>
                <a:cubicBezTo>
                  <a:pt x="71887" y="381000"/>
                  <a:pt x="143774" y="537713"/>
                  <a:pt x="258793" y="500332"/>
                </a:cubicBezTo>
                <a:cubicBezTo>
                  <a:pt x="373812" y="462951"/>
                  <a:pt x="531962" y="231475"/>
                  <a:pt x="690113" y="0"/>
                </a:cubicBezTo>
              </a:path>
            </a:pathLst>
          </a:custGeom>
          <a:noFill/>
          <a:ln w="76200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40" name="组合 57"/>
          <p:cNvGrpSpPr/>
          <p:nvPr/>
        </p:nvGrpSpPr>
        <p:grpSpPr>
          <a:xfrm>
            <a:off x="3684600" y="3057840"/>
            <a:ext cx="798840" cy="700920"/>
            <a:chOff x="3684600" y="3057840"/>
            <a:chExt cx="798840" cy="700920"/>
          </a:xfrm>
        </p:grpSpPr>
        <p:sp>
          <p:nvSpPr>
            <p:cNvPr id="341" name="任意多边形 55"/>
            <p:cNvSpPr/>
            <p:nvPr/>
          </p:nvSpPr>
          <p:spPr>
            <a:xfrm>
              <a:off x="3863520" y="3092760"/>
              <a:ext cx="458640" cy="6660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w="534838" h="776378">
                  <a:moveTo>
                    <a:pt x="0" y="0"/>
                  </a:moveTo>
                  <a:cubicBezTo>
                    <a:pt x="140898" y="133710"/>
                    <a:pt x="281796" y="267420"/>
                    <a:pt x="370936" y="396816"/>
                  </a:cubicBezTo>
                  <a:cubicBezTo>
                    <a:pt x="460076" y="526212"/>
                    <a:pt x="534838" y="776378"/>
                    <a:pt x="534838" y="776378"/>
                  </a:cubicBezTo>
                  <a:lnTo>
                    <a:pt x="534838" y="776378"/>
                  </a:lnTo>
                </a:path>
              </a:pathLst>
            </a:custGeom>
            <a:noFill/>
            <a:ln w="762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2" name="任意多边形 56"/>
            <p:cNvSpPr/>
            <p:nvPr/>
          </p:nvSpPr>
          <p:spPr>
            <a:xfrm rot="3868800">
              <a:off x="3854520" y="3075120"/>
              <a:ext cx="458640" cy="6660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w="534838" h="776378">
                  <a:moveTo>
                    <a:pt x="0" y="0"/>
                  </a:moveTo>
                  <a:cubicBezTo>
                    <a:pt x="140898" y="133710"/>
                    <a:pt x="281796" y="267420"/>
                    <a:pt x="370936" y="396816"/>
                  </a:cubicBezTo>
                  <a:cubicBezTo>
                    <a:pt x="460076" y="526212"/>
                    <a:pt x="534838" y="776378"/>
                    <a:pt x="534838" y="776378"/>
                  </a:cubicBezTo>
                  <a:lnTo>
                    <a:pt x="534838" y="776378"/>
                  </a:lnTo>
                </a:path>
              </a:pathLst>
            </a:custGeom>
            <a:noFill/>
            <a:ln w="762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43" name="组合 58"/>
          <p:cNvGrpSpPr/>
          <p:nvPr/>
        </p:nvGrpSpPr>
        <p:grpSpPr>
          <a:xfrm>
            <a:off x="5470200" y="3057840"/>
            <a:ext cx="798840" cy="700920"/>
            <a:chOff x="5470200" y="3057840"/>
            <a:chExt cx="798840" cy="700920"/>
          </a:xfrm>
        </p:grpSpPr>
        <p:sp>
          <p:nvSpPr>
            <p:cNvPr id="344" name="任意多边形 59"/>
            <p:cNvSpPr/>
            <p:nvPr/>
          </p:nvSpPr>
          <p:spPr>
            <a:xfrm>
              <a:off x="5649120" y="3092760"/>
              <a:ext cx="458640" cy="6660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w="534838" h="776378">
                  <a:moveTo>
                    <a:pt x="0" y="0"/>
                  </a:moveTo>
                  <a:cubicBezTo>
                    <a:pt x="140898" y="133710"/>
                    <a:pt x="281796" y="267420"/>
                    <a:pt x="370936" y="396816"/>
                  </a:cubicBezTo>
                  <a:cubicBezTo>
                    <a:pt x="460076" y="526212"/>
                    <a:pt x="534838" y="776378"/>
                    <a:pt x="534838" y="776378"/>
                  </a:cubicBezTo>
                  <a:lnTo>
                    <a:pt x="534838" y="776378"/>
                  </a:lnTo>
                </a:path>
              </a:pathLst>
            </a:custGeom>
            <a:noFill/>
            <a:ln w="762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5" name="任意多边形 60"/>
            <p:cNvSpPr/>
            <p:nvPr/>
          </p:nvSpPr>
          <p:spPr>
            <a:xfrm rot="3868800">
              <a:off x="5640120" y="3075120"/>
              <a:ext cx="458640" cy="6660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w="534838" h="776378">
                  <a:moveTo>
                    <a:pt x="0" y="0"/>
                  </a:moveTo>
                  <a:cubicBezTo>
                    <a:pt x="140898" y="133710"/>
                    <a:pt x="281796" y="267420"/>
                    <a:pt x="370936" y="396816"/>
                  </a:cubicBezTo>
                  <a:cubicBezTo>
                    <a:pt x="460076" y="526212"/>
                    <a:pt x="534838" y="776378"/>
                    <a:pt x="534838" y="776378"/>
                  </a:cubicBezTo>
                  <a:lnTo>
                    <a:pt x="534838" y="776378"/>
                  </a:lnTo>
                </a:path>
              </a:pathLst>
            </a:custGeom>
            <a:noFill/>
            <a:ln w="762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46" name="组合 61"/>
          <p:cNvGrpSpPr/>
          <p:nvPr/>
        </p:nvGrpSpPr>
        <p:grpSpPr>
          <a:xfrm>
            <a:off x="7654680" y="3057480"/>
            <a:ext cx="798840" cy="701280"/>
            <a:chOff x="7654680" y="3057480"/>
            <a:chExt cx="798840" cy="701280"/>
          </a:xfrm>
        </p:grpSpPr>
        <p:sp>
          <p:nvSpPr>
            <p:cNvPr id="347" name="任意多边形 62"/>
            <p:cNvSpPr/>
            <p:nvPr/>
          </p:nvSpPr>
          <p:spPr>
            <a:xfrm>
              <a:off x="7833600" y="3092760"/>
              <a:ext cx="458640" cy="6660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w="534838" h="776378">
                  <a:moveTo>
                    <a:pt x="0" y="0"/>
                  </a:moveTo>
                  <a:cubicBezTo>
                    <a:pt x="140898" y="133710"/>
                    <a:pt x="281796" y="267420"/>
                    <a:pt x="370936" y="396816"/>
                  </a:cubicBezTo>
                  <a:cubicBezTo>
                    <a:pt x="460076" y="526212"/>
                    <a:pt x="534838" y="776378"/>
                    <a:pt x="534838" y="776378"/>
                  </a:cubicBezTo>
                  <a:lnTo>
                    <a:pt x="534838" y="776378"/>
                  </a:lnTo>
                </a:path>
              </a:pathLst>
            </a:custGeom>
            <a:noFill/>
            <a:ln w="762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任意多边形 63"/>
            <p:cNvSpPr/>
            <p:nvPr/>
          </p:nvSpPr>
          <p:spPr>
            <a:xfrm rot="3868800">
              <a:off x="7824600" y="3074760"/>
              <a:ext cx="458640" cy="6660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w="534838" h="776378">
                  <a:moveTo>
                    <a:pt x="0" y="0"/>
                  </a:moveTo>
                  <a:cubicBezTo>
                    <a:pt x="140898" y="133710"/>
                    <a:pt x="281796" y="267420"/>
                    <a:pt x="370936" y="396816"/>
                  </a:cubicBezTo>
                  <a:cubicBezTo>
                    <a:pt x="460076" y="526212"/>
                    <a:pt x="534838" y="776378"/>
                    <a:pt x="534838" y="776378"/>
                  </a:cubicBezTo>
                  <a:lnTo>
                    <a:pt x="534838" y="776378"/>
                  </a:lnTo>
                </a:path>
              </a:pathLst>
            </a:custGeom>
            <a:noFill/>
            <a:ln w="762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862200" y="180000"/>
            <a:ext cx="196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雅典的民主也不是天生就有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1267920" y="5439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旧氏贵族专横统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5662080" y="4443840"/>
            <a:ext cx="231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很多公民沦为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债务奴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76"/>
          <p:cNvGrpSpPr/>
          <p:nvPr/>
        </p:nvGrpSpPr>
        <p:grpSpPr>
          <a:xfrm>
            <a:off x="1066680" y="1959840"/>
            <a:ext cx="3735360" cy="1559160"/>
            <a:chOff x="1066680" y="1959840"/>
            <a:chExt cx="3735360" cy="1559160"/>
          </a:xfrm>
        </p:grpSpPr>
        <p:grpSp>
          <p:nvGrpSpPr>
            <p:cNvPr id="353" name="组合 5"/>
            <p:cNvGrpSpPr/>
            <p:nvPr/>
          </p:nvGrpSpPr>
          <p:grpSpPr>
            <a:xfrm>
              <a:off x="1066680" y="1959840"/>
              <a:ext cx="799920" cy="1075320"/>
              <a:chOff x="1066680" y="1959840"/>
              <a:chExt cx="799920" cy="1075320"/>
            </a:xfrm>
          </p:grpSpPr>
          <p:sp>
            <p:nvSpPr>
              <p:cNvPr id="354" name="椭圆 23"/>
              <p:cNvSpPr/>
              <p:nvPr/>
            </p:nvSpPr>
            <p:spPr>
              <a:xfrm rot="613800">
                <a:off x="1410840" y="198324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5" name="椭圆 33"/>
              <p:cNvSpPr/>
              <p:nvPr/>
            </p:nvSpPr>
            <p:spPr>
              <a:xfrm rot="613800">
                <a:off x="1122120" y="229284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56" name="梯形 6"/>
            <p:cNvSpPr/>
            <p:nvPr/>
          </p:nvSpPr>
          <p:spPr>
            <a:xfrm rot="10800000">
              <a:off x="1199880" y="2881440"/>
              <a:ext cx="489600" cy="60192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7" name="圆角矩形 7"/>
            <p:cNvSpPr/>
            <p:nvPr/>
          </p:nvSpPr>
          <p:spPr>
            <a:xfrm>
              <a:off x="1533600" y="2454120"/>
              <a:ext cx="522000" cy="194400"/>
            </a:xfrm>
            <a:prstGeom prst="roundRect">
              <a:avLst>
                <a:gd name="adj" fmla="val 42011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8" name="圆角矩形 8"/>
            <p:cNvSpPr/>
            <p:nvPr/>
          </p:nvSpPr>
          <p:spPr>
            <a:xfrm rot="16200000">
              <a:off x="1839240" y="280080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59" name="直接连接符 9"/>
            <p:cNvCxnSpPr/>
            <p:nvPr/>
          </p:nvCxnSpPr>
          <p:spPr>
            <a:xfrm flipV="1">
              <a:off x="1905840" y="267588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60" name="圆角矩形 10"/>
            <p:cNvSpPr/>
            <p:nvPr/>
          </p:nvSpPr>
          <p:spPr>
            <a:xfrm rot="16200000">
              <a:off x="1840680" y="26150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61" name="直接连接符 11"/>
            <p:cNvCxnSpPr/>
            <p:nvPr/>
          </p:nvCxnSpPr>
          <p:spPr>
            <a:xfrm flipV="1">
              <a:off x="1906560" y="249840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62" name="圆角矩形 12"/>
            <p:cNvSpPr/>
            <p:nvPr/>
          </p:nvSpPr>
          <p:spPr>
            <a:xfrm rot="16200000">
              <a:off x="1841760" y="297396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63" name="直接连接符 13"/>
            <p:cNvCxnSpPr/>
            <p:nvPr/>
          </p:nvCxnSpPr>
          <p:spPr>
            <a:xfrm flipV="1">
              <a:off x="1908360" y="284904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64" name="圆角矩形 14"/>
            <p:cNvSpPr/>
            <p:nvPr/>
          </p:nvSpPr>
          <p:spPr>
            <a:xfrm rot="16200000">
              <a:off x="1841760" y="315216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65" name="直接连接符 15"/>
            <p:cNvCxnSpPr/>
            <p:nvPr/>
          </p:nvCxnSpPr>
          <p:spPr>
            <a:xfrm flipV="1">
              <a:off x="1908360" y="302724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66" name="圆角矩形 16"/>
            <p:cNvSpPr/>
            <p:nvPr/>
          </p:nvSpPr>
          <p:spPr>
            <a:xfrm rot="16200000">
              <a:off x="1838880" y="334080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67" name="直接连接符 17"/>
            <p:cNvCxnSpPr/>
            <p:nvPr/>
          </p:nvCxnSpPr>
          <p:spPr>
            <a:xfrm flipV="1">
              <a:off x="1905840" y="321588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grpSp>
          <p:nvGrpSpPr>
            <p:cNvPr id="368" name="组合 18"/>
            <p:cNvGrpSpPr/>
            <p:nvPr/>
          </p:nvGrpSpPr>
          <p:grpSpPr>
            <a:xfrm>
              <a:off x="1901880" y="3395160"/>
              <a:ext cx="399960" cy="92160"/>
              <a:chOff x="1901880" y="3395160"/>
              <a:chExt cx="399960" cy="92160"/>
            </a:xfrm>
          </p:grpSpPr>
          <p:sp>
            <p:nvSpPr>
              <p:cNvPr id="369" name="圆角矩形 19"/>
              <p:cNvSpPr/>
              <p:nvPr/>
            </p:nvSpPr>
            <p:spPr>
              <a:xfrm rot="10800000">
                <a:off x="1986120" y="340884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70" name="直接连接符 20"/>
              <p:cNvCxnSpPr/>
              <p:nvPr/>
            </p:nvCxnSpPr>
            <p:spPr>
              <a:xfrm flipH="1" flipV="1">
                <a:off x="1901880" y="3395160"/>
                <a:ext cx="110520" cy="7200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  <p:sp>
            <p:nvSpPr>
              <p:cNvPr id="371" name="圆角矩形 21"/>
              <p:cNvSpPr/>
              <p:nvPr/>
            </p:nvSpPr>
            <p:spPr>
              <a:xfrm rot="10800000">
                <a:off x="2170800" y="341172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72" name="直接连接符 22"/>
              <p:cNvCxnSpPr/>
              <p:nvPr/>
            </p:nvCxnSpPr>
            <p:spPr>
              <a:xfrm flipH="1">
                <a:off x="2076120" y="344952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373" name="组合 25"/>
            <p:cNvGrpSpPr/>
            <p:nvPr/>
          </p:nvGrpSpPr>
          <p:grpSpPr>
            <a:xfrm>
              <a:off x="2269440" y="3406320"/>
              <a:ext cx="225720" cy="75600"/>
              <a:chOff x="2269440" y="3406320"/>
              <a:chExt cx="225720" cy="75600"/>
            </a:xfrm>
          </p:grpSpPr>
          <p:sp>
            <p:nvSpPr>
              <p:cNvPr id="374" name="圆角矩形 26"/>
              <p:cNvSpPr/>
              <p:nvPr/>
            </p:nvSpPr>
            <p:spPr>
              <a:xfrm rot="10800000">
                <a:off x="2364120" y="340632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75" name="直接连接符 27"/>
              <p:cNvCxnSpPr/>
              <p:nvPr/>
            </p:nvCxnSpPr>
            <p:spPr>
              <a:xfrm flipH="1">
                <a:off x="2269440" y="346068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376" name="组合 30"/>
            <p:cNvGrpSpPr/>
            <p:nvPr/>
          </p:nvGrpSpPr>
          <p:grpSpPr>
            <a:xfrm>
              <a:off x="2230560" y="1984680"/>
              <a:ext cx="799920" cy="1075320"/>
              <a:chOff x="2230560" y="1984680"/>
              <a:chExt cx="799920" cy="1075320"/>
            </a:xfrm>
          </p:grpSpPr>
          <p:sp>
            <p:nvSpPr>
              <p:cNvPr id="377" name="椭圆 31"/>
              <p:cNvSpPr/>
              <p:nvPr/>
            </p:nvSpPr>
            <p:spPr>
              <a:xfrm rot="613800">
                <a:off x="2575080" y="200808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8" name="椭圆 33"/>
              <p:cNvSpPr/>
              <p:nvPr/>
            </p:nvSpPr>
            <p:spPr>
              <a:xfrm rot="613800">
                <a:off x="2286000" y="231768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79" name="梯形 33"/>
            <p:cNvSpPr/>
            <p:nvPr/>
          </p:nvSpPr>
          <p:spPr>
            <a:xfrm rot="10800000">
              <a:off x="2364120" y="2906280"/>
              <a:ext cx="489600" cy="60192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0" name="圆角矩形 34"/>
            <p:cNvSpPr/>
            <p:nvPr/>
          </p:nvSpPr>
          <p:spPr>
            <a:xfrm>
              <a:off x="2697840" y="2478960"/>
              <a:ext cx="522000" cy="194400"/>
            </a:xfrm>
            <a:prstGeom prst="roundRect">
              <a:avLst>
                <a:gd name="adj" fmla="val 42011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1" name="圆角矩形 35"/>
            <p:cNvSpPr/>
            <p:nvPr/>
          </p:nvSpPr>
          <p:spPr>
            <a:xfrm rot="16200000">
              <a:off x="3003120" y="28256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82" name="直接连接符 36"/>
            <p:cNvCxnSpPr/>
            <p:nvPr/>
          </p:nvCxnSpPr>
          <p:spPr>
            <a:xfrm flipV="1">
              <a:off x="3070080" y="270072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83" name="圆角矩形 37"/>
            <p:cNvSpPr/>
            <p:nvPr/>
          </p:nvSpPr>
          <p:spPr>
            <a:xfrm rot="16200000">
              <a:off x="3004920" y="26398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84" name="直接连接符 38"/>
            <p:cNvCxnSpPr/>
            <p:nvPr/>
          </p:nvCxnSpPr>
          <p:spPr>
            <a:xfrm flipV="1">
              <a:off x="3070440" y="252324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85" name="圆角矩形 39"/>
            <p:cNvSpPr/>
            <p:nvPr/>
          </p:nvSpPr>
          <p:spPr>
            <a:xfrm rot="16200000">
              <a:off x="3005640" y="299916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86" name="直接连接符 40"/>
            <p:cNvCxnSpPr/>
            <p:nvPr/>
          </p:nvCxnSpPr>
          <p:spPr>
            <a:xfrm flipV="1">
              <a:off x="3072600" y="287424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87" name="圆角矩形 41"/>
            <p:cNvSpPr/>
            <p:nvPr/>
          </p:nvSpPr>
          <p:spPr>
            <a:xfrm rot="16200000">
              <a:off x="3005640" y="317700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88" name="直接连接符 42"/>
            <p:cNvCxnSpPr/>
            <p:nvPr/>
          </p:nvCxnSpPr>
          <p:spPr>
            <a:xfrm flipV="1">
              <a:off x="3072600" y="305208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389" name="圆角矩形 43"/>
            <p:cNvSpPr/>
            <p:nvPr/>
          </p:nvSpPr>
          <p:spPr>
            <a:xfrm rot="16200000">
              <a:off x="3002760" y="33656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90" name="直接连接符 44"/>
            <p:cNvCxnSpPr/>
            <p:nvPr/>
          </p:nvCxnSpPr>
          <p:spPr>
            <a:xfrm flipV="1">
              <a:off x="3069720" y="324072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grpSp>
          <p:nvGrpSpPr>
            <p:cNvPr id="391" name="组合 45"/>
            <p:cNvGrpSpPr/>
            <p:nvPr/>
          </p:nvGrpSpPr>
          <p:grpSpPr>
            <a:xfrm>
              <a:off x="3065760" y="3420000"/>
              <a:ext cx="400320" cy="92160"/>
              <a:chOff x="3065760" y="3420000"/>
              <a:chExt cx="400320" cy="92160"/>
            </a:xfrm>
          </p:grpSpPr>
          <p:sp>
            <p:nvSpPr>
              <p:cNvPr id="392" name="圆角矩形 46"/>
              <p:cNvSpPr/>
              <p:nvPr/>
            </p:nvSpPr>
            <p:spPr>
              <a:xfrm rot="10800000">
                <a:off x="3150000" y="343404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93" name="直接连接符 47"/>
              <p:cNvCxnSpPr/>
              <p:nvPr/>
            </p:nvCxnSpPr>
            <p:spPr>
              <a:xfrm flipH="1" flipV="1">
                <a:off x="3065760" y="3420000"/>
                <a:ext cx="110880" cy="7200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  <p:sp>
            <p:nvSpPr>
              <p:cNvPr id="394" name="圆角矩形 48"/>
              <p:cNvSpPr/>
              <p:nvPr/>
            </p:nvSpPr>
            <p:spPr>
              <a:xfrm rot="10800000">
                <a:off x="3335040" y="343656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95" name="直接连接符 49"/>
              <p:cNvCxnSpPr/>
              <p:nvPr/>
            </p:nvCxnSpPr>
            <p:spPr>
              <a:xfrm flipH="1">
                <a:off x="3240360" y="347436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396" name="组合 50"/>
            <p:cNvGrpSpPr/>
            <p:nvPr/>
          </p:nvGrpSpPr>
          <p:grpSpPr>
            <a:xfrm>
              <a:off x="3433320" y="3431160"/>
              <a:ext cx="225720" cy="75600"/>
              <a:chOff x="3433320" y="3431160"/>
              <a:chExt cx="225720" cy="75600"/>
            </a:xfrm>
          </p:grpSpPr>
          <p:sp>
            <p:nvSpPr>
              <p:cNvPr id="397" name="圆角矩形 51"/>
              <p:cNvSpPr/>
              <p:nvPr/>
            </p:nvSpPr>
            <p:spPr>
              <a:xfrm rot="10800000">
                <a:off x="3528000" y="343116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98" name="直接连接符 52"/>
              <p:cNvCxnSpPr/>
              <p:nvPr/>
            </p:nvCxnSpPr>
            <p:spPr>
              <a:xfrm flipH="1">
                <a:off x="3433320" y="348552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399" name="组合 53"/>
            <p:cNvGrpSpPr/>
            <p:nvPr/>
          </p:nvGrpSpPr>
          <p:grpSpPr>
            <a:xfrm>
              <a:off x="3373560" y="1991520"/>
              <a:ext cx="799920" cy="1075320"/>
              <a:chOff x="3373560" y="1991520"/>
              <a:chExt cx="799920" cy="1075320"/>
            </a:xfrm>
          </p:grpSpPr>
          <p:sp>
            <p:nvSpPr>
              <p:cNvPr id="400" name="椭圆 54"/>
              <p:cNvSpPr/>
              <p:nvPr/>
            </p:nvSpPr>
            <p:spPr>
              <a:xfrm rot="613800">
                <a:off x="3717720" y="201492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1" name="椭圆 33"/>
              <p:cNvSpPr/>
              <p:nvPr/>
            </p:nvSpPr>
            <p:spPr>
              <a:xfrm rot="613800">
                <a:off x="3429000" y="232452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02" name="梯形 56"/>
            <p:cNvSpPr/>
            <p:nvPr/>
          </p:nvSpPr>
          <p:spPr>
            <a:xfrm rot="10800000">
              <a:off x="3506760" y="2913120"/>
              <a:ext cx="489600" cy="60192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3" name="圆角矩形 57"/>
            <p:cNvSpPr/>
            <p:nvPr/>
          </p:nvSpPr>
          <p:spPr>
            <a:xfrm>
              <a:off x="3840840" y="2485800"/>
              <a:ext cx="522000" cy="194400"/>
            </a:xfrm>
            <a:prstGeom prst="roundRect">
              <a:avLst>
                <a:gd name="adj" fmla="val 42011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4" name="圆角矩形 58"/>
            <p:cNvSpPr/>
            <p:nvPr/>
          </p:nvSpPr>
          <p:spPr>
            <a:xfrm rot="16200000">
              <a:off x="4146120" y="28324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05" name="直接连接符 59"/>
            <p:cNvCxnSpPr/>
            <p:nvPr/>
          </p:nvCxnSpPr>
          <p:spPr>
            <a:xfrm flipV="1">
              <a:off x="4212720" y="270756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06" name="圆角矩形 60"/>
            <p:cNvSpPr/>
            <p:nvPr/>
          </p:nvSpPr>
          <p:spPr>
            <a:xfrm rot="16200000">
              <a:off x="4147560" y="26470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07" name="直接连接符 61"/>
            <p:cNvCxnSpPr/>
            <p:nvPr/>
          </p:nvCxnSpPr>
          <p:spPr>
            <a:xfrm flipV="1">
              <a:off x="4213440" y="253008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08" name="圆角矩形 62"/>
            <p:cNvSpPr/>
            <p:nvPr/>
          </p:nvSpPr>
          <p:spPr>
            <a:xfrm rot="16200000">
              <a:off x="4148640" y="300600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09" name="直接连接符 63"/>
            <p:cNvCxnSpPr/>
            <p:nvPr/>
          </p:nvCxnSpPr>
          <p:spPr>
            <a:xfrm flipV="1">
              <a:off x="4215240" y="288108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10" name="圆角矩形 64"/>
            <p:cNvSpPr/>
            <p:nvPr/>
          </p:nvSpPr>
          <p:spPr>
            <a:xfrm rot="16200000">
              <a:off x="4148640" y="31838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11" name="直接连接符 65"/>
            <p:cNvCxnSpPr/>
            <p:nvPr/>
          </p:nvCxnSpPr>
          <p:spPr>
            <a:xfrm flipV="1">
              <a:off x="4215240" y="305892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12" name="圆角矩形 66"/>
            <p:cNvSpPr/>
            <p:nvPr/>
          </p:nvSpPr>
          <p:spPr>
            <a:xfrm rot="16200000">
              <a:off x="4145760" y="33724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13" name="直接连接符 67"/>
            <p:cNvCxnSpPr/>
            <p:nvPr/>
          </p:nvCxnSpPr>
          <p:spPr>
            <a:xfrm flipV="1">
              <a:off x="4212720" y="324756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grpSp>
          <p:nvGrpSpPr>
            <p:cNvPr id="414" name="组合 68"/>
            <p:cNvGrpSpPr/>
            <p:nvPr/>
          </p:nvGrpSpPr>
          <p:grpSpPr>
            <a:xfrm>
              <a:off x="4208760" y="3426840"/>
              <a:ext cx="400320" cy="92160"/>
              <a:chOff x="4208760" y="3426840"/>
              <a:chExt cx="400320" cy="92160"/>
            </a:xfrm>
          </p:grpSpPr>
          <p:sp>
            <p:nvSpPr>
              <p:cNvPr id="415" name="圆角矩形 69"/>
              <p:cNvSpPr/>
              <p:nvPr/>
            </p:nvSpPr>
            <p:spPr>
              <a:xfrm rot="10800000">
                <a:off x="4293000" y="344088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16" name="直接连接符 70"/>
              <p:cNvCxnSpPr/>
              <p:nvPr/>
            </p:nvCxnSpPr>
            <p:spPr>
              <a:xfrm flipH="1" flipV="1">
                <a:off x="4208760" y="3426840"/>
                <a:ext cx="110520" cy="7200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  <p:sp>
            <p:nvSpPr>
              <p:cNvPr id="417" name="圆角矩形 71"/>
              <p:cNvSpPr/>
              <p:nvPr/>
            </p:nvSpPr>
            <p:spPr>
              <a:xfrm rot="10800000">
                <a:off x="4478040" y="344340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18" name="直接连接符 72"/>
              <p:cNvCxnSpPr/>
              <p:nvPr/>
            </p:nvCxnSpPr>
            <p:spPr>
              <a:xfrm flipH="1">
                <a:off x="4383000" y="3481200"/>
                <a:ext cx="13212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419" name="组合 73"/>
            <p:cNvGrpSpPr/>
            <p:nvPr/>
          </p:nvGrpSpPr>
          <p:grpSpPr>
            <a:xfrm>
              <a:off x="4576320" y="3438000"/>
              <a:ext cx="225720" cy="75600"/>
              <a:chOff x="4576320" y="3438000"/>
              <a:chExt cx="225720" cy="75600"/>
            </a:xfrm>
          </p:grpSpPr>
          <p:sp>
            <p:nvSpPr>
              <p:cNvPr id="420" name="圆角矩形 74"/>
              <p:cNvSpPr/>
              <p:nvPr/>
            </p:nvSpPr>
            <p:spPr>
              <a:xfrm rot="10800000">
                <a:off x="4671000" y="343800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21" name="直接连接符 75"/>
              <p:cNvCxnSpPr/>
              <p:nvPr/>
            </p:nvCxnSpPr>
            <p:spPr>
              <a:xfrm flipH="1">
                <a:off x="4576320" y="349272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</p:grpSp>
      <p:grpSp>
        <p:nvGrpSpPr>
          <p:cNvPr id="422" name="组合 77"/>
          <p:cNvGrpSpPr/>
          <p:nvPr/>
        </p:nvGrpSpPr>
        <p:grpSpPr>
          <a:xfrm>
            <a:off x="4509000" y="2002680"/>
            <a:ext cx="3735360" cy="1559160"/>
            <a:chOff x="4509000" y="2002680"/>
            <a:chExt cx="3735360" cy="1559160"/>
          </a:xfrm>
        </p:grpSpPr>
        <p:grpSp>
          <p:nvGrpSpPr>
            <p:cNvPr id="423" name="组合 78"/>
            <p:cNvGrpSpPr/>
            <p:nvPr/>
          </p:nvGrpSpPr>
          <p:grpSpPr>
            <a:xfrm>
              <a:off x="4509000" y="2002680"/>
              <a:ext cx="799920" cy="1075320"/>
              <a:chOff x="4509000" y="2002680"/>
              <a:chExt cx="799920" cy="1075320"/>
            </a:xfrm>
          </p:grpSpPr>
          <p:sp>
            <p:nvSpPr>
              <p:cNvPr id="424" name="椭圆 145"/>
              <p:cNvSpPr/>
              <p:nvPr/>
            </p:nvSpPr>
            <p:spPr>
              <a:xfrm rot="613800">
                <a:off x="4853160" y="202608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椭圆 33"/>
              <p:cNvSpPr/>
              <p:nvPr/>
            </p:nvSpPr>
            <p:spPr>
              <a:xfrm rot="613800">
                <a:off x="4564440" y="233568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26" name="梯形 79"/>
            <p:cNvSpPr/>
            <p:nvPr/>
          </p:nvSpPr>
          <p:spPr>
            <a:xfrm rot="10800000">
              <a:off x="4642200" y="2924280"/>
              <a:ext cx="489600" cy="60192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7" name="圆角矩形 80"/>
            <p:cNvSpPr/>
            <p:nvPr/>
          </p:nvSpPr>
          <p:spPr>
            <a:xfrm>
              <a:off x="4976280" y="2496960"/>
              <a:ext cx="522000" cy="194400"/>
            </a:xfrm>
            <a:prstGeom prst="roundRect">
              <a:avLst>
                <a:gd name="adj" fmla="val 42011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8" name="圆角矩形 81"/>
            <p:cNvSpPr/>
            <p:nvPr/>
          </p:nvSpPr>
          <p:spPr>
            <a:xfrm rot="16200000">
              <a:off x="5281560" y="28432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29" name="直接连接符 82"/>
            <p:cNvCxnSpPr/>
            <p:nvPr/>
          </p:nvCxnSpPr>
          <p:spPr>
            <a:xfrm flipV="1">
              <a:off x="5348160" y="271836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30" name="圆角矩形 83"/>
            <p:cNvSpPr/>
            <p:nvPr/>
          </p:nvSpPr>
          <p:spPr>
            <a:xfrm rot="16200000">
              <a:off x="5283000" y="26578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31" name="直接连接符 84"/>
            <p:cNvCxnSpPr/>
            <p:nvPr/>
          </p:nvCxnSpPr>
          <p:spPr>
            <a:xfrm flipV="1">
              <a:off x="5348880" y="254124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32" name="圆角矩形 85"/>
            <p:cNvSpPr/>
            <p:nvPr/>
          </p:nvSpPr>
          <p:spPr>
            <a:xfrm rot="16200000">
              <a:off x="5284080" y="301680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33" name="直接连接符 86"/>
            <p:cNvCxnSpPr/>
            <p:nvPr/>
          </p:nvCxnSpPr>
          <p:spPr>
            <a:xfrm flipV="1">
              <a:off x="5350680" y="289188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34" name="圆角矩形 87"/>
            <p:cNvSpPr/>
            <p:nvPr/>
          </p:nvSpPr>
          <p:spPr>
            <a:xfrm rot="16200000">
              <a:off x="5284080" y="31946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35" name="直接连接符 88"/>
            <p:cNvCxnSpPr/>
            <p:nvPr/>
          </p:nvCxnSpPr>
          <p:spPr>
            <a:xfrm flipV="1">
              <a:off x="5350680" y="307008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36" name="圆角矩形 89"/>
            <p:cNvSpPr/>
            <p:nvPr/>
          </p:nvSpPr>
          <p:spPr>
            <a:xfrm rot="16200000">
              <a:off x="5281200" y="33836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37" name="直接连接符 90"/>
            <p:cNvCxnSpPr/>
            <p:nvPr/>
          </p:nvCxnSpPr>
          <p:spPr>
            <a:xfrm flipV="1">
              <a:off x="5348160" y="325872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grpSp>
          <p:nvGrpSpPr>
            <p:cNvPr id="438" name="组合 91"/>
            <p:cNvGrpSpPr/>
            <p:nvPr/>
          </p:nvGrpSpPr>
          <p:grpSpPr>
            <a:xfrm>
              <a:off x="5344200" y="3438000"/>
              <a:ext cx="400320" cy="92160"/>
              <a:chOff x="5344200" y="3438000"/>
              <a:chExt cx="400320" cy="92160"/>
            </a:xfrm>
          </p:grpSpPr>
          <p:sp>
            <p:nvSpPr>
              <p:cNvPr id="439" name="圆角矩形 141"/>
              <p:cNvSpPr/>
              <p:nvPr/>
            </p:nvSpPr>
            <p:spPr>
              <a:xfrm rot="10800000">
                <a:off x="5428440" y="345168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40" name="直接连接符 142"/>
              <p:cNvCxnSpPr/>
              <p:nvPr/>
            </p:nvCxnSpPr>
            <p:spPr>
              <a:xfrm flipH="1" flipV="1">
                <a:off x="5344200" y="3438000"/>
                <a:ext cx="110520" cy="7200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  <p:sp>
            <p:nvSpPr>
              <p:cNvPr id="441" name="圆角矩形 143"/>
              <p:cNvSpPr/>
              <p:nvPr/>
            </p:nvSpPr>
            <p:spPr>
              <a:xfrm rot="10800000">
                <a:off x="5613480" y="345456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42" name="直接连接符 144"/>
              <p:cNvCxnSpPr/>
              <p:nvPr/>
            </p:nvCxnSpPr>
            <p:spPr>
              <a:xfrm flipH="1">
                <a:off x="5518440" y="3492000"/>
                <a:ext cx="13212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443" name="组合 92"/>
            <p:cNvGrpSpPr/>
            <p:nvPr/>
          </p:nvGrpSpPr>
          <p:grpSpPr>
            <a:xfrm>
              <a:off x="5711760" y="3449160"/>
              <a:ext cx="225720" cy="75600"/>
              <a:chOff x="5711760" y="3449160"/>
              <a:chExt cx="225720" cy="75600"/>
            </a:xfrm>
          </p:grpSpPr>
          <p:sp>
            <p:nvSpPr>
              <p:cNvPr id="444" name="圆角矩形 139"/>
              <p:cNvSpPr/>
              <p:nvPr/>
            </p:nvSpPr>
            <p:spPr>
              <a:xfrm rot="10800000">
                <a:off x="5806440" y="344916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45" name="直接连接符 140"/>
              <p:cNvCxnSpPr/>
              <p:nvPr/>
            </p:nvCxnSpPr>
            <p:spPr>
              <a:xfrm flipH="1">
                <a:off x="5711760" y="350352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446" name="组合 93"/>
            <p:cNvGrpSpPr/>
            <p:nvPr/>
          </p:nvGrpSpPr>
          <p:grpSpPr>
            <a:xfrm>
              <a:off x="5672880" y="2027520"/>
              <a:ext cx="799920" cy="1075320"/>
              <a:chOff x="5672880" y="2027520"/>
              <a:chExt cx="799920" cy="1075320"/>
            </a:xfrm>
          </p:grpSpPr>
          <p:sp>
            <p:nvSpPr>
              <p:cNvPr id="447" name="椭圆 137"/>
              <p:cNvSpPr/>
              <p:nvPr/>
            </p:nvSpPr>
            <p:spPr>
              <a:xfrm rot="613800">
                <a:off x="6017400" y="205092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48" name="椭圆 33"/>
              <p:cNvSpPr/>
              <p:nvPr/>
            </p:nvSpPr>
            <p:spPr>
              <a:xfrm rot="613800">
                <a:off x="5728320" y="236052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49" name="梯形 94"/>
            <p:cNvSpPr/>
            <p:nvPr/>
          </p:nvSpPr>
          <p:spPr>
            <a:xfrm rot="10800000">
              <a:off x="5806440" y="2949120"/>
              <a:ext cx="489600" cy="60192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0" name="圆角矩形 95"/>
            <p:cNvSpPr/>
            <p:nvPr/>
          </p:nvSpPr>
          <p:spPr>
            <a:xfrm>
              <a:off x="6140160" y="2521800"/>
              <a:ext cx="522000" cy="194400"/>
            </a:xfrm>
            <a:prstGeom prst="roundRect">
              <a:avLst>
                <a:gd name="adj" fmla="val 42011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1" name="圆角矩形 96"/>
            <p:cNvSpPr/>
            <p:nvPr/>
          </p:nvSpPr>
          <p:spPr>
            <a:xfrm rot="16200000">
              <a:off x="6445440" y="28684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52" name="直接连接符 97"/>
            <p:cNvCxnSpPr/>
            <p:nvPr/>
          </p:nvCxnSpPr>
          <p:spPr>
            <a:xfrm flipV="1">
              <a:off x="6512400" y="274356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53" name="圆角矩形 98"/>
            <p:cNvSpPr/>
            <p:nvPr/>
          </p:nvSpPr>
          <p:spPr>
            <a:xfrm rot="16200000">
              <a:off x="6447240" y="268272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54" name="直接连接符 99"/>
            <p:cNvCxnSpPr/>
            <p:nvPr/>
          </p:nvCxnSpPr>
          <p:spPr>
            <a:xfrm flipV="1">
              <a:off x="6512760" y="256608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55" name="圆角矩形 100"/>
            <p:cNvSpPr/>
            <p:nvPr/>
          </p:nvSpPr>
          <p:spPr>
            <a:xfrm rot="16200000">
              <a:off x="6447960" y="30416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56" name="直接连接符 101"/>
            <p:cNvCxnSpPr/>
            <p:nvPr/>
          </p:nvCxnSpPr>
          <p:spPr>
            <a:xfrm flipV="1">
              <a:off x="6514920" y="291672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57" name="圆角矩形 102"/>
            <p:cNvSpPr/>
            <p:nvPr/>
          </p:nvSpPr>
          <p:spPr>
            <a:xfrm rot="16200000">
              <a:off x="6447960" y="32198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58" name="直接连接符 103"/>
            <p:cNvCxnSpPr/>
            <p:nvPr/>
          </p:nvCxnSpPr>
          <p:spPr>
            <a:xfrm flipV="1">
              <a:off x="6514920" y="309492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59" name="圆角矩形 104"/>
            <p:cNvSpPr/>
            <p:nvPr/>
          </p:nvSpPr>
          <p:spPr>
            <a:xfrm rot="16200000">
              <a:off x="6445440" y="34084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60" name="直接连接符 105"/>
            <p:cNvCxnSpPr/>
            <p:nvPr/>
          </p:nvCxnSpPr>
          <p:spPr>
            <a:xfrm flipV="1">
              <a:off x="6512040" y="328356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grpSp>
          <p:nvGrpSpPr>
            <p:cNvPr id="461" name="组合 106"/>
            <p:cNvGrpSpPr/>
            <p:nvPr/>
          </p:nvGrpSpPr>
          <p:grpSpPr>
            <a:xfrm>
              <a:off x="6508440" y="3462840"/>
              <a:ext cx="399960" cy="92160"/>
              <a:chOff x="6508440" y="3462840"/>
              <a:chExt cx="399960" cy="92160"/>
            </a:xfrm>
          </p:grpSpPr>
          <p:sp>
            <p:nvSpPr>
              <p:cNvPr id="462" name="圆角矩形 133"/>
              <p:cNvSpPr/>
              <p:nvPr/>
            </p:nvSpPr>
            <p:spPr>
              <a:xfrm rot="10800000">
                <a:off x="6592320" y="347688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63" name="直接连接符 134"/>
              <p:cNvCxnSpPr/>
              <p:nvPr/>
            </p:nvCxnSpPr>
            <p:spPr>
              <a:xfrm flipH="1" flipV="1">
                <a:off x="6508440" y="3462840"/>
                <a:ext cx="110520" cy="7200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  <p:sp>
            <p:nvSpPr>
              <p:cNvPr id="464" name="圆角矩形 135"/>
              <p:cNvSpPr/>
              <p:nvPr/>
            </p:nvSpPr>
            <p:spPr>
              <a:xfrm rot="10800000">
                <a:off x="6777360" y="347940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65" name="直接连接符 136"/>
              <p:cNvCxnSpPr/>
              <p:nvPr/>
            </p:nvCxnSpPr>
            <p:spPr>
              <a:xfrm flipH="1">
                <a:off x="6682680" y="351720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466" name="组合 107"/>
            <p:cNvGrpSpPr/>
            <p:nvPr/>
          </p:nvGrpSpPr>
          <p:grpSpPr>
            <a:xfrm>
              <a:off x="6875640" y="3474000"/>
              <a:ext cx="225720" cy="75600"/>
              <a:chOff x="6875640" y="3474000"/>
              <a:chExt cx="225720" cy="75600"/>
            </a:xfrm>
          </p:grpSpPr>
          <p:sp>
            <p:nvSpPr>
              <p:cNvPr id="467" name="圆角矩形 131"/>
              <p:cNvSpPr/>
              <p:nvPr/>
            </p:nvSpPr>
            <p:spPr>
              <a:xfrm rot="10800000">
                <a:off x="6970320" y="347400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68" name="直接连接符 132"/>
              <p:cNvCxnSpPr/>
              <p:nvPr/>
            </p:nvCxnSpPr>
            <p:spPr>
              <a:xfrm flipH="1">
                <a:off x="6875640" y="352836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469" name="组合 108"/>
            <p:cNvGrpSpPr/>
            <p:nvPr/>
          </p:nvGrpSpPr>
          <p:grpSpPr>
            <a:xfrm>
              <a:off x="6815880" y="2034360"/>
              <a:ext cx="799920" cy="1075320"/>
              <a:chOff x="6815880" y="2034360"/>
              <a:chExt cx="799920" cy="1075320"/>
            </a:xfrm>
          </p:grpSpPr>
          <p:sp>
            <p:nvSpPr>
              <p:cNvPr id="470" name="椭圆 129"/>
              <p:cNvSpPr/>
              <p:nvPr/>
            </p:nvSpPr>
            <p:spPr>
              <a:xfrm rot="613800">
                <a:off x="7160400" y="205776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1" name="椭圆 33"/>
              <p:cNvSpPr/>
              <p:nvPr/>
            </p:nvSpPr>
            <p:spPr>
              <a:xfrm rot="613800">
                <a:off x="6871320" y="236736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72" name="梯形 109"/>
            <p:cNvSpPr/>
            <p:nvPr/>
          </p:nvSpPr>
          <p:spPr>
            <a:xfrm rot="10800000">
              <a:off x="6949440" y="2955960"/>
              <a:ext cx="489600" cy="60192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3" name="圆角矩形 110"/>
            <p:cNvSpPr/>
            <p:nvPr/>
          </p:nvSpPr>
          <p:spPr>
            <a:xfrm>
              <a:off x="7283160" y="2528640"/>
              <a:ext cx="522000" cy="194400"/>
            </a:xfrm>
            <a:prstGeom prst="roundRect">
              <a:avLst>
                <a:gd name="adj" fmla="val 42011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4" name="圆角矩形 111"/>
            <p:cNvSpPr/>
            <p:nvPr/>
          </p:nvSpPr>
          <p:spPr>
            <a:xfrm rot="16200000">
              <a:off x="7588440" y="287532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75" name="直接连接符 112"/>
            <p:cNvCxnSpPr/>
            <p:nvPr/>
          </p:nvCxnSpPr>
          <p:spPr>
            <a:xfrm flipV="1">
              <a:off x="7655400" y="275040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76" name="圆角矩形 113"/>
            <p:cNvSpPr/>
            <p:nvPr/>
          </p:nvSpPr>
          <p:spPr>
            <a:xfrm rot="16200000">
              <a:off x="7590240" y="268956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77" name="直接连接符 114"/>
            <p:cNvCxnSpPr/>
            <p:nvPr/>
          </p:nvCxnSpPr>
          <p:spPr>
            <a:xfrm flipV="1">
              <a:off x="7655760" y="257292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78" name="圆角矩形 115"/>
            <p:cNvSpPr/>
            <p:nvPr/>
          </p:nvSpPr>
          <p:spPr>
            <a:xfrm rot="16200000">
              <a:off x="7590960" y="304884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79" name="直接连接符 116"/>
            <p:cNvCxnSpPr/>
            <p:nvPr/>
          </p:nvCxnSpPr>
          <p:spPr>
            <a:xfrm flipV="1">
              <a:off x="7657920" y="2923920"/>
              <a:ext cx="360" cy="13428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80" name="圆角矩形 117"/>
            <p:cNvSpPr/>
            <p:nvPr/>
          </p:nvSpPr>
          <p:spPr>
            <a:xfrm rot="16200000">
              <a:off x="7590960" y="322668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81" name="直接连接符 118"/>
            <p:cNvCxnSpPr/>
            <p:nvPr/>
          </p:nvCxnSpPr>
          <p:spPr>
            <a:xfrm flipV="1">
              <a:off x="7657920" y="310176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482" name="圆角矩形 119"/>
            <p:cNvSpPr/>
            <p:nvPr/>
          </p:nvSpPr>
          <p:spPr>
            <a:xfrm rot="16200000">
              <a:off x="7588080" y="3415320"/>
              <a:ext cx="133920" cy="770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83" name="直接连接符 120"/>
            <p:cNvCxnSpPr/>
            <p:nvPr/>
          </p:nvCxnSpPr>
          <p:spPr>
            <a:xfrm flipV="1">
              <a:off x="7655040" y="3290400"/>
              <a:ext cx="360" cy="134640"/>
            </a:xfrm>
            <a:prstGeom prst="straightConnector1">
              <a:avLst/>
            </a:prstGeom>
            <a:ln w="2857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grpSp>
          <p:nvGrpSpPr>
            <p:cNvPr id="484" name="组合 121"/>
            <p:cNvGrpSpPr/>
            <p:nvPr/>
          </p:nvGrpSpPr>
          <p:grpSpPr>
            <a:xfrm>
              <a:off x="7651080" y="3469680"/>
              <a:ext cx="400320" cy="92160"/>
              <a:chOff x="7651080" y="3469680"/>
              <a:chExt cx="400320" cy="92160"/>
            </a:xfrm>
          </p:grpSpPr>
          <p:sp>
            <p:nvSpPr>
              <p:cNvPr id="485" name="圆角矩形 125"/>
              <p:cNvSpPr/>
              <p:nvPr/>
            </p:nvSpPr>
            <p:spPr>
              <a:xfrm rot="10800000">
                <a:off x="7735320" y="348372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86" name="直接连接符 126"/>
              <p:cNvCxnSpPr/>
              <p:nvPr/>
            </p:nvCxnSpPr>
            <p:spPr>
              <a:xfrm flipH="1" flipV="1">
                <a:off x="7651080" y="3469680"/>
                <a:ext cx="110880" cy="7200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  <p:sp>
            <p:nvSpPr>
              <p:cNvPr id="487" name="圆角矩形 127"/>
              <p:cNvSpPr/>
              <p:nvPr/>
            </p:nvSpPr>
            <p:spPr>
              <a:xfrm rot="10800000">
                <a:off x="7920360" y="348624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88" name="直接连接符 128"/>
              <p:cNvCxnSpPr/>
              <p:nvPr/>
            </p:nvCxnSpPr>
            <p:spPr>
              <a:xfrm flipH="1">
                <a:off x="7825680" y="352404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  <p:grpSp>
          <p:nvGrpSpPr>
            <p:cNvPr id="489" name="组合 122"/>
            <p:cNvGrpSpPr/>
            <p:nvPr/>
          </p:nvGrpSpPr>
          <p:grpSpPr>
            <a:xfrm>
              <a:off x="8018640" y="3480840"/>
              <a:ext cx="225720" cy="75600"/>
              <a:chOff x="8018640" y="3480840"/>
              <a:chExt cx="225720" cy="75600"/>
            </a:xfrm>
          </p:grpSpPr>
          <p:sp>
            <p:nvSpPr>
              <p:cNvPr id="490" name="圆角矩形 123"/>
              <p:cNvSpPr/>
              <p:nvPr/>
            </p:nvSpPr>
            <p:spPr>
              <a:xfrm rot="10800000">
                <a:off x="8113320" y="3480840"/>
                <a:ext cx="13104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491" name="直接连接符 124"/>
              <p:cNvCxnSpPr/>
              <p:nvPr/>
            </p:nvCxnSpPr>
            <p:spPr>
              <a:xfrm flipH="1">
                <a:off x="8018640" y="3535200"/>
                <a:ext cx="13176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1"/>
          <p:cNvSpPr/>
          <p:nvPr/>
        </p:nvSpPr>
        <p:spPr>
          <a:xfrm>
            <a:off x="721440" y="18000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新兴工商业者对此不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"/>
          <p:cNvSpPr/>
          <p:nvPr/>
        </p:nvSpPr>
        <p:spPr>
          <a:xfrm>
            <a:off x="1122480" y="543960"/>
            <a:ext cx="1460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社会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矛盾</a:t>
            </a: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尖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6704280" y="444384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人民期待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96"/>
          <p:cNvGrpSpPr/>
          <p:nvPr/>
        </p:nvGrpSpPr>
        <p:grpSpPr>
          <a:xfrm>
            <a:off x="1635840" y="1523880"/>
            <a:ext cx="5768280" cy="2189160"/>
            <a:chOff x="1635840" y="1523880"/>
            <a:chExt cx="5768280" cy="2189160"/>
          </a:xfrm>
        </p:grpSpPr>
        <p:sp>
          <p:nvSpPr>
            <p:cNvPr id="496" name="椭圆 33"/>
            <p:cNvSpPr/>
            <p:nvPr/>
          </p:nvSpPr>
          <p:spPr>
            <a:xfrm>
              <a:off x="2344680" y="271440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7" name="椭圆 70"/>
            <p:cNvSpPr/>
            <p:nvPr/>
          </p:nvSpPr>
          <p:spPr>
            <a:xfrm>
              <a:off x="2541960" y="2399400"/>
              <a:ext cx="293760" cy="2937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8" name="椭圆 33"/>
            <p:cNvSpPr/>
            <p:nvPr/>
          </p:nvSpPr>
          <p:spPr>
            <a:xfrm>
              <a:off x="2965680" y="273564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9" name="椭圆 72"/>
            <p:cNvSpPr/>
            <p:nvPr/>
          </p:nvSpPr>
          <p:spPr>
            <a:xfrm>
              <a:off x="3163320" y="2420280"/>
              <a:ext cx="293760" cy="2937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0" name="椭圆 33"/>
            <p:cNvSpPr/>
            <p:nvPr/>
          </p:nvSpPr>
          <p:spPr>
            <a:xfrm>
              <a:off x="3494880" y="273564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1" name="椭圆 74"/>
            <p:cNvSpPr/>
            <p:nvPr/>
          </p:nvSpPr>
          <p:spPr>
            <a:xfrm>
              <a:off x="3692520" y="2420280"/>
              <a:ext cx="293760" cy="2937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2" name="椭圆 33"/>
            <p:cNvSpPr/>
            <p:nvPr/>
          </p:nvSpPr>
          <p:spPr>
            <a:xfrm>
              <a:off x="3944520" y="273312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3" name="椭圆 76"/>
            <p:cNvSpPr/>
            <p:nvPr/>
          </p:nvSpPr>
          <p:spPr>
            <a:xfrm>
              <a:off x="4142160" y="2417760"/>
              <a:ext cx="293760" cy="2937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4" name="椭圆 33"/>
            <p:cNvSpPr/>
            <p:nvPr/>
          </p:nvSpPr>
          <p:spPr>
            <a:xfrm>
              <a:off x="4436280" y="273564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5" name="椭圆 78"/>
            <p:cNvSpPr/>
            <p:nvPr/>
          </p:nvSpPr>
          <p:spPr>
            <a:xfrm>
              <a:off x="4633560" y="2420280"/>
              <a:ext cx="293760" cy="2937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6" name="椭圆 33"/>
            <p:cNvSpPr/>
            <p:nvPr/>
          </p:nvSpPr>
          <p:spPr>
            <a:xfrm>
              <a:off x="5125320" y="273816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7" name="椭圆 80"/>
            <p:cNvSpPr/>
            <p:nvPr/>
          </p:nvSpPr>
          <p:spPr>
            <a:xfrm>
              <a:off x="5322600" y="2423160"/>
              <a:ext cx="293760" cy="2937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8" name="椭圆 33"/>
            <p:cNvSpPr/>
            <p:nvPr/>
          </p:nvSpPr>
          <p:spPr>
            <a:xfrm>
              <a:off x="5636160" y="273816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9" name="椭圆 82"/>
            <p:cNvSpPr/>
            <p:nvPr/>
          </p:nvSpPr>
          <p:spPr>
            <a:xfrm>
              <a:off x="5833800" y="2423160"/>
              <a:ext cx="293760" cy="2937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0" name="椭圆 33"/>
            <p:cNvSpPr/>
            <p:nvPr/>
          </p:nvSpPr>
          <p:spPr>
            <a:xfrm>
              <a:off x="1899720" y="273564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1" name="椭圆 68"/>
            <p:cNvSpPr/>
            <p:nvPr/>
          </p:nvSpPr>
          <p:spPr>
            <a:xfrm>
              <a:off x="2097360" y="2420280"/>
              <a:ext cx="293760" cy="2937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2" name="椭圆 33"/>
            <p:cNvSpPr/>
            <p:nvPr/>
          </p:nvSpPr>
          <p:spPr>
            <a:xfrm>
              <a:off x="1635840" y="302652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3" name="椭圆 49"/>
            <p:cNvSpPr/>
            <p:nvPr/>
          </p:nvSpPr>
          <p:spPr>
            <a:xfrm>
              <a:off x="1833480" y="2711520"/>
              <a:ext cx="293760" cy="2937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4" name="椭圆 33"/>
            <p:cNvSpPr/>
            <p:nvPr/>
          </p:nvSpPr>
          <p:spPr>
            <a:xfrm>
              <a:off x="2664360" y="302652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5" name="椭圆 51"/>
            <p:cNvSpPr/>
            <p:nvPr/>
          </p:nvSpPr>
          <p:spPr>
            <a:xfrm>
              <a:off x="2862000" y="2711520"/>
              <a:ext cx="293760" cy="2937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6" name="椭圆 33"/>
            <p:cNvSpPr/>
            <p:nvPr/>
          </p:nvSpPr>
          <p:spPr>
            <a:xfrm>
              <a:off x="3726720" y="302652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7" name="椭圆 53"/>
            <p:cNvSpPr/>
            <p:nvPr/>
          </p:nvSpPr>
          <p:spPr>
            <a:xfrm>
              <a:off x="3924000" y="2711520"/>
              <a:ext cx="293760" cy="2937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8" name="椭圆 33"/>
            <p:cNvSpPr/>
            <p:nvPr/>
          </p:nvSpPr>
          <p:spPr>
            <a:xfrm>
              <a:off x="4736880" y="302652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9" name="椭圆 55"/>
            <p:cNvSpPr/>
            <p:nvPr/>
          </p:nvSpPr>
          <p:spPr>
            <a:xfrm>
              <a:off x="4934520" y="2711520"/>
              <a:ext cx="293760" cy="2937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0" name="椭圆 33"/>
            <p:cNvSpPr/>
            <p:nvPr/>
          </p:nvSpPr>
          <p:spPr>
            <a:xfrm>
              <a:off x="5679000" y="302652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1" name="椭圆 57"/>
            <p:cNvSpPr/>
            <p:nvPr/>
          </p:nvSpPr>
          <p:spPr>
            <a:xfrm>
              <a:off x="5876640" y="2711520"/>
              <a:ext cx="293760" cy="2937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22" name="组合 6"/>
            <p:cNvGrpSpPr/>
            <p:nvPr/>
          </p:nvGrpSpPr>
          <p:grpSpPr>
            <a:xfrm>
              <a:off x="2127600" y="2717280"/>
              <a:ext cx="688680" cy="995760"/>
              <a:chOff x="2127600" y="2717280"/>
              <a:chExt cx="688680" cy="995760"/>
            </a:xfrm>
          </p:grpSpPr>
          <p:sp>
            <p:nvSpPr>
              <p:cNvPr id="523" name="椭圆 4"/>
              <p:cNvSpPr/>
              <p:nvPr/>
            </p:nvSpPr>
            <p:spPr>
              <a:xfrm>
                <a:off x="2324880" y="271728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" name="椭圆 33"/>
              <p:cNvSpPr/>
              <p:nvPr/>
            </p:nvSpPr>
            <p:spPr>
              <a:xfrm>
                <a:off x="2127600" y="302652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25" name="梯形 10"/>
            <p:cNvSpPr/>
            <p:nvPr/>
          </p:nvSpPr>
          <p:spPr>
            <a:xfrm rot="3006600">
              <a:off x="2676960" y="2874600"/>
              <a:ext cx="215640" cy="40284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6" name="圆角矩形 11"/>
            <p:cNvSpPr/>
            <p:nvPr/>
          </p:nvSpPr>
          <p:spPr>
            <a:xfrm rot="3739200">
              <a:off x="2601000" y="2771640"/>
              <a:ext cx="435960" cy="15156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7" name="梯形 18"/>
            <p:cNvSpPr/>
            <p:nvPr/>
          </p:nvSpPr>
          <p:spPr>
            <a:xfrm rot="14871000">
              <a:off x="2730240" y="2540880"/>
              <a:ext cx="358560" cy="264960"/>
            </a:xfrm>
            <a:prstGeom prst="trapezoid">
              <a:avLst>
                <a:gd name="adj" fmla="val 49163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8" name="TextBox 19"/>
            <p:cNvSpPr/>
            <p:nvPr/>
          </p:nvSpPr>
          <p:spPr>
            <a:xfrm rot="20269800">
              <a:off x="3336480" y="2216880"/>
              <a:ext cx="714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我们要权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组合 22"/>
            <p:cNvGrpSpPr/>
            <p:nvPr/>
          </p:nvGrpSpPr>
          <p:grpSpPr>
            <a:xfrm>
              <a:off x="4192560" y="2711520"/>
              <a:ext cx="688680" cy="1001520"/>
              <a:chOff x="4192560" y="2711520"/>
              <a:chExt cx="688680" cy="1001520"/>
            </a:xfrm>
          </p:grpSpPr>
          <p:sp>
            <p:nvSpPr>
              <p:cNvPr id="530" name="椭圆 33"/>
              <p:cNvSpPr/>
              <p:nvPr/>
            </p:nvSpPr>
            <p:spPr>
              <a:xfrm>
                <a:off x="4192560" y="302652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" name="椭圆 21"/>
              <p:cNvSpPr/>
              <p:nvPr/>
            </p:nvSpPr>
            <p:spPr>
              <a:xfrm>
                <a:off x="4389840" y="271152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32" name="梯形 23"/>
            <p:cNvSpPr/>
            <p:nvPr/>
          </p:nvSpPr>
          <p:spPr>
            <a:xfrm rot="3165600">
              <a:off x="4773600" y="2908080"/>
              <a:ext cx="215640" cy="40284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圆角矩形 24"/>
            <p:cNvSpPr/>
            <p:nvPr/>
          </p:nvSpPr>
          <p:spPr>
            <a:xfrm>
              <a:off x="4963320" y="2619360"/>
              <a:ext cx="45360" cy="6584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圆角矩形 25"/>
            <p:cNvSpPr/>
            <p:nvPr/>
          </p:nvSpPr>
          <p:spPr>
            <a:xfrm>
              <a:off x="4605840" y="2235600"/>
              <a:ext cx="772200" cy="383400"/>
            </a:xfrm>
            <a:prstGeom prst="roundRect">
              <a:avLst>
                <a:gd name="adj" fmla="val 16667"/>
              </a:avLst>
            </a:prstGeom>
            <a:solidFill>
              <a:schemeClr val="bg2"/>
            </a:solidFill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TextBox 26"/>
            <p:cNvSpPr/>
            <p:nvPr/>
          </p:nvSpPr>
          <p:spPr>
            <a:xfrm>
              <a:off x="4794480" y="2273400"/>
              <a:ext cx="39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改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组合 27"/>
            <p:cNvGrpSpPr/>
            <p:nvPr/>
          </p:nvGrpSpPr>
          <p:grpSpPr>
            <a:xfrm>
              <a:off x="6115320" y="2711520"/>
              <a:ext cx="688680" cy="1001520"/>
              <a:chOff x="6115320" y="2711520"/>
              <a:chExt cx="688680" cy="1001520"/>
            </a:xfrm>
          </p:grpSpPr>
          <p:sp>
            <p:nvSpPr>
              <p:cNvPr id="537" name="椭圆 33"/>
              <p:cNvSpPr/>
              <p:nvPr/>
            </p:nvSpPr>
            <p:spPr>
              <a:xfrm>
                <a:off x="6115320" y="3026520"/>
                <a:ext cx="688680" cy="6865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686520"/>
                  <a:gd name="textAreaBottom" fmla="*/ 686880 h 68652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" name="椭圆 29"/>
              <p:cNvSpPr/>
              <p:nvPr/>
            </p:nvSpPr>
            <p:spPr>
              <a:xfrm>
                <a:off x="6312960" y="2711520"/>
                <a:ext cx="293760" cy="29376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39" name="梯形 30"/>
            <p:cNvSpPr/>
            <p:nvPr/>
          </p:nvSpPr>
          <p:spPr>
            <a:xfrm rot="3165600">
              <a:off x="6696720" y="2908080"/>
              <a:ext cx="215640" cy="40284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0" name="圆角矩形 31"/>
            <p:cNvSpPr/>
            <p:nvPr/>
          </p:nvSpPr>
          <p:spPr>
            <a:xfrm>
              <a:off x="6886440" y="2619360"/>
              <a:ext cx="45360" cy="6584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1" name="圆角矩形 32"/>
            <p:cNvSpPr/>
            <p:nvPr/>
          </p:nvSpPr>
          <p:spPr>
            <a:xfrm>
              <a:off x="6414120" y="2235600"/>
              <a:ext cx="990000" cy="38340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2" name="TextBox 33"/>
            <p:cNvSpPr/>
            <p:nvPr/>
          </p:nvSpPr>
          <p:spPr>
            <a:xfrm>
              <a:off x="6551640" y="2273400"/>
              <a:ext cx="714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废除债奴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椭圆 33"/>
            <p:cNvSpPr/>
            <p:nvPr/>
          </p:nvSpPr>
          <p:spPr>
            <a:xfrm>
              <a:off x="3234960" y="302652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4" name="椭圆 35"/>
            <p:cNvSpPr/>
            <p:nvPr/>
          </p:nvSpPr>
          <p:spPr>
            <a:xfrm>
              <a:off x="3432600" y="2711520"/>
              <a:ext cx="293760" cy="2937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5" name="椭圆 33"/>
            <p:cNvSpPr/>
            <p:nvPr/>
          </p:nvSpPr>
          <p:spPr>
            <a:xfrm>
              <a:off x="5263920" y="3026520"/>
              <a:ext cx="688680" cy="6865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080120" h="937960">
                  <a:moveTo>
                    <a:pt x="540060" y="0"/>
                  </a:moveTo>
                  <a:cubicBezTo>
                    <a:pt x="838327" y="0"/>
                    <a:pt x="1080120" y="419939"/>
                    <a:pt x="1080120" y="937960"/>
                  </a:cubicBezTo>
                  <a:lnTo>
                    <a:pt x="0" y="937960"/>
                  </a:lnTo>
                  <a:cubicBezTo>
                    <a:pt x="0" y="419939"/>
                    <a:pt x="241793" y="0"/>
                    <a:pt x="54006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6" name="椭圆 37"/>
            <p:cNvSpPr/>
            <p:nvPr/>
          </p:nvSpPr>
          <p:spPr>
            <a:xfrm>
              <a:off x="5461560" y="2711520"/>
              <a:ext cx="293760" cy="29376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7" name="梯形 38"/>
            <p:cNvSpPr/>
            <p:nvPr/>
          </p:nvSpPr>
          <p:spPr>
            <a:xfrm rot="18708600">
              <a:off x="3214440" y="2946240"/>
              <a:ext cx="215640" cy="40284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8" name="梯形 39"/>
            <p:cNvSpPr/>
            <p:nvPr/>
          </p:nvSpPr>
          <p:spPr>
            <a:xfrm rot="2703600">
              <a:off x="5801040" y="2967120"/>
              <a:ext cx="215640" cy="40284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9" name="圆角矩形 40"/>
            <p:cNvSpPr/>
            <p:nvPr/>
          </p:nvSpPr>
          <p:spPr>
            <a:xfrm rot="20820000">
              <a:off x="3061080" y="1507320"/>
              <a:ext cx="59400" cy="180000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0" name="圆角矩形 41"/>
            <p:cNvSpPr/>
            <p:nvPr/>
          </p:nvSpPr>
          <p:spPr>
            <a:xfrm flipH="1" rot="780000">
              <a:off x="6147000" y="1523160"/>
              <a:ext cx="59400" cy="180000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51" name="直接连接符 43"/>
            <p:cNvCxnSpPr>
              <a:stCxn id="549" idx="0"/>
              <a:endCxn id="550" idx="0"/>
            </p:cNvCxnSpPr>
            <p:nvPr/>
          </p:nvCxnSpPr>
          <p:spPr>
            <a:xfrm>
              <a:off x="2888280" y="1530360"/>
              <a:ext cx="3490920" cy="15480"/>
            </a:xfrm>
            <a:prstGeom prst="straightConnector1">
              <a:avLst/>
            </a:prstGeom>
            <a:ln w="19050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cxnSp>
          <p:nvCxnSpPr>
            <p:cNvPr id="552" name="直接连接符 45"/>
            <p:cNvCxnSpPr/>
            <p:nvPr/>
          </p:nvCxnSpPr>
          <p:spPr>
            <a:xfrm>
              <a:off x="3030120" y="2115360"/>
              <a:ext cx="3229560" cy="360"/>
            </a:xfrm>
            <a:prstGeom prst="straightConnector1">
              <a:avLst/>
            </a:prstGeom>
            <a:ln w="19050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</p:cxnSp>
        <p:sp>
          <p:nvSpPr>
            <p:cNvPr id="553" name="TextBox 47"/>
            <p:cNvSpPr/>
            <p:nvPr/>
          </p:nvSpPr>
          <p:spPr>
            <a:xfrm>
              <a:off x="4020840" y="1545840"/>
              <a:ext cx="1247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汉仪中黑简"/>
                  <a:ea typeface="汉仪中黑简"/>
                </a:rPr>
                <a:t>旧贵族下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 Box 6"/>
          <p:cNvSpPr/>
          <p:nvPr/>
        </p:nvSpPr>
        <p:spPr>
          <a:xfrm>
            <a:off x="251640" y="47206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组合 32"/>
          <p:cNvGrpSpPr/>
          <p:nvPr/>
        </p:nvGrpSpPr>
        <p:grpSpPr>
          <a:xfrm>
            <a:off x="-1258200" y="-933480"/>
            <a:ext cx="5574960" cy="3478680"/>
            <a:chOff x="-1258200" y="-933480"/>
            <a:chExt cx="5574960" cy="3478680"/>
          </a:xfrm>
        </p:grpSpPr>
        <p:sp>
          <p:nvSpPr>
            <p:cNvPr id="556" name="梯形 33"/>
            <p:cNvSpPr/>
            <p:nvPr/>
          </p:nvSpPr>
          <p:spPr>
            <a:xfrm flipH="1" rot="9006000">
              <a:off x="3209040" y="-750240"/>
              <a:ext cx="215640" cy="26316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梯形 34"/>
            <p:cNvSpPr/>
            <p:nvPr/>
          </p:nvSpPr>
          <p:spPr>
            <a:xfrm flipH="1" rot="9875400">
              <a:off x="3658680" y="-903600"/>
              <a:ext cx="215640" cy="263196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梯形 35"/>
            <p:cNvSpPr/>
            <p:nvPr/>
          </p:nvSpPr>
          <p:spPr>
            <a:xfrm flipH="1" rot="10800000">
              <a:off x="4100760" y="-933480"/>
              <a:ext cx="215640" cy="263196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梯形 36"/>
            <p:cNvSpPr/>
            <p:nvPr/>
          </p:nvSpPr>
          <p:spPr>
            <a:xfrm flipH="1" rot="7989000">
              <a:off x="2626920" y="-734760"/>
              <a:ext cx="215640" cy="30168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梯形 37"/>
            <p:cNvSpPr/>
            <p:nvPr/>
          </p:nvSpPr>
          <p:spPr>
            <a:xfrm flipH="1" rot="6876600">
              <a:off x="1365480" y="-1542240"/>
              <a:ext cx="215640" cy="494244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梯形 38"/>
            <p:cNvSpPr/>
            <p:nvPr/>
          </p:nvSpPr>
          <p:spPr>
            <a:xfrm flipH="1" rot="5899800">
              <a:off x="1115640" y="-678960"/>
              <a:ext cx="215640" cy="49428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梯形 39"/>
            <p:cNvSpPr/>
            <p:nvPr/>
          </p:nvSpPr>
          <p:spPr>
            <a:xfrm flipH="1" rot="5400000">
              <a:off x="1105200" y="-33840"/>
              <a:ext cx="215640" cy="49428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3" name="同心圆 23"/>
          <p:cNvSpPr/>
          <p:nvPr/>
        </p:nvSpPr>
        <p:spPr>
          <a:xfrm>
            <a:off x="3551400" y="1567440"/>
            <a:ext cx="1341720" cy="1341720"/>
          </a:xfrm>
          <a:prstGeom prst="donut">
            <a:avLst>
              <a:gd name="adj" fmla="val 8931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"/>
          <p:cNvSpPr/>
          <p:nvPr/>
        </p:nvSpPr>
        <p:spPr>
          <a:xfrm>
            <a:off x="440640" y="1800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就在这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"/>
          <p:cNvSpPr/>
          <p:nvPr/>
        </p:nvSpPr>
        <p:spPr>
          <a:xfrm>
            <a:off x="1049400" y="5439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梭伦</a:t>
            </a: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出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6704280" y="444384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开始推行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31"/>
          <p:cNvGrpSpPr/>
          <p:nvPr/>
        </p:nvGrpSpPr>
        <p:grpSpPr>
          <a:xfrm>
            <a:off x="4132800" y="-904680"/>
            <a:ext cx="5574600" cy="3478320"/>
            <a:chOff x="4132800" y="-904680"/>
            <a:chExt cx="5574600" cy="3478320"/>
          </a:xfrm>
        </p:grpSpPr>
        <p:sp>
          <p:nvSpPr>
            <p:cNvPr id="568" name="梯形 25"/>
            <p:cNvSpPr/>
            <p:nvPr/>
          </p:nvSpPr>
          <p:spPr>
            <a:xfrm rot="11724600">
              <a:off x="4575240" y="-874800"/>
              <a:ext cx="215640" cy="263196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梯形 24"/>
            <p:cNvSpPr/>
            <p:nvPr/>
          </p:nvSpPr>
          <p:spPr>
            <a:xfrm rot="10800000">
              <a:off x="4132800" y="-904680"/>
              <a:ext cx="215640" cy="263196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梯形 26"/>
            <p:cNvSpPr/>
            <p:nvPr/>
          </p:nvSpPr>
          <p:spPr>
            <a:xfrm rot="12594000">
              <a:off x="5023440" y="-722160"/>
              <a:ext cx="215640" cy="263196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梯形 27"/>
            <p:cNvSpPr/>
            <p:nvPr/>
          </p:nvSpPr>
          <p:spPr>
            <a:xfrm rot="13611000">
              <a:off x="5606640" y="-705960"/>
              <a:ext cx="215640" cy="30168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梯形 28"/>
            <p:cNvSpPr/>
            <p:nvPr/>
          </p:nvSpPr>
          <p:spPr>
            <a:xfrm rot="14723400">
              <a:off x="6867000" y="-1515960"/>
              <a:ext cx="215640" cy="49428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梯形 29"/>
            <p:cNvSpPr/>
            <p:nvPr/>
          </p:nvSpPr>
          <p:spPr>
            <a:xfrm rot="15700200">
              <a:off x="7117560" y="-649440"/>
              <a:ext cx="215640" cy="49428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梯形 30"/>
            <p:cNvSpPr/>
            <p:nvPr/>
          </p:nvSpPr>
          <p:spPr>
            <a:xfrm rot="16200000">
              <a:off x="7128000" y="-5400"/>
              <a:ext cx="215640" cy="4942800"/>
            </a:xfrm>
            <a:prstGeom prst="trapezoid">
              <a:avLst>
                <a:gd name="adj" fmla="val 25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组合 21"/>
          <p:cNvGrpSpPr/>
          <p:nvPr/>
        </p:nvGrpSpPr>
        <p:grpSpPr>
          <a:xfrm>
            <a:off x="3637440" y="1346400"/>
            <a:ext cx="1220760" cy="1876680"/>
            <a:chOff x="3637440" y="1346400"/>
            <a:chExt cx="1220760" cy="1876680"/>
          </a:xfrm>
        </p:grpSpPr>
        <p:grpSp>
          <p:nvGrpSpPr>
            <p:cNvPr id="576" name="组合 18"/>
            <p:cNvGrpSpPr/>
            <p:nvPr/>
          </p:nvGrpSpPr>
          <p:grpSpPr>
            <a:xfrm>
              <a:off x="3971160" y="1346400"/>
              <a:ext cx="579600" cy="747000"/>
              <a:chOff x="3971160" y="1346400"/>
              <a:chExt cx="579600" cy="747000"/>
            </a:xfrm>
          </p:grpSpPr>
          <p:sp>
            <p:nvSpPr>
              <p:cNvPr id="577" name="椭圆 4"/>
              <p:cNvSpPr/>
              <p:nvPr/>
            </p:nvSpPr>
            <p:spPr>
              <a:xfrm>
                <a:off x="4001400" y="1422000"/>
                <a:ext cx="488160" cy="67140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8" name="椭圆 5"/>
              <p:cNvSpPr/>
              <p:nvPr/>
            </p:nvSpPr>
            <p:spPr>
              <a:xfrm>
                <a:off x="4404240" y="154404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9" name="椭圆 6"/>
              <p:cNvSpPr/>
              <p:nvPr/>
            </p:nvSpPr>
            <p:spPr>
              <a:xfrm>
                <a:off x="3971160" y="150516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0" name="椭圆 7"/>
              <p:cNvSpPr/>
              <p:nvPr/>
            </p:nvSpPr>
            <p:spPr>
              <a:xfrm>
                <a:off x="4001400" y="142704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1" name="椭圆 8"/>
              <p:cNvSpPr/>
              <p:nvPr/>
            </p:nvSpPr>
            <p:spPr>
              <a:xfrm>
                <a:off x="4051440" y="135612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2" name="椭圆 9"/>
              <p:cNvSpPr/>
              <p:nvPr/>
            </p:nvSpPr>
            <p:spPr>
              <a:xfrm>
                <a:off x="4125960" y="134640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3" name="椭圆 10"/>
              <p:cNvSpPr/>
              <p:nvPr/>
            </p:nvSpPr>
            <p:spPr>
              <a:xfrm>
                <a:off x="4222440" y="134640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4" name="椭圆 11"/>
              <p:cNvSpPr/>
              <p:nvPr/>
            </p:nvSpPr>
            <p:spPr>
              <a:xfrm>
                <a:off x="4293360" y="140760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5" name="椭圆 12"/>
              <p:cNvSpPr/>
              <p:nvPr/>
            </p:nvSpPr>
            <p:spPr>
              <a:xfrm>
                <a:off x="4347000" y="146628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6" name="椭圆 13"/>
              <p:cNvSpPr/>
              <p:nvPr/>
            </p:nvSpPr>
            <p:spPr>
              <a:xfrm>
                <a:off x="4293360" y="137556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7" name="椭圆 14"/>
              <p:cNvSpPr/>
              <p:nvPr/>
            </p:nvSpPr>
            <p:spPr>
              <a:xfrm>
                <a:off x="4367880" y="140760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8" name="椭圆 15"/>
              <p:cNvSpPr/>
              <p:nvPr/>
            </p:nvSpPr>
            <p:spPr>
              <a:xfrm>
                <a:off x="4424760" y="146628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9" name="椭圆 16"/>
              <p:cNvSpPr/>
              <p:nvPr/>
            </p:nvSpPr>
            <p:spPr>
              <a:xfrm>
                <a:off x="4417560" y="162720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90" name="椭圆 17"/>
              <p:cNvSpPr/>
              <p:nvPr/>
            </p:nvSpPr>
            <p:spPr>
              <a:xfrm>
                <a:off x="4429080" y="1534680"/>
                <a:ext cx="121680" cy="12168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91" name="椭圆 19"/>
            <p:cNvSpPr/>
            <p:nvPr/>
          </p:nvSpPr>
          <p:spPr>
            <a:xfrm>
              <a:off x="3637440" y="2093760"/>
              <a:ext cx="1220760" cy="112932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29320"/>
                <a:gd name="textAreaBottom" fmla="*/ 1129680 h 1129320"/>
              </a:gdLst>
              <a:ahLst/>
              <a:rect l="textAreaLeft" t="textAreaTop" r="textAreaRight" b="textAreaBottom"/>
              <a:pathLst>
                <a:path w="1440160" h="1332148">
                  <a:moveTo>
                    <a:pt x="720080" y="0"/>
                  </a:moveTo>
                  <a:cubicBezTo>
                    <a:pt x="1117769" y="0"/>
                    <a:pt x="1440160" y="596423"/>
                    <a:pt x="1440160" y="1332148"/>
                  </a:cubicBezTo>
                  <a:lnTo>
                    <a:pt x="0" y="1332148"/>
                  </a:lnTo>
                  <a:cubicBezTo>
                    <a:pt x="0" y="596423"/>
                    <a:pt x="322391" y="0"/>
                    <a:pt x="720080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92" name="组合 45"/>
          <p:cNvGrpSpPr/>
          <p:nvPr/>
        </p:nvGrpSpPr>
        <p:grpSpPr>
          <a:xfrm>
            <a:off x="782640" y="3504600"/>
            <a:ext cx="916920" cy="783360"/>
            <a:chOff x="782640" y="3504600"/>
            <a:chExt cx="916920" cy="783360"/>
          </a:xfrm>
        </p:grpSpPr>
        <p:grpSp>
          <p:nvGrpSpPr>
            <p:cNvPr id="593" name="组合 42"/>
            <p:cNvGrpSpPr/>
            <p:nvPr/>
          </p:nvGrpSpPr>
          <p:grpSpPr>
            <a:xfrm>
              <a:off x="995760" y="3577680"/>
              <a:ext cx="491040" cy="710280"/>
              <a:chOff x="995760" y="3577680"/>
              <a:chExt cx="491040" cy="710280"/>
            </a:xfrm>
          </p:grpSpPr>
          <p:sp>
            <p:nvSpPr>
              <p:cNvPr id="594" name="椭圆 40"/>
              <p:cNvSpPr/>
              <p:nvPr/>
            </p:nvSpPr>
            <p:spPr>
              <a:xfrm>
                <a:off x="1136520" y="357768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95" name="椭圆 33"/>
              <p:cNvSpPr/>
              <p:nvPr/>
            </p:nvSpPr>
            <p:spPr>
              <a:xfrm>
                <a:off x="995760" y="379836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96" name="圆角矩形 43"/>
            <p:cNvSpPr/>
            <p:nvPr/>
          </p:nvSpPr>
          <p:spPr>
            <a:xfrm rot="18415800">
              <a:off x="1205640" y="370800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" name="圆角矩形 44"/>
            <p:cNvSpPr/>
            <p:nvPr/>
          </p:nvSpPr>
          <p:spPr>
            <a:xfrm flipH="1" rot="3184200">
              <a:off x="712800" y="372384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98" name="组合 46"/>
          <p:cNvGrpSpPr/>
          <p:nvPr/>
        </p:nvGrpSpPr>
        <p:grpSpPr>
          <a:xfrm>
            <a:off x="1593000" y="3504600"/>
            <a:ext cx="916920" cy="783360"/>
            <a:chOff x="1593000" y="3504600"/>
            <a:chExt cx="916920" cy="783360"/>
          </a:xfrm>
        </p:grpSpPr>
        <p:grpSp>
          <p:nvGrpSpPr>
            <p:cNvPr id="599" name="组合 47"/>
            <p:cNvGrpSpPr/>
            <p:nvPr/>
          </p:nvGrpSpPr>
          <p:grpSpPr>
            <a:xfrm>
              <a:off x="1806120" y="3577680"/>
              <a:ext cx="491040" cy="710280"/>
              <a:chOff x="1806120" y="3577680"/>
              <a:chExt cx="491040" cy="710280"/>
            </a:xfrm>
          </p:grpSpPr>
          <p:sp>
            <p:nvSpPr>
              <p:cNvPr id="600" name="椭圆 50"/>
              <p:cNvSpPr/>
              <p:nvPr/>
            </p:nvSpPr>
            <p:spPr>
              <a:xfrm>
                <a:off x="1946880" y="357768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1" name="椭圆 33"/>
              <p:cNvSpPr/>
              <p:nvPr/>
            </p:nvSpPr>
            <p:spPr>
              <a:xfrm>
                <a:off x="1806120" y="379836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02" name="圆角矩形 48"/>
            <p:cNvSpPr/>
            <p:nvPr/>
          </p:nvSpPr>
          <p:spPr>
            <a:xfrm rot="18415800">
              <a:off x="2016000" y="370800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" name="圆角矩形 49"/>
            <p:cNvSpPr/>
            <p:nvPr/>
          </p:nvSpPr>
          <p:spPr>
            <a:xfrm flipH="1" rot="3184200">
              <a:off x="1523160" y="372384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4" name="组合 52"/>
          <p:cNvGrpSpPr/>
          <p:nvPr/>
        </p:nvGrpSpPr>
        <p:grpSpPr>
          <a:xfrm>
            <a:off x="2342880" y="3504600"/>
            <a:ext cx="916920" cy="783360"/>
            <a:chOff x="2342880" y="3504600"/>
            <a:chExt cx="916920" cy="783360"/>
          </a:xfrm>
        </p:grpSpPr>
        <p:grpSp>
          <p:nvGrpSpPr>
            <p:cNvPr id="605" name="组合 53"/>
            <p:cNvGrpSpPr/>
            <p:nvPr/>
          </p:nvGrpSpPr>
          <p:grpSpPr>
            <a:xfrm>
              <a:off x="2555640" y="3577680"/>
              <a:ext cx="491040" cy="710280"/>
              <a:chOff x="2555640" y="3577680"/>
              <a:chExt cx="491040" cy="710280"/>
            </a:xfrm>
          </p:grpSpPr>
          <p:sp>
            <p:nvSpPr>
              <p:cNvPr id="606" name="椭圆 56"/>
              <p:cNvSpPr/>
              <p:nvPr/>
            </p:nvSpPr>
            <p:spPr>
              <a:xfrm>
                <a:off x="2696760" y="357768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7" name="椭圆 33"/>
              <p:cNvSpPr/>
              <p:nvPr/>
            </p:nvSpPr>
            <p:spPr>
              <a:xfrm>
                <a:off x="2555640" y="379836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08" name="圆角矩形 54"/>
            <p:cNvSpPr/>
            <p:nvPr/>
          </p:nvSpPr>
          <p:spPr>
            <a:xfrm rot="18415800">
              <a:off x="2765880" y="370800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9" name="圆角矩形 55"/>
            <p:cNvSpPr/>
            <p:nvPr/>
          </p:nvSpPr>
          <p:spPr>
            <a:xfrm flipH="1" rot="3184200">
              <a:off x="2273040" y="372384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10" name="组合 58"/>
          <p:cNvGrpSpPr/>
          <p:nvPr/>
        </p:nvGrpSpPr>
        <p:grpSpPr>
          <a:xfrm>
            <a:off x="3168720" y="3504600"/>
            <a:ext cx="916920" cy="783360"/>
            <a:chOff x="3168720" y="3504600"/>
            <a:chExt cx="916920" cy="783360"/>
          </a:xfrm>
        </p:grpSpPr>
        <p:grpSp>
          <p:nvGrpSpPr>
            <p:cNvPr id="611" name="组合 59"/>
            <p:cNvGrpSpPr/>
            <p:nvPr/>
          </p:nvGrpSpPr>
          <p:grpSpPr>
            <a:xfrm>
              <a:off x="3381480" y="3577680"/>
              <a:ext cx="491040" cy="710280"/>
              <a:chOff x="3381480" y="3577680"/>
              <a:chExt cx="491040" cy="710280"/>
            </a:xfrm>
          </p:grpSpPr>
          <p:sp>
            <p:nvSpPr>
              <p:cNvPr id="612" name="椭圆 62"/>
              <p:cNvSpPr/>
              <p:nvPr/>
            </p:nvSpPr>
            <p:spPr>
              <a:xfrm>
                <a:off x="3522600" y="357768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13" name="椭圆 33"/>
              <p:cNvSpPr/>
              <p:nvPr/>
            </p:nvSpPr>
            <p:spPr>
              <a:xfrm>
                <a:off x="3381480" y="379836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14" name="圆角矩形 60"/>
            <p:cNvSpPr/>
            <p:nvPr/>
          </p:nvSpPr>
          <p:spPr>
            <a:xfrm rot="18415800">
              <a:off x="3591720" y="370800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5" name="圆角矩形 61"/>
            <p:cNvSpPr/>
            <p:nvPr/>
          </p:nvSpPr>
          <p:spPr>
            <a:xfrm flipH="1" rot="3184200">
              <a:off x="3098880" y="372384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16" name="组合 64"/>
          <p:cNvGrpSpPr/>
          <p:nvPr/>
        </p:nvGrpSpPr>
        <p:grpSpPr>
          <a:xfrm>
            <a:off x="3979080" y="3504600"/>
            <a:ext cx="916920" cy="783360"/>
            <a:chOff x="3979080" y="3504600"/>
            <a:chExt cx="916920" cy="783360"/>
          </a:xfrm>
        </p:grpSpPr>
        <p:grpSp>
          <p:nvGrpSpPr>
            <p:cNvPr id="617" name="组合 65"/>
            <p:cNvGrpSpPr/>
            <p:nvPr/>
          </p:nvGrpSpPr>
          <p:grpSpPr>
            <a:xfrm>
              <a:off x="4191840" y="3577680"/>
              <a:ext cx="491040" cy="710280"/>
              <a:chOff x="4191840" y="3577680"/>
              <a:chExt cx="491040" cy="710280"/>
            </a:xfrm>
          </p:grpSpPr>
          <p:sp>
            <p:nvSpPr>
              <p:cNvPr id="618" name="椭圆 68"/>
              <p:cNvSpPr/>
              <p:nvPr/>
            </p:nvSpPr>
            <p:spPr>
              <a:xfrm>
                <a:off x="4332960" y="357768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19" name="椭圆 33"/>
              <p:cNvSpPr/>
              <p:nvPr/>
            </p:nvSpPr>
            <p:spPr>
              <a:xfrm>
                <a:off x="4191840" y="379836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20" name="圆角矩形 66"/>
            <p:cNvSpPr/>
            <p:nvPr/>
          </p:nvSpPr>
          <p:spPr>
            <a:xfrm rot="18415800">
              <a:off x="4402080" y="370800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1" name="圆角矩形 67"/>
            <p:cNvSpPr/>
            <p:nvPr/>
          </p:nvSpPr>
          <p:spPr>
            <a:xfrm flipH="1" rot="3184200">
              <a:off x="3909240" y="372384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22" name="组合 70"/>
          <p:cNvGrpSpPr/>
          <p:nvPr/>
        </p:nvGrpSpPr>
        <p:grpSpPr>
          <a:xfrm>
            <a:off x="4728960" y="3504600"/>
            <a:ext cx="916920" cy="783360"/>
            <a:chOff x="4728960" y="3504600"/>
            <a:chExt cx="916920" cy="783360"/>
          </a:xfrm>
        </p:grpSpPr>
        <p:grpSp>
          <p:nvGrpSpPr>
            <p:cNvPr id="623" name="组合 71"/>
            <p:cNvGrpSpPr/>
            <p:nvPr/>
          </p:nvGrpSpPr>
          <p:grpSpPr>
            <a:xfrm>
              <a:off x="4941720" y="3577680"/>
              <a:ext cx="491040" cy="710280"/>
              <a:chOff x="4941720" y="3577680"/>
              <a:chExt cx="491040" cy="710280"/>
            </a:xfrm>
          </p:grpSpPr>
          <p:sp>
            <p:nvSpPr>
              <p:cNvPr id="624" name="椭圆 74"/>
              <p:cNvSpPr/>
              <p:nvPr/>
            </p:nvSpPr>
            <p:spPr>
              <a:xfrm>
                <a:off x="5082480" y="357768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25" name="椭圆 33"/>
              <p:cNvSpPr/>
              <p:nvPr/>
            </p:nvSpPr>
            <p:spPr>
              <a:xfrm>
                <a:off x="4941720" y="379836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26" name="圆角矩形 72"/>
            <p:cNvSpPr/>
            <p:nvPr/>
          </p:nvSpPr>
          <p:spPr>
            <a:xfrm rot="18415800">
              <a:off x="5151960" y="370800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7" name="圆角矩形 73"/>
            <p:cNvSpPr/>
            <p:nvPr/>
          </p:nvSpPr>
          <p:spPr>
            <a:xfrm flipH="1" rot="3184200">
              <a:off x="4659120" y="372384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28" name="组合 76"/>
          <p:cNvGrpSpPr/>
          <p:nvPr/>
        </p:nvGrpSpPr>
        <p:grpSpPr>
          <a:xfrm>
            <a:off x="5560560" y="3504600"/>
            <a:ext cx="916920" cy="783360"/>
            <a:chOff x="5560560" y="3504600"/>
            <a:chExt cx="916920" cy="783360"/>
          </a:xfrm>
        </p:grpSpPr>
        <p:grpSp>
          <p:nvGrpSpPr>
            <p:cNvPr id="629" name="组合 77"/>
            <p:cNvGrpSpPr/>
            <p:nvPr/>
          </p:nvGrpSpPr>
          <p:grpSpPr>
            <a:xfrm>
              <a:off x="5773320" y="3577680"/>
              <a:ext cx="491040" cy="710280"/>
              <a:chOff x="5773320" y="3577680"/>
              <a:chExt cx="491040" cy="710280"/>
            </a:xfrm>
          </p:grpSpPr>
          <p:sp>
            <p:nvSpPr>
              <p:cNvPr id="630" name="椭圆 80"/>
              <p:cNvSpPr/>
              <p:nvPr/>
            </p:nvSpPr>
            <p:spPr>
              <a:xfrm>
                <a:off x="5914080" y="357768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31" name="椭圆 33"/>
              <p:cNvSpPr/>
              <p:nvPr/>
            </p:nvSpPr>
            <p:spPr>
              <a:xfrm>
                <a:off x="5773320" y="379836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32" name="圆角矩形 78"/>
            <p:cNvSpPr/>
            <p:nvPr/>
          </p:nvSpPr>
          <p:spPr>
            <a:xfrm rot="18415800">
              <a:off x="5983560" y="370800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3" name="圆角矩形 79"/>
            <p:cNvSpPr/>
            <p:nvPr/>
          </p:nvSpPr>
          <p:spPr>
            <a:xfrm flipH="1" rot="3184200">
              <a:off x="5490720" y="372384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34" name="组合 82"/>
          <p:cNvGrpSpPr/>
          <p:nvPr/>
        </p:nvGrpSpPr>
        <p:grpSpPr>
          <a:xfrm>
            <a:off x="6370920" y="3504600"/>
            <a:ext cx="916920" cy="783360"/>
            <a:chOff x="6370920" y="3504600"/>
            <a:chExt cx="916920" cy="783360"/>
          </a:xfrm>
        </p:grpSpPr>
        <p:grpSp>
          <p:nvGrpSpPr>
            <p:cNvPr id="635" name="组合 83"/>
            <p:cNvGrpSpPr/>
            <p:nvPr/>
          </p:nvGrpSpPr>
          <p:grpSpPr>
            <a:xfrm>
              <a:off x="6583680" y="3577680"/>
              <a:ext cx="491040" cy="710280"/>
              <a:chOff x="6583680" y="3577680"/>
              <a:chExt cx="491040" cy="710280"/>
            </a:xfrm>
          </p:grpSpPr>
          <p:sp>
            <p:nvSpPr>
              <p:cNvPr id="636" name="椭圆 86"/>
              <p:cNvSpPr/>
              <p:nvPr/>
            </p:nvSpPr>
            <p:spPr>
              <a:xfrm>
                <a:off x="6724440" y="357768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37" name="椭圆 33"/>
              <p:cNvSpPr/>
              <p:nvPr/>
            </p:nvSpPr>
            <p:spPr>
              <a:xfrm>
                <a:off x="6583680" y="379836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38" name="圆角矩形 84"/>
            <p:cNvSpPr/>
            <p:nvPr/>
          </p:nvSpPr>
          <p:spPr>
            <a:xfrm rot="18415800">
              <a:off x="6793920" y="370800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9" name="圆角矩形 85"/>
            <p:cNvSpPr/>
            <p:nvPr/>
          </p:nvSpPr>
          <p:spPr>
            <a:xfrm flipH="1" rot="3184200">
              <a:off x="6301080" y="372384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40" name="组合 88"/>
          <p:cNvGrpSpPr/>
          <p:nvPr/>
        </p:nvGrpSpPr>
        <p:grpSpPr>
          <a:xfrm>
            <a:off x="7120800" y="3504600"/>
            <a:ext cx="916560" cy="783360"/>
            <a:chOff x="7120800" y="3504600"/>
            <a:chExt cx="916560" cy="783360"/>
          </a:xfrm>
        </p:grpSpPr>
        <p:grpSp>
          <p:nvGrpSpPr>
            <p:cNvPr id="641" name="组合 89"/>
            <p:cNvGrpSpPr/>
            <p:nvPr/>
          </p:nvGrpSpPr>
          <p:grpSpPr>
            <a:xfrm>
              <a:off x="7333560" y="3577680"/>
              <a:ext cx="491040" cy="710280"/>
              <a:chOff x="7333560" y="3577680"/>
              <a:chExt cx="491040" cy="710280"/>
            </a:xfrm>
          </p:grpSpPr>
          <p:sp>
            <p:nvSpPr>
              <p:cNvPr id="642" name="椭圆 92"/>
              <p:cNvSpPr/>
              <p:nvPr/>
            </p:nvSpPr>
            <p:spPr>
              <a:xfrm>
                <a:off x="7474320" y="3577680"/>
                <a:ext cx="209520" cy="20952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3" name="椭圆 33"/>
              <p:cNvSpPr/>
              <p:nvPr/>
            </p:nvSpPr>
            <p:spPr>
              <a:xfrm>
                <a:off x="7333560" y="3798360"/>
                <a:ext cx="491040" cy="489600"/>
              </a:xfrm>
              <a:custGeom>
                <a:avLst/>
                <a:gdLst>
                  <a:gd name="textAreaLeft" fmla="*/ 0 w 491040"/>
                  <a:gd name="textAreaRight" fmla="*/ 491400 w 49104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1080120" h="937960">
                    <a:moveTo>
                      <a:pt x="540060" y="0"/>
                    </a:moveTo>
                    <a:cubicBezTo>
                      <a:pt x="838327" y="0"/>
                      <a:pt x="1080120" y="419939"/>
                      <a:pt x="1080120" y="937960"/>
                    </a:cubicBezTo>
                    <a:lnTo>
                      <a:pt x="0" y="937960"/>
                    </a:lnTo>
                    <a:cubicBezTo>
                      <a:pt x="0" y="419939"/>
                      <a:pt x="241793" y="0"/>
                      <a:pt x="54006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44" name="圆角矩形 90"/>
            <p:cNvSpPr/>
            <p:nvPr/>
          </p:nvSpPr>
          <p:spPr>
            <a:xfrm rot="18415800">
              <a:off x="7543440" y="370800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5" name="圆角矩形 91"/>
            <p:cNvSpPr/>
            <p:nvPr/>
          </p:nvSpPr>
          <p:spPr>
            <a:xfrm flipH="1" rot="3184200">
              <a:off x="7050960" y="3723840"/>
              <a:ext cx="563040" cy="10764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46" name="TextBox 94"/>
          <p:cNvSpPr/>
          <p:nvPr/>
        </p:nvSpPr>
        <p:spPr>
          <a:xfrm rot="20938800">
            <a:off x="1687320" y="306972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人民的大救星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95"/>
          <p:cNvSpPr/>
          <p:nvPr/>
        </p:nvSpPr>
        <p:spPr>
          <a:xfrm rot="415200">
            <a:off x="5749560" y="300564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我们的红太阳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Box 1"/>
          <p:cNvSpPr/>
          <p:nvPr/>
        </p:nvSpPr>
        <p:spPr>
          <a:xfrm>
            <a:off x="627840" y="18000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梭伦根据财产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"/>
          <p:cNvSpPr/>
          <p:nvPr/>
        </p:nvSpPr>
        <p:spPr>
          <a:xfrm>
            <a:off x="1486440" y="543960"/>
            <a:ext cx="252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把公民划分成了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四</a:t>
            </a: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个等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30"/>
          <p:cNvGrpSpPr/>
          <p:nvPr/>
        </p:nvGrpSpPr>
        <p:grpSpPr>
          <a:xfrm>
            <a:off x="6566040" y="2526840"/>
            <a:ext cx="2032560" cy="1447560"/>
            <a:chOff x="6566040" y="2526840"/>
            <a:chExt cx="2032560" cy="1447560"/>
          </a:xfrm>
        </p:grpSpPr>
        <p:grpSp>
          <p:nvGrpSpPr>
            <p:cNvPr id="651" name="组合 3"/>
            <p:cNvGrpSpPr/>
            <p:nvPr/>
          </p:nvGrpSpPr>
          <p:grpSpPr>
            <a:xfrm>
              <a:off x="7656840" y="2526840"/>
              <a:ext cx="941760" cy="1447560"/>
              <a:chOff x="7656840" y="2526840"/>
              <a:chExt cx="941760" cy="1447560"/>
            </a:xfrm>
          </p:grpSpPr>
          <p:grpSp>
            <p:nvGrpSpPr>
              <p:cNvPr id="652" name="组合 4"/>
              <p:cNvGrpSpPr/>
              <p:nvPr/>
            </p:nvGrpSpPr>
            <p:grpSpPr>
              <a:xfrm>
                <a:off x="7914240" y="2526840"/>
                <a:ext cx="447120" cy="576360"/>
                <a:chOff x="7914240" y="2526840"/>
                <a:chExt cx="447120" cy="576360"/>
              </a:xfrm>
            </p:grpSpPr>
            <p:sp>
              <p:nvSpPr>
                <p:cNvPr id="653" name="椭圆 6"/>
                <p:cNvSpPr/>
                <p:nvPr/>
              </p:nvSpPr>
              <p:spPr>
                <a:xfrm>
                  <a:off x="7937640" y="2585160"/>
                  <a:ext cx="376560" cy="51804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" name="椭圆 7"/>
                <p:cNvSpPr/>
                <p:nvPr/>
              </p:nvSpPr>
              <p:spPr>
                <a:xfrm>
                  <a:off x="8248320" y="267912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" name="椭圆 8"/>
                <p:cNvSpPr/>
                <p:nvPr/>
              </p:nvSpPr>
              <p:spPr>
                <a:xfrm>
                  <a:off x="7914240" y="264924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" name="椭圆 9"/>
                <p:cNvSpPr/>
                <p:nvPr/>
              </p:nvSpPr>
              <p:spPr>
                <a:xfrm>
                  <a:off x="7937640" y="258876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" name="椭圆 10"/>
                <p:cNvSpPr/>
                <p:nvPr/>
              </p:nvSpPr>
              <p:spPr>
                <a:xfrm>
                  <a:off x="7976160" y="253440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" name="椭圆 11"/>
                <p:cNvSpPr/>
                <p:nvPr/>
              </p:nvSpPr>
              <p:spPr>
                <a:xfrm>
                  <a:off x="8033760" y="252684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" name="椭圆 12"/>
                <p:cNvSpPr/>
                <p:nvPr/>
              </p:nvSpPr>
              <p:spPr>
                <a:xfrm>
                  <a:off x="8108280" y="252684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" name="椭圆 13"/>
                <p:cNvSpPr/>
                <p:nvPr/>
              </p:nvSpPr>
              <p:spPr>
                <a:xfrm>
                  <a:off x="8162640" y="257364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" name="椭圆 14"/>
                <p:cNvSpPr/>
                <p:nvPr/>
              </p:nvSpPr>
              <p:spPr>
                <a:xfrm>
                  <a:off x="8204400" y="261900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" name="椭圆 15"/>
                <p:cNvSpPr/>
                <p:nvPr/>
              </p:nvSpPr>
              <p:spPr>
                <a:xfrm>
                  <a:off x="8162640" y="254916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" name="椭圆 16"/>
                <p:cNvSpPr/>
                <p:nvPr/>
              </p:nvSpPr>
              <p:spPr>
                <a:xfrm>
                  <a:off x="8220240" y="257364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" name="椭圆 17"/>
                <p:cNvSpPr/>
                <p:nvPr/>
              </p:nvSpPr>
              <p:spPr>
                <a:xfrm>
                  <a:off x="8264520" y="261900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" name="椭圆 18"/>
                <p:cNvSpPr/>
                <p:nvPr/>
              </p:nvSpPr>
              <p:spPr>
                <a:xfrm>
                  <a:off x="8258760" y="274356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" name="椭圆 19"/>
                <p:cNvSpPr/>
                <p:nvPr/>
              </p:nvSpPr>
              <p:spPr>
                <a:xfrm>
                  <a:off x="8267400" y="267192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7" name="椭圆 19"/>
              <p:cNvSpPr/>
              <p:nvPr/>
            </p:nvSpPr>
            <p:spPr>
              <a:xfrm>
                <a:off x="7656840" y="3103200"/>
                <a:ext cx="941760" cy="871200"/>
              </a:xfrm>
              <a:custGeom>
                <a:avLst/>
                <a:gdLst>
                  <a:gd name="textAreaLeft" fmla="*/ 0 w 941760"/>
                  <a:gd name="textAreaRight" fmla="*/ 942120 w 94176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1440160" h="1332148">
                    <a:moveTo>
                      <a:pt x="720080" y="0"/>
                    </a:moveTo>
                    <a:cubicBezTo>
                      <a:pt x="1117769" y="0"/>
                      <a:pt x="1440160" y="596423"/>
                      <a:pt x="1440160" y="1332148"/>
                    </a:cubicBezTo>
                    <a:lnTo>
                      <a:pt x="0" y="1332148"/>
                    </a:lnTo>
                    <a:cubicBezTo>
                      <a:pt x="0" y="596423"/>
                      <a:pt x="322391" y="0"/>
                      <a:pt x="72008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68" name="圆角矩形 28"/>
            <p:cNvSpPr/>
            <p:nvPr/>
          </p:nvSpPr>
          <p:spPr>
            <a:xfrm rot="1237800">
              <a:off x="7372440" y="3262320"/>
              <a:ext cx="944280" cy="22176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9" name="梯形 29"/>
            <p:cNvSpPr/>
            <p:nvPr/>
          </p:nvSpPr>
          <p:spPr>
            <a:xfrm rot="18420000">
              <a:off x="7093440" y="2321280"/>
              <a:ext cx="34920" cy="1338840"/>
            </a:xfrm>
            <a:prstGeom prst="trapezoid">
              <a:avLst>
                <a:gd name="adj" fmla="val 25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70" name="椭圆 31"/>
          <p:cNvSpPr/>
          <p:nvPr/>
        </p:nvSpPr>
        <p:spPr>
          <a:xfrm>
            <a:off x="1192680" y="246888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椭圆 31"/>
          <p:cNvSpPr/>
          <p:nvPr/>
        </p:nvSpPr>
        <p:spPr>
          <a:xfrm>
            <a:off x="1497960" y="246996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2" name="椭圆 31"/>
          <p:cNvSpPr/>
          <p:nvPr/>
        </p:nvSpPr>
        <p:spPr>
          <a:xfrm>
            <a:off x="1814400" y="247680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3" name="椭圆 31"/>
          <p:cNvSpPr/>
          <p:nvPr/>
        </p:nvSpPr>
        <p:spPr>
          <a:xfrm>
            <a:off x="2119320" y="247968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74" name="组合 41"/>
          <p:cNvGrpSpPr/>
          <p:nvPr/>
        </p:nvGrpSpPr>
        <p:grpSpPr>
          <a:xfrm>
            <a:off x="1186920" y="2287080"/>
            <a:ext cx="1231560" cy="181440"/>
            <a:chOff x="1186920" y="2287080"/>
            <a:chExt cx="1231560" cy="181440"/>
          </a:xfrm>
        </p:grpSpPr>
        <p:sp>
          <p:nvSpPr>
            <p:cNvPr id="675" name="椭圆 31"/>
            <p:cNvSpPr/>
            <p:nvPr/>
          </p:nvSpPr>
          <p:spPr>
            <a:xfrm>
              <a:off x="1186920" y="228708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6" name="椭圆 31"/>
            <p:cNvSpPr/>
            <p:nvPr/>
          </p:nvSpPr>
          <p:spPr>
            <a:xfrm>
              <a:off x="1492200" y="228816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7" name="椭圆 31"/>
            <p:cNvSpPr/>
            <p:nvPr/>
          </p:nvSpPr>
          <p:spPr>
            <a:xfrm>
              <a:off x="1808640" y="229500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8" name="椭圆 31"/>
            <p:cNvSpPr/>
            <p:nvPr/>
          </p:nvSpPr>
          <p:spPr>
            <a:xfrm>
              <a:off x="2113560" y="229788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79" name="组合 46"/>
          <p:cNvGrpSpPr/>
          <p:nvPr/>
        </p:nvGrpSpPr>
        <p:grpSpPr>
          <a:xfrm>
            <a:off x="1181160" y="2105280"/>
            <a:ext cx="1231560" cy="181440"/>
            <a:chOff x="1181160" y="2105280"/>
            <a:chExt cx="1231560" cy="181440"/>
          </a:xfrm>
        </p:grpSpPr>
        <p:sp>
          <p:nvSpPr>
            <p:cNvPr id="680" name="椭圆 31"/>
            <p:cNvSpPr/>
            <p:nvPr/>
          </p:nvSpPr>
          <p:spPr>
            <a:xfrm>
              <a:off x="1181160" y="210528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1" name="椭圆 31"/>
            <p:cNvSpPr/>
            <p:nvPr/>
          </p:nvSpPr>
          <p:spPr>
            <a:xfrm>
              <a:off x="1486440" y="210636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2" name="椭圆 31"/>
            <p:cNvSpPr/>
            <p:nvPr/>
          </p:nvSpPr>
          <p:spPr>
            <a:xfrm>
              <a:off x="1802880" y="211356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3" name="椭圆 31"/>
            <p:cNvSpPr/>
            <p:nvPr/>
          </p:nvSpPr>
          <p:spPr>
            <a:xfrm>
              <a:off x="2107800" y="211608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4" name="组合 51"/>
          <p:cNvGrpSpPr/>
          <p:nvPr/>
        </p:nvGrpSpPr>
        <p:grpSpPr>
          <a:xfrm>
            <a:off x="1175400" y="1923840"/>
            <a:ext cx="1231560" cy="181080"/>
            <a:chOff x="1175400" y="1923840"/>
            <a:chExt cx="1231560" cy="181080"/>
          </a:xfrm>
        </p:grpSpPr>
        <p:sp>
          <p:nvSpPr>
            <p:cNvPr id="685" name="椭圆 31"/>
            <p:cNvSpPr/>
            <p:nvPr/>
          </p:nvSpPr>
          <p:spPr>
            <a:xfrm>
              <a:off x="1175400" y="192384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6" name="椭圆 31"/>
            <p:cNvSpPr/>
            <p:nvPr/>
          </p:nvSpPr>
          <p:spPr>
            <a:xfrm>
              <a:off x="1480680" y="192456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7" name="椭圆 31"/>
            <p:cNvSpPr/>
            <p:nvPr/>
          </p:nvSpPr>
          <p:spPr>
            <a:xfrm>
              <a:off x="1797120" y="193176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8" name="椭圆 31"/>
            <p:cNvSpPr/>
            <p:nvPr/>
          </p:nvSpPr>
          <p:spPr>
            <a:xfrm>
              <a:off x="2102040" y="1934280"/>
              <a:ext cx="304920" cy="170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105610" h="619557">
                  <a:moveTo>
                    <a:pt x="552805" y="0"/>
                  </a:moveTo>
                  <a:cubicBezTo>
                    <a:pt x="665803" y="0"/>
                    <a:pt x="760192" y="79681"/>
                    <a:pt x="782668" y="185958"/>
                  </a:cubicBezTo>
                  <a:cubicBezTo>
                    <a:pt x="890553" y="150831"/>
                    <a:pt x="984646" y="86253"/>
                    <a:pt x="1058261" y="2799"/>
                  </a:cubicBezTo>
                  <a:lnTo>
                    <a:pt x="1105610" y="2799"/>
                  </a:lnTo>
                  <a:cubicBezTo>
                    <a:pt x="1050408" y="253179"/>
                    <a:pt x="979419" y="463998"/>
                    <a:pt x="895670" y="619557"/>
                  </a:cubicBezTo>
                  <a:lnTo>
                    <a:pt x="209940" y="619557"/>
                  </a:lnTo>
                  <a:cubicBezTo>
                    <a:pt x="126191" y="463998"/>
                    <a:pt x="55203" y="253179"/>
                    <a:pt x="0" y="2799"/>
                  </a:cubicBezTo>
                  <a:lnTo>
                    <a:pt x="47349" y="2799"/>
                  </a:lnTo>
                  <a:cubicBezTo>
                    <a:pt x="120965" y="86253"/>
                    <a:pt x="215057" y="150831"/>
                    <a:pt x="322942" y="185958"/>
                  </a:cubicBezTo>
                  <a:cubicBezTo>
                    <a:pt x="345418" y="79681"/>
                    <a:pt x="439807" y="0"/>
                    <a:pt x="552805" y="0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89" name="椭圆 31"/>
          <p:cNvSpPr/>
          <p:nvPr/>
        </p:nvSpPr>
        <p:spPr>
          <a:xfrm>
            <a:off x="3231360" y="273132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0" name="椭圆 31"/>
          <p:cNvSpPr/>
          <p:nvPr/>
        </p:nvSpPr>
        <p:spPr>
          <a:xfrm>
            <a:off x="3547800" y="273816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1" name="椭圆 31"/>
          <p:cNvSpPr/>
          <p:nvPr/>
        </p:nvSpPr>
        <p:spPr>
          <a:xfrm>
            <a:off x="3852720" y="274104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2" name="椭圆 31"/>
          <p:cNvSpPr/>
          <p:nvPr/>
        </p:nvSpPr>
        <p:spPr>
          <a:xfrm>
            <a:off x="3240720" y="252792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3" name="椭圆 31"/>
          <p:cNvSpPr/>
          <p:nvPr/>
        </p:nvSpPr>
        <p:spPr>
          <a:xfrm>
            <a:off x="3557160" y="253512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4" name="椭圆 31"/>
          <p:cNvSpPr/>
          <p:nvPr/>
        </p:nvSpPr>
        <p:spPr>
          <a:xfrm>
            <a:off x="3862440" y="253764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5" name="椭圆 31"/>
          <p:cNvSpPr/>
          <p:nvPr/>
        </p:nvSpPr>
        <p:spPr>
          <a:xfrm>
            <a:off x="3393360" y="230184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6" name="椭圆 31"/>
          <p:cNvSpPr/>
          <p:nvPr/>
        </p:nvSpPr>
        <p:spPr>
          <a:xfrm>
            <a:off x="3698640" y="230436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7" name="椭圆 31"/>
          <p:cNvSpPr/>
          <p:nvPr/>
        </p:nvSpPr>
        <p:spPr>
          <a:xfrm>
            <a:off x="4955040" y="305892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8" name="椭圆 31"/>
          <p:cNvSpPr/>
          <p:nvPr/>
        </p:nvSpPr>
        <p:spPr>
          <a:xfrm>
            <a:off x="5260320" y="306180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9" name="椭圆 31"/>
          <p:cNvSpPr/>
          <p:nvPr/>
        </p:nvSpPr>
        <p:spPr>
          <a:xfrm>
            <a:off x="4955040" y="283572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0" name="椭圆 31"/>
          <p:cNvSpPr/>
          <p:nvPr/>
        </p:nvSpPr>
        <p:spPr>
          <a:xfrm>
            <a:off x="5260320" y="283824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1" name="椭圆 31"/>
          <p:cNvSpPr/>
          <p:nvPr/>
        </p:nvSpPr>
        <p:spPr>
          <a:xfrm>
            <a:off x="6427080" y="3485880"/>
            <a:ext cx="304920" cy="170640"/>
          </a:xfrm>
          <a:custGeom>
            <a:avLst/>
            <a:gdLst>
              <a:gd name="textAreaLeft" fmla="*/ 0 w 304920"/>
              <a:gd name="textAreaRight" fmla="*/ 305280 w 304920"/>
              <a:gd name="textAreaTop" fmla="*/ 0 h 170640"/>
              <a:gd name="textAreaBottom" fmla="*/ 171000 h 170640"/>
            </a:gdLst>
            <a:ahLst/>
            <a:rect l="textAreaLeft" t="textAreaTop" r="textAreaRight" b="textAreaBottom"/>
            <a:pathLst>
              <a:path w="1105610" h="619557">
                <a:moveTo>
                  <a:pt x="552805" y="0"/>
                </a:moveTo>
                <a:cubicBezTo>
                  <a:pt x="665803" y="0"/>
                  <a:pt x="760192" y="79681"/>
                  <a:pt x="782668" y="185958"/>
                </a:cubicBezTo>
                <a:cubicBezTo>
                  <a:pt x="890553" y="150831"/>
                  <a:pt x="984646" y="86253"/>
                  <a:pt x="1058261" y="2799"/>
                </a:cubicBezTo>
                <a:lnTo>
                  <a:pt x="1105610" y="2799"/>
                </a:lnTo>
                <a:cubicBezTo>
                  <a:pt x="1050408" y="253179"/>
                  <a:pt x="979419" y="463998"/>
                  <a:pt x="895670" y="619557"/>
                </a:cubicBezTo>
                <a:lnTo>
                  <a:pt x="209940" y="619557"/>
                </a:lnTo>
                <a:cubicBezTo>
                  <a:pt x="126191" y="463998"/>
                  <a:pt x="55203" y="253179"/>
                  <a:pt x="0" y="2799"/>
                </a:cubicBezTo>
                <a:lnTo>
                  <a:pt x="47349" y="2799"/>
                </a:lnTo>
                <a:cubicBezTo>
                  <a:pt x="120965" y="86253"/>
                  <a:pt x="215057" y="150831"/>
                  <a:pt x="322942" y="185958"/>
                </a:cubicBezTo>
                <a:cubicBezTo>
                  <a:pt x="345418" y="79681"/>
                  <a:pt x="439807" y="0"/>
                  <a:pt x="552805" y="0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2" name="TextBox 72"/>
          <p:cNvSpPr/>
          <p:nvPr/>
        </p:nvSpPr>
        <p:spPr>
          <a:xfrm>
            <a:off x="1598400" y="274392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一等公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73"/>
          <p:cNvSpPr/>
          <p:nvPr/>
        </p:nvSpPr>
        <p:spPr>
          <a:xfrm>
            <a:off x="3378600" y="298404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二等公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74"/>
          <p:cNvSpPr/>
          <p:nvPr/>
        </p:nvSpPr>
        <p:spPr>
          <a:xfrm>
            <a:off x="4950000" y="334404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三等公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75"/>
          <p:cNvSpPr/>
          <p:nvPr/>
        </p:nvSpPr>
        <p:spPr>
          <a:xfrm>
            <a:off x="6275520" y="377604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四等公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76"/>
          <p:cNvSpPr/>
          <p:nvPr/>
        </p:nvSpPr>
        <p:spPr>
          <a:xfrm>
            <a:off x="6164280" y="44438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钱越多，权利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7" name="直接连接符 78"/>
          <p:cNvCxnSpPr/>
          <p:nvPr/>
        </p:nvCxnSpPr>
        <p:spPr>
          <a:xfrm>
            <a:off x="971280" y="3656880"/>
            <a:ext cx="4825080" cy="36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sysDash"/>
            <a:round/>
          </a:ln>
        </p:spPr>
      </p:cxnSp>
      <p:sp>
        <p:nvSpPr>
          <p:cNvPr id="708" name="TextBox 82"/>
          <p:cNvSpPr/>
          <p:nvPr/>
        </p:nvSpPr>
        <p:spPr>
          <a:xfrm>
            <a:off x="2813040" y="366732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汉仪中黑简"/>
                <a:ea typeface="汉仪中黑简"/>
              </a:rPr>
              <a:t>可入选四百人议事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9" name="直接连接符 83"/>
          <p:cNvCxnSpPr/>
          <p:nvPr/>
        </p:nvCxnSpPr>
        <p:spPr>
          <a:xfrm>
            <a:off x="5796000" y="1707480"/>
            <a:ext cx="360" cy="193680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sys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图片 58" descr=""/>
          <p:cNvPicPr/>
          <p:nvPr/>
        </p:nvPicPr>
        <p:blipFill>
          <a:blip r:embed="rId1"/>
          <a:srcRect l="50004" t="0" r="0" b="0"/>
          <a:stretch/>
        </p:blipFill>
        <p:spPr>
          <a:xfrm rot="3031800">
            <a:off x="6087600" y="2061720"/>
            <a:ext cx="2364840" cy="179784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57" descr=""/>
          <p:cNvPicPr/>
          <p:nvPr/>
        </p:nvPicPr>
        <p:blipFill>
          <a:blip r:embed="rId2"/>
          <a:srcRect l="0" t="0" r="50004" b="0"/>
          <a:stretch/>
        </p:blipFill>
        <p:spPr>
          <a:xfrm rot="20211000">
            <a:off x="4544280" y="1156320"/>
            <a:ext cx="2364840" cy="17978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1"/>
          <p:cNvSpPr/>
          <p:nvPr/>
        </p:nvSpPr>
        <p:spPr>
          <a:xfrm>
            <a:off x="721440" y="18000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与此同时梭伦抡起锤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2"/>
          <p:cNvSpPr/>
          <p:nvPr/>
        </p:nvSpPr>
        <p:spPr>
          <a:xfrm>
            <a:off x="1267920" y="5439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废除</a:t>
            </a: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了债务奴隶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"/>
          <p:cNvSpPr/>
          <p:nvPr/>
        </p:nvSpPr>
        <p:spPr>
          <a:xfrm>
            <a:off x="4369680" y="4443840"/>
            <a:ext cx="31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62626"/>
                </a:solidFill>
                <a:latin typeface="迷你简粗倩"/>
                <a:ea typeface="迷你简粗倩"/>
              </a:rPr>
              <a:t>他的改革为雅典民主奠定了</a:t>
            </a:r>
            <a:r>
              <a:rPr b="0" lang="zh-CN" sz="2800" spc="-1" strike="noStrike">
                <a:solidFill>
                  <a:srgbClr val="c00000"/>
                </a:solidFill>
                <a:latin typeface="迷你简粗倩"/>
                <a:ea typeface="迷你简粗倩"/>
              </a:rPr>
              <a:t>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25"/>
          <p:cNvGrpSpPr/>
          <p:nvPr/>
        </p:nvGrpSpPr>
        <p:grpSpPr>
          <a:xfrm>
            <a:off x="1578960" y="2500200"/>
            <a:ext cx="1235520" cy="1447920"/>
            <a:chOff x="1578960" y="2500200"/>
            <a:chExt cx="1235520" cy="1447920"/>
          </a:xfrm>
        </p:grpSpPr>
        <p:grpSp>
          <p:nvGrpSpPr>
            <p:cNvPr id="716" name="组合 26"/>
            <p:cNvGrpSpPr/>
            <p:nvPr/>
          </p:nvGrpSpPr>
          <p:grpSpPr>
            <a:xfrm>
              <a:off x="1578960" y="2500200"/>
              <a:ext cx="941760" cy="1447920"/>
              <a:chOff x="1578960" y="2500200"/>
              <a:chExt cx="941760" cy="1447920"/>
            </a:xfrm>
          </p:grpSpPr>
          <p:grpSp>
            <p:nvGrpSpPr>
              <p:cNvPr id="717" name="组合 29"/>
              <p:cNvGrpSpPr/>
              <p:nvPr/>
            </p:nvGrpSpPr>
            <p:grpSpPr>
              <a:xfrm>
                <a:off x="1815840" y="2500200"/>
                <a:ext cx="447480" cy="576360"/>
                <a:chOff x="1815840" y="2500200"/>
                <a:chExt cx="447480" cy="576360"/>
              </a:xfrm>
            </p:grpSpPr>
            <p:sp>
              <p:nvSpPr>
                <p:cNvPr id="718" name="椭圆 31"/>
                <p:cNvSpPr/>
                <p:nvPr/>
              </p:nvSpPr>
              <p:spPr>
                <a:xfrm flipH="1">
                  <a:off x="1863360" y="2558520"/>
                  <a:ext cx="376560" cy="51804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" name="椭圆 32"/>
                <p:cNvSpPr/>
                <p:nvPr/>
              </p:nvSpPr>
              <p:spPr>
                <a:xfrm flipH="1">
                  <a:off x="1834560" y="265284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" name="椭圆 33"/>
                <p:cNvSpPr/>
                <p:nvPr/>
              </p:nvSpPr>
              <p:spPr>
                <a:xfrm flipH="1">
                  <a:off x="2169000" y="262260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" name="椭圆 34"/>
                <p:cNvSpPr/>
                <p:nvPr/>
              </p:nvSpPr>
              <p:spPr>
                <a:xfrm flipH="1">
                  <a:off x="2145240" y="256248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" name="椭圆 35"/>
                <p:cNvSpPr/>
                <p:nvPr/>
              </p:nvSpPr>
              <p:spPr>
                <a:xfrm flipH="1">
                  <a:off x="2106720" y="250776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" name="椭圆 36"/>
                <p:cNvSpPr/>
                <p:nvPr/>
              </p:nvSpPr>
              <p:spPr>
                <a:xfrm flipH="1">
                  <a:off x="2049480" y="250020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" name="椭圆 37"/>
                <p:cNvSpPr/>
                <p:nvPr/>
              </p:nvSpPr>
              <p:spPr>
                <a:xfrm flipH="1">
                  <a:off x="1974960" y="250020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" name="椭圆 38"/>
                <p:cNvSpPr/>
                <p:nvPr/>
              </p:nvSpPr>
              <p:spPr>
                <a:xfrm flipH="1">
                  <a:off x="1920240" y="254736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" name="椭圆 39"/>
                <p:cNvSpPr/>
                <p:nvPr/>
              </p:nvSpPr>
              <p:spPr>
                <a:xfrm flipH="1">
                  <a:off x="1878840" y="259272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" name="椭圆 40"/>
                <p:cNvSpPr/>
                <p:nvPr/>
              </p:nvSpPr>
              <p:spPr>
                <a:xfrm flipH="1">
                  <a:off x="1920240" y="252288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" name="椭圆 41"/>
                <p:cNvSpPr/>
                <p:nvPr/>
              </p:nvSpPr>
              <p:spPr>
                <a:xfrm flipH="1">
                  <a:off x="1862640" y="254736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" name="椭圆 42"/>
                <p:cNvSpPr/>
                <p:nvPr/>
              </p:nvSpPr>
              <p:spPr>
                <a:xfrm flipH="1">
                  <a:off x="1818720" y="259272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" name="椭圆 43"/>
                <p:cNvSpPr/>
                <p:nvPr/>
              </p:nvSpPr>
              <p:spPr>
                <a:xfrm flipH="1">
                  <a:off x="1824480" y="271692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" name="椭圆 44"/>
                <p:cNvSpPr/>
                <p:nvPr/>
              </p:nvSpPr>
              <p:spPr>
                <a:xfrm flipH="1">
                  <a:off x="1815480" y="2645640"/>
                  <a:ext cx="93960" cy="939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32" name="椭圆 19"/>
              <p:cNvSpPr/>
              <p:nvPr/>
            </p:nvSpPr>
            <p:spPr>
              <a:xfrm flipH="1">
                <a:off x="1578960" y="3076920"/>
                <a:ext cx="941760" cy="87120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1440160" h="1332148">
                    <a:moveTo>
                      <a:pt x="720080" y="0"/>
                    </a:moveTo>
                    <a:cubicBezTo>
                      <a:pt x="1117769" y="0"/>
                      <a:pt x="1440160" y="596423"/>
                      <a:pt x="1440160" y="1332148"/>
                    </a:cubicBezTo>
                    <a:lnTo>
                      <a:pt x="0" y="1332148"/>
                    </a:lnTo>
                    <a:cubicBezTo>
                      <a:pt x="0" y="596423"/>
                      <a:pt x="322391" y="0"/>
                      <a:pt x="720080" y="0"/>
                    </a:cubicBez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33" name="圆角矩形 27"/>
            <p:cNvSpPr/>
            <p:nvPr/>
          </p:nvSpPr>
          <p:spPr>
            <a:xfrm flipH="1" rot="20362200">
              <a:off x="1861200" y="3236040"/>
              <a:ext cx="944280" cy="22176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34" name="组合 53"/>
          <p:cNvGrpSpPr/>
          <p:nvPr/>
        </p:nvGrpSpPr>
        <p:grpSpPr>
          <a:xfrm>
            <a:off x="2415600" y="1343160"/>
            <a:ext cx="2399760" cy="2100960"/>
            <a:chOff x="2415600" y="1343160"/>
            <a:chExt cx="2399760" cy="2100960"/>
          </a:xfrm>
        </p:grpSpPr>
        <p:sp>
          <p:nvSpPr>
            <p:cNvPr id="735" name="圆角矩形 24"/>
            <p:cNvSpPr/>
            <p:nvPr/>
          </p:nvSpPr>
          <p:spPr>
            <a:xfrm rot="3089400">
              <a:off x="3263400" y="1320480"/>
              <a:ext cx="466200" cy="239256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36" name="图片 50" descr=""/>
            <p:cNvPicPr/>
            <p:nvPr/>
          </p:nvPicPr>
          <p:blipFill>
            <a:blip r:embed="rId3"/>
            <a:stretch/>
          </p:blipFill>
          <p:spPr>
            <a:xfrm rot="19289400">
              <a:off x="3590640" y="1452240"/>
              <a:ext cx="8629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圆角矩形 51"/>
            <p:cNvSpPr/>
            <p:nvPr/>
          </p:nvSpPr>
          <p:spPr>
            <a:xfrm rot="21282000">
              <a:off x="3365280" y="2005920"/>
              <a:ext cx="1219680" cy="1915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8" name="圆角矩形 52"/>
            <p:cNvSpPr/>
            <p:nvPr/>
          </p:nvSpPr>
          <p:spPr>
            <a:xfrm rot="17461200">
              <a:off x="3363480" y="2003760"/>
              <a:ext cx="1219680" cy="1915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  <Words>413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4T02:54:12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7</vt:r8>
  </property>
</Properties>
</file>