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47148-FB06-4A95-BE70-A55B5D39F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3EB026-FAE2-4D36-912B-1CC2221D9A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4A22FC-CB93-4441-B618-C8B08A80DDD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5B9-2405-49E4-BE0A-DF2C4DD3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DF8-C6C5-420C-9185-8C16680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EF7-B258-4309-B24F-1E6244F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744-1F1A-401E-ADFC-053856A5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623-FC91-4825-B7BE-F5549514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3F6-B2D3-4CA9-B303-4A806B1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A70-8C86-43CC-AA2C-A00CAA9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499-62B1-400F-BBA6-1145CFC8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4C0-4BC0-421F-A264-3FC488B2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26A-2452-49C3-8095-CFDFC82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F0A-38BC-4D87-9DAB-751B28CE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06A-280D-45E1-B409-9E4BF0B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D0161A-18C5-4904-A70E-8758CE3F41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tretch/>
        </p:blipFill>
        <p:spPr>
          <a:xfrm>
            <a:off x="2525760" y="7216920"/>
            <a:ext cx="7674840" cy="36594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1652040" y="677520"/>
            <a:ext cx="942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仿腾讯网站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功能介绍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540440" y="6042960"/>
            <a:ext cx="9375120" cy="954000"/>
            <a:chOff x="1540440" y="6042960"/>
            <a:chExt cx="9375120" cy="954000"/>
          </a:xfrm>
        </p:grpSpPr>
        <p:sp>
          <p:nvSpPr>
            <p:cNvPr id="50" name="矩形 1"/>
            <p:cNvSpPr/>
            <p:nvPr/>
          </p:nvSpPr>
          <p:spPr>
            <a:xfrm>
              <a:off x="1540440" y="6042960"/>
              <a:ext cx="9375120" cy="241920"/>
            </a:xfrm>
            <a:prstGeom prst="rect">
              <a:avLst/>
            </a:pr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 rot="996600">
              <a:off x="2959200" y="6213240"/>
              <a:ext cx="428400" cy="7376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428602" h="737942">
                  <a:moveTo>
                    <a:pt x="111565" y="0"/>
                  </a:moveTo>
                  <a:lnTo>
                    <a:pt x="428602" y="0"/>
                  </a:lnTo>
                  <a:lnTo>
                    <a:pt x="332011" y="638895"/>
                  </a:lnTo>
                  <a:lnTo>
                    <a:pt x="0" y="737942"/>
                  </a:lnTo>
                  <a:close/>
                </a:path>
              </a:pathLst>
            </a:cu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任意多边形 10"/>
            <p:cNvSpPr/>
            <p:nvPr/>
          </p:nvSpPr>
          <p:spPr>
            <a:xfrm flipH="1" rot="20603400">
              <a:off x="9074160" y="6213600"/>
              <a:ext cx="426960" cy="7254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26782" h="725903">
                  <a:moveTo>
                    <a:pt x="109745" y="0"/>
                  </a:moveTo>
                  <a:lnTo>
                    <a:pt x="0" y="725903"/>
                  </a:lnTo>
                  <a:lnTo>
                    <a:pt x="332011" y="626855"/>
                  </a:lnTo>
                  <a:lnTo>
                    <a:pt x="426782" y="0"/>
                  </a:lnTo>
                  <a:close/>
                </a:path>
              </a:pathLst>
            </a:custGeom>
            <a:solidFill>
              <a:srgbClr val="52a4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3" name="组合 6"/>
          <p:cNvGrpSpPr/>
          <p:nvPr/>
        </p:nvGrpSpPr>
        <p:grpSpPr>
          <a:xfrm>
            <a:off x="2018160" y="0"/>
            <a:ext cx="1284120" cy="1875960"/>
            <a:chOff x="2018160" y="0"/>
            <a:chExt cx="1284120" cy="1875960"/>
          </a:xfrm>
        </p:grpSpPr>
        <p:sp>
          <p:nvSpPr>
            <p:cNvPr id="54" name="任意多边形 14"/>
            <p:cNvSpPr/>
            <p:nvPr/>
          </p:nvSpPr>
          <p:spPr>
            <a:xfrm>
              <a:off x="2018160" y="1253880"/>
              <a:ext cx="1284120" cy="6220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284532" h="622453">
                  <a:moveTo>
                    <a:pt x="642266" y="0"/>
                  </a:moveTo>
                  <a:cubicBezTo>
                    <a:pt x="953714" y="0"/>
                    <a:pt x="1213563" y="220919"/>
                    <a:pt x="1273659" y="514601"/>
                  </a:cubicBezTo>
                  <a:lnTo>
                    <a:pt x="1284532" y="622453"/>
                  </a:lnTo>
                  <a:lnTo>
                    <a:pt x="0" y="622453"/>
                  </a:lnTo>
                  <a:lnTo>
                    <a:pt x="10873" y="514601"/>
                  </a:lnTo>
                  <a:cubicBezTo>
                    <a:pt x="70969" y="220919"/>
                    <a:pt x="330819" y="0"/>
                    <a:pt x="642266" y="0"/>
                  </a:cubicBezTo>
                  <a:close/>
                </a:path>
              </a:pathLst>
            </a:cu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2637720" y="0"/>
              <a:ext cx="45360" cy="1253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" name="组合 5"/>
          <p:cNvGrpSpPr/>
          <p:nvPr/>
        </p:nvGrpSpPr>
        <p:grpSpPr>
          <a:xfrm>
            <a:off x="1773720" y="2776320"/>
            <a:ext cx="1244880" cy="3266280"/>
            <a:chOff x="1773720" y="2776320"/>
            <a:chExt cx="1244880" cy="3266280"/>
          </a:xfrm>
        </p:grpSpPr>
        <p:sp>
          <p:nvSpPr>
            <p:cNvPr id="57" name="梯形 16"/>
            <p:cNvSpPr/>
            <p:nvPr/>
          </p:nvSpPr>
          <p:spPr>
            <a:xfrm>
              <a:off x="2225520" y="3789720"/>
              <a:ext cx="457560" cy="2252880"/>
            </a:xfrm>
            <a:prstGeom prst="trapezoid">
              <a:avLst>
                <a:gd name="adj" fmla="val 37031"/>
              </a:avLst>
            </a:prstGeom>
            <a:solidFill>
              <a:srgbClr val="6ab5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1773720" y="2985480"/>
              <a:ext cx="627480" cy="77076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627961" h="771181">
                  <a:moveTo>
                    <a:pt x="627961" y="771181"/>
                  </a:moveTo>
                  <a:cubicBezTo>
                    <a:pt x="613272" y="752820"/>
                    <a:pt x="596356" y="736037"/>
                    <a:pt x="583894" y="716097"/>
                  </a:cubicBezTo>
                  <a:cubicBezTo>
                    <a:pt x="577739" y="706249"/>
                    <a:pt x="578071" y="693433"/>
                    <a:pt x="572877" y="683046"/>
                  </a:cubicBezTo>
                  <a:cubicBezTo>
                    <a:pt x="566956" y="671203"/>
                    <a:pt x="558188" y="661013"/>
                    <a:pt x="550843" y="649996"/>
                  </a:cubicBezTo>
                  <a:cubicBezTo>
                    <a:pt x="533403" y="580238"/>
                    <a:pt x="548225" y="618526"/>
                    <a:pt x="495759" y="539827"/>
                  </a:cubicBezTo>
                  <a:lnTo>
                    <a:pt x="473725" y="506776"/>
                  </a:lnTo>
                  <a:cubicBezTo>
                    <a:pt x="453365" y="476236"/>
                    <a:pt x="457135" y="467238"/>
                    <a:pt x="418641" y="462709"/>
                  </a:cubicBezTo>
                  <a:cubicBezTo>
                    <a:pt x="367451" y="456687"/>
                    <a:pt x="315816" y="455364"/>
                    <a:pt x="264404" y="451692"/>
                  </a:cubicBezTo>
                  <a:cubicBezTo>
                    <a:pt x="235468" y="408285"/>
                    <a:pt x="236069" y="415468"/>
                    <a:pt x="220337" y="352540"/>
                  </a:cubicBezTo>
                  <a:cubicBezTo>
                    <a:pt x="220242" y="352158"/>
                    <a:pt x="203571" y="280690"/>
                    <a:pt x="198303" y="275422"/>
                  </a:cubicBezTo>
                  <a:cubicBezTo>
                    <a:pt x="190092" y="267211"/>
                    <a:pt x="175640" y="269598"/>
                    <a:pt x="165253" y="264405"/>
                  </a:cubicBezTo>
                  <a:cubicBezTo>
                    <a:pt x="153410" y="258484"/>
                    <a:pt x="143219" y="249716"/>
                    <a:pt x="132202" y="242372"/>
                  </a:cubicBezTo>
                  <a:cubicBezTo>
                    <a:pt x="124857" y="220338"/>
                    <a:pt x="123051" y="195595"/>
                    <a:pt x="110168" y="176270"/>
                  </a:cubicBezTo>
                  <a:cubicBezTo>
                    <a:pt x="102824" y="165253"/>
                    <a:pt x="93512" y="155319"/>
                    <a:pt x="88135" y="143220"/>
                  </a:cubicBezTo>
                  <a:cubicBezTo>
                    <a:pt x="78702" y="121996"/>
                    <a:pt x="73446" y="99153"/>
                    <a:pt x="66101" y="77119"/>
                  </a:cubicBezTo>
                  <a:cubicBezTo>
                    <a:pt x="62429" y="66102"/>
                    <a:pt x="63296" y="52280"/>
                    <a:pt x="55084" y="44068"/>
                  </a:cubicBezTo>
                  <a:cubicBezTo>
                    <a:pt x="44067" y="33051"/>
                    <a:pt x="34199" y="20750"/>
                    <a:pt x="22033" y="11017"/>
                  </a:cubicBezTo>
                  <a:cubicBezTo>
                    <a:pt x="15621" y="5887"/>
                    <a:pt x="7344" y="3672"/>
                    <a:pt x="0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任意多边形 19"/>
            <p:cNvSpPr/>
            <p:nvPr/>
          </p:nvSpPr>
          <p:spPr>
            <a:xfrm>
              <a:off x="2037960" y="2787120"/>
              <a:ext cx="396360" cy="93600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936000"/>
                <a:gd name="textAreaBottom" fmla="*/ 936360 h 936000"/>
              </a:gdLst>
              <a:ahLst/>
              <a:rect l="textAreaLeft" t="textAreaTop" r="textAreaRight" b="textAreaBottom"/>
              <a:pathLst>
                <a:path w="396608" h="936434">
                  <a:moveTo>
                    <a:pt x="396608" y="936434"/>
                  </a:moveTo>
                  <a:cubicBezTo>
                    <a:pt x="392936" y="855644"/>
                    <a:pt x="389956" y="774819"/>
                    <a:pt x="385591" y="694063"/>
                  </a:cubicBezTo>
                  <a:cubicBezTo>
                    <a:pt x="382611" y="638937"/>
                    <a:pt x="390151" y="581773"/>
                    <a:pt x="374574" y="528810"/>
                  </a:cubicBezTo>
                  <a:cubicBezTo>
                    <a:pt x="369940" y="513054"/>
                    <a:pt x="345755" y="512875"/>
                    <a:pt x="330507" y="506776"/>
                  </a:cubicBezTo>
                  <a:cubicBezTo>
                    <a:pt x="308942" y="498150"/>
                    <a:pt x="286439" y="492087"/>
                    <a:pt x="264405" y="484742"/>
                  </a:cubicBezTo>
                  <a:lnTo>
                    <a:pt x="231355" y="473725"/>
                  </a:lnTo>
                  <a:cubicBezTo>
                    <a:pt x="218650" y="435611"/>
                    <a:pt x="208088" y="421108"/>
                    <a:pt x="231355" y="374573"/>
                  </a:cubicBezTo>
                  <a:cubicBezTo>
                    <a:pt x="237276" y="362730"/>
                    <a:pt x="253388" y="359884"/>
                    <a:pt x="264405" y="352540"/>
                  </a:cubicBezTo>
                  <a:cubicBezTo>
                    <a:pt x="268077" y="341523"/>
                    <a:pt x="270229" y="329876"/>
                    <a:pt x="275422" y="319489"/>
                  </a:cubicBezTo>
                  <a:cubicBezTo>
                    <a:pt x="295162" y="280008"/>
                    <a:pt x="340950" y="258870"/>
                    <a:pt x="286439" y="198303"/>
                  </a:cubicBezTo>
                  <a:cubicBezTo>
                    <a:pt x="266181" y="175794"/>
                    <a:pt x="227032" y="185846"/>
                    <a:pt x="198304" y="176270"/>
                  </a:cubicBezTo>
                  <a:cubicBezTo>
                    <a:pt x="187287" y="172598"/>
                    <a:pt x="176419" y="168443"/>
                    <a:pt x="165253" y="165253"/>
                  </a:cubicBezTo>
                  <a:cubicBezTo>
                    <a:pt x="150694" y="161093"/>
                    <a:pt x="135689" y="158587"/>
                    <a:pt x="121186" y="154236"/>
                  </a:cubicBezTo>
                  <a:cubicBezTo>
                    <a:pt x="98940" y="147562"/>
                    <a:pt x="77119" y="139547"/>
                    <a:pt x="55085" y="132202"/>
                  </a:cubicBezTo>
                  <a:lnTo>
                    <a:pt x="22034" y="121185"/>
                  </a:lnTo>
                  <a:cubicBezTo>
                    <a:pt x="18362" y="110168"/>
                    <a:pt x="13094" y="99560"/>
                    <a:pt x="11017" y="88135"/>
                  </a:cubicBezTo>
                  <a:cubicBezTo>
                    <a:pt x="5721" y="59006"/>
                    <a:pt x="0" y="0"/>
                    <a:pt x="0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任意多边形 20"/>
            <p:cNvSpPr/>
            <p:nvPr/>
          </p:nvSpPr>
          <p:spPr>
            <a:xfrm>
              <a:off x="2368080" y="2776320"/>
              <a:ext cx="143280" cy="98028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80280"/>
                <a:gd name="textAreaBottom" fmla="*/ 980640 h 980280"/>
              </a:gdLst>
              <a:ahLst/>
              <a:rect l="textAreaLeft" t="textAreaTop" r="textAreaRight" b="textAreaBottom"/>
              <a:pathLst>
                <a:path w="143644" h="980501">
                  <a:moveTo>
                    <a:pt x="77543" y="980501"/>
                  </a:moveTo>
                  <a:cubicBezTo>
                    <a:pt x="51837" y="877677"/>
                    <a:pt x="20565" y="776086"/>
                    <a:pt x="425" y="672029"/>
                  </a:cubicBezTo>
                  <a:cubicBezTo>
                    <a:pt x="-1782" y="660628"/>
                    <a:pt x="4999" y="648640"/>
                    <a:pt x="11441" y="638978"/>
                  </a:cubicBezTo>
                  <a:cubicBezTo>
                    <a:pt x="20083" y="626014"/>
                    <a:pt x="33475" y="616945"/>
                    <a:pt x="44492" y="605928"/>
                  </a:cubicBezTo>
                  <a:cubicBezTo>
                    <a:pt x="51837" y="583894"/>
                    <a:pt x="53643" y="559152"/>
                    <a:pt x="66526" y="539827"/>
                  </a:cubicBezTo>
                  <a:cubicBezTo>
                    <a:pt x="73870" y="528810"/>
                    <a:pt x="82638" y="518619"/>
                    <a:pt x="88559" y="506776"/>
                  </a:cubicBezTo>
                  <a:cubicBezTo>
                    <a:pt x="100371" y="483151"/>
                    <a:pt x="105564" y="441270"/>
                    <a:pt x="110593" y="418641"/>
                  </a:cubicBezTo>
                  <a:cubicBezTo>
                    <a:pt x="113878" y="403860"/>
                    <a:pt x="117938" y="389262"/>
                    <a:pt x="121610" y="374573"/>
                  </a:cubicBezTo>
                  <a:cubicBezTo>
                    <a:pt x="120966" y="363620"/>
                    <a:pt x="128316" y="211717"/>
                    <a:pt x="99576" y="154236"/>
                  </a:cubicBezTo>
                  <a:cubicBezTo>
                    <a:pt x="93655" y="142393"/>
                    <a:pt x="84887" y="132203"/>
                    <a:pt x="77543" y="121186"/>
                  </a:cubicBezTo>
                  <a:cubicBezTo>
                    <a:pt x="81215" y="91808"/>
                    <a:pt x="76535" y="60106"/>
                    <a:pt x="88559" y="33051"/>
                  </a:cubicBezTo>
                  <a:cubicBezTo>
                    <a:pt x="93275" y="22439"/>
                    <a:pt x="111652" y="28009"/>
                    <a:pt x="121610" y="22034"/>
                  </a:cubicBezTo>
                  <a:cubicBezTo>
                    <a:pt x="130517" y="16690"/>
                    <a:pt x="136299" y="7345"/>
                    <a:pt x="143644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任意多边形 21"/>
            <p:cNvSpPr/>
            <p:nvPr/>
          </p:nvSpPr>
          <p:spPr>
            <a:xfrm>
              <a:off x="2478960" y="2842200"/>
              <a:ext cx="241920" cy="8920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242371" h="892367">
                  <a:moveTo>
                    <a:pt x="0" y="892367"/>
                  </a:moveTo>
                  <a:cubicBezTo>
                    <a:pt x="36723" y="793215"/>
                    <a:pt x="87499" y="698186"/>
                    <a:pt x="110169" y="594911"/>
                  </a:cubicBezTo>
                  <a:cubicBezTo>
                    <a:pt x="133132" y="490301"/>
                    <a:pt x="107609" y="475782"/>
                    <a:pt x="88135" y="407624"/>
                  </a:cubicBezTo>
                  <a:cubicBezTo>
                    <a:pt x="83975" y="393065"/>
                    <a:pt x="80790" y="378246"/>
                    <a:pt x="77118" y="363557"/>
                  </a:cubicBezTo>
                  <a:cubicBezTo>
                    <a:pt x="81778" y="326277"/>
                    <a:pt x="75289" y="271437"/>
                    <a:pt x="110169" y="242371"/>
                  </a:cubicBezTo>
                  <a:cubicBezTo>
                    <a:pt x="122785" y="231857"/>
                    <a:pt x="140154" y="228787"/>
                    <a:pt x="154236" y="220338"/>
                  </a:cubicBezTo>
                  <a:cubicBezTo>
                    <a:pt x="176944" y="206713"/>
                    <a:pt x="220338" y="176270"/>
                    <a:pt x="220338" y="176270"/>
                  </a:cubicBezTo>
                  <a:cubicBezTo>
                    <a:pt x="229031" y="150191"/>
                    <a:pt x="242371" y="114721"/>
                    <a:pt x="242371" y="88135"/>
                  </a:cubicBezTo>
                  <a:cubicBezTo>
                    <a:pt x="242371" y="58528"/>
                    <a:pt x="231354" y="0"/>
                    <a:pt x="231354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任意多边形 22"/>
            <p:cNvSpPr/>
            <p:nvPr/>
          </p:nvSpPr>
          <p:spPr>
            <a:xfrm>
              <a:off x="2534040" y="2985480"/>
              <a:ext cx="484560" cy="7707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484742" h="771181">
                  <a:moveTo>
                    <a:pt x="0" y="771181"/>
                  </a:moveTo>
                  <a:cubicBezTo>
                    <a:pt x="40395" y="712424"/>
                    <a:pt x="84911" y="656298"/>
                    <a:pt x="121185" y="594911"/>
                  </a:cubicBezTo>
                  <a:cubicBezTo>
                    <a:pt x="133001" y="574915"/>
                    <a:pt x="143219" y="528810"/>
                    <a:pt x="143219" y="528810"/>
                  </a:cubicBezTo>
                  <a:cubicBezTo>
                    <a:pt x="109992" y="362677"/>
                    <a:pt x="152302" y="569683"/>
                    <a:pt x="121185" y="429658"/>
                  </a:cubicBezTo>
                  <a:cubicBezTo>
                    <a:pt x="117123" y="411379"/>
                    <a:pt x="113840" y="392935"/>
                    <a:pt x="110168" y="374574"/>
                  </a:cubicBezTo>
                  <a:cubicBezTo>
                    <a:pt x="113840" y="363557"/>
                    <a:pt x="112973" y="349734"/>
                    <a:pt x="121185" y="341523"/>
                  </a:cubicBezTo>
                  <a:cubicBezTo>
                    <a:pt x="129397" y="333312"/>
                    <a:pt x="143849" y="335700"/>
                    <a:pt x="154236" y="330507"/>
                  </a:cubicBezTo>
                  <a:cubicBezTo>
                    <a:pt x="239670" y="287791"/>
                    <a:pt x="137255" y="325150"/>
                    <a:pt x="220337" y="297456"/>
                  </a:cubicBezTo>
                  <a:lnTo>
                    <a:pt x="242371" y="231355"/>
                  </a:lnTo>
                  <a:lnTo>
                    <a:pt x="253387" y="198304"/>
                  </a:lnTo>
                  <a:cubicBezTo>
                    <a:pt x="257059" y="157909"/>
                    <a:pt x="251577" y="115599"/>
                    <a:pt x="264404" y="77119"/>
                  </a:cubicBezTo>
                  <a:cubicBezTo>
                    <a:pt x="268076" y="66102"/>
                    <a:pt x="285922" y="67459"/>
                    <a:pt x="297455" y="66102"/>
                  </a:cubicBezTo>
                  <a:cubicBezTo>
                    <a:pt x="348645" y="60080"/>
                    <a:pt x="400279" y="58757"/>
                    <a:pt x="451691" y="55085"/>
                  </a:cubicBezTo>
                  <a:cubicBezTo>
                    <a:pt x="478280" y="15202"/>
                    <a:pt x="467804" y="33877"/>
                    <a:pt x="484742" y="0"/>
                  </a:cubicBezTo>
                </a:path>
              </a:pathLst>
            </a:custGeom>
            <a:noFill/>
            <a:ln w="19050">
              <a:solidFill>
                <a:srgbClr val="d46d6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等腰三角形 17"/>
            <p:cNvSpPr/>
            <p:nvPr/>
          </p:nvSpPr>
          <p:spPr>
            <a:xfrm flipV="1">
              <a:off x="2248200" y="3740400"/>
              <a:ext cx="411840" cy="98640"/>
            </a:xfrm>
            <a:prstGeom prst="triangle">
              <a:avLst>
                <a:gd name="adj" fmla="val 50000"/>
              </a:avLst>
            </a:prstGeom>
            <a:solidFill>
              <a:srgbClr val="6ab5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4" name="组合 30"/>
          <p:cNvGrpSpPr/>
          <p:nvPr/>
        </p:nvGrpSpPr>
        <p:grpSpPr>
          <a:xfrm>
            <a:off x="3201840" y="3981960"/>
            <a:ext cx="3671640" cy="2069640"/>
            <a:chOff x="3201840" y="3981960"/>
            <a:chExt cx="3671640" cy="2069640"/>
          </a:xfrm>
        </p:grpSpPr>
        <p:grpSp>
          <p:nvGrpSpPr>
            <p:cNvPr id="65" name="组合 25"/>
            <p:cNvGrpSpPr/>
            <p:nvPr/>
          </p:nvGrpSpPr>
          <p:grpSpPr>
            <a:xfrm>
              <a:off x="3573000" y="3981960"/>
              <a:ext cx="2935440" cy="1949760"/>
              <a:chOff x="3573000" y="3981960"/>
              <a:chExt cx="2935440" cy="1949760"/>
            </a:xfrm>
          </p:grpSpPr>
          <p:sp>
            <p:nvSpPr>
              <p:cNvPr id="66" name="圆角矩形 23"/>
              <p:cNvSpPr/>
              <p:nvPr/>
            </p:nvSpPr>
            <p:spPr>
              <a:xfrm>
                <a:off x="3573000" y="3981960"/>
                <a:ext cx="2935440" cy="1949760"/>
              </a:xfrm>
              <a:prstGeom prst="roundRect">
                <a:avLst>
                  <a:gd name="adj" fmla="val 3108"/>
                </a:avLst>
              </a:prstGeom>
              <a:solidFill>
                <a:srgbClr val="454d5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" name="矩形 24"/>
              <p:cNvSpPr/>
              <p:nvPr/>
            </p:nvSpPr>
            <p:spPr>
              <a:xfrm>
                <a:off x="3655440" y="4064760"/>
                <a:ext cx="2764800" cy="174564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8" name="组合 29"/>
            <p:cNvGrpSpPr/>
            <p:nvPr/>
          </p:nvGrpSpPr>
          <p:grpSpPr>
            <a:xfrm>
              <a:off x="3201840" y="5893560"/>
              <a:ext cx="3671640" cy="158040"/>
              <a:chOff x="3201840" y="5893560"/>
              <a:chExt cx="3671640" cy="158040"/>
            </a:xfrm>
          </p:grpSpPr>
          <p:sp>
            <p:nvSpPr>
              <p:cNvPr id="69" name="圆角矩形 26"/>
              <p:cNvSpPr/>
              <p:nvPr/>
            </p:nvSpPr>
            <p:spPr>
              <a:xfrm>
                <a:off x="3317040" y="5893560"/>
                <a:ext cx="3414960" cy="91080"/>
              </a:xfrm>
              <a:prstGeom prst="roundRect">
                <a:avLst>
                  <a:gd name="adj" fmla="val 23620"/>
                </a:avLst>
              </a:prstGeom>
              <a:solidFill>
                <a:srgbClr val="eced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0" name="梯形 27"/>
              <p:cNvSpPr/>
              <p:nvPr/>
            </p:nvSpPr>
            <p:spPr>
              <a:xfrm flipV="1">
                <a:off x="3317040" y="5979960"/>
                <a:ext cx="3414960" cy="45360"/>
              </a:xfrm>
              <a:prstGeom prst="trapezoid">
                <a:avLst>
                  <a:gd name="adj" fmla="val 365064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" name="椭圆 28"/>
              <p:cNvSpPr/>
              <p:nvPr/>
            </p:nvSpPr>
            <p:spPr>
              <a:xfrm>
                <a:off x="3201840" y="6006240"/>
                <a:ext cx="3671640" cy="45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808080">
                      <a:alpha val="37254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组合 2"/>
          <p:cNvGrpSpPr/>
          <p:nvPr/>
        </p:nvGrpSpPr>
        <p:grpSpPr>
          <a:xfrm>
            <a:off x="7560000" y="4351680"/>
            <a:ext cx="847800" cy="1613160"/>
            <a:chOff x="7560000" y="4351680"/>
            <a:chExt cx="847800" cy="1613160"/>
          </a:xfrm>
        </p:grpSpPr>
        <p:sp>
          <p:nvSpPr>
            <p:cNvPr id="73" name="圆角矩形 31"/>
            <p:cNvSpPr/>
            <p:nvPr/>
          </p:nvSpPr>
          <p:spPr>
            <a:xfrm>
              <a:off x="7560000" y="4351680"/>
              <a:ext cx="847800" cy="1613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矩形 32"/>
            <p:cNvSpPr/>
            <p:nvPr/>
          </p:nvSpPr>
          <p:spPr>
            <a:xfrm>
              <a:off x="7598520" y="4593600"/>
              <a:ext cx="770760" cy="11516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" name="组合 37"/>
            <p:cNvGrpSpPr/>
            <p:nvPr/>
          </p:nvGrpSpPr>
          <p:grpSpPr>
            <a:xfrm>
              <a:off x="7873560" y="4425840"/>
              <a:ext cx="216360" cy="91440"/>
              <a:chOff x="7873560" y="4425840"/>
              <a:chExt cx="216360" cy="91440"/>
            </a:xfrm>
          </p:grpSpPr>
          <p:sp>
            <p:nvSpPr>
              <p:cNvPr id="76" name="椭圆 33"/>
              <p:cNvSpPr/>
              <p:nvPr/>
            </p:nvSpPr>
            <p:spPr>
              <a:xfrm>
                <a:off x="7959240" y="4425840"/>
                <a:ext cx="45360" cy="4536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" name="圆角矩形 36"/>
              <p:cNvSpPr/>
              <p:nvPr/>
            </p:nvSpPr>
            <p:spPr>
              <a:xfrm>
                <a:off x="7873560" y="4488840"/>
                <a:ext cx="216360" cy="2844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8" name="椭圆 38"/>
            <p:cNvSpPr/>
            <p:nvPr/>
          </p:nvSpPr>
          <p:spPr>
            <a:xfrm>
              <a:off x="7908120" y="5791320"/>
              <a:ext cx="147240" cy="147240"/>
            </a:xfrm>
            <a:prstGeom prst="ellipse">
              <a:avLst/>
            </a:prstGeom>
            <a:noFill/>
            <a:ln w="9525"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9" name="组合 7"/>
          <p:cNvGrpSpPr/>
          <p:nvPr/>
        </p:nvGrpSpPr>
        <p:grpSpPr>
          <a:xfrm>
            <a:off x="4230000" y="4351680"/>
            <a:ext cx="1720080" cy="1213920"/>
            <a:chOff x="4230000" y="4351680"/>
            <a:chExt cx="1720080" cy="1213920"/>
          </a:xfrm>
        </p:grpSpPr>
        <p:sp>
          <p:nvSpPr>
            <p:cNvPr id="80" name="矩形 275"/>
            <p:cNvSpPr/>
            <p:nvPr/>
          </p:nvSpPr>
          <p:spPr>
            <a:xfrm>
              <a:off x="4230000" y="4351680"/>
              <a:ext cx="1720080" cy="1213920"/>
            </a:xfrm>
            <a:prstGeom prst="rect">
              <a:avLst/>
            </a:prstGeom>
            <a:solidFill>
              <a:srgbClr val="e2edf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矩形 276"/>
            <p:cNvSpPr/>
            <p:nvPr/>
          </p:nvSpPr>
          <p:spPr>
            <a:xfrm>
              <a:off x="4230000" y="4566600"/>
              <a:ext cx="1365480" cy="9986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277"/>
            <p:cNvSpPr/>
            <p:nvPr/>
          </p:nvSpPr>
          <p:spPr>
            <a:xfrm>
              <a:off x="4260600" y="4565520"/>
              <a:ext cx="1304640" cy="747000"/>
            </a:xfrm>
            <a:prstGeom prst="rect">
              <a:avLst/>
            </a:prstGeom>
            <a:solidFill>
              <a:srgbClr val="abe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3" name="组合 278"/>
            <p:cNvGrpSpPr/>
            <p:nvPr/>
          </p:nvGrpSpPr>
          <p:grpSpPr>
            <a:xfrm>
              <a:off x="4745160" y="4744080"/>
              <a:ext cx="335520" cy="389880"/>
              <a:chOff x="4745160" y="4744080"/>
              <a:chExt cx="335520" cy="389880"/>
            </a:xfrm>
          </p:grpSpPr>
          <p:grpSp>
            <p:nvGrpSpPr>
              <p:cNvPr id="84" name="组合 360"/>
              <p:cNvGrpSpPr/>
              <p:nvPr/>
            </p:nvGrpSpPr>
            <p:grpSpPr>
              <a:xfrm>
                <a:off x="4745160" y="4744080"/>
                <a:ext cx="335520" cy="335520"/>
                <a:chOff x="4745160" y="4744080"/>
                <a:chExt cx="335520" cy="335520"/>
              </a:xfrm>
            </p:grpSpPr>
            <p:sp>
              <p:nvSpPr>
                <p:cNvPr id="85" name="椭圆 362"/>
                <p:cNvSpPr/>
                <p:nvPr/>
              </p:nvSpPr>
              <p:spPr>
                <a:xfrm>
                  <a:off x="4745160" y="4744080"/>
                  <a:ext cx="335520" cy="335520"/>
                </a:xfrm>
                <a:prstGeom prst="ellipse">
                  <a:avLst/>
                </a:pr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" name="椭圆 363"/>
                <p:cNvSpPr/>
                <p:nvPr/>
              </p:nvSpPr>
              <p:spPr>
                <a:xfrm>
                  <a:off x="4792320" y="4791240"/>
                  <a:ext cx="241200" cy="241200"/>
                </a:xfrm>
                <a:prstGeom prst="ellipse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" name="椭圆 364"/>
                <p:cNvSpPr/>
                <p:nvPr/>
              </p:nvSpPr>
              <p:spPr>
                <a:xfrm>
                  <a:off x="4844520" y="4843080"/>
                  <a:ext cx="137160" cy="137160"/>
                </a:xfrm>
                <a:prstGeom prst="ellipse">
                  <a:avLst/>
                </a:pr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" name="椭圆 365"/>
                <p:cNvSpPr/>
                <p:nvPr/>
              </p:nvSpPr>
              <p:spPr>
                <a:xfrm>
                  <a:off x="4875480" y="4866120"/>
                  <a:ext cx="38160" cy="38160"/>
                </a:xfrm>
                <a:prstGeom prst="ellipse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任意多边形 361"/>
              <p:cNvSpPr/>
              <p:nvPr/>
            </p:nvSpPr>
            <p:spPr>
              <a:xfrm>
                <a:off x="4795920" y="5079600"/>
                <a:ext cx="249120" cy="5436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843225" h="185047">
                    <a:moveTo>
                      <a:pt x="421612" y="0"/>
                    </a:moveTo>
                    <a:cubicBezTo>
                      <a:pt x="581167" y="0"/>
                      <a:pt x="725616" y="64672"/>
                      <a:pt x="830177" y="169233"/>
                    </a:cubicBezTo>
                    <a:lnTo>
                      <a:pt x="843225" y="185047"/>
                    </a:lnTo>
                    <a:lnTo>
                      <a:pt x="641654" y="185047"/>
                    </a:lnTo>
                    <a:lnTo>
                      <a:pt x="597623" y="161148"/>
                    </a:lnTo>
                    <a:cubicBezTo>
                      <a:pt x="543524" y="138266"/>
                      <a:pt x="484046" y="125613"/>
                      <a:pt x="421612" y="125613"/>
                    </a:cubicBezTo>
                    <a:cubicBezTo>
                      <a:pt x="359178" y="125613"/>
                      <a:pt x="299700" y="138266"/>
                      <a:pt x="245601" y="161148"/>
                    </a:cubicBezTo>
                    <a:lnTo>
                      <a:pt x="201571" y="185047"/>
                    </a:lnTo>
                    <a:lnTo>
                      <a:pt x="0" y="185047"/>
                    </a:lnTo>
                    <a:lnTo>
                      <a:pt x="13047" y="169233"/>
                    </a:lnTo>
                    <a:cubicBezTo>
                      <a:pt x="117608" y="64672"/>
                      <a:pt x="262058" y="0"/>
                      <a:pt x="421612" y="0"/>
                    </a:cubicBezTo>
                    <a:close/>
                  </a:path>
                </a:pathLst>
              </a:custGeom>
              <a:solidFill>
                <a:srgbClr val="90d1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720" bIns="9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矩形 279"/>
            <p:cNvSpPr/>
            <p:nvPr/>
          </p:nvSpPr>
          <p:spPr>
            <a:xfrm>
              <a:off x="5616720" y="4566600"/>
              <a:ext cx="322200" cy="24804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1" name="组合 280"/>
            <p:cNvGrpSpPr/>
            <p:nvPr/>
          </p:nvGrpSpPr>
          <p:grpSpPr>
            <a:xfrm>
              <a:off x="4260600" y="5333400"/>
              <a:ext cx="199080" cy="144360"/>
              <a:chOff x="4260600" y="5333400"/>
              <a:chExt cx="199080" cy="144360"/>
            </a:xfrm>
          </p:grpSpPr>
          <p:sp>
            <p:nvSpPr>
              <p:cNvPr id="92" name="矩形 352"/>
              <p:cNvSpPr/>
              <p:nvPr/>
            </p:nvSpPr>
            <p:spPr>
              <a:xfrm>
                <a:off x="426060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3" name="组合 353"/>
              <p:cNvGrpSpPr/>
              <p:nvPr/>
            </p:nvGrpSpPr>
            <p:grpSpPr>
              <a:xfrm>
                <a:off x="4317480" y="5348160"/>
                <a:ext cx="85320" cy="99360"/>
                <a:chOff x="4317480" y="5348160"/>
                <a:chExt cx="85320" cy="99360"/>
              </a:xfrm>
            </p:grpSpPr>
            <p:grpSp>
              <p:nvGrpSpPr>
                <p:cNvPr id="94" name="组合 354"/>
                <p:cNvGrpSpPr/>
                <p:nvPr/>
              </p:nvGrpSpPr>
              <p:grpSpPr>
                <a:xfrm>
                  <a:off x="4317480" y="5348160"/>
                  <a:ext cx="85320" cy="85320"/>
                  <a:chOff x="4317480" y="5348160"/>
                  <a:chExt cx="85320" cy="85320"/>
                </a:xfrm>
              </p:grpSpPr>
              <p:sp>
                <p:nvSpPr>
                  <p:cNvPr id="95" name="椭圆 356"/>
                  <p:cNvSpPr/>
                  <p:nvPr/>
                </p:nvSpPr>
                <p:spPr>
                  <a:xfrm>
                    <a:off x="431748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椭圆 357"/>
                  <p:cNvSpPr/>
                  <p:nvPr/>
                </p:nvSpPr>
                <p:spPr>
                  <a:xfrm>
                    <a:off x="432972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" name="椭圆 358"/>
                  <p:cNvSpPr/>
                  <p:nvPr/>
                </p:nvSpPr>
                <p:spPr>
                  <a:xfrm>
                    <a:off x="434304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" name="椭圆 359"/>
                  <p:cNvSpPr/>
                  <p:nvPr/>
                </p:nvSpPr>
                <p:spPr>
                  <a:xfrm>
                    <a:off x="435096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9" name="任意多边形 355"/>
                <p:cNvSpPr/>
                <p:nvPr/>
              </p:nvSpPr>
              <p:spPr>
                <a:xfrm>
                  <a:off x="433044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0" name="组合 281"/>
            <p:cNvGrpSpPr/>
            <p:nvPr/>
          </p:nvGrpSpPr>
          <p:grpSpPr>
            <a:xfrm>
              <a:off x="4481280" y="5333400"/>
              <a:ext cx="199080" cy="144360"/>
              <a:chOff x="4481280" y="5333400"/>
              <a:chExt cx="199080" cy="144360"/>
            </a:xfrm>
          </p:grpSpPr>
          <p:sp>
            <p:nvSpPr>
              <p:cNvPr id="101" name="矩形 344"/>
              <p:cNvSpPr/>
              <p:nvPr/>
            </p:nvSpPr>
            <p:spPr>
              <a:xfrm>
                <a:off x="448128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2" name="组合 345"/>
              <p:cNvGrpSpPr/>
              <p:nvPr/>
            </p:nvGrpSpPr>
            <p:grpSpPr>
              <a:xfrm>
                <a:off x="4538160" y="5348160"/>
                <a:ext cx="85320" cy="99360"/>
                <a:chOff x="4538160" y="5348160"/>
                <a:chExt cx="85320" cy="99360"/>
              </a:xfrm>
            </p:grpSpPr>
            <p:grpSp>
              <p:nvGrpSpPr>
                <p:cNvPr id="103" name="组合 346"/>
                <p:cNvGrpSpPr/>
                <p:nvPr/>
              </p:nvGrpSpPr>
              <p:grpSpPr>
                <a:xfrm>
                  <a:off x="4538160" y="5348160"/>
                  <a:ext cx="85320" cy="85320"/>
                  <a:chOff x="4538160" y="5348160"/>
                  <a:chExt cx="85320" cy="85320"/>
                </a:xfrm>
              </p:grpSpPr>
              <p:sp>
                <p:nvSpPr>
                  <p:cNvPr id="104" name="椭圆 348"/>
                  <p:cNvSpPr/>
                  <p:nvPr/>
                </p:nvSpPr>
                <p:spPr>
                  <a:xfrm>
                    <a:off x="453816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椭圆 349"/>
                  <p:cNvSpPr/>
                  <p:nvPr/>
                </p:nvSpPr>
                <p:spPr>
                  <a:xfrm>
                    <a:off x="455040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" name="椭圆 350"/>
                  <p:cNvSpPr/>
                  <p:nvPr/>
                </p:nvSpPr>
                <p:spPr>
                  <a:xfrm>
                    <a:off x="456336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椭圆 351"/>
                  <p:cNvSpPr/>
                  <p:nvPr/>
                </p:nvSpPr>
                <p:spPr>
                  <a:xfrm>
                    <a:off x="457128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8" name="任意多边形 347"/>
                <p:cNvSpPr/>
                <p:nvPr/>
              </p:nvSpPr>
              <p:spPr>
                <a:xfrm>
                  <a:off x="455112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9" name="组合 282"/>
            <p:cNvGrpSpPr/>
            <p:nvPr/>
          </p:nvGrpSpPr>
          <p:grpSpPr>
            <a:xfrm>
              <a:off x="4701960" y="5333400"/>
              <a:ext cx="199080" cy="144360"/>
              <a:chOff x="4701960" y="5333400"/>
              <a:chExt cx="199080" cy="144360"/>
            </a:xfrm>
          </p:grpSpPr>
          <p:sp>
            <p:nvSpPr>
              <p:cNvPr id="110" name="矩形 336"/>
              <p:cNvSpPr/>
              <p:nvPr/>
            </p:nvSpPr>
            <p:spPr>
              <a:xfrm>
                <a:off x="470196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1" name="组合 337"/>
              <p:cNvGrpSpPr/>
              <p:nvPr/>
            </p:nvGrpSpPr>
            <p:grpSpPr>
              <a:xfrm>
                <a:off x="4758840" y="5348160"/>
                <a:ext cx="85320" cy="99360"/>
                <a:chOff x="4758840" y="5348160"/>
                <a:chExt cx="85320" cy="99360"/>
              </a:xfrm>
            </p:grpSpPr>
            <p:grpSp>
              <p:nvGrpSpPr>
                <p:cNvPr id="112" name="组合 338"/>
                <p:cNvGrpSpPr/>
                <p:nvPr/>
              </p:nvGrpSpPr>
              <p:grpSpPr>
                <a:xfrm>
                  <a:off x="4758840" y="5348160"/>
                  <a:ext cx="85320" cy="85320"/>
                  <a:chOff x="4758840" y="5348160"/>
                  <a:chExt cx="85320" cy="85320"/>
                </a:xfrm>
              </p:grpSpPr>
              <p:sp>
                <p:nvSpPr>
                  <p:cNvPr id="113" name="椭圆 340"/>
                  <p:cNvSpPr/>
                  <p:nvPr/>
                </p:nvSpPr>
                <p:spPr>
                  <a:xfrm>
                    <a:off x="475884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" name="椭圆 341"/>
                  <p:cNvSpPr/>
                  <p:nvPr/>
                </p:nvSpPr>
                <p:spPr>
                  <a:xfrm>
                    <a:off x="477072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椭圆 342"/>
                  <p:cNvSpPr/>
                  <p:nvPr/>
                </p:nvSpPr>
                <p:spPr>
                  <a:xfrm>
                    <a:off x="478404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椭圆 343"/>
                  <p:cNvSpPr/>
                  <p:nvPr/>
                </p:nvSpPr>
                <p:spPr>
                  <a:xfrm>
                    <a:off x="479196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7" name="任意多边形 339"/>
                <p:cNvSpPr/>
                <p:nvPr/>
              </p:nvSpPr>
              <p:spPr>
                <a:xfrm>
                  <a:off x="477180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8" name="组合 283"/>
            <p:cNvGrpSpPr/>
            <p:nvPr/>
          </p:nvGrpSpPr>
          <p:grpSpPr>
            <a:xfrm>
              <a:off x="4922640" y="5333400"/>
              <a:ext cx="199080" cy="144360"/>
              <a:chOff x="4922640" y="5333400"/>
              <a:chExt cx="199080" cy="144360"/>
            </a:xfrm>
          </p:grpSpPr>
          <p:sp>
            <p:nvSpPr>
              <p:cNvPr id="119" name="矩形 328"/>
              <p:cNvSpPr/>
              <p:nvPr/>
            </p:nvSpPr>
            <p:spPr>
              <a:xfrm>
                <a:off x="492264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0" name="组合 329"/>
              <p:cNvGrpSpPr/>
              <p:nvPr/>
            </p:nvGrpSpPr>
            <p:grpSpPr>
              <a:xfrm>
                <a:off x="4979520" y="5348160"/>
                <a:ext cx="85320" cy="99360"/>
                <a:chOff x="4979520" y="5348160"/>
                <a:chExt cx="85320" cy="99360"/>
              </a:xfrm>
            </p:grpSpPr>
            <p:grpSp>
              <p:nvGrpSpPr>
                <p:cNvPr id="121" name="组合 330"/>
                <p:cNvGrpSpPr/>
                <p:nvPr/>
              </p:nvGrpSpPr>
              <p:grpSpPr>
                <a:xfrm>
                  <a:off x="4979520" y="5348160"/>
                  <a:ext cx="85320" cy="85320"/>
                  <a:chOff x="4979520" y="5348160"/>
                  <a:chExt cx="85320" cy="85320"/>
                </a:xfrm>
              </p:grpSpPr>
              <p:sp>
                <p:nvSpPr>
                  <p:cNvPr id="122" name="椭圆 332"/>
                  <p:cNvSpPr/>
                  <p:nvPr/>
                </p:nvSpPr>
                <p:spPr>
                  <a:xfrm>
                    <a:off x="497952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" name="椭圆 333"/>
                  <p:cNvSpPr/>
                  <p:nvPr/>
                </p:nvSpPr>
                <p:spPr>
                  <a:xfrm>
                    <a:off x="499140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" name="椭圆 334"/>
                  <p:cNvSpPr/>
                  <p:nvPr/>
                </p:nvSpPr>
                <p:spPr>
                  <a:xfrm>
                    <a:off x="500472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" name="椭圆 335"/>
                  <p:cNvSpPr/>
                  <p:nvPr/>
                </p:nvSpPr>
                <p:spPr>
                  <a:xfrm>
                    <a:off x="501264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6" name="任意多边形 331"/>
                <p:cNvSpPr/>
                <p:nvPr/>
              </p:nvSpPr>
              <p:spPr>
                <a:xfrm>
                  <a:off x="499248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7" name="组合 284"/>
            <p:cNvGrpSpPr/>
            <p:nvPr/>
          </p:nvGrpSpPr>
          <p:grpSpPr>
            <a:xfrm>
              <a:off x="5143320" y="5333400"/>
              <a:ext cx="199080" cy="144360"/>
              <a:chOff x="5143320" y="5333400"/>
              <a:chExt cx="199080" cy="144360"/>
            </a:xfrm>
          </p:grpSpPr>
          <p:sp>
            <p:nvSpPr>
              <p:cNvPr id="128" name="矩形 320"/>
              <p:cNvSpPr/>
              <p:nvPr/>
            </p:nvSpPr>
            <p:spPr>
              <a:xfrm>
                <a:off x="514332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9" name="组合 321"/>
              <p:cNvGrpSpPr/>
              <p:nvPr/>
            </p:nvGrpSpPr>
            <p:grpSpPr>
              <a:xfrm>
                <a:off x="5200200" y="5348160"/>
                <a:ext cx="85320" cy="99360"/>
                <a:chOff x="5200200" y="5348160"/>
                <a:chExt cx="85320" cy="99360"/>
              </a:xfrm>
            </p:grpSpPr>
            <p:grpSp>
              <p:nvGrpSpPr>
                <p:cNvPr id="130" name="组合 322"/>
                <p:cNvGrpSpPr/>
                <p:nvPr/>
              </p:nvGrpSpPr>
              <p:grpSpPr>
                <a:xfrm>
                  <a:off x="5200200" y="5348160"/>
                  <a:ext cx="85320" cy="85320"/>
                  <a:chOff x="5200200" y="5348160"/>
                  <a:chExt cx="85320" cy="85320"/>
                </a:xfrm>
              </p:grpSpPr>
              <p:sp>
                <p:nvSpPr>
                  <p:cNvPr id="131" name="椭圆 324"/>
                  <p:cNvSpPr/>
                  <p:nvPr/>
                </p:nvSpPr>
                <p:spPr>
                  <a:xfrm>
                    <a:off x="520020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2" name="椭圆 325"/>
                  <p:cNvSpPr/>
                  <p:nvPr/>
                </p:nvSpPr>
                <p:spPr>
                  <a:xfrm>
                    <a:off x="521208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3" name="椭圆 326"/>
                  <p:cNvSpPr/>
                  <p:nvPr/>
                </p:nvSpPr>
                <p:spPr>
                  <a:xfrm>
                    <a:off x="522540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4" name="椭圆 327"/>
                  <p:cNvSpPr/>
                  <p:nvPr/>
                </p:nvSpPr>
                <p:spPr>
                  <a:xfrm>
                    <a:off x="523332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5" name="任意多边形 323"/>
                <p:cNvSpPr/>
                <p:nvPr/>
              </p:nvSpPr>
              <p:spPr>
                <a:xfrm>
                  <a:off x="521316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285"/>
            <p:cNvGrpSpPr/>
            <p:nvPr/>
          </p:nvGrpSpPr>
          <p:grpSpPr>
            <a:xfrm>
              <a:off x="5363640" y="5333400"/>
              <a:ext cx="199080" cy="144360"/>
              <a:chOff x="5363640" y="5333400"/>
              <a:chExt cx="199080" cy="144360"/>
            </a:xfrm>
          </p:grpSpPr>
          <p:sp>
            <p:nvSpPr>
              <p:cNvPr id="137" name="矩形 312"/>
              <p:cNvSpPr/>
              <p:nvPr/>
            </p:nvSpPr>
            <p:spPr>
              <a:xfrm>
                <a:off x="5363640" y="5333400"/>
                <a:ext cx="199080" cy="14436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38" name="组合 313"/>
              <p:cNvGrpSpPr/>
              <p:nvPr/>
            </p:nvGrpSpPr>
            <p:grpSpPr>
              <a:xfrm>
                <a:off x="5420520" y="5348160"/>
                <a:ext cx="85320" cy="99360"/>
                <a:chOff x="5420520" y="5348160"/>
                <a:chExt cx="85320" cy="99360"/>
              </a:xfrm>
            </p:grpSpPr>
            <p:grpSp>
              <p:nvGrpSpPr>
                <p:cNvPr id="139" name="组合 314"/>
                <p:cNvGrpSpPr/>
                <p:nvPr/>
              </p:nvGrpSpPr>
              <p:grpSpPr>
                <a:xfrm>
                  <a:off x="5420520" y="5348160"/>
                  <a:ext cx="85320" cy="85320"/>
                  <a:chOff x="5420520" y="5348160"/>
                  <a:chExt cx="85320" cy="85320"/>
                </a:xfrm>
              </p:grpSpPr>
              <p:sp>
                <p:nvSpPr>
                  <p:cNvPr id="140" name="椭圆 316"/>
                  <p:cNvSpPr/>
                  <p:nvPr/>
                </p:nvSpPr>
                <p:spPr>
                  <a:xfrm>
                    <a:off x="5420520" y="5348160"/>
                    <a:ext cx="85320" cy="853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1" name="椭圆 317"/>
                  <p:cNvSpPr/>
                  <p:nvPr/>
                </p:nvSpPr>
                <p:spPr>
                  <a:xfrm>
                    <a:off x="5432760" y="5360040"/>
                    <a:ext cx="61200" cy="6120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800" bIns="-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2" name="椭圆 318"/>
                  <p:cNvSpPr/>
                  <p:nvPr/>
                </p:nvSpPr>
                <p:spPr>
                  <a:xfrm>
                    <a:off x="5446080" y="5373360"/>
                    <a:ext cx="34560" cy="3456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椭圆 319"/>
                  <p:cNvSpPr/>
                  <p:nvPr/>
                </p:nvSpPr>
                <p:spPr>
                  <a:xfrm>
                    <a:off x="5454000" y="5379480"/>
                    <a:ext cx="9360" cy="936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4" name="任意多边形 315"/>
                <p:cNvSpPr/>
                <p:nvPr/>
              </p:nvSpPr>
              <p:spPr>
                <a:xfrm>
                  <a:off x="5433480" y="5433840"/>
                  <a:ext cx="63000" cy="136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45" name="矩形 286"/>
            <p:cNvSpPr/>
            <p:nvPr/>
          </p:nvSpPr>
          <p:spPr>
            <a:xfrm>
              <a:off x="426060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矩形 287"/>
            <p:cNvSpPr/>
            <p:nvPr/>
          </p:nvSpPr>
          <p:spPr>
            <a:xfrm>
              <a:off x="434304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矩形 288"/>
            <p:cNvSpPr/>
            <p:nvPr/>
          </p:nvSpPr>
          <p:spPr>
            <a:xfrm>
              <a:off x="4432680" y="5495760"/>
              <a:ext cx="56520" cy="56520"/>
            </a:xfrm>
            <a:prstGeom prst="rect">
              <a:avLst/>
            </a:prstGeom>
            <a:solidFill>
              <a:srgbClr val="e7aa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矩形 289"/>
            <p:cNvSpPr/>
            <p:nvPr/>
          </p:nvSpPr>
          <p:spPr>
            <a:xfrm>
              <a:off x="4242600" y="4370040"/>
              <a:ext cx="384480" cy="496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矩形 290"/>
            <p:cNvSpPr/>
            <p:nvPr/>
          </p:nvSpPr>
          <p:spPr>
            <a:xfrm>
              <a:off x="4242600" y="4443480"/>
              <a:ext cx="527400" cy="298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矩形 291"/>
            <p:cNvSpPr/>
            <p:nvPr/>
          </p:nvSpPr>
          <p:spPr>
            <a:xfrm>
              <a:off x="424260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矩形 292"/>
            <p:cNvSpPr/>
            <p:nvPr/>
          </p:nvSpPr>
          <p:spPr>
            <a:xfrm>
              <a:off x="433476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293"/>
            <p:cNvSpPr/>
            <p:nvPr/>
          </p:nvSpPr>
          <p:spPr>
            <a:xfrm>
              <a:off x="442692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矩形 294"/>
            <p:cNvSpPr/>
            <p:nvPr/>
          </p:nvSpPr>
          <p:spPr>
            <a:xfrm>
              <a:off x="451908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295"/>
            <p:cNvSpPr/>
            <p:nvPr/>
          </p:nvSpPr>
          <p:spPr>
            <a:xfrm>
              <a:off x="461088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矩形 296"/>
            <p:cNvSpPr/>
            <p:nvPr/>
          </p:nvSpPr>
          <p:spPr>
            <a:xfrm>
              <a:off x="470304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矩形 297"/>
            <p:cNvSpPr/>
            <p:nvPr/>
          </p:nvSpPr>
          <p:spPr>
            <a:xfrm>
              <a:off x="479520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矩形 298"/>
            <p:cNvSpPr/>
            <p:nvPr/>
          </p:nvSpPr>
          <p:spPr>
            <a:xfrm>
              <a:off x="4887360" y="4497840"/>
              <a:ext cx="46080" cy="4608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299"/>
            <p:cNvSpPr/>
            <p:nvPr/>
          </p:nvSpPr>
          <p:spPr>
            <a:xfrm>
              <a:off x="5616720" y="484308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矩形 300"/>
            <p:cNvSpPr/>
            <p:nvPr/>
          </p:nvSpPr>
          <p:spPr>
            <a:xfrm>
              <a:off x="5684400" y="484308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301"/>
            <p:cNvSpPr/>
            <p:nvPr/>
          </p:nvSpPr>
          <p:spPr>
            <a:xfrm>
              <a:off x="5616720" y="490752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302"/>
            <p:cNvSpPr/>
            <p:nvPr/>
          </p:nvSpPr>
          <p:spPr>
            <a:xfrm>
              <a:off x="5684400" y="490752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303"/>
            <p:cNvSpPr/>
            <p:nvPr/>
          </p:nvSpPr>
          <p:spPr>
            <a:xfrm>
              <a:off x="5616720" y="497160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304"/>
            <p:cNvSpPr/>
            <p:nvPr/>
          </p:nvSpPr>
          <p:spPr>
            <a:xfrm>
              <a:off x="5684400" y="497160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305"/>
            <p:cNvSpPr/>
            <p:nvPr/>
          </p:nvSpPr>
          <p:spPr>
            <a:xfrm>
              <a:off x="5616720" y="504432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矩形 306"/>
            <p:cNvSpPr/>
            <p:nvPr/>
          </p:nvSpPr>
          <p:spPr>
            <a:xfrm>
              <a:off x="5684400" y="504432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矩形 307"/>
            <p:cNvSpPr/>
            <p:nvPr/>
          </p:nvSpPr>
          <p:spPr>
            <a:xfrm>
              <a:off x="5616720" y="5116680"/>
              <a:ext cx="421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矩形 308"/>
            <p:cNvSpPr/>
            <p:nvPr/>
          </p:nvSpPr>
          <p:spPr>
            <a:xfrm>
              <a:off x="5684400" y="5116680"/>
              <a:ext cx="254520" cy="42120"/>
            </a:xfrm>
            <a:prstGeom prst="rect">
              <a:avLst/>
            </a:prstGeom>
            <a:solidFill>
              <a:srgbClr val="59b8d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68" name="组合 309"/>
            <p:cNvGrpSpPr/>
            <p:nvPr/>
          </p:nvGrpSpPr>
          <p:grpSpPr>
            <a:xfrm>
              <a:off x="5704920" y="4650120"/>
              <a:ext cx="149040" cy="78480"/>
              <a:chOff x="5704920" y="4650120"/>
              <a:chExt cx="149040" cy="78480"/>
            </a:xfrm>
          </p:grpSpPr>
          <p:sp>
            <p:nvSpPr>
              <p:cNvPr id="169" name="矩形 310"/>
              <p:cNvSpPr/>
              <p:nvPr/>
            </p:nvSpPr>
            <p:spPr>
              <a:xfrm>
                <a:off x="5704920" y="4650120"/>
                <a:ext cx="101880" cy="78480"/>
              </a:xfrm>
              <a:prstGeom prst="rect">
                <a:avLst/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梯形 311"/>
              <p:cNvSpPr/>
              <p:nvPr/>
            </p:nvSpPr>
            <p:spPr>
              <a:xfrm rot="16200000">
                <a:off x="5795640" y="4667400"/>
                <a:ext cx="69480" cy="46800"/>
              </a:xfrm>
              <a:prstGeom prst="trapezoid">
                <a:avLst>
                  <a:gd name="adj" fmla="val 25000"/>
                </a:avLst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组合 384"/>
          <p:cNvGrpSpPr/>
          <p:nvPr/>
        </p:nvGrpSpPr>
        <p:grpSpPr>
          <a:xfrm>
            <a:off x="12288600" y="5652360"/>
            <a:ext cx="1122480" cy="1122480"/>
            <a:chOff x="12288600" y="5652360"/>
            <a:chExt cx="1122480" cy="1122480"/>
          </a:xfrm>
        </p:grpSpPr>
        <p:sp>
          <p:nvSpPr>
            <p:cNvPr id="172" name="椭圆 382"/>
            <p:cNvSpPr/>
            <p:nvPr/>
          </p:nvSpPr>
          <p:spPr>
            <a:xfrm>
              <a:off x="12288600" y="5652360"/>
              <a:ext cx="1122480" cy="11224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3" name="组合 381"/>
            <p:cNvGrpSpPr/>
            <p:nvPr/>
          </p:nvGrpSpPr>
          <p:grpSpPr>
            <a:xfrm>
              <a:off x="12537720" y="5913000"/>
              <a:ext cx="623880" cy="601560"/>
              <a:chOff x="12537720" y="5913000"/>
              <a:chExt cx="623880" cy="601560"/>
            </a:xfrm>
          </p:grpSpPr>
          <p:sp>
            <p:nvSpPr>
              <p:cNvPr id="174" name="椭圆 366"/>
              <p:cNvSpPr/>
              <p:nvPr/>
            </p:nvSpPr>
            <p:spPr>
              <a:xfrm flipH="1">
                <a:off x="12682080" y="5913000"/>
                <a:ext cx="335520" cy="338760"/>
              </a:xfrm>
              <a:prstGeom prst="ellipse">
                <a:avLst/>
              </a:pr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5" name="任意多边形 367"/>
              <p:cNvSpPr/>
              <p:nvPr/>
            </p:nvSpPr>
            <p:spPr>
              <a:xfrm flipH="1">
                <a:off x="12537360" y="6258960"/>
                <a:ext cx="623880" cy="255600"/>
              </a:xfrm>
              <a:custGeom>
                <a:avLst/>
                <a:gdLst>
                  <a:gd name="textAreaLeft" fmla="*/ -360 w 623880"/>
                  <a:gd name="textAreaRight" fmla="*/ 623880 w 6238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596834" h="841375">
                    <a:moveTo>
                      <a:pt x="1298417" y="0"/>
                    </a:moveTo>
                    <a:cubicBezTo>
                      <a:pt x="1930556" y="0"/>
                      <a:pt x="2457966" y="311264"/>
                      <a:pt x="2579941" y="725047"/>
                    </a:cubicBezTo>
                    <a:lnTo>
                      <a:pt x="2596834" y="841375"/>
                    </a:lnTo>
                    <a:lnTo>
                      <a:pt x="0" y="841375"/>
                    </a:lnTo>
                    <a:lnTo>
                      <a:pt x="16893" y="725047"/>
                    </a:lnTo>
                    <a:cubicBezTo>
                      <a:pt x="138869" y="311264"/>
                      <a:pt x="666279" y="0"/>
                      <a:pt x="1298417" y="0"/>
                    </a:cubicBezTo>
                    <a:close/>
                  </a:path>
                </a:pathLst>
              </a:cu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76" name="图片 410" descr=""/>
          <p:cNvPicPr/>
          <p:nvPr/>
        </p:nvPicPr>
        <p:blipFill>
          <a:blip r:embed="rId2"/>
          <a:stretch/>
        </p:blipFill>
        <p:spPr>
          <a:xfrm>
            <a:off x="767592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11" descr=""/>
          <p:cNvPicPr/>
          <p:nvPr/>
        </p:nvPicPr>
        <p:blipFill>
          <a:blip r:embed="rId3"/>
          <a:stretch/>
        </p:blipFill>
        <p:spPr>
          <a:xfrm>
            <a:off x="791460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12" descr=""/>
          <p:cNvPicPr/>
          <p:nvPr/>
        </p:nvPicPr>
        <p:blipFill>
          <a:blip r:embed="rId4"/>
          <a:stretch/>
        </p:blipFill>
        <p:spPr>
          <a:xfrm>
            <a:off x="8150040" y="472500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13" descr=""/>
          <p:cNvPicPr/>
          <p:nvPr/>
        </p:nvPicPr>
        <p:blipFill>
          <a:blip r:embed="rId5"/>
          <a:stretch/>
        </p:blipFill>
        <p:spPr>
          <a:xfrm>
            <a:off x="7675920" y="494712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14" descr=""/>
          <p:cNvPicPr/>
          <p:nvPr/>
        </p:nvPicPr>
        <p:blipFill>
          <a:blip r:embed="rId6"/>
          <a:stretch/>
        </p:blipFill>
        <p:spPr>
          <a:xfrm>
            <a:off x="7914600" y="494712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415" descr=""/>
          <p:cNvPicPr/>
          <p:nvPr/>
        </p:nvPicPr>
        <p:blipFill>
          <a:blip r:embed="rId7"/>
          <a:stretch/>
        </p:blipFill>
        <p:spPr>
          <a:xfrm>
            <a:off x="8150040" y="4947120"/>
            <a:ext cx="145800" cy="1458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263"/>
          <p:cNvGrpSpPr/>
          <p:nvPr/>
        </p:nvGrpSpPr>
        <p:grpSpPr>
          <a:xfrm>
            <a:off x="7841520" y="5532840"/>
            <a:ext cx="280440" cy="128160"/>
            <a:chOff x="7841520" y="5532840"/>
            <a:chExt cx="280440" cy="128160"/>
          </a:xfrm>
        </p:grpSpPr>
        <p:sp>
          <p:nvSpPr>
            <p:cNvPr id="183" name="圆角矩形 260"/>
            <p:cNvSpPr/>
            <p:nvPr/>
          </p:nvSpPr>
          <p:spPr>
            <a:xfrm>
              <a:off x="7841520" y="5554440"/>
              <a:ext cx="280440" cy="106560"/>
            </a:xfrm>
            <a:prstGeom prst="roundRect">
              <a:avLst>
                <a:gd name="adj" fmla="val 50000"/>
              </a:avLst>
            </a:prstGeom>
            <a:solidFill>
              <a:srgbClr val="d55a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4" name="组合 259"/>
            <p:cNvGrpSpPr/>
            <p:nvPr/>
          </p:nvGrpSpPr>
          <p:grpSpPr>
            <a:xfrm>
              <a:off x="7920000" y="5532840"/>
              <a:ext cx="142560" cy="119160"/>
              <a:chOff x="7920000" y="5532840"/>
              <a:chExt cx="142560" cy="119160"/>
            </a:xfrm>
          </p:grpSpPr>
          <p:sp>
            <p:nvSpPr>
              <p:cNvPr id="185" name="Freeform 5"/>
              <p:cNvSpPr/>
              <p:nvPr/>
            </p:nvSpPr>
            <p:spPr>
              <a:xfrm rot="6743400">
                <a:off x="8020800" y="5598720"/>
                <a:ext cx="25560" cy="39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9" h="61">
                    <a:moveTo>
                      <a:pt x="37" y="46"/>
                    </a:moveTo>
                    <a:cubicBezTo>
                      <a:pt x="39" y="51"/>
                      <a:pt x="37" y="57"/>
                      <a:pt x="31" y="59"/>
                    </a:cubicBezTo>
                    <a:cubicBezTo>
                      <a:pt x="31" y="59"/>
                      <a:pt x="31" y="59"/>
                      <a:pt x="31" y="59"/>
                    </a:cubicBezTo>
                    <a:cubicBezTo>
                      <a:pt x="26" y="61"/>
                      <a:pt x="20" y="59"/>
                      <a:pt x="18" y="54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0" y="10"/>
                      <a:pt x="2" y="4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3" y="0"/>
                      <a:pt x="19" y="2"/>
                      <a:pt x="21" y="7"/>
                    </a:cubicBezTo>
                    <a:lnTo>
                      <a:pt x="37" y="4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6"/>
              <p:cNvSpPr/>
              <p:nvPr/>
            </p:nvSpPr>
            <p:spPr>
              <a:xfrm rot="6743400">
                <a:off x="7930080" y="5599440"/>
                <a:ext cx="26280" cy="40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0" h="62">
                    <a:moveTo>
                      <a:pt x="38" y="46"/>
                    </a:moveTo>
                    <a:cubicBezTo>
                      <a:pt x="40" y="51"/>
                      <a:pt x="37" y="57"/>
                      <a:pt x="32" y="59"/>
                    </a:cubicBezTo>
                    <a:cubicBezTo>
                      <a:pt x="32" y="59"/>
                      <a:pt x="32" y="59"/>
                      <a:pt x="32" y="59"/>
                    </a:cubicBezTo>
                    <a:cubicBezTo>
                      <a:pt x="27" y="62"/>
                      <a:pt x="21" y="59"/>
                      <a:pt x="19" y="54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0" y="11"/>
                      <a:pt x="3" y="5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4" y="0"/>
                      <a:pt x="20" y="3"/>
                      <a:pt x="22" y="8"/>
                    </a:cubicBezTo>
                    <a:lnTo>
                      <a:pt x="38" y="46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"/>
              <p:cNvSpPr/>
              <p:nvPr/>
            </p:nvSpPr>
            <p:spPr>
              <a:xfrm rot="6743400">
                <a:off x="7952040" y="5532840"/>
                <a:ext cx="79920" cy="1191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21" h="182">
                    <a:moveTo>
                      <a:pt x="121" y="175"/>
                    </a:moveTo>
                    <a:cubicBezTo>
                      <a:pt x="61" y="182"/>
                      <a:pt x="0" y="39"/>
                      <a:pt x="47" y="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49" y="54"/>
                      <a:pt x="89" y="139"/>
                      <a:pt x="100" y="125"/>
                    </a:cubicBezTo>
                    <a:lnTo>
                      <a:pt x="121" y="175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8" name="组合 39"/>
          <p:cNvGrpSpPr/>
          <p:nvPr/>
        </p:nvGrpSpPr>
        <p:grpSpPr>
          <a:xfrm>
            <a:off x="8152200" y="5333760"/>
            <a:ext cx="143640" cy="143640"/>
            <a:chOff x="8152200" y="5333760"/>
            <a:chExt cx="143640" cy="143640"/>
          </a:xfrm>
        </p:grpSpPr>
        <p:sp>
          <p:nvSpPr>
            <p:cNvPr id="189" name="椭圆 34"/>
            <p:cNvSpPr/>
            <p:nvPr/>
          </p:nvSpPr>
          <p:spPr>
            <a:xfrm>
              <a:off x="8152200" y="5333760"/>
              <a:ext cx="143640" cy="143640"/>
            </a:xfrm>
            <a:prstGeom prst="ellipse">
              <a:avLst/>
            </a:prstGeom>
            <a:solidFill>
              <a:srgbClr val="268cb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0" name="组合 273"/>
            <p:cNvGrpSpPr/>
            <p:nvPr/>
          </p:nvGrpSpPr>
          <p:grpSpPr>
            <a:xfrm>
              <a:off x="8174880" y="5339520"/>
              <a:ext cx="81000" cy="130320"/>
              <a:chOff x="8174880" y="5339520"/>
              <a:chExt cx="81000" cy="130320"/>
            </a:xfrm>
          </p:grpSpPr>
          <p:sp>
            <p:nvSpPr>
              <p:cNvPr id="191" name="Freeform 11"/>
              <p:cNvSpPr/>
              <p:nvPr/>
            </p:nvSpPr>
            <p:spPr>
              <a:xfrm>
                <a:off x="8201880" y="5370480"/>
                <a:ext cx="20160" cy="31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28" y="35"/>
                    </a:moveTo>
                    <a:cubicBezTo>
                      <a:pt x="30" y="39"/>
                      <a:pt x="28" y="44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0" y="47"/>
                      <a:pt x="16" y="45"/>
                      <a:pt x="14" y="4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8"/>
                      <a:pt x="2" y="3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10" y="0"/>
                      <a:pt x="15" y="2"/>
                      <a:pt x="16" y="6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8229240" y="5435640"/>
                <a:ext cx="20160" cy="31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28" y="35"/>
                    </a:moveTo>
                    <a:cubicBezTo>
                      <a:pt x="30" y="39"/>
                      <a:pt x="28" y="43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0" y="47"/>
                      <a:pt x="16" y="45"/>
                      <a:pt x="14" y="4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8"/>
                      <a:pt x="2" y="3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10" y="0"/>
                      <a:pt x="15" y="2"/>
                      <a:pt x="16" y="6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13"/>
              <p:cNvSpPr/>
              <p:nvPr/>
            </p:nvSpPr>
            <p:spPr>
              <a:xfrm>
                <a:off x="8174880" y="5376960"/>
                <a:ext cx="61200" cy="928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1" h="139">
                    <a:moveTo>
                      <a:pt x="91" y="134"/>
                    </a:moveTo>
                    <a:cubicBezTo>
                      <a:pt x="47" y="139"/>
                      <a:pt x="0" y="30"/>
                      <a:pt x="36" y="0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37" y="41"/>
                      <a:pt x="68" y="106"/>
                      <a:pt x="75" y="96"/>
                    </a:cubicBezTo>
                    <a:lnTo>
                      <a:pt x="91" y="13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14"/>
              <p:cNvSpPr/>
              <p:nvPr/>
            </p:nvSpPr>
            <p:spPr>
              <a:xfrm>
                <a:off x="8203320" y="5343840"/>
                <a:ext cx="41760" cy="424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62" h="64">
                    <a:moveTo>
                      <a:pt x="43" y="12"/>
                    </a:moveTo>
                    <a:cubicBezTo>
                      <a:pt x="29" y="1"/>
                      <a:pt x="11" y="0"/>
                      <a:pt x="0" y="9"/>
                    </a:cubicBezTo>
                    <a:cubicBezTo>
                      <a:pt x="11" y="5"/>
                      <a:pt x="25" y="7"/>
                      <a:pt x="36" y="16"/>
                    </a:cubicBezTo>
                    <a:cubicBezTo>
                      <a:pt x="51" y="29"/>
                      <a:pt x="55" y="49"/>
                      <a:pt x="45" y="61"/>
                    </a:cubicBezTo>
                    <a:cubicBezTo>
                      <a:pt x="44" y="62"/>
                      <a:pt x="43" y="63"/>
                      <a:pt x="43" y="64"/>
                    </a:cubicBezTo>
                    <a:cubicBezTo>
                      <a:pt x="46" y="62"/>
                      <a:pt x="50" y="60"/>
                      <a:pt x="52" y="57"/>
                    </a:cubicBezTo>
                    <a:cubicBezTo>
                      <a:pt x="62" y="44"/>
                      <a:pt x="58" y="24"/>
                      <a:pt x="43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15"/>
              <p:cNvSpPr/>
              <p:nvPr/>
            </p:nvSpPr>
            <p:spPr>
              <a:xfrm>
                <a:off x="8220960" y="5341680"/>
                <a:ext cx="30240" cy="30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31" y="9"/>
                    </a:moveTo>
                    <a:cubicBezTo>
                      <a:pt x="21" y="0"/>
                      <a:pt x="8" y="0"/>
                      <a:pt x="0" y="6"/>
                    </a:cubicBezTo>
                    <a:cubicBezTo>
                      <a:pt x="8" y="3"/>
                      <a:pt x="18" y="5"/>
                      <a:pt x="26" y="12"/>
                    </a:cubicBezTo>
                    <a:cubicBezTo>
                      <a:pt x="37" y="20"/>
                      <a:pt x="40" y="35"/>
                      <a:pt x="33" y="44"/>
                    </a:cubicBezTo>
                    <a:cubicBezTo>
                      <a:pt x="32" y="44"/>
                      <a:pt x="31" y="45"/>
                      <a:pt x="31" y="46"/>
                    </a:cubicBezTo>
                    <a:cubicBezTo>
                      <a:pt x="33" y="44"/>
                      <a:pt x="36" y="43"/>
                      <a:pt x="38" y="40"/>
                    </a:cubicBezTo>
                    <a:cubicBezTo>
                      <a:pt x="45" y="32"/>
                      <a:pt x="42" y="17"/>
                      <a:pt x="31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6"/>
              <p:cNvSpPr/>
              <p:nvPr/>
            </p:nvSpPr>
            <p:spPr>
              <a:xfrm>
                <a:off x="8233920" y="5339520"/>
                <a:ext cx="21960" cy="23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23" y="7"/>
                    </a:moveTo>
                    <a:cubicBezTo>
                      <a:pt x="16" y="1"/>
                      <a:pt x="6" y="0"/>
                      <a:pt x="0" y="5"/>
                    </a:cubicBezTo>
                    <a:cubicBezTo>
                      <a:pt x="6" y="3"/>
                      <a:pt x="13" y="4"/>
                      <a:pt x="19" y="10"/>
                    </a:cubicBezTo>
                    <a:cubicBezTo>
                      <a:pt x="27" y="16"/>
                      <a:pt x="29" y="27"/>
                      <a:pt x="23" y="34"/>
                    </a:cubicBezTo>
                    <a:cubicBezTo>
                      <a:pt x="23" y="34"/>
                      <a:pt x="23" y="35"/>
                      <a:pt x="22" y="35"/>
                    </a:cubicBezTo>
                    <a:cubicBezTo>
                      <a:pt x="24" y="34"/>
                      <a:pt x="26" y="33"/>
                      <a:pt x="27" y="31"/>
                    </a:cubicBezTo>
                    <a:cubicBezTo>
                      <a:pt x="33" y="25"/>
                      <a:pt x="31" y="14"/>
                      <a:pt x="23" y="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7" name="Freeform 20"/>
          <p:cNvSpPr/>
          <p:nvPr/>
        </p:nvSpPr>
        <p:spPr>
          <a:xfrm>
            <a:off x="7934760" y="5355360"/>
            <a:ext cx="117360" cy="97200"/>
          </a:xfrm>
          <a:custGeom>
            <a:avLst/>
            <a:gdLst>
              <a:gd name="textAreaLeft" fmla="*/ 0 w 117360"/>
              <a:gd name="textAreaRight" fmla="*/ 117720 w 117360"/>
              <a:gd name="textAreaTop" fmla="*/ 0 h 97200"/>
              <a:gd name="textAreaBottom" fmla="*/ 97560 h 97200"/>
            </a:gdLst>
            <a:ahLst/>
            <a:rect l="textAreaLeft" t="textAreaTop" r="textAreaRight" b="textAreaBottom"/>
            <a:pathLst>
              <a:path w="196" h="162">
                <a:moveTo>
                  <a:pt x="196" y="78"/>
                </a:moveTo>
                <a:cubicBezTo>
                  <a:pt x="196" y="44"/>
                  <a:pt x="166" y="16"/>
                  <a:pt x="127" y="10"/>
                </a:cubicBezTo>
                <a:cubicBezTo>
                  <a:pt x="115" y="4"/>
                  <a:pt x="101" y="0"/>
                  <a:pt x="86" y="0"/>
                </a:cubicBezTo>
                <a:cubicBezTo>
                  <a:pt x="39" y="0"/>
                  <a:pt x="0" y="32"/>
                  <a:pt x="0" y="72"/>
                </a:cubicBezTo>
                <a:cubicBezTo>
                  <a:pt x="0" y="90"/>
                  <a:pt x="6" y="105"/>
                  <a:pt x="17" y="117"/>
                </a:cubicBezTo>
                <a:cubicBezTo>
                  <a:pt x="28" y="129"/>
                  <a:pt x="44" y="135"/>
                  <a:pt x="58" y="139"/>
                </a:cubicBezTo>
                <a:cubicBezTo>
                  <a:pt x="59" y="146"/>
                  <a:pt x="57" y="154"/>
                  <a:pt x="52" y="162"/>
                </a:cubicBezTo>
                <a:cubicBezTo>
                  <a:pt x="70" y="160"/>
                  <a:pt x="74" y="158"/>
                  <a:pt x="93" y="146"/>
                </a:cubicBezTo>
                <a:cubicBezTo>
                  <a:pt x="95" y="146"/>
                  <a:pt x="103" y="147"/>
                  <a:pt x="113" y="147"/>
                </a:cubicBezTo>
                <a:cubicBezTo>
                  <a:pt x="125" y="154"/>
                  <a:pt x="130" y="155"/>
                  <a:pt x="145" y="157"/>
                </a:cubicBezTo>
                <a:cubicBezTo>
                  <a:pt x="149" y="157"/>
                  <a:pt x="149" y="157"/>
                  <a:pt x="149" y="157"/>
                </a:cubicBezTo>
                <a:cubicBezTo>
                  <a:pt x="147" y="154"/>
                  <a:pt x="147" y="154"/>
                  <a:pt x="147" y="154"/>
                </a:cubicBezTo>
                <a:cubicBezTo>
                  <a:pt x="144" y="151"/>
                  <a:pt x="143" y="147"/>
                  <a:pt x="142" y="143"/>
                </a:cubicBezTo>
                <a:cubicBezTo>
                  <a:pt x="169" y="136"/>
                  <a:pt x="196" y="119"/>
                  <a:pt x="196" y="78"/>
                </a:cubicBezTo>
                <a:close/>
                <a:moveTo>
                  <a:pt x="19" y="115"/>
                </a:moveTo>
                <a:cubicBezTo>
                  <a:pt x="8" y="104"/>
                  <a:pt x="3" y="89"/>
                  <a:pt x="4" y="72"/>
                </a:cubicBezTo>
                <a:cubicBezTo>
                  <a:pt x="4" y="34"/>
                  <a:pt x="40" y="4"/>
                  <a:pt x="86" y="4"/>
                </a:cubicBezTo>
                <a:cubicBezTo>
                  <a:pt x="96" y="4"/>
                  <a:pt x="106" y="5"/>
                  <a:pt x="116" y="8"/>
                </a:cubicBezTo>
                <a:cubicBezTo>
                  <a:pt x="114" y="8"/>
                  <a:pt x="113" y="8"/>
                  <a:pt x="112" y="8"/>
                </a:cubicBezTo>
                <a:cubicBezTo>
                  <a:pt x="66" y="8"/>
                  <a:pt x="28" y="39"/>
                  <a:pt x="28" y="78"/>
                </a:cubicBezTo>
                <a:cubicBezTo>
                  <a:pt x="28" y="96"/>
                  <a:pt x="36" y="112"/>
                  <a:pt x="50" y="124"/>
                </a:cubicBezTo>
                <a:cubicBezTo>
                  <a:pt x="54" y="127"/>
                  <a:pt x="56" y="131"/>
                  <a:pt x="57" y="135"/>
                </a:cubicBezTo>
                <a:cubicBezTo>
                  <a:pt x="44" y="132"/>
                  <a:pt x="29" y="126"/>
                  <a:pt x="19" y="115"/>
                </a:cubicBezTo>
                <a:close/>
                <a:moveTo>
                  <a:pt x="142" y="153"/>
                </a:moveTo>
                <a:cubicBezTo>
                  <a:pt x="132" y="152"/>
                  <a:pt x="127" y="151"/>
                  <a:pt x="119" y="146"/>
                </a:cubicBezTo>
                <a:cubicBezTo>
                  <a:pt x="125" y="146"/>
                  <a:pt x="132" y="145"/>
                  <a:pt x="139" y="143"/>
                </a:cubicBezTo>
                <a:cubicBezTo>
                  <a:pt x="139" y="147"/>
                  <a:pt x="141" y="150"/>
                  <a:pt x="142" y="153"/>
                </a:cubicBezTo>
                <a:close/>
              </a:path>
            </a:pathLst>
          </a:cu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4"/>
          <p:cNvSpPr/>
          <p:nvPr/>
        </p:nvSpPr>
        <p:spPr>
          <a:xfrm>
            <a:off x="7713720" y="5355360"/>
            <a:ext cx="108720" cy="97200"/>
          </a:xfrm>
          <a:custGeom>
            <a:avLst/>
            <a:gdLst>
              <a:gd name="textAreaLeft" fmla="*/ 0 w 108720"/>
              <a:gd name="textAreaRight" fmla="*/ 109080 w 108720"/>
              <a:gd name="textAreaTop" fmla="*/ 0 h 97200"/>
              <a:gd name="textAreaBottom" fmla="*/ 97560 h 97200"/>
            </a:gdLst>
            <a:ahLst/>
            <a:rect l="textAreaLeft" t="textAreaTop" r="textAreaRight" b="textAreaBottom"/>
            <a:pathLst>
              <a:path w="197" h="176">
                <a:moveTo>
                  <a:pt x="176" y="93"/>
                </a:moveTo>
                <a:cubicBezTo>
                  <a:pt x="176" y="93"/>
                  <a:pt x="176" y="92"/>
                  <a:pt x="176" y="92"/>
                </a:cubicBezTo>
                <a:cubicBezTo>
                  <a:pt x="176" y="50"/>
                  <a:pt x="142" y="15"/>
                  <a:pt x="100" y="15"/>
                </a:cubicBezTo>
                <a:cubicBezTo>
                  <a:pt x="95" y="15"/>
                  <a:pt x="91" y="16"/>
                  <a:pt x="86" y="17"/>
                </a:cubicBezTo>
                <a:cubicBezTo>
                  <a:pt x="77" y="7"/>
                  <a:pt x="64" y="0"/>
                  <a:pt x="49" y="0"/>
                </a:cubicBezTo>
                <a:cubicBezTo>
                  <a:pt x="22" y="0"/>
                  <a:pt x="0" y="21"/>
                  <a:pt x="0" y="46"/>
                </a:cubicBezTo>
                <a:cubicBezTo>
                  <a:pt x="0" y="63"/>
                  <a:pt x="10" y="77"/>
                  <a:pt x="24" y="85"/>
                </a:cubicBezTo>
                <a:cubicBezTo>
                  <a:pt x="24" y="87"/>
                  <a:pt x="24" y="90"/>
                  <a:pt x="24" y="92"/>
                </a:cubicBezTo>
                <a:cubicBezTo>
                  <a:pt x="24" y="134"/>
                  <a:pt x="58" y="168"/>
                  <a:pt x="100" y="168"/>
                </a:cubicBezTo>
                <a:cubicBezTo>
                  <a:pt x="106" y="168"/>
                  <a:pt x="112" y="167"/>
                  <a:pt x="117" y="166"/>
                </a:cubicBezTo>
                <a:cubicBezTo>
                  <a:pt x="126" y="172"/>
                  <a:pt x="137" y="176"/>
                  <a:pt x="148" y="176"/>
                </a:cubicBezTo>
                <a:cubicBezTo>
                  <a:pt x="175" y="176"/>
                  <a:pt x="197" y="156"/>
                  <a:pt x="197" y="131"/>
                </a:cubicBezTo>
                <a:cubicBezTo>
                  <a:pt x="197" y="115"/>
                  <a:pt x="188" y="101"/>
                  <a:pt x="176" y="93"/>
                </a:cubicBezTo>
                <a:close/>
                <a:moveTo>
                  <a:pt x="137" y="123"/>
                </a:moveTo>
                <a:cubicBezTo>
                  <a:pt x="135" y="127"/>
                  <a:pt x="132" y="131"/>
                  <a:pt x="129" y="134"/>
                </a:cubicBezTo>
                <a:cubicBezTo>
                  <a:pt x="125" y="137"/>
                  <a:pt x="121" y="140"/>
                  <a:pt x="116" y="141"/>
                </a:cubicBezTo>
                <a:cubicBezTo>
                  <a:pt x="111" y="143"/>
                  <a:pt x="106" y="144"/>
                  <a:pt x="100" y="144"/>
                </a:cubicBezTo>
                <a:cubicBezTo>
                  <a:pt x="74" y="144"/>
                  <a:pt x="60" y="132"/>
                  <a:pt x="57" y="108"/>
                </a:cubicBezTo>
                <a:cubicBezTo>
                  <a:pt x="82" y="108"/>
                  <a:pt x="82" y="108"/>
                  <a:pt x="82" y="108"/>
                </a:cubicBezTo>
                <a:cubicBezTo>
                  <a:pt x="83" y="117"/>
                  <a:pt x="89" y="122"/>
                  <a:pt x="100" y="122"/>
                </a:cubicBezTo>
                <a:cubicBezTo>
                  <a:pt x="105" y="122"/>
                  <a:pt x="109" y="121"/>
                  <a:pt x="112" y="118"/>
                </a:cubicBezTo>
                <a:cubicBezTo>
                  <a:pt x="114" y="116"/>
                  <a:pt x="116" y="114"/>
                  <a:pt x="116" y="110"/>
                </a:cubicBezTo>
                <a:cubicBezTo>
                  <a:pt x="116" y="109"/>
                  <a:pt x="115" y="108"/>
                  <a:pt x="115" y="107"/>
                </a:cubicBezTo>
                <a:cubicBezTo>
                  <a:pt x="114" y="106"/>
                  <a:pt x="113" y="105"/>
                  <a:pt x="111" y="104"/>
                </a:cubicBezTo>
                <a:cubicBezTo>
                  <a:pt x="110" y="103"/>
                  <a:pt x="107" y="102"/>
                  <a:pt x="104" y="101"/>
                </a:cubicBezTo>
                <a:cubicBezTo>
                  <a:pt x="101" y="100"/>
                  <a:pt x="98" y="99"/>
                  <a:pt x="93" y="98"/>
                </a:cubicBezTo>
                <a:cubicBezTo>
                  <a:pt x="87" y="96"/>
                  <a:pt x="82" y="95"/>
                  <a:pt x="78" y="93"/>
                </a:cubicBezTo>
                <a:cubicBezTo>
                  <a:pt x="74" y="91"/>
                  <a:pt x="70" y="89"/>
                  <a:pt x="67" y="87"/>
                </a:cubicBezTo>
                <a:cubicBezTo>
                  <a:pt x="65" y="85"/>
                  <a:pt x="63" y="82"/>
                  <a:pt x="61" y="78"/>
                </a:cubicBezTo>
                <a:cubicBezTo>
                  <a:pt x="60" y="75"/>
                  <a:pt x="59" y="70"/>
                  <a:pt x="59" y="65"/>
                </a:cubicBezTo>
                <a:cubicBezTo>
                  <a:pt x="59" y="60"/>
                  <a:pt x="60" y="56"/>
                  <a:pt x="62" y="52"/>
                </a:cubicBezTo>
                <a:cubicBezTo>
                  <a:pt x="64" y="48"/>
                  <a:pt x="66" y="45"/>
                  <a:pt x="70" y="42"/>
                </a:cubicBezTo>
                <a:cubicBezTo>
                  <a:pt x="73" y="39"/>
                  <a:pt x="77" y="36"/>
                  <a:pt x="81" y="35"/>
                </a:cubicBezTo>
                <a:cubicBezTo>
                  <a:pt x="86" y="33"/>
                  <a:pt x="91" y="32"/>
                  <a:pt x="97" y="32"/>
                </a:cubicBezTo>
                <a:cubicBezTo>
                  <a:pt x="122" y="32"/>
                  <a:pt x="135" y="43"/>
                  <a:pt x="137" y="65"/>
                </a:cubicBezTo>
                <a:cubicBezTo>
                  <a:pt x="113" y="65"/>
                  <a:pt x="113" y="65"/>
                  <a:pt x="113" y="65"/>
                </a:cubicBezTo>
                <a:cubicBezTo>
                  <a:pt x="111" y="58"/>
                  <a:pt x="106" y="55"/>
                  <a:pt x="98" y="55"/>
                </a:cubicBezTo>
                <a:cubicBezTo>
                  <a:pt x="96" y="55"/>
                  <a:pt x="94" y="55"/>
                  <a:pt x="92" y="55"/>
                </a:cubicBezTo>
                <a:cubicBezTo>
                  <a:pt x="90" y="56"/>
                  <a:pt x="89" y="56"/>
                  <a:pt x="88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1"/>
                  <a:pt x="83" y="62"/>
                  <a:pt x="83" y="63"/>
                </a:cubicBezTo>
                <a:cubicBezTo>
                  <a:pt x="83" y="65"/>
                  <a:pt x="84" y="66"/>
                  <a:pt x="84" y="66"/>
                </a:cubicBezTo>
                <a:cubicBezTo>
                  <a:pt x="84" y="67"/>
                  <a:pt x="85" y="68"/>
                  <a:pt x="87" y="69"/>
                </a:cubicBezTo>
                <a:cubicBezTo>
                  <a:pt x="88" y="69"/>
                  <a:pt x="90" y="70"/>
                  <a:pt x="93" y="71"/>
                </a:cubicBezTo>
                <a:cubicBezTo>
                  <a:pt x="96" y="72"/>
                  <a:pt x="100" y="73"/>
                  <a:pt x="105" y="74"/>
                </a:cubicBezTo>
                <a:cubicBezTo>
                  <a:pt x="111" y="76"/>
                  <a:pt x="116" y="77"/>
                  <a:pt x="120" y="79"/>
                </a:cubicBezTo>
                <a:cubicBezTo>
                  <a:pt x="125" y="81"/>
                  <a:pt x="128" y="83"/>
                  <a:pt x="131" y="86"/>
                </a:cubicBezTo>
                <a:cubicBezTo>
                  <a:pt x="134" y="88"/>
                  <a:pt x="136" y="91"/>
                  <a:pt x="138" y="95"/>
                </a:cubicBezTo>
                <a:cubicBezTo>
                  <a:pt x="139" y="99"/>
                  <a:pt x="140" y="103"/>
                  <a:pt x="140" y="109"/>
                </a:cubicBezTo>
                <a:cubicBezTo>
                  <a:pt x="140" y="114"/>
                  <a:pt x="139" y="118"/>
                  <a:pt x="137" y="123"/>
                </a:cubicBezTo>
                <a:close/>
              </a:path>
            </a:pathLst>
          </a:custGeom>
          <a:solidFill>
            <a:schemeClr val="bg1">
              <a:lumMod val="95000"/>
              <a:alpha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266"/>
          <p:cNvGrpSpPr/>
          <p:nvPr/>
        </p:nvGrpSpPr>
        <p:grpSpPr>
          <a:xfrm>
            <a:off x="7751160" y="3762360"/>
            <a:ext cx="1236600" cy="604080"/>
            <a:chOff x="7751160" y="3762360"/>
            <a:chExt cx="1236600" cy="604080"/>
          </a:xfrm>
        </p:grpSpPr>
        <p:grpSp>
          <p:nvGrpSpPr>
            <p:cNvPr id="200" name="组合 262"/>
            <p:cNvGrpSpPr/>
            <p:nvPr/>
          </p:nvGrpSpPr>
          <p:grpSpPr>
            <a:xfrm>
              <a:off x="7751160" y="3762360"/>
              <a:ext cx="1171080" cy="590040"/>
              <a:chOff x="7751160" y="3762360"/>
              <a:chExt cx="1171080" cy="590040"/>
            </a:xfrm>
          </p:grpSpPr>
          <p:sp>
            <p:nvSpPr>
              <p:cNvPr id="201" name="任意多边形 255"/>
              <p:cNvSpPr/>
              <p:nvPr/>
            </p:nvSpPr>
            <p:spPr>
              <a:xfrm>
                <a:off x="7751160" y="3762360"/>
                <a:ext cx="1085400" cy="590040"/>
              </a:xfrm>
              <a:custGeom>
                <a:avLst/>
                <a:gdLst>
                  <a:gd name="textAreaLeft" fmla="*/ 0 w 1085400"/>
                  <a:gd name="textAreaRight" fmla="*/ 1085760 w 1085400"/>
                  <a:gd name="textAreaTop" fmla="*/ 0 h 590040"/>
                  <a:gd name="textAreaBottom" fmla="*/ 590400 h 590040"/>
                </a:gdLst>
                <a:ahLst/>
                <a:rect l="textAreaLeft" t="textAreaTop" r="textAreaRight" b="textAreaBottom"/>
                <a:pathLst>
                  <a:path w="1085850" h="590550">
                    <a:moveTo>
                      <a:pt x="95250" y="590550"/>
                    </a:moveTo>
                    <a:cubicBezTo>
                      <a:pt x="107615" y="503996"/>
                      <a:pt x="97675" y="545174"/>
                      <a:pt x="123825" y="466725"/>
                    </a:cubicBezTo>
                    <a:lnTo>
                      <a:pt x="133350" y="438150"/>
                    </a:lnTo>
                    <a:cubicBezTo>
                      <a:pt x="136525" y="428625"/>
                      <a:pt x="137306" y="417929"/>
                      <a:pt x="142875" y="409575"/>
                    </a:cubicBezTo>
                    <a:lnTo>
                      <a:pt x="161925" y="381000"/>
                    </a:lnTo>
                    <a:cubicBezTo>
                      <a:pt x="180408" y="288587"/>
                      <a:pt x="180366" y="309451"/>
                      <a:pt x="161925" y="161925"/>
                    </a:cubicBezTo>
                    <a:cubicBezTo>
                      <a:pt x="159434" y="142000"/>
                      <a:pt x="149225" y="123825"/>
                      <a:pt x="142875" y="104775"/>
                    </a:cubicBezTo>
                    <a:lnTo>
                      <a:pt x="133350" y="76200"/>
                    </a:lnTo>
                    <a:cubicBezTo>
                      <a:pt x="130175" y="66675"/>
                      <a:pt x="132179" y="53194"/>
                      <a:pt x="123825" y="47625"/>
                    </a:cubicBezTo>
                    <a:cubicBezTo>
                      <a:pt x="114300" y="41275"/>
                      <a:pt x="105489" y="33695"/>
                      <a:pt x="95250" y="28575"/>
                    </a:cubicBezTo>
                    <a:cubicBezTo>
                      <a:pt x="16380" y="-10860"/>
                      <a:pt x="119992" y="54595"/>
                      <a:pt x="38100" y="0"/>
                    </a:cubicBezTo>
                    <a:cubicBezTo>
                      <a:pt x="28575" y="3175"/>
                      <a:pt x="16625" y="2425"/>
                      <a:pt x="9525" y="9525"/>
                    </a:cubicBezTo>
                    <a:cubicBezTo>
                      <a:pt x="2425" y="16625"/>
                      <a:pt x="0" y="28060"/>
                      <a:pt x="0" y="38100"/>
                    </a:cubicBezTo>
                    <a:cubicBezTo>
                      <a:pt x="0" y="73169"/>
                      <a:pt x="4056" y="108235"/>
                      <a:pt x="9525" y="142875"/>
                    </a:cubicBezTo>
                    <a:cubicBezTo>
                      <a:pt x="13608" y="168736"/>
                      <a:pt x="14052" y="197290"/>
                      <a:pt x="28575" y="219075"/>
                    </a:cubicBezTo>
                    <a:cubicBezTo>
                      <a:pt x="34925" y="228600"/>
                      <a:pt x="40296" y="238856"/>
                      <a:pt x="47625" y="247650"/>
                    </a:cubicBezTo>
                    <a:cubicBezTo>
                      <a:pt x="60820" y="263484"/>
                      <a:pt x="84942" y="286460"/>
                      <a:pt x="104775" y="295275"/>
                    </a:cubicBezTo>
                    <a:cubicBezTo>
                      <a:pt x="134590" y="308526"/>
                      <a:pt x="168360" y="315934"/>
                      <a:pt x="200025" y="323850"/>
                    </a:cubicBezTo>
                    <a:cubicBezTo>
                      <a:pt x="482507" y="300310"/>
                      <a:pt x="352293" y="300310"/>
                      <a:pt x="590550" y="314325"/>
                    </a:cubicBezTo>
                    <a:cubicBezTo>
                      <a:pt x="662374" y="338266"/>
                      <a:pt x="573842" y="305971"/>
                      <a:pt x="647700" y="342900"/>
                    </a:cubicBezTo>
                    <a:cubicBezTo>
                      <a:pt x="656680" y="347390"/>
                      <a:pt x="666750" y="349250"/>
                      <a:pt x="676275" y="352425"/>
                    </a:cubicBezTo>
                    <a:cubicBezTo>
                      <a:pt x="700216" y="424249"/>
                      <a:pt x="665136" y="338502"/>
                      <a:pt x="714375" y="400050"/>
                    </a:cubicBezTo>
                    <a:cubicBezTo>
                      <a:pt x="720647" y="407890"/>
                      <a:pt x="718331" y="420271"/>
                      <a:pt x="723900" y="428625"/>
                    </a:cubicBezTo>
                    <a:cubicBezTo>
                      <a:pt x="738568" y="450627"/>
                      <a:pt x="759965" y="462193"/>
                      <a:pt x="781050" y="476250"/>
                    </a:cubicBezTo>
                    <a:cubicBezTo>
                      <a:pt x="787400" y="485775"/>
                      <a:pt x="791161" y="497674"/>
                      <a:pt x="800100" y="504825"/>
                    </a:cubicBezTo>
                    <a:cubicBezTo>
                      <a:pt x="806101" y="509626"/>
                      <a:pt x="864560" y="523472"/>
                      <a:pt x="866775" y="523875"/>
                    </a:cubicBezTo>
                    <a:cubicBezTo>
                      <a:pt x="934444" y="536179"/>
                      <a:pt x="984797" y="537350"/>
                      <a:pt x="1057275" y="542925"/>
                    </a:cubicBezTo>
                    <a:cubicBezTo>
                      <a:pt x="1078086" y="574142"/>
                      <a:pt x="1064877" y="571500"/>
                      <a:pt x="1085850" y="571500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任意多边形 261"/>
              <p:cNvSpPr/>
              <p:nvPr/>
            </p:nvSpPr>
            <p:spPr>
              <a:xfrm>
                <a:off x="8389080" y="4095720"/>
                <a:ext cx="533160" cy="853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3400" h="85725">
                    <a:moveTo>
                      <a:pt x="0" y="0"/>
                    </a:moveTo>
                    <a:cubicBezTo>
                      <a:pt x="15875" y="6350"/>
                      <a:pt x="31557" y="13207"/>
                      <a:pt x="47625" y="19050"/>
                    </a:cubicBezTo>
                    <a:cubicBezTo>
                      <a:pt x="66496" y="25912"/>
                      <a:pt x="88067" y="26961"/>
                      <a:pt x="104775" y="38100"/>
                    </a:cubicBezTo>
                    <a:cubicBezTo>
                      <a:pt x="114300" y="44450"/>
                      <a:pt x="122889" y="52501"/>
                      <a:pt x="133350" y="57150"/>
                    </a:cubicBezTo>
                    <a:cubicBezTo>
                      <a:pt x="151700" y="65305"/>
                      <a:pt x="171450" y="69850"/>
                      <a:pt x="190500" y="76200"/>
                    </a:cubicBezTo>
                    <a:lnTo>
                      <a:pt x="219075" y="85725"/>
                    </a:lnTo>
                    <a:cubicBezTo>
                      <a:pt x="273050" y="82550"/>
                      <a:pt x="327386" y="83193"/>
                      <a:pt x="381000" y="76200"/>
                    </a:cubicBezTo>
                    <a:cubicBezTo>
                      <a:pt x="400912" y="73603"/>
                      <a:pt x="418669" y="62020"/>
                      <a:pt x="438150" y="57150"/>
                    </a:cubicBezTo>
                    <a:cubicBezTo>
                      <a:pt x="450850" y="53975"/>
                      <a:pt x="463711" y="51387"/>
                      <a:pt x="476250" y="47625"/>
                    </a:cubicBezTo>
                    <a:cubicBezTo>
                      <a:pt x="495484" y="41855"/>
                      <a:pt x="533400" y="28575"/>
                      <a:pt x="533400" y="28575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03" name="椭圆 265"/>
            <p:cNvSpPr/>
            <p:nvPr/>
          </p:nvSpPr>
          <p:spPr>
            <a:xfrm rot="1548000">
              <a:off x="8789400" y="4295880"/>
              <a:ext cx="94320" cy="52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椭圆 186"/>
            <p:cNvSpPr/>
            <p:nvPr/>
          </p:nvSpPr>
          <p:spPr>
            <a:xfrm rot="21213600">
              <a:off x="8890560" y="4097520"/>
              <a:ext cx="94320" cy="52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5" name="椭圆 185"/>
          <p:cNvSpPr/>
          <p:nvPr/>
        </p:nvSpPr>
        <p:spPr>
          <a:xfrm>
            <a:off x="12289320" y="5014080"/>
            <a:ext cx="614520" cy="614520"/>
          </a:xfrm>
          <a:prstGeom prst="ellipse">
            <a:avLst/>
          </a:prstGeom>
          <a:solidFill>
            <a:srgbClr val="268c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12500640" y="5170680"/>
            <a:ext cx="86760" cy="134280"/>
          </a:xfrm>
          <a:custGeom>
            <a:avLst/>
            <a:gdLst>
              <a:gd name="textAreaLeft" fmla="*/ 0 w 86760"/>
              <a:gd name="textAreaRight" fmla="*/ 87120 w 86760"/>
              <a:gd name="textAreaTop" fmla="*/ 0 h 134280"/>
              <a:gd name="textAreaBottom" fmla="*/ 134640 h 134280"/>
            </a:gdLst>
            <a:ahLst/>
            <a:rect l="textAreaLeft" t="textAreaTop" r="textAreaRight" b="textAreaBottom"/>
            <a:pathLst>
              <a:path w="30" h="47">
                <a:moveTo>
                  <a:pt x="28" y="35"/>
                </a:moveTo>
                <a:cubicBezTo>
                  <a:pt x="30" y="39"/>
                  <a:pt x="28" y="44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0" y="47"/>
                  <a:pt x="16" y="45"/>
                  <a:pt x="14" y="41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8"/>
                  <a:pt x="2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10" y="0"/>
                  <a:pt x="15" y="2"/>
                  <a:pt x="16" y="6"/>
                </a:cubicBezTo>
                <a:lnTo>
                  <a:pt x="28" y="3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2"/>
          <p:cNvSpPr/>
          <p:nvPr/>
        </p:nvSpPr>
        <p:spPr>
          <a:xfrm>
            <a:off x="12617640" y="5448600"/>
            <a:ext cx="86760" cy="134280"/>
          </a:xfrm>
          <a:custGeom>
            <a:avLst/>
            <a:gdLst>
              <a:gd name="textAreaLeft" fmla="*/ 0 w 86760"/>
              <a:gd name="textAreaRight" fmla="*/ 87120 w 86760"/>
              <a:gd name="textAreaTop" fmla="*/ 0 h 134280"/>
              <a:gd name="textAreaBottom" fmla="*/ 134640 h 134280"/>
            </a:gdLst>
            <a:ahLst/>
            <a:rect l="textAreaLeft" t="textAreaTop" r="textAreaRight" b="textAreaBottom"/>
            <a:pathLst>
              <a:path w="30" h="47">
                <a:moveTo>
                  <a:pt x="28" y="35"/>
                </a:moveTo>
                <a:cubicBezTo>
                  <a:pt x="30" y="39"/>
                  <a:pt x="28" y="43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0" y="47"/>
                  <a:pt x="16" y="45"/>
                  <a:pt x="14" y="41"/>
                </a:cubicBezTo>
                <a:cubicBezTo>
                  <a:pt x="2" y="12"/>
                  <a:pt x="2" y="12"/>
                  <a:pt x="2" y="12"/>
                </a:cubicBezTo>
                <a:cubicBezTo>
                  <a:pt x="0" y="8"/>
                  <a:pt x="2" y="3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10" y="0"/>
                  <a:pt x="15" y="2"/>
                  <a:pt x="16" y="6"/>
                </a:cubicBezTo>
                <a:lnTo>
                  <a:pt x="28" y="3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3"/>
          <p:cNvSpPr/>
          <p:nvPr/>
        </p:nvSpPr>
        <p:spPr>
          <a:xfrm>
            <a:off x="12385080" y="5199480"/>
            <a:ext cx="263160" cy="397800"/>
          </a:xfrm>
          <a:custGeom>
            <a:avLst/>
            <a:gdLst>
              <a:gd name="textAreaLeft" fmla="*/ 0 w 263160"/>
              <a:gd name="textAreaRight" fmla="*/ 263520 w 26316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91" h="139">
                <a:moveTo>
                  <a:pt x="91" y="134"/>
                </a:moveTo>
                <a:cubicBezTo>
                  <a:pt x="47" y="139"/>
                  <a:pt x="0" y="30"/>
                  <a:pt x="36" y="0"/>
                </a:cubicBezTo>
                <a:cubicBezTo>
                  <a:pt x="52" y="39"/>
                  <a:pt x="52" y="39"/>
                  <a:pt x="52" y="39"/>
                </a:cubicBezTo>
                <a:cubicBezTo>
                  <a:pt x="37" y="41"/>
                  <a:pt x="68" y="106"/>
                  <a:pt x="75" y="96"/>
                </a:cubicBezTo>
                <a:lnTo>
                  <a:pt x="91" y="134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12506760" y="5057640"/>
            <a:ext cx="179640" cy="18216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62" h="64">
                <a:moveTo>
                  <a:pt x="43" y="12"/>
                </a:moveTo>
                <a:cubicBezTo>
                  <a:pt x="29" y="1"/>
                  <a:pt x="11" y="0"/>
                  <a:pt x="0" y="9"/>
                </a:cubicBezTo>
                <a:cubicBezTo>
                  <a:pt x="11" y="5"/>
                  <a:pt x="25" y="7"/>
                  <a:pt x="36" y="16"/>
                </a:cubicBezTo>
                <a:cubicBezTo>
                  <a:pt x="51" y="29"/>
                  <a:pt x="55" y="49"/>
                  <a:pt x="45" y="61"/>
                </a:cubicBezTo>
                <a:cubicBezTo>
                  <a:pt x="44" y="62"/>
                  <a:pt x="43" y="63"/>
                  <a:pt x="43" y="64"/>
                </a:cubicBezTo>
                <a:cubicBezTo>
                  <a:pt x="46" y="62"/>
                  <a:pt x="50" y="60"/>
                  <a:pt x="52" y="57"/>
                </a:cubicBezTo>
                <a:cubicBezTo>
                  <a:pt x="62" y="44"/>
                  <a:pt x="58" y="24"/>
                  <a:pt x="43" y="1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12582000" y="5047920"/>
            <a:ext cx="130680" cy="132120"/>
          </a:xfrm>
          <a:custGeom>
            <a:avLst/>
            <a:gdLst>
              <a:gd name="textAreaLeft" fmla="*/ 0 w 130680"/>
              <a:gd name="textAreaRight" fmla="*/ 131040 w 130680"/>
              <a:gd name="textAreaTop" fmla="*/ 0 h 132120"/>
              <a:gd name="textAreaBottom" fmla="*/ 132480 h 132120"/>
            </a:gdLst>
            <a:ahLst/>
            <a:rect l="textAreaLeft" t="textAreaTop" r="textAreaRight" b="textAreaBottom"/>
            <a:pathLst>
              <a:path w="45" h="46">
                <a:moveTo>
                  <a:pt x="31" y="9"/>
                </a:moveTo>
                <a:cubicBezTo>
                  <a:pt x="21" y="0"/>
                  <a:pt x="8" y="0"/>
                  <a:pt x="0" y="6"/>
                </a:cubicBezTo>
                <a:cubicBezTo>
                  <a:pt x="8" y="3"/>
                  <a:pt x="18" y="5"/>
                  <a:pt x="26" y="12"/>
                </a:cubicBezTo>
                <a:cubicBezTo>
                  <a:pt x="37" y="20"/>
                  <a:pt x="40" y="35"/>
                  <a:pt x="33" y="44"/>
                </a:cubicBezTo>
                <a:cubicBezTo>
                  <a:pt x="32" y="44"/>
                  <a:pt x="31" y="45"/>
                  <a:pt x="31" y="46"/>
                </a:cubicBezTo>
                <a:cubicBezTo>
                  <a:pt x="33" y="44"/>
                  <a:pt x="36" y="43"/>
                  <a:pt x="38" y="40"/>
                </a:cubicBezTo>
                <a:cubicBezTo>
                  <a:pt x="45" y="32"/>
                  <a:pt x="42" y="17"/>
                  <a:pt x="31" y="9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12637800" y="5039640"/>
            <a:ext cx="95040" cy="99720"/>
          </a:xfrm>
          <a:custGeom>
            <a:avLst/>
            <a:gdLst>
              <a:gd name="textAreaLeft" fmla="*/ 0 w 95040"/>
              <a:gd name="textAreaRight" fmla="*/ 95400 w 950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3" h="35">
                <a:moveTo>
                  <a:pt x="23" y="7"/>
                </a:moveTo>
                <a:cubicBezTo>
                  <a:pt x="16" y="1"/>
                  <a:pt x="6" y="0"/>
                  <a:pt x="0" y="5"/>
                </a:cubicBezTo>
                <a:cubicBezTo>
                  <a:pt x="6" y="3"/>
                  <a:pt x="13" y="4"/>
                  <a:pt x="19" y="10"/>
                </a:cubicBezTo>
                <a:cubicBezTo>
                  <a:pt x="27" y="16"/>
                  <a:pt x="29" y="27"/>
                  <a:pt x="23" y="34"/>
                </a:cubicBezTo>
                <a:cubicBezTo>
                  <a:pt x="23" y="34"/>
                  <a:pt x="23" y="35"/>
                  <a:pt x="22" y="35"/>
                </a:cubicBezTo>
                <a:cubicBezTo>
                  <a:pt x="24" y="34"/>
                  <a:pt x="26" y="33"/>
                  <a:pt x="27" y="31"/>
                </a:cubicBezTo>
                <a:cubicBezTo>
                  <a:pt x="33" y="25"/>
                  <a:pt x="31" y="14"/>
                  <a:pt x="23" y="7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54"/>
          <p:cNvGrpSpPr/>
          <p:nvPr/>
        </p:nvGrpSpPr>
        <p:grpSpPr>
          <a:xfrm>
            <a:off x="9057600" y="5313960"/>
            <a:ext cx="583920" cy="734760"/>
            <a:chOff x="9057600" y="5313960"/>
            <a:chExt cx="583920" cy="734760"/>
          </a:xfrm>
        </p:grpSpPr>
        <p:sp>
          <p:nvSpPr>
            <p:cNvPr id="213" name="任意多边形 264"/>
            <p:cNvSpPr/>
            <p:nvPr/>
          </p:nvSpPr>
          <p:spPr>
            <a:xfrm>
              <a:off x="9057600" y="5364720"/>
              <a:ext cx="583920" cy="64044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40440"/>
                <a:gd name="textAreaBottom" fmla="*/ 640800 h 640440"/>
              </a:gdLst>
              <a:ahLst/>
              <a:rect l="textAreaLeft" t="textAreaTop" r="textAreaRight" b="textAreaBottom"/>
              <a:pathLst>
                <a:path w="839322" h="920914">
                  <a:moveTo>
                    <a:pt x="190500" y="393700"/>
                  </a:moveTo>
                  <a:lnTo>
                    <a:pt x="0" y="571500"/>
                  </a:lnTo>
                  <a:cubicBezTo>
                    <a:pt x="74083" y="605367"/>
                    <a:pt x="129117" y="594783"/>
                    <a:pt x="203200" y="577850"/>
                  </a:cubicBezTo>
                  <a:lnTo>
                    <a:pt x="203200" y="704850"/>
                  </a:lnTo>
                  <a:lnTo>
                    <a:pt x="158750" y="762000"/>
                  </a:lnTo>
                  <a:cubicBezTo>
                    <a:pt x="184150" y="853017"/>
                    <a:pt x="304800" y="893233"/>
                    <a:pt x="406400" y="920750"/>
                  </a:cubicBezTo>
                  <a:cubicBezTo>
                    <a:pt x="579967" y="924983"/>
                    <a:pt x="690033" y="846667"/>
                    <a:pt x="736600" y="781050"/>
                  </a:cubicBezTo>
                  <a:cubicBezTo>
                    <a:pt x="795867" y="704850"/>
                    <a:pt x="810683" y="603250"/>
                    <a:pt x="800100" y="514350"/>
                  </a:cubicBezTo>
                  <a:cubicBezTo>
                    <a:pt x="867833" y="389467"/>
                    <a:pt x="840317" y="378883"/>
                    <a:pt x="774700" y="292100"/>
                  </a:cubicBezTo>
                  <a:cubicBezTo>
                    <a:pt x="692150" y="124883"/>
                    <a:pt x="654050" y="14817"/>
                    <a:pt x="431800" y="0"/>
                  </a:cubicBezTo>
                  <a:cubicBezTo>
                    <a:pt x="205317" y="42333"/>
                    <a:pt x="194733" y="179917"/>
                    <a:pt x="190500" y="393700"/>
                  </a:cubicBezTo>
                  <a:close/>
                </a:path>
              </a:pathLst>
            </a:custGeom>
            <a:solidFill>
              <a:srgbClr val="5c443f">
                <a:alpha val="8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任意多边形 274"/>
            <p:cNvSpPr/>
            <p:nvPr/>
          </p:nvSpPr>
          <p:spPr>
            <a:xfrm>
              <a:off x="9212040" y="5410080"/>
              <a:ext cx="373320" cy="5637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536749" h="810571">
                  <a:moveTo>
                    <a:pt x="236705" y="86618"/>
                  </a:moveTo>
                  <a:cubicBezTo>
                    <a:pt x="287505" y="-61549"/>
                    <a:pt x="382755" y="18885"/>
                    <a:pt x="408155" y="48518"/>
                  </a:cubicBezTo>
                  <a:cubicBezTo>
                    <a:pt x="473772" y="107785"/>
                    <a:pt x="482238" y="230551"/>
                    <a:pt x="471655" y="315218"/>
                  </a:cubicBezTo>
                  <a:cubicBezTo>
                    <a:pt x="539388" y="368135"/>
                    <a:pt x="505522" y="414701"/>
                    <a:pt x="465305" y="473968"/>
                  </a:cubicBezTo>
                  <a:lnTo>
                    <a:pt x="535155" y="473968"/>
                  </a:lnTo>
                  <a:cubicBezTo>
                    <a:pt x="545738" y="641185"/>
                    <a:pt x="505522" y="725851"/>
                    <a:pt x="357355" y="785118"/>
                  </a:cubicBezTo>
                  <a:cubicBezTo>
                    <a:pt x="232472" y="835918"/>
                    <a:pt x="126638" y="804168"/>
                    <a:pt x="58905" y="747018"/>
                  </a:cubicBezTo>
                  <a:cubicBezTo>
                    <a:pt x="12338" y="630601"/>
                    <a:pt x="22922" y="514185"/>
                    <a:pt x="33505" y="397768"/>
                  </a:cubicBezTo>
                  <a:cubicBezTo>
                    <a:pt x="-4595" y="291935"/>
                    <a:pt x="-17295" y="192451"/>
                    <a:pt x="33505" y="80268"/>
                  </a:cubicBezTo>
                  <a:cubicBezTo>
                    <a:pt x="94888" y="31585"/>
                    <a:pt x="118172" y="-10749"/>
                    <a:pt x="236705" y="86618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任意多边形 35"/>
            <p:cNvSpPr/>
            <p:nvPr/>
          </p:nvSpPr>
          <p:spPr>
            <a:xfrm>
              <a:off x="9183600" y="5541840"/>
              <a:ext cx="428760" cy="210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16698" h="303864">
                  <a:moveTo>
                    <a:pt x="573833" y="0"/>
                  </a:moveTo>
                  <a:cubicBezTo>
                    <a:pt x="607699" y="32014"/>
                    <a:pt x="620135" y="30692"/>
                    <a:pt x="615901" y="81756"/>
                  </a:cubicBezTo>
                  <a:cubicBezTo>
                    <a:pt x="486784" y="215106"/>
                    <a:pt x="320362" y="259556"/>
                    <a:pt x="121395" y="215106"/>
                  </a:cubicBezTo>
                  <a:cubicBezTo>
                    <a:pt x="116897" y="240506"/>
                    <a:pt x="114780" y="265906"/>
                    <a:pt x="107901" y="291306"/>
                  </a:cubicBezTo>
                  <a:cubicBezTo>
                    <a:pt x="59218" y="314589"/>
                    <a:pt x="28791" y="301361"/>
                    <a:pt x="7095" y="284956"/>
                  </a:cubicBezTo>
                  <a:cubicBezTo>
                    <a:pt x="14768" y="246856"/>
                    <a:pt x="36728" y="208756"/>
                    <a:pt x="51545" y="170656"/>
                  </a:cubicBezTo>
                  <a:lnTo>
                    <a:pt x="745" y="138906"/>
                  </a:lnTo>
                  <a:cubicBezTo>
                    <a:pt x="-2695" y="114830"/>
                    <a:pt x="5772" y="97895"/>
                    <a:pt x="26145" y="88106"/>
                  </a:cubicBezTo>
                  <a:cubicBezTo>
                    <a:pt x="153145" y="164306"/>
                    <a:pt x="370633" y="241300"/>
                    <a:pt x="573833" y="0"/>
                  </a:cubicBezTo>
                  <a:close/>
                </a:path>
              </a:pathLst>
            </a:custGeom>
            <a:solidFill>
              <a:srgbClr val="de563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40"/>
            <p:cNvSpPr/>
            <p:nvPr/>
          </p:nvSpPr>
          <p:spPr>
            <a:xfrm rot="2014200">
              <a:off x="9252720" y="5769360"/>
              <a:ext cx="48960" cy="162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70824" h="233203">
                  <a:moveTo>
                    <a:pt x="0" y="116530"/>
                  </a:moveTo>
                  <a:cubicBezTo>
                    <a:pt x="0" y="52172"/>
                    <a:pt x="15854" y="0"/>
                    <a:pt x="35412" y="0"/>
                  </a:cubicBezTo>
                  <a:cubicBezTo>
                    <a:pt x="54970" y="0"/>
                    <a:pt x="70824" y="52172"/>
                    <a:pt x="70824" y="116530"/>
                  </a:cubicBezTo>
                  <a:cubicBezTo>
                    <a:pt x="70824" y="180888"/>
                    <a:pt x="71474" y="236398"/>
                    <a:pt x="35412" y="233060"/>
                  </a:cubicBezTo>
                  <a:cubicBezTo>
                    <a:pt x="-650" y="229722"/>
                    <a:pt x="0" y="180888"/>
                    <a:pt x="0" y="116530"/>
                  </a:cubicBezTo>
                  <a:close/>
                </a:path>
              </a:pathLst>
            </a:cu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椭圆 174"/>
            <p:cNvSpPr/>
            <p:nvPr/>
          </p:nvSpPr>
          <p:spPr>
            <a:xfrm rot="20646600">
              <a:off x="9422280" y="5451840"/>
              <a:ext cx="47520" cy="65520"/>
            </a:xfrm>
            <a:prstGeom prst="ellipse">
              <a:avLst/>
            </a:pr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椭圆 175"/>
            <p:cNvSpPr/>
            <p:nvPr/>
          </p:nvSpPr>
          <p:spPr>
            <a:xfrm rot="20646600">
              <a:off x="9272880" y="5490000"/>
              <a:ext cx="47520" cy="65520"/>
            </a:xfrm>
            <a:prstGeom prst="ellipse">
              <a:avLst/>
            </a:pr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42"/>
            <p:cNvSpPr/>
            <p:nvPr/>
          </p:nvSpPr>
          <p:spPr>
            <a:xfrm rot="20709600">
              <a:off x="9352800" y="5517720"/>
              <a:ext cx="65880" cy="47160"/>
            </a:xfrm>
            <a:prstGeom prst="ellipse">
              <a:avLst/>
            </a:pr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6560" bIns="16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椭圆 40"/>
            <p:cNvSpPr/>
            <p:nvPr/>
          </p:nvSpPr>
          <p:spPr>
            <a:xfrm rot="7225800">
              <a:off x="9357840" y="5950440"/>
              <a:ext cx="38160" cy="108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70824" h="233203">
                  <a:moveTo>
                    <a:pt x="0" y="116530"/>
                  </a:moveTo>
                  <a:cubicBezTo>
                    <a:pt x="0" y="52172"/>
                    <a:pt x="15854" y="0"/>
                    <a:pt x="35412" y="0"/>
                  </a:cubicBezTo>
                  <a:cubicBezTo>
                    <a:pt x="54970" y="0"/>
                    <a:pt x="70824" y="52172"/>
                    <a:pt x="70824" y="116530"/>
                  </a:cubicBezTo>
                  <a:cubicBezTo>
                    <a:pt x="70824" y="180888"/>
                    <a:pt x="71474" y="236398"/>
                    <a:pt x="35412" y="233060"/>
                  </a:cubicBezTo>
                  <a:cubicBezTo>
                    <a:pt x="-650" y="229722"/>
                    <a:pt x="0" y="180888"/>
                    <a:pt x="0" y="116530"/>
                  </a:cubicBezTo>
                  <a:close/>
                </a:path>
              </a:pathLst>
            </a:custGeom>
            <a:solidFill>
              <a:srgbClr val="daad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任意多边形 52"/>
            <p:cNvSpPr/>
            <p:nvPr/>
          </p:nvSpPr>
          <p:spPr>
            <a:xfrm>
              <a:off x="9320040" y="5313960"/>
              <a:ext cx="65520" cy="748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4830" h="107950">
                  <a:moveTo>
                    <a:pt x="6350" y="101600"/>
                  </a:moveTo>
                  <a:cubicBezTo>
                    <a:pt x="13758" y="67733"/>
                    <a:pt x="11642" y="50536"/>
                    <a:pt x="0" y="0"/>
                  </a:cubicBezTo>
                  <a:cubicBezTo>
                    <a:pt x="24870" y="6086"/>
                    <a:pt x="40217" y="55033"/>
                    <a:pt x="60325" y="82550"/>
                  </a:cubicBezTo>
                  <a:lnTo>
                    <a:pt x="76200" y="47625"/>
                  </a:lnTo>
                  <a:cubicBezTo>
                    <a:pt x="93398" y="70114"/>
                    <a:pt x="98689" y="92604"/>
                    <a:pt x="92075" y="107950"/>
                  </a:cubicBezTo>
                  <a:lnTo>
                    <a:pt x="6350" y="101600"/>
                  </a:lnTo>
                  <a:close/>
                </a:path>
              </a:pathLst>
            </a:custGeom>
            <a:solidFill>
              <a:srgbClr val="5c44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2" name="组合 57"/>
          <p:cNvGrpSpPr/>
          <p:nvPr/>
        </p:nvGrpSpPr>
        <p:grpSpPr>
          <a:xfrm>
            <a:off x="10051560" y="5137920"/>
            <a:ext cx="790560" cy="904680"/>
            <a:chOff x="10051560" y="5137920"/>
            <a:chExt cx="790560" cy="904680"/>
          </a:xfrm>
        </p:grpSpPr>
        <p:grpSp>
          <p:nvGrpSpPr>
            <p:cNvPr id="223" name="组合 53"/>
            <p:cNvGrpSpPr/>
            <p:nvPr/>
          </p:nvGrpSpPr>
          <p:grpSpPr>
            <a:xfrm>
              <a:off x="10143000" y="5191200"/>
              <a:ext cx="699120" cy="851400"/>
              <a:chOff x="10143000" y="5191200"/>
              <a:chExt cx="699120" cy="851400"/>
            </a:xfrm>
          </p:grpSpPr>
          <p:sp>
            <p:nvSpPr>
              <p:cNvPr id="224" name="任意多边形 8"/>
              <p:cNvSpPr/>
              <p:nvPr/>
            </p:nvSpPr>
            <p:spPr>
              <a:xfrm>
                <a:off x="10143000" y="5248080"/>
                <a:ext cx="699120" cy="789480"/>
              </a:xfrm>
              <a:custGeom>
                <a:avLst/>
                <a:gdLst>
                  <a:gd name="textAreaLeft" fmla="*/ 0 w 699120"/>
                  <a:gd name="textAreaRight" fmla="*/ 699480 w 699120"/>
                  <a:gd name="textAreaTop" fmla="*/ 0 h 789480"/>
                  <a:gd name="textAreaBottom" fmla="*/ 789840 h 789480"/>
                </a:gdLst>
                <a:ahLst/>
                <a:rect l="textAreaLeft" t="textAreaTop" r="textAreaRight" b="textAreaBottom"/>
                <a:pathLst>
                  <a:path w="1004769" h="1134854">
                    <a:moveTo>
                      <a:pt x="471369" y="0"/>
                    </a:moveTo>
                    <a:cubicBezTo>
                      <a:pt x="677109" y="25400"/>
                      <a:pt x="852369" y="149860"/>
                      <a:pt x="837129" y="487680"/>
                    </a:cubicBezTo>
                    <a:cubicBezTo>
                      <a:pt x="887929" y="551180"/>
                      <a:pt x="908249" y="599440"/>
                      <a:pt x="1004769" y="662940"/>
                    </a:cubicBezTo>
                    <a:cubicBezTo>
                      <a:pt x="976829" y="693420"/>
                      <a:pt x="903169" y="678180"/>
                      <a:pt x="852369" y="685800"/>
                    </a:cubicBezTo>
                    <a:lnTo>
                      <a:pt x="913329" y="1021080"/>
                    </a:lnTo>
                    <a:cubicBezTo>
                      <a:pt x="791409" y="1115060"/>
                      <a:pt x="471369" y="1193800"/>
                      <a:pt x="227529" y="1074420"/>
                    </a:cubicBezTo>
                    <a:cubicBezTo>
                      <a:pt x="143709" y="1005840"/>
                      <a:pt x="52269" y="853440"/>
                      <a:pt x="113229" y="594360"/>
                    </a:cubicBezTo>
                    <a:lnTo>
                      <a:pt x="6549" y="495300"/>
                    </a:lnTo>
                    <a:cubicBezTo>
                      <a:pt x="-11231" y="436880"/>
                      <a:pt x="9089" y="378460"/>
                      <a:pt x="44649" y="320040"/>
                    </a:cubicBezTo>
                    <a:lnTo>
                      <a:pt x="59889" y="411480"/>
                    </a:lnTo>
                    <a:lnTo>
                      <a:pt x="120849" y="411480"/>
                    </a:lnTo>
                    <a:cubicBezTo>
                      <a:pt x="153869" y="251460"/>
                      <a:pt x="148789" y="53340"/>
                      <a:pt x="471369" y="0"/>
                    </a:cubicBezTo>
                    <a:close/>
                  </a:path>
                </a:pathLst>
              </a:cu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" name="任意多边形 12"/>
              <p:cNvSpPr/>
              <p:nvPr/>
            </p:nvSpPr>
            <p:spPr>
              <a:xfrm>
                <a:off x="10248840" y="5323320"/>
                <a:ext cx="435240" cy="68148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625663" h="979696">
                    <a:moveTo>
                      <a:pt x="265077" y="73416"/>
                    </a:moveTo>
                    <a:cubicBezTo>
                      <a:pt x="336197" y="9916"/>
                      <a:pt x="422557" y="-30724"/>
                      <a:pt x="524157" y="65796"/>
                    </a:cubicBezTo>
                    <a:cubicBezTo>
                      <a:pt x="600357" y="190256"/>
                      <a:pt x="577497" y="299476"/>
                      <a:pt x="569877" y="439176"/>
                    </a:cubicBezTo>
                    <a:cubicBezTo>
                      <a:pt x="605437" y="596656"/>
                      <a:pt x="679097" y="746516"/>
                      <a:pt x="562257" y="911616"/>
                    </a:cubicBezTo>
                    <a:cubicBezTo>
                      <a:pt x="496217" y="967496"/>
                      <a:pt x="201577" y="1038616"/>
                      <a:pt x="44097" y="896376"/>
                    </a:cubicBezTo>
                    <a:cubicBezTo>
                      <a:pt x="-19403" y="759216"/>
                      <a:pt x="-14323" y="698256"/>
                      <a:pt x="59337" y="439176"/>
                    </a:cubicBezTo>
                    <a:cubicBezTo>
                      <a:pt x="69497" y="319796"/>
                      <a:pt x="11077" y="200416"/>
                      <a:pt x="89817" y="81036"/>
                    </a:cubicBezTo>
                    <a:cubicBezTo>
                      <a:pt x="148237" y="-35804"/>
                      <a:pt x="199037" y="-15484"/>
                      <a:pt x="265077" y="7341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任意多边形 13"/>
              <p:cNvSpPr/>
              <p:nvPr/>
            </p:nvSpPr>
            <p:spPr>
              <a:xfrm>
                <a:off x="10211760" y="5499720"/>
                <a:ext cx="520200" cy="21924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747772" h="315707">
                    <a:moveTo>
                      <a:pt x="740568" y="106203"/>
                    </a:moveTo>
                    <a:cubicBezTo>
                      <a:pt x="748664" y="50323"/>
                      <a:pt x="753427" y="39688"/>
                      <a:pt x="735330" y="0"/>
                    </a:cubicBezTo>
                    <a:cubicBezTo>
                      <a:pt x="483870" y="142240"/>
                      <a:pt x="249555" y="113506"/>
                      <a:pt x="28575" y="4286"/>
                    </a:cubicBezTo>
                    <a:lnTo>
                      <a:pt x="20955" y="57626"/>
                    </a:lnTo>
                    <a:cubicBezTo>
                      <a:pt x="56515" y="103346"/>
                      <a:pt x="10160" y="212407"/>
                      <a:pt x="0" y="288607"/>
                    </a:cubicBezTo>
                    <a:cubicBezTo>
                      <a:pt x="17939" y="320675"/>
                      <a:pt x="43022" y="317024"/>
                      <a:pt x="72867" y="313372"/>
                    </a:cubicBezTo>
                    <a:lnTo>
                      <a:pt x="104775" y="149066"/>
                    </a:lnTo>
                    <a:cubicBezTo>
                      <a:pt x="315595" y="197326"/>
                      <a:pt x="484028" y="210343"/>
                      <a:pt x="740568" y="106203"/>
                    </a:cubicBezTo>
                    <a:close/>
                  </a:path>
                </a:pathLst>
              </a:custGeom>
              <a:solidFill>
                <a:srgbClr val="de563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" name="椭圆 43"/>
              <p:cNvSpPr/>
              <p:nvPr/>
            </p:nvSpPr>
            <p:spPr>
              <a:xfrm>
                <a:off x="10195920" y="5988240"/>
                <a:ext cx="168840" cy="536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43208" h="77706">
                    <a:moveTo>
                      <a:pt x="0" y="48378"/>
                    </a:moveTo>
                    <a:cubicBezTo>
                      <a:pt x="0" y="26920"/>
                      <a:pt x="56197" y="0"/>
                      <a:pt x="124779" y="0"/>
                    </a:cubicBezTo>
                    <a:cubicBezTo>
                      <a:pt x="183836" y="0"/>
                      <a:pt x="243208" y="17395"/>
                      <a:pt x="243208" y="38853"/>
                    </a:cubicBezTo>
                    <a:cubicBezTo>
                      <a:pt x="243208" y="60311"/>
                      <a:pt x="209236" y="77706"/>
                      <a:pt x="124779" y="77706"/>
                    </a:cubicBezTo>
                    <a:cubicBezTo>
                      <a:pt x="8572" y="77706"/>
                      <a:pt x="0" y="69836"/>
                      <a:pt x="0" y="48378"/>
                    </a:cubicBezTo>
                    <a:close/>
                  </a:path>
                </a:pathLst>
              </a:cu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" name="椭圆 44"/>
              <p:cNvSpPr/>
              <p:nvPr/>
            </p:nvSpPr>
            <p:spPr>
              <a:xfrm>
                <a:off x="10609200" y="5989680"/>
                <a:ext cx="99000" cy="529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42883" h="76651">
                    <a:moveTo>
                      <a:pt x="8" y="59516"/>
                    </a:moveTo>
                    <a:cubicBezTo>
                      <a:pt x="-521" y="47094"/>
                      <a:pt x="23821" y="1084"/>
                      <a:pt x="73033" y="26"/>
                    </a:cubicBezTo>
                    <a:cubicBezTo>
                      <a:pt x="109545" y="-1032"/>
                      <a:pt x="142883" y="31164"/>
                      <a:pt x="142883" y="49991"/>
                    </a:cubicBezTo>
                    <a:cubicBezTo>
                      <a:pt x="142883" y="68818"/>
                      <a:pt x="128595" y="74556"/>
                      <a:pt x="76208" y="74556"/>
                    </a:cubicBezTo>
                    <a:cubicBezTo>
                      <a:pt x="20646" y="80906"/>
                      <a:pt x="537" y="71938"/>
                      <a:pt x="8" y="59516"/>
                    </a:cubicBezTo>
                    <a:close/>
                  </a:path>
                </a:pathLst>
              </a:cu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6640" bIns="26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" name="椭圆 46"/>
              <p:cNvSpPr/>
              <p:nvPr/>
            </p:nvSpPr>
            <p:spPr>
              <a:xfrm>
                <a:off x="10330560" y="5382000"/>
                <a:ext cx="43920" cy="7020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" name="椭圆 181"/>
              <p:cNvSpPr/>
              <p:nvPr/>
            </p:nvSpPr>
            <p:spPr>
              <a:xfrm rot="342000">
                <a:off x="10495440" y="5382000"/>
                <a:ext cx="43920" cy="7020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" name="椭圆 48"/>
              <p:cNvSpPr/>
              <p:nvPr/>
            </p:nvSpPr>
            <p:spPr>
              <a:xfrm>
                <a:off x="10391400" y="5450040"/>
                <a:ext cx="63000" cy="42840"/>
              </a:xfrm>
              <a:prstGeom prst="ellipse">
                <a:avLst/>
              </a:prstGeom>
              <a:solidFill>
                <a:srgbClr val="daad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5120" bIns="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" name="任意多边形 197"/>
              <p:cNvSpPr/>
              <p:nvPr/>
            </p:nvSpPr>
            <p:spPr>
              <a:xfrm flipH="1">
                <a:off x="10439640" y="5191200"/>
                <a:ext cx="65520" cy="7488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94830" h="107950">
                    <a:moveTo>
                      <a:pt x="6350" y="101600"/>
                    </a:moveTo>
                    <a:cubicBezTo>
                      <a:pt x="13758" y="67733"/>
                      <a:pt x="11642" y="50536"/>
                      <a:pt x="0" y="0"/>
                    </a:cubicBezTo>
                    <a:cubicBezTo>
                      <a:pt x="24870" y="6086"/>
                      <a:pt x="40217" y="55033"/>
                      <a:pt x="60325" y="82550"/>
                    </a:cubicBezTo>
                    <a:lnTo>
                      <a:pt x="76200" y="47625"/>
                    </a:lnTo>
                    <a:cubicBezTo>
                      <a:pt x="93398" y="70114"/>
                      <a:pt x="98689" y="92604"/>
                      <a:pt x="92075" y="107950"/>
                    </a:cubicBezTo>
                    <a:lnTo>
                      <a:pt x="6350" y="101600"/>
                    </a:lnTo>
                    <a:close/>
                  </a:path>
                </a:pathLst>
              </a:cu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7440" bIns="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56"/>
            <p:cNvGrpSpPr/>
            <p:nvPr/>
          </p:nvGrpSpPr>
          <p:grpSpPr>
            <a:xfrm>
              <a:off x="10051560" y="5137920"/>
              <a:ext cx="240120" cy="201960"/>
              <a:chOff x="10051560" y="5137920"/>
              <a:chExt cx="240120" cy="201960"/>
            </a:xfrm>
          </p:grpSpPr>
          <p:sp>
            <p:nvSpPr>
              <p:cNvPr id="234" name="椭圆 55"/>
              <p:cNvSpPr/>
              <p:nvPr/>
            </p:nvSpPr>
            <p:spPr>
              <a:xfrm rot="2105400">
                <a:off x="10056960" y="527076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" name="椭圆 198"/>
              <p:cNvSpPr/>
              <p:nvPr/>
            </p:nvSpPr>
            <p:spPr>
              <a:xfrm rot="3620400">
                <a:off x="10119960" y="520344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" name="椭圆 199"/>
              <p:cNvSpPr/>
              <p:nvPr/>
            </p:nvSpPr>
            <p:spPr>
              <a:xfrm rot="6070800">
                <a:off x="10214640" y="5162400"/>
                <a:ext cx="89280" cy="47880"/>
              </a:xfrm>
              <a:prstGeom prst="ellipse">
                <a:avLst/>
              </a:prstGeom>
              <a:solidFill>
                <a:srgbClr val="5c443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6920" bIns="16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梯形 72"/>
          <p:cNvSpPr/>
          <p:nvPr/>
        </p:nvSpPr>
        <p:spPr>
          <a:xfrm>
            <a:off x="0" y="3745440"/>
            <a:ext cx="12191760" cy="3112200"/>
          </a:xfrm>
          <a:prstGeom prst="trapezoid">
            <a:avLst>
              <a:gd name="adj" fmla="val 72849"/>
            </a:avLst>
          </a:prstGeom>
          <a:solidFill>
            <a:srgbClr val="a6d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rcRect l="3465" t="14400" r="5237" b="0"/>
          <a:stretch/>
        </p:blipFill>
        <p:spPr>
          <a:xfrm>
            <a:off x="399960" y="7007040"/>
            <a:ext cx="11391480" cy="4336920"/>
          </a:xfrm>
          <a:prstGeom prst="rect">
            <a:avLst/>
          </a:prstGeom>
          <a:ln w="19050">
            <a:solidFill>
              <a:srgbClr val="454c5c"/>
            </a:solidFill>
            <a:round/>
          </a:ln>
        </p:spPr>
      </p:pic>
      <p:grpSp>
        <p:nvGrpSpPr>
          <p:cNvPr id="240" name="组合 70"/>
          <p:cNvGrpSpPr/>
          <p:nvPr/>
        </p:nvGrpSpPr>
        <p:grpSpPr>
          <a:xfrm>
            <a:off x="7227000" y="1897560"/>
            <a:ext cx="3617280" cy="2597040"/>
            <a:chOff x="7227000" y="1897560"/>
            <a:chExt cx="3617280" cy="2597040"/>
          </a:xfrm>
        </p:grpSpPr>
        <p:grpSp>
          <p:nvGrpSpPr>
            <p:cNvPr id="241" name="组合 14"/>
            <p:cNvGrpSpPr/>
            <p:nvPr/>
          </p:nvGrpSpPr>
          <p:grpSpPr>
            <a:xfrm>
              <a:off x="7227000" y="1897560"/>
              <a:ext cx="3617280" cy="2597040"/>
              <a:chOff x="7227000" y="1897560"/>
              <a:chExt cx="3617280" cy="2597040"/>
            </a:xfrm>
          </p:grpSpPr>
          <p:grpSp>
            <p:nvGrpSpPr>
              <p:cNvPr id="242" name="组合 9"/>
              <p:cNvGrpSpPr/>
              <p:nvPr/>
            </p:nvGrpSpPr>
            <p:grpSpPr>
              <a:xfrm>
                <a:off x="7227000" y="1897560"/>
                <a:ext cx="3617280" cy="2597040"/>
                <a:chOff x="7227000" y="1897560"/>
                <a:chExt cx="3617280" cy="2597040"/>
              </a:xfrm>
            </p:grpSpPr>
            <p:sp>
              <p:nvSpPr>
                <p:cNvPr id="243" name="椭圆 8"/>
                <p:cNvSpPr/>
                <p:nvPr/>
              </p:nvSpPr>
              <p:spPr>
                <a:xfrm>
                  <a:off x="7627320" y="4451760"/>
                  <a:ext cx="2817000" cy="4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4" name="梯形 5"/>
                <p:cNvSpPr/>
                <p:nvPr/>
              </p:nvSpPr>
              <p:spPr>
                <a:xfrm>
                  <a:off x="8672400" y="3934800"/>
                  <a:ext cx="728640" cy="462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5" name="矩形 7"/>
                <p:cNvSpPr/>
                <p:nvPr/>
              </p:nvSpPr>
              <p:spPr>
                <a:xfrm>
                  <a:off x="8777160" y="4071960"/>
                  <a:ext cx="514080" cy="4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246" name="组合 4"/>
                <p:cNvGrpSpPr/>
                <p:nvPr/>
              </p:nvGrpSpPr>
              <p:grpSpPr>
                <a:xfrm>
                  <a:off x="7227000" y="1897560"/>
                  <a:ext cx="3617280" cy="2210040"/>
                  <a:chOff x="7227000" y="1897560"/>
                  <a:chExt cx="3617280" cy="2210040"/>
                </a:xfrm>
              </p:grpSpPr>
              <p:sp>
                <p:nvSpPr>
                  <p:cNvPr id="247" name="圆角矩形 2"/>
                  <p:cNvSpPr/>
                  <p:nvPr/>
                </p:nvSpPr>
                <p:spPr>
                  <a:xfrm>
                    <a:off x="7227000" y="1897560"/>
                    <a:ext cx="3617280" cy="221004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" name="矩形 3"/>
                  <p:cNvSpPr/>
                  <p:nvPr/>
                </p:nvSpPr>
                <p:spPr>
                  <a:xfrm>
                    <a:off x="7325640" y="1972800"/>
                    <a:ext cx="3431520" cy="18860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9" name="圆角矩形 6"/>
                <p:cNvSpPr/>
                <p:nvPr/>
              </p:nvSpPr>
              <p:spPr>
                <a:xfrm>
                  <a:off x="8339760" y="4395240"/>
                  <a:ext cx="1394280" cy="85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0" name="椭圆 10"/>
              <p:cNvSpPr/>
              <p:nvPr/>
            </p:nvSpPr>
            <p:spPr>
              <a:xfrm>
                <a:off x="8952480" y="3928680"/>
                <a:ext cx="118440" cy="11844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" name="椭圆 92"/>
              <p:cNvSpPr/>
              <p:nvPr/>
            </p:nvSpPr>
            <p:spPr>
              <a:xfrm>
                <a:off x="10633320" y="3956040"/>
                <a:ext cx="64080" cy="6408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60" bIns="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" name="椭圆 93"/>
              <p:cNvSpPr/>
              <p:nvPr/>
            </p:nvSpPr>
            <p:spPr>
              <a:xfrm>
                <a:off x="10546200" y="3967200"/>
                <a:ext cx="41400" cy="4140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椭圆 94"/>
              <p:cNvSpPr/>
              <p:nvPr/>
            </p:nvSpPr>
            <p:spPr>
              <a:xfrm>
                <a:off x="10480680" y="3967200"/>
                <a:ext cx="41400" cy="4140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4" name="组合 202"/>
            <p:cNvGrpSpPr/>
            <p:nvPr/>
          </p:nvGrpSpPr>
          <p:grpSpPr>
            <a:xfrm>
              <a:off x="7940520" y="2142360"/>
              <a:ext cx="2163600" cy="1583280"/>
              <a:chOff x="7940520" y="2142360"/>
              <a:chExt cx="2163600" cy="1583280"/>
            </a:xfrm>
          </p:grpSpPr>
          <p:sp>
            <p:nvSpPr>
              <p:cNvPr id="255" name="矩形 11"/>
              <p:cNvSpPr/>
              <p:nvPr/>
            </p:nvSpPr>
            <p:spPr>
              <a:xfrm>
                <a:off x="7940520" y="2142360"/>
                <a:ext cx="2163600" cy="1583280"/>
              </a:xfrm>
              <a:prstGeom prst="rect">
                <a:avLst/>
              </a:prstGeom>
              <a:solidFill>
                <a:srgbClr val="5fb0e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矩形 12"/>
              <p:cNvSpPr/>
              <p:nvPr/>
            </p:nvSpPr>
            <p:spPr>
              <a:xfrm>
                <a:off x="7940520" y="2469240"/>
                <a:ext cx="1717560" cy="125640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矩形 102"/>
              <p:cNvSpPr/>
              <p:nvPr/>
            </p:nvSpPr>
            <p:spPr>
              <a:xfrm>
                <a:off x="9388440" y="2467800"/>
                <a:ext cx="675000" cy="1216440"/>
              </a:xfrm>
              <a:prstGeom prst="rect">
                <a:avLst/>
              </a:prstGeom>
              <a:solidFill>
                <a:srgbClr val="d3f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9623520" y="2494080"/>
                <a:ext cx="405720" cy="31464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59" name="组合 119"/>
              <p:cNvGrpSpPr/>
              <p:nvPr/>
            </p:nvGrpSpPr>
            <p:grpSpPr>
              <a:xfrm>
                <a:off x="7977240" y="2368800"/>
                <a:ext cx="773640" cy="55800"/>
                <a:chOff x="7977240" y="2368800"/>
                <a:chExt cx="773640" cy="55800"/>
              </a:xfrm>
            </p:grpSpPr>
            <p:sp>
              <p:nvSpPr>
                <p:cNvPr id="260" name="矩形 27"/>
                <p:cNvSpPr/>
                <p:nvPr/>
              </p:nvSpPr>
              <p:spPr>
                <a:xfrm>
                  <a:off x="797724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1" name="矩形 28"/>
                <p:cNvSpPr/>
                <p:nvPr/>
              </p:nvSpPr>
              <p:spPr>
                <a:xfrm>
                  <a:off x="80794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2" name="矩形 29"/>
                <p:cNvSpPr/>
                <p:nvPr/>
              </p:nvSpPr>
              <p:spPr>
                <a:xfrm>
                  <a:off x="81820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3" name="矩形 30"/>
                <p:cNvSpPr/>
                <p:nvPr/>
              </p:nvSpPr>
              <p:spPr>
                <a:xfrm>
                  <a:off x="82846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4" name="矩形 31"/>
                <p:cNvSpPr/>
                <p:nvPr/>
              </p:nvSpPr>
              <p:spPr>
                <a:xfrm>
                  <a:off x="83872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5" name="矩形 32"/>
                <p:cNvSpPr/>
                <p:nvPr/>
              </p:nvSpPr>
              <p:spPr>
                <a:xfrm>
                  <a:off x="84898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6" name="矩形 33"/>
                <p:cNvSpPr/>
                <p:nvPr/>
              </p:nvSpPr>
              <p:spPr>
                <a:xfrm>
                  <a:off x="85924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7" name="矩形 34"/>
                <p:cNvSpPr/>
                <p:nvPr/>
              </p:nvSpPr>
              <p:spPr>
                <a:xfrm>
                  <a:off x="8695080" y="2368800"/>
                  <a:ext cx="55800" cy="5580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103"/>
              <p:cNvGrpSpPr/>
              <p:nvPr/>
            </p:nvGrpSpPr>
            <p:grpSpPr>
              <a:xfrm>
                <a:off x="9623520" y="2878560"/>
                <a:ext cx="405360" cy="397080"/>
                <a:chOff x="9623520" y="2878560"/>
                <a:chExt cx="405360" cy="397080"/>
              </a:xfrm>
            </p:grpSpPr>
            <p:sp>
              <p:nvSpPr>
                <p:cNvPr id="269" name="矩形 35"/>
                <p:cNvSpPr/>
                <p:nvPr/>
              </p:nvSpPr>
              <p:spPr>
                <a:xfrm>
                  <a:off x="9623520" y="287856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0" name="矩形 36"/>
                <p:cNvSpPr/>
                <p:nvPr/>
              </p:nvSpPr>
              <p:spPr>
                <a:xfrm>
                  <a:off x="9708480" y="287856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1" name="矩形 37"/>
                <p:cNvSpPr/>
                <p:nvPr/>
              </p:nvSpPr>
              <p:spPr>
                <a:xfrm>
                  <a:off x="9623520" y="295956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矩形 38"/>
                <p:cNvSpPr/>
                <p:nvPr/>
              </p:nvSpPr>
              <p:spPr>
                <a:xfrm>
                  <a:off x="9708480" y="295956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3" name="矩形 39"/>
                <p:cNvSpPr/>
                <p:nvPr/>
              </p:nvSpPr>
              <p:spPr>
                <a:xfrm>
                  <a:off x="9623520" y="304020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4" name="矩形 40"/>
                <p:cNvSpPr/>
                <p:nvPr/>
              </p:nvSpPr>
              <p:spPr>
                <a:xfrm>
                  <a:off x="9708480" y="304020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矩形 41"/>
                <p:cNvSpPr/>
                <p:nvPr/>
              </p:nvSpPr>
              <p:spPr>
                <a:xfrm>
                  <a:off x="9623520" y="313164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矩形 42"/>
                <p:cNvSpPr/>
                <p:nvPr/>
              </p:nvSpPr>
              <p:spPr>
                <a:xfrm>
                  <a:off x="9708480" y="313164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7" name="矩形 43"/>
                <p:cNvSpPr/>
                <p:nvPr/>
              </p:nvSpPr>
              <p:spPr>
                <a:xfrm>
                  <a:off x="9623520" y="3222720"/>
                  <a:ext cx="5292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8" name="矩形 44"/>
                <p:cNvSpPr/>
                <p:nvPr/>
              </p:nvSpPr>
              <p:spPr>
                <a:xfrm>
                  <a:off x="9708480" y="3222720"/>
                  <a:ext cx="320400" cy="52920"/>
                </a:xfrm>
                <a:prstGeom prst="rect">
                  <a:avLst/>
                </a:prstGeom>
                <a:solidFill>
                  <a:srgbClr val="abe3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9" name="矩形 13"/>
              <p:cNvSpPr/>
              <p:nvPr/>
            </p:nvSpPr>
            <p:spPr>
              <a:xfrm>
                <a:off x="7979400" y="2467800"/>
                <a:ext cx="1607040" cy="1216440"/>
              </a:xfrm>
              <a:prstGeom prst="rect">
                <a:avLst/>
              </a:pr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80" name="组合 109"/>
              <p:cNvGrpSpPr/>
              <p:nvPr/>
            </p:nvGrpSpPr>
            <p:grpSpPr>
              <a:xfrm>
                <a:off x="9769320" y="2526120"/>
                <a:ext cx="110880" cy="185400"/>
                <a:chOff x="9769320" y="2526120"/>
                <a:chExt cx="110880" cy="185400"/>
              </a:xfrm>
            </p:grpSpPr>
            <p:sp>
              <p:nvSpPr>
                <p:cNvPr id="281" name="Freeform 5"/>
                <p:cNvSpPr/>
                <p:nvPr/>
              </p:nvSpPr>
              <p:spPr>
                <a:xfrm>
                  <a:off x="9769320" y="2598480"/>
                  <a:ext cx="110880" cy="1130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112" h="115">
                      <a:moveTo>
                        <a:pt x="112" y="3"/>
                      </a:moveTo>
                      <a:cubicBezTo>
                        <a:pt x="112" y="2"/>
                        <a:pt x="112" y="1"/>
                        <a:pt x="112" y="0"/>
                      </a:cubicBezTo>
                      <a:cubicBezTo>
                        <a:pt x="93" y="0"/>
                        <a:pt x="93" y="0"/>
                        <a:pt x="93" y="0"/>
                      </a:cubicBezTo>
                      <a:cubicBezTo>
                        <a:pt x="93" y="1"/>
                        <a:pt x="93" y="2"/>
                        <a:pt x="93" y="3"/>
                      </a:cubicBezTo>
                      <a:cubicBezTo>
                        <a:pt x="93" y="24"/>
                        <a:pt x="77" y="41"/>
                        <a:pt x="56" y="41"/>
                      </a:cubicBezTo>
                      <a:cubicBezTo>
                        <a:pt x="35" y="41"/>
                        <a:pt x="18" y="24"/>
                        <a:pt x="18" y="3"/>
                      </a:cubicBezTo>
                      <a:cubicBezTo>
                        <a:pt x="18" y="2"/>
                        <a:pt x="19" y="1"/>
                        <a:pt x="19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1"/>
                        <a:pt x="20" y="54"/>
                        <a:pt x="46" y="59"/>
                      </a:cubicBezTo>
                      <a:cubicBezTo>
                        <a:pt x="46" y="94"/>
                        <a:pt x="46" y="94"/>
                        <a:pt x="46" y="94"/>
                      </a:cubicBezTo>
                      <a:cubicBezTo>
                        <a:pt x="33" y="94"/>
                        <a:pt x="33" y="94"/>
                        <a:pt x="33" y="94"/>
                      </a:cubicBezTo>
                      <a:cubicBezTo>
                        <a:pt x="33" y="115"/>
                        <a:pt x="33" y="115"/>
                        <a:pt x="33" y="115"/>
                      </a:cubicBezTo>
                      <a:cubicBezTo>
                        <a:pt x="79" y="115"/>
                        <a:pt x="79" y="115"/>
                        <a:pt x="79" y="115"/>
                      </a:cubicBezTo>
                      <a:cubicBezTo>
                        <a:pt x="79" y="94"/>
                        <a:pt x="79" y="94"/>
                        <a:pt x="79" y="94"/>
                      </a:cubicBezTo>
                      <a:cubicBezTo>
                        <a:pt x="66" y="94"/>
                        <a:pt x="66" y="94"/>
                        <a:pt x="66" y="94"/>
                      </a:cubicBezTo>
                      <a:cubicBezTo>
                        <a:pt x="66" y="59"/>
                        <a:pt x="66" y="59"/>
                        <a:pt x="66" y="59"/>
                      </a:cubicBezTo>
                      <a:cubicBezTo>
                        <a:pt x="92" y="54"/>
                        <a:pt x="112" y="31"/>
                        <a:pt x="112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Freeform 6"/>
                <p:cNvSpPr/>
                <p:nvPr/>
              </p:nvSpPr>
              <p:spPr>
                <a:xfrm>
                  <a:off x="9795240" y="2526120"/>
                  <a:ext cx="59760" cy="9180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0" h="93">
                      <a:moveTo>
                        <a:pt x="60" y="63"/>
                      </a:moveTo>
                      <a:cubicBezTo>
                        <a:pt x="60" y="80"/>
                        <a:pt x="47" y="93"/>
                        <a:pt x="30" y="93"/>
                      </a:cubicBezTo>
                      <a:cubicBezTo>
                        <a:pt x="30" y="93"/>
                        <a:pt x="30" y="93"/>
                        <a:pt x="30" y="93"/>
                      </a:cubicBezTo>
                      <a:cubicBezTo>
                        <a:pt x="13" y="93"/>
                        <a:pt x="0" y="80"/>
                        <a:pt x="0" y="63"/>
                      </a:cubicBezTo>
                      <a:cubicBezTo>
                        <a:pt x="0" y="30"/>
                        <a:pt x="0" y="30"/>
                        <a:pt x="0" y="30"/>
                      </a:cubicBezTo>
                      <a:cubicBezTo>
                        <a:pt x="0" y="13"/>
                        <a:pt x="13" y="0"/>
                        <a:pt x="30" y="0"/>
                      </a:cubicBezTo>
                      <a:cubicBezTo>
                        <a:pt x="30" y="0"/>
                        <a:pt x="30" y="0"/>
                        <a:pt x="30" y="0"/>
                      </a:cubicBezTo>
                      <a:cubicBezTo>
                        <a:pt x="47" y="0"/>
                        <a:pt x="60" y="13"/>
                        <a:pt x="60" y="30"/>
                      </a:cubicBezTo>
                      <a:lnTo>
                        <a:pt x="60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组合 118"/>
              <p:cNvGrpSpPr/>
              <p:nvPr/>
            </p:nvGrpSpPr>
            <p:grpSpPr>
              <a:xfrm>
                <a:off x="9676800" y="2748240"/>
                <a:ext cx="284400" cy="24120"/>
                <a:chOff x="9676800" y="2748240"/>
                <a:chExt cx="284400" cy="24120"/>
              </a:xfrm>
            </p:grpSpPr>
            <p:sp>
              <p:nvSpPr>
                <p:cNvPr id="284" name="矩形 110"/>
                <p:cNvSpPr/>
                <p:nvPr/>
              </p:nvSpPr>
              <p:spPr>
                <a:xfrm>
                  <a:off x="96768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矩形 111"/>
                <p:cNvSpPr/>
                <p:nvPr/>
              </p:nvSpPr>
              <p:spPr>
                <a:xfrm>
                  <a:off x="97138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矩形 112"/>
                <p:cNvSpPr/>
                <p:nvPr/>
              </p:nvSpPr>
              <p:spPr>
                <a:xfrm>
                  <a:off x="975096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矩形 113"/>
                <p:cNvSpPr/>
                <p:nvPr/>
              </p:nvSpPr>
              <p:spPr>
                <a:xfrm>
                  <a:off x="97884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矩形 114"/>
                <p:cNvSpPr/>
                <p:nvPr/>
              </p:nvSpPr>
              <p:spPr>
                <a:xfrm>
                  <a:off x="98254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9" name="矩形 115"/>
                <p:cNvSpPr/>
                <p:nvPr/>
              </p:nvSpPr>
              <p:spPr>
                <a:xfrm>
                  <a:off x="986256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矩形 116"/>
                <p:cNvSpPr/>
                <p:nvPr/>
              </p:nvSpPr>
              <p:spPr>
                <a:xfrm>
                  <a:off x="990000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1" name="矩形 117"/>
                <p:cNvSpPr/>
                <p:nvPr/>
              </p:nvSpPr>
              <p:spPr>
                <a:xfrm>
                  <a:off x="9937080" y="2748240"/>
                  <a:ext cx="24120" cy="2412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组合 125"/>
              <p:cNvGrpSpPr/>
              <p:nvPr/>
            </p:nvGrpSpPr>
            <p:grpSpPr>
              <a:xfrm>
                <a:off x="7987680" y="2183040"/>
                <a:ext cx="132480" cy="132480"/>
                <a:chOff x="7987680" y="2183040"/>
                <a:chExt cx="132480" cy="132480"/>
              </a:xfrm>
            </p:grpSpPr>
            <p:sp>
              <p:nvSpPr>
                <p:cNvPr id="293" name="矩形 120"/>
                <p:cNvSpPr/>
                <p:nvPr/>
              </p:nvSpPr>
              <p:spPr>
                <a:xfrm>
                  <a:off x="7988040" y="2183400"/>
                  <a:ext cx="132120" cy="132120"/>
                </a:xfrm>
                <a:prstGeom prst="rect">
                  <a:avLst/>
                </a:prstGeom>
                <a:solidFill>
                  <a:srgbClr val="ffffff"/>
                </a:solidFill>
                <a:ln w="19050">
                  <a:solidFill>
                    <a:srgbClr val="d3f0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94" name="直接连接符 122"/>
                <p:cNvCxnSpPr/>
                <p:nvPr/>
              </p:nvCxnSpPr>
              <p:spPr>
                <a:xfrm>
                  <a:off x="7987680" y="2249280"/>
                  <a:ext cx="132840" cy="360"/>
                </a:xfrm>
                <a:prstGeom prst="straightConnector1">
                  <a:avLst/>
                </a:prstGeom>
                <a:ln w="19050">
                  <a:solidFill>
                    <a:srgbClr val="d3f0ff"/>
                  </a:solidFill>
                </a:ln>
              </p:spPr>
            </p:cxnSp>
            <p:cxnSp>
              <p:nvCxnSpPr>
                <p:cNvPr id="295" name="直接连接符 124"/>
                <p:cNvCxnSpPr/>
                <p:nvPr/>
              </p:nvCxnSpPr>
              <p:spPr>
                <a:xfrm>
                  <a:off x="8053920" y="2183040"/>
                  <a:ext cx="360" cy="132840"/>
                </a:xfrm>
                <a:prstGeom prst="straightConnector1">
                  <a:avLst/>
                </a:prstGeom>
                <a:ln w="19050">
                  <a:solidFill>
                    <a:srgbClr val="d3f0ff"/>
                  </a:solidFill>
                </a:ln>
              </p:spPr>
            </p:cxnSp>
          </p:grpSp>
          <p:grpSp>
            <p:nvGrpSpPr>
              <p:cNvPr id="296" name="组合 199"/>
              <p:cNvGrpSpPr/>
              <p:nvPr/>
            </p:nvGrpSpPr>
            <p:grpSpPr>
              <a:xfrm>
                <a:off x="8785440" y="2951280"/>
                <a:ext cx="335160" cy="299160"/>
                <a:chOff x="8785440" y="2951280"/>
                <a:chExt cx="335160" cy="299160"/>
              </a:xfrm>
            </p:grpSpPr>
            <p:grpSp>
              <p:nvGrpSpPr>
                <p:cNvPr id="297" name="组合 156"/>
                <p:cNvGrpSpPr/>
                <p:nvPr/>
              </p:nvGrpSpPr>
              <p:grpSpPr>
                <a:xfrm>
                  <a:off x="8785440" y="2951280"/>
                  <a:ext cx="335160" cy="299160"/>
                  <a:chOff x="8785440" y="2951280"/>
                  <a:chExt cx="335160" cy="299160"/>
                </a:xfrm>
              </p:grpSpPr>
              <p:sp>
                <p:nvSpPr>
                  <p:cNvPr id="298" name="圆角矩形 166"/>
                  <p:cNvSpPr/>
                  <p:nvPr/>
                </p:nvSpPr>
                <p:spPr>
                  <a:xfrm flipH="1">
                    <a:off x="8785080" y="2951280"/>
                    <a:ext cx="335160" cy="235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64b8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9" name="等腰三角形 167"/>
                  <p:cNvSpPr/>
                  <p:nvPr/>
                </p:nvSpPr>
                <p:spPr>
                  <a:xfrm flipH="1" flipV="1">
                    <a:off x="8935200" y="3157560"/>
                    <a:ext cx="66600" cy="9288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64b8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00" name="组合 157"/>
                <p:cNvGrpSpPr/>
                <p:nvPr/>
              </p:nvGrpSpPr>
              <p:grpSpPr>
                <a:xfrm>
                  <a:off x="8870400" y="2987280"/>
                  <a:ext cx="181080" cy="165600"/>
                  <a:chOff x="8870400" y="2987280"/>
                  <a:chExt cx="181080" cy="165600"/>
                </a:xfrm>
              </p:grpSpPr>
              <p:grpSp>
                <p:nvGrpSpPr>
                  <p:cNvPr id="301" name="组合 158"/>
                  <p:cNvGrpSpPr/>
                  <p:nvPr/>
                </p:nvGrpSpPr>
                <p:grpSpPr>
                  <a:xfrm>
                    <a:off x="8964360" y="2987280"/>
                    <a:ext cx="87120" cy="123840"/>
                    <a:chOff x="8964360" y="2987280"/>
                    <a:chExt cx="87120" cy="123840"/>
                  </a:xfrm>
                </p:grpSpPr>
                <p:sp>
                  <p:nvSpPr>
                    <p:cNvPr id="302" name="Freeform 15"/>
                    <p:cNvSpPr/>
                    <p:nvPr/>
                  </p:nvSpPr>
                  <p:spPr>
                    <a:xfrm rot="20581200">
                      <a:off x="8980200" y="2993040"/>
                      <a:ext cx="56160" cy="112320"/>
                    </a:xfrm>
                    <a:custGeom>
                      <a:avLst/>
                      <a:gdLst>
                        <a:gd name="textAreaLeft" fmla="*/ 0 w 56160"/>
                        <a:gd name="textAreaRight" fmla="*/ 56520 w 56160"/>
                        <a:gd name="textAreaTop" fmla="*/ 0 h 112320"/>
                        <a:gd name="textAreaBottom" fmla="*/ 112680 h 1123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3" name="Freeform 16"/>
                    <p:cNvSpPr/>
                    <p:nvPr/>
                  </p:nvSpPr>
                  <p:spPr>
                    <a:xfrm rot="20581200">
                      <a:off x="8975160" y="3012120"/>
                      <a:ext cx="40680" cy="81720"/>
                    </a:xfrm>
                    <a:custGeom>
                      <a:avLst/>
                      <a:gdLst>
                        <a:gd name="textAreaLeft" fmla="*/ 0 w 40680"/>
                        <a:gd name="textAreaRight" fmla="*/ 41040 w 40680"/>
                        <a:gd name="textAreaTop" fmla="*/ 0 h 81720"/>
                        <a:gd name="textAreaBottom" fmla="*/ 82080 h 8172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4" name="Freeform 17"/>
                    <p:cNvSpPr/>
                    <p:nvPr/>
                  </p:nvSpPr>
                  <p:spPr>
                    <a:xfrm rot="20581200">
                      <a:off x="8975880" y="3033000"/>
                      <a:ext cx="22680" cy="46080"/>
                    </a:xfrm>
                    <a:custGeom>
                      <a:avLst/>
                      <a:gdLst>
                        <a:gd name="textAreaLeft" fmla="*/ 0 w 22680"/>
                        <a:gd name="textAreaRight" fmla="*/ 23040 w 226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05" name="组合 159"/>
                  <p:cNvGrpSpPr/>
                  <p:nvPr/>
                </p:nvGrpSpPr>
                <p:grpSpPr>
                  <a:xfrm>
                    <a:off x="8870400" y="3003840"/>
                    <a:ext cx="112680" cy="149040"/>
                    <a:chOff x="8870400" y="3003840"/>
                    <a:chExt cx="112680" cy="149040"/>
                  </a:xfrm>
                </p:grpSpPr>
                <p:sp>
                  <p:nvSpPr>
                    <p:cNvPr id="306" name="Freeform 25"/>
                    <p:cNvSpPr/>
                    <p:nvPr/>
                  </p:nvSpPr>
                  <p:spPr>
                    <a:xfrm>
                      <a:off x="8912160" y="3003840"/>
                      <a:ext cx="29880" cy="4608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7" name="Freeform 26"/>
                    <p:cNvSpPr/>
                    <p:nvPr/>
                  </p:nvSpPr>
                  <p:spPr>
                    <a:xfrm>
                      <a:off x="8952480" y="3100320"/>
                      <a:ext cx="30600" cy="46800"/>
                    </a:xfrm>
                    <a:custGeom>
                      <a:avLst/>
                      <a:gdLst>
                        <a:gd name="textAreaLeft" fmla="*/ 0 w 30600"/>
                        <a:gd name="textAreaRight" fmla="*/ 30960 w 30600"/>
                        <a:gd name="textAreaTop" fmla="*/ 0 h 46800"/>
                        <a:gd name="textAreaBottom" fmla="*/ 47160 h 4680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3400" bIns="23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08" name="Freeform 27"/>
                    <p:cNvSpPr/>
                    <p:nvPr/>
                  </p:nvSpPr>
                  <p:spPr>
                    <a:xfrm>
                      <a:off x="8870400" y="3013920"/>
                      <a:ext cx="93240" cy="138960"/>
                    </a:xfrm>
                    <a:custGeom>
                      <a:avLst/>
                      <a:gdLst>
                        <a:gd name="textAreaLeft" fmla="*/ 0 w 93240"/>
                        <a:gd name="textAreaRight" fmla="*/ 93600 w 93240"/>
                        <a:gd name="textAreaTop" fmla="*/ 0 h 138960"/>
                        <a:gd name="textAreaBottom" fmla="*/ 139320 h 13896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309" name="组合 185"/>
              <p:cNvGrpSpPr/>
              <p:nvPr/>
            </p:nvGrpSpPr>
            <p:grpSpPr>
              <a:xfrm>
                <a:off x="8328600" y="3006360"/>
                <a:ext cx="506880" cy="452520"/>
                <a:chOff x="8328600" y="3006360"/>
                <a:chExt cx="506880" cy="452520"/>
              </a:xfrm>
            </p:grpSpPr>
            <p:grpSp>
              <p:nvGrpSpPr>
                <p:cNvPr id="310" name="组合 133"/>
                <p:cNvGrpSpPr/>
                <p:nvPr/>
              </p:nvGrpSpPr>
              <p:grpSpPr>
                <a:xfrm>
                  <a:off x="8328600" y="3006360"/>
                  <a:ext cx="506880" cy="452520"/>
                  <a:chOff x="8328600" y="3006360"/>
                  <a:chExt cx="506880" cy="452520"/>
                </a:xfrm>
              </p:grpSpPr>
              <p:sp>
                <p:nvSpPr>
                  <p:cNvPr id="311" name="圆角矩形 131"/>
                  <p:cNvSpPr/>
                  <p:nvPr/>
                </p:nvSpPr>
                <p:spPr>
                  <a:xfrm>
                    <a:off x="8328600" y="3006360"/>
                    <a:ext cx="506880" cy="3567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cff"/>
                  </a:solidFill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2" name="等腰三角形 132"/>
                  <p:cNvSpPr/>
                  <p:nvPr/>
                </p:nvSpPr>
                <p:spPr>
                  <a:xfrm flipV="1">
                    <a:off x="8507520" y="3318480"/>
                    <a:ext cx="101160" cy="14040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00ac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5560" bIns="25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13" name="组合 153"/>
                <p:cNvGrpSpPr/>
                <p:nvPr/>
              </p:nvGrpSpPr>
              <p:grpSpPr>
                <a:xfrm>
                  <a:off x="8456040" y="3061080"/>
                  <a:ext cx="274320" cy="250200"/>
                  <a:chOff x="8456040" y="3061080"/>
                  <a:chExt cx="274320" cy="250200"/>
                </a:xfrm>
              </p:grpSpPr>
              <p:grpSp>
                <p:nvGrpSpPr>
                  <p:cNvPr id="314" name="组合 145"/>
                  <p:cNvGrpSpPr/>
                  <p:nvPr/>
                </p:nvGrpSpPr>
                <p:grpSpPr>
                  <a:xfrm>
                    <a:off x="8598240" y="3061080"/>
                    <a:ext cx="132120" cy="187200"/>
                    <a:chOff x="8598240" y="3061080"/>
                    <a:chExt cx="132120" cy="187200"/>
                  </a:xfrm>
                </p:grpSpPr>
                <p:sp>
                  <p:nvSpPr>
                    <p:cNvPr id="315" name="Freeform 15"/>
                    <p:cNvSpPr/>
                    <p:nvPr/>
                  </p:nvSpPr>
                  <p:spPr>
                    <a:xfrm rot="20581200">
                      <a:off x="8622000" y="3069720"/>
                      <a:ext cx="84960" cy="169920"/>
                    </a:xfrm>
                    <a:custGeom>
                      <a:avLst/>
                      <a:gdLst>
                        <a:gd name="textAreaLeft" fmla="*/ 0 w 84960"/>
                        <a:gd name="textAreaRight" fmla="*/ 85320 w 84960"/>
                        <a:gd name="textAreaTop" fmla="*/ 0 h 169920"/>
                        <a:gd name="textAreaBottom" fmla="*/ 170280 h 1699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6" name="Freeform 16"/>
                    <p:cNvSpPr/>
                    <p:nvPr/>
                  </p:nvSpPr>
                  <p:spPr>
                    <a:xfrm rot="20581200">
                      <a:off x="8614800" y="3098520"/>
                      <a:ext cx="61920" cy="123840"/>
                    </a:xfrm>
                    <a:custGeom>
                      <a:avLst/>
                      <a:gdLst>
                        <a:gd name="textAreaLeft" fmla="*/ 0 w 61920"/>
                        <a:gd name="textAreaRight" fmla="*/ 62280 w 619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Freeform 17"/>
                    <p:cNvSpPr/>
                    <p:nvPr/>
                  </p:nvSpPr>
                  <p:spPr>
                    <a:xfrm rot="20581200">
                      <a:off x="8615880" y="3129840"/>
                      <a:ext cx="34560" cy="69480"/>
                    </a:xfrm>
                    <a:custGeom>
                      <a:avLst/>
                      <a:gdLst>
                        <a:gd name="textAreaLeft" fmla="*/ 0 w 34560"/>
                        <a:gd name="textAreaRight" fmla="*/ 34920 w 34560"/>
                        <a:gd name="textAreaTop" fmla="*/ 0 h 69480"/>
                        <a:gd name="textAreaBottom" fmla="*/ 69840 h 6948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组合 152"/>
                  <p:cNvGrpSpPr/>
                  <p:nvPr/>
                </p:nvGrpSpPr>
                <p:grpSpPr>
                  <a:xfrm>
                    <a:off x="8456040" y="3086280"/>
                    <a:ext cx="170640" cy="225000"/>
                    <a:chOff x="8456040" y="3086280"/>
                    <a:chExt cx="170640" cy="225000"/>
                  </a:xfrm>
                </p:grpSpPr>
                <p:sp>
                  <p:nvSpPr>
                    <p:cNvPr id="319" name="Freeform 25"/>
                    <p:cNvSpPr/>
                    <p:nvPr/>
                  </p:nvSpPr>
                  <p:spPr>
                    <a:xfrm>
                      <a:off x="8519400" y="3086280"/>
                      <a:ext cx="45360" cy="7020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70200"/>
                        <a:gd name="textAreaBottom" fmla="*/ 70560 h 7020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5280" bIns="35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0" name="Freeform 26"/>
                    <p:cNvSpPr/>
                    <p:nvPr/>
                  </p:nvSpPr>
                  <p:spPr>
                    <a:xfrm>
                      <a:off x="8580240" y="3232080"/>
                      <a:ext cx="46440" cy="70920"/>
                    </a:xfrm>
                    <a:custGeom>
                      <a:avLst/>
                      <a:gdLst>
                        <a:gd name="textAreaLeft" fmla="*/ 0 w 46440"/>
                        <a:gd name="textAreaRight" fmla="*/ 46800 w 4644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1" name="Freeform 27"/>
                    <p:cNvSpPr/>
                    <p:nvPr/>
                  </p:nvSpPr>
                  <p:spPr>
                    <a:xfrm>
                      <a:off x="8456040" y="3101040"/>
                      <a:ext cx="141120" cy="21024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10240"/>
                        <a:gd name="textAreaBottom" fmla="*/ 210600 h 2102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322" name="组合 201"/>
              <p:cNvGrpSpPr/>
              <p:nvPr/>
            </p:nvGrpSpPr>
            <p:grpSpPr>
              <a:xfrm>
                <a:off x="8492760" y="2739240"/>
                <a:ext cx="286200" cy="255600"/>
                <a:chOff x="8492760" y="2739240"/>
                <a:chExt cx="286200" cy="255600"/>
              </a:xfrm>
            </p:grpSpPr>
            <p:grpSp>
              <p:nvGrpSpPr>
                <p:cNvPr id="323" name="组合 200"/>
                <p:cNvGrpSpPr/>
                <p:nvPr/>
              </p:nvGrpSpPr>
              <p:grpSpPr>
                <a:xfrm>
                  <a:off x="8492760" y="2739240"/>
                  <a:ext cx="286200" cy="255600"/>
                  <a:chOff x="8492760" y="2739240"/>
                  <a:chExt cx="286200" cy="255600"/>
                </a:xfrm>
              </p:grpSpPr>
              <p:sp>
                <p:nvSpPr>
                  <p:cNvPr id="324" name="圆角矩形 197"/>
                  <p:cNvSpPr/>
                  <p:nvPr/>
                </p:nvSpPr>
                <p:spPr>
                  <a:xfrm>
                    <a:off x="8492760" y="2739240"/>
                    <a:ext cx="286200" cy="20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bc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5" name="等腰三角形 198"/>
                  <p:cNvSpPr/>
                  <p:nvPr/>
                </p:nvSpPr>
                <p:spPr>
                  <a:xfrm flipV="1">
                    <a:off x="8593920" y="2915640"/>
                    <a:ext cx="56880" cy="7920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fbc00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5040" bIns="-5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26" name="组合 188"/>
                <p:cNvGrpSpPr/>
                <p:nvPr/>
              </p:nvGrpSpPr>
              <p:grpSpPr>
                <a:xfrm>
                  <a:off x="8565120" y="2770200"/>
                  <a:ext cx="154800" cy="141120"/>
                  <a:chOff x="8565120" y="2770200"/>
                  <a:chExt cx="154800" cy="141120"/>
                </a:xfrm>
              </p:grpSpPr>
              <p:grpSp>
                <p:nvGrpSpPr>
                  <p:cNvPr id="327" name="组合 189"/>
                  <p:cNvGrpSpPr/>
                  <p:nvPr/>
                </p:nvGrpSpPr>
                <p:grpSpPr>
                  <a:xfrm>
                    <a:off x="8645400" y="2770200"/>
                    <a:ext cx="74520" cy="105840"/>
                    <a:chOff x="8645400" y="2770200"/>
                    <a:chExt cx="74520" cy="105840"/>
                  </a:xfrm>
                </p:grpSpPr>
                <p:sp>
                  <p:nvSpPr>
                    <p:cNvPr id="328" name="Freeform 15"/>
                    <p:cNvSpPr/>
                    <p:nvPr/>
                  </p:nvSpPr>
                  <p:spPr>
                    <a:xfrm rot="20581200">
                      <a:off x="8659080" y="2774880"/>
                      <a:ext cx="47880" cy="96120"/>
                    </a:xfrm>
                    <a:custGeom>
                      <a:avLst/>
                      <a:gdLst>
                        <a:gd name="textAreaLeft" fmla="*/ 0 w 47880"/>
                        <a:gd name="textAreaRight" fmla="*/ 48240 w 47880"/>
                        <a:gd name="textAreaTop" fmla="*/ 0 h 96120"/>
                        <a:gd name="textAreaBottom" fmla="*/ 96480 h 96120"/>
                      </a:gdLst>
                      <a:ahLst/>
                      <a:rect l="textAreaLeft" t="textAreaTop" r="textAreaRight" b="textAreaBottom"/>
                      <a:pathLst>
                        <a:path w="74" h="147">
                          <a:moveTo>
                            <a:pt x="6" y="0"/>
                          </a:moveTo>
                          <a:cubicBezTo>
                            <a:pt x="4" y="0"/>
                            <a:pt x="2" y="1"/>
                            <a:pt x="0" y="1"/>
                          </a:cubicBezTo>
                          <a:cubicBezTo>
                            <a:pt x="35" y="4"/>
                            <a:pt x="63" y="35"/>
                            <a:pt x="63" y="74"/>
                          </a:cubicBezTo>
                          <a:cubicBezTo>
                            <a:pt x="63" y="112"/>
                            <a:pt x="35" y="144"/>
                            <a:pt x="0" y="147"/>
                          </a:cubicBezTo>
                          <a:cubicBezTo>
                            <a:pt x="2" y="147"/>
                            <a:pt x="4" y="147"/>
                            <a:pt x="6" y="147"/>
                          </a:cubicBezTo>
                          <a:cubicBezTo>
                            <a:pt x="44" y="147"/>
                            <a:pt x="74" y="114"/>
                            <a:pt x="74" y="74"/>
                          </a:cubicBezTo>
                          <a:cubicBezTo>
                            <a:pt x="74" y="33"/>
                            <a:pt x="44" y="0"/>
                            <a:pt x="6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29" name="Freeform 16"/>
                    <p:cNvSpPr/>
                    <p:nvPr/>
                  </p:nvSpPr>
                  <p:spPr>
                    <a:xfrm rot="20581200">
                      <a:off x="8654760" y="2791080"/>
                      <a:ext cx="34920" cy="69840"/>
                    </a:xfrm>
                    <a:custGeom>
                      <a:avLst/>
                      <a:gdLst>
                        <a:gd name="textAreaLeft" fmla="*/ 0 w 34920"/>
                        <a:gd name="textAreaRight" fmla="*/ 35280 w 349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54" h="107">
                          <a:moveTo>
                            <a:pt x="4" y="0"/>
                          </a:moveTo>
                          <a:cubicBezTo>
                            <a:pt x="2" y="0"/>
                            <a:pt x="1" y="0"/>
                            <a:pt x="0" y="1"/>
                          </a:cubicBezTo>
                          <a:cubicBezTo>
                            <a:pt x="25" y="3"/>
                            <a:pt x="45" y="26"/>
                            <a:pt x="45" y="54"/>
                          </a:cubicBezTo>
                          <a:cubicBezTo>
                            <a:pt x="45" y="82"/>
                            <a:pt x="25" y="105"/>
                            <a:pt x="0" y="107"/>
                          </a:cubicBezTo>
                          <a:cubicBezTo>
                            <a:pt x="1" y="107"/>
                            <a:pt x="2" y="107"/>
                            <a:pt x="4" y="107"/>
                          </a:cubicBezTo>
                          <a:cubicBezTo>
                            <a:pt x="31" y="107"/>
                            <a:pt x="54" y="83"/>
                            <a:pt x="54" y="54"/>
                          </a:cubicBezTo>
                          <a:cubicBezTo>
                            <a:pt x="54" y="24"/>
                            <a:pt x="31" y="0"/>
                            <a:pt x="4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0" name="Freeform 17"/>
                    <p:cNvSpPr/>
                    <p:nvPr/>
                  </p:nvSpPr>
                  <p:spPr>
                    <a:xfrm rot="20581200">
                      <a:off x="8655120" y="2809080"/>
                      <a:ext cx="19440" cy="39240"/>
                    </a:xfrm>
                    <a:custGeom>
                      <a:avLst/>
                      <a:gdLst>
                        <a:gd name="textAreaLeft" fmla="*/ 0 w 19440"/>
                        <a:gd name="textAreaRight" fmla="*/ 19800 w 19440"/>
                        <a:gd name="textAreaTop" fmla="*/ 0 h 39240"/>
                        <a:gd name="textAreaBottom" fmla="*/ 39600 h 39240"/>
                      </a:gdLst>
                      <a:ahLst/>
                      <a:rect l="textAreaLeft" t="textAreaTop" r="textAreaRight" b="textAreaBottom"/>
                      <a:pathLst>
                        <a:path w="30" h="60">
                          <a:moveTo>
                            <a:pt x="2" y="0"/>
                          </a:moveTo>
                          <a:cubicBezTo>
                            <a:pt x="1" y="0"/>
                            <a:pt x="0" y="0"/>
                            <a:pt x="0" y="0"/>
                          </a:cubicBezTo>
                          <a:cubicBezTo>
                            <a:pt x="14" y="1"/>
                            <a:pt x="25" y="14"/>
                            <a:pt x="25" y="30"/>
                          </a:cubicBezTo>
                          <a:cubicBezTo>
                            <a:pt x="25" y="46"/>
                            <a:pt x="14" y="59"/>
                            <a:pt x="0" y="60"/>
                          </a:cubicBezTo>
                          <a:cubicBezTo>
                            <a:pt x="0" y="60"/>
                            <a:pt x="1" y="60"/>
                            <a:pt x="2" y="60"/>
                          </a:cubicBezTo>
                          <a:cubicBezTo>
                            <a:pt x="18" y="60"/>
                            <a:pt x="30" y="47"/>
                            <a:pt x="30" y="30"/>
                          </a:cubicBezTo>
                          <a:cubicBezTo>
                            <a:pt x="30" y="13"/>
                            <a:pt x="18" y="0"/>
                            <a:pt x="2" y="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19800" bIns="19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31" name="组合 190"/>
                  <p:cNvGrpSpPr/>
                  <p:nvPr/>
                </p:nvGrpSpPr>
                <p:grpSpPr>
                  <a:xfrm>
                    <a:off x="8565120" y="2784240"/>
                    <a:ext cx="96480" cy="127080"/>
                    <a:chOff x="8565120" y="2784240"/>
                    <a:chExt cx="96480" cy="127080"/>
                  </a:xfrm>
                </p:grpSpPr>
                <p:sp>
                  <p:nvSpPr>
                    <p:cNvPr id="332" name="Freeform 25"/>
                    <p:cNvSpPr/>
                    <p:nvPr/>
                  </p:nvSpPr>
                  <p:spPr>
                    <a:xfrm>
                      <a:off x="8600760" y="2784240"/>
                      <a:ext cx="25560" cy="39600"/>
                    </a:xfrm>
                    <a:custGeom>
                      <a:avLst/>
                      <a:gdLst>
                        <a:gd name="textAreaLeft" fmla="*/ 0 w 25560"/>
                        <a:gd name="textAreaRight" fmla="*/ 25920 w 2556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19800" bIns="19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3" name="Freeform 26"/>
                    <p:cNvSpPr/>
                    <p:nvPr/>
                  </p:nvSpPr>
                  <p:spPr>
                    <a:xfrm>
                      <a:off x="8635320" y="2866680"/>
                      <a:ext cx="26280" cy="39960"/>
                    </a:xfrm>
                    <a:custGeom>
                      <a:avLst/>
                      <a:gdLst>
                        <a:gd name="textAreaLeft" fmla="*/ 0 w 26280"/>
                        <a:gd name="textAreaRight" fmla="*/ 26640 w 2628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0160" bIns="20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4" name="Freeform 27"/>
                    <p:cNvSpPr/>
                    <p:nvPr/>
                  </p:nvSpPr>
                  <p:spPr>
                    <a:xfrm>
                      <a:off x="8565120" y="2792880"/>
                      <a:ext cx="79560" cy="118440"/>
                    </a:xfrm>
                    <a:custGeom>
                      <a:avLst/>
                      <a:gdLst>
                        <a:gd name="textAreaLeft" fmla="*/ 0 w 79560"/>
                        <a:gd name="textAreaRight" fmla="*/ 79920 w 79560"/>
                        <a:gd name="textAreaTop" fmla="*/ 0 h 118440"/>
                        <a:gd name="textAreaBottom" fmla="*/ 118800 h 1184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5" name="组合 143"/>
          <p:cNvGrpSpPr/>
          <p:nvPr/>
        </p:nvGrpSpPr>
        <p:grpSpPr>
          <a:xfrm>
            <a:off x="-1257120" y="5783760"/>
            <a:ext cx="1073880" cy="1073880"/>
            <a:chOff x="-1257120" y="5783760"/>
            <a:chExt cx="1073880" cy="1073880"/>
          </a:xfrm>
        </p:grpSpPr>
        <p:sp>
          <p:nvSpPr>
            <p:cNvPr id="336" name="椭圆 144"/>
            <p:cNvSpPr/>
            <p:nvPr/>
          </p:nvSpPr>
          <p:spPr>
            <a:xfrm>
              <a:off x="-1257120" y="5783760"/>
              <a:ext cx="1073880" cy="10738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37" name="组合 146"/>
            <p:cNvGrpSpPr/>
            <p:nvPr/>
          </p:nvGrpSpPr>
          <p:grpSpPr>
            <a:xfrm>
              <a:off x="-1018800" y="6032880"/>
              <a:ext cx="596880" cy="575640"/>
              <a:chOff x="-1018800" y="6032880"/>
              <a:chExt cx="596880" cy="575640"/>
            </a:xfrm>
          </p:grpSpPr>
          <p:sp>
            <p:nvSpPr>
              <p:cNvPr id="338" name="椭圆 147"/>
              <p:cNvSpPr/>
              <p:nvPr/>
            </p:nvSpPr>
            <p:spPr>
              <a:xfrm flipH="1">
                <a:off x="-881280" y="6032880"/>
                <a:ext cx="320760" cy="324000"/>
              </a:xfrm>
              <a:prstGeom prst="ellipse">
                <a:avLst/>
              </a:pr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任意多边形 148"/>
              <p:cNvSpPr/>
              <p:nvPr/>
            </p:nvSpPr>
            <p:spPr>
              <a:xfrm flipH="1">
                <a:off x="-1018800" y="6363720"/>
                <a:ext cx="596880" cy="244800"/>
              </a:xfrm>
              <a:custGeom>
                <a:avLst/>
                <a:gdLst>
                  <a:gd name="textAreaLeft" fmla="*/ -360 w 596880"/>
                  <a:gd name="textAreaRight" fmla="*/ 596880 w 5968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2596834" h="841375">
                    <a:moveTo>
                      <a:pt x="1298417" y="0"/>
                    </a:moveTo>
                    <a:cubicBezTo>
                      <a:pt x="1930556" y="0"/>
                      <a:pt x="2457966" y="311264"/>
                      <a:pt x="2579941" y="725047"/>
                    </a:cubicBezTo>
                    <a:lnTo>
                      <a:pt x="2596834" y="841375"/>
                    </a:lnTo>
                    <a:lnTo>
                      <a:pt x="0" y="841375"/>
                    </a:lnTo>
                    <a:lnTo>
                      <a:pt x="16893" y="725047"/>
                    </a:lnTo>
                    <a:cubicBezTo>
                      <a:pt x="138869" y="311264"/>
                      <a:pt x="666279" y="0"/>
                      <a:pt x="1298417" y="0"/>
                    </a:cubicBezTo>
                    <a:close/>
                  </a:path>
                </a:pathLst>
              </a:custGeom>
              <a:noFill/>
              <a:ln w="9525">
                <a:solidFill>
                  <a:srgbClr val="59b8d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40" name="AutoShape 3"/>
          <p:cNvSpPr/>
          <p:nvPr/>
        </p:nvSpPr>
        <p:spPr>
          <a:xfrm>
            <a:off x="-2932200" y="6357960"/>
            <a:ext cx="1436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5"/>
          <p:cNvSpPr/>
          <p:nvPr/>
        </p:nvSpPr>
        <p:spPr>
          <a:xfrm>
            <a:off x="-2938320" y="6351480"/>
            <a:ext cx="1449000" cy="14457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-2419200" y="6691320"/>
            <a:ext cx="423360" cy="434520"/>
          </a:xfrm>
          <a:prstGeom prst="ellipse">
            <a:avLst/>
          </a:prstGeom>
          <a:noFill/>
          <a:ln w="12700">
            <a:solidFill>
              <a:srgbClr val="59b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7"/>
          <p:cNvSpPr/>
          <p:nvPr/>
        </p:nvSpPr>
        <p:spPr>
          <a:xfrm>
            <a:off x="-2611440" y="7139160"/>
            <a:ext cx="807840" cy="331560"/>
          </a:xfrm>
          <a:custGeom>
            <a:avLst/>
            <a:gdLst>
              <a:gd name="textAreaLeft" fmla="*/ 0 w 807840"/>
              <a:gd name="textAreaRight" fmla="*/ 808200 w 80784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1008" h="416">
                <a:moveTo>
                  <a:pt x="504" y="0"/>
                </a:moveTo>
                <a:cubicBezTo>
                  <a:pt x="259" y="0"/>
                  <a:pt x="54" y="154"/>
                  <a:pt x="7" y="359"/>
                </a:cubicBezTo>
                <a:lnTo>
                  <a:pt x="0" y="416"/>
                </a:lnTo>
                <a:lnTo>
                  <a:pt x="1008" y="416"/>
                </a:lnTo>
                <a:lnTo>
                  <a:pt x="1002" y="359"/>
                </a:lnTo>
                <a:cubicBezTo>
                  <a:pt x="955" y="154"/>
                  <a:pt x="750" y="0"/>
                  <a:pt x="504" y="0"/>
                </a:cubicBezTo>
                <a:close/>
              </a:path>
            </a:pathLst>
          </a:custGeom>
          <a:noFill/>
          <a:ln w="12700">
            <a:solidFill>
              <a:srgbClr val="59b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69"/>
          <p:cNvGrpSpPr/>
          <p:nvPr/>
        </p:nvGrpSpPr>
        <p:grpSpPr>
          <a:xfrm>
            <a:off x="4177440" y="2358360"/>
            <a:ext cx="2746440" cy="2177640"/>
            <a:chOff x="4177440" y="2358360"/>
            <a:chExt cx="2746440" cy="2177640"/>
          </a:xfrm>
        </p:grpSpPr>
        <p:grpSp>
          <p:nvGrpSpPr>
            <p:cNvPr id="345" name="组合 67"/>
            <p:cNvGrpSpPr/>
            <p:nvPr/>
          </p:nvGrpSpPr>
          <p:grpSpPr>
            <a:xfrm>
              <a:off x="4345560" y="2358360"/>
              <a:ext cx="2578320" cy="2089440"/>
              <a:chOff x="4345560" y="2358360"/>
              <a:chExt cx="2578320" cy="2089440"/>
            </a:xfrm>
          </p:grpSpPr>
          <p:grpSp>
            <p:nvGrpSpPr>
              <p:cNvPr id="346" name="组合 63"/>
              <p:cNvGrpSpPr/>
              <p:nvPr/>
            </p:nvGrpSpPr>
            <p:grpSpPr>
              <a:xfrm>
                <a:off x="4399560" y="2358360"/>
                <a:ext cx="2473200" cy="1827000"/>
                <a:chOff x="4399560" y="2358360"/>
                <a:chExt cx="2473200" cy="1827000"/>
              </a:xfrm>
            </p:grpSpPr>
            <p:grpSp>
              <p:nvGrpSpPr>
                <p:cNvPr id="347" name="组合 60"/>
                <p:cNvGrpSpPr/>
                <p:nvPr/>
              </p:nvGrpSpPr>
              <p:grpSpPr>
                <a:xfrm>
                  <a:off x="4399560" y="2358360"/>
                  <a:ext cx="2218320" cy="1827000"/>
                  <a:chOff x="4399560" y="2358360"/>
                  <a:chExt cx="2218320" cy="1827000"/>
                </a:xfrm>
              </p:grpSpPr>
              <p:grpSp>
                <p:nvGrpSpPr>
                  <p:cNvPr id="348" name="组合 49"/>
                  <p:cNvGrpSpPr/>
                  <p:nvPr/>
                </p:nvGrpSpPr>
                <p:grpSpPr>
                  <a:xfrm>
                    <a:off x="4870440" y="2358360"/>
                    <a:ext cx="1747080" cy="1513440"/>
                    <a:chOff x="4870440" y="2358360"/>
                    <a:chExt cx="1747080" cy="1513440"/>
                  </a:xfrm>
                </p:grpSpPr>
                <p:grpSp>
                  <p:nvGrpSpPr>
                    <p:cNvPr id="349" name="组合 51"/>
                    <p:cNvGrpSpPr/>
                    <p:nvPr/>
                  </p:nvGrpSpPr>
                  <p:grpSpPr>
                    <a:xfrm>
                      <a:off x="5783760" y="2463840"/>
                      <a:ext cx="833760" cy="1407960"/>
                      <a:chOff x="5783760" y="2463840"/>
                      <a:chExt cx="833760" cy="1407960"/>
                    </a:xfrm>
                  </p:grpSpPr>
                  <p:grpSp>
                    <p:nvGrpSpPr>
                      <p:cNvPr id="350" name="组合 48"/>
                      <p:cNvGrpSpPr/>
                      <p:nvPr/>
                    </p:nvGrpSpPr>
                    <p:grpSpPr>
                      <a:xfrm>
                        <a:off x="6408720" y="2550600"/>
                        <a:ext cx="208800" cy="1321200"/>
                        <a:chOff x="6408720" y="2550600"/>
                        <a:chExt cx="208800" cy="1321200"/>
                      </a:xfrm>
                    </p:grpSpPr>
                    <p:sp>
                      <p:nvSpPr>
                        <p:cNvPr id="351" name="左中括号 23"/>
                        <p:cNvSpPr/>
                        <p:nvPr/>
                      </p:nvSpPr>
                      <p:spPr>
                        <a:xfrm rot="5400000">
                          <a:off x="6476040" y="2484000"/>
                          <a:ext cx="74880" cy="208080"/>
                        </a:xfrm>
                        <a:prstGeom prst="leftBracket">
                          <a:avLst>
                            <a:gd name="adj" fmla="val 138193"/>
                          </a:avLst>
                        </a:prstGeom>
                        <a:noFill/>
                        <a:ln w="19050">
                          <a:solidFill>
                            <a:srgbClr val="454c5c"/>
                          </a:solidFill>
                        </a:ln>
                      </p:spPr>
                      <p:style>
                        <a:lnRef idx="1">
                          <a:schemeClr val="accent1"/>
                        </a:lnRef>
                        <a:fillRef idx="0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cxnSp>
                      <p:nvCxnSpPr>
                        <p:cNvPr id="352" name="直接连接符 47"/>
                        <p:cNvCxnSpPr/>
                        <p:nvPr/>
                      </p:nvCxnSpPr>
                      <p:spPr>
                        <a:xfrm>
                          <a:off x="6408720" y="262332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  <p:cxnSp>
                      <p:nvCxnSpPr>
                        <p:cNvPr id="353" name="直接连接符 127"/>
                        <p:cNvCxnSpPr/>
                        <p:nvPr/>
                      </p:nvCxnSpPr>
                      <p:spPr>
                        <a:xfrm>
                          <a:off x="6617520" y="2623320"/>
                          <a:ext cx="360" cy="12488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</p:grpSp>
                  <p:grpSp>
                    <p:nvGrpSpPr>
                      <p:cNvPr id="354" name="组合 129"/>
                      <p:cNvGrpSpPr/>
                      <p:nvPr/>
                    </p:nvGrpSpPr>
                    <p:grpSpPr>
                      <a:xfrm>
                        <a:off x="5991840" y="2552040"/>
                        <a:ext cx="208800" cy="1216800"/>
                        <a:chOff x="5991840" y="2552040"/>
                        <a:chExt cx="208800" cy="1216800"/>
                      </a:xfrm>
                    </p:grpSpPr>
                    <p:sp>
                      <p:nvSpPr>
                        <p:cNvPr id="355" name="左中括号 130"/>
                        <p:cNvSpPr/>
                        <p:nvPr/>
                      </p:nvSpPr>
                      <p:spPr>
                        <a:xfrm rot="5400000">
                          <a:off x="6059160" y="2485440"/>
                          <a:ext cx="74880" cy="208080"/>
                        </a:xfrm>
                        <a:prstGeom prst="leftBracket">
                          <a:avLst>
                            <a:gd name="adj" fmla="val 138193"/>
                          </a:avLst>
                        </a:prstGeom>
                        <a:noFill/>
                        <a:ln w="19050">
                          <a:solidFill>
                            <a:srgbClr val="454c5c"/>
                          </a:solidFill>
                        </a:ln>
                      </p:spPr>
                      <p:style>
                        <a:lnRef idx="1">
                          <a:schemeClr val="accent1"/>
                        </a:lnRef>
                        <a:fillRef idx="0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cxnSp>
                      <p:nvCxnSpPr>
                        <p:cNvPr id="356" name="直接连接符 134"/>
                        <p:cNvCxnSpPr/>
                        <p:nvPr/>
                      </p:nvCxnSpPr>
                      <p:spPr>
                        <a:xfrm>
                          <a:off x="5991840" y="262476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  <p:cxnSp>
                      <p:nvCxnSpPr>
                        <p:cNvPr id="357" name="直接连接符 135"/>
                        <p:cNvCxnSpPr/>
                        <p:nvPr/>
                      </p:nvCxnSpPr>
                      <p:spPr>
                        <a:xfrm>
                          <a:off x="6200640" y="2624760"/>
                          <a:ext cx="360" cy="1144440"/>
                        </a:xfrm>
                        <a:prstGeom prst="straightConnector1">
                          <a:avLst/>
                        </a:prstGeom>
                        <a:ln w="19050">
                          <a:solidFill>
                            <a:srgbClr val="454c5c"/>
                          </a:solidFill>
                        </a:ln>
                      </p:spPr>
                    </p:cxnSp>
                  </p:grpSp>
                  <p:sp>
                    <p:nvSpPr>
                      <p:cNvPr id="358" name="左中括号 136"/>
                      <p:cNvSpPr/>
                      <p:nvPr/>
                    </p:nvSpPr>
                    <p:spPr>
                      <a:xfrm flipV="1" rot="16200000">
                        <a:off x="6268320" y="3699720"/>
                        <a:ext cx="74880" cy="208080"/>
                      </a:xfrm>
                      <a:prstGeom prst="leftBracket">
                        <a:avLst>
                          <a:gd name="adj" fmla="val 138193"/>
                        </a:avLst>
                      </a:prstGeom>
                      <a:noFill/>
                      <a:ln w="19050">
                        <a:solidFill>
                          <a:srgbClr val="454c5c"/>
                        </a:solidFill>
                      </a:ln>
                    </p:spPr>
                    <p:style>
                      <a:lnRef idx="1">
                        <a:schemeClr val="accent1"/>
                      </a:lnRef>
                      <a:fillRef idx="0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9" name="左中括号 137"/>
                      <p:cNvSpPr/>
                      <p:nvPr/>
                    </p:nvSpPr>
                    <p:spPr>
                      <a:xfrm flipV="1" rot="16200000">
                        <a:off x="5850720" y="3699720"/>
                        <a:ext cx="74880" cy="208080"/>
                      </a:xfrm>
                      <a:prstGeom prst="leftBracket">
                        <a:avLst>
                          <a:gd name="adj" fmla="val 138193"/>
                        </a:avLst>
                      </a:prstGeom>
                      <a:noFill/>
                      <a:ln w="19050">
                        <a:solidFill>
                          <a:srgbClr val="454c5c"/>
                        </a:solidFill>
                      </a:ln>
                    </p:spPr>
                    <p:style>
                      <a:lnRef idx="1">
                        <a:schemeClr val="accent1"/>
                      </a:lnRef>
                      <a:fillRef idx="0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360" name="直接连接符 50"/>
                      <p:cNvCxnSpPr/>
                      <p:nvPr/>
                    </p:nvCxnSpPr>
                    <p:spPr>
                      <a:xfrm flipV="1">
                        <a:off x="5783760" y="2463840"/>
                        <a:ext cx="8640" cy="130464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454c5c"/>
                        </a:solidFill>
                      </a:ln>
                    </p:spPr>
                  </p:cxnSp>
                </p:grpSp>
                <p:sp>
                  <p:nvSpPr>
                    <p:cNvPr id="361" name="左中括号 52"/>
                    <p:cNvSpPr/>
                    <p:nvPr/>
                  </p:nvSpPr>
                  <p:spPr>
                    <a:xfrm flipH="1" rot="16200000">
                      <a:off x="5275440" y="1952640"/>
                      <a:ext cx="109440" cy="920520"/>
                    </a:xfrm>
                    <a:prstGeom prst="leftBracket">
                      <a:avLst>
                        <a:gd name="adj" fmla="val 70169"/>
                      </a:avLst>
                    </a:prstGeom>
                    <a:noFill/>
                    <a:ln w="19050">
                      <a:solidFill>
                        <a:srgbClr val="454c5c"/>
                      </a:solidFill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62" name="左中括号 57"/>
                  <p:cNvSpPr/>
                  <p:nvPr/>
                </p:nvSpPr>
                <p:spPr>
                  <a:xfrm rot="16200000">
                    <a:off x="5630760" y="3036600"/>
                    <a:ext cx="157680" cy="1816560"/>
                  </a:xfrm>
                  <a:prstGeom prst="leftBracket">
                    <a:avLst>
                      <a:gd name="adj" fmla="val 81588"/>
                    </a:avLst>
                  </a:prstGeom>
                  <a:noFill/>
                  <a:ln w="19050">
                    <a:solidFill>
                      <a:srgbClr val="454c5c"/>
                    </a:solidFill>
                  </a:ln>
                </p:spPr>
                <p:style>
                  <a:lnRef idx="1">
                    <a:schemeClr val="accent1"/>
                  </a:lnRef>
                  <a:fillRef idx="0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左中括号 172"/>
                  <p:cNvSpPr/>
                  <p:nvPr/>
                </p:nvSpPr>
                <p:spPr>
                  <a:xfrm flipV="1" rot="5400000">
                    <a:off x="4867200" y="3560040"/>
                    <a:ext cx="157680" cy="1092960"/>
                  </a:xfrm>
                  <a:prstGeom prst="leftBracket">
                    <a:avLst>
                      <a:gd name="adj" fmla="val 81588"/>
                    </a:avLst>
                  </a:prstGeom>
                  <a:noFill/>
                  <a:ln w="19050">
                    <a:solidFill>
                      <a:srgbClr val="454c5c"/>
                    </a:solidFill>
                  </a:ln>
                </p:spPr>
                <p:style>
                  <a:lnRef idx="1">
                    <a:schemeClr val="accent1"/>
                  </a:lnRef>
                  <a:fillRef idx="0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64" name="任意多边形 62"/>
                <p:cNvSpPr/>
                <p:nvPr/>
              </p:nvSpPr>
              <p:spPr>
                <a:xfrm>
                  <a:off x="6619320" y="3873960"/>
                  <a:ext cx="253440" cy="29700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278611" h="326231">
                      <a:moveTo>
                        <a:pt x="0" y="0"/>
                      </a:moveTo>
                      <a:cubicBezTo>
                        <a:pt x="794" y="16669"/>
                        <a:pt x="538" y="33421"/>
                        <a:pt x="2381" y="50006"/>
                      </a:cubicBezTo>
                      <a:cubicBezTo>
                        <a:pt x="3696" y="61837"/>
                        <a:pt x="10354" y="69109"/>
                        <a:pt x="16669" y="78581"/>
                      </a:cubicBezTo>
                      <a:cubicBezTo>
                        <a:pt x="18256" y="80962"/>
                        <a:pt x="20526" y="83010"/>
                        <a:pt x="21431" y="85725"/>
                      </a:cubicBezTo>
                      <a:cubicBezTo>
                        <a:pt x="27099" y="102727"/>
                        <a:pt x="22017" y="97227"/>
                        <a:pt x="33337" y="104775"/>
                      </a:cubicBezTo>
                      <a:cubicBezTo>
                        <a:pt x="46041" y="123830"/>
                        <a:pt x="29365" y="100802"/>
                        <a:pt x="45244" y="116681"/>
                      </a:cubicBezTo>
                      <a:cubicBezTo>
                        <a:pt x="59008" y="130445"/>
                        <a:pt x="39587" y="117309"/>
                        <a:pt x="57150" y="130969"/>
                      </a:cubicBezTo>
                      <a:cubicBezTo>
                        <a:pt x="61668" y="134483"/>
                        <a:pt x="66675" y="137319"/>
                        <a:pt x="71437" y="140494"/>
                      </a:cubicBezTo>
                      <a:lnTo>
                        <a:pt x="78581" y="145256"/>
                      </a:lnTo>
                      <a:cubicBezTo>
                        <a:pt x="86288" y="155532"/>
                        <a:pt x="83577" y="154875"/>
                        <a:pt x="95250" y="159544"/>
                      </a:cubicBezTo>
                      <a:cubicBezTo>
                        <a:pt x="99911" y="161408"/>
                        <a:pt x="104775" y="162719"/>
                        <a:pt x="109537" y="164306"/>
                      </a:cubicBezTo>
                      <a:lnTo>
                        <a:pt x="116681" y="166687"/>
                      </a:lnTo>
                      <a:cubicBezTo>
                        <a:pt x="119062" y="168275"/>
                        <a:pt x="121210" y="170288"/>
                        <a:pt x="123825" y="171450"/>
                      </a:cubicBezTo>
                      <a:cubicBezTo>
                        <a:pt x="128412" y="173489"/>
                        <a:pt x="133350" y="174625"/>
                        <a:pt x="138112" y="176212"/>
                      </a:cubicBezTo>
                      <a:lnTo>
                        <a:pt x="145256" y="178594"/>
                      </a:lnTo>
                      <a:lnTo>
                        <a:pt x="152400" y="180975"/>
                      </a:lnTo>
                      <a:cubicBezTo>
                        <a:pt x="154781" y="181769"/>
                        <a:pt x="157109" y="182747"/>
                        <a:pt x="159544" y="183356"/>
                      </a:cubicBezTo>
                      <a:cubicBezTo>
                        <a:pt x="162719" y="184150"/>
                        <a:pt x="165809" y="185453"/>
                        <a:pt x="169069" y="185737"/>
                      </a:cubicBezTo>
                      <a:lnTo>
                        <a:pt x="214312" y="188119"/>
                      </a:lnTo>
                      <a:cubicBezTo>
                        <a:pt x="218840" y="189024"/>
                        <a:pt x="228481" y="190440"/>
                        <a:pt x="233362" y="192881"/>
                      </a:cubicBezTo>
                      <a:cubicBezTo>
                        <a:pt x="235922" y="194161"/>
                        <a:pt x="238125" y="196056"/>
                        <a:pt x="240506" y="197644"/>
                      </a:cubicBezTo>
                      <a:cubicBezTo>
                        <a:pt x="246491" y="215599"/>
                        <a:pt x="237721" y="194162"/>
                        <a:pt x="250031" y="209550"/>
                      </a:cubicBezTo>
                      <a:cubicBezTo>
                        <a:pt x="251599" y="211510"/>
                        <a:pt x="251289" y="214449"/>
                        <a:pt x="252412" y="216694"/>
                      </a:cubicBezTo>
                      <a:cubicBezTo>
                        <a:pt x="253692" y="219254"/>
                        <a:pt x="255587" y="221456"/>
                        <a:pt x="257175" y="223837"/>
                      </a:cubicBezTo>
                      <a:cubicBezTo>
                        <a:pt x="257969" y="226218"/>
                        <a:pt x="258433" y="228736"/>
                        <a:pt x="259556" y="230981"/>
                      </a:cubicBezTo>
                      <a:cubicBezTo>
                        <a:pt x="260836" y="233541"/>
                        <a:pt x="263192" y="235494"/>
                        <a:pt x="264319" y="238125"/>
                      </a:cubicBezTo>
                      <a:cubicBezTo>
                        <a:pt x="265608" y="241133"/>
                        <a:pt x="265801" y="244503"/>
                        <a:pt x="266700" y="247650"/>
                      </a:cubicBezTo>
                      <a:cubicBezTo>
                        <a:pt x="267390" y="250064"/>
                        <a:pt x="268537" y="252344"/>
                        <a:pt x="269081" y="254794"/>
                      </a:cubicBezTo>
                      <a:cubicBezTo>
                        <a:pt x="274666" y="279929"/>
                        <a:pt x="268484" y="260148"/>
                        <a:pt x="273844" y="276225"/>
                      </a:cubicBezTo>
                      <a:cubicBezTo>
                        <a:pt x="278977" y="319859"/>
                        <a:pt x="278606" y="303119"/>
                        <a:pt x="278606" y="326231"/>
                      </a:cubicBez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5" name="组合 66"/>
              <p:cNvGrpSpPr/>
              <p:nvPr/>
            </p:nvGrpSpPr>
            <p:grpSpPr>
              <a:xfrm>
                <a:off x="4345560" y="4169520"/>
                <a:ext cx="138960" cy="278280"/>
                <a:chOff x="4345560" y="4169520"/>
                <a:chExt cx="138960" cy="278280"/>
              </a:xfrm>
            </p:grpSpPr>
            <p:sp>
              <p:nvSpPr>
                <p:cNvPr id="366" name="圆角矩形 173"/>
                <p:cNvSpPr/>
                <p:nvPr/>
              </p:nvSpPr>
              <p:spPr>
                <a:xfrm>
                  <a:off x="4424040" y="4300560"/>
                  <a:ext cx="60480" cy="10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000000"/>
                    </a:gs>
                  </a:gsLst>
                  <a:lin ang="162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" name="圆角矩形 64"/>
                <p:cNvSpPr/>
                <p:nvPr/>
              </p:nvSpPr>
              <p:spPr>
                <a:xfrm>
                  <a:off x="4345560" y="4254120"/>
                  <a:ext cx="114840" cy="193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" name="圆角矩形 65"/>
                <p:cNvSpPr/>
                <p:nvPr/>
              </p:nvSpPr>
              <p:spPr>
                <a:xfrm>
                  <a:off x="4382280" y="4169520"/>
                  <a:ext cx="4140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9" name="组合 174"/>
              <p:cNvGrpSpPr/>
              <p:nvPr/>
            </p:nvGrpSpPr>
            <p:grpSpPr>
              <a:xfrm>
                <a:off x="6785280" y="4150440"/>
                <a:ext cx="138600" cy="278280"/>
                <a:chOff x="6785280" y="4150440"/>
                <a:chExt cx="138600" cy="278280"/>
              </a:xfrm>
            </p:grpSpPr>
            <p:sp>
              <p:nvSpPr>
                <p:cNvPr id="370" name="圆角矩形 175"/>
                <p:cNvSpPr/>
                <p:nvPr/>
              </p:nvSpPr>
              <p:spPr>
                <a:xfrm flipH="1">
                  <a:off x="6785280" y="4281480"/>
                  <a:ext cx="60480" cy="10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f2f2"/>
                    </a:gs>
                    <a:gs pos="100000">
                      <a:srgbClr val="000000"/>
                    </a:gs>
                  </a:gsLst>
                  <a:lin ang="162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" name="圆角矩形 176"/>
                <p:cNvSpPr/>
                <p:nvPr/>
              </p:nvSpPr>
              <p:spPr>
                <a:xfrm flipH="1">
                  <a:off x="6808680" y="4235040"/>
                  <a:ext cx="114840" cy="193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" name="圆角矩形 177"/>
                <p:cNvSpPr/>
                <p:nvPr/>
              </p:nvSpPr>
              <p:spPr>
                <a:xfrm flipH="1">
                  <a:off x="6845400" y="4150440"/>
                  <a:ext cx="41400" cy="11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572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73" name="组合 59"/>
            <p:cNvGrpSpPr/>
            <p:nvPr/>
          </p:nvGrpSpPr>
          <p:grpSpPr>
            <a:xfrm>
              <a:off x="4177440" y="2481120"/>
              <a:ext cx="1868760" cy="2054880"/>
              <a:chOff x="4177440" y="2481120"/>
              <a:chExt cx="1868760" cy="2054880"/>
            </a:xfrm>
          </p:grpSpPr>
          <p:grpSp>
            <p:nvGrpSpPr>
              <p:cNvPr id="374" name="组合 20"/>
              <p:cNvGrpSpPr/>
              <p:nvPr/>
            </p:nvGrpSpPr>
            <p:grpSpPr>
              <a:xfrm>
                <a:off x="4177440" y="2481120"/>
                <a:ext cx="1868760" cy="2054880"/>
                <a:chOff x="4177440" y="2481120"/>
                <a:chExt cx="1868760" cy="2054880"/>
              </a:xfrm>
            </p:grpSpPr>
            <p:sp>
              <p:nvSpPr>
                <p:cNvPr id="375" name="椭圆 121"/>
                <p:cNvSpPr/>
                <p:nvPr/>
              </p:nvSpPr>
              <p:spPr>
                <a:xfrm>
                  <a:off x="4177440" y="4494600"/>
                  <a:ext cx="1868760" cy="4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376" name="组合 17"/>
                <p:cNvGrpSpPr/>
                <p:nvPr/>
              </p:nvGrpSpPr>
              <p:grpSpPr>
                <a:xfrm>
                  <a:off x="4578120" y="2481120"/>
                  <a:ext cx="1073160" cy="2041560"/>
                  <a:chOff x="4578120" y="2481120"/>
                  <a:chExt cx="1073160" cy="2041560"/>
                </a:xfrm>
              </p:grpSpPr>
              <p:grpSp>
                <p:nvGrpSpPr>
                  <p:cNvPr id="377" name="组合 21"/>
                  <p:cNvGrpSpPr/>
                  <p:nvPr/>
                </p:nvGrpSpPr>
                <p:grpSpPr>
                  <a:xfrm>
                    <a:off x="4578120" y="2481120"/>
                    <a:ext cx="1073160" cy="2041560"/>
                    <a:chOff x="4578120" y="2481120"/>
                    <a:chExt cx="1073160" cy="2041560"/>
                  </a:xfrm>
                </p:grpSpPr>
                <p:sp>
                  <p:nvSpPr>
                    <p:cNvPr id="378" name="圆角矩形 97"/>
                    <p:cNvSpPr/>
                    <p:nvPr/>
                  </p:nvSpPr>
                  <p:spPr>
                    <a:xfrm>
                      <a:off x="4578120" y="2481120"/>
                      <a:ext cx="1073160" cy="204156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454c5c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9" name="矩形 98"/>
                    <p:cNvSpPr/>
                    <p:nvPr/>
                  </p:nvSpPr>
                  <p:spPr>
                    <a:xfrm>
                      <a:off x="4627080" y="2787120"/>
                      <a:ext cx="975600" cy="1457280"/>
                    </a:xfrm>
                    <a:prstGeom prst="rect">
                      <a:avLst/>
                    </a:prstGeom>
                    <a:solidFill>
                      <a:srgbClr val="ace1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80" name="组合 99"/>
                  <p:cNvGrpSpPr/>
                  <p:nvPr/>
                </p:nvGrpSpPr>
                <p:grpSpPr>
                  <a:xfrm>
                    <a:off x="4974840" y="2575080"/>
                    <a:ext cx="273960" cy="115560"/>
                    <a:chOff x="4974840" y="2575080"/>
                    <a:chExt cx="273960" cy="115560"/>
                  </a:xfrm>
                </p:grpSpPr>
                <p:sp>
                  <p:nvSpPr>
                    <p:cNvPr id="381" name="椭圆 101"/>
                    <p:cNvSpPr/>
                    <p:nvPr/>
                  </p:nvSpPr>
                  <p:spPr>
                    <a:xfrm>
                      <a:off x="5083200" y="2575080"/>
                      <a:ext cx="57600" cy="57600"/>
                    </a:xfrm>
                    <a:prstGeom prst="ellipse">
                      <a:avLst/>
                    </a:prstGeom>
                    <a:solidFill>
                      <a:schemeClr val="tx1">
                        <a:lumMod val="85000"/>
                        <a:lumOff val="1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960" bIns="-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2" name="圆角矩形 104"/>
                    <p:cNvSpPr/>
                    <p:nvPr/>
                  </p:nvSpPr>
                  <p:spPr>
                    <a:xfrm>
                      <a:off x="4974840" y="2654640"/>
                      <a:ext cx="273960" cy="360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chemeClr val="tx1">
                        <a:lumMod val="85000"/>
                        <a:lumOff val="1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83" name="椭圆 100"/>
                  <p:cNvSpPr/>
                  <p:nvPr/>
                </p:nvSpPr>
                <p:spPr>
                  <a:xfrm>
                    <a:off x="5018760" y="4303080"/>
                    <a:ext cx="186480" cy="186480"/>
                  </a:xfrm>
                  <a:prstGeom prst="ellipse">
                    <a:avLst/>
                  </a:prstGeom>
                  <a:noFill/>
                  <a:ln w="9525">
                    <a:solidFill>
                      <a:srgbClr val="000000">
                        <a:lumMod val="85000"/>
                        <a:lumOff val="1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84" name="组合 16"/>
              <p:cNvGrpSpPr/>
              <p:nvPr/>
            </p:nvGrpSpPr>
            <p:grpSpPr>
              <a:xfrm>
                <a:off x="4747320" y="3129480"/>
                <a:ext cx="759240" cy="944640"/>
                <a:chOff x="4747320" y="3129480"/>
                <a:chExt cx="759240" cy="944640"/>
              </a:xfrm>
            </p:grpSpPr>
            <p:pic>
              <p:nvPicPr>
                <p:cNvPr id="385" name="图片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4732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图片 15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3784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图片 15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28720" y="3129480"/>
                  <a:ext cx="17784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8" name="组合 19"/>
                <p:cNvGrpSpPr/>
                <p:nvPr/>
              </p:nvGrpSpPr>
              <p:grpSpPr>
                <a:xfrm>
                  <a:off x="4988880" y="3775320"/>
                  <a:ext cx="247320" cy="298800"/>
                  <a:chOff x="4988880" y="3775320"/>
                  <a:chExt cx="247320" cy="298800"/>
                </a:xfrm>
              </p:grpSpPr>
              <p:sp>
                <p:nvSpPr>
                  <p:cNvPr id="389" name="Freeform 11"/>
                  <p:cNvSpPr/>
                  <p:nvPr/>
                </p:nvSpPr>
                <p:spPr>
                  <a:xfrm rot="21069600">
                    <a:off x="5068080" y="3778920"/>
                    <a:ext cx="57240" cy="88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30" h="47">
                        <a:moveTo>
                          <a:pt x="28" y="35"/>
                        </a:moveTo>
                        <a:cubicBezTo>
                          <a:pt x="30" y="39"/>
                          <a:pt x="28" y="44"/>
                          <a:pt x="24" y="45"/>
                        </a:cubicBezTo>
                        <a:cubicBezTo>
                          <a:pt x="24" y="45"/>
                          <a:pt x="24" y="45"/>
                          <a:pt x="24" y="45"/>
                        </a:cubicBezTo>
                        <a:cubicBezTo>
                          <a:pt x="20" y="47"/>
                          <a:pt x="16" y="45"/>
                          <a:pt x="14" y="41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0" y="8"/>
                          <a:pt x="2" y="3"/>
                          <a:pt x="6" y="2"/>
                        </a:cubicBezTo>
                        <a:cubicBezTo>
                          <a:pt x="6" y="2"/>
                          <a:pt x="6" y="2"/>
                          <a:pt x="6" y="2"/>
                        </a:cubicBezTo>
                        <a:cubicBezTo>
                          <a:pt x="10" y="0"/>
                          <a:pt x="15" y="2"/>
                          <a:pt x="16" y="6"/>
                        </a:cubicBezTo>
                        <a:lnTo>
                          <a:pt x="28" y="3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4640" bIns="44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reeform 12"/>
                  <p:cNvSpPr/>
                  <p:nvPr/>
                </p:nvSpPr>
                <p:spPr>
                  <a:xfrm rot="21069600">
                    <a:off x="5172480" y="3948840"/>
                    <a:ext cx="57240" cy="88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30" h="47">
                        <a:moveTo>
                          <a:pt x="28" y="35"/>
                        </a:moveTo>
                        <a:cubicBezTo>
                          <a:pt x="30" y="39"/>
                          <a:pt x="28" y="43"/>
                          <a:pt x="24" y="45"/>
                        </a:cubicBezTo>
                        <a:cubicBezTo>
                          <a:pt x="24" y="45"/>
                          <a:pt x="24" y="45"/>
                          <a:pt x="24" y="45"/>
                        </a:cubicBezTo>
                        <a:cubicBezTo>
                          <a:pt x="20" y="47"/>
                          <a:pt x="16" y="45"/>
                          <a:pt x="14" y="41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0" y="8"/>
                          <a:pt x="2" y="3"/>
                          <a:pt x="6" y="1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10" y="0"/>
                          <a:pt x="15" y="2"/>
                          <a:pt x="16" y="6"/>
                        </a:cubicBezTo>
                        <a:lnTo>
                          <a:pt x="28" y="35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4640" bIns="44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reeform 13"/>
                  <p:cNvSpPr/>
                  <p:nvPr/>
                </p:nvSpPr>
                <p:spPr>
                  <a:xfrm rot="21069600">
                    <a:off x="5007960" y="3799080"/>
                    <a:ext cx="173880" cy="263160"/>
                  </a:xfrm>
                  <a:custGeom>
                    <a:avLst/>
                    <a:gdLst>
                      <a:gd name="textAreaLeft" fmla="*/ 0 w 173880"/>
                      <a:gd name="textAreaRight" fmla="*/ 174240 w 173880"/>
                      <a:gd name="textAreaTop" fmla="*/ 0 h 263160"/>
                      <a:gd name="textAreaBottom" fmla="*/ 263520 h 263160"/>
                    </a:gdLst>
                    <a:ahLst/>
                    <a:rect l="textAreaLeft" t="textAreaTop" r="textAreaRight" b="textAreaBottom"/>
                    <a:pathLst>
                      <a:path w="91" h="139">
                        <a:moveTo>
                          <a:pt x="91" y="134"/>
                        </a:moveTo>
                        <a:cubicBezTo>
                          <a:pt x="47" y="139"/>
                          <a:pt x="0" y="30"/>
                          <a:pt x="36" y="0"/>
                        </a:cubicBezTo>
                        <a:cubicBezTo>
                          <a:pt x="52" y="39"/>
                          <a:pt x="52" y="39"/>
                          <a:pt x="52" y="39"/>
                        </a:cubicBezTo>
                        <a:cubicBezTo>
                          <a:pt x="37" y="41"/>
                          <a:pt x="68" y="106"/>
                          <a:pt x="75" y="96"/>
                        </a:cubicBezTo>
                        <a:lnTo>
                          <a:pt x="91" y="134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392" name="组合 71"/>
          <p:cNvGrpSpPr/>
          <p:nvPr/>
        </p:nvGrpSpPr>
        <p:grpSpPr>
          <a:xfrm>
            <a:off x="967320" y="2107440"/>
            <a:ext cx="458280" cy="647640"/>
            <a:chOff x="967320" y="2107440"/>
            <a:chExt cx="458280" cy="647640"/>
          </a:xfrm>
        </p:grpSpPr>
        <p:sp>
          <p:nvSpPr>
            <p:cNvPr id="393" name="Freeform 5"/>
            <p:cNvSpPr/>
            <p:nvPr/>
          </p:nvSpPr>
          <p:spPr>
            <a:xfrm>
              <a:off x="967320" y="2336400"/>
              <a:ext cx="458280" cy="418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12" h="115">
                  <a:moveTo>
                    <a:pt x="112" y="3"/>
                  </a:moveTo>
                  <a:cubicBezTo>
                    <a:pt x="112" y="2"/>
                    <a:pt x="112" y="1"/>
                    <a:pt x="112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1"/>
                    <a:pt x="93" y="2"/>
                    <a:pt x="93" y="3"/>
                  </a:cubicBezTo>
                  <a:cubicBezTo>
                    <a:pt x="93" y="24"/>
                    <a:pt x="77" y="41"/>
                    <a:pt x="56" y="41"/>
                  </a:cubicBezTo>
                  <a:cubicBezTo>
                    <a:pt x="35" y="41"/>
                    <a:pt x="18" y="24"/>
                    <a:pt x="18" y="3"/>
                  </a:cubicBezTo>
                  <a:cubicBezTo>
                    <a:pt x="18" y="2"/>
                    <a:pt x="19" y="1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1"/>
                    <a:pt x="20" y="54"/>
                    <a:pt x="46" y="59"/>
                  </a:cubicBezTo>
                  <a:cubicBezTo>
                    <a:pt x="46" y="94"/>
                    <a:pt x="46" y="94"/>
                    <a:pt x="46" y="94"/>
                  </a:cubicBezTo>
                  <a:cubicBezTo>
                    <a:pt x="33" y="94"/>
                    <a:pt x="33" y="94"/>
                    <a:pt x="33" y="94"/>
                  </a:cubicBezTo>
                  <a:cubicBezTo>
                    <a:pt x="33" y="115"/>
                    <a:pt x="33" y="115"/>
                    <a:pt x="33" y="115"/>
                  </a:cubicBezTo>
                  <a:cubicBezTo>
                    <a:pt x="79" y="115"/>
                    <a:pt x="79" y="115"/>
                    <a:pt x="79" y="115"/>
                  </a:cubicBezTo>
                  <a:cubicBezTo>
                    <a:pt x="79" y="94"/>
                    <a:pt x="79" y="94"/>
                    <a:pt x="79" y="94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92" y="54"/>
                    <a:pt x="112" y="31"/>
                    <a:pt x="112" y="3"/>
                  </a:cubicBezTo>
                  <a:close/>
                </a:path>
              </a:pathLst>
            </a:custGeom>
            <a:solidFill>
              <a:srgbClr val="0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6"/>
            <p:cNvSpPr/>
            <p:nvPr/>
          </p:nvSpPr>
          <p:spPr>
            <a:xfrm>
              <a:off x="1085760" y="2107440"/>
              <a:ext cx="221400" cy="33984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60" h="93">
                  <a:moveTo>
                    <a:pt x="60" y="63"/>
                  </a:moveTo>
                  <a:cubicBezTo>
                    <a:pt x="60" y="80"/>
                    <a:pt x="47" y="93"/>
                    <a:pt x="30" y="93"/>
                  </a:cubicBezTo>
                  <a:cubicBezTo>
                    <a:pt x="30" y="93"/>
                    <a:pt x="30" y="93"/>
                    <a:pt x="30" y="93"/>
                  </a:cubicBezTo>
                  <a:cubicBezTo>
                    <a:pt x="13" y="93"/>
                    <a:pt x="0" y="80"/>
                    <a:pt x="0" y="63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13"/>
                    <a:pt x="1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47" y="0"/>
                    <a:pt x="60" y="13"/>
                    <a:pt x="60" y="30"/>
                  </a:cubicBezTo>
                  <a:lnTo>
                    <a:pt x="60" y="63"/>
                  </a:lnTo>
                  <a:close/>
                </a:path>
              </a:pathLst>
            </a:custGeom>
            <a:solidFill>
              <a:srgbClr val="00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文本框 180"/>
          <p:cNvSpPr/>
          <p:nvPr/>
        </p:nvSpPr>
        <p:spPr>
          <a:xfrm>
            <a:off x="1594080" y="220644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人视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81"/>
          <p:cNvSpPr/>
          <p:nvPr/>
        </p:nvSpPr>
        <p:spPr>
          <a:xfrm>
            <a:off x="782280" y="2796840"/>
            <a:ext cx="39614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不用会议室，轻松召开语音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82"/>
          <p:cNvSpPr/>
          <p:nvPr/>
        </p:nvSpPr>
        <p:spPr>
          <a:xfrm>
            <a:off x="792000" y="3330360"/>
            <a:ext cx="2992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讨论组多人通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电脑无缝接入实时通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d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1" descr=""/>
          <p:cNvPicPr/>
          <p:nvPr/>
        </p:nvPicPr>
        <p:blipFill>
          <a:blip r:embed="rId1"/>
          <a:stretch/>
        </p:blipFill>
        <p:spPr>
          <a:xfrm>
            <a:off x="370080" y="7073640"/>
            <a:ext cx="11601000" cy="5171760"/>
          </a:xfrm>
          <a:prstGeom prst="rect">
            <a:avLst/>
          </a:prstGeom>
          <a:ln w="0">
            <a:noFill/>
          </a:ln>
        </p:spPr>
      </p:pic>
      <p:grpSp>
        <p:nvGrpSpPr>
          <p:cNvPr id="399" name="组合 132"/>
          <p:cNvGrpSpPr/>
          <p:nvPr/>
        </p:nvGrpSpPr>
        <p:grpSpPr>
          <a:xfrm>
            <a:off x="3249360" y="2203200"/>
            <a:ext cx="3969360" cy="2849400"/>
            <a:chOff x="3249360" y="2203200"/>
            <a:chExt cx="3969360" cy="2849400"/>
          </a:xfrm>
        </p:grpSpPr>
        <p:grpSp>
          <p:nvGrpSpPr>
            <p:cNvPr id="400" name="组合 2"/>
            <p:cNvGrpSpPr/>
            <p:nvPr/>
          </p:nvGrpSpPr>
          <p:grpSpPr>
            <a:xfrm>
              <a:off x="3249360" y="2203200"/>
              <a:ext cx="3969360" cy="2849400"/>
              <a:chOff x="3249360" y="2203200"/>
              <a:chExt cx="3969360" cy="2849400"/>
            </a:xfrm>
          </p:grpSpPr>
          <p:grpSp>
            <p:nvGrpSpPr>
              <p:cNvPr id="401" name="组合 3"/>
              <p:cNvGrpSpPr/>
              <p:nvPr/>
            </p:nvGrpSpPr>
            <p:grpSpPr>
              <a:xfrm>
                <a:off x="3249360" y="2203200"/>
                <a:ext cx="3969360" cy="2849400"/>
                <a:chOff x="3249360" y="2203200"/>
                <a:chExt cx="3969360" cy="2849400"/>
              </a:xfrm>
            </p:grpSpPr>
            <p:sp>
              <p:nvSpPr>
                <p:cNvPr id="402" name="椭圆 8"/>
                <p:cNvSpPr/>
                <p:nvPr/>
              </p:nvSpPr>
              <p:spPr>
                <a:xfrm>
                  <a:off x="3688200" y="500580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" name="梯形 9"/>
                <p:cNvSpPr/>
                <p:nvPr/>
              </p:nvSpPr>
              <p:spPr>
                <a:xfrm>
                  <a:off x="4835160" y="443844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" name="矩形 10"/>
                <p:cNvSpPr/>
                <p:nvPr/>
              </p:nvSpPr>
              <p:spPr>
                <a:xfrm>
                  <a:off x="4951800" y="459108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05" name="组合 11"/>
                <p:cNvGrpSpPr/>
                <p:nvPr/>
              </p:nvGrpSpPr>
              <p:grpSpPr>
                <a:xfrm>
                  <a:off x="3249360" y="2203200"/>
                  <a:ext cx="3969360" cy="2425320"/>
                  <a:chOff x="3249360" y="2203200"/>
                  <a:chExt cx="3969360" cy="2425320"/>
                </a:xfrm>
              </p:grpSpPr>
              <p:sp>
                <p:nvSpPr>
                  <p:cNvPr id="406" name="圆角矩形 13"/>
                  <p:cNvSpPr/>
                  <p:nvPr/>
                </p:nvSpPr>
                <p:spPr>
                  <a:xfrm>
                    <a:off x="3249360" y="220320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7" name="矩形 14"/>
                  <p:cNvSpPr/>
                  <p:nvPr/>
                </p:nvSpPr>
                <p:spPr>
                  <a:xfrm>
                    <a:off x="3355560" y="228564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08" name="圆角矩形 12"/>
                <p:cNvSpPr/>
                <p:nvPr/>
              </p:nvSpPr>
              <p:spPr>
                <a:xfrm>
                  <a:off x="4470120" y="494388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9" name="椭圆 4"/>
              <p:cNvSpPr/>
              <p:nvPr/>
            </p:nvSpPr>
            <p:spPr>
              <a:xfrm>
                <a:off x="5142600" y="443196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椭圆 5"/>
              <p:cNvSpPr/>
              <p:nvPr/>
            </p:nvSpPr>
            <p:spPr>
              <a:xfrm>
                <a:off x="6986880" y="446184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1" name="椭圆 6"/>
              <p:cNvSpPr/>
              <p:nvPr/>
            </p:nvSpPr>
            <p:spPr>
              <a:xfrm>
                <a:off x="6891480" y="44740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2" name="椭圆 7"/>
              <p:cNvSpPr/>
              <p:nvPr/>
            </p:nvSpPr>
            <p:spPr>
              <a:xfrm>
                <a:off x="6819480" y="44740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13" name="组合 15"/>
            <p:cNvGrpSpPr/>
            <p:nvPr/>
          </p:nvGrpSpPr>
          <p:grpSpPr>
            <a:xfrm>
              <a:off x="4195440" y="2605680"/>
              <a:ext cx="2154600" cy="1520280"/>
              <a:chOff x="4195440" y="2605680"/>
              <a:chExt cx="2154600" cy="1520280"/>
            </a:xfrm>
          </p:grpSpPr>
          <p:sp>
            <p:nvSpPr>
              <p:cNvPr id="414" name="矩形 16"/>
              <p:cNvSpPr/>
              <p:nvPr/>
            </p:nvSpPr>
            <p:spPr>
              <a:xfrm>
                <a:off x="4195440" y="2605680"/>
                <a:ext cx="2154600" cy="1520280"/>
              </a:xfrm>
              <a:prstGeom prst="rect">
                <a:avLst/>
              </a:prstGeom>
              <a:solidFill>
                <a:srgbClr val="e2edf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5" name="矩形 17"/>
              <p:cNvSpPr/>
              <p:nvPr/>
            </p:nvSpPr>
            <p:spPr>
              <a:xfrm>
                <a:off x="4195440" y="2874960"/>
                <a:ext cx="1710360" cy="125100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6" name="矩形 18"/>
              <p:cNvSpPr/>
              <p:nvPr/>
            </p:nvSpPr>
            <p:spPr>
              <a:xfrm>
                <a:off x="4233960" y="2873520"/>
                <a:ext cx="1634040" cy="935640"/>
              </a:xfrm>
              <a:prstGeom prst="rect">
                <a:avLst/>
              </a:prstGeom>
              <a:solidFill>
                <a:srgbClr val="abe0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17" name="组合 19"/>
              <p:cNvGrpSpPr/>
              <p:nvPr/>
            </p:nvGrpSpPr>
            <p:grpSpPr>
              <a:xfrm>
                <a:off x="4840920" y="3097080"/>
                <a:ext cx="420120" cy="488520"/>
                <a:chOff x="4840920" y="3097080"/>
                <a:chExt cx="420120" cy="488520"/>
              </a:xfrm>
            </p:grpSpPr>
            <p:grpSp>
              <p:nvGrpSpPr>
                <p:cNvPr id="418" name="组合 101"/>
                <p:cNvGrpSpPr/>
                <p:nvPr/>
              </p:nvGrpSpPr>
              <p:grpSpPr>
                <a:xfrm>
                  <a:off x="4840920" y="3097080"/>
                  <a:ext cx="420120" cy="420120"/>
                  <a:chOff x="4840920" y="3097080"/>
                  <a:chExt cx="420120" cy="420120"/>
                </a:xfrm>
              </p:grpSpPr>
              <p:sp>
                <p:nvSpPr>
                  <p:cNvPr id="419" name="椭圆 103"/>
                  <p:cNvSpPr/>
                  <p:nvPr/>
                </p:nvSpPr>
                <p:spPr>
                  <a:xfrm>
                    <a:off x="4840920" y="3097080"/>
                    <a:ext cx="420120" cy="4201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0" name="椭圆 104"/>
                  <p:cNvSpPr/>
                  <p:nvPr/>
                </p:nvSpPr>
                <p:spPr>
                  <a:xfrm>
                    <a:off x="4899960" y="3156120"/>
                    <a:ext cx="302040" cy="30204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1" name="椭圆 105"/>
                  <p:cNvSpPr/>
                  <p:nvPr/>
                </p:nvSpPr>
                <p:spPr>
                  <a:xfrm>
                    <a:off x="4965120" y="3221280"/>
                    <a:ext cx="171720" cy="171720"/>
                  </a:xfrm>
                  <a:prstGeom prst="ellipse">
                    <a:avLst/>
                  </a:pr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2" name="椭圆 106"/>
                  <p:cNvSpPr/>
                  <p:nvPr/>
                </p:nvSpPr>
                <p:spPr>
                  <a:xfrm>
                    <a:off x="5004000" y="3250440"/>
                    <a:ext cx="47880" cy="47880"/>
                  </a:xfrm>
                  <a:prstGeom prst="ellipse">
                    <a:avLst/>
                  </a:prstGeom>
                  <a:solidFill>
                    <a:srgbClr val="e2edf8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0800" bIns="-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23" name="任意多边形 102"/>
                <p:cNvSpPr/>
                <p:nvPr/>
              </p:nvSpPr>
              <p:spPr>
                <a:xfrm>
                  <a:off x="4904280" y="3517560"/>
                  <a:ext cx="312120" cy="68040"/>
                </a:xfrm>
                <a:custGeom>
                  <a:avLst/>
                  <a:gdLst>
                    <a:gd name="textAreaLeft" fmla="*/ 0 w 312120"/>
                    <a:gd name="textAreaRight" fmla="*/ 312480 w 3121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843225" h="185047">
                      <a:moveTo>
                        <a:pt x="421612" y="0"/>
                      </a:moveTo>
                      <a:cubicBezTo>
                        <a:pt x="581167" y="0"/>
                        <a:pt x="725616" y="64672"/>
                        <a:pt x="830177" y="169233"/>
                      </a:cubicBezTo>
                      <a:lnTo>
                        <a:pt x="843225" y="185047"/>
                      </a:lnTo>
                      <a:lnTo>
                        <a:pt x="641654" y="185047"/>
                      </a:lnTo>
                      <a:lnTo>
                        <a:pt x="597623" y="161148"/>
                      </a:lnTo>
                      <a:cubicBezTo>
                        <a:pt x="543524" y="138266"/>
                        <a:pt x="484046" y="125613"/>
                        <a:pt x="421612" y="125613"/>
                      </a:cubicBezTo>
                      <a:cubicBezTo>
                        <a:pt x="359178" y="125613"/>
                        <a:pt x="299700" y="138266"/>
                        <a:pt x="245601" y="161148"/>
                      </a:cubicBezTo>
                      <a:lnTo>
                        <a:pt x="201571" y="185047"/>
                      </a:lnTo>
                      <a:lnTo>
                        <a:pt x="0" y="185047"/>
                      </a:lnTo>
                      <a:lnTo>
                        <a:pt x="13047" y="169233"/>
                      </a:lnTo>
                      <a:cubicBezTo>
                        <a:pt x="117608" y="64672"/>
                        <a:pt x="262058" y="0"/>
                        <a:pt x="421612" y="0"/>
                      </a:cubicBezTo>
                      <a:close/>
                    </a:path>
                  </a:pathLst>
                </a:custGeom>
                <a:solidFill>
                  <a:srgbClr val="90d1f6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24" name="矩形 20"/>
              <p:cNvSpPr/>
              <p:nvPr/>
            </p:nvSpPr>
            <p:spPr>
              <a:xfrm>
                <a:off x="5932440" y="2874960"/>
                <a:ext cx="403920" cy="31104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25" name="组合 21"/>
              <p:cNvGrpSpPr/>
              <p:nvPr/>
            </p:nvGrpSpPr>
            <p:grpSpPr>
              <a:xfrm>
                <a:off x="4233960" y="3835080"/>
                <a:ext cx="249120" cy="181080"/>
                <a:chOff x="4233960" y="3835080"/>
                <a:chExt cx="249120" cy="181080"/>
              </a:xfrm>
            </p:grpSpPr>
            <p:sp>
              <p:nvSpPr>
                <p:cNvPr id="426" name="矩形 93"/>
                <p:cNvSpPr/>
                <p:nvPr/>
              </p:nvSpPr>
              <p:spPr>
                <a:xfrm>
                  <a:off x="42339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27" name="组合 94"/>
                <p:cNvGrpSpPr/>
                <p:nvPr/>
              </p:nvGrpSpPr>
              <p:grpSpPr>
                <a:xfrm>
                  <a:off x="4305240" y="3853800"/>
                  <a:ext cx="106920" cy="124200"/>
                  <a:chOff x="4305240" y="3853800"/>
                  <a:chExt cx="106920" cy="124200"/>
                </a:xfrm>
              </p:grpSpPr>
              <p:grpSp>
                <p:nvGrpSpPr>
                  <p:cNvPr id="428" name="组合 95"/>
                  <p:cNvGrpSpPr/>
                  <p:nvPr/>
                </p:nvGrpSpPr>
                <p:grpSpPr>
                  <a:xfrm>
                    <a:off x="4305240" y="3853800"/>
                    <a:ext cx="106920" cy="106920"/>
                    <a:chOff x="4305240" y="3853800"/>
                    <a:chExt cx="106920" cy="106920"/>
                  </a:xfrm>
                </p:grpSpPr>
                <p:sp>
                  <p:nvSpPr>
                    <p:cNvPr id="429" name="椭圆 97"/>
                    <p:cNvSpPr/>
                    <p:nvPr/>
                  </p:nvSpPr>
                  <p:spPr>
                    <a:xfrm>
                      <a:off x="43052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0" name="椭圆 98"/>
                    <p:cNvSpPr/>
                    <p:nvPr/>
                  </p:nvSpPr>
                  <p:spPr>
                    <a:xfrm>
                      <a:off x="432000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1" name="椭圆 99"/>
                    <p:cNvSpPr/>
                    <p:nvPr/>
                  </p:nvSpPr>
                  <p:spPr>
                    <a:xfrm>
                      <a:off x="43369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2" name="椭圆 100"/>
                    <p:cNvSpPr/>
                    <p:nvPr/>
                  </p:nvSpPr>
                  <p:spPr>
                    <a:xfrm>
                      <a:off x="434664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33" name="任意多边形 96"/>
                  <p:cNvSpPr/>
                  <p:nvPr/>
                </p:nvSpPr>
                <p:spPr>
                  <a:xfrm>
                    <a:off x="43214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34" name="组合 22"/>
              <p:cNvGrpSpPr/>
              <p:nvPr/>
            </p:nvGrpSpPr>
            <p:grpSpPr>
              <a:xfrm>
                <a:off x="4510080" y="3835080"/>
                <a:ext cx="249120" cy="181080"/>
                <a:chOff x="4510080" y="3835080"/>
                <a:chExt cx="249120" cy="181080"/>
              </a:xfrm>
            </p:grpSpPr>
            <p:sp>
              <p:nvSpPr>
                <p:cNvPr id="435" name="矩形 85"/>
                <p:cNvSpPr/>
                <p:nvPr/>
              </p:nvSpPr>
              <p:spPr>
                <a:xfrm>
                  <a:off x="451008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36" name="组合 86"/>
                <p:cNvGrpSpPr/>
                <p:nvPr/>
              </p:nvGrpSpPr>
              <p:grpSpPr>
                <a:xfrm>
                  <a:off x="4581360" y="3853800"/>
                  <a:ext cx="106920" cy="124200"/>
                  <a:chOff x="4581360" y="3853800"/>
                  <a:chExt cx="106920" cy="124200"/>
                </a:xfrm>
              </p:grpSpPr>
              <p:grpSp>
                <p:nvGrpSpPr>
                  <p:cNvPr id="437" name="组合 87"/>
                  <p:cNvGrpSpPr/>
                  <p:nvPr/>
                </p:nvGrpSpPr>
                <p:grpSpPr>
                  <a:xfrm>
                    <a:off x="4581360" y="3853800"/>
                    <a:ext cx="106920" cy="106920"/>
                    <a:chOff x="4581360" y="3853800"/>
                    <a:chExt cx="106920" cy="106920"/>
                  </a:xfrm>
                </p:grpSpPr>
                <p:sp>
                  <p:nvSpPr>
                    <p:cNvPr id="438" name="椭圆 89"/>
                    <p:cNvSpPr/>
                    <p:nvPr/>
                  </p:nvSpPr>
                  <p:spPr>
                    <a:xfrm>
                      <a:off x="458136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9" name="椭圆 90"/>
                    <p:cNvSpPr/>
                    <p:nvPr/>
                  </p:nvSpPr>
                  <p:spPr>
                    <a:xfrm>
                      <a:off x="45964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0" name="椭圆 91"/>
                    <p:cNvSpPr/>
                    <p:nvPr/>
                  </p:nvSpPr>
                  <p:spPr>
                    <a:xfrm>
                      <a:off x="461304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1" name="椭圆 92"/>
                    <p:cNvSpPr/>
                    <p:nvPr/>
                  </p:nvSpPr>
                  <p:spPr>
                    <a:xfrm>
                      <a:off x="46231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42" name="任意多边形 88"/>
                  <p:cNvSpPr/>
                  <p:nvPr/>
                </p:nvSpPr>
                <p:spPr>
                  <a:xfrm>
                    <a:off x="459756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43" name="组合 23"/>
              <p:cNvGrpSpPr/>
              <p:nvPr/>
            </p:nvGrpSpPr>
            <p:grpSpPr>
              <a:xfrm>
                <a:off x="4786560" y="3835080"/>
                <a:ext cx="249120" cy="181080"/>
                <a:chOff x="4786560" y="3835080"/>
                <a:chExt cx="249120" cy="181080"/>
              </a:xfrm>
            </p:grpSpPr>
            <p:sp>
              <p:nvSpPr>
                <p:cNvPr id="444" name="矩形 77"/>
                <p:cNvSpPr/>
                <p:nvPr/>
              </p:nvSpPr>
              <p:spPr>
                <a:xfrm>
                  <a:off x="47865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45" name="组合 78"/>
                <p:cNvGrpSpPr/>
                <p:nvPr/>
              </p:nvGrpSpPr>
              <p:grpSpPr>
                <a:xfrm>
                  <a:off x="4857840" y="3853800"/>
                  <a:ext cx="106920" cy="124200"/>
                  <a:chOff x="4857840" y="3853800"/>
                  <a:chExt cx="106920" cy="124200"/>
                </a:xfrm>
              </p:grpSpPr>
              <p:grpSp>
                <p:nvGrpSpPr>
                  <p:cNvPr id="446" name="组合 79"/>
                  <p:cNvGrpSpPr/>
                  <p:nvPr/>
                </p:nvGrpSpPr>
                <p:grpSpPr>
                  <a:xfrm>
                    <a:off x="4857840" y="3853800"/>
                    <a:ext cx="106920" cy="106920"/>
                    <a:chOff x="4857840" y="3853800"/>
                    <a:chExt cx="106920" cy="106920"/>
                  </a:xfrm>
                </p:grpSpPr>
                <p:sp>
                  <p:nvSpPr>
                    <p:cNvPr id="447" name="椭圆 81"/>
                    <p:cNvSpPr/>
                    <p:nvPr/>
                  </p:nvSpPr>
                  <p:spPr>
                    <a:xfrm>
                      <a:off x="48578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8" name="椭圆 82"/>
                    <p:cNvSpPr/>
                    <p:nvPr/>
                  </p:nvSpPr>
                  <p:spPr>
                    <a:xfrm>
                      <a:off x="487296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9" name="椭圆 83"/>
                    <p:cNvSpPr/>
                    <p:nvPr/>
                  </p:nvSpPr>
                  <p:spPr>
                    <a:xfrm>
                      <a:off x="48895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0" name="椭圆 84"/>
                    <p:cNvSpPr/>
                    <p:nvPr/>
                  </p:nvSpPr>
                  <p:spPr>
                    <a:xfrm>
                      <a:off x="489924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51" name="任意多边形 80"/>
                  <p:cNvSpPr/>
                  <p:nvPr/>
                </p:nvSpPr>
                <p:spPr>
                  <a:xfrm>
                    <a:off x="48740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52" name="组合 24"/>
              <p:cNvGrpSpPr/>
              <p:nvPr/>
            </p:nvGrpSpPr>
            <p:grpSpPr>
              <a:xfrm>
                <a:off x="5063040" y="3835080"/>
                <a:ext cx="249120" cy="181080"/>
                <a:chOff x="5063040" y="3835080"/>
                <a:chExt cx="249120" cy="181080"/>
              </a:xfrm>
            </p:grpSpPr>
            <p:sp>
              <p:nvSpPr>
                <p:cNvPr id="453" name="矩形 69"/>
                <p:cNvSpPr/>
                <p:nvPr/>
              </p:nvSpPr>
              <p:spPr>
                <a:xfrm>
                  <a:off x="506304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54" name="组合 70"/>
                <p:cNvGrpSpPr/>
                <p:nvPr/>
              </p:nvGrpSpPr>
              <p:grpSpPr>
                <a:xfrm>
                  <a:off x="5133960" y="3853800"/>
                  <a:ext cx="106920" cy="124200"/>
                  <a:chOff x="5133960" y="3853800"/>
                  <a:chExt cx="106920" cy="124200"/>
                </a:xfrm>
              </p:grpSpPr>
              <p:grpSp>
                <p:nvGrpSpPr>
                  <p:cNvPr id="455" name="组合 71"/>
                  <p:cNvGrpSpPr/>
                  <p:nvPr/>
                </p:nvGrpSpPr>
                <p:grpSpPr>
                  <a:xfrm>
                    <a:off x="5133960" y="3853800"/>
                    <a:ext cx="106920" cy="106920"/>
                    <a:chOff x="5133960" y="3853800"/>
                    <a:chExt cx="106920" cy="106920"/>
                  </a:xfrm>
                </p:grpSpPr>
                <p:sp>
                  <p:nvSpPr>
                    <p:cNvPr id="456" name="椭圆 73"/>
                    <p:cNvSpPr/>
                    <p:nvPr/>
                  </p:nvSpPr>
                  <p:spPr>
                    <a:xfrm>
                      <a:off x="513396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7" name="椭圆 74"/>
                    <p:cNvSpPr/>
                    <p:nvPr/>
                  </p:nvSpPr>
                  <p:spPr>
                    <a:xfrm>
                      <a:off x="51490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8" name="椭圆 75"/>
                    <p:cNvSpPr/>
                    <p:nvPr/>
                  </p:nvSpPr>
                  <p:spPr>
                    <a:xfrm>
                      <a:off x="516564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9" name="椭圆 76"/>
                    <p:cNvSpPr/>
                    <p:nvPr/>
                  </p:nvSpPr>
                  <p:spPr>
                    <a:xfrm>
                      <a:off x="51757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0" name="任意多边形 72"/>
                  <p:cNvSpPr/>
                  <p:nvPr/>
                </p:nvSpPr>
                <p:spPr>
                  <a:xfrm>
                    <a:off x="515016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61" name="组合 25"/>
              <p:cNvGrpSpPr/>
              <p:nvPr/>
            </p:nvGrpSpPr>
            <p:grpSpPr>
              <a:xfrm>
                <a:off x="5339160" y="3835080"/>
                <a:ext cx="249120" cy="181080"/>
                <a:chOff x="5339160" y="3835080"/>
                <a:chExt cx="249120" cy="181080"/>
              </a:xfrm>
            </p:grpSpPr>
            <p:sp>
              <p:nvSpPr>
                <p:cNvPr id="462" name="矩形 61"/>
                <p:cNvSpPr/>
                <p:nvPr/>
              </p:nvSpPr>
              <p:spPr>
                <a:xfrm>
                  <a:off x="533916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63" name="组合 62"/>
                <p:cNvGrpSpPr/>
                <p:nvPr/>
              </p:nvGrpSpPr>
              <p:grpSpPr>
                <a:xfrm>
                  <a:off x="5410440" y="3853800"/>
                  <a:ext cx="106920" cy="124200"/>
                  <a:chOff x="5410440" y="3853800"/>
                  <a:chExt cx="106920" cy="124200"/>
                </a:xfrm>
              </p:grpSpPr>
              <p:grpSp>
                <p:nvGrpSpPr>
                  <p:cNvPr id="464" name="组合 63"/>
                  <p:cNvGrpSpPr/>
                  <p:nvPr/>
                </p:nvGrpSpPr>
                <p:grpSpPr>
                  <a:xfrm>
                    <a:off x="5410440" y="3853800"/>
                    <a:ext cx="106920" cy="106920"/>
                    <a:chOff x="5410440" y="3853800"/>
                    <a:chExt cx="106920" cy="106920"/>
                  </a:xfrm>
                </p:grpSpPr>
                <p:sp>
                  <p:nvSpPr>
                    <p:cNvPr id="465" name="椭圆 65"/>
                    <p:cNvSpPr/>
                    <p:nvPr/>
                  </p:nvSpPr>
                  <p:spPr>
                    <a:xfrm>
                      <a:off x="541044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6" name="椭圆 66"/>
                    <p:cNvSpPr/>
                    <p:nvPr/>
                  </p:nvSpPr>
                  <p:spPr>
                    <a:xfrm>
                      <a:off x="542556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7" name="椭圆 67"/>
                    <p:cNvSpPr/>
                    <p:nvPr/>
                  </p:nvSpPr>
                  <p:spPr>
                    <a:xfrm>
                      <a:off x="544212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68" name="椭圆 68"/>
                    <p:cNvSpPr/>
                    <p:nvPr/>
                  </p:nvSpPr>
                  <p:spPr>
                    <a:xfrm>
                      <a:off x="545220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9" name="任意多边形 64"/>
                  <p:cNvSpPr/>
                  <p:nvPr/>
                </p:nvSpPr>
                <p:spPr>
                  <a:xfrm>
                    <a:off x="542664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70" name="组合 26"/>
              <p:cNvGrpSpPr/>
              <p:nvPr/>
            </p:nvGrpSpPr>
            <p:grpSpPr>
              <a:xfrm>
                <a:off x="5615640" y="3835080"/>
                <a:ext cx="249120" cy="181080"/>
                <a:chOff x="5615640" y="3835080"/>
                <a:chExt cx="249120" cy="181080"/>
              </a:xfrm>
            </p:grpSpPr>
            <p:sp>
              <p:nvSpPr>
                <p:cNvPr id="471" name="矩形 53"/>
                <p:cNvSpPr/>
                <p:nvPr/>
              </p:nvSpPr>
              <p:spPr>
                <a:xfrm>
                  <a:off x="5615640" y="3835080"/>
                  <a:ext cx="249120" cy="181080"/>
                </a:xfrm>
                <a:prstGeom prst="rect">
                  <a:avLst/>
                </a:prstGeom>
                <a:solidFill>
                  <a:srgbClr val="abe0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472" name="组合 54"/>
                <p:cNvGrpSpPr/>
                <p:nvPr/>
              </p:nvGrpSpPr>
              <p:grpSpPr>
                <a:xfrm>
                  <a:off x="5686920" y="3853800"/>
                  <a:ext cx="106920" cy="124200"/>
                  <a:chOff x="5686920" y="3853800"/>
                  <a:chExt cx="106920" cy="124200"/>
                </a:xfrm>
              </p:grpSpPr>
              <p:grpSp>
                <p:nvGrpSpPr>
                  <p:cNvPr id="473" name="组合 55"/>
                  <p:cNvGrpSpPr/>
                  <p:nvPr/>
                </p:nvGrpSpPr>
                <p:grpSpPr>
                  <a:xfrm>
                    <a:off x="5686920" y="3853800"/>
                    <a:ext cx="106920" cy="106920"/>
                    <a:chOff x="5686920" y="3853800"/>
                    <a:chExt cx="106920" cy="106920"/>
                  </a:xfrm>
                </p:grpSpPr>
                <p:sp>
                  <p:nvSpPr>
                    <p:cNvPr id="474" name="椭圆 57"/>
                    <p:cNvSpPr/>
                    <p:nvPr/>
                  </p:nvSpPr>
                  <p:spPr>
                    <a:xfrm>
                      <a:off x="5686920" y="3853800"/>
                      <a:ext cx="106920" cy="10692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5" name="椭圆 58"/>
                    <p:cNvSpPr/>
                    <p:nvPr/>
                  </p:nvSpPr>
                  <p:spPr>
                    <a:xfrm>
                      <a:off x="5701680" y="3868920"/>
                      <a:ext cx="76680" cy="766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6" name="椭圆 59"/>
                    <p:cNvSpPr/>
                    <p:nvPr/>
                  </p:nvSpPr>
                  <p:spPr>
                    <a:xfrm>
                      <a:off x="5718600" y="3885480"/>
                      <a:ext cx="43560" cy="43560"/>
                    </a:xfrm>
                    <a:prstGeom prst="ellipse">
                      <a:avLst/>
                    </a:prstGeom>
                    <a:solidFill>
                      <a:srgbClr val="90d1f6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77" name="椭圆 60"/>
                    <p:cNvSpPr/>
                    <p:nvPr/>
                  </p:nvSpPr>
                  <p:spPr>
                    <a:xfrm>
                      <a:off x="5728320" y="3893040"/>
                      <a:ext cx="11880" cy="11880"/>
                    </a:xfrm>
                    <a:prstGeom prst="ellipse">
                      <a:avLst/>
                    </a:prstGeom>
                    <a:solidFill>
                      <a:srgbClr val="e2edf8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78" name="任意多边形 56"/>
                  <p:cNvSpPr/>
                  <p:nvPr/>
                </p:nvSpPr>
                <p:spPr>
                  <a:xfrm>
                    <a:off x="5703120" y="3961080"/>
                    <a:ext cx="79200" cy="169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16920"/>
                      <a:gd name="textAreaBottom" fmla="*/ 17280 h 16920"/>
                    </a:gdLst>
                    <a:ahLst/>
                    <a:rect l="textAreaLeft" t="textAreaTop" r="textAreaRight" b="textAreaBottom"/>
                    <a:pathLst>
                      <a:path w="843225" h="185047">
                        <a:moveTo>
                          <a:pt x="421612" y="0"/>
                        </a:moveTo>
                        <a:cubicBezTo>
                          <a:pt x="581167" y="0"/>
                          <a:pt x="725616" y="64672"/>
                          <a:pt x="830177" y="169233"/>
                        </a:cubicBezTo>
                        <a:lnTo>
                          <a:pt x="843225" y="185047"/>
                        </a:lnTo>
                        <a:lnTo>
                          <a:pt x="641654" y="185047"/>
                        </a:lnTo>
                        <a:lnTo>
                          <a:pt x="597623" y="161148"/>
                        </a:lnTo>
                        <a:cubicBezTo>
                          <a:pt x="543524" y="138266"/>
                          <a:pt x="484046" y="125613"/>
                          <a:pt x="421612" y="125613"/>
                        </a:cubicBezTo>
                        <a:cubicBezTo>
                          <a:pt x="359178" y="125613"/>
                          <a:pt x="299700" y="138266"/>
                          <a:pt x="245601" y="161148"/>
                        </a:cubicBezTo>
                        <a:lnTo>
                          <a:pt x="201571" y="185047"/>
                        </a:lnTo>
                        <a:lnTo>
                          <a:pt x="0" y="185047"/>
                        </a:lnTo>
                        <a:lnTo>
                          <a:pt x="13047" y="169233"/>
                        </a:lnTo>
                        <a:cubicBezTo>
                          <a:pt x="117608" y="64672"/>
                          <a:pt x="262058" y="0"/>
                          <a:pt x="421612" y="0"/>
                        </a:cubicBezTo>
                        <a:close/>
                      </a:path>
                    </a:pathLst>
                  </a:custGeom>
                  <a:solidFill>
                    <a:srgbClr val="90d1f6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79" name="矩形 27"/>
              <p:cNvSpPr/>
              <p:nvPr/>
            </p:nvSpPr>
            <p:spPr>
              <a:xfrm>
                <a:off x="423396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0" name="矩形 28"/>
              <p:cNvSpPr/>
              <p:nvPr/>
            </p:nvSpPr>
            <p:spPr>
              <a:xfrm>
                <a:off x="433692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1" name="矩形 29"/>
              <p:cNvSpPr/>
              <p:nvPr/>
            </p:nvSpPr>
            <p:spPr>
              <a:xfrm>
                <a:off x="4449240" y="4038480"/>
                <a:ext cx="70920" cy="70920"/>
              </a:xfrm>
              <a:prstGeom prst="rect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2" name="矩形 30"/>
              <p:cNvSpPr/>
              <p:nvPr/>
            </p:nvSpPr>
            <p:spPr>
              <a:xfrm>
                <a:off x="4211280" y="2628720"/>
                <a:ext cx="481680" cy="6264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3" name="矩形 31"/>
              <p:cNvSpPr/>
              <p:nvPr/>
            </p:nvSpPr>
            <p:spPr>
              <a:xfrm>
                <a:off x="4211280" y="2720880"/>
                <a:ext cx="660600" cy="3780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6840" bIns="-6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4" name="矩形 32"/>
              <p:cNvSpPr/>
              <p:nvPr/>
            </p:nvSpPr>
            <p:spPr>
              <a:xfrm>
                <a:off x="421128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5" name="矩形 33"/>
              <p:cNvSpPr/>
              <p:nvPr/>
            </p:nvSpPr>
            <p:spPr>
              <a:xfrm>
                <a:off x="432648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6" name="矩形 34"/>
              <p:cNvSpPr/>
              <p:nvPr/>
            </p:nvSpPr>
            <p:spPr>
              <a:xfrm>
                <a:off x="444204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" name="矩形 35"/>
              <p:cNvSpPr/>
              <p:nvPr/>
            </p:nvSpPr>
            <p:spPr>
              <a:xfrm>
                <a:off x="455724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" name="矩形 36"/>
              <p:cNvSpPr/>
              <p:nvPr/>
            </p:nvSpPr>
            <p:spPr>
              <a:xfrm>
                <a:off x="46728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" name="矩形 37"/>
              <p:cNvSpPr/>
              <p:nvPr/>
            </p:nvSpPr>
            <p:spPr>
              <a:xfrm>
                <a:off x="47880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" name="矩形 38"/>
              <p:cNvSpPr/>
              <p:nvPr/>
            </p:nvSpPr>
            <p:spPr>
              <a:xfrm>
                <a:off x="490320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" name="矩形 39"/>
              <p:cNvSpPr/>
              <p:nvPr/>
            </p:nvSpPr>
            <p:spPr>
              <a:xfrm>
                <a:off x="5018760" y="2788920"/>
                <a:ext cx="57960" cy="57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矩形 40"/>
              <p:cNvSpPr/>
              <p:nvPr/>
            </p:nvSpPr>
            <p:spPr>
              <a:xfrm>
                <a:off x="5932440" y="322128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" name="矩形 41"/>
              <p:cNvSpPr/>
              <p:nvPr/>
            </p:nvSpPr>
            <p:spPr>
              <a:xfrm>
                <a:off x="6017040" y="322128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" name="矩形 42"/>
              <p:cNvSpPr/>
              <p:nvPr/>
            </p:nvSpPr>
            <p:spPr>
              <a:xfrm>
                <a:off x="5932440" y="330192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" name="矩形 43"/>
              <p:cNvSpPr/>
              <p:nvPr/>
            </p:nvSpPr>
            <p:spPr>
              <a:xfrm>
                <a:off x="6017040" y="330192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" name="矩形 44"/>
              <p:cNvSpPr/>
              <p:nvPr/>
            </p:nvSpPr>
            <p:spPr>
              <a:xfrm>
                <a:off x="5932440" y="338220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" name="矩形 45"/>
              <p:cNvSpPr/>
              <p:nvPr/>
            </p:nvSpPr>
            <p:spPr>
              <a:xfrm>
                <a:off x="6017040" y="338220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" name="矩形 46"/>
              <p:cNvSpPr/>
              <p:nvPr/>
            </p:nvSpPr>
            <p:spPr>
              <a:xfrm>
                <a:off x="5932440" y="347328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" name="矩形 47"/>
              <p:cNvSpPr/>
              <p:nvPr/>
            </p:nvSpPr>
            <p:spPr>
              <a:xfrm>
                <a:off x="6017040" y="347328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" name="矩形 48"/>
              <p:cNvSpPr/>
              <p:nvPr/>
            </p:nvSpPr>
            <p:spPr>
              <a:xfrm>
                <a:off x="5932440" y="3564000"/>
                <a:ext cx="525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" name="矩形 49"/>
              <p:cNvSpPr/>
              <p:nvPr/>
            </p:nvSpPr>
            <p:spPr>
              <a:xfrm>
                <a:off x="6017040" y="3564000"/>
                <a:ext cx="318960" cy="52560"/>
              </a:xfrm>
              <a:prstGeom prst="rect">
                <a:avLst/>
              </a:prstGeom>
              <a:solidFill>
                <a:srgbClr val="59b8d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02" name="组合 50"/>
              <p:cNvGrpSpPr/>
              <p:nvPr/>
            </p:nvGrpSpPr>
            <p:grpSpPr>
              <a:xfrm>
                <a:off x="6042600" y="2979360"/>
                <a:ext cx="186840" cy="98280"/>
                <a:chOff x="6042600" y="2979360"/>
                <a:chExt cx="186840" cy="98280"/>
              </a:xfrm>
            </p:grpSpPr>
            <p:sp>
              <p:nvSpPr>
                <p:cNvPr id="503" name="矩形 51"/>
                <p:cNvSpPr/>
                <p:nvPr/>
              </p:nvSpPr>
              <p:spPr>
                <a:xfrm>
                  <a:off x="6042600" y="2979360"/>
                  <a:ext cx="127800" cy="98280"/>
                </a:xfrm>
                <a:prstGeom prst="rect">
                  <a:avLst/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4" name="梯形 52"/>
                <p:cNvSpPr/>
                <p:nvPr/>
              </p:nvSpPr>
              <p:spPr>
                <a:xfrm rot="16200000">
                  <a:off x="6156360" y="3000960"/>
                  <a:ext cx="87120" cy="58680"/>
                </a:xfrm>
                <a:prstGeom prst="trapezoid">
                  <a:avLst>
                    <a:gd name="adj" fmla="val 25000"/>
                  </a:avLst>
                </a:prstGeom>
                <a:solidFill>
                  <a:srgbClr val="e2edf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05" name="组合 130"/>
          <p:cNvGrpSpPr/>
          <p:nvPr/>
        </p:nvGrpSpPr>
        <p:grpSpPr>
          <a:xfrm>
            <a:off x="583920" y="1805040"/>
            <a:ext cx="2522160" cy="3236040"/>
            <a:chOff x="583920" y="1805040"/>
            <a:chExt cx="2522160" cy="3236040"/>
          </a:xfrm>
        </p:grpSpPr>
        <p:grpSp>
          <p:nvGrpSpPr>
            <p:cNvPr id="506" name="组合 129"/>
            <p:cNvGrpSpPr/>
            <p:nvPr/>
          </p:nvGrpSpPr>
          <p:grpSpPr>
            <a:xfrm>
              <a:off x="1055160" y="2800800"/>
              <a:ext cx="2050920" cy="2240280"/>
              <a:chOff x="1055160" y="2800800"/>
              <a:chExt cx="2050920" cy="2240280"/>
            </a:xfrm>
          </p:grpSpPr>
          <p:sp>
            <p:nvSpPr>
              <p:cNvPr id="507" name="椭圆 147"/>
              <p:cNvSpPr/>
              <p:nvPr/>
            </p:nvSpPr>
            <p:spPr>
              <a:xfrm>
                <a:off x="1055160" y="4995360"/>
                <a:ext cx="2050920" cy="4536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508" name="组合 128"/>
              <p:cNvGrpSpPr/>
              <p:nvPr/>
            </p:nvGrpSpPr>
            <p:grpSpPr>
              <a:xfrm>
                <a:off x="1482120" y="2800800"/>
                <a:ext cx="1177560" cy="2240280"/>
                <a:chOff x="1482120" y="2800800"/>
                <a:chExt cx="1177560" cy="2240280"/>
              </a:xfrm>
            </p:grpSpPr>
            <p:grpSp>
              <p:nvGrpSpPr>
                <p:cNvPr id="509" name="组合 139"/>
                <p:cNvGrpSpPr/>
                <p:nvPr/>
              </p:nvGrpSpPr>
              <p:grpSpPr>
                <a:xfrm>
                  <a:off x="1482120" y="2800800"/>
                  <a:ext cx="1177560" cy="2240280"/>
                  <a:chOff x="1482120" y="2800800"/>
                  <a:chExt cx="1177560" cy="2240280"/>
                </a:xfrm>
              </p:grpSpPr>
              <p:sp>
                <p:nvSpPr>
                  <p:cNvPr id="510" name="圆角矩形 151"/>
                  <p:cNvSpPr/>
                  <p:nvPr/>
                </p:nvSpPr>
                <p:spPr>
                  <a:xfrm>
                    <a:off x="1482120" y="280080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1" name="矩形 152"/>
                  <p:cNvSpPr/>
                  <p:nvPr/>
                </p:nvSpPr>
                <p:spPr>
                  <a:xfrm>
                    <a:off x="1535760" y="313668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2" name="组合 140"/>
                <p:cNvGrpSpPr/>
                <p:nvPr/>
              </p:nvGrpSpPr>
              <p:grpSpPr>
                <a:xfrm>
                  <a:off x="1917360" y="2903760"/>
                  <a:ext cx="300600" cy="127080"/>
                  <a:chOff x="1917360" y="2903760"/>
                  <a:chExt cx="300600" cy="127080"/>
                </a:xfrm>
              </p:grpSpPr>
              <p:sp>
                <p:nvSpPr>
                  <p:cNvPr id="513" name="椭圆 149"/>
                  <p:cNvSpPr/>
                  <p:nvPr/>
                </p:nvSpPr>
                <p:spPr>
                  <a:xfrm>
                    <a:off x="2036160" y="290376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" name="圆角矩形 150"/>
                  <p:cNvSpPr/>
                  <p:nvPr/>
                </p:nvSpPr>
                <p:spPr>
                  <a:xfrm>
                    <a:off x="1917360" y="299124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15" name="椭圆 141"/>
                <p:cNvSpPr/>
                <p:nvPr/>
              </p:nvSpPr>
              <p:spPr>
                <a:xfrm>
                  <a:off x="1965240" y="480024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组合 127"/>
              <p:cNvGrpSpPr/>
              <p:nvPr/>
            </p:nvGrpSpPr>
            <p:grpSpPr>
              <a:xfrm>
                <a:off x="1667520" y="3512160"/>
                <a:ext cx="834480" cy="1141920"/>
                <a:chOff x="1667520" y="3512160"/>
                <a:chExt cx="834480" cy="1141920"/>
              </a:xfrm>
            </p:grpSpPr>
            <p:pic>
              <p:nvPicPr>
                <p:cNvPr id="517" name="图片 14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752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图片 1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8648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图片 14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05800" y="3512160"/>
                  <a:ext cx="195120" cy="196560"/>
                </a:xfrm>
                <a:prstGeom prst="rect">
                  <a:avLst/>
                </a:prstGeom>
                <a:ln w="0">
                  <a:noFill/>
                </a:ln>
                <a:effectLst>
                  <a:glow rad="63360">
                    <a:srgbClr val="1465f4">
                      <a:alpha val="40000"/>
                    </a:srgbClr>
                  </a:glow>
                </a:effectLst>
              </p:spPr>
            </p:pic>
            <p:pic>
              <p:nvPicPr>
                <p:cNvPr id="520" name="图片 1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6752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图片 1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8648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图片 15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05800" y="3844440"/>
                  <a:ext cx="195120" cy="19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3" name="组合 120"/>
                <p:cNvGrpSpPr/>
                <p:nvPr/>
              </p:nvGrpSpPr>
              <p:grpSpPr>
                <a:xfrm>
                  <a:off x="1888200" y="4489920"/>
                  <a:ext cx="359280" cy="164160"/>
                  <a:chOff x="1888200" y="4489920"/>
                  <a:chExt cx="359280" cy="164160"/>
                </a:xfrm>
              </p:grpSpPr>
              <p:sp>
                <p:nvSpPr>
                  <p:cNvPr id="524" name="圆角矩形 121"/>
                  <p:cNvSpPr/>
                  <p:nvPr/>
                </p:nvSpPr>
                <p:spPr>
                  <a:xfrm>
                    <a:off x="1888200" y="4517640"/>
                    <a:ext cx="359280" cy="1364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55a5b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525" name="组合 122"/>
                  <p:cNvGrpSpPr/>
                  <p:nvPr/>
                </p:nvGrpSpPr>
                <p:grpSpPr>
                  <a:xfrm>
                    <a:off x="1988280" y="4489920"/>
                    <a:ext cx="182880" cy="153000"/>
                    <a:chOff x="1988280" y="4489920"/>
                    <a:chExt cx="182880" cy="153000"/>
                  </a:xfrm>
                </p:grpSpPr>
                <p:sp>
                  <p:nvSpPr>
                    <p:cNvPr id="526" name="Freeform 5"/>
                    <p:cNvSpPr/>
                    <p:nvPr/>
                  </p:nvSpPr>
                  <p:spPr>
                    <a:xfrm rot="6743400">
                      <a:off x="2117160" y="4574520"/>
                      <a:ext cx="32760" cy="50760"/>
                    </a:xfrm>
                    <a:custGeom>
                      <a:avLst/>
                      <a:gdLst>
                        <a:gd name="textAreaLeft" fmla="*/ 0 w 32760"/>
                        <a:gd name="textAreaRight" fmla="*/ 33120 w 3276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39" h="61">
                          <a:moveTo>
                            <a:pt x="37" y="46"/>
                          </a:moveTo>
                          <a:cubicBezTo>
                            <a:pt x="39" y="51"/>
                            <a:pt x="37" y="57"/>
                            <a:pt x="31" y="59"/>
                          </a:cubicBezTo>
                          <a:cubicBezTo>
                            <a:pt x="31" y="59"/>
                            <a:pt x="31" y="59"/>
                            <a:pt x="31" y="59"/>
                          </a:cubicBezTo>
                          <a:cubicBezTo>
                            <a:pt x="26" y="61"/>
                            <a:pt x="20" y="59"/>
                            <a:pt x="18" y="54"/>
                          </a:cubicBezTo>
                          <a:cubicBezTo>
                            <a:pt x="2" y="15"/>
                            <a:pt x="2" y="15"/>
                            <a:pt x="2" y="15"/>
                          </a:cubicBezTo>
                          <a:cubicBezTo>
                            <a:pt x="0" y="10"/>
                            <a:pt x="2" y="4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3" y="0"/>
                            <a:pt x="19" y="2"/>
                            <a:pt x="21" y="7"/>
                          </a:cubicBezTo>
                          <a:lnTo>
                            <a:pt x="37" y="46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7" name="Freeform 6"/>
                    <p:cNvSpPr/>
                    <p:nvPr/>
                  </p:nvSpPr>
                  <p:spPr>
                    <a:xfrm rot="6743400">
                      <a:off x="2001960" y="4574880"/>
                      <a:ext cx="33480" cy="51840"/>
                    </a:xfrm>
                    <a:custGeom>
                      <a:avLst/>
                      <a:gdLst>
                        <a:gd name="textAreaLeft" fmla="*/ 0 w 33480"/>
                        <a:gd name="textAreaRight" fmla="*/ 33840 w 33480"/>
                        <a:gd name="textAreaTop" fmla="*/ 0 h 51840"/>
                        <a:gd name="textAreaBottom" fmla="*/ 52200 h 51840"/>
                      </a:gdLst>
                      <a:ahLst/>
                      <a:rect l="textAreaLeft" t="textAreaTop" r="textAreaRight" b="textAreaBottom"/>
                      <a:pathLst>
                        <a:path w="40" h="62">
                          <a:moveTo>
                            <a:pt x="38" y="46"/>
                          </a:moveTo>
                          <a:cubicBezTo>
                            <a:pt x="40" y="51"/>
                            <a:pt x="37" y="57"/>
                            <a:pt x="32" y="59"/>
                          </a:cubicBezTo>
                          <a:cubicBezTo>
                            <a:pt x="32" y="59"/>
                            <a:pt x="32" y="59"/>
                            <a:pt x="32" y="59"/>
                          </a:cubicBezTo>
                          <a:cubicBezTo>
                            <a:pt x="27" y="62"/>
                            <a:pt x="21" y="59"/>
                            <a:pt x="19" y="54"/>
                          </a:cubicBezTo>
                          <a:cubicBezTo>
                            <a:pt x="3" y="16"/>
                            <a:pt x="3" y="16"/>
                            <a:pt x="3" y="16"/>
                          </a:cubicBezTo>
                          <a:cubicBezTo>
                            <a:pt x="0" y="11"/>
                            <a:pt x="3" y="5"/>
                            <a:pt x="8" y="2"/>
                          </a:cubicBezTo>
                          <a:cubicBezTo>
                            <a:pt x="8" y="2"/>
                            <a:pt x="8" y="2"/>
                            <a:pt x="8" y="2"/>
                          </a:cubicBezTo>
                          <a:cubicBezTo>
                            <a:pt x="14" y="0"/>
                            <a:pt x="20" y="3"/>
                            <a:pt x="22" y="8"/>
                          </a:cubicBezTo>
                          <a:lnTo>
                            <a:pt x="38" y="46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tIns="25920" bIns="25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8" name="Freeform 7"/>
                    <p:cNvSpPr/>
                    <p:nvPr/>
                  </p:nvSpPr>
                  <p:spPr>
                    <a:xfrm rot="6743400">
                      <a:off x="2029680" y="4489920"/>
                      <a:ext cx="102240" cy="152640"/>
                    </a:xfrm>
                    <a:custGeom>
                      <a:avLst/>
                      <a:gdLst>
                        <a:gd name="textAreaLeft" fmla="*/ 0 w 102240"/>
                        <a:gd name="textAreaRight" fmla="*/ 102600 w 102240"/>
                        <a:gd name="textAreaTop" fmla="*/ 0 h 152640"/>
                        <a:gd name="textAreaBottom" fmla="*/ 153000 h 152640"/>
                      </a:gdLst>
                      <a:ahLst/>
                      <a:rect l="textAreaLeft" t="textAreaTop" r="textAreaRight" b="textAreaBottom"/>
                      <a:pathLst>
                        <a:path w="121" h="182">
                          <a:moveTo>
                            <a:pt x="121" y="175"/>
                          </a:moveTo>
                          <a:cubicBezTo>
                            <a:pt x="61" y="182"/>
                            <a:pt x="0" y="39"/>
                            <a:pt x="47" y="0"/>
                          </a:cubicBezTo>
                          <a:cubicBezTo>
                            <a:pt x="68" y="51"/>
                            <a:pt x="68" y="51"/>
                            <a:pt x="68" y="51"/>
                          </a:cubicBezTo>
                          <a:cubicBezTo>
                            <a:pt x="49" y="54"/>
                            <a:pt x="89" y="139"/>
                            <a:pt x="100" y="125"/>
                          </a:cubicBezTo>
                          <a:lnTo>
                            <a:pt x="121" y="175"/>
                          </a:lnTo>
                          <a:close/>
                        </a:path>
                      </a:pathLst>
                    </a:custGeom>
                    <a:solidFill>
                      <a:schemeClr val="bg1"/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numCol="1" spcCol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529" name="Freeform 20"/>
                <p:cNvSpPr/>
                <p:nvPr/>
              </p:nvSpPr>
              <p:spPr>
                <a:xfrm>
                  <a:off x="1987560" y="4226040"/>
                  <a:ext cx="193680" cy="1605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96" h="162">
                      <a:moveTo>
                        <a:pt x="196" y="78"/>
                      </a:moveTo>
                      <a:cubicBezTo>
                        <a:pt x="196" y="44"/>
                        <a:pt x="166" y="16"/>
                        <a:pt x="127" y="10"/>
                      </a:cubicBezTo>
                      <a:cubicBezTo>
                        <a:pt x="115" y="4"/>
                        <a:pt x="101" y="0"/>
                        <a:pt x="86" y="0"/>
                      </a:cubicBezTo>
                      <a:cubicBezTo>
                        <a:pt x="39" y="0"/>
                        <a:pt x="0" y="32"/>
                        <a:pt x="0" y="72"/>
                      </a:cubicBezTo>
                      <a:cubicBezTo>
                        <a:pt x="0" y="90"/>
                        <a:pt x="6" y="105"/>
                        <a:pt x="17" y="117"/>
                      </a:cubicBezTo>
                      <a:cubicBezTo>
                        <a:pt x="28" y="129"/>
                        <a:pt x="44" y="135"/>
                        <a:pt x="58" y="139"/>
                      </a:cubicBezTo>
                      <a:cubicBezTo>
                        <a:pt x="59" y="146"/>
                        <a:pt x="57" y="154"/>
                        <a:pt x="52" y="162"/>
                      </a:cubicBezTo>
                      <a:cubicBezTo>
                        <a:pt x="70" y="160"/>
                        <a:pt x="74" y="158"/>
                        <a:pt x="93" y="146"/>
                      </a:cubicBezTo>
                      <a:cubicBezTo>
                        <a:pt x="95" y="146"/>
                        <a:pt x="103" y="147"/>
                        <a:pt x="113" y="147"/>
                      </a:cubicBezTo>
                      <a:cubicBezTo>
                        <a:pt x="125" y="154"/>
                        <a:pt x="130" y="155"/>
                        <a:pt x="145" y="157"/>
                      </a:cubicBezTo>
                      <a:cubicBezTo>
                        <a:pt x="149" y="157"/>
                        <a:pt x="149" y="157"/>
                        <a:pt x="149" y="157"/>
                      </a:cubicBezTo>
                      <a:cubicBezTo>
                        <a:pt x="147" y="154"/>
                        <a:pt x="147" y="154"/>
                        <a:pt x="147" y="154"/>
                      </a:cubicBezTo>
                      <a:cubicBezTo>
                        <a:pt x="144" y="151"/>
                        <a:pt x="143" y="147"/>
                        <a:pt x="142" y="143"/>
                      </a:cubicBezTo>
                      <a:cubicBezTo>
                        <a:pt x="169" y="136"/>
                        <a:pt x="196" y="119"/>
                        <a:pt x="196" y="78"/>
                      </a:cubicBezTo>
                      <a:close/>
                      <a:moveTo>
                        <a:pt x="19" y="115"/>
                      </a:moveTo>
                      <a:cubicBezTo>
                        <a:pt x="8" y="104"/>
                        <a:pt x="3" y="89"/>
                        <a:pt x="4" y="72"/>
                      </a:cubicBezTo>
                      <a:cubicBezTo>
                        <a:pt x="4" y="34"/>
                        <a:pt x="40" y="4"/>
                        <a:pt x="86" y="4"/>
                      </a:cubicBezTo>
                      <a:cubicBezTo>
                        <a:pt x="96" y="4"/>
                        <a:pt x="106" y="5"/>
                        <a:pt x="116" y="8"/>
                      </a:cubicBezTo>
                      <a:cubicBezTo>
                        <a:pt x="114" y="8"/>
                        <a:pt x="113" y="8"/>
                        <a:pt x="112" y="8"/>
                      </a:cubicBezTo>
                      <a:cubicBezTo>
                        <a:pt x="66" y="8"/>
                        <a:pt x="28" y="39"/>
                        <a:pt x="28" y="78"/>
                      </a:cubicBezTo>
                      <a:cubicBezTo>
                        <a:pt x="28" y="96"/>
                        <a:pt x="36" y="112"/>
                        <a:pt x="50" y="124"/>
                      </a:cubicBezTo>
                      <a:cubicBezTo>
                        <a:pt x="54" y="127"/>
                        <a:pt x="56" y="131"/>
                        <a:pt x="57" y="135"/>
                      </a:cubicBezTo>
                      <a:cubicBezTo>
                        <a:pt x="44" y="132"/>
                        <a:pt x="29" y="126"/>
                        <a:pt x="19" y="115"/>
                      </a:cubicBezTo>
                      <a:close/>
                      <a:moveTo>
                        <a:pt x="142" y="153"/>
                      </a:moveTo>
                      <a:cubicBezTo>
                        <a:pt x="132" y="152"/>
                        <a:pt x="127" y="151"/>
                        <a:pt x="119" y="146"/>
                      </a:cubicBezTo>
                      <a:cubicBezTo>
                        <a:pt x="125" y="146"/>
                        <a:pt x="132" y="145"/>
                        <a:pt x="139" y="143"/>
                      </a:cubicBezTo>
                      <a:cubicBezTo>
                        <a:pt x="139" y="147"/>
                        <a:pt x="141" y="150"/>
                        <a:pt x="142" y="153"/>
                      </a:cubicBezTo>
                      <a:close/>
                    </a:path>
                  </a:pathLst>
                </a:custGeom>
                <a:solidFill>
                  <a:srgbClr val="f2f2f2">
                    <a:alpha val="7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0" name="Freeform 24"/>
                <p:cNvSpPr/>
                <p:nvPr/>
              </p:nvSpPr>
              <p:spPr>
                <a:xfrm>
                  <a:off x="1669320" y="4222080"/>
                  <a:ext cx="183960" cy="1645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97" h="176">
                      <a:moveTo>
                        <a:pt x="176" y="93"/>
                      </a:moveTo>
                      <a:cubicBezTo>
                        <a:pt x="176" y="93"/>
                        <a:pt x="176" y="92"/>
                        <a:pt x="176" y="92"/>
                      </a:cubicBezTo>
                      <a:cubicBezTo>
                        <a:pt x="176" y="50"/>
                        <a:pt x="142" y="15"/>
                        <a:pt x="100" y="15"/>
                      </a:cubicBezTo>
                      <a:cubicBezTo>
                        <a:pt x="95" y="15"/>
                        <a:pt x="91" y="16"/>
                        <a:pt x="86" y="17"/>
                      </a:cubicBezTo>
                      <a:cubicBezTo>
                        <a:pt x="77" y="7"/>
                        <a:pt x="64" y="0"/>
                        <a:pt x="49" y="0"/>
                      </a:cubicBezTo>
                      <a:cubicBezTo>
                        <a:pt x="22" y="0"/>
                        <a:pt x="0" y="21"/>
                        <a:pt x="0" y="46"/>
                      </a:cubicBezTo>
                      <a:cubicBezTo>
                        <a:pt x="0" y="63"/>
                        <a:pt x="10" y="77"/>
                        <a:pt x="24" y="85"/>
                      </a:cubicBezTo>
                      <a:cubicBezTo>
                        <a:pt x="24" y="87"/>
                        <a:pt x="24" y="90"/>
                        <a:pt x="24" y="92"/>
                      </a:cubicBezTo>
                      <a:cubicBezTo>
                        <a:pt x="24" y="134"/>
                        <a:pt x="58" y="168"/>
                        <a:pt x="100" y="168"/>
                      </a:cubicBezTo>
                      <a:cubicBezTo>
                        <a:pt x="106" y="168"/>
                        <a:pt x="112" y="167"/>
                        <a:pt x="117" y="166"/>
                      </a:cubicBezTo>
                      <a:cubicBezTo>
                        <a:pt x="126" y="172"/>
                        <a:pt x="137" y="176"/>
                        <a:pt x="148" y="176"/>
                      </a:cubicBezTo>
                      <a:cubicBezTo>
                        <a:pt x="175" y="176"/>
                        <a:pt x="197" y="156"/>
                        <a:pt x="197" y="131"/>
                      </a:cubicBezTo>
                      <a:cubicBezTo>
                        <a:pt x="197" y="115"/>
                        <a:pt x="188" y="101"/>
                        <a:pt x="176" y="93"/>
                      </a:cubicBezTo>
                      <a:close/>
                      <a:moveTo>
                        <a:pt x="137" y="123"/>
                      </a:moveTo>
                      <a:cubicBezTo>
                        <a:pt x="135" y="127"/>
                        <a:pt x="132" y="131"/>
                        <a:pt x="129" y="134"/>
                      </a:cubicBezTo>
                      <a:cubicBezTo>
                        <a:pt x="125" y="137"/>
                        <a:pt x="121" y="140"/>
                        <a:pt x="116" y="141"/>
                      </a:cubicBezTo>
                      <a:cubicBezTo>
                        <a:pt x="111" y="143"/>
                        <a:pt x="106" y="144"/>
                        <a:pt x="100" y="144"/>
                      </a:cubicBezTo>
                      <a:cubicBezTo>
                        <a:pt x="74" y="144"/>
                        <a:pt x="60" y="132"/>
                        <a:pt x="57" y="108"/>
                      </a:cubicBezTo>
                      <a:cubicBezTo>
                        <a:pt x="82" y="108"/>
                        <a:pt x="82" y="108"/>
                        <a:pt x="82" y="108"/>
                      </a:cubicBezTo>
                      <a:cubicBezTo>
                        <a:pt x="83" y="117"/>
                        <a:pt x="89" y="122"/>
                        <a:pt x="100" y="122"/>
                      </a:cubicBezTo>
                      <a:cubicBezTo>
                        <a:pt x="105" y="122"/>
                        <a:pt x="109" y="121"/>
                        <a:pt x="112" y="118"/>
                      </a:cubicBezTo>
                      <a:cubicBezTo>
                        <a:pt x="114" y="116"/>
                        <a:pt x="116" y="114"/>
                        <a:pt x="116" y="110"/>
                      </a:cubicBezTo>
                      <a:cubicBezTo>
                        <a:pt x="116" y="109"/>
                        <a:pt x="115" y="108"/>
                        <a:pt x="115" y="107"/>
                      </a:cubicBezTo>
                      <a:cubicBezTo>
                        <a:pt x="114" y="106"/>
                        <a:pt x="113" y="105"/>
                        <a:pt x="111" y="104"/>
                      </a:cubicBezTo>
                      <a:cubicBezTo>
                        <a:pt x="110" y="103"/>
                        <a:pt x="107" y="102"/>
                        <a:pt x="104" y="101"/>
                      </a:cubicBezTo>
                      <a:cubicBezTo>
                        <a:pt x="101" y="100"/>
                        <a:pt x="98" y="99"/>
                        <a:pt x="93" y="98"/>
                      </a:cubicBezTo>
                      <a:cubicBezTo>
                        <a:pt x="87" y="96"/>
                        <a:pt x="82" y="95"/>
                        <a:pt x="78" y="93"/>
                      </a:cubicBezTo>
                      <a:cubicBezTo>
                        <a:pt x="74" y="91"/>
                        <a:pt x="70" y="89"/>
                        <a:pt x="67" y="87"/>
                      </a:cubicBezTo>
                      <a:cubicBezTo>
                        <a:pt x="65" y="85"/>
                        <a:pt x="63" y="82"/>
                        <a:pt x="61" y="78"/>
                      </a:cubicBezTo>
                      <a:cubicBezTo>
                        <a:pt x="60" y="75"/>
                        <a:pt x="59" y="70"/>
                        <a:pt x="59" y="65"/>
                      </a:cubicBezTo>
                      <a:cubicBezTo>
                        <a:pt x="59" y="60"/>
                        <a:pt x="60" y="56"/>
                        <a:pt x="62" y="52"/>
                      </a:cubicBezTo>
                      <a:cubicBezTo>
                        <a:pt x="64" y="48"/>
                        <a:pt x="66" y="45"/>
                        <a:pt x="70" y="42"/>
                      </a:cubicBezTo>
                      <a:cubicBezTo>
                        <a:pt x="73" y="39"/>
                        <a:pt x="77" y="36"/>
                        <a:pt x="81" y="35"/>
                      </a:cubicBezTo>
                      <a:cubicBezTo>
                        <a:pt x="86" y="33"/>
                        <a:pt x="91" y="32"/>
                        <a:pt x="97" y="32"/>
                      </a:cubicBezTo>
                      <a:cubicBezTo>
                        <a:pt x="122" y="32"/>
                        <a:pt x="135" y="43"/>
                        <a:pt x="137" y="65"/>
                      </a:cubicBezTo>
                      <a:cubicBezTo>
                        <a:pt x="113" y="65"/>
                        <a:pt x="113" y="65"/>
                        <a:pt x="113" y="65"/>
                      </a:cubicBezTo>
                      <a:cubicBezTo>
                        <a:pt x="111" y="58"/>
                        <a:pt x="106" y="55"/>
                        <a:pt x="98" y="55"/>
                      </a:cubicBezTo>
                      <a:cubicBezTo>
                        <a:pt x="96" y="55"/>
                        <a:pt x="94" y="55"/>
                        <a:pt x="92" y="55"/>
                      </a:cubicBezTo>
                      <a:cubicBezTo>
                        <a:pt x="90" y="56"/>
                        <a:pt x="89" y="56"/>
                        <a:pt x="88" y="57"/>
                      </a:cubicBezTo>
                      <a:cubicBezTo>
                        <a:pt x="86" y="58"/>
                        <a:pt x="85" y="59"/>
                        <a:pt x="84" y="60"/>
                      </a:cubicBezTo>
                      <a:cubicBezTo>
                        <a:pt x="84" y="61"/>
                        <a:pt x="83" y="62"/>
                        <a:pt x="83" y="63"/>
                      </a:cubicBezTo>
                      <a:cubicBezTo>
                        <a:pt x="83" y="65"/>
                        <a:pt x="84" y="66"/>
                        <a:pt x="84" y="66"/>
                      </a:cubicBezTo>
                      <a:cubicBezTo>
                        <a:pt x="84" y="67"/>
                        <a:pt x="85" y="68"/>
                        <a:pt x="87" y="69"/>
                      </a:cubicBezTo>
                      <a:cubicBezTo>
                        <a:pt x="88" y="69"/>
                        <a:pt x="90" y="70"/>
                        <a:pt x="93" y="71"/>
                      </a:cubicBezTo>
                      <a:cubicBezTo>
                        <a:pt x="96" y="72"/>
                        <a:pt x="100" y="73"/>
                        <a:pt x="105" y="74"/>
                      </a:cubicBezTo>
                      <a:cubicBezTo>
                        <a:pt x="111" y="76"/>
                        <a:pt x="116" y="77"/>
                        <a:pt x="120" y="79"/>
                      </a:cubicBezTo>
                      <a:cubicBezTo>
                        <a:pt x="125" y="81"/>
                        <a:pt x="128" y="83"/>
                        <a:pt x="131" y="86"/>
                      </a:cubicBezTo>
                      <a:cubicBezTo>
                        <a:pt x="134" y="88"/>
                        <a:pt x="136" y="91"/>
                        <a:pt x="138" y="95"/>
                      </a:cubicBezTo>
                      <a:cubicBezTo>
                        <a:pt x="139" y="99"/>
                        <a:pt x="140" y="103"/>
                        <a:pt x="140" y="109"/>
                      </a:cubicBezTo>
                      <a:cubicBezTo>
                        <a:pt x="140" y="114"/>
                        <a:pt x="139" y="118"/>
                        <a:pt x="137" y="123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  <a:alpha val="75000"/>
                  </a:scheme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531" name="图片 15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319840" y="4205160"/>
                  <a:ext cx="182160" cy="181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32" name="组合 112"/>
            <p:cNvGrpSpPr/>
            <p:nvPr/>
          </p:nvGrpSpPr>
          <p:grpSpPr>
            <a:xfrm>
              <a:off x="583920" y="1805040"/>
              <a:ext cx="2161440" cy="1162440"/>
              <a:chOff x="583920" y="1805040"/>
              <a:chExt cx="2161440" cy="1162440"/>
            </a:xfrm>
          </p:grpSpPr>
          <p:grpSp>
            <p:nvGrpSpPr>
              <p:cNvPr id="533" name="组合 111"/>
              <p:cNvGrpSpPr/>
              <p:nvPr/>
            </p:nvGrpSpPr>
            <p:grpSpPr>
              <a:xfrm>
                <a:off x="644040" y="1805040"/>
                <a:ext cx="2101320" cy="1117080"/>
                <a:chOff x="644040" y="1805040"/>
                <a:chExt cx="2101320" cy="1117080"/>
              </a:xfrm>
            </p:grpSpPr>
            <p:sp>
              <p:nvSpPr>
                <p:cNvPr id="534" name="任意多边形 107"/>
                <p:cNvSpPr/>
                <p:nvPr/>
              </p:nvSpPr>
              <p:spPr>
                <a:xfrm>
                  <a:off x="866160" y="1805040"/>
                  <a:ext cx="1879200" cy="1117080"/>
                </a:xfrm>
                <a:custGeom>
                  <a:avLst/>
                  <a:gdLst>
                    <a:gd name="textAreaLeft" fmla="*/ 0 w 1879200"/>
                    <a:gd name="textAreaRight" fmla="*/ 1879560 w 1879200"/>
                    <a:gd name="textAreaTop" fmla="*/ 0 h 1117080"/>
                    <a:gd name="textAreaBottom" fmla="*/ 1117440 h 1117080"/>
                  </a:gdLst>
                  <a:ahLst/>
                  <a:rect l="textAreaLeft" t="textAreaTop" r="textAreaRight" b="textAreaBottom"/>
                  <a:pathLst>
                    <a:path w="1879600" h="1117618">
                      <a:moveTo>
                        <a:pt x="1384300" y="1003300"/>
                      </a:moveTo>
                      <a:cubicBezTo>
                        <a:pt x="1377049" y="967046"/>
                        <a:pt x="1369661" y="924871"/>
                        <a:pt x="1358900" y="889000"/>
                      </a:cubicBezTo>
                      <a:cubicBezTo>
                        <a:pt x="1351207" y="863355"/>
                        <a:pt x="1341967" y="838200"/>
                        <a:pt x="1333500" y="812800"/>
                      </a:cubicBezTo>
                      <a:lnTo>
                        <a:pt x="1320800" y="774700"/>
                      </a:lnTo>
                      <a:cubicBezTo>
                        <a:pt x="1325033" y="749300"/>
                        <a:pt x="1323042" y="722031"/>
                        <a:pt x="1333500" y="698500"/>
                      </a:cubicBezTo>
                      <a:cubicBezTo>
                        <a:pt x="1353337" y="653866"/>
                        <a:pt x="1410008" y="647597"/>
                        <a:pt x="1447800" y="635000"/>
                      </a:cubicBezTo>
                      <a:lnTo>
                        <a:pt x="1562100" y="596900"/>
                      </a:lnTo>
                      <a:cubicBezTo>
                        <a:pt x="1574800" y="592667"/>
                        <a:pt x="1586895" y="585678"/>
                        <a:pt x="1600200" y="584200"/>
                      </a:cubicBezTo>
                      <a:lnTo>
                        <a:pt x="1714500" y="571500"/>
                      </a:lnTo>
                      <a:lnTo>
                        <a:pt x="1790700" y="546100"/>
                      </a:lnTo>
                      <a:lnTo>
                        <a:pt x="1828800" y="533400"/>
                      </a:lnTo>
                      <a:cubicBezTo>
                        <a:pt x="1837267" y="520700"/>
                        <a:pt x="1848187" y="509329"/>
                        <a:pt x="1854200" y="495300"/>
                      </a:cubicBezTo>
                      <a:cubicBezTo>
                        <a:pt x="1861076" y="479257"/>
                        <a:pt x="1862105" y="461283"/>
                        <a:pt x="1866900" y="444500"/>
                      </a:cubicBezTo>
                      <a:cubicBezTo>
                        <a:pt x="1870578" y="431628"/>
                        <a:pt x="1875367" y="419100"/>
                        <a:pt x="1879600" y="406400"/>
                      </a:cubicBezTo>
                      <a:cubicBezTo>
                        <a:pt x="1875367" y="325967"/>
                        <a:pt x="1881308" y="244345"/>
                        <a:pt x="1866900" y="165100"/>
                      </a:cubicBezTo>
                      <a:cubicBezTo>
                        <a:pt x="1863687" y="147429"/>
                        <a:pt x="1840298" y="140798"/>
                        <a:pt x="1828800" y="127000"/>
                      </a:cubicBezTo>
                      <a:cubicBezTo>
                        <a:pt x="1819029" y="115274"/>
                        <a:pt x="1814193" y="99693"/>
                        <a:pt x="1803400" y="88900"/>
                      </a:cubicBezTo>
                      <a:cubicBezTo>
                        <a:pt x="1772466" y="57966"/>
                        <a:pt x="1755306" y="62459"/>
                        <a:pt x="1714500" y="50800"/>
                      </a:cubicBezTo>
                      <a:cubicBezTo>
                        <a:pt x="1701628" y="47122"/>
                        <a:pt x="1688705" y="43373"/>
                        <a:pt x="1676400" y="38100"/>
                      </a:cubicBezTo>
                      <a:cubicBezTo>
                        <a:pt x="1658999" y="30642"/>
                        <a:pt x="1644047" y="16957"/>
                        <a:pt x="1625600" y="12700"/>
                      </a:cubicBezTo>
                      <a:cubicBezTo>
                        <a:pt x="1588247" y="4080"/>
                        <a:pt x="1549400" y="4233"/>
                        <a:pt x="1511300" y="0"/>
                      </a:cubicBezTo>
                      <a:cubicBezTo>
                        <a:pt x="1473200" y="4233"/>
                        <a:pt x="1430752" y="-5474"/>
                        <a:pt x="1397000" y="12700"/>
                      </a:cubicBezTo>
                      <a:cubicBezTo>
                        <a:pt x="1370122" y="27173"/>
                        <a:pt x="1346200" y="88900"/>
                        <a:pt x="1346200" y="88900"/>
                      </a:cubicBezTo>
                      <a:cubicBezTo>
                        <a:pt x="1341967" y="105833"/>
                        <a:pt x="1333500" y="122246"/>
                        <a:pt x="1333500" y="139700"/>
                      </a:cubicBezTo>
                      <a:cubicBezTo>
                        <a:pt x="1333500" y="186459"/>
                        <a:pt x="1336403" y="233679"/>
                        <a:pt x="1346200" y="279400"/>
                      </a:cubicBezTo>
                      <a:cubicBezTo>
                        <a:pt x="1353823" y="314973"/>
                        <a:pt x="1379224" y="324659"/>
                        <a:pt x="1409700" y="330200"/>
                      </a:cubicBezTo>
                      <a:cubicBezTo>
                        <a:pt x="1443280" y="336305"/>
                        <a:pt x="1477433" y="338667"/>
                        <a:pt x="1511300" y="342900"/>
                      </a:cubicBezTo>
                      <a:cubicBezTo>
                        <a:pt x="1535578" y="359085"/>
                        <a:pt x="1572456" y="380073"/>
                        <a:pt x="1587500" y="406400"/>
                      </a:cubicBezTo>
                      <a:cubicBezTo>
                        <a:pt x="1596160" y="421555"/>
                        <a:pt x="1595405" y="440417"/>
                        <a:pt x="1600200" y="457200"/>
                      </a:cubicBezTo>
                      <a:cubicBezTo>
                        <a:pt x="1603878" y="470072"/>
                        <a:pt x="1609653" y="482313"/>
                        <a:pt x="1612900" y="495300"/>
                      </a:cubicBezTo>
                      <a:cubicBezTo>
                        <a:pt x="1622366" y="533164"/>
                        <a:pt x="1629833" y="571500"/>
                        <a:pt x="1638300" y="609600"/>
                      </a:cubicBezTo>
                      <a:cubicBezTo>
                        <a:pt x="1634067" y="630767"/>
                        <a:pt x="1635253" y="653793"/>
                        <a:pt x="1625600" y="673100"/>
                      </a:cubicBezTo>
                      <a:cubicBezTo>
                        <a:pt x="1617568" y="689164"/>
                        <a:pt x="1603200" y="702478"/>
                        <a:pt x="1587500" y="711200"/>
                      </a:cubicBezTo>
                      <a:cubicBezTo>
                        <a:pt x="1551246" y="731341"/>
                        <a:pt x="1488839" y="741092"/>
                        <a:pt x="1447800" y="749300"/>
                      </a:cubicBezTo>
                      <a:cubicBezTo>
                        <a:pt x="1350433" y="745067"/>
                        <a:pt x="1252892" y="743799"/>
                        <a:pt x="1155700" y="736600"/>
                      </a:cubicBezTo>
                      <a:cubicBezTo>
                        <a:pt x="1138293" y="735311"/>
                        <a:pt x="1120512" y="731706"/>
                        <a:pt x="1104900" y="723900"/>
                      </a:cubicBezTo>
                      <a:cubicBezTo>
                        <a:pt x="1077596" y="710248"/>
                        <a:pt x="1028700" y="673100"/>
                        <a:pt x="1028700" y="673100"/>
                      </a:cubicBezTo>
                      <a:cubicBezTo>
                        <a:pt x="1020233" y="660400"/>
                        <a:pt x="1016243" y="643090"/>
                        <a:pt x="1003300" y="635000"/>
                      </a:cubicBezTo>
                      <a:cubicBezTo>
                        <a:pt x="980596" y="620810"/>
                        <a:pt x="952500" y="618067"/>
                        <a:pt x="927100" y="609600"/>
                      </a:cubicBezTo>
                      <a:cubicBezTo>
                        <a:pt x="914400" y="605367"/>
                        <a:pt x="900139" y="604326"/>
                        <a:pt x="889000" y="596900"/>
                      </a:cubicBezTo>
                      <a:lnTo>
                        <a:pt x="812800" y="546100"/>
                      </a:lnTo>
                      <a:lnTo>
                        <a:pt x="774700" y="520700"/>
                      </a:lnTo>
                      <a:cubicBezTo>
                        <a:pt x="762000" y="512233"/>
                        <a:pt x="751408" y="499002"/>
                        <a:pt x="736600" y="495300"/>
                      </a:cubicBezTo>
                      <a:cubicBezTo>
                        <a:pt x="702733" y="486833"/>
                        <a:pt x="668118" y="480939"/>
                        <a:pt x="635000" y="469900"/>
                      </a:cubicBezTo>
                      <a:lnTo>
                        <a:pt x="558800" y="444500"/>
                      </a:lnTo>
                      <a:cubicBezTo>
                        <a:pt x="508000" y="448733"/>
                        <a:pt x="442446" y="421154"/>
                        <a:pt x="406400" y="457200"/>
                      </a:cubicBezTo>
                      <a:cubicBezTo>
                        <a:pt x="370354" y="493246"/>
                        <a:pt x="401262" y="559188"/>
                        <a:pt x="393700" y="609600"/>
                      </a:cubicBezTo>
                      <a:cubicBezTo>
                        <a:pt x="388522" y="644123"/>
                        <a:pt x="368300" y="711200"/>
                        <a:pt x="368300" y="711200"/>
                      </a:cubicBezTo>
                      <a:cubicBezTo>
                        <a:pt x="364067" y="770467"/>
                        <a:pt x="362542" y="829989"/>
                        <a:pt x="355600" y="889000"/>
                      </a:cubicBezTo>
                      <a:cubicBezTo>
                        <a:pt x="354036" y="902295"/>
                        <a:pt x="346147" y="914113"/>
                        <a:pt x="342900" y="927100"/>
                      </a:cubicBezTo>
                      <a:cubicBezTo>
                        <a:pt x="337665" y="948041"/>
                        <a:pt x="337779" y="970389"/>
                        <a:pt x="330200" y="990600"/>
                      </a:cubicBezTo>
                      <a:cubicBezTo>
                        <a:pt x="322391" y="1011425"/>
                        <a:pt x="283171" y="1055819"/>
                        <a:pt x="266700" y="1066800"/>
                      </a:cubicBezTo>
                      <a:cubicBezTo>
                        <a:pt x="255561" y="1074226"/>
                        <a:pt x="240574" y="1073513"/>
                        <a:pt x="228600" y="1079500"/>
                      </a:cubicBezTo>
                      <a:cubicBezTo>
                        <a:pt x="214948" y="1086326"/>
                        <a:pt x="205467" y="1101907"/>
                        <a:pt x="190500" y="1104900"/>
                      </a:cubicBezTo>
                      <a:cubicBezTo>
                        <a:pt x="121727" y="1118655"/>
                        <a:pt x="65089" y="1117600"/>
                        <a:pt x="0" y="1117600"/>
                      </a:cubicBez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任意多边形 110"/>
                <p:cNvSpPr/>
                <p:nvPr/>
              </p:nvSpPr>
              <p:spPr>
                <a:xfrm>
                  <a:off x="644040" y="2297880"/>
                  <a:ext cx="1002960" cy="317160"/>
                </a:xfrm>
                <a:custGeom>
                  <a:avLst/>
                  <a:gdLst>
                    <a:gd name="textAreaLeft" fmla="*/ 0 w 1002960"/>
                    <a:gd name="textAreaRight" fmla="*/ 1003320 w 100296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003300" h="317500">
                      <a:moveTo>
                        <a:pt x="1003300" y="25400"/>
                      </a:moveTo>
                      <a:cubicBezTo>
                        <a:pt x="977900" y="21167"/>
                        <a:pt x="952237" y="18286"/>
                        <a:pt x="927100" y="12700"/>
                      </a:cubicBezTo>
                      <a:cubicBezTo>
                        <a:pt x="914032" y="9796"/>
                        <a:pt x="902387" y="0"/>
                        <a:pt x="889000" y="0"/>
                      </a:cubicBezTo>
                      <a:cubicBezTo>
                        <a:pt x="867414" y="0"/>
                        <a:pt x="846667" y="8467"/>
                        <a:pt x="825500" y="12700"/>
                      </a:cubicBezTo>
                      <a:cubicBezTo>
                        <a:pt x="812800" y="21167"/>
                        <a:pt x="797171" y="26374"/>
                        <a:pt x="787400" y="38100"/>
                      </a:cubicBezTo>
                      <a:cubicBezTo>
                        <a:pt x="775280" y="52644"/>
                        <a:pt x="773004" y="73494"/>
                        <a:pt x="762000" y="88900"/>
                      </a:cubicBezTo>
                      <a:cubicBezTo>
                        <a:pt x="751561" y="103515"/>
                        <a:pt x="736600" y="114300"/>
                        <a:pt x="723900" y="127000"/>
                      </a:cubicBezTo>
                      <a:cubicBezTo>
                        <a:pt x="719667" y="139700"/>
                        <a:pt x="717187" y="153126"/>
                        <a:pt x="711200" y="165100"/>
                      </a:cubicBezTo>
                      <a:cubicBezTo>
                        <a:pt x="695038" y="197423"/>
                        <a:pt x="627959" y="276340"/>
                        <a:pt x="609600" y="279400"/>
                      </a:cubicBezTo>
                      <a:cubicBezTo>
                        <a:pt x="506990" y="296502"/>
                        <a:pt x="557829" y="283957"/>
                        <a:pt x="457200" y="317500"/>
                      </a:cubicBezTo>
                      <a:cubicBezTo>
                        <a:pt x="359833" y="313267"/>
                        <a:pt x="262041" y="314828"/>
                        <a:pt x="165100" y="304800"/>
                      </a:cubicBezTo>
                      <a:cubicBezTo>
                        <a:pt x="138468" y="302045"/>
                        <a:pt x="115674" y="279400"/>
                        <a:pt x="88900" y="279400"/>
                      </a:cubicBezTo>
                      <a:lnTo>
                        <a:pt x="0" y="279400"/>
                      </a:lnTo>
                    </a:path>
                  </a:pathLst>
                </a:custGeom>
                <a:noFill/>
                <a:ln w="19050">
                  <a:solidFill>
                    <a:srgbClr val="454c5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6" name="椭圆 145"/>
              <p:cNvSpPr/>
              <p:nvPr/>
            </p:nvSpPr>
            <p:spPr>
              <a:xfrm rot="20742000">
                <a:off x="805320" y="2904120"/>
                <a:ext cx="94320" cy="52200"/>
              </a:xfrm>
              <a:prstGeom prst="ellipse">
                <a:avLst/>
              </a:prstGeom>
              <a:solidFill>
                <a:srgbClr val="454c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" name="椭圆 146"/>
              <p:cNvSpPr/>
              <p:nvPr/>
            </p:nvSpPr>
            <p:spPr>
              <a:xfrm rot="20675400">
                <a:off x="588960" y="2563920"/>
                <a:ext cx="94320" cy="52200"/>
              </a:xfrm>
              <a:prstGeom prst="ellipse">
                <a:avLst/>
              </a:prstGeom>
              <a:solidFill>
                <a:srgbClr val="454c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38" name="组合 131"/>
          <p:cNvGrpSpPr/>
          <p:nvPr/>
        </p:nvGrpSpPr>
        <p:grpSpPr>
          <a:xfrm>
            <a:off x="10927800" y="2203200"/>
            <a:ext cx="567000" cy="659520"/>
            <a:chOff x="10927800" y="2203200"/>
            <a:chExt cx="567000" cy="659520"/>
          </a:xfrm>
        </p:grpSpPr>
        <p:sp>
          <p:nvSpPr>
            <p:cNvPr id="539" name="椭圆 160"/>
            <p:cNvSpPr/>
            <p:nvPr/>
          </p:nvSpPr>
          <p:spPr>
            <a:xfrm>
              <a:off x="10927800" y="2203200"/>
              <a:ext cx="567000" cy="567000"/>
            </a:xfrm>
            <a:prstGeom prst="ellipse">
              <a:avLst/>
            </a:pr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0" name="椭圆 161"/>
            <p:cNvSpPr/>
            <p:nvPr/>
          </p:nvSpPr>
          <p:spPr>
            <a:xfrm>
              <a:off x="11007720" y="2282760"/>
              <a:ext cx="407880" cy="407880"/>
            </a:xfrm>
            <a:prstGeom prst="ellipse">
              <a:avLst/>
            </a:prstGeom>
            <a:solidFill>
              <a:srgbClr val="9dda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椭圆 162"/>
            <p:cNvSpPr/>
            <p:nvPr/>
          </p:nvSpPr>
          <p:spPr>
            <a:xfrm>
              <a:off x="11095560" y="2370600"/>
              <a:ext cx="231840" cy="231840"/>
            </a:xfrm>
            <a:prstGeom prst="ellipse">
              <a:avLst/>
            </a:pr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椭圆 163"/>
            <p:cNvSpPr/>
            <p:nvPr/>
          </p:nvSpPr>
          <p:spPr>
            <a:xfrm>
              <a:off x="11148120" y="2409840"/>
              <a:ext cx="64440" cy="64440"/>
            </a:xfrm>
            <a:prstGeom prst="ellipse">
              <a:avLst/>
            </a:prstGeom>
            <a:solidFill>
              <a:srgbClr val="9dda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3" name="任意多边形 159"/>
            <p:cNvSpPr/>
            <p:nvPr/>
          </p:nvSpPr>
          <p:spPr>
            <a:xfrm>
              <a:off x="11013480" y="2770560"/>
              <a:ext cx="421200" cy="9216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43225" h="185047">
                  <a:moveTo>
                    <a:pt x="421612" y="0"/>
                  </a:moveTo>
                  <a:cubicBezTo>
                    <a:pt x="581167" y="0"/>
                    <a:pt x="725616" y="64672"/>
                    <a:pt x="830177" y="169233"/>
                  </a:cubicBezTo>
                  <a:lnTo>
                    <a:pt x="843225" y="185047"/>
                  </a:lnTo>
                  <a:lnTo>
                    <a:pt x="641654" y="185047"/>
                  </a:lnTo>
                  <a:lnTo>
                    <a:pt x="597623" y="161148"/>
                  </a:lnTo>
                  <a:cubicBezTo>
                    <a:pt x="543524" y="138266"/>
                    <a:pt x="484046" y="125613"/>
                    <a:pt x="421612" y="125613"/>
                  </a:cubicBezTo>
                  <a:cubicBezTo>
                    <a:pt x="359178" y="125613"/>
                    <a:pt x="299700" y="138266"/>
                    <a:pt x="245601" y="161148"/>
                  </a:cubicBezTo>
                  <a:lnTo>
                    <a:pt x="201571" y="185047"/>
                  </a:lnTo>
                  <a:lnTo>
                    <a:pt x="0" y="185047"/>
                  </a:lnTo>
                  <a:lnTo>
                    <a:pt x="13047" y="169233"/>
                  </a:lnTo>
                  <a:cubicBezTo>
                    <a:pt x="117608" y="64672"/>
                    <a:pt x="262058" y="0"/>
                    <a:pt x="421612" y="0"/>
                  </a:cubicBezTo>
                  <a:close/>
                </a:path>
              </a:pathLst>
            </a:custGeom>
            <a:solidFill>
              <a:srgbClr val="35aae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4" name="文本框 133"/>
          <p:cNvSpPr/>
          <p:nvPr/>
        </p:nvSpPr>
        <p:spPr>
          <a:xfrm>
            <a:off x="9213120" y="231876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人视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64"/>
          <p:cNvSpPr/>
          <p:nvPr/>
        </p:nvSpPr>
        <p:spPr>
          <a:xfrm>
            <a:off x="8327160" y="2854800"/>
            <a:ext cx="3256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随时开视频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和面对面交流一样高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65"/>
          <p:cNvSpPr/>
          <p:nvPr/>
        </p:nvSpPr>
        <p:spPr>
          <a:xfrm>
            <a:off x="6581880" y="3824640"/>
            <a:ext cx="50022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频会议不再受限于距离，可支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视频画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电脑均可接入，畅享面对面沟通的快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0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519120" y="7055640"/>
            <a:ext cx="11143800" cy="500976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108"/>
          <p:cNvGrpSpPr/>
          <p:nvPr/>
        </p:nvGrpSpPr>
        <p:grpSpPr>
          <a:xfrm>
            <a:off x="597600" y="2525040"/>
            <a:ext cx="609120" cy="514440"/>
            <a:chOff x="597600" y="2525040"/>
            <a:chExt cx="609120" cy="514440"/>
          </a:xfrm>
        </p:grpSpPr>
        <p:sp>
          <p:nvSpPr>
            <p:cNvPr id="549" name="任意多边形 106"/>
            <p:cNvSpPr/>
            <p:nvPr/>
          </p:nvSpPr>
          <p:spPr>
            <a:xfrm>
              <a:off x="727920" y="2763720"/>
              <a:ext cx="348480" cy="2757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348855" h="276225">
                  <a:moveTo>
                    <a:pt x="116142" y="0"/>
                  </a:moveTo>
                  <a:lnTo>
                    <a:pt x="239612" y="0"/>
                  </a:lnTo>
                  <a:lnTo>
                    <a:pt x="231107" y="13220"/>
                  </a:lnTo>
                  <a:cubicBezTo>
                    <a:pt x="223123" y="32998"/>
                    <a:pt x="218709" y="54743"/>
                    <a:pt x="218709" y="77569"/>
                  </a:cubicBezTo>
                  <a:cubicBezTo>
                    <a:pt x="218709" y="146046"/>
                    <a:pt x="258439" y="204799"/>
                    <a:pt x="315061" y="229896"/>
                  </a:cubicBezTo>
                  <a:lnTo>
                    <a:pt x="348855" y="237045"/>
                  </a:lnTo>
                  <a:lnTo>
                    <a:pt x="348855" y="276225"/>
                  </a:lnTo>
                  <a:lnTo>
                    <a:pt x="0" y="276225"/>
                  </a:lnTo>
                  <a:lnTo>
                    <a:pt x="0" y="238505"/>
                  </a:lnTo>
                  <a:lnTo>
                    <a:pt x="40693" y="229896"/>
                  </a:lnTo>
                  <a:cubicBezTo>
                    <a:pt x="97315" y="204799"/>
                    <a:pt x="137045" y="146046"/>
                    <a:pt x="137045" y="77569"/>
                  </a:cubicBezTo>
                  <a:cubicBezTo>
                    <a:pt x="137045" y="54743"/>
                    <a:pt x="132631" y="32998"/>
                    <a:pt x="124648" y="13220"/>
                  </a:cubicBezTo>
                  <a:close/>
                </a:path>
              </a:pathLst>
            </a:custGeom>
            <a:solidFill>
              <a:srgbClr val="16b3f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0" name="组合 100"/>
            <p:cNvGrpSpPr/>
            <p:nvPr/>
          </p:nvGrpSpPr>
          <p:grpSpPr>
            <a:xfrm>
              <a:off x="597600" y="2525040"/>
              <a:ext cx="609120" cy="428400"/>
              <a:chOff x="597600" y="2525040"/>
              <a:chExt cx="609120" cy="428400"/>
            </a:xfrm>
          </p:grpSpPr>
          <p:sp>
            <p:nvSpPr>
              <p:cNvPr id="551" name="圆角矩形 97"/>
              <p:cNvSpPr/>
              <p:nvPr/>
            </p:nvSpPr>
            <p:spPr>
              <a:xfrm>
                <a:off x="597600" y="2525040"/>
                <a:ext cx="60912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16b3f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" name="圆角矩形 98"/>
              <p:cNvSpPr/>
              <p:nvPr/>
            </p:nvSpPr>
            <p:spPr>
              <a:xfrm>
                <a:off x="641880" y="2558520"/>
                <a:ext cx="521280" cy="361440"/>
              </a:xfrm>
              <a:prstGeom prst="roundRect">
                <a:avLst>
                  <a:gd name="adj" fmla="val 8766"/>
                </a:avLst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53" name="右箭头 107"/>
            <p:cNvSpPr/>
            <p:nvPr/>
          </p:nvSpPr>
          <p:spPr>
            <a:xfrm>
              <a:off x="694440" y="2631960"/>
              <a:ext cx="360000" cy="25416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40522" h="311324">
                  <a:moveTo>
                    <a:pt x="0" y="311324"/>
                  </a:moveTo>
                  <a:cubicBezTo>
                    <a:pt x="97248" y="189224"/>
                    <a:pt x="173065" y="129037"/>
                    <a:pt x="289363" y="80756"/>
                  </a:cubicBezTo>
                  <a:lnTo>
                    <a:pt x="289363" y="0"/>
                  </a:lnTo>
                  <a:lnTo>
                    <a:pt x="440522" y="132937"/>
                  </a:lnTo>
                  <a:lnTo>
                    <a:pt x="289363" y="265873"/>
                  </a:lnTo>
                  <a:lnTo>
                    <a:pt x="289363" y="185117"/>
                  </a:lnTo>
                  <a:cubicBezTo>
                    <a:pt x="173065" y="198611"/>
                    <a:pt x="111535" y="202580"/>
                    <a:pt x="0" y="311324"/>
                  </a:cubicBezTo>
                  <a:close/>
                </a:path>
              </a:pathLst>
            </a:custGeom>
            <a:solidFill>
              <a:srgbClr val="16b3f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54" name="组合 155"/>
          <p:cNvGrpSpPr/>
          <p:nvPr/>
        </p:nvGrpSpPr>
        <p:grpSpPr>
          <a:xfrm>
            <a:off x="-2457000" y="4744080"/>
            <a:ext cx="2240280" cy="1065960"/>
            <a:chOff x="-2457000" y="4744080"/>
            <a:chExt cx="2240280" cy="1065960"/>
          </a:xfrm>
        </p:grpSpPr>
        <p:grpSp>
          <p:nvGrpSpPr>
            <p:cNvPr id="555" name="组合 129"/>
            <p:cNvGrpSpPr/>
            <p:nvPr/>
          </p:nvGrpSpPr>
          <p:grpSpPr>
            <a:xfrm>
              <a:off x="-2457000" y="4744080"/>
              <a:ext cx="2240280" cy="1065960"/>
              <a:chOff x="-2457000" y="4744080"/>
              <a:chExt cx="2240280" cy="1065960"/>
            </a:xfrm>
          </p:grpSpPr>
          <p:grpSp>
            <p:nvGrpSpPr>
              <p:cNvPr id="556" name="组合 146"/>
              <p:cNvGrpSpPr/>
              <p:nvPr/>
            </p:nvGrpSpPr>
            <p:grpSpPr>
              <a:xfrm>
                <a:off x="-2457000" y="4744080"/>
                <a:ext cx="2240280" cy="1065960"/>
                <a:chOff x="-2457000" y="4744080"/>
                <a:chExt cx="2240280" cy="1065960"/>
              </a:xfrm>
            </p:grpSpPr>
            <p:sp>
              <p:nvSpPr>
                <p:cNvPr id="557" name="圆角矩形 151"/>
                <p:cNvSpPr/>
                <p:nvPr/>
              </p:nvSpPr>
              <p:spPr>
                <a:xfrm rot="16200000">
                  <a:off x="-1869840" y="4156920"/>
                  <a:ext cx="1065960" cy="224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2f8bc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8" name="矩形 152"/>
                <p:cNvSpPr/>
                <p:nvPr/>
              </p:nvSpPr>
              <p:spPr>
                <a:xfrm rot="16200000">
                  <a:off x="-1805760" y="4476960"/>
                  <a:ext cx="969120" cy="1599480"/>
                </a:xfrm>
                <a:prstGeom prst="rect">
                  <a:avLst/>
                </a:prstGeom>
                <a:solidFill>
                  <a:srgbClr val="ffff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9" name="组合 147"/>
              <p:cNvGrpSpPr/>
              <p:nvPr/>
            </p:nvGrpSpPr>
            <p:grpSpPr>
              <a:xfrm>
                <a:off x="-2354040" y="5143680"/>
                <a:ext cx="127080" cy="272160"/>
                <a:chOff x="-2354040" y="5143680"/>
                <a:chExt cx="127080" cy="272160"/>
              </a:xfrm>
            </p:grpSpPr>
            <p:sp>
              <p:nvSpPr>
                <p:cNvPr id="560" name="椭圆 149"/>
                <p:cNvSpPr/>
                <p:nvPr/>
              </p:nvSpPr>
              <p:spPr>
                <a:xfrm rot="16200000">
                  <a:off x="-2351160" y="5248080"/>
                  <a:ext cx="57240" cy="6300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1" name="圆角矩形 150"/>
                <p:cNvSpPr/>
                <p:nvPr/>
              </p:nvSpPr>
              <p:spPr>
                <a:xfrm rot="16200000">
                  <a:off x="-2382840" y="5259960"/>
                  <a:ext cx="272160" cy="39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2" name="椭圆 148"/>
              <p:cNvSpPr/>
              <p:nvPr/>
            </p:nvSpPr>
            <p:spPr>
              <a:xfrm rot="16200000">
                <a:off x="-447840" y="5177160"/>
                <a:ext cx="185400" cy="204840"/>
              </a:xfrm>
              <a:prstGeom prst="ellipse">
                <a:avLst/>
              </a:prstGeom>
              <a:solidFill>
                <a:srgbClr val="e7aa50"/>
              </a:solidFill>
              <a:ln w="952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63" name="文本框 153"/>
            <p:cNvSpPr/>
            <p:nvPr/>
          </p:nvSpPr>
          <p:spPr>
            <a:xfrm>
              <a:off x="-1880640" y="5060160"/>
              <a:ext cx="1117080" cy="272160"/>
            </a:xfrm>
            <a:prstGeom prst="rect">
              <a:avLst/>
            </a:prstGeom>
            <a:solidFill>
              <a:srgbClr val="17a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高效异地沟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154"/>
            <p:cNvSpPr/>
            <p:nvPr/>
          </p:nvSpPr>
          <p:spPr>
            <a:xfrm>
              <a:off x="-1895760" y="5309280"/>
              <a:ext cx="11541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1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讨论建设方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文本框 220"/>
          <p:cNvSpPr/>
          <p:nvPr/>
        </p:nvSpPr>
        <p:spPr>
          <a:xfrm>
            <a:off x="1256040" y="2561040"/>
            <a:ext cx="16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屏幕分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21"/>
          <p:cNvSpPr/>
          <p:nvPr/>
        </p:nvSpPr>
        <p:spPr>
          <a:xfrm>
            <a:off x="493560" y="3265560"/>
            <a:ext cx="41932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远程会议同步演示</a:t>
            </a:r>
            <a:r>
              <a:rPr b="0" lang="en-US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，胜券在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屏幕分享给讨论组成员演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会成员也可以通过手机同步直接收看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远程会议工作效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239"/>
          <p:cNvGrpSpPr/>
          <p:nvPr/>
        </p:nvGrpSpPr>
        <p:grpSpPr>
          <a:xfrm>
            <a:off x="5820480" y="1524600"/>
            <a:ext cx="5098320" cy="3853800"/>
            <a:chOff x="5820480" y="1524600"/>
            <a:chExt cx="5098320" cy="3853800"/>
          </a:xfrm>
        </p:grpSpPr>
        <p:grpSp>
          <p:nvGrpSpPr>
            <p:cNvPr id="568" name="组合 119"/>
            <p:cNvGrpSpPr/>
            <p:nvPr/>
          </p:nvGrpSpPr>
          <p:grpSpPr>
            <a:xfrm>
              <a:off x="5820480" y="2781720"/>
              <a:ext cx="3617280" cy="2596680"/>
              <a:chOff x="5820480" y="2781720"/>
              <a:chExt cx="3617280" cy="2596680"/>
            </a:xfrm>
          </p:grpSpPr>
          <p:grpSp>
            <p:nvGrpSpPr>
              <p:cNvPr id="569" name="组合 111"/>
              <p:cNvGrpSpPr/>
              <p:nvPr/>
            </p:nvGrpSpPr>
            <p:grpSpPr>
              <a:xfrm>
                <a:off x="5820480" y="2781720"/>
                <a:ext cx="3617280" cy="2596680"/>
                <a:chOff x="5820480" y="2781720"/>
                <a:chExt cx="3617280" cy="2596680"/>
              </a:xfrm>
            </p:grpSpPr>
            <p:grpSp>
              <p:nvGrpSpPr>
                <p:cNvPr id="570" name="组合 2"/>
                <p:cNvGrpSpPr/>
                <p:nvPr/>
              </p:nvGrpSpPr>
              <p:grpSpPr>
                <a:xfrm>
                  <a:off x="5820480" y="2781720"/>
                  <a:ext cx="3617280" cy="2596680"/>
                  <a:chOff x="5820480" y="2781720"/>
                  <a:chExt cx="3617280" cy="2596680"/>
                </a:xfrm>
              </p:grpSpPr>
              <p:grpSp>
                <p:nvGrpSpPr>
                  <p:cNvPr id="571" name="组合 3"/>
                  <p:cNvGrpSpPr/>
                  <p:nvPr/>
                </p:nvGrpSpPr>
                <p:grpSpPr>
                  <a:xfrm>
                    <a:off x="5820480" y="2781720"/>
                    <a:ext cx="3617280" cy="2596680"/>
                    <a:chOff x="5820480" y="2781720"/>
                    <a:chExt cx="3617280" cy="2596680"/>
                  </a:xfrm>
                </p:grpSpPr>
                <p:grpSp>
                  <p:nvGrpSpPr>
                    <p:cNvPr id="572" name="组合 85"/>
                    <p:cNvGrpSpPr/>
                    <p:nvPr/>
                  </p:nvGrpSpPr>
                  <p:grpSpPr>
                    <a:xfrm>
                      <a:off x="5820480" y="2781720"/>
                      <a:ext cx="3617280" cy="2596680"/>
                      <a:chOff x="5820480" y="2781720"/>
                      <a:chExt cx="3617280" cy="2596680"/>
                    </a:xfrm>
                  </p:grpSpPr>
                  <p:sp>
                    <p:nvSpPr>
                      <p:cNvPr id="573" name="椭圆 90"/>
                      <p:cNvSpPr/>
                      <p:nvPr/>
                    </p:nvSpPr>
                    <p:spPr>
                      <a:xfrm>
                        <a:off x="6220440" y="5335560"/>
                        <a:ext cx="2817000" cy="428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7fafd">
                              <a:alpha val="71372"/>
                            </a:srgbClr>
                          </a:gs>
                          <a:gs pos="100000">
                            <a:srgbClr val="a6a6a6">
                              <a:alpha val="89019"/>
                            </a:srgbClr>
                          </a:gs>
                        </a:gsLst>
                        <a:path path="circle">
                          <a:fillToRect l="50000" t="50000" r="50000" b="50000"/>
                        </a:path>
                      </a:gra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-14400" bIns="-144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梯形 91"/>
                      <p:cNvSpPr/>
                      <p:nvPr/>
                    </p:nvSpPr>
                    <p:spPr>
                      <a:xfrm>
                        <a:off x="7265520" y="4818600"/>
                        <a:ext cx="728640" cy="462600"/>
                      </a:xfrm>
                      <a:prstGeom prst="trapezoid">
                        <a:avLst>
                          <a:gd name="adj" fmla="val 37500"/>
                        </a:avLst>
                      </a:prstGeom>
                      <a:solidFill>
                        <a:srgbClr val="454e5a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5" name="矩形 92"/>
                      <p:cNvSpPr/>
                      <p:nvPr/>
                    </p:nvSpPr>
                    <p:spPr>
                      <a:xfrm>
                        <a:off x="7370280" y="4955760"/>
                        <a:ext cx="514080" cy="41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7fafd">
                              <a:alpha val="71372"/>
                            </a:srgbClr>
                          </a:gs>
                          <a:gs pos="100000">
                            <a:srgbClr val="a6a6a6">
                              <a:alpha val="89019"/>
                            </a:srgbClr>
                          </a:gs>
                        </a:gsLst>
                        <a:path path="circle">
                          <a:fillToRect l="50000" t="50000" r="50000" b="50000"/>
                        </a:path>
                      </a:gradFill>
                      <a:ln>
                        <a:noFill/>
                      </a:ln>
                      <a:effectLst>
                        <a:outerShdw algn="t" blurRad="241200" dir="5400000" dist="38160" rotWithShape="0">
                          <a:srgbClr val="000000"/>
                        </a:outerShdw>
                      </a:effectLst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-3240" bIns="-32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576" name="组合 93"/>
                      <p:cNvGrpSpPr/>
                      <p:nvPr/>
                    </p:nvGrpSpPr>
                    <p:grpSpPr>
                      <a:xfrm>
                        <a:off x="5820480" y="2781720"/>
                        <a:ext cx="3617280" cy="2210040"/>
                        <a:chOff x="5820480" y="2781720"/>
                        <a:chExt cx="3617280" cy="2210040"/>
                      </a:xfrm>
                    </p:grpSpPr>
                    <p:sp>
                      <p:nvSpPr>
                        <p:cNvPr id="577" name="圆角矩形 95"/>
                        <p:cNvSpPr/>
                        <p:nvPr/>
                      </p:nvSpPr>
                      <p:spPr>
                        <a:xfrm>
                          <a:off x="5820480" y="2781720"/>
                          <a:ext cx="3617280" cy="2210040"/>
                        </a:xfrm>
                        <a:prstGeom prst="roundRect">
                          <a:avLst>
                            <a:gd name="adj" fmla="val 1993"/>
                          </a:avLst>
                        </a:prstGeom>
                        <a:solidFill>
                          <a:srgbClr val="454e5a"/>
                        </a:solidFill>
                        <a:ln>
                          <a:noFill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chemeClr val="lt1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78" name="矩形 96"/>
                        <p:cNvSpPr/>
                        <p:nvPr/>
                      </p:nvSpPr>
                      <p:spPr>
                        <a:xfrm>
                          <a:off x="5918760" y="2856960"/>
                          <a:ext cx="3431520" cy="1886040"/>
                        </a:xfrm>
                        <a:prstGeom prst="rect">
                          <a:avLst/>
                        </a:prstGeom>
                        <a:solidFill>
                          <a:srgbClr val="ace1ff"/>
                        </a:solidFill>
                        <a:ln>
                          <a:noFill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chemeClr val="lt1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579" name="圆角矩形 94"/>
                      <p:cNvSpPr/>
                      <p:nvPr/>
                    </p:nvSpPr>
                    <p:spPr>
                      <a:xfrm>
                        <a:off x="6932880" y="5279400"/>
                        <a:ext cx="1394280" cy="8568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454e5a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32760" bIns="327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580" name="椭圆 86"/>
                    <p:cNvSpPr/>
                    <p:nvPr/>
                  </p:nvSpPr>
                  <p:spPr>
                    <a:xfrm>
                      <a:off x="7545600" y="4812840"/>
                      <a:ext cx="118440" cy="118440"/>
                    </a:xfrm>
                    <a:prstGeom prst="ellipse">
                      <a:avLst/>
                    </a:prstGeom>
                    <a:noFill/>
                    <a:ln>
                      <a:solidFill>
                        <a:srgbClr val="000000">
                          <a:lumMod val="85000"/>
                          <a:lumOff val="15000"/>
                        </a:srgbClr>
                      </a:solidFill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8880" bIns="38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椭圆 87"/>
                    <p:cNvSpPr/>
                    <p:nvPr/>
                  </p:nvSpPr>
                  <p:spPr>
                    <a:xfrm>
                      <a:off x="9226440" y="4839840"/>
                      <a:ext cx="64080" cy="64080"/>
                    </a:xfrm>
                    <a:prstGeom prst="ellipse">
                      <a:avLst/>
                    </a:prstGeom>
                    <a:solidFill>
                      <a:srgbClr val="76c1ee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2" name="椭圆 88"/>
                    <p:cNvSpPr/>
                    <p:nvPr/>
                  </p:nvSpPr>
                  <p:spPr>
                    <a:xfrm>
                      <a:off x="9139320" y="4851360"/>
                      <a:ext cx="41400" cy="41400"/>
                    </a:xfrm>
                    <a:prstGeom prst="ellipse">
                      <a:avLst/>
                    </a:prstGeom>
                    <a:solidFill>
                      <a:schemeClr val="bg1">
                        <a:lumMod val="6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3" name="椭圆 89"/>
                    <p:cNvSpPr/>
                    <p:nvPr/>
                  </p:nvSpPr>
                  <p:spPr>
                    <a:xfrm>
                      <a:off x="9073800" y="4851360"/>
                      <a:ext cx="41400" cy="41400"/>
                    </a:xfrm>
                    <a:prstGeom prst="ellipse">
                      <a:avLst/>
                    </a:prstGeom>
                    <a:solidFill>
                      <a:schemeClr val="bg1">
                        <a:lumMod val="65000"/>
                      </a:schemeClr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84" name="组合 4"/>
                  <p:cNvGrpSpPr/>
                  <p:nvPr/>
                </p:nvGrpSpPr>
                <p:grpSpPr>
                  <a:xfrm>
                    <a:off x="6533640" y="3026520"/>
                    <a:ext cx="2163600" cy="1583280"/>
                    <a:chOff x="6533640" y="3026520"/>
                    <a:chExt cx="2163600" cy="1583280"/>
                  </a:xfrm>
                </p:grpSpPr>
                <p:sp>
                  <p:nvSpPr>
                    <p:cNvPr id="585" name="矩形 5"/>
                    <p:cNvSpPr/>
                    <p:nvPr/>
                  </p:nvSpPr>
                  <p:spPr>
                    <a:xfrm>
                      <a:off x="6533640" y="3026520"/>
                      <a:ext cx="2163600" cy="1583280"/>
                    </a:xfrm>
                    <a:prstGeom prst="rect">
                      <a:avLst/>
                    </a:prstGeom>
                    <a:solidFill>
                      <a:srgbClr val="5fb0e5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矩形 6"/>
                    <p:cNvSpPr/>
                    <p:nvPr/>
                  </p:nvSpPr>
                  <p:spPr>
                    <a:xfrm>
                      <a:off x="6533640" y="3353400"/>
                      <a:ext cx="1717560" cy="1256400"/>
                    </a:xfrm>
                    <a:prstGeom prst="rect">
                      <a:avLst/>
                    </a:prstGeom>
                    <a:solidFill>
                      <a:srgbClr val="59b8db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矩形 7"/>
                    <p:cNvSpPr/>
                    <p:nvPr/>
                  </p:nvSpPr>
                  <p:spPr>
                    <a:xfrm>
                      <a:off x="7981560" y="3351960"/>
                      <a:ext cx="675000" cy="1216440"/>
                    </a:xfrm>
                    <a:prstGeom prst="rect">
                      <a:avLst/>
                    </a:prstGeom>
                    <a:solidFill>
                      <a:srgbClr val="d3f0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8" name="矩形 8"/>
                    <p:cNvSpPr/>
                    <p:nvPr/>
                  </p:nvSpPr>
                  <p:spPr>
                    <a:xfrm>
                      <a:off x="8216640" y="3378240"/>
                      <a:ext cx="405720" cy="314640"/>
                    </a:xfrm>
                    <a:prstGeom prst="rect">
                      <a:avLst/>
                    </a:prstGeom>
                    <a:solidFill>
                      <a:srgbClr val="59b8db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589" name="组合 9"/>
                    <p:cNvGrpSpPr/>
                    <p:nvPr/>
                  </p:nvGrpSpPr>
                  <p:grpSpPr>
                    <a:xfrm>
                      <a:off x="6570360" y="3252960"/>
                      <a:ext cx="773640" cy="55800"/>
                      <a:chOff x="6570360" y="3252960"/>
                      <a:chExt cx="773640" cy="55800"/>
                    </a:xfrm>
                  </p:grpSpPr>
                  <p:sp>
                    <p:nvSpPr>
                      <p:cNvPr id="590" name="矩形 77"/>
                      <p:cNvSpPr/>
                      <p:nvPr/>
                    </p:nvSpPr>
                    <p:spPr>
                      <a:xfrm>
                        <a:off x="65703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1" name="矩形 78"/>
                      <p:cNvSpPr/>
                      <p:nvPr/>
                    </p:nvSpPr>
                    <p:spPr>
                      <a:xfrm>
                        <a:off x="66729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2" name="矩形 79"/>
                      <p:cNvSpPr/>
                      <p:nvPr/>
                    </p:nvSpPr>
                    <p:spPr>
                      <a:xfrm>
                        <a:off x="67755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3" name="矩形 80"/>
                      <p:cNvSpPr/>
                      <p:nvPr/>
                    </p:nvSpPr>
                    <p:spPr>
                      <a:xfrm>
                        <a:off x="68781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4" name="矩形 81"/>
                      <p:cNvSpPr/>
                      <p:nvPr/>
                    </p:nvSpPr>
                    <p:spPr>
                      <a:xfrm>
                        <a:off x="69807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5" name="矩形 82"/>
                      <p:cNvSpPr/>
                      <p:nvPr/>
                    </p:nvSpPr>
                    <p:spPr>
                      <a:xfrm>
                        <a:off x="708336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6" name="矩形 83"/>
                      <p:cNvSpPr/>
                      <p:nvPr/>
                    </p:nvSpPr>
                    <p:spPr>
                      <a:xfrm>
                        <a:off x="718560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97" name="矩形 84"/>
                      <p:cNvSpPr/>
                      <p:nvPr/>
                    </p:nvSpPr>
                    <p:spPr>
                      <a:xfrm>
                        <a:off x="7288200" y="3252960"/>
                        <a:ext cx="55800" cy="5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11160" bIns="1116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598" name="组合 10"/>
                    <p:cNvGrpSpPr/>
                    <p:nvPr/>
                  </p:nvGrpSpPr>
                  <p:grpSpPr>
                    <a:xfrm>
                      <a:off x="8216640" y="3762720"/>
                      <a:ext cx="405720" cy="396720"/>
                      <a:chOff x="8216640" y="3762720"/>
                      <a:chExt cx="405720" cy="396720"/>
                    </a:xfrm>
                  </p:grpSpPr>
                  <p:sp>
                    <p:nvSpPr>
                      <p:cNvPr id="599" name="矩形 67"/>
                      <p:cNvSpPr/>
                      <p:nvPr/>
                    </p:nvSpPr>
                    <p:spPr>
                      <a:xfrm>
                        <a:off x="8216640" y="37627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0" name="矩形 68"/>
                      <p:cNvSpPr/>
                      <p:nvPr/>
                    </p:nvSpPr>
                    <p:spPr>
                      <a:xfrm>
                        <a:off x="8301960" y="37627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1" name="矩形 69"/>
                      <p:cNvSpPr/>
                      <p:nvPr/>
                    </p:nvSpPr>
                    <p:spPr>
                      <a:xfrm>
                        <a:off x="8216640" y="38437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2" name="矩形 70"/>
                      <p:cNvSpPr/>
                      <p:nvPr/>
                    </p:nvSpPr>
                    <p:spPr>
                      <a:xfrm>
                        <a:off x="8301960" y="38437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3" name="矩形 71"/>
                      <p:cNvSpPr/>
                      <p:nvPr/>
                    </p:nvSpPr>
                    <p:spPr>
                      <a:xfrm>
                        <a:off x="8216640" y="392436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4" name="矩形 72"/>
                      <p:cNvSpPr/>
                      <p:nvPr/>
                    </p:nvSpPr>
                    <p:spPr>
                      <a:xfrm>
                        <a:off x="8301960" y="392436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矩形 73"/>
                      <p:cNvSpPr/>
                      <p:nvPr/>
                    </p:nvSpPr>
                    <p:spPr>
                      <a:xfrm>
                        <a:off x="8216640" y="401580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矩形 74"/>
                      <p:cNvSpPr/>
                      <p:nvPr/>
                    </p:nvSpPr>
                    <p:spPr>
                      <a:xfrm>
                        <a:off x="8301960" y="401580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矩形 75"/>
                      <p:cNvSpPr/>
                      <p:nvPr/>
                    </p:nvSpPr>
                    <p:spPr>
                      <a:xfrm>
                        <a:off x="8216640" y="4106520"/>
                        <a:ext cx="5292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矩形 76"/>
                      <p:cNvSpPr/>
                      <p:nvPr/>
                    </p:nvSpPr>
                    <p:spPr>
                      <a:xfrm>
                        <a:off x="8301960" y="4106520"/>
                        <a:ext cx="320400" cy="52920"/>
                      </a:xfrm>
                      <a:prstGeom prst="rect">
                        <a:avLst/>
                      </a:prstGeom>
                      <a:solidFill>
                        <a:srgbClr val="abe3fe"/>
                      </a:solidFill>
                      <a:ln>
                        <a:noFill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矩形 11"/>
                    <p:cNvSpPr/>
                    <p:nvPr/>
                  </p:nvSpPr>
                  <p:spPr>
                    <a:xfrm>
                      <a:off x="6572520" y="3351960"/>
                      <a:ext cx="1607040" cy="1216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10" name="组合 14"/>
                    <p:cNvGrpSpPr/>
                    <p:nvPr/>
                  </p:nvGrpSpPr>
                  <p:grpSpPr>
                    <a:xfrm>
                      <a:off x="6580800" y="3067200"/>
                      <a:ext cx="132480" cy="132480"/>
                      <a:chOff x="6580800" y="3067200"/>
                      <a:chExt cx="132480" cy="132480"/>
                    </a:xfrm>
                  </p:grpSpPr>
                  <p:sp>
                    <p:nvSpPr>
                      <p:cNvPr id="611" name="矩形 54"/>
                      <p:cNvSpPr/>
                      <p:nvPr/>
                    </p:nvSpPr>
                    <p:spPr>
                      <a:xfrm>
                        <a:off x="6581160" y="3067560"/>
                        <a:ext cx="132120" cy="132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50">
                        <a:solidFill>
                          <a:srgbClr val="d3f0ff"/>
                        </a:solidFill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chemeClr val="lt1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612" name="直接连接符 55"/>
                      <p:cNvCxnSpPr/>
                      <p:nvPr/>
                    </p:nvCxnSpPr>
                    <p:spPr>
                      <a:xfrm>
                        <a:off x="6580800" y="3133440"/>
                        <a:ext cx="132840" cy="36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d3f0ff"/>
                        </a:solidFill>
                      </a:ln>
                    </p:spPr>
                  </p:cxnSp>
                  <p:cxnSp>
                    <p:nvCxnSpPr>
                      <p:cNvPr id="613" name="直接连接符 56"/>
                      <p:cNvCxnSpPr/>
                      <p:nvPr/>
                    </p:nvCxnSpPr>
                    <p:spPr>
                      <a:xfrm>
                        <a:off x="6647040" y="3067200"/>
                        <a:ext cx="360" cy="132840"/>
                      </a:xfrm>
                      <a:prstGeom prst="straightConnector1">
                        <a:avLst/>
                      </a:prstGeom>
                      <a:ln w="19050">
                        <a:solidFill>
                          <a:srgbClr val="d3f0ff"/>
                        </a:solidFill>
                      </a:ln>
                    </p:spPr>
                  </p:cxnSp>
                </p:grpSp>
                <p:grpSp>
                  <p:nvGrpSpPr>
                    <p:cNvPr id="614" name="组合 43"/>
                    <p:cNvGrpSpPr/>
                    <p:nvPr/>
                  </p:nvGrpSpPr>
                  <p:grpSpPr>
                    <a:xfrm>
                      <a:off x="7463520" y="3871440"/>
                      <a:ext cx="181080" cy="165600"/>
                      <a:chOff x="7463520" y="3871440"/>
                      <a:chExt cx="181080" cy="165600"/>
                    </a:xfrm>
                  </p:grpSpPr>
                  <p:grpSp>
                    <p:nvGrpSpPr>
                      <p:cNvPr id="615" name="组合 44"/>
                      <p:cNvGrpSpPr/>
                      <p:nvPr/>
                    </p:nvGrpSpPr>
                    <p:grpSpPr>
                      <a:xfrm>
                        <a:off x="7557480" y="3871440"/>
                        <a:ext cx="87120" cy="123840"/>
                        <a:chOff x="7557480" y="3871440"/>
                        <a:chExt cx="87120" cy="123840"/>
                      </a:xfrm>
                    </p:grpSpPr>
                    <p:sp>
                      <p:nvSpPr>
                        <p:cNvPr id="616" name="Freeform 15"/>
                        <p:cNvSpPr/>
                        <p:nvPr/>
                      </p:nvSpPr>
                      <p:spPr>
                        <a:xfrm rot="20581200">
                          <a:off x="7573320" y="3877200"/>
                          <a:ext cx="56160" cy="112320"/>
                        </a:xfrm>
                        <a:custGeom>
                          <a:avLst/>
                          <a:gdLst>
                            <a:gd name="textAreaLeft" fmla="*/ 0 w 56160"/>
                            <a:gd name="textAreaRight" fmla="*/ 56520 w 56160"/>
                            <a:gd name="textAreaTop" fmla="*/ 0 h 112320"/>
                            <a:gd name="textAreaBottom" fmla="*/ 112680 h 1123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17" name="Freeform 16"/>
                        <p:cNvSpPr/>
                        <p:nvPr/>
                      </p:nvSpPr>
                      <p:spPr>
                        <a:xfrm rot="20581200">
                          <a:off x="7568280" y="3896280"/>
                          <a:ext cx="40680" cy="81720"/>
                        </a:xfrm>
                        <a:custGeom>
                          <a:avLst/>
                          <a:gdLst>
                            <a:gd name="textAreaLeft" fmla="*/ 0 w 40680"/>
                            <a:gd name="textAreaRight" fmla="*/ 41040 w 40680"/>
                            <a:gd name="textAreaTop" fmla="*/ 0 h 81720"/>
                            <a:gd name="textAreaBottom" fmla="*/ 82080 h 8172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41040" bIns="41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18" name="Freeform 17"/>
                        <p:cNvSpPr/>
                        <p:nvPr/>
                      </p:nvSpPr>
                      <p:spPr>
                        <a:xfrm rot="20581200">
                          <a:off x="7569000" y="3917160"/>
                          <a:ext cx="22680" cy="46080"/>
                        </a:xfrm>
                        <a:custGeom>
                          <a:avLst/>
                          <a:gdLst>
                            <a:gd name="textAreaLeft" fmla="*/ 0 w 22680"/>
                            <a:gd name="textAreaRight" fmla="*/ 23040 w 2268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040" bIns="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19" name="组合 45"/>
                      <p:cNvGrpSpPr/>
                      <p:nvPr/>
                    </p:nvGrpSpPr>
                    <p:grpSpPr>
                      <a:xfrm>
                        <a:off x="7463520" y="3888000"/>
                        <a:ext cx="112680" cy="149040"/>
                        <a:chOff x="7463520" y="3888000"/>
                        <a:chExt cx="112680" cy="149040"/>
                      </a:xfrm>
                    </p:grpSpPr>
                    <p:sp>
                      <p:nvSpPr>
                        <p:cNvPr id="620" name="Freeform 25"/>
                        <p:cNvSpPr/>
                        <p:nvPr/>
                      </p:nvSpPr>
                      <p:spPr>
                        <a:xfrm>
                          <a:off x="7505280" y="3888000"/>
                          <a:ext cx="29880" cy="46080"/>
                        </a:xfrm>
                        <a:custGeom>
                          <a:avLst/>
                          <a:gdLst>
                            <a:gd name="textAreaLeft" fmla="*/ 0 w 29880"/>
                            <a:gd name="textAreaRight" fmla="*/ 30240 w 2988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040" bIns="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1" name="Freeform 26"/>
                        <p:cNvSpPr/>
                        <p:nvPr/>
                      </p:nvSpPr>
                      <p:spPr>
                        <a:xfrm>
                          <a:off x="7545600" y="3984480"/>
                          <a:ext cx="30600" cy="46800"/>
                        </a:xfrm>
                        <a:custGeom>
                          <a:avLst/>
                          <a:gdLst>
                            <a:gd name="textAreaLeft" fmla="*/ 0 w 30600"/>
                            <a:gd name="textAreaRight" fmla="*/ 30960 w 3060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3400" bIns="234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2" name="Freeform 27"/>
                        <p:cNvSpPr/>
                        <p:nvPr/>
                      </p:nvSpPr>
                      <p:spPr>
                        <a:xfrm>
                          <a:off x="7463520" y="3898080"/>
                          <a:ext cx="93240" cy="138960"/>
                        </a:xfrm>
                        <a:custGeom>
                          <a:avLst/>
                          <a:gdLst>
                            <a:gd name="textAreaLeft" fmla="*/ 0 w 93240"/>
                            <a:gd name="textAreaRight" fmla="*/ 93600 w 93240"/>
                            <a:gd name="textAreaTop" fmla="*/ 0 h 138960"/>
                            <a:gd name="textAreaBottom" fmla="*/ 139320 h 13896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23" name="组合 31"/>
                    <p:cNvGrpSpPr/>
                    <p:nvPr/>
                  </p:nvGrpSpPr>
                  <p:grpSpPr>
                    <a:xfrm>
                      <a:off x="7049520" y="3945240"/>
                      <a:ext cx="274320" cy="250200"/>
                      <a:chOff x="7049520" y="3945240"/>
                      <a:chExt cx="274320" cy="250200"/>
                    </a:xfrm>
                  </p:grpSpPr>
                  <p:grpSp>
                    <p:nvGrpSpPr>
                      <p:cNvPr id="624" name="组合 32"/>
                      <p:cNvGrpSpPr/>
                      <p:nvPr/>
                    </p:nvGrpSpPr>
                    <p:grpSpPr>
                      <a:xfrm>
                        <a:off x="7191720" y="3945240"/>
                        <a:ext cx="132120" cy="187200"/>
                        <a:chOff x="7191720" y="3945240"/>
                        <a:chExt cx="132120" cy="187200"/>
                      </a:xfrm>
                    </p:grpSpPr>
                    <p:sp>
                      <p:nvSpPr>
                        <p:cNvPr id="625" name="Freeform 15"/>
                        <p:cNvSpPr/>
                        <p:nvPr/>
                      </p:nvSpPr>
                      <p:spPr>
                        <a:xfrm rot="20581200">
                          <a:off x="7215480" y="3953880"/>
                          <a:ext cx="84960" cy="169920"/>
                        </a:xfrm>
                        <a:custGeom>
                          <a:avLst/>
                          <a:gdLst>
                            <a:gd name="textAreaLeft" fmla="*/ 0 w 84960"/>
                            <a:gd name="textAreaRight" fmla="*/ 85320 w 84960"/>
                            <a:gd name="textAreaTop" fmla="*/ 0 h 169920"/>
                            <a:gd name="textAreaBottom" fmla="*/ 170280 h 1699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6" name="Freeform 16"/>
                        <p:cNvSpPr/>
                        <p:nvPr/>
                      </p:nvSpPr>
                      <p:spPr>
                        <a:xfrm rot="20581200">
                          <a:off x="7208280" y="3982680"/>
                          <a:ext cx="61920" cy="123840"/>
                        </a:xfrm>
                        <a:custGeom>
                          <a:avLst/>
                          <a:gdLst>
                            <a:gd name="textAreaLeft" fmla="*/ 0 w 61920"/>
                            <a:gd name="textAreaRight" fmla="*/ 62280 w 61920"/>
                            <a:gd name="textAreaTop" fmla="*/ 0 h 123840"/>
                            <a:gd name="textAreaBottom" fmla="*/ 124200 h 12384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27" name="Freeform 17"/>
                        <p:cNvSpPr/>
                        <p:nvPr/>
                      </p:nvSpPr>
                      <p:spPr>
                        <a:xfrm rot="20581200">
                          <a:off x="7209000" y="4014000"/>
                          <a:ext cx="34560" cy="69480"/>
                        </a:xfrm>
                        <a:custGeom>
                          <a:avLst/>
                          <a:gdLst>
                            <a:gd name="textAreaLeft" fmla="*/ 0 w 34560"/>
                            <a:gd name="textAreaRight" fmla="*/ 34920 w 34560"/>
                            <a:gd name="textAreaTop" fmla="*/ 0 h 69480"/>
                            <a:gd name="textAreaBottom" fmla="*/ 69840 h 6948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4920" bIns="349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28" name="组合 33"/>
                      <p:cNvGrpSpPr/>
                      <p:nvPr/>
                    </p:nvGrpSpPr>
                    <p:grpSpPr>
                      <a:xfrm>
                        <a:off x="7049520" y="3970080"/>
                        <a:ext cx="170280" cy="225360"/>
                        <a:chOff x="7049520" y="3970080"/>
                        <a:chExt cx="170280" cy="225360"/>
                      </a:xfrm>
                    </p:grpSpPr>
                    <p:sp>
                      <p:nvSpPr>
                        <p:cNvPr id="629" name="Freeform 25"/>
                        <p:cNvSpPr/>
                        <p:nvPr/>
                      </p:nvSpPr>
                      <p:spPr>
                        <a:xfrm>
                          <a:off x="7112520" y="3970080"/>
                          <a:ext cx="45360" cy="70200"/>
                        </a:xfrm>
                        <a:custGeom>
                          <a:avLst/>
                          <a:gdLst>
                            <a:gd name="textAreaLeft" fmla="*/ 0 w 45360"/>
                            <a:gd name="textAreaRight" fmla="*/ 45720 w 45360"/>
                            <a:gd name="textAreaTop" fmla="*/ 0 h 70200"/>
                            <a:gd name="textAreaBottom" fmla="*/ 70560 h 7020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5280" bIns="352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0" name="Freeform 26"/>
                        <p:cNvSpPr/>
                        <p:nvPr/>
                      </p:nvSpPr>
                      <p:spPr>
                        <a:xfrm>
                          <a:off x="7173360" y="4115880"/>
                          <a:ext cx="46440" cy="70920"/>
                        </a:xfrm>
                        <a:custGeom>
                          <a:avLst/>
                          <a:gdLst>
                            <a:gd name="textAreaLeft" fmla="*/ 0 w 46440"/>
                            <a:gd name="textAreaRight" fmla="*/ 46800 w 46440"/>
                            <a:gd name="textAreaTop" fmla="*/ 0 h 70920"/>
                            <a:gd name="textAreaBottom" fmla="*/ 71280 h 7092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5640" bIns="356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1" name="Freeform 27"/>
                        <p:cNvSpPr/>
                        <p:nvPr/>
                      </p:nvSpPr>
                      <p:spPr>
                        <a:xfrm>
                          <a:off x="7049520" y="3985200"/>
                          <a:ext cx="141120" cy="210240"/>
                        </a:xfrm>
                        <a:custGeom>
                          <a:avLst/>
                          <a:gdLst>
                            <a:gd name="textAreaLeft" fmla="*/ 0 w 141120"/>
                            <a:gd name="textAreaRight" fmla="*/ 141480 w 141120"/>
                            <a:gd name="textAreaTop" fmla="*/ 0 h 210240"/>
                            <a:gd name="textAreaBottom" fmla="*/ 210600 h 21024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2" name="组合 19"/>
                    <p:cNvGrpSpPr/>
                    <p:nvPr/>
                  </p:nvGrpSpPr>
                  <p:grpSpPr>
                    <a:xfrm>
                      <a:off x="7158240" y="3654360"/>
                      <a:ext cx="154800" cy="141120"/>
                      <a:chOff x="7158240" y="3654360"/>
                      <a:chExt cx="154800" cy="141120"/>
                    </a:xfrm>
                  </p:grpSpPr>
                  <p:grpSp>
                    <p:nvGrpSpPr>
                      <p:cNvPr id="633" name="组合 20"/>
                      <p:cNvGrpSpPr/>
                      <p:nvPr/>
                    </p:nvGrpSpPr>
                    <p:grpSpPr>
                      <a:xfrm>
                        <a:off x="7238520" y="3654360"/>
                        <a:ext cx="74520" cy="105840"/>
                        <a:chOff x="7238520" y="3654360"/>
                        <a:chExt cx="74520" cy="105840"/>
                      </a:xfrm>
                    </p:grpSpPr>
                    <p:sp>
                      <p:nvSpPr>
                        <p:cNvPr id="634" name="Freeform 15"/>
                        <p:cNvSpPr/>
                        <p:nvPr/>
                      </p:nvSpPr>
                      <p:spPr>
                        <a:xfrm rot="20581200">
                          <a:off x="7252200" y="3659040"/>
                          <a:ext cx="47880" cy="96120"/>
                        </a:xfrm>
                        <a:custGeom>
                          <a:avLst/>
                          <a:gdLst>
                            <a:gd name="textAreaLeft" fmla="*/ 0 w 47880"/>
                            <a:gd name="textAreaRight" fmla="*/ 48240 w 47880"/>
                            <a:gd name="textAreaTop" fmla="*/ 0 h 96120"/>
                            <a:gd name="textAreaBottom" fmla="*/ 96480 h 96120"/>
                          </a:gdLst>
                          <a:ahLst/>
                          <a:rect l="textAreaLeft" t="textAreaTop" r="textAreaRight" b="textAreaBottom"/>
                          <a:pathLst>
                            <a:path w="74" h="147">
                              <a:moveTo>
                                <a:pt x="6" y="0"/>
                              </a:moveTo>
                              <a:cubicBezTo>
                                <a:pt x="4" y="0"/>
                                <a:pt x="2" y="1"/>
                                <a:pt x="0" y="1"/>
                              </a:cubicBezTo>
                              <a:cubicBezTo>
                                <a:pt x="35" y="4"/>
                                <a:pt x="63" y="35"/>
                                <a:pt x="63" y="74"/>
                              </a:cubicBezTo>
                              <a:cubicBezTo>
                                <a:pt x="63" y="112"/>
                                <a:pt x="35" y="144"/>
                                <a:pt x="0" y="147"/>
                              </a:cubicBezTo>
                              <a:cubicBezTo>
                                <a:pt x="2" y="147"/>
                                <a:pt x="4" y="147"/>
                                <a:pt x="6" y="147"/>
                              </a:cubicBezTo>
                              <a:cubicBezTo>
                                <a:pt x="44" y="147"/>
                                <a:pt x="74" y="114"/>
                                <a:pt x="74" y="74"/>
                              </a:cubicBezTo>
                              <a:cubicBezTo>
                                <a:pt x="74" y="33"/>
                                <a:pt x="44" y="0"/>
                                <a:pt x="6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5" name="Freeform 16"/>
                        <p:cNvSpPr/>
                        <p:nvPr/>
                      </p:nvSpPr>
                      <p:spPr>
                        <a:xfrm rot="20581200">
                          <a:off x="7247880" y="3675240"/>
                          <a:ext cx="34920" cy="69840"/>
                        </a:xfrm>
                        <a:custGeom>
                          <a:avLst/>
                          <a:gdLst>
                            <a:gd name="textAreaLeft" fmla="*/ 0 w 34920"/>
                            <a:gd name="textAreaRight" fmla="*/ 35280 w 34920"/>
                            <a:gd name="textAreaTop" fmla="*/ 0 h 69840"/>
                            <a:gd name="textAreaBottom" fmla="*/ 70200 h 69840"/>
                          </a:gdLst>
                          <a:ahLst/>
                          <a:rect l="textAreaLeft" t="textAreaTop" r="textAreaRight" b="textAreaBottom"/>
                          <a:pathLst>
                            <a:path w="54" h="107">
                              <a:moveTo>
                                <a:pt x="4" y="0"/>
                              </a:moveTo>
                              <a:cubicBezTo>
                                <a:pt x="2" y="0"/>
                                <a:pt x="1" y="0"/>
                                <a:pt x="0" y="1"/>
                              </a:cubicBezTo>
                              <a:cubicBezTo>
                                <a:pt x="25" y="3"/>
                                <a:pt x="45" y="26"/>
                                <a:pt x="45" y="54"/>
                              </a:cubicBezTo>
                              <a:cubicBezTo>
                                <a:pt x="45" y="82"/>
                                <a:pt x="25" y="105"/>
                                <a:pt x="0" y="107"/>
                              </a:cubicBezTo>
                              <a:cubicBezTo>
                                <a:pt x="1" y="107"/>
                                <a:pt x="2" y="107"/>
                                <a:pt x="4" y="107"/>
                              </a:cubicBezTo>
                              <a:cubicBezTo>
                                <a:pt x="31" y="107"/>
                                <a:pt x="54" y="83"/>
                                <a:pt x="54" y="54"/>
                              </a:cubicBezTo>
                              <a:cubicBezTo>
                                <a:pt x="54" y="24"/>
                                <a:pt x="31" y="0"/>
                                <a:pt x="4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34920" bIns="349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6" name="Freeform 17"/>
                        <p:cNvSpPr/>
                        <p:nvPr/>
                      </p:nvSpPr>
                      <p:spPr>
                        <a:xfrm rot="20581200">
                          <a:off x="7248240" y="3693240"/>
                          <a:ext cx="19440" cy="39240"/>
                        </a:xfrm>
                        <a:custGeom>
                          <a:avLst/>
                          <a:gdLst>
                            <a:gd name="textAreaLeft" fmla="*/ 0 w 19440"/>
                            <a:gd name="textAreaRight" fmla="*/ 19800 w 19440"/>
                            <a:gd name="textAreaTop" fmla="*/ 0 h 39240"/>
                            <a:gd name="textAreaBottom" fmla="*/ 39600 h 39240"/>
                          </a:gdLst>
                          <a:ahLst/>
                          <a:rect l="textAreaLeft" t="textAreaTop" r="textAreaRight" b="textAreaBottom"/>
                          <a:pathLst>
                            <a:path w="30" h="60">
                              <a:moveTo>
                                <a:pt x="2" y="0"/>
                              </a:moveTo>
                              <a:cubicBezTo>
                                <a:pt x="1" y="0"/>
                                <a:pt x="0" y="0"/>
                                <a:pt x="0" y="0"/>
                              </a:cubicBezTo>
                              <a:cubicBezTo>
                                <a:pt x="14" y="1"/>
                                <a:pt x="25" y="14"/>
                                <a:pt x="25" y="30"/>
                              </a:cubicBezTo>
                              <a:cubicBezTo>
                                <a:pt x="25" y="46"/>
                                <a:pt x="14" y="59"/>
                                <a:pt x="0" y="60"/>
                              </a:cubicBezTo>
                              <a:cubicBezTo>
                                <a:pt x="0" y="60"/>
                                <a:pt x="1" y="60"/>
                                <a:pt x="2" y="60"/>
                              </a:cubicBezTo>
                              <a:cubicBezTo>
                                <a:pt x="18" y="60"/>
                                <a:pt x="30" y="47"/>
                                <a:pt x="30" y="30"/>
                              </a:cubicBezTo>
                              <a:cubicBezTo>
                                <a:pt x="30" y="13"/>
                                <a:pt x="18" y="0"/>
                                <a:pt x="2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19800" bIns="19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637" name="组合 21"/>
                      <p:cNvGrpSpPr/>
                      <p:nvPr/>
                    </p:nvGrpSpPr>
                    <p:grpSpPr>
                      <a:xfrm>
                        <a:off x="7158240" y="3668400"/>
                        <a:ext cx="96480" cy="127080"/>
                        <a:chOff x="7158240" y="3668400"/>
                        <a:chExt cx="96480" cy="127080"/>
                      </a:xfrm>
                    </p:grpSpPr>
                    <p:sp>
                      <p:nvSpPr>
                        <p:cNvPr id="638" name="Freeform 25"/>
                        <p:cNvSpPr/>
                        <p:nvPr/>
                      </p:nvSpPr>
                      <p:spPr>
                        <a:xfrm>
                          <a:off x="7193880" y="3668400"/>
                          <a:ext cx="25560" cy="39600"/>
                        </a:xfrm>
                        <a:custGeom>
                          <a:avLst/>
                          <a:gdLst>
                            <a:gd name="textAreaLeft" fmla="*/ 0 w 25560"/>
                            <a:gd name="textAreaRight" fmla="*/ 25920 w 2556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39" h="61">
                              <a:moveTo>
                                <a:pt x="37" y="46"/>
                              </a:moveTo>
                              <a:cubicBezTo>
                                <a:pt x="39" y="51"/>
                                <a:pt x="37" y="57"/>
                                <a:pt x="31" y="59"/>
                              </a:cubicBezTo>
                              <a:cubicBezTo>
                                <a:pt x="31" y="59"/>
                                <a:pt x="31" y="59"/>
                                <a:pt x="31" y="59"/>
                              </a:cubicBezTo>
                              <a:cubicBezTo>
                                <a:pt x="26" y="61"/>
                                <a:pt x="20" y="59"/>
                                <a:pt x="18" y="54"/>
                              </a:cubicBezTo>
                              <a:cubicBezTo>
                                <a:pt x="2" y="15"/>
                                <a:pt x="2" y="15"/>
                                <a:pt x="2" y="15"/>
                              </a:cubicBezTo>
                              <a:cubicBezTo>
                                <a:pt x="0" y="10"/>
                                <a:pt x="2" y="4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3" y="0"/>
                                <a:pt x="19" y="2"/>
                                <a:pt x="21" y="7"/>
                              </a:cubicBezTo>
                              <a:lnTo>
                                <a:pt x="37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19800" bIns="19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39" name="Freeform 26"/>
                        <p:cNvSpPr/>
                        <p:nvPr/>
                      </p:nvSpPr>
                      <p:spPr>
                        <a:xfrm>
                          <a:off x="7228440" y="3750840"/>
                          <a:ext cx="26280" cy="39960"/>
                        </a:xfrm>
                        <a:custGeom>
                          <a:avLst/>
                          <a:gdLst>
                            <a:gd name="textAreaLeft" fmla="*/ 0 w 26280"/>
                            <a:gd name="textAreaRight" fmla="*/ 26640 w 26280"/>
                            <a:gd name="textAreaTop" fmla="*/ 0 h 39960"/>
                            <a:gd name="textAreaBottom" fmla="*/ 40320 h 39960"/>
                          </a:gdLst>
                          <a:ahLst/>
                          <a:rect l="textAreaLeft" t="textAreaTop" r="textAreaRight" b="textAreaBottom"/>
                          <a:pathLst>
                            <a:path w="40" h="62">
                              <a:moveTo>
                                <a:pt x="38" y="46"/>
                              </a:moveTo>
                              <a:cubicBezTo>
                                <a:pt x="40" y="51"/>
                                <a:pt x="37" y="57"/>
                                <a:pt x="32" y="59"/>
                              </a:cubicBezTo>
                              <a:cubicBezTo>
                                <a:pt x="32" y="59"/>
                                <a:pt x="32" y="59"/>
                                <a:pt x="32" y="59"/>
                              </a:cubicBezTo>
                              <a:cubicBezTo>
                                <a:pt x="27" y="62"/>
                                <a:pt x="21" y="59"/>
                                <a:pt x="19" y="54"/>
                              </a:cubicBezTo>
                              <a:cubicBezTo>
                                <a:pt x="3" y="16"/>
                                <a:pt x="3" y="16"/>
                                <a:pt x="3" y="16"/>
                              </a:cubicBezTo>
                              <a:cubicBezTo>
                                <a:pt x="0" y="11"/>
                                <a:pt x="3" y="5"/>
                                <a:pt x="8" y="2"/>
                              </a:cubicBezTo>
                              <a:cubicBezTo>
                                <a:pt x="8" y="2"/>
                                <a:pt x="8" y="2"/>
                                <a:pt x="8" y="2"/>
                              </a:cubicBezTo>
                              <a:cubicBezTo>
                                <a:pt x="14" y="0"/>
                                <a:pt x="20" y="3"/>
                                <a:pt x="22" y="8"/>
                              </a:cubicBezTo>
                              <a:lnTo>
                                <a:pt x="38" y="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tIns="20160" bIns="201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40" name="Freeform 27"/>
                        <p:cNvSpPr/>
                        <p:nvPr/>
                      </p:nvSpPr>
                      <p:spPr>
                        <a:xfrm>
                          <a:off x="7158240" y="3677040"/>
                          <a:ext cx="79560" cy="118440"/>
                        </a:xfrm>
                        <a:custGeom>
                          <a:avLst/>
                          <a:gdLst>
                            <a:gd name="textAreaLeft" fmla="*/ 0 w 79560"/>
                            <a:gd name="textAreaRight" fmla="*/ 79920 w 79560"/>
                            <a:gd name="textAreaTop" fmla="*/ 0 h 118440"/>
                            <a:gd name="textAreaBottom" fmla="*/ 118800 h 118440"/>
                          </a:gdLst>
                          <a:ahLst/>
                          <a:rect l="textAreaLeft" t="textAreaTop" r="textAreaRight" b="textAreaBottom"/>
                          <a:pathLst>
                            <a:path w="121" h="182">
                              <a:moveTo>
                                <a:pt x="121" y="175"/>
                              </a:moveTo>
                              <a:cubicBezTo>
                                <a:pt x="61" y="182"/>
                                <a:pt x="0" y="39"/>
                                <a:pt x="47" y="0"/>
                              </a:cubicBezTo>
                              <a:cubicBezTo>
                                <a:pt x="68" y="51"/>
                                <a:pt x="68" y="51"/>
                                <a:pt x="68" y="51"/>
                              </a:cubicBezTo>
                              <a:cubicBezTo>
                                <a:pt x="49" y="54"/>
                                <a:pt x="89" y="139"/>
                                <a:pt x="100" y="125"/>
                              </a:cubicBezTo>
                              <a:lnTo>
                                <a:pt x="121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numCol="1" spcCol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41" name="文本框 109"/>
                <p:cNvSpPr/>
                <p:nvPr/>
              </p:nvSpPr>
              <p:spPr>
                <a:xfrm>
                  <a:off x="6824520" y="3701160"/>
                  <a:ext cx="1117080" cy="272160"/>
                </a:xfrm>
                <a:prstGeom prst="rect">
                  <a:avLst/>
                </a:prstGeom>
                <a:solidFill>
                  <a:srgbClr val="17a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1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高效异地沟通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文本框 110"/>
                <p:cNvSpPr/>
                <p:nvPr/>
              </p:nvSpPr>
              <p:spPr>
                <a:xfrm>
                  <a:off x="6809400" y="3950280"/>
                  <a:ext cx="115416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11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讨论建设方案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组合 118"/>
              <p:cNvGrpSpPr/>
              <p:nvPr/>
            </p:nvGrpSpPr>
            <p:grpSpPr>
              <a:xfrm>
                <a:off x="8315640" y="3452040"/>
                <a:ext cx="197640" cy="167040"/>
                <a:chOff x="8315640" y="3452040"/>
                <a:chExt cx="197640" cy="167040"/>
              </a:xfrm>
            </p:grpSpPr>
            <p:sp>
              <p:nvSpPr>
                <p:cNvPr id="644" name="任意多边形 113"/>
                <p:cNvSpPr/>
                <p:nvPr/>
              </p:nvSpPr>
              <p:spPr>
                <a:xfrm>
                  <a:off x="8358120" y="3529800"/>
                  <a:ext cx="113040" cy="89280"/>
                </a:xfrm>
                <a:custGeom>
                  <a:avLst/>
                  <a:gdLst>
                    <a:gd name="textAreaLeft" fmla="*/ 0 w 113040"/>
                    <a:gd name="textAreaRight" fmla="*/ 113400 w 11304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348855" h="276225">
                      <a:moveTo>
                        <a:pt x="116142" y="0"/>
                      </a:moveTo>
                      <a:lnTo>
                        <a:pt x="239612" y="0"/>
                      </a:lnTo>
                      <a:lnTo>
                        <a:pt x="231107" y="13220"/>
                      </a:lnTo>
                      <a:cubicBezTo>
                        <a:pt x="223123" y="32998"/>
                        <a:pt x="218709" y="54743"/>
                        <a:pt x="218709" y="77569"/>
                      </a:cubicBezTo>
                      <a:cubicBezTo>
                        <a:pt x="218709" y="146046"/>
                        <a:pt x="258439" y="204799"/>
                        <a:pt x="315061" y="229896"/>
                      </a:cubicBezTo>
                      <a:lnTo>
                        <a:pt x="348855" y="237045"/>
                      </a:lnTo>
                      <a:lnTo>
                        <a:pt x="348855" y="276225"/>
                      </a:lnTo>
                      <a:lnTo>
                        <a:pt x="0" y="276225"/>
                      </a:lnTo>
                      <a:lnTo>
                        <a:pt x="0" y="238505"/>
                      </a:lnTo>
                      <a:lnTo>
                        <a:pt x="40693" y="229896"/>
                      </a:lnTo>
                      <a:cubicBezTo>
                        <a:pt x="97315" y="204799"/>
                        <a:pt x="137045" y="146046"/>
                        <a:pt x="137045" y="77569"/>
                      </a:cubicBezTo>
                      <a:cubicBezTo>
                        <a:pt x="137045" y="54743"/>
                        <a:pt x="132631" y="32998"/>
                        <a:pt x="124648" y="13220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" name="圆角矩形 116"/>
                <p:cNvSpPr/>
                <p:nvPr/>
              </p:nvSpPr>
              <p:spPr>
                <a:xfrm>
                  <a:off x="8315640" y="3452040"/>
                  <a:ext cx="197640" cy="1389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" name="圆角矩形 117"/>
                <p:cNvSpPr/>
                <p:nvPr/>
              </p:nvSpPr>
              <p:spPr>
                <a:xfrm>
                  <a:off x="8330040" y="3463200"/>
                  <a:ext cx="168840" cy="117000"/>
                </a:xfrm>
                <a:prstGeom prst="roundRect">
                  <a:avLst>
                    <a:gd name="adj" fmla="val 8766"/>
                  </a:avLst>
                </a:prstGeom>
                <a:solidFill>
                  <a:srgbClr val="59b8d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" name="右箭头 107"/>
                <p:cNvSpPr/>
                <p:nvPr/>
              </p:nvSpPr>
              <p:spPr>
                <a:xfrm>
                  <a:off x="8346960" y="3486960"/>
                  <a:ext cx="116640" cy="824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440522" h="311324">
                      <a:moveTo>
                        <a:pt x="0" y="311324"/>
                      </a:moveTo>
                      <a:cubicBezTo>
                        <a:pt x="97248" y="189224"/>
                        <a:pt x="173065" y="129037"/>
                        <a:pt x="289363" y="80756"/>
                      </a:cubicBezTo>
                      <a:lnTo>
                        <a:pt x="289363" y="0"/>
                      </a:lnTo>
                      <a:lnTo>
                        <a:pt x="440522" y="132937"/>
                      </a:lnTo>
                      <a:lnTo>
                        <a:pt x="289363" y="265873"/>
                      </a:lnTo>
                      <a:lnTo>
                        <a:pt x="289363" y="185117"/>
                      </a:lnTo>
                      <a:cubicBezTo>
                        <a:pt x="173065" y="198611"/>
                        <a:pt x="111535" y="202580"/>
                        <a:pt x="0" y="311324"/>
                      </a:cubicBezTo>
                      <a:close/>
                    </a:path>
                  </a:pathLst>
                </a:cu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8" name="组合 175"/>
            <p:cNvGrpSpPr/>
            <p:nvPr/>
          </p:nvGrpSpPr>
          <p:grpSpPr>
            <a:xfrm>
              <a:off x="6552360" y="1524600"/>
              <a:ext cx="856080" cy="856080"/>
              <a:chOff x="6552360" y="1524600"/>
              <a:chExt cx="856080" cy="856080"/>
            </a:xfrm>
          </p:grpSpPr>
          <p:sp>
            <p:nvSpPr>
              <p:cNvPr id="649" name="图片 161"/>
              <p:cNvSpPr/>
              <p:nvPr/>
            </p:nvSpPr>
            <p:spPr>
              <a:xfrm>
                <a:off x="6557400" y="152640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椭圆 174"/>
              <p:cNvSpPr/>
              <p:nvPr/>
            </p:nvSpPr>
            <p:spPr>
              <a:xfrm>
                <a:off x="6552360" y="152460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76"/>
            <p:cNvGrpSpPr/>
            <p:nvPr/>
          </p:nvGrpSpPr>
          <p:grpSpPr>
            <a:xfrm>
              <a:off x="10062720" y="1925280"/>
              <a:ext cx="856080" cy="856080"/>
              <a:chOff x="10062720" y="1925280"/>
              <a:chExt cx="856080" cy="856080"/>
            </a:xfrm>
          </p:grpSpPr>
          <p:sp>
            <p:nvSpPr>
              <p:cNvPr id="652" name="图片 177"/>
              <p:cNvSpPr/>
              <p:nvPr/>
            </p:nvSpPr>
            <p:spPr>
              <a:xfrm>
                <a:off x="10067760" y="192708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178"/>
              <p:cNvSpPr/>
              <p:nvPr/>
            </p:nvSpPr>
            <p:spPr>
              <a:xfrm>
                <a:off x="10062720" y="192528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179"/>
            <p:cNvGrpSpPr/>
            <p:nvPr/>
          </p:nvGrpSpPr>
          <p:grpSpPr>
            <a:xfrm>
              <a:off x="9931680" y="3976200"/>
              <a:ext cx="856080" cy="856080"/>
              <a:chOff x="9931680" y="3976200"/>
              <a:chExt cx="856080" cy="856080"/>
            </a:xfrm>
          </p:grpSpPr>
          <p:sp>
            <p:nvSpPr>
              <p:cNvPr id="655" name="图片 180"/>
              <p:cNvSpPr/>
              <p:nvPr/>
            </p:nvSpPr>
            <p:spPr>
              <a:xfrm>
                <a:off x="9936720" y="3978000"/>
                <a:ext cx="849960" cy="849960"/>
              </a:xfrm>
              <a:custGeom>
                <a:avLst/>
                <a:gdLst>
                  <a:gd name="textAreaLeft" fmla="*/ 0 w 849960"/>
                  <a:gd name="textAreaRight" fmla="*/ 850320 w 849960"/>
                  <a:gd name="textAreaTop" fmla="*/ 0 h 849960"/>
                  <a:gd name="textAreaBottom" fmla="*/ 850320 h 849960"/>
                </a:gdLst>
                <a:ahLst/>
                <a:rect l="textAreaLeft" t="textAreaTop" r="textAreaRight" b="textAreaBottom"/>
                <a:pathLst>
                  <a:path w="2762890" h="2762890">
                    <a:moveTo>
                      <a:pt x="1381445" y="0"/>
                    </a:moveTo>
                    <a:cubicBezTo>
                      <a:pt x="2144396" y="0"/>
                      <a:pt x="2762890" y="618494"/>
                      <a:pt x="2762890" y="1381445"/>
                    </a:cubicBezTo>
                    <a:cubicBezTo>
                      <a:pt x="2762890" y="2144396"/>
                      <a:pt x="2144396" y="2762890"/>
                      <a:pt x="1381445" y="2762890"/>
                    </a:cubicBezTo>
                    <a:cubicBezTo>
                      <a:pt x="618494" y="2762890"/>
                      <a:pt x="0" y="2144396"/>
                      <a:pt x="0" y="1381445"/>
                    </a:cubicBezTo>
                    <a:cubicBezTo>
                      <a:pt x="0" y="618494"/>
                      <a:pt x="618494" y="0"/>
                      <a:pt x="1381445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椭圆 181"/>
              <p:cNvSpPr/>
              <p:nvPr/>
            </p:nvSpPr>
            <p:spPr>
              <a:xfrm>
                <a:off x="9931680" y="3976200"/>
                <a:ext cx="856080" cy="856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7" name="组合 230"/>
            <p:cNvGrpSpPr/>
            <p:nvPr/>
          </p:nvGrpSpPr>
          <p:grpSpPr>
            <a:xfrm>
              <a:off x="6428160" y="2398680"/>
              <a:ext cx="552240" cy="359640"/>
              <a:chOff x="6428160" y="2398680"/>
              <a:chExt cx="552240" cy="359640"/>
            </a:xfrm>
          </p:grpSpPr>
          <p:cxnSp>
            <p:nvCxnSpPr>
              <p:cNvPr id="658" name="直接连接符 226"/>
              <p:cNvCxnSpPr/>
              <p:nvPr/>
            </p:nvCxnSpPr>
            <p:spPr>
              <a:xfrm flipV="1">
                <a:off x="6432840" y="2576880"/>
                <a:ext cx="360" cy="18180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59" name="直接连接符 228"/>
              <p:cNvCxnSpPr/>
              <p:nvPr/>
            </p:nvCxnSpPr>
            <p:spPr>
              <a:xfrm>
                <a:off x="6428160" y="2579760"/>
                <a:ext cx="55260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0" name="直接连接符 229"/>
              <p:cNvCxnSpPr/>
              <p:nvPr/>
            </p:nvCxnSpPr>
            <p:spPr>
              <a:xfrm flipV="1">
                <a:off x="6978960" y="2398680"/>
                <a:ext cx="360" cy="18144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  <p:grpSp>
          <p:nvGrpSpPr>
            <p:cNvPr id="661" name="组合 231"/>
            <p:cNvGrpSpPr/>
            <p:nvPr/>
          </p:nvGrpSpPr>
          <p:grpSpPr>
            <a:xfrm>
              <a:off x="9493200" y="2376720"/>
              <a:ext cx="558720" cy="438120"/>
              <a:chOff x="9493200" y="2376720"/>
              <a:chExt cx="558720" cy="438120"/>
            </a:xfrm>
          </p:grpSpPr>
          <p:cxnSp>
            <p:nvCxnSpPr>
              <p:cNvPr id="662" name="直接连接符 232"/>
              <p:cNvCxnSpPr/>
              <p:nvPr/>
            </p:nvCxnSpPr>
            <p:spPr>
              <a:xfrm>
                <a:off x="9493200" y="2810880"/>
                <a:ext cx="28224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3" name="直接连接符 233"/>
              <p:cNvCxnSpPr/>
              <p:nvPr/>
            </p:nvCxnSpPr>
            <p:spPr>
              <a:xfrm flipV="1">
                <a:off x="9770040" y="2376720"/>
                <a:ext cx="360" cy="43848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4" name="直接连接符 234"/>
              <p:cNvCxnSpPr/>
              <p:nvPr/>
            </p:nvCxnSpPr>
            <p:spPr>
              <a:xfrm>
                <a:off x="9770040" y="2377800"/>
                <a:ext cx="28224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  <p:grpSp>
          <p:nvGrpSpPr>
            <p:cNvPr id="665" name="组合 235"/>
            <p:cNvGrpSpPr/>
            <p:nvPr/>
          </p:nvGrpSpPr>
          <p:grpSpPr>
            <a:xfrm>
              <a:off x="9455400" y="3976200"/>
              <a:ext cx="468360" cy="438480"/>
              <a:chOff x="9455400" y="3976200"/>
              <a:chExt cx="468360" cy="438480"/>
            </a:xfrm>
          </p:grpSpPr>
          <p:cxnSp>
            <p:nvCxnSpPr>
              <p:cNvPr id="666" name="直接连接符 236"/>
              <p:cNvCxnSpPr/>
              <p:nvPr/>
            </p:nvCxnSpPr>
            <p:spPr>
              <a:xfrm>
                <a:off x="9455400" y="3980160"/>
                <a:ext cx="23652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7" name="直接连接符 237"/>
              <p:cNvCxnSpPr/>
              <p:nvPr/>
            </p:nvCxnSpPr>
            <p:spPr>
              <a:xfrm>
                <a:off x="9687600" y="3976200"/>
                <a:ext cx="360" cy="43884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  <p:cxnSp>
            <p:nvCxnSpPr>
              <p:cNvPr id="668" name="直接连接符 238"/>
              <p:cNvCxnSpPr/>
              <p:nvPr/>
            </p:nvCxnSpPr>
            <p:spPr>
              <a:xfrm>
                <a:off x="9687600" y="4413240"/>
                <a:ext cx="236520" cy="360"/>
              </a:xfrm>
              <a:prstGeom prst="straightConnector1">
                <a:avLst/>
              </a:prstGeom>
              <a:ln w="19050">
                <a:solidFill>
                  <a:srgbClr val="5fb0e5"/>
                </a:solidFill>
                <a:prstDash val="sysDot"/>
              </a:ln>
            </p:spPr>
          </p:cxnSp>
        </p:grpSp>
      </p:grpSp>
      <p:grpSp>
        <p:nvGrpSpPr>
          <p:cNvPr id="669" name="组合 241"/>
          <p:cNvGrpSpPr/>
          <p:nvPr/>
        </p:nvGrpSpPr>
        <p:grpSpPr>
          <a:xfrm>
            <a:off x="5904360" y="1691640"/>
            <a:ext cx="423360" cy="699840"/>
            <a:chOff x="5904360" y="1691640"/>
            <a:chExt cx="423360" cy="699840"/>
          </a:xfrm>
        </p:grpSpPr>
        <p:grpSp>
          <p:nvGrpSpPr>
            <p:cNvPr id="670" name="组合 190"/>
            <p:cNvGrpSpPr/>
            <p:nvPr/>
          </p:nvGrpSpPr>
          <p:grpSpPr>
            <a:xfrm>
              <a:off x="5904360" y="1691640"/>
              <a:ext cx="423360" cy="612000"/>
              <a:chOff x="5904360" y="1691640"/>
              <a:chExt cx="423360" cy="612000"/>
            </a:xfrm>
          </p:grpSpPr>
          <p:sp>
            <p:nvSpPr>
              <p:cNvPr id="671" name="任意多边形 188"/>
              <p:cNvSpPr/>
              <p:nvPr/>
            </p:nvSpPr>
            <p:spPr>
              <a:xfrm>
                <a:off x="5904360" y="169164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2" name="椭圆 183"/>
              <p:cNvSpPr/>
              <p:nvPr/>
            </p:nvSpPr>
            <p:spPr>
              <a:xfrm>
                <a:off x="5966640" y="176040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3" name="椭圆 189"/>
              <p:cNvSpPr/>
              <p:nvPr/>
            </p:nvSpPr>
            <p:spPr>
              <a:xfrm>
                <a:off x="6040080" y="183384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74" name="椭圆 240"/>
            <p:cNvSpPr/>
            <p:nvPr/>
          </p:nvSpPr>
          <p:spPr>
            <a:xfrm>
              <a:off x="6011640" y="231264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5" name="组合 242"/>
          <p:cNvGrpSpPr/>
          <p:nvPr/>
        </p:nvGrpSpPr>
        <p:grpSpPr>
          <a:xfrm>
            <a:off x="9455400" y="1411560"/>
            <a:ext cx="423360" cy="699480"/>
            <a:chOff x="9455400" y="1411560"/>
            <a:chExt cx="423360" cy="699480"/>
          </a:xfrm>
        </p:grpSpPr>
        <p:grpSp>
          <p:nvGrpSpPr>
            <p:cNvPr id="676" name="组合 243"/>
            <p:cNvGrpSpPr/>
            <p:nvPr/>
          </p:nvGrpSpPr>
          <p:grpSpPr>
            <a:xfrm>
              <a:off x="9455400" y="1411560"/>
              <a:ext cx="423360" cy="612000"/>
              <a:chOff x="9455400" y="1411560"/>
              <a:chExt cx="423360" cy="612000"/>
            </a:xfrm>
          </p:grpSpPr>
          <p:sp>
            <p:nvSpPr>
              <p:cNvPr id="677" name="任意多边形 245"/>
              <p:cNvSpPr/>
              <p:nvPr/>
            </p:nvSpPr>
            <p:spPr>
              <a:xfrm>
                <a:off x="9455400" y="141156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8" name="椭圆 246"/>
              <p:cNvSpPr/>
              <p:nvPr/>
            </p:nvSpPr>
            <p:spPr>
              <a:xfrm>
                <a:off x="9517680" y="147996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9" name="椭圆 247"/>
              <p:cNvSpPr/>
              <p:nvPr/>
            </p:nvSpPr>
            <p:spPr>
              <a:xfrm>
                <a:off x="9591120" y="155340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0" name="椭圆 244"/>
            <p:cNvSpPr/>
            <p:nvPr/>
          </p:nvSpPr>
          <p:spPr>
            <a:xfrm>
              <a:off x="9562680" y="203220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1" name="组合 248"/>
          <p:cNvGrpSpPr/>
          <p:nvPr/>
        </p:nvGrpSpPr>
        <p:grpSpPr>
          <a:xfrm>
            <a:off x="11375640" y="3914640"/>
            <a:ext cx="423360" cy="699840"/>
            <a:chOff x="11375640" y="3914640"/>
            <a:chExt cx="423360" cy="699840"/>
          </a:xfrm>
        </p:grpSpPr>
        <p:grpSp>
          <p:nvGrpSpPr>
            <p:cNvPr id="682" name="组合 249"/>
            <p:cNvGrpSpPr/>
            <p:nvPr/>
          </p:nvGrpSpPr>
          <p:grpSpPr>
            <a:xfrm>
              <a:off x="11375640" y="3914640"/>
              <a:ext cx="423360" cy="612000"/>
              <a:chOff x="11375640" y="3914640"/>
              <a:chExt cx="423360" cy="612000"/>
            </a:xfrm>
          </p:grpSpPr>
          <p:sp>
            <p:nvSpPr>
              <p:cNvPr id="683" name="任意多边形 251"/>
              <p:cNvSpPr/>
              <p:nvPr/>
            </p:nvSpPr>
            <p:spPr>
              <a:xfrm>
                <a:off x="11375640" y="391464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4" name="椭圆 252"/>
              <p:cNvSpPr/>
              <p:nvPr/>
            </p:nvSpPr>
            <p:spPr>
              <a:xfrm>
                <a:off x="11437920" y="398304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椭圆 253"/>
              <p:cNvSpPr/>
              <p:nvPr/>
            </p:nvSpPr>
            <p:spPr>
              <a:xfrm>
                <a:off x="11511360" y="405684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6" name="椭圆 250"/>
            <p:cNvSpPr/>
            <p:nvPr/>
          </p:nvSpPr>
          <p:spPr>
            <a:xfrm>
              <a:off x="11482920" y="453564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7" name="组合 254"/>
          <p:cNvGrpSpPr/>
          <p:nvPr/>
        </p:nvGrpSpPr>
        <p:grpSpPr>
          <a:xfrm>
            <a:off x="5198400" y="3304080"/>
            <a:ext cx="423360" cy="699840"/>
            <a:chOff x="5198400" y="3304080"/>
            <a:chExt cx="423360" cy="699840"/>
          </a:xfrm>
        </p:grpSpPr>
        <p:grpSp>
          <p:nvGrpSpPr>
            <p:cNvPr id="688" name="组合 255"/>
            <p:cNvGrpSpPr/>
            <p:nvPr/>
          </p:nvGrpSpPr>
          <p:grpSpPr>
            <a:xfrm>
              <a:off x="5198400" y="3304080"/>
              <a:ext cx="423360" cy="612000"/>
              <a:chOff x="5198400" y="3304080"/>
              <a:chExt cx="423360" cy="612000"/>
            </a:xfrm>
          </p:grpSpPr>
          <p:sp>
            <p:nvSpPr>
              <p:cNvPr id="689" name="任意多边形 257"/>
              <p:cNvSpPr/>
              <p:nvPr/>
            </p:nvSpPr>
            <p:spPr>
              <a:xfrm>
                <a:off x="5198400" y="3304080"/>
                <a:ext cx="423360" cy="6120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977900" h="1413540">
                    <a:moveTo>
                      <a:pt x="488950" y="0"/>
                    </a:moveTo>
                    <a:cubicBezTo>
                      <a:pt x="758990" y="0"/>
                      <a:pt x="977900" y="218910"/>
                      <a:pt x="977900" y="488950"/>
                    </a:cubicBezTo>
                    <a:cubicBezTo>
                      <a:pt x="977900" y="556460"/>
                      <a:pt x="964218" y="620774"/>
                      <a:pt x="939476" y="679272"/>
                    </a:cubicBezTo>
                    <a:lnTo>
                      <a:pt x="909114" y="735209"/>
                    </a:lnTo>
                    <a:lnTo>
                      <a:pt x="913606" y="735209"/>
                    </a:lnTo>
                    <a:lnTo>
                      <a:pt x="492125" y="1413540"/>
                    </a:lnTo>
                    <a:lnTo>
                      <a:pt x="99659" y="781906"/>
                    </a:lnTo>
                    <a:lnTo>
                      <a:pt x="83505" y="762327"/>
                    </a:lnTo>
                    <a:cubicBezTo>
                      <a:pt x="30784" y="684290"/>
                      <a:pt x="0" y="590215"/>
                      <a:pt x="0" y="488950"/>
                    </a:cubicBezTo>
                    <a:cubicBezTo>
                      <a:pt x="0" y="218910"/>
                      <a:pt x="218910" y="0"/>
                      <a:pt x="488950" y="0"/>
                    </a:cubicBezTo>
                    <a:close/>
                  </a:path>
                </a:pathLst>
              </a:cu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椭圆 258"/>
              <p:cNvSpPr/>
              <p:nvPr/>
            </p:nvSpPr>
            <p:spPr>
              <a:xfrm>
                <a:off x="5260320" y="3372480"/>
                <a:ext cx="298800" cy="298800"/>
              </a:xfrm>
              <a:prstGeom prst="ellipse">
                <a:avLst/>
              </a:prstGeom>
              <a:solidFill>
                <a:srgbClr val="d9f0e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1" name="椭圆 259"/>
              <p:cNvSpPr/>
              <p:nvPr/>
            </p:nvSpPr>
            <p:spPr>
              <a:xfrm>
                <a:off x="5334120" y="3446280"/>
                <a:ext cx="151560" cy="151560"/>
              </a:xfrm>
              <a:prstGeom prst="ellipse">
                <a:avLst/>
              </a:prstGeom>
              <a:solidFill>
                <a:srgbClr val="e7aa5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92" name="椭圆 256"/>
            <p:cNvSpPr/>
            <p:nvPr/>
          </p:nvSpPr>
          <p:spPr>
            <a:xfrm>
              <a:off x="5305680" y="3925080"/>
              <a:ext cx="214920" cy="78840"/>
            </a:xfrm>
            <a:prstGeom prst="ellipse">
              <a:avLst/>
            </a:prstGeom>
            <a:solidFill>
              <a:srgbClr val="b3cac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93" name="文本框 260"/>
          <p:cNvSpPr/>
          <p:nvPr/>
        </p:nvSpPr>
        <p:spPr>
          <a:xfrm>
            <a:off x="8884800" y="17956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261"/>
          <p:cNvSpPr/>
          <p:nvPr/>
        </p:nvSpPr>
        <p:spPr>
          <a:xfrm>
            <a:off x="5272200" y="204840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262"/>
          <p:cNvSpPr/>
          <p:nvPr/>
        </p:nvSpPr>
        <p:spPr>
          <a:xfrm>
            <a:off x="4566600" y="36532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263"/>
          <p:cNvSpPr/>
          <p:nvPr/>
        </p:nvSpPr>
        <p:spPr>
          <a:xfrm>
            <a:off x="10768320" y="4294080"/>
            <a:ext cx="713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梯形 72"/>
          <p:cNvSpPr/>
          <p:nvPr/>
        </p:nvSpPr>
        <p:spPr>
          <a:xfrm>
            <a:off x="0" y="3907080"/>
            <a:ext cx="12191760" cy="2950560"/>
          </a:xfrm>
          <a:prstGeom prst="trapezoid">
            <a:avLst>
              <a:gd name="adj" fmla="val 72849"/>
            </a:avLst>
          </a:prstGeom>
          <a:solidFill>
            <a:srgbClr val="a6d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98" name="图片 171" descr=""/>
          <p:cNvPicPr/>
          <p:nvPr/>
        </p:nvPicPr>
        <p:blipFill>
          <a:blip r:embed="rId1"/>
          <a:stretch/>
        </p:blipFill>
        <p:spPr>
          <a:xfrm>
            <a:off x="0" y="6991560"/>
            <a:ext cx="12117240" cy="464472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18"/>
          <p:cNvGrpSpPr/>
          <p:nvPr/>
        </p:nvGrpSpPr>
        <p:grpSpPr>
          <a:xfrm>
            <a:off x="-2032200" y="2624760"/>
            <a:ext cx="1729440" cy="995400"/>
            <a:chOff x="-2032200" y="2624760"/>
            <a:chExt cx="1729440" cy="995400"/>
          </a:xfrm>
        </p:grpSpPr>
        <p:sp>
          <p:nvSpPr>
            <p:cNvPr id="700" name="矩形 225"/>
            <p:cNvSpPr/>
            <p:nvPr/>
          </p:nvSpPr>
          <p:spPr>
            <a:xfrm>
              <a:off x="-2032200" y="2624760"/>
              <a:ext cx="1729440" cy="995400"/>
            </a:xfrm>
            <a:prstGeom prst="rect">
              <a:avLst/>
            </a:prstGeom>
            <a:solidFill>
              <a:srgbClr val="e0f2fd"/>
            </a:solidFill>
            <a:ln>
              <a:solidFill>
                <a:srgbClr val="b3d5f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1" name="组合 226"/>
            <p:cNvGrpSpPr/>
            <p:nvPr/>
          </p:nvGrpSpPr>
          <p:grpSpPr>
            <a:xfrm>
              <a:off x="-2032200" y="2641320"/>
              <a:ext cx="1729440" cy="954000"/>
              <a:chOff x="-2032200" y="2641320"/>
              <a:chExt cx="1729440" cy="954000"/>
            </a:xfrm>
          </p:grpSpPr>
          <p:sp>
            <p:nvSpPr>
              <p:cNvPr id="702" name="任意多边形 227"/>
              <p:cNvSpPr/>
              <p:nvPr/>
            </p:nvSpPr>
            <p:spPr>
              <a:xfrm>
                <a:off x="-2032200" y="2914920"/>
                <a:ext cx="1729440" cy="680400"/>
              </a:xfrm>
              <a:custGeom>
                <a:avLst/>
                <a:gdLst>
                  <a:gd name="textAreaLeft" fmla="*/ 0 w 1729440"/>
                  <a:gd name="textAreaRight" fmla="*/ 1729800 w 1729440"/>
                  <a:gd name="textAreaTop" fmla="*/ 0 h 680400"/>
                  <a:gd name="textAreaBottom" fmla="*/ 680760 h 68040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03" name="组合 228"/>
              <p:cNvGrpSpPr/>
              <p:nvPr/>
            </p:nvGrpSpPr>
            <p:grpSpPr>
              <a:xfrm>
                <a:off x="-861480" y="2641320"/>
                <a:ext cx="318240" cy="324720"/>
                <a:chOff x="-861480" y="2641320"/>
                <a:chExt cx="318240" cy="324720"/>
              </a:xfrm>
            </p:grpSpPr>
            <p:sp>
              <p:nvSpPr>
                <p:cNvPr id="704" name="等腰三角形 229"/>
                <p:cNvSpPr/>
                <p:nvPr/>
              </p:nvSpPr>
              <p:spPr>
                <a:xfrm>
                  <a:off x="-792360" y="2641320"/>
                  <a:ext cx="179280" cy="73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8360" bIns="18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" name="等腰三角形 230"/>
                <p:cNvSpPr/>
                <p:nvPr/>
              </p:nvSpPr>
              <p:spPr>
                <a:xfrm>
                  <a:off x="-861480" y="2702520"/>
                  <a:ext cx="318240" cy="129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" name="矩形 231"/>
                <p:cNvSpPr/>
                <p:nvPr/>
              </p:nvSpPr>
              <p:spPr>
                <a:xfrm>
                  <a:off x="-723240" y="2786760"/>
                  <a:ext cx="41400" cy="179280"/>
                </a:xfrm>
                <a:prstGeom prst="rect">
                  <a:avLst/>
                </a:pr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07" name="组合 95"/>
          <p:cNvGrpSpPr/>
          <p:nvPr/>
        </p:nvGrpSpPr>
        <p:grpSpPr>
          <a:xfrm>
            <a:off x="1223640" y="1641960"/>
            <a:ext cx="3975120" cy="2948400"/>
            <a:chOff x="1223640" y="1641960"/>
            <a:chExt cx="3975120" cy="2948400"/>
          </a:xfrm>
        </p:grpSpPr>
        <p:grpSp>
          <p:nvGrpSpPr>
            <p:cNvPr id="708" name="组合 242"/>
            <p:cNvGrpSpPr/>
            <p:nvPr/>
          </p:nvGrpSpPr>
          <p:grpSpPr>
            <a:xfrm>
              <a:off x="1223640" y="1740960"/>
              <a:ext cx="3969360" cy="2849400"/>
              <a:chOff x="1223640" y="1740960"/>
              <a:chExt cx="3969360" cy="2849400"/>
            </a:xfrm>
          </p:grpSpPr>
          <p:grpSp>
            <p:nvGrpSpPr>
              <p:cNvPr id="709" name="组合 335"/>
              <p:cNvGrpSpPr/>
              <p:nvPr/>
            </p:nvGrpSpPr>
            <p:grpSpPr>
              <a:xfrm>
                <a:off x="1223640" y="1740960"/>
                <a:ext cx="3969360" cy="2849400"/>
                <a:chOff x="1223640" y="1740960"/>
                <a:chExt cx="3969360" cy="2849400"/>
              </a:xfrm>
            </p:grpSpPr>
            <p:sp>
              <p:nvSpPr>
                <p:cNvPr id="710" name="椭圆 340"/>
                <p:cNvSpPr/>
                <p:nvPr/>
              </p:nvSpPr>
              <p:spPr>
                <a:xfrm>
                  <a:off x="1662480" y="454356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" name="梯形 341"/>
                <p:cNvSpPr/>
                <p:nvPr/>
              </p:nvSpPr>
              <p:spPr>
                <a:xfrm>
                  <a:off x="2809440" y="397620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" name="矩形 342"/>
                <p:cNvSpPr/>
                <p:nvPr/>
              </p:nvSpPr>
              <p:spPr>
                <a:xfrm>
                  <a:off x="2926080" y="412884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713" name="组合 343"/>
                <p:cNvGrpSpPr/>
                <p:nvPr/>
              </p:nvGrpSpPr>
              <p:grpSpPr>
                <a:xfrm>
                  <a:off x="1223640" y="1740960"/>
                  <a:ext cx="3969360" cy="2425320"/>
                  <a:chOff x="1223640" y="1740960"/>
                  <a:chExt cx="3969360" cy="2425320"/>
                </a:xfrm>
              </p:grpSpPr>
              <p:sp>
                <p:nvSpPr>
                  <p:cNvPr id="714" name="圆角矩形 345"/>
                  <p:cNvSpPr/>
                  <p:nvPr/>
                </p:nvSpPr>
                <p:spPr>
                  <a:xfrm>
                    <a:off x="1223640" y="174096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5" name="矩形 346"/>
                  <p:cNvSpPr/>
                  <p:nvPr/>
                </p:nvSpPr>
                <p:spPr>
                  <a:xfrm>
                    <a:off x="1329840" y="182340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16" name="圆角矩形 344"/>
                <p:cNvSpPr/>
                <p:nvPr/>
              </p:nvSpPr>
              <p:spPr>
                <a:xfrm>
                  <a:off x="2444400" y="448164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17" name="椭圆 336"/>
              <p:cNvSpPr/>
              <p:nvPr/>
            </p:nvSpPr>
            <p:spPr>
              <a:xfrm>
                <a:off x="3116880" y="396972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8" name="椭圆 337"/>
              <p:cNvSpPr/>
              <p:nvPr/>
            </p:nvSpPr>
            <p:spPr>
              <a:xfrm>
                <a:off x="4961160" y="399960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9" name="椭圆 338"/>
              <p:cNvSpPr/>
              <p:nvPr/>
            </p:nvSpPr>
            <p:spPr>
              <a:xfrm>
                <a:off x="4865760" y="401184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0" name="椭圆 339"/>
              <p:cNvSpPr/>
              <p:nvPr/>
            </p:nvSpPr>
            <p:spPr>
              <a:xfrm>
                <a:off x="4793760" y="401184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21" name="组合 85"/>
            <p:cNvGrpSpPr/>
            <p:nvPr/>
          </p:nvGrpSpPr>
          <p:grpSpPr>
            <a:xfrm>
              <a:off x="1755720" y="1984680"/>
              <a:ext cx="2668320" cy="1351080"/>
              <a:chOff x="1755720" y="1984680"/>
              <a:chExt cx="2668320" cy="1351080"/>
            </a:xfrm>
          </p:grpSpPr>
          <p:sp>
            <p:nvSpPr>
              <p:cNvPr id="722" name="矩形 211"/>
              <p:cNvSpPr/>
              <p:nvPr/>
            </p:nvSpPr>
            <p:spPr>
              <a:xfrm>
                <a:off x="1755720" y="1984680"/>
                <a:ext cx="2668320" cy="1351080"/>
              </a:xfrm>
              <a:prstGeom prst="rect">
                <a:avLst/>
              </a:prstGeom>
              <a:solidFill>
                <a:srgbClr val="e4ee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3" name="矩形 212"/>
              <p:cNvSpPr/>
              <p:nvPr/>
            </p:nvSpPr>
            <p:spPr>
              <a:xfrm>
                <a:off x="1782720" y="2353680"/>
                <a:ext cx="2607120" cy="93960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4" name="矩形 213"/>
              <p:cNvSpPr/>
              <p:nvPr/>
            </p:nvSpPr>
            <p:spPr>
              <a:xfrm>
                <a:off x="2271960" y="2142000"/>
                <a:ext cx="636480" cy="17892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808080"/>
                    </a:solidFill>
                    <a:latin typeface="Calibri"/>
                  </a:rPr>
                  <a:t>http://www.qq.com/ </a:t>
                </a:r>
                <a:r>
                  <a:rPr b="0" lang="en-US" sz="400" spc="-1" strike="noStrike">
                    <a:solidFill>
                      <a:srgbClr val="808080"/>
                    </a:solidFill>
                    <a:latin typeface="Calibri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组合 214"/>
              <p:cNvGrpSpPr/>
              <p:nvPr/>
            </p:nvGrpSpPr>
            <p:grpSpPr>
              <a:xfrm>
                <a:off x="1826640" y="2130480"/>
                <a:ext cx="200880" cy="200880"/>
                <a:chOff x="1826640" y="2130480"/>
                <a:chExt cx="200880" cy="200880"/>
              </a:xfrm>
            </p:grpSpPr>
            <p:sp>
              <p:nvSpPr>
                <p:cNvPr id="726" name="椭圆 236"/>
                <p:cNvSpPr/>
                <p:nvPr/>
              </p:nvSpPr>
              <p:spPr>
                <a:xfrm>
                  <a:off x="1826640" y="2130480"/>
                  <a:ext cx="200880" cy="20088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" name="左箭头 24"/>
                <p:cNvSpPr/>
                <p:nvPr/>
              </p:nvSpPr>
              <p:spPr>
                <a:xfrm>
                  <a:off x="1850400" y="2163600"/>
                  <a:ext cx="153720" cy="1350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8" name="组合 215"/>
              <p:cNvGrpSpPr/>
              <p:nvPr/>
            </p:nvGrpSpPr>
            <p:grpSpPr>
              <a:xfrm>
                <a:off x="2082960" y="2151000"/>
                <a:ext cx="160200" cy="160200"/>
                <a:chOff x="2082960" y="2151000"/>
                <a:chExt cx="160200" cy="160200"/>
              </a:xfrm>
            </p:grpSpPr>
            <p:sp>
              <p:nvSpPr>
                <p:cNvPr id="729" name="椭圆 234"/>
                <p:cNvSpPr/>
                <p:nvPr/>
              </p:nvSpPr>
              <p:spPr>
                <a:xfrm flipH="1">
                  <a:off x="2082600" y="2151000"/>
                  <a:ext cx="160200" cy="1602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" name="左箭头 24"/>
                <p:cNvSpPr/>
                <p:nvPr/>
              </p:nvSpPr>
              <p:spPr>
                <a:xfrm flipH="1">
                  <a:off x="2102400" y="2177280"/>
                  <a:ext cx="122400" cy="1076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1" name="组合 216"/>
              <p:cNvGrpSpPr/>
              <p:nvPr/>
            </p:nvGrpSpPr>
            <p:grpSpPr>
              <a:xfrm>
                <a:off x="3682080" y="2138400"/>
                <a:ext cx="145440" cy="155880"/>
                <a:chOff x="3682080" y="2138400"/>
                <a:chExt cx="145440" cy="155880"/>
              </a:xfrm>
            </p:grpSpPr>
            <p:sp>
              <p:nvSpPr>
                <p:cNvPr id="732" name="任意多边形 232"/>
                <p:cNvSpPr/>
                <p:nvPr/>
              </p:nvSpPr>
              <p:spPr>
                <a:xfrm>
                  <a:off x="3682080" y="2138400"/>
                  <a:ext cx="145440" cy="15588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63b9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" name="五角星 233"/>
                <p:cNvSpPr/>
                <p:nvPr/>
              </p:nvSpPr>
              <p:spPr>
                <a:xfrm>
                  <a:off x="3708360" y="2161080"/>
                  <a:ext cx="92880" cy="9288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34" name="矩形 220"/>
              <p:cNvSpPr/>
              <p:nvPr/>
            </p:nvSpPr>
            <p:spPr>
              <a:xfrm>
                <a:off x="1924560" y="262944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5" name="矩形 221"/>
              <p:cNvSpPr/>
              <p:nvPr/>
            </p:nvSpPr>
            <p:spPr>
              <a:xfrm>
                <a:off x="1926720" y="274320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6" name="矩形 222"/>
              <p:cNvSpPr/>
              <p:nvPr/>
            </p:nvSpPr>
            <p:spPr>
              <a:xfrm>
                <a:off x="1926720" y="2873880"/>
                <a:ext cx="14252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7" name="矩形 223"/>
              <p:cNvSpPr/>
              <p:nvPr/>
            </p:nvSpPr>
            <p:spPr>
              <a:xfrm>
                <a:off x="1926720" y="3007440"/>
                <a:ext cx="14252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8" name="矩形 224"/>
              <p:cNvSpPr/>
              <p:nvPr/>
            </p:nvSpPr>
            <p:spPr>
              <a:xfrm>
                <a:off x="1924560" y="3157200"/>
                <a:ext cx="1927440" cy="7704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9" name="图片 74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3840" y="2164680"/>
                <a:ext cx="119160" cy="1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矩形 238"/>
              <p:cNvSpPr/>
              <p:nvPr/>
            </p:nvSpPr>
            <p:spPr>
              <a:xfrm>
                <a:off x="2945520" y="2142000"/>
                <a:ext cx="665280" cy="21132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808080"/>
                    </a:solidFill>
                    <a:latin typeface="Calibri"/>
                  </a:rPr>
                  <a:t>http://www.qq.com/    </a:t>
                </a:r>
                <a:r>
                  <a:rPr b="0" lang="en-US" sz="400" spc="-1" strike="noStrike">
                    <a:solidFill>
                      <a:srgbClr val="808080"/>
                    </a:solidFill>
                    <a:latin typeface="Calibri"/>
                  </a:rPr>
                  <a:t>X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1" name="图片 23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2080" y="2164680"/>
                <a:ext cx="125280" cy="13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矩形 240"/>
              <p:cNvSpPr/>
              <p:nvPr/>
            </p:nvSpPr>
            <p:spPr>
              <a:xfrm>
                <a:off x="2027880" y="2501280"/>
                <a:ext cx="1425240" cy="77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43" name="组合 84"/>
            <p:cNvGrpSpPr/>
            <p:nvPr/>
          </p:nvGrpSpPr>
          <p:grpSpPr>
            <a:xfrm>
              <a:off x="2432520" y="2420280"/>
              <a:ext cx="2245320" cy="1284480"/>
              <a:chOff x="2432520" y="2420280"/>
              <a:chExt cx="2245320" cy="1284480"/>
            </a:xfrm>
          </p:grpSpPr>
          <p:sp>
            <p:nvSpPr>
              <p:cNvPr id="744" name="矩形 54"/>
              <p:cNvSpPr/>
              <p:nvPr/>
            </p:nvSpPr>
            <p:spPr>
              <a:xfrm>
                <a:off x="2432520" y="2420280"/>
                <a:ext cx="2245320" cy="1284480"/>
              </a:xfrm>
              <a:prstGeom prst="rect">
                <a:avLst/>
              </a:prstGeom>
              <a:solidFill>
                <a:srgbClr val="e4eef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5" name="矩形 187"/>
              <p:cNvSpPr/>
              <p:nvPr/>
            </p:nvSpPr>
            <p:spPr>
              <a:xfrm>
                <a:off x="2455560" y="2730960"/>
                <a:ext cx="2194200" cy="94860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6" name="矩形 55"/>
              <p:cNvSpPr/>
              <p:nvPr/>
            </p:nvSpPr>
            <p:spPr>
              <a:xfrm>
                <a:off x="2912400" y="2530440"/>
                <a:ext cx="995400" cy="150480"/>
              </a:xfrm>
              <a:prstGeom prst="rect">
                <a:avLst/>
              </a:prstGeom>
              <a:solidFill>
                <a:srgbClr val="f9fc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500" spc="-1" strike="noStrike">
                    <a:solidFill>
                      <a:srgbClr val="808080"/>
                    </a:solidFill>
                    <a:latin typeface="Calibri"/>
                  </a:rPr>
                  <a:t>http://www.qq.com/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组合 53"/>
              <p:cNvGrpSpPr/>
              <p:nvPr/>
            </p:nvGrpSpPr>
            <p:grpSpPr>
              <a:xfrm>
                <a:off x="2492280" y="2521080"/>
                <a:ext cx="169200" cy="169200"/>
                <a:chOff x="2492280" y="2521080"/>
                <a:chExt cx="169200" cy="169200"/>
              </a:xfrm>
            </p:grpSpPr>
            <p:sp>
              <p:nvSpPr>
                <p:cNvPr id="748" name="椭圆 22"/>
                <p:cNvSpPr/>
                <p:nvPr/>
              </p:nvSpPr>
              <p:spPr>
                <a:xfrm>
                  <a:off x="2492280" y="2521080"/>
                  <a:ext cx="169200" cy="1692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" name="左箭头 24"/>
                <p:cNvSpPr/>
                <p:nvPr/>
              </p:nvSpPr>
              <p:spPr>
                <a:xfrm>
                  <a:off x="2512440" y="2548800"/>
                  <a:ext cx="129240" cy="113400"/>
                </a:xfrm>
                <a:custGeom>
                  <a:avLst/>
                  <a:gdLst>
                    <a:gd name="textAreaLeft" fmla="*/ 0 w 129240"/>
                    <a:gd name="textAreaRight" fmla="*/ 129600 w 129240"/>
                    <a:gd name="textAreaTop" fmla="*/ 0 h 113400"/>
                    <a:gd name="textAreaBottom" fmla="*/ 113760 h 11340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0" name="组合 183"/>
              <p:cNvGrpSpPr/>
              <p:nvPr/>
            </p:nvGrpSpPr>
            <p:grpSpPr>
              <a:xfrm>
                <a:off x="2708280" y="2538000"/>
                <a:ext cx="135000" cy="135000"/>
                <a:chOff x="2708280" y="2538000"/>
                <a:chExt cx="135000" cy="135000"/>
              </a:xfrm>
            </p:grpSpPr>
            <p:sp>
              <p:nvSpPr>
                <p:cNvPr id="751" name="椭圆 184"/>
                <p:cNvSpPr/>
                <p:nvPr/>
              </p:nvSpPr>
              <p:spPr>
                <a:xfrm flipH="1">
                  <a:off x="2707920" y="2538000"/>
                  <a:ext cx="135000" cy="135000"/>
                </a:xfrm>
                <a:prstGeom prst="ellipse">
                  <a:avLst/>
                </a:prstGeom>
                <a:solidFill>
                  <a:srgbClr val="b3d5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" name="左箭头 24"/>
                <p:cNvSpPr/>
                <p:nvPr/>
              </p:nvSpPr>
              <p:spPr>
                <a:xfrm flipH="1">
                  <a:off x="2724480" y="2560320"/>
                  <a:ext cx="102960" cy="90360"/>
                </a:xfrm>
                <a:custGeom>
                  <a:avLst/>
                  <a:gdLst>
                    <a:gd name="textAreaLeft" fmla="*/ 360 w 102960"/>
                    <a:gd name="textAreaRight" fmla="*/ 103680 w 1029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30179" h="559559">
                      <a:moveTo>
                        <a:pt x="0" y="279780"/>
                      </a:moveTo>
                      <a:lnTo>
                        <a:pt x="293427" y="0"/>
                      </a:lnTo>
                      <a:lnTo>
                        <a:pt x="322003" y="39522"/>
                      </a:lnTo>
                      <a:lnTo>
                        <a:pt x="121977" y="246867"/>
                      </a:lnTo>
                      <a:lnTo>
                        <a:pt x="620836" y="246868"/>
                      </a:lnTo>
                      <a:lnTo>
                        <a:pt x="630179" y="312691"/>
                      </a:lnTo>
                      <a:lnTo>
                        <a:pt x="126739" y="312692"/>
                      </a:lnTo>
                      <a:lnTo>
                        <a:pt x="322003" y="530060"/>
                      </a:lnTo>
                      <a:lnTo>
                        <a:pt x="293427" y="559559"/>
                      </a:lnTo>
                      <a:lnTo>
                        <a:pt x="0" y="27978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45360" bIns="45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3" name="组合 68"/>
              <p:cNvGrpSpPr/>
              <p:nvPr/>
            </p:nvGrpSpPr>
            <p:grpSpPr>
              <a:xfrm>
                <a:off x="3967200" y="2549880"/>
                <a:ext cx="122400" cy="131040"/>
                <a:chOff x="3967200" y="2549880"/>
                <a:chExt cx="122400" cy="131040"/>
              </a:xfrm>
            </p:grpSpPr>
            <p:sp>
              <p:nvSpPr>
                <p:cNvPr id="754" name="任意多边形 203"/>
                <p:cNvSpPr/>
                <p:nvPr/>
              </p:nvSpPr>
              <p:spPr>
                <a:xfrm>
                  <a:off x="3967200" y="2549880"/>
                  <a:ext cx="122400" cy="131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131040"/>
                    <a:gd name="textAreaBottom" fmla="*/ 131400 h 13104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63b9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" name="五角星 61"/>
                <p:cNvSpPr/>
                <p:nvPr/>
              </p:nvSpPr>
              <p:spPr>
                <a:xfrm>
                  <a:off x="3989520" y="2568600"/>
                  <a:ext cx="78120" cy="7812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760" bIns="14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756" name="图片 73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5520" y="2544120"/>
                <a:ext cx="121680" cy="12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7" name="组合 82"/>
              <p:cNvGrpSpPr/>
              <p:nvPr/>
            </p:nvGrpSpPr>
            <p:grpSpPr>
              <a:xfrm>
                <a:off x="2574720" y="2964600"/>
                <a:ext cx="666360" cy="383400"/>
                <a:chOff x="2574720" y="2964600"/>
                <a:chExt cx="666360" cy="383400"/>
              </a:xfrm>
            </p:grpSpPr>
            <p:sp>
              <p:nvSpPr>
                <p:cNvPr id="758" name="矩形 75"/>
                <p:cNvSpPr/>
                <p:nvPr/>
              </p:nvSpPr>
              <p:spPr>
                <a:xfrm>
                  <a:off x="2574720" y="2964600"/>
                  <a:ext cx="666360" cy="383400"/>
                </a:xfrm>
                <a:prstGeom prst="rect">
                  <a:avLst/>
                </a:prstGeom>
                <a:solidFill>
                  <a:srgbClr val="e0f2fd"/>
                </a:solidFill>
                <a:ln>
                  <a:solidFill>
                    <a:srgbClr val="b3d5f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759" name="组合 81"/>
                <p:cNvGrpSpPr/>
                <p:nvPr/>
              </p:nvGrpSpPr>
              <p:grpSpPr>
                <a:xfrm>
                  <a:off x="2574720" y="2971080"/>
                  <a:ext cx="666360" cy="367560"/>
                  <a:chOff x="2574720" y="2971080"/>
                  <a:chExt cx="666360" cy="367560"/>
                </a:xfrm>
              </p:grpSpPr>
              <p:sp>
                <p:nvSpPr>
                  <p:cNvPr id="760" name="任意多边形 76"/>
                  <p:cNvSpPr/>
                  <p:nvPr/>
                </p:nvSpPr>
                <p:spPr>
                  <a:xfrm>
                    <a:off x="2574720" y="3076560"/>
                    <a:ext cx="666360" cy="262080"/>
                  </a:xfrm>
                  <a:custGeom>
                    <a:avLst/>
                    <a:gdLst>
                      <a:gd name="textAreaLeft" fmla="*/ 0 w 666360"/>
                      <a:gd name="textAreaRight" fmla="*/ 666720 w 66636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733425" h="321152">
                        <a:moveTo>
                          <a:pt x="0" y="321152"/>
                        </a:moveTo>
                        <a:cubicBezTo>
                          <a:pt x="15875" y="288344"/>
                          <a:pt x="31221" y="268765"/>
                          <a:pt x="47625" y="257652"/>
                        </a:cubicBezTo>
                        <a:cubicBezTo>
                          <a:pt x="118004" y="294165"/>
                          <a:pt x="147108" y="188860"/>
                          <a:pt x="174625" y="159227"/>
                        </a:cubicBezTo>
                        <a:cubicBezTo>
                          <a:pt x="219075" y="72444"/>
                          <a:pt x="282575" y="119010"/>
                          <a:pt x="288925" y="156052"/>
                        </a:cubicBezTo>
                        <a:cubicBezTo>
                          <a:pt x="390525" y="305277"/>
                          <a:pt x="400050" y="117952"/>
                          <a:pt x="441325" y="89377"/>
                        </a:cubicBezTo>
                        <a:cubicBezTo>
                          <a:pt x="490008" y="-10106"/>
                          <a:pt x="605367" y="-42915"/>
                          <a:pt x="650875" y="76677"/>
                        </a:cubicBezTo>
                        <a:cubicBezTo>
                          <a:pt x="674158" y="113719"/>
                          <a:pt x="722842" y="239660"/>
                          <a:pt x="733425" y="321152"/>
                        </a:cubicBezTo>
                        <a:lnTo>
                          <a:pt x="0" y="321152"/>
                        </a:lnTo>
                        <a:close/>
                      </a:path>
                    </a:pathLst>
                  </a:cu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61" name="组合 79"/>
                  <p:cNvGrpSpPr/>
                  <p:nvPr/>
                </p:nvGrpSpPr>
                <p:grpSpPr>
                  <a:xfrm>
                    <a:off x="3026160" y="2971080"/>
                    <a:ext cx="122400" cy="124920"/>
                    <a:chOff x="3026160" y="2971080"/>
                    <a:chExt cx="122400" cy="124920"/>
                  </a:xfrm>
                </p:grpSpPr>
                <p:sp>
                  <p:nvSpPr>
                    <p:cNvPr id="762" name="等腰三角形 77"/>
                    <p:cNvSpPr/>
                    <p:nvPr/>
                  </p:nvSpPr>
                  <p:spPr>
                    <a:xfrm>
                      <a:off x="3052800" y="2971080"/>
                      <a:ext cx="69120" cy="28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3" name="等腰三角形 204"/>
                    <p:cNvSpPr/>
                    <p:nvPr/>
                  </p:nvSpPr>
                  <p:spPr>
                    <a:xfrm>
                      <a:off x="3026160" y="2994480"/>
                      <a:ext cx="122400" cy="496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12600" b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4" name="矩形 78"/>
                    <p:cNvSpPr/>
                    <p:nvPr/>
                  </p:nvSpPr>
                  <p:spPr>
                    <a:xfrm>
                      <a:off x="3079440" y="3027240"/>
                      <a:ext cx="15840" cy="68760"/>
                    </a:xfrm>
                    <a:prstGeom prst="rect">
                      <a:avLst/>
                    </a:prstGeom>
                    <a:solidFill>
                      <a:srgbClr val="94d47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34560" bIns="34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765" name="矩形 83"/>
              <p:cNvSpPr/>
              <p:nvPr/>
            </p:nvSpPr>
            <p:spPr>
              <a:xfrm>
                <a:off x="3134520" y="2793600"/>
                <a:ext cx="587160" cy="11304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6" name="矩形 205"/>
              <p:cNvSpPr/>
              <p:nvPr/>
            </p:nvSpPr>
            <p:spPr>
              <a:xfrm>
                <a:off x="3333240" y="2962800"/>
                <a:ext cx="1199160" cy="6480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7" name="矩形 206"/>
              <p:cNvSpPr/>
              <p:nvPr/>
            </p:nvSpPr>
            <p:spPr>
              <a:xfrm>
                <a:off x="3335040" y="3058560"/>
                <a:ext cx="1199160" cy="64800"/>
              </a:xfrm>
              <a:prstGeom prst="rect">
                <a:avLst/>
              </a:prstGeom>
              <a:solidFill>
                <a:srgbClr val="cee6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8" name="矩形 207"/>
              <p:cNvSpPr/>
              <p:nvPr/>
            </p:nvSpPr>
            <p:spPr>
              <a:xfrm>
                <a:off x="3335040" y="3168360"/>
                <a:ext cx="1199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9" name="矩形 208"/>
              <p:cNvSpPr/>
              <p:nvPr/>
            </p:nvSpPr>
            <p:spPr>
              <a:xfrm>
                <a:off x="3335040" y="3281040"/>
                <a:ext cx="1199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0" name="矩形 209"/>
              <p:cNvSpPr/>
              <p:nvPr/>
            </p:nvSpPr>
            <p:spPr>
              <a:xfrm>
                <a:off x="2574720" y="3407400"/>
                <a:ext cx="1622160" cy="64800"/>
              </a:xfrm>
              <a:prstGeom prst="rect">
                <a:avLst/>
              </a:prstGeom>
              <a:solidFill>
                <a:srgbClr val="e9ec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2400" bIns="32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1" name="组合 90"/>
            <p:cNvGrpSpPr/>
            <p:nvPr/>
          </p:nvGrpSpPr>
          <p:grpSpPr>
            <a:xfrm>
              <a:off x="3900600" y="1641960"/>
              <a:ext cx="1298160" cy="1079640"/>
              <a:chOff x="3900600" y="1641960"/>
              <a:chExt cx="1298160" cy="1079640"/>
            </a:xfrm>
          </p:grpSpPr>
          <p:sp>
            <p:nvSpPr>
              <p:cNvPr id="772" name="等腰三角形 89"/>
              <p:cNvSpPr/>
              <p:nvPr/>
            </p:nvSpPr>
            <p:spPr>
              <a:xfrm rot="16200000">
                <a:off x="3975840" y="2046600"/>
                <a:ext cx="208440" cy="3589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3" name="椭圆 86"/>
              <p:cNvSpPr/>
              <p:nvPr/>
            </p:nvSpPr>
            <p:spPr>
              <a:xfrm>
                <a:off x="4119120" y="1641960"/>
                <a:ext cx="1079640" cy="1079640"/>
              </a:xfrm>
              <a:prstGeom prst="ellipse">
                <a:avLst/>
              </a:prstGeom>
              <a:solidFill>
                <a:srgbClr val="d7eaf6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74" name="组合 88"/>
              <p:cNvGrpSpPr/>
              <p:nvPr/>
            </p:nvGrpSpPr>
            <p:grpSpPr>
              <a:xfrm>
                <a:off x="4385160" y="1834560"/>
                <a:ext cx="547200" cy="716040"/>
                <a:chOff x="4385160" y="1834560"/>
                <a:chExt cx="547200" cy="716040"/>
              </a:xfrm>
            </p:grpSpPr>
            <p:sp>
              <p:nvSpPr>
                <p:cNvPr id="775" name="任意多边形 347"/>
                <p:cNvSpPr/>
                <p:nvPr/>
              </p:nvSpPr>
              <p:spPr>
                <a:xfrm>
                  <a:off x="4385160" y="1834560"/>
                  <a:ext cx="547200" cy="71604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716040"/>
                    <a:gd name="textAreaBottom" fmla="*/ 716400 h 716040"/>
                  </a:gdLst>
                  <a:ahLst/>
                  <a:rect l="textAreaLeft" t="textAreaTop" r="textAreaRight" b="textAreaBottom"/>
                  <a:pathLst>
                    <a:path w="977900" h="1047772">
                      <a:moveTo>
                        <a:pt x="0" y="0"/>
                      </a:moveTo>
                      <a:lnTo>
                        <a:pt x="977900" y="0"/>
                      </a:lnTo>
                      <a:lnTo>
                        <a:pt x="977900" y="1047772"/>
                      </a:lnTo>
                      <a:lnTo>
                        <a:pt x="488950" y="859510"/>
                      </a:lnTo>
                      <a:lnTo>
                        <a:pt x="0" y="1047772"/>
                      </a:lnTo>
                      <a:close/>
                    </a:path>
                  </a:pathLst>
                </a:custGeom>
                <a:solidFill>
                  <a:srgbClr val="18b4ed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" name="五角星 348"/>
                <p:cNvSpPr/>
                <p:nvPr/>
              </p:nvSpPr>
              <p:spPr>
                <a:xfrm>
                  <a:off x="4447080" y="1919880"/>
                  <a:ext cx="426240" cy="42624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77" name="组合 382"/>
          <p:cNvGrpSpPr/>
          <p:nvPr/>
        </p:nvGrpSpPr>
        <p:grpSpPr>
          <a:xfrm>
            <a:off x="-2122920" y="-162360"/>
            <a:ext cx="2050920" cy="2240280"/>
            <a:chOff x="-2122920" y="-162360"/>
            <a:chExt cx="2050920" cy="2240280"/>
          </a:xfrm>
        </p:grpSpPr>
        <p:sp>
          <p:nvSpPr>
            <p:cNvPr id="778" name="椭圆 383"/>
            <p:cNvSpPr/>
            <p:nvPr/>
          </p:nvSpPr>
          <p:spPr>
            <a:xfrm>
              <a:off x="-2122920" y="2032560"/>
              <a:ext cx="2050920" cy="4536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71372"/>
                  </a:srgbClr>
                </a:gs>
                <a:gs pos="100000">
                  <a:srgbClr val="a6a6a6">
                    <a:alpha val="89019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9" name="组合 384"/>
            <p:cNvGrpSpPr/>
            <p:nvPr/>
          </p:nvGrpSpPr>
          <p:grpSpPr>
            <a:xfrm>
              <a:off x="-1695960" y="-162360"/>
              <a:ext cx="1177560" cy="2240280"/>
              <a:chOff x="-1695960" y="-162360"/>
              <a:chExt cx="1177560" cy="2240280"/>
            </a:xfrm>
          </p:grpSpPr>
          <p:grpSp>
            <p:nvGrpSpPr>
              <p:cNvPr id="780" name="组合 385"/>
              <p:cNvGrpSpPr/>
              <p:nvPr/>
            </p:nvGrpSpPr>
            <p:grpSpPr>
              <a:xfrm>
                <a:off x="-1695960" y="-162360"/>
                <a:ext cx="1177560" cy="2240280"/>
                <a:chOff x="-1695960" y="-162360"/>
                <a:chExt cx="1177560" cy="2240280"/>
              </a:xfrm>
            </p:grpSpPr>
            <p:sp>
              <p:nvSpPr>
                <p:cNvPr id="781" name="圆角矩形 390"/>
                <p:cNvSpPr/>
                <p:nvPr/>
              </p:nvSpPr>
              <p:spPr>
                <a:xfrm>
                  <a:off x="-1695960" y="-162360"/>
                  <a:ext cx="1177560" cy="224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" name="矩形 391"/>
                <p:cNvSpPr/>
                <p:nvPr/>
              </p:nvSpPr>
              <p:spPr>
                <a:xfrm>
                  <a:off x="-1642320" y="173520"/>
                  <a:ext cx="1070640" cy="1599480"/>
                </a:xfrm>
                <a:prstGeom prst="rect">
                  <a:avLst/>
                </a:prstGeom>
                <a:solidFill>
                  <a:srgbClr val="ace1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3" name="组合 386"/>
              <p:cNvGrpSpPr/>
              <p:nvPr/>
            </p:nvGrpSpPr>
            <p:grpSpPr>
              <a:xfrm>
                <a:off x="-1260720" y="-59400"/>
                <a:ext cx="300600" cy="127080"/>
                <a:chOff x="-1260720" y="-59400"/>
                <a:chExt cx="300600" cy="127080"/>
              </a:xfrm>
            </p:grpSpPr>
            <p:sp>
              <p:nvSpPr>
                <p:cNvPr id="784" name="椭圆 388"/>
                <p:cNvSpPr/>
                <p:nvPr/>
              </p:nvSpPr>
              <p:spPr>
                <a:xfrm>
                  <a:off x="-1141920" y="-59400"/>
                  <a:ext cx="63000" cy="6300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" name="圆角矩形 389"/>
                <p:cNvSpPr/>
                <p:nvPr/>
              </p:nvSpPr>
              <p:spPr>
                <a:xfrm>
                  <a:off x="-1260720" y="28080"/>
                  <a:ext cx="300600" cy="39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86" name="椭圆 387"/>
              <p:cNvSpPr/>
              <p:nvPr/>
            </p:nvSpPr>
            <p:spPr>
              <a:xfrm>
                <a:off x="-1212840" y="1837080"/>
                <a:ext cx="204840" cy="20484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组合 402"/>
          <p:cNvGrpSpPr/>
          <p:nvPr/>
        </p:nvGrpSpPr>
        <p:grpSpPr>
          <a:xfrm>
            <a:off x="11127960" y="1703880"/>
            <a:ext cx="547200" cy="716040"/>
            <a:chOff x="11127960" y="1703880"/>
            <a:chExt cx="547200" cy="716040"/>
          </a:xfrm>
        </p:grpSpPr>
        <p:sp>
          <p:nvSpPr>
            <p:cNvPr id="788" name="任意多边形 403"/>
            <p:cNvSpPr/>
            <p:nvPr/>
          </p:nvSpPr>
          <p:spPr>
            <a:xfrm>
              <a:off x="11127960" y="1703880"/>
              <a:ext cx="547200" cy="71604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977900" h="1047772">
                  <a:moveTo>
                    <a:pt x="0" y="0"/>
                  </a:moveTo>
                  <a:lnTo>
                    <a:pt x="977900" y="0"/>
                  </a:lnTo>
                  <a:lnTo>
                    <a:pt x="977900" y="1047772"/>
                  </a:lnTo>
                  <a:lnTo>
                    <a:pt x="488950" y="859510"/>
                  </a:lnTo>
                  <a:lnTo>
                    <a:pt x="0" y="1047772"/>
                  </a:lnTo>
                  <a:close/>
                </a:path>
              </a:pathLst>
            </a:custGeom>
            <a:solidFill>
              <a:srgbClr val="18b4e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9" name="五角星 404"/>
            <p:cNvSpPr/>
            <p:nvPr/>
          </p:nvSpPr>
          <p:spPr>
            <a:xfrm>
              <a:off x="11189880" y="1788840"/>
              <a:ext cx="426240" cy="42624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90" name="组合 1"/>
          <p:cNvGrpSpPr/>
          <p:nvPr/>
        </p:nvGrpSpPr>
        <p:grpSpPr>
          <a:xfrm>
            <a:off x="5604120" y="2685600"/>
            <a:ext cx="2050920" cy="2240280"/>
            <a:chOff x="5604120" y="2685600"/>
            <a:chExt cx="2050920" cy="2240280"/>
          </a:xfrm>
        </p:grpSpPr>
        <p:grpSp>
          <p:nvGrpSpPr>
            <p:cNvPr id="791" name="组合 96"/>
            <p:cNvGrpSpPr/>
            <p:nvPr/>
          </p:nvGrpSpPr>
          <p:grpSpPr>
            <a:xfrm>
              <a:off x="5604120" y="2685600"/>
              <a:ext cx="2050920" cy="2240280"/>
              <a:chOff x="5604120" y="2685600"/>
              <a:chExt cx="2050920" cy="2240280"/>
            </a:xfrm>
          </p:grpSpPr>
          <p:sp>
            <p:nvSpPr>
              <p:cNvPr id="792" name="椭圆 357"/>
              <p:cNvSpPr/>
              <p:nvPr/>
            </p:nvSpPr>
            <p:spPr>
              <a:xfrm>
                <a:off x="5604120" y="4880160"/>
                <a:ext cx="2050920" cy="4536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793" name="组合 358"/>
              <p:cNvGrpSpPr/>
              <p:nvPr/>
            </p:nvGrpSpPr>
            <p:grpSpPr>
              <a:xfrm>
                <a:off x="6031080" y="2685600"/>
                <a:ext cx="1177560" cy="2240280"/>
                <a:chOff x="6031080" y="2685600"/>
                <a:chExt cx="1177560" cy="2240280"/>
              </a:xfrm>
            </p:grpSpPr>
            <p:grpSp>
              <p:nvGrpSpPr>
                <p:cNvPr id="794" name="组合 375"/>
                <p:cNvGrpSpPr/>
                <p:nvPr/>
              </p:nvGrpSpPr>
              <p:grpSpPr>
                <a:xfrm>
                  <a:off x="6031080" y="2685600"/>
                  <a:ext cx="1177560" cy="2240280"/>
                  <a:chOff x="6031080" y="2685600"/>
                  <a:chExt cx="1177560" cy="2240280"/>
                </a:xfrm>
              </p:grpSpPr>
              <p:sp>
                <p:nvSpPr>
                  <p:cNvPr id="795" name="圆角矩形 380"/>
                  <p:cNvSpPr/>
                  <p:nvPr/>
                </p:nvSpPr>
                <p:spPr>
                  <a:xfrm>
                    <a:off x="6031080" y="268560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矩形 381"/>
                  <p:cNvSpPr/>
                  <p:nvPr/>
                </p:nvSpPr>
                <p:spPr>
                  <a:xfrm>
                    <a:off x="6084360" y="302148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7" name="组合 376"/>
                <p:cNvGrpSpPr/>
                <p:nvPr/>
              </p:nvGrpSpPr>
              <p:grpSpPr>
                <a:xfrm>
                  <a:off x="6466320" y="2788560"/>
                  <a:ext cx="300600" cy="127080"/>
                  <a:chOff x="6466320" y="2788560"/>
                  <a:chExt cx="300600" cy="127080"/>
                </a:xfrm>
              </p:grpSpPr>
              <p:sp>
                <p:nvSpPr>
                  <p:cNvPr id="798" name="椭圆 378"/>
                  <p:cNvSpPr/>
                  <p:nvPr/>
                </p:nvSpPr>
                <p:spPr>
                  <a:xfrm>
                    <a:off x="6585120" y="278856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圆角矩形 379"/>
                  <p:cNvSpPr/>
                  <p:nvPr/>
                </p:nvSpPr>
                <p:spPr>
                  <a:xfrm>
                    <a:off x="6466320" y="287604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0" name="椭圆 377"/>
                <p:cNvSpPr/>
                <p:nvPr/>
              </p:nvSpPr>
              <p:spPr>
                <a:xfrm>
                  <a:off x="6514200" y="468504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01" name="组合 105"/>
            <p:cNvGrpSpPr/>
            <p:nvPr/>
          </p:nvGrpSpPr>
          <p:grpSpPr>
            <a:xfrm>
              <a:off x="6178320" y="3474720"/>
              <a:ext cx="897840" cy="516600"/>
              <a:chOff x="6178320" y="3474720"/>
              <a:chExt cx="897840" cy="516600"/>
            </a:xfrm>
          </p:grpSpPr>
          <p:sp>
            <p:nvSpPr>
              <p:cNvPr id="802" name="矩形 393"/>
              <p:cNvSpPr/>
              <p:nvPr/>
            </p:nvSpPr>
            <p:spPr>
              <a:xfrm>
                <a:off x="6178320" y="3474720"/>
                <a:ext cx="897840" cy="516600"/>
              </a:xfrm>
              <a:prstGeom prst="rect">
                <a:avLst/>
              </a:prstGeom>
              <a:solidFill>
                <a:srgbClr val="e0f2f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03" name="组合 394"/>
              <p:cNvGrpSpPr/>
              <p:nvPr/>
            </p:nvGrpSpPr>
            <p:grpSpPr>
              <a:xfrm>
                <a:off x="6178320" y="3483360"/>
                <a:ext cx="897840" cy="495000"/>
                <a:chOff x="6178320" y="3483360"/>
                <a:chExt cx="897840" cy="495000"/>
              </a:xfrm>
            </p:grpSpPr>
            <p:sp>
              <p:nvSpPr>
                <p:cNvPr id="804" name="任意多边形 395"/>
                <p:cNvSpPr/>
                <p:nvPr/>
              </p:nvSpPr>
              <p:spPr>
                <a:xfrm>
                  <a:off x="6178320" y="3625200"/>
                  <a:ext cx="897840" cy="353160"/>
                </a:xfrm>
                <a:custGeom>
                  <a:avLst/>
                  <a:gdLst>
                    <a:gd name="textAreaLeft" fmla="*/ 0 w 897840"/>
                    <a:gd name="textAreaRight" fmla="*/ 898200 w 89784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05" name="组合 396"/>
                <p:cNvGrpSpPr/>
                <p:nvPr/>
              </p:nvGrpSpPr>
              <p:grpSpPr>
                <a:xfrm>
                  <a:off x="6786000" y="3483360"/>
                  <a:ext cx="164880" cy="168480"/>
                  <a:chOff x="6786000" y="3483360"/>
                  <a:chExt cx="164880" cy="168480"/>
                </a:xfrm>
              </p:grpSpPr>
              <p:sp>
                <p:nvSpPr>
                  <p:cNvPr id="806" name="等腰三角形 397"/>
                  <p:cNvSpPr/>
                  <p:nvPr/>
                </p:nvSpPr>
                <p:spPr>
                  <a:xfrm>
                    <a:off x="6822360" y="3483360"/>
                    <a:ext cx="92880" cy="37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360" bIns="9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等腰三角形 398"/>
                  <p:cNvSpPr/>
                  <p:nvPr/>
                </p:nvSpPr>
                <p:spPr>
                  <a:xfrm>
                    <a:off x="6786000" y="3515040"/>
                    <a:ext cx="164880" cy="67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6920" bIns="16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8" name="矩形 399"/>
                  <p:cNvSpPr/>
                  <p:nvPr/>
                </p:nvSpPr>
                <p:spPr>
                  <a:xfrm>
                    <a:off x="6858000" y="3558960"/>
                    <a:ext cx="21240" cy="92880"/>
                  </a:xfrm>
                  <a:prstGeom prst="rect">
                    <a:avLst/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09" name="组合 106"/>
            <p:cNvGrpSpPr/>
            <p:nvPr/>
          </p:nvGrpSpPr>
          <p:grpSpPr>
            <a:xfrm>
              <a:off x="6115320" y="3058560"/>
              <a:ext cx="158040" cy="206640"/>
              <a:chOff x="6115320" y="3058560"/>
              <a:chExt cx="158040" cy="206640"/>
            </a:xfrm>
          </p:grpSpPr>
          <p:sp>
            <p:nvSpPr>
              <p:cNvPr id="810" name="任意多边形 400"/>
              <p:cNvSpPr/>
              <p:nvPr/>
            </p:nvSpPr>
            <p:spPr>
              <a:xfrm>
                <a:off x="6115320" y="3058560"/>
                <a:ext cx="158040" cy="20664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977900" h="1047772">
                    <a:moveTo>
                      <a:pt x="0" y="0"/>
                    </a:moveTo>
                    <a:lnTo>
                      <a:pt x="977900" y="0"/>
                    </a:lnTo>
                    <a:lnTo>
                      <a:pt x="977900" y="1047772"/>
                    </a:lnTo>
                    <a:lnTo>
                      <a:pt x="488950" y="859510"/>
                    </a:lnTo>
                    <a:lnTo>
                      <a:pt x="0" y="1047772"/>
                    </a:lnTo>
                    <a:close/>
                  </a:path>
                </a:pathLst>
              </a:custGeom>
              <a:solidFill>
                <a:srgbClr val="18b4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" name="五角星 401"/>
              <p:cNvSpPr/>
              <p:nvPr/>
            </p:nvSpPr>
            <p:spPr>
              <a:xfrm>
                <a:off x="6133320" y="3083400"/>
                <a:ext cx="123120" cy="1231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12" name="矩形 123"/>
            <p:cNvSpPr/>
            <p:nvPr/>
          </p:nvSpPr>
          <p:spPr>
            <a:xfrm>
              <a:off x="6324480" y="3206520"/>
              <a:ext cx="80244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3" name="矩形 405"/>
            <p:cNvSpPr/>
            <p:nvPr/>
          </p:nvSpPr>
          <p:spPr>
            <a:xfrm>
              <a:off x="6133320" y="329760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4" name="矩形 406"/>
            <p:cNvSpPr/>
            <p:nvPr/>
          </p:nvSpPr>
          <p:spPr>
            <a:xfrm>
              <a:off x="6133320" y="412524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5" name="矩形 407"/>
            <p:cNvSpPr/>
            <p:nvPr/>
          </p:nvSpPr>
          <p:spPr>
            <a:xfrm>
              <a:off x="6133320" y="4229280"/>
              <a:ext cx="94284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6" name="矩形 408"/>
            <p:cNvSpPr/>
            <p:nvPr/>
          </p:nvSpPr>
          <p:spPr>
            <a:xfrm>
              <a:off x="6133320" y="4333320"/>
              <a:ext cx="993600" cy="45360"/>
            </a:xfrm>
            <a:prstGeom prst="rect">
              <a:avLst/>
            </a:prstGeom>
            <a:solidFill>
              <a:srgbClr val="a4c5d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7" name="图片 418"/>
            <p:cNvSpPr/>
            <p:nvPr/>
          </p:nvSpPr>
          <p:spPr>
            <a:xfrm>
              <a:off x="6178320" y="4464000"/>
              <a:ext cx="932400" cy="153720"/>
            </a:xfrm>
            <a:custGeom>
              <a:avLst/>
              <a:gdLst>
                <a:gd name="textAreaLeft" fmla="*/ 0 w 932400"/>
                <a:gd name="textAreaRight" fmla="*/ 932760 w 932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32769" h="197851">
                  <a:moveTo>
                    <a:pt x="0" y="0"/>
                  </a:moveTo>
                  <a:lnTo>
                    <a:pt x="932769" y="0"/>
                  </a:lnTo>
                  <a:lnTo>
                    <a:pt x="932769" y="197851"/>
                  </a:lnTo>
                  <a:lnTo>
                    <a:pt x="0" y="197851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文本框 419"/>
          <p:cNvSpPr/>
          <p:nvPr/>
        </p:nvSpPr>
        <p:spPr>
          <a:xfrm>
            <a:off x="9520560" y="1779120"/>
            <a:ext cx="163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收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420"/>
          <p:cNvSpPr/>
          <p:nvPr/>
        </p:nvSpPr>
        <p:spPr>
          <a:xfrm>
            <a:off x="6864480" y="2633760"/>
            <a:ext cx="49179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精彩内容随时查阅，永远先人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聊天消息保存，网页浏览到好文章怕错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可以通过“我的收藏”轻松储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在手机和电脑里轻松查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组合 441"/>
          <p:cNvGrpSpPr/>
          <p:nvPr/>
        </p:nvGrpSpPr>
        <p:grpSpPr>
          <a:xfrm>
            <a:off x="5273280" y="2693160"/>
            <a:ext cx="676440" cy="676440"/>
            <a:chOff x="5273280" y="2693160"/>
            <a:chExt cx="676440" cy="676440"/>
          </a:xfrm>
        </p:grpSpPr>
        <p:sp>
          <p:nvSpPr>
            <p:cNvPr id="821" name="椭圆 428"/>
            <p:cNvSpPr/>
            <p:nvPr/>
          </p:nvSpPr>
          <p:spPr>
            <a:xfrm>
              <a:off x="5273280" y="2693160"/>
              <a:ext cx="676440" cy="67644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18b4e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22" name="组合 439"/>
            <p:cNvGrpSpPr/>
            <p:nvPr/>
          </p:nvGrpSpPr>
          <p:grpSpPr>
            <a:xfrm>
              <a:off x="5488920" y="2775240"/>
              <a:ext cx="269280" cy="512280"/>
              <a:chOff x="5488920" y="2775240"/>
              <a:chExt cx="269280" cy="512280"/>
            </a:xfrm>
          </p:grpSpPr>
          <p:sp>
            <p:nvSpPr>
              <p:cNvPr id="823" name="圆角矩形 437"/>
              <p:cNvSpPr/>
              <p:nvPr/>
            </p:nvSpPr>
            <p:spPr>
              <a:xfrm>
                <a:off x="5488920" y="2775240"/>
                <a:ext cx="269280" cy="51228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9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" name="矩形 438"/>
              <p:cNvSpPr/>
              <p:nvPr/>
            </p:nvSpPr>
            <p:spPr>
              <a:xfrm>
                <a:off x="5501160" y="2852280"/>
                <a:ext cx="244800" cy="3657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25" name="组合 427"/>
            <p:cNvGrpSpPr/>
            <p:nvPr/>
          </p:nvGrpSpPr>
          <p:grpSpPr>
            <a:xfrm>
              <a:off x="5340240" y="2919960"/>
              <a:ext cx="273960" cy="233280"/>
              <a:chOff x="5340240" y="2919960"/>
              <a:chExt cx="273960" cy="233280"/>
            </a:xfrm>
          </p:grpSpPr>
          <p:sp>
            <p:nvSpPr>
              <p:cNvPr id="826" name="任意多边形 426"/>
              <p:cNvSpPr/>
              <p:nvPr/>
            </p:nvSpPr>
            <p:spPr>
              <a:xfrm>
                <a:off x="5340240" y="3037320"/>
                <a:ext cx="273960" cy="1159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18b4e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" name="任意多边形 425"/>
              <p:cNvSpPr/>
              <p:nvPr/>
            </p:nvSpPr>
            <p:spPr>
              <a:xfrm>
                <a:off x="5340240" y="2919960"/>
                <a:ext cx="273960" cy="117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组合 28"/>
          <p:cNvGrpSpPr/>
          <p:nvPr/>
        </p:nvGrpSpPr>
        <p:grpSpPr>
          <a:xfrm>
            <a:off x="4303440" y="2088720"/>
            <a:ext cx="3969360" cy="2835000"/>
            <a:chOff x="4303440" y="2088720"/>
            <a:chExt cx="3969360" cy="2835000"/>
          </a:xfrm>
        </p:grpSpPr>
        <p:grpSp>
          <p:nvGrpSpPr>
            <p:cNvPr id="829" name="组合 121"/>
            <p:cNvGrpSpPr/>
            <p:nvPr/>
          </p:nvGrpSpPr>
          <p:grpSpPr>
            <a:xfrm>
              <a:off x="4303440" y="2088720"/>
              <a:ext cx="3969360" cy="2835000"/>
              <a:chOff x="4303440" y="2088720"/>
              <a:chExt cx="3969360" cy="2835000"/>
            </a:xfrm>
          </p:grpSpPr>
          <p:sp>
            <p:nvSpPr>
              <p:cNvPr id="830" name="椭圆 126"/>
              <p:cNvSpPr/>
              <p:nvPr/>
            </p:nvSpPr>
            <p:spPr>
              <a:xfrm>
                <a:off x="4742280" y="4869360"/>
                <a:ext cx="309132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" name="梯形 127"/>
              <p:cNvSpPr/>
              <p:nvPr/>
            </p:nvSpPr>
            <p:spPr>
              <a:xfrm>
                <a:off x="5889240" y="4323960"/>
                <a:ext cx="799920" cy="507600"/>
              </a:xfrm>
              <a:prstGeom prst="trapezoid">
                <a:avLst>
                  <a:gd name="adj" fmla="val 37500"/>
                </a:avLst>
              </a:prstGeom>
              <a:solidFill>
                <a:srgbClr val="454e5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" name="矩形 128"/>
              <p:cNvSpPr/>
              <p:nvPr/>
            </p:nvSpPr>
            <p:spPr>
              <a:xfrm>
                <a:off x="6005880" y="4476960"/>
                <a:ext cx="564120" cy="45360"/>
              </a:xfrm>
              <a:prstGeom prst="rect">
                <a:avLst/>
              </a:prstGeom>
              <a:gradFill rotWithShape="0">
                <a:gsLst>
                  <a:gs pos="0">
                    <a:srgbClr val="f7fafd">
                      <a:alpha val="71372"/>
                    </a:srgbClr>
                  </a:gs>
                  <a:gs pos="100000">
                    <a:srgbClr val="a6a6a6">
                      <a:alpha val="89019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  <a:effectLst>
                <a:outerShdw algn="t" blurRad="241200" dir="5400000" dist="38160" rotWithShape="0">
                  <a:srgbClr val="000000"/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33" name="组合 129"/>
              <p:cNvGrpSpPr/>
              <p:nvPr/>
            </p:nvGrpSpPr>
            <p:grpSpPr>
              <a:xfrm>
                <a:off x="4303440" y="2088720"/>
                <a:ext cx="3969360" cy="2425320"/>
                <a:chOff x="4303440" y="2088720"/>
                <a:chExt cx="3969360" cy="2425320"/>
              </a:xfrm>
            </p:grpSpPr>
            <p:sp>
              <p:nvSpPr>
                <p:cNvPr id="834" name="圆角矩形 131"/>
                <p:cNvSpPr/>
                <p:nvPr/>
              </p:nvSpPr>
              <p:spPr>
                <a:xfrm>
                  <a:off x="4303440" y="2088720"/>
                  <a:ext cx="3969360" cy="2425320"/>
                </a:xfrm>
                <a:prstGeom prst="roundRect">
                  <a:avLst>
                    <a:gd name="adj" fmla="val 1993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5" name="矩形 132"/>
                <p:cNvSpPr/>
                <p:nvPr/>
              </p:nvSpPr>
              <p:spPr>
                <a:xfrm>
                  <a:off x="4409640" y="2171520"/>
                  <a:ext cx="3765600" cy="2069640"/>
                </a:xfrm>
                <a:prstGeom prst="rect">
                  <a:avLst/>
                </a:prstGeom>
                <a:solidFill>
                  <a:srgbClr val="ace1f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6" name="圆角矩形 130"/>
              <p:cNvSpPr/>
              <p:nvPr/>
            </p:nvSpPr>
            <p:spPr>
              <a:xfrm>
                <a:off x="5524200" y="4829760"/>
                <a:ext cx="1530000" cy="93960"/>
              </a:xfrm>
              <a:prstGeom prst="roundRect">
                <a:avLst>
                  <a:gd name="adj" fmla="val 16667"/>
                </a:avLst>
              </a:prstGeom>
              <a:solidFill>
                <a:srgbClr val="454e5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37" name="椭圆 122"/>
            <p:cNvSpPr/>
            <p:nvPr/>
          </p:nvSpPr>
          <p:spPr>
            <a:xfrm>
              <a:off x="6196680" y="4317480"/>
              <a:ext cx="129960" cy="129960"/>
            </a:xfrm>
            <a:prstGeom prst="ellipse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8" name="椭圆 123"/>
            <p:cNvSpPr/>
            <p:nvPr/>
          </p:nvSpPr>
          <p:spPr>
            <a:xfrm>
              <a:off x="8040960" y="4347360"/>
              <a:ext cx="70200" cy="70200"/>
            </a:xfrm>
            <a:prstGeom prst="ellipse">
              <a:avLst/>
            </a:prstGeom>
            <a:solidFill>
              <a:srgbClr val="76c1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9" name="椭圆 124"/>
            <p:cNvSpPr/>
            <p:nvPr/>
          </p:nvSpPr>
          <p:spPr>
            <a:xfrm>
              <a:off x="7945560" y="4359960"/>
              <a:ext cx="45360" cy="453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0" name="椭圆 125"/>
            <p:cNvSpPr/>
            <p:nvPr/>
          </p:nvSpPr>
          <p:spPr>
            <a:xfrm>
              <a:off x="7873560" y="4359960"/>
              <a:ext cx="45360" cy="453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574200" y="7139520"/>
            <a:ext cx="10924920" cy="4905000"/>
          </a:xfrm>
          <a:prstGeom prst="rect">
            <a:avLst/>
          </a:prstGeom>
          <a:ln w="0">
            <a:noFill/>
          </a:ln>
        </p:spPr>
      </p:pic>
      <p:grpSp>
        <p:nvGrpSpPr>
          <p:cNvPr id="842" name="组合 25"/>
          <p:cNvGrpSpPr/>
          <p:nvPr/>
        </p:nvGrpSpPr>
        <p:grpSpPr>
          <a:xfrm>
            <a:off x="5686920" y="2306880"/>
            <a:ext cx="1279440" cy="1792800"/>
            <a:chOff x="5686920" y="2306880"/>
            <a:chExt cx="1279440" cy="1792800"/>
          </a:xfrm>
        </p:grpSpPr>
        <p:sp>
          <p:nvSpPr>
            <p:cNvPr id="843" name="矩形 19"/>
            <p:cNvSpPr/>
            <p:nvPr/>
          </p:nvSpPr>
          <p:spPr>
            <a:xfrm>
              <a:off x="5686920" y="2442600"/>
              <a:ext cx="1279440" cy="1657080"/>
            </a:xfrm>
            <a:prstGeom prst="rect">
              <a:avLst/>
            </a:prstGeom>
            <a:solidFill>
              <a:srgbClr val="edee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4" name="矩形 24"/>
            <p:cNvSpPr/>
            <p:nvPr/>
          </p:nvSpPr>
          <p:spPr>
            <a:xfrm>
              <a:off x="5686920" y="2306880"/>
              <a:ext cx="1279440" cy="1400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600" spc="-1" strike="noStrike">
                  <a:solidFill>
                    <a:schemeClr val="lt1"/>
                  </a:solidFill>
                  <a:latin typeface="Calibri"/>
                </a:rPr>
                <a:t>我的手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23"/>
          <p:cNvGrpSpPr/>
          <p:nvPr/>
        </p:nvGrpSpPr>
        <p:grpSpPr>
          <a:xfrm>
            <a:off x="5922000" y="2887200"/>
            <a:ext cx="714600" cy="610920"/>
            <a:chOff x="5922000" y="2887200"/>
            <a:chExt cx="714600" cy="610920"/>
          </a:xfrm>
        </p:grpSpPr>
        <p:sp>
          <p:nvSpPr>
            <p:cNvPr id="846" name="任意多边形 22"/>
            <p:cNvSpPr/>
            <p:nvPr/>
          </p:nvSpPr>
          <p:spPr>
            <a:xfrm>
              <a:off x="5982840" y="2995200"/>
              <a:ext cx="653760" cy="50256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863600" h="635000">
                  <a:moveTo>
                    <a:pt x="0" y="0"/>
                  </a:moveTo>
                  <a:lnTo>
                    <a:pt x="863600" y="0"/>
                  </a:lnTo>
                  <a:lnTo>
                    <a:pt x="863600" y="635000"/>
                  </a:lnTo>
                  <a:lnTo>
                    <a:pt x="480173" y="635000"/>
                  </a:lnTo>
                  <a:lnTo>
                    <a:pt x="493921" y="600578"/>
                  </a:lnTo>
                  <a:lnTo>
                    <a:pt x="0" y="403311"/>
                  </a:lnTo>
                  <a:close/>
                </a:path>
              </a:pathLst>
            </a:custGeom>
            <a:solidFill>
              <a:srgbClr val="98d0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47" name="组合 20"/>
            <p:cNvGrpSpPr/>
            <p:nvPr/>
          </p:nvGrpSpPr>
          <p:grpSpPr>
            <a:xfrm>
              <a:off x="6017040" y="2887200"/>
              <a:ext cx="583200" cy="502560"/>
              <a:chOff x="6017040" y="2887200"/>
              <a:chExt cx="583200" cy="502560"/>
            </a:xfrm>
          </p:grpSpPr>
          <p:sp>
            <p:nvSpPr>
              <p:cNvPr id="848" name="矩形 4"/>
              <p:cNvSpPr/>
              <p:nvPr/>
            </p:nvSpPr>
            <p:spPr>
              <a:xfrm>
                <a:off x="6017040" y="2887200"/>
                <a:ext cx="583200" cy="5025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49" name="组合 8"/>
              <p:cNvGrpSpPr/>
              <p:nvPr/>
            </p:nvGrpSpPr>
            <p:grpSpPr>
              <a:xfrm>
                <a:off x="6319800" y="3058920"/>
                <a:ext cx="247320" cy="136440"/>
                <a:chOff x="6319800" y="3058920"/>
                <a:chExt cx="247320" cy="136440"/>
              </a:xfrm>
            </p:grpSpPr>
            <p:sp>
              <p:nvSpPr>
                <p:cNvPr id="850" name="任意多边形 9"/>
                <p:cNvSpPr/>
                <p:nvPr/>
              </p:nvSpPr>
              <p:spPr>
                <a:xfrm>
                  <a:off x="6319800" y="3098160"/>
                  <a:ext cx="247320" cy="9720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51" name="组合 10"/>
                <p:cNvGrpSpPr/>
                <p:nvPr/>
              </p:nvGrpSpPr>
              <p:grpSpPr>
                <a:xfrm>
                  <a:off x="6487200" y="3058920"/>
                  <a:ext cx="45360" cy="46080"/>
                  <a:chOff x="6487200" y="3058920"/>
                  <a:chExt cx="45360" cy="46080"/>
                </a:xfrm>
              </p:grpSpPr>
              <p:sp>
                <p:nvSpPr>
                  <p:cNvPr id="852" name="等腰三角形 11"/>
                  <p:cNvSpPr/>
                  <p:nvPr/>
                </p:nvSpPr>
                <p:spPr>
                  <a:xfrm>
                    <a:off x="6497280" y="3058920"/>
                    <a:ext cx="25200" cy="10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520" bIns="2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3" name="等腰三角形 12"/>
                  <p:cNvSpPr/>
                  <p:nvPr/>
                </p:nvSpPr>
                <p:spPr>
                  <a:xfrm>
                    <a:off x="6487200" y="3067560"/>
                    <a:ext cx="45360" cy="18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4680" bIns="4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4" name="矩形 13"/>
                  <p:cNvSpPr/>
                  <p:nvPr/>
                </p:nvSpPr>
                <p:spPr>
                  <a:xfrm>
                    <a:off x="6507000" y="3079800"/>
                    <a:ext cx="5760" cy="25200"/>
                  </a:xfrm>
                  <a:prstGeom prst="rect">
                    <a:avLst/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600" bIns="12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855" name="矩形 14"/>
              <p:cNvSpPr/>
              <p:nvPr/>
            </p:nvSpPr>
            <p:spPr>
              <a:xfrm>
                <a:off x="6044040" y="2917800"/>
                <a:ext cx="23508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" name="矩形 15"/>
              <p:cNvSpPr/>
              <p:nvPr/>
            </p:nvSpPr>
            <p:spPr>
              <a:xfrm>
                <a:off x="6044040" y="2981520"/>
                <a:ext cx="43884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" name="矩形 16"/>
              <p:cNvSpPr/>
              <p:nvPr/>
            </p:nvSpPr>
            <p:spPr>
              <a:xfrm>
                <a:off x="6048000" y="3047760"/>
                <a:ext cx="351360" cy="3600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" name="矩形 17"/>
              <p:cNvSpPr/>
              <p:nvPr/>
            </p:nvSpPr>
            <p:spPr>
              <a:xfrm>
                <a:off x="6044040" y="3048840"/>
                <a:ext cx="351360" cy="36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" name="矩形 18"/>
              <p:cNvSpPr/>
              <p:nvPr/>
            </p:nvSpPr>
            <p:spPr>
              <a:xfrm>
                <a:off x="6044040" y="3114720"/>
                <a:ext cx="275400" cy="410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60" name="平行四边形 2"/>
            <p:cNvSpPr/>
            <p:nvPr/>
          </p:nvSpPr>
          <p:spPr>
            <a:xfrm flipH="1">
              <a:off x="5921640" y="3186720"/>
              <a:ext cx="703800" cy="311400"/>
            </a:xfrm>
            <a:prstGeom prst="parallelogram">
              <a:avLst>
                <a:gd name="adj" fmla="val 24355"/>
              </a:avLst>
            </a:prstGeom>
            <a:solidFill>
              <a:srgbClr val="abe0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61" name="组合 219"/>
          <p:cNvGrpSpPr/>
          <p:nvPr/>
        </p:nvGrpSpPr>
        <p:grpSpPr>
          <a:xfrm>
            <a:off x="9858960" y="2676240"/>
            <a:ext cx="1974600" cy="2240280"/>
            <a:chOff x="9858960" y="2676240"/>
            <a:chExt cx="1974600" cy="2240280"/>
          </a:xfrm>
        </p:grpSpPr>
        <p:grpSp>
          <p:nvGrpSpPr>
            <p:cNvPr id="862" name="组合 167"/>
            <p:cNvGrpSpPr/>
            <p:nvPr/>
          </p:nvGrpSpPr>
          <p:grpSpPr>
            <a:xfrm>
              <a:off x="9858960" y="2676240"/>
              <a:ext cx="1974600" cy="2240280"/>
              <a:chOff x="9858960" y="2676240"/>
              <a:chExt cx="1974600" cy="2240280"/>
            </a:xfrm>
          </p:grpSpPr>
          <p:sp>
            <p:nvSpPr>
              <p:cNvPr id="863" name="椭圆 166"/>
              <p:cNvSpPr/>
              <p:nvPr/>
            </p:nvSpPr>
            <p:spPr>
              <a:xfrm>
                <a:off x="9858960" y="4869360"/>
                <a:ext cx="197460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64" name="组合 142"/>
              <p:cNvGrpSpPr/>
              <p:nvPr/>
            </p:nvGrpSpPr>
            <p:grpSpPr>
              <a:xfrm>
                <a:off x="10288800" y="2676240"/>
                <a:ext cx="1177560" cy="2240280"/>
                <a:chOff x="10288800" y="2676240"/>
                <a:chExt cx="1177560" cy="2240280"/>
              </a:xfrm>
            </p:grpSpPr>
            <p:grpSp>
              <p:nvGrpSpPr>
                <p:cNvPr id="865" name="组合 159"/>
                <p:cNvGrpSpPr/>
                <p:nvPr/>
              </p:nvGrpSpPr>
              <p:grpSpPr>
                <a:xfrm>
                  <a:off x="10288800" y="2676240"/>
                  <a:ext cx="1177560" cy="2240280"/>
                  <a:chOff x="10288800" y="2676240"/>
                  <a:chExt cx="1177560" cy="2240280"/>
                </a:xfrm>
              </p:grpSpPr>
              <p:sp>
                <p:nvSpPr>
                  <p:cNvPr id="866" name="圆角矩形 164"/>
                  <p:cNvSpPr/>
                  <p:nvPr/>
                </p:nvSpPr>
                <p:spPr>
                  <a:xfrm>
                    <a:off x="10288800" y="267624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7" name="矩形 165"/>
                  <p:cNvSpPr/>
                  <p:nvPr/>
                </p:nvSpPr>
                <p:spPr>
                  <a:xfrm>
                    <a:off x="10342440" y="3012120"/>
                    <a:ext cx="1070640" cy="159948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8" name="组合 160"/>
                <p:cNvGrpSpPr/>
                <p:nvPr/>
              </p:nvGrpSpPr>
              <p:grpSpPr>
                <a:xfrm>
                  <a:off x="10724400" y="2779200"/>
                  <a:ext cx="300600" cy="127080"/>
                  <a:chOff x="10724400" y="2779200"/>
                  <a:chExt cx="300600" cy="127080"/>
                </a:xfrm>
              </p:grpSpPr>
              <p:sp>
                <p:nvSpPr>
                  <p:cNvPr id="869" name="椭圆 162"/>
                  <p:cNvSpPr/>
                  <p:nvPr/>
                </p:nvSpPr>
                <p:spPr>
                  <a:xfrm>
                    <a:off x="10842840" y="277920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0" name="圆角矩形 163"/>
                  <p:cNvSpPr/>
                  <p:nvPr/>
                </p:nvSpPr>
                <p:spPr>
                  <a:xfrm>
                    <a:off x="10724400" y="286668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71" name="椭圆 161"/>
                <p:cNvSpPr/>
                <p:nvPr/>
              </p:nvSpPr>
              <p:spPr>
                <a:xfrm>
                  <a:off x="10772280" y="467568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2" name="组合 184"/>
            <p:cNvGrpSpPr/>
            <p:nvPr/>
          </p:nvGrpSpPr>
          <p:grpSpPr>
            <a:xfrm>
              <a:off x="10591560" y="3409200"/>
              <a:ext cx="540360" cy="462240"/>
              <a:chOff x="10591560" y="3409200"/>
              <a:chExt cx="540360" cy="462240"/>
            </a:xfrm>
          </p:grpSpPr>
          <p:sp>
            <p:nvSpPr>
              <p:cNvPr id="873" name="任意多边形 169"/>
              <p:cNvSpPr/>
              <p:nvPr/>
            </p:nvSpPr>
            <p:spPr>
              <a:xfrm>
                <a:off x="10637640" y="3491280"/>
                <a:ext cx="494280" cy="380160"/>
              </a:xfrm>
              <a:custGeom>
                <a:avLst/>
                <a:gdLst>
                  <a:gd name="textAreaLeft" fmla="*/ 0 w 494280"/>
                  <a:gd name="textAreaRight" fmla="*/ 494640 w 49428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863600" h="635000">
                    <a:moveTo>
                      <a:pt x="0" y="0"/>
                    </a:moveTo>
                    <a:lnTo>
                      <a:pt x="863600" y="0"/>
                    </a:lnTo>
                    <a:lnTo>
                      <a:pt x="863600" y="635000"/>
                    </a:lnTo>
                    <a:lnTo>
                      <a:pt x="480173" y="635000"/>
                    </a:lnTo>
                    <a:lnTo>
                      <a:pt x="493921" y="600578"/>
                    </a:lnTo>
                    <a:lnTo>
                      <a:pt x="0" y="403311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74" name="组合 170"/>
              <p:cNvGrpSpPr/>
              <p:nvPr/>
            </p:nvGrpSpPr>
            <p:grpSpPr>
              <a:xfrm>
                <a:off x="10663200" y="3409200"/>
                <a:ext cx="441000" cy="380160"/>
                <a:chOff x="10663200" y="3409200"/>
                <a:chExt cx="441000" cy="380160"/>
              </a:xfrm>
            </p:grpSpPr>
            <p:sp>
              <p:nvSpPr>
                <p:cNvPr id="875" name="矩形 172"/>
                <p:cNvSpPr/>
                <p:nvPr/>
              </p:nvSpPr>
              <p:spPr>
                <a:xfrm>
                  <a:off x="10663200" y="3409200"/>
                  <a:ext cx="441000" cy="3801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876" name="组合 173"/>
                <p:cNvGrpSpPr/>
                <p:nvPr/>
              </p:nvGrpSpPr>
              <p:grpSpPr>
                <a:xfrm>
                  <a:off x="10892520" y="3539160"/>
                  <a:ext cx="186840" cy="102960"/>
                  <a:chOff x="10892520" y="3539160"/>
                  <a:chExt cx="186840" cy="102960"/>
                </a:xfrm>
              </p:grpSpPr>
              <p:sp>
                <p:nvSpPr>
                  <p:cNvPr id="877" name="任意多边形 179"/>
                  <p:cNvSpPr/>
                  <p:nvPr/>
                </p:nvSpPr>
                <p:spPr>
                  <a:xfrm>
                    <a:off x="10892520" y="3568680"/>
                    <a:ext cx="186840" cy="73440"/>
                  </a:xfrm>
                  <a:custGeom>
                    <a:avLst/>
                    <a:gdLst>
                      <a:gd name="textAreaLeft" fmla="*/ 0 w 186840"/>
                      <a:gd name="textAreaRight" fmla="*/ 187200 w 186840"/>
                      <a:gd name="textAreaTop" fmla="*/ 0 h 73440"/>
                      <a:gd name="textAreaBottom" fmla="*/ 73800 h 73440"/>
                    </a:gdLst>
                    <a:ahLst/>
                    <a:rect l="textAreaLeft" t="textAreaTop" r="textAreaRight" b="textAreaBottom"/>
                    <a:pathLst>
                      <a:path w="733425" h="321152">
                        <a:moveTo>
                          <a:pt x="0" y="321152"/>
                        </a:moveTo>
                        <a:cubicBezTo>
                          <a:pt x="15875" y="288344"/>
                          <a:pt x="31221" y="268765"/>
                          <a:pt x="47625" y="257652"/>
                        </a:cubicBezTo>
                        <a:cubicBezTo>
                          <a:pt x="118004" y="294165"/>
                          <a:pt x="147108" y="188860"/>
                          <a:pt x="174625" y="159227"/>
                        </a:cubicBezTo>
                        <a:cubicBezTo>
                          <a:pt x="219075" y="72444"/>
                          <a:pt x="282575" y="119010"/>
                          <a:pt x="288925" y="156052"/>
                        </a:cubicBezTo>
                        <a:cubicBezTo>
                          <a:pt x="390525" y="305277"/>
                          <a:pt x="400050" y="117952"/>
                          <a:pt x="441325" y="89377"/>
                        </a:cubicBezTo>
                        <a:cubicBezTo>
                          <a:pt x="490008" y="-10106"/>
                          <a:pt x="605367" y="-42915"/>
                          <a:pt x="650875" y="76677"/>
                        </a:cubicBezTo>
                        <a:cubicBezTo>
                          <a:pt x="674158" y="113719"/>
                          <a:pt x="722842" y="239660"/>
                          <a:pt x="733425" y="321152"/>
                        </a:cubicBezTo>
                        <a:lnTo>
                          <a:pt x="0" y="321152"/>
                        </a:lnTo>
                        <a:close/>
                      </a:path>
                    </a:pathLst>
                  </a:cu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878" name="组合 180"/>
                  <p:cNvGrpSpPr/>
                  <p:nvPr/>
                </p:nvGrpSpPr>
                <p:grpSpPr>
                  <a:xfrm>
                    <a:off x="11019240" y="3539160"/>
                    <a:ext cx="34200" cy="34920"/>
                    <a:chOff x="11019240" y="3539160"/>
                    <a:chExt cx="34200" cy="34920"/>
                  </a:xfrm>
                </p:grpSpPr>
                <p:sp>
                  <p:nvSpPr>
                    <p:cNvPr id="879" name="等腰三角形 181"/>
                    <p:cNvSpPr/>
                    <p:nvPr/>
                  </p:nvSpPr>
                  <p:spPr>
                    <a:xfrm>
                      <a:off x="11026800" y="3539160"/>
                      <a:ext cx="19080" cy="7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1800" bIns="1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0" name="等腰三角形 182"/>
                    <p:cNvSpPr/>
                    <p:nvPr/>
                  </p:nvSpPr>
                  <p:spPr>
                    <a:xfrm>
                      <a:off x="11019240" y="3546000"/>
                      <a:ext cx="34200" cy="136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1" name="矩形 183"/>
                    <p:cNvSpPr/>
                    <p:nvPr/>
                  </p:nvSpPr>
                  <p:spPr>
                    <a:xfrm>
                      <a:off x="11034000" y="3555000"/>
                      <a:ext cx="4320" cy="19080"/>
                    </a:xfrm>
                    <a:prstGeom prst="rect">
                      <a:avLst/>
                    </a:prstGeom>
                    <a:solidFill>
                      <a:srgbClr val="00a5e0"/>
                    </a:solidFill>
                    <a:ln>
                      <a:noFill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numCol="1" spcCol="0" horzOverflow="overflow" vertOverflow="overflow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882" name="矩形 174"/>
                <p:cNvSpPr/>
                <p:nvPr/>
              </p:nvSpPr>
              <p:spPr>
                <a:xfrm>
                  <a:off x="10683720" y="3432600"/>
                  <a:ext cx="17784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3" name="矩形 175"/>
                <p:cNvSpPr/>
                <p:nvPr/>
              </p:nvSpPr>
              <p:spPr>
                <a:xfrm>
                  <a:off x="10683720" y="3480480"/>
                  <a:ext cx="33192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4" name="矩形 176"/>
                <p:cNvSpPr/>
                <p:nvPr/>
              </p:nvSpPr>
              <p:spPr>
                <a:xfrm>
                  <a:off x="10686960" y="3530880"/>
                  <a:ext cx="265680" cy="27000"/>
                </a:xfrm>
                <a:prstGeom prst="rect">
                  <a:avLst/>
                </a:prstGeom>
                <a:solidFill>
                  <a:srgbClr val="5b9bd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5" name="矩形 177"/>
                <p:cNvSpPr/>
                <p:nvPr/>
              </p:nvSpPr>
              <p:spPr>
                <a:xfrm>
                  <a:off x="10683720" y="3531600"/>
                  <a:ext cx="265680" cy="270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6" name="矩形 178"/>
                <p:cNvSpPr/>
                <p:nvPr/>
              </p:nvSpPr>
              <p:spPr>
                <a:xfrm>
                  <a:off x="10683720" y="3581280"/>
                  <a:ext cx="208080" cy="3096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87" name="平行四边形 171"/>
              <p:cNvSpPr/>
              <p:nvPr/>
            </p:nvSpPr>
            <p:spPr>
              <a:xfrm flipH="1">
                <a:off x="10591200" y="3635640"/>
                <a:ext cx="532440" cy="235440"/>
              </a:xfrm>
              <a:prstGeom prst="parallelogram">
                <a:avLst>
                  <a:gd name="adj" fmla="val 24355"/>
                </a:avLst>
              </a:prstGeom>
              <a:solidFill>
                <a:srgbClr val="43cd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88" name="矩形 185"/>
            <p:cNvSpPr/>
            <p:nvPr/>
          </p:nvSpPr>
          <p:spPr>
            <a:xfrm>
              <a:off x="10342440" y="3012120"/>
              <a:ext cx="1070640" cy="174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700" spc="-1" strike="noStrike">
                  <a:solidFill>
                    <a:schemeClr val="lt1"/>
                  </a:solidFill>
                  <a:latin typeface="Calibri"/>
                </a:rPr>
                <a:t>我的电脑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186"/>
            <p:cNvSpPr/>
            <p:nvPr/>
          </p:nvSpPr>
          <p:spPr>
            <a:xfrm>
              <a:off x="10342440" y="4029120"/>
              <a:ext cx="1070640" cy="582120"/>
            </a:xfrm>
            <a:prstGeom prst="rect">
              <a:avLst/>
            </a:prstGeom>
            <a:solidFill>
              <a:srgbClr val="ebece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90" name="组合 210"/>
            <p:cNvGrpSpPr/>
            <p:nvPr/>
          </p:nvGrpSpPr>
          <p:grpSpPr>
            <a:xfrm>
              <a:off x="10464840" y="4362480"/>
              <a:ext cx="156240" cy="156240"/>
              <a:chOff x="10464840" y="4362480"/>
              <a:chExt cx="156240" cy="156240"/>
            </a:xfrm>
          </p:grpSpPr>
          <p:sp>
            <p:nvSpPr>
              <p:cNvPr id="891" name="圆角矩形 190"/>
              <p:cNvSpPr/>
              <p:nvPr/>
            </p:nvSpPr>
            <p:spPr>
              <a:xfrm>
                <a:off x="10464840" y="436248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f8a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92" name="组合 191"/>
              <p:cNvGrpSpPr/>
              <p:nvPr/>
            </p:nvGrpSpPr>
            <p:grpSpPr>
              <a:xfrm>
                <a:off x="10488600" y="4398840"/>
                <a:ext cx="108360" cy="83160"/>
                <a:chOff x="10488600" y="4398840"/>
                <a:chExt cx="108360" cy="83160"/>
              </a:xfrm>
            </p:grpSpPr>
            <p:sp>
              <p:nvSpPr>
                <p:cNvPr id="893" name="任意多边形 192"/>
                <p:cNvSpPr/>
                <p:nvPr/>
              </p:nvSpPr>
              <p:spPr>
                <a:xfrm>
                  <a:off x="10488600" y="4398840"/>
                  <a:ext cx="108360" cy="83160"/>
                </a:xfrm>
                <a:custGeom>
                  <a:avLst/>
                  <a:gdLst>
                    <a:gd name="textAreaLeft" fmla="*/ 0 w 108360"/>
                    <a:gd name="textAreaRight" fmla="*/ 108720 w 10836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886408" h="681134">
                      <a:moveTo>
                        <a:pt x="48211" y="0"/>
                      </a:moveTo>
                      <a:lnTo>
                        <a:pt x="365061" y="0"/>
                      </a:lnTo>
                      <a:lnTo>
                        <a:pt x="459533" y="116632"/>
                      </a:lnTo>
                      <a:lnTo>
                        <a:pt x="886408" y="116632"/>
                      </a:lnTo>
                      <a:lnTo>
                        <a:pt x="886408" y="632923"/>
                      </a:lnTo>
                      <a:cubicBezTo>
                        <a:pt x="886408" y="659549"/>
                        <a:pt x="864823" y="681134"/>
                        <a:pt x="838197" y="681134"/>
                      </a:cubicBezTo>
                      <a:lnTo>
                        <a:pt x="48211" y="681134"/>
                      </a:lnTo>
                      <a:cubicBezTo>
                        <a:pt x="21585" y="681134"/>
                        <a:pt x="0" y="659549"/>
                        <a:pt x="0" y="632923"/>
                      </a:cubicBezTo>
                      <a:lnTo>
                        <a:pt x="0" y="48211"/>
                      </a:lnTo>
                      <a:cubicBezTo>
                        <a:pt x="0" y="21585"/>
                        <a:pt x="21585" y="0"/>
                        <a:pt x="48211" y="0"/>
                      </a:cubicBez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4" name="任意多边形 193"/>
                <p:cNvSpPr/>
                <p:nvPr/>
              </p:nvSpPr>
              <p:spPr>
                <a:xfrm>
                  <a:off x="10542960" y="4398840"/>
                  <a:ext cx="54000" cy="54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443086" h="45719">
                      <a:moveTo>
                        <a:pt x="0" y="0"/>
                      </a:moveTo>
                      <a:lnTo>
                        <a:pt x="443086" y="0"/>
                      </a:lnTo>
                      <a:lnTo>
                        <a:pt x="443086" y="45719"/>
                      </a:lnTo>
                      <a:lnTo>
                        <a:pt x="32733" y="45719"/>
                      </a:ln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5" name="矩形 194"/>
                <p:cNvSpPr/>
                <p:nvPr/>
              </p:nvSpPr>
              <p:spPr>
                <a:xfrm>
                  <a:off x="10590480" y="4398840"/>
                  <a:ext cx="6480" cy="11160"/>
                </a:xfrm>
                <a:prstGeom prst="rect">
                  <a:avLst/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96" name="组合 213"/>
            <p:cNvGrpSpPr/>
            <p:nvPr/>
          </p:nvGrpSpPr>
          <p:grpSpPr>
            <a:xfrm>
              <a:off x="10456560" y="4126320"/>
              <a:ext cx="156240" cy="156240"/>
              <a:chOff x="10456560" y="4126320"/>
              <a:chExt cx="156240" cy="156240"/>
            </a:xfrm>
          </p:grpSpPr>
          <p:sp>
            <p:nvSpPr>
              <p:cNvPr id="897" name="圆角矩形 187"/>
              <p:cNvSpPr/>
              <p:nvPr/>
            </p:nvSpPr>
            <p:spPr>
              <a:xfrm>
                <a:off x="10456560" y="412632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f68a4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98" name="组合 197"/>
              <p:cNvGrpSpPr/>
              <p:nvPr/>
            </p:nvGrpSpPr>
            <p:grpSpPr>
              <a:xfrm>
                <a:off x="10463040" y="4157640"/>
                <a:ext cx="129960" cy="71640"/>
                <a:chOff x="10463040" y="4157640"/>
                <a:chExt cx="129960" cy="71640"/>
              </a:xfrm>
            </p:grpSpPr>
            <p:sp>
              <p:nvSpPr>
                <p:cNvPr id="899" name="任意多边形 198"/>
                <p:cNvSpPr/>
                <p:nvPr/>
              </p:nvSpPr>
              <p:spPr>
                <a:xfrm>
                  <a:off x="10463040" y="4178160"/>
                  <a:ext cx="129960" cy="511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900" name="组合 199"/>
                <p:cNvGrpSpPr/>
                <p:nvPr/>
              </p:nvGrpSpPr>
              <p:grpSpPr>
                <a:xfrm>
                  <a:off x="10551240" y="4157640"/>
                  <a:ext cx="23760" cy="24480"/>
                  <a:chOff x="10551240" y="4157640"/>
                  <a:chExt cx="23760" cy="24480"/>
                </a:xfrm>
              </p:grpSpPr>
              <p:sp>
                <p:nvSpPr>
                  <p:cNvPr id="901" name="等腰三角形 200"/>
                  <p:cNvSpPr/>
                  <p:nvPr/>
                </p:nvSpPr>
                <p:spPr>
                  <a:xfrm>
                    <a:off x="10556280" y="4157640"/>
                    <a:ext cx="13320" cy="50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440" bIns="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2" name="等腰三角形 201"/>
                  <p:cNvSpPr/>
                  <p:nvPr/>
                </p:nvSpPr>
                <p:spPr>
                  <a:xfrm>
                    <a:off x="10551240" y="4162320"/>
                    <a:ext cx="23760" cy="9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520" bIns="2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3" name="矩形 202"/>
                  <p:cNvSpPr/>
                  <p:nvPr/>
                </p:nvSpPr>
                <p:spPr>
                  <a:xfrm>
                    <a:off x="10561680" y="4168800"/>
                    <a:ext cx="2880" cy="13320"/>
                  </a:xfrm>
                  <a:prstGeom prst="rect">
                    <a:avLst/>
                  </a:prstGeom>
                  <a:noFill/>
                  <a:ln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840" bIns="6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04" name="组合 212"/>
            <p:cNvGrpSpPr/>
            <p:nvPr/>
          </p:nvGrpSpPr>
          <p:grpSpPr>
            <a:xfrm>
              <a:off x="10804680" y="4126320"/>
              <a:ext cx="156240" cy="156240"/>
              <a:chOff x="10804680" y="4126320"/>
              <a:chExt cx="156240" cy="156240"/>
            </a:xfrm>
          </p:grpSpPr>
          <p:sp>
            <p:nvSpPr>
              <p:cNvPr id="905" name="圆角矩形 188"/>
              <p:cNvSpPr/>
              <p:nvPr/>
            </p:nvSpPr>
            <p:spPr>
              <a:xfrm>
                <a:off x="10804680" y="412632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00ade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06" name="组合 206"/>
              <p:cNvGrpSpPr/>
              <p:nvPr/>
            </p:nvGrpSpPr>
            <p:grpSpPr>
              <a:xfrm>
                <a:off x="10833120" y="4165560"/>
                <a:ext cx="100080" cy="83520"/>
                <a:chOff x="10833120" y="4165560"/>
                <a:chExt cx="100080" cy="83520"/>
              </a:xfrm>
            </p:grpSpPr>
            <p:sp>
              <p:nvSpPr>
                <p:cNvPr id="907" name="圆角矩形 203"/>
                <p:cNvSpPr/>
                <p:nvPr/>
              </p:nvSpPr>
              <p:spPr>
                <a:xfrm>
                  <a:off x="10833120" y="4173480"/>
                  <a:ext cx="100080" cy="7560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8" name="椭圆 204"/>
                <p:cNvSpPr/>
                <p:nvPr/>
              </p:nvSpPr>
              <p:spPr>
                <a:xfrm>
                  <a:off x="10870920" y="4197960"/>
                  <a:ext cx="26640" cy="26640"/>
                </a:xfrm>
                <a:prstGeom prst="ellipse">
                  <a:avLst/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9" name="圆角矩形 205"/>
                <p:cNvSpPr/>
                <p:nvPr/>
              </p:nvSpPr>
              <p:spPr>
                <a:xfrm>
                  <a:off x="10865160" y="4165560"/>
                  <a:ext cx="40320" cy="756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0" name="组合 211"/>
            <p:cNvGrpSpPr/>
            <p:nvPr/>
          </p:nvGrpSpPr>
          <p:grpSpPr>
            <a:xfrm>
              <a:off x="11156040" y="4125600"/>
              <a:ext cx="156240" cy="156240"/>
              <a:chOff x="11156040" y="4125600"/>
              <a:chExt cx="156240" cy="156240"/>
            </a:xfrm>
          </p:grpSpPr>
          <p:sp>
            <p:nvSpPr>
              <p:cNvPr id="911" name="圆角矩形 189"/>
              <p:cNvSpPr/>
              <p:nvPr/>
            </p:nvSpPr>
            <p:spPr>
              <a:xfrm>
                <a:off x="11156040" y="4125600"/>
                <a:ext cx="156240" cy="156240"/>
              </a:xfrm>
              <a:prstGeom prst="roundRect">
                <a:avLst>
                  <a:gd name="adj" fmla="val 16667"/>
                </a:avLst>
              </a:prstGeom>
              <a:solidFill>
                <a:srgbClr val="0fd19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12" name="任意多边形 209"/>
              <p:cNvSpPr/>
              <p:nvPr/>
            </p:nvSpPr>
            <p:spPr>
              <a:xfrm rot="16200000">
                <a:off x="11211480" y="4160520"/>
                <a:ext cx="45360" cy="1000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64145" h="582645">
                    <a:moveTo>
                      <a:pt x="264145" y="44025"/>
                    </a:moveTo>
                    <a:lnTo>
                      <a:pt x="264145" y="365550"/>
                    </a:lnTo>
                    <a:cubicBezTo>
                      <a:pt x="264145" y="389864"/>
                      <a:pt x="244434" y="409575"/>
                      <a:pt x="220120" y="409575"/>
                    </a:cubicBezTo>
                    <a:lnTo>
                      <a:pt x="184010" y="409575"/>
                    </a:lnTo>
                    <a:lnTo>
                      <a:pt x="235445" y="582645"/>
                    </a:lnTo>
                    <a:lnTo>
                      <a:pt x="0" y="582645"/>
                    </a:lnTo>
                    <a:lnTo>
                      <a:pt x="51436" y="409575"/>
                    </a:lnTo>
                    <a:lnTo>
                      <a:pt x="44025" y="409575"/>
                    </a:lnTo>
                    <a:cubicBezTo>
                      <a:pt x="19711" y="409575"/>
                      <a:pt x="0" y="389864"/>
                      <a:pt x="0" y="365550"/>
                    </a:cubicBezTo>
                    <a:lnTo>
                      <a:pt x="0" y="44025"/>
                    </a:lnTo>
                    <a:cubicBezTo>
                      <a:pt x="0" y="19711"/>
                      <a:pt x="19711" y="0"/>
                      <a:pt x="44025" y="0"/>
                    </a:cubicBezTo>
                    <a:lnTo>
                      <a:pt x="220120" y="0"/>
                    </a:lnTo>
                    <a:cubicBezTo>
                      <a:pt x="244434" y="0"/>
                      <a:pt x="264145" y="19711"/>
                      <a:pt x="264145" y="44025"/>
                    </a:cubicBezTo>
                    <a:close/>
                  </a:path>
                </a:pathLst>
              </a:custGeom>
              <a:noFill/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13" name="圆角矩形 214"/>
            <p:cNvSpPr/>
            <p:nvPr/>
          </p:nvSpPr>
          <p:spPr>
            <a:xfrm>
              <a:off x="10515960" y="453528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" name="圆角矩形 215"/>
            <p:cNvSpPr/>
            <p:nvPr/>
          </p:nvSpPr>
          <p:spPr>
            <a:xfrm>
              <a:off x="1051596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" name="圆角矩形 216"/>
            <p:cNvSpPr/>
            <p:nvPr/>
          </p:nvSpPr>
          <p:spPr>
            <a:xfrm>
              <a:off x="1085832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6" name="圆角矩形 217"/>
            <p:cNvSpPr/>
            <p:nvPr/>
          </p:nvSpPr>
          <p:spPr>
            <a:xfrm>
              <a:off x="11211480" y="4300200"/>
              <a:ext cx="45360" cy="45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7" name="组合 262"/>
          <p:cNvGrpSpPr/>
          <p:nvPr/>
        </p:nvGrpSpPr>
        <p:grpSpPr>
          <a:xfrm>
            <a:off x="8065080" y="3696480"/>
            <a:ext cx="536400" cy="536400"/>
            <a:chOff x="8065080" y="3696480"/>
            <a:chExt cx="536400" cy="536400"/>
          </a:xfrm>
        </p:grpSpPr>
        <p:sp>
          <p:nvSpPr>
            <p:cNvPr id="918" name="椭圆 221"/>
            <p:cNvSpPr/>
            <p:nvPr/>
          </p:nvSpPr>
          <p:spPr>
            <a:xfrm>
              <a:off x="8065080" y="3696480"/>
              <a:ext cx="536400" cy="5364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19" name="组合 223"/>
            <p:cNvGrpSpPr/>
            <p:nvPr/>
          </p:nvGrpSpPr>
          <p:grpSpPr>
            <a:xfrm>
              <a:off x="8163360" y="3823200"/>
              <a:ext cx="341640" cy="290880"/>
              <a:chOff x="8163360" y="3823200"/>
              <a:chExt cx="341640" cy="290880"/>
            </a:xfrm>
          </p:grpSpPr>
          <p:sp>
            <p:nvSpPr>
              <p:cNvPr id="920" name="任意多边形 224"/>
              <p:cNvSpPr/>
              <p:nvPr/>
            </p:nvSpPr>
            <p:spPr>
              <a:xfrm flipH="1">
                <a:off x="8163000" y="3969360"/>
                <a:ext cx="341640" cy="144720"/>
              </a:xfrm>
              <a:custGeom>
                <a:avLst/>
                <a:gdLst>
                  <a:gd name="textAreaLeft" fmla="*/ -360 w 341640"/>
                  <a:gd name="textAreaRight" fmla="*/ 341640 w 3416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1" name="任意多边形 225"/>
              <p:cNvSpPr/>
              <p:nvPr/>
            </p:nvSpPr>
            <p:spPr>
              <a:xfrm flipH="1">
                <a:off x="8163000" y="3823200"/>
                <a:ext cx="341640" cy="145800"/>
              </a:xfrm>
              <a:custGeom>
                <a:avLst/>
                <a:gdLst>
                  <a:gd name="textAreaLeft" fmla="*/ -360 w 341640"/>
                  <a:gd name="textAreaRight" fmla="*/ 341640 w 3416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22" name="组合 249"/>
          <p:cNvGrpSpPr/>
          <p:nvPr/>
        </p:nvGrpSpPr>
        <p:grpSpPr>
          <a:xfrm>
            <a:off x="9055440" y="3044520"/>
            <a:ext cx="494640" cy="619920"/>
            <a:chOff x="9055440" y="3044520"/>
            <a:chExt cx="494640" cy="619920"/>
          </a:xfrm>
        </p:grpSpPr>
        <p:sp>
          <p:nvSpPr>
            <p:cNvPr id="923" name="任意多边形 247"/>
            <p:cNvSpPr/>
            <p:nvPr/>
          </p:nvSpPr>
          <p:spPr>
            <a:xfrm>
              <a:off x="9055440" y="3047760"/>
              <a:ext cx="494280" cy="61668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583582" h="727681">
                  <a:moveTo>
                    <a:pt x="97266" y="0"/>
                  </a:moveTo>
                  <a:lnTo>
                    <a:pt x="441608" y="0"/>
                  </a:lnTo>
                  <a:lnTo>
                    <a:pt x="583582" y="116698"/>
                  </a:lnTo>
                  <a:lnTo>
                    <a:pt x="583582" y="630415"/>
                  </a:lnTo>
                  <a:cubicBezTo>
                    <a:pt x="583582" y="684134"/>
                    <a:pt x="540035" y="727681"/>
                    <a:pt x="486316" y="727681"/>
                  </a:cubicBezTo>
                  <a:lnTo>
                    <a:pt x="97266" y="727681"/>
                  </a:lnTo>
                  <a:cubicBezTo>
                    <a:pt x="43547" y="727681"/>
                    <a:pt x="0" y="684134"/>
                    <a:pt x="0" y="630415"/>
                  </a:cubicBezTo>
                  <a:lnTo>
                    <a:pt x="0" y="97266"/>
                  </a:lnTo>
                  <a:cubicBezTo>
                    <a:pt x="0" y="43547"/>
                    <a:pt x="43547" y="0"/>
                    <a:pt x="97266" y="0"/>
                  </a:cubicBezTo>
                  <a:close/>
                </a:path>
              </a:pathLst>
            </a:custGeom>
            <a:noFill/>
            <a:ln w="38100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24" name="组合 234"/>
            <p:cNvGrpSpPr/>
            <p:nvPr/>
          </p:nvGrpSpPr>
          <p:grpSpPr>
            <a:xfrm>
              <a:off x="9312120" y="3491640"/>
              <a:ext cx="209520" cy="115200"/>
              <a:chOff x="9312120" y="3491640"/>
              <a:chExt cx="209520" cy="115200"/>
            </a:xfrm>
          </p:grpSpPr>
          <p:sp>
            <p:nvSpPr>
              <p:cNvPr id="925" name="任意多边形 240"/>
              <p:cNvSpPr/>
              <p:nvPr/>
            </p:nvSpPr>
            <p:spPr>
              <a:xfrm>
                <a:off x="9312120" y="3524760"/>
                <a:ext cx="209520" cy="820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1040" bIns="41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26" name="组合 241"/>
              <p:cNvGrpSpPr/>
              <p:nvPr/>
            </p:nvGrpSpPr>
            <p:grpSpPr>
              <a:xfrm>
                <a:off x="9454320" y="3491640"/>
                <a:ext cx="38160" cy="39240"/>
                <a:chOff x="9454320" y="3491640"/>
                <a:chExt cx="38160" cy="39240"/>
              </a:xfrm>
            </p:grpSpPr>
            <p:sp>
              <p:nvSpPr>
                <p:cNvPr id="927" name="等腰三角形 242"/>
                <p:cNvSpPr/>
                <p:nvPr/>
              </p:nvSpPr>
              <p:spPr>
                <a:xfrm>
                  <a:off x="9462600" y="3491640"/>
                  <a:ext cx="21600" cy="8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8" name="等腰三角形 243"/>
                <p:cNvSpPr/>
                <p:nvPr/>
              </p:nvSpPr>
              <p:spPr>
                <a:xfrm>
                  <a:off x="9454320" y="3499200"/>
                  <a:ext cx="38160" cy="1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9" name="矩形 244"/>
                <p:cNvSpPr/>
                <p:nvPr/>
              </p:nvSpPr>
              <p:spPr>
                <a:xfrm>
                  <a:off x="9470880" y="3509280"/>
                  <a:ext cx="4680" cy="21600"/>
                </a:xfrm>
                <a:prstGeom prst="rect">
                  <a:avLst/>
                </a:pr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30" name="矩形 235"/>
            <p:cNvSpPr/>
            <p:nvPr/>
          </p:nvSpPr>
          <p:spPr>
            <a:xfrm>
              <a:off x="9078480" y="3154680"/>
              <a:ext cx="19908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1" name="矩形 236"/>
            <p:cNvSpPr/>
            <p:nvPr/>
          </p:nvSpPr>
          <p:spPr>
            <a:xfrm>
              <a:off x="9078480" y="3240360"/>
              <a:ext cx="37188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2" name="矩形 237"/>
            <p:cNvSpPr/>
            <p:nvPr/>
          </p:nvSpPr>
          <p:spPr>
            <a:xfrm>
              <a:off x="9082080" y="3338640"/>
              <a:ext cx="29772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3" name="矩形 238"/>
            <p:cNvSpPr/>
            <p:nvPr/>
          </p:nvSpPr>
          <p:spPr>
            <a:xfrm>
              <a:off x="9078480" y="3426840"/>
              <a:ext cx="297720" cy="302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4" name="矩形 239"/>
            <p:cNvSpPr/>
            <p:nvPr/>
          </p:nvSpPr>
          <p:spPr>
            <a:xfrm>
              <a:off x="9078480" y="3514680"/>
              <a:ext cx="233280" cy="3492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5" name="任意多边形 248"/>
            <p:cNvSpPr/>
            <p:nvPr/>
          </p:nvSpPr>
          <p:spPr>
            <a:xfrm rot="21431400">
              <a:off x="9400320" y="3047760"/>
              <a:ext cx="145800" cy="147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72419" h="174493">
                  <a:moveTo>
                    <a:pt x="33517" y="0"/>
                  </a:moveTo>
                  <a:lnTo>
                    <a:pt x="172419" y="120977"/>
                  </a:lnTo>
                  <a:lnTo>
                    <a:pt x="134319" y="163839"/>
                  </a:lnTo>
                  <a:cubicBezTo>
                    <a:pt x="53357" y="197177"/>
                    <a:pt x="-8556" y="149552"/>
                    <a:pt x="969" y="59064"/>
                  </a:cubicBezTo>
                  <a:lnTo>
                    <a:pt x="33517" y="0"/>
                  </a:lnTo>
                  <a:close/>
                </a:path>
              </a:pathLst>
            </a:custGeom>
            <a:noFill/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36" name="组合 254"/>
          <p:cNvGrpSpPr/>
          <p:nvPr/>
        </p:nvGrpSpPr>
        <p:grpSpPr>
          <a:xfrm>
            <a:off x="8412120" y="3317400"/>
            <a:ext cx="499320" cy="81360"/>
            <a:chOff x="8412120" y="3317400"/>
            <a:chExt cx="499320" cy="81360"/>
          </a:xfrm>
        </p:grpSpPr>
        <p:sp>
          <p:nvSpPr>
            <p:cNvPr id="937" name="椭圆 250"/>
            <p:cNvSpPr/>
            <p:nvPr/>
          </p:nvSpPr>
          <p:spPr>
            <a:xfrm flipV="1">
              <a:off x="841212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8" name="椭圆 251"/>
            <p:cNvSpPr/>
            <p:nvPr/>
          </p:nvSpPr>
          <p:spPr>
            <a:xfrm flipV="1">
              <a:off x="861264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9" name="椭圆 252"/>
            <p:cNvSpPr/>
            <p:nvPr/>
          </p:nvSpPr>
          <p:spPr>
            <a:xfrm flipV="1">
              <a:off x="883008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0" name="组合 255"/>
          <p:cNvGrpSpPr/>
          <p:nvPr/>
        </p:nvGrpSpPr>
        <p:grpSpPr>
          <a:xfrm>
            <a:off x="9669600" y="3317400"/>
            <a:ext cx="499320" cy="81360"/>
            <a:chOff x="9669600" y="3317400"/>
            <a:chExt cx="499320" cy="81360"/>
          </a:xfrm>
        </p:grpSpPr>
        <p:sp>
          <p:nvSpPr>
            <p:cNvPr id="941" name="椭圆 256"/>
            <p:cNvSpPr/>
            <p:nvPr/>
          </p:nvSpPr>
          <p:spPr>
            <a:xfrm flipV="1">
              <a:off x="966960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2" name="椭圆 257"/>
            <p:cNvSpPr/>
            <p:nvPr/>
          </p:nvSpPr>
          <p:spPr>
            <a:xfrm flipV="1">
              <a:off x="987012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3" name="椭圆 258"/>
            <p:cNvSpPr/>
            <p:nvPr/>
          </p:nvSpPr>
          <p:spPr>
            <a:xfrm flipV="1">
              <a:off x="10087560" y="3317400"/>
              <a:ext cx="81360" cy="81360"/>
            </a:xfrm>
            <a:prstGeom prst="ellipse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4" name="组合 263"/>
          <p:cNvGrpSpPr/>
          <p:nvPr/>
        </p:nvGrpSpPr>
        <p:grpSpPr>
          <a:xfrm>
            <a:off x="9983520" y="2579760"/>
            <a:ext cx="536400" cy="536400"/>
            <a:chOff x="9983520" y="2579760"/>
            <a:chExt cx="536400" cy="536400"/>
          </a:xfrm>
        </p:grpSpPr>
        <p:sp>
          <p:nvSpPr>
            <p:cNvPr id="945" name="椭圆 264"/>
            <p:cNvSpPr/>
            <p:nvPr/>
          </p:nvSpPr>
          <p:spPr>
            <a:xfrm flipH="1">
              <a:off x="9983520" y="2579760"/>
              <a:ext cx="536400" cy="5364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00a5e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46" name="组合 265"/>
            <p:cNvGrpSpPr/>
            <p:nvPr/>
          </p:nvGrpSpPr>
          <p:grpSpPr>
            <a:xfrm>
              <a:off x="10079640" y="2706480"/>
              <a:ext cx="341640" cy="290880"/>
              <a:chOff x="10079640" y="2706480"/>
              <a:chExt cx="341640" cy="290880"/>
            </a:xfrm>
          </p:grpSpPr>
          <p:sp>
            <p:nvSpPr>
              <p:cNvPr id="947" name="任意多边形 266"/>
              <p:cNvSpPr/>
              <p:nvPr/>
            </p:nvSpPr>
            <p:spPr>
              <a:xfrm>
                <a:off x="10079640" y="2852640"/>
                <a:ext cx="341640" cy="14472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448851" h="190500">
                    <a:moveTo>
                      <a:pt x="0" y="0"/>
                    </a:moveTo>
                    <a:lnTo>
                      <a:pt x="448851" y="0"/>
                    </a:lnTo>
                    <a:lnTo>
                      <a:pt x="258351" y="190500"/>
                    </a:lnTo>
                    <a:lnTo>
                      <a:pt x="258351" y="95250"/>
                    </a:lnTo>
                    <a:lnTo>
                      <a:pt x="0" y="95250"/>
                    </a:lnTo>
                    <a:close/>
                  </a:path>
                </a:pathLst>
              </a:cu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8" name="任意多边形 267"/>
              <p:cNvSpPr/>
              <p:nvPr/>
            </p:nvSpPr>
            <p:spPr>
              <a:xfrm>
                <a:off x="10079640" y="2706480"/>
                <a:ext cx="341640" cy="14580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448851" h="192000">
                    <a:moveTo>
                      <a:pt x="258351" y="0"/>
                    </a:moveTo>
                    <a:lnTo>
                      <a:pt x="448851" y="190500"/>
                    </a:lnTo>
                    <a:lnTo>
                      <a:pt x="447351" y="192000"/>
                    </a:lnTo>
                    <a:lnTo>
                      <a:pt x="0" y="192000"/>
                    </a:lnTo>
                    <a:lnTo>
                      <a:pt x="0" y="95250"/>
                    </a:lnTo>
                    <a:lnTo>
                      <a:pt x="258351" y="95250"/>
                    </a:lnTo>
                    <a:close/>
                  </a:path>
                </a:pathLst>
              </a:custGeom>
              <a:solidFill>
                <a:srgbClr val="63b9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49" name="组合 276"/>
          <p:cNvGrpSpPr/>
          <p:nvPr/>
        </p:nvGrpSpPr>
        <p:grpSpPr>
          <a:xfrm>
            <a:off x="543960" y="1959480"/>
            <a:ext cx="342720" cy="548280"/>
            <a:chOff x="543960" y="1959480"/>
            <a:chExt cx="342720" cy="548280"/>
          </a:xfrm>
        </p:grpSpPr>
        <p:sp>
          <p:nvSpPr>
            <p:cNvPr id="950" name="矩形 268"/>
            <p:cNvSpPr/>
            <p:nvPr/>
          </p:nvSpPr>
          <p:spPr>
            <a:xfrm>
              <a:off x="543960" y="2093760"/>
              <a:ext cx="342720" cy="10836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1" name="矩形 269"/>
            <p:cNvSpPr/>
            <p:nvPr/>
          </p:nvSpPr>
          <p:spPr>
            <a:xfrm>
              <a:off x="574200" y="1959480"/>
              <a:ext cx="281880" cy="13392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2" name="矩形 272"/>
            <p:cNvSpPr/>
            <p:nvPr/>
          </p:nvSpPr>
          <p:spPr>
            <a:xfrm>
              <a:off x="685080" y="2165400"/>
              <a:ext cx="68040" cy="34236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953" name="组合 273"/>
            <p:cNvGrpSpPr/>
            <p:nvPr/>
          </p:nvGrpSpPr>
          <p:grpSpPr>
            <a:xfrm>
              <a:off x="599400" y="2218680"/>
              <a:ext cx="213480" cy="213480"/>
              <a:chOff x="599400" y="2218680"/>
              <a:chExt cx="213480" cy="213480"/>
            </a:xfrm>
          </p:grpSpPr>
          <p:sp>
            <p:nvSpPr>
              <p:cNvPr id="954" name="椭圆 271"/>
              <p:cNvSpPr/>
              <p:nvPr/>
            </p:nvSpPr>
            <p:spPr>
              <a:xfrm>
                <a:off x="599400" y="2218680"/>
                <a:ext cx="213480" cy="213480"/>
              </a:xfrm>
              <a:prstGeom prst="ellipse">
                <a:avLst/>
              </a:prstGeom>
              <a:solidFill>
                <a:schemeClr val="bg1"/>
              </a:solidFill>
              <a:ln w="38100">
                <a:solidFill>
                  <a:srgbClr val="00a5e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55" name="十字形 270"/>
              <p:cNvSpPr/>
              <p:nvPr/>
            </p:nvSpPr>
            <p:spPr>
              <a:xfrm rot="2671200">
                <a:off x="636480" y="2252520"/>
                <a:ext cx="144720" cy="148680"/>
              </a:xfrm>
              <a:prstGeom prst="plus">
                <a:avLst>
                  <a:gd name="adj" fmla="val 41627"/>
                </a:avLst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956" name="矩形 274"/>
            <p:cNvSpPr/>
            <p:nvPr/>
          </p:nvSpPr>
          <p:spPr>
            <a:xfrm>
              <a:off x="625320" y="2021760"/>
              <a:ext cx="79560" cy="554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7" name="矩形 275"/>
            <p:cNvSpPr/>
            <p:nvPr/>
          </p:nvSpPr>
          <p:spPr>
            <a:xfrm>
              <a:off x="788760" y="2021760"/>
              <a:ext cx="23760" cy="67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58" name="文本框 277"/>
          <p:cNvSpPr/>
          <p:nvPr/>
        </p:nvSpPr>
        <p:spPr>
          <a:xfrm>
            <a:off x="925200" y="198900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278"/>
          <p:cNvSpPr/>
          <p:nvPr/>
        </p:nvSpPr>
        <p:spPr>
          <a:xfrm>
            <a:off x="425160" y="2579760"/>
            <a:ext cx="396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电脑和手机自由互传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摆脱数据线束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279"/>
          <p:cNvSpPr/>
          <p:nvPr/>
        </p:nvSpPr>
        <p:spPr>
          <a:xfrm>
            <a:off x="434880" y="3790080"/>
            <a:ext cx="38602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“我的设备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实现文件在电脑端和手机端自由互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无需数据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a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1" descr=""/>
          <p:cNvPicPr/>
          <p:nvPr/>
        </p:nvPicPr>
        <p:blipFill>
          <a:blip r:embed="rId1"/>
          <a:stretch/>
        </p:blipFill>
        <p:spPr>
          <a:xfrm>
            <a:off x="793080" y="6972480"/>
            <a:ext cx="10553400" cy="5038200"/>
          </a:xfrm>
          <a:prstGeom prst="rect">
            <a:avLst/>
          </a:prstGeom>
          <a:ln w="0">
            <a:noFill/>
          </a:ln>
        </p:spPr>
      </p:pic>
      <p:grpSp>
        <p:nvGrpSpPr>
          <p:cNvPr id="962" name="组合 48"/>
          <p:cNvGrpSpPr/>
          <p:nvPr/>
        </p:nvGrpSpPr>
        <p:grpSpPr>
          <a:xfrm>
            <a:off x="1483920" y="1933920"/>
            <a:ext cx="1586880" cy="2697840"/>
            <a:chOff x="1483920" y="1933920"/>
            <a:chExt cx="1586880" cy="2697840"/>
          </a:xfrm>
        </p:grpSpPr>
        <p:grpSp>
          <p:nvGrpSpPr>
            <p:cNvPr id="963" name="组合 20"/>
            <p:cNvGrpSpPr/>
            <p:nvPr/>
          </p:nvGrpSpPr>
          <p:grpSpPr>
            <a:xfrm>
              <a:off x="1483920" y="1933920"/>
              <a:ext cx="1586880" cy="2697840"/>
              <a:chOff x="1483920" y="1933920"/>
              <a:chExt cx="1586880" cy="2697840"/>
            </a:xfrm>
          </p:grpSpPr>
          <p:grpSp>
            <p:nvGrpSpPr>
              <p:cNvPr id="964" name="组合 21"/>
              <p:cNvGrpSpPr/>
              <p:nvPr/>
            </p:nvGrpSpPr>
            <p:grpSpPr>
              <a:xfrm>
                <a:off x="1483920" y="1933920"/>
                <a:ext cx="1586880" cy="2697840"/>
                <a:chOff x="1483920" y="1933920"/>
                <a:chExt cx="1586880" cy="2697840"/>
              </a:xfrm>
            </p:grpSpPr>
            <p:sp>
              <p:nvSpPr>
                <p:cNvPr id="965" name="圆角矩形 26"/>
                <p:cNvSpPr/>
                <p:nvPr/>
              </p:nvSpPr>
              <p:spPr>
                <a:xfrm rot="580200">
                  <a:off x="1688400" y="2014560"/>
                  <a:ext cx="1177560" cy="253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6" name="矩形 27"/>
                <p:cNvSpPr/>
                <p:nvPr/>
              </p:nvSpPr>
              <p:spPr>
                <a:xfrm rot="580200">
                  <a:off x="1739160" y="2394720"/>
                  <a:ext cx="1070640" cy="1810800"/>
                </a:xfrm>
                <a:prstGeom prst="rect">
                  <a:avLst/>
                </a:prstGeom>
                <a:solidFill>
                  <a:srgbClr val="cbe9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7" name="组合 22"/>
              <p:cNvGrpSpPr/>
              <p:nvPr/>
            </p:nvGrpSpPr>
            <p:grpSpPr>
              <a:xfrm>
                <a:off x="2295360" y="2142000"/>
                <a:ext cx="303840" cy="172080"/>
                <a:chOff x="2295360" y="2142000"/>
                <a:chExt cx="303840" cy="172080"/>
              </a:xfrm>
            </p:grpSpPr>
            <p:sp>
              <p:nvSpPr>
                <p:cNvPr id="968" name="椭圆 24"/>
                <p:cNvSpPr/>
                <p:nvPr/>
              </p:nvSpPr>
              <p:spPr>
                <a:xfrm rot="580200">
                  <a:off x="2430000" y="2146680"/>
                  <a:ext cx="63000" cy="716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9" name="圆角矩形 25"/>
                <p:cNvSpPr/>
                <p:nvPr/>
              </p:nvSpPr>
              <p:spPr>
                <a:xfrm rot="580200">
                  <a:off x="2296800" y="2244240"/>
                  <a:ext cx="300600" cy="45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0" name="椭圆 23"/>
              <p:cNvSpPr/>
              <p:nvPr/>
            </p:nvSpPr>
            <p:spPr>
              <a:xfrm rot="580200">
                <a:off x="1985040" y="4262040"/>
                <a:ext cx="204840" cy="23184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71" name="组合 14"/>
            <p:cNvGrpSpPr/>
            <p:nvPr/>
          </p:nvGrpSpPr>
          <p:grpSpPr>
            <a:xfrm>
              <a:off x="1909800" y="2995200"/>
              <a:ext cx="729720" cy="614160"/>
              <a:chOff x="1909800" y="2995200"/>
              <a:chExt cx="729720" cy="614160"/>
            </a:xfrm>
          </p:grpSpPr>
          <p:sp>
            <p:nvSpPr>
              <p:cNvPr id="972" name="任意多边形 15"/>
              <p:cNvSpPr/>
              <p:nvPr/>
            </p:nvSpPr>
            <p:spPr>
              <a:xfrm rot="702600">
                <a:off x="1953000" y="3054960"/>
                <a:ext cx="642600" cy="49392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3" name="任意多边形 16"/>
              <p:cNvSpPr/>
              <p:nvPr/>
            </p:nvSpPr>
            <p:spPr>
              <a:xfrm rot="702600">
                <a:off x="2318040" y="3092760"/>
                <a:ext cx="321120" cy="327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4" name="矩形 17"/>
              <p:cNvSpPr/>
              <p:nvPr/>
            </p:nvSpPr>
            <p:spPr>
              <a:xfrm rot="702600">
                <a:off x="2592000" y="3120840"/>
                <a:ext cx="40680" cy="68040"/>
              </a:xfrm>
              <a:prstGeom prst="rect">
                <a:avLst/>
              </a:prstGeom>
              <a:solidFill>
                <a:srgbClr val="94d4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75" name="组合 47"/>
          <p:cNvGrpSpPr/>
          <p:nvPr/>
        </p:nvGrpSpPr>
        <p:grpSpPr>
          <a:xfrm>
            <a:off x="5280120" y="1935720"/>
            <a:ext cx="1579320" cy="2655360"/>
            <a:chOff x="5280120" y="1935720"/>
            <a:chExt cx="1579320" cy="2655360"/>
          </a:xfrm>
        </p:grpSpPr>
        <p:grpSp>
          <p:nvGrpSpPr>
            <p:cNvPr id="976" name="组合 28"/>
            <p:cNvGrpSpPr/>
            <p:nvPr/>
          </p:nvGrpSpPr>
          <p:grpSpPr>
            <a:xfrm>
              <a:off x="5280120" y="1935720"/>
              <a:ext cx="1579320" cy="2655360"/>
              <a:chOff x="5280120" y="1935720"/>
              <a:chExt cx="1579320" cy="2655360"/>
            </a:xfrm>
          </p:grpSpPr>
          <p:grpSp>
            <p:nvGrpSpPr>
              <p:cNvPr id="977" name="组合 29"/>
              <p:cNvGrpSpPr/>
              <p:nvPr/>
            </p:nvGrpSpPr>
            <p:grpSpPr>
              <a:xfrm>
                <a:off x="5280120" y="1935720"/>
                <a:ext cx="1579320" cy="2655360"/>
                <a:chOff x="5280120" y="1935720"/>
                <a:chExt cx="1579320" cy="2655360"/>
              </a:xfrm>
            </p:grpSpPr>
            <p:sp>
              <p:nvSpPr>
                <p:cNvPr id="978" name="圆角矩形 34"/>
                <p:cNvSpPr/>
                <p:nvPr/>
              </p:nvSpPr>
              <p:spPr>
                <a:xfrm flipV="1" rot="10219800">
                  <a:off x="5481000" y="2016720"/>
                  <a:ext cx="1177560" cy="249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c5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9" name="矩形 35"/>
                <p:cNvSpPr/>
                <p:nvPr/>
              </p:nvSpPr>
              <p:spPr>
                <a:xfrm flipV="1" rot="10219800">
                  <a:off x="5537520" y="2390040"/>
                  <a:ext cx="1070640" cy="1779480"/>
                </a:xfrm>
                <a:prstGeom prst="rect">
                  <a:avLst/>
                </a:prstGeom>
                <a:solidFill>
                  <a:srgbClr val="cbe9fb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0" name="组合 30"/>
              <p:cNvGrpSpPr/>
              <p:nvPr/>
            </p:nvGrpSpPr>
            <p:grpSpPr>
              <a:xfrm>
                <a:off x="5751360" y="2142000"/>
                <a:ext cx="303840" cy="169920"/>
                <a:chOff x="5751360" y="2142000"/>
                <a:chExt cx="303840" cy="169920"/>
              </a:xfrm>
            </p:grpSpPr>
            <p:sp>
              <p:nvSpPr>
                <p:cNvPr id="981" name="椭圆 32"/>
                <p:cNvSpPr/>
                <p:nvPr/>
              </p:nvSpPr>
              <p:spPr>
                <a:xfrm flipV="1" rot="10219800">
                  <a:off x="5857560" y="2146320"/>
                  <a:ext cx="63000" cy="7056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2" name="圆角矩形 33"/>
                <p:cNvSpPr/>
                <p:nvPr/>
              </p:nvSpPr>
              <p:spPr>
                <a:xfrm flipV="1" rot="10219800">
                  <a:off x="5752800" y="2242080"/>
                  <a:ext cx="300600" cy="446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83" name="椭圆 31"/>
              <p:cNvSpPr/>
              <p:nvPr/>
            </p:nvSpPr>
            <p:spPr>
              <a:xfrm flipV="1" rot="10219800">
                <a:off x="6154200" y="4225680"/>
                <a:ext cx="204840" cy="227880"/>
              </a:xfrm>
              <a:prstGeom prst="ellipse">
                <a:avLst/>
              </a:prstGeom>
              <a:noFill/>
              <a:ln w="9525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84" name="组合 36"/>
            <p:cNvGrpSpPr/>
            <p:nvPr/>
          </p:nvGrpSpPr>
          <p:grpSpPr>
            <a:xfrm>
              <a:off x="5742360" y="2963160"/>
              <a:ext cx="720000" cy="600120"/>
              <a:chOff x="5742360" y="2963160"/>
              <a:chExt cx="720000" cy="600120"/>
            </a:xfrm>
          </p:grpSpPr>
          <p:sp>
            <p:nvSpPr>
              <p:cNvPr id="985" name="任意多边形 37"/>
              <p:cNvSpPr/>
              <p:nvPr/>
            </p:nvSpPr>
            <p:spPr>
              <a:xfrm flipV="1" rot="10186200">
                <a:off x="5781240" y="3015720"/>
                <a:ext cx="642600" cy="49392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360 h 493920"/>
                  <a:gd name="textAreaBottom" fmla="*/ 494640 h 4939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6" name="任意多边形 38"/>
              <p:cNvSpPr/>
              <p:nvPr/>
            </p:nvSpPr>
            <p:spPr>
              <a:xfrm flipV="1" rot="10186200">
                <a:off x="5742720" y="3048480"/>
                <a:ext cx="321120" cy="3276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-360 h 32760"/>
                  <a:gd name="textAreaBottom" fmla="*/ 32760 h 3276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87" name="矩形 39"/>
              <p:cNvSpPr/>
              <p:nvPr/>
            </p:nvSpPr>
            <p:spPr>
              <a:xfrm flipV="1" rot="10186200">
                <a:off x="5747760" y="3072960"/>
                <a:ext cx="40680" cy="68040"/>
              </a:xfrm>
              <a:prstGeom prst="rect">
                <a:avLst/>
              </a:prstGeom>
              <a:solidFill>
                <a:srgbClr val="73c0f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88" name="组合 46"/>
          <p:cNvGrpSpPr/>
          <p:nvPr/>
        </p:nvGrpSpPr>
        <p:grpSpPr>
          <a:xfrm>
            <a:off x="3649680" y="1483200"/>
            <a:ext cx="984960" cy="552600"/>
            <a:chOff x="3649680" y="1483200"/>
            <a:chExt cx="984960" cy="552600"/>
          </a:xfrm>
        </p:grpSpPr>
        <p:sp>
          <p:nvSpPr>
            <p:cNvPr id="989" name="任意多边形 40"/>
            <p:cNvSpPr/>
            <p:nvPr/>
          </p:nvSpPr>
          <p:spPr>
            <a:xfrm>
              <a:off x="3649680" y="1485360"/>
              <a:ext cx="156600" cy="5504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0" name="任意多边形 41"/>
            <p:cNvSpPr/>
            <p:nvPr/>
          </p:nvSpPr>
          <p:spPr>
            <a:xfrm flipH="1">
              <a:off x="4477680" y="1483200"/>
              <a:ext cx="156600" cy="550440"/>
            </a:xfrm>
            <a:custGeom>
              <a:avLst/>
              <a:gdLst>
                <a:gd name="textAreaLeft" fmla="*/ -360 w 156600"/>
                <a:gd name="textAreaRight" fmla="*/ 156600 w 15660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1" name="任意多边形 43"/>
            <p:cNvSpPr/>
            <p:nvPr/>
          </p:nvSpPr>
          <p:spPr>
            <a:xfrm>
              <a:off x="3853080" y="1587960"/>
              <a:ext cx="115560" cy="340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5933" h="341002">
                  <a:moveTo>
                    <a:pt x="48766" y="2832"/>
                  </a:moveTo>
                  <a:cubicBezTo>
                    <a:pt x="99567" y="-9868"/>
                    <a:pt x="119410" y="22676"/>
                    <a:pt x="115441" y="50457"/>
                  </a:cubicBezTo>
                  <a:cubicBezTo>
                    <a:pt x="51941" y="142531"/>
                    <a:pt x="71785" y="232226"/>
                    <a:pt x="110678" y="283819"/>
                  </a:cubicBezTo>
                  <a:cubicBezTo>
                    <a:pt x="125759" y="330651"/>
                    <a:pt x="88454" y="356050"/>
                    <a:pt x="55910" y="331444"/>
                  </a:cubicBezTo>
                  <a:cubicBezTo>
                    <a:pt x="-6002" y="238575"/>
                    <a:pt x="-27434" y="152850"/>
                    <a:pt x="48766" y="2832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2" name="任意多边形 44"/>
            <p:cNvSpPr/>
            <p:nvPr/>
          </p:nvSpPr>
          <p:spPr>
            <a:xfrm flipH="1">
              <a:off x="4314960" y="1587960"/>
              <a:ext cx="115560" cy="3405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5933" h="341002">
                  <a:moveTo>
                    <a:pt x="48766" y="2832"/>
                  </a:moveTo>
                  <a:cubicBezTo>
                    <a:pt x="99567" y="-9868"/>
                    <a:pt x="119410" y="22676"/>
                    <a:pt x="115441" y="50457"/>
                  </a:cubicBezTo>
                  <a:cubicBezTo>
                    <a:pt x="51941" y="142531"/>
                    <a:pt x="71785" y="232226"/>
                    <a:pt x="110678" y="283819"/>
                  </a:cubicBezTo>
                  <a:cubicBezTo>
                    <a:pt x="125759" y="330651"/>
                    <a:pt x="88454" y="356050"/>
                    <a:pt x="55910" y="331444"/>
                  </a:cubicBezTo>
                  <a:cubicBezTo>
                    <a:pt x="-6002" y="238575"/>
                    <a:pt x="-27434" y="152850"/>
                    <a:pt x="48766" y="2832"/>
                  </a:cubicBezTo>
                  <a:close/>
                </a:path>
              </a:pathLst>
            </a:cu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3" name="椭圆 45"/>
            <p:cNvSpPr/>
            <p:nvPr/>
          </p:nvSpPr>
          <p:spPr>
            <a:xfrm>
              <a:off x="4056840" y="1672560"/>
              <a:ext cx="171000" cy="171000"/>
            </a:xfrm>
            <a:prstGeom prst="ellipse">
              <a:avLst/>
            </a:prstGeom>
            <a:solidFill>
              <a:srgbClr val="464e5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4" name="组合 61"/>
          <p:cNvGrpSpPr/>
          <p:nvPr/>
        </p:nvGrpSpPr>
        <p:grpSpPr>
          <a:xfrm>
            <a:off x="3853080" y="3161160"/>
            <a:ext cx="617040" cy="484560"/>
            <a:chOff x="3853080" y="3161160"/>
            <a:chExt cx="617040" cy="484560"/>
          </a:xfrm>
        </p:grpSpPr>
        <p:sp>
          <p:nvSpPr>
            <p:cNvPr id="995" name="任意多边形 59"/>
            <p:cNvSpPr/>
            <p:nvPr/>
          </p:nvSpPr>
          <p:spPr>
            <a:xfrm>
              <a:off x="3853080" y="3291840"/>
              <a:ext cx="617040" cy="35388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907152" h="523909">
                  <a:moveTo>
                    <a:pt x="0" y="0"/>
                  </a:moveTo>
                  <a:lnTo>
                    <a:pt x="907152" y="0"/>
                  </a:lnTo>
                  <a:lnTo>
                    <a:pt x="907152" y="412551"/>
                  </a:lnTo>
                  <a:cubicBezTo>
                    <a:pt x="907152" y="474052"/>
                    <a:pt x="857295" y="523909"/>
                    <a:pt x="795794" y="523909"/>
                  </a:cubicBezTo>
                  <a:lnTo>
                    <a:pt x="111358" y="523909"/>
                  </a:lnTo>
                  <a:cubicBezTo>
                    <a:pt x="49857" y="523909"/>
                    <a:pt x="0" y="474052"/>
                    <a:pt x="0" y="412551"/>
                  </a:cubicBezTo>
                  <a:close/>
                </a:path>
              </a:pathLst>
            </a:custGeom>
            <a:noFill/>
            <a:ln w="28575">
              <a:solidFill>
                <a:srgbClr val="464e5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464e5a"/>
                  </a:solidFill>
                  <a:latin typeface="Calibri"/>
                </a:rPr>
                <a:t>1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任意多边形 60"/>
            <p:cNvSpPr/>
            <p:nvPr/>
          </p:nvSpPr>
          <p:spPr>
            <a:xfrm>
              <a:off x="3853080" y="3161160"/>
              <a:ext cx="617040" cy="12960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13159" h="192224">
                  <a:moveTo>
                    <a:pt x="64170" y="0"/>
                  </a:moveTo>
                  <a:lnTo>
                    <a:pt x="320840" y="0"/>
                  </a:lnTo>
                  <a:cubicBezTo>
                    <a:pt x="356280" y="0"/>
                    <a:pt x="385010" y="28730"/>
                    <a:pt x="385010" y="64170"/>
                  </a:cubicBezTo>
                  <a:lnTo>
                    <a:pt x="385010" y="107321"/>
                  </a:lnTo>
                  <a:lnTo>
                    <a:pt x="807142" y="107321"/>
                  </a:lnTo>
                  <a:cubicBezTo>
                    <a:pt x="853268" y="107321"/>
                    <a:pt x="892844" y="135366"/>
                    <a:pt x="909749" y="175334"/>
                  </a:cubicBezTo>
                  <a:lnTo>
                    <a:pt x="913159" y="192224"/>
                  </a:lnTo>
                  <a:lnTo>
                    <a:pt x="385010" y="192224"/>
                  </a:lnTo>
                  <a:lnTo>
                    <a:pt x="0" y="192224"/>
                  </a:lnTo>
                  <a:lnTo>
                    <a:pt x="0" y="64170"/>
                  </a:lnTo>
                  <a:cubicBezTo>
                    <a:pt x="0" y="28730"/>
                    <a:pt x="28730" y="0"/>
                    <a:pt x="64170" y="0"/>
                  </a:cubicBezTo>
                  <a:close/>
                </a:path>
              </a:pathLst>
            </a:custGeom>
            <a:noFill/>
            <a:ln w="28575">
              <a:solidFill>
                <a:srgbClr val="464e5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97" name="组合 68"/>
          <p:cNvGrpSpPr/>
          <p:nvPr/>
        </p:nvGrpSpPr>
        <p:grpSpPr>
          <a:xfrm>
            <a:off x="10639800" y="2034000"/>
            <a:ext cx="664200" cy="510120"/>
            <a:chOff x="10639800" y="2034000"/>
            <a:chExt cx="664200" cy="510120"/>
          </a:xfrm>
        </p:grpSpPr>
        <p:grpSp>
          <p:nvGrpSpPr>
            <p:cNvPr id="998" name="组合 9"/>
            <p:cNvGrpSpPr/>
            <p:nvPr/>
          </p:nvGrpSpPr>
          <p:grpSpPr>
            <a:xfrm>
              <a:off x="10639800" y="2034000"/>
              <a:ext cx="664200" cy="510120"/>
              <a:chOff x="10639800" y="2034000"/>
              <a:chExt cx="664200" cy="510120"/>
            </a:xfrm>
          </p:grpSpPr>
          <p:sp>
            <p:nvSpPr>
              <p:cNvPr id="999" name="任意多边形 4"/>
              <p:cNvSpPr/>
              <p:nvPr/>
            </p:nvSpPr>
            <p:spPr>
              <a:xfrm flipH="1">
                <a:off x="10639440" y="2034000"/>
                <a:ext cx="664200" cy="510120"/>
              </a:xfrm>
              <a:custGeom>
                <a:avLst/>
                <a:gdLst>
                  <a:gd name="textAreaLeft" fmla="*/ -360 w 664200"/>
                  <a:gd name="textAreaRight" fmla="*/ 664200 w 6642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0" name="任意多边形 7"/>
              <p:cNvSpPr/>
              <p:nvPr/>
            </p:nvSpPr>
            <p:spPr>
              <a:xfrm flipH="1">
                <a:off x="10640160" y="2034000"/>
                <a:ext cx="331920" cy="33840"/>
              </a:xfrm>
              <a:custGeom>
                <a:avLst/>
                <a:gdLst>
                  <a:gd name="textAreaLeft" fmla="*/ 360 w 331920"/>
                  <a:gd name="textAreaRight" fmla="*/ 332640 w 331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1" name="矩形 8"/>
              <p:cNvSpPr/>
              <p:nvPr/>
            </p:nvSpPr>
            <p:spPr>
              <a:xfrm flipH="1">
                <a:off x="10639440" y="2034000"/>
                <a:ext cx="42120" cy="70200"/>
              </a:xfrm>
              <a:prstGeom prst="rect">
                <a:avLst/>
              </a:prstGeom>
              <a:solidFill>
                <a:srgbClr val="ebc50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02" name="组合 62"/>
            <p:cNvGrpSpPr/>
            <p:nvPr/>
          </p:nvGrpSpPr>
          <p:grpSpPr>
            <a:xfrm>
              <a:off x="10768680" y="2243160"/>
              <a:ext cx="406080" cy="227880"/>
              <a:chOff x="10768680" y="2243160"/>
              <a:chExt cx="406080" cy="227880"/>
            </a:xfrm>
          </p:grpSpPr>
          <p:sp>
            <p:nvSpPr>
              <p:cNvPr id="1003" name="任意多边形 63"/>
              <p:cNvSpPr/>
              <p:nvPr/>
            </p:nvSpPr>
            <p:spPr>
              <a:xfrm>
                <a:off x="10768680" y="2243880"/>
                <a:ext cx="64440" cy="2271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6954" h="550882">
                    <a:moveTo>
                      <a:pt x="95025" y="1726"/>
                    </a:moveTo>
                    <a:cubicBezTo>
                      <a:pt x="122806" y="-4624"/>
                      <a:pt x="155350" y="5694"/>
                      <a:pt x="156938" y="46969"/>
                    </a:cubicBezTo>
                    <a:cubicBezTo>
                      <a:pt x="49781" y="184287"/>
                      <a:pt x="80738" y="385900"/>
                      <a:pt x="156938" y="501788"/>
                    </a:cubicBezTo>
                    <a:cubicBezTo>
                      <a:pt x="157731" y="531950"/>
                      <a:pt x="129950" y="557351"/>
                      <a:pt x="95025" y="549413"/>
                    </a:cubicBezTo>
                    <a:cubicBezTo>
                      <a:pt x="-15306" y="382726"/>
                      <a:pt x="-47055" y="185082"/>
                      <a:pt x="95025" y="172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4" name="任意多边形 64"/>
              <p:cNvSpPr/>
              <p:nvPr/>
            </p:nvSpPr>
            <p:spPr>
              <a:xfrm flipH="1">
                <a:off x="11109960" y="2243160"/>
                <a:ext cx="64440" cy="22716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56954" h="550882">
                    <a:moveTo>
                      <a:pt x="95025" y="1726"/>
                    </a:moveTo>
                    <a:cubicBezTo>
                      <a:pt x="122806" y="-4624"/>
                      <a:pt x="155350" y="5694"/>
                      <a:pt x="156938" y="46969"/>
                    </a:cubicBezTo>
                    <a:cubicBezTo>
                      <a:pt x="49781" y="184287"/>
                      <a:pt x="80738" y="385900"/>
                      <a:pt x="156938" y="501788"/>
                    </a:cubicBezTo>
                    <a:cubicBezTo>
                      <a:pt x="157731" y="531950"/>
                      <a:pt x="129950" y="557351"/>
                      <a:pt x="95025" y="549413"/>
                    </a:cubicBezTo>
                    <a:cubicBezTo>
                      <a:pt x="-15306" y="382726"/>
                      <a:pt x="-47055" y="185082"/>
                      <a:pt x="95025" y="1726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5" name="任意多边形 65"/>
              <p:cNvSpPr/>
              <p:nvPr/>
            </p:nvSpPr>
            <p:spPr>
              <a:xfrm>
                <a:off x="10852920" y="2286360"/>
                <a:ext cx="47520" cy="1404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15933" h="341002">
                    <a:moveTo>
                      <a:pt x="48766" y="2832"/>
                    </a:moveTo>
                    <a:cubicBezTo>
                      <a:pt x="99567" y="-9868"/>
                      <a:pt x="119410" y="22676"/>
                      <a:pt x="115441" y="50457"/>
                    </a:cubicBezTo>
                    <a:cubicBezTo>
                      <a:pt x="51941" y="142531"/>
                      <a:pt x="71785" y="232226"/>
                      <a:pt x="110678" y="283819"/>
                    </a:cubicBezTo>
                    <a:cubicBezTo>
                      <a:pt x="125759" y="330651"/>
                      <a:pt x="88454" y="356050"/>
                      <a:pt x="55910" y="331444"/>
                    </a:cubicBezTo>
                    <a:cubicBezTo>
                      <a:pt x="-6002" y="238575"/>
                      <a:pt x="-27434" y="152850"/>
                      <a:pt x="48766" y="283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6" name="任意多边形 66"/>
              <p:cNvSpPr/>
              <p:nvPr/>
            </p:nvSpPr>
            <p:spPr>
              <a:xfrm flipH="1">
                <a:off x="11043720" y="2286360"/>
                <a:ext cx="47520" cy="140400"/>
              </a:xfrm>
              <a:custGeom>
                <a:avLst/>
                <a:gdLst>
                  <a:gd name="textAreaLeft" fmla="*/ 360 w 47520"/>
                  <a:gd name="textAreaRight" fmla="*/ 48240 w 475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15933" h="341002">
                    <a:moveTo>
                      <a:pt x="48766" y="2832"/>
                    </a:moveTo>
                    <a:cubicBezTo>
                      <a:pt x="99567" y="-9868"/>
                      <a:pt x="119410" y="22676"/>
                      <a:pt x="115441" y="50457"/>
                    </a:cubicBezTo>
                    <a:cubicBezTo>
                      <a:pt x="51941" y="142531"/>
                      <a:pt x="71785" y="232226"/>
                      <a:pt x="110678" y="283819"/>
                    </a:cubicBezTo>
                    <a:cubicBezTo>
                      <a:pt x="125759" y="330651"/>
                      <a:pt x="88454" y="356050"/>
                      <a:pt x="55910" y="331444"/>
                    </a:cubicBezTo>
                    <a:cubicBezTo>
                      <a:pt x="-6002" y="238575"/>
                      <a:pt x="-27434" y="152850"/>
                      <a:pt x="48766" y="283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7" name="椭圆 67"/>
              <p:cNvSpPr/>
              <p:nvPr/>
            </p:nvSpPr>
            <p:spPr>
              <a:xfrm>
                <a:off x="10936800" y="2321280"/>
                <a:ext cx="70560" cy="7056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008" name="文本框 69"/>
          <p:cNvSpPr/>
          <p:nvPr/>
        </p:nvSpPr>
        <p:spPr>
          <a:xfrm>
            <a:off x="8657640" y="1992600"/>
            <a:ext cx="198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面快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70"/>
          <p:cNvSpPr/>
          <p:nvPr/>
        </p:nvSpPr>
        <p:spPr>
          <a:xfrm>
            <a:off x="6498000" y="2847600"/>
            <a:ext cx="491796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超大文件近距离“</a:t>
            </a:r>
            <a:r>
              <a:rPr b="0" lang="en-US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流量”秒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快速传送无压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与好友加入同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件近传不需消耗任何流量，太酷了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肘形连接符 72"/>
          <p:cNvCxnSpPr/>
          <p:nvPr/>
        </p:nvCxnSpPr>
        <p:spPr>
          <a:xfrm>
            <a:off x="2954520" y="2847600"/>
            <a:ext cx="809640" cy="606960"/>
          </a:xfrm>
          <a:prstGeom prst="bentConnector2">
            <a:avLst/>
          </a:prstGeom>
          <a:ln w="19050">
            <a:solidFill>
              <a:srgbClr val="464e5a"/>
            </a:solidFill>
            <a:prstDash val="dash"/>
          </a:ln>
        </p:spPr>
      </p:cxnSp>
      <p:cxnSp>
        <p:nvCxnSpPr>
          <p:cNvPr id="1011" name="肘形连接符 74"/>
          <p:cNvCxnSpPr/>
          <p:nvPr/>
        </p:nvCxnSpPr>
        <p:spPr>
          <a:xfrm flipV="1" rot="10800000">
            <a:off x="4524480" y="2847240"/>
            <a:ext cx="810000" cy="606960"/>
          </a:xfrm>
          <a:prstGeom prst="bentConnector2">
            <a:avLst/>
          </a:prstGeom>
          <a:ln w="19050">
            <a:solidFill>
              <a:srgbClr val="464e5a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e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梯形 72"/>
          <p:cNvSpPr/>
          <p:nvPr/>
        </p:nvSpPr>
        <p:spPr>
          <a:xfrm>
            <a:off x="0" y="3907080"/>
            <a:ext cx="12191760" cy="2950560"/>
          </a:xfrm>
          <a:prstGeom prst="trapezoid">
            <a:avLst>
              <a:gd name="adj" fmla="val 38851"/>
            </a:avLst>
          </a:prstGeom>
          <a:solidFill>
            <a:srgbClr val="8cd1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13" name="图片 132" descr=""/>
          <p:cNvPicPr/>
          <p:nvPr/>
        </p:nvPicPr>
        <p:blipFill>
          <a:blip r:embed="rId1"/>
          <a:stretch/>
        </p:blipFill>
        <p:spPr>
          <a:xfrm>
            <a:off x="1055520" y="6985440"/>
            <a:ext cx="10667520" cy="4952520"/>
          </a:xfrm>
          <a:prstGeom prst="rect">
            <a:avLst/>
          </a:prstGeom>
          <a:ln w="0">
            <a:noFill/>
          </a:ln>
        </p:spPr>
      </p:pic>
      <p:grpSp>
        <p:nvGrpSpPr>
          <p:cNvPr id="1014" name="组合 5"/>
          <p:cNvGrpSpPr/>
          <p:nvPr/>
        </p:nvGrpSpPr>
        <p:grpSpPr>
          <a:xfrm>
            <a:off x="4910040" y="2373120"/>
            <a:ext cx="1974600" cy="2240280"/>
            <a:chOff x="4910040" y="2373120"/>
            <a:chExt cx="1974600" cy="2240280"/>
          </a:xfrm>
        </p:grpSpPr>
        <p:grpSp>
          <p:nvGrpSpPr>
            <p:cNvPr id="1015" name="组合 134"/>
            <p:cNvGrpSpPr/>
            <p:nvPr/>
          </p:nvGrpSpPr>
          <p:grpSpPr>
            <a:xfrm>
              <a:off x="4910040" y="2373120"/>
              <a:ext cx="1974600" cy="2240280"/>
              <a:chOff x="4910040" y="2373120"/>
              <a:chExt cx="1974600" cy="2240280"/>
            </a:xfrm>
          </p:grpSpPr>
          <p:sp>
            <p:nvSpPr>
              <p:cNvPr id="1016" name="椭圆 181"/>
              <p:cNvSpPr/>
              <p:nvPr/>
            </p:nvSpPr>
            <p:spPr>
              <a:xfrm>
                <a:off x="4910040" y="4566240"/>
                <a:ext cx="1974600" cy="46800"/>
              </a:xfrm>
              <a:prstGeom prst="ellipse">
                <a:avLst/>
              </a:prstGeom>
              <a:gradFill rotWithShape="0">
                <a:gsLst>
                  <a:gs pos="0">
                    <a:srgbClr val="f7fafd">
                      <a:alpha val="50196"/>
                    </a:srgbClr>
                  </a:gs>
                  <a:gs pos="100000">
                    <a:srgbClr val="404040">
                      <a:alpha val="43137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17" name="组合 182"/>
              <p:cNvGrpSpPr/>
              <p:nvPr/>
            </p:nvGrpSpPr>
            <p:grpSpPr>
              <a:xfrm>
                <a:off x="5339880" y="2373120"/>
                <a:ext cx="1177560" cy="2240280"/>
                <a:chOff x="5339880" y="2373120"/>
                <a:chExt cx="1177560" cy="2240280"/>
              </a:xfrm>
            </p:grpSpPr>
            <p:grpSp>
              <p:nvGrpSpPr>
                <p:cNvPr id="1018" name="组合 185"/>
                <p:cNvGrpSpPr/>
                <p:nvPr/>
              </p:nvGrpSpPr>
              <p:grpSpPr>
                <a:xfrm>
                  <a:off x="5339880" y="2373120"/>
                  <a:ext cx="1177560" cy="2240280"/>
                  <a:chOff x="5339880" y="2373120"/>
                  <a:chExt cx="1177560" cy="2240280"/>
                </a:xfrm>
              </p:grpSpPr>
              <p:sp>
                <p:nvSpPr>
                  <p:cNvPr id="1019" name="圆角矩形 192"/>
                  <p:cNvSpPr/>
                  <p:nvPr/>
                </p:nvSpPr>
                <p:spPr>
                  <a:xfrm>
                    <a:off x="5339880" y="2373120"/>
                    <a:ext cx="1177560" cy="2240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454c5c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0" name="矩形 193"/>
                  <p:cNvSpPr/>
                  <p:nvPr/>
                </p:nvSpPr>
                <p:spPr>
                  <a:xfrm>
                    <a:off x="5393520" y="2709000"/>
                    <a:ext cx="1070640" cy="1599480"/>
                  </a:xfrm>
                  <a:prstGeom prst="rect">
                    <a:avLst/>
                  </a:prstGeom>
                  <a:solidFill>
                    <a:srgbClr val="f8f9f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21" name="组合 188"/>
                <p:cNvGrpSpPr/>
                <p:nvPr/>
              </p:nvGrpSpPr>
              <p:grpSpPr>
                <a:xfrm>
                  <a:off x="5775480" y="2476080"/>
                  <a:ext cx="300600" cy="127080"/>
                  <a:chOff x="5775480" y="2476080"/>
                  <a:chExt cx="300600" cy="127080"/>
                </a:xfrm>
              </p:grpSpPr>
              <p:sp>
                <p:nvSpPr>
                  <p:cNvPr id="1022" name="椭圆 190"/>
                  <p:cNvSpPr/>
                  <p:nvPr/>
                </p:nvSpPr>
                <p:spPr>
                  <a:xfrm>
                    <a:off x="5893920" y="2476080"/>
                    <a:ext cx="63000" cy="63000"/>
                  </a:xfrm>
                  <a:prstGeom prst="ellipse">
                    <a:avLst/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3" name="圆角矩形 191"/>
                  <p:cNvSpPr/>
                  <p:nvPr/>
                </p:nvSpPr>
                <p:spPr>
                  <a:xfrm>
                    <a:off x="5775480" y="2563560"/>
                    <a:ext cx="300600" cy="39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tx1">
                      <a:lumMod val="85000"/>
                      <a:lumOff val="15000"/>
                    </a:schemeClr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9000" bIns="-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24" name="椭圆 189"/>
                <p:cNvSpPr/>
                <p:nvPr/>
              </p:nvSpPr>
              <p:spPr>
                <a:xfrm>
                  <a:off x="5823360" y="4372560"/>
                  <a:ext cx="204840" cy="204840"/>
                </a:xfrm>
                <a:prstGeom prst="ellipse">
                  <a:avLst/>
                </a:prstGeom>
                <a:noFill/>
                <a:ln w="9525">
                  <a:solidFill>
                    <a:srgbClr val="000000">
                      <a:lumMod val="85000"/>
                      <a:lumOff val="1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25" name="矩形 136"/>
            <p:cNvSpPr/>
            <p:nvPr/>
          </p:nvSpPr>
          <p:spPr>
            <a:xfrm>
              <a:off x="5393520" y="2709000"/>
              <a:ext cx="1070640" cy="230040"/>
            </a:xfrm>
            <a:prstGeom prst="rect">
              <a:avLst/>
            </a:prstGeom>
            <a:solidFill>
              <a:srgbClr val="00a5e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chemeClr val="lt1"/>
                  </a:solidFill>
                  <a:latin typeface="Calibri"/>
                </a:rPr>
                <a:t>&lt;</a:t>
              </a:r>
              <a:r>
                <a:rPr b="0" lang="zh-CN" sz="700" spc="-1" strike="noStrike">
                  <a:solidFill>
                    <a:schemeClr val="lt1"/>
                  </a:solidFill>
                  <a:latin typeface="Calibri"/>
                </a:rPr>
                <a:t>返回        我的文件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组合 258"/>
            <p:cNvGrpSpPr/>
            <p:nvPr/>
          </p:nvGrpSpPr>
          <p:grpSpPr>
            <a:xfrm>
              <a:off x="5493600" y="3334680"/>
              <a:ext cx="108360" cy="83160"/>
              <a:chOff x="5493600" y="3334680"/>
              <a:chExt cx="108360" cy="83160"/>
            </a:xfrm>
          </p:grpSpPr>
          <p:sp>
            <p:nvSpPr>
              <p:cNvPr id="1027" name="任意多边形 259"/>
              <p:cNvSpPr/>
              <p:nvPr/>
            </p:nvSpPr>
            <p:spPr>
              <a:xfrm>
                <a:off x="5493600" y="3334680"/>
                <a:ext cx="108360" cy="8316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86408" h="681134">
                    <a:moveTo>
                      <a:pt x="48211" y="0"/>
                    </a:moveTo>
                    <a:lnTo>
                      <a:pt x="365061" y="0"/>
                    </a:lnTo>
                    <a:lnTo>
                      <a:pt x="459533" y="116632"/>
                    </a:lnTo>
                    <a:lnTo>
                      <a:pt x="886408" y="116632"/>
                    </a:lnTo>
                    <a:lnTo>
                      <a:pt x="886408" y="632923"/>
                    </a:lnTo>
                    <a:cubicBezTo>
                      <a:pt x="886408" y="659549"/>
                      <a:pt x="864823" y="681134"/>
                      <a:pt x="838197" y="681134"/>
                    </a:cubicBezTo>
                    <a:lnTo>
                      <a:pt x="48211" y="681134"/>
                    </a:lnTo>
                    <a:cubicBezTo>
                      <a:pt x="21585" y="681134"/>
                      <a:pt x="0" y="659549"/>
                      <a:pt x="0" y="632923"/>
                    </a:cubicBezTo>
                    <a:lnTo>
                      <a:pt x="0" y="48211"/>
                    </a:lnTo>
                    <a:cubicBezTo>
                      <a:pt x="0" y="21585"/>
                      <a:pt x="21585" y="0"/>
                      <a:pt x="48211" y="0"/>
                    </a:cubicBez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8" name="任意多边形 260"/>
              <p:cNvSpPr/>
              <p:nvPr/>
            </p:nvSpPr>
            <p:spPr>
              <a:xfrm>
                <a:off x="5547960" y="3334680"/>
                <a:ext cx="54000" cy="54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43086" h="45719">
                    <a:moveTo>
                      <a:pt x="0" y="0"/>
                    </a:moveTo>
                    <a:lnTo>
                      <a:pt x="443086" y="0"/>
                    </a:lnTo>
                    <a:lnTo>
                      <a:pt x="443086" y="45719"/>
                    </a:lnTo>
                    <a:lnTo>
                      <a:pt x="32733" y="45719"/>
                    </a:ln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9" name="矩形 261"/>
              <p:cNvSpPr/>
              <p:nvPr/>
            </p:nvSpPr>
            <p:spPr>
              <a:xfrm>
                <a:off x="5595120" y="3334680"/>
                <a:ext cx="6480" cy="11160"/>
              </a:xfrm>
              <a:prstGeom prst="rect">
                <a:avLst/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3480" bIns="-33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30" name="组合 288"/>
            <p:cNvGrpSpPr/>
            <p:nvPr/>
          </p:nvGrpSpPr>
          <p:grpSpPr>
            <a:xfrm>
              <a:off x="5468760" y="3026160"/>
              <a:ext cx="129960" cy="71640"/>
              <a:chOff x="5468760" y="3026160"/>
              <a:chExt cx="129960" cy="71640"/>
            </a:xfrm>
          </p:grpSpPr>
          <p:sp>
            <p:nvSpPr>
              <p:cNvPr id="1031" name="任意多边形 289"/>
              <p:cNvSpPr/>
              <p:nvPr/>
            </p:nvSpPr>
            <p:spPr>
              <a:xfrm>
                <a:off x="5468760" y="3046680"/>
                <a:ext cx="129960" cy="511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733425" h="321152">
                    <a:moveTo>
                      <a:pt x="0" y="321152"/>
                    </a:moveTo>
                    <a:cubicBezTo>
                      <a:pt x="15875" y="288344"/>
                      <a:pt x="31221" y="268765"/>
                      <a:pt x="47625" y="257652"/>
                    </a:cubicBezTo>
                    <a:cubicBezTo>
                      <a:pt x="118004" y="294165"/>
                      <a:pt x="147108" y="188860"/>
                      <a:pt x="174625" y="159227"/>
                    </a:cubicBezTo>
                    <a:cubicBezTo>
                      <a:pt x="219075" y="72444"/>
                      <a:pt x="282575" y="119010"/>
                      <a:pt x="288925" y="156052"/>
                    </a:cubicBezTo>
                    <a:cubicBezTo>
                      <a:pt x="390525" y="305277"/>
                      <a:pt x="400050" y="117952"/>
                      <a:pt x="441325" y="89377"/>
                    </a:cubicBezTo>
                    <a:cubicBezTo>
                      <a:pt x="490008" y="-10106"/>
                      <a:pt x="605367" y="-42915"/>
                      <a:pt x="650875" y="76677"/>
                    </a:cubicBezTo>
                    <a:cubicBezTo>
                      <a:pt x="674158" y="113719"/>
                      <a:pt x="722842" y="239660"/>
                      <a:pt x="733425" y="321152"/>
                    </a:cubicBezTo>
                    <a:lnTo>
                      <a:pt x="0" y="321152"/>
                    </a:lnTo>
                    <a:close/>
                  </a:path>
                </a:pathLst>
              </a:cu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32" name="组合 290"/>
              <p:cNvGrpSpPr/>
              <p:nvPr/>
            </p:nvGrpSpPr>
            <p:grpSpPr>
              <a:xfrm>
                <a:off x="5556960" y="3026160"/>
                <a:ext cx="23760" cy="24120"/>
                <a:chOff x="5556960" y="3026160"/>
                <a:chExt cx="23760" cy="24120"/>
              </a:xfrm>
            </p:grpSpPr>
            <p:sp>
              <p:nvSpPr>
                <p:cNvPr id="1033" name="等腰三角形 291"/>
                <p:cNvSpPr/>
                <p:nvPr/>
              </p:nvSpPr>
              <p:spPr>
                <a:xfrm>
                  <a:off x="5562360" y="3026160"/>
                  <a:ext cx="13320" cy="5040"/>
                </a:xfrm>
                <a:prstGeom prst="triangle">
                  <a:avLst>
                    <a:gd name="adj" fmla="val 50000"/>
                  </a:avLst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40" bIns="14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4" name="等腰三角形 292"/>
                <p:cNvSpPr/>
                <p:nvPr/>
              </p:nvSpPr>
              <p:spPr>
                <a:xfrm>
                  <a:off x="5556960" y="3030840"/>
                  <a:ext cx="23760" cy="9360"/>
                </a:xfrm>
                <a:prstGeom prst="triangle">
                  <a:avLst>
                    <a:gd name="adj" fmla="val 50000"/>
                  </a:avLst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520" bIns="2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5" name="矩形 293"/>
                <p:cNvSpPr/>
                <p:nvPr/>
              </p:nvSpPr>
              <p:spPr>
                <a:xfrm>
                  <a:off x="5567400" y="3036960"/>
                  <a:ext cx="2880" cy="13320"/>
                </a:xfrm>
                <a:prstGeom prst="rect">
                  <a:avLst/>
                </a:prstGeom>
                <a:noFill/>
                <a:ln>
                  <a:solidFill>
                    <a:srgbClr val="00a5e0">
                      <a:alpha val="58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6840" bIns="6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36" name="组合 296"/>
            <p:cNvGrpSpPr/>
            <p:nvPr/>
          </p:nvGrpSpPr>
          <p:grpSpPr>
            <a:xfrm>
              <a:off x="5498640" y="3174480"/>
              <a:ext cx="100080" cy="83520"/>
              <a:chOff x="5498640" y="3174480"/>
              <a:chExt cx="100080" cy="83520"/>
            </a:xfrm>
          </p:grpSpPr>
          <p:sp>
            <p:nvSpPr>
              <p:cNvPr id="1037" name="圆角矩形 297"/>
              <p:cNvSpPr/>
              <p:nvPr/>
            </p:nvSpPr>
            <p:spPr>
              <a:xfrm>
                <a:off x="5498640" y="3182400"/>
                <a:ext cx="100080" cy="7560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8" name="椭圆 298"/>
              <p:cNvSpPr/>
              <p:nvPr/>
            </p:nvSpPr>
            <p:spPr>
              <a:xfrm>
                <a:off x="5536440" y="3206520"/>
                <a:ext cx="26640" cy="26640"/>
              </a:xfrm>
              <a:prstGeom prst="ellipse">
                <a:avLst/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9" name="圆角矩形 299"/>
              <p:cNvSpPr/>
              <p:nvPr/>
            </p:nvSpPr>
            <p:spPr>
              <a:xfrm>
                <a:off x="5531040" y="3174480"/>
                <a:ext cx="40320" cy="756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a5e0">
                    <a:alpha val="58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40" name="圆角矩形 2"/>
            <p:cNvSpPr/>
            <p:nvPr/>
          </p:nvSpPr>
          <p:spPr>
            <a:xfrm>
              <a:off x="5677560" y="3017160"/>
              <a:ext cx="561600" cy="1008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1" name="圆角矩形 300"/>
            <p:cNvSpPr/>
            <p:nvPr/>
          </p:nvSpPr>
          <p:spPr>
            <a:xfrm>
              <a:off x="5677560" y="3187440"/>
              <a:ext cx="350280" cy="8892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2" name="圆角矩形 301"/>
            <p:cNvSpPr/>
            <p:nvPr/>
          </p:nvSpPr>
          <p:spPr>
            <a:xfrm>
              <a:off x="5677560" y="3346200"/>
              <a:ext cx="466920" cy="1044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3" name="圆角矩形 302"/>
            <p:cNvSpPr/>
            <p:nvPr/>
          </p:nvSpPr>
          <p:spPr>
            <a:xfrm>
              <a:off x="5472720" y="3546720"/>
              <a:ext cx="204840" cy="1062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4" name="文本框 3"/>
            <p:cNvSpPr/>
            <p:nvPr/>
          </p:nvSpPr>
          <p:spPr>
            <a:xfrm>
              <a:off x="5361120" y="3656880"/>
              <a:ext cx="828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最近文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圆角矩形 303"/>
            <p:cNvSpPr/>
            <p:nvPr/>
          </p:nvSpPr>
          <p:spPr>
            <a:xfrm>
              <a:off x="5472720" y="3879720"/>
              <a:ext cx="421200" cy="9324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6" name="圆角矩形 304"/>
            <p:cNvSpPr/>
            <p:nvPr/>
          </p:nvSpPr>
          <p:spPr>
            <a:xfrm>
              <a:off x="5472720" y="4033800"/>
              <a:ext cx="302400" cy="88200"/>
            </a:xfrm>
            <a:prstGeom prst="roundRect">
              <a:avLst>
                <a:gd name="adj" fmla="val 16667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47" name="组合 15"/>
          <p:cNvGrpSpPr/>
          <p:nvPr/>
        </p:nvGrpSpPr>
        <p:grpSpPr>
          <a:xfrm>
            <a:off x="4150800" y="3174480"/>
            <a:ext cx="1285200" cy="1029960"/>
            <a:chOff x="4150800" y="3174480"/>
            <a:chExt cx="1285200" cy="1029960"/>
          </a:xfrm>
        </p:grpSpPr>
        <p:sp>
          <p:nvSpPr>
            <p:cNvPr id="1048" name="等腰三角形 14"/>
            <p:cNvSpPr/>
            <p:nvPr/>
          </p:nvSpPr>
          <p:spPr>
            <a:xfrm rot="5400000">
              <a:off x="5158440" y="3558240"/>
              <a:ext cx="203760" cy="351000"/>
            </a:xfrm>
            <a:prstGeom prst="triangle">
              <a:avLst>
                <a:gd name="adj" fmla="val 50000"/>
              </a:avLst>
            </a:prstGeom>
            <a:solidFill>
              <a:srgbClr val="d0d0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9" name="图片 308"/>
            <p:cNvSpPr/>
            <p:nvPr/>
          </p:nvSpPr>
          <p:spPr>
            <a:xfrm>
              <a:off x="4150800" y="3174480"/>
              <a:ext cx="1029960" cy="102996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1296654" h="1296654">
                  <a:moveTo>
                    <a:pt x="648327" y="0"/>
                  </a:moveTo>
                  <a:cubicBezTo>
                    <a:pt x="1006388" y="0"/>
                    <a:pt x="1296654" y="290266"/>
                    <a:pt x="1296654" y="648327"/>
                  </a:cubicBezTo>
                  <a:cubicBezTo>
                    <a:pt x="1296654" y="1006388"/>
                    <a:pt x="1006388" y="1296654"/>
                    <a:pt x="648327" y="1296654"/>
                  </a:cubicBezTo>
                  <a:cubicBezTo>
                    <a:pt x="290266" y="1296654"/>
                    <a:pt x="0" y="1006388"/>
                    <a:pt x="0" y="648327"/>
                  </a:cubicBezTo>
                  <a:cubicBezTo>
                    <a:pt x="0" y="290266"/>
                    <a:pt x="290266" y="0"/>
                    <a:pt x="648327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52"/>
          <p:cNvGrpSpPr/>
          <p:nvPr/>
        </p:nvGrpSpPr>
        <p:grpSpPr>
          <a:xfrm>
            <a:off x="7557840" y="1778400"/>
            <a:ext cx="3969360" cy="2834640"/>
            <a:chOff x="7557840" y="1778400"/>
            <a:chExt cx="3969360" cy="2834640"/>
          </a:xfrm>
        </p:grpSpPr>
        <p:grpSp>
          <p:nvGrpSpPr>
            <p:cNvPr id="1051" name="组合 309"/>
            <p:cNvGrpSpPr/>
            <p:nvPr/>
          </p:nvGrpSpPr>
          <p:grpSpPr>
            <a:xfrm>
              <a:off x="7557840" y="1778400"/>
              <a:ext cx="3969360" cy="2834640"/>
              <a:chOff x="7557840" y="1778400"/>
              <a:chExt cx="3969360" cy="2834640"/>
            </a:xfrm>
          </p:grpSpPr>
          <p:grpSp>
            <p:nvGrpSpPr>
              <p:cNvPr id="1052" name="组合 310"/>
              <p:cNvGrpSpPr/>
              <p:nvPr/>
            </p:nvGrpSpPr>
            <p:grpSpPr>
              <a:xfrm>
                <a:off x="7557840" y="1778400"/>
                <a:ext cx="3969360" cy="2834640"/>
                <a:chOff x="7557840" y="1778400"/>
                <a:chExt cx="3969360" cy="2834640"/>
              </a:xfrm>
            </p:grpSpPr>
            <p:sp>
              <p:nvSpPr>
                <p:cNvPr id="1053" name="椭圆 315"/>
                <p:cNvSpPr/>
                <p:nvPr/>
              </p:nvSpPr>
              <p:spPr>
                <a:xfrm>
                  <a:off x="7997040" y="4558680"/>
                  <a:ext cx="3091320" cy="4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7fafd">
                        <a:alpha val="50196"/>
                      </a:srgbClr>
                    </a:gs>
                    <a:gs pos="100000">
                      <a:srgbClr val="404040">
                        <a:alpha val="43137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4" name="梯形 316"/>
                <p:cNvSpPr/>
                <p:nvPr/>
              </p:nvSpPr>
              <p:spPr>
                <a:xfrm>
                  <a:off x="9144000" y="4013640"/>
                  <a:ext cx="799920" cy="507600"/>
                </a:xfrm>
                <a:prstGeom prst="trapezoid">
                  <a:avLst>
                    <a:gd name="adj" fmla="val 37500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5" name="矩形 317"/>
                <p:cNvSpPr/>
                <p:nvPr/>
              </p:nvSpPr>
              <p:spPr>
                <a:xfrm>
                  <a:off x="9260640" y="4166280"/>
                  <a:ext cx="5641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7fafd">
                        <a:alpha val="71372"/>
                      </a:srgbClr>
                    </a:gs>
                    <a:gs pos="100000">
                      <a:srgbClr val="a6a6a6">
                        <a:alpha val="89019"/>
                      </a:srgbClr>
                    </a:gs>
                  </a:gsLst>
                  <a:path path="circle">
                    <a:fillToRect l="50000" t="50000" r="50000" b="50000"/>
                  </a:path>
                </a:gradFill>
                <a:ln>
                  <a:noFill/>
                </a:ln>
                <a:effectLst>
                  <a:outerShdw algn="t" blurRad="241200" dir="5400000" dist="38160" rotWithShape="0">
                    <a:srgbClr val="000000"/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056" name="组合 318"/>
                <p:cNvGrpSpPr/>
                <p:nvPr/>
              </p:nvGrpSpPr>
              <p:grpSpPr>
                <a:xfrm>
                  <a:off x="7557840" y="1778400"/>
                  <a:ext cx="3969360" cy="2425320"/>
                  <a:chOff x="7557840" y="1778400"/>
                  <a:chExt cx="3969360" cy="2425320"/>
                </a:xfrm>
              </p:grpSpPr>
              <p:sp>
                <p:nvSpPr>
                  <p:cNvPr id="1057" name="圆角矩形 320"/>
                  <p:cNvSpPr/>
                  <p:nvPr/>
                </p:nvSpPr>
                <p:spPr>
                  <a:xfrm>
                    <a:off x="7557840" y="1778400"/>
                    <a:ext cx="3969360" cy="2425320"/>
                  </a:xfrm>
                  <a:prstGeom prst="roundRect">
                    <a:avLst>
                      <a:gd name="adj" fmla="val 1993"/>
                    </a:avLst>
                  </a:prstGeom>
                  <a:solidFill>
                    <a:srgbClr val="454e5a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8" name="矩形 321"/>
                  <p:cNvSpPr/>
                  <p:nvPr/>
                </p:nvSpPr>
                <p:spPr>
                  <a:xfrm>
                    <a:off x="7664400" y="1860840"/>
                    <a:ext cx="3765600" cy="2069640"/>
                  </a:xfrm>
                  <a:prstGeom prst="rect">
                    <a:avLst/>
                  </a:prstGeom>
                  <a:solidFill>
                    <a:srgbClr val="ace1f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59" name="圆角矩形 319"/>
                <p:cNvSpPr/>
                <p:nvPr/>
              </p:nvSpPr>
              <p:spPr>
                <a:xfrm>
                  <a:off x="8778960" y="4519080"/>
                  <a:ext cx="1530000" cy="9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54e5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60" name="椭圆 311"/>
              <p:cNvSpPr/>
              <p:nvPr/>
            </p:nvSpPr>
            <p:spPr>
              <a:xfrm>
                <a:off x="9451440" y="4007160"/>
                <a:ext cx="129960" cy="129960"/>
              </a:xfrm>
              <a:prstGeom prst="ellipse">
                <a:avLst/>
              </a:prstGeom>
              <a:noFill/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1" name="椭圆 312"/>
              <p:cNvSpPr/>
              <p:nvPr/>
            </p:nvSpPr>
            <p:spPr>
              <a:xfrm>
                <a:off x="11295720" y="4036680"/>
                <a:ext cx="70200" cy="70200"/>
              </a:xfrm>
              <a:prstGeom prst="ellipse">
                <a:avLst/>
              </a:prstGeom>
              <a:solidFill>
                <a:srgbClr val="76c1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2" name="椭圆 313"/>
              <p:cNvSpPr/>
              <p:nvPr/>
            </p:nvSpPr>
            <p:spPr>
              <a:xfrm>
                <a:off x="11200320" y="40492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3" name="椭圆 314"/>
              <p:cNvSpPr/>
              <p:nvPr/>
            </p:nvSpPr>
            <p:spPr>
              <a:xfrm>
                <a:off x="11128320" y="4049280"/>
                <a:ext cx="45360" cy="45360"/>
              </a:xfrm>
              <a:prstGeom prst="ellipse">
                <a:avLst/>
              </a:prstGeom>
              <a:solidFill>
                <a:schemeClr val="bg1">
                  <a:lumMod val="6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64" name="组合 45"/>
            <p:cNvGrpSpPr/>
            <p:nvPr/>
          </p:nvGrpSpPr>
          <p:grpSpPr>
            <a:xfrm>
              <a:off x="8199360" y="2059920"/>
              <a:ext cx="2764080" cy="1676880"/>
              <a:chOff x="8199360" y="2059920"/>
              <a:chExt cx="2764080" cy="1676880"/>
            </a:xfrm>
          </p:grpSpPr>
          <p:sp>
            <p:nvSpPr>
              <p:cNvPr id="1065" name="矩形 16"/>
              <p:cNvSpPr/>
              <p:nvPr/>
            </p:nvSpPr>
            <p:spPr>
              <a:xfrm>
                <a:off x="8199360" y="2258640"/>
                <a:ext cx="2764080" cy="1478160"/>
              </a:xfrm>
              <a:prstGeom prst="rect">
                <a:avLst/>
              </a:pr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6" name="矩形 322"/>
              <p:cNvSpPr/>
              <p:nvPr/>
            </p:nvSpPr>
            <p:spPr>
              <a:xfrm>
                <a:off x="8199360" y="2059920"/>
                <a:ext cx="2764080" cy="1980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0" lang="zh-CN" sz="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我的文件助手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17"/>
              <p:cNvSpPr/>
              <p:nvPr/>
            </p:nvSpPr>
            <p:spPr>
              <a:xfrm>
                <a:off x="8199360" y="2258640"/>
                <a:ext cx="579240" cy="1478160"/>
              </a:xfrm>
              <a:prstGeom prst="rect">
                <a:avLst/>
              </a:prstGeom>
              <a:solidFill>
                <a:srgbClr val="edeee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8" name="圆角矩形 323"/>
              <p:cNvSpPr/>
              <p:nvPr/>
            </p:nvSpPr>
            <p:spPr>
              <a:xfrm>
                <a:off x="8255520" y="2331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9" name="矩形 18"/>
              <p:cNvSpPr/>
              <p:nvPr/>
            </p:nvSpPr>
            <p:spPr>
              <a:xfrm>
                <a:off x="8199360" y="2476080"/>
                <a:ext cx="657360" cy="1767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70" name="组合 26"/>
              <p:cNvGrpSpPr/>
              <p:nvPr/>
            </p:nvGrpSpPr>
            <p:grpSpPr>
              <a:xfrm>
                <a:off x="8937360" y="3054240"/>
                <a:ext cx="134280" cy="138240"/>
                <a:chOff x="8937360" y="3054240"/>
                <a:chExt cx="134280" cy="138240"/>
              </a:xfrm>
            </p:grpSpPr>
            <p:grpSp>
              <p:nvGrpSpPr>
                <p:cNvPr id="1071" name="组合 23"/>
                <p:cNvGrpSpPr/>
                <p:nvPr/>
              </p:nvGrpSpPr>
              <p:grpSpPr>
                <a:xfrm>
                  <a:off x="8937360" y="3054240"/>
                  <a:ext cx="134280" cy="138240"/>
                  <a:chOff x="8937360" y="3054240"/>
                  <a:chExt cx="134280" cy="138240"/>
                </a:xfrm>
              </p:grpSpPr>
              <p:sp>
                <p:nvSpPr>
                  <p:cNvPr id="1072" name="任意多边形 324"/>
                  <p:cNvSpPr/>
                  <p:nvPr/>
                </p:nvSpPr>
                <p:spPr>
                  <a:xfrm>
                    <a:off x="8937360" y="30542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3" name="任意多边形 326"/>
                  <p:cNvSpPr/>
                  <p:nvPr/>
                </p:nvSpPr>
                <p:spPr>
                  <a:xfrm flipV="1" rot="5727600">
                    <a:off x="9028440" y="305460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4" name="等腰三角形 25"/>
                <p:cNvSpPr/>
                <p:nvPr/>
              </p:nvSpPr>
              <p:spPr>
                <a:xfrm rot="5400000">
                  <a:off x="8981280" y="3107880"/>
                  <a:ext cx="59400" cy="5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5" name="组合 30"/>
              <p:cNvGrpSpPr/>
              <p:nvPr/>
            </p:nvGrpSpPr>
            <p:grpSpPr>
              <a:xfrm>
                <a:off x="8924760" y="2538720"/>
                <a:ext cx="139320" cy="143640"/>
                <a:chOff x="8924760" y="2538720"/>
                <a:chExt cx="139320" cy="143640"/>
              </a:xfrm>
            </p:grpSpPr>
            <p:grpSp>
              <p:nvGrpSpPr>
                <p:cNvPr id="1076" name="组合 328"/>
                <p:cNvGrpSpPr/>
                <p:nvPr/>
              </p:nvGrpSpPr>
              <p:grpSpPr>
                <a:xfrm>
                  <a:off x="8924760" y="2538720"/>
                  <a:ext cx="139320" cy="143640"/>
                  <a:chOff x="8924760" y="2538720"/>
                  <a:chExt cx="139320" cy="143640"/>
                </a:xfrm>
              </p:grpSpPr>
              <p:sp>
                <p:nvSpPr>
                  <p:cNvPr id="1077" name="任意多边形 330"/>
                  <p:cNvSpPr/>
                  <p:nvPr/>
                </p:nvSpPr>
                <p:spPr>
                  <a:xfrm>
                    <a:off x="8924760" y="2538720"/>
                    <a:ext cx="136800" cy="143640"/>
                  </a:xfrm>
                  <a:custGeom>
                    <a:avLst/>
                    <a:gdLst>
                      <a:gd name="textAreaLeft" fmla="*/ 0 w 136800"/>
                      <a:gd name="textAreaRight" fmla="*/ 137160 w 136800"/>
                      <a:gd name="textAreaTop" fmla="*/ 0 h 143640"/>
                      <a:gd name="textAreaBottom" fmla="*/ 144000 h 1436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8" name="任意多边形 331"/>
                  <p:cNvSpPr/>
                  <p:nvPr/>
                </p:nvSpPr>
                <p:spPr>
                  <a:xfrm flipV="1" rot="5727600">
                    <a:off x="9019080" y="2539800"/>
                    <a:ext cx="41400" cy="4500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-360 h 45000"/>
                      <a:gd name="textAreaBottom" fmla="*/ 45000 h 450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60" bIns="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9" name="图片 334"/>
                <p:cNvSpPr/>
                <p:nvPr/>
              </p:nvSpPr>
              <p:spPr>
                <a:xfrm>
                  <a:off x="8949600" y="2592720"/>
                  <a:ext cx="82800" cy="7488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3199" h="274344">
                      <a:moveTo>
                        <a:pt x="0" y="0"/>
                      </a:moveTo>
                      <a:lnTo>
                        <a:pt x="303199" y="0"/>
                      </a:lnTo>
                      <a:lnTo>
                        <a:pt x="303199" y="274344"/>
                      </a:lnTo>
                      <a:lnTo>
                        <a:pt x="0" y="274344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矩形 31"/>
              <p:cNvSpPr/>
              <p:nvPr/>
            </p:nvSpPr>
            <p:spPr>
              <a:xfrm>
                <a:off x="8905320" y="2305080"/>
                <a:ext cx="40824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1" name="矩形 349"/>
              <p:cNvSpPr/>
              <p:nvPr/>
            </p:nvSpPr>
            <p:spPr>
              <a:xfrm>
                <a:off x="9343080" y="2305080"/>
                <a:ext cx="40824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400" spc="-1" strike="noStrike">
                    <a:solidFill>
                      <a:srgbClr val="404040"/>
                    </a:solidFill>
                    <a:latin typeface="Calibri"/>
                  </a:rPr>
                  <a:t>最近</a:t>
                </a:r>
                <a:r>
                  <a:rPr b="0" lang="en-US" sz="400" spc="-1" strike="noStrike">
                    <a:solidFill>
                      <a:srgbClr val="404040"/>
                    </a:solidFill>
                    <a:latin typeface="Calibri"/>
                  </a:rPr>
                  <a:t>30</a:t>
                </a:r>
                <a:r>
                  <a:rPr b="0" lang="zh-CN" sz="400" spc="-1" strike="noStrike">
                    <a:solidFill>
                      <a:srgbClr val="404040"/>
                    </a:solidFill>
                    <a:latin typeface="Calibri"/>
                  </a:rPr>
                  <a:t>天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矩形 350"/>
              <p:cNvSpPr/>
              <p:nvPr/>
            </p:nvSpPr>
            <p:spPr>
              <a:xfrm>
                <a:off x="9825120" y="2305080"/>
                <a:ext cx="1060560" cy="139680"/>
              </a:xfrm>
              <a:prstGeom prst="rect">
                <a:avLst/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83" name="直接连接符 33"/>
              <p:cNvCxnSpPr/>
              <p:nvPr/>
            </p:nvCxnSpPr>
            <p:spPr>
              <a:xfrm>
                <a:off x="8778600" y="246780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sp>
            <p:nvSpPr>
              <p:cNvPr id="1084" name="圆角矩形 351"/>
              <p:cNvSpPr/>
              <p:nvPr/>
            </p:nvSpPr>
            <p:spPr>
              <a:xfrm>
                <a:off x="8230320" y="251028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5" name="圆角矩形 352"/>
              <p:cNvSpPr/>
              <p:nvPr/>
            </p:nvSpPr>
            <p:spPr>
              <a:xfrm>
                <a:off x="8255520" y="2682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6" name="圆角矩形 353"/>
              <p:cNvSpPr/>
              <p:nvPr/>
            </p:nvSpPr>
            <p:spPr>
              <a:xfrm>
                <a:off x="8229960" y="282528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7" name="圆角矩形 354"/>
              <p:cNvSpPr/>
              <p:nvPr/>
            </p:nvSpPr>
            <p:spPr>
              <a:xfrm>
                <a:off x="8252280" y="29790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8" name="圆角矩形 355"/>
              <p:cNvSpPr/>
              <p:nvPr/>
            </p:nvSpPr>
            <p:spPr>
              <a:xfrm>
                <a:off x="8252280" y="3137400"/>
                <a:ext cx="466920" cy="104400"/>
              </a:xfrm>
              <a:prstGeom prst="roundRect">
                <a:avLst>
                  <a:gd name="adj" fmla="val 16667"/>
                </a:avLst>
              </a:prstGeom>
              <a:solidFill>
                <a:srgbClr val="d0d0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089" name="组合 35"/>
              <p:cNvGrpSpPr/>
              <p:nvPr/>
            </p:nvGrpSpPr>
            <p:grpSpPr>
              <a:xfrm>
                <a:off x="9129600" y="2592360"/>
                <a:ext cx="1740240" cy="61920"/>
                <a:chOff x="9129600" y="2592360"/>
                <a:chExt cx="1740240" cy="61920"/>
              </a:xfrm>
            </p:grpSpPr>
            <p:sp>
              <p:nvSpPr>
                <p:cNvPr id="1090" name="圆角矩形 356"/>
                <p:cNvSpPr/>
                <p:nvPr/>
              </p:nvSpPr>
              <p:spPr>
                <a:xfrm>
                  <a:off x="912960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1" name="圆角矩形 359"/>
                <p:cNvSpPr/>
                <p:nvPr/>
              </p:nvSpPr>
              <p:spPr>
                <a:xfrm>
                  <a:off x="962532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2" name="圆角矩形 360"/>
                <p:cNvSpPr/>
                <p:nvPr/>
              </p:nvSpPr>
              <p:spPr>
                <a:xfrm>
                  <a:off x="10161720" y="259236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3" name="圆角矩形 361"/>
                <p:cNvSpPr/>
                <p:nvPr/>
              </p:nvSpPr>
              <p:spPr>
                <a:xfrm>
                  <a:off x="10701720" y="259236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94" name="矩形 34"/>
              <p:cNvSpPr/>
              <p:nvPr/>
            </p:nvSpPr>
            <p:spPr>
              <a:xfrm>
                <a:off x="8821440" y="258732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95" name="直接连接符 362"/>
              <p:cNvCxnSpPr/>
              <p:nvPr/>
            </p:nvCxnSpPr>
            <p:spPr>
              <a:xfrm>
                <a:off x="8778600" y="274464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cxnSp>
            <p:nvCxnSpPr>
              <p:cNvPr id="1096" name="直接连接符 363"/>
              <p:cNvCxnSpPr/>
              <p:nvPr/>
            </p:nvCxnSpPr>
            <p:spPr>
              <a:xfrm>
                <a:off x="8778600" y="299088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097" name="组合 365"/>
              <p:cNvGrpSpPr/>
              <p:nvPr/>
            </p:nvGrpSpPr>
            <p:grpSpPr>
              <a:xfrm>
                <a:off x="9129600" y="2853000"/>
                <a:ext cx="1740240" cy="61920"/>
                <a:chOff x="9129600" y="2853000"/>
                <a:chExt cx="1740240" cy="61920"/>
              </a:xfrm>
            </p:grpSpPr>
            <p:sp>
              <p:nvSpPr>
                <p:cNvPr id="1098" name="圆角矩形 367"/>
                <p:cNvSpPr/>
                <p:nvPr/>
              </p:nvSpPr>
              <p:spPr>
                <a:xfrm>
                  <a:off x="912960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9" name="圆角矩形 368"/>
                <p:cNvSpPr/>
                <p:nvPr/>
              </p:nvSpPr>
              <p:spPr>
                <a:xfrm>
                  <a:off x="962532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0" name="圆角矩形 369"/>
                <p:cNvSpPr/>
                <p:nvPr/>
              </p:nvSpPr>
              <p:spPr>
                <a:xfrm>
                  <a:off x="10161720" y="285300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1" name="圆角矩形 370"/>
                <p:cNvSpPr/>
                <p:nvPr/>
              </p:nvSpPr>
              <p:spPr>
                <a:xfrm>
                  <a:off x="10701720" y="285300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02" name="组合 372"/>
              <p:cNvGrpSpPr/>
              <p:nvPr/>
            </p:nvGrpSpPr>
            <p:grpSpPr>
              <a:xfrm>
                <a:off x="9129600" y="3095280"/>
                <a:ext cx="1740240" cy="61920"/>
                <a:chOff x="9129600" y="3095280"/>
                <a:chExt cx="1740240" cy="61920"/>
              </a:xfrm>
            </p:grpSpPr>
            <p:sp>
              <p:nvSpPr>
                <p:cNvPr id="1103" name="圆角矩形 374"/>
                <p:cNvSpPr/>
                <p:nvPr/>
              </p:nvSpPr>
              <p:spPr>
                <a:xfrm>
                  <a:off x="912960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4" name="圆角矩形 392"/>
                <p:cNvSpPr/>
                <p:nvPr/>
              </p:nvSpPr>
              <p:spPr>
                <a:xfrm>
                  <a:off x="962532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5" name="圆角矩形 409"/>
                <p:cNvSpPr/>
                <p:nvPr/>
              </p:nvSpPr>
              <p:spPr>
                <a:xfrm>
                  <a:off x="10161720" y="30952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6" name="圆角矩形 410"/>
                <p:cNvSpPr/>
                <p:nvPr/>
              </p:nvSpPr>
              <p:spPr>
                <a:xfrm>
                  <a:off x="10701720" y="30952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矩形 373"/>
              <p:cNvSpPr/>
              <p:nvPr/>
            </p:nvSpPr>
            <p:spPr>
              <a:xfrm>
                <a:off x="8821440" y="309024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08" name="直接连接符 411"/>
              <p:cNvCxnSpPr/>
              <p:nvPr/>
            </p:nvCxnSpPr>
            <p:spPr>
              <a:xfrm>
                <a:off x="8778600" y="324216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109" name="组合 413"/>
              <p:cNvGrpSpPr/>
              <p:nvPr/>
            </p:nvGrpSpPr>
            <p:grpSpPr>
              <a:xfrm>
                <a:off x="9129600" y="3336480"/>
                <a:ext cx="1740240" cy="61920"/>
                <a:chOff x="9129600" y="3336480"/>
                <a:chExt cx="1740240" cy="61920"/>
              </a:xfrm>
            </p:grpSpPr>
            <p:sp>
              <p:nvSpPr>
                <p:cNvPr id="1110" name="圆角矩形 415"/>
                <p:cNvSpPr/>
                <p:nvPr/>
              </p:nvSpPr>
              <p:spPr>
                <a:xfrm>
                  <a:off x="912960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1" name="圆角矩形 416"/>
                <p:cNvSpPr/>
                <p:nvPr/>
              </p:nvSpPr>
              <p:spPr>
                <a:xfrm>
                  <a:off x="962532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2" name="圆角矩形 417"/>
                <p:cNvSpPr/>
                <p:nvPr/>
              </p:nvSpPr>
              <p:spPr>
                <a:xfrm>
                  <a:off x="10161720" y="33364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3" name="圆角矩形 421"/>
                <p:cNvSpPr/>
                <p:nvPr/>
              </p:nvSpPr>
              <p:spPr>
                <a:xfrm>
                  <a:off x="10701720" y="33364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14" name="矩形 414"/>
              <p:cNvSpPr/>
              <p:nvPr/>
            </p:nvSpPr>
            <p:spPr>
              <a:xfrm>
                <a:off x="8821440" y="333144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15" name="直接连接符 422"/>
              <p:cNvCxnSpPr/>
              <p:nvPr/>
            </p:nvCxnSpPr>
            <p:spPr>
              <a:xfrm>
                <a:off x="8778600" y="3493080"/>
                <a:ext cx="2107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grpSp>
            <p:nvGrpSpPr>
              <p:cNvPr id="1116" name="组合 424"/>
              <p:cNvGrpSpPr/>
              <p:nvPr/>
            </p:nvGrpSpPr>
            <p:grpSpPr>
              <a:xfrm>
                <a:off x="9129600" y="3602880"/>
                <a:ext cx="1740240" cy="61920"/>
                <a:chOff x="9129600" y="3602880"/>
                <a:chExt cx="1740240" cy="61920"/>
              </a:xfrm>
            </p:grpSpPr>
            <p:sp>
              <p:nvSpPr>
                <p:cNvPr id="1117" name="圆角矩形 430"/>
                <p:cNvSpPr/>
                <p:nvPr/>
              </p:nvSpPr>
              <p:spPr>
                <a:xfrm>
                  <a:off x="912960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8" name="圆角矩形 431"/>
                <p:cNvSpPr/>
                <p:nvPr/>
              </p:nvSpPr>
              <p:spPr>
                <a:xfrm>
                  <a:off x="962532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9" name="圆角矩形 432"/>
                <p:cNvSpPr/>
                <p:nvPr/>
              </p:nvSpPr>
              <p:spPr>
                <a:xfrm>
                  <a:off x="10161720" y="3602880"/>
                  <a:ext cx="371880" cy="61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0" name="圆角矩形 433"/>
                <p:cNvSpPr/>
                <p:nvPr/>
              </p:nvSpPr>
              <p:spPr>
                <a:xfrm>
                  <a:off x="10701720" y="3602880"/>
                  <a:ext cx="16812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d0d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1" name="矩形 429"/>
              <p:cNvSpPr/>
              <p:nvPr/>
            </p:nvSpPr>
            <p:spPr>
              <a:xfrm>
                <a:off x="8821440" y="3598200"/>
                <a:ext cx="45360" cy="45360"/>
              </a:xfrm>
              <a:prstGeom prst="rect">
                <a:avLst/>
              </a:prstGeom>
              <a:noFill/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22" name="组合 434"/>
              <p:cNvGrpSpPr/>
              <p:nvPr/>
            </p:nvGrpSpPr>
            <p:grpSpPr>
              <a:xfrm>
                <a:off x="8937360" y="3556440"/>
                <a:ext cx="134280" cy="138240"/>
                <a:chOff x="8937360" y="3556440"/>
                <a:chExt cx="134280" cy="138240"/>
              </a:xfrm>
            </p:grpSpPr>
            <p:grpSp>
              <p:nvGrpSpPr>
                <p:cNvPr id="1123" name="组合 435"/>
                <p:cNvGrpSpPr/>
                <p:nvPr/>
              </p:nvGrpSpPr>
              <p:grpSpPr>
                <a:xfrm>
                  <a:off x="8937360" y="3556440"/>
                  <a:ext cx="134280" cy="138240"/>
                  <a:chOff x="8937360" y="3556440"/>
                  <a:chExt cx="134280" cy="138240"/>
                </a:xfrm>
              </p:grpSpPr>
              <p:sp>
                <p:nvSpPr>
                  <p:cNvPr id="1124" name="任意多边形 440"/>
                  <p:cNvSpPr/>
                  <p:nvPr/>
                </p:nvSpPr>
                <p:spPr>
                  <a:xfrm>
                    <a:off x="8937360" y="35564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5" name="任意多边形 442"/>
                  <p:cNvSpPr/>
                  <p:nvPr/>
                </p:nvSpPr>
                <p:spPr>
                  <a:xfrm flipV="1" rot="5727600">
                    <a:off x="9028440" y="355644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26" name="等腰三角形 436"/>
                <p:cNvSpPr/>
                <p:nvPr/>
              </p:nvSpPr>
              <p:spPr>
                <a:xfrm rot="5400000">
                  <a:off x="8981280" y="3609720"/>
                  <a:ext cx="59400" cy="5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27" name="组合 39"/>
              <p:cNvGrpSpPr/>
              <p:nvPr/>
            </p:nvGrpSpPr>
            <p:grpSpPr>
              <a:xfrm>
                <a:off x="8937360" y="3297240"/>
                <a:ext cx="134280" cy="138240"/>
                <a:chOff x="8937360" y="3297240"/>
                <a:chExt cx="134280" cy="138240"/>
              </a:xfrm>
            </p:grpSpPr>
            <p:grpSp>
              <p:nvGrpSpPr>
                <p:cNvPr id="1128" name="组合 444"/>
                <p:cNvGrpSpPr/>
                <p:nvPr/>
              </p:nvGrpSpPr>
              <p:grpSpPr>
                <a:xfrm>
                  <a:off x="8937360" y="3297240"/>
                  <a:ext cx="134280" cy="138240"/>
                  <a:chOff x="8937360" y="3297240"/>
                  <a:chExt cx="134280" cy="138240"/>
                </a:xfrm>
              </p:grpSpPr>
              <p:sp>
                <p:nvSpPr>
                  <p:cNvPr id="1129" name="任意多边形 446"/>
                  <p:cNvSpPr/>
                  <p:nvPr/>
                </p:nvSpPr>
                <p:spPr>
                  <a:xfrm>
                    <a:off x="8937360" y="32972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0" name="任意多边形 447"/>
                  <p:cNvSpPr/>
                  <p:nvPr/>
                </p:nvSpPr>
                <p:spPr>
                  <a:xfrm flipV="1" rot="5727600">
                    <a:off x="9028440" y="329760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31" name="文本框 448"/>
                <p:cNvSpPr/>
                <p:nvPr/>
              </p:nvSpPr>
              <p:spPr>
                <a:xfrm>
                  <a:off x="8964720" y="3326040"/>
                  <a:ext cx="46800" cy="8892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94432" h="178482">
                      <a:moveTo>
                        <a:pt x="41189" y="140196"/>
                      </a:moveTo>
                      <a:cubicBezTo>
                        <a:pt x="46919" y="140196"/>
                        <a:pt x="51848" y="142001"/>
                        <a:pt x="55978" y="145610"/>
                      </a:cubicBezTo>
                      <a:cubicBezTo>
                        <a:pt x="60108" y="149219"/>
                        <a:pt x="62173" y="153777"/>
                        <a:pt x="62173" y="159283"/>
                      </a:cubicBezTo>
                      <a:cubicBezTo>
                        <a:pt x="62173" y="164715"/>
                        <a:pt x="60239" y="169273"/>
                        <a:pt x="56369" y="172957"/>
                      </a:cubicBezTo>
                      <a:cubicBezTo>
                        <a:pt x="52500" y="176640"/>
                        <a:pt x="47849" y="178482"/>
                        <a:pt x="42416" y="178482"/>
                      </a:cubicBezTo>
                      <a:cubicBezTo>
                        <a:pt x="35496" y="178482"/>
                        <a:pt x="29989" y="176584"/>
                        <a:pt x="25897" y="172789"/>
                      </a:cubicBezTo>
                      <a:cubicBezTo>
                        <a:pt x="21804" y="168994"/>
                        <a:pt x="19757" y="164492"/>
                        <a:pt x="19757" y="159283"/>
                      </a:cubicBezTo>
                      <a:cubicBezTo>
                        <a:pt x="19757" y="153777"/>
                        <a:pt x="21841" y="149219"/>
                        <a:pt x="26008" y="145610"/>
                      </a:cubicBezTo>
                      <a:cubicBezTo>
                        <a:pt x="30175" y="142001"/>
                        <a:pt x="35236" y="140196"/>
                        <a:pt x="41189" y="140196"/>
                      </a:cubicBezTo>
                      <a:close/>
                      <a:moveTo>
                        <a:pt x="42416" y="0"/>
                      </a:moveTo>
                      <a:cubicBezTo>
                        <a:pt x="58490" y="0"/>
                        <a:pt x="71177" y="3721"/>
                        <a:pt x="80479" y="11162"/>
                      </a:cubicBezTo>
                      <a:cubicBezTo>
                        <a:pt x="89781" y="18603"/>
                        <a:pt x="94432" y="29207"/>
                        <a:pt x="94432" y="42974"/>
                      </a:cubicBezTo>
                      <a:cubicBezTo>
                        <a:pt x="94432" y="51234"/>
                        <a:pt x="92609" y="58713"/>
                        <a:pt x="88962" y="65410"/>
                      </a:cubicBezTo>
                      <a:cubicBezTo>
                        <a:pt x="85316" y="72107"/>
                        <a:pt x="78619" y="79437"/>
                        <a:pt x="68871" y="87399"/>
                      </a:cubicBezTo>
                      <a:cubicBezTo>
                        <a:pt x="61057" y="93948"/>
                        <a:pt x="56220" y="99045"/>
                        <a:pt x="54360" y="102691"/>
                      </a:cubicBezTo>
                      <a:cubicBezTo>
                        <a:pt x="52500" y="106338"/>
                        <a:pt x="51569" y="110207"/>
                        <a:pt x="51569" y="114300"/>
                      </a:cubicBezTo>
                      <a:cubicBezTo>
                        <a:pt x="51569" y="118318"/>
                        <a:pt x="52574" y="122225"/>
                        <a:pt x="54583" y="126020"/>
                      </a:cubicBezTo>
                      <a:lnTo>
                        <a:pt x="24334" y="126020"/>
                      </a:lnTo>
                      <a:cubicBezTo>
                        <a:pt x="22548" y="121183"/>
                        <a:pt x="21655" y="116197"/>
                        <a:pt x="21655" y="111063"/>
                      </a:cubicBezTo>
                      <a:cubicBezTo>
                        <a:pt x="21655" y="98487"/>
                        <a:pt x="27608" y="87176"/>
                        <a:pt x="39514" y="77130"/>
                      </a:cubicBezTo>
                      <a:cubicBezTo>
                        <a:pt x="46881" y="70879"/>
                        <a:pt x="51867" y="65670"/>
                        <a:pt x="54472" y="61503"/>
                      </a:cubicBezTo>
                      <a:cubicBezTo>
                        <a:pt x="57076" y="57336"/>
                        <a:pt x="58378" y="52834"/>
                        <a:pt x="58378" y="47997"/>
                      </a:cubicBezTo>
                      <a:cubicBezTo>
                        <a:pt x="58378" y="42714"/>
                        <a:pt x="56518" y="38379"/>
                        <a:pt x="52797" y="34993"/>
                      </a:cubicBezTo>
                      <a:cubicBezTo>
                        <a:pt x="49077" y="31607"/>
                        <a:pt x="44277" y="29914"/>
                        <a:pt x="38398" y="29914"/>
                      </a:cubicBezTo>
                      <a:cubicBezTo>
                        <a:pt x="24632" y="29914"/>
                        <a:pt x="11832" y="35198"/>
                        <a:pt x="0" y="45765"/>
                      </a:cubicBezTo>
                      <a:lnTo>
                        <a:pt x="0" y="11162"/>
                      </a:lnTo>
                      <a:cubicBezTo>
                        <a:pt x="12428" y="3721"/>
                        <a:pt x="26566" y="0"/>
                        <a:pt x="42416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horzOverflow="overflow" vertOverflow="overflow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rgbClr val="c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132" name="组合 40"/>
              <p:cNvGrpSpPr/>
              <p:nvPr/>
            </p:nvGrpSpPr>
            <p:grpSpPr>
              <a:xfrm>
                <a:off x="8937360" y="2800440"/>
                <a:ext cx="134280" cy="138960"/>
                <a:chOff x="8937360" y="2800440"/>
                <a:chExt cx="134280" cy="138960"/>
              </a:xfrm>
            </p:grpSpPr>
            <p:grpSp>
              <p:nvGrpSpPr>
                <p:cNvPr id="1133" name="组合 450"/>
                <p:cNvGrpSpPr/>
                <p:nvPr/>
              </p:nvGrpSpPr>
              <p:grpSpPr>
                <a:xfrm>
                  <a:off x="8937360" y="2800440"/>
                  <a:ext cx="134280" cy="138240"/>
                  <a:chOff x="8937360" y="2800440"/>
                  <a:chExt cx="134280" cy="138240"/>
                </a:xfrm>
              </p:grpSpPr>
              <p:sp>
                <p:nvSpPr>
                  <p:cNvPr id="1134" name="任意多边形 452"/>
                  <p:cNvSpPr/>
                  <p:nvPr/>
                </p:nvSpPr>
                <p:spPr>
                  <a:xfrm>
                    <a:off x="8937360" y="2800440"/>
                    <a:ext cx="131760" cy="13824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0645" h="200101">
                        <a:moveTo>
                          <a:pt x="0" y="0"/>
                        </a:moveTo>
                        <a:lnTo>
                          <a:pt x="132828" y="0"/>
                        </a:lnTo>
                        <a:lnTo>
                          <a:pt x="190645" y="63060"/>
                        </a:lnTo>
                        <a:lnTo>
                          <a:pt x="190645" y="200101"/>
                        </a:lnTo>
                        <a:lnTo>
                          <a:pt x="0" y="200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5" name="任意多边形 453"/>
                  <p:cNvSpPr/>
                  <p:nvPr/>
                </p:nvSpPr>
                <p:spPr>
                  <a:xfrm flipV="1" rot="5727600">
                    <a:off x="9028440" y="2800440"/>
                    <a:ext cx="39600" cy="432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360 h 43200"/>
                      <a:gd name="textAreaBottom" fmla="*/ 43920 h 43200"/>
                    </a:gdLst>
                    <a:ahLst/>
                    <a:rect l="textAreaLeft" t="textAreaTop" r="textAreaRight" b="textAreaBottom"/>
                    <a:pathLst>
                      <a:path w="57817" h="63060">
                        <a:moveTo>
                          <a:pt x="0" y="0"/>
                        </a:moveTo>
                        <a:lnTo>
                          <a:pt x="57817" y="0"/>
                        </a:lnTo>
                        <a:lnTo>
                          <a:pt x="57817" y="630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6350">
                    <a:solidFill>
                      <a:srgbClr val="ffffff">
                        <a:lumMod val="7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36" name="十字形 454"/>
                <p:cNvSpPr/>
                <p:nvPr/>
              </p:nvSpPr>
              <p:spPr>
                <a:xfrm rot="2671200">
                  <a:off x="8964000" y="2848680"/>
                  <a:ext cx="73440" cy="75600"/>
                </a:xfrm>
                <a:prstGeom prst="plus">
                  <a:avLst>
                    <a:gd name="adj" fmla="val 41627"/>
                  </a:avLst>
                </a:prstGeom>
                <a:solidFill>
                  <a:srgbClr val="6fb90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7" name="组合 43"/>
              <p:cNvGrpSpPr/>
              <p:nvPr/>
            </p:nvGrpSpPr>
            <p:grpSpPr>
              <a:xfrm>
                <a:off x="8821440" y="2850840"/>
                <a:ext cx="45360" cy="48240"/>
                <a:chOff x="8821440" y="2850840"/>
                <a:chExt cx="45360" cy="48240"/>
              </a:xfrm>
            </p:grpSpPr>
            <p:sp>
              <p:nvSpPr>
                <p:cNvPr id="1138" name="矩形 456"/>
                <p:cNvSpPr/>
                <p:nvPr/>
              </p:nvSpPr>
              <p:spPr>
                <a:xfrm>
                  <a:off x="8821440" y="2853720"/>
                  <a:ext cx="45360" cy="45360"/>
                </a:xfrm>
                <a:prstGeom prst="rect">
                  <a:avLst/>
                </a:prstGeom>
                <a:solidFill>
                  <a:srgbClr val="6fb905"/>
                </a:solidFill>
                <a:ln>
                  <a:solidFill>
                    <a:srgbClr val="6fb905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9" name="任意多边形 455"/>
                <p:cNvSpPr/>
                <p:nvPr/>
              </p:nvSpPr>
              <p:spPr>
                <a:xfrm flipH="1" rot="2986800">
                  <a:off x="8836200" y="2851920"/>
                  <a:ext cx="19440" cy="33840"/>
                </a:xfrm>
                <a:custGeom>
                  <a:avLst/>
                  <a:gdLst>
                    <a:gd name="textAreaLeft" fmla="*/ 360 w 19440"/>
                    <a:gd name="textAreaRight" fmla="*/ 20160 w 194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45720" h="79720">
                      <a:moveTo>
                        <a:pt x="13685" y="0"/>
                      </a:moveTo>
                      <a:lnTo>
                        <a:pt x="0" y="0"/>
                      </a:lnTo>
                      <a:lnTo>
                        <a:pt x="0" y="79720"/>
                      </a:lnTo>
                      <a:lnTo>
                        <a:pt x="45720" y="79720"/>
                      </a:lnTo>
                      <a:lnTo>
                        <a:pt x="45720" y="64888"/>
                      </a:lnTo>
                      <a:lnTo>
                        <a:pt x="13685" y="64888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0" name="组合 459"/>
              <p:cNvGrpSpPr/>
              <p:nvPr/>
            </p:nvGrpSpPr>
            <p:grpSpPr>
              <a:xfrm>
                <a:off x="8251920" y="2102400"/>
                <a:ext cx="177480" cy="136080"/>
                <a:chOff x="8251920" y="2102400"/>
                <a:chExt cx="177480" cy="136080"/>
              </a:xfrm>
            </p:grpSpPr>
            <p:sp>
              <p:nvSpPr>
                <p:cNvPr id="1141" name="任意多边形 466"/>
                <p:cNvSpPr/>
                <p:nvPr/>
              </p:nvSpPr>
              <p:spPr>
                <a:xfrm flipH="1">
                  <a:off x="8252280" y="2102400"/>
                  <a:ext cx="177120" cy="136080"/>
                </a:xfrm>
                <a:custGeom>
                  <a:avLst/>
                  <a:gdLst>
                    <a:gd name="textAreaLeft" fmla="*/ 360 w 177120"/>
                    <a:gd name="textAreaRight" fmla="*/ 177840 w 17712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886408" h="681134">
                      <a:moveTo>
                        <a:pt x="48211" y="0"/>
                      </a:moveTo>
                      <a:lnTo>
                        <a:pt x="365061" y="0"/>
                      </a:lnTo>
                      <a:lnTo>
                        <a:pt x="459533" y="116632"/>
                      </a:lnTo>
                      <a:lnTo>
                        <a:pt x="886408" y="116632"/>
                      </a:lnTo>
                      <a:lnTo>
                        <a:pt x="886408" y="632923"/>
                      </a:lnTo>
                      <a:cubicBezTo>
                        <a:pt x="886408" y="659549"/>
                        <a:pt x="864823" y="681134"/>
                        <a:pt x="838197" y="681134"/>
                      </a:cubicBezTo>
                      <a:lnTo>
                        <a:pt x="48211" y="681134"/>
                      </a:lnTo>
                      <a:cubicBezTo>
                        <a:pt x="21585" y="681134"/>
                        <a:pt x="0" y="659549"/>
                        <a:pt x="0" y="632923"/>
                      </a:cubicBezTo>
                      <a:lnTo>
                        <a:pt x="0" y="48211"/>
                      </a:lnTo>
                      <a:cubicBezTo>
                        <a:pt x="0" y="21585"/>
                        <a:pt x="21585" y="0"/>
                        <a:pt x="48211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2" name="任意多边形 467"/>
                <p:cNvSpPr/>
                <p:nvPr/>
              </p:nvSpPr>
              <p:spPr>
                <a:xfrm flipH="1">
                  <a:off x="8251560" y="2102400"/>
                  <a:ext cx="88200" cy="8640"/>
                </a:xfrm>
                <a:custGeom>
                  <a:avLst/>
                  <a:gdLst>
                    <a:gd name="textAreaLeft" fmla="*/ -360 w 88200"/>
                    <a:gd name="textAreaRight" fmla="*/ 88200 w 882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443086" h="45719">
                      <a:moveTo>
                        <a:pt x="0" y="0"/>
                      </a:moveTo>
                      <a:lnTo>
                        <a:pt x="443086" y="0"/>
                      </a:lnTo>
                      <a:lnTo>
                        <a:pt x="443086" y="45719"/>
                      </a:lnTo>
                      <a:lnTo>
                        <a:pt x="32733" y="45719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3" name="矩形 468"/>
                <p:cNvSpPr/>
                <p:nvPr/>
              </p:nvSpPr>
              <p:spPr>
                <a:xfrm flipH="1">
                  <a:off x="8252280" y="2102400"/>
                  <a:ext cx="10800" cy="18360"/>
                </a:xfrm>
                <a:prstGeom prst="rect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144" name="组合 51"/>
          <p:cNvGrpSpPr/>
          <p:nvPr/>
        </p:nvGrpSpPr>
        <p:grpSpPr>
          <a:xfrm>
            <a:off x="6717600" y="4122360"/>
            <a:ext cx="1023840" cy="752760"/>
            <a:chOff x="6717600" y="4122360"/>
            <a:chExt cx="1023840" cy="752760"/>
          </a:xfrm>
        </p:grpSpPr>
        <p:sp>
          <p:nvSpPr>
            <p:cNvPr id="1145" name="椭圆 470"/>
            <p:cNvSpPr/>
            <p:nvPr/>
          </p:nvSpPr>
          <p:spPr>
            <a:xfrm>
              <a:off x="6717600" y="4828680"/>
              <a:ext cx="1023840" cy="4536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50196"/>
                  </a:srgbClr>
                </a:gs>
                <a:gs pos="100000">
                  <a:srgbClr val="404040">
                    <a:alpha val="43137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46" name="组合 50"/>
            <p:cNvGrpSpPr/>
            <p:nvPr/>
          </p:nvGrpSpPr>
          <p:grpSpPr>
            <a:xfrm>
              <a:off x="6858720" y="4122360"/>
              <a:ext cx="752760" cy="752760"/>
              <a:chOff x="6858720" y="4122360"/>
              <a:chExt cx="752760" cy="752760"/>
            </a:xfrm>
          </p:grpSpPr>
          <p:sp>
            <p:nvSpPr>
              <p:cNvPr id="1147" name="椭圆 48"/>
              <p:cNvSpPr/>
              <p:nvPr/>
            </p:nvSpPr>
            <p:spPr>
              <a:xfrm>
                <a:off x="6858720" y="4122360"/>
                <a:ext cx="752760" cy="752760"/>
              </a:xfrm>
              <a:prstGeom prst="ellipse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8" name="任意多边形 47"/>
              <p:cNvSpPr/>
              <p:nvPr/>
            </p:nvSpPr>
            <p:spPr>
              <a:xfrm>
                <a:off x="6912720" y="4197240"/>
                <a:ext cx="367200" cy="595800"/>
              </a:xfrm>
              <a:custGeom>
                <a:avLst/>
                <a:gdLst>
                  <a:gd name="textAreaLeft" fmla="*/ 0 w 367200"/>
                  <a:gd name="textAreaRight" fmla="*/ 367560 w 367200"/>
                  <a:gd name="textAreaTop" fmla="*/ 0 h 595800"/>
                  <a:gd name="textAreaBottom" fmla="*/ 596160 h 595800"/>
                </a:gdLst>
                <a:ahLst/>
                <a:rect l="textAreaLeft" t="textAreaTop" r="textAreaRight" b="textAreaBottom"/>
                <a:pathLst>
                  <a:path w="367666" h="596088">
                    <a:moveTo>
                      <a:pt x="122398" y="484169"/>
                    </a:moveTo>
                    <a:lnTo>
                      <a:pt x="177166" y="381775"/>
                    </a:lnTo>
                    <a:lnTo>
                      <a:pt x="210504" y="596088"/>
                    </a:lnTo>
                    <a:cubicBezTo>
                      <a:pt x="-191927" y="417494"/>
                      <a:pt x="55722" y="-56376"/>
                      <a:pt x="346235" y="5537"/>
                    </a:cubicBezTo>
                    <a:lnTo>
                      <a:pt x="367666" y="62688"/>
                    </a:lnTo>
                    <a:cubicBezTo>
                      <a:pt x="268446" y="-21450"/>
                      <a:pt x="-102233" y="227788"/>
                      <a:pt x="122398" y="484169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9" name="任意多边形 469"/>
              <p:cNvSpPr/>
              <p:nvPr/>
            </p:nvSpPr>
            <p:spPr>
              <a:xfrm flipH="1" flipV="1">
                <a:off x="7195680" y="4222440"/>
                <a:ext cx="364680" cy="583920"/>
              </a:xfrm>
              <a:custGeom>
                <a:avLst/>
                <a:gdLst>
                  <a:gd name="textAreaLeft" fmla="*/ -360 w 364680"/>
                  <a:gd name="textAreaRight" fmla="*/ 364680 w 364680"/>
                  <a:gd name="textAreaTop" fmla="*/ 360 h 583920"/>
                  <a:gd name="textAreaBottom" fmla="*/ 584640 h 583920"/>
                </a:gdLst>
                <a:ahLst/>
                <a:rect l="textAreaLeft" t="textAreaTop" r="textAreaRight" b="textAreaBottom"/>
                <a:pathLst>
                  <a:path w="365187" h="584311">
                    <a:moveTo>
                      <a:pt x="124681" y="472392"/>
                    </a:moveTo>
                    <a:lnTo>
                      <a:pt x="179449" y="369998"/>
                    </a:lnTo>
                    <a:lnTo>
                      <a:pt x="212787" y="584311"/>
                    </a:lnTo>
                    <a:cubicBezTo>
                      <a:pt x="-189644" y="405717"/>
                      <a:pt x="50861" y="-56246"/>
                      <a:pt x="341374" y="5667"/>
                    </a:cubicBezTo>
                    <a:lnTo>
                      <a:pt x="365187" y="60436"/>
                    </a:lnTo>
                    <a:cubicBezTo>
                      <a:pt x="265967" y="-23702"/>
                      <a:pt x="-99950" y="216011"/>
                      <a:pt x="124681" y="472392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50" name="组合 472"/>
          <p:cNvGrpSpPr/>
          <p:nvPr/>
        </p:nvGrpSpPr>
        <p:grpSpPr>
          <a:xfrm>
            <a:off x="412200" y="2107080"/>
            <a:ext cx="664200" cy="510120"/>
            <a:chOff x="412200" y="2107080"/>
            <a:chExt cx="664200" cy="510120"/>
          </a:xfrm>
        </p:grpSpPr>
        <p:sp>
          <p:nvSpPr>
            <p:cNvPr id="1151" name="任意多边形 479"/>
            <p:cNvSpPr/>
            <p:nvPr/>
          </p:nvSpPr>
          <p:spPr>
            <a:xfrm>
              <a:off x="412200" y="2107080"/>
              <a:ext cx="664200" cy="510120"/>
            </a:xfrm>
            <a:custGeom>
              <a:avLst/>
              <a:gdLst>
                <a:gd name="textAreaLeft" fmla="*/ 0 w 664200"/>
                <a:gd name="textAreaRight" fmla="*/ 664560 w 664200"/>
                <a:gd name="textAreaTop" fmla="*/ 0 h 510120"/>
                <a:gd name="textAreaBottom" fmla="*/ 510480 h 510120"/>
              </a:gdLst>
              <a:ahLst/>
              <a:rect l="textAreaLeft" t="textAreaTop" r="textAreaRight" b="textAreaBottom"/>
              <a:pathLst>
                <a:path w="886408" h="681134">
                  <a:moveTo>
                    <a:pt x="48211" y="0"/>
                  </a:moveTo>
                  <a:lnTo>
                    <a:pt x="365061" y="0"/>
                  </a:lnTo>
                  <a:lnTo>
                    <a:pt x="459533" y="116632"/>
                  </a:lnTo>
                  <a:lnTo>
                    <a:pt x="886408" y="116632"/>
                  </a:lnTo>
                  <a:lnTo>
                    <a:pt x="886408" y="632923"/>
                  </a:lnTo>
                  <a:cubicBezTo>
                    <a:pt x="886408" y="659549"/>
                    <a:pt x="864823" y="681134"/>
                    <a:pt x="838197" y="681134"/>
                  </a:cubicBezTo>
                  <a:lnTo>
                    <a:pt x="48211" y="681134"/>
                  </a:lnTo>
                  <a:cubicBezTo>
                    <a:pt x="21585" y="681134"/>
                    <a:pt x="0" y="659549"/>
                    <a:pt x="0" y="632923"/>
                  </a:cubicBezTo>
                  <a:lnTo>
                    <a:pt x="0" y="48211"/>
                  </a:lnTo>
                  <a:cubicBezTo>
                    <a:pt x="0" y="21585"/>
                    <a:pt x="21585" y="0"/>
                    <a:pt x="48211" y="0"/>
                  </a:cubicBezTo>
                  <a:close/>
                </a:path>
              </a:pathLst>
            </a:cu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2" name="任意多边形 480"/>
            <p:cNvSpPr/>
            <p:nvPr/>
          </p:nvSpPr>
          <p:spPr>
            <a:xfrm>
              <a:off x="744480" y="2107080"/>
              <a:ext cx="331920" cy="3384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43086" h="45719">
                  <a:moveTo>
                    <a:pt x="0" y="0"/>
                  </a:moveTo>
                  <a:lnTo>
                    <a:pt x="443086" y="0"/>
                  </a:lnTo>
                  <a:lnTo>
                    <a:pt x="443086" y="45719"/>
                  </a:lnTo>
                  <a:lnTo>
                    <a:pt x="32733" y="45719"/>
                  </a:lnTo>
                  <a:close/>
                </a:path>
              </a:pathLst>
            </a:cu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3" name="矩形 481"/>
            <p:cNvSpPr/>
            <p:nvPr/>
          </p:nvSpPr>
          <p:spPr>
            <a:xfrm>
              <a:off x="1034280" y="2107080"/>
              <a:ext cx="42120" cy="70200"/>
            </a:xfrm>
            <a:prstGeom prst="rect">
              <a:avLst/>
            </a:prstGeom>
            <a:solidFill>
              <a:srgbClr val="f8a9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5560" bIns="25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4" name="文本框 482"/>
          <p:cNvSpPr/>
          <p:nvPr/>
        </p:nvSpPr>
        <p:spPr>
          <a:xfrm>
            <a:off x="1099080" y="2106000"/>
            <a:ext cx="172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近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483"/>
          <p:cNvSpPr/>
          <p:nvPr/>
        </p:nvSpPr>
        <p:spPr>
          <a:xfrm>
            <a:off x="325800" y="2696760"/>
            <a:ext cx="396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已发送文件自动备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e3671b"/>
                </a:solidFill>
                <a:latin typeface="微软雅黑"/>
                <a:ea typeface="微软雅黑"/>
              </a:rPr>
              <a:t>历史文件轻松找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484"/>
          <p:cNvSpPr/>
          <p:nvPr/>
        </p:nvSpPr>
        <p:spPr>
          <a:xfrm>
            <a:off x="335880" y="3907440"/>
            <a:ext cx="500976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传送过的文件都自动备份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文件——最近文件”里，可支持保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也不用担心传送的文件丢失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9"/>
          <p:cNvSpPr/>
          <p:nvPr/>
        </p:nvSpPr>
        <p:spPr>
          <a:xfrm>
            <a:off x="232200" y="6370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c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图片 1" descr=""/>
          <p:cNvPicPr/>
          <p:nvPr/>
        </p:nvPicPr>
        <p:blipFill>
          <a:blip r:embed="rId1"/>
          <a:stretch/>
        </p:blipFill>
        <p:spPr>
          <a:xfrm>
            <a:off x="1548360" y="7106760"/>
            <a:ext cx="10296000" cy="5009760"/>
          </a:xfrm>
          <a:prstGeom prst="rect">
            <a:avLst/>
          </a:prstGeom>
          <a:ln w="0">
            <a:noFill/>
          </a:ln>
        </p:spPr>
      </p:pic>
      <p:grpSp>
        <p:nvGrpSpPr>
          <p:cNvPr id="1159" name="组合 43"/>
          <p:cNvGrpSpPr/>
          <p:nvPr/>
        </p:nvGrpSpPr>
        <p:grpSpPr>
          <a:xfrm>
            <a:off x="892800" y="1739880"/>
            <a:ext cx="4115880" cy="5117760"/>
            <a:chOff x="892800" y="1739880"/>
            <a:chExt cx="4115880" cy="5117760"/>
          </a:xfrm>
        </p:grpSpPr>
        <p:sp>
          <p:nvSpPr>
            <p:cNvPr id="1160" name="任意多边形 42"/>
            <p:cNvSpPr/>
            <p:nvPr/>
          </p:nvSpPr>
          <p:spPr>
            <a:xfrm>
              <a:off x="892800" y="1739880"/>
              <a:ext cx="4115880" cy="5117760"/>
            </a:xfrm>
            <a:custGeom>
              <a:avLst/>
              <a:gdLst>
                <a:gd name="textAreaLeft" fmla="*/ 0 w 4115880"/>
                <a:gd name="textAreaRight" fmla="*/ 4116240 w 4115880"/>
                <a:gd name="textAreaTop" fmla="*/ 0 h 5117760"/>
                <a:gd name="textAreaBottom" fmla="*/ 5118120 h 5117760"/>
              </a:gdLst>
              <a:ahLst/>
              <a:rect l="textAreaLeft" t="textAreaTop" r="textAreaRight" b="textAreaBottom"/>
              <a:pathLst>
                <a:path w="3387110" h="4211491">
                  <a:moveTo>
                    <a:pt x="564530" y="0"/>
                  </a:moveTo>
                  <a:lnTo>
                    <a:pt x="2822580" y="0"/>
                  </a:lnTo>
                  <a:cubicBezTo>
                    <a:pt x="3134361" y="0"/>
                    <a:pt x="3387110" y="252749"/>
                    <a:pt x="3387110" y="564530"/>
                  </a:cubicBezTo>
                  <a:lnTo>
                    <a:pt x="3387110" y="4211491"/>
                  </a:lnTo>
                  <a:lnTo>
                    <a:pt x="0" y="4211491"/>
                  </a:lnTo>
                  <a:lnTo>
                    <a:pt x="0" y="564530"/>
                  </a:lnTo>
                  <a:cubicBezTo>
                    <a:pt x="0" y="252749"/>
                    <a:pt x="252749" y="0"/>
                    <a:pt x="564530" y="0"/>
                  </a:cubicBezTo>
                  <a:close/>
                </a:path>
              </a:pathLst>
            </a:custGeom>
            <a:solidFill>
              <a:srgbClr val="454c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1" name="任意多边形 41"/>
            <p:cNvSpPr/>
            <p:nvPr/>
          </p:nvSpPr>
          <p:spPr>
            <a:xfrm>
              <a:off x="1080000" y="2913480"/>
              <a:ext cx="3741840" cy="3944160"/>
            </a:xfrm>
            <a:custGeom>
              <a:avLst/>
              <a:gdLst>
                <a:gd name="textAreaLeft" fmla="*/ 0 w 3741840"/>
                <a:gd name="textAreaRight" fmla="*/ 3742200 w 3741840"/>
                <a:gd name="textAreaTop" fmla="*/ 0 h 3944160"/>
                <a:gd name="textAreaBottom" fmla="*/ 3944520 h 3944160"/>
              </a:gdLst>
              <a:ahLst/>
              <a:rect l="textAreaLeft" t="textAreaTop" r="textAreaRight" b="textAreaBottom"/>
              <a:pathLst>
                <a:path w="3079188" h="3245847">
                  <a:moveTo>
                    <a:pt x="0" y="0"/>
                  </a:moveTo>
                  <a:lnTo>
                    <a:pt x="3079188" y="0"/>
                  </a:lnTo>
                  <a:lnTo>
                    <a:pt x="3079188" y="3245847"/>
                  </a:lnTo>
                  <a:lnTo>
                    <a:pt x="0" y="3245847"/>
                  </a:lnTo>
                  <a:close/>
                </a:path>
              </a:pathLst>
            </a:custGeom>
            <a:solidFill>
              <a:srgbClr val="ace1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62" name="组合 29"/>
            <p:cNvGrpSpPr/>
            <p:nvPr/>
          </p:nvGrpSpPr>
          <p:grpSpPr>
            <a:xfrm>
              <a:off x="2413800" y="2100240"/>
              <a:ext cx="1051200" cy="444600"/>
              <a:chOff x="2413800" y="2100240"/>
              <a:chExt cx="1051200" cy="444600"/>
            </a:xfrm>
          </p:grpSpPr>
          <p:sp>
            <p:nvSpPr>
              <p:cNvPr id="1163" name="椭圆 31"/>
              <p:cNvSpPr/>
              <p:nvPr/>
            </p:nvSpPr>
            <p:spPr>
              <a:xfrm>
                <a:off x="2828880" y="2100240"/>
                <a:ext cx="221400" cy="22140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4" name="圆角矩形 32"/>
              <p:cNvSpPr/>
              <p:nvPr/>
            </p:nvSpPr>
            <p:spPr>
              <a:xfrm>
                <a:off x="2413800" y="2405520"/>
                <a:ext cx="1051200" cy="139320"/>
              </a:xfrm>
              <a:prstGeom prst="roundRect">
                <a:avLst>
                  <a:gd name="adj" fmla="val 16667"/>
                </a:avLst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65" name="圆角矩形 44"/>
          <p:cNvSpPr/>
          <p:nvPr/>
        </p:nvSpPr>
        <p:spPr>
          <a:xfrm>
            <a:off x="1938600" y="6108840"/>
            <a:ext cx="2006280" cy="456840"/>
          </a:xfrm>
          <a:prstGeom prst="roundRect">
            <a:avLst>
              <a:gd name="adj" fmla="val 16667"/>
            </a:avLst>
          </a:prstGeom>
          <a:solidFill>
            <a:srgbClr val="5dc5f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线预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组合 62"/>
          <p:cNvGrpSpPr/>
          <p:nvPr/>
        </p:nvGrpSpPr>
        <p:grpSpPr>
          <a:xfrm>
            <a:off x="10089000" y="2405520"/>
            <a:ext cx="1335240" cy="594720"/>
            <a:chOff x="10089000" y="2405520"/>
            <a:chExt cx="1335240" cy="594720"/>
          </a:xfrm>
        </p:grpSpPr>
        <p:sp>
          <p:nvSpPr>
            <p:cNvPr id="1167" name="任意多边形 58"/>
            <p:cNvSpPr/>
            <p:nvPr/>
          </p:nvSpPr>
          <p:spPr>
            <a:xfrm>
              <a:off x="10089000" y="2405520"/>
              <a:ext cx="1335240" cy="59472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594720"/>
                <a:gd name="textAreaBottom" fmla="*/ 595080 h 594720"/>
              </a:gdLst>
              <a:ahLst/>
              <a:rect l="textAreaLeft" t="textAreaTop" r="textAreaRight" b="textAreaBottom"/>
              <a:pathLst>
                <a:path w="1335778" h="595034">
                  <a:moveTo>
                    <a:pt x="667889" y="0"/>
                  </a:moveTo>
                  <a:cubicBezTo>
                    <a:pt x="922147" y="0"/>
                    <a:pt x="1146317" y="89146"/>
                    <a:pt x="1278689" y="224734"/>
                  </a:cubicBezTo>
                  <a:lnTo>
                    <a:pt x="1335778" y="297517"/>
                  </a:lnTo>
                  <a:lnTo>
                    <a:pt x="1278689" y="370300"/>
                  </a:lnTo>
                  <a:cubicBezTo>
                    <a:pt x="1146317" y="505888"/>
                    <a:pt x="922147" y="595034"/>
                    <a:pt x="667889" y="595034"/>
                  </a:cubicBezTo>
                  <a:cubicBezTo>
                    <a:pt x="413631" y="595034"/>
                    <a:pt x="189461" y="505888"/>
                    <a:pt x="57089" y="370300"/>
                  </a:cubicBezTo>
                  <a:lnTo>
                    <a:pt x="0" y="297517"/>
                  </a:lnTo>
                  <a:lnTo>
                    <a:pt x="57089" y="224734"/>
                  </a:lnTo>
                  <a:cubicBezTo>
                    <a:pt x="189461" y="89146"/>
                    <a:pt x="413631" y="0"/>
                    <a:pt x="667889" y="0"/>
                  </a:cubicBezTo>
                  <a:close/>
                </a:path>
              </a:pathLst>
            </a:custGeom>
            <a:solidFill>
              <a:srgbClr val="47852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8" name="椭圆 59"/>
            <p:cNvSpPr/>
            <p:nvPr/>
          </p:nvSpPr>
          <p:spPr>
            <a:xfrm>
              <a:off x="10483200" y="2420280"/>
              <a:ext cx="546840" cy="546840"/>
            </a:xfrm>
            <a:prstGeom prst="ellipse">
              <a:avLst/>
            </a:pr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9" name="椭圆 60"/>
            <p:cNvSpPr/>
            <p:nvPr/>
          </p:nvSpPr>
          <p:spPr>
            <a:xfrm>
              <a:off x="10568520" y="2505600"/>
              <a:ext cx="376200" cy="376200"/>
            </a:xfrm>
            <a:prstGeom prst="ellipse">
              <a:avLst/>
            </a:prstGeom>
            <a:solidFill>
              <a:srgbClr val="47852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0" name="任意多边形 48"/>
            <p:cNvSpPr/>
            <p:nvPr/>
          </p:nvSpPr>
          <p:spPr>
            <a:xfrm rot="2682000">
              <a:off x="10639440" y="2485440"/>
              <a:ext cx="64440" cy="227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56954" h="550882">
                  <a:moveTo>
                    <a:pt x="95025" y="1726"/>
                  </a:moveTo>
                  <a:cubicBezTo>
                    <a:pt x="122806" y="-4624"/>
                    <a:pt x="155350" y="5694"/>
                    <a:pt x="156938" y="46969"/>
                  </a:cubicBezTo>
                  <a:cubicBezTo>
                    <a:pt x="49781" y="184287"/>
                    <a:pt x="80738" y="385900"/>
                    <a:pt x="156938" y="501788"/>
                  </a:cubicBezTo>
                  <a:cubicBezTo>
                    <a:pt x="157731" y="531950"/>
                    <a:pt x="129950" y="557351"/>
                    <a:pt x="95025" y="549413"/>
                  </a:cubicBezTo>
                  <a:cubicBezTo>
                    <a:pt x="-15306" y="382726"/>
                    <a:pt x="-47055" y="185082"/>
                    <a:pt x="95025" y="1726"/>
                  </a:cubicBezTo>
                  <a:close/>
                </a:path>
              </a:pathLst>
            </a:cu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1" name="椭圆 61"/>
            <p:cNvSpPr/>
            <p:nvPr/>
          </p:nvSpPr>
          <p:spPr>
            <a:xfrm rot="19128000">
              <a:off x="10806480" y="2723040"/>
              <a:ext cx="139320" cy="91080"/>
            </a:xfrm>
            <a:prstGeom prst="ellipse">
              <a:avLst/>
            </a:prstGeom>
            <a:solidFill>
              <a:srgbClr val="84ca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72" name="文本框 63"/>
          <p:cNvSpPr/>
          <p:nvPr/>
        </p:nvSpPr>
        <p:spPr>
          <a:xfrm>
            <a:off x="7721640" y="2505600"/>
            <a:ext cx="2335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在线预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64"/>
          <p:cNvSpPr/>
          <p:nvPr/>
        </p:nvSpPr>
        <p:spPr>
          <a:xfrm>
            <a:off x="5862960" y="3211560"/>
            <a:ext cx="574452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e3671b"/>
                </a:solidFill>
                <a:latin typeface="微软雅黑"/>
                <a:ea typeface="微软雅黑"/>
              </a:rPr>
              <a:t>支持多种文件格式，及时响应工作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格式的文件均可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端预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PG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M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I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G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X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C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L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LS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RTF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压缩包…等多种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16"/>
          <p:cNvGrpSpPr/>
          <p:nvPr/>
        </p:nvGrpSpPr>
        <p:grpSpPr>
          <a:xfrm>
            <a:off x="1743480" y="4727880"/>
            <a:ext cx="699840" cy="666720"/>
            <a:chOff x="1743480" y="4727880"/>
            <a:chExt cx="699840" cy="666720"/>
          </a:xfrm>
        </p:grpSpPr>
        <p:sp>
          <p:nvSpPr>
            <p:cNvPr id="1175" name="矩形 100"/>
            <p:cNvSpPr/>
            <p:nvPr/>
          </p:nvSpPr>
          <p:spPr>
            <a:xfrm rot="18344400">
              <a:off x="1826280" y="480492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76" name="组合 161"/>
            <p:cNvGrpSpPr/>
            <p:nvPr/>
          </p:nvGrpSpPr>
          <p:grpSpPr>
            <a:xfrm>
              <a:off x="1876320" y="4830120"/>
              <a:ext cx="567000" cy="564480"/>
              <a:chOff x="1876320" y="4830120"/>
              <a:chExt cx="567000" cy="564480"/>
            </a:xfrm>
          </p:grpSpPr>
          <p:sp>
            <p:nvSpPr>
              <p:cNvPr id="1177" name="矩形 159"/>
              <p:cNvSpPr/>
              <p:nvPr/>
            </p:nvSpPr>
            <p:spPr>
              <a:xfrm rot="18344400">
                <a:off x="1959120" y="490716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8" name="等腰三角形 160"/>
              <p:cNvSpPr/>
              <p:nvPr/>
            </p:nvSpPr>
            <p:spPr>
              <a:xfrm rot="2144400">
                <a:off x="2055240" y="5001120"/>
                <a:ext cx="227520" cy="196200"/>
              </a:xfrm>
              <a:prstGeom prst="triangle">
                <a:avLst>
                  <a:gd name="adj" fmla="val 50000"/>
                </a:avLst>
              </a:prstGeom>
              <a:solidFill>
                <a:srgbClr val="6fb9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9" name="组合 18"/>
          <p:cNvGrpSpPr/>
          <p:nvPr/>
        </p:nvGrpSpPr>
        <p:grpSpPr>
          <a:xfrm>
            <a:off x="3106800" y="3135600"/>
            <a:ext cx="549360" cy="666720"/>
            <a:chOff x="3106800" y="3135600"/>
            <a:chExt cx="549360" cy="666720"/>
          </a:xfrm>
        </p:grpSpPr>
        <p:sp>
          <p:nvSpPr>
            <p:cNvPr id="1180" name="矩形 101"/>
            <p:cNvSpPr/>
            <p:nvPr/>
          </p:nvSpPr>
          <p:spPr>
            <a:xfrm rot="1051200">
              <a:off x="3202920" y="31863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81" name="组合 166"/>
            <p:cNvGrpSpPr/>
            <p:nvPr/>
          </p:nvGrpSpPr>
          <p:grpSpPr>
            <a:xfrm>
              <a:off x="3106800" y="3290760"/>
              <a:ext cx="505440" cy="511560"/>
              <a:chOff x="3106800" y="3290760"/>
              <a:chExt cx="505440" cy="511560"/>
            </a:xfrm>
          </p:grpSpPr>
          <p:sp>
            <p:nvSpPr>
              <p:cNvPr id="1182" name="矩形 163"/>
              <p:cNvSpPr/>
              <p:nvPr/>
            </p:nvSpPr>
            <p:spPr>
              <a:xfrm rot="1051200">
                <a:off x="3159000" y="33415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3" name="文本框 165"/>
              <p:cNvSpPr/>
              <p:nvPr/>
            </p:nvSpPr>
            <p:spPr>
              <a:xfrm rot="1051200">
                <a:off x="3269880" y="3405240"/>
                <a:ext cx="166320" cy="2908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94432" h="178482">
                    <a:moveTo>
                      <a:pt x="41189" y="140196"/>
                    </a:moveTo>
                    <a:cubicBezTo>
                      <a:pt x="46919" y="140196"/>
                      <a:pt x="51848" y="142001"/>
                      <a:pt x="55978" y="145610"/>
                    </a:cubicBezTo>
                    <a:cubicBezTo>
                      <a:pt x="60108" y="149219"/>
                      <a:pt x="62173" y="153777"/>
                      <a:pt x="62173" y="159283"/>
                    </a:cubicBezTo>
                    <a:cubicBezTo>
                      <a:pt x="62173" y="164715"/>
                      <a:pt x="60239" y="169273"/>
                      <a:pt x="56369" y="172957"/>
                    </a:cubicBezTo>
                    <a:cubicBezTo>
                      <a:pt x="52500" y="176640"/>
                      <a:pt x="47849" y="178482"/>
                      <a:pt x="42416" y="178482"/>
                    </a:cubicBezTo>
                    <a:cubicBezTo>
                      <a:pt x="35496" y="178482"/>
                      <a:pt x="29989" y="176584"/>
                      <a:pt x="25897" y="172789"/>
                    </a:cubicBezTo>
                    <a:cubicBezTo>
                      <a:pt x="21804" y="168994"/>
                      <a:pt x="19757" y="164492"/>
                      <a:pt x="19757" y="159283"/>
                    </a:cubicBezTo>
                    <a:cubicBezTo>
                      <a:pt x="19757" y="153777"/>
                      <a:pt x="21841" y="149219"/>
                      <a:pt x="26008" y="145610"/>
                    </a:cubicBezTo>
                    <a:cubicBezTo>
                      <a:pt x="30175" y="142001"/>
                      <a:pt x="35236" y="140196"/>
                      <a:pt x="41189" y="140196"/>
                    </a:cubicBezTo>
                    <a:close/>
                    <a:moveTo>
                      <a:pt x="42416" y="0"/>
                    </a:moveTo>
                    <a:cubicBezTo>
                      <a:pt x="58490" y="0"/>
                      <a:pt x="71177" y="3721"/>
                      <a:pt x="80479" y="11162"/>
                    </a:cubicBezTo>
                    <a:cubicBezTo>
                      <a:pt x="89781" y="18603"/>
                      <a:pt x="94432" y="29207"/>
                      <a:pt x="94432" y="42974"/>
                    </a:cubicBezTo>
                    <a:cubicBezTo>
                      <a:pt x="94432" y="51234"/>
                      <a:pt x="92609" y="58713"/>
                      <a:pt x="88962" y="65410"/>
                    </a:cubicBezTo>
                    <a:cubicBezTo>
                      <a:pt x="85316" y="72107"/>
                      <a:pt x="78619" y="79437"/>
                      <a:pt x="68871" y="87399"/>
                    </a:cubicBezTo>
                    <a:cubicBezTo>
                      <a:pt x="61057" y="93948"/>
                      <a:pt x="56220" y="99045"/>
                      <a:pt x="54360" y="102691"/>
                    </a:cubicBezTo>
                    <a:cubicBezTo>
                      <a:pt x="52500" y="106338"/>
                      <a:pt x="51569" y="110207"/>
                      <a:pt x="51569" y="114300"/>
                    </a:cubicBezTo>
                    <a:cubicBezTo>
                      <a:pt x="51569" y="118318"/>
                      <a:pt x="52574" y="122225"/>
                      <a:pt x="54583" y="126020"/>
                    </a:cubicBezTo>
                    <a:lnTo>
                      <a:pt x="24334" y="126020"/>
                    </a:lnTo>
                    <a:cubicBezTo>
                      <a:pt x="22548" y="121183"/>
                      <a:pt x="21655" y="116197"/>
                      <a:pt x="21655" y="111063"/>
                    </a:cubicBezTo>
                    <a:cubicBezTo>
                      <a:pt x="21655" y="98487"/>
                      <a:pt x="27608" y="87176"/>
                      <a:pt x="39514" y="77130"/>
                    </a:cubicBezTo>
                    <a:cubicBezTo>
                      <a:pt x="46881" y="70879"/>
                      <a:pt x="51867" y="65670"/>
                      <a:pt x="54472" y="61503"/>
                    </a:cubicBezTo>
                    <a:cubicBezTo>
                      <a:pt x="57076" y="57336"/>
                      <a:pt x="58378" y="52834"/>
                      <a:pt x="58378" y="47997"/>
                    </a:cubicBezTo>
                    <a:cubicBezTo>
                      <a:pt x="58378" y="42714"/>
                      <a:pt x="56518" y="38379"/>
                      <a:pt x="52797" y="34993"/>
                    </a:cubicBezTo>
                    <a:cubicBezTo>
                      <a:pt x="49077" y="31607"/>
                      <a:pt x="44277" y="29914"/>
                      <a:pt x="38398" y="29914"/>
                    </a:cubicBezTo>
                    <a:cubicBezTo>
                      <a:pt x="24632" y="29914"/>
                      <a:pt x="11832" y="35198"/>
                      <a:pt x="0" y="45765"/>
                    </a:cubicBezTo>
                    <a:lnTo>
                      <a:pt x="0" y="11162"/>
                    </a:lnTo>
                    <a:cubicBezTo>
                      <a:pt x="12428" y="3721"/>
                      <a:pt x="26566" y="0"/>
                      <a:pt x="42416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horzOverflow="overflow" vertOverflow="overflow" anchor="t">
                <a:noAutofit/>
              </a:bodyPr>
              <a:p>
                <a:pPr>
                  <a:lnSpc>
                    <a:spcPct val="100000"/>
                  </a:lnSpc>
                </a:pPr>
                <a:endPara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184" name="组合 17"/>
          <p:cNvGrpSpPr/>
          <p:nvPr/>
        </p:nvGrpSpPr>
        <p:grpSpPr>
          <a:xfrm>
            <a:off x="2687400" y="4543200"/>
            <a:ext cx="585000" cy="713520"/>
            <a:chOff x="2687400" y="4543200"/>
            <a:chExt cx="585000" cy="713520"/>
          </a:xfrm>
        </p:grpSpPr>
        <p:sp>
          <p:nvSpPr>
            <p:cNvPr id="1185" name="矩形 98"/>
            <p:cNvSpPr/>
            <p:nvPr/>
          </p:nvSpPr>
          <p:spPr>
            <a:xfrm rot="20410800">
              <a:off x="2745000" y="459864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86" name="组合 2"/>
            <p:cNvGrpSpPr/>
            <p:nvPr/>
          </p:nvGrpSpPr>
          <p:grpSpPr>
            <a:xfrm>
              <a:off x="2756520" y="4735080"/>
              <a:ext cx="515880" cy="521640"/>
              <a:chOff x="2756520" y="4735080"/>
              <a:chExt cx="515880" cy="521640"/>
            </a:xfrm>
          </p:grpSpPr>
          <p:sp>
            <p:nvSpPr>
              <p:cNvPr id="1187" name="矩形 46"/>
              <p:cNvSpPr/>
              <p:nvPr/>
            </p:nvSpPr>
            <p:spPr>
              <a:xfrm rot="20410800">
                <a:off x="2814120" y="47905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8" name="十字形 51"/>
              <p:cNvSpPr/>
              <p:nvPr/>
            </p:nvSpPr>
            <p:spPr>
              <a:xfrm flipV="1" rot="1482000">
                <a:off x="2940840" y="4920840"/>
                <a:ext cx="172440" cy="176760"/>
              </a:xfrm>
              <a:prstGeom prst="plus">
                <a:avLst>
                  <a:gd name="adj" fmla="val 41627"/>
                </a:avLst>
              </a:prstGeom>
              <a:solidFill>
                <a:srgbClr val="6fb9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9" name="组合 19"/>
          <p:cNvGrpSpPr/>
          <p:nvPr/>
        </p:nvGrpSpPr>
        <p:grpSpPr>
          <a:xfrm>
            <a:off x="3742560" y="4142160"/>
            <a:ext cx="737640" cy="728640"/>
            <a:chOff x="3742560" y="4142160"/>
            <a:chExt cx="737640" cy="728640"/>
          </a:xfrm>
        </p:grpSpPr>
        <p:sp>
          <p:nvSpPr>
            <p:cNvPr id="1190" name="矩形 91"/>
            <p:cNvSpPr/>
            <p:nvPr/>
          </p:nvSpPr>
          <p:spPr>
            <a:xfrm rot="2793600">
              <a:off x="3993120" y="422352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91" name="组合 3"/>
            <p:cNvGrpSpPr/>
            <p:nvPr/>
          </p:nvGrpSpPr>
          <p:grpSpPr>
            <a:xfrm>
              <a:off x="3742560" y="4298040"/>
              <a:ext cx="573120" cy="572760"/>
              <a:chOff x="3742560" y="4298040"/>
              <a:chExt cx="573120" cy="572760"/>
            </a:xfrm>
          </p:grpSpPr>
          <p:sp>
            <p:nvSpPr>
              <p:cNvPr id="1192" name="矩形 49"/>
              <p:cNvSpPr/>
              <p:nvPr/>
            </p:nvSpPr>
            <p:spPr>
              <a:xfrm rot="2793600">
                <a:off x="3828600" y="43794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3" name="图片 52"/>
              <p:cNvSpPr/>
              <p:nvPr/>
            </p:nvSpPr>
            <p:spPr>
              <a:xfrm rot="2793600">
                <a:off x="3881160" y="4490280"/>
                <a:ext cx="258120" cy="23364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303199" h="274344">
                    <a:moveTo>
                      <a:pt x="0" y="0"/>
                    </a:moveTo>
                    <a:lnTo>
                      <a:pt x="303199" y="0"/>
                    </a:lnTo>
                    <a:lnTo>
                      <a:pt x="303199" y="274344"/>
                    </a:lnTo>
                    <a:lnTo>
                      <a:pt x="0" y="2743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4" name="组合 14"/>
          <p:cNvGrpSpPr/>
          <p:nvPr/>
        </p:nvGrpSpPr>
        <p:grpSpPr>
          <a:xfrm>
            <a:off x="2158920" y="3362400"/>
            <a:ext cx="401760" cy="586440"/>
            <a:chOff x="2158920" y="3362400"/>
            <a:chExt cx="401760" cy="586440"/>
          </a:xfrm>
        </p:grpSpPr>
        <p:sp>
          <p:nvSpPr>
            <p:cNvPr id="1195" name="矩形 87"/>
            <p:cNvSpPr/>
            <p:nvPr/>
          </p:nvSpPr>
          <p:spPr>
            <a:xfrm>
              <a:off x="2160000" y="336240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96" name="组合 4"/>
            <p:cNvGrpSpPr/>
            <p:nvPr/>
          </p:nvGrpSpPr>
          <p:grpSpPr>
            <a:xfrm>
              <a:off x="2158920" y="3538800"/>
              <a:ext cx="400680" cy="410040"/>
              <a:chOff x="2158920" y="3538800"/>
              <a:chExt cx="400680" cy="410040"/>
            </a:xfrm>
          </p:grpSpPr>
          <p:sp>
            <p:nvSpPr>
              <p:cNvPr id="1197" name="矩形 50"/>
              <p:cNvSpPr/>
              <p:nvPr/>
            </p:nvSpPr>
            <p:spPr>
              <a:xfrm>
                <a:off x="2158920" y="35388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198" name="组合 35"/>
              <p:cNvGrpSpPr/>
              <p:nvPr/>
            </p:nvGrpSpPr>
            <p:grpSpPr>
              <a:xfrm>
                <a:off x="2220840" y="3664080"/>
                <a:ext cx="279720" cy="154080"/>
                <a:chOff x="2220840" y="3664080"/>
                <a:chExt cx="279720" cy="154080"/>
              </a:xfrm>
            </p:grpSpPr>
            <p:sp>
              <p:nvSpPr>
                <p:cNvPr id="1199" name="任意多边形 36"/>
                <p:cNvSpPr/>
                <p:nvPr/>
              </p:nvSpPr>
              <p:spPr>
                <a:xfrm>
                  <a:off x="2220840" y="3708360"/>
                  <a:ext cx="279720" cy="109800"/>
                </a:xfrm>
                <a:custGeom>
                  <a:avLst/>
                  <a:gdLst>
                    <a:gd name="textAreaLeft" fmla="*/ 0 w 279720"/>
                    <a:gd name="textAreaRight" fmla="*/ 280080 w 27972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94d47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200" name="组合 37"/>
                <p:cNvGrpSpPr/>
                <p:nvPr/>
              </p:nvGrpSpPr>
              <p:grpSpPr>
                <a:xfrm>
                  <a:off x="2410200" y="3664080"/>
                  <a:ext cx="51120" cy="52200"/>
                  <a:chOff x="2410200" y="3664080"/>
                  <a:chExt cx="51120" cy="52200"/>
                </a:xfrm>
              </p:grpSpPr>
              <p:sp>
                <p:nvSpPr>
                  <p:cNvPr id="1201" name="等腰三角形 38"/>
                  <p:cNvSpPr/>
                  <p:nvPr/>
                </p:nvSpPr>
                <p:spPr>
                  <a:xfrm>
                    <a:off x="2421360" y="3664080"/>
                    <a:ext cx="28800" cy="11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2880" bIns="2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2" name="等腰三角形 39"/>
                  <p:cNvSpPr/>
                  <p:nvPr/>
                </p:nvSpPr>
                <p:spPr>
                  <a:xfrm>
                    <a:off x="2410200" y="3673800"/>
                    <a:ext cx="51120" cy="20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5040" bIns="50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3" name="矩形 40"/>
                  <p:cNvSpPr/>
                  <p:nvPr/>
                </p:nvSpPr>
                <p:spPr>
                  <a:xfrm>
                    <a:off x="2432520" y="3687480"/>
                    <a:ext cx="6480" cy="28800"/>
                  </a:xfrm>
                  <a:prstGeom prst="rect">
                    <a:avLst/>
                  </a:prstGeom>
                  <a:solidFill>
                    <a:srgbClr val="94d47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4400" bIns="14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1204" name="组合 26"/>
          <p:cNvGrpSpPr/>
          <p:nvPr/>
        </p:nvGrpSpPr>
        <p:grpSpPr>
          <a:xfrm>
            <a:off x="2730240" y="3934440"/>
            <a:ext cx="485640" cy="626400"/>
            <a:chOff x="2730240" y="3934440"/>
            <a:chExt cx="485640" cy="626400"/>
          </a:xfrm>
        </p:grpSpPr>
        <p:sp>
          <p:nvSpPr>
            <p:cNvPr id="1205" name="矩形 88"/>
            <p:cNvSpPr/>
            <p:nvPr/>
          </p:nvSpPr>
          <p:spPr>
            <a:xfrm rot="449400">
              <a:off x="2790000" y="39585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06" name="组合 6"/>
            <p:cNvGrpSpPr/>
            <p:nvPr/>
          </p:nvGrpSpPr>
          <p:grpSpPr>
            <a:xfrm>
              <a:off x="2730240" y="4102200"/>
              <a:ext cx="450720" cy="458640"/>
              <a:chOff x="2730240" y="4102200"/>
              <a:chExt cx="450720" cy="458640"/>
            </a:xfrm>
          </p:grpSpPr>
          <p:sp>
            <p:nvSpPr>
              <p:cNvPr id="1207" name="矩形 54"/>
              <p:cNvSpPr/>
              <p:nvPr/>
            </p:nvSpPr>
            <p:spPr>
              <a:xfrm rot="449400">
                <a:off x="2755080" y="412632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8" name="图片 5" descr=""/>
              <p:cNvPicPr/>
              <p:nvPr/>
            </p:nvPicPr>
            <p:blipFill>
              <a:blip r:embed="rId3"/>
              <a:stretch/>
            </p:blipFill>
            <p:spPr>
              <a:xfrm rot="449400">
                <a:off x="2838600" y="4210560"/>
                <a:ext cx="259200" cy="259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9" name="组合 21"/>
          <p:cNvGrpSpPr/>
          <p:nvPr/>
        </p:nvGrpSpPr>
        <p:grpSpPr>
          <a:xfrm>
            <a:off x="3553560" y="4963320"/>
            <a:ext cx="693360" cy="718560"/>
            <a:chOff x="3553560" y="4963320"/>
            <a:chExt cx="693360" cy="718560"/>
          </a:xfrm>
        </p:grpSpPr>
        <p:sp>
          <p:nvSpPr>
            <p:cNvPr id="1210" name="矩形 97"/>
            <p:cNvSpPr/>
            <p:nvPr/>
          </p:nvSpPr>
          <p:spPr>
            <a:xfrm rot="2185800">
              <a:off x="3763440" y="504216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1" name="组合 9"/>
            <p:cNvGrpSpPr/>
            <p:nvPr/>
          </p:nvGrpSpPr>
          <p:grpSpPr>
            <a:xfrm>
              <a:off x="3553560" y="5114160"/>
              <a:ext cx="565920" cy="567720"/>
              <a:chOff x="3553560" y="5114160"/>
              <a:chExt cx="565920" cy="567720"/>
            </a:xfrm>
          </p:grpSpPr>
          <p:sp>
            <p:nvSpPr>
              <p:cNvPr id="1212" name="矩形 57"/>
              <p:cNvSpPr/>
              <p:nvPr/>
            </p:nvSpPr>
            <p:spPr>
              <a:xfrm rot="2185800">
                <a:off x="3636000" y="519300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3" name="图片 8" descr=""/>
              <p:cNvPicPr/>
              <p:nvPr/>
            </p:nvPicPr>
            <p:blipFill>
              <a:blip r:embed="rId4"/>
              <a:srcRect l="13210" t="22336" r="68271" b="47192"/>
              <a:stretch/>
            </p:blipFill>
            <p:spPr>
              <a:xfrm rot="2185800">
                <a:off x="3723120" y="5304600"/>
                <a:ext cx="228240" cy="18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4" name="组合 20"/>
          <p:cNvGrpSpPr/>
          <p:nvPr/>
        </p:nvGrpSpPr>
        <p:grpSpPr>
          <a:xfrm>
            <a:off x="1339200" y="4018320"/>
            <a:ext cx="679680" cy="739800"/>
            <a:chOff x="1339200" y="4018320"/>
            <a:chExt cx="679680" cy="739800"/>
          </a:xfrm>
        </p:grpSpPr>
        <p:sp>
          <p:nvSpPr>
            <p:cNvPr id="1215" name="矩形 96"/>
            <p:cNvSpPr/>
            <p:nvPr/>
          </p:nvSpPr>
          <p:spPr>
            <a:xfrm rot="19617600">
              <a:off x="1418400" y="4094280"/>
              <a:ext cx="400680" cy="410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6" name="组合 11"/>
            <p:cNvGrpSpPr/>
            <p:nvPr/>
          </p:nvGrpSpPr>
          <p:grpSpPr>
            <a:xfrm>
              <a:off x="1459440" y="4195800"/>
              <a:ext cx="559440" cy="562320"/>
              <a:chOff x="1459440" y="4195800"/>
              <a:chExt cx="559440" cy="562320"/>
            </a:xfrm>
          </p:grpSpPr>
          <p:sp>
            <p:nvSpPr>
              <p:cNvPr id="1217" name="矩形 56"/>
              <p:cNvSpPr/>
              <p:nvPr/>
            </p:nvSpPr>
            <p:spPr>
              <a:xfrm rot="19617600">
                <a:off x="1538640" y="4271760"/>
                <a:ext cx="400680" cy="4100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8" name="图片 10" descr=""/>
              <p:cNvPicPr/>
              <p:nvPr/>
            </p:nvPicPr>
            <p:blipFill>
              <a:blip r:embed="rId5"/>
              <a:stretch/>
            </p:blipFill>
            <p:spPr>
              <a:xfrm rot="19617000">
                <a:off x="1606320" y="4356360"/>
                <a:ext cx="210600" cy="27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9" name="组合 15"/>
          <p:cNvGrpSpPr/>
          <p:nvPr/>
        </p:nvGrpSpPr>
        <p:grpSpPr>
          <a:xfrm>
            <a:off x="3524400" y="3635640"/>
            <a:ext cx="628560" cy="680760"/>
            <a:chOff x="3524400" y="3635640"/>
            <a:chExt cx="628560" cy="680760"/>
          </a:xfrm>
        </p:grpSpPr>
        <p:sp>
          <p:nvSpPr>
            <p:cNvPr id="1220" name="矩形 89"/>
            <p:cNvSpPr/>
            <p:nvPr/>
          </p:nvSpPr>
          <p:spPr>
            <a:xfrm rot="1806000">
              <a:off x="3671280" y="3710520"/>
              <a:ext cx="407880" cy="403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21" name="组合 12"/>
            <p:cNvGrpSpPr/>
            <p:nvPr/>
          </p:nvGrpSpPr>
          <p:grpSpPr>
            <a:xfrm>
              <a:off x="3524400" y="3807720"/>
              <a:ext cx="528840" cy="508680"/>
              <a:chOff x="3524400" y="3807720"/>
              <a:chExt cx="528840" cy="508680"/>
            </a:xfrm>
          </p:grpSpPr>
          <p:sp>
            <p:nvSpPr>
              <p:cNvPr id="1222" name="矩形 70"/>
              <p:cNvSpPr/>
              <p:nvPr/>
            </p:nvSpPr>
            <p:spPr>
              <a:xfrm rot="1806000">
                <a:off x="3584520" y="3886200"/>
                <a:ext cx="407880" cy="35136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223" name="组合 71"/>
              <p:cNvGrpSpPr/>
              <p:nvPr/>
            </p:nvGrpSpPr>
            <p:grpSpPr>
              <a:xfrm>
                <a:off x="3775680" y="4041720"/>
                <a:ext cx="183240" cy="145080"/>
                <a:chOff x="3775680" y="4041720"/>
                <a:chExt cx="183240" cy="145080"/>
              </a:xfrm>
            </p:grpSpPr>
            <p:sp>
              <p:nvSpPr>
                <p:cNvPr id="1224" name="任意多边形 78"/>
                <p:cNvSpPr/>
                <p:nvPr/>
              </p:nvSpPr>
              <p:spPr>
                <a:xfrm rot="1806000">
                  <a:off x="3780720" y="4080240"/>
                  <a:ext cx="172800" cy="6768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733425" h="321152">
                      <a:moveTo>
                        <a:pt x="0" y="321152"/>
                      </a:moveTo>
                      <a:cubicBezTo>
                        <a:pt x="15875" y="288344"/>
                        <a:pt x="31221" y="268765"/>
                        <a:pt x="47625" y="257652"/>
                      </a:cubicBezTo>
                      <a:cubicBezTo>
                        <a:pt x="118004" y="294165"/>
                        <a:pt x="147108" y="188860"/>
                        <a:pt x="174625" y="159227"/>
                      </a:cubicBezTo>
                      <a:cubicBezTo>
                        <a:pt x="219075" y="72444"/>
                        <a:pt x="282575" y="119010"/>
                        <a:pt x="288925" y="156052"/>
                      </a:cubicBezTo>
                      <a:cubicBezTo>
                        <a:pt x="390525" y="305277"/>
                        <a:pt x="400050" y="117952"/>
                        <a:pt x="441325" y="89377"/>
                      </a:cubicBezTo>
                      <a:cubicBezTo>
                        <a:pt x="490008" y="-10106"/>
                        <a:pt x="605367" y="-42915"/>
                        <a:pt x="650875" y="76677"/>
                      </a:cubicBezTo>
                      <a:cubicBezTo>
                        <a:pt x="674158" y="113719"/>
                        <a:pt x="722842" y="239660"/>
                        <a:pt x="733425" y="321152"/>
                      </a:cubicBezTo>
                      <a:lnTo>
                        <a:pt x="0" y="321152"/>
                      </a:lnTo>
                      <a:close/>
                    </a:path>
                  </a:pathLst>
                </a:custGeom>
                <a:solidFill>
                  <a:srgbClr val="00a5e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grpSp>
              <p:nvGrpSpPr>
                <p:cNvPr id="1225" name="组合 79"/>
                <p:cNvGrpSpPr/>
                <p:nvPr/>
              </p:nvGrpSpPr>
              <p:grpSpPr>
                <a:xfrm>
                  <a:off x="3915360" y="4080240"/>
                  <a:ext cx="33840" cy="33480"/>
                  <a:chOff x="3915360" y="4080240"/>
                  <a:chExt cx="33840" cy="33480"/>
                </a:xfrm>
              </p:grpSpPr>
              <p:sp>
                <p:nvSpPr>
                  <p:cNvPr id="1226" name="等腰三角形 80"/>
                  <p:cNvSpPr/>
                  <p:nvPr/>
                </p:nvSpPr>
                <p:spPr>
                  <a:xfrm rot="1806000">
                    <a:off x="3927600" y="4084200"/>
                    <a:ext cx="17640" cy="6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7" name="等腰三角形 81"/>
                  <p:cNvSpPr/>
                  <p:nvPr/>
                </p:nvSpPr>
                <p:spPr>
                  <a:xfrm rot="1806000">
                    <a:off x="3916440" y="4088880"/>
                    <a:ext cx="31680" cy="12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3240" bIns="3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8" name="矩形 82"/>
                  <p:cNvSpPr/>
                  <p:nvPr/>
                </p:nvSpPr>
                <p:spPr>
                  <a:xfrm rot="1806000">
                    <a:off x="3924360" y="4096080"/>
                    <a:ext cx="3960" cy="17640"/>
                  </a:xfrm>
                  <a:prstGeom prst="rect">
                    <a:avLst/>
                  </a:prstGeom>
                  <a:solidFill>
                    <a:srgbClr val="00a5e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000" bIns="9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29" name="矩形 72"/>
              <p:cNvSpPr/>
              <p:nvPr/>
            </p:nvSpPr>
            <p:spPr>
              <a:xfrm rot="1806000">
                <a:off x="3688560" y="3875400"/>
                <a:ext cx="16416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0" name="矩形 73"/>
              <p:cNvSpPr/>
              <p:nvPr/>
            </p:nvSpPr>
            <p:spPr>
              <a:xfrm rot="1806000">
                <a:off x="3656880" y="3949200"/>
                <a:ext cx="3067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1" name="矩形 75"/>
              <p:cNvSpPr/>
              <p:nvPr/>
            </p:nvSpPr>
            <p:spPr>
              <a:xfrm rot="1806000">
                <a:off x="3639960" y="3975840"/>
                <a:ext cx="245520" cy="24840"/>
              </a:xfrm>
              <a:prstGeom prst="rect">
                <a:avLst/>
              </a:prstGeom>
              <a:solidFill>
                <a:srgbClr val="5b9b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2" name="矩形 76"/>
              <p:cNvSpPr/>
              <p:nvPr/>
            </p:nvSpPr>
            <p:spPr>
              <a:xfrm rot="1806000">
                <a:off x="3637080" y="3975120"/>
                <a:ext cx="2455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3" name="矩形 77"/>
              <p:cNvSpPr/>
              <p:nvPr/>
            </p:nvSpPr>
            <p:spPr>
              <a:xfrm rot="1806000">
                <a:off x="3616560" y="4001040"/>
                <a:ext cx="192240" cy="288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4" name="矩形 83"/>
              <p:cNvSpPr/>
              <p:nvPr/>
            </p:nvSpPr>
            <p:spPr>
              <a:xfrm rot="1806000">
                <a:off x="3591720" y="4043880"/>
                <a:ext cx="192240" cy="2880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5" name="矩形 84"/>
              <p:cNvSpPr/>
              <p:nvPr/>
            </p:nvSpPr>
            <p:spPr>
              <a:xfrm rot="1806000">
                <a:off x="3558600" y="4123080"/>
                <a:ext cx="365400" cy="3168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6" name="矩形 85"/>
              <p:cNvSpPr/>
              <p:nvPr/>
            </p:nvSpPr>
            <p:spPr>
              <a:xfrm rot="1806000">
                <a:off x="3540600" y="4149720"/>
                <a:ext cx="306720" cy="24840"/>
              </a:xfrm>
              <a:prstGeom prst="rect">
                <a:avLst/>
              </a:prstGeom>
              <a:solidFill>
                <a:srgbClr val="00a5e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7" name="组合 25"/>
          <p:cNvGrpSpPr/>
          <p:nvPr/>
        </p:nvGrpSpPr>
        <p:grpSpPr>
          <a:xfrm>
            <a:off x="2608200" y="5196960"/>
            <a:ext cx="662760" cy="678240"/>
            <a:chOff x="2608200" y="5196960"/>
            <a:chExt cx="662760" cy="678240"/>
          </a:xfrm>
        </p:grpSpPr>
        <p:sp>
          <p:nvSpPr>
            <p:cNvPr id="1238" name="矩形 65"/>
            <p:cNvSpPr/>
            <p:nvPr/>
          </p:nvSpPr>
          <p:spPr>
            <a:xfrm>
              <a:off x="2608200" y="5196960"/>
              <a:ext cx="662760" cy="6782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39" name="组合 24"/>
            <p:cNvGrpSpPr/>
            <p:nvPr/>
          </p:nvGrpSpPr>
          <p:grpSpPr>
            <a:xfrm>
              <a:off x="2714760" y="5291640"/>
              <a:ext cx="464040" cy="506880"/>
              <a:chOff x="2714760" y="5291640"/>
              <a:chExt cx="464040" cy="506880"/>
            </a:xfrm>
          </p:grpSpPr>
          <p:sp>
            <p:nvSpPr>
              <p:cNvPr id="1240" name="矩形 23"/>
              <p:cNvSpPr/>
              <p:nvPr/>
            </p:nvSpPr>
            <p:spPr>
              <a:xfrm>
                <a:off x="2829240" y="5522400"/>
                <a:ext cx="239760" cy="106920"/>
              </a:xfrm>
              <a:prstGeom prst="rect">
                <a:avLst/>
              </a:prstGeom>
              <a:solidFill>
                <a:srgbClr val="df570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1" name="任意多边形 22"/>
              <p:cNvSpPr/>
              <p:nvPr/>
            </p:nvSpPr>
            <p:spPr>
              <a:xfrm>
                <a:off x="2714760" y="5291640"/>
                <a:ext cx="464040" cy="50688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464343" h="507206">
                    <a:moveTo>
                      <a:pt x="0" y="504825"/>
                    </a:moveTo>
                    <a:lnTo>
                      <a:pt x="116681" y="507206"/>
                    </a:lnTo>
                    <a:cubicBezTo>
                      <a:pt x="117475" y="378618"/>
                      <a:pt x="118268" y="250031"/>
                      <a:pt x="119062" y="121443"/>
                    </a:cubicBezTo>
                    <a:lnTo>
                      <a:pt x="345281" y="116681"/>
                    </a:lnTo>
                    <a:lnTo>
                      <a:pt x="347663" y="338138"/>
                    </a:lnTo>
                    <a:lnTo>
                      <a:pt x="464343" y="335756"/>
                    </a:lnTo>
                    <a:lnTo>
                      <a:pt x="464343" y="2381"/>
                    </a:lnTo>
                    <a:lnTo>
                      <a:pt x="0" y="0"/>
                    </a:lnTo>
                    <a:lnTo>
                      <a:pt x="0" y="504825"/>
                    </a:lnTo>
                    <a:close/>
                  </a:path>
                </a:pathLst>
              </a:custGeom>
              <a:solidFill>
                <a:srgbClr val="df5703"/>
              </a:solidFill>
              <a:ln>
                <a:noFill/>
              </a:ln>
              <a:effectLst>
                <a:outerShdw algn="l" blurRad="50760" dist="38160" rotWithShape="0" sx="96000" sy="96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  <Words>393</Words>
  <Paragraphs>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7:11:42Z</dcterms:created>
  <dc:creator>李付</dc:creator>
  <dc:description/>
  <dc:language>en-US</dc:language>
  <cp:lastModifiedBy>王玉清</cp:lastModifiedBy>
  <dcterms:modified xsi:type="dcterms:W3CDTF">2016-02-23T03:12:29Z</dcterms:modified>
  <cp:revision>1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9</vt:r8>
  </property>
</Properties>
</file>