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9F07-276C-4B32-9B3C-1AFBF030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49B6-72E9-4166-A2BF-186C6A11F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D1-B326-4C59-A6B8-DA3BE0B0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EBA2-3F28-4D16-9A5A-D6AE7CD9D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74E9-48BA-4DAC-930D-C520DDBC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C63-642B-4218-81EA-A37488562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D55B-D3F7-455E-B238-3BCA95F4A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4C27-A155-4521-9C70-64A66C44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0FB3-933C-4BE5-B9D1-92515007E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C800-CDB9-44BB-93F2-387B1159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446-741B-4508-A1F3-F5348567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44E-C47D-4D35-8B84-D9175A04A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55B2-7FA5-4C60-9E2B-80098770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294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公路条纹商务</a:t>
            </a:r>
            <a:r>
              <a:rPr b="1" lang="en-US" sz="4000" spc="-1" strike="noStrike">
                <a:solidFill>
                  <a:srgbClr val="3366cc"/>
                </a:solidFill>
                <a:latin typeface="Times New Roman"/>
              </a:rPr>
              <a:t>PPT</a:t>
            </a:r>
            <a:r>
              <a:rPr b="1" lang="zh-CN" sz="4000" spc="-1" strike="noStrike">
                <a:solidFill>
                  <a:srgbClr val="3366cc"/>
                </a:solidFill>
                <a:latin typeface="Times New Roman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1219320" y="2514600"/>
            <a:ext cx="64008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Business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07:40:44Z</dcterms:created>
  <dc:creator>ppt宝藏</dc:creator>
  <dc:description/>
  <dc:language>en-US</dc:language>
  <cp:lastModifiedBy>a</cp:lastModifiedBy>
  <dcterms:modified xsi:type="dcterms:W3CDTF">2015-07-25T06:55:56Z</dcterms:modified>
  <cp:revision>4</cp:revision>
  <dc:subject/>
  <dc:title>www.pptbz.com</dc:title>
</cp:coreProperties>
</file>