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hdphoto1.wdp" ContentType="image/vnd.ms-photo"/>
  <Override PartName="/ppt/media/image4.png" ContentType="image/png"/>
  <Override PartName="/ppt/media/hdphoto2.wdp" ContentType="image/vnd.ms-photo"/>
  <Override PartName="/ppt/media/image5.png" ContentType="image/png"/>
  <Override PartName="/ppt/media/hdphoto3.wdp" ContentType="image/vnd.ms-photo"/>
  <Override PartName="/ppt/media/image6.png" ContentType="image/png"/>
  <Override PartName="/ppt/media/hdphoto4.wdp" ContentType="image/vnd.ms-photo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6480">
              <a:noFill/>
            </a:ln>
          </c:spPr>
          <c:explosion val="0"/>
          <c:dPt>
            <c:idx val="0"/>
            <c:spPr>
              <a:gradFill>
                <a:gsLst>
                  <a:gs pos="0">
                    <a:srgbClr val="21a2db">
                      <a:alpha val="36078"/>
                    </a:srgbClr>
                  </a:gs>
                  <a:gs pos="100000">
                    <a:srgbClr val="21a2db"/>
                  </a:gs>
                </a:gsLst>
                <a:lin ang="5400000"/>
              </a:gradFill>
              <a:ln w="6480">
                <a:noFill/>
              </a:ln>
            </c:spPr>
          </c:dPt>
          <c:dPt>
            <c:idx val="1"/>
            <c:spPr>
              <a:gradFill>
                <a:gsLst>
                  <a:gs pos="0">
                    <a:srgbClr val="c7ddf1">
                      <a:alpha val="80000"/>
                    </a:srgbClr>
                  </a:gs>
                  <a:gs pos="100000">
                    <a:srgbClr val="24bfec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gradFill>
                <a:gsLst>
                  <a:gs pos="0">
                    <a:srgbClr val="a2c352">
                      <a:alpha val="48235"/>
                    </a:srgbClr>
                  </a:gs>
                  <a:gs pos="100000">
                    <a:srgbClr val="a4be61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gradFill>
                <a:gsLst>
                  <a:gs pos="0">
                    <a:srgbClr val="dae243">
                      <a:alpha val="42352"/>
                    </a:srgbClr>
                  </a:gs>
                  <a:gs pos="100000">
                    <a:srgbClr val="dae243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gradFill>
                <a:gsLst>
                  <a:gs pos="0">
                    <a:srgbClr val="fe9154">
                      <a:alpha val="68235"/>
                    </a:srgbClr>
                  </a:gs>
                  <a:gs pos="100000">
                    <a:srgbClr val="fe9154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c:spPr>
          </c:dPt>
          <c:dPt>
            <c:idx val="5"/>
            <c:spPr>
              <a:gradFill>
                <a:gsLst>
                  <a:gs pos="0">
                    <a:srgbClr val="fdc32c">
                      <a:alpha val="61176"/>
                    </a:srgbClr>
                  </a:gs>
                  <a:gs pos="100000">
                    <a:srgbClr val="fdc32c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6"/>
                <c:pt idx="0">
                  <c:v>1st Segment</c:v>
                </c:pt>
                <c:pt idx="1">
                  <c:v>2nd Segment</c:v>
                </c:pt>
                <c:pt idx="2">
                  <c:v>3rd Segment</c:v>
                </c:pt>
                <c:pt idx="3">
                  <c:v>4th Segment</c:v>
                </c:pt>
                <c:pt idx="4">
                  <c:v>5th Segment</c:v>
                </c:pt>
                <c:pt idx="5">
                  <c:v>6th Segment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5</c:v>
                </c:pt>
                <c:pt idx="1">
                  <c:v>0.17</c:v>
                </c:pt>
                <c:pt idx="2">
                  <c:v>0.08</c:v>
                </c:pt>
                <c:pt idx="3">
                  <c:v>0.07</c:v>
                </c:pt>
                <c:pt idx="4">
                  <c:v>0.07</c:v>
                </c:pt>
                <c:pt idx="5">
                  <c:v>0.08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51435871747907"/>
          <c:y val="0.320638546605533"/>
          <c:w val="0.141603163189065"/>
          <c:h val="0.36647719871828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595959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6480">
              <a:noFill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21a2db">
                      <a:alpha val="36078"/>
                    </a:srgbClr>
                  </a:gs>
                  <a:gs pos="100000">
                    <a:srgbClr val="21a2db"/>
                  </a:gs>
                </a:gsLst>
                <a:lin ang="5400000"/>
              </a:gradFill>
              <a:ln w="6480">
                <a:noFill/>
              </a:ln>
            </c:spPr>
          </c:dPt>
          <c:dPt>
            <c:idx val="1"/>
            <c:invertIfNegative val="0"/>
            <c:spPr>
              <a:gradFill>
                <a:gsLst>
                  <a:gs pos="0">
                    <a:srgbClr val="9ec4e6"/>
                  </a:gs>
                  <a:gs pos="100000">
                    <a:srgbClr val="48caef"/>
                  </a:gs>
                </a:gsLst>
                <a:lin ang="5400000"/>
              </a:gradFill>
              <a:ln w="6480">
                <a:noFill/>
              </a:ln>
            </c:spPr>
          </c:dPt>
          <c:dPt>
            <c:idx val="2"/>
            <c:invertIfNegative val="0"/>
            <c:spPr>
              <a:gradFill>
                <a:gsLst>
                  <a:gs pos="0">
                    <a:srgbClr val="a2c352">
                      <a:alpha val="84313"/>
                    </a:srgbClr>
                  </a:gs>
                  <a:gs pos="100000">
                    <a:srgbClr val="a4be61"/>
                  </a:gs>
                </a:gsLst>
                <a:lin ang="5400000"/>
              </a:gradFill>
              <a:ln w="6480">
                <a:noFill/>
              </a:ln>
            </c:spPr>
          </c:dPt>
          <c:dPt>
            <c:idx val="3"/>
            <c:invertIfNegative val="0"/>
            <c:spPr>
              <a:gradFill>
                <a:gsLst>
                  <a:gs pos="0">
                    <a:srgbClr val="dae243">
                      <a:alpha val="75294"/>
                    </a:srgbClr>
                  </a:gs>
                  <a:gs pos="100000">
                    <a:srgbClr val="dae243"/>
                  </a:gs>
                </a:gsLst>
                <a:lin ang="5400000"/>
              </a:gradFill>
              <a:ln w="6480">
                <a:noFill/>
              </a:ln>
            </c:spPr>
          </c:dPt>
          <c:dPt>
            <c:idx val="4"/>
            <c:invertIfNegative val="0"/>
            <c:spPr>
              <a:gradFill>
                <a:gsLst>
                  <a:gs pos="0">
                    <a:srgbClr val="fe9154">
                      <a:alpha val="79215"/>
                    </a:srgbClr>
                  </a:gs>
                  <a:gs pos="100000">
                    <a:srgbClr val="fe9154"/>
                  </a:gs>
                </a:gsLst>
                <a:lin ang="5400000"/>
              </a:gradFill>
              <a:ln w="6480">
                <a:noFill/>
              </a:ln>
            </c:spPr>
          </c:dPt>
          <c:dPt>
            <c:idx val="5"/>
            <c:invertIfNegative val="0"/>
            <c:spPr>
              <a:gradFill>
                <a:gsLst>
                  <a:gs pos="0">
                    <a:srgbClr val="fdc126">
                      <a:alpha val="75294"/>
                    </a:srgbClr>
                  </a:gs>
                  <a:gs pos="100000">
                    <a:srgbClr val="fdc32c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1st Segment</c:v>
                </c:pt>
                <c:pt idx="1">
                  <c:v>2nd Segment</c:v>
                </c:pt>
                <c:pt idx="2">
                  <c:v>3rd Segment</c:v>
                </c:pt>
                <c:pt idx="3">
                  <c:v>4th Segment</c:v>
                </c:pt>
                <c:pt idx="4">
                  <c:v>5th Segment</c:v>
                </c:pt>
                <c:pt idx="5">
                  <c:v>6th Segment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3</c:v>
                </c:pt>
                <c:pt idx="4">
                  <c:v>1.3</c:v>
                </c:pt>
                <c:pt idx="5">
                  <c:v>1.3</c:v>
                </c:pt>
              </c:numCache>
            </c:numRef>
          </c:val>
        </c:ser>
        <c:gapWidth val="100"/>
        <c:overlap val="0"/>
        <c:axId val="33019197"/>
        <c:axId val="55309000"/>
      </c:barChart>
      <c:catAx>
        <c:axId val="33019197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309000"/>
        <c:auto val="1"/>
        <c:lblAlgn val="ctr"/>
        <c:lblOffset val="100"/>
        <c:noMultiLvlLbl val="0"/>
      </c:catAx>
      <c:valAx>
        <c:axId val="55309000"/>
        <c:scaling>
          <c:orientation val="minMax"/>
          <c:max val="9"/>
          <c:min val="0"/>
        </c:scaling>
        <c:delete val="0"/>
        <c:axPos val="l"/>
        <c:majorGridlines>
          <c:spPr>
            <a:ln w="25560">
              <a:solidFill>
                <a:srgbClr val="000000">
                  <a:alpha val="2000"/>
                </a:srgbClr>
              </a:solidFill>
              <a:round/>
            </a:ln>
          </c:spPr>
        </c:majorGridlines>
        <c:numFmt formatCode="@" sourceLinked="0"/>
        <c:majorTickMark val="out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33019197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51435871747907"/>
          <c:y val="0.320638546605533"/>
          <c:w val="0.186274152916815"/>
          <c:h val="0.37896179644211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595959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052F69-2A95-49A3-92C2-495CF777E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8746EF-FE22-4062-9C2C-013144FCC10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图片 26"/>
          <p:cNvSpPr/>
          <p:nvPr/>
        </p:nvSpPr>
        <p:spPr>
          <a:xfrm>
            <a:off x="6993360" y="-571680"/>
            <a:ext cx="4360320" cy="4466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组合 27"/>
          <p:cNvGrpSpPr/>
          <p:nvPr/>
        </p:nvGrpSpPr>
        <p:grpSpPr>
          <a:xfrm>
            <a:off x="278280" y="352080"/>
            <a:ext cx="2702160" cy="859320"/>
            <a:chOff x="278280" y="352080"/>
            <a:chExt cx="2702160" cy="859320"/>
          </a:xfrm>
        </p:grpSpPr>
        <p:sp>
          <p:nvSpPr>
            <p:cNvPr id="2" name="文本框 28"/>
            <p:cNvSpPr/>
            <p:nvPr/>
          </p:nvSpPr>
          <p:spPr>
            <a:xfrm>
              <a:off x="278280" y="481320"/>
              <a:ext cx="17168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文本框 29"/>
            <p:cNvSpPr/>
            <p:nvPr/>
          </p:nvSpPr>
          <p:spPr>
            <a:xfrm>
              <a:off x="1872360" y="451440"/>
              <a:ext cx="62604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组合 30"/>
            <p:cNvGrpSpPr/>
            <p:nvPr/>
          </p:nvGrpSpPr>
          <p:grpSpPr>
            <a:xfrm>
              <a:off x="2719440" y="426240"/>
              <a:ext cx="261000" cy="261000"/>
              <a:chOff x="2719440" y="426240"/>
              <a:chExt cx="261000" cy="261000"/>
            </a:xfrm>
          </p:grpSpPr>
          <p:sp>
            <p:nvSpPr>
              <p:cNvPr id="5" name="Oval 10"/>
              <p:cNvSpPr/>
              <p:nvPr/>
            </p:nvSpPr>
            <p:spPr>
              <a:xfrm rot="2700000">
                <a:off x="2757600" y="464040"/>
                <a:ext cx="184320" cy="1846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Freeform 11"/>
              <p:cNvSpPr/>
              <p:nvPr/>
            </p:nvSpPr>
            <p:spPr>
              <a:xfrm rot="2700000">
                <a:off x="2776680" y="496800"/>
                <a:ext cx="147240" cy="122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" name="椭圆 31"/>
            <p:cNvSpPr/>
            <p:nvPr/>
          </p:nvSpPr>
          <p:spPr>
            <a:xfrm>
              <a:off x="2868840" y="352080"/>
              <a:ext cx="8424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cc278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" name="Freeform 6"/>
            <p:cNvSpPr/>
            <p:nvPr/>
          </p:nvSpPr>
          <p:spPr>
            <a:xfrm rot="13661400">
              <a:off x="1602720" y="657720"/>
              <a:ext cx="381240" cy="3168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16800"/>
                <a:gd name="textAreaBottom" fmla="*/ 317160 h 3168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" name="组合 33"/>
            <p:cNvGrpSpPr/>
            <p:nvPr/>
          </p:nvGrpSpPr>
          <p:grpSpPr>
            <a:xfrm>
              <a:off x="1413360" y="510840"/>
              <a:ext cx="616680" cy="616680"/>
              <a:chOff x="1413360" y="510840"/>
              <a:chExt cx="616680" cy="616680"/>
            </a:xfrm>
          </p:grpSpPr>
          <p:sp>
            <p:nvSpPr>
              <p:cNvPr id="10" name="Oval 5"/>
              <p:cNvSpPr/>
              <p:nvPr/>
            </p:nvSpPr>
            <p:spPr>
              <a:xfrm rot="13661400">
                <a:off x="1503360" y="60048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Freeform 6"/>
              <p:cNvSpPr/>
              <p:nvPr/>
            </p:nvSpPr>
            <p:spPr>
              <a:xfrm rot="13661400">
                <a:off x="1529280" y="644400"/>
                <a:ext cx="381240" cy="31680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组合 34"/>
            <p:cNvGrpSpPr/>
            <p:nvPr/>
          </p:nvGrpSpPr>
          <p:grpSpPr>
            <a:xfrm>
              <a:off x="2320200" y="510840"/>
              <a:ext cx="616680" cy="616680"/>
              <a:chOff x="2320200" y="510840"/>
              <a:chExt cx="616680" cy="616680"/>
            </a:xfrm>
          </p:grpSpPr>
          <p:sp>
            <p:nvSpPr>
              <p:cNvPr id="13" name="Oval 5"/>
              <p:cNvSpPr/>
              <p:nvPr/>
            </p:nvSpPr>
            <p:spPr>
              <a:xfrm rot="13661400">
                <a:off x="2410200" y="60048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Freeform 6"/>
              <p:cNvSpPr/>
              <p:nvPr/>
            </p:nvSpPr>
            <p:spPr>
              <a:xfrm rot="13661400">
                <a:off x="2436480" y="644400"/>
                <a:ext cx="381240" cy="31680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" name="任意多边形 41"/>
          <p:cNvSpPr/>
          <p:nvPr/>
        </p:nvSpPr>
        <p:spPr>
          <a:xfrm>
            <a:off x="-1257480" y="2965320"/>
            <a:ext cx="5573160" cy="5573160"/>
          </a:xfrm>
          <a:custGeom>
            <a:avLst/>
            <a:gdLst>
              <a:gd name="textAreaLeft" fmla="*/ 0 w 5573160"/>
              <a:gd name="textAreaRight" fmla="*/ 5573520 w 5573160"/>
              <a:gd name="textAreaTop" fmla="*/ 0 h 5573160"/>
              <a:gd name="textAreaBottom" fmla="*/ 5573520 h 5573160"/>
            </a:gdLst>
            <a:ahLst/>
            <a:rect l="textAreaLeft" t="textAreaTop" r="textAreaRight" b="textAreaBottom"/>
            <a:pathLst>
              <a:path w="5573492" h="5573492">
                <a:moveTo>
                  <a:pt x="2786746" y="1074060"/>
                </a:moveTo>
                <a:cubicBezTo>
                  <a:pt x="1840856" y="1074060"/>
                  <a:pt x="1074060" y="1840856"/>
                  <a:pt x="1074060" y="2786746"/>
                </a:cubicBezTo>
                <a:cubicBezTo>
                  <a:pt x="1074060" y="3732636"/>
                  <a:pt x="1840856" y="4499432"/>
                  <a:pt x="2786746" y="4499432"/>
                </a:cubicBezTo>
                <a:cubicBezTo>
                  <a:pt x="3732636" y="4499432"/>
                  <a:pt x="4499432" y="3732636"/>
                  <a:pt x="4499432" y="2786746"/>
                </a:cubicBezTo>
                <a:cubicBezTo>
                  <a:pt x="4499432" y="1840856"/>
                  <a:pt x="3732636" y="1074060"/>
                  <a:pt x="2786746" y="1074060"/>
                </a:cubicBezTo>
                <a:close/>
                <a:moveTo>
                  <a:pt x="2786746" y="0"/>
                </a:moveTo>
                <a:cubicBezTo>
                  <a:pt x="4325823" y="0"/>
                  <a:pt x="5573492" y="1247669"/>
                  <a:pt x="5573492" y="2786746"/>
                </a:cubicBezTo>
                <a:cubicBezTo>
                  <a:pt x="5573492" y="4325823"/>
                  <a:pt x="4325823" y="5573492"/>
                  <a:pt x="2786746" y="5573492"/>
                </a:cubicBezTo>
                <a:cubicBezTo>
                  <a:pt x="1247669" y="5573492"/>
                  <a:pt x="0" y="4325823"/>
                  <a:pt x="0" y="2786746"/>
                </a:cubicBezTo>
                <a:cubicBezTo>
                  <a:pt x="0" y="1247669"/>
                  <a:pt x="1247669" y="0"/>
                  <a:pt x="2786746" y="0"/>
                </a:cubicBezTo>
                <a:close/>
              </a:path>
            </a:pathLst>
          </a:custGeom>
          <a:solidFill>
            <a:srgbClr val="8fd7f1">
              <a:alpha val="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" name="任意多边形 42"/>
          <p:cNvSpPr/>
          <p:nvPr/>
        </p:nvSpPr>
        <p:spPr>
          <a:xfrm>
            <a:off x="5693040" y="-1895400"/>
            <a:ext cx="6960960" cy="6960960"/>
          </a:xfrm>
          <a:custGeom>
            <a:avLst/>
            <a:gdLst>
              <a:gd name="textAreaLeft" fmla="*/ 0 w 6960960"/>
              <a:gd name="textAreaRight" fmla="*/ 6961320 w 6960960"/>
              <a:gd name="textAreaTop" fmla="*/ 0 h 6960960"/>
              <a:gd name="textAreaBottom" fmla="*/ 6961320 h 6960960"/>
            </a:gdLst>
            <a:ahLst/>
            <a:rect l="textAreaLeft" t="textAreaTop" r="textAreaRight" b="textAreaBottom"/>
            <a:pathLst>
              <a:path w="6961238" h="6961238">
                <a:moveTo>
                  <a:pt x="3480619" y="1268359"/>
                </a:moveTo>
                <a:cubicBezTo>
                  <a:pt x="2226241" y="1268359"/>
                  <a:pt x="1209367" y="2285233"/>
                  <a:pt x="1209367" y="3539611"/>
                </a:cubicBezTo>
                <a:cubicBezTo>
                  <a:pt x="1209367" y="4793989"/>
                  <a:pt x="2226241" y="5810863"/>
                  <a:pt x="3480619" y="5810863"/>
                </a:cubicBezTo>
                <a:cubicBezTo>
                  <a:pt x="4734997" y="5810863"/>
                  <a:pt x="5751871" y="4793989"/>
                  <a:pt x="5751871" y="3539611"/>
                </a:cubicBezTo>
                <a:cubicBezTo>
                  <a:pt x="5751871" y="2285233"/>
                  <a:pt x="4734997" y="1268359"/>
                  <a:pt x="3480619" y="1268359"/>
                </a:cubicBezTo>
                <a:close/>
                <a:moveTo>
                  <a:pt x="3480619" y="0"/>
                </a:moveTo>
                <a:cubicBezTo>
                  <a:pt x="5402912" y="0"/>
                  <a:pt x="6961238" y="1558326"/>
                  <a:pt x="6961238" y="3480619"/>
                </a:cubicBezTo>
                <a:cubicBezTo>
                  <a:pt x="6961238" y="5402912"/>
                  <a:pt x="5402912" y="6961238"/>
                  <a:pt x="3480619" y="6961238"/>
                </a:cubicBezTo>
                <a:cubicBezTo>
                  <a:pt x="1558326" y="6961238"/>
                  <a:pt x="0" y="5402912"/>
                  <a:pt x="0" y="3480619"/>
                </a:cubicBezTo>
                <a:cubicBezTo>
                  <a:pt x="0" y="1558326"/>
                  <a:pt x="1558326" y="0"/>
                  <a:pt x="3480619" y="0"/>
                </a:cubicBezTo>
                <a:close/>
              </a:path>
            </a:pathLst>
          </a:custGeom>
          <a:solidFill>
            <a:srgbClr val="e0f7fd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" name="任意多边形 43"/>
          <p:cNvSpPr/>
          <p:nvPr/>
        </p:nvSpPr>
        <p:spPr>
          <a:xfrm>
            <a:off x="7923600" y="3654720"/>
            <a:ext cx="6208200" cy="6208200"/>
          </a:xfrm>
          <a:custGeom>
            <a:avLst/>
            <a:gdLst>
              <a:gd name="textAreaLeft" fmla="*/ 0 w 6208200"/>
              <a:gd name="textAreaRight" fmla="*/ 6208560 w 6208200"/>
              <a:gd name="textAreaTop" fmla="*/ 0 h 6208200"/>
              <a:gd name="textAreaBottom" fmla="*/ 6208560 h 6208200"/>
            </a:gdLst>
            <a:ahLst/>
            <a:rect l="textAreaLeft" t="textAreaTop" r="textAreaRight" b="textAreaBottom"/>
            <a:pathLst>
              <a:path w="6208730" h="6208730">
                <a:moveTo>
                  <a:pt x="3104365" y="1040115"/>
                </a:moveTo>
                <a:cubicBezTo>
                  <a:pt x="1966737" y="1040115"/>
                  <a:pt x="1044508" y="1962344"/>
                  <a:pt x="1044508" y="3099972"/>
                </a:cubicBezTo>
                <a:cubicBezTo>
                  <a:pt x="1044508" y="4237600"/>
                  <a:pt x="1966737" y="5159829"/>
                  <a:pt x="3104365" y="5159829"/>
                </a:cubicBezTo>
                <a:cubicBezTo>
                  <a:pt x="4241993" y="5159829"/>
                  <a:pt x="5164222" y="4237600"/>
                  <a:pt x="5164222" y="3099972"/>
                </a:cubicBezTo>
                <a:cubicBezTo>
                  <a:pt x="5164222" y="1962344"/>
                  <a:pt x="4241993" y="1040115"/>
                  <a:pt x="3104365" y="1040115"/>
                </a:cubicBezTo>
                <a:close/>
                <a:moveTo>
                  <a:pt x="3104365" y="0"/>
                </a:moveTo>
                <a:cubicBezTo>
                  <a:pt x="4818858" y="0"/>
                  <a:pt x="6208730" y="1389872"/>
                  <a:pt x="6208730" y="3104365"/>
                </a:cubicBezTo>
                <a:cubicBezTo>
                  <a:pt x="6208730" y="4818858"/>
                  <a:pt x="4818858" y="6208730"/>
                  <a:pt x="3104365" y="6208730"/>
                </a:cubicBezTo>
                <a:cubicBezTo>
                  <a:pt x="1389872" y="6208730"/>
                  <a:pt x="0" y="4818858"/>
                  <a:pt x="0" y="3104365"/>
                </a:cubicBezTo>
                <a:cubicBezTo>
                  <a:pt x="0" y="1389872"/>
                  <a:pt x="1389872" y="0"/>
                  <a:pt x="3104365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" name="任意多边形 44"/>
          <p:cNvSpPr/>
          <p:nvPr/>
        </p:nvSpPr>
        <p:spPr>
          <a:xfrm>
            <a:off x="-941760" y="-2039040"/>
            <a:ext cx="6362280" cy="6362280"/>
          </a:xfrm>
          <a:custGeom>
            <a:avLst/>
            <a:gdLst>
              <a:gd name="textAreaLeft" fmla="*/ 0 w 6362280"/>
              <a:gd name="textAreaRight" fmla="*/ 6362640 w 6362280"/>
              <a:gd name="textAreaTop" fmla="*/ 0 h 6362280"/>
              <a:gd name="textAreaBottom" fmla="*/ 6362640 h 6362280"/>
            </a:gdLst>
            <a:ahLst/>
            <a:rect l="textAreaLeft" t="textAreaTop" r="textAreaRight" b="textAreaBottom"/>
            <a:pathLst>
              <a:path w="6362700" h="6362700">
                <a:moveTo>
                  <a:pt x="3105150" y="902280"/>
                </a:moveTo>
                <a:cubicBezTo>
                  <a:pt x="1909581" y="902280"/>
                  <a:pt x="940380" y="1871481"/>
                  <a:pt x="940380" y="3067050"/>
                </a:cubicBezTo>
                <a:cubicBezTo>
                  <a:pt x="940380" y="4262619"/>
                  <a:pt x="1909581" y="5231820"/>
                  <a:pt x="3105150" y="5231820"/>
                </a:cubicBezTo>
                <a:cubicBezTo>
                  <a:pt x="4300719" y="5231820"/>
                  <a:pt x="5269920" y="4262619"/>
                  <a:pt x="5269920" y="3067050"/>
                </a:cubicBezTo>
                <a:cubicBezTo>
                  <a:pt x="5269920" y="1871481"/>
                  <a:pt x="4300719" y="902280"/>
                  <a:pt x="3105150" y="902280"/>
                </a:cubicBezTo>
                <a:close/>
                <a:moveTo>
                  <a:pt x="3181350" y="0"/>
                </a:moveTo>
                <a:cubicBezTo>
                  <a:pt x="4938361" y="0"/>
                  <a:pt x="6362700" y="1424339"/>
                  <a:pt x="6362700" y="3181350"/>
                </a:cubicBezTo>
                <a:cubicBezTo>
                  <a:pt x="6362700" y="4938361"/>
                  <a:pt x="4938361" y="6362700"/>
                  <a:pt x="3181350" y="6362700"/>
                </a:cubicBezTo>
                <a:cubicBezTo>
                  <a:pt x="1424339" y="6362700"/>
                  <a:pt x="0" y="4938361"/>
                  <a:pt x="0" y="3181350"/>
                </a:cubicBezTo>
                <a:cubicBezTo>
                  <a:pt x="0" y="1424339"/>
                  <a:pt x="1424339" y="0"/>
                  <a:pt x="3181350" y="0"/>
                </a:cubicBezTo>
                <a:close/>
              </a:path>
            </a:pathLst>
          </a:custGeom>
          <a:solidFill>
            <a:srgbClr val="f1fcfe">
              <a:alpha val="6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任意多边形 6" hidden="1"/>
          <p:cNvSpPr/>
          <p:nvPr/>
        </p:nvSpPr>
        <p:spPr>
          <a:xfrm>
            <a:off x="-1091520" y="-2474280"/>
            <a:ext cx="6573960" cy="6573960"/>
          </a:xfrm>
          <a:custGeom>
            <a:avLst/>
            <a:gdLst>
              <a:gd name="textAreaLeft" fmla="*/ 0 w 6573960"/>
              <a:gd name="textAreaRight" fmla="*/ 6574320 w 6573960"/>
              <a:gd name="textAreaTop" fmla="*/ 0 h 6573960"/>
              <a:gd name="textAreaBottom" fmla="*/ 6574320 h 6573960"/>
            </a:gdLst>
            <a:ahLst/>
            <a:rect l="textAreaLeft" t="textAreaTop" r="textAreaRight" b="textAreaBottom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chemeClr val="accent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任意多边形 7" hidden="1"/>
          <p:cNvSpPr/>
          <p:nvPr/>
        </p:nvSpPr>
        <p:spPr>
          <a:xfrm>
            <a:off x="7871400" y="5397840"/>
            <a:ext cx="2624760" cy="2624760"/>
          </a:xfrm>
          <a:custGeom>
            <a:avLst/>
            <a:gdLst>
              <a:gd name="textAreaLeft" fmla="*/ 0 w 2624760"/>
              <a:gd name="textAreaRight" fmla="*/ 2625120 w 2624760"/>
              <a:gd name="textAreaTop" fmla="*/ 0 h 2624760"/>
              <a:gd name="textAreaBottom" fmla="*/ 2625120 h 2624760"/>
            </a:gdLst>
            <a:ahLst/>
            <a:rect l="textAreaLeft" t="textAreaTop" r="textAreaRight" b="textAreaBottom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chemeClr val="accent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任意多边形 9" hidden="1"/>
          <p:cNvSpPr/>
          <p:nvPr/>
        </p:nvSpPr>
        <p:spPr>
          <a:xfrm>
            <a:off x="9795600" y="4368960"/>
            <a:ext cx="2624760" cy="2624760"/>
          </a:xfrm>
          <a:custGeom>
            <a:avLst/>
            <a:gdLst>
              <a:gd name="textAreaLeft" fmla="*/ 0 w 2624760"/>
              <a:gd name="textAreaRight" fmla="*/ 2625120 w 2624760"/>
              <a:gd name="textAreaTop" fmla="*/ 0 h 2624760"/>
              <a:gd name="textAreaBottom" fmla="*/ 2625120 h 2624760"/>
            </a:gdLst>
            <a:ahLst/>
            <a:rect l="textAreaLeft" t="textAreaTop" r="textAreaRight" b="textAreaBottom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chemeClr val="accent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0" name="图片 10" descr=""/>
          <p:cNvPicPr/>
          <p:nvPr/>
        </p:nvPicPr>
        <p:blipFill>
          <a:blip r:embed="rId2"/>
          <a:stretch/>
        </p:blipFill>
        <p:spPr>
          <a:xfrm>
            <a:off x="7514640" y="635760"/>
            <a:ext cx="663480" cy="67464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"/>
          <p:cNvGrpSpPr/>
          <p:nvPr/>
        </p:nvGrpSpPr>
        <p:grpSpPr>
          <a:xfrm>
            <a:off x="8487000" y="4574160"/>
            <a:ext cx="417960" cy="417960"/>
            <a:chOff x="8487000" y="4574160"/>
            <a:chExt cx="417960" cy="417960"/>
          </a:xfrm>
        </p:grpSpPr>
        <p:sp>
          <p:nvSpPr>
            <p:cNvPr id="62" name="Oval 5"/>
            <p:cNvSpPr/>
            <p:nvPr/>
          </p:nvSpPr>
          <p:spPr>
            <a:xfrm rot="18246600">
              <a:off x="8545320" y="4632480"/>
              <a:ext cx="300960" cy="30096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 rot="18246600">
              <a:off x="8584920" y="4687200"/>
              <a:ext cx="227520" cy="189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组合 8"/>
          <p:cNvGrpSpPr/>
          <p:nvPr/>
        </p:nvGrpSpPr>
        <p:grpSpPr>
          <a:xfrm>
            <a:off x="10081800" y="5308920"/>
            <a:ext cx="423360" cy="423360"/>
            <a:chOff x="10081800" y="5308920"/>
            <a:chExt cx="423360" cy="423360"/>
          </a:xfrm>
        </p:grpSpPr>
        <p:sp>
          <p:nvSpPr>
            <p:cNvPr id="65" name="Oval 5"/>
            <p:cNvSpPr/>
            <p:nvPr/>
          </p:nvSpPr>
          <p:spPr>
            <a:xfrm rot="16200000">
              <a:off x="10081800" y="5308920"/>
              <a:ext cx="423360" cy="42336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6"/>
            <p:cNvSpPr/>
            <p:nvPr/>
          </p:nvSpPr>
          <p:spPr>
            <a:xfrm rot="16200000">
              <a:off x="10133280" y="5387400"/>
              <a:ext cx="320400" cy="266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1"/>
          <p:cNvGrpSpPr/>
          <p:nvPr/>
        </p:nvGrpSpPr>
        <p:grpSpPr>
          <a:xfrm>
            <a:off x="9200880" y="4856760"/>
            <a:ext cx="316800" cy="316800"/>
            <a:chOff x="9200880" y="4856760"/>
            <a:chExt cx="316800" cy="316800"/>
          </a:xfrm>
        </p:grpSpPr>
        <p:sp>
          <p:nvSpPr>
            <p:cNvPr id="68" name="Oval 5"/>
            <p:cNvSpPr/>
            <p:nvPr/>
          </p:nvSpPr>
          <p:spPr>
            <a:xfrm rot="3672600">
              <a:off x="9242640" y="4898160"/>
              <a:ext cx="233280" cy="23328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6"/>
            <p:cNvSpPr/>
            <p:nvPr/>
          </p:nvSpPr>
          <p:spPr>
            <a:xfrm rot="3672600">
              <a:off x="9270720" y="4942080"/>
              <a:ext cx="176400" cy="14652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4"/>
          <p:cNvGrpSpPr/>
          <p:nvPr/>
        </p:nvGrpSpPr>
        <p:grpSpPr>
          <a:xfrm>
            <a:off x="9740160" y="4657320"/>
            <a:ext cx="571320" cy="571320"/>
            <a:chOff x="9740160" y="4657320"/>
            <a:chExt cx="571320" cy="571320"/>
          </a:xfrm>
        </p:grpSpPr>
        <p:sp>
          <p:nvSpPr>
            <p:cNvPr id="71" name="Oval 5"/>
            <p:cNvSpPr/>
            <p:nvPr/>
          </p:nvSpPr>
          <p:spPr>
            <a:xfrm flipV="1" rot="14181000">
              <a:off x="9819360" y="4736520"/>
              <a:ext cx="412200" cy="41220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 flipV="1" rot="14181000">
              <a:off x="9869400" y="4812840"/>
              <a:ext cx="311760" cy="25884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-360 h 258840"/>
                <a:gd name="textAreaBottom" fmla="*/ 258840 h 2588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组合 41"/>
          <p:cNvGrpSpPr/>
          <p:nvPr/>
        </p:nvGrpSpPr>
        <p:grpSpPr>
          <a:xfrm>
            <a:off x="7793280" y="4256280"/>
            <a:ext cx="413280" cy="413280"/>
            <a:chOff x="7793280" y="4256280"/>
            <a:chExt cx="413280" cy="413280"/>
          </a:xfrm>
        </p:grpSpPr>
        <p:sp>
          <p:nvSpPr>
            <p:cNvPr id="74" name="Oval 5"/>
            <p:cNvSpPr/>
            <p:nvPr/>
          </p:nvSpPr>
          <p:spPr>
            <a:xfrm rot="13489200">
              <a:off x="7853760" y="4316400"/>
              <a:ext cx="292320" cy="29232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6"/>
            <p:cNvSpPr/>
            <p:nvPr/>
          </p:nvSpPr>
          <p:spPr>
            <a:xfrm rot="13489200">
              <a:off x="7889040" y="4371120"/>
              <a:ext cx="221040" cy="1836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组合 39"/>
          <p:cNvGrpSpPr/>
          <p:nvPr/>
        </p:nvGrpSpPr>
        <p:grpSpPr>
          <a:xfrm>
            <a:off x="8858160" y="4101480"/>
            <a:ext cx="335880" cy="335880"/>
            <a:chOff x="8858160" y="4101480"/>
            <a:chExt cx="335880" cy="335880"/>
          </a:xfrm>
        </p:grpSpPr>
        <p:sp>
          <p:nvSpPr>
            <p:cNvPr id="77" name="Oval 5"/>
            <p:cNvSpPr/>
            <p:nvPr/>
          </p:nvSpPr>
          <p:spPr>
            <a:xfrm rot="14581200">
              <a:off x="8901000" y="4144320"/>
              <a:ext cx="249840" cy="24984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6"/>
            <p:cNvSpPr/>
            <p:nvPr/>
          </p:nvSpPr>
          <p:spPr>
            <a:xfrm rot="14581200">
              <a:off x="8931600" y="4190760"/>
              <a:ext cx="189000" cy="1569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组合 40"/>
          <p:cNvGrpSpPr/>
          <p:nvPr/>
        </p:nvGrpSpPr>
        <p:grpSpPr>
          <a:xfrm>
            <a:off x="8312760" y="4012920"/>
            <a:ext cx="328320" cy="328320"/>
            <a:chOff x="8312760" y="4012920"/>
            <a:chExt cx="328320" cy="328320"/>
          </a:xfrm>
        </p:grpSpPr>
        <p:sp>
          <p:nvSpPr>
            <p:cNvPr id="80" name="Oval 5"/>
            <p:cNvSpPr/>
            <p:nvPr/>
          </p:nvSpPr>
          <p:spPr>
            <a:xfrm rot="16200000">
              <a:off x="8312760" y="4012920"/>
              <a:ext cx="328320" cy="32832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6"/>
            <p:cNvSpPr/>
            <p:nvPr/>
          </p:nvSpPr>
          <p:spPr>
            <a:xfrm rot="16200000">
              <a:off x="8352360" y="4073400"/>
              <a:ext cx="248400" cy="20628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组合 14"/>
          <p:cNvGrpSpPr/>
          <p:nvPr/>
        </p:nvGrpSpPr>
        <p:grpSpPr>
          <a:xfrm>
            <a:off x="9299520" y="4262040"/>
            <a:ext cx="397800" cy="397800"/>
            <a:chOff x="9299520" y="4262040"/>
            <a:chExt cx="397800" cy="397800"/>
          </a:xfrm>
        </p:grpSpPr>
        <p:sp>
          <p:nvSpPr>
            <p:cNvPr id="83" name="Oval 5"/>
            <p:cNvSpPr/>
            <p:nvPr/>
          </p:nvSpPr>
          <p:spPr>
            <a:xfrm rot="18675000">
              <a:off x="9357120" y="4320000"/>
              <a:ext cx="281880" cy="28188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 rot="18675000">
              <a:off x="9391680" y="4372200"/>
              <a:ext cx="213120" cy="177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组合 5"/>
          <p:cNvGrpSpPr/>
          <p:nvPr/>
        </p:nvGrpSpPr>
        <p:grpSpPr>
          <a:xfrm>
            <a:off x="10539720" y="4952520"/>
            <a:ext cx="266400" cy="266400"/>
            <a:chOff x="10539720" y="4952520"/>
            <a:chExt cx="266400" cy="266400"/>
          </a:xfrm>
        </p:grpSpPr>
        <p:sp>
          <p:nvSpPr>
            <p:cNvPr id="86" name="Oval 5"/>
            <p:cNvSpPr/>
            <p:nvPr/>
          </p:nvSpPr>
          <p:spPr>
            <a:xfrm flipV="1" rot="18133200">
              <a:off x="10576440" y="4988880"/>
              <a:ext cx="192960" cy="19332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6"/>
            <p:cNvSpPr/>
            <p:nvPr/>
          </p:nvSpPr>
          <p:spPr>
            <a:xfrm flipV="1" rot="18133200">
              <a:off x="10599840" y="5024520"/>
              <a:ext cx="145800" cy="1213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-360 h 121320"/>
                <a:gd name="textAreaBottom" fmla="*/ 121320 h 1213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组合 3"/>
          <p:cNvGrpSpPr/>
          <p:nvPr/>
        </p:nvGrpSpPr>
        <p:grpSpPr>
          <a:xfrm>
            <a:off x="10950480" y="5086440"/>
            <a:ext cx="491760" cy="491760"/>
            <a:chOff x="10950480" y="5086440"/>
            <a:chExt cx="491760" cy="491760"/>
          </a:xfrm>
        </p:grpSpPr>
        <p:sp>
          <p:nvSpPr>
            <p:cNvPr id="89" name="Oval 5"/>
            <p:cNvSpPr/>
            <p:nvPr/>
          </p:nvSpPr>
          <p:spPr>
            <a:xfrm flipV="1" rot="3121200">
              <a:off x="11021040" y="5157000"/>
              <a:ext cx="350280" cy="35028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6"/>
            <p:cNvSpPr/>
            <p:nvPr/>
          </p:nvSpPr>
          <p:spPr>
            <a:xfrm flipV="1" rot="3121200">
              <a:off x="11063520" y="5222160"/>
              <a:ext cx="264960" cy="2199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-360 h 219960"/>
                <a:gd name="textAreaBottom" fmla="*/ 219960 h 2199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组合 1"/>
          <p:cNvGrpSpPr/>
          <p:nvPr/>
        </p:nvGrpSpPr>
        <p:grpSpPr>
          <a:xfrm>
            <a:off x="10662120" y="5494680"/>
            <a:ext cx="424080" cy="424080"/>
            <a:chOff x="10662120" y="5494680"/>
            <a:chExt cx="424080" cy="424080"/>
          </a:xfrm>
        </p:grpSpPr>
        <p:sp>
          <p:nvSpPr>
            <p:cNvPr id="92" name="Oval 5"/>
            <p:cNvSpPr/>
            <p:nvPr/>
          </p:nvSpPr>
          <p:spPr>
            <a:xfrm rot="17841600">
              <a:off x="10716480" y="5549040"/>
              <a:ext cx="314640" cy="31464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 rot="17841600">
              <a:off x="10755000" y="5607720"/>
              <a:ext cx="237960" cy="1976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Oval 5"/>
          <p:cNvSpPr/>
          <p:nvPr/>
        </p:nvSpPr>
        <p:spPr>
          <a:xfrm rot="13424400">
            <a:off x="11239200" y="5988600"/>
            <a:ext cx="587880" cy="58788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6"/>
          <p:cNvSpPr/>
          <p:nvPr/>
        </p:nvSpPr>
        <p:spPr>
          <a:xfrm rot="13424400">
            <a:off x="11310840" y="6097320"/>
            <a:ext cx="444600" cy="369720"/>
          </a:xfrm>
          <a:custGeom>
            <a:avLst/>
            <a:gdLst>
              <a:gd name="textAreaLeft" fmla="*/ 0 w 444600"/>
              <a:gd name="textAreaRight" fmla="*/ 444960 w 4446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01" h="84">
                <a:moveTo>
                  <a:pt x="69" y="51"/>
                </a:moveTo>
                <a:cubicBezTo>
                  <a:pt x="69" y="51"/>
                  <a:pt x="28" y="51"/>
                  <a:pt x="9" y="51"/>
                </a:cubicBezTo>
                <a:cubicBezTo>
                  <a:pt x="4" y="51"/>
                  <a:pt x="0" y="47"/>
                  <a:pt x="0" y="42"/>
                </a:cubicBezTo>
                <a:cubicBezTo>
                  <a:pt x="0" y="37"/>
                  <a:pt x="4" y="33"/>
                  <a:pt x="9" y="33"/>
                </a:cubicBezTo>
                <a:cubicBezTo>
                  <a:pt x="25" y="33"/>
                  <a:pt x="69" y="33"/>
                  <a:pt x="69" y="33"/>
                </a:cubicBezTo>
                <a:cubicBezTo>
                  <a:pt x="69" y="33"/>
                  <a:pt x="66" y="30"/>
                  <a:pt x="52" y="16"/>
                </a:cubicBezTo>
                <a:cubicBezTo>
                  <a:pt x="49" y="13"/>
                  <a:pt x="49" y="7"/>
                  <a:pt x="52" y="4"/>
                </a:cubicBezTo>
                <a:cubicBezTo>
                  <a:pt x="56" y="0"/>
                  <a:pt x="62" y="0"/>
                  <a:pt x="65" y="4"/>
                </a:cubicBezTo>
                <a:cubicBezTo>
                  <a:pt x="76" y="15"/>
                  <a:pt x="97" y="36"/>
                  <a:pt x="97" y="36"/>
                </a:cubicBezTo>
                <a:cubicBezTo>
                  <a:pt x="101" y="39"/>
                  <a:pt x="101" y="45"/>
                  <a:pt x="97" y="49"/>
                </a:cubicBezTo>
                <a:cubicBezTo>
                  <a:pt x="97" y="49"/>
                  <a:pt x="79" y="67"/>
                  <a:pt x="65" y="80"/>
                </a:cubicBezTo>
                <a:cubicBezTo>
                  <a:pt x="62" y="84"/>
                  <a:pt x="56" y="84"/>
                  <a:pt x="53" y="80"/>
                </a:cubicBezTo>
                <a:cubicBezTo>
                  <a:pt x="49" y="77"/>
                  <a:pt x="49" y="71"/>
                  <a:pt x="53" y="68"/>
                </a:cubicBezTo>
                <a:cubicBezTo>
                  <a:pt x="64" y="57"/>
                  <a:pt x="69" y="51"/>
                  <a:pt x="69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任意多边形 53"/>
          <p:cNvSpPr/>
          <p:nvPr/>
        </p:nvSpPr>
        <p:spPr>
          <a:xfrm>
            <a:off x="7919640" y="5466240"/>
            <a:ext cx="2729160" cy="2729160"/>
          </a:xfrm>
          <a:custGeom>
            <a:avLst/>
            <a:gdLst>
              <a:gd name="textAreaLeft" fmla="*/ 0 w 2729160"/>
              <a:gd name="textAreaRight" fmla="*/ 2729520 w 272916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2729474" h="2729474">
                <a:moveTo>
                  <a:pt x="1357874" y="344079"/>
                </a:moveTo>
                <a:cubicBezTo>
                  <a:pt x="800260" y="344079"/>
                  <a:pt x="348224" y="796115"/>
                  <a:pt x="348224" y="1353729"/>
                </a:cubicBezTo>
                <a:cubicBezTo>
                  <a:pt x="348224" y="1911343"/>
                  <a:pt x="800260" y="2363379"/>
                  <a:pt x="1357874" y="2363379"/>
                </a:cubicBezTo>
                <a:cubicBezTo>
                  <a:pt x="1915488" y="2363379"/>
                  <a:pt x="2367524" y="1911343"/>
                  <a:pt x="2367524" y="1353729"/>
                </a:cubicBezTo>
                <a:cubicBezTo>
                  <a:pt x="2367524" y="796115"/>
                  <a:pt x="1915488" y="344079"/>
                  <a:pt x="1357874" y="344079"/>
                </a:cubicBezTo>
                <a:close/>
                <a:moveTo>
                  <a:pt x="1364737" y="0"/>
                </a:moveTo>
                <a:cubicBezTo>
                  <a:pt x="2118460" y="0"/>
                  <a:pt x="2729474" y="611014"/>
                  <a:pt x="2729474" y="1364737"/>
                </a:cubicBezTo>
                <a:cubicBezTo>
                  <a:pt x="2729474" y="2118460"/>
                  <a:pt x="2118460" y="2729474"/>
                  <a:pt x="1364737" y="2729474"/>
                </a:cubicBezTo>
                <a:cubicBezTo>
                  <a:pt x="611014" y="2729474"/>
                  <a:pt x="0" y="2118460"/>
                  <a:pt x="0" y="1364737"/>
                </a:cubicBezTo>
                <a:cubicBezTo>
                  <a:pt x="0" y="611014"/>
                  <a:pt x="611014" y="0"/>
                  <a:pt x="1364737" y="0"/>
                </a:cubicBezTo>
                <a:close/>
              </a:path>
            </a:pathLst>
          </a:custGeom>
          <a:solidFill>
            <a:srgbClr val="44bbe6">
              <a:alpha val="1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任意多边形 56"/>
          <p:cNvSpPr/>
          <p:nvPr/>
        </p:nvSpPr>
        <p:spPr>
          <a:xfrm>
            <a:off x="9867960" y="4345920"/>
            <a:ext cx="2514240" cy="2514240"/>
          </a:xfrm>
          <a:custGeom>
            <a:avLst/>
            <a:gdLst>
              <a:gd name="textAreaLeft" fmla="*/ 0 w 2514240"/>
              <a:gd name="textAreaRight" fmla="*/ 2514600 w 2514240"/>
              <a:gd name="textAreaTop" fmla="*/ 0 h 2514240"/>
              <a:gd name="textAreaBottom" fmla="*/ 2514600 h 2514240"/>
            </a:gdLst>
            <a:ahLst/>
            <a:rect l="textAreaLeft" t="textAreaTop" r="textAreaRight" b="textAreaBottom"/>
            <a:pathLst>
              <a:path w="2514600" h="2514600">
                <a:moveTo>
                  <a:pt x="1257300" y="340431"/>
                </a:moveTo>
                <a:cubicBezTo>
                  <a:pt x="741770" y="340431"/>
                  <a:pt x="323850" y="758351"/>
                  <a:pt x="323850" y="1273881"/>
                </a:cubicBezTo>
                <a:cubicBezTo>
                  <a:pt x="323850" y="1789411"/>
                  <a:pt x="741770" y="2207331"/>
                  <a:pt x="1257300" y="2207331"/>
                </a:cubicBezTo>
                <a:cubicBezTo>
                  <a:pt x="1772830" y="2207331"/>
                  <a:pt x="2190750" y="1789411"/>
                  <a:pt x="2190750" y="1273881"/>
                </a:cubicBezTo>
                <a:cubicBezTo>
                  <a:pt x="2190750" y="758351"/>
                  <a:pt x="1772830" y="340431"/>
                  <a:pt x="1257300" y="340431"/>
                </a:cubicBezTo>
                <a:close/>
                <a:moveTo>
                  <a:pt x="1257300" y="0"/>
                </a:moveTo>
                <a:cubicBezTo>
                  <a:pt x="1951688" y="0"/>
                  <a:pt x="2514600" y="562912"/>
                  <a:pt x="2514600" y="1257300"/>
                </a:cubicBezTo>
                <a:cubicBezTo>
                  <a:pt x="2514600" y="1951688"/>
                  <a:pt x="1951688" y="2514600"/>
                  <a:pt x="1257300" y="2514600"/>
                </a:cubicBezTo>
                <a:cubicBezTo>
                  <a:pt x="562912" y="2514600"/>
                  <a:pt x="0" y="1951688"/>
                  <a:pt x="0" y="1257300"/>
                </a:cubicBezTo>
                <a:cubicBezTo>
                  <a:pt x="0" y="562912"/>
                  <a:pt x="562912" y="0"/>
                  <a:pt x="1257300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任意多边形 57"/>
          <p:cNvSpPr/>
          <p:nvPr/>
        </p:nvSpPr>
        <p:spPr>
          <a:xfrm>
            <a:off x="-938880" y="-2322000"/>
            <a:ext cx="6573960" cy="6573960"/>
          </a:xfrm>
          <a:custGeom>
            <a:avLst/>
            <a:gdLst>
              <a:gd name="textAreaLeft" fmla="*/ 0 w 6573960"/>
              <a:gd name="textAreaRight" fmla="*/ 6574320 w 6573960"/>
              <a:gd name="textAreaTop" fmla="*/ 0 h 6573960"/>
              <a:gd name="textAreaBottom" fmla="*/ 6574320 h 6573960"/>
            </a:gdLst>
            <a:ahLst/>
            <a:rect l="textAreaLeft" t="textAreaTop" r="textAreaRight" b="textAreaBottom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chemeClr val="accent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9"/>
          <p:cNvGrpSpPr/>
          <p:nvPr/>
        </p:nvGrpSpPr>
        <p:grpSpPr>
          <a:xfrm>
            <a:off x="252000" y="6180480"/>
            <a:ext cx="1585080" cy="488520"/>
            <a:chOff x="252000" y="6180480"/>
            <a:chExt cx="1585080" cy="488520"/>
          </a:xfrm>
        </p:grpSpPr>
        <p:sp>
          <p:nvSpPr>
            <p:cNvPr id="138" name="文本框 20"/>
            <p:cNvSpPr/>
            <p:nvPr/>
          </p:nvSpPr>
          <p:spPr>
            <a:xfrm>
              <a:off x="252000" y="6211080"/>
              <a:ext cx="9284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文本框 21"/>
            <p:cNvSpPr/>
            <p:nvPr/>
          </p:nvSpPr>
          <p:spPr>
            <a:xfrm>
              <a:off x="1187280" y="6213600"/>
              <a:ext cx="338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组合 22"/>
            <p:cNvGrpSpPr/>
            <p:nvPr/>
          </p:nvGrpSpPr>
          <p:grpSpPr>
            <a:xfrm>
              <a:off x="1695960" y="6220800"/>
              <a:ext cx="141120" cy="141120"/>
              <a:chOff x="1695960" y="6220800"/>
              <a:chExt cx="141120" cy="141120"/>
            </a:xfrm>
          </p:grpSpPr>
          <p:sp>
            <p:nvSpPr>
              <p:cNvPr id="141" name="Oval 10"/>
              <p:cNvSpPr/>
              <p:nvPr/>
            </p:nvSpPr>
            <p:spPr>
              <a:xfrm rot="2700000">
                <a:off x="1716480" y="6241320"/>
                <a:ext cx="99720" cy="9972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11"/>
              <p:cNvSpPr/>
              <p:nvPr/>
            </p:nvSpPr>
            <p:spPr>
              <a:xfrm rot="2700000">
                <a:off x="1726920" y="6258960"/>
                <a:ext cx="79560" cy="65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120" bIns="33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椭圆 23"/>
            <p:cNvSpPr/>
            <p:nvPr/>
          </p:nvSpPr>
          <p:spPr>
            <a:xfrm>
              <a:off x="1776600" y="6180480"/>
              <a:ext cx="45360" cy="4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cc278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44" name="组合 24"/>
            <p:cNvGrpSpPr/>
            <p:nvPr/>
          </p:nvGrpSpPr>
          <p:grpSpPr>
            <a:xfrm>
              <a:off x="1476000" y="6267960"/>
              <a:ext cx="333000" cy="333000"/>
              <a:chOff x="1476000" y="6267960"/>
              <a:chExt cx="333000" cy="333000"/>
            </a:xfrm>
          </p:grpSpPr>
          <p:sp>
            <p:nvSpPr>
              <p:cNvPr id="145" name="Oval 5"/>
              <p:cNvSpPr/>
              <p:nvPr/>
            </p:nvSpPr>
            <p:spPr>
              <a:xfrm rot="13661400">
                <a:off x="1524600" y="6316200"/>
                <a:ext cx="23544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6"/>
              <p:cNvSpPr/>
              <p:nvPr/>
            </p:nvSpPr>
            <p:spPr>
              <a:xfrm rot="13661400">
                <a:off x="1538280" y="6339240"/>
                <a:ext cx="206280" cy="1713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7" name="Freeform 6"/>
            <p:cNvSpPr/>
            <p:nvPr/>
          </p:nvSpPr>
          <p:spPr>
            <a:xfrm rot="13661400">
              <a:off x="1042560" y="6345720"/>
              <a:ext cx="206280" cy="1713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26"/>
            <p:cNvGrpSpPr/>
            <p:nvPr/>
          </p:nvGrpSpPr>
          <p:grpSpPr>
            <a:xfrm>
              <a:off x="979200" y="6267960"/>
              <a:ext cx="333000" cy="333000"/>
              <a:chOff x="979200" y="6267960"/>
              <a:chExt cx="333000" cy="333000"/>
            </a:xfrm>
          </p:grpSpPr>
          <p:sp>
            <p:nvSpPr>
              <p:cNvPr id="149" name="Oval 5"/>
              <p:cNvSpPr/>
              <p:nvPr/>
            </p:nvSpPr>
            <p:spPr>
              <a:xfrm rot="13661400">
                <a:off x="1027800" y="6316200"/>
                <a:ext cx="23544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6"/>
              <p:cNvSpPr/>
              <p:nvPr/>
            </p:nvSpPr>
            <p:spPr>
              <a:xfrm rot="13661400">
                <a:off x="1041840" y="6339240"/>
                <a:ext cx="206280" cy="1713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1" name="任意多边形 36"/>
          <p:cNvSpPr/>
          <p:nvPr/>
        </p:nvSpPr>
        <p:spPr>
          <a:xfrm>
            <a:off x="-1091520" y="-2474280"/>
            <a:ext cx="6573960" cy="6573960"/>
          </a:xfrm>
          <a:custGeom>
            <a:avLst/>
            <a:gdLst>
              <a:gd name="textAreaLeft" fmla="*/ 0 w 6573960"/>
              <a:gd name="textAreaRight" fmla="*/ 6574320 w 6573960"/>
              <a:gd name="textAreaTop" fmla="*/ 0 h 6573960"/>
              <a:gd name="textAreaBottom" fmla="*/ 6574320 h 6573960"/>
            </a:gdLst>
            <a:ahLst/>
            <a:rect l="textAreaLeft" t="textAreaTop" r="textAreaRight" b="textAreaBottom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chemeClr val="accent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任意多边形 42"/>
          <p:cNvSpPr/>
          <p:nvPr/>
        </p:nvSpPr>
        <p:spPr>
          <a:xfrm>
            <a:off x="8901000" y="-4680"/>
            <a:ext cx="2495160" cy="2495160"/>
          </a:xfrm>
          <a:custGeom>
            <a:avLst/>
            <a:gdLst>
              <a:gd name="textAreaLeft" fmla="*/ 0 w 2495160"/>
              <a:gd name="textAreaRight" fmla="*/ 2495520 w 2495160"/>
              <a:gd name="textAreaTop" fmla="*/ 0 h 2495160"/>
              <a:gd name="textAreaBottom" fmla="*/ 2495520 h 2495160"/>
            </a:gdLst>
            <a:ahLst/>
            <a:rect l="textAreaLeft" t="textAreaTop" r="textAreaRight" b="textAreaBottom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chemeClr val="accent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任意多边形 45"/>
          <p:cNvSpPr/>
          <p:nvPr/>
        </p:nvSpPr>
        <p:spPr>
          <a:xfrm>
            <a:off x="10702440" y="-1470600"/>
            <a:ext cx="3102840" cy="3102840"/>
          </a:xfrm>
          <a:custGeom>
            <a:avLst/>
            <a:gdLst>
              <a:gd name="textAreaLeft" fmla="*/ 0 w 3102840"/>
              <a:gd name="textAreaRight" fmla="*/ 3103200 w 3102840"/>
              <a:gd name="textAreaTop" fmla="*/ 0 h 3102840"/>
              <a:gd name="textAreaBottom" fmla="*/ 3103200 h 3102840"/>
            </a:gdLst>
            <a:ahLst/>
            <a:rect l="textAreaLeft" t="textAreaTop" r="textAreaRight" b="textAreaBottom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chemeClr val="accent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54" name="组合 98"/>
          <p:cNvGrpSpPr/>
          <p:nvPr/>
        </p:nvGrpSpPr>
        <p:grpSpPr>
          <a:xfrm>
            <a:off x="11473920" y="195480"/>
            <a:ext cx="574200" cy="574560"/>
            <a:chOff x="11473920" y="195480"/>
            <a:chExt cx="574200" cy="574560"/>
          </a:xfrm>
        </p:grpSpPr>
        <p:sp>
          <p:nvSpPr>
            <p:cNvPr id="155" name="AutoShape 3"/>
            <p:cNvSpPr/>
            <p:nvPr/>
          </p:nvSpPr>
          <p:spPr>
            <a:xfrm rot="3493800">
              <a:off x="11554560" y="273960"/>
              <a:ext cx="4122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3493800">
              <a:off x="11552400" y="273960"/>
              <a:ext cx="41724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 rot="3493800">
              <a:off x="11598840" y="352440"/>
              <a:ext cx="324360" cy="26964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99"/>
          <p:cNvGrpSpPr/>
          <p:nvPr/>
        </p:nvGrpSpPr>
        <p:grpSpPr>
          <a:xfrm>
            <a:off x="11475720" y="788040"/>
            <a:ext cx="424440" cy="424440"/>
            <a:chOff x="11475720" y="788040"/>
            <a:chExt cx="424440" cy="424440"/>
          </a:xfrm>
        </p:grpSpPr>
        <p:sp>
          <p:nvSpPr>
            <p:cNvPr id="159" name="AutoShape 3"/>
            <p:cNvSpPr/>
            <p:nvPr/>
          </p:nvSpPr>
          <p:spPr>
            <a:xfrm flipV="1" rot="18535800">
              <a:off x="11538360" y="847440"/>
              <a:ext cx="298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flipV="1" rot="18535800">
              <a:off x="11536920" y="848880"/>
              <a:ext cx="301680" cy="30168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8535800">
              <a:off x="11562120" y="891720"/>
              <a:ext cx="252000" cy="2095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360 h 209520"/>
                <a:gd name="textAreaBottom" fmla="*/ 210240 h 209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组合 100"/>
          <p:cNvGrpSpPr/>
          <p:nvPr/>
        </p:nvGrpSpPr>
        <p:grpSpPr>
          <a:xfrm>
            <a:off x="10865520" y="770400"/>
            <a:ext cx="607680" cy="607680"/>
            <a:chOff x="10865520" y="770400"/>
            <a:chExt cx="607680" cy="607680"/>
          </a:xfrm>
        </p:grpSpPr>
        <p:sp>
          <p:nvSpPr>
            <p:cNvPr id="163" name="Oval 5"/>
            <p:cNvSpPr/>
            <p:nvPr/>
          </p:nvSpPr>
          <p:spPr>
            <a:xfrm rot="13582800">
              <a:off x="10954440" y="858960"/>
              <a:ext cx="429840" cy="42984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582800">
              <a:off x="10985400" y="921600"/>
              <a:ext cx="361800" cy="3006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组合 101"/>
          <p:cNvGrpSpPr/>
          <p:nvPr/>
        </p:nvGrpSpPr>
        <p:grpSpPr>
          <a:xfrm>
            <a:off x="10960200" y="290880"/>
            <a:ext cx="369360" cy="369360"/>
            <a:chOff x="10960200" y="290880"/>
            <a:chExt cx="369360" cy="369360"/>
          </a:xfrm>
        </p:grpSpPr>
        <p:sp>
          <p:nvSpPr>
            <p:cNvPr id="166" name="Oval 5"/>
            <p:cNvSpPr/>
            <p:nvPr/>
          </p:nvSpPr>
          <p:spPr>
            <a:xfrm rot="16200000">
              <a:off x="10960200" y="290880"/>
              <a:ext cx="369360" cy="36936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6200000">
              <a:off x="10998720" y="361440"/>
              <a:ext cx="291960" cy="24264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AutoShape 3"/>
          <p:cNvSpPr/>
          <p:nvPr/>
        </p:nvSpPr>
        <p:spPr>
          <a:xfrm>
            <a:off x="7821720" y="-1992960"/>
            <a:ext cx="66312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组合 102"/>
          <p:cNvGrpSpPr/>
          <p:nvPr/>
        </p:nvGrpSpPr>
        <p:grpSpPr>
          <a:xfrm>
            <a:off x="10292400" y="552240"/>
            <a:ext cx="596880" cy="596880"/>
            <a:chOff x="10292400" y="552240"/>
            <a:chExt cx="596880" cy="596880"/>
          </a:xfrm>
        </p:grpSpPr>
        <p:sp>
          <p:nvSpPr>
            <p:cNvPr id="170" name="Oval 5"/>
            <p:cNvSpPr/>
            <p:nvPr/>
          </p:nvSpPr>
          <p:spPr>
            <a:xfrm rot="14317800">
              <a:off x="10373400" y="633600"/>
              <a:ext cx="434160" cy="43416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 rot="14317800">
              <a:off x="10428120" y="710280"/>
              <a:ext cx="325440" cy="2703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105"/>
          <p:cNvGrpSpPr/>
          <p:nvPr/>
        </p:nvGrpSpPr>
        <p:grpSpPr>
          <a:xfrm>
            <a:off x="9936360" y="1358280"/>
            <a:ext cx="399600" cy="399600"/>
            <a:chOff x="9936360" y="1358280"/>
            <a:chExt cx="399600" cy="399600"/>
          </a:xfrm>
        </p:grpSpPr>
        <p:sp>
          <p:nvSpPr>
            <p:cNvPr id="173" name="Oval 5"/>
            <p:cNvSpPr/>
            <p:nvPr/>
          </p:nvSpPr>
          <p:spPr>
            <a:xfrm rot="18474600">
              <a:off x="9993600" y="1415520"/>
              <a:ext cx="284760" cy="28476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 rot="18474600">
              <a:off x="10036800" y="1461600"/>
              <a:ext cx="214560" cy="1782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107"/>
          <p:cNvGrpSpPr/>
          <p:nvPr/>
        </p:nvGrpSpPr>
        <p:grpSpPr>
          <a:xfrm>
            <a:off x="9921240" y="1340640"/>
            <a:ext cx="438840" cy="438840"/>
            <a:chOff x="9921240" y="1340640"/>
            <a:chExt cx="438840" cy="438840"/>
          </a:xfrm>
        </p:grpSpPr>
        <p:sp>
          <p:nvSpPr>
            <p:cNvPr id="176" name="Oval 5"/>
            <p:cNvSpPr/>
            <p:nvPr/>
          </p:nvSpPr>
          <p:spPr>
            <a:xfrm rot="18467400">
              <a:off x="9984240" y="1403640"/>
              <a:ext cx="312840" cy="31284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 rot="18467400">
              <a:off x="10017000" y="1453680"/>
              <a:ext cx="253080" cy="21024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04"/>
          <p:cNvGrpSpPr/>
          <p:nvPr/>
        </p:nvGrpSpPr>
        <p:grpSpPr>
          <a:xfrm>
            <a:off x="9900360" y="730080"/>
            <a:ext cx="339480" cy="339120"/>
            <a:chOff x="9900360" y="730080"/>
            <a:chExt cx="339480" cy="339120"/>
          </a:xfrm>
        </p:grpSpPr>
        <p:sp>
          <p:nvSpPr>
            <p:cNvPr id="179" name="Oval 5"/>
            <p:cNvSpPr/>
            <p:nvPr/>
          </p:nvSpPr>
          <p:spPr>
            <a:xfrm flipV="1" rot="3938400">
              <a:off x="9941760" y="771480"/>
              <a:ext cx="256320" cy="25632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 flipV="1" rot="3938400">
              <a:off x="9969120" y="815400"/>
              <a:ext cx="206280" cy="1713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360 h 171360"/>
                <a:gd name="textAreaBottom" fmla="*/ 172080 h 1713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09"/>
          <p:cNvGrpSpPr/>
          <p:nvPr/>
        </p:nvGrpSpPr>
        <p:grpSpPr>
          <a:xfrm>
            <a:off x="9403920" y="745920"/>
            <a:ext cx="339840" cy="339480"/>
            <a:chOff x="9403920" y="745920"/>
            <a:chExt cx="339840" cy="339480"/>
          </a:xfrm>
        </p:grpSpPr>
        <p:sp>
          <p:nvSpPr>
            <p:cNvPr id="182" name="Oval 5"/>
            <p:cNvSpPr/>
            <p:nvPr/>
          </p:nvSpPr>
          <p:spPr>
            <a:xfrm rot="14727600">
              <a:off x="9445320" y="787320"/>
              <a:ext cx="256320" cy="25632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 rot="14727600">
              <a:off x="9472680" y="828000"/>
              <a:ext cx="202680" cy="16848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组合 108"/>
          <p:cNvGrpSpPr/>
          <p:nvPr/>
        </p:nvGrpSpPr>
        <p:grpSpPr>
          <a:xfrm>
            <a:off x="9650160" y="1231920"/>
            <a:ext cx="309240" cy="309240"/>
            <a:chOff x="9650160" y="1231920"/>
            <a:chExt cx="309240" cy="309240"/>
          </a:xfrm>
        </p:grpSpPr>
        <p:sp>
          <p:nvSpPr>
            <p:cNvPr id="185" name="Oval 5"/>
            <p:cNvSpPr/>
            <p:nvPr/>
          </p:nvSpPr>
          <p:spPr>
            <a:xfrm rot="16200000">
              <a:off x="9650160" y="1231920"/>
              <a:ext cx="309240" cy="30924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 rot="16200000">
              <a:off x="9687960" y="1284840"/>
              <a:ext cx="236880" cy="19692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10"/>
          <p:cNvGrpSpPr/>
          <p:nvPr/>
        </p:nvGrpSpPr>
        <p:grpSpPr>
          <a:xfrm>
            <a:off x="8730000" y="1106640"/>
            <a:ext cx="402120" cy="401760"/>
            <a:chOff x="8730000" y="1106640"/>
            <a:chExt cx="402120" cy="401760"/>
          </a:xfrm>
        </p:grpSpPr>
        <p:sp>
          <p:nvSpPr>
            <p:cNvPr id="188" name="AutoShape 3"/>
            <p:cNvSpPr/>
            <p:nvPr/>
          </p:nvSpPr>
          <p:spPr>
            <a:xfrm rot="13367400">
              <a:off x="8790480" y="1163880"/>
              <a:ext cx="2811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5"/>
            <p:cNvSpPr/>
            <p:nvPr/>
          </p:nvSpPr>
          <p:spPr>
            <a:xfrm rot="13367400">
              <a:off x="8788680" y="1164960"/>
              <a:ext cx="284400" cy="28440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13367400">
              <a:off x="8823240" y="1215720"/>
              <a:ext cx="213480" cy="17712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12"/>
          <p:cNvGrpSpPr/>
          <p:nvPr/>
        </p:nvGrpSpPr>
        <p:grpSpPr>
          <a:xfrm>
            <a:off x="9222840" y="1249560"/>
            <a:ext cx="281880" cy="281880"/>
            <a:chOff x="9222840" y="1249560"/>
            <a:chExt cx="281880" cy="281880"/>
          </a:xfrm>
        </p:grpSpPr>
        <p:sp>
          <p:nvSpPr>
            <p:cNvPr id="192" name="Oval 5"/>
            <p:cNvSpPr/>
            <p:nvPr/>
          </p:nvSpPr>
          <p:spPr>
            <a:xfrm rot="18585600">
              <a:off x="9263520" y="129024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 rot="18585600">
              <a:off x="9285480" y="1322640"/>
              <a:ext cx="160560" cy="13356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58"/>
          <p:cNvGrpSpPr/>
          <p:nvPr/>
        </p:nvGrpSpPr>
        <p:grpSpPr>
          <a:xfrm>
            <a:off x="264960" y="461520"/>
            <a:ext cx="410040" cy="410040"/>
            <a:chOff x="264960" y="461520"/>
            <a:chExt cx="410040" cy="410040"/>
          </a:xfrm>
        </p:grpSpPr>
        <p:sp>
          <p:nvSpPr>
            <p:cNvPr id="195" name="Oval 5"/>
            <p:cNvSpPr/>
            <p:nvPr/>
          </p:nvSpPr>
          <p:spPr>
            <a:xfrm flipV="1" rot="2503200">
              <a:off x="324720" y="520920"/>
              <a:ext cx="2905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 flipV="1" rot="2503200">
              <a:off x="360000" y="575280"/>
              <a:ext cx="219600" cy="1825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-36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任意多边形 6" hidden="1"/>
          <p:cNvSpPr/>
          <p:nvPr/>
        </p:nvSpPr>
        <p:spPr>
          <a:xfrm>
            <a:off x="-1091520" y="-2474280"/>
            <a:ext cx="6573960" cy="6573960"/>
          </a:xfrm>
          <a:custGeom>
            <a:avLst/>
            <a:gdLst>
              <a:gd name="textAreaLeft" fmla="*/ 0 w 6573960"/>
              <a:gd name="textAreaRight" fmla="*/ 6574320 w 6573960"/>
              <a:gd name="textAreaTop" fmla="*/ 0 h 6573960"/>
              <a:gd name="textAreaBottom" fmla="*/ 6574320 h 6573960"/>
            </a:gdLst>
            <a:ahLst/>
            <a:rect l="textAreaLeft" t="textAreaTop" r="textAreaRight" b="textAreaBottom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chemeClr val="accent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任意多边形 7" hidden="1"/>
          <p:cNvSpPr/>
          <p:nvPr/>
        </p:nvSpPr>
        <p:spPr>
          <a:xfrm>
            <a:off x="7871400" y="5397840"/>
            <a:ext cx="2624760" cy="2624760"/>
          </a:xfrm>
          <a:custGeom>
            <a:avLst/>
            <a:gdLst>
              <a:gd name="textAreaLeft" fmla="*/ 0 w 2624760"/>
              <a:gd name="textAreaRight" fmla="*/ 2625120 w 2624760"/>
              <a:gd name="textAreaTop" fmla="*/ 0 h 2624760"/>
              <a:gd name="textAreaBottom" fmla="*/ 2625120 h 2624760"/>
            </a:gdLst>
            <a:ahLst/>
            <a:rect l="textAreaLeft" t="textAreaTop" r="textAreaRight" b="textAreaBottom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chemeClr val="accent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任意多边形 9" hidden="1"/>
          <p:cNvSpPr/>
          <p:nvPr/>
        </p:nvSpPr>
        <p:spPr>
          <a:xfrm>
            <a:off x="9795600" y="4368960"/>
            <a:ext cx="2624760" cy="2624760"/>
          </a:xfrm>
          <a:custGeom>
            <a:avLst/>
            <a:gdLst>
              <a:gd name="textAreaLeft" fmla="*/ 0 w 2624760"/>
              <a:gd name="textAreaRight" fmla="*/ 2625120 w 2624760"/>
              <a:gd name="textAreaTop" fmla="*/ 0 h 2624760"/>
              <a:gd name="textAreaBottom" fmla="*/ 2625120 h 2624760"/>
            </a:gdLst>
            <a:ahLst/>
            <a:rect l="textAreaLeft" t="textAreaTop" r="textAreaRight" b="textAreaBottom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chemeClr val="accent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8" name="图片 10" descr=""/>
          <p:cNvPicPr/>
          <p:nvPr/>
        </p:nvPicPr>
        <p:blipFill>
          <a:blip r:embed="rId2"/>
          <a:stretch/>
        </p:blipFill>
        <p:spPr>
          <a:xfrm>
            <a:off x="7514640" y="635760"/>
            <a:ext cx="663480" cy="674640"/>
          </a:xfrm>
          <a:prstGeom prst="rect">
            <a:avLst/>
          </a:prstGeom>
          <a:ln w="0">
            <a:noFill/>
          </a:ln>
        </p:spPr>
      </p:pic>
      <p:grpSp>
        <p:nvGrpSpPr>
          <p:cNvPr id="239" name="组合 13"/>
          <p:cNvGrpSpPr/>
          <p:nvPr/>
        </p:nvGrpSpPr>
        <p:grpSpPr>
          <a:xfrm>
            <a:off x="8487000" y="4574160"/>
            <a:ext cx="417960" cy="417960"/>
            <a:chOff x="8487000" y="4574160"/>
            <a:chExt cx="417960" cy="417960"/>
          </a:xfrm>
        </p:grpSpPr>
        <p:sp>
          <p:nvSpPr>
            <p:cNvPr id="240" name="Oval 5"/>
            <p:cNvSpPr/>
            <p:nvPr/>
          </p:nvSpPr>
          <p:spPr>
            <a:xfrm rot="18246600">
              <a:off x="8545320" y="4632480"/>
              <a:ext cx="300960" cy="30096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 rot="18246600">
              <a:off x="8584920" y="4687200"/>
              <a:ext cx="227520" cy="189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8"/>
          <p:cNvGrpSpPr/>
          <p:nvPr/>
        </p:nvGrpSpPr>
        <p:grpSpPr>
          <a:xfrm>
            <a:off x="10081800" y="5308920"/>
            <a:ext cx="423360" cy="423360"/>
            <a:chOff x="10081800" y="5308920"/>
            <a:chExt cx="423360" cy="423360"/>
          </a:xfrm>
        </p:grpSpPr>
        <p:sp>
          <p:nvSpPr>
            <p:cNvPr id="243" name="Oval 5"/>
            <p:cNvSpPr/>
            <p:nvPr/>
          </p:nvSpPr>
          <p:spPr>
            <a:xfrm rot="16200000">
              <a:off x="10081800" y="5308920"/>
              <a:ext cx="423360" cy="42336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 rot="16200000">
              <a:off x="10133280" y="5387400"/>
              <a:ext cx="320400" cy="266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合 11"/>
          <p:cNvGrpSpPr/>
          <p:nvPr/>
        </p:nvGrpSpPr>
        <p:grpSpPr>
          <a:xfrm>
            <a:off x="9200880" y="4856760"/>
            <a:ext cx="316800" cy="316800"/>
            <a:chOff x="9200880" y="4856760"/>
            <a:chExt cx="316800" cy="316800"/>
          </a:xfrm>
        </p:grpSpPr>
        <p:sp>
          <p:nvSpPr>
            <p:cNvPr id="246" name="Oval 5"/>
            <p:cNvSpPr/>
            <p:nvPr/>
          </p:nvSpPr>
          <p:spPr>
            <a:xfrm rot="3672600">
              <a:off x="9242640" y="4898160"/>
              <a:ext cx="233280" cy="23328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 rot="3672600">
              <a:off x="9270720" y="4942080"/>
              <a:ext cx="176400" cy="14652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4"/>
          <p:cNvGrpSpPr/>
          <p:nvPr/>
        </p:nvGrpSpPr>
        <p:grpSpPr>
          <a:xfrm>
            <a:off x="9740160" y="4657320"/>
            <a:ext cx="571320" cy="571320"/>
            <a:chOff x="9740160" y="4657320"/>
            <a:chExt cx="571320" cy="571320"/>
          </a:xfrm>
        </p:grpSpPr>
        <p:sp>
          <p:nvSpPr>
            <p:cNvPr id="249" name="Oval 5"/>
            <p:cNvSpPr/>
            <p:nvPr/>
          </p:nvSpPr>
          <p:spPr>
            <a:xfrm flipV="1" rot="14181000">
              <a:off x="9819360" y="4736520"/>
              <a:ext cx="412200" cy="41220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 flipV="1" rot="14181000">
              <a:off x="9869400" y="4812840"/>
              <a:ext cx="311760" cy="25884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-360 h 258840"/>
                <a:gd name="textAreaBottom" fmla="*/ 258840 h 2588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41"/>
          <p:cNvGrpSpPr/>
          <p:nvPr/>
        </p:nvGrpSpPr>
        <p:grpSpPr>
          <a:xfrm>
            <a:off x="7793280" y="4256280"/>
            <a:ext cx="413280" cy="413280"/>
            <a:chOff x="7793280" y="4256280"/>
            <a:chExt cx="413280" cy="413280"/>
          </a:xfrm>
        </p:grpSpPr>
        <p:sp>
          <p:nvSpPr>
            <p:cNvPr id="252" name="Oval 5"/>
            <p:cNvSpPr/>
            <p:nvPr/>
          </p:nvSpPr>
          <p:spPr>
            <a:xfrm rot="13489200">
              <a:off x="7853760" y="4316400"/>
              <a:ext cx="292320" cy="29232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 rot="13489200">
              <a:off x="7889040" y="4371120"/>
              <a:ext cx="221040" cy="1836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组合 39"/>
          <p:cNvGrpSpPr/>
          <p:nvPr/>
        </p:nvGrpSpPr>
        <p:grpSpPr>
          <a:xfrm>
            <a:off x="8858160" y="4101480"/>
            <a:ext cx="335880" cy="335880"/>
            <a:chOff x="8858160" y="4101480"/>
            <a:chExt cx="335880" cy="335880"/>
          </a:xfrm>
        </p:grpSpPr>
        <p:sp>
          <p:nvSpPr>
            <p:cNvPr id="255" name="Oval 5"/>
            <p:cNvSpPr/>
            <p:nvPr/>
          </p:nvSpPr>
          <p:spPr>
            <a:xfrm rot="14581200">
              <a:off x="8901000" y="4144320"/>
              <a:ext cx="249840" cy="24984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6"/>
            <p:cNvSpPr/>
            <p:nvPr/>
          </p:nvSpPr>
          <p:spPr>
            <a:xfrm rot="14581200">
              <a:off x="8931600" y="4190760"/>
              <a:ext cx="189000" cy="1569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40"/>
          <p:cNvGrpSpPr/>
          <p:nvPr/>
        </p:nvGrpSpPr>
        <p:grpSpPr>
          <a:xfrm>
            <a:off x="8312760" y="4012920"/>
            <a:ext cx="328320" cy="328320"/>
            <a:chOff x="8312760" y="4012920"/>
            <a:chExt cx="328320" cy="328320"/>
          </a:xfrm>
        </p:grpSpPr>
        <p:sp>
          <p:nvSpPr>
            <p:cNvPr id="258" name="Oval 5"/>
            <p:cNvSpPr/>
            <p:nvPr/>
          </p:nvSpPr>
          <p:spPr>
            <a:xfrm rot="16200000">
              <a:off x="8312760" y="4012920"/>
              <a:ext cx="328320" cy="32832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6"/>
            <p:cNvSpPr/>
            <p:nvPr/>
          </p:nvSpPr>
          <p:spPr>
            <a:xfrm rot="16200000">
              <a:off x="8352360" y="4073400"/>
              <a:ext cx="248400" cy="20628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4"/>
          <p:cNvGrpSpPr/>
          <p:nvPr/>
        </p:nvGrpSpPr>
        <p:grpSpPr>
          <a:xfrm>
            <a:off x="9299520" y="4262040"/>
            <a:ext cx="397800" cy="397800"/>
            <a:chOff x="9299520" y="4262040"/>
            <a:chExt cx="397800" cy="397800"/>
          </a:xfrm>
        </p:grpSpPr>
        <p:sp>
          <p:nvSpPr>
            <p:cNvPr id="261" name="Oval 5"/>
            <p:cNvSpPr/>
            <p:nvPr/>
          </p:nvSpPr>
          <p:spPr>
            <a:xfrm rot="18675000">
              <a:off x="9357120" y="4320000"/>
              <a:ext cx="281880" cy="28188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"/>
            <p:cNvSpPr/>
            <p:nvPr/>
          </p:nvSpPr>
          <p:spPr>
            <a:xfrm rot="18675000">
              <a:off x="9391680" y="4372200"/>
              <a:ext cx="213120" cy="177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5"/>
          <p:cNvGrpSpPr/>
          <p:nvPr/>
        </p:nvGrpSpPr>
        <p:grpSpPr>
          <a:xfrm>
            <a:off x="10539720" y="4952520"/>
            <a:ext cx="266400" cy="266400"/>
            <a:chOff x="10539720" y="4952520"/>
            <a:chExt cx="266400" cy="266400"/>
          </a:xfrm>
        </p:grpSpPr>
        <p:sp>
          <p:nvSpPr>
            <p:cNvPr id="264" name="Oval 5"/>
            <p:cNvSpPr/>
            <p:nvPr/>
          </p:nvSpPr>
          <p:spPr>
            <a:xfrm flipV="1" rot="18133200">
              <a:off x="10576440" y="4988880"/>
              <a:ext cx="192960" cy="19332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6"/>
            <p:cNvSpPr/>
            <p:nvPr/>
          </p:nvSpPr>
          <p:spPr>
            <a:xfrm flipV="1" rot="18133200">
              <a:off x="10599840" y="5024520"/>
              <a:ext cx="145800" cy="1213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-360 h 121320"/>
                <a:gd name="textAreaBottom" fmla="*/ 121320 h 1213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3"/>
          <p:cNvGrpSpPr/>
          <p:nvPr/>
        </p:nvGrpSpPr>
        <p:grpSpPr>
          <a:xfrm>
            <a:off x="10950480" y="5086440"/>
            <a:ext cx="491760" cy="491760"/>
            <a:chOff x="10950480" y="5086440"/>
            <a:chExt cx="491760" cy="491760"/>
          </a:xfrm>
        </p:grpSpPr>
        <p:sp>
          <p:nvSpPr>
            <p:cNvPr id="267" name="Oval 5"/>
            <p:cNvSpPr/>
            <p:nvPr/>
          </p:nvSpPr>
          <p:spPr>
            <a:xfrm flipV="1" rot="3121200">
              <a:off x="11021040" y="5157000"/>
              <a:ext cx="350280" cy="35028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6"/>
            <p:cNvSpPr/>
            <p:nvPr/>
          </p:nvSpPr>
          <p:spPr>
            <a:xfrm flipV="1" rot="3121200">
              <a:off x="11063520" y="5222160"/>
              <a:ext cx="264960" cy="2199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-360 h 219960"/>
                <a:gd name="textAreaBottom" fmla="*/ 219960 h 2199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组合 1"/>
          <p:cNvGrpSpPr/>
          <p:nvPr/>
        </p:nvGrpSpPr>
        <p:grpSpPr>
          <a:xfrm>
            <a:off x="10662120" y="5494680"/>
            <a:ext cx="424080" cy="424080"/>
            <a:chOff x="10662120" y="5494680"/>
            <a:chExt cx="424080" cy="424080"/>
          </a:xfrm>
        </p:grpSpPr>
        <p:sp>
          <p:nvSpPr>
            <p:cNvPr id="270" name="Oval 5"/>
            <p:cNvSpPr/>
            <p:nvPr/>
          </p:nvSpPr>
          <p:spPr>
            <a:xfrm rot="17841600">
              <a:off x="10716480" y="5549040"/>
              <a:ext cx="314640" cy="31464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 rot="17841600">
              <a:off x="10755000" y="5607720"/>
              <a:ext cx="237960" cy="1976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组合 2"/>
          <p:cNvGrpSpPr/>
          <p:nvPr/>
        </p:nvGrpSpPr>
        <p:grpSpPr>
          <a:xfrm>
            <a:off x="11117520" y="5866920"/>
            <a:ext cx="831240" cy="831240"/>
            <a:chOff x="11117520" y="5866920"/>
            <a:chExt cx="831240" cy="831240"/>
          </a:xfrm>
        </p:grpSpPr>
        <p:sp>
          <p:nvSpPr>
            <p:cNvPr id="273" name="Oval 5"/>
            <p:cNvSpPr/>
            <p:nvPr/>
          </p:nvSpPr>
          <p:spPr>
            <a:xfrm rot="13424400">
              <a:off x="11239200" y="5988600"/>
              <a:ext cx="587880" cy="58788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6"/>
            <p:cNvSpPr/>
            <p:nvPr/>
          </p:nvSpPr>
          <p:spPr>
            <a:xfrm rot="13424400">
              <a:off x="11310840" y="6097320"/>
              <a:ext cx="444600" cy="36972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组合 44"/>
          <p:cNvGrpSpPr/>
          <p:nvPr/>
        </p:nvGrpSpPr>
        <p:grpSpPr>
          <a:xfrm>
            <a:off x="264960" y="461520"/>
            <a:ext cx="410040" cy="410040"/>
            <a:chOff x="264960" y="461520"/>
            <a:chExt cx="410040" cy="410040"/>
          </a:xfrm>
        </p:grpSpPr>
        <p:sp>
          <p:nvSpPr>
            <p:cNvPr id="276" name="Oval 5"/>
            <p:cNvSpPr/>
            <p:nvPr/>
          </p:nvSpPr>
          <p:spPr>
            <a:xfrm flipV="1" rot="2503200">
              <a:off x="324720" y="520920"/>
              <a:ext cx="2905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 flipV="1" rot="2503200">
              <a:off x="360000" y="575280"/>
              <a:ext cx="219600" cy="1825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-36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任意多边形 48"/>
          <p:cNvSpPr/>
          <p:nvPr/>
        </p:nvSpPr>
        <p:spPr>
          <a:xfrm>
            <a:off x="7919640" y="5466240"/>
            <a:ext cx="2729160" cy="2729160"/>
          </a:xfrm>
          <a:custGeom>
            <a:avLst/>
            <a:gdLst>
              <a:gd name="textAreaLeft" fmla="*/ 0 w 2729160"/>
              <a:gd name="textAreaRight" fmla="*/ 2729520 w 272916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2729474" h="2729474">
                <a:moveTo>
                  <a:pt x="1357874" y="344079"/>
                </a:moveTo>
                <a:cubicBezTo>
                  <a:pt x="800260" y="344079"/>
                  <a:pt x="348224" y="796115"/>
                  <a:pt x="348224" y="1353729"/>
                </a:cubicBezTo>
                <a:cubicBezTo>
                  <a:pt x="348224" y="1911343"/>
                  <a:pt x="800260" y="2363379"/>
                  <a:pt x="1357874" y="2363379"/>
                </a:cubicBezTo>
                <a:cubicBezTo>
                  <a:pt x="1915488" y="2363379"/>
                  <a:pt x="2367524" y="1911343"/>
                  <a:pt x="2367524" y="1353729"/>
                </a:cubicBezTo>
                <a:cubicBezTo>
                  <a:pt x="2367524" y="796115"/>
                  <a:pt x="1915488" y="344079"/>
                  <a:pt x="1357874" y="344079"/>
                </a:cubicBezTo>
                <a:close/>
                <a:moveTo>
                  <a:pt x="1364737" y="0"/>
                </a:moveTo>
                <a:cubicBezTo>
                  <a:pt x="2118460" y="0"/>
                  <a:pt x="2729474" y="611014"/>
                  <a:pt x="2729474" y="1364737"/>
                </a:cubicBezTo>
                <a:cubicBezTo>
                  <a:pt x="2729474" y="2118460"/>
                  <a:pt x="2118460" y="2729474"/>
                  <a:pt x="1364737" y="2729474"/>
                </a:cubicBezTo>
                <a:cubicBezTo>
                  <a:pt x="611014" y="2729474"/>
                  <a:pt x="0" y="2118460"/>
                  <a:pt x="0" y="1364737"/>
                </a:cubicBezTo>
                <a:cubicBezTo>
                  <a:pt x="0" y="611014"/>
                  <a:pt x="611014" y="0"/>
                  <a:pt x="1364737" y="0"/>
                </a:cubicBezTo>
                <a:close/>
              </a:path>
            </a:pathLst>
          </a:custGeom>
          <a:solidFill>
            <a:srgbClr val="44bbe6">
              <a:alpha val="1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任意多边形 49"/>
          <p:cNvSpPr/>
          <p:nvPr/>
        </p:nvSpPr>
        <p:spPr>
          <a:xfrm>
            <a:off x="9867960" y="4345920"/>
            <a:ext cx="2514240" cy="2514240"/>
          </a:xfrm>
          <a:custGeom>
            <a:avLst/>
            <a:gdLst>
              <a:gd name="textAreaLeft" fmla="*/ 0 w 2514240"/>
              <a:gd name="textAreaRight" fmla="*/ 2514600 w 2514240"/>
              <a:gd name="textAreaTop" fmla="*/ 0 h 2514240"/>
              <a:gd name="textAreaBottom" fmla="*/ 2514600 h 2514240"/>
            </a:gdLst>
            <a:ahLst/>
            <a:rect l="textAreaLeft" t="textAreaTop" r="textAreaRight" b="textAreaBottom"/>
            <a:pathLst>
              <a:path w="2514600" h="2514600">
                <a:moveTo>
                  <a:pt x="1257300" y="340431"/>
                </a:moveTo>
                <a:cubicBezTo>
                  <a:pt x="741770" y="340431"/>
                  <a:pt x="323850" y="758351"/>
                  <a:pt x="323850" y="1273881"/>
                </a:cubicBezTo>
                <a:cubicBezTo>
                  <a:pt x="323850" y="1789411"/>
                  <a:pt x="741770" y="2207331"/>
                  <a:pt x="1257300" y="2207331"/>
                </a:cubicBezTo>
                <a:cubicBezTo>
                  <a:pt x="1772830" y="2207331"/>
                  <a:pt x="2190750" y="1789411"/>
                  <a:pt x="2190750" y="1273881"/>
                </a:cubicBezTo>
                <a:cubicBezTo>
                  <a:pt x="2190750" y="758351"/>
                  <a:pt x="1772830" y="340431"/>
                  <a:pt x="1257300" y="340431"/>
                </a:cubicBezTo>
                <a:close/>
                <a:moveTo>
                  <a:pt x="1257300" y="0"/>
                </a:moveTo>
                <a:cubicBezTo>
                  <a:pt x="1951688" y="0"/>
                  <a:pt x="2514600" y="562912"/>
                  <a:pt x="2514600" y="1257300"/>
                </a:cubicBezTo>
                <a:cubicBezTo>
                  <a:pt x="2514600" y="1951688"/>
                  <a:pt x="1951688" y="2514600"/>
                  <a:pt x="1257300" y="2514600"/>
                </a:cubicBezTo>
                <a:cubicBezTo>
                  <a:pt x="562912" y="2514600"/>
                  <a:pt x="0" y="1951688"/>
                  <a:pt x="0" y="1257300"/>
                </a:cubicBezTo>
                <a:cubicBezTo>
                  <a:pt x="0" y="562912"/>
                  <a:pt x="562912" y="0"/>
                  <a:pt x="1257300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任意多边形 50"/>
          <p:cNvSpPr/>
          <p:nvPr/>
        </p:nvSpPr>
        <p:spPr>
          <a:xfrm>
            <a:off x="-938880" y="-2322000"/>
            <a:ext cx="6573960" cy="6573960"/>
          </a:xfrm>
          <a:custGeom>
            <a:avLst/>
            <a:gdLst>
              <a:gd name="textAreaLeft" fmla="*/ 0 w 6573960"/>
              <a:gd name="textAreaRight" fmla="*/ 6574320 w 6573960"/>
              <a:gd name="textAreaTop" fmla="*/ 0 h 6573960"/>
              <a:gd name="textAreaBottom" fmla="*/ 6574320 h 6573960"/>
            </a:gdLst>
            <a:ahLst/>
            <a:rect l="textAreaLeft" t="textAreaTop" r="textAreaRight" b="textAreaBottom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chemeClr val="accent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microsoft.com/office/2007/relationships/hdphoto" Target="../media/hdphoto4.wdp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3.png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1.wdp"/><Relationship Id="rId3" Type="http://schemas.openxmlformats.org/officeDocument/2006/relationships/image" Target="../media/image4.png"/><Relationship Id="rId4" Type="http://schemas.microsoft.com/office/2007/relationships/hdphoto" Target="../media/hdphoto2.wdp"/><Relationship Id="rId5" Type="http://schemas.openxmlformats.org/officeDocument/2006/relationships/image" Target="../media/image5.png"/><Relationship Id="rId6" Type="http://schemas.microsoft.com/office/2007/relationships/hdphoto" Target="../media/hdphoto3.wdp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组合 7"/>
          <p:cNvGrpSpPr/>
          <p:nvPr/>
        </p:nvGrpSpPr>
        <p:grpSpPr>
          <a:xfrm>
            <a:off x="3313080" y="3901320"/>
            <a:ext cx="395640" cy="394920"/>
            <a:chOff x="3313080" y="3901320"/>
            <a:chExt cx="395640" cy="394920"/>
          </a:xfrm>
        </p:grpSpPr>
        <p:sp>
          <p:nvSpPr>
            <p:cNvPr id="326" name="Oval 5"/>
            <p:cNvSpPr/>
            <p:nvPr/>
          </p:nvSpPr>
          <p:spPr>
            <a:xfrm rot="18248400">
              <a:off x="3369600" y="3955320"/>
              <a:ext cx="282600" cy="28656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6"/>
            <p:cNvSpPr/>
            <p:nvPr/>
          </p:nvSpPr>
          <p:spPr>
            <a:xfrm rot="18248400">
              <a:off x="3407400" y="4011840"/>
              <a:ext cx="207000" cy="17388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组合 8"/>
          <p:cNvGrpSpPr/>
          <p:nvPr/>
        </p:nvGrpSpPr>
        <p:grpSpPr>
          <a:xfrm>
            <a:off x="5024160" y="3860640"/>
            <a:ext cx="477360" cy="476280"/>
            <a:chOff x="5024160" y="3860640"/>
            <a:chExt cx="477360" cy="476280"/>
          </a:xfrm>
        </p:grpSpPr>
        <p:sp>
          <p:nvSpPr>
            <p:cNvPr id="329" name="Oval 5"/>
            <p:cNvSpPr/>
            <p:nvPr/>
          </p:nvSpPr>
          <p:spPr>
            <a:xfrm rot="18228000">
              <a:off x="5091840" y="392544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6"/>
            <p:cNvSpPr/>
            <p:nvPr/>
          </p:nvSpPr>
          <p:spPr>
            <a:xfrm rot="18228000">
              <a:off x="5137920" y="3993840"/>
              <a:ext cx="249840" cy="2098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组合 11"/>
          <p:cNvGrpSpPr/>
          <p:nvPr/>
        </p:nvGrpSpPr>
        <p:grpSpPr>
          <a:xfrm>
            <a:off x="2892600" y="3426840"/>
            <a:ext cx="570240" cy="568080"/>
            <a:chOff x="2892600" y="3426840"/>
            <a:chExt cx="570240" cy="568080"/>
          </a:xfrm>
        </p:grpSpPr>
        <p:sp>
          <p:nvSpPr>
            <p:cNvPr id="332" name="Oval 5"/>
            <p:cNvSpPr/>
            <p:nvPr/>
          </p:nvSpPr>
          <p:spPr>
            <a:xfrm rot="3675600">
              <a:off x="2969280" y="3499560"/>
              <a:ext cx="41616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 rot="3675600">
              <a:off x="3025440" y="3582720"/>
              <a:ext cx="304560" cy="25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组合 14"/>
          <p:cNvGrpSpPr/>
          <p:nvPr/>
        </p:nvGrpSpPr>
        <p:grpSpPr>
          <a:xfrm>
            <a:off x="1320840" y="3526560"/>
            <a:ext cx="317880" cy="313560"/>
            <a:chOff x="1320840" y="3526560"/>
            <a:chExt cx="317880" cy="313560"/>
          </a:xfrm>
        </p:grpSpPr>
        <p:sp>
          <p:nvSpPr>
            <p:cNvPr id="335" name="Oval 5"/>
            <p:cNvSpPr/>
            <p:nvPr/>
          </p:nvSpPr>
          <p:spPr>
            <a:xfrm rot="16200000">
              <a:off x="1323000" y="3524400"/>
              <a:ext cx="313560" cy="31788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6"/>
            <p:cNvSpPr/>
            <p:nvPr/>
          </p:nvSpPr>
          <p:spPr>
            <a:xfrm rot="16200000">
              <a:off x="1364760" y="3586680"/>
              <a:ext cx="229320" cy="19296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合 17"/>
          <p:cNvGrpSpPr/>
          <p:nvPr/>
        </p:nvGrpSpPr>
        <p:grpSpPr>
          <a:xfrm>
            <a:off x="6600240" y="3396600"/>
            <a:ext cx="590400" cy="587880"/>
            <a:chOff x="6600240" y="3396600"/>
            <a:chExt cx="590400" cy="587880"/>
          </a:xfrm>
        </p:grpSpPr>
        <p:sp>
          <p:nvSpPr>
            <p:cNvPr id="338" name="Oval 5"/>
            <p:cNvSpPr/>
            <p:nvPr/>
          </p:nvSpPr>
          <p:spPr>
            <a:xfrm rot="3778800">
              <a:off x="6677640" y="3469680"/>
              <a:ext cx="434880" cy="44100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6"/>
            <p:cNvSpPr/>
            <p:nvPr/>
          </p:nvSpPr>
          <p:spPr>
            <a:xfrm rot="3778800">
              <a:off x="6735960" y="3556080"/>
              <a:ext cx="318240" cy="26784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组合 20"/>
          <p:cNvGrpSpPr/>
          <p:nvPr/>
        </p:nvGrpSpPr>
        <p:grpSpPr>
          <a:xfrm>
            <a:off x="9539640" y="4953960"/>
            <a:ext cx="361800" cy="360360"/>
            <a:chOff x="9539640" y="4953960"/>
            <a:chExt cx="361800" cy="360360"/>
          </a:xfrm>
        </p:grpSpPr>
        <p:sp>
          <p:nvSpPr>
            <p:cNvPr id="341" name="Oval 5"/>
            <p:cNvSpPr/>
            <p:nvPr/>
          </p:nvSpPr>
          <p:spPr>
            <a:xfrm rot="14494200">
              <a:off x="9588240" y="4999680"/>
              <a:ext cx="264600" cy="2682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6"/>
            <p:cNvSpPr/>
            <p:nvPr/>
          </p:nvSpPr>
          <p:spPr>
            <a:xfrm rot="14494200">
              <a:off x="9623520" y="5052600"/>
              <a:ext cx="193680" cy="1627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23"/>
          <p:cNvGrpSpPr/>
          <p:nvPr/>
        </p:nvGrpSpPr>
        <p:grpSpPr>
          <a:xfrm>
            <a:off x="10067400" y="5153400"/>
            <a:ext cx="411480" cy="405360"/>
            <a:chOff x="10067400" y="5153400"/>
            <a:chExt cx="411480" cy="405360"/>
          </a:xfrm>
        </p:grpSpPr>
        <p:sp>
          <p:nvSpPr>
            <p:cNvPr id="344" name="Oval 5"/>
            <p:cNvSpPr/>
            <p:nvPr/>
          </p:nvSpPr>
          <p:spPr>
            <a:xfrm rot="16200000">
              <a:off x="10070280" y="5150160"/>
              <a:ext cx="40536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6"/>
            <p:cNvSpPr/>
            <p:nvPr/>
          </p:nvSpPr>
          <p:spPr>
            <a:xfrm rot="16200000">
              <a:off x="10124280" y="5231160"/>
              <a:ext cx="297000" cy="2494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组合 26"/>
          <p:cNvGrpSpPr/>
          <p:nvPr/>
        </p:nvGrpSpPr>
        <p:grpSpPr>
          <a:xfrm>
            <a:off x="8028000" y="4376880"/>
            <a:ext cx="532080" cy="530280"/>
            <a:chOff x="8028000" y="4376880"/>
            <a:chExt cx="532080" cy="530280"/>
          </a:xfrm>
        </p:grpSpPr>
        <p:sp>
          <p:nvSpPr>
            <p:cNvPr id="347" name="Oval 5"/>
            <p:cNvSpPr/>
            <p:nvPr/>
          </p:nvSpPr>
          <p:spPr>
            <a:xfrm rot="14370000">
              <a:off x="8101080" y="4446720"/>
              <a:ext cx="385200" cy="39060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6"/>
            <p:cNvSpPr/>
            <p:nvPr/>
          </p:nvSpPr>
          <p:spPr>
            <a:xfrm rot="14370000">
              <a:off x="8152920" y="4523400"/>
              <a:ext cx="281880" cy="23724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组合 29"/>
          <p:cNvGrpSpPr/>
          <p:nvPr/>
        </p:nvGrpSpPr>
        <p:grpSpPr>
          <a:xfrm>
            <a:off x="5413680" y="3456000"/>
            <a:ext cx="1523880" cy="1523520"/>
            <a:chOff x="5413680" y="3456000"/>
            <a:chExt cx="1523880" cy="1523520"/>
          </a:xfrm>
        </p:grpSpPr>
        <p:sp>
          <p:nvSpPr>
            <p:cNvPr id="350" name="Oval 5"/>
            <p:cNvSpPr/>
            <p:nvPr/>
          </p:nvSpPr>
          <p:spPr>
            <a:xfrm rot="13557600">
              <a:off x="5640480" y="3674880"/>
              <a:ext cx="1069920" cy="108540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6"/>
            <p:cNvSpPr/>
            <p:nvPr/>
          </p:nvSpPr>
          <p:spPr>
            <a:xfrm rot="13557600">
              <a:off x="5770800" y="3874320"/>
              <a:ext cx="783360" cy="659160"/>
            </a:xfrm>
            <a:custGeom>
              <a:avLst/>
              <a:gdLst>
                <a:gd name="textAreaLeft" fmla="*/ 0 w 783360"/>
                <a:gd name="textAreaRight" fmla="*/ 783720 w 783360"/>
                <a:gd name="textAreaTop" fmla="*/ 0 h 659160"/>
                <a:gd name="textAreaBottom" fmla="*/ 659520 h 6591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32"/>
          <p:cNvGrpSpPr/>
          <p:nvPr/>
        </p:nvGrpSpPr>
        <p:grpSpPr>
          <a:xfrm>
            <a:off x="759240" y="3214800"/>
            <a:ext cx="489600" cy="488880"/>
            <a:chOff x="759240" y="3214800"/>
            <a:chExt cx="489600" cy="488880"/>
          </a:xfrm>
        </p:grpSpPr>
        <p:sp>
          <p:nvSpPr>
            <p:cNvPr id="353" name="Oval 5"/>
            <p:cNvSpPr/>
            <p:nvPr/>
          </p:nvSpPr>
          <p:spPr>
            <a:xfrm rot="13726800">
              <a:off x="831600" y="3284280"/>
              <a:ext cx="344160" cy="34920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6"/>
            <p:cNvSpPr/>
            <p:nvPr/>
          </p:nvSpPr>
          <p:spPr>
            <a:xfrm rot="13726800">
              <a:off x="877680" y="3353040"/>
              <a:ext cx="252000" cy="21204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5"/>
          <p:cNvGrpSpPr/>
          <p:nvPr/>
        </p:nvGrpSpPr>
        <p:grpSpPr>
          <a:xfrm>
            <a:off x="11192040" y="5356080"/>
            <a:ext cx="447120" cy="446400"/>
            <a:chOff x="11192040" y="5356080"/>
            <a:chExt cx="447120" cy="446400"/>
          </a:xfrm>
        </p:grpSpPr>
        <p:sp>
          <p:nvSpPr>
            <p:cNvPr id="356" name="Oval 5"/>
            <p:cNvSpPr/>
            <p:nvPr/>
          </p:nvSpPr>
          <p:spPr>
            <a:xfrm rot="18507000">
              <a:off x="11257560" y="5419080"/>
              <a:ext cx="315720" cy="32040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 rot="18507000">
              <a:off x="11300040" y="5482080"/>
              <a:ext cx="231120" cy="1944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8"/>
          <p:cNvGrpSpPr/>
          <p:nvPr/>
        </p:nvGrpSpPr>
        <p:grpSpPr>
          <a:xfrm>
            <a:off x="1992960" y="3480480"/>
            <a:ext cx="541080" cy="539280"/>
            <a:chOff x="1992960" y="3480480"/>
            <a:chExt cx="541080" cy="539280"/>
          </a:xfrm>
        </p:grpSpPr>
        <p:sp>
          <p:nvSpPr>
            <p:cNvPr id="359" name="Oval 5"/>
            <p:cNvSpPr/>
            <p:nvPr/>
          </p:nvSpPr>
          <p:spPr>
            <a:xfrm rot="18193200">
              <a:off x="2069640" y="3553560"/>
              <a:ext cx="387360" cy="39312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"/>
            <p:cNvSpPr/>
            <p:nvPr/>
          </p:nvSpPr>
          <p:spPr>
            <a:xfrm rot="18193200">
              <a:off x="2121840" y="3630600"/>
              <a:ext cx="283680" cy="23868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1"/>
          <p:cNvGrpSpPr/>
          <p:nvPr/>
        </p:nvGrpSpPr>
        <p:grpSpPr>
          <a:xfrm>
            <a:off x="9120240" y="4415760"/>
            <a:ext cx="566640" cy="565560"/>
            <a:chOff x="9120240" y="4415760"/>
            <a:chExt cx="566640" cy="565560"/>
          </a:xfrm>
        </p:grpSpPr>
        <p:sp>
          <p:nvSpPr>
            <p:cNvPr id="362" name="Oval 5"/>
            <p:cNvSpPr/>
            <p:nvPr/>
          </p:nvSpPr>
          <p:spPr>
            <a:xfrm rot="3235200">
              <a:off x="9201960" y="4494240"/>
              <a:ext cx="40248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6"/>
            <p:cNvSpPr/>
            <p:nvPr/>
          </p:nvSpPr>
          <p:spPr>
            <a:xfrm rot="3235200">
              <a:off x="9255960" y="4574520"/>
              <a:ext cx="294480" cy="24768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44"/>
          <p:cNvGrpSpPr/>
          <p:nvPr/>
        </p:nvGrpSpPr>
        <p:grpSpPr>
          <a:xfrm>
            <a:off x="239760" y="3521520"/>
            <a:ext cx="351360" cy="349920"/>
            <a:chOff x="239760" y="3521520"/>
            <a:chExt cx="351360" cy="349920"/>
          </a:xfrm>
        </p:grpSpPr>
        <p:sp>
          <p:nvSpPr>
            <p:cNvPr id="365" name="Oval 5"/>
            <p:cNvSpPr/>
            <p:nvPr/>
          </p:nvSpPr>
          <p:spPr>
            <a:xfrm rot="14400000">
              <a:off x="287640" y="3566880"/>
              <a:ext cx="254880" cy="25848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6"/>
            <p:cNvSpPr/>
            <p:nvPr/>
          </p:nvSpPr>
          <p:spPr>
            <a:xfrm rot="14400000">
              <a:off x="321840" y="3617640"/>
              <a:ext cx="186480" cy="1569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47"/>
          <p:cNvGrpSpPr/>
          <p:nvPr/>
        </p:nvGrpSpPr>
        <p:grpSpPr>
          <a:xfrm>
            <a:off x="11262960" y="5668560"/>
            <a:ext cx="604800" cy="603000"/>
            <a:chOff x="11262960" y="5668560"/>
            <a:chExt cx="604800" cy="603000"/>
          </a:xfrm>
        </p:grpSpPr>
        <p:sp>
          <p:nvSpPr>
            <p:cNvPr id="368" name="Oval 5"/>
            <p:cNvSpPr/>
            <p:nvPr/>
          </p:nvSpPr>
          <p:spPr>
            <a:xfrm rot="3318000">
              <a:off x="11349720" y="5751360"/>
              <a:ext cx="430920" cy="43704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6"/>
            <p:cNvSpPr/>
            <p:nvPr/>
          </p:nvSpPr>
          <p:spPr>
            <a:xfrm rot="3318000">
              <a:off x="11407320" y="5837040"/>
              <a:ext cx="315360" cy="26532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50"/>
          <p:cNvGrpSpPr/>
          <p:nvPr/>
        </p:nvGrpSpPr>
        <p:grpSpPr>
          <a:xfrm>
            <a:off x="3829680" y="3715560"/>
            <a:ext cx="384120" cy="383400"/>
            <a:chOff x="3829680" y="3715560"/>
            <a:chExt cx="384120" cy="383400"/>
          </a:xfrm>
        </p:grpSpPr>
        <p:sp>
          <p:nvSpPr>
            <p:cNvPr id="371" name="Oval 5"/>
            <p:cNvSpPr/>
            <p:nvPr/>
          </p:nvSpPr>
          <p:spPr>
            <a:xfrm rot="18352800">
              <a:off x="3885120" y="3768480"/>
              <a:ext cx="272880" cy="27684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 rot="18352800">
              <a:off x="3921480" y="3822840"/>
              <a:ext cx="199800" cy="1677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53"/>
          <p:cNvGrpSpPr/>
          <p:nvPr/>
        </p:nvGrpSpPr>
        <p:grpSpPr>
          <a:xfrm>
            <a:off x="10077120" y="4489200"/>
            <a:ext cx="594720" cy="594720"/>
            <a:chOff x="10077120" y="4489200"/>
            <a:chExt cx="594720" cy="594720"/>
          </a:xfrm>
        </p:grpSpPr>
        <p:sp>
          <p:nvSpPr>
            <p:cNvPr id="374" name="Oval 5"/>
            <p:cNvSpPr/>
            <p:nvPr/>
          </p:nvSpPr>
          <p:spPr>
            <a:xfrm rot="13441800">
              <a:off x="10165320" y="457452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6"/>
            <p:cNvSpPr/>
            <p:nvPr/>
          </p:nvSpPr>
          <p:spPr>
            <a:xfrm rot="13441800">
              <a:off x="10221480" y="4658040"/>
              <a:ext cx="305640" cy="2570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56"/>
          <p:cNvGrpSpPr/>
          <p:nvPr/>
        </p:nvGrpSpPr>
        <p:grpSpPr>
          <a:xfrm>
            <a:off x="10346040" y="5385960"/>
            <a:ext cx="944280" cy="944640"/>
            <a:chOff x="10346040" y="5385960"/>
            <a:chExt cx="944280" cy="944640"/>
          </a:xfrm>
        </p:grpSpPr>
        <p:sp>
          <p:nvSpPr>
            <p:cNvPr id="377" name="Oval 5"/>
            <p:cNvSpPr/>
            <p:nvPr/>
          </p:nvSpPr>
          <p:spPr>
            <a:xfrm rot="13415400">
              <a:off x="10486440" y="5521680"/>
              <a:ext cx="663120" cy="67284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6"/>
            <p:cNvSpPr/>
            <p:nvPr/>
          </p:nvSpPr>
          <p:spPr>
            <a:xfrm rot="13415400">
              <a:off x="10574640" y="5654160"/>
              <a:ext cx="485640" cy="40824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076880" y="4244040"/>
            <a:ext cx="929880" cy="928800"/>
            <a:chOff x="7076880" y="4244040"/>
            <a:chExt cx="929880" cy="928800"/>
          </a:xfrm>
        </p:grpSpPr>
        <p:sp>
          <p:nvSpPr>
            <p:cNvPr id="380" name="Oval 5"/>
            <p:cNvSpPr/>
            <p:nvPr/>
          </p:nvSpPr>
          <p:spPr>
            <a:xfrm rot="2986800">
              <a:off x="7214400" y="4376160"/>
              <a:ext cx="654480" cy="66420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6"/>
            <p:cNvSpPr/>
            <p:nvPr/>
          </p:nvSpPr>
          <p:spPr>
            <a:xfrm rot="2986800">
              <a:off x="7302240" y="4506480"/>
              <a:ext cx="479160" cy="40320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62"/>
          <p:cNvGrpSpPr/>
          <p:nvPr/>
        </p:nvGrpSpPr>
        <p:grpSpPr>
          <a:xfrm>
            <a:off x="8528400" y="4677840"/>
            <a:ext cx="609840" cy="609120"/>
            <a:chOff x="8528400" y="4677840"/>
            <a:chExt cx="609840" cy="609120"/>
          </a:xfrm>
        </p:grpSpPr>
        <p:sp>
          <p:nvSpPr>
            <p:cNvPr id="383" name="Oval 5"/>
            <p:cNvSpPr/>
            <p:nvPr/>
          </p:nvSpPr>
          <p:spPr>
            <a:xfrm rot="13764000">
              <a:off x="8618760" y="4764600"/>
              <a:ext cx="429120" cy="43524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 rot="13764000">
              <a:off x="8676360" y="4849920"/>
              <a:ext cx="314280" cy="26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5" name="组合 65"/>
          <p:cNvGrpSpPr/>
          <p:nvPr/>
        </p:nvGrpSpPr>
        <p:grpSpPr>
          <a:xfrm>
            <a:off x="8285400" y="3962880"/>
            <a:ext cx="564120" cy="562680"/>
            <a:chOff x="8285400" y="3962880"/>
            <a:chExt cx="564120" cy="562680"/>
          </a:xfrm>
        </p:grpSpPr>
        <p:sp>
          <p:nvSpPr>
            <p:cNvPr id="386" name="Oval 5"/>
            <p:cNvSpPr/>
            <p:nvPr/>
          </p:nvSpPr>
          <p:spPr>
            <a:xfrm rot="18294000">
              <a:off x="8366400" y="4040280"/>
              <a:ext cx="401760" cy="40752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6"/>
            <p:cNvSpPr/>
            <p:nvPr/>
          </p:nvSpPr>
          <p:spPr>
            <a:xfrm rot="18294000">
              <a:off x="8420040" y="4120200"/>
              <a:ext cx="294120" cy="2473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8" name="组合 68"/>
          <p:cNvGrpSpPr/>
          <p:nvPr/>
        </p:nvGrpSpPr>
        <p:grpSpPr>
          <a:xfrm>
            <a:off x="7238160" y="3983400"/>
            <a:ext cx="302760" cy="301680"/>
            <a:chOff x="7238160" y="3983400"/>
            <a:chExt cx="302760" cy="301680"/>
          </a:xfrm>
        </p:grpSpPr>
        <p:sp>
          <p:nvSpPr>
            <p:cNvPr id="389" name="Oval 5"/>
            <p:cNvSpPr/>
            <p:nvPr/>
          </p:nvSpPr>
          <p:spPr>
            <a:xfrm rot="18049800">
              <a:off x="7279920" y="402300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6"/>
            <p:cNvSpPr/>
            <p:nvPr/>
          </p:nvSpPr>
          <p:spPr>
            <a:xfrm rot="18049800">
              <a:off x="7309440" y="4066560"/>
              <a:ext cx="160200" cy="1346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71"/>
          <p:cNvGrpSpPr/>
          <p:nvPr/>
        </p:nvGrpSpPr>
        <p:grpSpPr>
          <a:xfrm>
            <a:off x="7660080" y="3843360"/>
            <a:ext cx="512280" cy="511560"/>
            <a:chOff x="7660080" y="3843360"/>
            <a:chExt cx="512280" cy="511560"/>
          </a:xfrm>
        </p:grpSpPr>
        <p:sp>
          <p:nvSpPr>
            <p:cNvPr id="392" name="Oval 5"/>
            <p:cNvSpPr/>
            <p:nvPr/>
          </p:nvSpPr>
          <p:spPr>
            <a:xfrm rot="13717800">
              <a:off x="7736040" y="3916080"/>
              <a:ext cx="360000" cy="36540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6"/>
            <p:cNvSpPr/>
            <p:nvPr/>
          </p:nvSpPr>
          <p:spPr>
            <a:xfrm rot="13717800">
              <a:off x="7784280" y="3988080"/>
              <a:ext cx="263520" cy="221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组合 74"/>
          <p:cNvGrpSpPr/>
          <p:nvPr/>
        </p:nvGrpSpPr>
        <p:grpSpPr>
          <a:xfrm>
            <a:off x="4318200" y="3038040"/>
            <a:ext cx="959760" cy="960120"/>
            <a:chOff x="4318200" y="3038040"/>
            <a:chExt cx="959760" cy="960120"/>
          </a:xfrm>
        </p:grpSpPr>
        <p:sp>
          <p:nvSpPr>
            <p:cNvPr id="395" name="Oval 5"/>
            <p:cNvSpPr/>
            <p:nvPr/>
          </p:nvSpPr>
          <p:spPr>
            <a:xfrm rot="13498200">
              <a:off x="4460760" y="3176280"/>
              <a:ext cx="673920" cy="68364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 rot="13498200">
              <a:off x="4551120" y="3310560"/>
              <a:ext cx="493560" cy="41508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组合 77"/>
          <p:cNvGrpSpPr/>
          <p:nvPr/>
        </p:nvGrpSpPr>
        <p:grpSpPr>
          <a:xfrm>
            <a:off x="3563280" y="3149640"/>
            <a:ext cx="561960" cy="558720"/>
            <a:chOff x="3563280" y="3149640"/>
            <a:chExt cx="561960" cy="558720"/>
          </a:xfrm>
        </p:grpSpPr>
        <p:sp>
          <p:nvSpPr>
            <p:cNvPr id="398" name="Oval 5"/>
            <p:cNvSpPr/>
            <p:nvPr/>
          </p:nvSpPr>
          <p:spPr>
            <a:xfrm rot="14860200">
              <a:off x="3630960" y="3212640"/>
              <a:ext cx="426240" cy="43236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6"/>
            <p:cNvSpPr/>
            <p:nvPr/>
          </p:nvSpPr>
          <p:spPr>
            <a:xfrm rot="14860200">
              <a:off x="3687840" y="3297960"/>
              <a:ext cx="312120" cy="2624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80"/>
          <p:cNvGrpSpPr/>
          <p:nvPr/>
        </p:nvGrpSpPr>
        <p:grpSpPr>
          <a:xfrm>
            <a:off x="2378880" y="2984760"/>
            <a:ext cx="611640" cy="611640"/>
            <a:chOff x="2378880" y="2984760"/>
            <a:chExt cx="611640" cy="611640"/>
          </a:xfrm>
        </p:grpSpPr>
        <p:sp>
          <p:nvSpPr>
            <p:cNvPr id="401" name="Oval 5"/>
            <p:cNvSpPr/>
            <p:nvPr/>
          </p:nvSpPr>
          <p:spPr>
            <a:xfrm rot="13498200">
              <a:off x="2469960" y="3072600"/>
              <a:ext cx="429480" cy="43560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6"/>
            <p:cNvSpPr/>
            <p:nvPr/>
          </p:nvSpPr>
          <p:spPr>
            <a:xfrm rot="13498200">
              <a:off x="2527560" y="3158280"/>
              <a:ext cx="314280" cy="2646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83"/>
          <p:cNvGrpSpPr/>
          <p:nvPr/>
        </p:nvGrpSpPr>
        <p:grpSpPr>
          <a:xfrm>
            <a:off x="479520" y="3149640"/>
            <a:ext cx="268560" cy="267840"/>
            <a:chOff x="479520" y="3149640"/>
            <a:chExt cx="268560" cy="267840"/>
          </a:xfrm>
        </p:grpSpPr>
        <p:sp>
          <p:nvSpPr>
            <p:cNvPr id="404" name="Oval 5"/>
            <p:cNvSpPr/>
            <p:nvPr/>
          </p:nvSpPr>
          <p:spPr>
            <a:xfrm rot="18193200">
              <a:off x="517320" y="3186000"/>
              <a:ext cx="192240" cy="19512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 rot="18193200">
              <a:off x="543240" y="3224520"/>
              <a:ext cx="140760" cy="118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组合 86"/>
          <p:cNvGrpSpPr/>
          <p:nvPr/>
        </p:nvGrpSpPr>
        <p:grpSpPr>
          <a:xfrm>
            <a:off x="1731600" y="3303720"/>
            <a:ext cx="293760" cy="292320"/>
            <a:chOff x="1731600" y="3303720"/>
            <a:chExt cx="293760" cy="292320"/>
          </a:xfrm>
        </p:grpSpPr>
        <p:sp>
          <p:nvSpPr>
            <p:cNvPr id="407" name="Oval 5"/>
            <p:cNvSpPr/>
            <p:nvPr/>
          </p:nvSpPr>
          <p:spPr>
            <a:xfrm rot="3675600">
              <a:off x="1771200" y="3341160"/>
              <a:ext cx="214200" cy="2174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6"/>
            <p:cNvSpPr/>
            <p:nvPr/>
          </p:nvSpPr>
          <p:spPr>
            <a:xfrm rot="3675600">
              <a:off x="1800000" y="3384000"/>
              <a:ext cx="156960" cy="1317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文本框 92"/>
          <p:cNvSpPr/>
          <p:nvPr/>
        </p:nvSpPr>
        <p:spPr>
          <a:xfrm>
            <a:off x="307080" y="4951800"/>
            <a:ext cx="62481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5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93"/>
          <p:cNvSpPr/>
          <p:nvPr/>
        </p:nvSpPr>
        <p:spPr>
          <a:xfrm>
            <a:off x="315000" y="5711760"/>
            <a:ext cx="326844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"/>
          <p:cNvSpPr/>
          <p:nvPr/>
        </p:nvSpPr>
        <p:spPr>
          <a:xfrm>
            <a:off x="3186000" y="2157480"/>
            <a:ext cx="515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公司介绍的简约风格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表格 6"/>
          <p:cNvGraphicFramePr/>
          <p:nvPr/>
        </p:nvGraphicFramePr>
        <p:xfrm>
          <a:off x="789840" y="2223720"/>
          <a:ext cx="6624360" cy="2694240"/>
        </p:xfrm>
        <a:graphic>
          <a:graphicData uri="http://schemas.openxmlformats.org/drawingml/2006/table">
            <a:tbl>
              <a:tblPr/>
              <a:tblGrid>
                <a:gridCol w="1103760"/>
                <a:gridCol w="1103760"/>
                <a:gridCol w="1103760"/>
                <a:gridCol w="1103760"/>
                <a:gridCol w="1103760"/>
                <a:gridCol w="1103760"/>
              </a:tblGrid>
              <a:tr h="52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4" name="文本框 7"/>
          <p:cNvSpPr/>
          <p:nvPr/>
        </p:nvSpPr>
        <p:spPr>
          <a:xfrm>
            <a:off x="628560" y="404640"/>
            <a:ext cx="101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8"/>
          <p:cNvSpPr/>
          <p:nvPr/>
        </p:nvSpPr>
        <p:spPr>
          <a:xfrm>
            <a:off x="628560" y="975600"/>
            <a:ext cx="101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9"/>
          <p:cNvSpPr/>
          <p:nvPr/>
        </p:nvSpPr>
        <p:spPr>
          <a:xfrm>
            <a:off x="8077320" y="2932560"/>
            <a:ext cx="121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组合 10"/>
          <p:cNvGrpSpPr/>
          <p:nvPr/>
        </p:nvGrpSpPr>
        <p:grpSpPr>
          <a:xfrm>
            <a:off x="7839000" y="2942280"/>
            <a:ext cx="318960" cy="318960"/>
            <a:chOff x="7839000" y="2942280"/>
            <a:chExt cx="318960" cy="318960"/>
          </a:xfrm>
        </p:grpSpPr>
        <p:sp>
          <p:nvSpPr>
            <p:cNvPr id="508" name="Oval 5"/>
            <p:cNvSpPr/>
            <p:nvPr/>
          </p:nvSpPr>
          <p:spPr>
            <a:xfrm rot="2804400">
              <a:off x="7885800" y="298872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6"/>
            <p:cNvSpPr/>
            <p:nvPr/>
          </p:nvSpPr>
          <p:spPr>
            <a:xfrm rot="2804400">
              <a:off x="7909200" y="302904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Text Box 4"/>
          <p:cNvSpPr/>
          <p:nvPr/>
        </p:nvSpPr>
        <p:spPr>
          <a:xfrm>
            <a:off x="628560" y="63824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文本框 2"/>
          <p:cNvSpPr/>
          <p:nvPr/>
        </p:nvSpPr>
        <p:spPr>
          <a:xfrm>
            <a:off x="628560" y="404640"/>
            <a:ext cx="2295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4"/>
          <p:cNvSpPr/>
          <p:nvPr/>
        </p:nvSpPr>
        <p:spPr>
          <a:xfrm>
            <a:off x="628560" y="975600"/>
            <a:ext cx="1225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组合 5"/>
          <p:cNvGrpSpPr/>
          <p:nvPr/>
        </p:nvGrpSpPr>
        <p:grpSpPr>
          <a:xfrm>
            <a:off x="6571440" y="2466000"/>
            <a:ext cx="318960" cy="318960"/>
            <a:chOff x="6571440" y="2466000"/>
            <a:chExt cx="318960" cy="318960"/>
          </a:xfrm>
        </p:grpSpPr>
        <p:sp>
          <p:nvSpPr>
            <p:cNvPr id="514" name="Oval 5"/>
            <p:cNvSpPr/>
            <p:nvPr/>
          </p:nvSpPr>
          <p:spPr>
            <a:xfrm rot="2804400">
              <a:off x="6618240" y="25124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"/>
            <p:cNvSpPr/>
            <p:nvPr/>
          </p:nvSpPr>
          <p:spPr>
            <a:xfrm rot="2804400">
              <a:off x="6641640" y="25527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6" name="组合 8"/>
          <p:cNvGrpSpPr/>
          <p:nvPr/>
        </p:nvGrpSpPr>
        <p:grpSpPr>
          <a:xfrm>
            <a:off x="1636560" y="2466000"/>
            <a:ext cx="318960" cy="318960"/>
            <a:chOff x="1636560" y="2466000"/>
            <a:chExt cx="318960" cy="318960"/>
          </a:xfrm>
        </p:grpSpPr>
        <p:sp>
          <p:nvSpPr>
            <p:cNvPr id="517" name="Oval 5"/>
            <p:cNvSpPr/>
            <p:nvPr/>
          </p:nvSpPr>
          <p:spPr>
            <a:xfrm rot="2804400">
              <a:off x="1683360" y="25124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6"/>
            <p:cNvSpPr/>
            <p:nvPr/>
          </p:nvSpPr>
          <p:spPr>
            <a:xfrm rot="2804400">
              <a:off x="1706760" y="25527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文本框 11"/>
          <p:cNvSpPr/>
          <p:nvPr/>
        </p:nvSpPr>
        <p:spPr>
          <a:xfrm>
            <a:off x="1862280" y="2460600"/>
            <a:ext cx="1317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4"/>
          <p:cNvSpPr/>
          <p:nvPr/>
        </p:nvSpPr>
        <p:spPr>
          <a:xfrm>
            <a:off x="1871640" y="4315680"/>
            <a:ext cx="56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15"/>
          <p:cNvSpPr/>
          <p:nvPr/>
        </p:nvSpPr>
        <p:spPr>
          <a:xfrm>
            <a:off x="1871640" y="4770720"/>
            <a:ext cx="56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16"/>
          <p:cNvSpPr/>
          <p:nvPr/>
        </p:nvSpPr>
        <p:spPr>
          <a:xfrm>
            <a:off x="1871640" y="5221080"/>
            <a:ext cx="56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文本框 1"/>
          <p:cNvSpPr/>
          <p:nvPr/>
        </p:nvSpPr>
        <p:spPr>
          <a:xfrm>
            <a:off x="628560" y="404640"/>
            <a:ext cx="1995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2"/>
          <p:cNvSpPr/>
          <p:nvPr/>
        </p:nvSpPr>
        <p:spPr>
          <a:xfrm>
            <a:off x="628560" y="975600"/>
            <a:ext cx="165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7"/>
          <p:cNvGrpSpPr/>
          <p:nvPr/>
        </p:nvGrpSpPr>
        <p:grpSpPr>
          <a:xfrm>
            <a:off x="4217400" y="1442880"/>
            <a:ext cx="1439640" cy="1440000"/>
            <a:chOff x="4217400" y="1442880"/>
            <a:chExt cx="1439640" cy="1440000"/>
          </a:xfrm>
        </p:grpSpPr>
        <p:sp>
          <p:nvSpPr>
            <p:cNvPr id="526" name="Oval 10"/>
            <p:cNvSpPr/>
            <p:nvPr/>
          </p:nvSpPr>
          <p:spPr>
            <a:xfrm rot="13320600">
              <a:off x="4428000" y="1652400"/>
              <a:ext cx="101844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 rot="13320600">
              <a:off x="4544640" y="1836360"/>
              <a:ext cx="785520" cy="6526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8" name="组合 27"/>
          <p:cNvGrpSpPr/>
          <p:nvPr/>
        </p:nvGrpSpPr>
        <p:grpSpPr>
          <a:xfrm>
            <a:off x="4217400" y="3579120"/>
            <a:ext cx="1439640" cy="1440000"/>
            <a:chOff x="4217400" y="3579120"/>
            <a:chExt cx="1439640" cy="1440000"/>
          </a:xfrm>
        </p:grpSpPr>
        <p:sp>
          <p:nvSpPr>
            <p:cNvPr id="529" name="Oval 10"/>
            <p:cNvSpPr/>
            <p:nvPr/>
          </p:nvSpPr>
          <p:spPr>
            <a:xfrm rot="13320600">
              <a:off x="4428000" y="3788640"/>
              <a:ext cx="1018440" cy="102060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 rot="13320600">
              <a:off x="4544640" y="3972600"/>
              <a:ext cx="785520" cy="6526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1" name="组合 30"/>
          <p:cNvGrpSpPr/>
          <p:nvPr/>
        </p:nvGrpSpPr>
        <p:grpSpPr>
          <a:xfrm>
            <a:off x="2235240" y="1450440"/>
            <a:ext cx="1439640" cy="1440000"/>
            <a:chOff x="2235240" y="1450440"/>
            <a:chExt cx="1439640" cy="1440000"/>
          </a:xfrm>
        </p:grpSpPr>
        <p:sp>
          <p:nvSpPr>
            <p:cNvPr id="532" name="Oval 10"/>
            <p:cNvSpPr/>
            <p:nvPr/>
          </p:nvSpPr>
          <p:spPr>
            <a:xfrm rot="13320600">
              <a:off x="2445840" y="1659960"/>
              <a:ext cx="101844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1"/>
            <p:cNvSpPr/>
            <p:nvPr/>
          </p:nvSpPr>
          <p:spPr>
            <a:xfrm rot="13320600">
              <a:off x="2562120" y="1843920"/>
              <a:ext cx="785520" cy="6526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33"/>
          <p:cNvGrpSpPr/>
          <p:nvPr/>
        </p:nvGrpSpPr>
        <p:grpSpPr>
          <a:xfrm>
            <a:off x="2209680" y="3579120"/>
            <a:ext cx="1439640" cy="1440000"/>
            <a:chOff x="2209680" y="3579120"/>
            <a:chExt cx="1439640" cy="1440000"/>
          </a:xfrm>
        </p:grpSpPr>
        <p:sp>
          <p:nvSpPr>
            <p:cNvPr id="535" name="Oval 10"/>
            <p:cNvSpPr/>
            <p:nvPr/>
          </p:nvSpPr>
          <p:spPr>
            <a:xfrm rot="13320600">
              <a:off x="2420280" y="3788640"/>
              <a:ext cx="1018440" cy="102060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 rot="13320600">
              <a:off x="2536560" y="3972600"/>
              <a:ext cx="785520" cy="6526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组合 36"/>
          <p:cNvGrpSpPr/>
          <p:nvPr/>
        </p:nvGrpSpPr>
        <p:grpSpPr>
          <a:xfrm>
            <a:off x="462240" y="1442880"/>
            <a:ext cx="1439640" cy="1440000"/>
            <a:chOff x="462240" y="1442880"/>
            <a:chExt cx="1439640" cy="1440000"/>
          </a:xfrm>
        </p:grpSpPr>
        <p:sp>
          <p:nvSpPr>
            <p:cNvPr id="538" name="Oval 10"/>
            <p:cNvSpPr/>
            <p:nvPr/>
          </p:nvSpPr>
          <p:spPr>
            <a:xfrm rot="13320600">
              <a:off x="672840" y="1652400"/>
              <a:ext cx="101844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1"/>
            <p:cNvSpPr/>
            <p:nvPr/>
          </p:nvSpPr>
          <p:spPr>
            <a:xfrm rot="13320600">
              <a:off x="789480" y="1836360"/>
              <a:ext cx="785520" cy="6526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0" name="组合 39"/>
          <p:cNvGrpSpPr/>
          <p:nvPr/>
        </p:nvGrpSpPr>
        <p:grpSpPr>
          <a:xfrm>
            <a:off x="411480" y="3579120"/>
            <a:ext cx="1439640" cy="1440000"/>
            <a:chOff x="411480" y="3579120"/>
            <a:chExt cx="1439640" cy="1440000"/>
          </a:xfrm>
        </p:grpSpPr>
        <p:sp>
          <p:nvSpPr>
            <p:cNvPr id="541" name="Oval 10"/>
            <p:cNvSpPr/>
            <p:nvPr/>
          </p:nvSpPr>
          <p:spPr>
            <a:xfrm rot="13320600">
              <a:off x="622080" y="3788640"/>
              <a:ext cx="1018440" cy="102060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"/>
            <p:cNvSpPr/>
            <p:nvPr/>
          </p:nvSpPr>
          <p:spPr>
            <a:xfrm rot="13320600">
              <a:off x="738360" y="3972600"/>
              <a:ext cx="785520" cy="6526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组合 3101"/>
          <p:cNvGrpSpPr/>
          <p:nvPr/>
        </p:nvGrpSpPr>
        <p:grpSpPr>
          <a:xfrm>
            <a:off x="623880" y="1775880"/>
            <a:ext cx="475920" cy="475920"/>
            <a:chOff x="623880" y="1775880"/>
            <a:chExt cx="475920" cy="475920"/>
          </a:xfrm>
        </p:grpSpPr>
        <p:sp>
          <p:nvSpPr>
            <p:cNvPr id="544" name="椭圆 2"/>
            <p:cNvSpPr/>
            <p:nvPr/>
          </p:nvSpPr>
          <p:spPr>
            <a:xfrm>
              <a:off x="623880" y="177588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5" name="任意多边形 11"/>
            <p:cNvSpPr/>
            <p:nvPr/>
          </p:nvSpPr>
          <p:spPr>
            <a:xfrm rot="192600">
              <a:off x="736560" y="191880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46" name="组合 3100"/>
          <p:cNvGrpSpPr/>
          <p:nvPr/>
        </p:nvGrpSpPr>
        <p:grpSpPr>
          <a:xfrm>
            <a:off x="2487600" y="2390400"/>
            <a:ext cx="475920" cy="475920"/>
            <a:chOff x="2487600" y="2390400"/>
            <a:chExt cx="475920" cy="475920"/>
          </a:xfrm>
        </p:grpSpPr>
        <p:sp>
          <p:nvSpPr>
            <p:cNvPr id="547" name="椭圆 100"/>
            <p:cNvSpPr/>
            <p:nvPr/>
          </p:nvSpPr>
          <p:spPr>
            <a:xfrm>
              <a:off x="2487600" y="239040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48" name="图片 3098" descr=""/>
            <p:cNvPicPr/>
            <p:nvPr/>
          </p:nvPicPr>
          <p:blipFill>
            <a:blip r:embed="rId1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2588040" y="247176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组合 65"/>
          <p:cNvGrpSpPr/>
          <p:nvPr/>
        </p:nvGrpSpPr>
        <p:grpSpPr>
          <a:xfrm>
            <a:off x="1866240" y="1775880"/>
            <a:ext cx="475920" cy="475920"/>
            <a:chOff x="1866240" y="1775880"/>
            <a:chExt cx="475920" cy="475920"/>
          </a:xfrm>
        </p:grpSpPr>
        <p:sp>
          <p:nvSpPr>
            <p:cNvPr id="550" name="椭圆 287"/>
            <p:cNvSpPr/>
            <p:nvPr/>
          </p:nvSpPr>
          <p:spPr>
            <a:xfrm>
              <a:off x="1866240" y="177588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51" name="组合 64"/>
            <p:cNvGrpSpPr/>
            <p:nvPr/>
          </p:nvGrpSpPr>
          <p:grpSpPr>
            <a:xfrm>
              <a:off x="2009160" y="1918800"/>
              <a:ext cx="190080" cy="190080"/>
              <a:chOff x="2009160" y="1918800"/>
              <a:chExt cx="190080" cy="190080"/>
            </a:xfrm>
          </p:grpSpPr>
          <p:sp>
            <p:nvSpPr>
              <p:cNvPr id="552" name="椭圆 288"/>
              <p:cNvSpPr/>
              <p:nvPr/>
            </p:nvSpPr>
            <p:spPr>
              <a:xfrm>
                <a:off x="2009160" y="191880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" name="加号 289"/>
              <p:cNvSpPr/>
              <p:nvPr/>
            </p:nvSpPr>
            <p:spPr>
              <a:xfrm>
                <a:off x="2057760" y="1970280"/>
                <a:ext cx="93240" cy="86760"/>
              </a:xfrm>
              <a:prstGeom prst="mathPlus">
                <a:avLst>
                  <a:gd name="adj1" fmla="val 8685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组合 66"/>
          <p:cNvGrpSpPr/>
          <p:nvPr/>
        </p:nvGrpSpPr>
        <p:grpSpPr>
          <a:xfrm>
            <a:off x="1245240" y="1775880"/>
            <a:ext cx="475920" cy="475920"/>
            <a:chOff x="1245240" y="1775880"/>
            <a:chExt cx="475920" cy="475920"/>
          </a:xfrm>
        </p:grpSpPr>
        <p:sp>
          <p:nvSpPr>
            <p:cNvPr id="555" name="椭圆 291"/>
            <p:cNvSpPr/>
            <p:nvPr/>
          </p:nvSpPr>
          <p:spPr>
            <a:xfrm>
              <a:off x="1245240" y="177588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56" name="组合 3102"/>
            <p:cNvGrpSpPr/>
            <p:nvPr/>
          </p:nvGrpSpPr>
          <p:grpSpPr>
            <a:xfrm>
              <a:off x="1388160" y="1918800"/>
              <a:ext cx="190080" cy="190080"/>
              <a:chOff x="1388160" y="1918800"/>
              <a:chExt cx="190080" cy="190080"/>
            </a:xfrm>
          </p:grpSpPr>
          <p:sp>
            <p:nvSpPr>
              <p:cNvPr id="557" name="减号 292"/>
              <p:cNvSpPr/>
              <p:nvPr/>
            </p:nvSpPr>
            <p:spPr>
              <a:xfrm>
                <a:off x="1424520" y="1984320"/>
                <a:ext cx="117000" cy="59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" name="椭圆 293"/>
              <p:cNvSpPr/>
              <p:nvPr/>
            </p:nvSpPr>
            <p:spPr>
              <a:xfrm>
                <a:off x="1388160" y="191880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组合 294"/>
          <p:cNvGrpSpPr/>
          <p:nvPr/>
        </p:nvGrpSpPr>
        <p:grpSpPr>
          <a:xfrm>
            <a:off x="1866240" y="2390400"/>
            <a:ext cx="475920" cy="475920"/>
            <a:chOff x="1866240" y="2390400"/>
            <a:chExt cx="475920" cy="475920"/>
          </a:xfrm>
        </p:grpSpPr>
        <p:sp>
          <p:nvSpPr>
            <p:cNvPr id="560" name="椭圆 295"/>
            <p:cNvSpPr/>
            <p:nvPr/>
          </p:nvSpPr>
          <p:spPr>
            <a:xfrm>
              <a:off x="1866240" y="239040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1" name="任意多边形 296"/>
            <p:cNvSpPr/>
            <p:nvPr/>
          </p:nvSpPr>
          <p:spPr>
            <a:xfrm rot="8001600">
              <a:off x="2010240" y="252108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62" name="组合 297"/>
          <p:cNvGrpSpPr/>
          <p:nvPr/>
        </p:nvGrpSpPr>
        <p:grpSpPr>
          <a:xfrm>
            <a:off x="2487600" y="1775880"/>
            <a:ext cx="475920" cy="475920"/>
            <a:chOff x="2487600" y="1775880"/>
            <a:chExt cx="475920" cy="475920"/>
          </a:xfrm>
        </p:grpSpPr>
        <p:sp>
          <p:nvSpPr>
            <p:cNvPr id="563" name="椭圆 298"/>
            <p:cNvSpPr/>
            <p:nvPr/>
          </p:nvSpPr>
          <p:spPr>
            <a:xfrm>
              <a:off x="2487600" y="177588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4" name="任意多边形 299"/>
            <p:cNvSpPr/>
            <p:nvPr/>
          </p:nvSpPr>
          <p:spPr>
            <a:xfrm>
              <a:off x="2599560" y="189828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65" name="组合 300"/>
          <p:cNvGrpSpPr/>
          <p:nvPr/>
        </p:nvGrpSpPr>
        <p:grpSpPr>
          <a:xfrm>
            <a:off x="623880" y="2390400"/>
            <a:ext cx="475920" cy="475920"/>
            <a:chOff x="623880" y="2390400"/>
            <a:chExt cx="475920" cy="475920"/>
          </a:xfrm>
        </p:grpSpPr>
        <p:sp>
          <p:nvSpPr>
            <p:cNvPr id="566" name="椭圆 301"/>
            <p:cNvSpPr/>
            <p:nvPr/>
          </p:nvSpPr>
          <p:spPr>
            <a:xfrm>
              <a:off x="623880" y="239040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7" name="心形 55"/>
            <p:cNvSpPr/>
            <p:nvPr/>
          </p:nvSpPr>
          <p:spPr>
            <a:xfrm>
              <a:off x="733320" y="2516400"/>
              <a:ext cx="256680" cy="2239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68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569" name="椭圆 304"/>
            <p:cNvSpPr/>
            <p:nvPr/>
          </p:nvSpPr>
          <p:spPr>
            <a:xfrm>
              <a:off x="623880" y="298944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70" name="图片 305" descr=""/>
            <p:cNvPicPr/>
            <p:nvPr/>
          </p:nvPicPr>
          <p:blipFill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40000" contrast="40000"/>
                      </a14:imgEffect>
                    </a14:imgLayer>
                  </a14:imgProps>
                </a:ext>
              </a:extLst>
            </a:blip>
            <a:stretch/>
          </p:blipFill>
          <p:spPr>
            <a:xfrm rot="2662800">
              <a:off x="684360" y="299664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组合 306"/>
          <p:cNvGrpSpPr/>
          <p:nvPr/>
        </p:nvGrpSpPr>
        <p:grpSpPr>
          <a:xfrm>
            <a:off x="1242360" y="2989440"/>
            <a:ext cx="475920" cy="475920"/>
            <a:chOff x="1242360" y="2989440"/>
            <a:chExt cx="475920" cy="475920"/>
          </a:xfrm>
        </p:grpSpPr>
        <p:sp>
          <p:nvSpPr>
            <p:cNvPr id="572" name="椭圆 307"/>
            <p:cNvSpPr/>
            <p:nvPr/>
          </p:nvSpPr>
          <p:spPr>
            <a:xfrm>
              <a:off x="1242360" y="298944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73" name="组合 308"/>
            <p:cNvGrpSpPr/>
            <p:nvPr/>
          </p:nvGrpSpPr>
          <p:grpSpPr>
            <a:xfrm>
              <a:off x="1417680" y="3133440"/>
              <a:ext cx="124920" cy="187560"/>
              <a:chOff x="1417680" y="3133440"/>
              <a:chExt cx="124920" cy="187560"/>
            </a:xfrm>
          </p:grpSpPr>
          <p:cxnSp>
            <p:nvCxnSpPr>
              <p:cNvPr id="574" name="直接连接符 309"/>
              <p:cNvCxnSpPr/>
              <p:nvPr/>
            </p:nvCxnSpPr>
            <p:spPr>
              <a:xfrm flipH="1">
                <a:off x="1417680" y="3133440"/>
                <a:ext cx="12528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  <p:cxnSp>
            <p:nvCxnSpPr>
              <p:cNvPr id="575" name="直接连接符 310"/>
              <p:cNvCxnSpPr/>
              <p:nvPr/>
            </p:nvCxnSpPr>
            <p:spPr>
              <a:xfrm>
                <a:off x="1417680" y="3231720"/>
                <a:ext cx="12528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576" name="组合 311"/>
          <p:cNvGrpSpPr/>
          <p:nvPr/>
        </p:nvGrpSpPr>
        <p:grpSpPr>
          <a:xfrm>
            <a:off x="2478960" y="2989440"/>
            <a:ext cx="475920" cy="475920"/>
            <a:chOff x="2478960" y="2989440"/>
            <a:chExt cx="475920" cy="475920"/>
          </a:xfrm>
        </p:grpSpPr>
        <p:sp>
          <p:nvSpPr>
            <p:cNvPr id="577" name="椭圆 312"/>
            <p:cNvSpPr/>
            <p:nvPr/>
          </p:nvSpPr>
          <p:spPr>
            <a:xfrm>
              <a:off x="2478960" y="298944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78" name="组合 313"/>
            <p:cNvGrpSpPr/>
            <p:nvPr/>
          </p:nvGrpSpPr>
          <p:grpSpPr>
            <a:xfrm>
              <a:off x="2617920" y="3110040"/>
              <a:ext cx="197280" cy="234360"/>
              <a:chOff x="2617920" y="3110040"/>
              <a:chExt cx="197280" cy="234360"/>
            </a:xfrm>
          </p:grpSpPr>
          <p:sp>
            <p:nvSpPr>
              <p:cNvPr id="579" name="减号 314"/>
              <p:cNvSpPr/>
              <p:nvPr/>
            </p:nvSpPr>
            <p:spPr>
              <a:xfrm>
                <a:off x="2617920" y="3110040"/>
                <a:ext cx="197280" cy="41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0" name="矩形 3087"/>
              <p:cNvSpPr/>
              <p:nvPr/>
            </p:nvSpPr>
            <p:spPr>
              <a:xfrm>
                <a:off x="2643840" y="3163680"/>
                <a:ext cx="145440" cy="180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81" name="组合 316"/>
          <p:cNvGrpSpPr/>
          <p:nvPr/>
        </p:nvGrpSpPr>
        <p:grpSpPr>
          <a:xfrm>
            <a:off x="1860480" y="2989440"/>
            <a:ext cx="475920" cy="475920"/>
            <a:chOff x="1860480" y="2989440"/>
            <a:chExt cx="475920" cy="475920"/>
          </a:xfrm>
        </p:grpSpPr>
        <p:sp>
          <p:nvSpPr>
            <p:cNvPr id="582" name="椭圆 317"/>
            <p:cNvSpPr/>
            <p:nvPr/>
          </p:nvSpPr>
          <p:spPr>
            <a:xfrm>
              <a:off x="1860480" y="298944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83" name="图片 318" descr=""/>
            <p:cNvPicPr/>
            <p:nvPr/>
          </p:nvPicPr>
          <p:blipFill>
            <a:blip r:embed="rId4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2008440" y="306648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4" name="组合 319"/>
          <p:cNvGrpSpPr/>
          <p:nvPr/>
        </p:nvGrpSpPr>
        <p:grpSpPr>
          <a:xfrm>
            <a:off x="1245240" y="2390400"/>
            <a:ext cx="475920" cy="475920"/>
            <a:chOff x="1245240" y="2390400"/>
            <a:chExt cx="475920" cy="475920"/>
          </a:xfrm>
        </p:grpSpPr>
        <p:sp>
          <p:nvSpPr>
            <p:cNvPr id="585" name="椭圆 320"/>
            <p:cNvSpPr/>
            <p:nvPr/>
          </p:nvSpPr>
          <p:spPr>
            <a:xfrm>
              <a:off x="1245240" y="239040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86" name="图片 321" descr=""/>
            <p:cNvPicPr/>
            <p:nvPr/>
          </p:nvPicPr>
          <p:blipFill>
            <a:blip r:embed="rId5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1362600" y="250812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7" name="组合 327"/>
          <p:cNvGrpSpPr/>
          <p:nvPr/>
        </p:nvGrpSpPr>
        <p:grpSpPr>
          <a:xfrm>
            <a:off x="3367080" y="1775880"/>
            <a:ext cx="475920" cy="475920"/>
            <a:chOff x="3367080" y="1775880"/>
            <a:chExt cx="475920" cy="475920"/>
          </a:xfrm>
        </p:grpSpPr>
        <p:sp>
          <p:nvSpPr>
            <p:cNvPr id="588" name="椭圆 328"/>
            <p:cNvSpPr/>
            <p:nvPr/>
          </p:nvSpPr>
          <p:spPr>
            <a:xfrm>
              <a:off x="3367080" y="177588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" name="任意多边形 329"/>
            <p:cNvSpPr/>
            <p:nvPr/>
          </p:nvSpPr>
          <p:spPr>
            <a:xfrm rot="192600">
              <a:off x="3479760" y="191880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90" name="组合 330"/>
          <p:cNvGrpSpPr/>
          <p:nvPr/>
        </p:nvGrpSpPr>
        <p:grpSpPr>
          <a:xfrm>
            <a:off x="5230800" y="2390400"/>
            <a:ext cx="475920" cy="475920"/>
            <a:chOff x="5230800" y="2390400"/>
            <a:chExt cx="475920" cy="475920"/>
          </a:xfrm>
        </p:grpSpPr>
        <p:sp>
          <p:nvSpPr>
            <p:cNvPr id="591" name="椭圆 331"/>
            <p:cNvSpPr/>
            <p:nvPr/>
          </p:nvSpPr>
          <p:spPr>
            <a:xfrm>
              <a:off x="5230800" y="239040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92" name="图片 332" descr=""/>
            <p:cNvPicPr/>
            <p:nvPr/>
          </p:nvPicPr>
          <p:blipFill>
            <a:blip r:embed="rId6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5331240" y="247176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3" name="组合 333"/>
          <p:cNvGrpSpPr/>
          <p:nvPr/>
        </p:nvGrpSpPr>
        <p:grpSpPr>
          <a:xfrm>
            <a:off x="4609440" y="1775880"/>
            <a:ext cx="475920" cy="475920"/>
            <a:chOff x="4609440" y="1775880"/>
            <a:chExt cx="475920" cy="475920"/>
          </a:xfrm>
        </p:grpSpPr>
        <p:sp>
          <p:nvSpPr>
            <p:cNvPr id="594" name="椭圆 334"/>
            <p:cNvSpPr/>
            <p:nvPr/>
          </p:nvSpPr>
          <p:spPr>
            <a:xfrm>
              <a:off x="4609440" y="177588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95" name="组合 335"/>
            <p:cNvGrpSpPr/>
            <p:nvPr/>
          </p:nvGrpSpPr>
          <p:grpSpPr>
            <a:xfrm>
              <a:off x="4752360" y="1918800"/>
              <a:ext cx="190080" cy="190080"/>
              <a:chOff x="4752360" y="1918800"/>
              <a:chExt cx="190080" cy="190080"/>
            </a:xfrm>
          </p:grpSpPr>
          <p:sp>
            <p:nvSpPr>
              <p:cNvPr id="596" name="椭圆 336"/>
              <p:cNvSpPr/>
              <p:nvPr/>
            </p:nvSpPr>
            <p:spPr>
              <a:xfrm>
                <a:off x="4752360" y="191880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97" name="加号 337"/>
              <p:cNvSpPr/>
              <p:nvPr/>
            </p:nvSpPr>
            <p:spPr>
              <a:xfrm>
                <a:off x="4800960" y="1970280"/>
                <a:ext cx="93240" cy="86760"/>
              </a:xfrm>
              <a:prstGeom prst="mathPlus">
                <a:avLst>
                  <a:gd name="adj1" fmla="val 8685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98" name="组合 338"/>
          <p:cNvGrpSpPr/>
          <p:nvPr/>
        </p:nvGrpSpPr>
        <p:grpSpPr>
          <a:xfrm>
            <a:off x="3988440" y="1775880"/>
            <a:ext cx="475920" cy="475920"/>
            <a:chOff x="3988440" y="1775880"/>
            <a:chExt cx="475920" cy="475920"/>
          </a:xfrm>
        </p:grpSpPr>
        <p:sp>
          <p:nvSpPr>
            <p:cNvPr id="599" name="椭圆 339"/>
            <p:cNvSpPr/>
            <p:nvPr/>
          </p:nvSpPr>
          <p:spPr>
            <a:xfrm>
              <a:off x="3988440" y="177588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00" name="组合 340"/>
            <p:cNvGrpSpPr/>
            <p:nvPr/>
          </p:nvGrpSpPr>
          <p:grpSpPr>
            <a:xfrm>
              <a:off x="4131360" y="1918800"/>
              <a:ext cx="190080" cy="190080"/>
              <a:chOff x="4131360" y="1918800"/>
              <a:chExt cx="190080" cy="190080"/>
            </a:xfrm>
          </p:grpSpPr>
          <p:sp>
            <p:nvSpPr>
              <p:cNvPr id="601" name="减号 341"/>
              <p:cNvSpPr/>
              <p:nvPr/>
            </p:nvSpPr>
            <p:spPr>
              <a:xfrm>
                <a:off x="4167720" y="1984320"/>
                <a:ext cx="117000" cy="59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02" name="椭圆 342"/>
              <p:cNvSpPr/>
              <p:nvPr/>
            </p:nvSpPr>
            <p:spPr>
              <a:xfrm>
                <a:off x="4131360" y="191880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343"/>
          <p:cNvGrpSpPr/>
          <p:nvPr/>
        </p:nvGrpSpPr>
        <p:grpSpPr>
          <a:xfrm>
            <a:off x="4609440" y="2390400"/>
            <a:ext cx="475920" cy="475920"/>
            <a:chOff x="4609440" y="2390400"/>
            <a:chExt cx="475920" cy="475920"/>
          </a:xfrm>
        </p:grpSpPr>
        <p:sp>
          <p:nvSpPr>
            <p:cNvPr id="604" name="椭圆 344"/>
            <p:cNvSpPr/>
            <p:nvPr/>
          </p:nvSpPr>
          <p:spPr>
            <a:xfrm>
              <a:off x="4609440" y="239040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" name="任意多边形 345"/>
            <p:cNvSpPr/>
            <p:nvPr/>
          </p:nvSpPr>
          <p:spPr>
            <a:xfrm rot="8001600">
              <a:off x="4753440" y="252108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6" name="组合 346"/>
          <p:cNvGrpSpPr/>
          <p:nvPr/>
        </p:nvGrpSpPr>
        <p:grpSpPr>
          <a:xfrm>
            <a:off x="5230800" y="1775880"/>
            <a:ext cx="475920" cy="475920"/>
            <a:chOff x="5230800" y="1775880"/>
            <a:chExt cx="475920" cy="475920"/>
          </a:xfrm>
        </p:grpSpPr>
        <p:sp>
          <p:nvSpPr>
            <p:cNvPr id="607" name="椭圆 347"/>
            <p:cNvSpPr/>
            <p:nvPr/>
          </p:nvSpPr>
          <p:spPr>
            <a:xfrm>
              <a:off x="5230800" y="177588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" name="任意多边形 348"/>
            <p:cNvSpPr/>
            <p:nvPr/>
          </p:nvSpPr>
          <p:spPr>
            <a:xfrm>
              <a:off x="5342760" y="189828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9" name="组合 349"/>
          <p:cNvGrpSpPr/>
          <p:nvPr/>
        </p:nvGrpSpPr>
        <p:grpSpPr>
          <a:xfrm>
            <a:off x="3367080" y="2390400"/>
            <a:ext cx="475920" cy="475920"/>
            <a:chOff x="3367080" y="2390400"/>
            <a:chExt cx="475920" cy="475920"/>
          </a:xfrm>
        </p:grpSpPr>
        <p:sp>
          <p:nvSpPr>
            <p:cNvPr id="610" name="椭圆 350"/>
            <p:cNvSpPr/>
            <p:nvPr/>
          </p:nvSpPr>
          <p:spPr>
            <a:xfrm>
              <a:off x="3367080" y="239040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1" name="心形 55"/>
            <p:cNvSpPr/>
            <p:nvPr/>
          </p:nvSpPr>
          <p:spPr>
            <a:xfrm>
              <a:off x="3476520" y="2516400"/>
              <a:ext cx="256680" cy="2239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12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613" name="椭圆 353"/>
            <p:cNvSpPr/>
            <p:nvPr/>
          </p:nvSpPr>
          <p:spPr>
            <a:xfrm>
              <a:off x="3367080" y="298944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14" name="图片 354" descr=""/>
            <p:cNvPicPr/>
            <p:nvPr/>
          </p:nvPicPr>
          <p:blipFill>
            <a:blip r:embed="rId7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40000" contrast="40000"/>
                      </a14:imgEffect>
                    </a14:imgLayer>
                  </a14:imgProps>
                </a:ext>
              </a:extLst>
            </a:blip>
            <a:stretch/>
          </p:blipFill>
          <p:spPr>
            <a:xfrm rot="2662800">
              <a:off x="3427560" y="299664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5" name="组合 355"/>
          <p:cNvGrpSpPr/>
          <p:nvPr/>
        </p:nvGrpSpPr>
        <p:grpSpPr>
          <a:xfrm>
            <a:off x="3985560" y="2989440"/>
            <a:ext cx="475920" cy="475920"/>
            <a:chOff x="3985560" y="2989440"/>
            <a:chExt cx="475920" cy="475920"/>
          </a:xfrm>
        </p:grpSpPr>
        <p:sp>
          <p:nvSpPr>
            <p:cNvPr id="616" name="椭圆 356"/>
            <p:cNvSpPr/>
            <p:nvPr/>
          </p:nvSpPr>
          <p:spPr>
            <a:xfrm>
              <a:off x="3985560" y="298944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17" name="组合 357"/>
            <p:cNvGrpSpPr/>
            <p:nvPr/>
          </p:nvGrpSpPr>
          <p:grpSpPr>
            <a:xfrm>
              <a:off x="4160880" y="3133440"/>
              <a:ext cx="124920" cy="187560"/>
              <a:chOff x="4160880" y="3133440"/>
              <a:chExt cx="124920" cy="187560"/>
            </a:xfrm>
          </p:grpSpPr>
          <p:cxnSp>
            <p:nvCxnSpPr>
              <p:cNvPr id="618" name="直接连接符 358"/>
              <p:cNvCxnSpPr/>
              <p:nvPr/>
            </p:nvCxnSpPr>
            <p:spPr>
              <a:xfrm flipH="1">
                <a:off x="4160880" y="3133440"/>
                <a:ext cx="12528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  <p:cxnSp>
            <p:nvCxnSpPr>
              <p:cNvPr id="619" name="直接连接符 359"/>
              <p:cNvCxnSpPr/>
              <p:nvPr/>
            </p:nvCxnSpPr>
            <p:spPr>
              <a:xfrm>
                <a:off x="4160880" y="3231720"/>
                <a:ext cx="12528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620" name="组合 360"/>
          <p:cNvGrpSpPr/>
          <p:nvPr/>
        </p:nvGrpSpPr>
        <p:grpSpPr>
          <a:xfrm>
            <a:off x="5222160" y="2989440"/>
            <a:ext cx="475920" cy="475920"/>
            <a:chOff x="5222160" y="2989440"/>
            <a:chExt cx="475920" cy="475920"/>
          </a:xfrm>
        </p:grpSpPr>
        <p:sp>
          <p:nvSpPr>
            <p:cNvPr id="621" name="椭圆 361"/>
            <p:cNvSpPr/>
            <p:nvPr/>
          </p:nvSpPr>
          <p:spPr>
            <a:xfrm>
              <a:off x="5222160" y="298944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22" name="组合 362"/>
            <p:cNvGrpSpPr/>
            <p:nvPr/>
          </p:nvGrpSpPr>
          <p:grpSpPr>
            <a:xfrm>
              <a:off x="5361120" y="3110040"/>
              <a:ext cx="197280" cy="234360"/>
              <a:chOff x="5361120" y="3110040"/>
              <a:chExt cx="197280" cy="234360"/>
            </a:xfrm>
          </p:grpSpPr>
          <p:sp>
            <p:nvSpPr>
              <p:cNvPr id="623" name="减号 363"/>
              <p:cNvSpPr/>
              <p:nvPr/>
            </p:nvSpPr>
            <p:spPr>
              <a:xfrm>
                <a:off x="5361120" y="3110040"/>
                <a:ext cx="197280" cy="41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24" name="矩形 3087"/>
              <p:cNvSpPr/>
              <p:nvPr/>
            </p:nvSpPr>
            <p:spPr>
              <a:xfrm>
                <a:off x="5387040" y="3163680"/>
                <a:ext cx="145440" cy="180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25" name="组合 365"/>
          <p:cNvGrpSpPr/>
          <p:nvPr/>
        </p:nvGrpSpPr>
        <p:grpSpPr>
          <a:xfrm>
            <a:off x="4603680" y="2989440"/>
            <a:ext cx="475920" cy="475920"/>
            <a:chOff x="4603680" y="2989440"/>
            <a:chExt cx="475920" cy="475920"/>
          </a:xfrm>
        </p:grpSpPr>
        <p:sp>
          <p:nvSpPr>
            <p:cNvPr id="626" name="椭圆 366"/>
            <p:cNvSpPr/>
            <p:nvPr/>
          </p:nvSpPr>
          <p:spPr>
            <a:xfrm>
              <a:off x="4603680" y="298944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27" name="图片 367" descr=""/>
            <p:cNvPicPr/>
            <p:nvPr/>
          </p:nvPicPr>
          <p:blipFill>
            <a:blip r:embed="rId8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4751640" y="306648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组合 368"/>
          <p:cNvGrpSpPr/>
          <p:nvPr/>
        </p:nvGrpSpPr>
        <p:grpSpPr>
          <a:xfrm>
            <a:off x="3988440" y="2390400"/>
            <a:ext cx="475920" cy="475920"/>
            <a:chOff x="3988440" y="2390400"/>
            <a:chExt cx="475920" cy="475920"/>
          </a:xfrm>
        </p:grpSpPr>
        <p:sp>
          <p:nvSpPr>
            <p:cNvPr id="629" name="椭圆 369"/>
            <p:cNvSpPr/>
            <p:nvPr/>
          </p:nvSpPr>
          <p:spPr>
            <a:xfrm>
              <a:off x="3988440" y="239040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30" name="图片 370" descr=""/>
            <p:cNvPicPr/>
            <p:nvPr/>
          </p:nvPicPr>
          <p:blipFill>
            <a:blip r:embed="rId9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4105800" y="250812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组合 371"/>
          <p:cNvGrpSpPr/>
          <p:nvPr/>
        </p:nvGrpSpPr>
        <p:grpSpPr>
          <a:xfrm>
            <a:off x="6124680" y="1775880"/>
            <a:ext cx="475920" cy="475920"/>
            <a:chOff x="6124680" y="1775880"/>
            <a:chExt cx="475920" cy="475920"/>
          </a:xfrm>
        </p:grpSpPr>
        <p:sp>
          <p:nvSpPr>
            <p:cNvPr id="632" name="椭圆 372"/>
            <p:cNvSpPr/>
            <p:nvPr/>
          </p:nvSpPr>
          <p:spPr>
            <a:xfrm>
              <a:off x="6124680" y="177588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3" name="任意多边形 373"/>
            <p:cNvSpPr/>
            <p:nvPr/>
          </p:nvSpPr>
          <p:spPr>
            <a:xfrm rot="192600">
              <a:off x="6237360" y="191880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34" name="组合 374"/>
          <p:cNvGrpSpPr/>
          <p:nvPr/>
        </p:nvGrpSpPr>
        <p:grpSpPr>
          <a:xfrm>
            <a:off x="7988400" y="2390400"/>
            <a:ext cx="475920" cy="475920"/>
            <a:chOff x="7988400" y="2390400"/>
            <a:chExt cx="475920" cy="475920"/>
          </a:xfrm>
        </p:grpSpPr>
        <p:sp>
          <p:nvSpPr>
            <p:cNvPr id="635" name="椭圆 375"/>
            <p:cNvSpPr/>
            <p:nvPr/>
          </p:nvSpPr>
          <p:spPr>
            <a:xfrm>
              <a:off x="7988400" y="239040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36" name="图片 376" descr=""/>
            <p:cNvPicPr/>
            <p:nvPr/>
          </p:nvPicPr>
          <p:blipFill>
            <a:blip r:embed="rId10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8088840" y="247176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7" name="组合 377"/>
          <p:cNvGrpSpPr/>
          <p:nvPr/>
        </p:nvGrpSpPr>
        <p:grpSpPr>
          <a:xfrm>
            <a:off x="7367400" y="1775880"/>
            <a:ext cx="475920" cy="475920"/>
            <a:chOff x="7367400" y="1775880"/>
            <a:chExt cx="475920" cy="475920"/>
          </a:xfrm>
        </p:grpSpPr>
        <p:sp>
          <p:nvSpPr>
            <p:cNvPr id="638" name="椭圆 378"/>
            <p:cNvSpPr/>
            <p:nvPr/>
          </p:nvSpPr>
          <p:spPr>
            <a:xfrm>
              <a:off x="7367400" y="177588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39" name="组合 379"/>
            <p:cNvGrpSpPr/>
            <p:nvPr/>
          </p:nvGrpSpPr>
          <p:grpSpPr>
            <a:xfrm>
              <a:off x="7510320" y="1918800"/>
              <a:ext cx="190080" cy="190080"/>
              <a:chOff x="7510320" y="1918800"/>
              <a:chExt cx="190080" cy="190080"/>
            </a:xfrm>
          </p:grpSpPr>
          <p:sp>
            <p:nvSpPr>
              <p:cNvPr id="640" name="椭圆 380"/>
              <p:cNvSpPr/>
              <p:nvPr/>
            </p:nvSpPr>
            <p:spPr>
              <a:xfrm>
                <a:off x="7510320" y="191880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1" name="加号 381"/>
              <p:cNvSpPr/>
              <p:nvPr/>
            </p:nvSpPr>
            <p:spPr>
              <a:xfrm>
                <a:off x="7558560" y="1970280"/>
                <a:ext cx="93240" cy="86760"/>
              </a:xfrm>
              <a:prstGeom prst="mathPlus">
                <a:avLst>
                  <a:gd name="adj1" fmla="val 8685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42" name="组合 382"/>
          <p:cNvGrpSpPr/>
          <p:nvPr/>
        </p:nvGrpSpPr>
        <p:grpSpPr>
          <a:xfrm>
            <a:off x="6746040" y="1775880"/>
            <a:ext cx="475920" cy="475920"/>
            <a:chOff x="6746040" y="1775880"/>
            <a:chExt cx="475920" cy="475920"/>
          </a:xfrm>
        </p:grpSpPr>
        <p:sp>
          <p:nvSpPr>
            <p:cNvPr id="643" name="椭圆 383"/>
            <p:cNvSpPr/>
            <p:nvPr/>
          </p:nvSpPr>
          <p:spPr>
            <a:xfrm>
              <a:off x="6746040" y="177588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44" name="组合 384"/>
            <p:cNvGrpSpPr/>
            <p:nvPr/>
          </p:nvGrpSpPr>
          <p:grpSpPr>
            <a:xfrm>
              <a:off x="6888960" y="1918800"/>
              <a:ext cx="190080" cy="190080"/>
              <a:chOff x="6888960" y="1918800"/>
              <a:chExt cx="190080" cy="190080"/>
            </a:xfrm>
          </p:grpSpPr>
          <p:sp>
            <p:nvSpPr>
              <p:cNvPr id="645" name="减号 385"/>
              <p:cNvSpPr/>
              <p:nvPr/>
            </p:nvSpPr>
            <p:spPr>
              <a:xfrm>
                <a:off x="6925320" y="1984320"/>
                <a:ext cx="117000" cy="59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6" name="椭圆 386"/>
              <p:cNvSpPr/>
              <p:nvPr/>
            </p:nvSpPr>
            <p:spPr>
              <a:xfrm>
                <a:off x="6888960" y="191880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47" name="组合 387"/>
          <p:cNvGrpSpPr/>
          <p:nvPr/>
        </p:nvGrpSpPr>
        <p:grpSpPr>
          <a:xfrm>
            <a:off x="7367400" y="2390400"/>
            <a:ext cx="475920" cy="475920"/>
            <a:chOff x="7367400" y="2390400"/>
            <a:chExt cx="475920" cy="475920"/>
          </a:xfrm>
        </p:grpSpPr>
        <p:sp>
          <p:nvSpPr>
            <p:cNvPr id="648" name="椭圆 388"/>
            <p:cNvSpPr/>
            <p:nvPr/>
          </p:nvSpPr>
          <p:spPr>
            <a:xfrm>
              <a:off x="7367400" y="239040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9" name="任意多边形 389"/>
            <p:cNvSpPr/>
            <p:nvPr/>
          </p:nvSpPr>
          <p:spPr>
            <a:xfrm rot="8001600">
              <a:off x="7511040" y="252108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50" name="组合 390"/>
          <p:cNvGrpSpPr/>
          <p:nvPr/>
        </p:nvGrpSpPr>
        <p:grpSpPr>
          <a:xfrm>
            <a:off x="7988400" y="1775880"/>
            <a:ext cx="475920" cy="475920"/>
            <a:chOff x="7988400" y="1775880"/>
            <a:chExt cx="475920" cy="475920"/>
          </a:xfrm>
        </p:grpSpPr>
        <p:sp>
          <p:nvSpPr>
            <p:cNvPr id="651" name="椭圆 391"/>
            <p:cNvSpPr/>
            <p:nvPr/>
          </p:nvSpPr>
          <p:spPr>
            <a:xfrm>
              <a:off x="7988400" y="177588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2" name="任意多边形 392"/>
            <p:cNvSpPr/>
            <p:nvPr/>
          </p:nvSpPr>
          <p:spPr>
            <a:xfrm>
              <a:off x="8100360" y="189828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53" name="组合 393"/>
          <p:cNvGrpSpPr/>
          <p:nvPr/>
        </p:nvGrpSpPr>
        <p:grpSpPr>
          <a:xfrm>
            <a:off x="6124680" y="2390400"/>
            <a:ext cx="475920" cy="475920"/>
            <a:chOff x="6124680" y="2390400"/>
            <a:chExt cx="475920" cy="475920"/>
          </a:xfrm>
        </p:grpSpPr>
        <p:sp>
          <p:nvSpPr>
            <p:cNvPr id="654" name="椭圆 394"/>
            <p:cNvSpPr/>
            <p:nvPr/>
          </p:nvSpPr>
          <p:spPr>
            <a:xfrm>
              <a:off x="6124680" y="239040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5" name="心形 55"/>
            <p:cNvSpPr/>
            <p:nvPr/>
          </p:nvSpPr>
          <p:spPr>
            <a:xfrm>
              <a:off x="6234480" y="2516400"/>
              <a:ext cx="256680" cy="2239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56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657" name="椭圆 397"/>
            <p:cNvSpPr/>
            <p:nvPr/>
          </p:nvSpPr>
          <p:spPr>
            <a:xfrm>
              <a:off x="61246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58" name="图片 398" descr=""/>
            <p:cNvPicPr/>
            <p:nvPr/>
          </p:nvPicPr>
          <p:blipFill>
            <a:blip r:embed="rId11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40000" contrast="40000"/>
                      </a14:imgEffect>
                    </a14:imgLayer>
                  </a14:imgProps>
                </a:ext>
              </a:extLst>
            </a:blip>
            <a:stretch/>
          </p:blipFill>
          <p:spPr>
            <a:xfrm rot="2662800">
              <a:off x="6185160" y="299664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9" name="组合 399"/>
          <p:cNvGrpSpPr/>
          <p:nvPr/>
        </p:nvGrpSpPr>
        <p:grpSpPr>
          <a:xfrm>
            <a:off x="6743160" y="2989440"/>
            <a:ext cx="475920" cy="475920"/>
            <a:chOff x="6743160" y="2989440"/>
            <a:chExt cx="475920" cy="475920"/>
          </a:xfrm>
        </p:grpSpPr>
        <p:sp>
          <p:nvSpPr>
            <p:cNvPr id="660" name="椭圆 400"/>
            <p:cNvSpPr/>
            <p:nvPr/>
          </p:nvSpPr>
          <p:spPr>
            <a:xfrm>
              <a:off x="674316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61" name="组合 401"/>
            <p:cNvGrpSpPr/>
            <p:nvPr/>
          </p:nvGrpSpPr>
          <p:grpSpPr>
            <a:xfrm>
              <a:off x="6918840" y="3133440"/>
              <a:ext cx="124560" cy="187560"/>
              <a:chOff x="6918840" y="3133440"/>
              <a:chExt cx="124560" cy="187560"/>
            </a:xfrm>
          </p:grpSpPr>
          <p:cxnSp>
            <p:nvCxnSpPr>
              <p:cNvPr id="662" name="直接连接符 402"/>
              <p:cNvCxnSpPr/>
              <p:nvPr/>
            </p:nvCxnSpPr>
            <p:spPr>
              <a:xfrm flipH="1">
                <a:off x="6918840" y="3133440"/>
                <a:ext cx="12492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  <p:cxnSp>
            <p:nvCxnSpPr>
              <p:cNvPr id="663" name="直接连接符 403"/>
              <p:cNvCxnSpPr/>
              <p:nvPr/>
            </p:nvCxnSpPr>
            <p:spPr>
              <a:xfrm>
                <a:off x="6918840" y="3231720"/>
                <a:ext cx="12492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664" name="组合 404"/>
          <p:cNvGrpSpPr/>
          <p:nvPr/>
        </p:nvGrpSpPr>
        <p:grpSpPr>
          <a:xfrm>
            <a:off x="7979760" y="2989440"/>
            <a:ext cx="475920" cy="475920"/>
            <a:chOff x="7979760" y="2989440"/>
            <a:chExt cx="475920" cy="475920"/>
          </a:xfrm>
        </p:grpSpPr>
        <p:sp>
          <p:nvSpPr>
            <p:cNvPr id="665" name="椭圆 405"/>
            <p:cNvSpPr/>
            <p:nvPr/>
          </p:nvSpPr>
          <p:spPr>
            <a:xfrm>
              <a:off x="797976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66" name="组合 406"/>
            <p:cNvGrpSpPr/>
            <p:nvPr/>
          </p:nvGrpSpPr>
          <p:grpSpPr>
            <a:xfrm>
              <a:off x="8119080" y="3110040"/>
              <a:ext cx="197280" cy="234360"/>
              <a:chOff x="8119080" y="3110040"/>
              <a:chExt cx="197280" cy="234360"/>
            </a:xfrm>
          </p:grpSpPr>
          <p:sp>
            <p:nvSpPr>
              <p:cNvPr id="667" name="减号 407"/>
              <p:cNvSpPr/>
              <p:nvPr/>
            </p:nvSpPr>
            <p:spPr>
              <a:xfrm>
                <a:off x="8119080" y="3110040"/>
                <a:ext cx="197280" cy="41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8" name="矩形 3087"/>
              <p:cNvSpPr/>
              <p:nvPr/>
            </p:nvSpPr>
            <p:spPr>
              <a:xfrm>
                <a:off x="8145000" y="3163680"/>
                <a:ext cx="145440" cy="180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409"/>
          <p:cNvGrpSpPr/>
          <p:nvPr/>
        </p:nvGrpSpPr>
        <p:grpSpPr>
          <a:xfrm>
            <a:off x="7361280" y="2989440"/>
            <a:ext cx="475920" cy="475920"/>
            <a:chOff x="7361280" y="2989440"/>
            <a:chExt cx="475920" cy="475920"/>
          </a:xfrm>
        </p:grpSpPr>
        <p:sp>
          <p:nvSpPr>
            <p:cNvPr id="670" name="椭圆 410"/>
            <p:cNvSpPr/>
            <p:nvPr/>
          </p:nvSpPr>
          <p:spPr>
            <a:xfrm>
              <a:off x="73612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71" name="图片 411" descr=""/>
            <p:cNvPicPr/>
            <p:nvPr/>
          </p:nvPicPr>
          <p:blipFill>
            <a:blip r:embed="rId12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7509240" y="306648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组合 412"/>
          <p:cNvGrpSpPr/>
          <p:nvPr/>
        </p:nvGrpSpPr>
        <p:grpSpPr>
          <a:xfrm>
            <a:off x="6746040" y="2390400"/>
            <a:ext cx="475920" cy="475920"/>
            <a:chOff x="6746040" y="2390400"/>
            <a:chExt cx="475920" cy="475920"/>
          </a:xfrm>
        </p:grpSpPr>
        <p:sp>
          <p:nvSpPr>
            <p:cNvPr id="673" name="椭圆 413"/>
            <p:cNvSpPr/>
            <p:nvPr/>
          </p:nvSpPr>
          <p:spPr>
            <a:xfrm>
              <a:off x="6746040" y="239040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74" name="图片 414" descr=""/>
            <p:cNvPicPr/>
            <p:nvPr/>
          </p:nvPicPr>
          <p:blipFill>
            <a:blip r:embed="rId13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6863400" y="250812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5" name="组合 415"/>
          <p:cNvGrpSpPr/>
          <p:nvPr/>
        </p:nvGrpSpPr>
        <p:grpSpPr>
          <a:xfrm>
            <a:off x="6124680" y="3924000"/>
            <a:ext cx="475920" cy="475920"/>
            <a:chOff x="6124680" y="3924000"/>
            <a:chExt cx="475920" cy="475920"/>
          </a:xfrm>
        </p:grpSpPr>
        <p:sp>
          <p:nvSpPr>
            <p:cNvPr id="676" name="椭圆 416"/>
            <p:cNvSpPr/>
            <p:nvPr/>
          </p:nvSpPr>
          <p:spPr>
            <a:xfrm>
              <a:off x="6124680" y="39240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7" name="任意多边形 417"/>
            <p:cNvSpPr/>
            <p:nvPr/>
          </p:nvSpPr>
          <p:spPr>
            <a:xfrm rot="192600">
              <a:off x="6237360" y="406692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78" name="组合 418"/>
          <p:cNvGrpSpPr/>
          <p:nvPr/>
        </p:nvGrpSpPr>
        <p:grpSpPr>
          <a:xfrm>
            <a:off x="7988400" y="4538520"/>
            <a:ext cx="475920" cy="475920"/>
            <a:chOff x="7988400" y="4538520"/>
            <a:chExt cx="475920" cy="475920"/>
          </a:xfrm>
        </p:grpSpPr>
        <p:sp>
          <p:nvSpPr>
            <p:cNvPr id="679" name="椭圆 419"/>
            <p:cNvSpPr/>
            <p:nvPr/>
          </p:nvSpPr>
          <p:spPr>
            <a:xfrm>
              <a:off x="7988400" y="453852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80" name="图片 420" descr=""/>
            <p:cNvPicPr/>
            <p:nvPr/>
          </p:nvPicPr>
          <p:blipFill>
            <a:blip r:embed="rId14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8088840" y="461988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组合 421"/>
          <p:cNvGrpSpPr/>
          <p:nvPr/>
        </p:nvGrpSpPr>
        <p:grpSpPr>
          <a:xfrm>
            <a:off x="7367400" y="3924000"/>
            <a:ext cx="475920" cy="475920"/>
            <a:chOff x="7367400" y="3924000"/>
            <a:chExt cx="475920" cy="475920"/>
          </a:xfrm>
        </p:grpSpPr>
        <p:sp>
          <p:nvSpPr>
            <p:cNvPr id="682" name="椭圆 422"/>
            <p:cNvSpPr/>
            <p:nvPr/>
          </p:nvSpPr>
          <p:spPr>
            <a:xfrm>
              <a:off x="7367400" y="39240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83" name="组合 423"/>
            <p:cNvGrpSpPr/>
            <p:nvPr/>
          </p:nvGrpSpPr>
          <p:grpSpPr>
            <a:xfrm>
              <a:off x="7510320" y="4066920"/>
              <a:ext cx="190080" cy="190080"/>
              <a:chOff x="7510320" y="4066920"/>
              <a:chExt cx="190080" cy="190080"/>
            </a:xfrm>
          </p:grpSpPr>
          <p:sp>
            <p:nvSpPr>
              <p:cNvPr id="684" name="椭圆 424"/>
              <p:cNvSpPr/>
              <p:nvPr/>
            </p:nvSpPr>
            <p:spPr>
              <a:xfrm>
                <a:off x="7510320" y="406692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5" name="加号 425"/>
              <p:cNvSpPr/>
              <p:nvPr/>
            </p:nvSpPr>
            <p:spPr>
              <a:xfrm>
                <a:off x="7558560" y="4118400"/>
                <a:ext cx="93240" cy="86760"/>
              </a:xfrm>
              <a:prstGeom prst="mathPlus">
                <a:avLst>
                  <a:gd name="adj1" fmla="val 8685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86" name="组合 426"/>
          <p:cNvGrpSpPr/>
          <p:nvPr/>
        </p:nvGrpSpPr>
        <p:grpSpPr>
          <a:xfrm>
            <a:off x="6746040" y="3924000"/>
            <a:ext cx="475920" cy="475920"/>
            <a:chOff x="6746040" y="3924000"/>
            <a:chExt cx="475920" cy="475920"/>
          </a:xfrm>
        </p:grpSpPr>
        <p:sp>
          <p:nvSpPr>
            <p:cNvPr id="687" name="椭圆 427"/>
            <p:cNvSpPr/>
            <p:nvPr/>
          </p:nvSpPr>
          <p:spPr>
            <a:xfrm>
              <a:off x="6746040" y="39240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88" name="组合 428"/>
            <p:cNvGrpSpPr/>
            <p:nvPr/>
          </p:nvGrpSpPr>
          <p:grpSpPr>
            <a:xfrm>
              <a:off x="6888960" y="4066920"/>
              <a:ext cx="190080" cy="190080"/>
              <a:chOff x="6888960" y="4066920"/>
              <a:chExt cx="190080" cy="190080"/>
            </a:xfrm>
          </p:grpSpPr>
          <p:sp>
            <p:nvSpPr>
              <p:cNvPr id="689" name="减号 429"/>
              <p:cNvSpPr/>
              <p:nvPr/>
            </p:nvSpPr>
            <p:spPr>
              <a:xfrm>
                <a:off x="6925320" y="4132440"/>
                <a:ext cx="117000" cy="59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0" name="椭圆 430"/>
              <p:cNvSpPr/>
              <p:nvPr/>
            </p:nvSpPr>
            <p:spPr>
              <a:xfrm>
                <a:off x="6888960" y="406692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431"/>
          <p:cNvGrpSpPr/>
          <p:nvPr/>
        </p:nvGrpSpPr>
        <p:grpSpPr>
          <a:xfrm>
            <a:off x="7367400" y="4538520"/>
            <a:ext cx="475920" cy="475920"/>
            <a:chOff x="7367400" y="4538520"/>
            <a:chExt cx="475920" cy="475920"/>
          </a:xfrm>
        </p:grpSpPr>
        <p:sp>
          <p:nvSpPr>
            <p:cNvPr id="692" name="椭圆 432"/>
            <p:cNvSpPr/>
            <p:nvPr/>
          </p:nvSpPr>
          <p:spPr>
            <a:xfrm>
              <a:off x="7367400" y="453852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3" name="任意多边形 433"/>
            <p:cNvSpPr/>
            <p:nvPr/>
          </p:nvSpPr>
          <p:spPr>
            <a:xfrm rot="8001600">
              <a:off x="7511040" y="466920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94" name="组合 434"/>
          <p:cNvGrpSpPr/>
          <p:nvPr/>
        </p:nvGrpSpPr>
        <p:grpSpPr>
          <a:xfrm>
            <a:off x="7988400" y="3924000"/>
            <a:ext cx="475920" cy="475920"/>
            <a:chOff x="7988400" y="3924000"/>
            <a:chExt cx="475920" cy="475920"/>
          </a:xfrm>
        </p:grpSpPr>
        <p:sp>
          <p:nvSpPr>
            <p:cNvPr id="695" name="椭圆 435"/>
            <p:cNvSpPr/>
            <p:nvPr/>
          </p:nvSpPr>
          <p:spPr>
            <a:xfrm>
              <a:off x="7988400" y="39240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6" name="任意多边形 436"/>
            <p:cNvSpPr/>
            <p:nvPr/>
          </p:nvSpPr>
          <p:spPr>
            <a:xfrm>
              <a:off x="8100360" y="404640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97" name="组合 437"/>
          <p:cNvGrpSpPr/>
          <p:nvPr/>
        </p:nvGrpSpPr>
        <p:grpSpPr>
          <a:xfrm>
            <a:off x="6124680" y="4538520"/>
            <a:ext cx="475920" cy="475920"/>
            <a:chOff x="6124680" y="4538520"/>
            <a:chExt cx="475920" cy="475920"/>
          </a:xfrm>
        </p:grpSpPr>
        <p:sp>
          <p:nvSpPr>
            <p:cNvPr id="698" name="椭圆 438"/>
            <p:cNvSpPr/>
            <p:nvPr/>
          </p:nvSpPr>
          <p:spPr>
            <a:xfrm>
              <a:off x="6124680" y="453852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9" name="心形 55"/>
            <p:cNvSpPr/>
            <p:nvPr/>
          </p:nvSpPr>
          <p:spPr>
            <a:xfrm>
              <a:off x="6234480" y="4664520"/>
              <a:ext cx="256680" cy="2239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00" name="组合 440"/>
          <p:cNvGrpSpPr/>
          <p:nvPr/>
        </p:nvGrpSpPr>
        <p:grpSpPr>
          <a:xfrm>
            <a:off x="6100920" y="5060880"/>
            <a:ext cx="574920" cy="574920"/>
            <a:chOff x="6100920" y="5060880"/>
            <a:chExt cx="574920" cy="574920"/>
          </a:xfrm>
        </p:grpSpPr>
        <p:sp>
          <p:nvSpPr>
            <p:cNvPr id="701" name="椭圆 441"/>
            <p:cNvSpPr/>
            <p:nvPr/>
          </p:nvSpPr>
          <p:spPr>
            <a:xfrm>
              <a:off x="6124680" y="51372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02" name="图片 442" descr=""/>
            <p:cNvPicPr/>
            <p:nvPr/>
          </p:nvPicPr>
          <p:blipFill>
            <a:blip r:embed="rId15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40000" contrast="40000"/>
                      </a14:imgEffect>
                    </a14:imgLayer>
                  </a14:imgProps>
                </a:ext>
              </a:extLst>
            </a:blip>
            <a:stretch/>
          </p:blipFill>
          <p:spPr>
            <a:xfrm rot="2662800">
              <a:off x="6185160" y="51447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3" name="组合 443"/>
          <p:cNvGrpSpPr/>
          <p:nvPr/>
        </p:nvGrpSpPr>
        <p:grpSpPr>
          <a:xfrm>
            <a:off x="6743160" y="5137200"/>
            <a:ext cx="475920" cy="475920"/>
            <a:chOff x="6743160" y="5137200"/>
            <a:chExt cx="475920" cy="475920"/>
          </a:xfrm>
        </p:grpSpPr>
        <p:sp>
          <p:nvSpPr>
            <p:cNvPr id="704" name="椭圆 444"/>
            <p:cNvSpPr/>
            <p:nvPr/>
          </p:nvSpPr>
          <p:spPr>
            <a:xfrm>
              <a:off x="6743160" y="51372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05" name="组合 445"/>
            <p:cNvGrpSpPr/>
            <p:nvPr/>
          </p:nvGrpSpPr>
          <p:grpSpPr>
            <a:xfrm>
              <a:off x="6918840" y="5281560"/>
              <a:ext cx="124560" cy="187560"/>
              <a:chOff x="6918840" y="5281560"/>
              <a:chExt cx="124560" cy="187560"/>
            </a:xfrm>
          </p:grpSpPr>
          <p:cxnSp>
            <p:nvCxnSpPr>
              <p:cNvPr id="706" name="直接连接符 446"/>
              <p:cNvCxnSpPr/>
              <p:nvPr/>
            </p:nvCxnSpPr>
            <p:spPr>
              <a:xfrm flipH="1">
                <a:off x="6918840" y="5281560"/>
                <a:ext cx="12492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  <p:cxnSp>
            <p:nvCxnSpPr>
              <p:cNvPr id="707" name="直接连接符 447"/>
              <p:cNvCxnSpPr/>
              <p:nvPr/>
            </p:nvCxnSpPr>
            <p:spPr>
              <a:xfrm>
                <a:off x="6918840" y="5379840"/>
                <a:ext cx="12492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708" name="组合 448"/>
          <p:cNvGrpSpPr/>
          <p:nvPr/>
        </p:nvGrpSpPr>
        <p:grpSpPr>
          <a:xfrm>
            <a:off x="7979760" y="5137200"/>
            <a:ext cx="475920" cy="475920"/>
            <a:chOff x="7979760" y="5137200"/>
            <a:chExt cx="475920" cy="475920"/>
          </a:xfrm>
        </p:grpSpPr>
        <p:sp>
          <p:nvSpPr>
            <p:cNvPr id="709" name="椭圆 449"/>
            <p:cNvSpPr/>
            <p:nvPr/>
          </p:nvSpPr>
          <p:spPr>
            <a:xfrm>
              <a:off x="7979760" y="51372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10" name="组合 450"/>
            <p:cNvGrpSpPr/>
            <p:nvPr/>
          </p:nvGrpSpPr>
          <p:grpSpPr>
            <a:xfrm>
              <a:off x="8119080" y="5258160"/>
              <a:ext cx="197280" cy="234360"/>
              <a:chOff x="8119080" y="5258160"/>
              <a:chExt cx="197280" cy="234360"/>
            </a:xfrm>
          </p:grpSpPr>
          <p:sp>
            <p:nvSpPr>
              <p:cNvPr id="711" name="减号 451"/>
              <p:cNvSpPr/>
              <p:nvPr/>
            </p:nvSpPr>
            <p:spPr>
              <a:xfrm>
                <a:off x="8119080" y="5258160"/>
                <a:ext cx="197280" cy="41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12" name="矩形 3087"/>
              <p:cNvSpPr/>
              <p:nvPr/>
            </p:nvSpPr>
            <p:spPr>
              <a:xfrm>
                <a:off x="8145000" y="5311800"/>
                <a:ext cx="145440" cy="180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13" name="组合 453"/>
          <p:cNvGrpSpPr/>
          <p:nvPr/>
        </p:nvGrpSpPr>
        <p:grpSpPr>
          <a:xfrm>
            <a:off x="7361280" y="5137200"/>
            <a:ext cx="475920" cy="475920"/>
            <a:chOff x="7361280" y="5137200"/>
            <a:chExt cx="475920" cy="475920"/>
          </a:xfrm>
        </p:grpSpPr>
        <p:sp>
          <p:nvSpPr>
            <p:cNvPr id="714" name="椭圆 454"/>
            <p:cNvSpPr/>
            <p:nvPr/>
          </p:nvSpPr>
          <p:spPr>
            <a:xfrm>
              <a:off x="7361280" y="51372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15" name="图片 455" descr=""/>
            <p:cNvPicPr/>
            <p:nvPr/>
          </p:nvPicPr>
          <p:blipFill>
            <a:blip r:embed="rId16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7509240" y="521460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6" name="组合 456"/>
          <p:cNvGrpSpPr/>
          <p:nvPr/>
        </p:nvGrpSpPr>
        <p:grpSpPr>
          <a:xfrm>
            <a:off x="6746040" y="4538520"/>
            <a:ext cx="475920" cy="475920"/>
            <a:chOff x="6746040" y="4538520"/>
            <a:chExt cx="475920" cy="475920"/>
          </a:xfrm>
        </p:grpSpPr>
        <p:sp>
          <p:nvSpPr>
            <p:cNvPr id="717" name="椭圆 457"/>
            <p:cNvSpPr/>
            <p:nvPr/>
          </p:nvSpPr>
          <p:spPr>
            <a:xfrm>
              <a:off x="6746040" y="453852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18" name="图片 458" descr=""/>
            <p:cNvPicPr/>
            <p:nvPr/>
          </p:nvPicPr>
          <p:blipFill>
            <a:blip r:embed="rId17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6863400" y="465624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9" name="组合 459"/>
          <p:cNvGrpSpPr/>
          <p:nvPr/>
        </p:nvGrpSpPr>
        <p:grpSpPr>
          <a:xfrm>
            <a:off x="3367080" y="3924000"/>
            <a:ext cx="475920" cy="475920"/>
            <a:chOff x="3367080" y="3924000"/>
            <a:chExt cx="475920" cy="475920"/>
          </a:xfrm>
        </p:grpSpPr>
        <p:sp>
          <p:nvSpPr>
            <p:cNvPr id="720" name="椭圆 460"/>
            <p:cNvSpPr/>
            <p:nvPr/>
          </p:nvSpPr>
          <p:spPr>
            <a:xfrm>
              <a:off x="3367080" y="39240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21" name="任意多边形 461"/>
            <p:cNvSpPr/>
            <p:nvPr/>
          </p:nvSpPr>
          <p:spPr>
            <a:xfrm rot="192600">
              <a:off x="3479760" y="406692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22" name="组合 462"/>
          <p:cNvGrpSpPr/>
          <p:nvPr/>
        </p:nvGrpSpPr>
        <p:grpSpPr>
          <a:xfrm>
            <a:off x="5230800" y="4538520"/>
            <a:ext cx="475920" cy="475920"/>
            <a:chOff x="5230800" y="4538520"/>
            <a:chExt cx="475920" cy="475920"/>
          </a:xfrm>
        </p:grpSpPr>
        <p:sp>
          <p:nvSpPr>
            <p:cNvPr id="723" name="椭圆 463"/>
            <p:cNvSpPr/>
            <p:nvPr/>
          </p:nvSpPr>
          <p:spPr>
            <a:xfrm>
              <a:off x="5230800" y="453852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24" name="图片 464" descr=""/>
            <p:cNvPicPr/>
            <p:nvPr/>
          </p:nvPicPr>
          <p:blipFill>
            <a:blip r:embed="rId18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5331240" y="461988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5" name="组合 465"/>
          <p:cNvGrpSpPr/>
          <p:nvPr/>
        </p:nvGrpSpPr>
        <p:grpSpPr>
          <a:xfrm>
            <a:off x="4609440" y="3924000"/>
            <a:ext cx="475920" cy="475920"/>
            <a:chOff x="4609440" y="3924000"/>
            <a:chExt cx="475920" cy="475920"/>
          </a:xfrm>
        </p:grpSpPr>
        <p:sp>
          <p:nvSpPr>
            <p:cNvPr id="726" name="椭圆 466"/>
            <p:cNvSpPr/>
            <p:nvPr/>
          </p:nvSpPr>
          <p:spPr>
            <a:xfrm>
              <a:off x="4609440" y="39240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27" name="组合 467"/>
            <p:cNvGrpSpPr/>
            <p:nvPr/>
          </p:nvGrpSpPr>
          <p:grpSpPr>
            <a:xfrm>
              <a:off x="4752360" y="4066920"/>
              <a:ext cx="190080" cy="190080"/>
              <a:chOff x="4752360" y="4066920"/>
              <a:chExt cx="190080" cy="190080"/>
            </a:xfrm>
          </p:grpSpPr>
          <p:sp>
            <p:nvSpPr>
              <p:cNvPr id="728" name="椭圆 468"/>
              <p:cNvSpPr/>
              <p:nvPr/>
            </p:nvSpPr>
            <p:spPr>
              <a:xfrm>
                <a:off x="4752360" y="406692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9" name="加号 469"/>
              <p:cNvSpPr/>
              <p:nvPr/>
            </p:nvSpPr>
            <p:spPr>
              <a:xfrm>
                <a:off x="4800960" y="4118400"/>
                <a:ext cx="93240" cy="86760"/>
              </a:xfrm>
              <a:prstGeom prst="mathPlus">
                <a:avLst>
                  <a:gd name="adj1" fmla="val 8685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30" name="组合 470"/>
          <p:cNvGrpSpPr/>
          <p:nvPr/>
        </p:nvGrpSpPr>
        <p:grpSpPr>
          <a:xfrm>
            <a:off x="3988440" y="3924000"/>
            <a:ext cx="475920" cy="475920"/>
            <a:chOff x="3988440" y="3924000"/>
            <a:chExt cx="475920" cy="475920"/>
          </a:xfrm>
        </p:grpSpPr>
        <p:sp>
          <p:nvSpPr>
            <p:cNvPr id="731" name="椭圆 471"/>
            <p:cNvSpPr/>
            <p:nvPr/>
          </p:nvSpPr>
          <p:spPr>
            <a:xfrm>
              <a:off x="3988440" y="39240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32" name="组合 472"/>
            <p:cNvGrpSpPr/>
            <p:nvPr/>
          </p:nvGrpSpPr>
          <p:grpSpPr>
            <a:xfrm>
              <a:off x="4131360" y="4066920"/>
              <a:ext cx="190080" cy="190080"/>
              <a:chOff x="4131360" y="4066920"/>
              <a:chExt cx="190080" cy="190080"/>
            </a:xfrm>
          </p:grpSpPr>
          <p:sp>
            <p:nvSpPr>
              <p:cNvPr id="733" name="减号 473"/>
              <p:cNvSpPr/>
              <p:nvPr/>
            </p:nvSpPr>
            <p:spPr>
              <a:xfrm>
                <a:off x="4167720" y="4132440"/>
                <a:ext cx="117000" cy="59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4" name="椭圆 474"/>
              <p:cNvSpPr/>
              <p:nvPr/>
            </p:nvSpPr>
            <p:spPr>
              <a:xfrm>
                <a:off x="4131360" y="406692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35" name="组合 475"/>
          <p:cNvGrpSpPr/>
          <p:nvPr/>
        </p:nvGrpSpPr>
        <p:grpSpPr>
          <a:xfrm>
            <a:off x="4609440" y="4538520"/>
            <a:ext cx="475920" cy="475920"/>
            <a:chOff x="4609440" y="4538520"/>
            <a:chExt cx="475920" cy="475920"/>
          </a:xfrm>
        </p:grpSpPr>
        <p:sp>
          <p:nvSpPr>
            <p:cNvPr id="736" name="椭圆 476"/>
            <p:cNvSpPr/>
            <p:nvPr/>
          </p:nvSpPr>
          <p:spPr>
            <a:xfrm>
              <a:off x="4609440" y="453852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7" name="任意多边形 477"/>
            <p:cNvSpPr/>
            <p:nvPr/>
          </p:nvSpPr>
          <p:spPr>
            <a:xfrm rot="8001600">
              <a:off x="4753440" y="466920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38" name="组合 478"/>
          <p:cNvGrpSpPr/>
          <p:nvPr/>
        </p:nvGrpSpPr>
        <p:grpSpPr>
          <a:xfrm>
            <a:off x="5230800" y="3924000"/>
            <a:ext cx="475920" cy="475920"/>
            <a:chOff x="5230800" y="3924000"/>
            <a:chExt cx="475920" cy="475920"/>
          </a:xfrm>
        </p:grpSpPr>
        <p:sp>
          <p:nvSpPr>
            <p:cNvPr id="739" name="椭圆 479"/>
            <p:cNvSpPr/>
            <p:nvPr/>
          </p:nvSpPr>
          <p:spPr>
            <a:xfrm>
              <a:off x="5230800" y="39240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0" name="任意多边形 480"/>
            <p:cNvSpPr/>
            <p:nvPr/>
          </p:nvSpPr>
          <p:spPr>
            <a:xfrm>
              <a:off x="5342760" y="404640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41" name="组合 481"/>
          <p:cNvGrpSpPr/>
          <p:nvPr/>
        </p:nvGrpSpPr>
        <p:grpSpPr>
          <a:xfrm>
            <a:off x="3367080" y="4538520"/>
            <a:ext cx="475920" cy="475920"/>
            <a:chOff x="3367080" y="4538520"/>
            <a:chExt cx="475920" cy="475920"/>
          </a:xfrm>
        </p:grpSpPr>
        <p:sp>
          <p:nvSpPr>
            <p:cNvPr id="742" name="椭圆 482"/>
            <p:cNvSpPr/>
            <p:nvPr/>
          </p:nvSpPr>
          <p:spPr>
            <a:xfrm>
              <a:off x="3367080" y="453852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3" name="心形 55"/>
            <p:cNvSpPr/>
            <p:nvPr/>
          </p:nvSpPr>
          <p:spPr>
            <a:xfrm>
              <a:off x="3476520" y="4664520"/>
              <a:ext cx="256680" cy="2239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44" name="组合 484"/>
          <p:cNvGrpSpPr/>
          <p:nvPr/>
        </p:nvGrpSpPr>
        <p:grpSpPr>
          <a:xfrm>
            <a:off x="3343320" y="5060880"/>
            <a:ext cx="574920" cy="574920"/>
            <a:chOff x="3343320" y="5060880"/>
            <a:chExt cx="574920" cy="574920"/>
          </a:xfrm>
        </p:grpSpPr>
        <p:sp>
          <p:nvSpPr>
            <p:cNvPr id="745" name="椭圆 485"/>
            <p:cNvSpPr/>
            <p:nvPr/>
          </p:nvSpPr>
          <p:spPr>
            <a:xfrm>
              <a:off x="3367080" y="51372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46" name="图片 486" descr=""/>
            <p:cNvPicPr/>
            <p:nvPr/>
          </p:nvPicPr>
          <p:blipFill>
            <a:blip r:embed="rId19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40000" contrast="40000"/>
                      </a14:imgEffect>
                    </a14:imgLayer>
                  </a14:imgProps>
                </a:ext>
              </a:extLst>
            </a:blip>
            <a:stretch/>
          </p:blipFill>
          <p:spPr>
            <a:xfrm rot="2662800">
              <a:off x="3427560" y="51447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7" name="组合 487"/>
          <p:cNvGrpSpPr/>
          <p:nvPr/>
        </p:nvGrpSpPr>
        <p:grpSpPr>
          <a:xfrm>
            <a:off x="3985560" y="5137200"/>
            <a:ext cx="475920" cy="475920"/>
            <a:chOff x="3985560" y="5137200"/>
            <a:chExt cx="475920" cy="475920"/>
          </a:xfrm>
        </p:grpSpPr>
        <p:sp>
          <p:nvSpPr>
            <p:cNvPr id="748" name="椭圆 488"/>
            <p:cNvSpPr/>
            <p:nvPr/>
          </p:nvSpPr>
          <p:spPr>
            <a:xfrm>
              <a:off x="3985560" y="51372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49" name="组合 489"/>
            <p:cNvGrpSpPr/>
            <p:nvPr/>
          </p:nvGrpSpPr>
          <p:grpSpPr>
            <a:xfrm>
              <a:off x="4160880" y="5281560"/>
              <a:ext cx="124920" cy="187560"/>
              <a:chOff x="4160880" y="5281560"/>
              <a:chExt cx="124920" cy="187560"/>
            </a:xfrm>
          </p:grpSpPr>
          <p:cxnSp>
            <p:nvCxnSpPr>
              <p:cNvPr id="750" name="直接连接符 490"/>
              <p:cNvCxnSpPr/>
              <p:nvPr/>
            </p:nvCxnSpPr>
            <p:spPr>
              <a:xfrm flipH="1">
                <a:off x="4160880" y="5281560"/>
                <a:ext cx="12528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  <p:cxnSp>
            <p:nvCxnSpPr>
              <p:cNvPr id="751" name="直接连接符 491"/>
              <p:cNvCxnSpPr/>
              <p:nvPr/>
            </p:nvCxnSpPr>
            <p:spPr>
              <a:xfrm>
                <a:off x="4160880" y="5379840"/>
                <a:ext cx="12528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752" name="组合 492"/>
          <p:cNvGrpSpPr/>
          <p:nvPr/>
        </p:nvGrpSpPr>
        <p:grpSpPr>
          <a:xfrm>
            <a:off x="5222160" y="5137200"/>
            <a:ext cx="475920" cy="475920"/>
            <a:chOff x="5222160" y="5137200"/>
            <a:chExt cx="475920" cy="475920"/>
          </a:xfrm>
        </p:grpSpPr>
        <p:sp>
          <p:nvSpPr>
            <p:cNvPr id="753" name="椭圆 493"/>
            <p:cNvSpPr/>
            <p:nvPr/>
          </p:nvSpPr>
          <p:spPr>
            <a:xfrm>
              <a:off x="5222160" y="51372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54" name="组合 494"/>
            <p:cNvGrpSpPr/>
            <p:nvPr/>
          </p:nvGrpSpPr>
          <p:grpSpPr>
            <a:xfrm>
              <a:off x="5361120" y="5258160"/>
              <a:ext cx="197280" cy="234360"/>
              <a:chOff x="5361120" y="5258160"/>
              <a:chExt cx="197280" cy="234360"/>
            </a:xfrm>
          </p:grpSpPr>
          <p:sp>
            <p:nvSpPr>
              <p:cNvPr id="755" name="减号 495"/>
              <p:cNvSpPr/>
              <p:nvPr/>
            </p:nvSpPr>
            <p:spPr>
              <a:xfrm>
                <a:off x="5361120" y="5258160"/>
                <a:ext cx="197280" cy="41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56" name="矩形 3087"/>
              <p:cNvSpPr/>
              <p:nvPr/>
            </p:nvSpPr>
            <p:spPr>
              <a:xfrm>
                <a:off x="5387040" y="5311800"/>
                <a:ext cx="145440" cy="180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57" name="组合 497"/>
          <p:cNvGrpSpPr/>
          <p:nvPr/>
        </p:nvGrpSpPr>
        <p:grpSpPr>
          <a:xfrm>
            <a:off x="4603680" y="5137200"/>
            <a:ext cx="475920" cy="475920"/>
            <a:chOff x="4603680" y="5137200"/>
            <a:chExt cx="475920" cy="475920"/>
          </a:xfrm>
        </p:grpSpPr>
        <p:sp>
          <p:nvSpPr>
            <p:cNvPr id="758" name="椭圆 498"/>
            <p:cNvSpPr/>
            <p:nvPr/>
          </p:nvSpPr>
          <p:spPr>
            <a:xfrm>
              <a:off x="4603680" y="51372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59" name="图片 499" descr=""/>
            <p:cNvPicPr/>
            <p:nvPr/>
          </p:nvPicPr>
          <p:blipFill>
            <a:blip r:embed="rId20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4751640" y="521460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组合 500"/>
          <p:cNvGrpSpPr/>
          <p:nvPr/>
        </p:nvGrpSpPr>
        <p:grpSpPr>
          <a:xfrm>
            <a:off x="3988440" y="4538520"/>
            <a:ext cx="475920" cy="475920"/>
            <a:chOff x="3988440" y="4538520"/>
            <a:chExt cx="475920" cy="475920"/>
          </a:xfrm>
        </p:grpSpPr>
        <p:sp>
          <p:nvSpPr>
            <p:cNvPr id="761" name="椭圆 501"/>
            <p:cNvSpPr/>
            <p:nvPr/>
          </p:nvSpPr>
          <p:spPr>
            <a:xfrm>
              <a:off x="3988440" y="453852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62" name="图片 502" descr=""/>
            <p:cNvPicPr/>
            <p:nvPr/>
          </p:nvPicPr>
          <p:blipFill>
            <a:blip r:embed="rId21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4105800" y="465624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3" name="组合 503"/>
          <p:cNvGrpSpPr/>
          <p:nvPr/>
        </p:nvGrpSpPr>
        <p:grpSpPr>
          <a:xfrm>
            <a:off x="638280" y="3924000"/>
            <a:ext cx="475920" cy="475920"/>
            <a:chOff x="638280" y="3924000"/>
            <a:chExt cx="475920" cy="475920"/>
          </a:xfrm>
        </p:grpSpPr>
        <p:sp>
          <p:nvSpPr>
            <p:cNvPr id="764" name="椭圆 504"/>
            <p:cNvSpPr/>
            <p:nvPr/>
          </p:nvSpPr>
          <p:spPr>
            <a:xfrm>
              <a:off x="638280" y="39240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65" name="任意多边形 505"/>
            <p:cNvSpPr/>
            <p:nvPr/>
          </p:nvSpPr>
          <p:spPr>
            <a:xfrm rot="192600">
              <a:off x="750960" y="406692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66" name="组合 506"/>
          <p:cNvGrpSpPr/>
          <p:nvPr/>
        </p:nvGrpSpPr>
        <p:grpSpPr>
          <a:xfrm>
            <a:off x="2502000" y="4538520"/>
            <a:ext cx="475920" cy="475920"/>
            <a:chOff x="2502000" y="4538520"/>
            <a:chExt cx="475920" cy="475920"/>
          </a:xfrm>
        </p:grpSpPr>
        <p:sp>
          <p:nvSpPr>
            <p:cNvPr id="767" name="椭圆 507"/>
            <p:cNvSpPr/>
            <p:nvPr/>
          </p:nvSpPr>
          <p:spPr>
            <a:xfrm>
              <a:off x="2502000" y="453852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68" name="图片 508" descr=""/>
            <p:cNvPicPr/>
            <p:nvPr/>
          </p:nvPicPr>
          <p:blipFill>
            <a:blip r:embed="rId22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2602440" y="461988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9" name="组合 509"/>
          <p:cNvGrpSpPr/>
          <p:nvPr/>
        </p:nvGrpSpPr>
        <p:grpSpPr>
          <a:xfrm>
            <a:off x="1881000" y="3924000"/>
            <a:ext cx="475920" cy="475920"/>
            <a:chOff x="1881000" y="3924000"/>
            <a:chExt cx="475920" cy="475920"/>
          </a:xfrm>
        </p:grpSpPr>
        <p:sp>
          <p:nvSpPr>
            <p:cNvPr id="770" name="椭圆 510"/>
            <p:cNvSpPr/>
            <p:nvPr/>
          </p:nvSpPr>
          <p:spPr>
            <a:xfrm>
              <a:off x="1881000" y="39240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71" name="组合 511"/>
            <p:cNvGrpSpPr/>
            <p:nvPr/>
          </p:nvGrpSpPr>
          <p:grpSpPr>
            <a:xfrm>
              <a:off x="2023920" y="4066920"/>
              <a:ext cx="190080" cy="190080"/>
              <a:chOff x="2023920" y="4066920"/>
              <a:chExt cx="190080" cy="190080"/>
            </a:xfrm>
          </p:grpSpPr>
          <p:sp>
            <p:nvSpPr>
              <p:cNvPr id="772" name="椭圆 512"/>
              <p:cNvSpPr/>
              <p:nvPr/>
            </p:nvSpPr>
            <p:spPr>
              <a:xfrm>
                <a:off x="2023920" y="406692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73" name="加号 513"/>
              <p:cNvSpPr/>
              <p:nvPr/>
            </p:nvSpPr>
            <p:spPr>
              <a:xfrm>
                <a:off x="2072160" y="4118400"/>
                <a:ext cx="93240" cy="86760"/>
              </a:xfrm>
              <a:prstGeom prst="mathPlus">
                <a:avLst>
                  <a:gd name="adj1" fmla="val 8685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74" name="组合 514"/>
          <p:cNvGrpSpPr/>
          <p:nvPr/>
        </p:nvGrpSpPr>
        <p:grpSpPr>
          <a:xfrm>
            <a:off x="1259640" y="3924000"/>
            <a:ext cx="475920" cy="475920"/>
            <a:chOff x="1259640" y="3924000"/>
            <a:chExt cx="475920" cy="475920"/>
          </a:xfrm>
        </p:grpSpPr>
        <p:sp>
          <p:nvSpPr>
            <p:cNvPr id="775" name="椭圆 515"/>
            <p:cNvSpPr/>
            <p:nvPr/>
          </p:nvSpPr>
          <p:spPr>
            <a:xfrm>
              <a:off x="1259640" y="39240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76" name="组合 516"/>
            <p:cNvGrpSpPr/>
            <p:nvPr/>
          </p:nvGrpSpPr>
          <p:grpSpPr>
            <a:xfrm>
              <a:off x="1402560" y="4066920"/>
              <a:ext cx="190080" cy="190080"/>
              <a:chOff x="1402560" y="4066920"/>
              <a:chExt cx="190080" cy="190080"/>
            </a:xfrm>
          </p:grpSpPr>
          <p:sp>
            <p:nvSpPr>
              <p:cNvPr id="777" name="减号 517"/>
              <p:cNvSpPr/>
              <p:nvPr/>
            </p:nvSpPr>
            <p:spPr>
              <a:xfrm>
                <a:off x="1438920" y="4132440"/>
                <a:ext cx="117000" cy="59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78" name="椭圆 518"/>
              <p:cNvSpPr/>
              <p:nvPr/>
            </p:nvSpPr>
            <p:spPr>
              <a:xfrm>
                <a:off x="1402560" y="406692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519"/>
          <p:cNvGrpSpPr/>
          <p:nvPr/>
        </p:nvGrpSpPr>
        <p:grpSpPr>
          <a:xfrm>
            <a:off x="1881000" y="4538520"/>
            <a:ext cx="475920" cy="475920"/>
            <a:chOff x="1881000" y="4538520"/>
            <a:chExt cx="475920" cy="475920"/>
          </a:xfrm>
        </p:grpSpPr>
        <p:sp>
          <p:nvSpPr>
            <p:cNvPr id="780" name="椭圆 520"/>
            <p:cNvSpPr/>
            <p:nvPr/>
          </p:nvSpPr>
          <p:spPr>
            <a:xfrm>
              <a:off x="1881000" y="453852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1" name="任意多边形 521"/>
            <p:cNvSpPr/>
            <p:nvPr/>
          </p:nvSpPr>
          <p:spPr>
            <a:xfrm rot="8001600">
              <a:off x="2024640" y="466920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82" name="组合 522"/>
          <p:cNvGrpSpPr/>
          <p:nvPr/>
        </p:nvGrpSpPr>
        <p:grpSpPr>
          <a:xfrm>
            <a:off x="2502000" y="3924000"/>
            <a:ext cx="475920" cy="475920"/>
            <a:chOff x="2502000" y="3924000"/>
            <a:chExt cx="475920" cy="475920"/>
          </a:xfrm>
        </p:grpSpPr>
        <p:sp>
          <p:nvSpPr>
            <p:cNvPr id="783" name="椭圆 523"/>
            <p:cNvSpPr/>
            <p:nvPr/>
          </p:nvSpPr>
          <p:spPr>
            <a:xfrm>
              <a:off x="2502000" y="39240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4" name="任意多边形 524"/>
            <p:cNvSpPr/>
            <p:nvPr/>
          </p:nvSpPr>
          <p:spPr>
            <a:xfrm>
              <a:off x="2613960" y="404640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85" name="组合 525"/>
          <p:cNvGrpSpPr/>
          <p:nvPr/>
        </p:nvGrpSpPr>
        <p:grpSpPr>
          <a:xfrm>
            <a:off x="638280" y="4538520"/>
            <a:ext cx="475920" cy="475920"/>
            <a:chOff x="638280" y="4538520"/>
            <a:chExt cx="475920" cy="475920"/>
          </a:xfrm>
        </p:grpSpPr>
        <p:sp>
          <p:nvSpPr>
            <p:cNvPr id="786" name="椭圆 526"/>
            <p:cNvSpPr/>
            <p:nvPr/>
          </p:nvSpPr>
          <p:spPr>
            <a:xfrm>
              <a:off x="638280" y="453852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7" name="心形 55"/>
            <p:cNvSpPr/>
            <p:nvPr/>
          </p:nvSpPr>
          <p:spPr>
            <a:xfrm>
              <a:off x="748080" y="4664520"/>
              <a:ext cx="256680" cy="2239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88" name="组合 528"/>
          <p:cNvGrpSpPr/>
          <p:nvPr/>
        </p:nvGrpSpPr>
        <p:grpSpPr>
          <a:xfrm>
            <a:off x="614520" y="5060880"/>
            <a:ext cx="574920" cy="574920"/>
            <a:chOff x="614520" y="5060880"/>
            <a:chExt cx="574920" cy="574920"/>
          </a:xfrm>
        </p:grpSpPr>
        <p:sp>
          <p:nvSpPr>
            <p:cNvPr id="789" name="椭圆 529"/>
            <p:cNvSpPr/>
            <p:nvPr/>
          </p:nvSpPr>
          <p:spPr>
            <a:xfrm>
              <a:off x="638280" y="51372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90" name="图片 530" descr=""/>
            <p:cNvPicPr/>
            <p:nvPr/>
          </p:nvPicPr>
          <p:blipFill>
            <a:blip r:embed="rId23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40000" contrast="40000"/>
                      </a14:imgEffect>
                    </a14:imgLayer>
                  </a14:imgProps>
                </a:ext>
              </a:extLst>
            </a:blip>
            <a:stretch/>
          </p:blipFill>
          <p:spPr>
            <a:xfrm rot="2662800">
              <a:off x="698760" y="51447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1" name="组合 531"/>
          <p:cNvGrpSpPr/>
          <p:nvPr/>
        </p:nvGrpSpPr>
        <p:grpSpPr>
          <a:xfrm>
            <a:off x="1256760" y="5137200"/>
            <a:ext cx="475920" cy="475920"/>
            <a:chOff x="1256760" y="5137200"/>
            <a:chExt cx="475920" cy="475920"/>
          </a:xfrm>
        </p:grpSpPr>
        <p:sp>
          <p:nvSpPr>
            <p:cNvPr id="792" name="椭圆 532"/>
            <p:cNvSpPr/>
            <p:nvPr/>
          </p:nvSpPr>
          <p:spPr>
            <a:xfrm>
              <a:off x="1256760" y="51372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93" name="组合 533"/>
            <p:cNvGrpSpPr/>
            <p:nvPr/>
          </p:nvGrpSpPr>
          <p:grpSpPr>
            <a:xfrm>
              <a:off x="1432440" y="5281560"/>
              <a:ext cx="124560" cy="187560"/>
              <a:chOff x="1432440" y="5281560"/>
              <a:chExt cx="124560" cy="187560"/>
            </a:xfrm>
          </p:grpSpPr>
          <p:cxnSp>
            <p:nvCxnSpPr>
              <p:cNvPr id="794" name="直接连接符 534"/>
              <p:cNvCxnSpPr/>
              <p:nvPr/>
            </p:nvCxnSpPr>
            <p:spPr>
              <a:xfrm flipH="1">
                <a:off x="1432440" y="5281560"/>
                <a:ext cx="12492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  <p:cxnSp>
            <p:nvCxnSpPr>
              <p:cNvPr id="795" name="直接连接符 535"/>
              <p:cNvCxnSpPr/>
              <p:nvPr/>
            </p:nvCxnSpPr>
            <p:spPr>
              <a:xfrm>
                <a:off x="1432440" y="5379840"/>
                <a:ext cx="12492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796" name="组合 536"/>
          <p:cNvGrpSpPr/>
          <p:nvPr/>
        </p:nvGrpSpPr>
        <p:grpSpPr>
          <a:xfrm>
            <a:off x="2493360" y="5137200"/>
            <a:ext cx="475920" cy="475920"/>
            <a:chOff x="2493360" y="5137200"/>
            <a:chExt cx="475920" cy="475920"/>
          </a:xfrm>
        </p:grpSpPr>
        <p:sp>
          <p:nvSpPr>
            <p:cNvPr id="797" name="椭圆 537"/>
            <p:cNvSpPr/>
            <p:nvPr/>
          </p:nvSpPr>
          <p:spPr>
            <a:xfrm>
              <a:off x="2493360" y="51372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98" name="组合 538"/>
            <p:cNvGrpSpPr/>
            <p:nvPr/>
          </p:nvGrpSpPr>
          <p:grpSpPr>
            <a:xfrm>
              <a:off x="2632680" y="5258160"/>
              <a:ext cx="197280" cy="234360"/>
              <a:chOff x="2632680" y="5258160"/>
              <a:chExt cx="197280" cy="234360"/>
            </a:xfrm>
          </p:grpSpPr>
          <p:sp>
            <p:nvSpPr>
              <p:cNvPr id="799" name="减号 539"/>
              <p:cNvSpPr/>
              <p:nvPr/>
            </p:nvSpPr>
            <p:spPr>
              <a:xfrm>
                <a:off x="2632680" y="5258160"/>
                <a:ext cx="197280" cy="41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" name="矩形 3087"/>
              <p:cNvSpPr/>
              <p:nvPr/>
            </p:nvSpPr>
            <p:spPr>
              <a:xfrm>
                <a:off x="2658600" y="5311800"/>
                <a:ext cx="145440" cy="180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801" name="组合 541"/>
          <p:cNvGrpSpPr/>
          <p:nvPr/>
        </p:nvGrpSpPr>
        <p:grpSpPr>
          <a:xfrm>
            <a:off x="1874880" y="5137200"/>
            <a:ext cx="475920" cy="475920"/>
            <a:chOff x="1874880" y="5137200"/>
            <a:chExt cx="475920" cy="475920"/>
          </a:xfrm>
        </p:grpSpPr>
        <p:sp>
          <p:nvSpPr>
            <p:cNvPr id="802" name="椭圆 542"/>
            <p:cNvSpPr/>
            <p:nvPr/>
          </p:nvSpPr>
          <p:spPr>
            <a:xfrm>
              <a:off x="1874880" y="51372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803" name="图片 543" descr=""/>
            <p:cNvPicPr/>
            <p:nvPr/>
          </p:nvPicPr>
          <p:blipFill>
            <a:blip r:embed="rId24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2022840" y="521460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组合 544"/>
          <p:cNvGrpSpPr/>
          <p:nvPr/>
        </p:nvGrpSpPr>
        <p:grpSpPr>
          <a:xfrm>
            <a:off x="1259640" y="4538520"/>
            <a:ext cx="475920" cy="475920"/>
            <a:chOff x="1259640" y="4538520"/>
            <a:chExt cx="475920" cy="475920"/>
          </a:xfrm>
        </p:grpSpPr>
        <p:sp>
          <p:nvSpPr>
            <p:cNvPr id="805" name="椭圆 545"/>
            <p:cNvSpPr/>
            <p:nvPr/>
          </p:nvSpPr>
          <p:spPr>
            <a:xfrm>
              <a:off x="1259640" y="453852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806" name="图片 546" descr=""/>
            <p:cNvPicPr/>
            <p:nvPr/>
          </p:nvPicPr>
          <p:blipFill>
            <a:blip r:embed="rId25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1377000" y="465624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文本框 547"/>
          <p:cNvSpPr/>
          <p:nvPr/>
        </p:nvSpPr>
        <p:spPr>
          <a:xfrm>
            <a:off x="628560" y="404640"/>
            <a:ext cx="1995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548"/>
          <p:cNvSpPr/>
          <p:nvPr/>
        </p:nvSpPr>
        <p:spPr>
          <a:xfrm>
            <a:off x="628560" y="975600"/>
            <a:ext cx="165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组合 43"/>
          <p:cNvGrpSpPr/>
          <p:nvPr/>
        </p:nvGrpSpPr>
        <p:grpSpPr>
          <a:xfrm>
            <a:off x="1643760" y="2460600"/>
            <a:ext cx="318960" cy="318960"/>
            <a:chOff x="1643760" y="2460600"/>
            <a:chExt cx="318960" cy="318960"/>
          </a:xfrm>
        </p:grpSpPr>
        <p:sp>
          <p:nvSpPr>
            <p:cNvPr id="414" name="Oval 5"/>
            <p:cNvSpPr/>
            <p:nvPr/>
          </p:nvSpPr>
          <p:spPr>
            <a:xfrm rot="2804400">
              <a:off x="169056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6"/>
            <p:cNvSpPr/>
            <p:nvPr/>
          </p:nvSpPr>
          <p:spPr>
            <a:xfrm rot="2804400">
              <a:off x="171432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2"/>
          <p:cNvGrpSpPr/>
          <p:nvPr/>
        </p:nvGrpSpPr>
        <p:grpSpPr>
          <a:xfrm>
            <a:off x="1643760" y="2460600"/>
            <a:ext cx="318960" cy="318960"/>
            <a:chOff x="1643760" y="2460600"/>
            <a:chExt cx="318960" cy="318960"/>
          </a:xfrm>
        </p:grpSpPr>
        <p:sp>
          <p:nvSpPr>
            <p:cNvPr id="417" name="Oval 5"/>
            <p:cNvSpPr/>
            <p:nvPr/>
          </p:nvSpPr>
          <p:spPr>
            <a:xfrm rot="2804400">
              <a:off x="169056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 rot="2804400">
              <a:off x="171432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8"/>
          <p:cNvGrpSpPr/>
          <p:nvPr/>
        </p:nvGrpSpPr>
        <p:grpSpPr>
          <a:xfrm>
            <a:off x="6573240" y="2460600"/>
            <a:ext cx="318960" cy="318960"/>
            <a:chOff x="6573240" y="2460600"/>
            <a:chExt cx="318960" cy="318960"/>
          </a:xfrm>
        </p:grpSpPr>
        <p:sp>
          <p:nvSpPr>
            <p:cNvPr id="420" name="Oval 5"/>
            <p:cNvSpPr/>
            <p:nvPr/>
          </p:nvSpPr>
          <p:spPr>
            <a:xfrm rot="2804400">
              <a:off x="662004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6"/>
            <p:cNvSpPr/>
            <p:nvPr/>
          </p:nvSpPr>
          <p:spPr>
            <a:xfrm rot="2804400">
              <a:off x="664344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文本框 11"/>
          <p:cNvSpPr/>
          <p:nvPr/>
        </p:nvSpPr>
        <p:spPr>
          <a:xfrm>
            <a:off x="628560" y="390600"/>
            <a:ext cx="2257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3"/>
          <p:cNvSpPr/>
          <p:nvPr/>
        </p:nvSpPr>
        <p:spPr>
          <a:xfrm>
            <a:off x="628560" y="96588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4"/>
          <p:cNvSpPr/>
          <p:nvPr/>
        </p:nvSpPr>
        <p:spPr>
          <a:xfrm>
            <a:off x="1862280" y="2460600"/>
            <a:ext cx="1023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5"/>
          <p:cNvSpPr/>
          <p:nvPr/>
        </p:nvSpPr>
        <p:spPr>
          <a:xfrm>
            <a:off x="6799680" y="2450880"/>
            <a:ext cx="1229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2"/>
          <p:cNvSpPr/>
          <p:nvPr/>
        </p:nvSpPr>
        <p:spPr>
          <a:xfrm>
            <a:off x="628560" y="390600"/>
            <a:ext cx="2489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3"/>
          <p:cNvSpPr/>
          <p:nvPr/>
        </p:nvSpPr>
        <p:spPr>
          <a:xfrm>
            <a:off x="628560" y="96588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4"/>
          <p:cNvGrpSpPr/>
          <p:nvPr/>
        </p:nvGrpSpPr>
        <p:grpSpPr>
          <a:xfrm>
            <a:off x="1424160" y="2381400"/>
            <a:ext cx="475920" cy="475920"/>
            <a:chOff x="1424160" y="2381400"/>
            <a:chExt cx="475920" cy="475920"/>
          </a:xfrm>
        </p:grpSpPr>
        <p:sp>
          <p:nvSpPr>
            <p:cNvPr id="429" name="椭圆 5"/>
            <p:cNvSpPr/>
            <p:nvPr/>
          </p:nvSpPr>
          <p:spPr>
            <a:xfrm>
              <a:off x="1424160" y="238140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0" name="任意多边形 6"/>
            <p:cNvSpPr/>
            <p:nvPr/>
          </p:nvSpPr>
          <p:spPr>
            <a:xfrm rot="192600">
              <a:off x="1536840" y="252432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31" name="组合 7"/>
          <p:cNvGrpSpPr/>
          <p:nvPr/>
        </p:nvGrpSpPr>
        <p:grpSpPr>
          <a:xfrm>
            <a:off x="1409040" y="5009400"/>
            <a:ext cx="475920" cy="475920"/>
            <a:chOff x="1409040" y="5009400"/>
            <a:chExt cx="475920" cy="475920"/>
          </a:xfrm>
        </p:grpSpPr>
        <p:sp>
          <p:nvSpPr>
            <p:cNvPr id="432" name="椭圆 8"/>
            <p:cNvSpPr/>
            <p:nvPr/>
          </p:nvSpPr>
          <p:spPr>
            <a:xfrm>
              <a:off x="1409040" y="500940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33" name="图片 9" descr=""/>
            <p:cNvPicPr/>
            <p:nvPr/>
          </p:nvPicPr>
          <p:blipFill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1557000" y="508680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组合 13"/>
          <p:cNvGrpSpPr/>
          <p:nvPr/>
        </p:nvGrpSpPr>
        <p:grpSpPr>
          <a:xfrm>
            <a:off x="6389640" y="2383920"/>
            <a:ext cx="475920" cy="475920"/>
            <a:chOff x="6389640" y="2383920"/>
            <a:chExt cx="475920" cy="475920"/>
          </a:xfrm>
        </p:grpSpPr>
        <p:sp>
          <p:nvSpPr>
            <p:cNvPr id="435" name="椭圆 14"/>
            <p:cNvSpPr/>
            <p:nvPr/>
          </p:nvSpPr>
          <p:spPr>
            <a:xfrm>
              <a:off x="6389640" y="238392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36" name="图片 15" descr=""/>
            <p:cNvPicPr/>
            <p:nvPr/>
          </p:nvPicPr>
          <p:blipFill>
            <a:blip r:embed="rId3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6507000" y="250164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组合 16"/>
          <p:cNvGrpSpPr/>
          <p:nvPr/>
        </p:nvGrpSpPr>
        <p:grpSpPr>
          <a:xfrm>
            <a:off x="6401880" y="4975560"/>
            <a:ext cx="475920" cy="475920"/>
            <a:chOff x="6401880" y="4975560"/>
            <a:chExt cx="475920" cy="475920"/>
          </a:xfrm>
        </p:grpSpPr>
        <p:sp>
          <p:nvSpPr>
            <p:cNvPr id="438" name="椭圆 17"/>
            <p:cNvSpPr/>
            <p:nvPr/>
          </p:nvSpPr>
          <p:spPr>
            <a:xfrm>
              <a:off x="6401880" y="497556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9" name="任意多边形 18"/>
            <p:cNvSpPr/>
            <p:nvPr/>
          </p:nvSpPr>
          <p:spPr>
            <a:xfrm rot="8001600">
              <a:off x="6545520" y="510624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40" name="组合 19"/>
          <p:cNvGrpSpPr/>
          <p:nvPr/>
        </p:nvGrpSpPr>
        <p:grpSpPr>
          <a:xfrm>
            <a:off x="1416240" y="3741120"/>
            <a:ext cx="475920" cy="475920"/>
            <a:chOff x="1416240" y="3741120"/>
            <a:chExt cx="475920" cy="475920"/>
          </a:xfrm>
        </p:grpSpPr>
        <p:sp>
          <p:nvSpPr>
            <p:cNvPr id="441" name="椭圆 20"/>
            <p:cNvSpPr/>
            <p:nvPr/>
          </p:nvSpPr>
          <p:spPr>
            <a:xfrm>
              <a:off x="1416240" y="374112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2" name="任意多边形 21"/>
            <p:cNvSpPr/>
            <p:nvPr/>
          </p:nvSpPr>
          <p:spPr>
            <a:xfrm>
              <a:off x="1528200" y="386352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43" name="组合 22"/>
          <p:cNvGrpSpPr/>
          <p:nvPr/>
        </p:nvGrpSpPr>
        <p:grpSpPr>
          <a:xfrm>
            <a:off x="6404040" y="3730680"/>
            <a:ext cx="475920" cy="475920"/>
            <a:chOff x="6404040" y="3730680"/>
            <a:chExt cx="475920" cy="475920"/>
          </a:xfrm>
        </p:grpSpPr>
        <p:sp>
          <p:nvSpPr>
            <p:cNvPr id="444" name="椭圆 23"/>
            <p:cNvSpPr/>
            <p:nvPr/>
          </p:nvSpPr>
          <p:spPr>
            <a:xfrm>
              <a:off x="6404040" y="373068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45" name="图片 24" descr=""/>
            <p:cNvPicPr/>
            <p:nvPr/>
          </p:nvPicPr>
          <p:blipFill>
            <a:blip r:embed="rId5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6504480" y="381204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6" name="文本框 25"/>
          <p:cNvSpPr/>
          <p:nvPr/>
        </p:nvSpPr>
        <p:spPr>
          <a:xfrm>
            <a:off x="1885320" y="246420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6"/>
          <p:cNvSpPr/>
          <p:nvPr/>
        </p:nvSpPr>
        <p:spPr>
          <a:xfrm>
            <a:off x="1885320" y="379872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7"/>
          <p:cNvSpPr/>
          <p:nvPr/>
        </p:nvSpPr>
        <p:spPr>
          <a:xfrm>
            <a:off x="1885320" y="506700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8"/>
          <p:cNvSpPr/>
          <p:nvPr/>
        </p:nvSpPr>
        <p:spPr>
          <a:xfrm>
            <a:off x="6853320" y="246420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9"/>
          <p:cNvSpPr/>
          <p:nvPr/>
        </p:nvSpPr>
        <p:spPr>
          <a:xfrm>
            <a:off x="6853320" y="378972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0"/>
          <p:cNvSpPr/>
          <p:nvPr/>
        </p:nvSpPr>
        <p:spPr>
          <a:xfrm>
            <a:off x="6853320" y="504432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2"/>
          <p:cNvGrpSpPr/>
          <p:nvPr/>
        </p:nvGrpSpPr>
        <p:grpSpPr>
          <a:xfrm>
            <a:off x="1643760" y="2460600"/>
            <a:ext cx="318960" cy="318960"/>
            <a:chOff x="1643760" y="2460600"/>
            <a:chExt cx="318960" cy="318960"/>
          </a:xfrm>
        </p:grpSpPr>
        <p:sp>
          <p:nvSpPr>
            <p:cNvPr id="453" name="Oval 5"/>
            <p:cNvSpPr/>
            <p:nvPr/>
          </p:nvSpPr>
          <p:spPr>
            <a:xfrm rot="2804400">
              <a:off x="169056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2804400">
              <a:off x="171432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5"/>
          <p:cNvGrpSpPr/>
          <p:nvPr/>
        </p:nvGrpSpPr>
        <p:grpSpPr>
          <a:xfrm>
            <a:off x="6568920" y="2460600"/>
            <a:ext cx="318960" cy="318960"/>
            <a:chOff x="6568920" y="2460600"/>
            <a:chExt cx="318960" cy="318960"/>
          </a:xfrm>
        </p:grpSpPr>
        <p:sp>
          <p:nvSpPr>
            <p:cNvPr id="456" name="Oval 5"/>
            <p:cNvSpPr/>
            <p:nvPr/>
          </p:nvSpPr>
          <p:spPr>
            <a:xfrm rot="2804400">
              <a:off x="661572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6"/>
            <p:cNvSpPr/>
            <p:nvPr/>
          </p:nvSpPr>
          <p:spPr>
            <a:xfrm rot="2804400">
              <a:off x="663948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8"/>
          <p:cNvSpPr/>
          <p:nvPr/>
        </p:nvSpPr>
        <p:spPr>
          <a:xfrm>
            <a:off x="1862280" y="2460600"/>
            <a:ext cx="1023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10"/>
          <p:cNvSpPr/>
          <p:nvPr/>
        </p:nvSpPr>
        <p:spPr>
          <a:xfrm>
            <a:off x="1890720" y="3195000"/>
            <a:ext cx="60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12"/>
          <p:cNvSpPr/>
          <p:nvPr/>
        </p:nvSpPr>
        <p:spPr>
          <a:xfrm>
            <a:off x="1890720" y="3953520"/>
            <a:ext cx="60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13"/>
          <p:cNvSpPr/>
          <p:nvPr/>
        </p:nvSpPr>
        <p:spPr>
          <a:xfrm>
            <a:off x="1881360" y="3507840"/>
            <a:ext cx="6854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15"/>
          <p:cNvSpPr/>
          <p:nvPr/>
        </p:nvSpPr>
        <p:spPr>
          <a:xfrm>
            <a:off x="628560" y="399960"/>
            <a:ext cx="1937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6"/>
          <p:cNvSpPr/>
          <p:nvPr/>
        </p:nvSpPr>
        <p:spPr>
          <a:xfrm>
            <a:off x="628560" y="975240"/>
            <a:ext cx="101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17"/>
          <p:cNvSpPr/>
          <p:nvPr/>
        </p:nvSpPr>
        <p:spPr>
          <a:xfrm>
            <a:off x="1881360" y="2758680"/>
            <a:ext cx="9093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20"/>
          <p:cNvSpPr/>
          <p:nvPr/>
        </p:nvSpPr>
        <p:spPr>
          <a:xfrm>
            <a:off x="8082000" y="3722760"/>
            <a:ext cx="1323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细圆简体"/>
                <a:ea typeface="方正细圆简体"/>
              </a:rPr>
              <a:t>Im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628560" y="63824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组合 2"/>
          <p:cNvGrpSpPr/>
          <p:nvPr/>
        </p:nvGrpSpPr>
        <p:grpSpPr>
          <a:xfrm>
            <a:off x="1643760" y="2460600"/>
            <a:ext cx="318960" cy="318960"/>
            <a:chOff x="1643760" y="2460600"/>
            <a:chExt cx="318960" cy="318960"/>
          </a:xfrm>
        </p:grpSpPr>
        <p:sp>
          <p:nvSpPr>
            <p:cNvPr id="468" name="Oval 5"/>
            <p:cNvSpPr/>
            <p:nvPr/>
          </p:nvSpPr>
          <p:spPr>
            <a:xfrm rot="2804400">
              <a:off x="169056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6"/>
            <p:cNvSpPr/>
            <p:nvPr/>
          </p:nvSpPr>
          <p:spPr>
            <a:xfrm rot="2804400">
              <a:off x="171432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组合 5"/>
          <p:cNvGrpSpPr/>
          <p:nvPr/>
        </p:nvGrpSpPr>
        <p:grpSpPr>
          <a:xfrm>
            <a:off x="6568920" y="2460600"/>
            <a:ext cx="318960" cy="318960"/>
            <a:chOff x="6568920" y="2460600"/>
            <a:chExt cx="318960" cy="318960"/>
          </a:xfrm>
        </p:grpSpPr>
        <p:sp>
          <p:nvSpPr>
            <p:cNvPr id="471" name="Oval 5"/>
            <p:cNvSpPr/>
            <p:nvPr/>
          </p:nvSpPr>
          <p:spPr>
            <a:xfrm rot="2804400">
              <a:off x="661572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 rot="2804400">
              <a:off x="663948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文本框 8"/>
          <p:cNvSpPr/>
          <p:nvPr/>
        </p:nvSpPr>
        <p:spPr>
          <a:xfrm>
            <a:off x="1862280" y="2460600"/>
            <a:ext cx="1023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10"/>
          <p:cNvSpPr/>
          <p:nvPr/>
        </p:nvSpPr>
        <p:spPr>
          <a:xfrm>
            <a:off x="1890720" y="3195000"/>
            <a:ext cx="60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12"/>
          <p:cNvSpPr/>
          <p:nvPr/>
        </p:nvSpPr>
        <p:spPr>
          <a:xfrm>
            <a:off x="1890720" y="3953520"/>
            <a:ext cx="60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13"/>
          <p:cNvSpPr/>
          <p:nvPr/>
        </p:nvSpPr>
        <p:spPr>
          <a:xfrm>
            <a:off x="1881360" y="3507840"/>
            <a:ext cx="6854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15"/>
          <p:cNvSpPr/>
          <p:nvPr/>
        </p:nvSpPr>
        <p:spPr>
          <a:xfrm>
            <a:off x="628560" y="399960"/>
            <a:ext cx="1937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16"/>
          <p:cNvSpPr/>
          <p:nvPr/>
        </p:nvSpPr>
        <p:spPr>
          <a:xfrm>
            <a:off x="628560" y="975240"/>
            <a:ext cx="101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17"/>
          <p:cNvSpPr/>
          <p:nvPr/>
        </p:nvSpPr>
        <p:spPr>
          <a:xfrm>
            <a:off x="1881360" y="2758680"/>
            <a:ext cx="9093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组合 2"/>
          <p:cNvGrpSpPr/>
          <p:nvPr/>
        </p:nvGrpSpPr>
        <p:grpSpPr>
          <a:xfrm>
            <a:off x="1643760" y="2460600"/>
            <a:ext cx="318960" cy="318960"/>
            <a:chOff x="1643760" y="2460600"/>
            <a:chExt cx="318960" cy="318960"/>
          </a:xfrm>
        </p:grpSpPr>
        <p:sp>
          <p:nvSpPr>
            <p:cNvPr id="481" name="Oval 5"/>
            <p:cNvSpPr/>
            <p:nvPr/>
          </p:nvSpPr>
          <p:spPr>
            <a:xfrm rot="2804400">
              <a:off x="169056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6"/>
            <p:cNvSpPr/>
            <p:nvPr/>
          </p:nvSpPr>
          <p:spPr>
            <a:xfrm rot="2804400">
              <a:off x="171432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3" name="组合 5"/>
          <p:cNvGrpSpPr/>
          <p:nvPr/>
        </p:nvGrpSpPr>
        <p:grpSpPr>
          <a:xfrm>
            <a:off x="6568920" y="2460600"/>
            <a:ext cx="318960" cy="318960"/>
            <a:chOff x="6568920" y="2460600"/>
            <a:chExt cx="318960" cy="318960"/>
          </a:xfrm>
        </p:grpSpPr>
        <p:sp>
          <p:nvSpPr>
            <p:cNvPr id="484" name="Oval 5"/>
            <p:cNvSpPr/>
            <p:nvPr/>
          </p:nvSpPr>
          <p:spPr>
            <a:xfrm rot="2804400">
              <a:off x="661572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6"/>
            <p:cNvSpPr/>
            <p:nvPr/>
          </p:nvSpPr>
          <p:spPr>
            <a:xfrm rot="2804400">
              <a:off x="663948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" name="文本框 8"/>
          <p:cNvSpPr/>
          <p:nvPr/>
        </p:nvSpPr>
        <p:spPr>
          <a:xfrm>
            <a:off x="1862280" y="2460600"/>
            <a:ext cx="1023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0"/>
          <p:cNvSpPr/>
          <p:nvPr/>
        </p:nvSpPr>
        <p:spPr>
          <a:xfrm>
            <a:off x="1890720" y="3195000"/>
            <a:ext cx="60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12"/>
          <p:cNvSpPr/>
          <p:nvPr/>
        </p:nvSpPr>
        <p:spPr>
          <a:xfrm>
            <a:off x="1890720" y="3953520"/>
            <a:ext cx="60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3"/>
          <p:cNvSpPr/>
          <p:nvPr/>
        </p:nvSpPr>
        <p:spPr>
          <a:xfrm>
            <a:off x="1881360" y="3507840"/>
            <a:ext cx="6854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15"/>
          <p:cNvSpPr/>
          <p:nvPr/>
        </p:nvSpPr>
        <p:spPr>
          <a:xfrm>
            <a:off x="628560" y="399960"/>
            <a:ext cx="1937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6"/>
          <p:cNvSpPr/>
          <p:nvPr/>
        </p:nvSpPr>
        <p:spPr>
          <a:xfrm>
            <a:off x="628560" y="975240"/>
            <a:ext cx="101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7"/>
          <p:cNvSpPr/>
          <p:nvPr/>
        </p:nvSpPr>
        <p:spPr>
          <a:xfrm>
            <a:off x="1881360" y="2758680"/>
            <a:ext cx="9093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文本框 2"/>
          <p:cNvSpPr/>
          <p:nvPr/>
        </p:nvSpPr>
        <p:spPr>
          <a:xfrm>
            <a:off x="628560" y="404640"/>
            <a:ext cx="101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3"/>
          <p:cNvSpPr/>
          <p:nvPr/>
        </p:nvSpPr>
        <p:spPr>
          <a:xfrm>
            <a:off x="628560" y="975600"/>
            <a:ext cx="101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图表 8"/>
          <p:cNvGraphicFramePr/>
          <p:nvPr/>
        </p:nvGraphicFramePr>
        <p:xfrm>
          <a:off x="-178560" y="1392480"/>
          <a:ext cx="7480080" cy="4912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6" name="图表 32"/>
          <p:cNvGraphicFramePr/>
          <p:nvPr/>
        </p:nvGraphicFramePr>
        <p:xfrm>
          <a:off x="600120" y="1638360"/>
          <a:ext cx="5686200" cy="4114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97" name="文本框 33"/>
          <p:cNvSpPr/>
          <p:nvPr/>
        </p:nvSpPr>
        <p:spPr>
          <a:xfrm>
            <a:off x="628560" y="404640"/>
            <a:ext cx="101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34"/>
          <p:cNvSpPr/>
          <p:nvPr/>
        </p:nvSpPr>
        <p:spPr>
          <a:xfrm>
            <a:off x="628560" y="975600"/>
            <a:ext cx="101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组合 36"/>
          <p:cNvGrpSpPr/>
          <p:nvPr/>
        </p:nvGrpSpPr>
        <p:grpSpPr>
          <a:xfrm>
            <a:off x="6607080" y="2935080"/>
            <a:ext cx="318960" cy="318960"/>
            <a:chOff x="6607080" y="2935080"/>
            <a:chExt cx="318960" cy="318960"/>
          </a:xfrm>
        </p:grpSpPr>
        <p:sp>
          <p:nvSpPr>
            <p:cNvPr id="500" name="Oval 5"/>
            <p:cNvSpPr/>
            <p:nvPr/>
          </p:nvSpPr>
          <p:spPr>
            <a:xfrm rot="2804400">
              <a:off x="6653880" y="298152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6"/>
            <p:cNvSpPr/>
            <p:nvPr/>
          </p:nvSpPr>
          <p:spPr>
            <a:xfrm rot="2804400">
              <a:off x="6677280" y="302184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2" name="文本框 39"/>
          <p:cNvSpPr/>
          <p:nvPr/>
        </p:nvSpPr>
        <p:spPr>
          <a:xfrm>
            <a:off x="6850800" y="2925360"/>
            <a:ext cx="130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  <Words>208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16Z</dcterms:created>
  <dc:creator>kcc</dc:creator>
  <dc:description/>
  <dc:language>en-US</dc:language>
  <cp:lastModifiedBy>王玉清</cp:lastModifiedBy>
  <dcterms:modified xsi:type="dcterms:W3CDTF">2016-02-24T02:42:28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3</vt:r8>
  </property>
</Properties>
</file>