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dt" idx="6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ftr" idx="6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 type="sldNum" idx="6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3B2-32ED-45DB-8EB1-78A8ABA2A3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7FD4-C3FE-42F5-B1EC-E4197C41FF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2424-797E-4F0A-8B98-B023033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5D78-2285-43F5-8D39-BB0A78F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3A41-2661-4006-A620-6084608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50BD-2786-4C33-90E0-1666E48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72F1-5E33-493A-9F9C-213FB01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9334-E566-4883-B072-C640D6E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EF63-6BE2-4573-B965-56565393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4E7F-10AE-4510-A8A4-C0D7DC2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6F96-FA9E-4145-8274-C2C11C98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7027-029A-4AE4-A32C-59EEE593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C64D-6F19-4C4B-855B-0ED674F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E7BF7-8360-4D5A-81A8-C6670C8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E980-EC4F-4608-B1D2-CD3AAF71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D8E4-4AB1-4874-8C4D-0CFC12C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FF65-A38B-43EC-9022-4B76736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E9FB-0D36-4553-9DE9-9E27B03F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A879-2E5F-429A-BB96-F2F0CF2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A4F3-42E2-41AD-A507-0A91722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E47F-4A47-4843-8B99-315C387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1CBB-3AD2-44F0-889B-9517F2B2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5613-B7B8-4EE0-96CD-F859E977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2EE1-2084-4671-AC99-8298306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F34E-E2E8-4200-8A8A-C0E1414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28FE1-4B61-4B2D-93B2-AE3DDC5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3806-B7A9-47F9-A52B-02E36B7C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73B22-DD76-497A-AA56-9A7E12D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AA19-7D24-4C56-85F1-8AAC753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ADD6-F08D-4F27-88F9-E4E9DBE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66EE-5535-4A87-A038-8485AE1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E4D9-0829-4FB0-99DC-C15684A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6B57-44B0-49BA-B7B1-9F55023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3608-CC9A-432C-99A7-A0E6CA32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E777E-71E5-41CF-98C4-1FE1B757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E7C8-549F-4B92-AE6F-C32EA956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A8D4-230B-45FF-AC93-777690DA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15846-C018-4650-85E5-8FB9F5B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8795-7424-4FBA-8A34-07D4134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838E-7FC3-423F-9368-3099EFC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E8C7-B95B-4746-8F02-A5559E5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B893-0A49-4011-B69F-04F0E0DD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20D9-FA02-417F-B0D1-5751A35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433E-EC80-479D-BD64-A734818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50E9-FF4E-4804-B30F-40994FF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FD2B-2488-4431-B711-094B0C91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E8E6-F8D5-4FF1-95D3-758A45C2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7AF31-2379-4F9C-94C9-2CF1F9E2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08BFE-3B10-43D8-AEAE-12D5DBF9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8FA16-8F2B-47D4-9BDA-F86BF14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FE218-03EB-4E49-8C5C-DE5D8318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3DE47-2B86-471C-BB7C-13865AED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9F261-7AAD-4BCD-9D7C-B0F2D22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313EC-ABDC-4D1A-AE14-C7B718B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A5723-26B2-47BD-93B7-95579BD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D94B9-14D4-4108-818F-E64AD1B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2B05F-C136-4C8F-A1DA-87933FA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E0FAD-FD86-490E-9C6F-5276AD66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A8C3-5F68-4604-A66E-DE6FFDD5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4E525-54F6-4B67-99EC-E4B29F8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271CA-9988-4A21-A05B-4DE5B1BA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1DFA2-C79E-4987-ADD2-51431BD7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C006A-5C5F-480F-9FED-66F812E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8AE6-2542-4EE9-B2D9-51EC249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36C6F-5474-4883-80CD-51712A1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7C82-8106-44DB-BE06-5B451C0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2A0C5-0577-4E15-8472-693B739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F807-2476-4AF5-8963-92ACB74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3DB30-8E80-42F3-B574-B0797CE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E4D35-6E95-420A-930F-3D0A99BB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616C3-17D6-4813-87BB-5D0BAE35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E269-48D9-4F28-B595-403D118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EBE3F-B082-43D4-A9DA-43AEC76F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F9FB-7860-415A-B9D1-E30C240C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5522-1AD4-4136-8F44-C0ADEE3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1D216-7E79-4126-96A4-BC6C4D5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E6AE8-1596-4299-BD50-153CEB3C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C162-F485-4468-A6E3-46D00E6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F2D6-4E4B-4C71-94F2-E77271D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CADA2-6F93-46F7-8927-66D025C3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52192-BFDA-4B46-8D15-2036A149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1AA56-4FFC-4D34-9A85-D13D5FD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172A0-BBA5-4168-B123-68BBFF3F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326BD-C2E7-457C-9595-0DC48F67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F9702-6C95-4C84-B2BC-32F67C03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E1F44-93DA-4882-9A82-526205E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D8479-C71F-441F-8FFB-8E7CE389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E8881-71FC-4D68-A8DE-2D6EDC7C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F1FFB-F6DE-4156-AA32-00FF8BAB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6AB68-9CE6-4701-B993-B1B73D5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6B17F-F2C1-4A1C-99F9-D081CE3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12DC8-875A-4082-AA84-00BCCE1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1D8D9-5E24-4B33-A7B3-7C4FD7F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25185-ABD5-4FFE-A0B4-4A6C4D1E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64B95-824C-4619-A387-FFD65376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9607E-D9CD-41A5-B4AE-558F72D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9F32D-CE7C-476B-80D6-E40C8A11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028D3-934B-4D58-B3F0-7F95DB22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17CB7-8E96-462B-BE24-F2749135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26123-56D6-4C89-8587-754C331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75FAB-EF8F-4C02-AF27-1B35DA70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E8A89-015A-4410-BAA8-6D99584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C21CE-8054-4896-A50B-91B1121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7BB22-E2BB-4460-B6BF-2F612BE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8169C-24D7-4E22-B9CC-D366BD23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EA184-C6CC-4417-AAD9-3265DF49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4DBAA-CB58-4035-B4FA-E2F42C84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7A2F3-AEC5-4A65-A44A-9763E25B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0AA11-917F-4CBA-95D5-DD1A85A2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5674E-AA8A-40D2-B85D-D175348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0429A-6C89-4739-B29A-F05945C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E256F-AC44-47BA-9030-556F5F5B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93727-A42E-4B3E-9A6D-4F5D0584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40113-9CE2-4D6E-95A1-1141256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25AF0-87B1-488D-9D2D-1A9F312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A9CD1-A129-47FF-BEBD-7C3A04E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61974-CEB8-4D61-B02F-095D8C7D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42748-FB03-46C1-8EF8-183B47E3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778B3-A415-4F6F-9EBB-322D5BC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81B68-51EA-4A81-BA97-7727F57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9BD03-08E2-40FB-8123-D4106C6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8BE26-E0D4-4C15-9960-3E98206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7CB9E-EA93-46E2-8069-6F15B04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683FB-0466-4524-817F-CF3D4C7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CA2DC-32C5-4A7E-897A-0203EC2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BA85F-3193-4E57-842A-428C909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3071F-0355-40A2-9EBC-FD117BD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76EDB-D214-498E-9064-B439855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3F0F3-148C-4611-95B2-B9FA952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7AF5E-094E-4E78-B76F-22D297EA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05931-A6DF-447A-9E76-D24E413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672A9-B16B-4007-8CE5-ABB96C19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75312-1C29-4A0D-9DD3-7D751955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878C4-2F80-4E05-929C-BBD67E9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B5CE5-0727-4B2B-B45A-BD6D42B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78244-DCDD-4C77-B36B-ED9409FA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26356-F3C9-4E2F-BFD2-B8F88B34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B4A0C-F0F6-4197-BB56-399AB90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20453-ECA2-4881-B556-61469C4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52BD1-4587-475E-B365-318CA03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2832B-668F-4C98-8A92-D374F88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56134-B2AA-4705-AC68-CF3238C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5A31F-060C-4547-9E01-4E52F861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A7E5A-E1E2-4066-9DEF-4974B33B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3756A-0172-4600-8888-0FAB818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E88B0-03D0-4EA6-A043-1D0882C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D68FD-6A70-494B-9988-C8F0C65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9122A-1F2F-45F4-8F2D-F204E74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0F3DA-24A1-45A6-BCE4-CCFEA22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55389-8DD3-49F7-97AE-F6B53DC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E7DE1-E434-428F-BCB4-D600DE41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04984-E769-410D-B3D5-208974C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2063E-18B3-4ED5-854E-D841DEAB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78A2B-2C6D-4637-931A-53B3D818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31897-BA40-41FC-8CD1-013D821E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A4C6F-512D-492A-B923-8F306612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EA625-CFF7-4253-8CA0-DB2E29A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9298A-0AB0-4892-8F68-C262E1F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0730C-B0BE-4897-98E3-97EEADC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2AC641-0123-42AF-B3A2-11D9D2E7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7D916-A18B-4D64-8232-46C7A64A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1F489-9845-4F37-8DD9-A1C6544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5621D-B1A2-473F-A61B-A834A33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11C7A-5041-42F0-A6DD-E99416E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D4E5A-B1DC-48E6-BE76-5763F3F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A37E8-F67E-4758-A84A-8DAA445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79545-6706-4C45-933D-307DF01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9B179-5E2F-43EA-B8BE-4FFA79C1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5D974-DF1A-49E1-BA99-A84BFAB4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19B88-1E90-4B16-B224-ECF2576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E391D-41DD-4E5A-8ACB-17C25472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08073-58EE-4091-B8E2-D03002B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7DEDB-E563-488C-92E0-6FE1548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25EAB-3E89-437D-81E2-2AE80FA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1D816-2C2A-40EC-8F43-3FB750C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6F19E-4CD4-42B2-AE15-57B7682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8F00A-6FC2-4F3F-B58E-2100390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28B03-E0E3-4600-A282-DBB0DA55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A0A26-BDF2-42EF-9A07-0DEFAEC7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3AB1B-0C26-495C-9CE0-77A06380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A350F-4648-4052-805B-0758A94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849DB-9136-4BD2-8F27-565536F7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B1B8B-FF6D-4F3B-922A-5570CB4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9C9A6-78CE-4907-9646-66018AF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4BB44-5618-4875-8196-9624063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934FE-D65B-4DDD-8C28-5B6BDEA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4D304-055E-4A90-BD1D-DA0763E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89A93-F61F-47FC-BFDF-2C1364C9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442E8-7846-4F01-B0AF-6C7C515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BCCD5-27B5-4BB0-AAF4-7C9A2140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E0DC6-5806-459E-8CC0-44404E2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3E5BD-BAB5-48B3-9098-21CCE65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60585-9E50-4AEF-8060-D83E8BD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A6A01-7643-4F94-8EB9-A8C1B14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8C8F6-9FEB-4CF9-952F-FB78700F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2DDD4-A83C-4FE0-90A8-C36AAA1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5390E-7B37-46D9-AB8C-7B9FD108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5ADB7-9B59-4A84-B8D8-9E7340D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67510-D377-466F-8183-9C961C6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94810-4E4E-4E37-9718-FA222E3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712B1-783A-4649-8380-69317F98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F68743-0463-421A-9144-3388323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BB26D-AB5B-474A-9443-6393F057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BA7E6-A2B4-4C7B-AE5E-10AAA0DB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9C39C9-6D49-4BB7-8648-0D1A3478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247D2-BF29-4599-B442-377E890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10F16-A1B4-4864-8242-3400A09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9637A-1FF7-412C-B603-A367F614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172C14-A864-4D51-8F3B-16ED07D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6569D-E085-4ABE-9160-7FD72D0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0670A-0C0A-4EBC-A146-489EC7B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418F4C-1D3F-49D3-9520-78FA309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EF189-50B4-4E52-AC56-01384C33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F463F6-F7DF-4BC9-9637-C8211050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27375B-4959-4157-89B0-78B60952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C75-BA2B-435C-A1BF-677EE99E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DCE-6DF7-4B44-B989-EC4573B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FE9-7214-4097-B5F8-D434E5D1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B31-0DE2-48C5-A78F-29D38D99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9D6-F361-4282-B695-F880299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838-AF6B-4539-B068-5749E661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45F-4696-421C-8FFA-3227197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D2C-D4A9-43F2-9136-7C62EE7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CA0-70C6-4531-B507-0EF4F50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A24-6CAF-4CBA-91B1-F287246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0C8-8861-4043-9E4B-D78B8BBD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954-D9ED-4ADE-9AED-C1BDB3A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289D-2261-4327-82ED-064D2BEB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BD07-6EF9-4DB1-B9F2-16EC8EB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6576-AF5A-4F12-896B-E373958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F111-02BA-4578-A4D2-9857D09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F47-35AD-4268-B771-0EBAA818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F75-EC69-46F3-92E0-F775FB8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5ABC-7ED3-48EE-BE04-DBB94EC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BFF-8327-4B40-8085-A2A14BB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9056-A5A2-41BC-A344-79A0EDF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A1C-5344-46CC-84DB-29DE1C16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8E4-F7F1-4AF7-9768-5C14BEDA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8FA-47C3-47B9-883D-71984008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2444-4C64-4DA0-99A0-E077925A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04AC-EF48-463E-9782-E9F32FE5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5597-C30E-4664-8557-1CCF66FD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29A7-A777-4C23-AE5E-F9952BAD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0756-B565-4DFD-9BB9-31595142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2AB3-1D1F-4EA4-A027-21E3BA1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049C-4BE0-4E75-AE0C-2097152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0F98-0018-4C20-B3B5-3B93F04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2CB4-D3C1-4FD2-B3F0-EE1E0D91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578F-5453-42A7-8F16-B2E6281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CE92-F114-49F0-AE8C-61846946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B301-97AB-4A72-A0CE-9F8E6D28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F3AD-B035-4DAC-9178-F8C4A747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AD0C-0B31-4905-A99C-A9E24E7B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6F21-CEDE-4BB3-8BC8-B52D1E3E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97AD-F8A7-458E-95A7-BA5F7EF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87D8-0FBB-4CE9-8F7F-89146AC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F703-8B8E-424B-958D-17B0092D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DECA-EFBF-445A-98BC-70A495D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D36F-737B-41E2-AF22-3A64698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C269-FB80-4DCA-9F90-D587506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C634-ADD3-489D-90CC-0CB99F75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0B7C-CE8A-4F51-99D3-D8F326B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FC9F-E60A-4B36-809E-3EBC1B1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8522-5F87-487E-BA73-EB991AFD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793A7-47B4-4C83-8F56-6F953B4A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D3C8-225D-4AB1-9835-FD307CB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fd69b9d27aa40bf2a8ec9a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3FF-7B93-471D-8E46-7D6083CE280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68B-78CC-4715-922C-C5FD28496BF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99AF-19AE-4512-90E5-BFDA9AA4B7F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8D8-CDF4-4E02-BB5E-5F560D1CA0B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E6D-9E84-4549-8F75-A2AD4E97BAE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CAF2-C2C4-4F15-9AAD-50C8047D908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DC2-E94F-4005-B352-7C8B38CB247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75F-5A24-453B-84D8-7674CB26AE0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D2F-8637-4A95-B55D-21E30883BB1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24E-DFBB-40ED-8747-30CE259F630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圆角矩形 8"/>
          <p:cNvSpPr/>
          <p:nvPr/>
        </p:nvSpPr>
        <p:spPr>
          <a:xfrm>
            <a:off x="500040" y="1143000"/>
            <a:ext cx="7715160" cy="5000760"/>
          </a:xfrm>
          <a:prstGeom prst="roundRect">
            <a:avLst>
              <a:gd name="adj" fmla="val 16667"/>
            </a:avLst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10"/>
          <p:cNvSpPr/>
          <p:nvPr/>
        </p:nvSpPr>
        <p:spPr>
          <a:xfrm>
            <a:off x="785880" y="1143000"/>
            <a:ext cx="5715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14"/>
          <p:cNvSpPr/>
          <p:nvPr/>
        </p:nvSpPr>
        <p:spPr>
          <a:xfrm>
            <a:off x="4786200" y="6143760"/>
            <a:ext cx="4357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9B94-3060-42FF-9219-B4A5F36A7E8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4C1-9B9A-41FD-98D0-5C7B13B4C0E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AE2-D3D2-4023-92FA-300863513CB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34D-5F3D-431E-BB9D-4A443C7FCE7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93B-F7A9-428A-85EA-284D53D02BA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73B-668A-4067-81DE-6F32954EEBE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837-CA7C-4B5B-A38D-FBF69C1A280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E65-49EA-41D6-AF39-08FAC6099FE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91A-C719-4748-A6EE-BA4259328F7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1C3-6258-4FB8-906C-D62B1D855C5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DDB-E1AE-4699-925C-3DF2461E209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6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B62D-2D01-4612-9943-57495BC9872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标题 2" descr=""/>
          <p:cNvPicPr/>
          <p:nvPr/>
        </p:nvPicPr>
        <p:blipFill>
          <a:blip r:embed="rId1"/>
          <a:stretch/>
        </p:blipFill>
        <p:spPr>
          <a:xfrm>
            <a:off x="615960" y="2419200"/>
            <a:ext cx="7772400" cy="8002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60436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模板使用说明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357120" y="6143760"/>
            <a:ext cx="135756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4"/>
          <p:cNvSpPr/>
          <p:nvPr/>
        </p:nvSpPr>
        <p:spPr>
          <a:xfrm>
            <a:off x="714240" y="1428840"/>
            <a:ext cx="72867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标题 2" descr=""/>
          <p:cNvPicPr/>
          <p:nvPr/>
        </p:nvPicPr>
        <p:blipFill>
          <a:blip r:embed="rId1"/>
          <a:stretch/>
        </p:blipFill>
        <p:spPr>
          <a:xfrm>
            <a:off x="689040" y="2011320"/>
            <a:ext cx="77724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9:58Z</dcterms:modified>
  <cp:revision>13</cp:revision>
  <dc:subject/>
  <dc:title>幻灯片 1</dc:title>
</cp:coreProperties>
</file>