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B07-90BE-4C87-81C9-AD1713B1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08D-5C9F-4043-BE5B-961D170B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76A-AE21-4514-A326-41BE9819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E4E-7CD9-4788-862F-FDF68786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4E8-8A63-4E9A-810D-D7ECBD10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07F-8BED-48F5-87CE-DECB16FC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DF5-4B5E-40F1-9D6E-2C9AE3B9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040-8F71-4AB7-8077-1F3FFCED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E67-98B8-4EEC-8CDD-B6D10B0C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E28-072F-4458-A1F9-C4F41C32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AD1-F406-4439-B219-9D9BA5B2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FB7-1984-4B5E-B95A-28A68992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5846-F419-4196-B697-3823A12D9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8380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环环相扣商务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2809800"/>
            <a:ext cx="6400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siness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7:36:04Z</dcterms:created>
  <dc:creator>ppt宝藏</dc:creator>
  <dc:description/>
  <dc:language>en-US</dc:language>
  <cp:lastModifiedBy>a</cp:lastModifiedBy>
  <dcterms:modified xsi:type="dcterms:W3CDTF">2015-07-25T06:58:37Z</dcterms:modified>
  <cp:revision>4</cp:revision>
  <dc:subject/>
  <dc:title>www.pptbz.com</dc:title>
</cp:coreProperties>
</file>