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851-AE6B-47C9-8078-2BEA032B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EC8-CC1E-4EF3-A168-64E1B898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4A3-C2B6-4C31-A630-2E7770B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6088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6456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6088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6456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9E0-09C1-4589-AEF4-D57E821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C82C-95E2-40FE-BD8B-62A75CF3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AD4A-FE9F-44EA-B041-C7C59D7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1904-D4D1-43F5-AE86-4A79B61A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8805-F98D-407B-B59C-2A39B4DF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4BF9-5AFA-4349-A127-9CC87A74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333360"/>
            <a:ext cx="69231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EB36-0F80-4F41-915E-5BCCBF73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4ED0-0819-4DC8-886E-8C9A54C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4D1-5BC3-476D-8504-8DA5582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581-7FFD-448D-8A55-18138CF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31D2-1814-4F1D-9B58-B6D7A29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733-9258-4352-9E4C-BD452AF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5D3F-E403-4F92-AFFA-E53CD75A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088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6456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088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6456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18DE-27AE-4392-8905-F441187F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DCC-2EED-4173-B5CD-05910433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208-655B-485B-A592-6E990A0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078-04DD-4DC4-B98F-2BA8AD05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6840" y="333360"/>
            <a:ext cx="69231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EFB-5B5F-4C7E-A394-37B20D7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A9E-F256-4A35-9D43-B3BCDA13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B9A-DC2A-4B37-AA6C-DD6AF22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C9F-5A94-4DE4-A6E6-E1CE917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48"/>
          <p:cNvSpPr/>
          <p:nvPr/>
        </p:nvSpPr>
        <p:spPr>
          <a:xfrm>
            <a:off x="419040" y="0"/>
            <a:ext cx="76320" cy="380880"/>
          </a:xfrm>
          <a:prstGeom prst="rect">
            <a:avLst/>
          </a:prstGeom>
          <a:solidFill>
            <a:srgbClr val="ffb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9"/>
          <p:cNvSpPr/>
          <p:nvPr/>
        </p:nvSpPr>
        <p:spPr>
          <a:xfrm>
            <a:off x="952560" y="0"/>
            <a:ext cx="7632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0"/>
          <p:cNvSpPr/>
          <p:nvPr/>
        </p:nvSpPr>
        <p:spPr>
          <a:xfrm>
            <a:off x="1486080" y="0"/>
            <a:ext cx="75960" cy="380880"/>
          </a:xfrm>
          <a:prstGeom prst="rect">
            <a:avLst/>
          </a:prstGeom>
          <a:solidFill>
            <a:srgbClr val="46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51"/>
          <p:cNvSpPr/>
          <p:nvPr/>
        </p:nvSpPr>
        <p:spPr>
          <a:xfrm>
            <a:off x="0" y="108576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52"/>
          <p:cNvSpPr/>
          <p:nvPr/>
        </p:nvSpPr>
        <p:spPr>
          <a:xfrm>
            <a:off x="0" y="338040"/>
            <a:ext cx="9144000" cy="736560"/>
          </a:xfrm>
          <a:prstGeom prst="rect">
            <a:avLst/>
          </a:prstGeom>
          <a:gradFill rotWithShape="0">
            <a:gsLst>
              <a:gs pos="0">
                <a:srgbClr val="4678ba"/>
              </a:gs>
              <a:gs pos="100000">
                <a:srgbClr val="375f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53"/>
          <p:cNvGrpSpPr/>
          <p:nvPr/>
        </p:nvGrpSpPr>
        <p:grpSpPr>
          <a:xfrm>
            <a:off x="139680" y="343080"/>
            <a:ext cx="1295280" cy="685800"/>
            <a:chOff x="139680" y="343080"/>
            <a:chExt cx="1295280" cy="685800"/>
          </a:xfrm>
        </p:grpSpPr>
        <p:sp>
          <p:nvSpPr>
            <p:cNvPr id="7" name="Oval 54"/>
            <p:cNvSpPr/>
            <p:nvPr/>
          </p:nvSpPr>
          <p:spPr>
            <a:xfrm>
              <a:off x="139680" y="343080"/>
              <a:ext cx="1295280" cy="685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55"/>
            <p:cNvSpPr/>
            <p:nvPr/>
          </p:nvSpPr>
          <p:spPr>
            <a:xfrm>
              <a:off x="339840" y="420480"/>
              <a:ext cx="845640" cy="5061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56"/>
            <p:cNvSpPr/>
            <p:nvPr/>
          </p:nvSpPr>
          <p:spPr>
            <a:xfrm>
              <a:off x="496440" y="528480"/>
              <a:ext cx="498240" cy="2887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Group 57"/>
          <p:cNvGrpSpPr/>
          <p:nvPr/>
        </p:nvGrpSpPr>
        <p:grpSpPr>
          <a:xfrm>
            <a:off x="0" y="914040"/>
            <a:ext cx="9144000" cy="219600"/>
            <a:chOff x="0" y="914040"/>
            <a:chExt cx="9144000" cy="219600"/>
          </a:xfrm>
        </p:grpSpPr>
        <p:sp>
          <p:nvSpPr>
            <p:cNvPr id="11" name="Rectangle 58"/>
            <p:cNvSpPr/>
            <p:nvPr/>
          </p:nvSpPr>
          <p:spPr>
            <a:xfrm flipH="1" flipV="1">
              <a:off x="0" y="1057320"/>
              <a:ext cx="9144000" cy="76320"/>
            </a:xfrm>
            <a:prstGeom prst="rect">
              <a:avLst/>
            </a:pr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 flipH="1" flipV="1">
              <a:off x="7391520" y="913680"/>
              <a:ext cx="1752480" cy="152280"/>
            </a:xfrm>
            <a:prstGeom prst="rect">
              <a:avLst/>
            </a:pr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60"/>
            <p:cNvSpPr/>
            <p:nvPr/>
          </p:nvSpPr>
          <p:spPr>
            <a:xfrm flipH="1" flipV="1">
              <a:off x="7238880" y="913680"/>
              <a:ext cx="152640" cy="1522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Line 61"/>
          <p:cNvSpPr/>
          <p:nvPr/>
        </p:nvSpPr>
        <p:spPr>
          <a:xfrm>
            <a:off x="11160" y="105084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62"/>
          <p:cNvSpPr/>
          <p:nvPr/>
        </p:nvSpPr>
        <p:spPr>
          <a:xfrm>
            <a:off x="7391520" y="914400"/>
            <a:ext cx="174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63"/>
          <p:cNvSpPr/>
          <p:nvPr/>
        </p:nvSpPr>
        <p:spPr>
          <a:xfrm>
            <a:off x="7238880" y="3816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제목돋움체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7380000" y="907560"/>
            <a:ext cx="176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447-B386-45C4-93D2-D2AED42C5A5A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1"/>
          <p:cNvSpPr/>
          <p:nvPr/>
        </p:nvSpPr>
        <p:spPr>
          <a:xfrm>
            <a:off x="1905120" y="0"/>
            <a:ext cx="7238880" cy="1447920"/>
          </a:xfrm>
          <a:prstGeom prst="rect">
            <a:avLst/>
          </a:prstGeom>
          <a:gradFill rotWithShape="0">
            <a:gsLst>
              <a:gs pos="0">
                <a:srgbClr val="4678ba"/>
              </a:gs>
              <a:gs pos="100000">
                <a:srgbClr val="3357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33"/>
          <p:cNvGrpSpPr/>
          <p:nvPr/>
        </p:nvGrpSpPr>
        <p:grpSpPr>
          <a:xfrm>
            <a:off x="7391520" y="0"/>
            <a:ext cx="1143000" cy="304920"/>
            <a:chOff x="7391520" y="0"/>
            <a:chExt cx="1143000" cy="304920"/>
          </a:xfrm>
        </p:grpSpPr>
        <p:sp>
          <p:nvSpPr>
            <p:cNvPr id="61" name="Rectangle 34"/>
            <p:cNvSpPr/>
            <p:nvPr/>
          </p:nvSpPr>
          <p:spPr>
            <a:xfrm>
              <a:off x="7391520" y="0"/>
              <a:ext cx="76320" cy="304920"/>
            </a:xfrm>
            <a:prstGeom prst="rect">
              <a:avLst/>
            </a:pr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5"/>
            <p:cNvSpPr/>
            <p:nvPr/>
          </p:nvSpPr>
          <p:spPr>
            <a:xfrm>
              <a:off x="7925040" y="0"/>
              <a:ext cx="76320" cy="30492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36"/>
            <p:cNvSpPr/>
            <p:nvPr/>
          </p:nvSpPr>
          <p:spPr>
            <a:xfrm>
              <a:off x="8458560" y="0"/>
              <a:ext cx="75960" cy="304920"/>
            </a:xfrm>
            <a:prstGeom prst="rect">
              <a:avLst/>
            </a:prstGeom>
            <a:solidFill>
              <a:srgbClr val="467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Rectangle 37"/>
          <p:cNvSpPr/>
          <p:nvPr/>
        </p:nvSpPr>
        <p:spPr>
          <a:xfrm>
            <a:off x="-9360" y="152280"/>
            <a:ext cx="2209680" cy="1067040"/>
          </a:xfrm>
          <a:prstGeom prst="rect">
            <a:avLst/>
          </a:prstGeom>
          <a:solidFill>
            <a:srgbClr val="46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152280" y="0"/>
            <a:ext cx="1981440" cy="1447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39"/>
          <p:cNvSpPr/>
          <p:nvPr/>
        </p:nvSpPr>
        <p:spPr>
          <a:xfrm>
            <a:off x="457200" y="165240"/>
            <a:ext cx="1295280" cy="1066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698400" y="393840"/>
            <a:ext cx="76212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0" y="137160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0" y="1219320"/>
            <a:ext cx="9144000" cy="228600"/>
          </a:xfrm>
          <a:prstGeom prst="rect">
            <a:avLst/>
          </a:prstGeom>
          <a:solidFill>
            <a:srgbClr val="ffb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3124080" y="2133720"/>
            <a:ext cx="1981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0" y="0"/>
            <a:ext cx="2209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2057400" y="6629400"/>
            <a:ext cx="7086600" cy="228600"/>
          </a:xfrm>
          <a:prstGeom prst="rect">
            <a:avLst/>
          </a:prstGeom>
          <a:gradFill rotWithShape="0">
            <a:gsLst>
              <a:gs pos="0">
                <a:srgbClr val="4678ba"/>
              </a:gs>
              <a:gs pos="100000">
                <a:srgbClr val="3154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6"/>
          <p:cNvGrpSpPr/>
          <p:nvPr/>
        </p:nvGrpSpPr>
        <p:grpSpPr>
          <a:xfrm>
            <a:off x="0" y="6629400"/>
            <a:ext cx="2590560" cy="228600"/>
            <a:chOff x="0" y="6629400"/>
            <a:chExt cx="2590560" cy="228600"/>
          </a:xfrm>
        </p:grpSpPr>
        <p:sp>
          <p:nvSpPr>
            <p:cNvPr id="74" name="Rectangle 47"/>
            <p:cNvSpPr/>
            <p:nvPr/>
          </p:nvSpPr>
          <p:spPr>
            <a:xfrm>
              <a:off x="0" y="6629400"/>
              <a:ext cx="2382480" cy="228600"/>
            </a:xfrm>
            <a:prstGeom prst="rect">
              <a:avLst/>
            </a:prstGeom>
            <a:solidFill>
              <a:srgbClr val="93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48"/>
            <p:cNvSpPr/>
            <p:nvPr/>
          </p:nvSpPr>
          <p:spPr>
            <a:xfrm>
              <a:off x="2382480" y="6629400"/>
              <a:ext cx="208080" cy="2286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3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Rectangle 49"/>
          <p:cNvSpPr/>
          <p:nvPr/>
        </p:nvSpPr>
        <p:spPr>
          <a:xfrm>
            <a:off x="380880" y="304920"/>
            <a:ext cx="152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제목돋움체"/>
              </a:rPr>
              <a:t>Compan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제목돋움체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제목돋움체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0" y="6597360"/>
            <a:ext cx="24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F26-53E4-43A7-89A2-92E087C0970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2360" y="2852640"/>
            <a:ext cx="81532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黄兰色背景商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7636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3ce4c"/>
              </a:solidFill>
              <a:latin typeface="Arial"/>
              <a:ea typeface="宋体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85560" y="5694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3906720" y="1341360"/>
          <a:ext cx="46548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720" y="1341360"/>
                    <a:ext cx="46548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41:10Z</dcterms:created>
  <dc:creator>ppt宝藏</dc:creator>
  <dc:description/>
  <dc:language>en-US</dc:language>
  <cp:lastModifiedBy>a</cp:lastModifiedBy>
  <dcterms:modified xsi:type="dcterms:W3CDTF">2015-07-25T12:41:05Z</dcterms:modified>
  <cp:revision>3</cp:revision>
  <dc:subject/>
  <dc:title>www.pptbz.com</dc:title>
</cp:coreProperties>
</file>