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75D6-EC69-46C8-B904-DB928A1B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835A-D46F-45B8-BE54-3A9ECB1A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F8DF-A5DE-4387-AA3F-2FD29709F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7AB4-6B64-4552-AED3-32B50ADAB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993E-7722-4ECC-BCD7-2DD5B80B2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8F4-27D3-47DD-88AD-F70F6EBB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24DD-F444-480F-B2D3-2AF1034E0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CD0B-0621-4595-ABF1-AF8F52AA1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CB6C-8431-4B54-B3FB-96EC4ED0B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85F1-CA22-4E6C-BEF3-84E5E22D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607F-EC50-450E-94A2-B1ADC910A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CD59E-20B4-4DBA-A145-C9144677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0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83" descr="E:\图片资料\e-mail\stationery\abstract_H_Z\red_stripe\red_stripe.jpg"/>
          <p:cNvPicPr/>
          <p:nvPr/>
        </p:nvPicPr>
        <p:blipFill>
          <a:blip r:embed="rId2"/>
          <a:stretch/>
        </p:blipFill>
        <p:spPr>
          <a:xfrm>
            <a:off x="0" y="0"/>
            <a:ext cx="14288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68" descr="E:\jll\河山图标.jpg"/>
          <p:cNvPicPr/>
          <p:nvPr/>
        </p:nvPicPr>
        <p:blipFill>
          <a:blip r:embed="rId3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85" descr="E:\图片资料\e-mail\stationery\abstract_H_Z\red_stripe\1.jpg"/>
          <p:cNvPicPr/>
          <p:nvPr/>
        </p:nvPicPr>
        <p:blipFill>
          <a:blip r:embed="rId4"/>
          <a:stretch/>
        </p:blipFill>
        <p:spPr>
          <a:xfrm>
            <a:off x="6019920" y="5943600"/>
            <a:ext cx="3124080" cy="914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0F329-5689-4E6C-A992-B87E2C903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红色大楼边框商务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05:39:43Z</dcterms:created>
  <dc:creator>ppt宝藏</dc:creator>
  <dc:description/>
  <dc:language>en-US</dc:language>
  <cp:lastModifiedBy>a</cp:lastModifiedBy>
  <dcterms:modified xsi:type="dcterms:W3CDTF">2015-07-25T07:11:25Z</dcterms:modified>
  <cp:revision>6</cp:revision>
  <dc:subject/>
  <dc:title>www.pptbz.com</dc:title>
</cp:coreProperties>
</file>