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92069784"/>
        <c:axId val="44184149"/>
      </c:barChart>
      <c:catAx>
        <c:axId val="9206978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4184149"/>
        <c:crosses val="autoZero"/>
        <c:auto val="1"/>
        <c:lblAlgn val="ctr"/>
        <c:lblOffset val="100"/>
        <c:noMultiLvlLbl val="0"/>
      </c:catAx>
      <c:valAx>
        <c:axId val="4418414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206978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6900894"/>
        <c:axId val="89416327"/>
      </c:barChart>
      <c:catAx>
        <c:axId val="69008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9416327"/>
        <c:crosses val="autoZero"/>
        <c:auto val="1"/>
        <c:lblAlgn val="ctr"/>
        <c:lblOffset val="100"/>
        <c:noMultiLvlLbl val="0"/>
      </c:catAx>
      <c:valAx>
        <c:axId val="8941632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900894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97416056"/>
        <c:axId val="37799275"/>
      </c:lineChart>
      <c:catAx>
        <c:axId val="974160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7799275"/>
        <c:crosses val="autoZero"/>
        <c:auto val="1"/>
        <c:lblAlgn val="ctr"/>
        <c:lblOffset val="100"/>
        <c:noMultiLvlLbl val="0"/>
      </c:catAx>
      <c:valAx>
        <c:axId val="37799275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7416056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7777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b2b2b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742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dc5e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43643647"/>
        <c:axId val="47593860"/>
      </c:barChart>
      <c:catAx>
        <c:axId val="436436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7593860"/>
        <c:crosses val="autoZero"/>
        <c:auto val="1"/>
        <c:lblAlgn val="ctr"/>
        <c:lblOffset val="100"/>
        <c:noMultiLvlLbl val="0"/>
      </c:catAx>
      <c:valAx>
        <c:axId val="47593860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3643647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2F23A3-4617-420D-9BCF-5FEC5F822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6F9116D9-A0AC-4EF6-868D-C1EF289175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510-EDF2-417D-A47D-981AEE1D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4D5-DF97-491F-81C0-4A18ABF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C71-EC3E-4893-9706-D0A9B381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C14-F8DB-458D-8D5E-AD487BF1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B481-DBFE-4E0D-B0F9-233493B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9591-ECD3-42EB-9AA1-31E751C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EBDE-9743-4900-B591-C53789E2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B38E-3288-4C7E-B1EC-D06A49C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AF1C-9CED-437F-A37E-B5AEDC2B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5760-2B00-4F75-9587-06C6530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A3EB-0714-4293-8A84-89BBB4AA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1CF-15DE-4A77-8456-703A3FE5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A95A-ABB2-4C59-B91F-1D754C1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3229-E5B8-4E8C-A6B3-1FFB4CC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4054-01CB-46DB-91AA-8D5519F9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3A9-4F93-47CC-898A-48067225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9AC-C14C-499E-8DC0-71DA0743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FDF8-C86E-4957-A33C-007F6525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D162-11DF-40AB-A9BB-3F0C0047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E66C-E173-456D-BB13-68AB4263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D847-9147-47BC-883A-18F6F1C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39F1-F4E5-4D62-A5C7-F8A90CA4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725-84B2-4AC2-B3F3-DC7CB97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1FC0-8289-4979-9658-6A4C49D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0CFB-819A-433D-8BFB-E8C462B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A54A-10D7-4977-8D6F-7C59908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E55E-35FB-434A-BBF7-57CFC2B2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13CD-F43A-4949-B538-253870BB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22A4-E782-49F9-9F75-FD3EF735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7629-159A-4279-85BF-64E4112B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4D63-1E24-4C63-A3E1-6AAB3530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D446-F348-4377-A922-E9CD13B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E076-E629-4F9F-8344-D8D5620D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1B7-781E-4B00-9BDC-C39509CC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0574-801D-45D1-9E33-283C6A09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05F3-D0D8-4759-9FC0-4F76899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B8F1-555A-4222-BBCE-83EE72BE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4E76-FD65-495D-8096-B51364DF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910D-0010-4952-A5D3-394FF3B9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DB31-94DE-4200-8BF2-A90B133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CC31-4964-43A5-938F-F31DA95E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1E71-1E88-4038-BDDA-BF94F6C2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BB0E-CB8F-428A-8DE8-D8BE3612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0B04-3B1A-415B-AFEE-7DF5897C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E98-DA00-462B-9E32-93C5C887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18A9-FB29-4A3A-A994-95D0D78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4C22-E3DD-4D8D-A87E-022AAC8F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0468-67DC-4998-8CCD-24DCDC04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56CC-3F8E-45A3-B80E-FCB8E18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BA07-9C52-4C57-8CE2-856BF4C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4A03F-0676-460B-99C8-674682E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5BBB0-24F6-4DCB-9CD0-8D20DBD6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92A3-0466-4AD0-9812-14AC869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E9E9-9B76-4F85-A53B-18652EC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2B0C-F8BE-44CD-8927-03409447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DB4-1EC6-481C-9A0D-A788C630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0581-739A-4332-B22B-922A9403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AF98-CC92-446A-B09C-7100FA21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6267D-B7D6-4AAA-84B2-AEA184C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3F26-9C54-44A8-88DC-CBFD079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1042-C7BC-4AFA-A052-EFF7E93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DBB4-5A3C-44AB-9CF8-2BCD1F45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CC81-AC4F-42A5-B404-95797BC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FE6C-FCCE-433A-BF6B-74E5A06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3193-56A9-40D5-9CB8-E5871F4E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74FB-B194-44CE-BE8C-A0C67EA0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443-6B8A-460A-8A5A-D8B5B6A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F3F34-3AD0-439A-BAD8-1A2BC2A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AA34-9DA2-4F02-B37C-EF47A5A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85400-07B3-4516-B239-B5F7F40B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BA5C-1912-46D7-A687-79B1917C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CF4A3-5F52-4D47-BB1B-AA1F0EC2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D853-9A01-48E7-980D-0A95E477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1D8B-5111-4606-A3AA-BECF00A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D38D-190F-47A8-A251-37F9C7D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F042-FBE3-46E8-B117-2720507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28A8-8541-4BFC-BB57-776A953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550-3A4D-4293-AF0D-260B385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8DD3-28EE-4F94-B092-D437F4F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6B3A4-5B65-4996-BE41-0234E4E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649F-4406-4905-9371-B533B57A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6765A-5C03-4A35-8FFE-74C3D522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F0F0-E71C-483A-9F3D-F6D89F6A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9862-56B2-4CF1-A9D0-961B0961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E9A92-3313-461A-83F8-0C65FD78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74F95-8AA8-44A2-B477-1A3D1608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E6C52-C86F-4C9E-9EA7-A3DDD25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35042-5100-4BEC-8E16-453E5F1F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DDD-BBA2-4411-BA83-A604C26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700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3139-A557-4748-A73C-B5AD956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2134-6387-4724-909E-9E7EA34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8E5A-94E8-4D6D-9C70-75B0BB0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5983C-CCCE-4FC7-AFED-5FF3A93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B465-6A58-495F-BA80-3A93432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16A0-47A0-4CBE-AD2F-857EB3F0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820B4-AAB5-43D6-8F34-80426231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2EFFFB-EAEA-40F9-8B7C-8B9B4CB0A873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DF3029-EEC7-4F32-A4C3-6F741CA93BC1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DA90BA8-52A2-44D8-A1EF-AE0687DACADF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325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2853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15AA64-455B-4467-A3F5-3921E2F0DAB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985AAED-3863-429E-940E-6513C200BCE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6F0E129-90BE-41C2-981A-102BDD80A4C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5E917D-B2BE-4779-BB88-5DE2C34FB96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3)\bg8.jpg"/>
          <p:cNvPicPr/>
          <p:nvPr/>
        </p:nvPicPr>
        <p:blipFill>
          <a:blip r:embed="rId2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3)\bg8.jpg"/>
          <p:cNvPicPr/>
          <p:nvPr/>
        </p:nvPicPr>
        <p:blipFill>
          <a:blip r:embed="rId3"/>
          <a:stretch/>
        </p:blipFill>
        <p:spPr>
          <a:xfrm>
            <a:off x="-5040" y="-360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2761124-4C58-4F94-B380-7F0C0BBDC22F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灰色符号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D82-966C-4BEF-B6D3-CD306EE2603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68EA8-FE1F-4F61-9F1A-6C8D3AC26C0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ED348D2-0943-47CB-983B-0E5C66875FC2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DDC36E-81E1-45CF-9CBC-9DD1D75437C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641880" y="6453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766-7E53-474C-9276-ECD5427968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6606A02-FD4F-41B8-8DCF-DFC589C6C24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700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493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AE399-771B-4AF7-917D-0A2A81B690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75C18193-1A33-41A9-A145-706C795AAB02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FEA1B4D-4F59-436C-989A-04A1B9F72750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B0A952-4B07-48AB-A1ED-659E0453DBFB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777777"/>
          </a:solidFill>
          <a:ln w="9525">
            <a:solidFill>
              <a:srgbClr val="7777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742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325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853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31C3-EBF1-46BF-8301-7D8CAAF76F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A9F7A815-4C3D-452F-A3C8-A116AFE9A85D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1C29-F614-41D6-8321-C33591EBA2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E940203D-0C81-455C-AB15-D838AC31D2E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86827203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18" name="Text Box 6"/>
          <p:cNvSpPr/>
          <p:nvPr/>
        </p:nvSpPr>
        <p:spPr>
          <a:xfrm>
            <a:off x="1043640" y="6386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8A49-34DE-4097-A4FD-1BBB27F158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37414DC-816A-42E0-937A-8E076C7FA621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890500294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24C6-C498-4A9B-9090-074E42060F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376B9BE-1D0B-446A-9260-D2194A71320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FD44C-C424-42B6-AFEF-7666EF1E33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1A33996-B45D-47C5-9F79-7323D7B4CA72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9850-5B32-48D4-8010-FAB879AC1A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9705F863-FF31-4E78-A64A-A59426D57C41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75FC3-F84E-4526-96A1-5AF34D19BD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2350A131-C41A-4733-B000-5E38BAEEA2B6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7">
  <a:themeElements>
    <a:clrScheme name="www.slideto.Me gary L2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777777"/>
      </a:accent1>
      <a:accent2>
        <a:srgbClr val="b2b2b2"/>
      </a:accent2>
      <a:accent3>
        <a:srgbClr val="742600"/>
      </a:accent3>
      <a:accent4>
        <a:srgbClr val="dc5e01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7</Template>
  <TotalTime>1</TotalTime>
  <Application>LibreOffice/7.4.7.2$Linux_X86_64 LibreOffice_project/40$Build-2</Application>
  <AppVersion>15.0000</AppVersion>
  <Words>530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42:40Z</dcterms:created>
  <dc:creator>lenovo</dc:creator>
  <dc:description>我爱PPT中文网</dc:description>
  <cp:keywords>XS-普屏 4：3 SC-淡灰色 BG-浅色 DH-静态 XJ-二级</cp:keywords>
  <dc:language>en-US</dc:language>
  <cp:lastModifiedBy>王玉清</cp:lastModifiedBy>
  <dcterms:modified xsi:type="dcterms:W3CDTF">2016-02-21T04:08:29Z</dcterms:modified>
  <cp:revision>5</cp:revision>
  <dc:subject>TP-金融保险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