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115-7F1C-4FF3-B9CE-59B96D2C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0B2-4F93-454B-B362-3FF0EE2A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150-2DEC-4711-9185-FF3BFBAC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504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568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504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1568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22B-9B71-432B-A390-96D426C5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AC7-5FA2-49CA-81BC-D119719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7F5-15E4-4065-AC70-6ABF4F3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07D-5546-4C88-BE85-78BC3E5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984-DE43-4B77-934A-3DA71F5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1035360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1B1-9CB8-45B1-A0B2-B06C9014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19F-7D88-4996-A06C-70A83CD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7F8-BC51-4D5A-AF64-0D5CDEB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03C-6BFB-4704-80FF-458D9EE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049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720720" indent="-2700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1025640" indent="-2145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1386000" indent="-2145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1673280" indent="-214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1673280" indent="-214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1673280" indent="-214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D399F-42A5-401A-83C2-4FD053197E3C}" type="datetime">
              <a:rPr b="0" lang="zh-CN" sz="1000" spc="-1" strike="noStrike">
                <a:solidFill>
                  <a:srgbClr val="f2f2f2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FCECB-0019-444A-A3C3-0B9F792A8428}" type="slidenum">
              <a:rPr b="0" lang="zh-CN" sz="10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绿"/>
          <p:cNvSpPr/>
          <p:nvPr/>
        </p:nvSpPr>
        <p:spPr>
          <a:xfrm rot="19200000">
            <a:off x="-1618920" y="-1507680"/>
            <a:ext cx="3238560" cy="431964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黄"/>
          <p:cNvSpPr/>
          <p:nvPr/>
        </p:nvSpPr>
        <p:spPr>
          <a:xfrm rot="19800000">
            <a:off x="-1618920" y="-1533240"/>
            <a:ext cx="3238560" cy="431964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蓝"/>
          <p:cNvSpPr/>
          <p:nvPr/>
        </p:nvSpPr>
        <p:spPr>
          <a:xfrm rot="20400000">
            <a:off x="-1619280" y="-1558800"/>
            <a:ext cx="3238560" cy="431964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红"/>
          <p:cNvSpPr/>
          <p:nvPr/>
        </p:nvSpPr>
        <p:spPr>
          <a:xfrm rot="21000000">
            <a:off x="-1618920" y="-1533600"/>
            <a:ext cx="3238560" cy="431964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12"/>
          <p:cNvGrpSpPr/>
          <p:nvPr/>
        </p:nvGrpSpPr>
        <p:grpSpPr>
          <a:xfrm>
            <a:off x="-22680" y="4330800"/>
            <a:ext cx="12203280" cy="156960"/>
            <a:chOff x="-22680" y="4330800"/>
            <a:chExt cx="12203280" cy="156960"/>
          </a:xfrm>
        </p:grpSpPr>
        <p:sp>
          <p:nvSpPr>
            <p:cNvPr id="46" name="绿"/>
            <p:cNvSpPr/>
            <p:nvPr/>
          </p:nvSpPr>
          <p:spPr>
            <a:xfrm rot="10800000">
              <a:off x="-22680" y="4330800"/>
              <a:ext cx="3048840" cy="156960"/>
            </a:xfrm>
            <a:prstGeom prst="rect">
              <a:avLst/>
            </a:prstGeom>
            <a:solidFill>
              <a:srgbClr val="029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黄"/>
            <p:cNvSpPr/>
            <p:nvPr/>
          </p:nvSpPr>
          <p:spPr>
            <a:xfrm rot="10800000">
              <a:off x="3028680" y="4330800"/>
              <a:ext cx="3048840" cy="156960"/>
            </a:xfrm>
            <a:prstGeom prst="rect">
              <a:avLst/>
            </a:prstGeom>
            <a:solidFill>
              <a:srgbClr val="fff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蓝"/>
            <p:cNvSpPr/>
            <p:nvPr/>
          </p:nvSpPr>
          <p:spPr>
            <a:xfrm rot="10800000">
              <a:off x="6080400" y="4330800"/>
              <a:ext cx="3048840" cy="156960"/>
            </a:xfrm>
            <a:prstGeom prst="rect">
              <a:avLst/>
            </a:prstGeom>
            <a:solidFill>
              <a:srgbClr val="009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红"/>
            <p:cNvSpPr/>
            <p:nvPr/>
          </p:nvSpPr>
          <p:spPr>
            <a:xfrm rot="10800000">
              <a:off x="9131760" y="4330800"/>
              <a:ext cx="3048840" cy="156960"/>
            </a:xfrm>
            <a:prstGeom prst="rect">
              <a:avLst/>
            </a:prstGeom>
            <a:solidFill>
              <a:srgbClr val="db2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864800" y="4500720"/>
            <a:ext cx="94410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副标题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or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作者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3874320" y="79848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灰色分类动态</a:t>
            </a:r>
            <a:r>
              <a:rPr b="0" lang="en-US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绿"/>
          <p:cNvSpPr/>
          <p:nvPr/>
        </p:nvSpPr>
        <p:spPr>
          <a:xfrm rot="10800000">
            <a:off x="-22680" y="4330800"/>
            <a:ext cx="3048120" cy="15696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黄"/>
          <p:cNvSpPr/>
          <p:nvPr/>
        </p:nvSpPr>
        <p:spPr>
          <a:xfrm rot="10800000">
            <a:off x="3028680" y="4330800"/>
            <a:ext cx="3049560" cy="15696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蓝"/>
          <p:cNvSpPr/>
          <p:nvPr/>
        </p:nvSpPr>
        <p:spPr>
          <a:xfrm rot="10800000">
            <a:off x="6079680" y="4330800"/>
            <a:ext cx="3049560" cy="15696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红"/>
          <p:cNvSpPr/>
          <p:nvPr/>
        </p:nvSpPr>
        <p:spPr>
          <a:xfrm rot="10800000">
            <a:off x="9131040" y="4330800"/>
            <a:ext cx="3049560" cy="15696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15"/>
          <p:cNvSpPr/>
          <p:nvPr/>
        </p:nvSpPr>
        <p:spPr>
          <a:xfrm>
            <a:off x="200160" y="3281400"/>
            <a:ext cx="97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Staccato222 BT"/>
              </a:rPr>
              <a:t>0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文本框 16"/>
          <p:cNvSpPr/>
          <p:nvPr/>
        </p:nvSpPr>
        <p:spPr>
          <a:xfrm>
            <a:off x="3254400" y="3281400"/>
            <a:ext cx="9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Staccato222 BT"/>
              </a:rPr>
              <a:t>0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文本框 17"/>
          <p:cNvSpPr/>
          <p:nvPr/>
        </p:nvSpPr>
        <p:spPr>
          <a:xfrm>
            <a:off x="6264360" y="3281400"/>
            <a:ext cx="97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Staccato222 BT"/>
              </a:rPr>
              <a:t>0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文本框 18"/>
          <p:cNvSpPr/>
          <p:nvPr/>
        </p:nvSpPr>
        <p:spPr>
          <a:xfrm>
            <a:off x="9333000" y="3281400"/>
            <a:ext cx="97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Staccato222 BT"/>
              </a:rPr>
              <a:t>0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文本框 24"/>
          <p:cNvSpPr/>
          <p:nvPr/>
        </p:nvSpPr>
        <p:spPr>
          <a:xfrm>
            <a:off x="1171440" y="914400"/>
            <a:ext cx="38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71080" y="2857320"/>
            <a:ext cx="185436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636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第一章标题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19200" y="2857320"/>
            <a:ext cx="185436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636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第二章标题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57600" y="2857320"/>
            <a:ext cx="185436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636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第三章标题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317240" y="2857320"/>
            <a:ext cx="185400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636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第四章标题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绿"/>
          <p:cNvSpPr/>
          <p:nvPr/>
        </p:nvSpPr>
        <p:spPr>
          <a:xfrm rot="20015400">
            <a:off x="-394920" y="1195200"/>
            <a:ext cx="3048120" cy="71892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Staccato222 BT"/>
                <a:ea typeface="微软雅黑"/>
              </a:rPr>
              <a:t>第一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黄"/>
          <p:cNvSpPr/>
          <p:nvPr/>
        </p:nvSpPr>
        <p:spPr>
          <a:xfrm rot="20015400">
            <a:off x="-2096640" y="4177800"/>
            <a:ext cx="3049560" cy="71928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蓝"/>
          <p:cNvSpPr/>
          <p:nvPr/>
        </p:nvSpPr>
        <p:spPr>
          <a:xfrm rot="20015400">
            <a:off x="-2096640" y="3108240"/>
            <a:ext cx="3049560" cy="72072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红"/>
          <p:cNvSpPr/>
          <p:nvPr/>
        </p:nvSpPr>
        <p:spPr>
          <a:xfrm rot="20015400">
            <a:off x="-2096640" y="5245200"/>
            <a:ext cx="3049560" cy="72072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657240" y="5961240"/>
            <a:ext cx="7334640" cy="1800"/>
            <a:chOff x="3657240" y="5961240"/>
            <a:chExt cx="7334640" cy="1800"/>
          </a:xfrm>
        </p:grpSpPr>
        <p:cxnSp>
          <p:nvCxnSpPr>
            <p:cNvPr id="71" name="直接箭头连接符 11"/>
            <p:cNvCxnSpPr/>
            <p:nvPr/>
          </p:nvCxnSpPr>
          <p:spPr>
            <a:xfrm>
              <a:off x="3657240" y="5961240"/>
              <a:ext cx="7335000" cy="2160"/>
            </a:xfrm>
            <a:prstGeom prst="straightConnector1">
              <a:avLst/>
            </a:prstGeom>
            <a:ln cap="rnd" w="57240">
              <a:solidFill>
                <a:srgbClr val="ffffff"/>
              </a:solidFill>
              <a:bevel/>
              <a:tailEnd len="lg" type="stealth" w="lg"/>
            </a:ln>
          </p:spPr>
        </p:cxnSp>
        <p:sp>
          <p:nvSpPr>
            <p:cNvPr id="72" name=""/>
            <p:cNvSpPr txBox="1"/>
            <p:nvPr/>
          </p:nvSpPr>
          <p:spPr>
            <a:xfrm>
              <a:off x="3657240" y="5961240"/>
              <a:ext cx="7334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656880" y="888840"/>
            <a:ext cx="1080" cy="5072400"/>
            <a:chOff x="3656880" y="888840"/>
            <a:chExt cx="1080" cy="5072400"/>
          </a:xfrm>
        </p:grpSpPr>
        <p:cxnSp>
          <p:nvCxnSpPr>
            <p:cNvPr id="74" name="直接箭头连接符 13"/>
            <p:cNvCxnSpPr/>
            <p:nvPr/>
          </p:nvCxnSpPr>
          <p:spPr>
            <a:xfrm flipV="1">
              <a:off x="3657240" y="888840"/>
              <a:ext cx="1080" cy="5072760"/>
            </a:xfrm>
            <a:prstGeom prst="straightConnector1">
              <a:avLst/>
            </a:prstGeom>
            <a:ln cap="rnd" w="57240">
              <a:solidFill>
                <a:srgbClr val="ffffff"/>
              </a:solidFill>
              <a:bevel/>
              <a:tailEnd len="lg" type="stealth" w="lg"/>
            </a:ln>
          </p:spPr>
        </p:cxnSp>
        <p:sp>
          <p:nvSpPr>
            <p:cNvPr id="75" name=""/>
            <p:cNvSpPr txBox="1"/>
            <p:nvPr/>
          </p:nvSpPr>
          <p:spPr>
            <a:xfrm rot="10800000">
              <a:off x="3656880" y="888840"/>
              <a:ext cx="360" cy="50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直接连接符 15"/>
          <p:cNvSpPr/>
          <p:nvPr/>
        </p:nvSpPr>
        <p:spPr>
          <a:xfrm>
            <a:off x="3657600" y="3693960"/>
            <a:ext cx="6194520" cy="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直接连接符 16"/>
          <p:cNvSpPr/>
          <p:nvPr/>
        </p:nvSpPr>
        <p:spPr>
          <a:xfrm>
            <a:off x="3657600" y="1444680"/>
            <a:ext cx="6194520" cy="14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直接连接符 18"/>
          <p:cNvSpPr/>
          <p:nvPr/>
        </p:nvSpPr>
        <p:spPr>
          <a:xfrm>
            <a:off x="9852120" y="1444680"/>
            <a:ext cx="0" cy="45165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直接连接符 20"/>
          <p:cNvSpPr/>
          <p:nvPr/>
        </p:nvSpPr>
        <p:spPr>
          <a:xfrm>
            <a:off x="6754680" y="1444680"/>
            <a:ext cx="0" cy="45165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框 26"/>
          <p:cNvSpPr/>
          <p:nvPr/>
        </p:nvSpPr>
        <p:spPr>
          <a:xfrm>
            <a:off x="7755840" y="191772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db2519"/>
                </a:solidFill>
                <a:latin typeface="微软雅黑"/>
                <a:ea typeface="微软雅黑"/>
              </a:rPr>
              <a:t>既重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db2519"/>
                </a:solidFill>
                <a:latin typeface="微软雅黑"/>
                <a:ea typeface="微软雅黑"/>
              </a:rPr>
              <a:t>又紧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27"/>
          <p:cNvSpPr/>
          <p:nvPr/>
        </p:nvSpPr>
        <p:spPr>
          <a:xfrm>
            <a:off x="2873160" y="79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28"/>
          <p:cNvSpPr/>
          <p:nvPr/>
        </p:nvSpPr>
        <p:spPr>
          <a:xfrm>
            <a:off x="9867600" y="596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29"/>
          <p:cNvSpPr/>
          <p:nvPr/>
        </p:nvSpPr>
        <p:spPr>
          <a:xfrm>
            <a:off x="7755840" y="4148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308"/>
                </a:solidFill>
                <a:latin typeface="微软雅黑"/>
                <a:ea typeface="微软雅黑"/>
              </a:rPr>
              <a:t>不重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308"/>
                </a:solidFill>
                <a:latin typeface="微软雅黑"/>
                <a:ea typeface="微软雅黑"/>
              </a:rPr>
              <a:t>但紧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30"/>
          <p:cNvSpPr/>
          <p:nvPr/>
        </p:nvSpPr>
        <p:spPr>
          <a:xfrm>
            <a:off x="4658400" y="4148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29141"/>
                </a:solidFill>
                <a:latin typeface="微软雅黑"/>
                <a:ea typeface="微软雅黑"/>
              </a:rPr>
              <a:t>不重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29141"/>
                </a:solidFill>
                <a:latin typeface="微软雅黑"/>
                <a:ea typeface="微软雅黑"/>
              </a:rPr>
              <a:t>不紧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31"/>
          <p:cNvSpPr/>
          <p:nvPr/>
        </p:nvSpPr>
        <p:spPr>
          <a:xfrm>
            <a:off x="4658400" y="1908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93de"/>
                </a:solidFill>
                <a:latin typeface="微软雅黑"/>
                <a:ea typeface="微软雅黑"/>
              </a:rPr>
              <a:t>重要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93de"/>
                </a:solidFill>
                <a:latin typeface="微软雅黑"/>
                <a:ea typeface="微软雅黑"/>
              </a:rPr>
              <a:t>不紧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黄"/>
          <p:cNvSpPr/>
          <p:nvPr/>
        </p:nvSpPr>
        <p:spPr>
          <a:xfrm rot="20015400">
            <a:off x="-2096640" y="4177800"/>
            <a:ext cx="3049560" cy="71928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红"/>
          <p:cNvSpPr/>
          <p:nvPr/>
        </p:nvSpPr>
        <p:spPr>
          <a:xfrm rot="20015400">
            <a:off x="-2096640" y="5245200"/>
            <a:ext cx="3049560" cy="72072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蓝"/>
          <p:cNvSpPr/>
          <p:nvPr/>
        </p:nvSpPr>
        <p:spPr>
          <a:xfrm rot="20015400">
            <a:off x="-394920" y="2273040"/>
            <a:ext cx="3048120" cy="71892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绿"/>
          <p:cNvSpPr/>
          <p:nvPr/>
        </p:nvSpPr>
        <p:spPr>
          <a:xfrm rot="20015400">
            <a:off x="-2099880" y="2039760"/>
            <a:ext cx="3049560" cy="72108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Staccato222 BT"/>
                <a:ea typeface="微软雅黑"/>
              </a:rPr>
              <a:t>第一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7985520" y="1049400"/>
            <a:ext cx="960840" cy="1099440"/>
            <a:chOff x="7985520" y="1049400"/>
            <a:chExt cx="960840" cy="1099440"/>
          </a:xfrm>
        </p:grpSpPr>
        <p:sp>
          <p:nvSpPr>
            <p:cNvPr id="91" name="矩形 14"/>
            <p:cNvSpPr/>
            <p:nvPr/>
          </p:nvSpPr>
          <p:spPr>
            <a:xfrm>
              <a:off x="7985520" y="1049400"/>
              <a:ext cx="96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3236760" y="711360"/>
            <a:ext cx="8345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492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红"/>
          <p:cNvSpPr/>
          <p:nvPr/>
        </p:nvSpPr>
        <p:spPr>
          <a:xfrm rot="20015400">
            <a:off x="-2096640" y="5245200"/>
            <a:ext cx="3049560" cy="72072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绿"/>
          <p:cNvSpPr/>
          <p:nvPr/>
        </p:nvSpPr>
        <p:spPr>
          <a:xfrm rot="20015400">
            <a:off x="-2099880" y="2039760"/>
            <a:ext cx="3049560" cy="72108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Staccato222 BT"/>
                <a:ea typeface="微软雅黑"/>
              </a:rPr>
              <a:t>第一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黄"/>
          <p:cNvSpPr/>
          <p:nvPr/>
        </p:nvSpPr>
        <p:spPr>
          <a:xfrm rot="20015400">
            <a:off x="-392040" y="3341160"/>
            <a:ext cx="3047760" cy="71928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蓝"/>
          <p:cNvSpPr/>
          <p:nvPr/>
        </p:nvSpPr>
        <p:spPr>
          <a:xfrm rot="20015400">
            <a:off x="-2096640" y="3108240"/>
            <a:ext cx="3049560" cy="72072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760" y="711360"/>
            <a:ext cx="8345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492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绿"/>
          <p:cNvSpPr/>
          <p:nvPr/>
        </p:nvSpPr>
        <p:spPr>
          <a:xfrm rot="20015400">
            <a:off x="-2099880" y="2039760"/>
            <a:ext cx="3049560" cy="72108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Staccato222 BT"/>
                <a:ea typeface="微软雅黑"/>
              </a:rPr>
              <a:t>第一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蓝"/>
          <p:cNvSpPr/>
          <p:nvPr/>
        </p:nvSpPr>
        <p:spPr>
          <a:xfrm rot="20015400">
            <a:off x="-2096640" y="3108240"/>
            <a:ext cx="3049560" cy="72072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黄"/>
          <p:cNvSpPr/>
          <p:nvPr/>
        </p:nvSpPr>
        <p:spPr>
          <a:xfrm rot="20015400">
            <a:off x="-2096640" y="4177800"/>
            <a:ext cx="3049560" cy="71928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红"/>
          <p:cNvSpPr/>
          <p:nvPr/>
        </p:nvSpPr>
        <p:spPr>
          <a:xfrm rot="20015400">
            <a:off x="-409320" y="4384440"/>
            <a:ext cx="3048120" cy="71892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760" y="711360"/>
            <a:ext cx="8345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492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绿"/>
          <p:cNvSpPr/>
          <p:nvPr/>
        </p:nvSpPr>
        <p:spPr>
          <a:xfrm rot="20220000">
            <a:off x="708120" y="1292040"/>
            <a:ext cx="3238560" cy="4319280"/>
          </a:xfrm>
          <a:prstGeom prst="rect">
            <a:avLst/>
          </a:prstGeom>
          <a:solidFill>
            <a:srgbClr val="029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谢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黄"/>
          <p:cNvSpPr/>
          <p:nvPr/>
        </p:nvSpPr>
        <p:spPr>
          <a:xfrm rot="900000">
            <a:off x="3257280" y="1235160"/>
            <a:ext cx="3240000" cy="4319640"/>
          </a:xfrm>
          <a:prstGeom prst="rect">
            <a:avLst/>
          </a:prstGeom>
          <a:solidFill>
            <a:srgbClr val="fff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谢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蓝"/>
          <p:cNvSpPr/>
          <p:nvPr/>
        </p:nvSpPr>
        <p:spPr>
          <a:xfrm rot="20400000">
            <a:off x="5859360" y="1155240"/>
            <a:ext cx="3240360" cy="4321440"/>
          </a:xfrm>
          <a:prstGeom prst="rect">
            <a:avLst/>
          </a:prstGeom>
          <a:solidFill>
            <a:srgbClr val="009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欣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红"/>
          <p:cNvSpPr/>
          <p:nvPr/>
        </p:nvSpPr>
        <p:spPr>
          <a:xfrm rot="1200000">
            <a:off x="8324640" y="1155600"/>
            <a:ext cx="3238200" cy="4321440"/>
          </a:xfrm>
          <a:prstGeom prst="rect">
            <a:avLst/>
          </a:prstGeom>
          <a:solidFill>
            <a:srgbClr val="db2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赏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1:21:00Z</dcterms:created>
  <dc:creator>当道之狼</dc:creator>
  <dc:description/>
  <cp:keywords/>
  <dc:language>en-US</dc:language>
  <cp:lastModifiedBy>王玉清</cp:lastModifiedBy>
  <dcterms:modified xsi:type="dcterms:W3CDTF">2016-02-16T08:47:25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