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79F-5BFD-4667-AC74-D3E2FA92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D4E-11C3-4927-8501-1CB2EC4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F05-7639-4D10-87C4-314EADAD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EB4-2158-4CAA-8F57-C72FAC53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649-FA3D-441F-996E-F6130677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07B-C091-4774-BB18-F7A56367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5B8-4D5F-49A2-A0D5-2CE43CE5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C10-07CA-49A1-9BC8-65C2B07D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346-224B-4D28-80E5-7CC83702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F98-6C0B-4161-983B-C1123D0C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433-E255-4FD5-B76E-A536B4F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D3A-DB36-4075-807F-CBC80BD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5A8F8F-463A-4BBB-8888-1E266D807E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60360" y="836640"/>
            <a:ext cx="1294920" cy="2170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please add your logo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354560" y="2205000"/>
            <a:ext cx="2725200" cy="2725200"/>
          </a:xfrm>
          <a:prstGeom prst="ellipse">
            <a:avLst/>
          </a:prstGeom>
          <a:noFill/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" name="Oval 4"/>
          <p:cNvSpPr/>
          <p:nvPr/>
        </p:nvSpPr>
        <p:spPr>
          <a:xfrm>
            <a:off x="4265640" y="2128680"/>
            <a:ext cx="2896920" cy="2896920"/>
          </a:xfrm>
          <a:prstGeom prst="ellipse">
            <a:avLst/>
          </a:prstGeom>
          <a:noFill/>
          <a:ln w="12700">
            <a:solidFill>
              <a:srgbClr val="1496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Oval 5"/>
          <p:cNvSpPr/>
          <p:nvPr/>
        </p:nvSpPr>
        <p:spPr>
          <a:xfrm>
            <a:off x="4152960" y="2021040"/>
            <a:ext cx="3128760" cy="3126960"/>
          </a:xfrm>
          <a:prstGeom prst="ellipse">
            <a:avLst/>
          </a:prstGeom>
          <a:noFill/>
          <a:ln w="6350">
            <a:solidFill>
              <a:srgbClr val="103e61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502160" y="2343240"/>
            <a:ext cx="2437920" cy="2437920"/>
          </a:xfrm>
          <a:prstGeom prst="ellipse">
            <a:avLst/>
          </a:prstGeom>
          <a:noFill/>
          <a:ln w="6350">
            <a:solidFill>
              <a:srgbClr val="1496c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Oval 7"/>
          <p:cNvSpPr/>
          <p:nvPr/>
        </p:nvSpPr>
        <p:spPr>
          <a:xfrm>
            <a:off x="3786120" y="1658880"/>
            <a:ext cx="3846240" cy="3847680"/>
          </a:xfrm>
          <a:prstGeom prst="ellipse">
            <a:avLst/>
          </a:prstGeom>
          <a:noFill/>
          <a:ln w="635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47" name="中国 52"/>
          <p:cNvGrpSpPr/>
          <p:nvPr/>
        </p:nvGrpSpPr>
        <p:grpSpPr>
          <a:xfrm>
            <a:off x="4745160" y="2584440"/>
            <a:ext cx="1739520" cy="1584000"/>
            <a:chOff x="4745160" y="2584440"/>
            <a:chExt cx="1739520" cy="1584000"/>
          </a:xfrm>
        </p:grpSpPr>
        <p:sp>
          <p:nvSpPr>
            <p:cNvPr id="48" name="Freeform 9"/>
            <p:cNvSpPr/>
            <p:nvPr/>
          </p:nvSpPr>
          <p:spPr>
            <a:xfrm>
              <a:off x="5475600" y="2602080"/>
              <a:ext cx="762120" cy="716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329440" y="3087000"/>
              <a:ext cx="486720" cy="4539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675400" y="3244680"/>
              <a:ext cx="97920" cy="1785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4745160" y="2773800"/>
              <a:ext cx="695880" cy="57996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196960" y="3229560"/>
              <a:ext cx="433440" cy="3420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445720" y="3469680"/>
              <a:ext cx="374400" cy="36216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822920" y="3322440"/>
              <a:ext cx="670320" cy="44928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433840" y="3696840"/>
              <a:ext cx="303120" cy="34812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52000" y="3692160"/>
              <a:ext cx="204840" cy="195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685120" y="3812040"/>
              <a:ext cx="267840" cy="2242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722200" y="3565080"/>
              <a:ext cx="151200" cy="16920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722200" y="3235320"/>
              <a:ext cx="172800" cy="3398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5871960" y="3171960"/>
              <a:ext cx="114840" cy="2786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842080" y="3647160"/>
              <a:ext cx="183240" cy="23508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820480" y="3511800"/>
              <a:ext cx="260280" cy="1796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5878440" y="3842640"/>
              <a:ext cx="271080" cy="2361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6006600" y="3637800"/>
              <a:ext cx="162000" cy="2433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6090840" y="3702600"/>
              <a:ext cx="150120" cy="20196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6158160" y="3574440"/>
              <a:ext cx="128880" cy="164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6032160" y="3431880"/>
              <a:ext cx="163080" cy="2196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6064200" y="3177720"/>
              <a:ext cx="42480" cy="68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6021360" y="3147120"/>
              <a:ext cx="56160" cy="666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6117480" y="3013920"/>
              <a:ext cx="200520" cy="2102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162480" y="2886840"/>
              <a:ext cx="285840" cy="2138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6101640" y="2584440"/>
              <a:ext cx="383040" cy="38340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6025680" y="3273120"/>
              <a:ext cx="231480" cy="15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42400" y="3539160"/>
              <a:ext cx="36000" cy="349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072480" y="3403800"/>
              <a:ext cx="201600" cy="1713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5967000" y="3075120"/>
              <a:ext cx="187560" cy="2952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5881320" y="3358800"/>
              <a:ext cx="197280" cy="2149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6253200" y="3819240"/>
              <a:ext cx="56160" cy="1504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5836680" y="4086360"/>
              <a:ext cx="84960" cy="8208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80" name="正圆 87"/>
          <p:cNvSpPr/>
          <p:nvPr/>
        </p:nvSpPr>
        <p:spPr>
          <a:xfrm flipH="1">
            <a:off x="6031080" y="3443400"/>
            <a:ext cx="156960" cy="156960"/>
          </a:xfrm>
          <a:prstGeom prst="ellipse">
            <a:avLst/>
          </a:prstGeom>
          <a:solidFill>
            <a:srgbClr val="1496c8">
              <a:alpha val="8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1" name="正圆 87"/>
          <p:cNvSpPr/>
          <p:nvPr/>
        </p:nvSpPr>
        <p:spPr>
          <a:xfrm flipH="1">
            <a:off x="5984280" y="3395520"/>
            <a:ext cx="247320" cy="245880"/>
          </a:xfrm>
          <a:prstGeom prst="ellipse">
            <a:avLst/>
          </a:prstGeom>
          <a:solidFill>
            <a:srgbClr val="1496c8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2" name="正圆 87"/>
          <p:cNvSpPr/>
          <p:nvPr/>
        </p:nvSpPr>
        <p:spPr>
          <a:xfrm flipH="1">
            <a:off x="6071400" y="3481560"/>
            <a:ext cx="75960" cy="75960"/>
          </a:xfrm>
          <a:prstGeom prst="ellipse">
            <a:avLst/>
          </a:prstGeom>
          <a:solidFill>
            <a:srgbClr val="c0c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4824360" y="4098960"/>
            <a:ext cx="1800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Add your t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1187280" y="3139920"/>
            <a:ext cx="1368360" cy="360"/>
          </a:xfrm>
          <a:prstGeom prst="line">
            <a:avLst/>
          </a:prstGeom>
          <a:ln w="25400">
            <a:solidFill>
              <a:srgbClr val="1496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5" name="Line 46"/>
          <p:cNvSpPr/>
          <p:nvPr/>
        </p:nvSpPr>
        <p:spPr>
          <a:xfrm>
            <a:off x="1187280" y="3292200"/>
            <a:ext cx="936720" cy="1800"/>
          </a:xfrm>
          <a:prstGeom prst="line">
            <a:avLst/>
          </a:prstGeom>
          <a:ln w="25400">
            <a:solidFill>
              <a:srgbClr val="1496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6" name="Line 47"/>
          <p:cNvSpPr/>
          <p:nvPr/>
        </p:nvSpPr>
        <p:spPr>
          <a:xfrm>
            <a:off x="1188720" y="3470040"/>
            <a:ext cx="576360" cy="1800"/>
          </a:xfrm>
          <a:prstGeom prst="line">
            <a:avLst/>
          </a:prstGeom>
          <a:ln w="25400">
            <a:solidFill>
              <a:srgbClr val="1496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326880" y="2565360"/>
            <a:ext cx="863280" cy="1079280"/>
          </a:xfrm>
          <a:prstGeom prst="rect">
            <a:avLst/>
          </a:prstGeom>
          <a:solidFill>
            <a:srgbClr val="171d2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8" name="Text Box 49"/>
          <p:cNvSpPr/>
          <p:nvPr/>
        </p:nvSpPr>
        <p:spPr>
          <a:xfrm>
            <a:off x="1108080" y="2324160"/>
            <a:ext cx="2595240" cy="77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Add your the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h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2402640" y="1141560"/>
            <a:ext cx="445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黑色炫酷时尚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8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581">
                                      <p:cBhvr>
                                        <p:cTn id="8" dur="8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8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0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0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 repeatCount="indefinite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187280" y="1125360"/>
            <a:ext cx="1296720" cy="21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"/>
          <p:cNvSpPr/>
          <p:nvPr/>
        </p:nvSpPr>
        <p:spPr>
          <a:xfrm>
            <a:off x="4140360" y="2062080"/>
            <a:ext cx="2725200" cy="2725200"/>
          </a:xfrm>
          <a:prstGeom prst="ellipse">
            <a:avLst/>
          </a:prstGeom>
          <a:noFill/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Oval 4"/>
          <p:cNvSpPr/>
          <p:nvPr/>
        </p:nvSpPr>
        <p:spPr>
          <a:xfrm>
            <a:off x="4051440" y="1984320"/>
            <a:ext cx="2896920" cy="2898360"/>
          </a:xfrm>
          <a:prstGeom prst="ellipse">
            <a:avLst/>
          </a:prstGeom>
          <a:noFill/>
          <a:ln w="12700">
            <a:solidFill>
              <a:srgbClr val="1496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4" name="Oval 5"/>
          <p:cNvSpPr/>
          <p:nvPr/>
        </p:nvSpPr>
        <p:spPr>
          <a:xfrm>
            <a:off x="3938760" y="1876320"/>
            <a:ext cx="3126960" cy="3128760"/>
          </a:xfrm>
          <a:prstGeom prst="ellipse">
            <a:avLst/>
          </a:prstGeom>
          <a:noFill/>
          <a:ln w="6350">
            <a:solidFill>
              <a:srgbClr val="103e61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Oval 6"/>
          <p:cNvSpPr/>
          <p:nvPr/>
        </p:nvSpPr>
        <p:spPr>
          <a:xfrm>
            <a:off x="4287960" y="2200320"/>
            <a:ext cx="2437920" cy="2437920"/>
          </a:xfrm>
          <a:prstGeom prst="ellipse">
            <a:avLst/>
          </a:prstGeom>
          <a:noFill/>
          <a:ln w="6350">
            <a:solidFill>
              <a:srgbClr val="1496c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6" name="Oval 7"/>
          <p:cNvSpPr/>
          <p:nvPr/>
        </p:nvSpPr>
        <p:spPr>
          <a:xfrm>
            <a:off x="3570120" y="1515960"/>
            <a:ext cx="3847680" cy="3846240"/>
          </a:xfrm>
          <a:prstGeom prst="ellipse">
            <a:avLst/>
          </a:prstGeom>
          <a:noFill/>
          <a:ln w="635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97" name="中国 52"/>
          <p:cNvGrpSpPr/>
          <p:nvPr/>
        </p:nvGrpSpPr>
        <p:grpSpPr>
          <a:xfrm>
            <a:off x="4570560" y="2637000"/>
            <a:ext cx="1739520" cy="1582200"/>
            <a:chOff x="4570560" y="2637000"/>
            <a:chExt cx="1739520" cy="1582200"/>
          </a:xfrm>
        </p:grpSpPr>
        <p:sp>
          <p:nvSpPr>
            <p:cNvPr id="98" name="Freeform 9"/>
            <p:cNvSpPr/>
            <p:nvPr/>
          </p:nvSpPr>
          <p:spPr>
            <a:xfrm>
              <a:off x="5301000" y="2654640"/>
              <a:ext cx="762120" cy="71568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5154480" y="3138840"/>
              <a:ext cx="486720" cy="4536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5500800" y="3296520"/>
              <a:ext cx="97920" cy="1782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4570560" y="2826000"/>
              <a:ext cx="695880" cy="57924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5022360" y="3281400"/>
              <a:ext cx="433440" cy="3420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5271120" y="3521160"/>
              <a:ext cx="374400" cy="3618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4648320" y="3374280"/>
              <a:ext cx="670320" cy="44892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5259240" y="3747960"/>
              <a:ext cx="303120" cy="3477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5477040" y="3743280"/>
              <a:ext cx="204840" cy="1947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5510160" y="3863160"/>
              <a:ext cx="267840" cy="2242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5547600" y="3616200"/>
              <a:ext cx="151200" cy="1688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5547600" y="3287160"/>
              <a:ext cx="172800" cy="3394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5697360" y="3223440"/>
              <a:ext cx="114840" cy="2782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5667480" y="3698640"/>
              <a:ext cx="183240" cy="23472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5645880" y="3563280"/>
              <a:ext cx="260280" cy="1796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5703480" y="3893760"/>
              <a:ext cx="271080" cy="2361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5831640" y="3689280"/>
              <a:ext cx="162000" cy="243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5916240" y="3754080"/>
              <a:ext cx="150120" cy="20196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6" name="Freeform 27"/>
            <p:cNvSpPr/>
            <p:nvPr/>
          </p:nvSpPr>
          <p:spPr>
            <a:xfrm>
              <a:off x="5983560" y="3625920"/>
              <a:ext cx="128880" cy="1641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7" name="Freeform 28"/>
            <p:cNvSpPr/>
            <p:nvPr/>
          </p:nvSpPr>
          <p:spPr>
            <a:xfrm>
              <a:off x="5857560" y="3483360"/>
              <a:ext cx="163080" cy="2196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8" name="Freeform 29"/>
            <p:cNvSpPr/>
            <p:nvPr/>
          </p:nvSpPr>
          <p:spPr>
            <a:xfrm>
              <a:off x="5889600" y="3229560"/>
              <a:ext cx="42480" cy="676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5846760" y="3198960"/>
              <a:ext cx="56160" cy="666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0" name="Freeform 31"/>
            <p:cNvSpPr/>
            <p:nvPr/>
          </p:nvSpPr>
          <p:spPr>
            <a:xfrm>
              <a:off x="5942880" y="3066120"/>
              <a:ext cx="200520" cy="2102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1" name="Freeform 32"/>
            <p:cNvSpPr/>
            <p:nvPr/>
          </p:nvSpPr>
          <p:spPr>
            <a:xfrm>
              <a:off x="5987880" y="2939040"/>
              <a:ext cx="285840" cy="2134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2" name="Freeform 33"/>
            <p:cNvSpPr/>
            <p:nvPr/>
          </p:nvSpPr>
          <p:spPr>
            <a:xfrm>
              <a:off x="5927040" y="2637000"/>
              <a:ext cx="383040" cy="38304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3" name="Freeform 34"/>
            <p:cNvSpPr/>
            <p:nvPr/>
          </p:nvSpPr>
          <p:spPr>
            <a:xfrm>
              <a:off x="5851080" y="3324600"/>
              <a:ext cx="231480" cy="1594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4" name="Freeform 35"/>
            <p:cNvSpPr/>
            <p:nvPr/>
          </p:nvSpPr>
          <p:spPr>
            <a:xfrm>
              <a:off x="6067800" y="3590640"/>
              <a:ext cx="36000" cy="349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5" name="Freeform 36"/>
            <p:cNvSpPr/>
            <p:nvPr/>
          </p:nvSpPr>
          <p:spPr>
            <a:xfrm>
              <a:off x="5897880" y="3455280"/>
              <a:ext cx="201600" cy="1713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6" name="Freeform 37"/>
            <p:cNvSpPr/>
            <p:nvPr/>
          </p:nvSpPr>
          <p:spPr>
            <a:xfrm>
              <a:off x="5792400" y="3127320"/>
              <a:ext cx="187560" cy="29484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7" name="Freeform 38"/>
            <p:cNvSpPr/>
            <p:nvPr/>
          </p:nvSpPr>
          <p:spPr>
            <a:xfrm>
              <a:off x="5706720" y="3410640"/>
              <a:ext cx="197280" cy="2149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>
              <a:off x="6078600" y="3870360"/>
              <a:ext cx="56160" cy="1501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9" name="Freeform 40"/>
            <p:cNvSpPr/>
            <p:nvPr/>
          </p:nvSpPr>
          <p:spPr>
            <a:xfrm>
              <a:off x="5662080" y="4137120"/>
              <a:ext cx="84960" cy="8208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0" name="正圆 181"/>
          <p:cNvSpPr/>
          <p:nvPr/>
        </p:nvSpPr>
        <p:spPr>
          <a:xfrm>
            <a:off x="5002200" y="1557360"/>
            <a:ext cx="979200" cy="979200"/>
          </a:xfrm>
          <a:prstGeom prst="ellipse">
            <a:avLst/>
          </a:prstGeom>
          <a:solidFill>
            <a:srgbClr val="2a334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4a566c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正圆 181"/>
          <p:cNvSpPr/>
          <p:nvPr/>
        </p:nvSpPr>
        <p:spPr>
          <a:xfrm>
            <a:off x="3922560" y="3718080"/>
            <a:ext cx="979200" cy="979200"/>
          </a:xfrm>
          <a:prstGeom prst="ellipse">
            <a:avLst/>
          </a:prstGeom>
          <a:solidFill>
            <a:srgbClr val="2a334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4a566c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正圆 181"/>
          <p:cNvSpPr/>
          <p:nvPr/>
        </p:nvSpPr>
        <p:spPr>
          <a:xfrm>
            <a:off x="6083280" y="3718080"/>
            <a:ext cx="979200" cy="979200"/>
          </a:xfrm>
          <a:prstGeom prst="ellipse">
            <a:avLst/>
          </a:prstGeom>
          <a:solidFill>
            <a:srgbClr val="2a334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4a566c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Group 44"/>
          <p:cNvGrpSpPr/>
          <p:nvPr/>
        </p:nvGrpSpPr>
        <p:grpSpPr>
          <a:xfrm>
            <a:off x="1116000" y="1989000"/>
            <a:ext cx="1945080" cy="577080"/>
            <a:chOff x="1116000" y="1989000"/>
            <a:chExt cx="1945080" cy="577080"/>
          </a:xfrm>
        </p:grpSpPr>
        <p:sp>
          <p:nvSpPr>
            <p:cNvPr id="134" name="Text Box 45"/>
            <p:cNvSpPr/>
            <p:nvPr/>
          </p:nvSpPr>
          <p:spPr>
            <a:xfrm>
              <a:off x="1260360" y="1989000"/>
              <a:ext cx="180072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46"/>
            <p:cNvSpPr/>
            <p:nvPr/>
          </p:nvSpPr>
          <p:spPr>
            <a:xfrm>
              <a:off x="1116000" y="2033280"/>
              <a:ext cx="1080" cy="503280"/>
            </a:xfrm>
            <a:prstGeom prst="line">
              <a:avLst/>
            </a:prstGeom>
            <a:ln w="25400">
              <a:solidFill>
                <a:srgbClr val="1496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1116000" y="2905200"/>
            <a:ext cx="1945080" cy="577080"/>
            <a:chOff x="1116000" y="2905200"/>
            <a:chExt cx="1945080" cy="577080"/>
          </a:xfrm>
        </p:grpSpPr>
        <p:sp>
          <p:nvSpPr>
            <p:cNvPr id="137" name="Text Box 48"/>
            <p:cNvSpPr/>
            <p:nvPr/>
          </p:nvSpPr>
          <p:spPr>
            <a:xfrm>
              <a:off x="1260360" y="2905200"/>
              <a:ext cx="180072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49"/>
            <p:cNvSpPr/>
            <p:nvPr/>
          </p:nvSpPr>
          <p:spPr>
            <a:xfrm>
              <a:off x="1116000" y="2948040"/>
              <a:ext cx="1080" cy="503280"/>
            </a:xfrm>
            <a:prstGeom prst="line">
              <a:avLst/>
            </a:prstGeom>
            <a:ln w="25400">
              <a:solidFill>
                <a:srgbClr val="1496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39" name="Group 50"/>
          <p:cNvGrpSpPr/>
          <p:nvPr/>
        </p:nvGrpSpPr>
        <p:grpSpPr>
          <a:xfrm>
            <a:off x="1116000" y="3835440"/>
            <a:ext cx="1945080" cy="577080"/>
            <a:chOff x="1116000" y="3835440"/>
            <a:chExt cx="1945080" cy="577080"/>
          </a:xfrm>
        </p:grpSpPr>
        <p:sp>
          <p:nvSpPr>
            <p:cNvPr id="140" name="Text Box 51"/>
            <p:cNvSpPr/>
            <p:nvPr/>
          </p:nvSpPr>
          <p:spPr>
            <a:xfrm>
              <a:off x="1260360" y="3835440"/>
              <a:ext cx="180072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52"/>
            <p:cNvSpPr/>
            <p:nvPr/>
          </p:nvSpPr>
          <p:spPr>
            <a:xfrm>
              <a:off x="1116000" y="3862440"/>
              <a:ext cx="1080" cy="503280"/>
            </a:xfrm>
            <a:prstGeom prst="line">
              <a:avLst/>
            </a:prstGeom>
            <a:ln w="25400">
              <a:solidFill>
                <a:srgbClr val="1496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847 0.202315 C 0.023681 0.187593 0.103264 0.319815 0.156875 0.322593 C 0.210556 0.325278 0.247361 0.225185 0.24875 0.184722 C 0.250278 0.144259 0.223542 0.066852 0.171389 0.023704 C 0.119375 -0.019444 0.03 0.021667 0.004653 0 E">
                                      <p:cBhvr>
                                        <p:cTn id="3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764 -0.116759 C 0.092014 -0.117222 0.148125 -0.319907 0.102014 -0.353148 C 0.055764 -0.386481 -0.073194 -0.285 -0.094236 -0.263056 C -0.115069 -0.241019 -0.125764 -0.168796 -0.106736 -0.117407 C -0.087708 -0.066019 0.005903 -0.026759 0.000764 -0.006296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3472 -0.113611 C -0.120972 -0.088611 -0.286597 0.042963 -0.261875 0.065556 C -0.237222 0.088241 -0.137292 0.184444 -0.084931 0.171296 C -0.032569 0.158148 -0.019722 0.004352 0 0 E">
                                      <p:cBhvr>
                                        <p:cTn id="3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1773360"/>
            <a:ext cx="9143640" cy="3168360"/>
          </a:xfrm>
          <a:prstGeom prst="rect">
            <a:avLst/>
          </a:prstGeom>
          <a:solidFill>
            <a:srgbClr val="4a566c">
              <a:alpha val="1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2987640" y="1966680"/>
            <a:ext cx="360" cy="2770200"/>
          </a:xfrm>
          <a:prstGeom prst="line">
            <a:avLst/>
          </a:prstGeom>
          <a:ln w="12700">
            <a:solidFill>
              <a:srgbClr val="1496c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260360" y="693720"/>
            <a:ext cx="1800000" cy="63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Add Your T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062000" y="4141800"/>
            <a:ext cx="576000" cy="509760"/>
            <a:chOff x="1062000" y="4141800"/>
            <a:chExt cx="576000" cy="509760"/>
          </a:xfrm>
        </p:grpSpPr>
        <p:sp>
          <p:nvSpPr>
            <p:cNvPr id="146" name="圆角矩形2 150"/>
            <p:cNvSpPr/>
            <p:nvPr/>
          </p:nvSpPr>
          <p:spPr>
            <a:xfrm>
              <a:off x="1062000" y="4370040"/>
              <a:ext cx="162000" cy="281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7" name="圆角矩形2 150"/>
            <p:cNvSpPr/>
            <p:nvPr/>
          </p:nvSpPr>
          <p:spPr>
            <a:xfrm>
              <a:off x="1266480" y="4245120"/>
              <a:ext cx="162000" cy="404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8" name="圆角矩形2 150"/>
            <p:cNvSpPr/>
            <p:nvPr/>
          </p:nvSpPr>
          <p:spPr>
            <a:xfrm>
              <a:off x="1476000" y="4141800"/>
              <a:ext cx="162000" cy="50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49" name="信号2 161"/>
          <p:cNvSpPr/>
          <p:nvPr/>
        </p:nvSpPr>
        <p:spPr>
          <a:xfrm>
            <a:off x="4429080" y="4076640"/>
            <a:ext cx="502920" cy="647280"/>
          </a:xfrm>
          <a:custGeom>
            <a:avLst/>
            <a:gdLst>
              <a:gd name="textAreaLeft" fmla="*/ 0 w 502920"/>
              <a:gd name="textAreaRight" fmla="*/ 503280 w 502920"/>
              <a:gd name="textAreaTop" fmla="*/ 0 h 647280"/>
              <a:gd name="textAreaBottom" fmla="*/ 647640 h 647280"/>
            </a:gdLst>
            <a:ahLst/>
            <a:rect l="textAreaLeft" t="textAreaTop" r="textAreaRight" b="textAreaBottom"/>
            <a:pathLst>
              <a:path w="1259674" h="1629655">
                <a:moveTo>
                  <a:pt x="653835" y="765559"/>
                </a:moveTo>
                <a:lnTo>
                  <a:pt x="605838" y="765559"/>
                </a:lnTo>
                <a:cubicBezTo>
                  <a:pt x="586150" y="765559"/>
                  <a:pt x="570190" y="781519"/>
                  <a:pt x="570190" y="801207"/>
                </a:cubicBezTo>
                <a:lnTo>
                  <a:pt x="570190" y="1594007"/>
                </a:lnTo>
                <a:cubicBezTo>
                  <a:pt x="570190" y="1613695"/>
                  <a:pt x="586150" y="1629655"/>
                  <a:pt x="605838" y="1629655"/>
                </a:cubicBezTo>
                <a:lnTo>
                  <a:pt x="653835" y="1629655"/>
                </a:lnTo>
                <a:cubicBezTo>
                  <a:pt x="673523" y="1629655"/>
                  <a:pt x="689483" y="1613695"/>
                  <a:pt x="689483" y="1594007"/>
                </a:cubicBezTo>
                <a:lnTo>
                  <a:pt x="689483" y="801207"/>
                </a:lnTo>
                <a:cubicBezTo>
                  <a:pt x="689483" y="781519"/>
                  <a:pt x="673523" y="765559"/>
                  <a:pt x="653835" y="765559"/>
                </a:cubicBezTo>
                <a:close/>
                <a:moveTo>
                  <a:pt x="629837" y="293110"/>
                </a:moveTo>
                <a:cubicBezTo>
                  <a:pt x="540228" y="293110"/>
                  <a:pt x="467586" y="365752"/>
                  <a:pt x="467586" y="455361"/>
                </a:cubicBezTo>
                <a:cubicBezTo>
                  <a:pt x="467586" y="544970"/>
                  <a:pt x="540228" y="617612"/>
                  <a:pt x="629837" y="617612"/>
                </a:cubicBezTo>
                <a:cubicBezTo>
                  <a:pt x="719446" y="617612"/>
                  <a:pt x="792088" y="544970"/>
                  <a:pt x="792088" y="455361"/>
                </a:cubicBezTo>
                <a:cubicBezTo>
                  <a:pt x="792088" y="365752"/>
                  <a:pt x="719446" y="293110"/>
                  <a:pt x="629837" y="293110"/>
                </a:cubicBezTo>
                <a:close/>
                <a:moveTo>
                  <a:pt x="373285" y="134938"/>
                </a:moveTo>
                <a:cubicBezTo>
                  <a:pt x="285152" y="213464"/>
                  <a:pt x="230474" y="328028"/>
                  <a:pt x="230474" y="455361"/>
                </a:cubicBezTo>
                <a:cubicBezTo>
                  <a:pt x="230474" y="582697"/>
                  <a:pt x="285152" y="697259"/>
                  <a:pt x="373285" y="775786"/>
                </a:cubicBezTo>
                <a:lnTo>
                  <a:pt x="467586" y="709160"/>
                </a:lnTo>
                <a:cubicBezTo>
                  <a:pt x="391047" y="651060"/>
                  <a:pt x="342389" y="558892"/>
                  <a:pt x="342389" y="455361"/>
                </a:cubicBezTo>
                <a:cubicBezTo>
                  <a:pt x="342389" y="351830"/>
                  <a:pt x="391047" y="259663"/>
                  <a:pt x="467586" y="201563"/>
                </a:cubicBezTo>
                <a:lnTo>
                  <a:pt x="373285" y="134938"/>
                </a:lnTo>
                <a:close/>
                <a:moveTo>
                  <a:pt x="886389" y="134938"/>
                </a:moveTo>
                <a:lnTo>
                  <a:pt x="792088" y="201563"/>
                </a:lnTo>
                <a:cubicBezTo>
                  <a:pt x="868627" y="259663"/>
                  <a:pt x="917285" y="351830"/>
                  <a:pt x="917285" y="455361"/>
                </a:cubicBezTo>
                <a:cubicBezTo>
                  <a:pt x="917285" y="558892"/>
                  <a:pt x="868627" y="651060"/>
                  <a:pt x="792088" y="709160"/>
                </a:cubicBezTo>
                <a:lnTo>
                  <a:pt x="886389" y="775786"/>
                </a:lnTo>
                <a:cubicBezTo>
                  <a:pt x="974522" y="697259"/>
                  <a:pt x="1029200" y="582697"/>
                  <a:pt x="1029200" y="455361"/>
                </a:cubicBezTo>
                <a:cubicBezTo>
                  <a:pt x="1029200" y="328028"/>
                  <a:pt x="974522" y="213464"/>
                  <a:pt x="886389" y="134938"/>
                </a:cubicBezTo>
                <a:close/>
                <a:moveTo>
                  <a:pt x="182295" y="0"/>
                </a:moveTo>
                <a:cubicBezTo>
                  <a:pt x="68824" y="118079"/>
                  <a:pt x="0" y="278683"/>
                  <a:pt x="0" y="455362"/>
                </a:cubicBezTo>
                <a:cubicBezTo>
                  <a:pt x="0" y="632040"/>
                  <a:pt x="68824" y="792644"/>
                  <a:pt x="182293" y="910723"/>
                </a:cubicBezTo>
                <a:lnTo>
                  <a:pt x="278466" y="842776"/>
                </a:lnTo>
                <a:cubicBezTo>
                  <a:pt x="179286" y="743646"/>
                  <a:pt x="117943" y="606668"/>
                  <a:pt x="117943" y="455362"/>
                </a:cubicBezTo>
                <a:cubicBezTo>
                  <a:pt x="117943" y="304057"/>
                  <a:pt x="179287" y="167078"/>
                  <a:pt x="278467" y="67947"/>
                </a:cubicBezTo>
                <a:lnTo>
                  <a:pt x="182295" y="0"/>
                </a:lnTo>
                <a:close/>
                <a:moveTo>
                  <a:pt x="1077379" y="0"/>
                </a:moveTo>
                <a:lnTo>
                  <a:pt x="981207" y="67947"/>
                </a:lnTo>
                <a:cubicBezTo>
                  <a:pt x="1080387" y="167078"/>
                  <a:pt x="1141731" y="304057"/>
                  <a:pt x="1141731" y="455362"/>
                </a:cubicBezTo>
                <a:cubicBezTo>
                  <a:pt x="1141731" y="606668"/>
                  <a:pt x="1080388" y="743646"/>
                  <a:pt x="981208" y="842776"/>
                </a:cubicBezTo>
                <a:lnTo>
                  <a:pt x="1077381" y="910723"/>
                </a:lnTo>
                <a:cubicBezTo>
                  <a:pt x="1190850" y="792644"/>
                  <a:pt x="1259674" y="632040"/>
                  <a:pt x="1259674" y="455362"/>
                </a:cubicBezTo>
                <a:cubicBezTo>
                  <a:pt x="1259674" y="278683"/>
                  <a:pt x="1190850" y="118079"/>
                  <a:pt x="1077379" y="0"/>
                </a:cubicBezTo>
                <a:close/>
              </a:path>
            </a:pathLst>
          </a:custGeom>
          <a:solidFill>
            <a:srgbClr val="ddddd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0" name="IE浏览器 163"/>
          <p:cNvSpPr/>
          <p:nvPr/>
        </p:nvSpPr>
        <p:spPr>
          <a:xfrm>
            <a:off x="7669080" y="4076640"/>
            <a:ext cx="574200" cy="574200"/>
          </a:xfrm>
          <a:custGeom>
            <a:avLst/>
            <a:gdLst>
              <a:gd name="textAreaLeft" fmla="*/ 0 w 574200"/>
              <a:gd name="textAreaRight" fmla="*/ 574560 w 574200"/>
              <a:gd name="textAreaTop" fmla="*/ 0 h 574200"/>
              <a:gd name="textAreaBottom" fmla="*/ 574560 h 574200"/>
            </a:gdLst>
            <a:ahLst/>
            <a:rect l="textAreaLeft" t="textAreaTop" r="textAreaRight" b="textAreaBottom"/>
            <a:pathLst>
              <a:path w="1119349" h="1157433">
                <a:moveTo>
                  <a:pt x="135620" y="818456"/>
                </a:moveTo>
                <a:cubicBezTo>
                  <a:pt x="71450" y="948523"/>
                  <a:pt x="57484" y="1054732"/>
                  <a:pt x="108323" y="1103729"/>
                </a:cubicBezTo>
                <a:cubicBezTo>
                  <a:pt x="164989" y="1158341"/>
                  <a:pt x="289713" y="1129874"/>
                  <a:pt x="437069" y="1040437"/>
                </a:cubicBezTo>
                <a:cubicBezTo>
                  <a:pt x="307239" y="1007168"/>
                  <a:pt x="198946" y="926245"/>
                  <a:pt x="135620" y="818456"/>
                </a:cubicBezTo>
                <a:close/>
                <a:moveTo>
                  <a:pt x="582086" y="345816"/>
                </a:moveTo>
                <a:cubicBezTo>
                  <a:pt x="490772" y="345817"/>
                  <a:pt x="434615" y="407693"/>
                  <a:pt x="413811" y="495363"/>
                </a:cubicBezTo>
                <a:lnTo>
                  <a:pt x="750361" y="495364"/>
                </a:lnTo>
                <a:cubicBezTo>
                  <a:pt x="729557" y="407692"/>
                  <a:pt x="673401" y="345816"/>
                  <a:pt x="582086" y="345816"/>
                </a:cubicBezTo>
                <a:close/>
                <a:moveTo>
                  <a:pt x="954622" y="129"/>
                </a:moveTo>
                <a:cubicBezTo>
                  <a:pt x="1007406" y="-1466"/>
                  <a:pt x="1051113" y="11645"/>
                  <a:pt x="1081775" y="41196"/>
                </a:cubicBezTo>
                <a:cubicBezTo>
                  <a:pt x="1101805" y="60500"/>
                  <a:pt x="1115030" y="85625"/>
                  <a:pt x="1119349" y="116033"/>
                </a:cubicBezTo>
                <a:cubicBezTo>
                  <a:pt x="1112931" y="103633"/>
                  <a:pt x="1104158" y="92219"/>
                  <a:pt x="1093494" y="81508"/>
                </a:cubicBezTo>
                <a:cubicBezTo>
                  <a:pt x="1010899" y="-1451"/>
                  <a:pt x="882017" y="28786"/>
                  <a:pt x="737350" y="130602"/>
                </a:cubicBezTo>
                <a:cubicBezTo>
                  <a:pt x="943277" y="190863"/>
                  <a:pt x="1091569" y="370605"/>
                  <a:pt x="1091569" y="582598"/>
                </a:cubicBezTo>
                <a:lnTo>
                  <a:pt x="1085273" y="640757"/>
                </a:lnTo>
                <a:lnTo>
                  <a:pt x="755888" y="640756"/>
                </a:lnTo>
                <a:lnTo>
                  <a:pt x="719073" y="640757"/>
                </a:lnTo>
                <a:lnTo>
                  <a:pt x="408284" y="640757"/>
                </a:lnTo>
                <a:cubicBezTo>
                  <a:pt x="424002" y="743453"/>
                  <a:pt x="484447" y="819382"/>
                  <a:pt x="582086" y="819383"/>
                </a:cubicBezTo>
                <a:cubicBezTo>
                  <a:pt x="648673" y="819382"/>
                  <a:pt x="697960" y="784070"/>
                  <a:pt x="725617" y="727992"/>
                </a:cubicBezTo>
                <a:lnTo>
                  <a:pt x="1064773" y="727992"/>
                </a:lnTo>
                <a:cubicBezTo>
                  <a:pt x="1000780" y="921122"/>
                  <a:pt x="807116" y="1060320"/>
                  <a:pt x="578539" y="1060320"/>
                </a:cubicBezTo>
                <a:cubicBezTo>
                  <a:pt x="541437" y="1060319"/>
                  <a:pt x="505255" y="1056652"/>
                  <a:pt x="470646" y="1048435"/>
                </a:cubicBezTo>
                <a:cubicBezTo>
                  <a:pt x="288189" y="1159820"/>
                  <a:pt x="124174" y="1191927"/>
                  <a:pt x="45670" y="1116267"/>
                </a:cubicBezTo>
                <a:cubicBezTo>
                  <a:pt x="-38972" y="1034693"/>
                  <a:pt x="-2092" y="849162"/>
                  <a:pt x="124297" y="645271"/>
                </a:cubicBezTo>
                <a:cubicBezTo>
                  <a:pt x="126384" y="641564"/>
                  <a:pt x="128546" y="637931"/>
                  <a:pt x="130887" y="634433"/>
                </a:cubicBezTo>
                <a:cubicBezTo>
                  <a:pt x="140131" y="616742"/>
                  <a:pt x="151256" y="599735"/>
                  <a:pt x="163296" y="582889"/>
                </a:cubicBezTo>
                <a:cubicBezTo>
                  <a:pt x="171413" y="570408"/>
                  <a:pt x="179765" y="558285"/>
                  <a:pt x="189707" y="547372"/>
                </a:cubicBezTo>
                <a:cubicBezTo>
                  <a:pt x="207410" y="520542"/>
                  <a:pt x="227598" y="494496"/>
                  <a:pt x="249351" y="468810"/>
                </a:cubicBezTo>
                <a:cubicBezTo>
                  <a:pt x="261501" y="453873"/>
                  <a:pt x="274484" y="439223"/>
                  <a:pt x="288439" y="424719"/>
                </a:cubicBezTo>
                <a:cubicBezTo>
                  <a:pt x="304701" y="403895"/>
                  <a:pt x="322841" y="384213"/>
                  <a:pt x="341644" y="364703"/>
                </a:cubicBezTo>
                <a:cubicBezTo>
                  <a:pt x="392793" y="311630"/>
                  <a:pt x="445389" y="263415"/>
                  <a:pt x="498166" y="220924"/>
                </a:cubicBezTo>
                <a:cubicBezTo>
                  <a:pt x="310657" y="309270"/>
                  <a:pt x="183697" y="431706"/>
                  <a:pt x="65845" y="579499"/>
                </a:cubicBezTo>
                <a:cubicBezTo>
                  <a:pt x="67312" y="317087"/>
                  <a:pt x="296312" y="104878"/>
                  <a:pt x="578538" y="104878"/>
                </a:cubicBezTo>
                <a:lnTo>
                  <a:pt x="651994" y="111773"/>
                </a:lnTo>
                <a:cubicBezTo>
                  <a:pt x="764896" y="41979"/>
                  <a:pt x="871117" y="2651"/>
                  <a:pt x="954622" y="129"/>
                </a:cubicBezTo>
                <a:close/>
              </a:path>
            </a:pathLst>
          </a:custGeom>
          <a:solidFill>
            <a:srgbClr val="ddddd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435720" y="1985760"/>
            <a:ext cx="360" cy="2770200"/>
          </a:xfrm>
          <a:prstGeom prst="line">
            <a:avLst/>
          </a:prstGeom>
          <a:ln w="12700">
            <a:solidFill>
              <a:srgbClr val="1496c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01560" y="2379600"/>
            <a:ext cx="1953720" cy="100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3730680" y="2360520"/>
            <a:ext cx="1953720" cy="100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6835680" y="2341440"/>
            <a:ext cx="1953720" cy="100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468000" y="620640"/>
            <a:ext cx="936720" cy="1440"/>
          </a:xfrm>
          <a:prstGeom prst="line">
            <a:avLst/>
          </a:prstGeom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56" name="Group 16"/>
          <p:cNvGrpSpPr/>
          <p:nvPr/>
        </p:nvGrpSpPr>
        <p:grpSpPr>
          <a:xfrm>
            <a:off x="612720" y="42840"/>
            <a:ext cx="594000" cy="1105920"/>
            <a:chOff x="612720" y="42840"/>
            <a:chExt cx="594000" cy="1105920"/>
          </a:xfrm>
        </p:grpSpPr>
        <p:sp>
          <p:nvSpPr>
            <p:cNvPr id="157" name="Rectangle 17"/>
            <p:cNvSpPr/>
            <p:nvPr/>
          </p:nvSpPr>
          <p:spPr>
            <a:xfrm>
              <a:off x="660960" y="42840"/>
              <a:ext cx="503280" cy="647280"/>
            </a:xfrm>
            <a:prstGeom prst="rect">
              <a:avLst/>
            </a:pr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>
              <a:off x="612720" y="548640"/>
              <a:ext cx="594000" cy="600120"/>
            </a:xfrm>
            <a:custGeom>
              <a:avLst/>
              <a:gdLst>
                <a:gd name="textAreaLeft" fmla="*/ 86760 w 594000"/>
                <a:gd name="textAreaRight" fmla="*/ 507240 w 594000"/>
                <a:gd name="textAreaTop" fmla="*/ 88200 h 600120"/>
                <a:gd name="textAreaBottom" fmla="*/ 51192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59" name="Rectangle 19"/>
          <p:cNvSpPr/>
          <p:nvPr/>
        </p:nvSpPr>
        <p:spPr>
          <a:xfrm>
            <a:off x="325440" y="3240"/>
            <a:ext cx="1294920" cy="620280"/>
          </a:xfrm>
          <a:prstGeom prst="rect">
            <a:avLst/>
          </a:prstGeom>
          <a:solidFill>
            <a:srgbClr val="171d2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713 E">
                                      <p:cBhvr>
                                        <p:cTn id="5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3359160" y="796680"/>
            <a:ext cx="1600920" cy="1108800"/>
            <a:chOff x="3359160" y="796680"/>
            <a:chExt cx="1600920" cy="1108800"/>
          </a:xfrm>
        </p:grpSpPr>
        <p:sp>
          <p:nvSpPr>
            <p:cNvPr id="161" name="任意多边形 197"/>
            <p:cNvSpPr/>
            <p:nvPr/>
          </p:nvSpPr>
          <p:spPr>
            <a:xfrm rot="8940000">
              <a:off x="3399480" y="1539360"/>
              <a:ext cx="424800" cy="27612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2" name="任意多边形 197"/>
            <p:cNvSpPr/>
            <p:nvPr/>
          </p:nvSpPr>
          <p:spPr>
            <a:xfrm rot="19740000">
              <a:off x="4494600" y="886320"/>
              <a:ext cx="424800" cy="27612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 rot="19740000">
              <a:off x="3606120" y="1176120"/>
              <a:ext cx="1062720" cy="275400"/>
            </a:xfrm>
            <a:prstGeom prst="rect">
              <a:avLst/>
            </a:pr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496c8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204"/>
            <p:cNvSpPr/>
            <p:nvPr/>
          </p:nvSpPr>
          <p:spPr>
            <a:xfrm rot="19740000">
              <a:off x="4583520" y="1180800"/>
              <a:ext cx="101520" cy="414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04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004"/>
                  </a:lnTo>
                  <a:close/>
                </a:path>
              </a:pathLst>
            </a:custGeom>
            <a:solidFill>
              <a:srgbClr val="4a566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5" name="任意多边形 208"/>
            <p:cNvSpPr/>
            <p:nvPr/>
          </p:nvSpPr>
          <p:spPr>
            <a:xfrm rot="19740000">
              <a:off x="3757320" y="1676880"/>
              <a:ext cx="105120" cy="36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66" name="Group 8"/>
          <p:cNvGrpSpPr/>
          <p:nvPr/>
        </p:nvGrpSpPr>
        <p:grpSpPr>
          <a:xfrm>
            <a:off x="1266840" y="2768040"/>
            <a:ext cx="1600920" cy="1108800"/>
            <a:chOff x="1266840" y="2768040"/>
            <a:chExt cx="1600920" cy="1108800"/>
          </a:xfrm>
        </p:grpSpPr>
        <p:sp>
          <p:nvSpPr>
            <p:cNvPr id="167" name="任意多边形 197"/>
            <p:cNvSpPr/>
            <p:nvPr/>
          </p:nvSpPr>
          <p:spPr>
            <a:xfrm rot="8940000">
              <a:off x="1307160" y="3510720"/>
              <a:ext cx="424800" cy="27612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8" name="任意多边形 197"/>
            <p:cNvSpPr/>
            <p:nvPr/>
          </p:nvSpPr>
          <p:spPr>
            <a:xfrm rot="19740000">
              <a:off x="2402280" y="2857680"/>
              <a:ext cx="424800" cy="27612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9" name="Rectangle 11"/>
            <p:cNvSpPr/>
            <p:nvPr/>
          </p:nvSpPr>
          <p:spPr>
            <a:xfrm rot="19740000">
              <a:off x="1513800" y="3147840"/>
              <a:ext cx="1062720" cy="275400"/>
            </a:xfrm>
            <a:prstGeom prst="rect">
              <a:avLst/>
            </a:pr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496c8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204"/>
            <p:cNvSpPr/>
            <p:nvPr/>
          </p:nvSpPr>
          <p:spPr>
            <a:xfrm rot="19740000">
              <a:off x="2491200" y="3152520"/>
              <a:ext cx="101520" cy="414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04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004"/>
                  </a:lnTo>
                  <a:close/>
                </a:path>
              </a:pathLst>
            </a:custGeom>
            <a:solidFill>
              <a:srgbClr val="4a566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1" name="任意多边形 208"/>
            <p:cNvSpPr/>
            <p:nvPr/>
          </p:nvSpPr>
          <p:spPr>
            <a:xfrm rot="19740000">
              <a:off x="1665000" y="3648600"/>
              <a:ext cx="105120" cy="36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72" name="Group 14"/>
          <p:cNvGrpSpPr/>
          <p:nvPr/>
        </p:nvGrpSpPr>
        <p:grpSpPr>
          <a:xfrm>
            <a:off x="4047840" y="2751120"/>
            <a:ext cx="1601640" cy="1109880"/>
            <a:chOff x="4047840" y="2751120"/>
            <a:chExt cx="1601640" cy="1109880"/>
          </a:xfrm>
        </p:grpSpPr>
        <p:sp>
          <p:nvSpPr>
            <p:cNvPr id="173" name="任意多边形 197"/>
            <p:cNvSpPr/>
            <p:nvPr/>
          </p:nvSpPr>
          <p:spPr>
            <a:xfrm rot="8940000">
              <a:off x="4088520" y="3493800"/>
              <a:ext cx="424800" cy="27720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任意多边形 197"/>
            <p:cNvSpPr/>
            <p:nvPr/>
          </p:nvSpPr>
          <p:spPr>
            <a:xfrm rot="19740000">
              <a:off x="5183640" y="2840760"/>
              <a:ext cx="424800" cy="27720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5" name="Rectangle 17"/>
            <p:cNvSpPr/>
            <p:nvPr/>
          </p:nvSpPr>
          <p:spPr>
            <a:xfrm rot="19740000">
              <a:off x="4295160" y="3130200"/>
              <a:ext cx="1062720" cy="276840"/>
            </a:xfrm>
            <a:prstGeom prst="rect">
              <a:avLst/>
            </a:pr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496c8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204"/>
            <p:cNvSpPr/>
            <p:nvPr/>
          </p:nvSpPr>
          <p:spPr>
            <a:xfrm rot="19740000">
              <a:off x="5272920" y="3136320"/>
              <a:ext cx="101520" cy="4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04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004"/>
                  </a:lnTo>
                  <a:close/>
                </a:path>
              </a:pathLst>
            </a:custGeom>
            <a:solidFill>
              <a:srgbClr val="4a566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7" name="任意多边形 208"/>
            <p:cNvSpPr/>
            <p:nvPr/>
          </p:nvSpPr>
          <p:spPr>
            <a:xfrm rot="19740000">
              <a:off x="4446720" y="3632400"/>
              <a:ext cx="105120" cy="36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3881520" y="1227240"/>
            <a:ext cx="3427560" cy="1898280"/>
            <a:chOff x="3881520" y="1227240"/>
            <a:chExt cx="3427560" cy="1898280"/>
          </a:xfrm>
        </p:grpSpPr>
        <p:sp>
          <p:nvSpPr>
            <p:cNvPr id="179" name="Rectangle 21"/>
            <p:cNvSpPr/>
            <p:nvPr/>
          </p:nvSpPr>
          <p:spPr>
            <a:xfrm>
              <a:off x="3881520" y="1227240"/>
              <a:ext cx="3427560" cy="1898280"/>
            </a:xfrm>
            <a:prstGeom prst="rect">
              <a:avLst/>
            </a:prstGeom>
            <a:solidFill>
              <a:srgbClr val="4a566c">
                <a:alpha val="1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0" name="Text Box 22"/>
            <p:cNvSpPr/>
            <p:nvPr/>
          </p:nvSpPr>
          <p:spPr>
            <a:xfrm>
              <a:off x="4533840" y="1628280"/>
              <a:ext cx="1954800" cy="1003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Group 23"/>
          <p:cNvGrpSpPr/>
          <p:nvPr/>
        </p:nvGrpSpPr>
        <p:grpSpPr>
          <a:xfrm>
            <a:off x="1766880" y="3189240"/>
            <a:ext cx="2733840" cy="2522160"/>
            <a:chOff x="1766880" y="3189240"/>
            <a:chExt cx="2733840" cy="2522160"/>
          </a:xfrm>
        </p:grpSpPr>
        <p:sp>
          <p:nvSpPr>
            <p:cNvPr id="182" name="Rectangle 24"/>
            <p:cNvSpPr/>
            <p:nvPr/>
          </p:nvSpPr>
          <p:spPr>
            <a:xfrm>
              <a:off x="1766880" y="3189240"/>
              <a:ext cx="2733840" cy="2522160"/>
            </a:xfrm>
            <a:prstGeom prst="rect">
              <a:avLst/>
            </a:prstGeom>
            <a:solidFill>
              <a:srgbClr val="4a566c">
                <a:alpha val="1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3" name="Text Box 25"/>
            <p:cNvSpPr/>
            <p:nvPr/>
          </p:nvSpPr>
          <p:spPr>
            <a:xfrm>
              <a:off x="2119320" y="3873240"/>
              <a:ext cx="1954080" cy="1003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26"/>
          <p:cNvGrpSpPr/>
          <p:nvPr/>
        </p:nvGrpSpPr>
        <p:grpSpPr>
          <a:xfrm>
            <a:off x="4573440" y="3197160"/>
            <a:ext cx="2735640" cy="2520720"/>
            <a:chOff x="4573440" y="3197160"/>
            <a:chExt cx="2735640" cy="2520720"/>
          </a:xfrm>
        </p:grpSpPr>
        <p:sp>
          <p:nvSpPr>
            <p:cNvPr id="185" name="Rectangle 27"/>
            <p:cNvSpPr/>
            <p:nvPr/>
          </p:nvSpPr>
          <p:spPr>
            <a:xfrm>
              <a:off x="4573440" y="3197160"/>
              <a:ext cx="2735640" cy="2520720"/>
            </a:xfrm>
            <a:prstGeom prst="rect">
              <a:avLst/>
            </a:prstGeom>
            <a:solidFill>
              <a:srgbClr val="4a566c">
                <a:alpha val="1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6" name="Text Box 28"/>
            <p:cNvSpPr/>
            <p:nvPr/>
          </p:nvSpPr>
          <p:spPr>
            <a:xfrm>
              <a:off x="4984560" y="3854520"/>
              <a:ext cx="1956240" cy="1003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Text Box 29"/>
          <p:cNvSpPr/>
          <p:nvPr/>
        </p:nvSpPr>
        <p:spPr>
          <a:xfrm>
            <a:off x="1260360" y="693720"/>
            <a:ext cx="1800000" cy="63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Add Your T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68000" y="620640"/>
            <a:ext cx="936720" cy="1440"/>
          </a:xfrm>
          <a:prstGeom prst="line">
            <a:avLst/>
          </a:prstGeom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89" name="Group 31"/>
          <p:cNvGrpSpPr/>
          <p:nvPr/>
        </p:nvGrpSpPr>
        <p:grpSpPr>
          <a:xfrm>
            <a:off x="612720" y="42840"/>
            <a:ext cx="594000" cy="1105920"/>
            <a:chOff x="612720" y="42840"/>
            <a:chExt cx="594000" cy="1105920"/>
          </a:xfrm>
        </p:grpSpPr>
        <p:sp>
          <p:nvSpPr>
            <p:cNvPr id="190" name="Rectangle 32"/>
            <p:cNvSpPr/>
            <p:nvPr/>
          </p:nvSpPr>
          <p:spPr>
            <a:xfrm>
              <a:off x="660960" y="42840"/>
              <a:ext cx="503280" cy="647280"/>
            </a:xfrm>
            <a:prstGeom prst="rect">
              <a:avLst/>
            </a:pr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AutoShape 33"/>
            <p:cNvSpPr/>
            <p:nvPr/>
          </p:nvSpPr>
          <p:spPr>
            <a:xfrm>
              <a:off x="612720" y="548640"/>
              <a:ext cx="594000" cy="600120"/>
            </a:xfrm>
            <a:custGeom>
              <a:avLst/>
              <a:gdLst>
                <a:gd name="textAreaLeft" fmla="*/ 86760 w 594000"/>
                <a:gd name="textAreaRight" fmla="*/ 507240 w 594000"/>
                <a:gd name="textAreaTop" fmla="*/ 88200 h 600120"/>
                <a:gd name="textAreaBottom" fmla="*/ 51192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92" name="Rectangle 34"/>
          <p:cNvSpPr/>
          <p:nvPr/>
        </p:nvSpPr>
        <p:spPr>
          <a:xfrm>
            <a:off x="325440" y="3240"/>
            <a:ext cx="1294920" cy="620280"/>
          </a:xfrm>
          <a:prstGeom prst="rect">
            <a:avLst/>
          </a:prstGeom>
          <a:solidFill>
            <a:srgbClr val="171d2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713 E">
                                      <p:cBhvr>
                                        <p:cTn id="11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649840" y="2637000"/>
            <a:ext cx="2447640" cy="215640"/>
          </a:xfrm>
          <a:prstGeom prst="rect">
            <a:avLst/>
          </a:prstGeom>
          <a:solidFill>
            <a:srgbClr val="ddddd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  <a:ea typeface="宋体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5649840" y="3139920"/>
            <a:ext cx="2087280" cy="217080"/>
          </a:xfrm>
          <a:prstGeom prst="rect">
            <a:avLst/>
          </a:prstGeom>
          <a:solidFill>
            <a:srgbClr val="ddddd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  <a:ea typeface="宋体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649840" y="3645000"/>
            <a:ext cx="1692000" cy="215640"/>
          </a:xfrm>
          <a:prstGeom prst="rect">
            <a:avLst/>
          </a:prstGeom>
          <a:solidFill>
            <a:srgbClr val="ddddd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  <a:ea typeface="宋体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649840" y="4148280"/>
            <a:ext cx="1323720" cy="217080"/>
          </a:xfrm>
          <a:prstGeom prst="rect">
            <a:avLst/>
          </a:prstGeom>
          <a:solidFill>
            <a:srgbClr val="ddddd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  <a:ea typeface="宋体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649840" y="1917360"/>
            <a:ext cx="1440" cy="3168720"/>
          </a:xfrm>
          <a:prstGeom prst="line">
            <a:avLst/>
          </a:prstGeom>
          <a:ln w="25400">
            <a:solidFill>
              <a:srgbClr val="dddddd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98" name="Group 7"/>
          <p:cNvGrpSpPr/>
          <p:nvPr/>
        </p:nvGrpSpPr>
        <p:grpSpPr>
          <a:xfrm>
            <a:off x="1044720" y="2133720"/>
            <a:ext cx="4463640" cy="2952360"/>
            <a:chOff x="1044720" y="2133720"/>
            <a:chExt cx="4463640" cy="2952360"/>
          </a:xfrm>
        </p:grpSpPr>
        <p:sp>
          <p:nvSpPr>
            <p:cNvPr id="199" name="Rectangle 8"/>
            <p:cNvSpPr/>
            <p:nvPr/>
          </p:nvSpPr>
          <p:spPr>
            <a:xfrm>
              <a:off x="1044720" y="2133720"/>
              <a:ext cx="4463640" cy="2952360"/>
            </a:xfrm>
            <a:prstGeom prst="rect">
              <a:avLst/>
            </a:prstGeom>
            <a:noFill/>
            <a:ln w="9525">
              <a:solidFill>
                <a:srgbClr val="4a56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3011760" y="2565360"/>
              <a:ext cx="1800000" cy="1855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AutoNum type="arabicPeriod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AutoNum type="arabicPeriod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AutoNum type="arabicPeriod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AutoNum type="arabicPeriod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AutoNum type="arabicPeriod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AutoNum type="arabicPeriod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76797e"/>
                </a:buClr>
                <a:buFont typeface="Arial"/>
                <a:buAutoNum type="arabicPeriod"/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看电脑小人 319"/>
            <p:cNvSpPr/>
            <p:nvPr/>
          </p:nvSpPr>
          <p:spPr>
            <a:xfrm>
              <a:off x="1405080" y="2565360"/>
              <a:ext cx="1366200" cy="1726920"/>
            </a:xfrm>
            <a:custGeom>
              <a:avLst/>
              <a:gdLst>
                <a:gd name="textAreaLeft" fmla="*/ 0 w 1366200"/>
                <a:gd name="textAreaRight" fmla="*/ 1366560 w 1366200"/>
                <a:gd name="textAreaTop" fmla="*/ 0 h 1726920"/>
                <a:gd name="textAreaBottom" fmla="*/ 1727280 h 1726920"/>
              </a:gdLst>
              <a:ahLst/>
              <a:rect l="textAreaLeft" t="textAreaTop" r="textAreaRight" b="textAreaBottom"/>
              <a:pathLst>
                <a:path w="78" h="112">
                  <a:moveTo>
                    <a:pt x="21" y="36"/>
                  </a:moveTo>
                  <a:cubicBezTo>
                    <a:pt x="20" y="27"/>
                    <a:pt x="20" y="19"/>
                    <a:pt x="21" y="11"/>
                  </a:cubicBezTo>
                  <a:cubicBezTo>
                    <a:pt x="37" y="0"/>
                    <a:pt x="45" y="13"/>
                    <a:pt x="58" y="11"/>
                  </a:cubicBezTo>
                  <a:cubicBezTo>
                    <a:pt x="59" y="19"/>
                    <a:pt x="59" y="29"/>
                    <a:pt x="57" y="36"/>
                  </a:cubicBezTo>
                  <a:cubicBezTo>
                    <a:pt x="57" y="40"/>
                    <a:pt x="55" y="44"/>
                    <a:pt x="53" y="47"/>
                  </a:cubicBezTo>
                  <a:cubicBezTo>
                    <a:pt x="49" y="51"/>
                    <a:pt x="44" y="53"/>
                    <a:pt x="39" y="53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34" y="53"/>
                    <a:pt x="29" y="51"/>
                    <a:pt x="26" y="47"/>
                  </a:cubicBezTo>
                  <a:cubicBezTo>
                    <a:pt x="24" y="44"/>
                    <a:pt x="22" y="40"/>
                    <a:pt x="21" y="36"/>
                  </a:cubicBezTo>
                  <a:close/>
                  <a:moveTo>
                    <a:pt x="13" y="107"/>
                  </a:moveTo>
                  <a:cubicBezTo>
                    <a:pt x="67" y="107"/>
                    <a:pt x="67" y="107"/>
                    <a:pt x="67" y="107"/>
                  </a:cubicBezTo>
                  <a:cubicBezTo>
                    <a:pt x="64" y="112"/>
                    <a:pt x="64" y="112"/>
                    <a:pt x="64" y="112"/>
                  </a:cubicBezTo>
                  <a:cubicBezTo>
                    <a:pt x="16" y="112"/>
                    <a:pt x="16" y="112"/>
                    <a:pt x="16" y="112"/>
                  </a:cubicBezTo>
                  <a:cubicBezTo>
                    <a:pt x="13" y="107"/>
                    <a:pt x="13" y="107"/>
                    <a:pt x="13" y="107"/>
                  </a:cubicBezTo>
                  <a:close/>
                  <a:moveTo>
                    <a:pt x="70" y="67"/>
                  </a:moveTo>
                  <a:cubicBezTo>
                    <a:pt x="76" y="90"/>
                    <a:pt x="76" y="90"/>
                    <a:pt x="76" y="90"/>
                  </a:cubicBezTo>
                  <a:cubicBezTo>
                    <a:pt x="78" y="98"/>
                    <a:pt x="77" y="103"/>
                    <a:pt x="68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6" y="72"/>
                    <a:pt x="66" y="72"/>
                    <a:pt x="66" y="72"/>
                  </a:cubicBezTo>
                  <a:cubicBezTo>
                    <a:pt x="42" y="72"/>
                    <a:pt x="42" y="72"/>
                    <a:pt x="42" y="72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1" y="54"/>
                    <a:pt x="51" y="54"/>
                  </a:cubicBezTo>
                  <a:cubicBezTo>
                    <a:pt x="65" y="57"/>
                    <a:pt x="65" y="57"/>
                    <a:pt x="65" y="57"/>
                  </a:cubicBezTo>
                  <a:cubicBezTo>
                    <a:pt x="66" y="57"/>
                    <a:pt x="66" y="57"/>
                    <a:pt x="66" y="57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8" y="61"/>
                    <a:pt x="69" y="64"/>
                    <a:pt x="70" y="67"/>
                  </a:cubicBezTo>
                  <a:cubicBezTo>
                    <a:pt x="70" y="67"/>
                    <a:pt x="70" y="67"/>
                    <a:pt x="70" y="67"/>
                  </a:cubicBezTo>
                  <a:close/>
                  <a:moveTo>
                    <a:pt x="14" y="103"/>
                  </a:moveTo>
                  <a:cubicBezTo>
                    <a:pt x="11" y="103"/>
                    <a:pt x="11" y="103"/>
                    <a:pt x="11" y="103"/>
                  </a:cubicBezTo>
                  <a:cubicBezTo>
                    <a:pt x="1" y="103"/>
                    <a:pt x="0" y="98"/>
                    <a:pt x="3" y="90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63"/>
                    <a:pt x="11" y="60"/>
                    <a:pt x="14" y="5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103"/>
                  </a:ln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1260360" y="693720"/>
            <a:ext cx="1800000" cy="63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Add Your T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97e"/>
                </a:solidFill>
                <a:latin typeface="Times New Roman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468000" y="620640"/>
            <a:ext cx="936720" cy="1440"/>
          </a:xfrm>
          <a:prstGeom prst="line">
            <a:avLst/>
          </a:prstGeom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04" name="Group 13"/>
          <p:cNvGrpSpPr/>
          <p:nvPr/>
        </p:nvGrpSpPr>
        <p:grpSpPr>
          <a:xfrm>
            <a:off x="612720" y="42840"/>
            <a:ext cx="594000" cy="1105920"/>
            <a:chOff x="612720" y="42840"/>
            <a:chExt cx="594000" cy="1105920"/>
          </a:xfrm>
        </p:grpSpPr>
        <p:sp>
          <p:nvSpPr>
            <p:cNvPr id="205" name="Rectangle 14"/>
            <p:cNvSpPr/>
            <p:nvPr/>
          </p:nvSpPr>
          <p:spPr>
            <a:xfrm>
              <a:off x="660960" y="42840"/>
              <a:ext cx="503280" cy="647280"/>
            </a:xfrm>
            <a:prstGeom prst="rect">
              <a:avLst/>
            </a:pr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612720" y="548640"/>
              <a:ext cx="594000" cy="600120"/>
            </a:xfrm>
            <a:custGeom>
              <a:avLst/>
              <a:gdLst>
                <a:gd name="textAreaLeft" fmla="*/ 86760 w 594000"/>
                <a:gd name="textAreaRight" fmla="*/ 507240 w 594000"/>
                <a:gd name="textAreaTop" fmla="*/ 88200 h 600120"/>
                <a:gd name="textAreaBottom" fmla="*/ 51192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dddd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07" name="Rectangle 16"/>
          <p:cNvSpPr/>
          <p:nvPr/>
        </p:nvSpPr>
        <p:spPr>
          <a:xfrm>
            <a:off x="325440" y="3240"/>
            <a:ext cx="1294920" cy="620280"/>
          </a:xfrm>
          <a:prstGeom prst="rect">
            <a:avLst/>
          </a:prstGeom>
          <a:solidFill>
            <a:srgbClr val="171d2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96720" y="6257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713 E">
                                      <p:cBhvr>
                                        <p:cTn id="16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700360" y="2997360"/>
            <a:ext cx="4106520" cy="8758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Thank your!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Pages>0</Pages>
  <Words>204</Words>
  <Characters>0</Characters>
  <CharactersWithSpaces>0</CharactersWithSpace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5:58:55Z</dcterms:created>
  <dc:creator>Administrator</dc:creator>
  <dc:description/>
  <dc:language>en-US</dc:language>
  <cp:lastModifiedBy>a</cp:lastModifiedBy>
  <dcterms:modified xsi:type="dcterms:W3CDTF">2015-07-25T11:58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