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413-7637-4994-B9A7-FA542837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730-1064-4DD5-A095-5CF43CC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A40-9392-4648-AA35-08B0256F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2BF-0578-4D15-A996-8C391362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0BB0-A9AB-4923-93E5-CE56E53D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B38C-32A8-4E64-BB95-CAC879DF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A7BE-D053-4A24-AF2E-7C267CC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16F-EC82-4E61-B836-EC64638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4DCE-8C9A-4BC3-B385-4A98B748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F47-7BA6-4650-8CC1-55CF6AF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9D21-2D12-4B2C-9DFF-3754B60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8DA-3047-418A-B459-9632E23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33E8-5BB1-4141-827E-1FF352A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BD4-792F-4972-A43C-B41CB19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A8C-FB23-4509-8D1B-FFAB530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24F2-56FF-490E-8517-9F0300B7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0A48-4D08-4910-A6B3-B210EC13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B62-313F-42F6-8BE1-1B7E218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A41-0575-406C-AA3C-DAC3A0A2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FF4-EE5D-41FB-AA71-48A15B1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7CF-A9C9-4A35-9515-45889B0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91E-C917-437A-8A58-FC476A6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55B-EBFD-4FDD-90A5-EEDFFED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42F-15DA-4EEF-AA08-721A46D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fffff"/>
            </a:gs>
            <a:gs pos="100000">
              <a:srgbClr val="c6ec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3" name="Picture 11" descr="03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2" descr="02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02"/>
            <p:cNvPicPr/>
            <p:nvPr/>
          </p:nvPicPr>
          <p:blipFill>
            <a:blip r:embed="rId4"/>
            <a:stretch/>
          </p:blipFill>
          <p:spPr>
            <a:xfrm rot="895200">
              <a:off x="7339680" y="6402240"/>
              <a:ext cx="106704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02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20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04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C47F-6E88-4D50-A101-29480DC4B1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2" descr="07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2" name="Oval 29"/>
          <p:cNvSpPr/>
          <p:nvPr/>
        </p:nvSpPr>
        <p:spPr>
          <a:xfrm>
            <a:off x="-457200" y="4343400"/>
            <a:ext cx="2590920" cy="274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6ecd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30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4" name="Oval 23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8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be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fffff"/>
            </a:gs>
            <a:gs pos="100000">
              <a:srgbClr val="c6ec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0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4e0cc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8b88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7796520" y="5364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09"/>
          <p:cNvPicPr/>
          <p:nvPr/>
        </p:nvPicPr>
        <p:blipFill>
          <a:blip r:embed="rId2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3"/>
          <p:cNvPicPr/>
          <p:nvPr/>
        </p:nvPicPr>
        <p:blipFill>
          <a:blip r:embed="rId3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2"/>
          <p:cNvPicPr/>
          <p:nvPr/>
        </p:nvPicPr>
        <p:blipFill>
          <a:blip r:embed="rId4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2"/>
          <p:cNvPicPr/>
          <p:nvPr/>
        </p:nvPicPr>
        <p:blipFill>
          <a:blip r:embed="rId5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2"/>
          <p:cNvPicPr/>
          <p:nvPr/>
        </p:nvPicPr>
        <p:blipFill>
          <a:blip r:embed="rId6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4"/>
          <p:cNvPicPr/>
          <p:nvPr/>
        </p:nvPicPr>
        <p:blipFill>
          <a:blip r:embed="rId7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1A7-0462-4633-B6D3-672044F8F44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1844280"/>
            <a:ext cx="694080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化妆品通用</a:t>
            </a:r>
            <a:r>
              <a:rPr b="0" lang="en-US" sz="4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模板免费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907254"/>
              </a:gs>
              <a:gs pos="100000">
                <a:srgbClr val="e8b888"/>
              </a:gs>
            </a:gsLst>
            <a:lin ang="5400000"/>
          </a:gra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2476440" y="255744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1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111" name="Oval 52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3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4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55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56"/>
          <p:cNvSpPr/>
          <p:nvPr/>
        </p:nvSpPr>
        <p:spPr>
          <a:xfrm>
            <a:off x="1936800" y="2546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7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117" name="AutoShape 58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68c7f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9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60"/>
          <p:cNvSpPr/>
          <p:nvPr/>
        </p:nvSpPr>
        <p:spPr>
          <a:xfrm>
            <a:off x="2475000" y="321156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1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121" name="Oval 62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3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4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5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66"/>
          <p:cNvSpPr/>
          <p:nvPr/>
        </p:nvSpPr>
        <p:spPr>
          <a:xfrm>
            <a:off x="1925640" y="3200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7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27" name="AutoShape 68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976e7f"/>
                </a:gs>
                <a:gs pos="100000">
                  <a:srgbClr val="f2b0cc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9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0"/>
          <p:cNvSpPr/>
          <p:nvPr/>
        </p:nvSpPr>
        <p:spPr>
          <a:xfrm>
            <a:off x="2489040" y="388620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1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31" name="Oval 72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3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4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5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76"/>
          <p:cNvSpPr/>
          <p:nvPr/>
        </p:nvSpPr>
        <p:spPr>
          <a:xfrm>
            <a:off x="1959120" y="388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7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37" name="AutoShape 78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97f91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9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80"/>
          <p:cNvSpPr/>
          <p:nvPr/>
        </p:nvSpPr>
        <p:spPr>
          <a:xfrm>
            <a:off x="2511360" y="44956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1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41" name="Oval 82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4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5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6"/>
          <p:cNvSpPr/>
          <p:nvPr/>
        </p:nvSpPr>
        <p:spPr>
          <a:xfrm>
            <a:off x="1981080" y="449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8660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371600" y="539424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d1efe5"/>
              </a:gs>
              <a:gs pos="100000">
                <a:srgbClr val="a4e0cc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6e3cf"/>
              </a:gs>
              <a:gs pos="100000">
                <a:srgbClr val="e8b888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2b0cc"/>
              </a:gs>
              <a:gs pos="100000">
                <a:srgbClr val="f9dce9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9cbe9"/>
              </a:gs>
              <a:gs pos="100000">
                <a:srgbClr val="d1e3f3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682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61944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7620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61944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4782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5816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4782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35816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38680" y="281952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f2b0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a9cbe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365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169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17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4e5e6c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280" y="17539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 Box 9"/>
          <p:cNvSpPr/>
          <p:nvPr/>
        </p:nvSpPr>
        <p:spPr>
          <a:xfrm>
            <a:off x="6072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175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17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868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Text Box 50"/>
          <p:cNvSpPr/>
          <p:nvPr/>
        </p:nvSpPr>
        <p:spPr>
          <a:xfrm>
            <a:off x="676584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8744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182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183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28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187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188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0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240" y="32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192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193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5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868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 Box 50"/>
          <p:cNvSpPr/>
          <p:nvPr/>
        </p:nvSpPr>
        <p:spPr>
          <a:xfrm>
            <a:off x="676584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198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199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48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50"/>
          <p:cNvSpPr/>
          <p:nvPr/>
        </p:nvSpPr>
        <p:spPr>
          <a:xfrm>
            <a:off x="761364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4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d0e3f3">
                  <a:alpha val="80000"/>
                </a:srgbClr>
              </a:gs>
              <a:gs pos="100000">
                <a:srgbClr val="a9cbe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5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205" name="AutoShape 46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adeea"/>
                </a:gs>
                <a:gs pos="100000">
                  <a:srgbClr val="f2b0cc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7"/>
            <p:cNvSpPr/>
            <p:nvPr/>
          </p:nvSpPr>
          <p:spPr>
            <a:xfrm>
              <a:off x="4620600" y="297180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7b8e"/>
                </a:gs>
                <a:gs pos="100000">
                  <a:srgbClr val="f2b0cc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8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208" name="AutoShape 49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d3e4f4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50"/>
            <p:cNvSpPr/>
            <p:nvPr/>
          </p:nvSpPr>
          <p:spPr>
            <a:xfrm flipH="1">
              <a:off x="2910960" y="29890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71879b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8"/>
          <p:cNvSpPr/>
          <p:nvPr/>
        </p:nvSpPr>
        <p:spPr>
          <a:xfrm>
            <a:off x="310680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69260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36036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360360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5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7cddf">
                  <a:alpha val="80000"/>
                </a:srgbClr>
              </a:gs>
              <a:gs pos="100000">
                <a:srgbClr val="f2b0cc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131436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31436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0"/>
          <p:cNvSpPr/>
          <p:nvPr/>
        </p:nvSpPr>
        <p:spPr>
          <a:xfrm>
            <a:off x="40968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42840" y="274320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30120" y="3886200"/>
            <a:ext cx="5961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5:36:04Z</dcterms:created>
  <dc:creator>keke</dc:creator>
  <dc:description/>
  <dc:language>en-US</dc:language>
  <cp:lastModifiedBy>王玉清</cp:lastModifiedBy>
  <dcterms:modified xsi:type="dcterms:W3CDTF">2016-02-21T04:13:53Z</dcterms:modified>
  <cp:revision>4</cp:revision>
  <dc:subject/>
  <dc:title>Themegallery 站长站素材 SC.chinaz.COM</dc:title>
</cp:coreProperties>
</file>