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8999538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DF5F0-F86C-46DD-8825-FC1CE629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36D47-FA1A-48EC-BFF2-C35CE7D1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EECBB-D913-4304-B5A2-B0BFC428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8EF91-1B79-42BF-B979-D29AB5A5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CE40B-9B9D-4A53-8896-3BE3EC58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0E9E2-1CCA-4CB2-A86E-9136F753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2A1CE-71E9-49F1-85F8-C970B9C0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F5153-C5BC-45CA-8892-DFF39000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705CF-2882-4431-A1D7-AAAA3EBB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A50D9-5A7E-4F3F-B7AA-80C54B93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C0EA6-FC36-4C68-A7AF-6DA8F166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50A02-DB12-401F-8494-3FFC7AE3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B149F-B218-474F-8677-794A526F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1B465-FB7B-4943-ABC0-8A94E9D4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87BBC-69F5-417D-AE07-C000ADDC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D429D-BA79-4E5E-B9C8-0F7A892A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54265-B645-4552-8DA0-58847CD3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0C9D5-8285-44A4-9145-88A178C4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D3CB7-42C2-4853-8A39-F3A8D3B6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11FD1-F7A4-41D0-87AD-4598E195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7EA69-BC77-4332-97CF-C51042DC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5B8B8-B9C4-49E8-8749-90B1A419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CA339-19CB-4AC6-AF34-2C807876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84169-430F-4E50-8639-227F8F2D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FC1E3-CA0A-45F6-B3CA-3929BBF3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6D75C-D3C7-4B64-A6A3-3124D15A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896C2-5229-4CDF-AD07-FAD25D08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D5084-7C54-4B99-AF26-2A707D46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D7CBB-562A-4685-AAA3-DD66DD56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24808-DC73-4AF9-AD5B-B877B1A8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E0EC-1EA1-410D-8B3F-A6AFAC5E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0BD33-AEB8-4C83-8DCD-16B4351B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A7347-5D87-4073-A862-B731EDF2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92F38-C28C-4E61-843A-E47E3964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98DF3-4120-498F-A548-B6E8EC49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D99B5-4A17-442F-ABD8-54C467AF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50F5C-1445-4118-B652-23CB20D3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29329-A29B-4853-8031-E5155F79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0F3CA-CA17-4D25-B0CF-CC99153B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9727A-7354-4EF9-916E-57ADFC53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D7FE6-B630-48CA-93CC-AD8AA2E4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B83-3356-40FB-8B25-985F0968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4D608-8BBE-4E61-B1AC-4ED6D508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8C033-D937-4D42-ACEC-A23D49D7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1AB82-4ACE-4136-988F-43EC6C9D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4D2DA-E64D-430F-AAF6-C44DC5B4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6EFB3-BCF3-49CF-BF11-35F2F8D3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908-380B-45F1-91CF-18215F12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310-BEB5-421A-89B3-58D9018B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156-5AE3-4106-982F-C4765AD6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F6E-1D25-45B2-9853-CC7EA94A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5CF-7C3D-4126-9A78-72002C7F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82C-F780-4A55-8F68-8A1A2427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112-925C-4891-BA4D-2C734269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0B8-5679-4974-8B3A-5A9E924E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F4E-208A-4DC3-8410-60A4315F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D95-37F1-4537-AC6A-43C1666F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C16B-10F7-4D5B-BA2A-4434BD0D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B908-3828-4863-A75D-D68808FA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821F-5C12-4C9E-BCD5-7FD70D8F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89CD-BF0D-425B-B90C-18B8B6A1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DA43-FEB1-489E-AA07-A3DA8C48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D436-D0AF-4C88-B2BA-73678A12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64D9-08B7-4723-AC81-FC7BDD35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16DD-EBF3-4C9A-AF4A-52F3422E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1B24-08B0-4BF5-B0D4-3AC72C71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7CE8-B107-4E5B-9264-F4F285C6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53A1-C22A-4170-86F7-A1110794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CA64-413B-4092-A44B-5117CB5C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5544B-9AD1-4D8D-84B3-ADB1AC93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6FF7-60F5-4FBE-A935-3C532374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E63E1-6464-4436-88C5-A8510CF2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D7D5F-BC35-41A0-AC8D-0F421B2C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B7A1-3ED4-430A-AFDC-E4095DA1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79594-C1F4-4CA3-A4EE-AA9BB3E3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8B34D-EF44-432A-BB00-628A6C08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021C4-D68F-4DF3-876E-14E30578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84DB3-ABA0-4FF9-A2DC-F22AE048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74346-AF9A-4A74-9BED-D569BAF7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9C5A-929B-470D-8514-22F4198E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AF236-540F-4DB8-8890-98689477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58EF4-C42E-4413-9480-548E21FD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240C4-99C7-4176-9F91-7C37040B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56E9D-6A3E-4409-8307-4A12F4C3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A1F7-C030-4F91-8165-A8E984F2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FB2BC-70DD-444F-9036-771EAC7A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31502-3E9F-4603-9DC9-17D7F005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4F17-FF1B-4C73-AD0C-AFAFD25D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42746-019D-4C62-9C51-9F30CEAB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91D9-666B-4CA5-8EC6-FDC9034B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F9833-C3B7-413B-96FB-041BFACA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2DAB3-4520-4948-B91B-37C27C4D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37D5B-6403-43A7-B4D1-4A5945CC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EBBA4-A18E-4214-80A3-B2A323E1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8BE29-A97C-4E6D-B4A8-DA69B0FE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A27C6-7447-4726-8AD8-632A55F4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BB9EB-CC0D-4DB8-B8D0-81130E42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25AAF-CB2D-4791-A777-FAFBCCC7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1175D-1BDD-45C3-BCCC-AEEF7ED4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F9FBD-9904-4B18-87E9-9E4CC0DB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2F7A4-AA3E-4261-AD0E-66685D5C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AAE3F-F9F5-48D8-9515-DA3CAA2F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C6D9A-136A-4B80-9D87-B1892F60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11547-62C1-40C9-8C40-0104C070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CE46D-D253-4C7D-9676-3DCB061E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E6C40-7E2E-4D3D-978E-59356CD3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8C225-9BBF-41B2-9C29-8ABBDE60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71569-159E-4143-BD1A-3CF6E924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6020B-F98A-4F56-AA2B-93ED8E91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CBE35-EA86-4619-A989-3E765248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EE099-97B1-44A8-96CD-25E46C83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47F88-FBB6-477C-9DF3-3B395B9C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5E9D6-92BE-4E29-8D0A-28AB2844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8195A-C439-4A47-B072-60FCBFBB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1B749-77EC-471C-915D-3951FB6F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7855C-B5BF-4CA9-80D0-715B0009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CD15E-CF31-4B00-82CE-0D6E43D9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E98DB-82A2-48F1-AF95-AAEEEBAE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790E7-7D5D-4E1D-90F5-4716EB5F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281D4-917D-474F-861D-216CD10B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39D54-84E3-402F-B8F0-590C2F2C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4AD56-016F-4C97-ABB4-DD9E3F83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1DB6E-075E-4A1A-AA68-A3FC0F8D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0858F-700B-4157-B0DA-72DAFBBC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04DF4-1E56-495A-8C41-0190E5F3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90E6E-DE39-4B27-9CB9-51F93742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EADE9-D283-49EE-BF8F-76AB15F5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37130-34D0-40B2-9465-1993B498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1EA7E-E308-42A7-B2BD-A25D5FCC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8DDEF-9749-48FD-92C4-30EEB81F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65849-0AC0-4252-A26D-A7CB8D41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1A72E-7F8C-4DED-B8E3-3E1E34AD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6B9F-7137-4724-962D-EFAFCB4E248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003D-3188-402B-BAC8-5BAFC8105AA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6C4E-A7F7-480E-86A8-0069844C4933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2A94-FC7F-44C3-93B5-531B03338A6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B5BD-7CFA-4401-9B7B-4C57057F0F2A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7F41-A058-46FB-9E2A-BA607DAB418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FFB6-2F42-40BE-B23A-A47F803D21F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45EE-14E0-4F90-AE8C-7B417110BE1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EE8B-5191-45A0-88F8-AD551CCA26A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C2F5-7F74-46BA-B60A-5C839260775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D638-3A26-4BFA-8860-59D09E833CD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F950-E41A-4A09-918B-06AD97BDF67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D4D6-AE3A-41B9-8794-E7F4B048ED44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1E17-9E85-4CF7-A742-C11A59D864E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B300-5551-40C1-BE08-932ABD065C5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D681-4E2F-4F11-B999-6A016623275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86C5-E390-46AC-ABFE-95BB88A5E505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75B0-223A-4BF8-A3F2-FE4C43E55BD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5056-0433-4356-AD0C-1EDE05F3CBA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204C-E860-4F63-A06B-F4C16721692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5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2680" indent="-203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417680" indent="-2034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23F2-C63A-4084-9516-865FC871E35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5B1B-1219-4057-8125-63342E08576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1" descr=""/>
          <p:cNvPicPr/>
          <p:nvPr/>
        </p:nvPicPr>
        <p:blipFill>
          <a:blip r:embed="rId1"/>
          <a:stretch/>
        </p:blipFill>
        <p:spPr>
          <a:xfrm>
            <a:off x="2406600" y="2924280"/>
            <a:ext cx="4465800" cy="56664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3"/>
          <p:cNvSpPr/>
          <p:nvPr/>
        </p:nvSpPr>
        <p:spPr>
          <a:xfrm>
            <a:off x="1474920" y="15732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动态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2263680" y="1574640"/>
            <a:ext cx="4680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5"/>
          <p:cNvSpPr/>
          <p:nvPr/>
        </p:nvSpPr>
        <p:spPr>
          <a:xfrm>
            <a:off x="2263680" y="2198520"/>
            <a:ext cx="4680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6"/>
          <p:cNvSpPr/>
          <p:nvPr/>
        </p:nvSpPr>
        <p:spPr>
          <a:xfrm flipV="1">
            <a:off x="4782960" y="1187280"/>
            <a:ext cx="505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7"/>
          <p:cNvSpPr/>
          <p:nvPr/>
        </p:nvSpPr>
        <p:spPr>
          <a:xfrm flipV="1">
            <a:off x="3848040" y="2198520"/>
            <a:ext cx="50472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8" hidden="1"/>
          <p:cNvSpPr/>
          <p:nvPr/>
        </p:nvSpPr>
        <p:spPr>
          <a:xfrm>
            <a:off x="4351320" y="2843280"/>
            <a:ext cx="503280" cy="50472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9" hidden="1"/>
          <p:cNvSpPr/>
          <p:nvPr/>
        </p:nvSpPr>
        <p:spPr>
          <a:xfrm rot="16200000">
            <a:off x="4423320" y="2804400"/>
            <a:ext cx="3650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2"/>
          <p:cNvSpPr/>
          <p:nvPr/>
        </p:nvSpPr>
        <p:spPr>
          <a:xfrm>
            <a:off x="234468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记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25"/>
          <p:cNvSpPr/>
          <p:nvPr/>
        </p:nvSpPr>
        <p:spPr>
          <a:xfrm>
            <a:off x="332100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26"/>
          <p:cNvSpPr/>
          <p:nvPr/>
        </p:nvSpPr>
        <p:spPr>
          <a:xfrm>
            <a:off x="429732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阅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27"/>
          <p:cNvSpPr/>
          <p:nvPr/>
        </p:nvSpPr>
        <p:spPr>
          <a:xfrm>
            <a:off x="527364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28"/>
          <p:cNvSpPr/>
          <p:nvPr/>
        </p:nvSpPr>
        <p:spPr>
          <a:xfrm>
            <a:off x="624996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椭圆 21"/>
          <p:cNvSpPr/>
          <p:nvPr/>
        </p:nvSpPr>
        <p:spPr>
          <a:xfrm>
            <a:off x="4395960" y="4519440"/>
            <a:ext cx="420480" cy="42084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椭圆 1"/>
          <p:cNvSpPr/>
          <p:nvPr/>
        </p:nvSpPr>
        <p:spPr>
          <a:xfrm>
            <a:off x="4444920" y="4562640"/>
            <a:ext cx="322200" cy="334800"/>
          </a:xfrm>
          <a:prstGeom prst="ellipse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椭圆 22"/>
          <p:cNvSpPr/>
          <p:nvPr/>
        </p:nvSpPr>
        <p:spPr>
          <a:xfrm>
            <a:off x="4511520" y="4635360"/>
            <a:ext cx="187560" cy="189000"/>
          </a:xfrm>
          <a:prstGeom prst="ellips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椭圆 2"/>
          <p:cNvSpPr/>
          <p:nvPr/>
        </p:nvSpPr>
        <p:spPr>
          <a:xfrm>
            <a:off x="1332000" y="466560"/>
            <a:ext cx="64764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3"/>
          <p:cNvSpPr/>
          <p:nvPr/>
        </p:nvSpPr>
        <p:spPr>
          <a:xfrm>
            <a:off x="2263680" y="2771640"/>
            <a:ext cx="7905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3"/>
          <p:cNvSpPr/>
          <p:nvPr/>
        </p:nvSpPr>
        <p:spPr>
          <a:xfrm>
            <a:off x="3236760" y="2771640"/>
            <a:ext cx="7923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14"/>
          <p:cNvSpPr/>
          <p:nvPr/>
        </p:nvSpPr>
        <p:spPr>
          <a:xfrm>
            <a:off x="421020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5"/>
          <p:cNvSpPr/>
          <p:nvPr/>
        </p:nvSpPr>
        <p:spPr>
          <a:xfrm>
            <a:off x="518328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6"/>
          <p:cNvSpPr/>
          <p:nvPr/>
        </p:nvSpPr>
        <p:spPr>
          <a:xfrm>
            <a:off x="615636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12"/>
          <p:cNvSpPr/>
          <p:nvPr/>
        </p:nvSpPr>
        <p:spPr>
          <a:xfrm>
            <a:off x="206280" y="49500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25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625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35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5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5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5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5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5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3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5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3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5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3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5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3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5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3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-2.28612E-006 -4.89562E-006 L -2.28612E-006 0.05293 E">
                                      <p:cBhvr>
                                        <p:cTn id="41" dur="35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4.51579E-007 -4.89562E-006 L 4.51579E-007 0.05293 E">
                                      <p:cBhvr>
                                        <p:cTn id="43" dur="35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-4.12771E-007 -4.89562E-006 L -4.12771E-007 0.05293 E">
                                      <p:cBhvr>
                                        <p:cTn id="45" dur="35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27712E-006 -4.89562E-006 L -1.27712E-006 0.05293 E">
                                      <p:cBhvr>
                                        <p:cTn id="47" dur="35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2.14147E-006 -4.89562E-006 L -2.14147E-006 0.05293 E">
                                      <p:cBhvr>
                                        <p:cTn id="49" dur="35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5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3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7698E-006 -2.95795E-006 L -4.7698E-006 0.02764 E">
                                      <p:cBhvr>
                                        <p:cTn id="55" dur="25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35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35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35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35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5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35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indefinite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2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625" autoRev="1" fill="hold"/>
                                        <p:tgtEl>
                                          <p:spTgt spid="4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25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625" autoRev="1" fill="hold"/>
                                        <p:tgtEl>
                                          <p:spTgt spid="4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1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2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625" autoRev="1" fill="hold"/>
                                        <p:tgtEl>
                                          <p:spTgt spid="4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1"/>
          <p:cNvSpPr/>
          <p:nvPr/>
        </p:nvSpPr>
        <p:spPr>
          <a:xfrm>
            <a:off x="743040" y="900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前必读哦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2"/>
          <p:cNvSpPr/>
          <p:nvPr/>
        </p:nvSpPr>
        <p:spPr>
          <a:xfrm>
            <a:off x="1174680" y="1471680"/>
            <a:ext cx="640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模板适用于多种场合，主要用于分类较多的情况，一个标题，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分项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4"/>
          <p:cNvGrpSpPr/>
          <p:nvPr/>
        </p:nvGrpSpPr>
        <p:grpSpPr>
          <a:xfrm>
            <a:off x="1255680" y="1905120"/>
            <a:ext cx="398520" cy="398520"/>
            <a:chOff x="1255680" y="1905120"/>
            <a:chExt cx="398520" cy="398520"/>
          </a:xfrm>
        </p:grpSpPr>
        <p:pic>
          <p:nvPicPr>
            <p:cNvPr id="505" name="Picture 11" descr="home">
              <a:hlinkClick r:id="" action="ppaction://hlinkshowjump?jump=firstslide"/>
            </p:cNvPr>
            <p:cNvPicPr/>
            <p:nvPr/>
          </p:nvPicPr>
          <p:blipFill>
            <a:blip r:embed="rId1">
              <a:lum bright="42000"/>
            </a:blip>
            <a:stretch/>
          </p:blipFill>
          <p:spPr>
            <a:xfrm>
              <a:off x="1311120" y="1959120"/>
              <a:ext cx="28908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AutoShape 12"/>
            <p:cNvSpPr/>
            <p:nvPr/>
          </p:nvSpPr>
          <p:spPr>
            <a:xfrm>
              <a:off x="1255680" y="1905120"/>
              <a:ext cx="398520" cy="398520"/>
            </a:xfrm>
            <a:custGeom>
              <a:avLst/>
              <a:gdLst>
                <a:gd name="textAreaLeft" fmla="*/ 58320 w 398520"/>
                <a:gd name="textAreaRight" fmla="*/ 340200 w 398520"/>
                <a:gd name="textAreaTop" fmla="*/ 58320 h 398520"/>
                <a:gd name="textAreaBottom" fmla="*/ 3402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78" y="10800"/>
                  </a:moveTo>
                  <a:cubicBezTo>
                    <a:pt x="378" y="16556"/>
                    <a:pt x="5044" y="21222"/>
                    <a:pt x="10800" y="21222"/>
                  </a:cubicBezTo>
                  <a:cubicBezTo>
                    <a:pt x="16556" y="21222"/>
                    <a:pt x="21222" y="16556"/>
                    <a:pt x="21222" y="10800"/>
                  </a:cubicBezTo>
                  <a:cubicBezTo>
                    <a:pt x="21222" y="5044"/>
                    <a:pt x="16556" y="378"/>
                    <a:pt x="10800" y="378"/>
                  </a:cubicBezTo>
                  <a:cubicBezTo>
                    <a:pt x="5044" y="378"/>
                    <a:pt x="378" y="5044"/>
                    <a:pt x="378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文本框 6"/>
          <p:cNvSpPr/>
          <p:nvPr/>
        </p:nvSpPr>
        <p:spPr>
          <a:xfrm>
            <a:off x="1738440" y="1959120"/>
            <a:ext cx="557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面左上角的这个标志代表回到主页，记得在它上面点击哦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8"/>
          <p:cNvGrpSpPr/>
          <p:nvPr/>
        </p:nvGrpSpPr>
        <p:grpSpPr>
          <a:xfrm>
            <a:off x="1239840" y="2536920"/>
            <a:ext cx="930240" cy="1019160"/>
            <a:chOff x="1239840" y="2536920"/>
            <a:chExt cx="930240" cy="1019160"/>
          </a:xfrm>
        </p:grpSpPr>
        <p:sp>
          <p:nvSpPr>
            <p:cNvPr id="509" name="矩形 3"/>
            <p:cNvSpPr/>
            <p:nvPr/>
          </p:nvSpPr>
          <p:spPr>
            <a:xfrm>
              <a:off x="1239840" y="2536920"/>
              <a:ext cx="930240" cy="10191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文本框 12"/>
            <p:cNvSpPr/>
            <p:nvPr/>
          </p:nvSpPr>
          <p:spPr>
            <a:xfrm>
              <a:off x="1336320" y="3174840"/>
              <a:ext cx="710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1" name="图片 24" descr=""/>
            <p:cNvPicPr/>
            <p:nvPr/>
          </p:nvPicPr>
          <p:blipFill>
            <a:blip r:embed="rId2"/>
            <a:srcRect l="0" t="0" r="87759" b="0"/>
            <a:stretch/>
          </p:blipFill>
          <p:spPr>
            <a:xfrm>
              <a:off x="1411920" y="2536920"/>
              <a:ext cx="642600" cy="66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文本框 11"/>
          <p:cNvSpPr/>
          <p:nvPr/>
        </p:nvSpPr>
        <p:spPr>
          <a:xfrm>
            <a:off x="2195640" y="2481120"/>
            <a:ext cx="5964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分项，文字、图片可替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来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的分项，单击会自动切换到相应的页面哦，记得要在它的上面单击才有效哦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12"/>
          <p:cNvSpPr/>
          <p:nvPr/>
        </p:nvSpPr>
        <p:spPr>
          <a:xfrm>
            <a:off x="6083280" y="421020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赶紧试试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13"/>
          <p:cNvSpPr/>
          <p:nvPr/>
        </p:nvSpPr>
        <p:spPr>
          <a:xfrm>
            <a:off x="1116000" y="3705120"/>
            <a:ext cx="6997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一个分项内容页就不要点击回到首页啦，直接在页面点击就可以到结束页了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16" name="矩形 3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文本框 12"/>
            <p:cNvSpPr/>
            <p:nvPr/>
          </p:nvSpPr>
          <p:spPr>
            <a:xfrm>
              <a:off x="142344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图片 24" descr=""/>
            <p:cNvPicPr/>
            <p:nvPr/>
          </p:nvPicPr>
          <p:blipFill>
            <a:blip r:embed="rId1"/>
            <a:srcRect l="0" t="0" r="87759" b="0"/>
            <a:stretch/>
          </p:blipFill>
          <p:spPr>
            <a:xfrm>
              <a:off x="1523160" y="1179360"/>
              <a:ext cx="547200" cy="56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9" name="图片 1" descr=""/>
          <p:cNvPicPr/>
          <p:nvPr/>
        </p:nvPicPr>
        <p:blipFill>
          <a:blip r:embed="rId2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20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25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"/>
          <p:cNvGrpSpPr/>
          <p:nvPr/>
        </p:nvGrpSpPr>
        <p:grpSpPr>
          <a:xfrm>
            <a:off x="1341360" y="1177920"/>
            <a:ext cx="792360" cy="865080"/>
            <a:chOff x="1341360" y="1177920"/>
            <a:chExt cx="792360" cy="865080"/>
          </a:xfrm>
        </p:grpSpPr>
        <p:sp>
          <p:nvSpPr>
            <p:cNvPr id="528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文本框 11"/>
            <p:cNvSpPr/>
            <p:nvPr/>
          </p:nvSpPr>
          <p:spPr>
            <a:xfrm>
              <a:off x="1429200" y="171936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阅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0" name="图片 13" descr=""/>
            <p:cNvPicPr/>
            <p:nvPr/>
          </p:nvPicPr>
          <p:blipFill>
            <a:blip r:embed="rId2"/>
            <a:srcRect l="43274" t="0" r="43830" b="0"/>
            <a:stretch/>
          </p:blipFill>
          <p:spPr>
            <a:xfrm>
              <a:off x="1458000" y="1186920"/>
              <a:ext cx="576360" cy="56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1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34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5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37" name="矩形 10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文本框 11"/>
            <p:cNvSpPr/>
            <p:nvPr/>
          </p:nvSpPr>
          <p:spPr>
            <a:xfrm>
              <a:off x="143208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图片 13" descr=""/>
            <p:cNvPicPr/>
            <p:nvPr/>
          </p:nvPicPr>
          <p:blipFill>
            <a:blip r:embed="rId2"/>
            <a:srcRect l="64435" t="0" r="21054" b="0"/>
            <a:stretch/>
          </p:blipFill>
          <p:spPr>
            <a:xfrm>
              <a:off x="1438920" y="1188360"/>
              <a:ext cx="648360" cy="56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0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41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43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5"/>
          <p:cNvGrpSpPr/>
          <p:nvPr/>
        </p:nvGrpSpPr>
        <p:grpSpPr>
          <a:xfrm>
            <a:off x="1341360" y="1170000"/>
            <a:ext cx="792360" cy="873000"/>
            <a:chOff x="1341360" y="1170000"/>
            <a:chExt cx="792360" cy="873000"/>
          </a:xfrm>
        </p:grpSpPr>
        <p:sp>
          <p:nvSpPr>
            <p:cNvPr id="546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图片 11" descr=""/>
            <p:cNvPicPr/>
            <p:nvPr/>
          </p:nvPicPr>
          <p:blipFill>
            <a:blip r:embed="rId2"/>
            <a:srcRect l="84789" t="0" r="0" b="0"/>
            <a:stretch/>
          </p:blipFill>
          <p:spPr>
            <a:xfrm>
              <a:off x="1381320" y="1170000"/>
              <a:ext cx="679680" cy="56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文本框 13"/>
            <p:cNvSpPr/>
            <p:nvPr/>
          </p:nvSpPr>
          <p:spPr>
            <a:xfrm>
              <a:off x="1434960" y="171972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下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2"/>
          <p:cNvSpPr/>
          <p:nvPr/>
        </p:nvSpPr>
        <p:spPr>
          <a:xfrm>
            <a:off x="8172360" y="478800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8118360" y="4842000"/>
            <a:ext cx="57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2"/>
          <p:cNvSpPr/>
          <p:nvPr/>
        </p:nvSpPr>
        <p:spPr>
          <a:xfrm>
            <a:off x="206280" y="5021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文本框 1"/>
          <p:cNvSpPr/>
          <p:nvPr/>
        </p:nvSpPr>
        <p:spPr>
          <a:xfrm>
            <a:off x="3708360" y="2124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直接连接符 3"/>
          <p:cNvSpPr/>
          <p:nvPr/>
        </p:nvSpPr>
        <p:spPr>
          <a:xfrm>
            <a:off x="4680000" y="281628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"/>
          <p:cNvSpPr/>
          <p:nvPr/>
        </p:nvSpPr>
        <p:spPr>
          <a:xfrm>
            <a:off x="3203640" y="196200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椭圆 5"/>
          <p:cNvSpPr/>
          <p:nvPr/>
        </p:nvSpPr>
        <p:spPr>
          <a:xfrm>
            <a:off x="4522680" y="190800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椭圆 6"/>
          <p:cNvSpPr/>
          <p:nvPr/>
        </p:nvSpPr>
        <p:spPr>
          <a:xfrm>
            <a:off x="4675320" y="2771640"/>
            <a:ext cx="10764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MQ</dc:creator>
  <dc:description/>
  <cp:keywords/>
  <dc:language>en-US</dc:language>
  <cp:lastModifiedBy>王玉清</cp:lastModifiedBy>
  <dcterms:modified xsi:type="dcterms:W3CDTF">2016-02-19T03:22:38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