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8999538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CC54A-2DC1-4709-BF7C-C2406FD3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6F185-F394-4A5C-8139-944400C1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96A56-8A93-43BA-81A6-06B577D9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8ED0E-35DC-4B8F-8AF8-B672E387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BC044-91E0-4B6B-94B2-3EA09088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EC1F9-D3E8-4238-A900-894D7ECA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3FB7C-0579-4889-817E-BF20FF46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1C648-2EFE-4D17-8DDC-3C6A4146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AF987-69B9-41B6-977D-721F6A03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C450F-AAA1-4473-9212-7C332C9F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659E1-EDFC-4FF4-9810-A7A4E0CD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1906D-7C75-485D-9F5B-1CE23461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45224-80AB-4632-80B8-DDD8A662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AF0F5-7361-4F4E-B77E-8D97BA0C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E7068-6661-4FB6-B5AE-3921CAD1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CDD69-BF4C-4473-B747-C45E04BB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8DE7A-3DE7-4FCD-BFE1-5ED6A415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408D3-BBFC-414E-9861-2DC65006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2D1A3-9423-4AEA-88D9-777EB17B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7D299-6F9D-42F0-96ED-2CE65DB1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BF5BC-0354-41C6-9536-33FFB008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08891-FFE3-4D13-BA0A-EF6B4F4E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4B05E-651F-4B74-8907-9A1BFD10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0EC7E-A2FB-4114-BAD0-5331E9BC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F30D2-E1C8-4EA8-AAA7-A2FA7E4A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0E02A-76BF-476A-8A20-C6AB3D15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30FEA-4679-4D12-88F2-A3FA8EE7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11E6D-E059-4759-A0BA-0FD4723A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1BC67-55C9-45C4-9443-847EC71B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4E7B8-0620-4784-9127-E41A878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FA1-1A55-434F-95A0-E871054A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95A47-7EFB-4281-AE84-4359CF5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7286E-025D-4253-B4DC-7A734B1D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FE558-5229-44C4-A000-36474D57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45D72-B723-401F-BF07-2B552B90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10B47-5E4A-441D-A752-53EAD3C2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AB484-B11B-457E-9B9E-562BEA4B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B783F-5C8D-44E4-9942-21781A68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5C8FD-DE37-478F-804F-813288C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3B192-7988-4F5D-891B-9E4DDA8E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CA624-4382-46B8-BE17-7F8C8C0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2B0-7C83-4464-AC7E-5299CF7A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12409-04B4-4E38-94A5-97F98524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7C481-A680-4ED8-9E3B-DA11CED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14CAE-3ADA-4489-8B70-3554B415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21019-568E-48B0-B45C-0501C181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A5D13-E1C2-4844-BB78-AD0EAFCF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0E5-D1B4-4910-9B6B-ABBF8D6E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AD8-20B4-43F0-8ABF-DF3F0B39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7CA-D8C0-4BDF-8F7B-30049083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9AC-B26B-40D0-9124-FBD21916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5B8-8D4D-43DC-925C-E4AA20B1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61D-736B-4A53-BD4B-D429EC1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32A-5D28-4F7B-8933-DB350248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D8E-BD2D-4E5E-90DD-30B13E4E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F5E-5165-4010-B4E7-E77C4A28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CF7-E445-4CAC-81F8-3966FEB9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8339-38BC-4B8B-A00E-3365C285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CC3B-62E5-4657-A866-E43F1FCC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4943-4752-4382-9ABD-41A79EA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AC1C-0AAC-4056-9E5D-AFC0C39A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9E3A-BB5E-4112-B1A4-D969305F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4456-2C0F-4850-9207-5F565F50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5E54-03C1-4897-95DB-1C16494D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BDBD-8CF5-422F-84EA-E22C7B1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9508-D46F-4897-9AA7-5716CFE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3579-3607-45D4-8868-51B5CFE5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20E2-8ED6-457D-B4C9-98542868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EBCB-C917-4702-B8A1-4B8E6B88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F278B-079B-409D-BBC4-F190F912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7CE6-2B8F-44C3-9323-5140A59C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AFFD-DB4C-43EC-BEF8-DEB0AA6D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1ED4-CB6E-4FC6-A523-0EF7D555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571F-E3FB-4D23-898E-12D817AE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5CFD8-655A-4A57-8636-BEF775CB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98C6-D30E-46AC-B72D-3941836C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5DE1-AB90-4596-9F42-13AAE31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10B04-AC0A-41B8-B629-CC7D0893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4900-4724-4E0F-AD4C-1B4C2DD4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582F-0809-4CA1-9B38-3FE4F69D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AA6A-C482-4C2A-902B-199E7E7C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E1E5-4260-42C3-9742-000DF0BA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6D8C1-03DD-426F-A6B0-36047B98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8358-6456-4FF7-9E1B-9F9D65FE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5D0B7-E909-4CB6-8ECE-E64BE0FE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EEDF-8B71-422F-B966-9A2EA17E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EC525-1D0C-4784-A027-A221067C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784F-21D4-4E00-982D-3E11644C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07F60-ED60-48B6-A2C6-560647D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D7A7-010E-4E38-B271-E95B254F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5986-5296-4BEF-8E47-A63EF077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726AE-4803-46D6-8690-4AFBF347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F7F31-25E7-405D-A5C8-2E5952A8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42D56-9A9E-4122-A839-0CA48320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7BD0D-7A0B-4380-9977-B7A1414D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4BA1-8F88-4718-95F1-C62FDC67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09BAE-3571-4C9A-9189-14699E58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9263A-3DF3-43B7-B13E-27CF3A4C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6B406-CA12-4ACE-AD13-82BAC056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3762-F489-44FC-837C-1E586848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C86C9-10CB-467B-904F-02D84E70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4DCA1-7724-485E-9156-0CF7AF8F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894D-CFB9-4055-9A78-A2E0CF3D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2338A-153B-4544-8A4B-B074AB1C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E3F8-F54C-4CC4-BA8C-6A69B9BB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BBE72-D3AA-40EB-A924-6C72E961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B9F9F-035A-4AD2-8D10-760F1159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23ECB-07EF-470C-B666-EC3ACA4D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EDBC5-BBDB-47FB-983B-5ED74A46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FE020-6E5C-4F4F-8F2F-B7493385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B5827-258C-4AB9-954F-7B62B25C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D1F9-95BA-402F-A419-779394B1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8290-EFF8-420E-AEF3-B5B63EF9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494E5-0DC4-4D11-8062-C790FFC0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8CC0B-ADE5-453E-BBAB-FD9686FD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88083-8C30-4D25-AFD6-F5FA37F7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45FAF-CE14-4CF0-9D8E-5323E57B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875D9-CF77-4FB0-B34C-F370B4CD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77822-8956-467E-9580-438E9897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F94B-4C6B-451F-ADE6-26E7D016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C6145-7C07-4E29-B637-D4B98068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5EFB8-1404-48F8-BE46-B5BFE9CD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0000" y="215280"/>
            <a:ext cx="80996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2080-DD66-4A12-9FA2-109828D3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56C5-DEB8-4E7A-97C7-D318A651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6736-37A2-4C07-B993-1723F5EE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11522-F2FC-4397-92E8-F1513C65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0000" y="2899440"/>
            <a:ext cx="80996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9021F-BFD6-4333-B9DA-4DF5BE34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00440" y="126360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000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00440" y="2899440"/>
            <a:ext cx="39524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CBB1E-E303-4FFF-A3F9-150C3506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8852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27400" y="126360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00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18852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27400" y="2899440"/>
            <a:ext cx="26078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9E60B-C36C-4D97-95B4-11E1463F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4A7A2-4391-4FF5-A4D7-43CEA0EF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14918-CD18-402A-9806-570601C4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25C8-E54C-44BB-B206-7CBD811F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0716-FA4A-40AB-B1CE-18C841353950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1ACE-7F9D-4D4B-A92E-D74976208BF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35F5-9CDC-469D-9B42-7E3B87BE8FC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B3E8-C917-46DD-AD29-84858B78EA6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A9BD-8DC7-41FA-87D1-23B3754702A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8E86-00FF-461E-BB18-E4CFC2AD463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7844-E479-444D-B17F-D91690513EA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774D-E1D9-4D6E-9AD5-E7F9435993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A236-0CCC-4983-9C7C-E686B99DE888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EC30-5B4C-4977-BBA6-6A095A50BC7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F151-D4CB-471F-892D-8A38D16D5DF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F712-0D39-4AB0-AE35-F2F5FA4D772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2D04-6E28-4E92-8933-E088CCDE648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2D12-465D-44E2-A430-98BDFDE43F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FC4-8ED6-4C41-97F7-BCAF40C907D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743D-5983-4D19-916D-65021E0140B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0B84-7681-4BFE-8571-088266ABE32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9536-953E-4F20-A73B-B3134C8B65A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FE88-C45E-4E65-A910-5467D7EA429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A8EB-30F4-43ED-A0FD-4D1E6CF31C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title"/>
          </p:nvPr>
        </p:nvSpPr>
        <p:spPr>
          <a:xfrm>
            <a:off x="450000" y="215280"/>
            <a:ext cx="80996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body"/>
          </p:nvPr>
        </p:nvSpPr>
        <p:spPr>
          <a:xfrm>
            <a:off x="450000" y="1263600"/>
            <a:ext cx="80996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3120" indent="-303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5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2680" indent="-203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17680" indent="-2034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20304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C:\Users\D13001\Desktop\修图\音乐盒子 - 副本.jpg音乐盒子 - 副本"/>
          <p:cNvPicPr/>
          <p:nvPr/>
        </p:nvPicPr>
        <p:blipFill>
          <a:blip r:embed="rId2"/>
          <a:stretch/>
        </p:blipFill>
        <p:spPr>
          <a:xfrm>
            <a:off x="3240" y="0"/>
            <a:ext cx="8994600" cy="5398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0720" y="4916160"/>
            <a:ext cx="20988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D57F-E202-4385-91F3-5E2F7A4D36E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074760" y="4916160"/>
            <a:ext cx="28494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450120" y="4916160"/>
            <a:ext cx="21002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3593-A3C2-494E-9183-E3B5FDD6C6C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1"/>
          <p:cNvSpPr/>
          <p:nvPr/>
        </p:nvSpPr>
        <p:spPr>
          <a:xfrm>
            <a:off x="743040" y="900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前必读哦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"/>
          <p:cNvSpPr/>
          <p:nvPr/>
        </p:nvSpPr>
        <p:spPr>
          <a:xfrm>
            <a:off x="1174680" y="1471680"/>
            <a:ext cx="640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模板适用于多种场合，主要用于分类较多的情况，一个标题，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分项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4"/>
          <p:cNvGrpSpPr/>
          <p:nvPr/>
        </p:nvGrpSpPr>
        <p:grpSpPr>
          <a:xfrm>
            <a:off x="1255680" y="1905120"/>
            <a:ext cx="398520" cy="398520"/>
            <a:chOff x="1255680" y="1905120"/>
            <a:chExt cx="398520" cy="398520"/>
          </a:xfrm>
        </p:grpSpPr>
        <p:pic>
          <p:nvPicPr>
            <p:cNvPr id="482" name="Picture 11" descr="home">
              <a:hlinkClick r:id="" action="ppaction://hlinkshowjump?jump=firstslide"/>
            </p:cNvPr>
            <p:cNvPicPr/>
            <p:nvPr/>
          </p:nvPicPr>
          <p:blipFill>
            <a:blip r:embed="rId1">
              <a:lum bright="42000"/>
            </a:blip>
            <a:stretch/>
          </p:blipFill>
          <p:spPr>
            <a:xfrm>
              <a:off x="1311120" y="1959120"/>
              <a:ext cx="289080" cy="2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AutoShape 12"/>
            <p:cNvSpPr/>
            <p:nvPr/>
          </p:nvSpPr>
          <p:spPr>
            <a:xfrm>
              <a:off x="1255680" y="1905120"/>
              <a:ext cx="398520" cy="398520"/>
            </a:xfrm>
            <a:custGeom>
              <a:avLst/>
              <a:gdLst>
                <a:gd name="textAreaLeft" fmla="*/ 58320 w 398520"/>
                <a:gd name="textAreaRight" fmla="*/ 340200 w 398520"/>
                <a:gd name="textAreaTop" fmla="*/ 58320 h 398520"/>
                <a:gd name="textAreaBottom" fmla="*/ 340200 h 39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78" y="10800"/>
                  </a:moveTo>
                  <a:cubicBezTo>
                    <a:pt x="378" y="16556"/>
                    <a:pt x="5044" y="21222"/>
                    <a:pt x="10800" y="21222"/>
                  </a:cubicBezTo>
                  <a:cubicBezTo>
                    <a:pt x="16556" y="21222"/>
                    <a:pt x="21222" y="16556"/>
                    <a:pt x="21222" y="10800"/>
                  </a:cubicBezTo>
                  <a:cubicBezTo>
                    <a:pt x="21222" y="5044"/>
                    <a:pt x="16556" y="378"/>
                    <a:pt x="10800" y="378"/>
                  </a:cubicBezTo>
                  <a:cubicBezTo>
                    <a:pt x="5044" y="378"/>
                    <a:pt x="378" y="5044"/>
                    <a:pt x="378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文本框 6"/>
          <p:cNvSpPr/>
          <p:nvPr/>
        </p:nvSpPr>
        <p:spPr>
          <a:xfrm>
            <a:off x="1738440" y="1959120"/>
            <a:ext cx="5570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左上角的这个标志代表回到主页，记得在它上面点击哦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8"/>
          <p:cNvGrpSpPr/>
          <p:nvPr/>
        </p:nvGrpSpPr>
        <p:grpSpPr>
          <a:xfrm>
            <a:off x="1239840" y="2536920"/>
            <a:ext cx="930240" cy="1019160"/>
            <a:chOff x="1239840" y="2536920"/>
            <a:chExt cx="930240" cy="1019160"/>
          </a:xfrm>
        </p:grpSpPr>
        <p:sp>
          <p:nvSpPr>
            <p:cNvPr id="486" name="矩形 3"/>
            <p:cNvSpPr/>
            <p:nvPr/>
          </p:nvSpPr>
          <p:spPr>
            <a:xfrm>
              <a:off x="1239840" y="2536920"/>
              <a:ext cx="930240" cy="101916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文本框 12"/>
            <p:cNvSpPr/>
            <p:nvPr/>
          </p:nvSpPr>
          <p:spPr>
            <a:xfrm>
              <a:off x="1336320" y="3174840"/>
              <a:ext cx="710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图片 24" descr=""/>
            <p:cNvPicPr/>
            <p:nvPr/>
          </p:nvPicPr>
          <p:blipFill>
            <a:blip r:embed="rId2"/>
            <a:srcRect l="0" t="0" r="87759" b="0"/>
            <a:stretch/>
          </p:blipFill>
          <p:spPr>
            <a:xfrm>
              <a:off x="1411920" y="2536920"/>
              <a:ext cx="642600" cy="6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文本框 11"/>
          <p:cNvSpPr/>
          <p:nvPr/>
        </p:nvSpPr>
        <p:spPr>
          <a:xfrm>
            <a:off x="2195640" y="2481120"/>
            <a:ext cx="5964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是分项，文字、图片可替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来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的分项，单击会自动切换到相应的页面哦，记得要在它的上面单击才有效哦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2"/>
          <p:cNvSpPr/>
          <p:nvPr/>
        </p:nvSpPr>
        <p:spPr>
          <a:xfrm>
            <a:off x="6083280" y="42102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》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赶紧试试吧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3"/>
          <p:cNvSpPr/>
          <p:nvPr/>
        </p:nvSpPr>
        <p:spPr>
          <a:xfrm>
            <a:off x="1116000" y="3705120"/>
            <a:ext cx="699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后一个分项内容页就不要点击回到首页啦，直接在页面点击就可以到结束页了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~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1"/>
          <p:cNvSpPr/>
          <p:nvPr/>
        </p:nvSpPr>
        <p:spPr>
          <a:xfrm>
            <a:off x="1856520" y="106200"/>
            <a:ext cx="58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交互类极简小清新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12"/>
          <p:cNvSpPr/>
          <p:nvPr/>
        </p:nvSpPr>
        <p:spPr>
          <a:xfrm>
            <a:off x="469800" y="4986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图片 11" descr=""/>
          <p:cNvPicPr/>
          <p:nvPr/>
        </p:nvPicPr>
        <p:blipFill>
          <a:blip r:embed="rId1"/>
          <a:stretch/>
        </p:blipFill>
        <p:spPr>
          <a:xfrm>
            <a:off x="2406600" y="2924280"/>
            <a:ext cx="4465800" cy="56664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2263680" y="1619280"/>
            <a:ext cx="46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 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端显示效果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2263680" y="1619280"/>
            <a:ext cx="4680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2263680" y="2198520"/>
            <a:ext cx="4680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 flipV="1">
            <a:off x="4782960" y="1187280"/>
            <a:ext cx="505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7"/>
          <p:cNvSpPr/>
          <p:nvPr/>
        </p:nvSpPr>
        <p:spPr>
          <a:xfrm flipV="1">
            <a:off x="3848040" y="2198520"/>
            <a:ext cx="50472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8" hidden="1"/>
          <p:cNvSpPr/>
          <p:nvPr/>
        </p:nvSpPr>
        <p:spPr>
          <a:xfrm>
            <a:off x="4351320" y="2843280"/>
            <a:ext cx="503280" cy="504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 hidden="1"/>
          <p:cNvSpPr/>
          <p:nvPr/>
        </p:nvSpPr>
        <p:spPr>
          <a:xfrm rot="16200000">
            <a:off x="4423320" y="2804400"/>
            <a:ext cx="365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2"/>
          <p:cNvSpPr/>
          <p:nvPr/>
        </p:nvSpPr>
        <p:spPr>
          <a:xfrm>
            <a:off x="234468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25"/>
          <p:cNvSpPr/>
          <p:nvPr/>
        </p:nvSpPr>
        <p:spPr>
          <a:xfrm>
            <a:off x="332100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6"/>
          <p:cNvSpPr/>
          <p:nvPr/>
        </p:nvSpPr>
        <p:spPr>
          <a:xfrm>
            <a:off x="429732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阅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27"/>
          <p:cNvSpPr/>
          <p:nvPr/>
        </p:nvSpPr>
        <p:spPr>
          <a:xfrm>
            <a:off x="527364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8"/>
          <p:cNvSpPr/>
          <p:nvPr/>
        </p:nvSpPr>
        <p:spPr>
          <a:xfrm>
            <a:off x="6249960" y="3600360"/>
            <a:ext cx="60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21"/>
          <p:cNvSpPr/>
          <p:nvPr/>
        </p:nvSpPr>
        <p:spPr>
          <a:xfrm>
            <a:off x="4395960" y="4519440"/>
            <a:ext cx="420480" cy="420840"/>
          </a:xfrm>
          <a:prstGeom prst="ellipse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1"/>
          <p:cNvSpPr/>
          <p:nvPr/>
        </p:nvSpPr>
        <p:spPr>
          <a:xfrm>
            <a:off x="4444920" y="4562640"/>
            <a:ext cx="322200" cy="334800"/>
          </a:xfrm>
          <a:prstGeom prst="ellipse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22"/>
          <p:cNvSpPr/>
          <p:nvPr/>
        </p:nvSpPr>
        <p:spPr>
          <a:xfrm>
            <a:off x="4511520" y="4635360"/>
            <a:ext cx="187560" cy="189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2"/>
          <p:cNvSpPr/>
          <p:nvPr/>
        </p:nvSpPr>
        <p:spPr>
          <a:xfrm>
            <a:off x="1332000" y="466560"/>
            <a:ext cx="647640" cy="86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"/>
          <p:cNvSpPr/>
          <p:nvPr/>
        </p:nvSpPr>
        <p:spPr>
          <a:xfrm>
            <a:off x="2263680" y="2771640"/>
            <a:ext cx="7905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3"/>
          <p:cNvSpPr/>
          <p:nvPr/>
        </p:nvSpPr>
        <p:spPr>
          <a:xfrm>
            <a:off x="3236760" y="2771640"/>
            <a:ext cx="79236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4"/>
          <p:cNvSpPr/>
          <p:nvPr/>
        </p:nvSpPr>
        <p:spPr>
          <a:xfrm>
            <a:off x="421020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5"/>
          <p:cNvSpPr/>
          <p:nvPr/>
        </p:nvSpPr>
        <p:spPr>
          <a:xfrm>
            <a:off x="518328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6"/>
          <p:cNvSpPr/>
          <p:nvPr/>
        </p:nvSpPr>
        <p:spPr>
          <a:xfrm>
            <a:off x="6156360" y="2771640"/>
            <a:ext cx="792000" cy="86364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2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625" autoRev="1" fill="hold"/>
                                        <p:tgtEl>
                                          <p:spTgt spid="5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5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5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5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35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5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5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5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5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5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5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35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-2.28612E-006 -4.89562E-006 L -2.28612E-006 0.05293 E">
                                      <p:cBhvr>
                                        <p:cTn id="41" dur="35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1579E-007 -4.89562E-006 L 4.51579E-007 0.05293 E">
                                      <p:cBhvr>
                                        <p:cTn id="43" dur="35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-4.12771E-007 -4.89562E-006 L -4.12771E-007 0.05293 E">
                                      <p:cBhvr>
                                        <p:cTn id="45" dur="35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27712E-006 -4.89562E-006 L -1.27712E-006 0.05293 E">
                                      <p:cBhvr>
                                        <p:cTn id="47" dur="35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2.14147E-006 -4.89562E-006 L -2.14147E-006 0.05293 E">
                                      <p:cBhvr>
                                        <p:cTn id="49" dur="35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5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3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698E-006 -2.95795E-006 L -4.7698E-006 0.02764 E">
                                      <p:cBhvr>
                                        <p:cTn id="55" dur="25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5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5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5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3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5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3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5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3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625" autoRev="1" fill="hold"/>
                                        <p:tgtEl>
                                          <p:spTgt spid="5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625" autoRev="1" fill="hold"/>
                                        <p:tgtEl>
                                          <p:spTgt spid="5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 repeatCount="indefinite">
                                  <p:stCondLst>
                                    <p:cond delay="1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1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625" autoRev="1" fill="hold"/>
                                        <p:tgtEl>
                                          <p:spTgt spid="5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17" name="矩形 3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文本框 12"/>
            <p:cNvSpPr/>
            <p:nvPr/>
          </p:nvSpPr>
          <p:spPr>
            <a:xfrm>
              <a:off x="142344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录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图片 24" descr=""/>
            <p:cNvPicPr/>
            <p:nvPr/>
          </p:nvPicPr>
          <p:blipFill>
            <a:blip r:embed="rId1"/>
            <a:srcRect l="0" t="0" r="87759" b="0"/>
            <a:stretch/>
          </p:blipFill>
          <p:spPr>
            <a:xfrm>
              <a:off x="1523160" y="1179360"/>
              <a:ext cx="54720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0" name="图片 1" descr=""/>
          <p:cNvPicPr/>
          <p:nvPr/>
        </p:nvPicPr>
        <p:blipFill>
          <a:blip r:embed="rId2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1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9"/>
          <p:cNvSpPr/>
          <p:nvPr/>
        </p:nvSpPr>
        <p:spPr>
          <a:xfrm>
            <a:off x="2919240" y="135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28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5"/>
          <p:cNvGrpSpPr/>
          <p:nvPr/>
        </p:nvGrpSpPr>
        <p:grpSpPr>
          <a:xfrm>
            <a:off x="1341360" y="1177920"/>
            <a:ext cx="792360" cy="865080"/>
            <a:chOff x="1341360" y="1177920"/>
            <a:chExt cx="792360" cy="865080"/>
          </a:xfrm>
        </p:grpSpPr>
        <p:sp>
          <p:nvSpPr>
            <p:cNvPr id="531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11"/>
            <p:cNvSpPr/>
            <p:nvPr/>
          </p:nvSpPr>
          <p:spPr>
            <a:xfrm>
              <a:off x="1429200" y="171936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阅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图片 13" descr=""/>
            <p:cNvPicPr/>
            <p:nvPr/>
          </p:nvPicPr>
          <p:blipFill>
            <a:blip r:embed="rId2"/>
            <a:srcRect l="43274" t="0" r="43830" b="0"/>
            <a:stretch/>
          </p:blipFill>
          <p:spPr>
            <a:xfrm>
              <a:off x="1458000" y="1186920"/>
              <a:ext cx="576360" cy="56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文本框 14"/>
          <p:cNvSpPr/>
          <p:nvPr/>
        </p:nvSpPr>
        <p:spPr>
          <a:xfrm>
            <a:off x="2919240" y="135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39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5"/>
          <p:cNvGrpSpPr/>
          <p:nvPr/>
        </p:nvGrpSpPr>
        <p:grpSpPr>
          <a:xfrm>
            <a:off x="1341360" y="1179360"/>
            <a:ext cx="792360" cy="863640"/>
            <a:chOff x="1341360" y="1179360"/>
            <a:chExt cx="792360" cy="863640"/>
          </a:xfrm>
        </p:grpSpPr>
        <p:sp>
          <p:nvSpPr>
            <p:cNvPr id="542" name="矩形 10"/>
            <p:cNvSpPr/>
            <p:nvPr/>
          </p:nvSpPr>
          <p:spPr>
            <a:xfrm>
              <a:off x="1341360" y="1179360"/>
              <a:ext cx="792360" cy="8636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文本框 11"/>
            <p:cNvSpPr/>
            <p:nvPr/>
          </p:nvSpPr>
          <p:spPr>
            <a:xfrm>
              <a:off x="1432080" y="172008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图片 13" descr=""/>
            <p:cNvPicPr/>
            <p:nvPr/>
          </p:nvPicPr>
          <p:blipFill>
            <a:blip r:embed="rId2"/>
            <a:srcRect l="64435" t="0" r="21054" b="0"/>
            <a:stretch/>
          </p:blipFill>
          <p:spPr>
            <a:xfrm>
              <a:off x="1438920" y="1188360"/>
              <a:ext cx="64836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文本框 14"/>
          <p:cNvSpPr/>
          <p:nvPr/>
        </p:nvSpPr>
        <p:spPr>
          <a:xfrm>
            <a:off x="2919240" y="135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8999640" cy="5392800"/>
          </a:xfrm>
          <a:prstGeom prst="rect">
            <a:avLst/>
          </a:prstGeom>
          <a:ln w="0">
            <a:noFill/>
          </a:ln>
        </p:spPr>
      </p:pic>
      <p:sp>
        <p:nvSpPr>
          <p:cNvPr id="550" name="矩形 8"/>
          <p:cNvSpPr/>
          <p:nvPr/>
        </p:nvSpPr>
        <p:spPr>
          <a:xfrm>
            <a:off x="2235240" y="1179360"/>
            <a:ext cx="5545080" cy="863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31"/>
          <p:cNvSpPr/>
          <p:nvPr/>
        </p:nvSpPr>
        <p:spPr>
          <a:xfrm>
            <a:off x="1341360" y="2124000"/>
            <a:ext cx="6438960" cy="2222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5"/>
          <p:cNvGrpSpPr/>
          <p:nvPr/>
        </p:nvGrpSpPr>
        <p:grpSpPr>
          <a:xfrm>
            <a:off x="1341360" y="1170000"/>
            <a:ext cx="792360" cy="873000"/>
            <a:chOff x="1341360" y="1170000"/>
            <a:chExt cx="792360" cy="873000"/>
          </a:xfrm>
        </p:grpSpPr>
        <p:sp>
          <p:nvSpPr>
            <p:cNvPr id="553" name="矩形 10"/>
            <p:cNvSpPr/>
            <p:nvPr/>
          </p:nvSpPr>
          <p:spPr>
            <a:xfrm>
              <a:off x="1341360" y="1177920"/>
              <a:ext cx="792360" cy="86508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图片 11" descr=""/>
            <p:cNvPicPr/>
            <p:nvPr/>
          </p:nvPicPr>
          <p:blipFill>
            <a:blip r:embed="rId2"/>
            <a:srcRect l="84789" t="0" r="0" b="0"/>
            <a:stretch/>
          </p:blipFill>
          <p:spPr>
            <a:xfrm>
              <a:off x="1381320" y="1170000"/>
              <a:ext cx="679680" cy="56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文本框 13"/>
            <p:cNvSpPr/>
            <p:nvPr/>
          </p:nvSpPr>
          <p:spPr>
            <a:xfrm>
              <a:off x="1434960" y="1719720"/>
              <a:ext cx="60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下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文本框 14"/>
          <p:cNvSpPr/>
          <p:nvPr/>
        </p:nvSpPr>
        <p:spPr>
          <a:xfrm>
            <a:off x="2919240" y="135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home">
            <a:hlinkClick r:id="" action="ppaction://hlinkshowjump?jump=firstslide"/>
          </p:cNvPr>
          <p:cNvPicPr/>
          <p:nvPr/>
        </p:nvPicPr>
        <p:blipFill>
          <a:blip r:embed="rId3">
            <a:lum bright="42000"/>
          </a:blip>
          <a:stretch/>
        </p:blipFill>
        <p:spPr>
          <a:xfrm>
            <a:off x="487440" y="36684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12"/>
          <p:cNvSpPr/>
          <p:nvPr/>
        </p:nvSpPr>
        <p:spPr>
          <a:xfrm>
            <a:off x="431640" y="31284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1"/>
          <p:cNvSpPr/>
          <p:nvPr/>
        </p:nvSpPr>
        <p:spPr>
          <a:xfrm>
            <a:off x="1555920" y="2344680"/>
            <a:ext cx="5929200" cy="18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Here Adds th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2"/>
          <p:cNvSpPr/>
          <p:nvPr/>
        </p:nvSpPr>
        <p:spPr>
          <a:xfrm>
            <a:off x="8172360" y="4788000"/>
            <a:ext cx="398520" cy="398520"/>
          </a:xfrm>
          <a:custGeom>
            <a:avLst/>
            <a:gdLst>
              <a:gd name="textAreaLeft" fmla="*/ 58320 w 398520"/>
              <a:gd name="textAreaRight" fmla="*/ 340200 w 398520"/>
              <a:gd name="textAreaTop" fmla="*/ 58320 h 398520"/>
              <a:gd name="textAreaBottom" fmla="*/ 340200 h 39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8" y="10800"/>
                </a:moveTo>
                <a:cubicBezTo>
                  <a:pt x="378" y="16556"/>
                  <a:pt x="5044" y="21222"/>
                  <a:pt x="10800" y="21222"/>
                </a:cubicBezTo>
                <a:cubicBezTo>
                  <a:pt x="16556" y="21222"/>
                  <a:pt x="21222" y="16556"/>
                  <a:pt x="21222" y="10800"/>
                </a:cubicBezTo>
                <a:cubicBezTo>
                  <a:pt x="21222" y="5044"/>
                  <a:pt x="16556" y="378"/>
                  <a:pt x="10800" y="378"/>
                </a:cubicBezTo>
                <a:cubicBezTo>
                  <a:pt x="5044" y="378"/>
                  <a:pt x="378" y="5044"/>
                  <a:pt x="378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8118360" y="4842000"/>
            <a:ext cx="5749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12"/>
          <p:cNvSpPr/>
          <p:nvPr/>
        </p:nvSpPr>
        <p:spPr>
          <a:xfrm>
            <a:off x="469800" y="4986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文本框 1"/>
          <p:cNvSpPr/>
          <p:nvPr/>
        </p:nvSpPr>
        <p:spPr>
          <a:xfrm>
            <a:off x="3708360" y="2124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3"/>
          <p:cNvSpPr/>
          <p:nvPr/>
        </p:nvSpPr>
        <p:spPr>
          <a:xfrm>
            <a:off x="4680000" y="281628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4"/>
          <p:cNvSpPr/>
          <p:nvPr/>
        </p:nvSpPr>
        <p:spPr>
          <a:xfrm>
            <a:off x="3203640" y="1962000"/>
            <a:ext cx="13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椭圆 5"/>
          <p:cNvSpPr/>
          <p:nvPr/>
        </p:nvSpPr>
        <p:spPr>
          <a:xfrm>
            <a:off x="4522680" y="19080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椭圆 6"/>
          <p:cNvSpPr/>
          <p:nvPr/>
        </p:nvSpPr>
        <p:spPr>
          <a:xfrm>
            <a:off x="4675320" y="2771640"/>
            <a:ext cx="10764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MQ</dc:creator>
  <dc:description/>
  <cp:keywords/>
  <dc:language>en-US</dc:language>
  <cp:lastModifiedBy>王玉清</cp:lastModifiedBy>
  <dcterms:modified xsi:type="dcterms:W3CDTF">2016-02-24T02:57:27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