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34432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6536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364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34432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36536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A64E-9093-4089-95EF-7E735185D7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6BBF-2E10-477E-A256-4D62C91BCB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3A45-8611-4B4C-8EA9-DC12E0315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B568-B7C4-46B3-A85A-B4550F39F3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7CE1-6F7B-41B9-A9E9-C408AECE89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882-1B8D-466E-B795-68EBE9B2F4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2370-7407-4F95-B118-FB1859E0F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A736-71AB-4044-91E6-49E943A79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349C-7BB6-402B-A4FB-C2D556BC7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454F-EE4C-4D2F-AC4F-9EAC635C75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D68A-CFAE-4229-ACBE-46AEF4392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4432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36536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364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34432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36536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B2CE-E61D-4A0B-8A08-0B8ECCEFA8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34432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36536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2364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34432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36536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51CF-DDBD-44E3-B37C-DE9A087F23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F65D-B501-48D3-9DDD-7F9F693BE1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0DC2-7FF7-4AA6-B528-B4F6049FC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B712-1183-42B1-9FDA-A894F165D2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8F97-EE1C-4A4B-97A6-B9806DD722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ACA1-E6DF-4789-9450-BF2039F3F3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58EE-3FA6-48C0-AB5E-97F6A1BF39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733D-3C17-481D-8BAD-A2F3AB9621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C217-0F4F-44C7-894C-95D170B9D0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1B80-CEFB-4904-989F-80606D0162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28D2-F4E1-452D-BDFE-97EEF857A6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34432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365360" y="335700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2364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34432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4365360" y="3953880"/>
            <a:ext cx="1924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B75C-453E-43AF-B681-91045E070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6160" y="395388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364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6160" y="3357000"/>
            <a:ext cx="291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3640" y="3953880"/>
            <a:ext cx="597636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矩形 13"/>
            <p:cNvSpPr/>
            <p:nvPr/>
          </p:nvSpPr>
          <p:spPr>
            <a:xfrm>
              <a:off x="0" y="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3b63"/>
                </a:gs>
                <a:gs pos="100000">
                  <a:srgbClr val="00548d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 14"/>
            <p:cNvSpPr/>
            <p:nvPr/>
          </p:nvSpPr>
          <p:spPr>
            <a:xfrm>
              <a:off x="0" y="342900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63a7"/>
                </a:gs>
                <a:gs pos="100000">
                  <a:srgbClr val="003b63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 15"/>
            <p:cNvSpPr/>
            <p:nvPr/>
          </p:nvSpPr>
          <p:spPr>
            <a:xfrm flipH="1">
              <a:off x="4571280" y="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3b63"/>
                </a:gs>
                <a:gs pos="100000">
                  <a:srgbClr val="00548d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16"/>
            <p:cNvSpPr/>
            <p:nvPr/>
          </p:nvSpPr>
          <p:spPr>
            <a:xfrm flipH="1">
              <a:off x="4571280" y="342900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63a7"/>
                </a:gs>
                <a:gs pos="100000">
                  <a:srgbClr val="003b63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2240" y="3520440"/>
            <a:ext cx="77720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148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-5040" y="6669000"/>
            <a:ext cx="9156960" cy="188640"/>
          </a:xfrm>
          <a:prstGeom prst="rect">
            <a:avLst/>
          </a:prstGeom>
          <a:solidFill>
            <a:srgbClr val="003867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5950080"/>
            <a:ext cx="9151920" cy="718920"/>
          </a:xfrm>
          <a:prstGeom prst="rect">
            <a:avLst/>
          </a:prstGeom>
          <a:solidFill>
            <a:schemeClr val="tx2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449880" y="59752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007240" y="597456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4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004000" y="6246720"/>
            <a:ext cx="177480" cy="175680"/>
          </a:xfrm>
          <a:prstGeom prst="rect">
            <a:avLst/>
          </a:prstGeom>
          <a:ln w="0">
            <a:noFill/>
          </a:ln>
        </p:spPr>
      </p:pic>
      <p:pic>
        <p:nvPicPr>
          <p:cNvPr id="4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29480" y="6246720"/>
            <a:ext cx="175680" cy="175680"/>
          </a:xfrm>
          <a:prstGeom prst="rect">
            <a:avLst/>
          </a:prstGeom>
          <a:ln w="0">
            <a:noFill/>
          </a:ln>
        </p:spPr>
      </p:pic>
      <p:sp>
        <p:nvSpPr>
          <p:cNvPr id="49" name="1 Título"/>
          <p:cNvSpPr/>
          <p:nvPr/>
        </p:nvSpPr>
        <p:spPr>
          <a:xfrm>
            <a:off x="6690600" y="6083280"/>
            <a:ext cx="2266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pyright 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PA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authentication 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8" descr=""/>
          <p:cNvPicPr/>
          <p:nvPr/>
        </p:nvPicPr>
        <p:blipFill>
          <a:blip r:embed="rId6"/>
          <a:srcRect l="0" t="61821" r="44826" b="16661"/>
          <a:stretch/>
        </p:blipFill>
        <p:spPr>
          <a:xfrm>
            <a:off x="237240" y="6100200"/>
            <a:ext cx="1648800" cy="43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3492000" y="6152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i="1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Page 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fld id="{C12A9D93-A285-448F-954B-55B3AD3554FC}" type="slidenum">
              <a:rPr b="1" i="1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46"/>
          <p:cNvSpPr/>
          <p:nvPr/>
        </p:nvSpPr>
        <p:spPr>
          <a:xfrm>
            <a:off x="0" y="206640"/>
            <a:ext cx="8676000" cy="719640"/>
          </a:xfrm>
          <a:custGeom>
            <a:avLst/>
            <a:gdLst>
              <a:gd name="textAreaLeft" fmla="*/ 0 w 8676000"/>
              <a:gd name="textAreaRight" fmla="*/ 8676360 w 8676000"/>
              <a:gd name="textAreaTop" fmla="*/ 0 h 719640"/>
              <a:gd name="textAreaBottom" fmla="*/ 720000 h 719640"/>
            </a:gdLst>
            <a:ahLst/>
            <a:rect l="textAreaLeft" t="textAreaTop" r="textAreaRight" b="textAreaBottom"/>
            <a:pathLst>
              <a:path w="8439068" h="720080">
                <a:moveTo>
                  <a:pt x="0" y="0"/>
                </a:moveTo>
                <a:lnTo>
                  <a:pt x="8269754" y="0"/>
                </a:lnTo>
                <a:lnTo>
                  <a:pt x="8439068" y="720080"/>
                </a:lnTo>
                <a:lnTo>
                  <a:pt x="0" y="72008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4271"/>
              </a:gs>
              <a:gs pos="100000">
                <a:srgbClr val="005ea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53080" y="255240"/>
            <a:ext cx="8229240" cy="6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250920" y="1125360"/>
            <a:ext cx="86421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6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92" name="矩形 7"/>
            <p:cNvSpPr/>
            <p:nvPr/>
          </p:nvSpPr>
          <p:spPr>
            <a:xfrm>
              <a:off x="0" y="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3b63"/>
                </a:gs>
                <a:gs pos="100000">
                  <a:srgbClr val="00548d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8"/>
            <p:cNvSpPr/>
            <p:nvPr/>
          </p:nvSpPr>
          <p:spPr>
            <a:xfrm>
              <a:off x="0" y="342900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63a7"/>
                </a:gs>
                <a:gs pos="100000">
                  <a:srgbClr val="003b63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9"/>
            <p:cNvSpPr/>
            <p:nvPr/>
          </p:nvSpPr>
          <p:spPr>
            <a:xfrm flipH="1">
              <a:off x="4571280" y="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3b63"/>
                </a:gs>
                <a:gs pos="100000">
                  <a:srgbClr val="00548d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 flipH="1">
              <a:off x="4571280" y="3429000"/>
              <a:ext cx="4571640" cy="3428640"/>
            </a:xfrm>
            <a:prstGeom prst="rect">
              <a:avLst/>
            </a:prstGeom>
            <a:gradFill rotWithShape="0">
              <a:gsLst>
                <a:gs pos="0">
                  <a:srgbClr val="0063a7"/>
                </a:gs>
                <a:gs pos="100000">
                  <a:srgbClr val="003b63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5"/>
          <p:cNvGrpSpPr/>
          <p:nvPr/>
        </p:nvGrpSpPr>
        <p:grpSpPr>
          <a:xfrm>
            <a:off x="6372360" y="2060280"/>
            <a:ext cx="1944000" cy="2447640"/>
            <a:chOff x="6372360" y="2060280"/>
            <a:chExt cx="1944000" cy="2447640"/>
          </a:xfrm>
        </p:grpSpPr>
        <p:sp>
          <p:nvSpPr>
            <p:cNvPr id="98" name="矩形 8"/>
            <p:cNvSpPr/>
            <p:nvPr/>
          </p:nvSpPr>
          <p:spPr>
            <a:xfrm>
              <a:off x="6372360" y="2060280"/>
              <a:ext cx="1944000" cy="208800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2088000"/>
                <a:gd name="textAreaBottom" fmla="*/ 2088360 h 2088000"/>
              </a:gdLst>
              <a:ahLst/>
              <a:rect l="textAreaLeft" t="textAreaTop" r="textAreaRight" b="textAreaBottom"/>
              <a:pathLst>
                <a:path w="1944216" h="2088232">
                  <a:moveTo>
                    <a:pt x="0" y="0"/>
                  </a:moveTo>
                  <a:lnTo>
                    <a:pt x="1944216" y="0"/>
                  </a:lnTo>
                  <a:lnTo>
                    <a:pt x="1712989" y="2088232"/>
                  </a:lnTo>
                  <a:lnTo>
                    <a:pt x="220718" y="2088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44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等腰三角形 13"/>
            <p:cNvSpPr/>
            <p:nvPr/>
          </p:nvSpPr>
          <p:spPr>
            <a:xfrm flipH="1" flipV="1">
              <a:off x="6595200" y="4147920"/>
              <a:ext cx="1479240" cy="359640"/>
            </a:xfrm>
            <a:prstGeom prst="triangle">
              <a:avLst>
                <a:gd name="adj" fmla="val 51424"/>
              </a:avLst>
            </a:prstGeom>
            <a:solidFill>
              <a:srgbClr val="fe44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11"/>
            <p:cNvSpPr/>
            <p:nvPr/>
          </p:nvSpPr>
          <p:spPr>
            <a:xfrm>
              <a:off x="7348320" y="2205000"/>
              <a:ext cx="791640" cy="208764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811764" h="1848458">
                  <a:moveTo>
                    <a:pt x="10510" y="0"/>
                  </a:moveTo>
                  <a:lnTo>
                    <a:pt x="811764" y="0"/>
                  </a:lnTo>
                  <a:lnTo>
                    <a:pt x="622578" y="1584176"/>
                  </a:lnTo>
                  <a:lnTo>
                    <a:pt x="0" y="1848458"/>
                  </a:lnTo>
                  <a:cubicBezTo>
                    <a:pt x="14014" y="1206569"/>
                    <a:pt x="7007" y="661190"/>
                    <a:pt x="10510" y="0"/>
                  </a:cubicBezTo>
                  <a:close/>
                </a:path>
              </a:pathLst>
            </a:custGeom>
            <a:solidFill>
              <a:srgbClr val="ffc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"/>
          <p:cNvSpPr/>
          <p:nvPr/>
        </p:nvSpPr>
        <p:spPr>
          <a:xfrm>
            <a:off x="-5040" y="6669000"/>
            <a:ext cx="9156960" cy="188640"/>
          </a:xfrm>
          <a:prstGeom prst="rect">
            <a:avLst/>
          </a:prstGeom>
          <a:solidFill>
            <a:srgbClr val="003867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0" y="5950080"/>
            <a:ext cx="9151920" cy="718920"/>
          </a:xfrm>
          <a:prstGeom prst="rect">
            <a:avLst/>
          </a:prstGeom>
          <a:solidFill>
            <a:schemeClr val="tx2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449880" y="59752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4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007240" y="597456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004000" y="6246720"/>
            <a:ext cx="177480" cy="17568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29480" y="6246720"/>
            <a:ext cx="175680" cy="175680"/>
          </a:xfrm>
          <a:prstGeom prst="rect">
            <a:avLst/>
          </a:prstGeom>
          <a:ln w="0">
            <a:noFill/>
          </a:ln>
        </p:spPr>
      </p:pic>
      <p:sp>
        <p:nvSpPr>
          <p:cNvPr id="145" name="1 Título"/>
          <p:cNvSpPr/>
          <p:nvPr/>
        </p:nvSpPr>
        <p:spPr>
          <a:xfrm>
            <a:off x="6690600" y="6083280"/>
            <a:ext cx="2266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pyright 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PA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authentication 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6"/>
          <a:srcRect l="0" t="61821" r="44826" b="16661"/>
          <a:stretch/>
        </p:blipFill>
        <p:spPr>
          <a:xfrm>
            <a:off x="237240" y="6100200"/>
            <a:ext cx="164880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ldNum" idx="2"/>
          </p:nvPr>
        </p:nvSpPr>
        <p:spPr>
          <a:xfrm>
            <a:off x="3492000" y="6152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i="1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Page 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fld id="{1570EF87-0598-49DE-92C2-8C892BCAF467}" type="slidenum">
              <a:rPr b="1" i="1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标题 15"/>
          <p:cNvSpPr/>
          <p:nvPr/>
        </p:nvSpPr>
        <p:spPr>
          <a:xfrm>
            <a:off x="468360" y="3588120"/>
            <a:ext cx="77720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1" lang="zh-CN" sz="4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简洁蓝色商业</a:t>
            </a:r>
            <a:r>
              <a:rPr b="1" lang="en-US" sz="4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3"/>
          <p:cNvSpPr/>
          <p:nvPr/>
        </p:nvSpPr>
        <p:spPr>
          <a:xfrm rot="21240000">
            <a:off x="923040" y="4788360"/>
            <a:ext cx="49287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主讲：杨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  <a:ea typeface="黑体"/>
              </a:rPr>
              <a:t>l  </a:t>
            </a:r>
            <a:fld id="{32F551BC-AFD0-4965-A43C-7CBFFB6079B4}" type="datetime2"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Friday, July 31,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文及会议的礼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3492000" y="6152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i="1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Page 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fld id="{69605BEA-B8F7-42BA-AF05-7E1753BA26F4}" type="slidenum">
              <a:rPr b="1" i="1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53080" y="255240"/>
            <a:ext cx="8229240" cy="6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11280" y="332352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11280" y="258408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11280" y="554184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611280" y="480240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611280" y="184500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611280" y="4062960"/>
            <a:ext cx="7921440" cy="263160"/>
          </a:xfrm>
          <a:custGeom>
            <a:avLst/>
            <a:gdLst>
              <a:gd name="textAreaLeft" fmla="*/ 744840 w 7921440"/>
              <a:gd name="textAreaRight" fmla="*/ 7176600 w 7921440"/>
              <a:gd name="textAreaTop" fmla="*/ 24480 h 263160"/>
              <a:gd name="textAreaBottom" fmla="*/ 238680 h 26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178280" y="1340640"/>
            <a:ext cx="627372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65689"/>
              </a:gs>
              <a:gs pos="100000">
                <a:srgbClr val="4d79c3"/>
              </a:gs>
            </a:gsLst>
            <a:lin ang="16200000"/>
          </a:gradFill>
          <a:ln w="6350">
            <a:solidFill>
              <a:srgbClr val="123452">
                <a:lumMod val="90000"/>
                <a:lumOff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政务礼仪概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1751760" y="2085840"/>
            <a:ext cx="619236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02107"/>
              </a:gs>
              <a:gs pos="100000">
                <a:srgbClr val="e4300b"/>
              </a:gs>
            </a:gsLst>
            <a:lin ang="16200000"/>
          </a:gra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公务场合中的着装礼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178280" y="2830680"/>
            <a:ext cx="627372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65689"/>
              </a:gs>
              <a:gs pos="100000">
                <a:srgbClr val="4d79c3"/>
              </a:gs>
            </a:gsLst>
            <a:lin ang="16200000"/>
          </a:gradFill>
          <a:ln w="6350">
            <a:solidFill>
              <a:srgbClr val="123452">
                <a:lumMod val="90000"/>
                <a:lumOff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会面仪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1178280" y="4320720"/>
            <a:ext cx="627372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65689"/>
              </a:gs>
              <a:gs pos="100000">
                <a:srgbClr val="4d79c3"/>
              </a:gs>
            </a:gsLst>
            <a:lin ang="16200000"/>
          </a:gradFill>
          <a:ln w="6350">
            <a:solidFill>
              <a:srgbClr val="123452">
                <a:lumMod val="90000"/>
                <a:lumOff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接持来访的礼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751760" y="3575880"/>
            <a:ext cx="619236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02107"/>
              </a:gs>
              <a:gs pos="100000">
                <a:srgbClr val="e4300b"/>
              </a:gs>
            </a:gsLst>
            <a:lin ang="16200000"/>
          </a:gra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公务交往中位次排列礼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1751760" y="5065920"/>
            <a:ext cx="6192360" cy="444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02107"/>
              </a:gs>
              <a:gs pos="100000">
                <a:srgbClr val="e4300b"/>
              </a:gs>
            </a:gsLst>
            <a:lin ang="16200000"/>
          </a:gra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68200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公文及会议的礼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务礼仪概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1891080" y="2788200"/>
            <a:ext cx="45360" cy="14040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Num" idx="4"/>
          </p:nvPr>
        </p:nvSpPr>
        <p:spPr>
          <a:xfrm>
            <a:off x="3492000" y="6152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i="1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Page 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fld id="{47233F2B-75FB-43AF-B2EF-B89960527F05}" type="slidenum">
              <a:rPr b="1" i="1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53080" y="255240"/>
            <a:ext cx="8229240" cy="6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Num" idx="5"/>
          </p:nvPr>
        </p:nvSpPr>
        <p:spPr>
          <a:xfrm>
            <a:off x="3492000" y="6152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i="1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Page 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fld id="{8BC109A9-19B4-43AA-A1E1-EC0EA32D0C33}" type="slidenum">
              <a:rPr b="1" i="1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务场合中的着装礼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面仪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务交往中位次排列礼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3357000"/>
            <a:ext cx="5976360" cy="114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持来访的礼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65960" y="1968840"/>
            <a:ext cx="1767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gency FB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Tailored">
      <a:dk1>
        <a:srgbClr val="000000"/>
      </a:dk1>
      <a:lt1>
        <a:srgbClr val="ffffff"/>
      </a:lt1>
      <a:dk2>
        <a:srgbClr val="123452"/>
      </a:dk2>
      <a:lt2>
        <a:srgbClr val="e0edf8"/>
      </a:lt2>
      <a:accent1>
        <a:srgbClr val="2254a6"/>
      </a:accent1>
      <a:accent2>
        <a:srgbClr val="9b6261"/>
      </a:accent2>
      <a:accent3>
        <a:srgbClr val="939070"/>
      </a:accent3>
      <a:accent4>
        <a:srgbClr val="60254d"/>
      </a:accent4>
      <a:accent5>
        <a:srgbClr val="9fc6e9"/>
      </a:accent5>
      <a:accent6>
        <a:srgbClr val="8ba7b3"/>
      </a:accent6>
      <a:hlink>
        <a:srgbClr val="3286d2"/>
      </a:hlink>
      <a:folHlink>
        <a:srgbClr val="d99b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Tailored">
      <a:dk1>
        <a:srgbClr val="000000"/>
      </a:dk1>
      <a:lt1>
        <a:srgbClr val="ffffff"/>
      </a:lt1>
      <a:dk2>
        <a:srgbClr val="123452"/>
      </a:dk2>
      <a:lt2>
        <a:srgbClr val="e0edf8"/>
      </a:lt2>
      <a:accent1>
        <a:srgbClr val="2254a6"/>
      </a:accent1>
      <a:accent2>
        <a:srgbClr val="9b6261"/>
      </a:accent2>
      <a:accent3>
        <a:srgbClr val="939070"/>
      </a:accent3>
      <a:accent4>
        <a:srgbClr val="60254d"/>
      </a:accent4>
      <a:accent5>
        <a:srgbClr val="9fc6e9"/>
      </a:accent5>
      <a:accent6>
        <a:srgbClr val="8ba7b3"/>
      </a:accent6>
      <a:hlink>
        <a:srgbClr val="3286d2"/>
      </a:hlink>
      <a:folHlink>
        <a:srgbClr val="d99b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Tailored">
      <a:dk1>
        <a:srgbClr val="000000"/>
      </a:dk1>
      <a:lt1>
        <a:srgbClr val="ffffff"/>
      </a:lt1>
      <a:dk2>
        <a:srgbClr val="123452"/>
      </a:dk2>
      <a:lt2>
        <a:srgbClr val="e0edf8"/>
      </a:lt2>
      <a:accent1>
        <a:srgbClr val="2254a6"/>
      </a:accent1>
      <a:accent2>
        <a:srgbClr val="9b6261"/>
      </a:accent2>
      <a:accent3>
        <a:srgbClr val="939070"/>
      </a:accent3>
      <a:accent4>
        <a:srgbClr val="60254d"/>
      </a:accent4>
      <a:accent5>
        <a:srgbClr val="9fc6e9"/>
      </a:accent5>
      <a:accent6>
        <a:srgbClr val="8ba7b3"/>
      </a:accent6>
      <a:hlink>
        <a:srgbClr val="3286d2"/>
      </a:hlink>
      <a:folHlink>
        <a:srgbClr val="d99b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Tailored">
      <a:dk1>
        <a:srgbClr val="000000"/>
      </a:dk1>
      <a:lt1>
        <a:srgbClr val="ffffff"/>
      </a:lt1>
      <a:dk2>
        <a:srgbClr val="123452"/>
      </a:dk2>
      <a:lt2>
        <a:srgbClr val="e0edf8"/>
      </a:lt2>
      <a:accent1>
        <a:srgbClr val="2254a6"/>
      </a:accent1>
      <a:accent2>
        <a:srgbClr val="9b6261"/>
      </a:accent2>
      <a:accent3>
        <a:srgbClr val="939070"/>
      </a:accent3>
      <a:accent4>
        <a:srgbClr val="60254d"/>
      </a:accent4>
      <a:accent5>
        <a:srgbClr val="9fc6e9"/>
      </a:accent5>
      <a:accent6>
        <a:srgbClr val="8ba7b3"/>
      </a:accent6>
      <a:hlink>
        <a:srgbClr val="3286d2"/>
      </a:hlink>
      <a:folHlink>
        <a:srgbClr val="d99b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  <Words>105</Words>
  <Paragraphs>26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2:34:26Z</dcterms:created>
  <dc:creator>ppt宝藏</dc:creator>
  <dc:description/>
  <dc:language>en-US</dc:language>
  <cp:lastModifiedBy>a</cp:lastModifiedBy>
  <dcterms:modified xsi:type="dcterms:W3CDTF">2015-07-25T12:41:28Z</dcterms:modified>
  <cp:revision>3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