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c000"/>
            </a:solidFill>
            <a:ln cap="rnd" w="28440">
              <a:solidFill>
                <a:srgbClr val="ffc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9</c:v>
                </c:pt>
                <c:pt idx="1">
                  <c:v>1</c:v>
                </c:pt>
                <c:pt idx="2">
                  <c:v>1.2</c:v>
                </c:pt>
                <c:pt idx="3">
                  <c:v>1.4</c:v>
                </c:pt>
                <c:pt idx="4">
                  <c:v>1.1</c:v>
                </c:pt>
                <c:pt idx="5">
                  <c:v>1.5</c:v>
                </c:pt>
                <c:pt idx="6">
                  <c:v>1.8</c:v>
                </c:pt>
                <c:pt idx="7">
                  <c:v>2.4</c:v>
                </c:pt>
                <c:pt idx="8">
                  <c:v>2</c:v>
                </c:pt>
                <c:pt idx="9">
                  <c:v>2.2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00cc99"/>
            </a:solidFill>
            <a:ln cap="rnd" w="28440">
              <a:solidFill>
                <a:srgbClr val="00cc99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1.1</c:v>
                </c:pt>
                <c:pt idx="1">
                  <c:v>1.2</c:v>
                </c:pt>
                <c:pt idx="2">
                  <c:v>1.5</c:v>
                </c:pt>
                <c:pt idx="3">
                  <c:v>1.9</c:v>
                </c:pt>
                <c:pt idx="4">
                  <c:v>1.5</c:v>
                </c:pt>
                <c:pt idx="5">
                  <c:v>2</c:v>
                </c:pt>
                <c:pt idx="6">
                  <c:v>2.3</c:v>
                </c:pt>
                <c:pt idx="7">
                  <c:v>2.7</c:v>
                </c:pt>
                <c:pt idx="8">
                  <c:v>2.2</c:v>
                </c:pt>
                <c:pt idx="9">
                  <c:v>2.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019748"/>
        <c:axId val="60565769"/>
      </c:lineChart>
      <c:catAx>
        <c:axId val="501974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60565769"/>
        <c:crosses val="autoZero"/>
        <c:auto val="1"/>
        <c:lblAlgn val="ctr"/>
        <c:lblOffset val="100"/>
        <c:noMultiLvlLbl val="0"/>
      </c:catAx>
      <c:valAx>
        <c:axId val="60565769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501974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.5</c:v>
                </c:pt>
                <c:pt idx="1">
                  <c:v>2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.5</c:v>
                </c:pt>
                <c:pt idx="1">
                  <c:v>7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00cc9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359-53AB-4EDF-82E6-FDD19F08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8EF-12CC-4941-AD74-6DCCCC97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46F-C285-4667-93E7-1E818EF8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16A-0D95-43D8-A7FE-67048478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B4C9-12C7-4DB5-99FE-D29D75EA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E4BB-BF04-4C5B-9D6D-901241E6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B14-27AC-47CD-8EFF-4214397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D183-29F0-4DC0-A94C-AEDA4E0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D89-EA0E-49C8-8B9F-2A64870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0CA9-3BA2-4005-B8F1-DE367CD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B575-9F8F-4ADB-A915-C218DF9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D9C-0B22-4422-BBD7-1191322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EDB-32D3-4A34-AADA-362482F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E47-DB9D-44D3-A391-09916A20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2A3-D7BC-43D1-BF48-F962A33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14C-C3AF-47D9-8D2A-97A71DBE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BDB4-712C-4D9E-BB92-CDFF8740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94A8-E802-467C-AD55-33FFC016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E9EC-201F-46D5-8981-E41A3FF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C0F9-7A45-4EA7-B506-B8F8B54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0721-5EDE-4D43-B449-83372E6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1CA8-D4E0-4DA1-8FBC-A79BBCF6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0A2-979E-483C-8FFA-D4C6010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C8BD-B041-4984-B0EF-DDB8170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05DA-F829-46E8-A588-CAE952F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5E68-1EDE-4597-960D-10F226F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87BA-4C89-4845-9CBF-AFCD932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5BB9-4F99-4A7C-AF0D-9F7C5400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933A-2BF4-4E6C-A554-6BA78054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1A80-36E5-446A-B6EA-49E125F6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8D68-0025-470D-8765-5E6BDC00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3D20-C8C6-4FA1-B580-372FD984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CA5D-0347-4C56-A393-9D29D188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9E9-B40F-4C18-8D59-1A883770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EAE3-9DA6-4252-9DC4-EA2B7A6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666F-5F09-488C-BB1F-E5EB878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3ADC-5688-40FA-8F15-11F10F9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0B9B-8AA6-4301-9B4F-B799DB3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726F-0BEF-42DE-A795-94356E7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A9D6-BE0F-465A-8E9E-BF924BF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ECB4-0B79-4A00-A3DB-F97BB1D6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EA2D-7998-4FD6-8EEC-27E900A5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3956-9E08-4F99-90B0-BAC67A94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1F61-1EBE-44F7-AA52-BB05D1D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551-C05D-47AD-B2B8-60EE48B9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7DC7-21E7-4401-905E-77D95FC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6CC8-44FD-4177-8056-DBCA5BCE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A113-2A07-4730-A83A-80AC227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3901-6157-4B15-A6C3-2ECF68C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8C6E-3CC5-419F-886F-B05F1AD6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AF07-8D0E-489B-AF36-3451C04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C1B7-516A-4F09-BEF5-F17D306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8DD2-2214-429E-AE58-AE15D1E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EE8E-B730-4D86-A9E2-33AD945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627D-CB98-4A34-B5C2-6E054B7D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A27-E574-4A90-B7BF-84FA5D8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B541-C97C-422F-AEF6-A19FCFCA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90CD8-02DA-44C6-A648-17C00787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5E63D-2325-41C9-AD2F-92C4D55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D9133-40C5-47EF-B2BB-ADC4E39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7902-D1E4-44A8-97E8-045606B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7746-F54E-45E9-B0BB-7010951D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5813-40FD-4CC0-AB90-C4FA15D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C850-EB17-4178-8A42-D3D5D1E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FA362-C436-42DE-BD11-2AE29C7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CFF6-38AB-4187-A844-7B63621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D77-E3DD-4C54-BC67-CF6BA4C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33F2-79D2-4C20-81AF-4D7DF81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2143A-69AF-4605-9F47-47FF88C2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1CFD-AB47-432C-81E8-CC406CDA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72B-8C62-4D5F-99C4-1E80F2E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102-E1F9-40E1-BC08-7CE62DA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16D50F-9E54-4BEB-975F-3BF630E3CA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29E15A-E290-435A-9A5B-B13ECA2B3F4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6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47" name="组合 12"/>
          <p:cNvGrpSpPr/>
          <p:nvPr/>
        </p:nvGrpSpPr>
        <p:grpSpPr>
          <a:xfrm>
            <a:off x="0" y="1272600"/>
            <a:ext cx="1691280" cy="787680"/>
            <a:chOff x="0" y="1272600"/>
            <a:chExt cx="1691280" cy="787680"/>
          </a:xfrm>
        </p:grpSpPr>
        <p:sp>
          <p:nvSpPr>
            <p:cNvPr id="48" name="矩形 10"/>
            <p:cNvSpPr/>
            <p:nvPr/>
          </p:nvSpPr>
          <p:spPr>
            <a:xfrm>
              <a:off x="0" y="1272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等腰三角形 11"/>
            <p:cNvSpPr/>
            <p:nvPr/>
          </p:nvSpPr>
          <p:spPr>
            <a:xfrm rot="16200000">
              <a:off x="1547640" y="1595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8492C2-DD6D-45FB-A84B-08ED43E419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3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94" name="组合 12"/>
          <p:cNvGrpSpPr/>
          <p:nvPr/>
        </p:nvGrpSpPr>
        <p:grpSpPr>
          <a:xfrm>
            <a:off x="0" y="2064600"/>
            <a:ext cx="1691280" cy="787680"/>
            <a:chOff x="0" y="2064600"/>
            <a:chExt cx="1691280" cy="787680"/>
          </a:xfrm>
        </p:grpSpPr>
        <p:sp>
          <p:nvSpPr>
            <p:cNvPr id="95" name="矩形 10"/>
            <p:cNvSpPr/>
            <p:nvPr/>
          </p:nvSpPr>
          <p:spPr>
            <a:xfrm>
              <a:off x="0" y="2064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11"/>
            <p:cNvSpPr/>
            <p:nvPr/>
          </p:nvSpPr>
          <p:spPr>
            <a:xfrm rot="16200000">
              <a:off x="1547640" y="2387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10F859-3FDA-4D60-A9DF-657482ED32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0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41" name="组合 12"/>
          <p:cNvGrpSpPr/>
          <p:nvPr/>
        </p:nvGrpSpPr>
        <p:grpSpPr>
          <a:xfrm>
            <a:off x="-5760" y="2856960"/>
            <a:ext cx="1691640" cy="787680"/>
            <a:chOff x="-5760" y="2856960"/>
            <a:chExt cx="1691640" cy="787680"/>
          </a:xfrm>
        </p:grpSpPr>
        <p:sp>
          <p:nvSpPr>
            <p:cNvPr id="142" name="矩形 10"/>
            <p:cNvSpPr/>
            <p:nvPr/>
          </p:nvSpPr>
          <p:spPr>
            <a:xfrm>
              <a:off x="-5760" y="285696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Grap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等腰三角形 11"/>
            <p:cNvSpPr/>
            <p:nvPr/>
          </p:nvSpPr>
          <p:spPr>
            <a:xfrm rot="16200000">
              <a:off x="1542240" y="3179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70255B-6B70-45C8-9198-9F2F1F94A9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7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88" name="组合 12"/>
          <p:cNvGrpSpPr/>
          <p:nvPr/>
        </p:nvGrpSpPr>
        <p:grpSpPr>
          <a:xfrm>
            <a:off x="0" y="3645000"/>
            <a:ext cx="1691280" cy="787680"/>
            <a:chOff x="0" y="3645000"/>
            <a:chExt cx="1691280" cy="787680"/>
          </a:xfrm>
        </p:grpSpPr>
        <p:sp>
          <p:nvSpPr>
            <p:cNvPr id="189" name="矩形 10"/>
            <p:cNvSpPr/>
            <p:nvPr/>
          </p:nvSpPr>
          <p:spPr>
            <a:xfrm>
              <a:off x="0" y="3645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等腰三角形 11"/>
            <p:cNvSpPr/>
            <p:nvPr/>
          </p:nvSpPr>
          <p:spPr>
            <a:xfrm rot="16200000">
              <a:off x="1547640" y="3967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FDFF6-F025-4BC7-9E91-86F8E6B05FD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34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235" name="组合 12"/>
          <p:cNvGrpSpPr/>
          <p:nvPr/>
        </p:nvGrpSpPr>
        <p:grpSpPr>
          <a:xfrm>
            <a:off x="-23760" y="4437000"/>
            <a:ext cx="1691280" cy="787680"/>
            <a:chOff x="-23760" y="4437000"/>
            <a:chExt cx="1691280" cy="787680"/>
          </a:xfrm>
        </p:grpSpPr>
        <p:sp>
          <p:nvSpPr>
            <p:cNvPr id="236" name="矩形 10"/>
            <p:cNvSpPr/>
            <p:nvPr/>
          </p:nvSpPr>
          <p:spPr>
            <a:xfrm>
              <a:off x="-23760" y="4437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等腰三角形 11"/>
            <p:cNvSpPr/>
            <p:nvPr/>
          </p:nvSpPr>
          <p:spPr>
            <a:xfrm rot="16200000">
              <a:off x="1523880" y="4759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1236600" y="417312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欧美商务风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"/>
          <p:cNvSpPr/>
          <p:nvPr/>
        </p:nvSpPr>
        <p:spPr>
          <a:xfrm>
            <a:off x="467640" y="4366080"/>
            <a:ext cx="648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"/>
          <p:cNvSpPr/>
          <p:nvPr/>
        </p:nvSpPr>
        <p:spPr>
          <a:xfrm>
            <a:off x="1907640" y="404640"/>
            <a:ext cx="216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表格 2"/>
          <p:cNvGraphicFramePr/>
          <p:nvPr/>
        </p:nvGraphicFramePr>
        <p:xfrm>
          <a:off x="1979640" y="1556640"/>
          <a:ext cx="6227640" cy="5386320"/>
        </p:xfrm>
        <a:graphic>
          <a:graphicData uri="http://schemas.openxmlformats.org/drawingml/2006/table">
            <a:tbl>
              <a:tblPr/>
              <a:tblGrid>
                <a:gridCol w="2880000"/>
                <a:gridCol w="468000"/>
                <a:gridCol w="2880000"/>
              </a:tblGrid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1"/>
          <p:cNvSpPr/>
          <p:nvPr/>
        </p:nvSpPr>
        <p:spPr>
          <a:xfrm>
            <a:off x="1907640" y="404640"/>
            <a:ext cx="410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接连接符 5"/>
          <p:cNvCxnSpPr/>
          <p:nvPr/>
        </p:nvCxnSpPr>
        <p:spPr>
          <a:xfrm>
            <a:off x="5004000" y="3753000"/>
            <a:ext cx="360" cy="2340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85" name="文本框 6"/>
          <p:cNvSpPr/>
          <p:nvPr/>
        </p:nvSpPr>
        <p:spPr>
          <a:xfrm>
            <a:off x="201564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565200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"/>
          <p:cNvSpPr/>
          <p:nvPr/>
        </p:nvSpPr>
        <p:spPr>
          <a:xfrm>
            <a:off x="200088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565200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3"/>
          <p:cNvSpPr/>
          <p:nvPr/>
        </p:nvSpPr>
        <p:spPr>
          <a:xfrm>
            <a:off x="1907640" y="404640"/>
            <a:ext cx="381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E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图表 11"/>
          <p:cNvGraphicFramePr/>
          <p:nvPr/>
        </p:nvGraphicFramePr>
        <p:xfrm>
          <a:off x="2015640" y="3141000"/>
          <a:ext cx="6095520" cy="291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3"/>
          <p:cNvSpPr/>
          <p:nvPr/>
        </p:nvSpPr>
        <p:spPr>
          <a:xfrm>
            <a:off x="1907640" y="404640"/>
            <a:ext cx="4968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CL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图表 8"/>
          <p:cNvGraphicFramePr/>
          <p:nvPr/>
        </p:nvGraphicFramePr>
        <p:xfrm>
          <a:off x="176364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95" name="图表 11"/>
          <p:cNvGraphicFramePr/>
          <p:nvPr/>
        </p:nvGraphicFramePr>
        <p:xfrm>
          <a:off x="637236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96" name="图表 12"/>
          <p:cNvGraphicFramePr/>
          <p:nvPr/>
        </p:nvGraphicFramePr>
        <p:xfrm>
          <a:off x="406800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97" name="文本框 13"/>
          <p:cNvSpPr/>
          <p:nvPr/>
        </p:nvSpPr>
        <p:spPr>
          <a:xfrm>
            <a:off x="2267640" y="2421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7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457200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687636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6"/>
          <p:cNvSpPr/>
          <p:nvPr/>
        </p:nvSpPr>
        <p:spPr>
          <a:xfrm>
            <a:off x="2627640" y="386100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7"/>
          <p:cNvSpPr/>
          <p:nvPr/>
        </p:nvSpPr>
        <p:spPr>
          <a:xfrm>
            <a:off x="5004000" y="386316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8"/>
          <p:cNvSpPr/>
          <p:nvPr/>
        </p:nvSpPr>
        <p:spPr>
          <a:xfrm>
            <a:off x="7236360" y="385632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219204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449820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680436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文本框 2"/>
          <p:cNvSpPr/>
          <p:nvPr/>
        </p:nvSpPr>
        <p:spPr>
          <a:xfrm>
            <a:off x="1907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T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表格 5"/>
          <p:cNvGraphicFramePr/>
          <p:nvPr/>
        </p:nvGraphicFramePr>
        <p:xfrm>
          <a:off x="2114280" y="3141000"/>
          <a:ext cx="6095520" cy="31680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1840"/>
              </a:tblGrid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d0d0d"/>
                        </a:solidFill>
                        <a:latin typeface="Calibri Light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,871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5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54,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1,287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53,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8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1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8,555,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4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11,325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表格 4"/>
          <p:cNvGraphicFramePr/>
          <p:nvPr/>
        </p:nvGraphicFramePr>
        <p:xfrm>
          <a:off x="2015640" y="2853000"/>
          <a:ext cx="6095520" cy="3384000"/>
        </p:xfrm>
        <a:graphic>
          <a:graphicData uri="http://schemas.openxmlformats.org/drawingml/2006/table">
            <a:tbl>
              <a:tblPr/>
              <a:tblGrid>
                <a:gridCol w="1188000"/>
                <a:gridCol w="817920"/>
                <a:gridCol w="817920"/>
                <a:gridCol w="817920"/>
                <a:gridCol w="817920"/>
                <a:gridCol w="817920"/>
                <a:gridCol w="817920"/>
              </a:tblGrid>
              <a:tr h="42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X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313" name="文本框 5"/>
          <p:cNvSpPr/>
          <p:nvPr/>
        </p:nvSpPr>
        <p:spPr>
          <a:xfrm>
            <a:off x="1979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ANNING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77120" y="6381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5" name="直接连接符 7"/>
          <p:cNvCxnSpPr/>
          <p:nvPr/>
        </p:nvCxnSpPr>
        <p:spPr>
          <a:xfrm>
            <a:off x="2012760" y="2222640"/>
            <a:ext cx="648036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316" name="文本框 1"/>
          <p:cNvSpPr/>
          <p:nvPr/>
        </p:nvSpPr>
        <p:spPr>
          <a:xfrm>
            <a:off x="1907640" y="404640"/>
            <a:ext cx="324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"/>
          <p:cNvSpPr/>
          <p:nvPr/>
        </p:nvSpPr>
        <p:spPr>
          <a:xfrm>
            <a:off x="19796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3"/>
          <p:cNvSpPr/>
          <p:nvPr/>
        </p:nvSpPr>
        <p:spPr>
          <a:xfrm>
            <a:off x="3742920" y="1556640"/>
            <a:ext cx="1331640" cy="1331640"/>
          </a:xfrm>
          <a:prstGeom prst="ellipse">
            <a:avLst/>
          </a:prstGeom>
          <a:solidFill>
            <a:srgbClr val="00cc9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4"/>
          <p:cNvSpPr/>
          <p:nvPr/>
        </p:nvSpPr>
        <p:spPr>
          <a:xfrm>
            <a:off x="55058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"/>
          <p:cNvSpPr/>
          <p:nvPr/>
        </p:nvSpPr>
        <p:spPr>
          <a:xfrm>
            <a:off x="726876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表格 8"/>
          <p:cNvGraphicFramePr/>
          <p:nvPr/>
        </p:nvGraphicFramePr>
        <p:xfrm>
          <a:off x="1994760" y="3429000"/>
          <a:ext cx="6498000" cy="3659040"/>
        </p:xfrm>
        <a:graphic>
          <a:graphicData uri="http://schemas.openxmlformats.org/drawingml/2006/table">
            <a:tbl>
              <a:tblPr/>
              <a:tblGrid>
                <a:gridCol w="1288800"/>
                <a:gridCol w="5209200"/>
              </a:tblGrid>
              <a:tr h="67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esig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Calibri"/>
                        </a:rPr>
                        <a:t>Te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un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ppor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1"/>
          <p:cNvSpPr/>
          <p:nvPr/>
        </p:nvSpPr>
        <p:spPr>
          <a:xfrm>
            <a:off x="1907640" y="404640"/>
            <a:ext cx="475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DO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表格 6"/>
          <p:cNvGraphicFramePr/>
          <p:nvPr/>
        </p:nvGraphicFramePr>
        <p:xfrm>
          <a:off x="2051640" y="1606320"/>
          <a:ext cx="6095520" cy="5064480"/>
        </p:xfrm>
        <a:graphic>
          <a:graphicData uri="http://schemas.openxmlformats.org/drawingml/2006/table">
            <a:tbl>
              <a:tblPr/>
              <a:tblGrid>
                <a:gridCol w="1008000"/>
                <a:gridCol w="5087880"/>
              </a:tblGrid>
              <a:tr h="3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9a0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324" name="直接连接符 10"/>
          <p:cNvCxnSpPr/>
          <p:nvPr/>
        </p:nvCxnSpPr>
        <p:spPr>
          <a:xfrm>
            <a:off x="1907640" y="270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5" name="直接连接符 11"/>
          <p:cNvCxnSpPr/>
          <p:nvPr/>
        </p:nvCxnSpPr>
        <p:spPr>
          <a:xfrm>
            <a:off x="1907640" y="5301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6" name="直接连接符 12"/>
          <p:cNvCxnSpPr/>
          <p:nvPr/>
        </p:nvCxnSpPr>
        <p:spPr>
          <a:xfrm>
            <a:off x="1907640" y="4005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  <Words>513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37:38Z</dcterms:created>
  <dc:creator>www.pptbz.com</dc:creator>
  <dc:description/>
  <dc:language>en-US</dc:language>
  <cp:lastModifiedBy>a</cp:lastModifiedBy>
  <dcterms:modified xsi:type="dcterms:W3CDTF">2015-07-25T12:18:2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