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gif" ContentType="image/gif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BF4F2-910B-4806-9762-38DF8A2EF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F4577-516B-483E-A5D5-3FB145F18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EE2E0-91FB-4C44-87D0-64EEE012B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4D0EE-017E-41EF-AA55-608E4EB30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42D18-C2B9-44E3-9952-4F895FAF9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2FD07-B640-49FD-AE1C-CE4381C6F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F4086-ADB8-48ED-B8AD-AA7497515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C3976-73FE-487C-849F-5883CA046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409F9-3942-4230-926E-9E5237443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B97BC-643C-4D68-9F56-0777ACA59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F4079-C00B-4543-9B61-9501B7E9E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CC3AB-50A5-4461-A033-C4B25C689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8D9A3-73D7-46C2-9C3B-223A793BB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CC2F1-6059-4E15-968B-CC9D079B1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69EBC-1820-4C8D-B252-968ED12A0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9DFEE-2718-4D02-8181-0986460FF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47F5B-E6B2-43DD-B660-437D5C3EF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F77C1-2D3B-4003-84E2-8C246B1F4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A0330-0A7A-4561-9AEB-39B5E12B3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770EB-6895-41F0-AD92-F6F9B61F9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07E2B-E6D7-445F-89CE-6EFC6161D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5AE74-40BF-4E2B-B97C-E18696930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09CF9-9376-436E-901C-94FF9879F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0184E-01A0-49F6-9F7E-0860D848A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66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SzPct val="80000"/>
              <a:buFont typeface="Wingding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ff"/>
              </a:buClr>
              <a:buSzPct val="80000"/>
              <a:buFont typeface="Wingding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66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8668A-B7D4-4583-9771-189FAA62B2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560" y="22856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0B447-8103-4AD9-A54F-7170401539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6666"/>
              </a:buClr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ff"/>
              </a:buClr>
              <a:buSzPct val="80000"/>
              <a:buFont typeface="Wingdings" charset="2"/>
              <a:buChar char="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6666"/>
              </a:buClr>
              <a:buSzPct val="85000"/>
              <a:buFont typeface="Wingdings" charset="2"/>
              <a:buChar char="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560" y="1780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08000" y="638172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Times New Roman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Times New Roman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468160" y="189000"/>
            <a:ext cx="323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京剧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zh-CN" sz="4400" spc="-1" strike="noStrike">
                <a:solidFill>
                  <a:srgbClr val="000099"/>
                </a:solidFill>
                <a:latin typeface="Arial"/>
              </a:rPr>
              <a:t>京剧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66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我国最主要的戏曲剧种，流行于全国各地，其前身是徽调和汉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66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京剧后定为我国国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99"/>
                </a:solidFill>
                <a:latin typeface="Arial"/>
              </a:rPr>
              <a:t>京剧的形成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66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87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年，原有南方演出的三庆、四喜、春台、和春四大微调班社进入北京，同来自湖北的汉调艺人合作，接受了其他剧种的表演方法，演变，而形成早期京剧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66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现有的京剧是有许多的表演艺术家经过不断的创作丰富而成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99"/>
                </a:solidFill>
                <a:latin typeface="Arial"/>
              </a:rPr>
              <a:t>京剧音乐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66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其音乐属于皮黄腔系，唱腔以徽调的二黄和汉调的西皮为主所以叫“皮黄腔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66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唱腔伴奏乐器以京胡、京二胡、月琴、三弦为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7978680" y="5565600"/>
            <a:ext cx="1165320" cy="12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99"/>
                </a:solidFill>
                <a:latin typeface="Arial"/>
              </a:rPr>
              <a:t>京剧表演角色分类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66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根据人物男、女、老、少、俊、丑、正、雅分成生、旦、净、丑四大角色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66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各种角色都有其不同的脸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6022800" y="4560840"/>
            <a:ext cx="3121200" cy="229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99"/>
                </a:solidFill>
                <a:latin typeface="Arial"/>
              </a:rPr>
              <a:t>京剧欣赏</a:t>
            </a: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-----</a:t>
            </a:r>
            <a:r>
              <a:rPr b="0" lang="zh-CN" sz="4400" spc="-1" strike="noStrike">
                <a:solidFill>
                  <a:srgbClr val="000099"/>
                </a:solidFill>
                <a:latin typeface="Arial"/>
              </a:rPr>
              <a:t>《智斗》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《智斗》选自《沙家浜》（现代京剧）第四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内容介词：新四军家属阿庆嫂，在沙家浜以开茶馆为名从事党的地下交通站工作，原是土匪头子的胡传魁，曾因抗日被日本鬼子追击得走投无路，阿庆嫂因其抗日而掩护他，救了他的命。不料后来胡传魁投降日寇，成为伪军“忠义救国军”的司令，驻扎到沙家浜专事围剿新四军伤病员。日寇为了他，给他派了个参谋长——本地豪绅刁老太爷的儿子汉奸翻泽官刁德一为控制这支军队，执行围剿任务。来到了茶馆，刁德一看到胡传魁与阿庆嫂这么热情打招呼，顿生疑心，就旁敲侧击地盘误码阿庆嫂打听有关新四军伤病员的消息。可是阿庆嫂察颜观色、严密防备、机智伶俐、以守为攻，说出来的话无懈可击、滴水不漏，使刁德一一无所获，讨了个没趣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295280" y="2590920"/>
            <a:ext cx="752472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006666"/>
                </a:solidFill>
                <a:latin typeface="Times New Roman"/>
              </a:rPr>
              <a:t>、剧中人物各有哪些特点（从语言中提炼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006666"/>
                </a:solidFill>
                <a:latin typeface="Times New Roman"/>
              </a:rPr>
              <a:t>、当时社会历史背景（人物所处环境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Times New Roman"/>
              </a:rPr>
              <a:t>3</a:t>
            </a:r>
            <a:r>
              <a:rPr b="0" lang="zh-CN" sz="2800" spc="-1" strike="noStrike">
                <a:solidFill>
                  <a:srgbClr val="006666"/>
                </a:solidFill>
                <a:latin typeface="Times New Roman"/>
              </a:rPr>
              <a:t>、京剧音乐唱腔特点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860840" y="990720"/>
            <a:ext cx="1186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6666"/>
                </a:solidFill>
                <a:latin typeface="Times New Roman"/>
              </a:rPr>
              <a:t>问题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1280" y="595008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Times New Roman"/>
                <a:hlinkClick r:id="rId2"/>
              </a:rPr>
              <a:t>ppt模板网站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99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C61A1-7D96-4AF6-AFA9-9CB1FF9E55B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01T08:54:31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7T02:41:39Z</dcterms:modified>
  <cp:revision>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