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20F-F76C-4F2A-97C1-447D662B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D01-D630-483D-9B37-A82EF550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BBE-F909-481E-9F67-B0B58DD5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D88-73DC-4882-8A43-5F96CB2F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7B3-CEC4-4240-AA8B-4FA4AAC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92D-660D-4F15-90E3-EAE6142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102-8DC8-4B5E-BED2-03B1686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351-D36D-49EE-A987-DC7D0A6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A85-DEB1-41B2-8953-70C38E18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310-5385-4BAD-84E2-115470D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A4B-67C6-40DD-B19B-D6B2C14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901-62E1-40D1-9214-1D274D5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271-43E6-4F4C-BFB3-BCA724C7C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26920" y="765000"/>
            <a:ext cx="7748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时钟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1552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4578480" y="3664080"/>
            <a:ext cx="3539880" cy="196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弦形 7"/>
          <p:cNvSpPr/>
          <p:nvPr/>
        </p:nvSpPr>
        <p:spPr>
          <a:xfrm rot="10800000">
            <a:off x="3935520" y="4030200"/>
            <a:ext cx="1239840" cy="124164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402706" y="1244140"/>
                  <a:pt x="194018" y="1124804"/>
                  <a:pt x="82162" y="929519"/>
                </a:cubicBezTo>
                <a:cubicBezTo>
                  <a:pt x="-29508" y="734559"/>
                  <a:pt x="-27203" y="494388"/>
                  <a:pt x="88189" y="301613"/>
                </a:cubicBezTo>
                <a:cubicBezTo>
                  <a:pt x="203777" y="108510"/>
                  <a:pt x="414727" y="-6789"/>
                  <a:pt x="639458" y="307"/>
                </a:cubicBezTo>
                <a:lnTo>
                  <a:pt x="627523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8"/>
          <p:cNvSpPr/>
          <p:nvPr/>
        </p:nvSpPr>
        <p:spPr>
          <a:xfrm>
            <a:off x="4578480" y="1643040"/>
            <a:ext cx="3539880" cy="196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弦形 9"/>
          <p:cNvSpPr/>
          <p:nvPr/>
        </p:nvSpPr>
        <p:spPr>
          <a:xfrm rot="10800000">
            <a:off x="3935520" y="2009880"/>
            <a:ext cx="1239840" cy="124128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402706" y="1244140"/>
                  <a:pt x="194018" y="1124804"/>
                  <a:pt x="82162" y="929519"/>
                </a:cubicBezTo>
                <a:cubicBezTo>
                  <a:pt x="-29508" y="734559"/>
                  <a:pt x="-27203" y="494388"/>
                  <a:pt x="88189" y="301613"/>
                </a:cubicBezTo>
                <a:cubicBezTo>
                  <a:pt x="203777" y="108510"/>
                  <a:pt x="414727" y="-6789"/>
                  <a:pt x="639458" y="307"/>
                </a:cubicBezTo>
                <a:lnTo>
                  <a:pt x="627523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0"/>
          <p:cNvSpPr/>
          <p:nvPr/>
        </p:nvSpPr>
        <p:spPr>
          <a:xfrm flipH="1">
            <a:off x="1000080" y="3664080"/>
            <a:ext cx="3540240" cy="196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弦形 11"/>
          <p:cNvSpPr/>
          <p:nvPr/>
        </p:nvSpPr>
        <p:spPr>
          <a:xfrm flipH="1" rot="10800000">
            <a:off x="3943440" y="4030200"/>
            <a:ext cx="1239840" cy="1241640"/>
          </a:xfrm>
          <a:custGeom>
            <a:avLst/>
            <a:gdLst/>
            <a:ahLst/>
            <a:rect l="l" t="t" r="r" b="b"/>
            <a:pathLst>
              <a:path w="1239838" h="1241425">
                <a:moveTo>
                  <a:pt x="627524" y="1241378"/>
                </a:moveTo>
                <a:cubicBezTo>
                  <a:pt x="402707" y="1244140"/>
                  <a:pt x="194019" y="1124804"/>
                  <a:pt x="82163" y="929519"/>
                </a:cubicBezTo>
                <a:cubicBezTo>
                  <a:pt x="-29507" y="734559"/>
                  <a:pt x="-27202" y="494388"/>
                  <a:pt x="88190" y="301613"/>
                </a:cubicBezTo>
                <a:cubicBezTo>
                  <a:pt x="203778" y="108510"/>
                  <a:pt x="414728" y="-6789"/>
                  <a:pt x="639459" y="307"/>
                </a:cubicBezTo>
                <a:lnTo>
                  <a:pt x="627524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 flipH="1">
            <a:off x="1000080" y="1643040"/>
            <a:ext cx="3540240" cy="196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弦形 13"/>
          <p:cNvSpPr/>
          <p:nvPr/>
        </p:nvSpPr>
        <p:spPr>
          <a:xfrm flipH="1" rot="10800000">
            <a:off x="3943440" y="2009880"/>
            <a:ext cx="1239840" cy="1241280"/>
          </a:xfrm>
          <a:custGeom>
            <a:avLst/>
            <a:gdLst/>
            <a:ahLst/>
            <a:rect l="l" t="t" r="r" b="b"/>
            <a:pathLst>
              <a:path w="1239838" h="1241425">
                <a:moveTo>
                  <a:pt x="627524" y="1241378"/>
                </a:moveTo>
                <a:cubicBezTo>
                  <a:pt x="402707" y="1244140"/>
                  <a:pt x="194019" y="1124804"/>
                  <a:pt x="82163" y="929519"/>
                </a:cubicBezTo>
                <a:cubicBezTo>
                  <a:pt x="-29507" y="734559"/>
                  <a:pt x="-27202" y="494388"/>
                  <a:pt x="88190" y="301613"/>
                </a:cubicBezTo>
                <a:cubicBezTo>
                  <a:pt x="203778" y="108510"/>
                  <a:pt x="414728" y="-6789"/>
                  <a:pt x="639459" y="307"/>
                </a:cubicBezTo>
                <a:lnTo>
                  <a:pt x="627524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5"/>
          <p:cNvSpPr/>
          <p:nvPr/>
        </p:nvSpPr>
        <p:spPr>
          <a:xfrm>
            <a:off x="59979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5"/>
          <p:cNvSpPr/>
          <p:nvPr/>
        </p:nvSpPr>
        <p:spPr>
          <a:xfrm>
            <a:off x="592668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5"/>
          <p:cNvSpPr/>
          <p:nvPr/>
        </p:nvSpPr>
        <p:spPr>
          <a:xfrm>
            <a:off x="21405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"/>
          <p:cNvSpPr/>
          <p:nvPr/>
        </p:nvSpPr>
        <p:spPr>
          <a:xfrm>
            <a:off x="206892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50920" y="630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矩形 16"/>
          <p:cNvGrpSpPr/>
          <p:nvPr/>
        </p:nvGrpSpPr>
        <p:grpSpPr>
          <a:xfrm>
            <a:off x="3279600" y="4724280"/>
            <a:ext cx="4175280" cy="536760"/>
            <a:chOff x="3279600" y="4724280"/>
            <a:chExt cx="4175280" cy="536760"/>
          </a:xfrm>
        </p:grpSpPr>
        <p:pic>
          <p:nvPicPr>
            <p:cNvPr id="51" name="矩形 16" descr=""/>
            <p:cNvPicPr/>
            <p:nvPr/>
          </p:nvPicPr>
          <p:blipFill>
            <a:blip r:embed="rId2"/>
            <a:stretch/>
          </p:blipFill>
          <p:spPr>
            <a:xfrm>
              <a:off x="3279600" y="4725360"/>
              <a:ext cx="4175280" cy="5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79600" y="4724280"/>
              <a:ext cx="417384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圆角矩形 10"/>
          <p:cNvSpPr/>
          <p:nvPr/>
        </p:nvSpPr>
        <p:spPr>
          <a:xfrm>
            <a:off x="3776760" y="4321080"/>
            <a:ext cx="3724200" cy="592200"/>
          </a:xfrm>
          <a:prstGeom prst="roundRect">
            <a:avLst>
              <a:gd name="adj" fmla="val 13532"/>
            </a:avLst>
          </a:prstGeom>
          <a:solidFill>
            <a:srgbClr val="cccc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3246480" y="4726080"/>
            <a:ext cx="409680" cy="22392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矩形 13"/>
          <p:cNvGrpSpPr/>
          <p:nvPr/>
        </p:nvGrpSpPr>
        <p:grpSpPr>
          <a:xfrm>
            <a:off x="3328920" y="4346640"/>
            <a:ext cx="1176120" cy="712800"/>
            <a:chOff x="3328920" y="4346640"/>
            <a:chExt cx="1176120" cy="712800"/>
          </a:xfrm>
        </p:grpSpPr>
        <p:pic>
          <p:nvPicPr>
            <p:cNvPr id="56" name="矩形 13" descr=""/>
            <p:cNvPicPr/>
            <p:nvPr/>
          </p:nvPicPr>
          <p:blipFill>
            <a:blip r:embed="rId3"/>
            <a:stretch/>
          </p:blipFill>
          <p:spPr>
            <a:xfrm>
              <a:off x="3330000" y="4348080"/>
              <a:ext cx="117504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328920" y="4346640"/>
              <a:ext cx="11746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右箭头 10"/>
          <p:cNvSpPr/>
          <p:nvPr/>
        </p:nvSpPr>
        <p:spPr>
          <a:xfrm>
            <a:off x="3246480" y="4149720"/>
            <a:ext cx="1265040" cy="763560"/>
          </a:xfrm>
          <a:custGeom>
            <a:avLst/>
            <a:gdLst/>
            <a:ahLst/>
            <a:rect l="l" t="t" r="r" b="b"/>
            <a:pathLst>
              <a:path w="2231350" h="1345899">
                <a:moveTo>
                  <a:pt x="1396233" y="0"/>
                </a:moveTo>
                <a:lnTo>
                  <a:pt x="2231350" y="672950"/>
                </a:lnTo>
                <a:lnTo>
                  <a:pt x="1396233" y="1345899"/>
                </a:lnTo>
                <a:lnTo>
                  <a:pt x="1396233" y="1122937"/>
                </a:lnTo>
                <a:cubicBezTo>
                  <a:pt x="930822" y="1144709"/>
                  <a:pt x="318454" y="1003194"/>
                  <a:pt x="0" y="1188252"/>
                </a:cubicBezTo>
                <a:lnTo>
                  <a:pt x="826925" y="222962"/>
                </a:lnTo>
                <a:lnTo>
                  <a:pt x="1396233" y="222962"/>
                </a:lnTo>
                <a:lnTo>
                  <a:pt x="13962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矩形 16"/>
          <p:cNvGrpSpPr/>
          <p:nvPr/>
        </p:nvGrpSpPr>
        <p:grpSpPr>
          <a:xfrm>
            <a:off x="2955960" y="3749760"/>
            <a:ext cx="4176720" cy="536400"/>
            <a:chOff x="2955960" y="3749760"/>
            <a:chExt cx="4176720" cy="536400"/>
          </a:xfrm>
        </p:grpSpPr>
        <p:pic>
          <p:nvPicPr>
            <p:cNvPr id="60" name="矩形 16" descr=""/>
            <p:cNvPicPr/>
            <p:nvPr/>
          </p:nvPicPr>
          <p:blipFill>
            <a:blip r:embed="rId4"/>
            <a:stretch/>
          </p:blipFill>
          <p:spPr>
            <a:xfrm>
              <a:off x="2955960" y="3751200"/>
              <a:ext cx="4176720" cy="53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959200" y="3749760"/>
              <a:ext cx="41734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圆角矩形 15"/>
          <p:cNvSpPr/>
          <p:nvPr/>
        </p:nvSpPr>
        <p:spPr>
          <a:xfrm>
            <a:off x="3408480" y="3417840"/>
            <a:ext cx="3724200" cy="590760"/>
          </a:xfrm>
          <a:prstGeom prst="roundRect">
            <a:avLst>
              <a:gd name="adj" fmla="val 13532"/>
            </a:avLst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6"/>
          <p:cNvSpPr/>
          <p:nvPr/>
        </p:nvSpPr>
        <p:spPr>
          <a:xfrm>
            <a:off x="2878200" y="3822840"/>
            <a:ext cx="409680" cy="223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矩形 13"/>
          <p:cNvGrpSpPr/>
          <p:nvPr/>
        </p:nvGrpSpPr>
        <p:grpSpPr>
          <a:xfrm>
            <a:off x="2955960" y="3444840"/>
            <a:ext cx="1177920" cy="712800"/>
            <a:chOff x="2955960" y="3444840"/>
            <a:chExt cx="1177920" cy="712800"/>
          </a:xfrm>
        </p:grpSpPr>
        <p:pic>
          <p:nvPicPr>
            <p:cNvPr id="65" name="矩形 13" descr=""/>
            <p:cNvPicPr/>
            <p:nvPr/>
          </p:nvPicPr>
          <p:blipFill>
            <a:blip r:embed="rId5"/>
            <a:stretch/>
          </p:blipFill>
          <p:spPr>
            <a:xfrm>
              <a:off x="2955960" y="3447720"/>
              <a:ext cx="117792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959200" y="3444840"/>
              <a:ext cx="11746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右箭头 10"/>
          <p:cNvSpPr/>
          <p:nvPr/>
        </p:nvSpPr>
        <p:spPr>
          <a:xfrm>
            <a:off x="2878200" y="3246480"/>
            <a:ext cx="1265040" cy="762120"/>
          </a:xfrm>
          <a:custGeom>
            <a:avLst/>
            <a:gdLst/>
            <a:ahLst/>
            <a:rect l="l" t="t" r="r" b="b"/>
            <a:pathLst>
              <a:path w="2231350" h="1345899">
                <a:moveTo>
                  <a:pt x="1396233" y="0"/>
                </a:moveTo>
                <a:lnTo>
                  <a:pt x="2231350" y="672950"/>
                </a:lnTo>
                <a:lnTo>
                  <a:pt x="1396233" y="1345899"/>
                </a:lnTo>
                <a:lnTo>
                  <a:pt x="1396233" y="1122937"/>
                </a:lnTo>
                <a:cubicBezTo>
                  <a:pt x="930822" y="1144709"/>
                  <a:pt x="318454" y="1003194"/>
                  <a:pt x="0" y="1188252"/>
                </a:cubicBezTo>
                <a:lnTo>
                  <a:pt x="826925" y="222962"/>
                </a:lnTo>
                <a:lnTo>
                  <a:pt x="1396233" y="222962"/>
                </a:lnTo>
                <a:lnTo>
                  <a:pt x="1396233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矩形 16"/>
          <p:cNvGrpSpPr/>
          <p:nvPr/>
        </p:nvGrpSpPr>
        <p:grpSpPr>
          <a:xfrm>
            <a:off x="2687760" y="2803680"/>
            <a:ext cx="4170240" cy="536400"/>
            <a:chOff x="2687760" y="2803680"/>
            <a:chExt cx="4170240" cy="536400"/>
          </a:xfrm>
        </p:grpSpPr>
        <p:pic>
          <p:nvPicPr>
            <p:cNvPr id="69" name="矩形 16" descr=""/>
            <p:cNvPicPr/>
            <p:nvPr/>
          </p:nvPicPr>
          <p:blipFill>
            <a:blip r:embed="rId6"/>
            <a:stretch/>
          </p:blipFill>
          <p:spPr>
            <a:xfrm>
              <a:off x="2687760" y="2803680"/>
              <a:ext cx="41688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87760" y="2803680"/>
              <a:ext cx="41702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圆角矩形 20"/>
          <p:cNvSpPr/>
          <p:nvPr/>
        </p:nvSpPr>
        <p:spPr>
          <a:xfrm>
            <a:off x="3137040" y="2473200"/>
            <a:ext cx="3722400" cy="592200"/>
          </a:xfrm>
          <a:prstGeom prst="roundRect">
            <a:avLst>
              <a:gd name="adj" fmla="val 13532"/>
            </a:avLst>
          </a:prstGeom>
          <a:solidFill>
            <a:srgbClr val="cccc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1"/>
          <p:cNvSpPr/>
          <p:nvPr/>
        </p:nvSpPr>
        <p:spPr>
          <a:xfrm>
            <a:off x="2604960" y="2878200"/>
            <a:ext cx="411120" cy="22392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矩形 13"/>
          <p:cNvGrpSpPr/>
          <p:nvPr/>
        </p:nvGrpSpPr>
        <p:grpSpPr>
          <a:xfrm>
            <a:off x="2687760" y="2498760"/>
            <a:ext cx="1177920" cy="714240"/>
            <a:chOff x="2687760" y="2498760"/>
            <a:chExt cx="1177920" cy="714240"/>
          </a:xfrm>
        </p:grpSpPr>
        <p:pic>
          <p:nvPicPr>
            <p:cNvPr id="74" name="矩形 13" descr=""/>
            <p:cNvPicPr/>
            <p:nvPr/>
          </p:nvPicPr>
          <p:blipFill>
            <a:blip r:embed="rId7"/>
            <a:stretch/>
          </p:blipFill>
          <p:spPr>
            <a:xfrm>
              <a:off x="2687760" y="2498760"/>
              <a:ext cx="1177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687760" y="2498760"/>
              <a:ext cx="11746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右箭头 10"/>
          <p:cNvSpPr/>
          <p:nvPr/>
        </p:nvSpPr>
        <p:spPr>
          <a:xfrm>
            <a:off x="2604960" y="2301840"/>
            <a:ext cx="1266840" cy="763560"/>
          </a:xfrm>
          <a:custGeom>
            <a:avLst/>
            <a:gdLst/>
            <a:ahLst/>
            <a:rect l="l" t="t" r="r" b="b"/>
            <a:pathLst>
              <a:path w="2231350" h="1345899">
                <a:moveTo>
                  <a:pt x="1396233" y="0"/>
                </a:moveTo>
                <a:lnTo>
                  <a:pt x="2231350" y="672950"/>
                </a:lnTo>
                <a:lnTo>
                  <a:pt x="1396233" y="1345899"/>
                </a:lnTo>
                <a:lnTo>
                  <a:pt x="1396233" y="1122937"/>
                </a:lnTo>
                <a:cubicBezTo>
                  <a:pt x="930822" y="1144709"/>
                  <a:pt x="318454" y="1003194"/>
                  <a:pt x="0" y="1188252"/>
                </a:cubicBezTo>
                <a:lnTo>
                  <a:pt x="826925" y="222962"/>
                </a:lnTo>
                <a:lnTo>
                  <a:pt x="1396233" y="222962"/>
                </a:lnTo>
                <a:lnTo>
                  <a:pt x="13962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矩形 16"/>
          <p:cNvGrpSpPr/>
          <p:nvPr/>
        </p:nvGrpSpPr>
        <p:grpSpPr>
          <a:xfrm>
            <a:off x="2487600" y="1859040"/>
            <a:ext cx="4168800" cy="536040"/>
            <a:chOff x="2487600" y="1859040"/>
            <a:chExt cx="4168800" cy="536040"/>
          </a:xfrm>
        </p:grpSpPr>
        <p:pic>
          <p:nvPicPr>
            <p:cNvPr id="78" name="矩形 16" descr=""/>
            <p:cNvPicPr/>
            <p:nvPr/>
          </p:nvPicPr>
          <p:blipFill>
            <a:blip r:embed="rId8"/>
            <a:stretch/>
          </p:blipFill>
          <p:spPr>
            <a:xfrm>
              <a:off x="2488680" y="1859040"/>
              <a:ext cx="41659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487600" y="1860120"/>
              <a:ext cx="4168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圆角矩形 25"/>
          <p:cNvSpPr/>
          <p:nvPr/>
        </p:nvSpPr>
        <p:spPr>
          <a:xfrm>
            <a:off x="2935440" y="1528920"/>
            <a:ext cx="3724200" cy="591840"/>
          </a:xfrm>
          <a:prstGeom prst="roundRect">
            <a:avLst>
              <a:gd name="adj" fmla="val 13532"/>
            </a:avLst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6"/>
          <p:cNvSpPr/>
          <p:nvPr/>
        </p:nvSpPr>
        <p:spPr>
          <a:xfrm>
            <a:off x="2405160" y="1933560"/>
            <a:ext cx="411120" cy="223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矩形 13"/>
          <p:cNvGrpSpPr/>
          <p:nvPr/>
        </p:nvGrpSpPr>
        <p:grpSpPr>
          <a:xfrm>
            <a:off x="2487600" y="1554120"/>
            <a:ext cx="1176120" cy="712800"/>
            <a:chOff x="2487600" y="1554120"/>
            <a:chExt cx="1176120" cy="712800"/>
          </a:xfrm>
        </p:grpSpPr>
        <p:pic>
          <p:nvPicPr>
            <p:cNvPr id="83" name="矩形 13" descr=""/>
            <p:cNvPicPr/>
            <p:nvPr/>
          </p:nvPicPr>
          <p:blipFill>
            <a:blip r:embed="rId9"/>
            <a:stretch/>
          </p:blipFill>
          <p:spPr>
            <a:xfrm>
              <a:off x="2488680" y="1554120"/>
              <a:ext cx="117504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487600" y="1554120"/>
              <a:ext cx="11746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右箭头 10"/>
          <p:cNvSpPr/>
          <p:nvPr/>
        </p:nvSpPr>
        <p:spPr>
          <a:xfrm>
            <a:off x="2405160" y="1357200"/>
            <a:ext cx="1266840" cy="763560"/>
          </a:xfrm>
          <a:custGeom>
            <a:avLst/>
            <a:gdLst/>
            <a:ahLst/>
            <a:rect l="l" t="t" r="r" b="b"/>
            <a:pathLst>
              <a:path w="2231350" h="1345899">
                <a:moveTo>
                  <a:pt x="1396233" y="0"/>
                </a:moveTo>
                <a:lnTo>
                  <a:pt x="2231350" y="672950"/>
                </a:lnTo>
                <a:lnTo>
                  <a:pt x="1396233" y="1345899"/>
                </a:lnTo>
                <a:lnTo>
                  <a:pt x="1396233" y="1122937"/>
                </a:lnTo>
                <a:cubicBezTo>
                  <a:pt x="930822" y="1144709"/>
                  <a:pt x="318454" y="1003194"/>
                  <a:pt x="0" y="1188252"/>
                </a:cubicBezTo>
                <a:lnTo>
                  <a:pt x="826925" y="222962"/>
                </a:lnTo>
                <a:lnTo>
                  <a:pt x="1396233" y="222962"/>
                </a:lnTo>
                <a:lnTo>
                  <a:pt x="1396233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0"/>
          <p:cNvSpPr/>
          <p:nvPr/>
        </p:nvSpPr>
        <p:spPr>
          <a:xfrm>
            <a:off x="4712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435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>
            <a:off x="3997800" y="163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2808360" y="1557360"/>
            <a:ext cx="1441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9095" dir="2700000" blurRad="0" rotWithShape="0">
              <a:srgbClr val="59595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组合 11" descr=""/>
          <p:cNvPicPr/>
          <p:nvPr/>
        </p:nvPicPr>
        <p:blipFill>
          <a:blip r:embed="rId1"/>
          <a:stretch/>
        </p:blipFill>
        <p:spPr>
          <a:xfrm>
            <a:off x="4121280" y="1328760"/>
            <a:ext cx="3224160" cy="1712880"/>
          </a:xfrm>
          <a:prstGeom prst="rect">
            <a:avLst/>
          </a:prstGeom>
          <a:ln w="0">
            <a:noFill/>
          </a:ln>
        </p:spPr>
      </p:pic>
      <p:sp>
        <p:nvSpPr>
          <p:cNvPr id="97" name="矩形 15"/>
          <p:cNvSpPr/>
          <p:nvPr/>
        </p:nvSpPr>
        <p:spPr>
          <a:xfrm>
            <a:off x="2808360" y="3914640"/>
            <a:ext cx="1441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组合 13" descr=""/>
          <p:cNvPicPr/>
          <p:nvPr/>
        </p:nvPicPr>
        <p:blipFill>
          <a:blip r:embed="rId2"/>
          <a:stretch/>
        </p:blipFill>
        <p:spPr>
          <a:xfrm>
            <a:off x="4121280" y="3687840"/>
            <a:ext cx="3224160" cy="1712880"/>
          </a:xfrm>
          <a:prstGeom prst="rect">
            <a:avLst/>
          </a:prstGeom>
          <a:ln w="0">
            <a:noFill/>
          </a:ln>
        </p:spPr>
      </p:pic>
      <p:sp>
        <p:nvSpPr>
          <p:cNvPr id="99" name="矩形 20"/>
          <p:cNvSpPr/>
          <p:nvPr/>
        </p:nvSpPr>
        <p:spPr>
          <a:xfrm flipH="1">
            <a:off x="4896000" y="2741760"/>
            <a:ext cx="144288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9095" dir="8100000" blurRad="0" rotWithShape="0">
              <a:srgbClr val="7f7f7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组合 12" descr=""/>
          <p:cNvPicPr/>
          <p:nvPr/>
        </p:nvPicPr>
        <p:blipFill>
          <a:blip r:embed="rId3"/>
          <a:stretch/>
        </p:blipFill>
        <p:spPr>
          <a:xfrm>
            <a:off x="1798560" y="2505240"/>
            <a:ext cx="3224160" cy="1719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12"/>
          <p:cNvSpPr/>
          <p:nvPr/>
        </p:nvSpPr>
        <p:spPr>
          <a:xfrm>
            <a:off x="49978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4997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40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51"/>
          <p:cNvGrpSpPr/>
          <p:nvPr/>
        </p:nvGrpSpPr>
        <p:grpSpPr>
          <a:xfrm>
            <a:off x="2196720" y="628920"/>
            <a:ext cx="5806080" cy="5415480"/>
            <a:chOff x="2196720" y="628920"/>
            <a:chExt cx="5806080" cy="5415480"/>
          </a:xfrm>
        </p:grpSpPr>
        <p:sp>
          <p:nvSpPr>
            <p:cNvPr id="110" name="椭圆 29"/>
            <p:cNvSpPr/>
            <p:nvPr/>
          </p:nvSpPr>
          <p:spPr>
            <a:xfrm>
              <a:off x="2895120" y="4346640"/>
              <a:ext cx="1535760" cy="1460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c131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30"/>
            <p:cNvSpPr/>
            <p:nvPr/>
          </p:nvSpPr>
          <p:spPr>
            <a:xfrm>
              <a:off x="4855320" y="3965760"/>
              <a:ext cx="2137320" cy="2030400"/>
            </a:xfrm>
            <a:prstGeom prst="ellips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椭圆 31"/>
            <p:cNvGrpSpPr/>
            <p:nvPr/>
          </p:nvGrpSpPr>
          <p:grpSpPr>
            <a:xfrm>
              <a:off x="4979880" y="3901680"/>
              <a:ext cx="2014920" cy="1938600"/>
              <a:chOff x="4979880" y="3901680"/>
              <a:chExt cx="2014920" cy="1938600"/>
            </a:xfrm>
          </p:grpSpPr>
          <p:pic>
            <p:nvPicPr>
              <p:cNvPr id="113" name="椭圆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4979880" y="3901680"/>
                <a:ext cx="2014920" cy="193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272920" y="4187160"/>
                <a:ext cx="142740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椭圆 32"/>
            <p:cNvGrpSpPr/>
            <p:nvPr/>
          </p:nvGrpSpPr>
          <p:grpSpPr>
            <a:xfrm>
              <a:off x="2977920" y="4291560"/>
              <a:ext cx="1540080" cy="1517760"/>
              <a:chOff x="2977920" y="4291560"/>
              <a:chExt cx="1540080" cy="1517760"/>
            </a:xfrm>
          </p:grpSpPr>
          <p:pic>
            <p:nvPicPr>
              <p:cNvPr id="116" name="椭圆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7920" y="4291560"/>
                <a:ext cx="1540080" cy="15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1568400">
                <a:off x="3210840" y="4510800"/>
                <a:ext cx="107136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矩形 4"/>
            <p:cNvGrpSpPr/>
            <p:nvPr/>
          </p:nvGrpSpPr>
          <p:grpSpPr>
            <a:xfrm>
              <a:off x="2982240" y="4016160"/>
              <a:ext cx="3895560" cy="2028240"/>
              <a:chOff x="2982240" y="4016160"/>
              <a:chExt cx="3895560" cy="2028240"/>
            </a:xfrm>
          </p:grpSpPr>
          <p:pic>
            <p:nvPicPr>
              <p:cNvPr id="119" name="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035520" y="4096800"/>
                <a:ext cx="3779640" cy="169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262800">
                <a:off x="3054600" y="4195440"/>
                <a:ext cx="3750120" cy="16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椭圆 34"/>
            <p:cNvSpPr/>
            <p:nvPr/>
          </p:nvSpPr>
          <p:spPr>
            <a:xfrm rot="1226400">
              <a:off x="2428560" y="1311120"/>
              <a:ext cx="1727640" cy="1641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c131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35"/>
            <p:cNvSpPr/>
            <p:nvPr/>
          </p:nvSpPr>
          <p:spPr>
            <a:xfrm>
              <a:off x="6471360" y="2617560"/>
              <a:ext cx="1382040" cy="131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c131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椭圆 36"/>
            <p:cNvGrpSpPr/>
            <p:nvPr/>
          </p:nvGrpSpPr>
          <p:grpSpPr>
            <a:xfrm>
              <a:off x="6481800" y="2633400"/>
              <a:ext cx="1398600" cy="1408320"/>
              <a:chOff x="6481800" y="2633400"/>
              <a:chExt cx="1398600" cy="1408320"/>
            </a:xfrm>
          </p:grpSpPr>
          <p:pic>
            <p:nvPicPr>
              <p:cNvPr id="124" name="椭圆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6481800" y="2633400"/>
                <a:ext cx="1398600" cy="14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684480" y="2841480"/>
                <a:ext cx="991440" cy="99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椭圆 37"/>
            <p:cNvSpPr/>
            <p:nvPr/>
          </p:nvSpPr>
          <p:spPr>
            <a:xfrm>
              <a:off x="4554360" y="714240"/>
              <a:ext cx="2302560" cy="2187720"/>
            </a:xfrm>
            <a:prstGeom prst="ellips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椭圆 38"/>
            <p:cNvGrpSpPr/>
            <p:nvPr/>
          </p:nvGrpSpPr>
          <p:grpSpPr>
            <a:xfrm>
              <a:off x="4793760" y="877680"/>
              <a:ext cx="2104560" cy="2109240"/>
              <a:chOff x="4793760" y="877680"/>
              <a:chExt cx="2104560" cy="2109240"/>
            </a:xfrm>
          </p:grpSpPr>
          <p:pic>
            <p:nvPicPr>
              <p:cNvPr id="128" name="椭圆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3760" y="877680"/>
                <a:ext cx="2104560" cy="210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5101920" y="1184040"/>
                <a:ext cx="1487160" cy="149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矩形 4"/>
            <p:cNvGrpSpPr/>
            <p:nvPr/>
          </p:nvGrpSpPr>
          <p:grpSpPr>
            <a:xfrm>
              <a:off x="2436120" y="628920"/>
              <a:ext cx="4445280" cy="2590920"/>
              <a:chOff x="2436120" y="628920"/>
              <a:chExt cx="4445280" cy="2590920"/>
            </a:xfrm>
          </p:grpSpPr>
          <p:pic>
            <p:nvPicPr>
              <p:cNvPr id="131" name="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2554200" y="822600"/>
                <a:ext cx="4186080" cy="18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20920800">
                <a:off x="2572560" y="1020600"/>
                <a:ext cx="4171680" cy="180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椭圆 40"/>
            <p:cNvGrpSpPr/>
            <p:nvPr/>
          </p:nvGrpSpPr>
          <p:grpSpPr>
            <a:xfrm>
              <a:off x="4691160" y="834840"/>
              <a:ext cx="2014920" cy="1944720"/>
              <a:chOff x="4691160" y="834840"/>
              <a:chExt cx="2014920" cy="1944720"/>
            </a:xfrm>
          </p:grpSpPr>
          <p:pic>
            <p:nvPicPr>
              <p:cNvPr id="134" name="椭圆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4691160" y="834840"/>
                <a:ext cx="2014920" cy="19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986000" y="1121400"/>
                <a:ext cx="142740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矩形 4"/>
            <p:cNvGrpSpPr/>
            <p:nvPr/>
          </p:nvGrpSpPr>
          <p:grpSpPr>
            <a:xfrm>
              <a:off x="4641120" y="780480"/>
              <a:ext cx="3301920" cy="3256200"/>
              <a:chOff x="4641120" y="780480"/>
              <a:chExt cx="3301920" cy="3256200"/>
            </a:xfrm>
          </p:grpSpPr>
          <p:pic>
            <p:nvPicPr>
              <p:cNvPr id="137" name="矩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00040" y="956880"/>
                <a:ext cx="2455920" cy="29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13415400">
                <a:off x="4806360" y="1574640"/>
                <a:ext cx="2971080" cy="16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矩形 4"/>
            <p:cNvGrpSpPr/>
            <p:nvPr/>
          </p:nvGrpSpPr>
          <p:grpSpPr>
            <a:xfrm>
              <a:off x="4918680" y="2446200"/>
              <a:ext cx="3084120" cy="3580560"/>
              <a:chOff x="4918680" y="2446200"/>
              <a:chExt cx="3084120" cy="3580560"/>
            </a:xfrm>
          </p:grpSpPr>
          <p:pic>
            <p:nvPicPr>
              <p:cNvPr id="140" name="矩形 4" descr=""/>
              <p:cNvPicPr/>
              <p:nvPr/>
            </p:nvPicPr>
            <p:blipFill>
              <a:blip r:embed="rId9"/>
              <a:stretch/>
            </p:blipFill>
            <p:spPr>
              <a:xfrm>
                <a:off x="5108400" y="2851920"/>
                <a:ext cx="2675880" cy="285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7206600">
                <a:off x="4899960" y="3358800"/>
                <a:ext cx="3121200" cy="17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矩形 15"/>
          <p:cNvSpPr/>
          <p:nvPr/>
        </p:nvSpPr>
        <p:spPr>
          <a:xfrm>
            <a:off x="50695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5283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285480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32119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6498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17400" y="2000160"/>
            <a:ext cx="1925640" cy="30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矩形 7"/>
          <p:cNvGrpSpPr/>
          <p:nvPr/>
        </p:nvGrpSpPr>
        <p:grpSpPr>
          <a:xfrm>
            <a:off x="262080" y="1822320"/>
            <a:ext cx="2462040" cy="1000080"/>
            <a:chOff x="262080" y="1822320"/>
            <a:chExt cx="2462040" cy="1000080"/>
          </a:xfrm>
        </p:grpSpPr>
        <p:pic>
          <p:nvPicPr>
            <p:cNvPr id="154" name="矩形 7" descr=""/>
            <p:cNvPicPr/>
            <p:nvPr/>
          </p:nvPicPr>
          <p:blipFill>
            <a:blip r:embed="rId1"/>
            <a:stretch/>
          </p:blipFill>
          <p:spPr>
            <a:xfrm>
              <a:off x="262080" y="1822320"/>
              <a:ext cx="2462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17400" y="2000160"/>
              <a:ext cx="19335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8"/>
          <p:cNvSpPr/>
          <p:nvPr/>
        </p:nvSpPr>
        <p:spPr>
          <a:xfrm>
            <a:off x="2630520" y="2000160"/>
            <a:ext cx="1925640" cy="3000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矩形 9"/>
          <p:cNvGrpSpPr/>
          <p:nvPr/>
        </p:nvGrpSpPr>
        <p:grpSpPr>
          <a:xfrm>
            <a:off x="2273400" y="1822320"/>
            <a:ext cx="2463840" cy="1000080"/>
            <a:chOff x="2273400" y="1822320"/>
            <a:chExt cx="2463840" cy="1000080"/>
          </a:xfrm>
        </p:grpSpPr>
        <p:pic>
          <p:nvPicPr>
            <p:cNvPr id="158" name="矩形 9" descr=""/>
            <p:cNvPicPr/>
            <p:nvPr/>
          </p:nvPicPr>
          <p:blipFill>
            <a:blip r:embed="rId2"/>
            <a:stretch/>
          </p:blipFill>
          <p:spPr>
            <a:xfrm>
              <a:off x="2273400" y="1822320"/>
              <a:ext cx="2463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630520" y="2000160"/>
              <a:ext cx="19335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10"/>
          <p:cNvSpPr/>
          <p:nvPr/>
        </p:nvSpPr>
        <p:spPr>
          <a:xfrm>
            <a:off x="4626000" y="2000160"/>
            <a:ext cx="1925640" cy="30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矩形 11"/>
          <p:cNvGrpSpPr/>
          <p:nvPr/>
        </p:nvGrpSpPr>
        <p:grpSpPr>
          <a:xfrm>
            <a:off x="4273560" y="1822320"/>
            <a:ext cx="2455920" cy="1000080"/>
            <a:chOff x="4273560" y="1822320"/>
            <a:chExt cx="2455920" cy="1000080"/>
          </a:xfrm>
        </p:grpSpPr>
        <p:pic>
          <p:nvPicPr>
            <p:cNvPr id="162" name="矩形 11" descr=""/>
            <p:cNvPicPr/>
            <p:nvPr/>
          </p:nvPicPr>
          <p:blipFill>
            <a:blip r:embed="rId3"/>
            <a:stretch/>
          </p:blipFill>
          <p:spPr>
            <a:xfrm>
              <a:off x="4273560" y="1822320"/>
              <a:ext cx="24559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26000" y="2000160"/>
              <a:ext cx="19335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矩形 12"/>
          <p:cNvSpPr/>
          <p:nvPr/>
        </p:nvSpPr>
        <p:spPr>
          <a:xfrm>
            <a:off x="6638760" y="2000160"/>
            <a:ext cx="1925640" cy="3000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矩形 13"/>
          <p:cNvGrpSpPr/>
          <p:nvPr/>
        </p:nvGrpSpPr>
        <p:grpSpPr>
          <a:xfrm>
            <a:off x="6284880" y="1822320"/>
            <a:ext cx="2457360" cy="1000080"/>
            <a:chOff x="6284880" y="1822320"/>
            <a:chExt cx="2457360" cy="1000080"/>
          </a:xfrm>
        </p:grpSpPr>
        <p:pic>
          <p:nvPicPr>
            <p:cNvPr id="166" name="矩形 13" descr=""/>
            <p:cNvPicPr/>
            <p:nvPr/>
          </p:nvPicPr>
          <p:blipFill>
            <a:blip r:embed="rId4"/>
            <a:stretch/>
          </p:blipFill>
          <p:spPr>
            <a:xfrm>
              <a:off x="6284880" y="1822320"/>
              <a:ext cx="24573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38760" y="2000160"/>
              <a:ext cx="19339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14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3140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4"/>
          <p:cNvSpPr/>
          <p:nvPr/>
        </p:nvSpPr>
        <p:spPr>
          <a:xfrm>
            <a:off x="7069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2"/>
          <p:cNvSpPr/>
          <p:nvPr/>
        </p:nvSpPr>
        <p:spPr>
          <a:xfrm>
            <a:off x="1668600" y="1795320"/>
            <a:ext cx="1487520" cy="1287720"/>
          </a:xfrm>
          <a:custGeom>
            <a:avLst/>
            <a:gdLst/>
            <a:ahLst/>
            <a:rect l="l" t="t" r="r" b="b"/>
            <a:pathLst>
              <a:path w="1581548" h="1368152">
                <a:moveTo>
                  <a:pt x="228030" y="0"/>
                </a:moveTo>
                <a:lnTo>
                  <a:pt x="1581548" y="0"/>
                </a:lnTo>
                <a:lnTo>
                  <a:pt x="1581548" y="1368152"/>
                </a:lnTo>
                <a:lnTo>
                  <a:pt x="228030" y="1368152"/>
                </a:lnTo>
                <a:cubicBezTo>
                  <a:pt x="102093" y="1368152"/>
                  <a:pt x="0" y="1266059"/>
                  <a:pt x="0" y="1140122"/>
                </a:cubicBezTo>
                <a:lnTo>
                  <a:pt x="0" y="228030"/>
                </a:lnTo>
                <a:cubicBezTo>
                  <a:pt x="0" y="102093"/>
                  <a:pt x="102093" y="0"/>
                  <a:pt x="22803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5"/>
          <p:cNvSpPr/>
          <p:nvPr/>
        </p:nvSpPr>
        <p:spPr>
          <a:xfrm>
            <a:off x="3429000" y="1795320"/>
            <a:ext cx="4656240" cy="1287720"/>
          </a:xfrm>
          <a:custGeom>
            <a:avLst/>
            <a:gdLst/>
            <a:ahLst/>
            <a:rect l="l" t="t" r="r" b="b"/>
            <a:pathLst>
              <a:path w="4953577" h="1368152">
                <a:moveTo>
                  <a:pt x="0" y="0"/>
                </a:moveTo>
                <a:lnTo>
                  <a:pt x="2509587" y="0"/>
                </a:lnTo>
                <a:lnTo>
                  <a:pt x="4452490" y="0"/>
                </a:lnTo>
                <a:lnTo>
                  <a:pt x="4760656" y="0"/>
                </a:lnTo>
                <a:cubicBezTo>
                  <a:pt x="4883544" y="198811"/>
                  <a:pt x="4953577" y="433265"/>
                  <a:pt x="4953577" y="684076"/>
                </a:cubicBezTo>
                <a:cubicBezTo>
                  <a:pt x="4953577" y="934888"/>
                  <a:pt x="4883544" y="1169342"/>
                  <a:pt x="4760656" y="1368152"/>
                </a:cubicBezTo>
                <a:lnTo>
                  <a:pt x="4452490" y="1368152"/>
                </a:lnTo>
                <a:lnTo>
                  <a:pt x="2509587" y="1368152"/>
                </a:lnTo>
                <a:lnTo>
                  <a:pt x="0" y="136815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2"/>
          <p:cNvSpPr/>
          <p:nvPr/>
        </p:nvSpPr>
        <p:spPr>
          <a:xfrm>
            <a:off x="1655640" y="3597120"/>
            <a:ext cx="1487520" cy="1287720"/>
          </a:xfrm>
          <a:custGeom>
            <a:avLst/>
            <a:gdLst/>
            <a:ahLst/>
            <a:rect l="l" t="t" r="r" b="b"/>
            <a:pathLst>
              <a:path w="1581548" h="1368152">
                <a:moveTo>
                  <a:pt x="228030" y="0"/>
                </a:moveTo>
                <a:lnTo>
                  <a:pt x="1581548" y="0"/>
                </a:lnTo>
                <a:lnTo>
                  <a:pt x="1581548" y="1368152"/>
                </a:lnTo>
                <a:lnTo>
                  <a:pt x="228030" y="1368152"/>
                </a:lnTo>
                <a:cubicBezTo>
                  <a:pt x="102093" y="1368152"/>
                  <a:pt x="0" y="1266059"/>
                  <a:pt x="0" y="1140122"/>
                </a:cubicBezTo>
                <a:lnTo>
                  <a:pt x="0" y="228030"/>
                </a:lnTo>
                <a:cubicBezTo>
                  <a:pt x="0" y="102093"/>
                  <a:pt x="102093" y="0"/>
                  <a:pt x="228030" y="0"/>
                </a:cubicBezTo>
                <a:close/>
              </a:path>
            </a:pathLst>
          </a:custGeom>
          <a:solidFill>
            <a:srgbClr val="cccc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3416400" y="3597120"/>
            <a:ext cx="4655880" cy="1287720"/>
          </a:xfrm>
          <a:custGeom>
            <a:avLst/>
            <a:gdLst/>
            <a:ahLst/>
            <a:rect l="l" t="t" r="r" b="b"/>
            <a:pathLst>
              <a:path w="4953577" h="1368152">
                <a:moveTo>
                  <a:pt x="0" y="0"/>
                </a:moveTo>
                <a:lnTo>
                  <a:pt x="2509587" y="0"/>
                </a:lnTo>
                <a:lnTo>
                  <a:pt x="4452490" y="0"/>
                </a:lnTo>
                <a:lnTo>
                  <a:pt x="4760656" y="0"/>
                </a:lnTo>
                <a:cubicBezTo>
                  <a:pt x="4883544" y="198811"/>
                  <a:pt x="4953577" y="433265"/>
                  <a:pt x="4953577" y="684076"/>
                </a:cubicBezTo>
                <a:cubicBezTo>
                  <a:pt x="4953577" y="934888"/>
                  <a:pt x="4883544" y="1169342"/>
                  <a:pt x="4760656" y="1368152"/>
                </a:cubicBezTo>
                <a:lnTo>
                  <a:pt x="4452490" y="1368152"/>
                </a:lnTo>
                <a:lnTo>
                  <a:pt x="2509587" y="1368152"/>
                </a:lnTo>
                <a:lnTo>
                  <a:pt x="0" y="1368152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416400" y="2867040"/>
            <a:ext cx="166680" cy="2490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429000" y="1152360"/>
            <a:ext cx="166680" cy="2490840"/>
          </a:xfrm>
          <a:prstGeom prst="rect">
            <a:avLst/>
          </a:prstGeom>
          <a:ln w="0">
            <a:noFill/>
          </a:ln>
        </p:spPr>
      </p:pic>
      <p:sp>
        <p:nvSpPr>
          <p:cNvPr id="183" name="矩形 12"/>
          <p:cNvSpPr/>
          <p:nvPr/>
        </p:nvSpPr>
        <p:spPr>
          <a:xfrm>
            <a:off x="4712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4712040" y="398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2"/>
          <p:cNvSpPr/>
          <p:nvPr/>
        </p:nvSpPr>
        <p:spPr>
          <a:xfrm flipH="1">
            <a:off x="1145880" y="2071800"/>
            <a:ext cx="22842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3"/>
          <p:cNvSpPr/>
          <p:nvPr/>
        </p:nvSpPr>
        <p:spPr>
          <a:xfrm>
            <a:off x="1146240" y="2071800"/>
            <a:ext cx="3240" cy="5540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4"/>
          <p:cNvSpPr/>
          <p:nvPr/>
        </p:nvSpPr>
        <p:spPr>
          <a:xfrm>
            <a:off x="1144440" y="4557600"/>
            <a:ext cx="0" cy="5540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5"/>
          <p:cNvSpPr/>
          <p:nvPr/>
        </p:nvSpPr>
        <p:spPr>
          <a:xfrm flipH="1">
            <a:off x="1145880" y="5111640"/>
            <a:ext cx="11127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6"/>
          <p:cNvSpPr/>
          <p:nvPr/>
        </p:nvSpPr>
        <p:spPr>
          <a:xfrm flipH="1">
            <a:off x="3430440" y="2860560"/>
            <a:ext cx="11368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7"/>
          <p:cNvSpPr/>
          <p:nvPr/>
        </p:nvSpPr>
        <p:spPr>
          <a:xfrm>
            <a:off x="3430440" y="2860560"/>
            <a:ext cx="0" cy="692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8"/>
          <p:cNvSpPr/>
          <p:nvPr/>
        </p:nvSpPr>
        <p:spPr>
          <a:xfrm flipH="1">
            <a:off x="5724000" y="5195880"/>
            <a:ext cx="11271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9"/>
          <p:cNvSpPr/>
          <p:nvPr/>
        </p:nvSpPr>
        <p:spPr>
          <a:xfrm>
            <a:off x="5734080" y="4568760"/>
            <a:ext cx="0" cy="6271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0"/>
          <p:cNvSpPr/>
          <p:nvPr/>
        </p:nvSpPr>
        <p:spPr>
          <a:xfrm flipH="1">
            <a:off x="5243040" y="2071800"/>
            <a:ext cx="27608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1"/>
          <p:cNvSpPr/>
          <p:nvPr/>
        </p:nvSpPr>
        <p:spPr>
          <a:xfrm>
            <a:off x="8004240" y="2071800"/>
            <a:ext cx="0" cy="13078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组合 39" descr=""/>
          <p:cNvPicPr/>
          <p:nvPr/>
        </p:nvPicPr>
        <p:blipFill>
          <a:blip r:embed="rId1"/>
          <a:stretch/>
        </p:blipFill>
        <p:spPr>
          <a:xfrm>
            <a:off x="139680" y="3071880"/>
            <a:ext cx="8828280" cy="2414520"/>
          </a:xfrm>
          <a:prstGeom prst="rect">
            <a:avLst/>
          </a:prstGeom>
          <a:ln w="0">
            <a:noFill/>
          </a:ln>
        </p:spPr>
      </p:pic>
      <p:sp>
        <p:nvSpPr>
          <p:cNvPr id="201" name="矩形 15"/>
          <p:cNvSpPr/>
          <p:nvPr/>
        </p:nvSpPr>
        <p:spPr>
          <a:xfrm>
            <a:off x="5702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组合 38" descr=""/>
          <p:cNvPicPr/>
          <p:nvPr/>
        </p:nvPicPr>
        <p:blipFill>
          <a:blip r:embed="rId2"/>
          <a:stretch/>
        </p:blipFill>
        <p:spPr>
          <a:xfrm>
            <a:off x="139680" y="1816200"/>
            <a:ext cx="8828280" cy="3560760"/>
          </a:xfrm>
          <a:prstGeom prst="rect">
            <a:avLst/>
          </a:prstGeom>
          <a:ln w="0">
            <a:noFill/>
          </a:ln>
        </p:spPr>
      </p:pic>
      <p:sp>
        <p:nvSpPr>
          <p:cNvPr id="203" name="矩形 12"/>
          <p:cNvSpPr/>
          <p:nvPr/>
        </p:nvSpPr>
        <p:spPr>
          <a:xfrm>
            <a:off x="29278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"/>
          <p:cNvSpPr/>
          <p:nvPr/>
        </p:nvSpPr>
        <p:spPr>
          <a:xfrm>
            <a:off x="7498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5212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825480" y="1143000"/>
            <a:ext cx="7505640" cy="1238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2"/>
          <p:cNvSpPr/>
          <p:nvPr/>
        </p:nvSpPr>
        <p:spPr>
          <a:xfrm>
            <a:off x="6485040" y="114300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13"/>
          <p:cNvSpPr/>
          <p:nvPr/>
        </p:nvSpPr>
        <p:spPr>
          <a:xfrm>
            <a:off x="6786720" y="1612800"/>
            <a:ext cx="1223640" cy="38736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4"/>
          <p:cNvSpPr/>
          <p:nvPr/>
        </p:nvSpPr>
        <p:spPr>
          <a:xfrm>
            <a:off x="825480" y="2786040"/>
            <a:ext cx="7505640" cy="1238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20"/>
          <p:cNvSpPr/>
          <p:nvPr/>
        </p:nvSpPr>
        <p:spPr>
          <a:xfrm>
            <a:off x="6485040" y="278604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21"/>
          <p:cNvSpPr/>
          <p:nvPr/>
        </p:nvSpPr>
        <p:spPr>
          <a:xfrm>
            <a:off x="6786720" y="3211560"/>
            <a:ext cx="1223640" cy="38736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2"/>
          <p:cNvSpPr/>
          <p:nvPr/>
        </p:nvSpPr>
        <p:spPr>
          <a:xfrm>
            <a:off x="825480" y="4405320"/>
            <a:ext cx="7505640" cy="1238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8"/>
          <p:cNvSpPr/>
          <p:nvPr/>
        </p:nvSpPr>
        <p:spPr>
          <a:xfrm>
            <a:off x="6485040" y="440532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29"/>
          <p:cNvSpPr/>
          <p:nvPr/>
        </p:nvSpPr>
        <p:spPr>
          <a:xfrm>
            <a:off x="6796080" y="483084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37836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630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542880" y="1643040"/>
            <a:ext cx="2990880" cy="4079880"/>
          </a:xfrm>
          <a:prstGeom prst="rightArrow">
            <a:avLst>
              <a:gd name="adj1" fmla="val 62806"/>
              <a:gd name="adj2" fmla="val 32949"/>
            </a:avLst>
          </a:prstGeom>
          <a:solidFill>
            <a:srgbClr val="ffffff"/>
          </a:solidFill>
          <a:ln cap="rnd" w="698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610080" y="1712880"/>
            <a:ext cx="5105160" cy="3868920"/>
          </a:xfrm>
          <a:prstGeom prst="roundRect">
            <a:avLst>
              <a:gd name="adj" fmla="val 3481"/>
            </a:avLst>
          </a:prstGeom>
          <a:solidFill>
            <a:srgbClr val="ffffff"/>
          </a:solidFill>
          <a:ln cap="rnd" w="19080">
            <a:solidFill>
              <a:srgbClr val="eeece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3733920" y="1854360"/>
            <a:ext cx="4876560" cy="1133280"/>
          </a:xfrm>
          <a:prstGeom prst="roundRect">
            <a:avLst>
              <a:gd name="adj" fmla="val 10889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3686040" y="2276640"/>
            <a:ext cx="533520" cy="350640"/>
          </a:xfrm>
          <a:prstGeom prst="rightArrow">
            <a:avLst>
              <a:gd name="adj1" fmla="val 50000"/>
              <a:gd name="adj2" fmla="val 58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3733920" y="3076560"/>
            <a:ext cx="4876560" cy="1133640"/>
          </a:xfrm>
          <a:prstGeom prst="roundRect">
            <a:avLst>
              <a:gd name="adj" fmla="val 10889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3686040" y="3506760"/>
            <a:ext cx="533520" cy="352440"/>
          </a:xfrm>
          <a:prstGeom prst="rightArrow">
            <a:avLst>
              <a:gd name="adj1" fmla="val 50000"/>
              <a:gd name="adj2" fmla="val 581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3733920" y="4316400"/>
            <a:ext cx="4876560" cy="1133640"/>
          </a:xfrm>
          <a:prstGeom prst="roundRect">
            <a:avLst>
              <a:gd name="adj" fmla="val 10889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3686040" y="4738680"/>
            <a:ext cx="533520" cy="351000"/>
          </a:xfrm>
          <a:prstGeom prst="rightArrow">
            <a:avLst>
              <a:gd name="adj1" fmla="val 50000"/>
              <a:gd name="adj2" fmla="val 58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5"/>
          <p:cNvSpPr/>
          <p:nvPr/>
        </p:nvSpPr>
        <p:spPr>
          <a:xfrm>
            <a:off x="1600560" y="34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5868000" y="3548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5791680" y="225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5868000" y="4691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2:45Z</dcterms:modified>
  <cp:revision>284</cp:revision>
  <dc:subject/>
  <dc:title>www.pptbz.com</dc:title>
</cp:coreProperties>
</file>