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1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7094EC-D8CF-4623-8F6D-2CAC99638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60480" y="1143000"/>
            <a:ext cx="4936680" cy="30859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D674D7-866D-4A40-8A6D-892E5E7354E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60480" y="1143000"/>
            <a:ext cx="4936680" cy="30859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3011CD-BD9B-47DE-92A2-EE4892EF4A5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60480" y="1143000"/>
            <a:ext cx="4936680" cy="30859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2C639C-1D17-4921-B178-CF0C59DD4A5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5E0-5F3F-4862-8277-5F1C273F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788652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415320"/>
            <a:ext cx="788652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6A9-0631-4B6E-8AF0-4A50C1B7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41532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41532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E30-C406-429C-9FBD-99B0151B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52136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52136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41532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341532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41532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0CF-25DF-446F-814C-A72CAA04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F73A-15EA-4296-AA40-12697CC6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521360"/>
            <a:ext cx="788652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0792-4143-4F16-A032-30D9D515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788652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CEC3-3C10-4A8B-98E0-EBEC2CE7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384840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521360"/>
            <a:ext cx="384840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EF17-2012-4EFD-ABAC-87EB85A3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FE63-5AD7-4BA2-A647-8558FF3B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04200"/>
            <a:ext cx="7886520" cy="51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3F3F-4B57-4277-B127-F20A2884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521360"/>
            <a:ext cx="384840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41532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EFBE-D3AE-46B1-AC05-886CE9AC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521360"/>
            <a:ext cx="788652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E4C-49E5-464D-BE01-DC856489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384840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41532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2A9D-860E-407E-98C0-BE336B9F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415320"/>
            <a:ext cx="788652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FBC0-04D1-463F-95A1-DFFE9E8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788652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415320"/>
            <a:ext cx="788652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35F9-FA36-4F7E-8806-BF6A1981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41532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41532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4FCC-872F-4178-AFF3-7710C630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52136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52136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41532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341532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3415320"/>
            <a:ext cx="253908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DFA5-D1C3-4D15-9CEB-C02C7BE9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788652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106-10D9-4F05-80D9-7B6C9CE8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384840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21360"/>
            <a:ext cx="384840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95F-C24C-44B4-B7A0-B60D3242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6F9-BF80-4895-B1DA-9F2208CA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04200"/>
            <a:ext cx="7886520" cy="51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E8C-1559-48CE-9928-C20A485C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21360"/>
            <a:ext cx="384840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41532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40D-925F-407A-AEEF-E25DBF9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384840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41532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709-D375-48FE-8444-3F67A2D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21360"/>
            <a:ext cx="384840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415320"/>
            <a:ext cx="7886520" cy="1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A40-5D0B-4417-8FEF-8CCCA74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935280"/>
            <a:ext cx="6857640" cy="198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5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5297040"/>
            <a:ext cx="205704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5297040"/>
            <a:ext cx="30859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5297040"/>
            <a:ext cx="205704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787597-FE9F-40A8-BDA3-6B27F78073B9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04200"/>
            <a:ext cx="7886520" cy="110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521360"/>
            <a:ext cx="78865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5297040"/>
            <a:ext cx="205704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5297040"/>
            <a:ext cx="30859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5297040"/>
            <a:ext cx="205704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89BEC7-859A-4114-ACFD-169A0DF613EA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椭圆 66"/>
          <p:cNvSpPr/>
          <p:nvPr/>
        </p:nvSpPr>
        <p:spPr>
          <a:xfrm>
            <a:off x="254160" y="4251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椭圆 74"/>
          <p:cNvSpPr/>
          <p:nvPr/>
        </p:nvSpPr>
        <p:spPr>
          <a:xfrm>
            <a:off x="1379160" y="424188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椭圆 79"/>
          <p:cNvSpPr/>
          <p:nvPr/>
        </p:nvSpPr>
        <p:spPr>
          <a:xfrm>
            <a:off x="2493720" y="4251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椭圆 87"/>
          <p:cNvSpPr/>
          <p:nvPr/>
        </p:nvSpPr>
        <p:spPr>
          <a:xfrm>
            <a:off x="5864400" y="424188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椭圆 88"/>
          <p:cNvSpPr/>
          <p:nvPr/>
        </p:nvSpPr>
        <p:spPr>
          <a:xfrm>
            <a:off x="6994800" y="424584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椭圆 89"/>
          <p:cNvSpPr/>
          <p:nvPr/>
        </p:nvSpPr>
        <p:spPr>
          <a:xfrm>
            <a:off x="8100720" y="424188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4" name="图片 55" descr=""/>
          <p:cNvPicPr/>
          <p:nvPr/>
        </p:nvPicPr>
        <p:blipFill>
          <a:blip r:embed="rId1"/>
          <a:stretch/>
        </p:blipFill>
        <p:spPr>
          <a:xfrm>
            <a:off x="3635640" y="2962440"/>
            <a:ext cx="2045160" cy="2416320"/>
          </a:xfrm>
          <a:prstGeom prst="rect">
            <a:avLst/>
          </a:prstGeom>
          <a:ln w="0">
            <a:noFill/>
          </a:ln>
        </p:spPr>
      </p:pic>
      <p:sp>
        <p:nvSpPr>
          <p:cNvPr id="95" name="图片 72"/>
          <p:cNvSpPr/>
          <p:nvPr/>
        </p:nvSpPr>
        <p:spPr>
          <a:xfrm>
            <a:off x="-72360" y="0"/>
            <a:ext cx="9312120" cy="4054320"/>
          </a:xfrm>
          <a:custGeom>
            <a:avLst/>
            <a:gdLst>
              <a:gd name="textAreaLeft" fmla="*/ 0 w 9312120"/>
              <a:gd name="textAreaRight" fmla="*/ 9312480 w 9312120"/>
              <a:gd name="textAreaTop" fmla="*/ 0 h 4054320"/>
              <a:gd name="textAreaBottom" fmla="*/ 4054680 h 4054320"/>
            </a:gdLst>
            <a:ahLst/>
            <a:rect l="textAreaLeft" t="textAreaTop" r="textAreaRight" b="textAreaBottom"/>
            <a:pathLst>
              <a:path w="9218443" h="4054642">
                <a:moveTo>
                  <a:pt x="0" y="0"/>
                </a:moveTo>
                <a:lnTo>
                  <a:pt x="9218443" y="0"/>
                </a:lnTo>
                <a:lnTo>
                  <a:pt x="9218443" y="4054642"/>
                </a:lnTo>
                <a:lnTo>
                  <a:pt x="6115423" y="4054642"/>
                </a:lnTo>
                <a:cubicBezTo>
                  <a:pt x="6115423" y="3243969"/>
                  <a:pt x="5458243" y="2586789"/>
                  <a:pt x="4647570" y="2586789"/>
                </a:cubicBezTo>
                <a:cubicBezTo>
                  <a:pt x="3836897" y="2586789"/>
                  <a:pt x="3179717" y="3243969"/>
                  <a:pt x="3179717" y="4054642"/>
                </a:cubicBezTo>
                <a:lnTo>
                  <a:pt x="0" y="405464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3"/>
          <p:cNvSpPr/>
          <p:nvPr/>
        </p:nvSpPr>
        <p:spPr>
          <a:xfrm>
            <a:off x="1564200" y="139572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80"/>
          <p:cNvSpPr/>
          <p:nvPr/>
        </p:nvSpPr>
        <p:spPr>
          <a:xfrm>
            <a:off x="1694520" y="542520"/>
            <a:ext cx="5927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美微粒体风格读书笔记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连接符 82"/>
          <p:cNvCxnSpPr/>
          <p:nvPr/>
        </p:nvCxnSpPr>
        <p:spPr>
          <a:xfrm>
            <a:off x="853920" y="1900800"/>
            <a:ext cx="767124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99" name="文本框 84"/>
          <p:cNvSpPr/>
          <p:nvPr/>
        </p:nvSpPr>
        <p:spPr>
          <a:xfrm>
            <a:off x="2642040" y="1936080"/>
            <a:ext cx="4336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G.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查德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尔    翻译：林民旺   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暁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80"/>
          <p:cNvGrpSpPr/>
          <p:nvPr/>
        </p:nvGrpSpPr>
        <p:grpSpPr>
          <a:xfrm>
            <a:off x="5994720" y="4387680"/>
            <a:ext cx="647280" cy="647280"/>
            <a:chOff x="5994720" y="4387680"/>
            <a:chExt cx="647280" cy="647280"/>
          </a:xfrm>
        </p:grpSpPr>
        <p:sp>
          <p:nvSpPr>
            <p:cNvPr id="101" name="椭圆 77"/>
            <p:cNvSpPr/>
            <p:nvPr/>
          </p:nvSpPr>
          <p:spPr>
            <a:xfrm>
              <a:off x="5994720" y="4387680"/>
              <a:ext cx="647280" cy="64728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02" name="Group 657"/>
            <p:cNvGrpSpPr/>
            <p:nvPr/>
          </p:nvGrpSpPr>
          <p:grpSpPr>
            <a:xfrm>
              <a:off x="6045480" y="4561200"/>
              <a:ext cx="546480" cy="302040"/>
              <a:chOff x="6045480" y="4561200"/>
              <a:chExt cx="546480" cy="302040"/>
            </a:xfrm>
          </p:grpSpPr>
          <p:grpSp>
            <p:nvGrpSpPr>
              <p:cNvPr id="103" name="Group 655"/>
              <p:cNvGrpSpPr/>
              <p:nvPr/>
            </p:nvGrpSpPr>
            <p:grpSpPr>
              <a:xfrm>
                <a:off x="6045480" y="4561200"/>
                <a:ext cx="546480" cy="302040"/>
                <a:chOff x="6045480" y="4561200"/>
                <a:chExt cx="546480" cy="302040"/>
              </a:xfrm>
            </p:grpSpPr>
            <p:sp>
              <p:nvSpPr>
                <p:cNvPr id="104" name="Freeform 652"/>
                <p:cNvSpPr/>
                <p:nvPr/>
              </p:nvSpPr>
              <p:spPr>
                <a:xfrm>
                  <a:off x="6045480" y="4561200"/>
                  <a:ext cx="546480" cy="302040"/>
                </a:xfrm>
                <a:custGeom>
                  <a:avLst/>
                  <a:gdLst>
                    <a:gd name="textAreaLeft" fmla="*/ 0 w 546480"/>
                    <a:gd name="textAreaRight" fmla="*/ 546840 w 54648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16875" h="9345">
                      <a:moveTo>
                        <a:pt x="16875" y="4679"/>
                      </a:moveTo>
                      <a:lnTo>
                        <a:pt x="16828" y="4764"/>
                      </a:lnTo>
                      <a:lnTo>
                        <a:pt x="16779" y="4849"/>
                      </a:lnTo>
                      <a:lnTo>
                        <a:pt x="16729" y="4932"/>
                      </a:lnTo>
                      <a:lnTo>
                        <a:pt x="16680" y="5014"/>
                      </a:lnTo>
                      <a:lnTo>
                        <a:pt x="16629" y="5095"/>
                      </a:lnTo>
                      <a:lnTo>
                        <a:pt x="16579" y="5176"/>
                      </a:lnTo>
                      <a:lnTo>
                        <a:pt x="16526" y="5256"/>
                      </a:lnTo>
                      <a:lnTo>
                        <a:pt x="16474" y="5335"/>
                      </a:lnTo>
                      <a:lnTo>
                        <a:pt x="16420" y="5415"/>
                      </a:lnTo>
                      <a:lnTo>
                        <a:pt x="16368" y="5493"/>
                      </a:lnTo>
                      <a:lnTo>
                        <a:pt x="16313" y="5569"/>
                      </a:lnTo>
                      <a:lnTo>
                        <a:pt x="16258" y="5645"/>
                      </a:lnTo>
                      <a:lnTo>
                        <a:pt x="16202" y="5721"/>
                      </a:lnTo>
                      <a:lnTo>
                        <a:pt x="16145" y="5795"/>
                      </a:lnTo>
                      <a:lnTo>
                        <a:pt x="16088" y="5870"/>
                      </a:lnTo>
                      <a:lnTo>
                        <a:pt x="16031" y="5943"/>
                      </a:lnTo>
                      <a:lnTo>
                        <a:pt x="15972" y="6015"/>
                      </a:lnTo>
                      <a:lnTo>
                        <a:pt x="15913" y="6086"/>
                      </a:lnTo>
                      <a:lnTo>
                        <a:pt x="15854" y="6158"/>
                      </a:lnTo>
                      <a:lnTo>
                        <a:pt x="15793" y="6227"/>
                      </a:lnTo>
                      <a:lnTo>
                        <a:pt x="15732" y="6297"/>
                      </a:lnTo>
                      <a:lnTo>
                        <a:pt x="15671" y="6365"/>
                      </a:lnTo>
                      <a:lnTo>
                        <a:pt x="15608" y="6433"/>
                      </a:lnTo>
                      <a:lnTo>
                        <a:pt x="15545" y="6499"/>
                      </a:lnTo>
                      <a:lnTo>
                        <a:pt x="15481" y="6566"/>
                      </a:lnTo>
                      <a:lnTo>
                        <a:pt x="15416" y="6631"/>
                      </a:lnTo>
                      <a:lnTo>
                        <a:pt x="15352" y="6695"/>
                      </a:lnTo>
                      <a:lnTo>
                        <a:pt x="15286" y="6759"/>
                      </a:lnTo>
                      <a:lnTo>
                        <a:pt x="15219" y="6823"/>
                      </a:lnTo>
                      <a:lnTo>
                        <a:pt x="15152" y="6885"/>
                      </a:lnTo>
                      <a:lnTo>
                        <a:pt x="15084" y="6946"/>
                      </a:lnTo>
                      <a:lnTo>
                        <a:pt x="15016" y="7007"/>
                      </a:lnTo>
                      <a:lnTo>
                        <a:pt x="14849" y="7152"/>
                      </a:lnTo>
                      <a:lnTo>
                        <a:pt x="14680" y="7291"/>
                      </a:lnTo>
                      <a:lnTo>
                        <a:pt x="14508" y="7426"/>
                      </a:lnTo>
                      <a:lnTo>
                        <a:pt x="14334" y="7555"/>
                      </a:lnTo>
                      <a:lnTo>
                        <a:pt x="14158" y="7681"/>
                      </a:lnTo>
                      <a:lnTo>
                        <a:pt x="13979" y="7802"/>
                      </a:lnTo>
                      <a:lnTo>
                        <a:pt x="13797" y="7919"/>
                      </a:lnTo>
                      <a:lnTo>
                        <a:pt x="13614" y="8031"/>
                      </a:lnTo>
                      <a:lnTo>
                        <a:pt x="13427" y="8138"/>
                      </a:lnTo>
                      <a:lnTo>
                        <a:pt x="13238" y="8240"/>
                      </a:lnTo>
                      <a:lnTo>
                        <a:pt x="13046" y="8338"/>
                      </a:lnTo>
                      <a:lnTo>
                        <a:pt x="12852" y="8432"/>
                      </a:lnTo>
                      <a:lnTo>
                        <a:pt x="12656" y="8522"/>
                      </a:lnTo>
                      <a:lnTo>
                        <a:pt x="12457" y="8606"/>
                      </a:lnTo>
                      <a:lnTo>
                        <a:pt x="12255" y="8686"/>
                      </a:lnTo>
                      <a:lnTo>
                        <a:pt x="12051" y="8761"/>
                      </a:lnTo>
                      <a:lnTo>
                        <a:pt x="11845" y="8832"/>
                      </a:lnTo>
                      <a:lnTo>
                        <a:pt x="11635" y="8898"/>
                      </a:lnTo>
                      <a:lnTo>
                        <a:pt x="11424" y="8959"/>
                      </a:lnTo>
                      <a:lnTo>
                        <a:pt x="11210" y="9016"/>
                      </a:lnTo>
                      <a:lnTo>
                        <a:pt x="10994" y="9069"/>
                      </a:lnTo>
                      <a:lnTo>
                        <a:pt x="10775" y="9117"/>
                      </a:lnTo>
                      <a:lnTo>
                        <a:pt x="10553" y="9161"/>
                      </a:lnTo>
                      <a:lnTo>
                        <a:pt x="10329" y="9200"/>
                      </a:lnTo>
                      <a:lnTo>
                        <a:pt x="10103" y="9233"/>
                      </a:lnTo>
                      <a:lnTo>
                        <a:pt x="9874" y="9263"/>
                      </a:lnTo>
                      <a:lnTo>
                        <a:pt x="9642" y="9288"/>
                      </a:lnTo>
                      <a:lnTo>
                        <a:pt x="9408" y="9308"/>
                      </a:lnTo>
                      <a:lnTo>
                        <a:pt x="9172" y="9325"/>
                      </a:lnTo>
                      <a:lnTo>
                        <a:pt x="8933" y="9336"/>
                      </a:lnTo>
                      <a:lnTo>
                        <a:pt x="8692" y="9343"/>
                      </a:lnTo>
                      <a:lnTo>
                        <a:pt x="8448" y="9345"/>
                      </a:lnTo>
                      <a:lnTo>
                        <a:pt x="8203" y="9343"/>
                      </a:lnTo>
                      <a:lnTo>
                        <a:pt x="7962" y="9336"/>
                      </a:lnTo>
                      <a:lnTo>
                        <a:pt x="7723" y="9325"/>
                      </a:lnTo>
                      <a:lnTo>
                        <a:pt x="7487" y="9308"/>
                      </a:lnTo>
                      <a:lnTo>
                        <a:pt x="7253" y="9288"/>
                      </a:lnTo>
                      <a:lnTo>
                        <a:pt x="7021" y="9263"/>
                      </a:lnTo>
                      <a:lnTo>
                        <a:pt x="6792" y="9233"/>
                      </a:lnTo>
                      <a:lnTo>
                        <a:pt x="6565" y="9200"/>
                      </a:lnTo>
                      <a:lnTo>
                        <a:pt x="6341" y="9161"/>
                      </a:lnTo>
                      <a:lnTo>
                        <a:pt x="6119" y="9117"/>
                      </a:lnTo>
                      <a:lnTo>
                        <a:pt x="5900" y="9069"/>
                      </a:lnTo>
                      <a:lnTo>
                        <a:pt x="5684" y="9016"/>
                      </a:lnTo>
                      <a:lnTo>
                        <a:pt x="5470" y="8959"/>
                      </a:lnTo>
                      <a:lnTo>
                        <a:pt x="5258" y="8898"/>
                      </a:lnTo>
                      <a:lnTo>
                        <a:pt x="5048" y="8832"/>
                      </a:lnTo>
                      <a:lnTo>
                        <a:pt x="4841" y="8761"/>
                      </a:lnTo>
                      <a:lnTo>
                        <a:pt x="4636" y="8686"/>
                      </a:lnTo>
                      <a:lnTo>
                        <a:pt x="4435" y="8606"/>
                      </a:lnTo>
                      <a:lnTo>
                        <a:pt x="4236" y="8522"/>
                      </a:lnTo>
                      <a:lnTo>
                        <a:pt x="4038" y="8432"/>
                      </a:lnTo>
                      <a:lnTo>
                        <a:pt x="3844" y="8338"/>
                      </a:lnTo>
                      <a:lnTo>
                        <a:pt x="3652" y="8240"/>
                      </a:lnTo>
                      <a:lnTo>
                        <a:pt x="3463" y="8138"/>
                      </a:lnTo>
                      <a:lnTo>
                        <a:pt x="3276" y="8031"/>
                      </a:lnTo>
                      <a:lnTo>
                        <a:pt x="3091" y="7919"/>
                      </a:lnTo>
                      <a:lnTo>
                        <a:pt x="2909" y="7802"/>
                      </a:lnTo>
                      <a:lnTo>
                        <a:pt x="2730" y="7681"/>
                      </a:lnTo>
                      <a:lnTo>
                        <a:pt x="2552" y="7555"/>
                      </a:lnTo>
                      <a:lnTo>
                        <a:pt x="2378" y="7426"/>
                      </a:lnTo>
                      <a:lnTo>
                        <a:pt x="2206" y="7291"/>
                      </a:lnTo>
                      <a:lnTo>
                        <a:pt x="2037" y="7152"/>
                      </a:lnTo>
                      <a:lnTo>
                        <a:pt x="1869" y="7007"/>
                      </a:lnTo>
                      <a:lnTo>
                        <a:pt x="1800" y="6946"/>
                      </a:lnTo>
                      <a:lnTo>
                        <a:pt x="1733" y="6885"/>
                      </a:lnTo>
                      <a:lnTo>
                        <a:pt x="1665" y="6823"/>
                      </a:lnTo>
                      <a:lnTo>
                        <a:pt x="1599" y="6759"/>
                      </a:lnTo>
                      <a:lnTo>
                        <a:pt x="1534" y="6695"/>
                      </a:lnTo>
                      <a:lnTo>
                        <a:pt x="1468" y="6631"/>
                      </a:lnTo>
                      <a:lnTo>
                        <a:pt x="1404" y="6566"/>
                      </a:lnTo>
                      <a:lnTo>
                        <a:pt x="1339" y="6499"/>
                      </a:lnTo>
                      <a:lnTo>
                        <a:pt x="1276" y="6433"/>
                      </a:lnTo>
                      <a:lnTo>
                        <a:pt x="1214" y="6365"/>
                      </a:lnTo>
                      <a:lnTo>
                        <a:pt x="1152" y="6297"/>
                      </a:lnTo>
                      <a:lnTo>
                        <a:pt x="1091" y="6227"/>
                      </a:lnTo>
                      <a:lnTo>
                        <a:pt x="1029" y="6158"/>
                      </a:lnTo>
                      <a:lnTo>
                        <a:pt x="969" y="6086"/>
                      </a:lnTo>
                      <a:lnTo>
                        <a:pt x="910" y="6015"/>
                      </a:lnTo>
                      <a:lnTo>
                        <a:pt x="851" y="5943"/>
                      </a:lnTo>
                      <a:lnTo>
                        <a:pt x="793" y="5870"/>
                      </a:lnTo>
                      <a:lnTo>
                        <a:pt x="736" y="5795"/>
                      </a:lnTo>
                      <a:lnTo>
                        <a:pt x="679" y="5721"/>
                      </a:lnTo>
                      <a:lnTo>
                        <a:pt x="623" y="5645"/>
                      </a:lnTo>
                      <a:lnTo>
                        <a:pt x="567" y="5569"/>
                      </a:lnTo>
                      <a:lnTo>
                        <a:pt x="513" y="5493"/>
                      </a:lnTo>
                      <a:lnTo>
                        <a:pt x="459" y="5415"/>
                      </a:lnTo>
                      <a:lnTo>
                        <a:pt x="405" y="5335"/>
                      </a:lnTo>
                      <a:lnTo>
                        <a:pt x="352" y="5256"/>
                      </a:lnTo>
                      <a:lnTo>
                        <a:pt x="301" y="5176"/>
                      </a:lnTo>
                      <a:lnTo>
                        <a:pt x="249" y="5095"/>
                      </a:lnTo>
                      <a:lnTo>
                        <a:pt x="197" y="5014"/>
                      </a:lnTo>
                      <a:lnTo>
                        <a:pt x="148" y="4932"/>
                      </a:lnTo>
                      <a:lnTo>
                        <a:pt x="97" y="4849"/>
                      </a:lnTo>
                      <a:lnTo>
                        <a:pt x="49" y="4764"/>
                      </a:lnTo>
                      <a:lnTo>
                        <a:pt x="0" y="4679"/>
                      </a:lnTo>
                      <a:lnTo>
                        <a:pt x="49" y="4595"/>
                      </a:lnTo>
                      <a:lnTo>
                        <a:pt x="97" y="4510"/>
                      </a:lnTo>
                      <a:lnTo>
                        <a:pt x="148" y="4426"/>
                      </a:lnTo>
                      <a:lnTo>
                        <a:pt x="197" y="4344"/>
                      </a:lnTo>
                      <a:lnTo>
                        <a:pt x="249" y="4261"/>
                      </a:lnTo>
                      <a:lnTo>
                        <a:pt x="301" y="4180"/>
                      </a:lnTo>
                      <a:lnTo>
                        <a:pt x="352" y="4100"/>
                      </a:lnTo>
                      <a:lnTo>
                        <a:pt x="405" y="4020"/>
                      </a:lnTo>
                      <a:lnTo>
                        <a:pt x="459" y="3941"/>
                      </a:lnTo>
                      <a:lnTo>
                        <a:pt x="513" y="3863"/>
                      </a:lnTo>
                      <a:lnTo>
                        <a:pt x="567" y="3786"/>
                      </a:lnTo>
                      <a:lnTo>
                        <a:pt x="623" y="3709"/>
                      </a:lnTo>
                      <a:lnTo>
                        <a:pt x="679" y="3633"/>
                      </a:lnTo>
                      <a:lnTo>
                        <a:pt x="736" y="3558"/>
                      </a:lnTo>
                      <a:lnTo>
                        <a:pt x="793" y="3484"/>
                      </a:lnTo>
                      <a:lnTo>
                        <a:pt x="851" y="3411"/>
                      </a:lnTo>
                      <a:lnTo>
                        <a:pt x="910" y="3338"/>
                      </a:lnTo>
                      <a:lnTo>
                        <a:pt x="969" y="3265"/>
                      </a:lnTo>
                      <a:lnTo>
                        <a:pt x="1029" y="3195"/>
                      </a:lnTo>
                      <a:lnTo>
                        <a:pt x="1091" y="3124"/>
                      </a:lnTo>
                      <a:lnTo>
                        <a:pt x="1152" y="3055"/>
                      </a:lnTo>
                      <a:lnTo>
                        <a:pt x="1214" y="2986"/>
                      </a:lnTo>
                      <a:lnTo>
                        <a:pt x="1276" y="2918"/>
                      </a:lnTo>
                      <a:lnTo>
                        <a:pt x="1339" y="2850"/>
                      </a:lnTo>
                      <a:lnTo>
                        <a:pt x="1404" y="2784"/>
                      </a:lnTo>
                      <a:lnTo>
                        <a:pt x="1468" y="2717"/>
                      </a:lnTo>
                      <a:lnTo>
                        <a:pt x="1534" y="2652"/>
                      </a:lnTo>
                      <a:lnTo>
                        <a:pt x="1599" y="2588"/>
                      </a:lnTo>
                      <a:lnTo>
                        <a:pt x="1665" y="2524"/>
                      </a:lnTo>
                      <a:lnTo>
                        <a:pt x="1733" y="2461"/>
                      </a:lnTo>
                      <a:lnTo>
                        <a:pt x="1800" y="2399"/>
                      </a:lnTo>
                      <a:lnTo>
                        <a:pt x="1869" y="2338"/>
                      </a:lnTo>
                      <a:lnTo>
                        <a:pt x="2037" y="2194"/>
                      </a:lnTo>
                      <a:lnTo>
                        <a:pt x="2206" y="2054"/>
                      </a:lnTo>
                      <a:lnTo>
                        <a:pt x="2378" y="1919"/>
                      </a:lnTo>
                      <a:lnTo>
                        <a:pt x="2552" y="1790"/>
                      </a:lnTo>
                      <a:lnTo>
                        <a:pt x="2730" y="1664"/>
                      </a:lnTo>
                      <a:lnTo>
                        <a:pt x="2909" y="1543"/>
                      </a:lnTo>
                      <a:lnTo>
                        <a:pt x="3091" y="1426"/>
                      </a:lnTo>
                      <a:lnTo>
                        <a:pt x="3276" y="1314"/>
                      </a:lnTo>
                      <a:lnTo>
                        <a:pt x="3463" y="1207"/>
                      </a:lnTo>
                      <a:lnTo>
                        <a:pt x="3652" y="1105"/>
                      </a:lnTo>
                      <a:lnTo>
                        <a:pt x="3844" y="1007"/>
                      </a:lnTo>
                      <a:lnTo>
                        <a:pt x="4038" y="913"/>
                      </a:lnTo>
                      <a:lnTo>
                        <a:pt x="4236" y="824"/>
                      </a:lnTo>
                      <a:lnTo>
                        <a:pt x="4435" y="739"/>
                      </a:lnTo>
                      <a:lnTo>
                        <a:pt x="4636" y="660"/>
                      </a:lnTo>
                      <a:lnTo>
                        <a:pt x="4841" y="584"/>
                      </a:lnTo>
                      <a:lnTo>
                        <a:pt x="5048" y="513"/>
                      </a:lnTo>
                      <a:lnTo>
                        <a:pt x="5258" y="447"/>
                      </a:lnTo>
                      <a:lnTo>
                        <a:pt x="5470" y="386"/>
                      </a:lnTo>
                      <a:lnTo>
                        <a:pt x="5684" y="329"/>
                      </a:lnTo>
                      <a:lnTo>
                        <a:pt x="5900" y="276"/>
                      </a:lnTo>
                      <a:lnTo>
                        <a:pt x="6119" y="228"/>
                      </a:lnTo>
                      <a:lnTo>
                        <a:pt x="6341" y="184"/>
                      </a:lnTo>
                      <a:lnTo>
                        <a:pt x="6565" y="145"/>
                      </a:lnTo>
                      <a:lnTo>
                        <a:pt x="6792" y="112"/>
                      </a:lnTo>
                      <a:lnTo>
                        <a:pt x="7021" y="82"/>
                      </a:lnTo>
                      <a:lnTo>
                        <a:pt x="7253" y="57"/>
                      </a:lnTo>
                      <a:lnTo>
                        <a:pt x="7487" y="37"/>
                      </a:lnTo>
                      <a:lnTo>
                        <a:pt x="7723" y="20"/>
                      </a:lnTo>
                      <a:lnTo>
                        <a:pt x="7962" y="9"/>
                      </a:lnTo>
                      <a:lnTo>
                        <a:pt x="8203" y="2"/>
                      </a:lnTo>
                      <a:lnTo>
                        <a:pt x="8448" y="0"/>
                      </a:lnTo>
                      <a:lnTo>
                        <a:pt x="8692" y="2"/>
                      </a:lnTo>
                      <a:lnTo>
                        <a:pt x="8933" y="9"/>
                      </a:lnTo>
                      <a:lnTo>
                        <a:pt x="9172" y="20"/>
                      </a:lnTo>
                      <a:lnTo>
                        <a:pt x="9408" y="37"/>
                      </a:lnTo>
                      <a:lnTo>
                        <a:pt x="9642" y="57"/>
                      </a:lnTo>
                      <a:lnTo>
                        <a:pt x="9874" y="82"/>
                      </a:lnTo>
                      <a:lnTo>
                        <a:pt x="10103" y="112"/>
                      </a:lnTo>
                      <a:lnTo>
                        <a:pt x="10329" y="145"/>
                      </a:lnTo>
                      <a:lnTo>
                        <a:pt x="10553" y="184"/>
                      </a:lnTo>
                      <a:lnTo>
                        <a:pt x="10775" y="228"/>
                      </a:lnTo>
                      <a:lnTo>
                        <a:pt x="10994" y="276"/>
                      </a:lnTo>
                      <a:lnTo>
                        <a:pt x="11210" y="329"/>
                      </a:lnTo>
                      <a:lnTo>
                        <a:pt x="11424" y="386"/>
                      </a:lnTo>
                      <a:lnTo>
                        <a:pt x="11635" y="447"/>
                      </a:lnTo>
                      <a:lnTo>
                        <a:pt x="11845" y="513"/>
                      </a:lnTo>
                      <a:lnTo>
                        <a:pt x="12051" y="584"/>
                      </a:lnTo>
                      <a:lnTo>
                        <a:pt x="12255" y="660"/>
                      </a:lnTo>
                      <a:lnTo>
                        <a:pt x="12457" y="739"/>
                      </a:lnTo>
                      <a:lnTo>
                        <a:pt x="12656" y="824"/>
                      </a:lnTo>
                      <a:lnTo>
                        <a:pt x="12852" y="913"/>
                      </a:lnTo>
                      <a:lnTo>
                        <a:pt x="13046" y="1007"/>
                      </a:lnTo>
                      <a:lnTo>
                        <a:pt x="13238" y="1105"/>
                      </a:lnTo>
                      <a:lnTo>
                        <a:pt x="13427" y="1207"/>
                      </a:lnTo>
                      <a:lnTo>
                        <a:pt x="13614" y="1314"/>
                      </a:lnTo>
                      <a:lnTo>
                        <a:pt x="13797" y="1426"/>
                      </a:lnTo>
                      <a:lnTo>
                        <a:pt x="13979" y="1543"/>
                      </a:lnTo>
                      <a:lnTo>
                        <a:pt x="14158" y="1664"/>
                      </a:lnTo>
                      <a:lnTo>
                        <a:pt x="14334" y="1790"/>
                      </a:lnTo>
                      <a:lnTo>
                        <a:pt x="14508" y="1919"/>
                      </a:lnTo>
                      <a:lnTo>
                        <a:pt x="14680" y="2054"/>
                      </a:lnTo>
                      <a:lnTo>
                        <a:pt x="14849" y="2194"/>
                      </a:lnTo>
                      <a:lnTo>
                        <a:pt x="15016" y="2338"/>
                      </a:lnTo>
                      <a:lnTo>
                        <a:pt x="15084" y="2399"/>
                      </a:lnTo>
                      <a:lnTo>
                        <a:pt x="15152" y="2461"/>
                      </a:lnTo>
                      <a:lnTo>
                        <a:pt x="15219" y="2524"/>
                      </a:lnTo>
                      <a:lnTo>
                        <a:pt x="15286" y="2588"/>
                      </a:lnTo>
                      <a:lnTo>
                        <a:pt x="15352" y="2652"/>
                      </a:lnTo>
                      <a:lnTo>
                        <a:pt x="15416" y="2717"/>
                      </a:lnTo>
                      <a:lnTo>
                        <a:pt x="15481" y="2784"/>
                      </a:lnTo>
                      <a:lnTo>
                        <a:pt x="15545" y="2850"/>
                      </a:lnTo>
                      <a:lnTo>
                        <a:pt x="15608" y="2918"/>
                      </a:lnTo>
                      <a:lnTo>
                        <a:pt x="15671" y="2986"/>
                      </a:lnTo>
                      <a:lnTo>
                        <a:pt x="15732" y="3055"/>
                      </a:lnTo>
                      <a:lnTo>
                        <a:pt x="15793" y="3124"/>
                      </a:lnTo>
                      <a:lnTo>
                        <a:pt x="15854" y="3195"/>
                      </a:lnTo>
                      <a:lnTo>
                        <a:pt x="15913" y="3265"/>
                      </a:lnTo>
                      <a:lnTo>
                        <a:pt x="15972" y="3338"/>
                      </a:lnTo>
                      <a:lnTo>
                        <a:pt x="16031" y="3411"/>
                      </a:lnTo>
                      <a:lnTo>
                        <a:pt x="16088" y="3484"/>
                      </a:lnTo>
                      <a:lnTo>
                        <a:pt x="16145" y="3558"/>
                      </a:lnTo>
                      <a:lnTo>
                        <a:pt x="16202" y="3633"/>
                      </a:lnTo>
                      <a:lnTo>
                        <a:pt x="16258" y="3709"/>
                      </a:lnTo>
                      <a:lnTo>
                        <a:pt x="16313" y="3786"/>
                      </a:lnTo>
                      <a:lnTo>
                        <a:pt x="16368" y="3863"/>
                      </a:lnTo>
                      <a:lnTo>
                        <a:pt x="16420" y="3941"/>
                      </a:lnTo>
                      <a:lnTo>
                        <a:pt x="16474" y="4020"/>
                      </a:lnTo>
                      <a:lnTo>
                        <a:pt x="16526" y="4100"/>
                      </a:lnTo>
                      <a:lnTo>
                        <a:pt x="16579" y="4180"/>
                      </a:lnTo>
                      <a:lnTo>
                        <a:pt x="16629" y="4261"/>
                      </a:lnTo>
                      <a:lnTo>
                        <a:pt x="16680" y="4344"/>
                      </a:lnTo>
                      <a:lnTo>
                        <a:pt x="16729" y="4426"/>
                      </a:lnTo>
                      <a:lnTo>
                        <a:pt x="16779" y="4510"/>
                      </a:lnTo>
                      <a:lnTo>
                        <a:pt x="16828" y="4595"/>
                      </a:lnTo>
                      <a:lnTo>
                        <a:pt x="16875" y="4679"/>
                      </a:lnTo>
                      <a:close/>
                      <a:moveTo>
                        <a:pt x="15271" y="4679"/>
                      </a:moveTo>
                      <a:lnTo>
                        <a:pt x="15210" y="4574"/>
                      </a:lnTo>
                      <a:lnTo>
                        <a:pt x="15147" y="4470"/>
                      </a:lnTo>
                      <a:lnTo>
                        <a:pt x="15116" y="4420"/>
                      </a:lnTo>
                      <a:lnTo>
                        <a:pt x="15084" y="4368"/>
                      </a:lnTo>
                      <a:lnTo>
                        <a:pt x="15051" y="4317"/>
                      </a:lnTo>
                      <a:lnTo>
                        <a:pt x="15018" y="4268"/>
                      </a:lnTo>
                      <a:lnTo>
                        <a:pt x="14950" y="4168"/>
                      </a:lnTo>
                      <a:lnTo>
                        <a:pt x="14882" y="4070"/>
                      </a:lnTo>
                      <a:lnTo>
                        <a:pt x="14811" y="3973"/>
                      </a:lnTo>
                      <a:lnTo>
                        <a:pt x="14738" y="3877"/>
                      </a:lnTo>
                      <a:lnTo>
                        <a:pt x="14664" y="3783"/>
                      </a:lnTo>
                      <a:lnTo>
                        <a:pt x="14588" y="3690"/>
                      </a:lnTo>
                      <a:lnTo>
                        <a:pt x="14511" y="3598"/>
                      </a:lnTo>
                      <a:lnTo>
                        <a:pt x="14433" y="3509"/>
                      </a:lnTo>
                      <a:lnTo>
                        <a:pt x="14352" y="3420"/>
                      </a:lnTo>
                      <a:lnTo>
                        <a:pt x="14271" y="3333"/>
                      </a:lnTo>
                      <a:lnTo>
                        <a:pt x="14188" y="3247"/>
                      </a:lnTo>
                      <a:lnTo>
                        <a:pt x="14103" y="3163"/>
                      </a:lnTo>
                      <a:lnTo>
                        <a:pt x="13999" y="3065"/>
                      </a:lnTo>
                      <a:lnTo>
                        <a:pt x="13892" y="2969"/>
                      </a:lnTo>
                      <a:lnTo>
                        <a:pt x="13786" y="2875"/>
                      </a:lnTo>
                      <a:lnTo>
                        <a:pt x="13677" y="2784"/>
                      </a:lnTo>
                      <a:lnTo>
                        <a:pt x="13566" y="2695"/>
                      </a:lnTo>
                      <a:lnTo>
                        <a:pt x="13455" y="2609"/>
                      </a:lnTo>
                      <a:lnTo>
                        <a:pt x="13342" y="2524"/>
                      </a:lnTo>
                      <a:lnTo>
                        <a:pt x="13228" y="2442"/>
                      </a:lnTo>
                      <a:lnTo>
                        <a:pt x="13111" y="2363"/>
                      </a:lnTo>
                      <a:lnTo>
                        <a:pt x="12994" y="2285"/>
                      </a:lnTo>
                      <a:lnTo>
                        <a:pt x="12875" y="2210"/>
                      </a:lnTo>
                      <a:lnTo>
                        <a:pt x="12754" y="2138"/>
                      </a:lnTo>
                      <a:lnTo>
                        <a:pt x="12632" y="2067"/>
                      </a:lnTo>
                      <a:lnTo>
                        <a:pt x="12509" y="1999"/>
                      </a:lnTo>
                      <a:lnTo>
                        <a:pt x="12384" y="1933"/>
                      </a:lnTo>
                      <a:lnTo>
                        <a:pt x="12258" y="1870"/>
                      </a:lnTo>
                      <a:lnTo>
                        <a:pt x="12129" y="1809"/>
                      </a:lnTo>
                      <a:lnTo>
                        <a:pt x="12000" y="1750"/>
                      </a:lnTo>
                      <a:lnTo>
                        <a:pt x="11869" y="1694"/>
                      </a:lnTo>
                      <a:lnTo>
                        <a:pt x="11737" y="1640"/>
                      </a:lnTo>
                      <a:lnTo>
                        <a:pt x="11603" y="1587"/>
                      </a:lnTo>
                      <a:lnTo>
                        <a:pt x="11468" y="1538"/>
                      </a:lnTo>
                      <a:lnTo>
                        <a:pt x="11331" y="1491"/>
                      </a:lnTo>
                      <a:lnTo>
                        <a:pt x="11192" y="1446"/>
                      </a:lnTo>
                      <a:lnTo>
                        <a:pt x="11052" y="1404"/>
                      </a:lnTo>
                      <a:lnTo>
                        <a:pt x="10911" y="1363"/>
                      </a:lnTo>
                      <a:lnTo>
                        <a:pt x="10768" y="1326"/>
                      </a:lnTo>
                      <a:lnTo>
                        <a:pt x="10624" y="1290"/>
                      </a:lnTo>
                      <a:lnTo>
                        <a:pt x="10478" y="1256"/>
                      </a:lnTo>
                      <a:lnTo>
                        <a:pt x="10331" y="1226"/>
                      </a:lnTo>
                      <a:lnTo>
                        <a:pt x="10182" y="1197"/>
                      </a:lnTo>
                      <a:lnTo>
                        <a:pt x="10031" y="1171"/>
                      </a:lnTo>
                      <a:lnTo>
                        <a:pt x="10097" y="1199"/>
                      </a:lnTo>
                      <a:lnTo>
                        <a:pt x="10162" y="1229"/>
                      </a:lnTo>
                      <a:lnTo>
                        <a:pt x="10225" y="1259"/>
                      </a:lnTo>
                      <a:lnTo>
                        <a:pt x="10288" y="1290"/>
                      </a:lnTo>
                      <a:lnTo>
                        <a:pt x="10351" y="1323"/>
                      </a:lnTo>
                      <a:lnTo>
                        <a:pt x="10412" y="1355"/>
                      </a:lnTo>
                      <a:lnTo>
                        <a:pt x="10472" y="1390"/>
                      </a:lnTo>
                      <a:lnTo>
                        <a:pt x="10532" y="1425"/>
                      </a:lnTo>
                      <a:lnTo>
                        <a:pt x="10591" y="1462"/>
                      </a:lnTo>
                      <a:lnTo>
                        <a:pt x="10649" y="1499"/>
                      </a:lnTo>
                      <a:lnTo>
                        <a:pt x="10706" y="1537"/>
                      </a:lnTo>
                      <a:lnTo>
                        <a:pt x="10763" y="1576"/>
                      </a:lnTo>
                      <a:lnTo>
                        <a:pt x="10818" y="1616"/>
                      </a:lnTo>
                      <a:lnTo>
                        <a:pt x="10874" y="1657"/>
                      </a:lnTo>
                      <a:lnTo>
                        <a:pt x="10928" y="1698"/>
                      </a:lnTo>
                      <a:lnTo>
                        <a:pt x="10980" y="1741"/>
                      </a:lnTo>
                      <a:lnTo>
                        <a:pt x="11033" y="1786"/>
                      </a:lnTo>
                      <a:lnTo>
                        <a:pt x="11085" y="1830"/>
                      </a:lnTo>
                      <a:lnTo>
                        <a:pt x="11135" y="1875"/>
                      </a:lnTo>
                      <a:lnTo>
                        <a:pt x="11186" y="1923"/>
                      </a:lnTo>
                      <a:lnTo>
                        <a:pt x="11235" y="1970"/>
                      </a:lnTo>
                      <a:lnTo>
                        <a:pt x="11283" y="2018"/>
                      </a:lnTo>
                      <a:lnTo>
                        <a:pt x="11331" y="2068"/>
                      </a:lnTo>
                      <a:lnTo>
                        <a:pt x="11378" y="2119"/>
                      </a:lnTo>
                      <a:lnTo>
                        <a:pt x="11423" y="2169"/>
                      </a:lnTo>
                      <a:lnTo>
                        <a:pt x="11469" y="2222"/>
                      </a:lnTo>
                      <a:lnTo>
                        <a:pt x="11513" y="2276"/>
                      </a:lnTo>
                      <a:lnTo>
                        <a:pt x="11557" y="2329"/>
                      </a:lnTo>
                      <a:lnTo>
                        <a:pt x="11599" y="2385"/>
                      </a:lnTo>
                      <a:lnTo>
                        <a:pt x="11642" y="2441"/>
                      </a:lnTo>
                      <a:lnTo>
                        <a:pt x="11683" y="2498"/>
                      </a:lnTo>
                      <a:lnTo>
                        <a:pt x="11723" y="2556"/>
                      </a:lnTo>
                      <a:lnTo>
                        <a:pt x="11763" y="2616"/>
                      </a:lnTo>
                      <a:lnTo>
                        <a:pt x="11802" y="2677"/>
                      </a:lnTo>
                      <a:lnTo>
                        <a:pt x="11839" y="2738"/>
                      </a:lnTo>
                      <a:lnTo>
                        <a:pt x="11876" y="2799"/>
                      </a:lnTo>
                      <a:lnTo>
                        <a:pt x="11911" y="2862"/>
                      </a:lnTo>
                      <a:lnTo>
                        <a:pt x="11943" y="2924"/>
                      </a:lnTo>
                      <a:lnTo>
                        <a:pt x="11976" y="2986"/>
                      </a:lnTo>
                      <a:lnTo>
                        <a:pt x="12007" y="3049"/>
                      </a:lnTo>
                      <a:lnTo>
                        <a:pt x="12037" y="3113"/>
                      </a:lnTo>
                      <a:lnTo>
                        <a:pt x="12066" y="3176"/>
                      </a:lnTo>
                      <a:lnTo>
                        <a:pt x="12092" y="3240"/>
                      </a:lnTo>
                      <a:lnTo>
                        <a:pt x="12118" y="3305"/>
                      </a:lnTo>
                      <a:lnTo>
                        <a:pt x="12143" y="3370"/>
                      </a:lnTo>
                      <a:lnTo>
                        <a:pt x="12167" y="3435"/>
                      </a:lnTo>
                      <a:lnTo>
                        <a:pt x="12189" y="3501"/>
                      </a:lnTo>
                      <a:lnTo>
                        <a:pt x="12209" y="3567"/>
                      </a:lnTo>
                      <a:lnTo>
                        <a:pt x="12229" y="3634"/>
                      </a:lnTo>
                      <a:lnTo>
                        <a:pt x="12247" y="3701"/>
                      </a:lnTo>
                      <a:lnTo>
                        <a:pt x="12264" y="3768"/>
                      </a:lnTo>
                      <a:lnTo>
                        <a:pt x="12280" y="3836"/>
                      </a:lnTo>
                      <a:lnTo>
                        <a:pt x="12294" y="3904"/>
                      </a:lnTo>
                      <a:lnTo>
                        <a:pt x="12308" y="3973"/>
                      </a:lnTo>
                      <a:lnTo>
                        <a:pt x="12320" y="4041"/>
                      </a:lnTo>
                      <a:lnTo>
                        <a:pt x="12330" y="4111"/>
                      </a:lnTo>
                      <a:lnTo>
                        <a:pt x="12340" y="4180"/>
                      </a:lnTo>
                      <a:lnTo>
                        <a:pt x="12348" y="4251"/>
                      </a:lnTo>
                      <a:lnTo>
                        <a:pt x="12356" y="4322"/>
                      </a:lnTo>
                      <a:lnTo>
                        <a:pt x="12361" y="4392"/>
                      </a:lnTo>
                      <a:lnTo>
                        <a:pt x="12365" y="4463"/>
                      </a:lnTo>
                      <a:lnTo>
                        <a:pt x="12368" y="4534"/>
                      </a:lnTo>
                      <a:lnTo>
                        <a:pt x="12370" y="4607"/>
                      </a:lnTo>
                      <a:lnTo>
                        <a:pt x="12370" y="4679"/>
                      </a:lnTo>
                      <a:lnTo>
                        <a:pt x="12370" y="4750"/>
                      </a:lnTo>
                      <a:lnTo>
                        <a:pt x="12368" y="4822"/>
                      </a:lnTo>
                      <a:lnTo>
                        <a:pt x="12365" y="4893"/>
                      </a:lnTo>
                      <a:lnTo>
                        <a:pt x="12361" y="4962"/>
                      </a:lnTo>
                      <a:lnTo>
                        <a:pt x="12356" y="5033"/>
                      </a:lnTo>
                      <a:lnTo>
                        <a:pt x="12348" y="5103"/>
                      </a:lnTo>
                      <a:lnTo>
                        <a:pt x="12341" y="5171"/>
                      </a:lnTo>
                      <a:lnTo>
                        <a:pt x="12331" y="5241"/>
                      </a:lnTo>
                      <a:lnTo>
                        <a:pt x="12321" y="5308"/>
                      </a:lnTo>
                      <a:lnTo>
                        <a:pt x="12309" y="5377"/>
                      </a:lnTo>
                      <a:lnTo>
                        <a:pt x="12296" y="5444"/>
                      </a:lnTo>
                      <a:lnTo>
                        <a:pt x="12282" y="5512"/>
                      </a:lnTo>
                      <a:lnTo>
                        <a:pt x="12266" y="5578"/>
                      </a:lnTo>
                      <a:lnTo>
                        <a:pt x="12249" y="5644"/>
                      </a:lnTo>
                      <a:lnTo>
                        <a:pt x="12231" y="5711"/>
                      </a:lnTo>
                      <a:lnTo>
                        <a:pt x="12212" y="5776"/>
                      </a:lnTo>
                      <a:lnTo>
                        <a:pt x="12192" y="5841"/>
                      </a:lnTo>
                      <a:lnTo>
                        <a:pt x="12170" y="5906"/>
                      </a:lnTo>
                      <a:lnTo>
                        <a:pt x="12147" y="5971"/>
                      </a:lnTo>
                      <a:lnTo>
                        <a:pt x="12124" y="6034"/>
                      </a:lnTo>
                      <a:lnTo>
                        <a:pt x="12097" y="6099"/>
                      </a:lnTo>
                      <a:lnTo>
                        <a:pt x="12071" y="6162"/>
                      </a:lnTo>
                      <a:lnTo>
                        <a:pt x="12043" y="6224"/>
                      </a:lnTo>
                      <a:lnTo>
                        <a:pt x="12014" y="6287"/>
                      </a:lnTo>
                      <a:lnTo>
                        <a:pt x="11983" y="6348"/>
                      </a:lnTo>
                      <a:lnTo>
                        <a:pt x="11952" y="6411"/>
                      </a:lnTo>
                      <a:lnTo>
                        <a:pt x="11919" y="6472"/>
                      </a:lnTo>
                      <a:lnTo>
                        <a:pt x="11885" y="6533"/>
                      </a:lnTo>
                      <a:lnTo>
                        <a:pt x="11850" y="6593"/>
                      </a:lnTo>
                      <a:lnTo>
                        <a:pt x="11814" y="6653"/>
                      </a:lnTo>
                      <a:lnTo>
                        <a:pt x="11776" y="6713"/>
                      </a:lnTo>
                      <a:lnTo>
                        <a:pt x="11737" y="6772"/>
                      </a:lnTo>
                      <a:lnTo>
                        <a:pt x="11696" y="6831"/>
                      </a:lnTo>
                      <a:lnTo>
                        <a:pt x="11655" y="6888"/>
                      </a:lnTo>
                      <a:lnTo>
                        <a:pt x="11614" y="6945"/>
                      </a:lnTo>
                      <a:lnTo>
                        <a:pt x="11572" y="7000"/>
                      </a:lnTo>
                      <a:lnTo>
                        <a:pt x="11529" y="7055"/>
                      </a:lnTo>
                      <a:lnTo>
                        <a:pt x="11484" y="7108"/>
                      </a:lnTo>
                      <a:lnTo>
                        <a:pt x="11440" y="7161"/>
                      </a:lnTo>
                      <a:lnTo>
                        <a:pt x="11395" y="7213"/>
                      </a:lnTo>
                      <a:lnTo>
                        <a:pt x="11348" y="7264"/>
                      </a:lnTo>
                      <a:lnTo>
                        <a:pt x="11301" y="7314"/>
                      </a:lnTo>
                      <a:lnTo>
                        <a:pt x="11254" y="7363"/>
                      </a:lnTo>
                      <a:lnTo>
                        <a:pt x="11204" y="7411"/>
                      </a:lnTo>
                      <a:lnTo>
                        <a:pt x="11155" y="7458"/>
                      </a:lnTo>
                      <a:lnTo>
                        <a:pt x="11105" y="7505"/>
                      </a:lnTo>
                      <a:lnTo>
                        <a:pt x="11054" y="7550"/>
                      </a:lnTo>
                      <a:lnTo>
                        <a:pt x="11003" y="7594"/>
                      </a:lnTo>
                      <a:lnTo>
                        <a:pt x="10950" y="7637"/>
                      </a:lnTo>
                      <a:lnTo>
                        <a:pt x="10896" y="7681"/>
                      </a:lnTo>
                      <a:lnTo>
                        <a:pt x="10842" y="7722"/>
                      </a:lnTo>
                      <a:lnTo>
                        <a:pt x="10787" y="7763"/>
                      </a:lnTo>
                      <a:lnTo>
                        <a:pt x="10731" y="7803"/>
                      </a:lnTo>
                      <a:lnTo>
                        <a:pt x="10676" y="7841"/>
                      </a:lnTo>
                      <a:lnTo>
                        <a:pt x="10618" y="7879"/>
                      </a:lnTo>
                      <a:lnTo>
                        <a:pt x="10560" y="7916"/>
                      </a:lnTo>
                      <a:lnTo>
                        <a:pt x="10502" y="7952"/>
                      </a:lnTo>
                      <a:lnTo>
                        <a:pt x="10441" y="7987"/>
                      </a:lnTo>
                      <a:lnTo>
                        <a:pt x="10381" y="8021"/>
                      </a:lnTo>
                      <a:lnTo>
                        <a:pt x="10320" y="8055"/>
                      </a:lnTo>
                      <a:lnTo>
                        <a:pt x="10259" y="8086"/>
                      </a:lnTo>
                      <a:lnTo>
                        <a:pt x="10196" y="8118"/>
                      </a:lnTo>
                      <a:lnTo>
                        <a:pt x="10132" y="8149"/>
                      </a:lnTo>
                      <a:lnTo>
                        <a:pt x="10069" y="8178"/>
                      </a:lnTo>
                      <a:lnTo>
                        <a:pt x="10290" y="8137"/>
                      </a:lnTo>
                      <a:lnTo>
                        <a:pt x="10506" y="8092"/>
                      </a:lnTo>
                      <a:lnTo>
                        <a:pt x="10719" y="8042"/>
                      </a:lnTo>
                      <a:lnTo>
                        <a:pt x="10929" y="7988"/>
                      </a:lnTo>
                      <a:lnTo>
                        <a:pt x="11134" y="7930"/>
                      </a:lnTo>
                      <a:lnTo>
                        <a:pt x="11336" y="7868"/>
                      </a:lnTo>
                      <a:lnTo>
                        <a:pt x="11534" y="7801"/>
                      </a:lnTo>
                      <a:lnTo>
                        <a:pt x="11728" y="7729"/>
                      </a:lnTo>
                      <a:lnTo>
                        <a:pt x="11919" y="7653"/>
                      </a:lnTo>
                      <a:lnTo>
                        <a:pt x="12106" y="7573"/>
                      </a:lnTo>
                      <a:lnTo>
                        <a:pt x="12289" y="7488"/>
                      </a:lnTo>
                      <a:lnTo>
                        <a:pt x="12469" y="7398"/>
                      </a:lnTo>
                      <a:lnTo>
                        <a:pt x="12645" y="7304"/>
                      </a:lnTo>
                      <a:lnTo>
                        <a:pt x="12817" y="7206"/>
                      </a:lnTo>
                      <a:lnTo>
                        <a:pt x="12984" y="7104"/>
                      </a:lnTo>
                      <a:lnTo>
                        <a:pt x="13149" y="6997"/>
                      </a:lnTo>
                      <a:lnTo>
                        <a:pt x="13310" y="6886"/>
                      </a:lnTo>
                      <a:lnTo>
                        <a:pt x="13467" y="6770"/>
                      </a:lnTo>
                      <a:lnTo>
                        <a:pt x="13620" y="6649"/>
                      </a:lnTo>
                      <a:lnTo>
                        <a:pt x="13770" y="6524"/>
                      </a:lnTo>
                      <a:lnTo>
                        <a:pt x="13916" y="6395"/>
                      </a:lnTo>
                      <a:lnTo>
                        <a:pt x="14057" y="6261"/>
                      </a:lnTo>
                      <a:lnTo>
                        <a:pt x="14195" y="6123"/>
                      </a:lnTo>
                      <a:lnTo>
                        <a:pt x="14330" y="5981"/>
                      </a:lnTo>
                      <a:lnTo>
                        <a:pt x="14461" y="5833"/>
                      </a:lnTo>
                      <a:lnTo>
                        <a:pt x="14587" y="5682"/>
                      </a:lnTo>
                      <a:lnTo>
                        <a:pt x="14711" y="5526"/>
                      </a:lnTo>
                      <a:lnTo>
                        <a:pt x="14830" y="5366"/>
                      </a:lnTo>
                      <a:lnTo>
                        <a:pt x="14946" y="5201"/>
                      </a:lnTo>
                      <a:lnTo>
                        <a:pt x="15058" y="5031"/>
                      </a:lnTo>
                      <a:lnTo>
                        <a:pt x="15166" y="4858"/>
                      </a:lnTo>
                      <a:lnTo>
                        <a:pt x="15271" y="4679"/>
                      </a:lnTo>
                      <a:close/>
                      <a:moveTo>
                        <a:pt x="11555" y="4679"/>
                      </a:moveTo>
                      <a:lnTo>
                        <a:pt x="11554" y="4601"/>
                      </a:lnTo>
                      <a:lnTo>
                        <a:pt x="11552" y="4524"/>
                      </a:lnTo>
                      <a:lnTo>
                        <a:pt x="11548" y="4447"/>
                      </a:lnTo>
                      <a:lnTo>
                        <a:pt x="11541" y="4370"/>
                      </a:lnTo>
                      <a:lnTo>
                        <a:pt x="11533" y="4295"/>
                      </a:lnTo>
                      <a:lnTo>
                        <a:pt x="11524" y="4220"/>
                      </a:lnTo>
                      <a:lnTo>
                        <a:pt x="11512" y="4147"/>
                      </a:lnTo>
                      <a:lnTo>
                        <a:pt x="11498" y="4073"/>
                      </a:lnTo>
                      <a:lnTo>
                        <a:pt x="11482" y="4000"/>
                      </a:lnTo>
                      <a:lnTo>
                        <a:pt x="11466" y="3928"/>
                      </a:lnTo>
                      <a:lnTo>
                        <a:pt x="11448" y="3858"/>
                      </a:lnTo>
                      <a:lnTo>
                        <a:pt x="11426" y="3787"/>
                      </a:lnTo>
                      <a:lnTo>
                        <a:pt x="11404" y="3718"/>
                      </a:lnTo>
                      <a:lnTo>
                        <a:pt x="11380" y="3648"/>
                      </a:lnTo>
                      <a:lnTo>
                        <a:pt x="11354" y="3579"/>
                      </a:lnTo>
                      <a:lnTo>
                        <a:pt x="11326" y="3512"/>
                      </a:lnTo>
                      <a:lnTo>
                        <a:pt x="11297" y="3445"/>
                      </a:lnTo>
                      <a:lnTo>
                        <a:pt x="11265" y="3379"/>
                      </a:lnTo>
                      <a:lnTo>
                        <a:pt x="11232" y="3313"/>
                      </a:lnTo>
                      <a:lnTo>
                        <a:pt x="11198" y="3249"/>
                      </a:lnTo>
                      <a:lnTo>
                        <a:pt x="11161" y="3184"/>
                      </a:lnTo>
                      <a:lnTo>
                        <a:pt x="11123" y="3121"/>
                      </a:lnTo>
                      <a:lnTo>
                        <a:pt x="11082" y="3058"/>
                      </a:lnTo>
                      <a:lnTo>
                        <a:pt x="11040" y="2997"/>
                      </a:lnTo>
                      <a:lnTo>
                        <a:pt x="10996" y="2935"/>
                      </a:lnTo>
                      <a:lnTo>
                        <a:pt x="10951" y="2874"/>
                      </a:lnTo>
                      <a:lnTo>
                        <a:pt x="10903" y="2814"/>
                      </a:lnTo>
                      <a:lnTo>
                        <a:pt x="10854" y="2755"/>
                      </a:lnTo>
                      <a:lnTo>
                        <a:pt x="10803" y="2697"/>
                      </a:lnTo>
                      <a:lnTo>
                        <a:pt x="10750" y="2639"/>
                      </a:lnTo>
                      <a:lnTo>
                        <a:pt x="10696" y="2582"/>
                      </a:lnTo>
                      <a:lnTo>
                        <a:pt x="10640" y="2525"/>
                      </a:lnTo>
                      <a:lnTo>
                        <a:pt x="10582" y="2471"/>
                      </a:lnTo>
                      <a:lnTo>
                        <a:pt x="10524" y="2417"/>
                      </a:lnTo>
                      <a:lnTo>
                        <a:pt x="10465" y="2365"/>
                      </a:lnTo>
                      <a:lnTo>
                        <a:pt x="10406" y="2316"/>
                      </a:lnTo>
                      <a:lnTo>
                        <a:pt x="10345" y="2268"/>
                      </a:lnTo>
                      <a:lnTo>
                        <a:pt x="10284" y="2222"/>
                      </a:lnTo>
                      <a:lnTo>
                        <a:pt x="10222" y="2177"/>
                      </a:lnTo>
                      <a:lnTo>
                        <a:pt x="10160" y="2134"/>
                      </a:lnTo>
                      <a:lnTo>
                        <a:pt x="10097" y="2093"/>
                      </a:lnTo>
                      <a:lnTo>
                        <a:pt x="10032" y="2053"/>
                      </a:lnTo>
                      <a:lnTo>
                        <a:pt x="9968" y="2016"/>
                      </a:lnTo>
                      <a:lnTo>
                        <a:pt x="9902" y="1981"/>
                      </a:lnTo>
                      <a:lnTo>
                        <a:pt x="9836" y="1946"/>
                      </a:lnTo>
                      <a:lnTo>
                        <a:pt x="9769" y="1913"/>
                      </a:lnTo>
                      <a:lnTo>
                        <a:pt x="9701" y="1882"/>
                      </a:lnTo>
                      <a:lnTo>
                        <a:pt x="9632" y="1854"/>
                      </a:lnTo>
                      <a:lnTo>
                        <a:pt x="9564" y="1827"/>
                      </a:lnTo>
                      <a:lnTo>
                        <a:pt x="9493" y="1801"/>
                      </a:lnTo>
                      <a:lnTo>
                        <a:pt x="9423" y="1778"/>
                      </a:lnTo>
                      <a:lnTo>
                        <a:pt x="9352" y="1756"/>
                      </a:lnTo>
                      <a:lnTo>
                        <a:pt x="9279" y="1736"/>
                      </a:lnTo>
                      <a:lnTo>
                        <a:pt x="9206" y="1718"/>
                      </a:lnTo>
                      <a:lnTo>
                        <a:pt x="9133" y="1701"/>
                      </a:lnTo>
                      <a:lnTo>
                        <a:pt x="9059" y="1686"/>
                      </a:lnTo>
                      <a:lnTo>
                        <a:pt x="8984" y="1673"/>
                      </a:lnTo>
                      <a:lnTo>
                        <a:pt x="8908" y="1661"/>
                      </a:lnTo>
                      <a:lnTo>
                        <a:pt x="8831" y="1652"/>
                      </a:lnTo>
                      <a:lnTo>
                        <a:pt x="8754" y="1644"/>
                      </a:lnTo>
                      <a:lnTo>
                        <a:pt x="8676" y="1638"/>
                      </a:lnTo>
                      <a:lnTo>
                        <a:pt x="8597" y="1634"/>
                      </a:lnTo>
                      <a:lnTo>
                        <a:pt x="8518" y="1631"/>
                      </a:lnTo>
                      <a:lnTo>
                        <a:pt x="8438" y="1631"/>
                      </a:lnTo>
                      <a:lnTo>
                        <a:pt x="8395" y="1631"/>
                      </a:lnTo>
                      <a:lnTo>
                        <a:pt x="8353" y="1632"/>
                      </a:lnTo>
                      <a:lnTo>
                        <a:pt x="8311" y="1633"/>
                      </a:lnTo>
                      <a:lnTo>
                        <a:pt x="8269" y="1635"/>
                      </a:lnTo>
                      <a:lnTo>
                        <a:pt x="8227" y="1637"/>
                      </a:lnTo>
                      <a:lnTo>
                        <a:pt x="8185" y="1640"/>
                      </a:lnTo>
                      <a:lnTo>
                        <a:pt x="8143" y="1643"/>
                      </a:lnTo>
                      <a:lnTo>
                        <a:pt x="8102" y="1647"/>
                      </a:lnTo>
                      <a:lnTo>
                        <a:pt x="8061" y="1653"/>
                      </a:lnTo>
                      <a:lnTo>
                        <a:pt x="8020" y="1657"/>
                      </a:lnTo>
                      <a:lnTo>
                        <a:pt x="7979" y="1663"/>
                      </a:lnTo>
                      <a:lnTo>
                        <a:pt x="7938" y="1670"/>
                      </a:lnTo>
                      <a:lnTo>
                        <a:pt x="7896" y="1676"/>
                      </a:lnTo>
                      <a:lnTo>
                        <a:pt x="7856" y="1683"/>
                      </a:lnTo>
                      <a:lnTo>
                        <a:pt x="7816" y="1692"/>
                      </a:lnTo>
                      <a:lnTo>
                        <a:pt x="7775" y="1700"/>
                      </a:lnTo>
                      <a:lnTo>
                        <a:pt x="7735" y="1709"/>
                      </a:lnTo>
                      <a:lnTo>
                        <a:pt x="7695" y="1718"/>
                      </a:lnTo>
                      <a:lnTo>
                        <a:pt x="7655" y="1729"/>
                      </a:lnTo>
                      <a:lnTo>
                        <a:pt x="7616" y="1738"/>
                      </a:lnTo>
                      <a:lnTo>
                        <a:pt x="7537" y="1761"/>
                      </a:lnTo>
                      <a:lnTo>
                        <a:pt x="7458" y="1786"/>
                      </a:lnTo>
                      <a:lnTo>
                        <a:pt x="7380" y="1813"/>
                      </a:lnTo>
                      <a:lnTo>
                        <a:pt x="7302" y="1841"/>
                      </a:lnTo>
                      <a:lnTo>
                        <a:pt x="7226" y="1872"/>
                      </a:lnTo>
                      <a:lnTo>
                        <a:pt x="7149" y="1906"/>
                      </a:lnTo>
                      <a:lnTo>
                        <a:pt x="6826" y="1171"/>
                      </a:lnTo>
                      <a:lnTo>
                        <a:pt x="6606" y="1211"/>
                      </a:lnTo>
                      <a:lnTo>
                        <a:pt x="6388" y="1255"/>
                      </a:lnTo>
                      <a:lnTo>
                        <a:pt x="6174" y="1305"/>
                      </a:lnTo>
                      <a:lnTo>
                        <a:pt x="5964" y="1359"/>
                      </a:lnTo>
                      <a:lnTo>
                        <a:pt x="5758" y="1417"/>
                      </a:lnTo>
                      <a:lnTo>
                        <a:pt x="5555" y="1480"/>
                      </a:lnTo>
                      <a:lnTo>
                        <a:pt x="5357" y="1546"/>
                      </a:lnTo>
                      <a:lnTo>
                        <a:pt x="5162" y="1618"/>
                      </a:lnTo>
                      <a:lnTo>
                        <a:pt x="4970" y="1694"/>
                      </a:lnTo>
                      <a:lnTo>
                        <a:pt x="4783" y="1775"/>
                      </a:lnTo>
                      <a:lnTo>
                        <a:pt x="4598" y="1859"/>
                      </a:lnTo>
                      <a:lnTo>
                        <a:pt x="4419" y="1949"/>
                      </a:lnTo>
                      <a:lnTo>
                        <a:pt x="4242" y="2043"/>
                      </a:lnTo>
                      <a:lnTo>
                        <a:pt x="4070" y="2141"/>
                      </a:lnTo>
                      <a:lnTo>
                        <a:pt x="3901" y="2244"/>
                      </a:lnTo>
                      <a:lnTo>
                        <a:pt x="3736" y="2352"/>
                      </a:lnTo>
                      <a:lnTo>
                        <a:pt x="3574" y="2463"/>
                      </a:lnTo>
                      <a:lnTo>
                        <a:pt x="3417" y="2579"/>
                      </a:lnTo>
                      <a:lnTo>
                        <a:pt x="3263" y="2700"/>
                      </a:lnTo>
                      <a:lnTo>
                        <a:pt x="3113" y="2826"/>
                      </a:lnTo>
                      <a:lnTo>
                        <a:pt x="2967" y="2955"/>
                      </a:lnTo>
                      <a:lnTo>
                        <a:pt x="2824" y="3089"/>
                      </a:lnTo>
                      <a:lnTo>
                        <a:pt x="2685" y="3228"/>
                      </a:lnTo>
                      <a:lnTo>
                        <a:pt x="2550" y="3372"/>
                      </a:lnTo>
                      <a:lnTo>
                        <a:pt x="2418" y="3519"/>
                      </a:lnTo>
                      <a:lnTo>
                        <a:pt x="2291" y="3671"/>
                      </a:lnTo>
                      <a:lnTo>
                        <a:pt x="2167" y="3828"/>
                      </a:lnTo>
                      <a:lnTo>
                        <a:pt x="2047" y="3989"/>
                      </a:lnTo>
                      <a:lnTo>
                        <a:pt x="1931" y="4155"/>
                      </a:lnTo>
                      <a:lnTo>
                        <a:pt x="1818" y="4326"/>
                      </a:lnTo>
                      <a:lnTo>
                        <a:pt x="1710" y="4500"/>
                      </a:lnTo>
                      <a:lnTo>
                        <a:pt x="1604" y="4679"/>
                      </a:lnTo>
                      <a:lnTo>
                        <a:pt x="1665" y="4784"/>
                      </a:lnTo>
                      <a:lnTo>
                        <a:pt x="1728" y="4888"/>
                      </a:lnTo>
                      <a:lnTo>
                        <a:pt x="1792" y="4990"/>
                      </a:lnTo>
                      <a:lnTo>
                        <a:pt x="1858" y="5090"/>
                      </a:lnTo>
                      <a:lnTo>
                        <a:pt x="1925" y="5189"/>
                      </a:lnTo>
                      <a:lnTo>
                        <a:pt x="1993" y="5287"/>
                      </a:lnTo>
                      <a:lnTo>
                        <a:pt x="2064" y="5383"/>
                      </a:lnTo>
                      <a:lnTo>
                        <a:pt x="2136" y="5477"/>
                      </a:lnTo>
                      <a:lnTo>
                        <a:pt x="2173" y="5524"/>
                      </a:lnTo>
                      <a:lnTo>
                        <a:pt x="2210" y="5571"/>
                      </a:lnTo>
                      <a:lnTo>
                        <a:pt x="2246" y="5616"/>
                      </a:lnTo>
                      <a:lnTo>
                        <a:pt x="2283" y="5662"/>
                      </a:lnTo>
                      <a:lnTo>
                        <a:pt x="2322" y="5708"/>
                      </a:lnTo>
                      <a:lnTo>
                        <a:pt x="2360" y="5752"/>
                      </a:lnTo>
                      <a:lnTo>
                        <a:pt x="2399" y="5797"/>
                      </a:lnTo>
                      <a:lnTo>
                        <a:pt x="2438" y="5841"/>
                      </a:lnTo>
                      <a:lnTo>
                        <a:pt x="2477" y="5885"/>
                      </a:lnTo>
                      <a:lnTo>
                        <a:pt x="2518" y="5929"/>
                      </a:lnTo>
                      <a:lnTo>
                        <a:pt x="2558" y="5972"/>
                      </a:lnTo>
                      <a:lnTo>
                        <a:pt x="2599" y="6014"/>
                      </a:lnTo>
                      <a:lnTo>
                        <a:pt x="2640" y="6056"/>
                      </a:lnTo>
                      <a:lnTo>
                        <a:pt x="2681" y="6099"/>
                      </a:lnTo>
                      <a:lnTo>
                        <a:pt x="2723" y="6141"/>
                      </a:lnTo>
                      <a:lnTo>
                        <a:pt x="2765" y="6182"/>
                      </a:lnTo>
                      <a:lnTo>
                        <a:pt x="2869" y="6280"/>
                      </a:lnTo>
                      <a:lnTo>
                        <a:pt x="2973" y="6375"/>
                      </a:lnTo>
                      <a:lnTo>
                        <a:pt x="3080" y="6468"/>
                      </a:lnTo>
                      <a:lnTo>
                        <a:pt x="3187" y="6559"/>
                      </a:lnTo>
                      <a:lnTo>
                        <a:pt x="3297" y="6648"/>
                      </a:lnTo>
                      <a:lnTo>
                        <a:pt x="3407" y="6733"/>
                      </a:lnTo>
                      <a:lnTo>
                        <a:pt x="3519" y="6817"/>
                      </a:lnTo>
                      <a:lnTo>
                        <a:pt x="3632" y="6899"/>
                      </a:lnTo>
                      <a:lnTo>
                        <a:pt x="3747" y="6979"/>
                      </a:lnTo>
                      <a:lnTo>
                        <a:pt x="3864" y="7056"/>
                      </a:lnTo>
                      <a:lnTo>
                        <a:pt x="3981" y="7130"/>
                      </a:lnTo>
                      <a:lnTo>
                        <a:pt x="4102" y="7203"/>
                      </a:lnTo>
                      <a:lnTo>
                        <a:pt x="4222" y="7273"/>
                      </a:lnTo>
                      <a:lnTo>
                        <a:pt x="4344" y="7341"/>
                      </a:lnTo>
                      <a:lnTo>
                        <a:pt x="4468" y="7407"/>
                      </a:lnTo>
                      <a:lnTo>
                        <a:pt x="4593" y="7471"/>
                      </a:lnTo>
                      <a:lnTo>
                        <a:pt x="4720" y="7532"/>
                      </a:lnTo>
                      <a:lnTo>
                        <a:pt x="4848" y="7591"/>
                      </a:lnTo>
                      <a:lnTo>
                        <a:pt x="4978" y="7647"/>
                      </a:lnTo>
                      <a:lnTo>
                        <a:pt x="5109" y="7702"/>
                      </a:lnTo>
                      <a:lnTo>
                        <a:pt x="5242" y="7753"/>
                      </a:lnTo>
                      <a:lnTo>
                        <a:pt x="5376" y="7804"/>
                      </a:lnTo>
                      <a:lnTo>
                        <a:pt x="5511" y="7851"/>
                      </a:lnTo>
                      <a:lnTo>
                        <a:pt x="5648" y="7897"/>
                      </a:lnTo>
                      <a:lnTo>
                        <a:pt x="5786" y="7940"/>
                      </a:lnTo>
                      <a:lnTo>
                        <a:pt x="5926" y="7980"/>
                      </a:lnTo>
                      <a:lnTo>
                        <a:pt x="6068" y="8019"/>
                      </a:lnTo>
                      <a:lnTo>
                        <a:pt x="6210" y="8055"/>
                      </a:lnTo>
                      <a:lnTo>
                        <a:pt x="6354" y="8090"/>
                      </a:lnTo>
                      <a:lnTo>
                        <a:pt x="6500" y="8121"/>
                      </a:lnTo>
                      <a:lnTo>
                        <a:pt x="6648" y="8151"/>
                      </a:lnTo>
                      <a:lnTo>
                        <a:pt x="6796" y="8178"/>
                      </a:lnTo>
                      <a:lnTo>
                        <a:pt x="6732" y="8149"/>
                      </a:lnTo>
                      <a:lnTo>
                        <a:pt x="6669" y="8118"/>
                      </a:lnTo>
                      <a:lnTo>
                        <a:pt x="6607" y="8086"/>
                      </a:lnTo>
                      <a:lnTo>
                        <a:pt x="6544" y="8055"/>
                      </a:lnTo>
                      <a:lnTo>
                        <a:pt x="6483" y="8021"/>
                      </a:lnTo>
                      <a:lnTo>
                        <a:pt x="6423" y="7987"/>
                      </a:lnTo>
                      <a:lnTo>
                        <a:pt x="6364" y="7952"/>
                      </a:lnTo>
                      <a:lnTo>
                        <a:pt x="6305" y="7916"/>
                      </a:lnTo>
                      <a:lnTo>
                        <a:pt x="6248" y="7879"/>
                      </a:lnTo>
                      <a:lnTo>
                        <a:pt x="6191" y="7841"/>
                      </a:lnTo>
                      <a:lnTo>
                        <a:pt x="6134" y="7803"/>
                      </a:lnTo>
                      <a:lnTo>
                        <a:pt x="6079" y="7763"/>
                      </a:lnTo>
                      <a:lnTo>
                        <a:pt x="6024" y="7722"/>
                      </a:lnTo>
                      <a:lnTo>
                        <a:pt x="5971" y="7681"/>
                      </a:lnTo>
                      <a:lnTo>
                        <a:pt x="5917" y="7637"/>
                      </a:lnTo>
                      <a:lnTo>
                        <a:pt x="5865" y="7594"/>
                      </a:lnTo>
                      <a:lnTo>
                        <a:pt x="5813" y="7550"/>
                      </a:lnTo>
                      <a:lnTo>
                        <a:pt x="5763" y="7505"/>
                      </a:lnTo>
                      <a:lnTo>
                        <a:pt x="5712" y="7458"/>
                      </a:lnTo>
                      <a:lnTo>
                        <a:pt x="5664" y="7411"/>
                      </a:lnTo>
                      <a:lnTo>
                        <a:pt x="5615" y="7363"/>
                      </a:lnTo>
                      <a:lnTo>
                        <a:pt x="5568" y="7314"/>
                      </a:lnTo>
                      <a:lnTo>
                        <a:pt x="5521" y="7264"/>
                      </a:lnTo>
                      <a:lnTo>
                        <a:pt x="5475" y="7213"/>
                      </a:lnTo>
                      <a:lnTo>
                        <a:pt x="5430" y="7161"/>
                      </a:lnTo>
                      <a:lnTo>
                        <a:pt x="5385" y="7108"/>
                      </a:lnTo>
                      <a:lnTo>
                        <a:pt x="5341" y="7055"/>
                      </a:lnTo>
                      <a:lnTo>
                        <a:pt x="5299" y="7000"/>
                      </a:lnTo>
                      <a:lnTo>
                        <a:pt x="5257" y="6945"/>
                      </a:lnTo>
                      <a:lnTo>
                        <a:pt x="5215" y="6888"/>
                      </a:lnTo>
                      <a:lnTo>
                        <a:pt x="5174" y="6831"/>
                      </a:lnTo>
                      <a:lnTo>
                        <a:pt x="5135" y="6772"/>
                      </a:lnTo>
                      <a:lnTo>
                        <a:pt x="5096" y="6713"/>
                      </a:lnTo>
                      <a:lnTo>
                        <a:pt x="5058" y="6653"/>
                      </a:lnTo>
                      <a:lnTo>
                        <a:pt x="5022" y="6593"/>
                      </a:lnTo>
                      <a:lnTo>
                        <a:pt x="4988" y="6533"/>
                      </a:lnTo>
                      <a:lnTo>
                        <a:pt x="4954" y="6472"/>
                      </a:lnTo>
                      <a:lnTo>
                        <a:pt x="4921" y="6411"/>
                      </a:lnTo>
                      <a:lnTo>
                        <a:pt x="4890" y="6348"/>
                      </a:lnTo>
                      <a:lnTo>
                        <a:pt x="4859" y="6287"/>
                      </a:lnTo>
                      <a:lnTo>
                        <a:pt x="4830" y="6224"/>
                      </a:lnTo>
                      <a:lnTo>
                        <a:pt x="4803" y="6162"/>
                      </a:lnTo>
                      <a:lnTo>
                        <a:pt x="4777" y="6099"/>
                      </a:lnTo>
                      <a:lnTo>
                        <a:pt x="4751" y="6034"/>
                      </a:lnTo>
                      <a:lnTo>
                        <a:pt x="4727" y="5971"/>
                      </a:lnTo>
                      <a:lnTo>
                        <a:pt x="4704" y="5906"/>
                      </a:lnTo>
                      <a:lnTo>
                        <a:pt x="4683" y="5841"/>
                      </a:lnTo>
                      <a:lnTo>
                        <a:pt x="4662" y="5776"/>
                      </a:lnTo>
                      <a:lnTo>
                        <a:pt x="4643" y="5711"/>
                      </a:lnTo>
                      <a:lnTo>
                        <a:pt x="4625" y="5644"/>
                      </a:lnTo>
                      <a:lnTo>
                        <a:pt x="4609" y="5578"/>
                      </a:lnTo>
                      <a:lnTo>
                        <a:pt x="4593" y="5512"/>
                      </a:lnTo>
                      <a:lnTo>
                        <a:pt x="4578" y="5444"/>
                      </a:lnTo>
                      <a:lnTo>
                        <a:pt x="4566" y="5377"/>
                      </a:lnTo>
                      <a:lnTo>
                        <a:pt x="4554" y="5308"/>
                      </a:lnTo>
                      <a:lnTo>
                        <a:pt x="4544" y="5241"/>
                      </a:lnTo>
                      <a:lnTo>
                        <a:pt x="4534" y="5171"/>
                      </a:lnTo>
                      <a:lnTo>
                        <a:pt x="4527" y="5103"/>
                      </a:lnTo>
                      <a:lnTo>
                        <a:pt x="4519" y="5033"/>
                      </a:lnTo>
                      <a:lnTo>
                        <a:pt x="4514" y="4962"/>
                      </a:lnTo>
                      <a:lnTo>
                        <a:pt x="4510" y="4893"/>
                      </a:lnTo>
                      <a:lnTo>
                        <a:pt x="4507" y="4822"/>
                      </a:lnTo>
                      <a:lnTo>
                        <a:pt x="4505" y="4750"/>
                      </a:lnTo>
                      <a:lnTo>
                        <a:pt x="4505" y="4679"/>
                      </a:lnTo>
                      <a:lnTo>
                        <a:pt x="4505" y="4592"/>
                      </a:lnTo>
                      <a:lnTo>
                        <a:pt x="4508" y="4505"/>
                      </a:lnTo>
                      <a:lnTo>
                        <a:pt x="4513" y="4418"/>
                      </a:lnTo>
                      <a:lnTo>
                        <a:pt x="4519" y="4332"/>
                      </a:lnTo>
                      <a:lnTo>
                        <a:pt x="4529" y="4246"/>
                      </a:lnTo>
                      <a:lnTo>
                        <a:pt x="4539" y="4160"/>
                      </a:lnTo>
                      <a:lnTo>
                        <a:pt x="4552" y="4075"/>
                      </a:lnTo>
                      <a:lnTo>
                        <a:pt x="4566" y="3989"/>
                      </a:lnTo>
                      <a:lnTo>
                        <a:pt x="4583" y="3905"/>
                      </a:lnTo>
                      <a:lnTo>
                        <a:pt x="4601" y="3821"/>
                      </a:lnTo>
                      <a:lnTo>
                        <a:pt x="4621" y="3737"/>
                      </a:lnTo>
                      <a:lnTo>
                        <a:pt x="4643" y="3653"/>
                      </a:lnTo>
                      <a:lnTo>
                        <a:pt x="4667" y="3569"/>
                      </a:lnTo>
                      <a:lnTo>
                        <a:pt x="4692" y="3486"/>
                      </a:lnTo>
                      <a:lnTo>
                        <a:pt x="4720" y="3403"/>
                      </a:lnTo>
                      <a:lnTo>
                        <a:pt x="4749" y="3320"/>
                      </a:lnTo>
                      <a:lnTo>
                        <a:pt x="5538" y="3566"/>
                      </a:lnTo>
                      <a:lnTo>
                        <a:pt x="5512" y="3633"/>
                      </a:lnTo>
                      <a:lnTo>
                        <a:pt x="5486" y="3702"/>
                      </a:lnTo>
                      <a:lnTo>
                        <a:pt x="5464" y="3770"/>
                      </a:lnTo>
                      <a:lnTo>
                        <a:pt x="5443" y="3839"/>
                      </a:lnTo>
                      <a:lnTo>
                        <a:pt x="5423" y="3907"/>
                      </a:lnTo>
                      <a:lnTo>
                        <a:pt x="5405" y="3977"/>
                      </a:lnTo>
                      <a:lnTo>
                        <a:pt x="5389" y="4045"/>
                      </a:lnTo>
                      <a:lnTo>
                        <a:pt x="5375" y="4115"/>
                      </a:lnTo>
                      <a:lnTo>
                        <a:pt x="5362" y="4184"/>
                      </a:lnTo>
                      <a:lnTo>
                        <a:pt x="5350" y="4254"/>
                      </a:lnTo>
                      <a:lnTo>
                        <a:pt x="5341" y="4325"/>
                      </a:lnTo>
                      <a:lnTo>
                        <a:pt x="5334" y="4395"/>
                      </a:lnTo>
                      <a:lnTo>
                        <a:pt x="5327" y="4466"/>
                      </a:lnTo>
                      <a:lnTo>
                        <a:pt x="5323" y="4537"/>
                      </a:lnTo>
                      <a:lnTo>
                        <a:pt x="5321" y="4608"/>
                      </a:lnTo>
                      <a:lnTo>
                        <a:pt x="5320" y="4679"/>
                      </a:lnTo>
                      <a:lnTo>
                        <a:pt x="5321" y="4758"/>
                      </a:lnTo>
                      <a:lnTo>
                        <a:pt x="5323" y="4836"/>
                      </a:lnTo>
                      <a:lnTo>
                        <a:pt x="5327" y="4913"/>
                      </a:lnTo>
                      <a:lnTo>
                        <a:pt x="5334" y="4990"/>
                      </a:lnTo>
                      <a:lnTo>
                        <a:pt x="5342" y="5065"/>
                      </a:lnTo>
                      <a:lnTo>
                        <a:pt x="5351" y="5140"/>
                      </a:lnTo>
                      <a:lnTo>
                        <a:pt x="5363" y="5214"/>
                      </a:lnTo>
                      <a:lnTo>
                        <a:pt x="5377" y="5288"/>
                      </a:lnTo>
                      <a:lnTo>
                        <a:pt x="5392" y="5361"/>
                      </a:lnTo>
                      <a:lnTo>
                        <a:pt x="5409" y="5432"/>
                      </a:lnTo>
                      <a:lnTo>
                        <a:pt x="5427" y="5504"/>
                      </a:lnTo>
                      <a:lnTo>
                        <a:pt x="5449" y="5575"/>
                      </a:lnTo>
                      <a:lnTo>
                        <a:pt x="5471" y="5645"/>
                      </a:lnTo>
                      <a:lnTo>
                        <a:pt x="5495" y="5714"/>
                      </a:lnTo>
                      <a:lnTo>
                        <a:pt x="5521" y="5782"/>
                      </a:lnTo>
                      <a:lnTo>
                        <a:pt x="5549" y="5851"/>
                      </a:lnTo>
                      <a:lnTo>
                        <a:pt x="5578" y="5917"/>
                      </a:lnTo>
                      <a:lnTo>
                        <a:pt x="5610" y="5984"/>
                      </a:lnTo>
                      <a:lnTo>
                        <a:pt x="5643" y="6050"/>
                      </a:lnTo>
                      <a:lnTo>
                        <a:pt x="5677" y="6114"/>
                      </a:lnTo>
                      <a:lnTo>
                        <a:pt x="5714" y="6179"/>
                      </a:lnTo>
                      <a:lnTo>
                        <a:pt x="5752" y="6242"/>
                      </a:lnTo>
                      <a:lnTo>
                        <a:pt x="5792" y="6305"/>
                      </a:lnTo>
                      <a:lnTo>
                        <a:pt x="5835" y="6367"/>
                      </a:lnTo>
                      <a:lnTo>
                        <a:pt x="5879" y="6429"/>
                      </a:lnTo>
                      <a:lnTo>
                        <a:pt x="5924" y="6489"/>
                      </a:lnTo>
                      <a:lnTo>
                        <a:pt x="5972" y="6549"/>
                      </a:lnTo>
                      <a:lnTo>
                        <a:pt x="6021" y="6608"/>
                      </a:lnTo>
                      <a:lnTo>
                        <a:pt x="6072" y="6666"/>
                      </a:lnTo>
                      <a:lnTo>
                        <a:pt x="6125" y="6724"/>
                      </a:lnTo>
                      <a:lnTo>
                        <a:pt x="6179" y="6779"/>
                      </a:lnTo>
                      <a:lnTo>
                        <a:pt x="6235" y="6836"/>
                      </a:lnTo>
                      <a:lnTo>
                        <a:pt x="6293" y="6890"/>
                      </a:lnTo>
                      <a:lnTo>
                        <a:pt x="6351" y="6943"/>
                      </a:lnTo>
                      <a:lnTo>
                        <a:pt x="6410" y="6995"/>
                      </a:lnTo>
                      <a:lnTo>
                        <a:pt x="6469" y="7044"/>
                      </a:lnTo>
                      <a:lnTo>
                        <a:pt x="6530" y="7091"/>
                      </a:lnTo>
                      <a:lnTo>
                        <a:pt x="6591" y="7137"/>
                      </a:lnTo>
                      <a:lnTo>
                        <a:pt x="6653" y="7181"/>
                      </a:lnTo>
                      <a:lnTo>
                        <a:pt x="6715" y="7224"/>
                      </a:lnTo>
                      <a:lnTo>
                        <a:pt x="6778" y="7264"/>
                      </a:lnTo>
                      <a:lnTo>
                        <a:pt x="6843" y="7303"/>
                      </a:lnTo>
                      <a:lnTo>
                        <a:pt x="6907" y="7341"/>
                      </a:lnTo>
                      <a:lnTo>
                        <a:pt x="6973" y="7377"/>
                      </a:lnTo>
                      <a:lnTo>
                        <a:pt x="7039" y="7411"/>
                      </a:lnTo>
                      <a:lnTo>
                        <a:pt x="7106" y="7442"/>
                      </a:lnTo>
                      <a:lnTo>
                        <a:pt x="7174" y="7473"/>
                      </a:lnTo>
                      <a:lnTo>
                        <a:pt x="7243" y="7502"/>
                      </a:lnTo>
                      <a:lnTo>
                        <a:pt x="7311" y="7529"/>
                      </a:lnTo>
                      <a:lnTo>
                        <a:pt x="7382" y="7554"/>
                      </a:lnTo>
                      <a:lnTo>
                        <a:pt x="7452" y="7577"/>
                      </a:lnTo>
                      <a:lnTo>
                        <a:pt x="7523" y="7600"/>
                      </a:lnTo>
                      <a:lnTo>
                        <a:pt x="7596" y="7620"/>
                      </a:lnTo>
                      <a:lnTo>
                        <a:pt x="7669" y="7637"/>
                      </a:lnTo>
                      <a:lnTo>
                        <a:pt x="7742" y="7654"/>
                      </a:lnTo>
                      <a:lnTo>
                        <a:pt x="7816" y="7669"/>
                      </a:lnTo>
                      <a:lnTo>
                        <a:pt x="7891" y="7682"/>
                      </a:lnTo>
                      <a:lnTo>
                        <a:pt x="7967" y="7693"/>
                      </a:lnTo>
                      <a:lnTo>
                        <a:pt x="8044" y="7703"/>
                      </a:lnTo>
                      <a:lnTo>
                        <a:pt x="8121" y="7711"/>
                      </a:lnTo>
                      <a:lnTo>
                        <a:pt x="8199" y="7717"/>
                      </a:lnTo>
                      <a:lnTo>
                        <a:pt x="8278" y="7722"/>
                      </a:lnTo>
                      <a:lnTo>
                        <a:pt x="8357" y="7724"/>
                      </a:lnTo>
                      <a:lnTo>
                        <a:pt x="8438" y="7725"/>
                      </a:lnTo>
                      <a:lnTo>
                        <a:pt x="8518" y="7724"/>
                      </a:lnTo>
                      <a:lnTo>
                        <a:pt x="8597" y="7722"/>
                      </a:lnTo>
                      <a:lnTo>
                        <a:pt x="8676" y="7717"/>
                      </a:lnTo>
                      <a:lnTo>
                        <a:pt x="8754" y="7711"/>
                      </a:lnTo>
                      <a:lnTo>
                        <a:pt x="8831" y="7703"/>
                      </a:lnTo>
                      <a:lnTo>
                        <a:pt x="8908" y="7693"/>
                      </a:lnTo>
                      <a:lnTo>
                        <a:pt x="8984" y="7682"/>
                      </a:lnTo>
                      <a:lnTo>
                        <a:pt x="9059" y="7669"/>
                      </a:lnTo>
                      <a:lnTo>
                        <a:pt x="9133" y="7654"/>
                      </a:lnTo>
                      <a:lnTo>
                        <a:pt x="9206" y="7637"/>
                      </a:lnTo>
                      <a:lnTo>
                        <a:pt x="9279" y="7620"/>
                      </a:lnTo>
                      <a:lnTo>
                        <a:pt x="9352" y="7600"/>
                      </a:lnTo>
                      <a:lnTo>
                        <a:pt x="9423" y="7577"/>
                      </a:lnTo>
                      <a:lnTo>
                        <a:pt x="9493" y="7554"/>
                      </a:lnTo>
                      <a:lnTo>
                        <a:pt x="9564" y="7529"/>
                      </a:lnTo>
                      <a:lnTo>
                        <a:pt x="9632" y="7502"/>
                      </a:lnTo>
                      <a:lnTo>
                        <a:pt x="9701" y="7473"/>
                      </a:lnTo>
                      <a:lnTo>
                        <a:pt x="9769" y="7442"/>
                      </a:lnTo>
                      <a:lnTo>
                        <a:pt x="9836" y="7411"/>
                      </a:lnTo>
                      <a:lnTo>
                        <a:pt x="9902" y="7377"/>
                      </a:lnTo>
                      <a:lnTo>
                        <a:pt x="9968" y="7341"/>
                      </a:lnTo>
                      <a:lnTo>
                        <a:pt x="10032" y="7303"/>
                      </a:lnTo>
                      <a:lnTo>
                        <a:pt x="10097" y="7264"/>
                      </a:lnTo>
                      <a:lnTo>
                        <a:pt x="10160" y="7224"/>
                      </a:lnTo>
                      <a:lnTo>
                        <a:pt x="10222" y="7181"/>
                      </a:lnTo>
                      <a:lnTo>
                        <a:pt x="10284" y="7137"/>
                      </a:lnTo>
                      <a:lnTo>
                        <a:pt x="10345" y="7091"/>
                      </a:lnTo>
                      <a:lnTo>
                        <a:pt x="10406" y="7044"/>
                      </a:lnTo>
                      <a:lnTo>
                        <a:pt x="10465" y="6995"/>
                      </a:lnTo>
                      <a:lnTo>
                        <a:pt x="10524" y="6943"/>
                      </a:lnTo>
                      <a:lnTo>
                        <a:pt x="10582" y="6890"/>
                      </a:lnTo>
                      <a:lnTo>
                        <a:pt x="10640" y="6836"/>
                      </a:lnTo>
                      <a:lnTo>
                        <a:pt x="10696" y="6779"/>
                      </a:lnTo>
                      <a:lnTo>
                        <a:pt x="10750" y="6724"/>
                      </a:lnTo>
                      <a:lnTo>
                        <a:pt x="10803" y="6666"/>
                      </a:lnTo>
                      <a:lnTo>
                        <a:pt x="10854" y="6608"/>
                      </a:lnTo>
                      <a:lnTo>
                        <a:pt x="10903" y="6549"/>
                      </a:lnTo>
                      <a:lnTo>
                        <a:pt x="10951" y="6489"/>
                      </a:lnTo>
                      <a:lnTo>
                        <a:pt x="10996" y="6429"/>
                      </a:lnTo>
                      <a:lnTo>
                        <a:pt x="11040" y="6367"/>
                      </a:lnTo>
                      <a:lnTo>
                        <a:pt x="11082" y="6305"/>
                      </a:lnTo>
                      <a:lnTo>
                        <a:pt x="11123" y="6242"/>
                      </a:lnTo>
                      <a:lnTo>
                        <a:pt x="11161" y="6179"/>
                      </a:lnTo>
                      <a:lnTo>
                        <a:pt x="11198" y="6114"/>
                      </a:lnTo>
                      <a:lnTo>
                        <a:pt x="11232" y="6050"/>
                      </a:lnTo>
                      <a:lnTo>
                        <a:pt x="11265" y="5984"/>
                      </a:lnTo>
                      <a:lnTo>
                        <a:pt x="11297" y="5917"/>
                      </a:lnTo>
                      <a:lnTo>
                        <a:pt x="11326" y="5851"/>
                      </a:lnTo>
                      <a:lnTo>
                        <a:pt x="11354" y="5782"/>
                      </a:lnTo>
                      <a:lnTo>
                        <a:pt x="11380" y="5714"/>
                      </a:lnTo>
                      <a:lnTo>
                        <a:pt x="11404" y="5645"/>
                      </a:lnTo>
                      <a:lnTo>
                        <a:pt x="11426" y="5575"/>
                      </a:lnTo>
                      <a:lnTo>
                        <a:pt x="11448" y="5504"/>
                      </a:lnTo>
                      <a:lnTo>
                        <a:pt x="11466" y="5432"/>
                      </a:lnTo>
                      <a:lnTo>
                        <a:pt x="11482" y="5361"/>
                      </a:lnTo>
                      <a:lnTo>
                        <a:pt x="11498" y="5288"/>
                      </a:lnTo>
                      <a:lnTo>
                        <a:pt x="11512" y="5214"/>
                      </a:lnTo>
                      <a:lnTo>
                        <a:pt x="11524" y="5140"/>
                      </a:lnTo>
                      <a:lnTo>
                        <a:pt x="11533" y="5065"/>
                      </a:lnTo>
                      <a:lnTo>
                        <a:pt x="11541" y="4990"/>
                      </a:lnTo>
                      <a:lnTo>
                        <a:pt x="11548" y="4913"/>
                      </a:lnTo>
                      <a:lnTo>
                        <a:pt x="11552" y="4836"/>
                      </a:lnTo>
                      <a:lnTo>
                        <a:pt x="11554" y="4758"/>
                      </a:lnTo>
                      <a:lnTo>
                        <a:pt x="11555" y="4679"/>
                      </a:lnTo>
                      <a:close/>
                      <a:moveTo>
                        <a:pt x="10797" y="4679"/>
                      </a:moveTo>
                      <a:lnTo>
                        <a:pt x="10796" y="4739"/>
                      </a:lnTo>
                      <a:lnTo>
                        <a:pt x="10795" y="4797"/>
                      </a:lnTo>
                      <a:lnTo>
                        <a:pt x="10791" y="4855"/>
                      </a:lnTo>
                      <a:lnTo>
                        <a:pt x="10786" y="4913"/>
                      </a:lnTo>
                      <a:lnTo>
                        <a:pt x="10780" y="4970"/>
                      </a:lnTo>
                      <a:lnTo>
                        <a:pt x="10773" y="5027"/>
                      </a:lnTo>
                      <a:lnTo>
                        <a:pt x="10764" y="5083"/>
                      </a:lnTo>
                      <a:lnTo>
                        <a:pt x="10754" y="5137"/>
                      </a:lnTo>
                      <a:lnTo>
                        <a:pt x="10742" y="5193"/>
                      </a:lnTo>
                      <a:lnTo>
                        <a:pt x="10729" y="5247"/>
                      </a:lnTo>
                      <a:lnTo>
                        <a:pt x="10715" y="5301"/>
                      </a:lnTo>
                      <a:lnTo>
                        <a:pt x="10700" y="5354"/>
                      </a:lnTo>
                      <a:lnTo>
                        <a:pt x="10683" y="5407"/>
                      </a:lnTo>
                      <a:lnTo>
                        <a:pt x="10664" y="5459"/>
                      </a:lnTo>
                      <a:lnTo>
                        <a:pt x="10645" y="5512"/>
                      </a:lnTo>
                      <a:lnTo>
                        <a:pt x="10624" y="5562"/>
                      </a:lnTo>
                      <a:lnTo>
                        <a:pt x="10602" y="5613"/>
                      </a:lnTo>
                      <a:lnTo>
                        <a:pt x="10577" y="5663"/>
                      </a:lnTo>
                      <a:lnTo>
                        <a:pt x="10553" y="5713"/>
                      </a:lnTo>
                      <a:lnTo>
                        <a:pt x="10527" y="5761"/>
                      </a:lnTo>
                      <a:lnTo>
                        <a:pt x="10498" y="5811"/>
                      </a:lnTo>
                      <a:lnTo>
                        <a:pt x="10470" y="5858"/>
                      </a:lnTo>
                      <a:lnTo>
                        <a:pt x="10439" y="5906"/>
                      </a:lnTo>
                      <a:lnTo>
                        <a:pt x="10408" y="5953"/>
                      </a:lnTo>
                      <a:lnTo>
                        <a:pt x="10375" y="6000"/>
                      </a:lnTo>
                      <a:lnTo>
                        <a:pt x="10340" y="6045"/>
                      </a:lnTo>
                      <a:lnTo>
                        <a:pt x="10304" y="6090"/>
                      </a:lnTo>
                      <a:lnTo>
                        <a:pt x="10267" y="6135"/>
                      </a:lnTo>
                      <a:lnTo>
                        <a:pt x="10228" y="6180"/>
                      </a:lnTo>
                      <a:lnTo>
                        <a:pt x="10189" y="6223"/>
                      </a:lnTo>
                      <a:lnTo>
                        <a:pt x="10148" y="6267"/>
                      </a:lnTo>
                      <a:lnTo>
                        <a:pt x="10106" y="6309"/>
                      </a:lnTo>
                      <a:lnTo>
                        <a:pt x="10062" y="6352"/>
                      </a:lnTo>
                      <a:lnTo>
                        <a:pt x="10017" y="6392"/>
                      </a:lnTo>
                      <a:lnTo>
                        <a:pt x="9973" y="6431"/>
                      </a:lnTo>
                      <a:lnTo>
                        <a:pt x="9928" y="6469"/>
                      </a:lnTo>
                      <a:lnTo>
                        <a:pt x="9881" y="6505"/>
                      </a:lnTo>
                      <a:lnTo>
                        <a:pt x="9835" y="6540"/>
                      </a:lnTo>
                      <a:lnTo>
                        <a:pt x="9789" y="6574"/>
                      </a:lnTo>
                      <a:lnTo>
                        <a:pt x="9741" y="6607"/>
                      </a:lnTo>
                      <a:lnTo>
                        <a:pt x="9693" y="6637"/>
                      </a:lnTo>
                      <a:lnTo>
                        <a:pt x="9644" y="6667"/>
                      </a:lnTo>
                      <a:lnTo>
                        <a:pt x="9594" y="6695"/>
                      </a:lnTo>
                      <a:lnTo>
                        <a:pt x="9545" y="6723"/>
                      </a:lnTo>
                      <a:lnTo>
                        <a:pt x="9494" y="6749"/>
                      </a:lnTo>
                      <a:lnTo>
                        <a:pt x="9444" y="6773"/>
                      </a:lnTo>
                      <a:lnTo>
                        <a:pt x="9393" y="6796"/>
                      </a:lnTo>
                      <a:lnTo>
                        <a:pt x="9340" y="6817"/>
                      </a:lnTo>
                      <a:lnTo>
                        <a:pt x="9289" y="6839"/>
                      </a:lnTo>
                      <a:lnTo>
                        <a:pt x="9235" y="6857"/>
                      </a:lnTo>
                      <a:lnTo>
                        <a:pt x="9182" y="6875"/>
                      </a:lnTo>
                      <a:lnTo>
                        <a:pt x="9127" y="6892"/>
                      </a:lnTo>
                      <a:lnTo>
                        <a:pt x="9073" y="6907"/>
                      </a:lnTo>
                      <a:lnTo>
                        <a:pt x="9018" y="6921"/>
                      </a:lnTo>
                      <a:lnTo>
                        <a:pt x="8963" y="6933"/>
                      </a:lnTo>
                      <a:lnTo>
                        <a:pt x="8906" y="6945"/>
                      </a:lnTo>
                      <a:lnTo>
                        <a:pt x="8850" y="6954"/>
                      </a:lnTo>
                      <a:lnTo>
                        <a:pt x="8792" y="6963"/>
                      </a:lnTo>
                      <a:lnTo>
                        <a:pt x="8735" y="6970"/>
                      </a:lnTo>
                      <a:lnTo>
                        <a:pt x="8676" y="6977"/>
                      </a:lnTo>
                      <a:lnTo>
                        <a:pt x="8617" y="6981"/>
                      </a:lnTo>
                      <a:lnTo>
                        <a:pt x="8558" y="6984"/>
                      </a:lnTo>
                      <a:lnTo>
                        <a:pt x="8498" y="6986"/>
                      </a:lnTo>
                      <a:lnTo>
                        <a:pt x="8438" y="6987"/>
                      </a:lnTo>
                      <a:lnTo>
                        <a:pt x="8376" y="6986"/>
                      </a:lnTo>
                      <a:lnTo>
                        <a:pt x="8316" y="6984"/>
                      </a:lnTo>
                      <a:lnTo>
                        <a:pt x="8256" y="6981"/>
                      </a:lnTo>
                      <a:lnTo>
                        <a:pt x="8197" y="6977"/>
                      </a:lnTo>
                      <a:lnTo>
                        <a:pt x="8138" y="6970"/>
                      </a:lnTo>
                      <a:lnTo>
                        <a:pt x="8080" y="6963"/>
                      </a:lnTo>
                      <a:lnTo>
                        <a:pt x="8022" y="6954"/>
                      </a:lnTo>
                      <a:lnTo>
                        <a:pt x="7965" y="6945"/>
                      </a:lnTo>
                      <a:lnTo>
                        <a:pt x="7908" y="6933"/>
                      </a:lnTo>
                      <a:lnTo>
                        <a:pt x="7852" y="6921"/>
                      </a:lnTo>
                      <a:lnTo>
                        <a:pt x="7797" y="6907"/>
                      </a:lnTo>
                      <a:lnTo>
                        <a:pt x="7742" y="6892"/>
                      </a:lnTo>
                      <a:lnTo>
                        <a:pt x="7688" y="6875"/>
                      </a:lnTo>
                      <a:lnTo>
                        <a:pt x="7635" y="6857"/>
                      </a:lnTo>
                      <a:lnTo>
                        <a:pt x="7581" y="6839"/>
                      </a:lnTo>
                      <a:lnTo>
                        <a:pt x="7528" y="6817"/>
                      </a:lnTo>
                      <a:lnTo>
                        <a:pt x="7477" y="6796"/>
                      </a:lnTo>
                      <a:lnTo>
                        <a:pt x="7425" y="6773"/>
                      </a:lnTo>
                      <a:lnTo>
                        <a:pt x="7374" y="6749"/>
                      </a:lnTo>
                      <a:lnTo>
                        <a:pt x="7325" y="6723"/>
                      </a:lnTo>
                      <a:lnTo>
                        <a:pt x="7274" y="6695"/>
                      </a:lnTo>
                      <a:lnTo>
                        <a:pt x="7226" y="6667"/>
                      </a:lnTo>
                      <a:lnTo>
                        <a:pt x="7177" y="6637"/>
                      </a:lnTo>
                      <a:lnTo>
                        <a:pt x="7130" y="6607"/>
                      </a:lnTo>
                      <a:lnTo>
                        <a:pt x="7082" y="6574"/>
                      </a:lnTo>
                      <a:lnTo>
                        <a:pt x="7035" y="6540"/>
                      </a:lnTo>
                      <a:lnTo>
                        <a:pt x="6988" y="6505"/>
                      </a:lnTo>
                      <a:lnTo>
                        <a:pt x="6943" y="6469"/>
                      </a:lnTo>
                      <a:lnTo>
                        <a:pt x="6898" y="6431"/>
                      </a:lnTo>
                      <a:lnTo>
                        <a:pt x="6853" y="6392"/>
                      </a:lnTo>
                      <a:lnTo>
                        <a:pt x="6809" y="6352"/>
                      </a:lnTo>
                      <a:lnTo>
                        <a:pt x="6766" y="6309"/>
                      </a:lnTo>
                      <a:lnTo>
                        <a:pt x="6724" y="6267"/>
                      </a:lnTo>
                      <a:lnTo>
                        <a:pt x="6683" y="6223"/>
                      </a:lnTo>
                      <a:lnTo>
                        <a:pt x="6642" y="6180"/>
                      </a:lnTo>
                      <a:lnTo>
                        <a:pt x="6604" y="6135"/>
                      </a:lnTo>
                      <a:lnTo>
                        <a:pt x="6568" y="6090"/>
                      </a:lnTo>
                      <a:lnTo>
                        <a:pt x="6532" y="6045"/>
                      </a:lnTo>
                      <a:lnTo>
                        <a:pt x="6498" y="6000"/>
                      </a:lnTo>
                      <a:lnTo>
                        <a:pt x="6464" y="5953"/>
                      </a:lnTo>
                      <a:lnTo>
                        <a:pt x="6433" y="5906"/>
                      </a:lnTo>
                      <a:lnTo>
                        <a:pt x="6403" y="5858"/>
                      </a:lnTo>
                      <a:lnTo>
                        <a:pt x="6373" y="5811"/>
                      </a:lnTo>
                      <a:lnTo>
                        <a:pt x="6346" y="5761"/>
                      </a:lnTo>
                      <a:lnTo>
                        <a:pt x="6320" y="5713"/>
                      </a:lnTo>
                      <a:lnTo>
                        <a:pt x="6295" y="5663"/>
                      </a:lnTo>
                      <a:lnTo>
                        <a:pt x="6272" y="5613"/>
                      </a:lnTo>
                      <a:lnTo>
                        <a:pt x="6250" y="5562"/>
                      </a:lnTo>
                      <a:lnTo>
                        <a:pt x="6229" y="5512"/>
                      </a:lnTo>
                      <a:lnTo>
                        <a:pt x="6209" y="5459"/>
                      </a:lnTo>
                      <a:lnTo>
                        <a:pt x="6191" y="5407"/>
                      </a:lnTo>
                      <a:lnTo>
                        <a:pt x="6174" y="5354"/>
                      </a:lnTo>
                      <a:lnTo>
                        <a:pt x="6159" y="5301"/>
                      </a:lnTo>
                      <a:lnTo>
                        <a:pt x="6145" y="5247"/>
                      </a:lnTo>
                      <a:lnTo>
                        <a:pt x="6132" y="5193"/>
                      </a:lnTo>
                      <a:lnTo>
                        <a:pt x="6120" y="5137"/>
                      </a:lnTo>
                      <a:lnTo>
                        <a:pt x="6111" y="5083"/>
                      </a:lnTo>
                      <a:lnTo>
                        <a:pt x="6102" y="5027"/>
                      </a:lnTo>
                      <a:lnTo>
                        <a:pt x="6095" y="4970"/>
                      </a:lnTo>
                      <a:lnTo>
                        <a:pt x="6089" y="4913"/>
                      </a:lnTo>
                      <a:lnTo>
                        <a:pt x="6084" y="4855"/>
                      </a:lnTo>
                      <a:lnTo>
                        <a:pt x="6080" y="4797"/>
                      </a:lnTo>
                      <a:lnTo>
                        <a:pt x="6078" y="4739"/>
                      </a:lnTo>
                      <a:lnTo>
                        <a:pt x="6078" y="4679"/>
                      </a:lnTo>
                      <a:lnTo>
                        <a:pt x="6078" y="4626"/>
                      </a:lnTo>
                      <a:lnTo>
                        <a:pt x="6080" y="4573"/>
                      </a:lnTo>
                      <a:lnTo>
                        <a:pt x="6083" y="4522"/>
                      </a:lnTo>
                      <a:lnTo>
                        <a:pt x="6088" y="4469"/>
                      </a:lnTo>
                      <a:lnTo>
                        <a:pt x="6093" y="4417"/>
                      </a:lnTo>
                      <a:lnTo>
                        <a:pt x="6099" y="4366"/>
                      </a:lnTo>
                      <a:lnTo>
                        <a:pt x="6107" y="4314"/>
                      </a:lnTo>
                      <a:lnTo>
                        <a:pt x="6115" y="4262"/>
                      </a:lnTo>
                      <a:lnTo>
                        <a:pt x="6126" y="4212"/>
                      </a:lnTo>
                      <a:lnTo>
                        <a:pt x="6136" y="4160"/>
                      </a:lnTo>
                      <a:lnTo>
                        <a:pt x="6149" y="4110"/>
                      </a:lnTo>
                      <a:lnTo>
                        <a:pt x="6161" y="4059"/>
                      </a:lnTo>
                      <a:lnTo>
                        <a:pt x="6176" y="4010"/>
                      </a:lnTo>
                      <a:lnTo>
                        <a:pt x="6191" y="3960"/>
                      </a:lnTo>
                      <a:lnTo>
                        <a:pt x="6208" y="3910"/>
                      </a:lnTo>
                      <a:lnTo>
                        <a:pt x="6226" y="3861"/>
                      </a:lnTo>
                      <a:lnTo>
                        <a:pt x="8636" y="4954"/>
                      </a:lnTo>
                      <a:lnTo>
                        <a:pt x="7504" y="2566"/>
                      </a:lnTo>
                      <a:lnTo>
                        <a:pt x="7560" y="2542"/>
                      </a:lnTo>
                      <a:lnTo>
                        <a:pt x="7616" y="2520"/>
                      </a:lnTo>
                      <a:lnTo>
                        <a:pt x="7672" y="2499"/>
                      </a:lnTo>
                      <a:lnTo>
                        <a:pt x="7729" y="2480"/>
                      </a:lnTo>
                      <a:lnTo>
                        <a:pt x="7786" y="2462"/>
                      </a:lnTo>
                      <a:lnTo>
                        <a:pt x="7843" y="2446"/>
                      </a:lnTo>
                      <a:lnTo>
                        <a:pt x="7901" y="2432"/>
                      </a:lnTo>
                      <a:lnTo>
                        <a:pt x="7959" y="2418"/>
                      </a:lnTo>
                      <a:lnTo>
                        <a:pt x="8017" y="2406"/>
                      </a:lnTo>
                      <a:lnTo>
                        <a:pt x="8076" y="2396"/>
                      </a:lnTo>
                      <a:lnTo>
                        <a:pt x="8135" y="2387"/>
                      </a:lnTo>
                      <a:lnTo>
                        <a:pt x="8195" y="2381"/>
                      </a:lnTo>
                      <a:lnTo>
                        <a:pt x="8255" y="2375"/>
                      </a:lnTo>
                      <a:lnTo>
                        <a:pt x="8315" y="2372"/>
                      </a:lnTo>
                      <a:lnTo>
                        <a:pt x="8376" y="2369"/>
                      </a:lnTo>
                      <a:lnTo>
                        <a:pt x="8438" y="2368"/>
                      </a:lnTo>
                      <a:lnTo>
                        <a:pt x="8498" y="2368"/>
                      </a:lnTo>
                      <a:lnTo>
                        <a:pt x="8558" y="2371"/>
                      </a:lnTo>
                      <a:lnTo>
                        <a:pt x="8617" y="2374"/>
                      </a:lnTo>
                      <a:lnTo>
                        <a:pt x="8676" y="2379"/>
                      </a:lnTo>
                      <a:lnTo>
                        <a:pt x="8735" y="2384"/>
                      </a:lnTo>
                      <a:lnTo>
                        <a:pt x="8792" y="2392"/>
                      </a:lnTo>
                      <a:lnTo>
                        <a:pt x="8850" y="2400"/>
                      </a:lnTo>
                      <a:lnTo>
                        <a:pt x="8906" y="2411"/>
                      </a:lnTo>
                      <a:lnTo>
                        <a:pt x="8963" y="2421"/>
                      </a:lnTo>
                      <a:lnTo>
                        <a:pt x="9018" y="2434"/>
                      </a:lnTo>
                      <a:lnTo>
                        <a:pt x="9073" y="2449"/>
                      </a:lnTo>
                      <a:lnTo>
                        <a:pt x="9127" y="2463"/>
                      </a:lnTo>
                      <a:lnTo>
                        <a:pt x="9182" y="2480"/>
                      </a:lnTo>
                      <a:lnTo>
                        <a:pt x="9235" y="2497"/>
                      </a:lnTo>
                      <a:lnTo>
                        <a:pt x="9289" y="2517"/>
                      </a:lnTo>
                      <a:lnTo>
                        <a:pt x="9340" y="2537"/>
                      </a:lnTo>
                      <a:lnTo>
                        <a:pt x="9393" y="2559"/>
                      </a:lnTo>
                      <a:lnTo>
                        <a:pt x="9444" y="2582"/>
                      </a:lnTo>
                      <a:lnTo>
                        <a:pt x="9494" y="2607"/>
                      </a:lnTo>
                      <a:lnTo>
                        <a:pt x="9545" y="2632"/>
                      </a:lnTo>
                      <a:lnTo>
                        <a:pt x="9594" y="2659"/>
                      </a:lnTo>
                      <a:lnTo>
                        <a:pt x="9644" y="2688"/>
                      </a:lnTo>
                      <a:lnTo>
                        <a:pt x="9693" y="2717"/>
                      </a:lnTo>
                      <a:lnTo>
                        <a:pt x="9741" y="2749"/>
                      </a:lnTo>
                      <a:lnTo>
                        <a:pt x="9789" y="2782"/>
                      </a:lnTo>
                      <a:lnTo>
                        <a:pt x="9835" y="2815"/>
                      </a:lnTo>
                      <a:lnTo>
                        <a:pt x="9881" y="2850"/>
                      </a:lnTo>
                      <a:lnTo>
                        <a:pt x="9928" y="2887"/>
                      </a:lnTo>
                      <a:lnTo>
                        <a:pt x="9973" y="2924"/>
                      </a:lnTo>
                      <a:lnTo>
                        <a:pt x="10017" y="2964"/>
                      </a:lnTo>
                      <a:lnTo>
                        <a:pt x="10062" y="3004"/>
                      </a:lnTo>
                      <a:lnTo>
                        <a:pt x="10106" y="3046"/>
                      </a:lnTo>
                      <a:lnTo>
                        <a:pt x="10148" y="3088"/>
                      </a:lnTo>
                      <a:lnTo>
                        <a:pt x="10189" y="3132"/>
                      </a:lnTo>
                      <a:lnTo>
                        <a:pt x="10228" y="3176"/>
                      </a:lnTo>
                      <a:lnTo>
                        <a:pt x="10267" y="3220"/>
                      </a:lnTo>
                      <a:lnTo>
                        <a:pt x="10304" y="3264"/>
                      </a:lnTo>
                      <a:lnTo>
                        <a:pt x="10340" y="3310"/>
                      </a:lnTo>
                      <a:lnTo>
                        <a:pt x="10375" y="3356"/>
                      </a:lnTo>
                      <a:lnTo>
                        <a:pt x="10408" y="3402"/>
                      </a:lnTo>
                      <a:lnTo>
                        <a:pt x="10439" y="3450"/>
                      </a:lnTo>
                      <a:lnTo>
                        <a:pt x="10470" y="3497"/>
                      </a:lnTo>
                      <a:lnTo>
                        <a:pt x="10498" y="3545"/>
                      </a:lnTo>
                      <a:lnTo>
                        <a:pt x="10527" y="3593"/>
                      </a:lnTo>
                      <a:lnTo>
                        <a:pt x="10553" y="3643"/>
                      </a:lnTo>
                      <a:lnTo>
                        <a:pt x="10577" y="3692"/>
                      </a:lnTo>
                      <a:lnTo>
                        <a:pt x="10602" y="3743"/>
                      </a:lnTo>
                      <a:lnTo>
                        <a:pt x="10624" y="3793"/>
                      </a:lnTo>
                      <a:lnTo>
                        <a:pt x="10645" y="3845"/>
                      </a:lnTo>
                      <a:lnTo>
                        <a:pt x="10664" y="3897"/>
                      </a:lnTo>
                      <a:lnTo>
                        <a:pt x="10683" y="3948"/>
                      </a:lnTo>
                      <a:lnTo>
                        <a:pt x="10700" y="4002"/>
                      </a:lnTo>
                      <a:lnTo>
                        <a:pt x="10715" y="4055"/>
                      </a:lnTo>
                      <a:lnTo>
                        <a:pt x="10729" y="4110"/>
                      </a:lnTo>
                      <a:lnTo>
                        <a:pt x="10742" y="4163"/>
                      </a:lnTo>
                      <a:lnTo>
                        <a:pt x="10754" y="4219"/>
                      </a:lnTo>
                      <a:lnTo>
                        <a:pt x="10764" y="4274"/>
                      </a:lnTo>
                      <a:lnTo>
                        <a:pt x="10773" y="4331"/>
                      </a:lnTo>
                      <a:lnTo>
                        <a:pt x="10780" y="4388"/>
                      </a:lnTo>
                      <a:lnTo>
                        <a:pt x="10786" y="4445"/>
                      </a:lnTo>
                      <a:lnTo>
                        <a:pt x="10791" y="4503"/>
                      </a:lnTo>
                      <a:lnTo>
                        <a:pt x="10795" y="4561"/>
                      </a:lnTo>
                      <a:lnTo>
                        <a:pt x="10796" y="4620"/>
                      </a:lnTo>
                      <a:lnTo>
                        <a:pt x="10797" y="4679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5" name="Oval 653"/>
                <p:cNvSpPr/>
                <p:nvPr/>
              </p:nvSpPr>
              <p:spPr>
                <a:xfrm>
                  <a:off x="6242760" y="4637160"/>
                  <a:ext cx="155160" cy="155160"/>
                </a:xfrm>
                <a:prstGeom prst="ellipse">
                  <a:avLst/>
                </a:pr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" name="AutoShape 654"/>
                <p:cNvSpPr/>
                <p:nvPr/>
              </p:nvSpPr>
              <p:spPr>
                <a:xfrm>
                  <a:off x="6193080" y="4584960"/>
                  <a:ext cx="255600" cy="255600"/>
                </a:xfrm>
                <a:custGeom>
                  <a:avLst/>
                  <a:gdLst>
                    <a:gd name="textAreaLeft" fmla="*/ 37440 w 255600"/>
                    <a:gd name="textAreaRight" fmla="*/ 218160 w 255600"/>
                    <a:gd name="textAreaTop" fmla="*/ 37440 h 255600"/>
                    <a:gd name="textAreaBottom" fmla="*/ 218160 h 255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82" y="10800"/>
                      </a:moveTo>
                      <a:cubicBezTo>
                        <a:pt x="2582" y="15339"/>
                        <a:pt x="6261" y="19018"/>
                        <a:pt x="10800" y="19018"/>
                      </a:cubicBezTo>
                      <a:cubicBezTo>
                        <a:pt x="15339" y="19018"/>
                        <a:pt x="19018" y="15339"/>
                        <a:pt x="19018" y="10800"/>
                      </a:cubicBezTo>
                      <a:cubicBezTo>
                        <a:pt x="19018" y="6261"/>
                        <a:pt x="15339" y="2582"/>
                        <a:pt x="10800" y="2582"/>
                      </a:cubicBezTo>
                      <a:cubicBezTo>
                        <a:pt x="6261" y="2582"/>
                        <a:pt x="2582" y="6261"/>
                        <a:pt x="2582" y="1080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7" name="AutoShape 656"/>
              <p:cNvSpPr/>
              <p:nvPr/>
            </p:nvSpPr>
            <p:spPr>
              <a:xfrm rot="1198200">
                <a:off x="6286320" y="4649040"/>
                <a:ext cx="52560" cy="50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8" name="组合 178"/>
          <p:cNvGrpSpPr/>
          <p:nvPr/>
        </p:nvGrpSpPr>
        <p:grpSpPr>
          <a:xfrm>
            <a:off x="1521000" y="4387680"/>
            <a:ext cx="647280" cy="647280"/>
            <a:chOff x="1521000" y="4387680"/>
            <a:chExt cx="647280" cy="647280"/>
          </a:xfrm>
        </p:grpSpPr>
        <p:sp>
          <p:nvSpPr>
            <p:cNvPr id="109" name="椭圆 75"/>
            <p:cNvSpPr/>
            <p:nvPr/>
          </p:nvSpPr>
          <p:spPr>
            <a:xfrm>
              <a:off x="1521000" y="4387680"/>
              <a:ext cx="647280" cy="64728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Freeform 140"/>
            <p:cNvSpPr/>
            <p:nvPr/>
          </p:nvSpPr>
          <p:spPr>
            <a:xfrm>
              <a:off x="1624680" y="4477320"/>
              <a:ext cx="435240" cy="41544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9909" h="12980">
                  <a:moveTo>
                    <a:pt x="9899" y="5055"/>
                  </a:moveTo>
                  <a:lnTo>
                    <a:pt x="9002" y="8561"/>
                  </a:lnTo>
                  <a:lnTo>
                    <a:pt x="8936" y="8627"/>
                  </a:lnTo>
                  <a:lnTo>
                    <a:pt x="8925" y="8631"/>
                  </a:lnTo>
                  <a:lnTo>
                    <a:pt x="8914" y="8634"/>
                  </a:lnTo>
                  <a:lnTo>
                    <a:pt x="8904" y="8635"/>
                  </a:lnTo>
                  <a:lnTo>
                    <a:pt x="8894" y="8635"/>
                  </a:lnTo>
                  <a:lnTo>
                    <a:pt x="8886" y="8633"/>
                  </a:lnTo>
                  <a:lnTo>
                    <a:pt x="8878" y="8630"/>
                  </a:lnTo>
                  <a:lnTo>
                    <a:pt x="8871" y="8626"/>
                  </a:lnTo>
                  <a:lnTo>
                    <a:pt x="8865" y="8620"/>
                  </a:lnTo>
                  <a:lnTo>
                    <a:pt x="8854" y="8608"/>
                  </a:lnTo>
                  <a:lnTo>
                    <a:pt x="8845" y="8598"/>
                  </a:lnTo>
                  <a:lnTo>
                    <a:pt x="8842" y="8593"/>
                  </a:lnTo>
                  <a:lnTo>
                    <a:pt x="8840" y="8588"/>
                  </a:lnTo>
                  <a:lnTo>
                    <a:pt x="8839" y="8583"/>
                  </a:lnTo>
                  <a:lnTo>
                    <a:pt x="8839" y="8578"/>
                  </a:lnTo>
                  <a:lnTo>
                    <a:pt x="8398" y="7420"/>
                  </a:lnTo>
                  <a:lnTo>
                    <a:pt x="6778" y="9028"/>
                  </a:lnTo>
                  <a:lnTo>
                    <a:pt x="6747" y="9060"/>
                  </a:lnTo>
                  <a:lnTo>
                    <a:pt x="6716" y="9092"/>
                  </a:lnTo>
                  <a:lnTo>
                    <a:pt x="6685" y="9125"/>
                  </a:lnTo>
                  <a:lnTo>
                    <a:pt x="6656" y="9158"/>
                  </a:lnTo>
                  <a:lnTo>
                    <a:pt x="6626" y="9191"/>
                  </a:lnTo>
                  <a:lnTo>
                    <a:pt x="6597" y="9225"/>
                  </a:lnTo>
                  <a:lnTo>
                    <a:pt x="6568" y="9259"/>
                  </a:lnTo>
                  <a:lnTo>
                    <a:pt x="6539" y="9293"/>
                  </a:lnTo>
                  <a:lnTo>
                    <a:pt x="6512" y="9328"/>
                  </a:lnTo>
                  <a:lnTo>
                    <a:pt x="6484" y="9364"/>
                  </a:lnTo>
                  <a:lnTo>
                    <a:pt x="6457" y="9399"/>
                  </a:lnTo>
                  <a:lnTo>
                    <a:pt x="6430" y="9434"/>
                  </a:lnTo>
                  <a:lnTo>
                    <a:pt x="6404" y="9471"/>
                  </a:lnTo>
                  <a:lnTo>
                    <a:pt x="6378" y="9508"/>
                  </a:lnTo>
                  <a:lnTo>
                    <a:pt x="6353" y="9545"/>
                  </a:lnTo>
                  <a:lnTo>
                    <a:pt x="6328" y="9581"/>
                  </a:lnTo>
                  <a:lnTo>
                    <a:pt x="6303" y="9619"/>
                  </a:lnTo>
                  <a:lnTo>
                    <a:pt x="6279" y="9657"/>
                  </a:lnTo>
                  <a:lnTo>
                    <a:pt x="6255" y="9696"/>
                  </a:lnTo>
                  <a:lnTo>
                    <a:pt x="6231" y="9734"/>
                  </a:lnTo>
                  <a:lnTo>
                    <a:pt x="6209" y="9773"/>
                  </a:lnTo>
                  <a:lnTo>
                    <a:pt x="6186" y="9813"/>
                  </a:lnTo>
                  <a:lnTo>
                    <a:pt x="6164" y="9853"/>
                  </a:lnTo>
                  <a:lnTo>
                    <a:pt x="6142" y="9893"/>
                  </a:lnTo>
                  <a:lnTo>
                    <a:pt x="6121" y="9934"/>
                  </a:lnTo>
                  <a:lnTo>
                    <a:pt x="6099" y="9974"/>
                  </a:lnTo>
                  <a:lnTo>
                    <a:pt x="6079" y="10016"/>
                  </a:lnTo>
                  <a:lnTo>
                    <a:pt x="6059" y="10057"/>
                  </a:lnTo>
                  <a:lnTo>
                    <a:pt x="6039" y="10100"/>
                  </a:lnTo>
                  <a:lnTo>
                    <a:pt x="6020" y="10142"/>
                  </a:lnTo>
                  <a:lnTo>
                    <a:pt x="6001" y="10185"/>
                  </a:lnTo>
                  <a:lnTo>
                    <a:pt x="5982" y="10228"/>
                  </a:lnTo>
                  <a:lnTo>
                    <a:pt x="5965" y="10272"/>
                  </a:lnTo>
                  <a:lnTo>
                    <a:pt x="5947" y="10315"/>
                  </a:lnTo>
                  <a:lnTo>
                    <a:pt x="5931" y="10358"/>
                  </a:lnTo>
                  <a:lnTo>
                    <a:pt x="5915" y="10402"/>
                  </a:lnTo>
                  <a:lnTo>
                    <a:pt x="5899" y="10446"/>
                  </a:lnTo>
                  <a:lnTo>
                    <a:pt x="5884" y="10489"/>
                  </a:lnTo>
                  <a:lnTo>
                    <a:pt x="5870" y="10533"/>
                  </a:lnTo>
                  <a:lnTo>
                    <a:pt x="5855" y="10577"/>
                  </a:lnTo>
                  <a:lnTo>
                    <a:pt x="5842" y="10621"/>
                  </a:lnTo>
                  <a:lnTo>
                    <a:pt x="5830" y="10665"/>
                  </a:lnTo>
                  <a:lnTo>
                    <a:pt x="5818" y="10709"/>
                  </a:lnTo>
                  <a:lnTo>
                    <a:pt x="5806" y="10752"/>
                  </a:lnTo>
                  <a:lnTo>
                    <a:pt x="5795" y="10796"/>
                  </a:lnTo>
                  <a:lnTo>
                    <a:pt x="5785" y="10840"/>
                  </a:lnTo>
                  <a:lnTo>
                    <a:pt x="5775" y="10884"/>
                  </a:lnTo>
                  <a:lnTo>
                    <a:pt x="5766" y="10928"/>
                  </a:lnTo>
                  <a:lnTo>
                    <a:pt x="5756" y="10972"/>
                  </a:lnTo>
                  <a:lnTo>
                    <a:pt x="5748" y="11017"/>
                  </a:lnTo>
                  <a:lnTo>
                    <a:pt x="5740" y="11061"/>
                  </a:lnTo>
                  <a:lnTo>
                    <a:pt x="5733" y="11105"/>
                  </a:lnTo>
                  <a:lnTo>
                    <a:pt x="5727" y="11150"/>
                  </a:lnTo>
                  <a:lnTo>
                    <a:pt x="5721" y="11194"/>
                  </a:lnTo>
                  <a:lnTo>
                    <a:pt x="5716" y="11238"/>
                  </a:lnTo>
                  <a:lnTo>
                    <a:pt x="5710" y="11282"/>
                  </a:lnTo>
                  <a:lnTo>
                    <a:pt x="5706" y="11327"/>
                  </a:lnTo>
                  <a:lnTo>
                    <a:pt x="5702" y="11371"/>
                  </a:lnTo>
                  <a:lnTo>
                    <a:pt x="5699" y="11416"/>
                  </a:lnTo>
                  <a:lnTo>
                    <a:pt x="5697" y="11461"/>
                  </a:lnTo>
                  <a:lnTo>
                    <a:pt x="5695" y="11506"/>
                  </a:lnTo>
                  <a:lnTo>
                    <a:pt x="5693" y="11551"/>
                  </a:lnTo>
                  <a:lnTo>
                    <a:pt x="5692" y="11596"/>
                  </a:lnTo>
                  <a:lnTo>
                    <a:pt x="5692" y="11641"/>
                  </a:lnTo>
                  <a:lnTo>
                    <a:pt x="5692" y="12980"/>
                  </a:lnTo>
                  <a:lnTo>
                    <a:pt x="4209" y="12980"/>
                  </a:lnTo>
                  <a:lnTo>
                    <a:pt x="4209" y="11644"/>
                  </a:lnTo>
                  <a:lnTo>
                    <a:pt x="4209" y="11598"/>
                  </a:lnTo>
                  <a:lnTo>
                    <a:pt x="4208" y="11552"/>
                  </a:lnTo>
                  <a:lnTo>
                    <a:pt x="4206" y="11507"/>
                  </a:lnTo>
                  <a:lnTo>
                    <a:pt x="4205" y="11461"/>
                  </a:lnTo>
                  <a:lnTo>
                    <a:pt x="4202" y="11416"/>
                  </a:lnTo>
                  <a:lnTo>
                    <a:pt x="4199" y="11370"/>
                  </a:lnTo>
                  <a:lnTo>
                    <a:pt x="4196" y="11325"/>
                  </a:lnTo>
                  <a:lnTo>
                    <a:pt x="4192" y="11280"/>
                  </a:lnTo>
                  <a:lnTo>
                    <a:pt x="4186" y="11235"/>
                  </a:lnTo>
                  <a:lnTo>
                    <a:pt x="4181" y="11190"/>
                  </a:lnTo>
                  <a:lnTo>
                    <a:pt x="4176" y="11146"/>
                  </a:lnTo>
                  <a:lnTo>
                    <a:pt x="4170" y="11102"/>
                  </a:lnTo>
                  <a:lnTo>
                    <a:pt x="4163" y="11057"/>
                  </a:lnTo>
                  <a:lnTo>
                    <a:pt x="4156" y="11013"/>
                  </a:lnTo>
                  <a:lnTo>
                    <a:pt x="4148" y="10968"/>
                  </a:lnTo>
                  <a:lnTo>
                    <a:pt x="4139" y="10924"/>
                  </a:lnTo>
                  <a:lnTo>
                    <a:pt x="4131" y="10880"/>
                  </a:lnTo>
                  <a:lnTo>
                    <a:pt x="4121" y="10836"/>
                  </a:lnTo>
                  <a:lnTo>
                    <a:pt x="4111" y="10792"/>
                  </a:lnTo>
                  <a:lnTo>
                    <a:pt x="4101" y="10748"/>
                  </a:lnTo>
                  <a:lnTo>
                    <a:pt x="4089" y="10704"/>
                  </a:lnTo>
                  <a:lnTo>
                    <a:pt x="4078" y="10662"/>
                  </a:lnTo>
                  <a:lnTo>
                    <a:pt x="4066" y="10618"/>
                  </a:lnTo>
                  <a:lnTo>
                    <a:pt x="4054" y="10575"/>
                  </a:lnTo>
                  <a:lnTo>
                    <a:pt x="4039" y="10531"/>
                  </a:lnTo>
                  <a:lnTo>
                    <a:pt x="4026" y="10488"/>
                  </a:lnTo>
                  <a:lnTo>
                    <a:pt x="4012" y="10445"/>
                  </a:lnTo>
                  <a:lnTo>
                    <a:pt x="3997" y="10402"/>
                  </a:lnTo>
                  <a:lnTo>
                    <a:pt x="3981" y="10359"/>
                  </a:lnTo>
                  <a:lnTo>
                    <a:pt x="3965" y="10316"/>
                  </a:lnTo>
                  <a:lnTo>
                    <a:pt x="3949" y="10274"/>
                  </a:lnTo>
                  <a:lnTo>
                    <a:pt x="3931" y="10232"/>
                  </a:lnTo>
                  <a:lnTo>
                    <a:pt x="3914" y="10190"/>
                  </a:lnTo>
                  <a:lnTo>
                    <a:pt x="3896" y="10148"/>
                  </a:lnTo>
                  <a:lnTo>
                    <a:pt x="3877" y="10106"/>
                  </a:lnTo>
                  <a:lnTo>
                    <a:pt x="3858" y="10065"/>
                  </a:lnTo>
                  <a:lnTo>
                    <a:pt x="3819" y="9984"/>
                  </a:lnTo>
                  <a:lnTo>
                    <a:pt x="3777" y="9904"/>
                  </a:lnTo>
                  <a:lnTo>
                    <a:pt x="3756" y="9864"/>
                  </a:lnTo>
                  <a:lnTo>
                    <a:pt x="3734" y="9824"/>
                  </a:lnTo>
                  <a:lnTo>
                    <a:pt x="3712" y="9785"/>
                  </a:lnTo>
                  <a:lnTo>
                    <a:pt x="3689" y="9747"/>
                  </a:lnTo>
                  <a:lnTo>
                    <a:pt x="3642" y="9670"/>
                  </a:lnTo>
                  <a:lnTo>
                    <a:pt x="3593" y="9595"/>
                  </a:lnTo>
                  <a:lnTo>
                    <a:pt x="3568" y="9558"/>
                  </a:lnTo>
                  <a:lnTo>
                    <a:pt x="3542" y="9521"/>
                  </a:lnTo>
                  <a:lnTo>
                    <a:pt x="3516" y="9484"/>
                  </a:lnTo>
                  <a:lnTo>
                    <a:pt x="3489" y="9448"/>
                  </a:lnTo>
                  <a:lnTo>
                    <a:pt x="3463" y="9412"/>
                  </a:lnTo>
                  <a:lnTo>
                    <a:pt x="3435" y="9376"/>
                  </a:lnTo>
                  <a:lnTo>
                    <a:pt x="3407" y="9340"/>
                  </a:lnTo>
                  <a:lnTo>
                    <a:pt x="3379" y="9306"/>
                  </a:lnTo>
                  <a:lnTo>
                    <a:pt x="3349" y="9271"/>
                  </a:lnTo>
                  <a:lnTo>
                    <a:pt x="3320" y="9236"/>
                  </a:lnTo>
                  <a:lnTo>
                    <a:pt x="3290" y="9201"/>
                  </a:lnTo>
                  <a:lnTo>
                    <a:pt x="3260" y="9168"/>
                  </a:lnTo>
                  <a:lnTo>
                    <a:pt x="3229" y="9134"/>
                  </a:lnTo>
                  <a:lnTo>
                    <a:pt x="3197" y="9100"/>
                  </a:lnTo>
                  <a:lnTo>
                    <a:pt x="3165" y="9068"/>
                  </a:lnTo>
                  <a:lnTo>
                    <a:pt x="3133" y="9034"/>
                  </a:lnTo>
                  <a:lnTo>
                    <a:pt x="1503" y="7403"/>
                  </a:lnTo>
                  <a:lnTo>
                    <a:pt x="1062" y="8578"/>
                  </a:lnTo>
                  <a:lnTo>
                    <a:pt x="981" y="8627"/>
                  </a:lnTo>
                  <a:lnTo>
                    <a:pt x="899" y="8561"/>
                  </a:lnTo>
                  <a:lnTo>
                    <a:pt x="2" y="5055"/>
                  </a:lnTo>
                  <a:lnTo>
                    <a:pt x="1" y="5045"/>
                  </a:lnTo>
                  <a:lnTo>
                    <a:pt x="0" y="5034"/>
                  </a:lnTo>
                  <a:lnTo>
                    <a:pt x="0" y="5025"/>
                  </a:lnTo>
                  <a:lnTo>
                    <a:pt x="0" y="5015"/>
                  </a:lnTo>
                  <a:lnTo>
                    <a:pt x="1" y="5005"/>
                  </a:lnTo>
                  <a:lnTo>
                    <a:pt x="2" y="4996"/>
                  </a:lnTo>
                  <a:lnTo>
                    <a:pt x="4" y="4986"/>
                  </a:lnTo>
                  <a:lnTo>
                    <a:pt x="7" y="4977"/>
                  </a:lnTo>
                  <a:lnTo>
                    <a:pt x="10" y="4968"/>
                  </a:lnTo>
                  <a:lnTo>
                    <a:pt x="14" y="4959"/>
                  </a:lnTo>
                  <a:lnTo>
                    <a:pt x="20" y="4951"/>
                  </a:lnTo>
                  <a:lnTo>
                    <a:pt x="25" y="4942"/>
                  </a:lnTo>
                  <a:lnTo>
                    <a:pt x="30" y="4933"/>
                  </a:lnTo>
                  <a:lnTo>
                    <a:pt x="37" y="4925"/>
                  </a:lnTo>
                  <a:lnTo>
                    <a:pt x="44" y="4917"/>
                  </a:lnTo>
                  <a:lnTo>
                    <a:pt x="51" y="4909"/>
                  </a:lnTo>
                  <a:lnTo>
                    <a:pt x="59" y="4901"/>
                  </a:lnTo>
                  <a:lnTo>
                    <a:pt x="68" y="4894"/>
                  </a:lnTo>
                  <a:lnTo>
                    <a:pt x="76" y="4887"/>
                  </a:lnTo>
                  <a:lnTo>
                    <a:pt x="84" y="4881"/>
                  </a:lnTo>
                  <a:lnTo>
                    <a:pt x="93" y="4876"/>
                  </a:lnTo>
                  <a:lnTo>
                    <a:pt x="101" y="4872"/>
                  </a:lnTo>
                  <a:lnTo>
                    <a:pt x="110" y="4868"/>
                  </a:lnTo>
                  <a:lnTo>
                    <a:pt x="120" y="4865"/>
                  </a:lnTo>
                  <a:lnTo>
                    <a:pt x="129" y="4862"/>
                  </a:lnTo>
                  <a:lnTo>
                    <a:pt x="138" y="4860"/>
                  </a:lnTo>
                  <a:lnTo>
                    <a:pt x="148" y="4858"/>
                  </a:lnTo>
                  <a:lnTo>
                    <a:pt x="157" y="4857"/>
                  </a:lnTo>
                  <a:lnTo>
                    <a:pt x="168" y="4857"/>
                  </a:lnTo>
                  <a:lnTo>
                    <a:pt x="178" y="4857"/>
                  </a:lnTo>
                  <a:lnTo>
                    <a:pt x="188" y="4858"/>
                  </a:lnTo>
                  <a:lnTo>
                    <a:pt x="198" y="4860"/>
                  </a:lnTo>
                  <a:lnTo>
                    <a:pt x="3704" y="5740"/>
                  </a:lnTo>
                  <a:lnTo>
                    <a:pt x="3708" y="5740"/>
                  </a:lnTo>
                  <a:lnTo>
                    <a:pt x="3712" y="5741"/>
                  </a:lnTo>
                  <a:lnTo>
                    <a:pt x="3716" y="5743"/>
                  </a:lnTo>
                  <a:lnTo>
                    <a:pt x="3720" y="5745"/>
                  </a:lnTo>
                  <a:lnTo>
                    <a:pt x="3728" y="5751"/>
                  </a:lnTo>
                  <a:lnTo>
                    <a:pt x="3736" y="5760"/>
                  </a:lnTo>
                  <a:lnTo>
                    <a:pt x="3743" y="5772"/>
                  </a:lnTo>
                  <a:lnTo>
                    <a:pt x="3752" y="5786"/>
                  </a:lnTo>
                  <a:lnTo>
                    <a:pt x="3760" y="5802"/>
                  </a:lnTo>
                  <a:lnTo>
                    <a:pt x="3769" y="5822"/>
                  </a:lnTo>
                  <a:lnTo>
                    <a:pt x="3772" y="5830"/>
                  </a:lnTo>
                  <a:lnTo>
                    <a:pt x="3774" y="5838"/>
                  </a:lnTo>
                  <a:lnTo>
                    <a:pt x="3775" y="5846"/>
                  </a:lnTo>
                  <a:lnTo>
                    <a:pt x="3775" y="5853"/>
                  </a:lnTo>
                  <a:lnTo>
                    <a:pt x="3774" y="5861"/>
                  </a:lnTo>
                  <a:lnTo>
                    <a:pt x="3771" y="5868"/>
                  </a:lnTo>
                  <a:lnTo>
                    <a:pt x="3767" y="5874"/>
                  </a:lnTo>
                  <a:lnTo>
                    <a:pt x="3762" y="5881"/>
                  </a:lnTo>
                  <a:lnTo>
                    <a:pt x="3756" y="5886"/>
                  </a:lnTo>
                  <a:lnTo>
                    <a:pt x="3750" y="5891"/>
                  </a:lnTo>
                  <a:lnTo>
                    <a:pt x="3743" y="5895"/>
                  </a:lnTo>
                  <a:lnTo>
                    <a:pt x="3738" y="5898"/>
                  </a:lnTo>
                  <a:lnTo>
                    <a:pt x="3733" y="5900"/>
                  </a:lnTo>
                  <a:lnTo>
                    <a:pt x="3728" y="5902"/>
                  </a:lnTo>
                  <a:lnTo>
                    <a:pt x="3724" y="5903"/>
                  </a:lnTo>
                  <a:lnTo>
                    <a:pt x="3720" y="5903"/>
                  </a:lnTo>
                  <a:lnTo>
                    <a:pt x="2579" y="6376"/>
                  </a:lnTo>
                  <a:lnTo>
                    <a:pt x="4209" y="8007"/>
                  </a:lnTo>
                  <a:lnTo>
                    <a:pt x="4209" y="2804"/>
                  </a:lnTo>
                  <a:lnTo>
                    <a:pt x="3084" y="3310"/>
                  </a:lnTo>
                  <a:lnTo>
                    <a:pt x="2986" y="3294"/>
                  </a:lnTo>
                  <a:lnTo>
                    <a:pt x="2983" y="3289"/>
                  </a:lnTo>
                  <a:lnTo>
                    <a:pt x="2979" y="3282"/>
                  </a:lnTo>
                  <a:lnTo>
                    <a:pt x="2977" y="3273"/>
                  </a:lnTo>
                  <a:lnTo>
                    <a:pt x="2974" y="3262"/>
                  </a:lnTo>
                  <a:lnTo>
                    <a:pt x="2972" y="3249"/>
                  </a:lnTo>
                  <a:lnTo>
                    <a:pt x="2971" y="3233"/>
                  </a:lnTo>
                  <a:lnTo>
                    <a:pt x="2970" y="3216"/>
                  </a:lnTo>
                  <a:lnTo>
                    <a:pt x="2970" y="3197"/>
                  </a:lnTo>
                  <a:lnTo>
                    <a:pt x="4829" y="65"/>
                  </a:lnTo>
                  <a:lnTo>
                    <a:pt x="4841" y="51"/>
                  </a:lnTo>
                  <a:lnTo>
                    <a:pt x="4854" y="37"/>
                  </a:lnTo>
                  <a:lnTo>
                    <a:pt x="4861" y="31"/>
                  </a:lnTo>
                  <a:lnTo>
                    <a:pt x="4869" y="26"/>
                  </a:lnTo>
                  <a:lnTo>
                    <a:pt x="4876" y="21"/>
                  </a:lnTo>
                  <a:lnTo>
                    <a:pt x="4885" y="17"/>
                  </a:lnTo>
                  <a:lnTo>
                    <a:pt x="4893" y="13"/>
                  </a:lnTo>
                  <a:lnTo>
                    <a:pt x="4902" y="10"/>
                  </a:lnTo>
                  <a:lnTo>
                    <a:pt x="4910" y="7"/>
                  </a:lnTo>
                  <a:lnTo>
                    <a:pt x="4919" y="4"/>
                  </a:lnTo>
                  <a:lnTo>
                    <a:pt x="4929" y="3"/>
                  </a:lnTo>
                  <a:lnTo>
                    <a:pt x="4939" y="1"/>
                  </a:lnTo>
                  <a:lnTo>
                    <a:pt x="4948" y="1"/>
                  </a:lnTo>
                  <a:lnTo>
                    <a:pt x="4958" y="0"/>
                  </a:lnTo>
                  <a:lnTo>
                    <a:pt x="4972" y="1"/>
                  </a:lnTo>
                  <a:lnTo>
                    <a:pt x="4986" y="1"/>
                  </a:lnTo>
                  <a:lnTo>
                    <a:pt x="4998" y="3"/>
                  </a:lnTo>
                  <a:lnTo>
                    <a:pt x="5009" y="4"/>
                  </a:lnTo>
                  <a:lnTo>
                    <a:pt x="5020" y="7"/>
                  </a:lnTo>
                  <a:lnTo>
                    <a:pt x="5031" y="10"/>
                  </a:lnTo>
                  <a:lnTo>
                    <a:pt x="5040" y="13"/>
                  </a:lnTo>
                  <a:lnTo>
                    <a:pt x="5048" y="17"/>
                  </a:lnTo>
                  <a:lnTo>
                    <a:pt x="5056" y="21"/>
                  </a:lnTo>
                  <a:lnTo>
                    <a:pt x="5063" y="26"/>
                  </a:lnTo>
                  <a:lnTo>
                    <a:pt x="5069" y="31"/>
                  </a:lnTo>
                  <a:lnTo>
                    <a:pt x="5076" y="37"/>
                  </a:lnTo>
                  <a:lnTo>
                    <a:pt x="5080" y="44"/>
                  </a:lnTo>
                  <a:lnTo>
                    <a:pt x="5084" y="51"/>
                  </a:lnTo>
                  <a:lnTo>
                    <a:pt x="5087" y="58"/>
                  </a:lnTo>
                  <a:lnTo>
                    <a:pt x="5089" y="65"/>
                  </a:lnTo>
                  <a:lnTo>
                    <a:pt x="6948" y="3197"/>
                  </a:lnTo>
                  <a:lnTo>
                    <a:pt x="6947" y="3216"/>
                  </a:lnTo>
                  <a:lnTo>
                    <a:pt x="6946" y="3233"/>
                  </a:lnTo>
                  <a:lnTo>
                    <a:pt x="6943" y="3249"/>
                  </a:lnTo>
                  <a:lnTo>
                    <a:pt x="6937" y="3262"/>
                  </a:lnTo>
                  <a:lnTo>
                    <a:pt x="6935" y="3268"/>
                  </a:lnTo>
                  <a:lnTo>
                    <a:pt x="6932" y="3273"/>
                  </a:lnTo>
                  <a:lnTo>
                    <a:pt x="6929" y="3278"/>
                  </a:lnTo>
                  <a:lnTo>
                    <a:pt x="6925" y="3282"/>
                  </a:lnTo>
                  <a:lnTo>
                    <a:pt x="6922" y="3286"/>
                  </a:lnTo>
                  <a:lnTo>
                    <a:pt x="6918" y="3289"/>
                  </a:lnTo>
                  <a:lnTo>
                    <a:pt x="6913" y="3292"/>
                  </a:lnTo>
                  <a:lnTo>
                    <a:pt x="6909" y="3294"/>
                  </a:lnTo>
                  <a:lnTo>
                    <a:pt x="6887" y="3301"/>
                  </a:lnTo>
                  <a:lnTo>
                    <a:pt x="6868" y="3306"/>
                  </a:lnTo>
                  <a:lnTo>
                    <a:pt x="6851" y="3309"/>
                  </a:lnTo>
                  <a:lnTo>
                    <a:pt x="6833" y="3310"/>
                  </a:lnTo>
                  <a:lnTo>
                    <a:pt x="5692" y="2804"/>
                  </a:lnTo>
                  <a:lnTo>
                    <a:pt x="5692" y="8007"/>
                  </a:lnTo>
                  <a:lnTo>
                    <a:pt x="7322" y="6343"/>
                  </a:lnTo>
                  <a:lnTo>
                    <a:pt x="6165" y="5936"/>
                  </a:lnTo>
                  <a:lnTo>
                    <a:pt x="6099" y="5854"/>
                  </a:lnTo>
                  <a:lnTo>
                    <a:pt x="6165" y="5773"/>
                  </a:lnTo>
                  <a:lnTo>
                    <a:pt x="9703" y="4860"/>
                  </a:lnTo>
                  <a:lnTo>
                    <a:pt x="9713" y="4856"/>
                  </a:lnTo>
                  <a:lnTo>
                    <a:pt x="9723" y="4853"/>
                  </a:lnTo>
                  <a:lnTo>
                    <a:pt x="9733" y="4851"/>
                  </a:lnTo>
                  <a:lnTo>
                    <a:pt x="9744" y="4849"/>
                  </a:lnTo>
                  <a:lnTo>
                    <a:pt x="9754" y="4849"/>
                  </a:lnTo>
                  <a:lnTo>
                    <a:pt x="9764" y="4849"/>
                  </a:lnTo>
                  <a:lnTo>
                    <a:pt x="9773" y="4850"/>
                  </a:lnTo>
                  <a:lnTo>
                    <a:pt x="9783" y="4852"/>
                  </a:lnTo>
                  <a:lnTo>
                    <a:pt x="9794" y="4854"/>
                  </a:lnTo>
                  <a:lnTo>
                    <a:pt x="9803" y="4857"/>
                  </a:lnTo>
                  <a:lnTo>
                    <a:pt x="9812" y="4861"/>
                  </a:lnTo>
                  <a:lnTo>
                    <a:pt x="9822" y="4866"/>
                  </a:lnTo>
                  <a:lnTo>
                    <a:pt x="9831" y="4871"/>
                  </a:lnTo>
                  <a:lnTo>
                    <a:pt x="9841" y="4878"/>
                  </a:lnTo>
                  <a:lnTo>
                    <a:pt x="9850" y="4884"/>
                  </a:lnTo>
                  <a:lnTo>
                    <a:pt x="9859" y="4893"/>
                  </a:lnTo>
                  <a:lnTo>
                    <a:pt x="9868" y="4901"/>
                  </a:lnTo>
                  <a:lnTo>
                    <a:pt x="9876" y="4909"/>
                  </a:lnTo>
                  <a:lnTo>
                    <a:pt x="9884" y="4917"/>
                  </a:lnTo>
                  <a:lnTo>
                    <a:pt x="9890" y="4926"/>
                  </a:lnTo>
                  <a:lnTo>
                    <a:pt x="9895" y="4935"/>
                  </a:lnTo>
                  <a:lnTo>
                    <a:pt x="9899" y="4946"/>
                  </a:lnTo>
                  <a:lnTo>
                    <a:pt x="9903" y="4955"/>
                  </a:lnTo>
                  <a:lnTo>
                    <a:pt x="9906" y="4965"/>
                  </a:lnTo>
                  <a:lnTo>
                    <a:pt x="9908" y="4975"/>
                  </a:lnTo>
                  <a:lnTo>
                    <a:pt x="9909" y="4986"/>
                  </a:lnTo>
                  <a:lnTo>
                    <a:pt x="9909" y="4997"/>
                  </a:lnTo>
                  <a:lnTo>
                    <a:pt x="9909" y="5008"/>
                  </a:lnTo>
                  <a:lnTo>
                    <a:pt x="9908" y="5020"/>
                  </a:lnTo>
                  <a:lnTo>
                    <a:pt x="9905" y="5031"/>
                  </a:lnTo>
                  <a:lnTo>
                    <a:pt x="9902" y="5044"/>
                  </a:lnTo>
                  <a:lnTo>
                    <a:pt x="9899" y="505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1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179"/>
          <p:cNvGrpSpPr/>
          <p:nvPr/>
        </p:nvGrpSpPr>
        <p:grpSpPr>
          <a:xfrm>
            <a:off x="2632680" y="4399200"/>
            <a:ext cx="647280" cy="647280"/>
            <a:chOff x="2632680" y="4399200"/>
            <a:chExt cx="647280" cy="647280"/>
          </a:xfrm>
        </p:grpSpPr>
        <p:sp>
          <p:nvSpPr>
            <p:cNvPr id="112" name="椭圆 76"/>
            <p:cNvSpPr/>
            <p:nvPr/>
          </p:nvSpPr>
          <p:spPr>
            <a:xfrm>
              <a:off x="2632680" y="4399200"/>
              <a:ext cx="647280" cy="64728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3" name="组合 128"/>
            <p:cNvGrpSpPr/>
            <p:nvPr/>
          </p:nvGrpSpPr>
          <p:grpSpPr>
            <a:xfrm>
              <a:off x="2768760" y="4475880"/>
              <a:ext cx="375120" cy="442800"/>
              <a:chOff x="2768760" y="4475880"/>
              <a:chExt cx="375120" cy="442800"/>
            </a:xfrm>
          </p:grpSpPr>
          <p:sp>
            <p:nvSpPr>
              <p:cNvPr id="114" name="Freeform 252"/>
              <p:cNvSpPr/>
              <p:nvPr/>
            </p:nvSpPr>
            <p:spPr>
              <a:xfrm>
                <a:off x="2932920" y="4623120"/>
                <a:ext cx="11160" cy="27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17" h="532">
                    <a:moveTo>
                      <a:pt x="217" y="2"/>
                    </a:moveTo>
                    <a:lnTo>
                      <a:pt x="5" y="0"/>
                    </a:lnTo>
                    <a:lnTo>
                      <a:pt x="0" y="530"/>
                    </a:lnTo>
                    <a:lnTo>
                      <a:pt x="212" y="532"/>
                    </a:lnTo>
                    <a:lnTo>
                      <a:pt x="217" y="2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Freeform 253"/>
              <p:cNvSpPr/>
              <p:nvPr/>
            </p:nvSpPr>
            <p:spPr>
              <a:xfrm>
                <a:off x="2866680" y="4636080"/>
                <a:ext cx="23400" cy="29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445" h="567">
                    <a:moveTo>
                      <a:pt x="185" y="0"/>
                    </a:moveTo>
                    <a:lnTo>
                      <a:pt x="0" y="104"/>
                    </a:lnTo>
                    <a:lnTo>
                      <a:pt x="260" y="567"/>
                    </a:lnTo>
                    <a:lnTo>
                      <a:pt x="445" y="46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254"/>
              <p:cNvSpPr/>
              <p:nvPr/>
            </p:nvSpPr>
            <p:spPr>
              <a:xfrm>
                <a:off x="2818440" y="4680720"/>
                <a:ext cx="29520" cy="237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66" h="453">
                    <a:moveTo>
                      <a:pt x="109" y="0"/>
                    </a:moveTo>
                    <a:lnTo>
                      <a:pt x="0" y="183"/>
                    </a:lnTo>
                    <a:lnTo>
                      <a:pt x="457" y="453"/>
                    </a:lnTo>
                    <a:lnTo>
                      <a:pt x="566" y="27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255"/>
              <p:cNvSpPr/>
              <p:nvPr/>
            </p:nvSpPr>
            <p:spPr>
              <a:xfrm>
                <a:off x="2800440" y="474624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33" h="218">
                    <a:moveTo>
                      <a:pt x="2" y="0"/>
                    </a:moveTo>
                    <a:lnTo>
                      <a:pt x="0" y="212"/>
                    </a:lnTo>
                    <a:lnTo>
                      <a:pt x="530" y="218"/>
                    </a:lnTo>
                    <a:lnTo>
                      <a:pt x="533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256"/>
              <p:cNvSpPr/>
              <p:nvPr/>
            </p:nvSpPr>
            <p:spPr>
              <a:xfrm>
                <a:off x="2813040" y="4800240"/>
                <a:ext cx="29520" cy="2340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67" h="445">
                    <a:moveTo>
                      <a:pt x="0" y="260"/>
                    </a:moveTo>
                    <a:lnTo>
                      <a:pt x="105" y="445"/>
                    </a:lnTo>
                    <a:lnTo>
                      <a:pt x="567" y="185"/>
                    </a:lnTo>
                    <a:lnTo>
                      <a:pt x="463" y="0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Freeform 257"/>
              <p:cNvSpPr/>
              <p:nvPr/>
            </p:nvSpPr>
            <p:spPr>
              <a:xfrm>
                <a:off x="2918880" y="4741920"/>
                <a:ext cx="29520" cy="29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565" h="565">
                    <a:moveTo>
                      <a:pt x="427" y="38"/>
                    </a:moveTo>
                    <a:lnTo>
                      <a:pt x="388" y="20"/>
                    </a:lnTo>
                    <a:lnTo>
                      <a:pt x="347" y="7"/>
                    </a:lnTo>
                    <a:lnTo>
                      <a:pt x="294" y="0"/>
                    </a:lnTo>
                    <a:lnTo>
                      <a:pt x="252" y="1"/>
                    </a:lnTo>
                    <a:lnTo>
                      <a:pt x="200" y="12"/>
                    </a:lnTo>
                    <a:lnTo>
                      <a:pt x="150" y="33"/>
                    </a:lnTo>
                    <a:lnTo>
                      <a:pt x="93" y="72"/>
                    </a:lnTo>
                    <a:lnTo>
                      <a:pt x="64" y="103"/>
                    </a:lnTo>
                    <a:lnTo>
                      <a:pt x="39" y="139"/>
                    </a:lnTo>
                    <a:lnTo>
                      <a:pt x="15" y="190"/>
                    </a:lnTo>
                    <a:lnTo>
                      <a:pt x="4" y="231"/>
                    </a:lnTo>
                    <a:lnTo>
                      <a:pt x="0" y="272"/>
                    </a:lnTo>
                    <a:lnTo>
                      <a:pt x="3" y="326"/>
                    </a:lnTo>
                    <a:lnTo>
                      <a:pt x="22" y="392"/>
                    </a:lnTo>
                    <a:lnTo>
                      <a:pt x="40" y="428"/>
                    </a:lnTo>
                    <a:lnTo>
                      <a:pt x="73" y="472"/>
                    </a:lnTo>
                    <a:lnTo>
                      <a:pt x="104" y="502"/>
                    </a:lnTo>
                    <a:lnTo>
                      <a:pt x="152" y="534"/>
                    </a:lnTo>
                    <a:lnTo>
                      <a:pt x="204" y="554"/>
                    </a:lnTo>
                    <a:lnTo>
                      <a:pt x="245" y="563"/>
                    </a:lnTo>
                    <a:lnTo>
                      <a:pt x="299" y="565"/>
                    </a:lnTo>
                    <a:lnTo>
                      <a:pt x="353" y="557"/>
                    </a:lnTo>
                    <a:lnTo>
                      <a:pt x="404" y="538"/>
                    </a:lnTo>
                    <a:lnTo>
                      <a:pt x="451" y="510"/>
                    </a:lnTo>
                    <a:lnTo>
                      <a:pt x="493" y="472"/>
                    </a:lnTo>
                    <a:lnTo>
                      <a:pt x="527" y="427"/>
                    </a:lnTo>
                    <a:lnTo>
                      <a:pt x="551" y="375"/>
                    </a:lnTo>
                    <a:lnTo>
                      <a:pt x="565" y="307"/>
                    </a:lnTo>
                    <a:lnTo>
                      <a:pt x="564" y="253"/>
                    </a:lnTo>
                    <a:lnTo>
                      <a:pt x="553" y="199"/>
                    </a:lnTo>
                    <a:lnTo>
                      <a:pt x="532" y="149"/>
                    </a:lnTo>
                    <a:lnTo>
                      <a:pt x="510" y="114"/>
                    </a:lnTo>
                    <a:lnTo>
                      <a:pt x="483" y="82"/>
                    </a:lnTo>
                    <a:lnTo>
                      <a:pt x="427" y="38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258"/>
              <p:cNvSpPr/>
              <p:nvPr/>
            </p:nvSpPr>
            <p:spPr>
              <a:xfrm>
                <a:off x="2998080" y="4556880"/>
                <a:ext cx="82080" cy="813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553" h="1532">
                    <a:moveTo>
                      <a:pt x="1553" y="588"/>
                    </a:moveTo>
                    <a:lnTo>
                      <a:pt x="559" y="0"/>
                    </a:lnTo>
                    <a:lnTo>
                      <a:pt x="567" y="211"/>
                    </a:lnTo>
                    <a:lnTo>
                      <a:pt x="549" y="364"/>
                    </a:lnTo>
                    <a:lnTo>
                      <a:pt x="522" y="469"/>
                    </a:lnTo>
                    <a:lnTo>
                      <a:pt x="481" y="565"/>
                    </a:lnTo>
                    <a:lnTo>
                      <a:pt x="428" y="652"/>
                    </a:lnTo>
                    <a:lnTo>
                      <a:pt x="310" y="779"/>
                    </a:lnTo>
                    <a:lnTo>
                      <a:pt x="220" y="844"/>
                    </a:lnTo>
                    <a:lnTo>
                      <a:pt x="0" y="944"/>
                    </a:lnTo>
                    <a:lnTo>
                      <a:pt x="995" y="1532"/>
                    </a:lnTo>
                    <a:lnTo>
                      <a:pt x="978" y="1354"/>
                    </a:lnTo>
                    <a:lnTo>
                      <a:pt x="982" y="1233"/>
                    </a:lnTo>
                    <a:lnTo>
                      <a:pt x="1002" y="1121"/>
                    </a:lnTo>
                    <a:lnTo>
                      <a:pt x="1036" y="1021"/>
                    </a:lnTo>
                    <a:lnTo>
                      <a:pt x="1084" y="929"/>
                    </a:lnTo>
                    <a:lnTo>
                      <a:pt x="1145" y="846"/>
                    </a:lnTo>
                    <a:lnTo>
                      <a:pt x="1219" y="773"/>
                    </a:lnTo>
                    <a:lnTo>
                      <a:pt x="1337" y="688"/>
                    </a:lnTo>
                    <a:lnTo>
                      <a:pt x="1553" y="588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259"/>
              <p:cNvSpPr/>
              <p:nvPr/>
            </p:nvSpPr>
            <p:spPr>
              <a:xfrm>
                <a:off x="2887560" y="4656600"/>
                <a:ext cx="53280" cy="1029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013" h="1940">
                    <a:moveTo>
                      <a:pt x="852" y="1940"/>
                    </a:moveTo>
                    <a:lnTo>
                      <a:pt x="0" y="74"/>
                    </a:lnTo>
                    <a:lnTo>
                      <a:pt x="161" y="0"/>
                    </a:lnTo>
                    <a:lnTo>
                      <a:pt x="1013" y="1867"/>
                    </a:lnTo>
                    <a:lnTo>
                      <a:pt x="852" y="194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260"/>
              <p:cNvSpPr/>
              <p:nvPr/>
            </p:nvSpPr>
            <p:spPr>
              <a:xfrm>
                <a:off x="2857680" y="4842720"/>
                <a:ext cx="23760" cy="295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453" h="564">
                    <a:moveTo>
                      <a:pt x="0" y="456"/>
                    </a:moveTo>
                    <a:lnTo>
                      <a:pt x="183" y="564"/>
                    </a:lnTo>
                    <a:lnTo>
                      <a:pt x="453" y="107"/>
                    </a:lnTo>
                    <a:lnTo>
                      <a:pt x="270" y="0"/>
                    </a:lnTo>
                    <a:lnTo>
                      <a:pt x="0" y="456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261"/>
              <p:cNvSpPr/>
              <p:nvPr/>
            </p:nvSpPr>
            <p:spPr>
              <a:xfrm>
                <a:off x="2923200" y="4861800"/>
                <a:ext cx="11160" cy="280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18" h="534">
                    <a:moveTo>
                      <a:pt x="0" y="530"/>
                    </a:moveTo>
                    <a:lnTo>
                      <a:pt x="213" y="534"/>
                    </a:lnTo>
                    <a:lnTo>
                      <a:pt x="218" y="2"/>
                    </a:lnTo>
                    <a:lnTo>
                      <a:pt x="5" y="0"/>
                    </a:lnTo>
                    <a:lnTo>
                      <a:pt x="0" y="53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262"/>
              <p:cNvSpPr/>
              <p:nvPr/>
            </p:nvSpPr>
            <p:spPr>
              <a:xfrm>
                <a:off x="2977200" y="4847400"/>
                <a:ext cx="23400" cy="298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44" h="566">
                    <a:moveTo>
                      <a:pt x="260" y="566"/>
                    </a:moveTo>
                    <a:lnTo>
                      <a:pt x="444" y="461"/>
                    </a:lnTo>
                    <a:lnTo>
                      <a:pt x="184" y="0"/>
                    </a:lnTo>
                    <a:lnTo>
                      <a:pt x="0" y="104"/>
                    </a:lnTo>
                    <a:lnTo>
                      <a:pt x="260" y="566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263"/>
              <p:cNvSpPr/>
              <p:nvPr/>
            </p:nvSpPr>
            <p:spPr>
              <a:xfrm>
                <a:off x="3019320" y="4808520"/>
                <a:ext cx="29520" cy="237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65" h="452">
                    <a:moveTo>
                      <a:pt x="457" y="452"/>
                    </a:moveTo>
                    <a:lnTo>
                      <a:pt x="565" y="270"/>
                    </a:lnTo>
                    <a:lnTo>
                      <a:pt x="108" y="0"/>
                    </a:lnTo>
                    <a:lnTo>
                      <a:pt x="0" y="183"/>
                    </a:lnTo>
                    <a:lnTo>
                      <a:pt x="457" y="452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264"/>
              <p:cNvSpPr/>
              <p:nvPr/>
            </p:nvSpPr>
            <p:spPr>
              <a:xfrm>
                <a:off x="3038400" y="475596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32" h="218">
                    <a:moveTo>
                      <a:pt x="530" y="218"/>
                    </a:moveTo>
                    <a:lnTo>
                      <a:pt x="532" y="6"/>
                    </a:lnTo>
                    <a:lnTo>
                      <a:pt x="2" y="0"/>
                    </a:lnTo>
                    <a:lnTo>
                      <a:pt x="0" y="212"/>
                    </a:lnTo>
                    <a:lnTo>
                      <a:pt x="530" y="218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265"/>
              <p:cNvSpPr/>
              <p:nvPr/>
            </p:nvSpPr>
            <p:spPr>
              <a:xfrm>
                <a:off x="3024000" y="4689720"/>
                <a:ext cx="29880" cy="230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66" h="445">
                    <a:moveTo>
                      <a:pt x="566" y="185"/>
                    </a:moveTo>
                    <a:lnTo>
                      <a:pt x="462" y="0"/>
                    </a:lnTo>
                    <a:lnTo>
                      <a:pt x="0" y="261"/>
                    </a:lnTo>
                    <a:lnTo>
                      <a:pt x="105" y="445"/>
                    </a:lnTo>
                    <a:lnTo>
                      <a:pt x="566" y="185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266"/>
              <p:cNvSpPr/>
              <p:nvPr/>
            </p:nvSpPr>
            <p:spPr>
              <a:xfrm>
                <a:off x="2985480" y="4640760"/>
                <a:ext cx="23760" cy="29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53" h="565">
                    <a:moveTo>
                      <a:pt x="453" y="108"/>
                    </a:moveTo>
                    <a:lnTo>
                      <a:pt x="270" y="0"/>
                    </a:lnTo>
                    <a:lnTo>
                      <a:pt x="0" y="457"/>
                    </a:lnTo>
                    <a:lnTo>
                      <a:pt x="183" y="565"/>
                    </a:lnTo>
                    <a:lnTo>
                      <a:pt x="453" y="108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267"/>
              <p:cNvSpPr/>
              <p:nvPr/>
            </p:nvSpPr>
            <p:spPr>
              <a:xfrm>
                <a:off x="2929320" y="4721400"/>
                <a:ext cx="96480" cy="421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821" h="799">
                    <a:moveTo>
                      <a:pt x="1821" y="306"/>
                    </a:moveTo>
                    <a:lnTo>
                      <a:pt x="1735" y="0"/>
                    </a:lnTo>
                    <a:lnTo>
                      <a:pt x="0" y="493"/>
                    </a:lnTo>
                    <a:lnTo>
                      <a:pt x="86" y="799"/>
                    </a:lnTo>
                    <a:lnTo>
                      <a:pt x="1821" y="306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268"/>
              <p:cNvSpPr/>
              <p:nvPr/>
            </p:nvSpPr>
            <p:spPr>
              <a:xfrm>
                <a:off x="3017880" y="4532760"/>
                <a:ext cx="83520" cy="6408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586" h="1215">
                    <a:moveTo>
                      <a:pt x="995" y="274"/>
                    </a:moveTo>
                    <a:lnTo>
                      <a:pt x="516" y="28"/>
                    </a:lnTo>
                    <a:lnTo>
                      <a:pt x="428" y="6"/>
                    </a:lnTo>
                    <a:lnTo>
                      <a:pt x="371" y="0"/>
                    </a:lnTo>
                    <a:lnTo>
                      <a:pt x="317" y="3"/>
                    </a:lnTo>
                    <a:lnTo>
                      <a:pt x="266" y="15"/>
                    </a:lnTo>
                    <a:lnTo>
                      <a:pt x="217" y="35"/>
                    </a:lnTo>
                    <a:lnTo>
                      <a:pt x="171" y="66"/>
                    </a:lnTo>
                    <a:lnTo>
                      <a:pt x="126" y="109"/>
                    </a:lnTo>
                    <a:lnTo>
                      <a:pt x="85" y="162"/>
                    </a:lnTo>
                    <a:lnTo>
                      <a:pt x="32" y="256"/>
                    </a:lnTo>
                    <a:lnTo>
                      <a:pt x="11" y="314"/>
                    </a:lnTo>
                    <a:lnTo>
                      <a:pt x="1" y="367"/>
                    </a:lnTo>
                    <a:lnTo>
                      <a:pt x="0" y="392"/>
                    </a:lnTo>
                    <a:lnTo>
                      <a:pt x="7" y="438"/>
                    </a:lnTo>
                    <a:lnTo>
                      <a:pt x="22" y="482"/>
                    </a:lnTo>
                    <a:lnTo>
                      <a:pt x="48" y="522"/>
                    </a:lnTo>
                    <a:lnTo>
                      <a:pt x="81" y="559"/>
                    </a:lnTo>
                    <a:lnTo>
                      <a:pt x="172" y="632"/>
                    </a:lnTo>
                    <a:lnTo>
                      <a:pt x="1144" y="1181"/>
                    </a:lnTo>
                    <a:lnTo>
                      <a:pt x="1227" y="1206"/>
                    </a:lnTo>
                    <a:lnTo>
                      <a:pt x="1303" y="1215"/>
                    </a:lnTo>
                    <a:lnTo>
                      <a:pt x="1374" y="1204"/>
                    </a:lnTo>
                    <a:lnTo>
                      <a:pt x="1418" y="1184"/>
                    </a:lnTo>
                    <a:lnTo>
                      <a:pt x="1439" y="1171"/>
                    </a:lnTo>
                    <a:lnTo>
                      <a:pt x="1478" y="1136"/>
                    </a:lnTo>
                    <a:lnTo>
                      <a:pt x="1515" y="1089"/>
                    </a:lnTo>
                    <a:lnTo>
                      <a:pt x="1549" y="1033"/>
                    </a:lnTo>
                    <a:lnTo>
                      <a:pt x="1572" y="976"/>
                    </a:lnTo>
                    <a:lnTo>
                      <a:pt x="1584" y="920"/>
                    </a:lnTo>
                    <a:lnTo>
                      <a:pt x="1586" y="866"/>
                    </a:lnTo>
                    <a:lnTo>
                      <a:pt x="1572" y="788"/>
                    </a:lnTo>
                    <a:lnTo>
                      <a:pt x="1537" y="712"/>
                    </a:lnTo>
                    <a:lnTo>
                      <a:pt x="1485" y="640"/>
                    </a:lnTo>
                    <a:lnTo>
                      <a:pt x="1392" y="545"/>
                    </a:lnTo>
                    <a:lnTo>
                      <a:pt x="995" y="274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Oval 269"/>
              <p:cNvSpPr/>
              <p:nvPr/>
            </p:nvSpPr>
            <p:spPr>
              <a:xfrm>
                <a:off x="2768760" y="4591440"/>
                <a:ext cx="326880" cy="327240"/>
              </a:xfrm>
              <a:prstGeom prst="ellipse">
                <a:avLst/>
              </a:prstGeom>
              <a:noFill/>
              <a:ln w="571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Oval 270"/>
              <p:cNvSpPr/>
              <p:nvPr/>
            </p:nvSpPr>
            <p:spPr>
              <a:xfrm>
                <a:off x="2999880" y="4475880"/>
                <a:ext cx="144000" cy="144360"/>
              </a:xfrm>
              <a:prstGeom prst="ellipse">
                <a:avLst/>
              </a:prstGeom>
              <a:noFill/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3" name="组合 181"/>
          <p:cNvGrpSpPr/>
          <p:nvPr/>
        </p:nvGrpSpPr>
        <p:grpSpPr>
          <a:xfrm>
            <a:off x="7132320" y="4387680"/>
            <a:ext cx="647280" cy="647280"/>
            <a:chOff x="7132320" y="4387680"/>
            <a:chExt cx="647280" cy="647280"/>
          </a:xfrm>
        </p:grpSpPr>
        <p:sp>
          <p:nvSpPr>
            <p:cNvPr id="134" name="椭圆 78"/>
            <p:cNvSpPr/>
            <p:nvPr/>
          </p:nvSpPr>
          <p:spPr>
            <a:xfrm>
              <a:off x="7132320" y="4387680"/>
              <a:ext cx="647280" cy="64728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35" name="组合 163"/>
            <p:cNvGrpSpPr/>
            <p:nvPr/>
          </p:nvGrpSpPr>
          <p:grpSpPr>
            <a:xfrm>
              <a:off x="7237440" y="4484880"/>
              <a:ext cx="437400" cy="368640"/>
              <a:chOff x="7237440" y="4484880"/>
              <a:chExt cx="437400" cy="368640"/>
            </a:xfrm>
          </p:grpSpPr>
          <p:sp>
            <p:nvSpPr>
              <p:cNvPr id="136" name="Freeform 52"/>
              <p:cNvSpPr/>
              <p:nvPr/>
            </p:nvSpPr>
            <p:spPr>
              <a:xfrm>
                <a:off x="7237440" y="4809600"/>
                <a:ext cx="437400" cy="43920"/>
              </a:xfrm>
              <a:custGeom>
                <a:avLst/>
                <a:gdLst>
                  <a:gd name="textAreaLeft" fmla="*/ 0 w 437400"/>
                  <a:gd name="textAreaRight" fmla="*/ 437760 w 437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146" h="1140">
                    <a:moveTo>
                      <a:pt x="1141" y="1140"/>
                    </a:moveTo>
                    <a:lnTo>
                      <a:pt x="1071" y="1139"/>
                    </a:lnTo>
                    <a:lnTo>
                      <a:pt x="1003" y="1136"/>
                    </a:lnTo>
                    <a:lnTo>
                      <a:pt x="937" y="1130"/>
                    </a:lnTo>
                    <a:lnTo>
                      <a:pt x="873" y="1122"/>
                    </a:lnTo>
                    <a:lnTo>
                      <a:pt x="812" y="1112"/>
                    </a:lnTo>
                    <a:lnTo>
                      <a:pt x="753" y="1100"/>
                    </a:lnTo>
                    <a:lnTo>
                      <a:pt x="697" y="1086"/>
                    </a:lnTo>
                    <a:lnTo>
                      <a:pt x="642" y="1068"/>
                    </a:lnTo>
                    <a:lnTo>
                      <a:pt x="589" y="1049"/>
                    </a:lnTo>
                    <a:lnTo>
                      <a:pt x="539" y="1028"/>
                    </a:lnTo>
                    <a:lnTo>
                      <a:pt x="492" y="1005"/>
                    </a:lnTo>
                    <a:lnTo>
                      <a:pt x="446" y="979"/>
                    </a:lnTo>
                    <a:lnTo>
                      <a:pt x="403" y="952"/>
                    </a:lnTo>
                    <a:lnTo>
                      <a:pt x="361" y="922"/>
                    </a:lnTo>
                    <a:lnTo>
                      <a:pt x="322" y="889"/>
                    </a:lnTo>
                    <a:lnTo>
                      <a:pt x="286" y="855"/>
                    </a:lnTo>
                    <a:lnTo>
                      <a:pt x="251" y="818"/>
                    </a:lnTo>
                    <a:lnTo>
                      <a:pt x="219" y="779"/>
                    </a:lnTo>
                    <a:lnTo>
                      <a:pt x="189" y="738"/>
                    </a:lnTo>
                    <a:lnTo>
                      <a:pt x="161" y="694"/>
                    </a:lnTo>
                    <a:lnTo>
                      <a:pt x="136" y="649"/>
                    </a:lnTo>
                    <a:lnTo>
                      <a:pt x="112" y="601"/>
                    </a:lnTo>
                    <a:lnTo>
                      <a:pt x="91" y="551"/>
                    </a:lnTo>
                    <a:lnTo>
                      <a:pt x="71" y="499"/>
                    </a:lnTo>
                    <a:lnTo>
                      <a:pt x="55" y="444"/>
                    </a:lnTo>
                    <a:lnTo>
                      <a:pt x="40" y="387"/>
                    </a:lnTo>
                    <a:lnTo>
                      <a:pt x="28" y="328"/>
                    </a:lnTo>
                    <a:lnTo>
                      <a:pt x="18" y="267"/>
                    </a:lnTo>
                    <a:lnTo>
                      <a:pt x="10" y="204"/>
                    </a:lnTo>
                    <a:lnTo>
                      <a:pt x="5" y="137"/>
                    </a:lnTo>
                    <a:lnTo>
                      <a:pt x="2" y="70"/>
                    </a:lnTo>
                    <a:lnTo>
                      <a:pt x="0" y="0"/>
                    </a:lnTo>
                    <a:lnTo>
                      <a:pt x="11132" y="0"/>
                    </a:lnTo>
                    <a:lnTo>
                      <a:pt x="11146" y="0"/>
                    </a:lnTo>
                    <a:lnTo>
                      <a:pt x="11144" y="70"/>
                    </a:lnTo>
                    <a:lnTo>
                      <a:pt x="11141" y="137"/>
                    </a:lnTo>
                    <a:lnTo>
                      <a:pt x="11135" y="204"/>
                    </a:lnTo>
                    <a:lnTo>
                      <a:pt x="11128" y="267"/>
                    </a:lnTo>
                    <a:lnTo>
                      <a:pt x="11117" y="328"/>
                    </a:lnTo>
                    <a:lnTo>
                      <a:pt x="11105" y="387"/>
                    </a:lnTo>
                    <a:lnTo>
                      <a:pt x="11090" y="444"/>
                    </a:lnTo>
                    <a:lnTo>
                      <a:pt x="11074" y="499"/>
                    </a:lnTo>
                    <a:lnTo>
                      <a:pt x="11054" y="551"/>
                    </a:lnTo>
                    <a:lnTo>
                      <a:pt x="11032" y="601"/>
                    </a:lnTo>
                    <a:lnTo>
                      <a:pt x="11009" y="649"/>
                    </a:lnTo>
                    <a:lnTo>
                      <a:pt x="10983" y="694"/>
                    </a:lnTo>
                    <a:lnTo>
                      <a:pt x="10955" y="738"/>
                    </a:lnTo>
                    <a:lnTo>
                      <a:pt x="10925" y="779"/>
                    </a:lnTo>
                    <a:lnTo>
                      <a:pt x="10892" y="818"/>
                    </a:lnTo>
                    <a:lnTo>
                      <a:pt x="10858" y="855"/>
                    </a:lnTo>
                    <a:lnTo>
                      <a:pt x="10821" y="889"/>
                    </a:lnTo>
                    <a:lnTo>
                      <a:pt x="10782" y="922"/>
                    </a:lnTo>
                    <a:lnTo>
                      <a:pt x="10739" y="952"/>
                    </a:lnTo>
                    <a:lnTo>
                      <a:pt x="10696" y="979"/>
                    </a:lnTo>
                    <a:lnTo>
                      <a:pt x="10650" y="1005"/>
                    </a:lnTo>
                    <a:lnTo>
                      <a:pt x="10602" y="1028"/>
                    </a:lnTo>
                    <a:lnTo>
                      <a:pt x="10551" y="1049"/>
                    </a:lnTo>
                    <a:lnTo>
                      <a:pt x="10499" y="1068"/>
                    </a:lnTo>
                    <a:lnTo>
                      <a:pt x="10443" y="1086"/>
                    </a:lnTo>
                    <a:lnTo>
                      <a:pt x="10386" y="1100"/>
                    </a:lnTo>
                    <a:lnTo>
                      <a:pt x="10327" y="1112"/>
                    </a:lnTo>
                    <a:lnTo>
                      <a:pt x="10265" y="1122"/>
                    </a:lnTo>
                    <a:lnTo>
                      <a:pt x="10202" y="1130"/>
                    </a:lnTo>
                    <a:lnTo>
                      <a:pt x="10135" y="1136"/>
                    </a:lnTo>
                    <a:lnTo>
                      <a:pt x="10067" y="1139"/>
                    </a:lnTo>
                    <a:lnTo>
                      <a:pt x="9996" y="1140"/>
                    </a:lnTo>
                    <a:lnTo>
                      <a:pt x="1141" y="1140"/>
                    </a:ln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53"/>
              <p:cNvSpPr/>
              <p:nvPr/>
            </p:nvSpPr>
            <p:spPr>
              <a:xfrm>
                <a:off x="7336800" y="4586400"/>
                <a:ext cx="320760" cy="20952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157" h="5347">
                    <a:moveTo>
                      <a:pt x="6058" y="4180"/>
                    </a:moveTo>
                    <a:lnTo>
                      <a:pt x="6058" y="4428"/>
                    </a:lnTo>
                    <a:lnTo>
                      <a:pt x="6057" y="4484"/>
                    </a:lnTo>
                    <a:lnTo>
                      <a:pt x="6055" y="4539"/>
                    </a:lnTo>
                    <a:lnTo>
                      <a:pt x="6050" y="4591"/>
                    </a:lnTo>
                    <a:lnTo>
                      <a:pt x="6044" y="4642"/>
                    </a:lnTo>
                    <a:lnTo>
                      <a:pt x="6035" y="4692"/>
                    </a:lnTo>
                    <a:lnTo>
                      <a:pt x="6025" y="4739"/>
                    </a:lnTo>
                    <a:lnTo>
                      <a:pt x="6013" y="4785"/>
                    </a:lnTo>
                    <a:lnTo>
                      <a:pt x="6000" y="4829"/>
                    </a:lnTo>
                    <a:lnTo>
                      <a:pt x="5984" y="4871"/>
                    </a:lnTo>
                    <a:lnTo>
                      <a:pt x="5967" y="4911"/>
                    </a:lnTo>
                    <a:lnTo>
                      <a:pt x="5947" y="4949"/>
                    </a:lnTo>
                    <a:lnTo>
                      <a:pt x="5926" y="4987"/>
                    </a:lnTo>
                    <a:lnTo>
                      <a:pt x="5903" y="5022"/>
                    </a:lnTo>
                    <a:lnTo>
                      <a:pt x="5878" y="5055"/>
                    </a:lnTo>
                    <a:lnTo>
                      <a:pt x="5851" y="5086"/>
                    </a:lnTo>
                    <a:lnTo>
                      <a:pt x="5822" y="5116"/>
                    </a:lnTo>
                    <a:lnTo>
                      <a:pt x="5792" y="5144"/>
                    </a:lnTo>
                    <a:lnTo>
                      <a:pt x="5760" y="5170"/>
                    </a:lnTo>
                    <a:lnTo>
                      <a:pt x="5726" y="5194"/>
                    </a:lnTo>
                    <a:lnTo>
                      <a:pt x="5690" y="5217"/>
                    </a:lnTo>
                    <a:lnTo>
                      <a:pt x="5652" y="5237"/>
                    </a:lnTo>
                    <a:lnTo>
                      <a:pt x="5612" y="5256"/>
                    </a:lnTo>
                    <a:lnTo>
                      <a:pt x="5571" y="5273"/>
                    </a:lnTo>
                    <a:lnTo>
                      <a:pt x="5527" y="5289"/>
                    </a:lnTo>
                    <a:lnTo>
                      <a:pt x="5482" y="5303"/>
                    </a:lnTo>
                    <a:lnTo>
                      <a:pt x="5435" y="5315"/>
                    </a:lnTo>
                    <a:lnTo>
                      <a:pt x="5386" y="5325"/>
                    </a:lnTo>
                    <a:lnTo>
                      <a:pt x="5335" y="5333"/>
                    </a:lnTo>
                    <a:lnTo>
                      <a:pt x="5283" y="5339"/>
                    </a:lnTo>
                    <a:lnTo>
                      <a:pt x="5227" y="5343"/>
                    </a:lnTo>
                    <a:lnTo>
                      <a:pt x="5171" y="5346"/>
                    </a:lnTo>
                    <a:lnTo>
                      <a:pt x="5113" y="5347"/>
                    </a:lnTo>
                    <a:lnTo>
                      <a:pt x="933" y="5347"/>
                    </a:lnTo>
                    <a:lnTo>
                      <a:pt x="875" y="5346"/>
                    </a:lnTo>
                    <a:lnTo>
                      <a:pt x="820" y="5343"/>
                    </a:lnTo>
                    <a:lnTo>
                      <a:pt x="765" y="5339"/>
                    </a:lnTo>
                    <a:lnTo>
                      <a:pt x="713" y="5333"/>
                    </a:lnTo>
                    <a:lnTo>
                      <a:pt x="663" y="5325"/>
                    </a:lnTo>
                    <a:lnTo>
                      <a:pt x="615" y="5315"/>
                    </a:lnTo>
                    <a:lnTo>
                      <a:pt x="569" y="5303"/>
                    </a:lnTo>
                    <a:lnTo>
                      <a:pt x="524" y="5289"/>
                    </a:lnTo>
                    <a:lnTo>
                      <a:pt x="481" y="5273"/>
                    </a:lnTo>
                    <a:lnTo>
                      <a:pt x="440" y="5256"/>
                    </a:lnTo>
                    <a:lnTo>
                      <a:pt x="401" y="5237"/>
                    </a:lnTo>
                    <a:lnTo>
                      <a:pt x="364" y="5217"/>
                    </a:lnTo>
                    <a:lnTo>
                      <a:pt x="328" y="5194"/>
                    </a:lnTo>
                    <a:lnTo>
                      <a:pt x="295" y="5170"/>
                    </a:lnTo>
                    <a:lnTo>
                      <a:pt x="263" y="5144"/>
                    </a:lnTo>
                    <a:lnTo>
                      <a:pt x="233" y="5116"/>
                    </a:lnTo>
                    <a:lnTo>
                      <a:pt x="204" y="5086"/>
                    </a:lnTo>
                    <a:lnTo>
                      <a:pt x="178" y="5055"/>
                    </a:lnTo>
                    <a:lnTo>
                      <a:pt x="153" y="5022"/>
                    </a:lnTo>
                    <a:lnTo>
                      <a:pt x="131" y="4987"/>
                    </a:lnTo>
                    <a:lnTo>
                      <a:pt x="110" y="4949"/>
                    </a:lnTo>
                    <a:lnTo>
                      <a:pt x="91" y="4911"/>
                    </a:lnTo>
                    <a:lnTo>
                      <a:pt x="74" y="4871"/>
                    </a:lnTo>
                    <a:lnTo>
                      <a:pt x="58" y="4829"/>
                    </a:lnTo>
                    <a:lnTo>
                      <a:pt x="45" y="4785"/>
                    </a:lnTo>
                    <a:lnTo>
                      <a:pt x="33" y="4739"/>
                    </a:lnTo>
                    <a:lnTo>
                      <a:pt x="23" y="4692"/>
                    </a:lnTo>
                    <a:lnTo>
                      <a:pt x="15" y="4642"/>
                    </a:lnTo>
                    <a:lnTo>
                      <a:pt x="8" y="4591"/>
                    </a:lnTo>
                    <a:lnTo>
                      <a:pt x="4" y="4539"/>
                    </a:lnTo>
                    <a:lnTo>
                      <a:pt x="1" y="4484"/>
                    </a:lnTo>
                    <a:lnTo>
                      <a:pt x="0" y="4428"/>
                    </a:lnTo>
                    <a:lnTo>
                      <a:pt x="0" y="0"/>
                    </a:lnTo>
                    <a:lnTo>
                      <a:pt x="6058" y="0"/>
                    </a:lnTo>
                    <a:lnTo>
                      <a:pt x="6111" y="1"/>
                    </a:lnTo>
                    <a:lnTo>
                      <a:pt x="6165" y="3"/>
                    </a:lnTo>
                    <a:lnTo>
                      <a:pt x="6217" y="6"/>
                    </a:lnTo>
                    <a:lnTo>
                      <a:pt x="6269" y="10"/>
                    </a:lnTo>
                    <a:lnTo>
                      <a:pt x="6320" y="15"/>
                    </a:lnTo>
                    <a:lnTo>
                      <a:pt x="6371" y="22"/>
                    </a:lnTo>
                    <a:lnTo>
                      <a:pt x="6421" y="29"/>
                    </a:lnTo>
                    <a:lnTo>
                      <a:pt x="6472" y="38"/>
                    </a:lnTo>
                    <a:lnTo>
                      <a:pt x="6521" y="48"/>
                    </a:lnTo>
                    <a:lnTo>
                      <a:pt x="6570" y="60"/>
                    </a:lnTo>
                    <a:lnTo>
                      <a:pt x="6618" y="72"/>
                    </a:lnTo>
                    <a:lnTo>
                      <a:pt x="6666" y="86"/>
                    </a:lnTo>
                    <a:lnTo>
                      <a:pt x="6714" y="101"/>
                    </a:lnTo>
                    <a:lnTo>
                      <a:pt x="6762" y="117"/>
                    </a:lnTo>
                    <a:lnTo>
                      <a:pt x="6808" y="134"/>
                    </a:lnTo>
                    <a:lnTo>
                      <a:pt x="6855" y="153"/>
                    </a:lnTo>
                    <a:lnTo>
                      <a:pt x="6900" y="172"/>
                    </a:lnTo>
                    <a:lnTo>
                      <a:pt x="6946" y="193"/>
                    </a:lnTo>
                    <a:lnTo>
                      <a:pt x="6990" y="215"/>
                    </a:lnTo>
                    <a:lnTo>
                      <a:pt x="7035" y="240"/>
                    </a:lnTo>
                    <a:lnTo>
                      <a:pt x="7080" y="264"/>
                    </a:lnTo>
                    <a:lnTo>
                      <a:pt x="7123" y="290"/>
                    </a:lnTo>
                    <a:lnTo>
                      <a:pt x="7166" y="317"/>
                    </a:lnTo>
                    <a:lnTo>
                      <a:pt x="7209" y="345"/>
                    </a:lnTo>
                    <a:lnTo>
                      <a:pt x="7251" y="374"/>
                    </a:lnTo>
                    <a:lnTo>
                      <a:pt x="7292" y="405"/>
                    </a:lnTo>
                    <a:lnTo>
                      <a:pt x="7334" y="436"/>
                    </a:lnTo>
                    <a:lnTo>
                      <a:pt x="7376" y="469"/>
                    </a:lnTo>
                    <a:lnTo>
                      <a:pt x="7416" y="504"/>
                    </a:lnTo>
                    <a:lnTo>
                      <a:pt x="7456" y="540"/>
                    </a:lnTo>
                    <a:lnTo>
                      <a:pt x="7495" y="577"/>
                    </a:lnTo>
                    <a:lnTo>
                      <a:pt x="7534" y="614"/>
                    </a:lnTo>
                    <a:lnTo>
                      <a:pt x="7572" y="653"/>
                    </a:lnTo>
                    <a:lnTo>
                      <a:pt x="7609" y="692"/>
                    </a:lnTo>
                    <a:lnTo>
                      <a:pt x="7646" y="732"/>
                    </a:lnTo>
                    <a:lnTo>
                      <a:pt x="7681" y="772"/>
                    </a:lnTo>
                    <a:lnTo>
                      <a:pt x="7714" y="812"/>
                    </a:lnTo>
                    <a:lnTo>
                      <a:pt x="7746" y="854"/>
                    </a:lnTo>
                    <a:lnTo>
                      <a:pt x="7777" y="896"/>
                    </a:lnTo>
                    <a:lnTo>
                      <a:pt x="7807" y="938"/>
                    </a:lnTo>
                    <a:lnTo>
                      <a:pt x="7835" y="980"/>
                    </a:lnTo>
                    <a:lnTo>
                      <a:pt x="7863" y="1023"/>
                    </a:lnTo>
                    <a:lnTo>
                      <a:pt x="7889" y="1066"/>
                    </a:lnTo>
                    <a:lnTo>
                      <a:pt x="7914" y="1110"/>
                    </a:lnTo>
                    <a:lnTo>
                      <a:pt x="7937" y="1155"/>
                    </a:lnTo>
                    <a:lnTo>
                      <a:pt x="7961" y="1200"/>
                    </a:lnTo>
                    <a:lnTo>
                      <a:pt x="7982" y="1246"/>
                    </a:lnTo>
                    <a:lnTo>
                      <a:pt x="8002" y="1291"/>
                    </a:lnTo>
                    <a:lnTo>
                      <a:pt x="8021" y="1338"/>
                    </a:lnTo>
                    <a:lnTo>
                      <a:pt x="8038" y="1384"/>
                    </a:lnTo>
                    <a:lnTo>
                      <a:pt x="8055" y="1433"/>
                    </a:lnTo>
                    <a:lnTo>
                      <a:pt x="8070" y="1480"/>
                    </a:lnTo>
                    <a:lnTo>
                      <a:pt x="8084" y="1529"/>
                    </a:lnTo>
                    <a:lnTo>
                      <a:pt x="8097" y="1577"/>
                    </a:lnTo>
                    <a:lnTo>
                      <a:pt x="8108" y="1627"/>
                    </a:lnTo>
                    <a:lnTo>
                      <a:pt x="8118" y="1676"/>
                    </a:lnTo>
                    <a:lnTo>
                      <a:pt x="8128" y="1728"/>
                    </a:lnTo>
                    <a:lnTo>
                      <a:pt x="8135" y="1778"/>
                    </a:lnTo>
                    <a:lnTo>
                      <a:pt x="8142" y="1830"/>
                    </a:lnTo>
                    <a:lnTo>
                      <a:pt x="8148" y="1882"/>
                    </a:lnTo>
                    <a:lnTo>
                      <a:pt x="8152" y="1934"/>
                    </a:lnTo>
                    <a:lnTo>
                      <a:pt x="8155" y="1987"/>
                    </a:lnTo>
                    <a:lnTo>
                      <a:pt x="8157" y="2041"/>
                    </a:lnTo>
                    <a:lnTo>
                      <a:pt x="8157" y="2095"/>
                    </a:lnTo>
                    <a:lnTo>
                      <a:pt x="8157" y="2149"/>
                    </a:lnTo>
                    <a:lnTo>
                      <a:pt x="8155" y="2203"/>
                    </a:lnTo>
                    <a:lnTo>
                      <a:pt x="8152" y="2257"/>
                    </a:lnTo>
                    <a:lnTo>
                      <a:pt x="8148" y="2311"/>
                    </a:lnTo>
                    <a:lnTo>
                      <a:pt x="8142" y="2364"/>
                    </a:lnTo>
                    <a:lnTo>
                      <a:pt x="8135" y="2415"/>
                    </a:lnTo>
                    <a:lnTo>
                      <a:pt x="8128" y="2467"/>
                    </a:lnTo>
                    <a:lnTo>
                      <a:pt x="8118" y="2518"/>
                    </a:lnTo>
                    <a:lnTo>
                      <a:pt x="8108" y="2568"/>
                    </a:lnTo>
                    <a:lnTo>
                      <a:pt x="8097" y="2619"/>
                    </a:lnTo>
                    <a:lnTo>
                      <a:pt x="8084" y="2668"/>
                    </a:lnTo>
                    <a:lnTo>
                      <a:pt x="8070" y="2717"/>
                    </a:lnTo>
                    <a:lnTo>
                      <a:pt x="8055" y="2765"/>
                    </a:lnTo>
                    <a:lnTo>
                      <a:pt x="8038" y="2812"/>
                    </a:lnTo>
                    <a:lnTo>
                      <a:pt x="8021" y="2860"/>
                    </a:lnTo>
                    <a:lnTo>
                      <a:pt x="8002" y="2907"/>
                    </a:lnTo>
                    <a:lnTo>
                      <a:pt x="7982" y="2953"/>
                    </a:lnTo>
                    <a:lnTo>
                      <a:pt x="7961" y="2998"/>
                    </a:lnTo>
                    <a:lnTo>
                      <a:pt x="7937" y="3043"/>
                    </a:lnTo>
                    <a:lnTo>
                      <a:pt x="7914" y="3088"/>
                    </a:lnTo>
                    <a:lnTo>
                      <a:pt x="7889" y="3132"/>
                    </a:lnTo>
                    <a:lnTo>
                      <a:pt x="7863" y="3175"/>
                    </a:lnTo>
                    <a:lnTo>
                      <a:pt x="7835" y="3218"/>
                    </a:lnTo>
                    <a:lnTo>
                      <a:pt x="7807" y="3261"/>
                    </a:lnTo>
                    <a:lnTo>
                      <a:pt x="7777" y="3302"/>
                    </a:lnTo>
                    <a:lnTo>
                      <a:pt x="7746" y="3343"/>
                    </a:lnTo>
                    <a:lnTo>
                      <a:pt x="7714" y="3384"/>
                    </a:lnTo>
                    <a:lnTo>
                      <a:pt x="7681" y="3424"/>
                    </a:lnTo>
                    <a:lnTo>
                      <a:pt x="7646" y="3463"/>
                    </a:lnTo>
                    <a:lnTo>
                      <a:pt x="7609" y="3503"/>
                    </a:lnTo>
                    <a:lnTo>
                      <a:pt x="7572" y="3542"/>
                    </a:lnTo>
                    <a:lnTo>
                      <a:pt x="7534" y="3579"/>
                    </a:lnTo>
                    <a:lnTo>
                      <a:pt x="7495" y="3616"/>
                    </a:lnTo>
                    <a:lnTo>
                      <a:pt x="7456" y="3652"/>
                    </a:lnTo>
                    <a:lnTo>
                      <a:pt x="7416" y="3687"/>
                    </a:lnTo>
                    <a:lnTo>
                      <a:pt x="7376" y="3720"/>
                    </a:lnTo>
                    <a:lnTo>
                      <a:pt x="7334" y="3753"/>
                    </a:lnTo>
                    <a:lnTo>
                      <a:pt x="7292" y="3784"/>
                    </a:lnTo>
                    <a:lnTo>
                      <a:pt x="7251" y="3815"/>
                    </a:lnTo>
                    <a:lnTo>
                      <a:pt x="7209" y="3843"/>
                    </a:lnTo>
                    <a:lnTo>
                      <a:pt x="7166" y="3871"/>
                    </a:lnTo>
                    <a:lnTo>
                      <a:pt x="7123" y="3897"/>
                    </a:lnTo>
                    <a:lnTo>
                      <a:pt x="7080" y="3922"/>
                    </a:lnTo>
                    <a:lnTo>
                      <a:pt x="7035" y="3946"/>
                    </a:lnTo>
                    <a:lnTo>
                      <a:pt x="6990" y="3969"/>
                    </a:lnTo>
                    <a:lnTo>
                      <a:pt x="6946" y="3991"/>
                    </a:lnTo>
                    <a:lnTo>
                      <a:pt x="6900" y="4011"/>
                    </a:lnTo>
                    <a:lnTo>
                      <a:pt x="6855" y="4030"/>
                    </a:lnTo>
                    <a:lnTo>
                      <a:pt x="6808" y="4048"/>
                    </a:lnTo>
                    <a:lnTo>
                      <a:pt x="6762" y="4065"/>
                    </a:lnTo>
                    <a:lnTo>
                      <a:pt x="6714" y="4081"/>
                    </a:lnTo>
                    <a:lnTo>
                      <a:pt x="6666" y="4097"/>
                    </a:lnTo>
                    <a:lnTo>
                      <a:pt x="6618" y="4110"/>
                    </a:lnTo>
                    <a:lnTo>
                      <a:pt x="6570" y="4122"/>
                    </a:lnTo>
                    <a:lnTo>
                      <a:pt x="6521" y="4133"/>
                    </a:lnTo>
                    <a:lnTo>
                      <a:pt x="6472" y="4143"/>
                    </a:lnTo>
                    <a:lnTo>
                      <a:pt x="6421" y="4152"/>
                    </a:lnTo>
                    <a:lnTo>
                      <a:pt x="6371" y="4160"/>
                    </a:lnTo>
                    <a:lnTo>
                      <a:pt x="6320" y="4166"/>
                    </a:lnTo>
                    <a:lnTo>
                      <a:pt x="6269" y="4171"/>
                    </a:lnTo>
                    <a:lnTo>
                      <a:pt x="6217" y="4175"/>
                    </a:lnTo>
                    <a:lnTo>
                      <a:pt x="6165" y="4178"/>
                    </a:lnTo>
                    <a:lnTo>
                      <a:pt x="6111" y="4180"/>
                    </a:lnTo>
                    <a:lnTo>
                      <a:pt x="6058" y="4180"/>
                    </a:ln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54"/>
              <p:cNvSpPr/>
              <p:nvPr/>
            </p:nvSpPr>
            <p:spPr>
              <a:xfrm>
                <a:off x="7342200" y="4484880"/>
                <a:ext cx="207000" cy="8928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229" h="126">
                    <a:moveTo>
                      <a:pt x="229" y="113"/>
                    </a:moveTo>
                    <a:lnTo>
                      <a:pt x="154" y="126"/>
                    </a:lnTo>
                    <a:lnTo>
                      <a:pt x="155" y="124"/>
                    </a:lnTo>
                    <a:lnTo>
                      <a:pt x="156" y="123"/>
                    </a:lnTo>
                    <a:lnTo>
                      <a:pt x="156" y="121"/>
                    </a:lnTo>
                    <a:lnTo>
                      <a:pt x="156" y="120"/>
                    </a:lnTo>
                    <a:lnTo>
                      <a:pt x="157" y="119"/>
                    </a:lnTo>
                    <a:lnTo>
                      <a:pt x="157" y="117"/>
                    </a:lnTo>
                    <a:lnTo>
                      <a:pt x="157" y="116"/>
                    </a:lnTo>
                    <a:lnTo>
                      <a:pt x="157" y="115"/>
                    </a:lnTo>
                    <a:lnTo>
                      <a:pt x="157" y="113"/>
                    </a:lnTo>
                    <a:lnTo>
                      <a:pt x="157" y="112"/>
                    </a:lnTo>
                    <a:lnTo>
                      <a:pt x="156" y="111"/>
                    </a:lnTo>
                    <a:lnTo>
                      <a:pt x="156" y="110"/>
                    </a:lnTo>
                    <a:lnTo>
                      <a:pt x="156" y="108"/>
                    </a:lnTo>
                    <a:lnTo>
                      <a:pt x="155" y="107"/>
                    </a:lnTo>
                    <a:lnTo>
                      <a:pt x="154" y="106"/>
                    </a:lnTo>
                    <a:lnTo>
                      <a:pt x="154" y="105"/>
                    </a:lnTo>
                    <a:lnTo>
                      <a:pt x="153" y="104"/>
                    </a:lnTo>
                    <a:lnTo>
                      <a:pt x="152" y="103"/>
                    </a:lnTo>
                    <a:lnTo>
                      <a:pt x="151" y="102"/>
                    </a:lnTo>
                    <a:lnTo>
                      <a:pt x="150" y="101"/>
                    </a:lnTo>
                    <a:lnTo>
                      <a:pt x="149" y="100"/>
                    </a:lnTo>
                    <a:lnTo>
                      <a:pt x="147" y="99"/>
                    </a:lnTo>
                    <a:lnTo>
                      <a:pt x="146" y="98"/>
                    </a:lnTo>
                    <a:lnTo>
                      <a:pt x="145" y="97"/>
                    </a:lnTo>
                    <a:lnTo>
                      <a:pt x="143" y="96"/>
                    </a:lnTo>
                    <a:lnTo>
                      <a:pt x="141" y="95"/>
                    </a:lnTo>
                    <a:lnTo>
                      <a:pt x="140" y="95"/>
                    </a:lnTo>
                    <a:lnTo>
                      <a:pt x="138" y="94"/>
                    </a:lnTo>
                    <a:lnTo>
                      <a:pt x="136" y="93"/>
                    </a:lnTo>
                    <a:lnTo>
                      <a:pt x="134" y="92"/>
                    </a:lnTo>
                    <a:lnTo>
                      <a:pt x="132" y="92"/>
                    </a:lnTo>
                    <a:lnTo>
                      <a:pt x="130" y="91"/>
                    </a:lnTo>
                    <a:lnTo>
                      <a:pt x="125" y="90"/>
                    </a:lnTo>
                    <a:lnTo>
                      <a:pt x="121" y="88"/>
                    </a:lnTo>
                    <a:lnTo>
                      <a:pt x="116" y="87"/>
                    </a:lnTo>
                    <a:lnTo>
                      <a:pt x="112" y="86"/>
                    </a:lnTo>
                    <a:lnTo>
                      <a:pt x="107" y="85"/>
                    </a:lnTo>
                    <a:lnTo>
                      <a:pt x="103" y="83"/>
                    </a:lnTo>
                    <a:lnTo>
                      <a:pt x="98" y="82"/>
                    </a:lnTo>
                    <a:lnTo>
                      <a:pt x="94" y="81"/>
                    </a:lnTo>
                    <a:lnTo>
                      <a:pt x="89" y="79"/>
                    </a:lnTo>
                    <a:lnTo>
                      <a:pt x="85" y="78"/>
                    </a:lnTo>
                    <a:lnTo>
                      <a:pt x="80" y="77"/>
                    </a:lnTo>
                    <a:lnTo>
                      <a:pt x="76" y="76"/>
                    </a:lnTo>
                    <a:lnTo>
                      <a:pt x="71" y="75"/>
                    </a:lnTo>
                    <a:lnTo>
                      <a:pt x="66" y="73"/>
                    </a:lnTo>
                    <a:lnTo>
                      <a:pt x="62" y="72"/>
                    </a:lnTo>
                    <a:lnTo>
                      <a:pt x="57" y="71"/>
                    </a:lnTo>
                    <a:lnTo>
                      <a:pt x="53" y="70"/>
                    </a:lnTo>
                    <a:lnTo>
                      <a:pt x="48" y="69"/>
                    </a:lnTo>
                    <a:lnTo>
                      <a:pt x="44" y="67"/>
                    </a:lnTo>
                    <a:lnTo>
                      <a:pt x="40" y="66"/>
                    </a:lnTo>
                    <a:lnTo>
                      <a:pt x="38" y="65"/>
                    </a:lnTo>
                    <a:lnTo>
                      <a:pt x="36" y="65"/>
                    </a:lnTo>
                    <a:lnTo>
                      <a:pt x="34" y="64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29" y="62"/>
                    </a:lnTo>
                    <a:lnTo>
                      <a:pt x="27" y="61"/>
                    </a:lnTo>
                    <a:lnTo>
                      <a:pt x="25" y="60"/>
                    </a:lnTo>
                    <a:lnTo>
                      <a:pt x="24" y="60"/>
                    </a:lnTo>
                    <a:lnTo>
                      <a:pt x="22" y="59"/>
                    </a:lnTo>
                    <a:lnTo>
                      <a:pt x="21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6" y="56"/>
                    </a:lnTo>
                    <a:lnTo>
                      <a:pt x="15" y="55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1" y="52"/>
                    </a:lnTo>
                    <a:lnTo>
                      <a:pt x="10" y="52"/>
                    </a:lnTo>
                    <a:lnTo>
                      <a:pt x="8" y="51"/>
                    </a:lnTo>
                    <a:lnTo>
                      <a:pt x="7" y="50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4" y="47"/>
                    </a:lnTo>
                    <a:lnTo>
                      <a:pt x="3" y="46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1" y="43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3" y="29"/>
                    </a:lnTo>
                    <a:lnTo>
                      <a:pt x="4" y="28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8" y="23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22" y="12"/>
                    </a:lnTo>
                    <a:lnTo>
                      <a:pt x="24" y="10"/>
                    </a:lnTo>
                    <a:lnTo>
                      <a:pt x="27" y="8"/>
                    </a:lnTo>
                    <a:lnTo>
                      <a:pt x="29" y="6"/>
                    </a:lnTo>
                    <a:lnTo>
                      <a:pt x="32" y="4"/>
                    </a:lnTo>
                    <a:lnTo>
                      <a:pt x="35" y="2"/>
                    </a:lnTo>
                    <a:lnTo>
                      <a:pt x="38" y="0"/>
                    </a:lnTo>
                    <a:lnTo>
                      <a:pt x="35" y="2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8" y="8"/>
                    </a:lnTo>
                    <a:lnTo>
                      <a:pt x="25" y="10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5"/>
                    </a:lnTo>
                    <a:lnTo>
                      <a:pt x="18" y="17"/>
                    </a:lnTo>
                    <a:lnTo>
                      <a:pt x="16" y="18"/>
                    </a:lnTo>
                    <a:lnTo>
                      <a:pt x="15" y="20"/>
                    </a:lnTo>
                    <a:lnTo>
                      <a:pt x="14" y="21"/>
                    </a:lnTo>
                    <a:lnTo>
                      <a:pt x="13" y="23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9" y="30"/>
                    </a:lnTo>
                    <a:lnTo>
                      <a:pt x="9" y="31"/>
                    </a:lnTo>
                    <a:lnTo>
                      <a:pt x="9" y="32"/>
                    </a:lnTo>
                    <a:lnTo>
                      <a:pt x="9" y="34"/>
                    </a:lnTo>
                    <a:lnTo>
                      <a:pt x="9" y="35"/>
                    </a:lnTo>
                    <a:lnTo>
                      <a:pt x="10" y="36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9"/>
                    </a:lnTo>
                    <a:lnTo>
                      <a:pt x="12" y="40"/>
                    </a:lnTo>
                    <a:lnTo>
                      <a:pt x="13" y="41"/>
                    </a:lnTo>
                    <a:lnTo>
                      <a:pt x="15" y="42"/>
                    </a:lnTo>
                    <a:lnTo>
                      <a:pt x="16" y="42"/>
                    </a:lnTo>
                    <a:lnTo>
                      <a:pt x="18" y="43"/>
                    </a:lnTo>
                    <a:lnTo>
                      <a:pt x="19" y="44"/>
                    </a:lnTo>
                    <a:lnTo>
                      <a:pt x="23" y="45"/>
                    </a:lnTo>
                    <a:lnTo>
                      <a:pt x="26" y="47"/>
                    </a:lnTo>
                    <a:lnTo>
                      <a:pt x="30" y="48"/>
                    </a:lnTo>
                    <a:lnTo>
                      <a:pt x="34" y="49"/>
                    </a:lnTo>
                    <a:lnTo>
                      <a:pt x="38" y="51"/>
                    </a:lnTo>
                    <a:lnTo>
                      <a:pt x="42" y="52"/>
                    </a:lnTo>
                    <a:lnTo>
                      <a:pt x="46" y="53"/>
                    </a:lnTo>
                    <a:lnTo>
                      <a:pt x="51" y="54"/>
                    </a:lnTo>
                    <a:lnTo>
                      <a:pt x="55" y="55"/>
                    </a:lnTo>
                    <a:lnTo>
                      <a:pt x="60" y="56"/>
                    </a:lnTo>
                    <a:lnTo>
                      <a:pt x="64" y="57"/>
                    </a:lnTo>
                    <a:lnTo>
                      <a:pt x="69" y="59"/>
                    </a:lnTo>
                    <a:lnTo>
                      <a:pt x="74" y="60"/>
                    </a:lnTo>
                    <a:lnTo>
                      <a:pt x="79" y="61"/>
                    </a:lnTo>
                    <a:lnTo>
                      <a:pt x="84" y="62"/>
                    </a:lnTo>
                    <a:lnTo>
                      <a:pt x="90" y="62"/>
                    </a:lnTo>
                    <a:lnTo>
                      <a:pt x="95" y="63"/>
                    </a:lnTo>
                    <a:lnTo>
                      <a:pt x="100" y="64"/>
                    </a:lnTo>
                    <a:lnTo>
                      <a:pt x="105" y="65"/>
                    </a:lnTo>
                    <a:lnTo>
                      <a:pt x="110" y="66"/>
                    </a:lnTo>
                    <a:lnTo>
                      <a:pt x="115" y="67"/>
                    </a:lnTo>
                    <a:lnTo>
                      <a:pt x="120" y="68"/>
                    </a:lnTo>
                    <a:lnTo>
                      <a:pt x="125" y="70"/>
                    </a:lnTo>
                    <a:lnTo>
                      <a:pt x="129" y="71"/>
                    </a:lnTo>
                    <a:lnTo>
                      <a:pt x="134" y="72"/>
                    </a:lnTo>
                    <a:lnTo>
                      <a:pt x="138" y="73"/>
                    </a:lnTo>
                    <a:lnTo>
                      <a:pt x="143" y="74"/>
                    </a:lnTo>
                    <a:lnTo>
                      <a:pt x="147" y="76"/>
                    </a:lnTo>
                    <a:lnTo>
                      <a:pt x="151" y="77"/>
                    </a:lnTo>
                    <a:lnTo>
                      <a:pt x="155" y="78"/>
                    </a:lnTo>
                    <a:lnTo>
                      <a:pt x="159" y="80"/>
                    </a:lnTo>
                    <a:lnTo>
                      <a:pt x="163" y="81"/>
                    </a:lnTo>
                    <a:lnTo>
                      <a:pt x="165" y="82"/>
                    </a:lnTo>
                    <a:lnTo>
                      <a:pt x="166" y="83"/>
                    </a:lnTo>
                    <a:lnTo>
                      <a:pt x="168" y="84"/>
                    </a:lnTo>
                    <a:lnTo>
                      <a:pt x="169" y="85"/>
                    </a:lnTo>
                    <a:lnTo>
                      <a:pt x="171" y="85"/>
                    </a:lnTo>
                    <a:lnTo>
                      <a:pt x="172" y="86"/>
                    </a:lnTo>
                    <a:lnTo>
                      <a:pt x="173" y="87"/>
                    </a:lnTo>
                    <a:lnTo>
                      <a:pt x="174" y="88"/>
                    </a:lnTo>
                    <a:lnTo>
                      <a:pt x="174" y="90"/>
                    </a:lnTo>
                    <a:lnTo>
                      <a:pt x="175" y="91"/>
                    </a:lnTo>
                    <a:lnTo>
                      <a:pt x="175" y="92"/>
                    </a:lnTo>
                    <a:lnTo>
                      <a:pt x="176" y="93"/>
                    </a:lnTo>
                    <a:lnTo>
                      <a:pt x="176" y="94"/>
                    </a:lnTo>
                    <a:lnTo>
                      <a:pt x="176" y="96"/>
                    </a:lnTo>
                    <a:lnTo>
                      <a:pt x="176" y="97"/>
                    </a:lnTo>
                    <a:lnTo>
                      <a:pt x="176" y="98"/>
                    </a:lnTo>
                    <a:lnTo>
                      <a:pt x="175" y="100"/>
                    </a:lnTo>
                    <a:lnTo>
                      <a:pt x="175" y="101"/>
                    </a:lnTo>
                    <a:lnTo>
                      <a:pt x="174" y="103"/>
                    </a:lnTo>
                    <a:lnTo>
                      <a:pt x="174" y="104"/>
                    </a:lnTo>
                    <a:lnTo>
                      <a:pt x="173" y="106"/>
                    </a:lnTo>
                    <a:lnTo>
                      <a:pt x="172" y="107"/>
                    </a:lnTo>
                    <a:lnTo>
                      <a:pt x="171" y="109"/>
                    </a:lnTo>
                    <a:lnTo>
                      <a:pt x="169" y="111"/>
                    </a:lnTo>
                    <a:lnTo>
                      <a:pt x="168" y="113"/>
                    </a:lnTo>
                    <a:lnTo>
                      <a:pt x="166" y="114"/>
                    </a:lnTo>
                    <a:lnTo>
                      <a:pt x="165" y="116"/>
                    </a:lnTo>
                    <a:lnTo>
                      <a:pt x="163" y="118"/>
                    </a:lnTo>
                    <a:lnTo>
                      <a:pt x="161" y="120"/>
                    </a:lnTo>
                    <a:lnTo>
                      <a:pt x="159" y="122"/>
                    </a:lnTo>
                    <a:lnTo>
                      <a:pt x="157" y="124"/>
                    </a:lnTo>
                    <a:lnTo>
                      <a:pt x="154" y="126"/>
                    </a:ln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55"/>
              <p:cNvSpPr/>
              <p:nvPr/>
            </p:nvSpPr>
            <p:spPr>
              <a:xfrm>
                <a:off x="7574760" y="4612320"/>
                <a:ext cx="54720" cy="11016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1401" h="2797">
                    <a:moveTo>
                      <a:pt x="0" y="2797"/>
                    </a:moveTo>
                    <a:lnTo>
                      <a:pt x="0" y="2797"/>
                    </a:lnTo>
                    <a:lnTo>
                      <a:pt x="35" y="2796"/>
                    </a:lnTo>
                    <a:lnTo>
                      <a:pt x="69" y="2795"/>
                    </a:lnTo>
                    <a:lnTo>
                      <a:pt x="104" y="2793"/>
                    </a:lnTo>
                    <a:lnTo>
                      <a:pt x="138" y="2790"/>
                    </a:lnTo>
                    <a:lnTo>
                      <a:pt x="171" y="2787"/>
                    </a:lnTo>
                    <a:lnTo>
                      <a:pt x="205" y="2782"/>
                    </a:lnTo>
                    <a:lnTo>
                      <a:pt x="238" y="2777"/>
                    </a:lnTo>
                    <a:lnTo>
                      <a:pt x="270" y="2771"/>
                    </a:lnTo>
                    <a:lnTo>
                      <a:pt x="303" y="2764"/>
                    </a:lnTo>
                    <a:lnTo>
                      <a:pt x="335" y="2757"/>
                    </a:lnTo>
                    <a:lnTo>
                      <a:pt x="367" y="2749"/>
                    </a:lnTo>
                    <a:lnTo>
                      <a:pt x="400" y="2739"/>
                    </a:lnTo>
                    <a:lnTo>
                      <a:pt x="431" y="2730"/>
                    </a:lnTo>
                    <a:lnTo>
                      <a:pt x="462" y="2719"/>
                    </a:lnTo>
                    <a:lnTo>
                      <a:pt x="493" y="2708"/>
                    </a:lnTo>
                    <a:lnTo>
                      <a:pt x="524" y="2695"/>
                    </a:lnTo>
                    <a:lnTo>
                      <a:pt x="554" y="2682"/>
                    </a:lnTo>
                    <a:lnTo>
                      <a:pt x="584" y="2669"/>
                    </a:lnTo>
                    <a:lnTo>
                      <a:pt x="614" y="2654"/>
                    </a:lnTo>
                    <a:lnTo>
                      <a:pt x="643" y="2639"/>
                    </a:lnTo>
                    <a:lnTo>
                      <a:pt x="672" y="2623"/>
                    </a:lnTo>
                    <a:lnTo>
                      <a:pt x="702" y="2606"/>
                    </a:lnTo>
                    <a:lnTo>
                      <a:pt x="731" y="2588"/>
                    </a:lnTo>
                    <a:lnTo>
                      <a:pt x="760" y="2570"/>
                    </a:lnTo>
                    <a:lnTo>
                      <a:pt x="788" y="2551"/>
                    </a:lnTo>
                    <a:lnTo>
                      <a:pt x="815" y="2531"/>
                    </a:lnTo>
                    <a:lnTo>
                      <a:pt x="843" y="2509"/>
                    </a:lnTo>
                    <a:lnTo>
                      <a:pt x="870" y="2488"/>
                    </a:lnTo>
                    <a:lnTo>
                      <a:pt x="897" y="2466"/>
                    </a:lnTo>
                    <a:lnTo>
                      <a:pt x="924" y="2443"/>
                    </a:lnTo>
                    <a:lnTo>
                      <a:pt x="950" y="2419"/>
                    </a:lnTo>
                    <a:lnTo>
                      <a:pt x="977" y="2395"/>
                    </a:lnTo>
                    <a:lnTo>
                      <a:pt x="1004" y="2369"/>
                    </a:lnTo>
                    <a:lnTo>
                      <a:pt x="1029" y="2344"/>
                    </a:lnTo>
                    <a:lnTo>
                      <a:pt x="1053" y="2318"/>
                    </a:lnTo>
                    <a:lnTo>
                      <a:pt x="1077" y="2291"/>
                    </a:lnTo>
                    <a:lnTo>
                      <a:pt x="1099" y="2265"/>
                    </a:lnTo>
                    <a:lnTo>
                      <a:pt x="1121" y="2238"/>
                    </a:lnTo>
                    <a:lnTo>
                      <a:pt x="1142" y="2209"/>
                    </a:lnTo>
                    <a:lnTo>
                      <a:pt x="1163" y="2182"/>
                    </a:lnTo>
                    <a:lnTo>
                      <a:pt x="1182" y="2153"/>
                    </a:lnTo>
                    <a:lnTo>
                      <a:pt x="1201" y="2125"/>
                    </a:lnTo>
                    <a:lnTo>
                      <a:pt x="1218" y="2096"/>
                    </a:lnTo>
                    <a:lnTo>
                      <a:pt x="1235" y="2067"/>
                    </a:lnTo>
                    <a:lnTo>
                      <a:pt x="1251" y="2038"/>
                    </a:lnTo>
                    <a:lnTo>
                      <a:pt x="1267" y="2008"/>
                    </a:lnTo>
                    <a:lnTo>
                      <a:pt x="1281" y="1978"/>
                    </a:lnTo>
                    <a:lnTo>
                      <a:pt x="1296" y="1947"/>
                    </a:lnTo>
                    <a:lnTo>
                      <a:pt x="1308" y="1916"/>
                    </a:lnTo>
                    <a:lnTo>
                      <a:pt x="1320" y="1884"/>
                    </a:lnTo>
                    <a:lnTo>
                      <a:pt x="1332" y="1853"/>
                    </a:lnTo>
                    <a:lnTo>
                      <a:pt x="1342" y="1821"/>
                    </a:lnTo>
                    <a:lnTo>
                      <a:pt x="1351" y="1789"/>
                    </a:lnTo>
                    <a:lnTo>
                      <a:pt x="1360" y="1756"/>
                    </a:lnTo>
                    <a:lnTo>
                      <a:pt x="1368" y="1723"/>
                    </a:lnTo>
                    <a:lnTo>
                      <a:pt x="1375" y="1690"/>
                    </a:lnTo>
                    <a:lnTo>
                      <a:pt x="1381" y="1656"/>
                    </a:lnTo>
                    <a:lnTo>
                      <a:pt x="1386" y="1622"/>
                    </a:lnTo>
                    <a:lnTo>
                      <a:pt x="1391" y="1587"/>
                    </a:lnTo>
                    <a:lnTo>
                      <a:pt x="1395" y="1552"/>
                    </a:lnTo>
                    <a:lnTo>
                      <a:pt x="1398" y="1517"/>
                    </a:lnTo>
                    <a:lnTo>
                      <a:pt x="1400" y="1482"/>
                    </a:lnTo>
                    <a:lnTo>
                      <a:pt x="1401" y="1446"/>
                    </a:lnTo>
                    <a:lnTo>
                      <a:pt x="1401" y="1410"/>
                    </a:lnTo>
                    <a:lnTo>
                      <a:pt x="1401" y="1375"/>
                    </a:lnTo>
                    <a:lnTo>
                      <a:pt x="1400" y="1341"/>
                    </a:lnTo>
                    <a:lnTo>
                      <a:pt x="1398" y="1306"/>
                    </a:lnTo>
                    <a:lnTo>
                      <a:pt x="1395" y="1272"/>
                    </a:lnTo>
                    <a:lnTo>
                      <a:pt x="1391" y="1239"/>
                    </a:lnTo>
                    <a:lnTo>
                      <a:pt x="1386" y="1205"/>
                    </a:lnTo>
                    <a:lnTo>
                      <a:pt x="1381" y="1172"/>
                    </a:lnTo>
                    <a:lnTo>
                      <a:pt x="1375" y="1139"/>
                    </a:lnTo>
                    <a:lnTo>
                      <a:pt x="1368" y="1107"/>
                    </a:lnTo>
                    <a:lnTo>
                      <a:pt x="1360" y="1075"/>
                    </a:lnTo>
                    <a:lnTo>
                      <a:pt x="1351" y="1043"/>
                    </a:lnTo>
                    <a:lnTo>
                      <a:pt x="1342" y="1010"/>
                    </a:lnTo>
                    <a:lnTo>
                      <a:pt x="1332" y="979"/>
                    </a:lnTo>
                    <a:lnTo>
                      <a:pt x="1320" y="947"/>
                    </a:lnTo>
                    <a:lnTo>
                      <a:pt x="1308" y="917"/>
                    </a:lnTo>
                    <a:lnTo>
                      <a:pt x="1296" y="886"/>
                    </a:lnTo>
                    <a:lnTo>
                      <a:pt x="1281" y="855"/>
                    </a:lnTo>
                    <a:lnTo>
                      <a:pt x="1267" y="825"/>
                    </a:lnTo>
                    <a:lnTo>
                      <a:pt x="1251" y="795"/>
                    </a:lnTo>
                    <a:lnTo>
                      <a:pt x="1235" y="766"/>
                    </a:lnTo>
                    <a:lnTo>
                      <a:pt x="1218" y="736"/>
                    </a:lnTo>
                    <a:lnTo>
                      <a:pt x="1201" y="706"/>
                    </a:lnTo>
                    <a:lnTo>
                      <a:pt x="1182" y="677"/>
                    </a:lnTo>
                    <a:lnTo>
                      <a:pt x="1163" y="649"/>
                    </a:lnTo>
                    <a:lnTo>
                      <a:pt x="1142" y="620"/>
                    </a:lnTo>
                    <a:lnTo>
                      <a:pt x="1121" y="592"/>
                    </a:lnTo>
                    <a:lnTo>
                      <a:pt x="1099" y="564"/>
                    </a:lnTo>
                    <a:lnTo>
                      <a:pt x="1077" y="537"/>
                    </a:lnTo>
                    <a:lnTo>
                      <a:pt x="1053" y="509"/>
                    </a:lnTo>
                    <a:lnTo>
                      <a:pt x="1029" y="482"/>
                    </a:lnTo>
                    <a:lnTo>
                      <a:pt x="1004" y="456"/>
                    </a:lnTo>
                    <a:lnTo>
                      <a:pt x="977" y="428"/>
                    </a:lnTo>
                    <a:lnTo>
                      <a:pt x="950" y="402"/>
                    </a:lnTo>
                    <a:lnTo>
                      <a:pt x="924" y="376"/>
                    </a:lnTo>
                    <a:lnTo>
                      <a:pt x="897" y="351"/>
                    </a:lnTo>
                    <a:lnTo>
                      <a:pt x="870" y="327"/>
                    </a:lnTo>
                    <a:lnTo>
                      <a:pt x="843" y="305"/>
                    </a:lnTo>
                    <a:lnTo>
                      <a:pt x="815" y="282"/>
                    </a:lnTo>
                    <a:lnTo>
                      <a:pt x="788" y="261"/>
                    </a:lnTo>
                    <a:lnTo>
                      <a:pt x="760" y="241"/>
                    </a:lnTo>
                    <a:lnTo>
                      <a:pt x="731" y="221"/>
                    </a:lnTo>
                    <a:lnTo>
                      <a:pt x="702" y="202"/>
                    </a:lnTo>
                    <a:lnTo>
                      <a:pt x="672" y="184"/>
                    </a:lnTo>
                    <a:lnTo>
                      <a:pt x="643" y="167"/>
                    </a:lnTo>
                    <a:lnTo>
                      <a:pt x="614" y="151"/>
                    </a:lnTo>
                    <a:lnTo>
                      <a:pt x="584" y="135"/>
                    </a:lnTo>
                    <a:lnTo>
                      <a:pt x="554" y="120"/>
                    </a:lnTo>
                    <a:lnTo>
                      <a:pt x="524" y="106"/>
                    </a:lnTo>
                    <a:lnTo>
                      <a:pt x="493" y="93"/>
                    </a:lnTo>
                    <a:lnTo>
                      <a:pt x="462" y="81"/>
                    </a:lnTo>
                    <a:lnTo>
                      <a:pt x="431" y="70"/>
                    </a:lnTo>
                    <a:lnTo>
                      <a:pt x="400" y="60"/>
                    </a:lnTo>
                    <a:lnTo>
                      <a:pt x="367" y="50"/>
                    </a:lnTo>
                    <a:lnTo>
                      <a:pt x="335" y="41"/>
                    </a:lnTo>
                    <a:lnTo>
                      <a:pt x="303" y="33"/>
                    </a:lnTo>
                    <a:lnTo>
                      <a:pt x="270" y="26"/>
                    </a:lnTo>
                    <a:lnTo>
                      <a:pt x="238" y="20"/>
                    </a:lnTo>
                    <a:lnTo>
                      <a:pt x="205" y="15"/>
                    </a:lnTo>
                    <a:lnTo>
                      <a:pt x="171" y="10"/>
                    </a:lnTo>
                    <a:lnTo>
                      <a:pt x="138" y="6"/>
                    </a:lnTo>
                    <a:lnTo>
                      <a:pt x="104" y="4"/>
                    </a:lnTo>
                    <a:lnTo>
                      <a:pt x="69" y="1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2797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0" name="组合 67"/>
          <p:cNvGrpSpPr/>
          <p:nvPr/>
        </p:nvGrpSpPr>
        <p:grpSpPr>
          <a:xfrm>
            <a:off x="401040" y="4387680"/>
            <a:ext cx="632160" cy="632160"/>
            <a:chOff x="401040" y="4387680"/>
            <a:chExt cx="632160" cy="632160"/>
          </a:xfrm>
        </p:grpSpPr>
        <p:sp>
          <p:nvSpPr>
            <p:cNvPr id="141" name="椭圆 68"/>
            <p:cNvSpPr/>
            <p:nvPr/>
          </p:nvSpPr>
          <p:spPr>
            <a:xfrm>
              <a:off x="401040" y="4387680"/>
              <a:ext cx="632160" cy="63216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42" name="Group 666"/>
            <p:cNvGrpSpPr/>
            <p:nvPr/>
          </p:nvGrpSpPr>
          <p:grpSpPr>
            <a:xfrm>
              <a:off x="510120" y="4498200"/>
              <a:ext cx="413280" cy="411480"/>
              <a:chOff x="510120" y="4498200"/>
              <a:chExt cx="413280" cy="411480"/>
            </a:xfrm>
          </p:grpSpPr>
          <p:sp>
            <p:nvSpPr>
              <p:cNvPr id="143" name="Freeform 667"/>
              <p:cNvSpPr/>
              <p:nvPr/>
            </p:nvSpPr>
            <p:spPr>
              <a:xfrm>
                <a:off x="658080" y="4498560"/>
                <a:ext cx="202320" cy="11664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039" h="606">
                    <a:moveTo>
                      <a:pt x="1034" y="450"/>
                    </a:moveTo>
                    <a:lnTo>
                      <a:pt x="1034" y="450"/>
                    </a:lnTo>
                    <a:lnTo>
                      <a:pt x="1029" y="464"/>
                    </a:lnTo>
                    <a:lnTo>
                      <a:pt x="1024" y="476"/>
                    </a:lnTo>
                    <a:lnTo>
                      <a:pt x="1016" y="489"/>
                    </a:lnTo>
                    <a:lnTo>
                      <a:pt x="1009" y="501"/>
                    </a:lnTo>
                    <a:lnTo>
                      <a:pt x="999" y="511"/>
                    </a:lnTo>
                    <a:lnTo>
                      <a:pt x="988" y="523"/>
                    </a:lnTo>
                    <a:lnTo>
                      <a:pt x="976" y="532"/>
                    </a:lnTo>
                    <a:lnTo>
                      <a:pt x="965" y="542"/>
                    </a:lnTo>
                    <a:lnTo>
                      <a:pt x="951" y="550"/>
                    </a:lnTo>
                    <a:lnTo>
                      <a:pt x="936" y="559"/>
                    </a:lnTo>
                    <a:lnTo>
                      <a:pt x="903" y="574"/>
                    </a:lnTo>
                    <a:lnTo>
                      <a:pt x="868" y="586"/>
                    </a:lnTo>
                    <a:lnTo>
                      <a:pt x="830" y="594"/>
                    </a:lnTo>
                    <a:lnTo>
                      <a:pt x="788" y="601"/>
                    </a:lnTo>
                    <a:lnTo>
                      <a:pt x="744" y="606"/>
                    </a:lnTo>
                    <a:lnTo>
                      <a:pt x="698" y="606"/>
                    </a:lnTo>
                    <a:lnTo>
                      <a:pt x="650" y="605"/>
                    </a:lnTo>
                    <a:lnTo>
                      <a:pt x="599" y="601"/>
                    </a:lnTo>
                    <a:lnTo>
                      <a:pt x="548" y="593"/>
                    </a:lnTo>
                    <a:lnTo>
                      <a:pt x="497" y="583"/>
                    </a:lnTo>
                    <a:lnTo>
                      <a:pt x="445" y="569"/>
                    </a:lnTo>
                    <a:lnTo>
                      <a:pt x="445" y="569"/>
                    </a:lnTo>
                    <a:lnTo>
                      <a:pt x="392" y="552"/>
                    </a:lnTo>
                    <a:lnTo>
                      <a:pt x="341" y="533"/>
                    </a:lnTo>
                    <a:lnTo>
                      <a:pt x="295" y="513"/>
                    </a:lnTo>
                    <a:lnTo>
                      <a:pt x="249" y="491"/>
                    </a:lnTo>
                    <a:lnTo>
                      <a:pt x="209" y="467"/>
                    </a:lnTo>
                    <a:lnTo>
                      <a:pt x="169" y="442"/>
                    </a:lnTo>
                    <a:lnTo>
                      <a:pt x="134" y="414"/>
                    </a:lnTo>
                    <a:lnTo>
                      <a:pt x="103" y="387"/>
                    </a:lnTo>
                    <a:lnTo>
                      <a:pt x="74" y="358"/>
                    </a:lnTo>
                    <a:lnTo>
                      <a:pt x="51" y="329"/>
                    </a:lnTo>
                    <a:lnTo>
                      <a:pt x="32" y="301"/>
                    </a:lnTo>
                    <a:lnTo>
                      <a:pt x="23" y="285"/>
                    </a:lnTo>
                    <a:lnTo>
                      <a:pt x="17" y="272"/>
                    </a:lnTo>
                    <a:lnTo>
                      <a:pt x="11" y="256"/>
                    </a:lnTo>
                    <a:lnTo>
                      <a:pt x="6" y="243"/>
                    </a:lnTo>
                    <a:lnTo>
                      <a:pt x="3" y="228"/>
                    </a:lnTo>
                    <a:lnTo>
                      <a:pt x="1" y="212"/>
                    </a:lnTo>
                    <a:lnTo>
                      <a:pt x="0" y="199"/>
                    </a:lnTo>
                    <a:lnTo>
                      <a:pt x="1" y="185"/>
                    </a:lnTo>
                    <a:lnTo>
                      <a:pt x="3" y="170"/>
                    </a:lnTo>
                    <a:lnTo>
                      <a:pt x="6" y="156"/>
                    </a:lnTo>
                    <a:lnTo>
                      <a:pt x="6" y="156"/>
                    </a:lnTo>
                    <a:lnTo>
                      <a:pt x="10" y="143"/>
                    </a:lnTo>
                    <a:lnTo>
                      <a:pt x="17" y="131"/>
                    </a:lnTo>
                    <a:lnTo>
                      <a:pt x="23" y="117"/>
                    </a:lnTo>
                    <a:lnTo>
                      <a:pt x="32" y="105"/>
                    </a:lnTo>
                    <a:lnTo>
                      <a:pt x="40" y="95"/>
                    </a:lnTo>
                    <a:lnTo>
                      <a:pt x="51" y="85"/>
                    </a:lnTo>
                    <a:lnTo>
                      <a:pt x="62" y="75"/>
                    </a:lnTo>
                    <a:lnTo>
                      <a:pt x="76" y="64"/>
                    </a:lnTo>
                    <a:lnTo>
                      <a:pt x="90" y="56"/>
                    </a:lnTo>
                    <a:lnTo>
                      <a:pt x="103" y="47"/>
                    </a:lnTo>
                    <a:lnTo>
                      <a:pt x="136" y="32"/>
                    </a:lnTo>
                    <a:lnTo>
                      <a:pt x="171" y="20"/>
                    </a:lnTo>
                    <a:lnTo>
                      <a:pt x="210" y="12"/>
                    </a:lnTo>
                    <a:lnTo>
                      <a:pt x="251" y="5"/>
                    </a:lnTo>
                    <a:lnTo>
                      <a:pt x="295" y="2"/>
                    </a:lnTo>
                    <a:lnTo>
                      <a:pt x="341" y="0"/>
                    </a:lnTo>
                    <a:lnTo>
                      <a:pt x="390" y="2"/>
                    </a:lnTo>
                    <a:lnTo>
                      <a:pt x="440" y="5"/>
                    </a:lnTo>
                    <a:lnTo>
                      <a:pt x="491" y="13"/>
                    </a:lnTo>
                    <a:lnTo>
                      <a:pt x="543" y="24"/>
                    </a:lnTo>
                    <a:lnTo>
                      <a:pt x="596" y="37"/>
                    </a:lnTo>
                    <a:lnTo>
                      <a:pt x="596" y="37"/>
                    </a:lnTo>
                    <a:lnTo>
                      <a:pt x="649" y="54"/>
                    </a:lnTo>
                    <a:lnTo>
                      <a:pt x="698" y="73"/>
                    </a:lnTo>
                    <a:lnTo>
                      <a:pt x="745" y="93"/>
                    </a:lnTo>
                    <a:lnTo>
                      <a:pt x="790" y="115"/>
                    </a:lnTo>
                    <a:lnTo>
                      <a:pt x="832" y="139"/>
                    </a:lnTo>
                    <a:lnTo>
                      <a:pt x="869" y="165"/>
                    </a:lnTo>
                    <a:lnTo>
                      <a:pt x="905" y="192"/>
                    </a:lnTo>
                    <a:lnTo>
                      <a:pt x="937" y="219"/>
                    </a:lnTo>
                    <a:lnTo>
                      <a:pt x="965" y="248"/>
                    </a:lnTo>
                    <a:lnTo>
                      <a:pt x="988" y="277"/>
                    </a:lnTo>
                    <a:lnTo>
                      <a:pt x="1009" y="306"/>
                    </a:lnTo>
                    <a:lnTo>
                      <a:pt x="1016" y="321"/>
                    </a:lnTo>
                    <a:lnTo>
                      <a:pt x="1022" y="335"/>
                    </a:lnTo>
                    <a:lnTo>
                      <a:pt x="1029" y="350"/>
                    </a:lnTo>
                    <a:lnTo>
                      <a:pt x="1033" y="365"/>
                    </a:lnTo>
                    <a:lnTo>
                      <a:pt x="1036" y="379"/>
                    </a:lnTo>
                    <a:lnTo>
                      <a:pt x="1039" y="394"/>
                    </a:lnTo>
                    <a:lnTo>
                      <a:pt x="1039" y="408"/>
                    </a:lnTo>
                    <a:lnTo>
                      <a:pt x="1039" y="423"/>
                    </a:lnTo>
                    <a:lnTo>
                      <a:pt x="1038" y="436"/>
                    </a:lnTo>
                    <a:lnTo>
                      <a:pt x="1034" y="450"/>
                    </a:lnTo>
                    <a:lnTo>
                      <a:pt x="1034" y="450"/>
                    </a:lnTo>
                    <a:close/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668"/>
              <p:cNvSpPr/>
              <p:nvPr/>
            </p:nvSpPr>
            <p:spPr>
              <a:xfrm>
                <a:off x="567360" y="4559760"/>
                <a:ext cx="145800" cy="1440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749" h="747">
                    <a:moveTo>
                      <a:pt x="12" y="0"/>
                    </a:moveTo>
                    <a:lnTo>
                      <a:pt x="12" y="0"/>
                    </a:lnTo>
                    <a:lnTo>
                      <a:pt x="5" y="25"/>
                    </a:lnTo>
                    <a:lnTo>
                      <a:pt x="2" y="51"/>
                    </a:lnTo>
                    <a:lnTo>
                      <a:pt x="0" y="78"/>
                    </a:lnTo>
                    <a:lnTo>
                      <a:pt x="0" y="105"/>
                    </a:lnTo>
                    <a:lnTo>
                      <a:pt x="3" y="130"/>
                    </a:lnTo>
                    <a:lnTo>
                      <a:pt x="9" y="158"/>
                    </a:lnTo>
                    <a:lnTo>
                      <a:pt x="15" y="185"/>
                    </a:lnTo>
                    <a:lnTo>
                      <a:pt x="26" y="212"/>
                    </a:lnTo>
                    <a:lnTo>
                      <a:pt x="36" y="239"/>
                    </a:lnTo>
                    <a:lnTo>
                      <a:pt x="49" y="266"/>
                    </a:lnTo>
                    <a:lnTo>
                      <a:pt x="65" y="293"/>
                    </a:lnTo>
                    <a:lnTo>
                      <a:pt x="82" y="319"/>
                    </a:lnTo>
                    <a:lnTo>
                      <a:pt x="100" y="346"/>
                    </a:lnTo>
                    <a:lnTo>
                      <a:pt x="122" y="372"/>
                    </a:lnTo>
                    <a:lnTo>
                      <a:pt x="145" y="399"/>
                    </a:lnTo>
                    <a:lnTo>
                      <a:pt x="168" y="424"/>
                    </a:lnTo>
                    <a:lnTo>
                      <a:pt x="194" y="450"/>
                    </a:lnTo>
                    <a:lnTo>
                      <a:pt x="223" y="474"/>
                    </a:lnTo>
                    <a:lnTo>
                      <a:pt x="252" y="497"/>
                    </a:lnTo>
                    <a:lnTo>
                      <a:pt x="282" y="521"/>
                    </a:lnTo>
                    <a:lnTo>
                      <a:pt x="313" y="545"/>
                    </a:lnTo>
                    <a:lnTo>
                      <a:pt x="347" y="567"/>
                    </a:lnTo>
                    <a:lnTo>
                      <a:pt x="382" y="589"/>
                    </a:lnTo>
                    <a:lnTo>
                      <a:pt x="418" y="609"/>
                    </a:lnTo>
                    <a:lnTo>
                      <a:pt x="455" y="630"/>
                    </a:lnTo>
                    <a:lnTo>
                      <a:pt x="494" y="650"/>
                    </a:lnTo>
                    <a:lnTo>
                      <a:pt x="534" y="669"/>
                    </a:lnTo>
                    <a:lnTo>
                      <a:pt x="574" y="686"/>
                    </a:lnTo>
                    <a:lnTo>
                      <a:pt x="617" y="703"/>
                    </a:lnTo>
                    <a:lnTo>
                      <a:pt x="659" y="718"/>
                    </a:lnTo>
                    <a:lnTo>
                      <a:pt x="703" y="733"/>
                    </a:lnTo>
                    <a:lnTo>
                      <a:pt x="749" y="747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669"/>
              <p:cNvSpPr/>
              <p:nvPr/>
            </p:nvSpPr>
            <p:spPr>
              <a:xfrm>
                <a:off x="713160" y="4650120"/>
                <a:ext cx="201600" cy="6444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037" h="337">
                    <a:moveTo>
                      <a:pt x="1037" y="0"/>
                    </a:moveTo>
                    <a:lnTo>
                      <a:pt x="1037" y="0"/>
                    </a:lnTo>
                    <a:lnTo>
                      <a:pt x="1028" y="28"/>
                    </a:lnTo>
                    <a:lnTo>
                      <a:pt x="1016" y="53"/>
                    </a:lnTo>
                    <a:lnTo>
                      <a:pt x="1003" y="79"/>
                    </a:lnTo>
                    <a:lnTo>
                      <a:pt x="987" y="102"/>
                    </a:lnTo>
                    <a:lnTo>
                      <a:pt x="970" y="124"/>
                    </a:lnTo>
                    <a:lnTo>
                      <a:pt x="952" y="146"/>
                    </a:lnTo>
                    <a:lnTo>
                      <a:pt x="931" y="167"/>
                    </a:lnTo>
                    <a:lnTo>
                      <a:pt x="908" y="187"/>
                    </a:lnTo>
                    <a:lnTo>
                      <a:pt x="884" y="206"/>
                    </a:lnTo>
                    <a:lnTo>
                      <a:pt x="858" y="223"/>
                    </a:lnTo>
                    <a:lnTo>
                      <a:pt x="829" y="238"/>
                    </a:lnTo>
                    <a:lnTo>
                      <a:pt x="800" y="254"/>
                    </a:lnTo>
                    <a:lnTo>
                      <a:pt x="770" y="267"/>
                    </a:lnTo>
                    <a:lnTo>
                      <a:pt x="738" y="281"/>
                    </a:lnTo>
                    <a:lnTo>
                      <a:pt x="705" y="293"/>
                    </a:lnTo>
                    <a:lnTo>
                      <a:pt x="670" y="301"/>
                    </a:lnTo>
                    <a:lnTo>
                      <a:pt x="634" y="311"/>
                    </a:lnTo>
                    <a:lnTo>
                      <a:pt x="598" y="318"/>
                    </a:lnTo>
                    <a:lnTo>
                      <a:pt x="559" y="325"/>
                    </a:lnTo>
                    <a:lnTo>
                      <a:pt x="520" y="330"/>
                    </a:lnTo>
                    <a:lnTo>
                      <a:pt x="481" y="333"/>
                    </a:lnTo>
                    <a:lnTo>
                      <a:pt x="440" y="335"/>
                    </a:lnTo>
                    <a:lnTo>
                      <a:pt x="400" y="337"/>
                    </a:lnTo>
                    <a:lnTo>
                      <a:pt x="357" y="335"/>
                    </a:lnTo>
                    <a:lnTo>
                      <a:pt x="315" y="333"/>
                    </a:lnTo>
                    <a:lnTo>
                      <a:pt x="270" y="330"/>
                    </a:lnTo>
                    <a:lnTo>
                      <a:pt x="226" y="325"/>
                    </a:lnTo>
                    <a:lnTo>
                      <a:pt x="182" y="320"/>
                    </a:lnTo>
                    <a:lnTo>
                      <a:pt x="136" y="311"/>
                    </a:lnTo>
                    <a:lnTo>
                      <a:pt x="92" y="303"/>
                    </a:lnTo>
                    <a:lnTo>
                      <a:pt x="46" y="291"/>
                    </a:lnTo>
                    <a:lnTo>
                      <a:pt x="0" y="279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670"/>
              <p:cNvSpPr/>
              <p:nvPr/>
            </p:nvSpPr>
            <p:spPr>
              <a:xfrm>
                <a:off x="512640" y="4666680"/>
                <a:ext cx="174240" cy="136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897" h="710">
                    <a:moveTo>
                      <a:pt x="7" y="0"/>
                    </a:moveTo>
                    <a:lnTo>
                      <a:pt x="7" y="0"/>
                    </a:lnTo>
                    <a:lnTo>
                      <a:pt x="1" y="22"/>
                    </a:lnTo>
                    <a:lnTo>
                      <a:pt x="0" y="44"/>
                    </a:lnTo>
                    <a:lnTo>
                      <a:pt x="0" y="68"/>
                    </a:lnTo>
                    <a:lnTo>
                      <a:pt x="3" y="90"/>
                    </a:lnTo>
                    <a:lnTo>
                      <a:pt x="8" y="113"/>
                    </a:lnTo>
                    <a:lnTo>
                      <a:pt x="15" y="137"/>
                    </a:lnTo>
                    <a:lnTo>
                      <a:pt x="25" y="163"/>
                    </a:lnTo>
                    <a:lnTo>
                      <a:pt x="39" y="187"/>
                    </a:lnTo>
                    <a:lnTo>
                      <a:pt x="54" y="210"/>
                    </a:lnTo>
                    <a:lnTo>
                      <a:pt x="71" y="236"/>
                    </a:lnTo>
                    <a:lnTo>
                      <a:pt x="90" y="260"/>
                    </a:lnTo>
                    <a:lnTo>
                      <a:pt x="112" y="285"/>
                    </a:lnTo>
                    <a:lnTo>
                      <a:pt x="134" y="309"/>
                    </a:lnTo>
                    <a:lnTo>
                      <a:pt x="159" y="334"/>
                    </a:lnTo>
                    <a:lnTo>
                      <a:pt x="188" y="358"/>
                    </a:lnTo>
                    <a:lnTo>
                      <a:pt x="217" y="382"/>
                    </a:lnTo>
                    <a:lnTo>
                      <a:pt x="248" y="407"/>
                    </a:lnTo>
                    <a:lnTo>
                      <a:pt x="280" y="431"/>
                    </a:lnTo>
                    <a:lnTo>
                      <a:pt x="316" y="453"/>
                    </a:lnTo>
                    <a:lnTo>
                      <a:pt x="351" y="477"/>
                    </a:lnTo>
                    <a:lnTo>
                      <a:pt x="389" y="499"/>
                    </a:lnTo>
                    <a:lnTo>
                      <a:pt x="430" y="521"/>
                    </a:lnTo>
                    <a:lnTo>
                      <a:pt x="470" y="543"/>
                    </a:lnTo>
                    <a:lnTo>
                      <a:pt x="513" y="565"/>
                    </a:lnTo>
                    <a:lnTo>
                      <a:pt x="555" y="586"/>
                    </a:lnTo>
                    <a:lnTo>
                      <a:pt x="601" y="606"/>
                    </a:lnTo>
                    <a:lnTo>
                      <a:pt x="647" y="625"/>
                    </a:lnTo>
                    <a:lnTo>
                      <a:pt x="695" y="643"/>
                    </a:lnTo>
                    <a:lnTo>
                      <a:pt x="744" y="662"/>
                    </a:lnTo>
                    <a:lnTo>
                      <a:pt x="793" y="679"/>
                    </a:lnTo>
                    <a:lnTo>
                      <a:pt x="844" y="694"/>
                    </a:lnTo>
                    <a:lnTo>
                      <a:pt x="897" y="710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671"/>
              <p:cNvSpPr/>
              <p:nvPr/>
            </p:nvSpPr>
            <p:spPr>
              <a:xfrm>
                <a:off x="687960" y="4778280"/>
                <a:ext cx="220320" cy="4284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132" h="224">
                    <a:moveTo>
                      <a:pt x="1132" y="0"/>
                    </a:moveTo>
                    <a:lnTo>
                      <a:pt x="1132" y="0"/>
                    </a:lnTo>
                    <a:lnTo>
                      <a:pt x="1125" y="22"/>
                    </a:lnTo>
                    <a:lnTo>
                      <a:pt x="1115" y="43"/>
                    </a:lnTo>
                    <a:lnTo>
                      <a:pt x="1103" y="61"/>
                    </a:lnTo>
                    <a:lnTo>
                      <a:pt x="1087" y="80"/>
                    </a:lnTo>
                    <a:lnTo>
                      <a:pt x="1070" y="97"/>
                    </a:lnTo>
                    <a:lnTo>
                      <a:pt x="1050" y="114"/>
                    </a:lnTo>
                    <a:lnTo>
                      <a:pt x="1030" y="129"/>
                    </a:lnTo>
                    <a:lnTo>
                      <a:pt x="1006" y="143"/>
                    </a:lnTo>
                    <a:lnTo>
                      <a:pt x="980" y="155"/>
                    </a:lnTo>
                    <a:lnTo>
                      <a:pt x="953" y="167"/>
                    </a:lnTo>
                    <a:lnTo>
                      <a:pt x="923" y="179"/>
                    </a:lnTo>
                    <a:lnTo>
                      <a:pt x="892" y="187"/>
                    </a:lnTo>
                    <a:lnTo>
                      <a:pt x="860" y="196"/>
                    </a:lnTo>
                    <a:lnTo>
                      <a:pt x="824" y="204"/>
                    </a:lnTo>
                    <a:lnTo>
                      <a:pt x="788" y="209"/>
                    </a:lnTo>
                    <a:lnTo>
                      <a:pt x="751" y="214"/>
                    </a:lnTo>
                    <a:lnTo>
                      <a:pt x="712" y="219"/>
                    </a:lnTo>
                    <a:lnTo>
                      <a:pt x="671" y="221"/>
                    </a:lnTo>
                    <a:lnTo>
                      <a:pt x="629" y="223"/>
                    </a:lnTo>
                    <a:lnTo>
                      <a:pt x="586" y="224"/>
                    </a:lnTo>
                    <a:lnTo>
                      <a:pt x="542" y="223"/>
                    </a:lnTo>
                    <a:lnTo>
                      <a:pt x="498" y="221"/>
                    </a:lnTo>
                    <a:lnTo>
                      <a:pt x="450" y="218"/>
                    </a:lnTo>
                    <a:lnTo>
                      <a:pt x="405" y="214"/>
                    </a:lnTo>
                    <a:lnTo>
                      <a:pt x="355" y="207"/>
                    </a:lnTo>
                    <a:lnTo>
                      <a:pt x="306" y="202"/>
                    </a:lnTo>
                    <a:lnTo>
                      <a:pt x="257" y="194"/>
                    </a:lnTo>
                    <a:lnTo>
                      <a:pt x="207" y="184"/>
                    </a:lnTo>
                    <a:lnTo>
                      <a:pt x="156" y="173"/>
                    </a:lnTo>
                    <a:lnTo>
                      <a:pt x="106" y="162"/>
                    </a:lnTo>
                    <a:lnTo>
                      <a:pt x="53" y="150"/>
                    </a:lnTo>
                    <a:lnTo>
                      <a:pt x="0" y="134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672"/>
              <p:cNvSpPr/>
              <p:nvPr/>
            </p:nvSpPr>
            <p:spPr>
              <a:xfrm>
                <a:off x="533160" y="4788360"/>
                <a:ext cx="133560" cy="864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688" h="450">
                    <a:moveTo>
                      <a:pt x="4" y="0"/>
                    </a:moveTo>
                    <a:lnTo>
                      <a:pt x="4" y="0"/>
                    </a:lnTo>
                    <a:lnTo>
                      <a:pt x="2" y="11"/>
                    </a:lnTo>
                    <a:lnTo>
                      <a:pt x="0" y="25"/>
                    </a:lnTo>
                    <a:lnTo>
                      <a:pt x="2" y="39"/>
                    </a:lnTo>
                    <a:lnTo>
                      <a:pt x="5" y="51"/>
                    </a:lnTo>
                    <a:lnTo>
                      <a:pt x="10" y="66"/>
                    </a:lnTo>
                    <a:lnTo>
                      <a:pt x="17" y="79"/>
                    </a:lnTo>
                    <a:lnTo>
                      <a:pt x="26" y="93"/>
                    </a:lnTo>
                    <a:lnTo>
                      <a:pt x="36" y="108"/>
                    </a:lnTo>
                    <a:lnTo>
                      <a:pt x="48" y="122"/>
                    </a:lnTo>
                    <a:lnTo>
                      <a:pt x="61" y="137"/>
                    </a:lnTo>
                    <a:lnTo>
                      <a:pt x="94" y="168"/>
                    </a:lnTo>
                    <a:lnTo>
                      <a:pt x="133" y="198"/>
                    </a:lnTo>
                    <a:lnTo>
                      <a:pt x="175" y="229"/>
                    </a:lnTo>
                    <a:lnTo>
                      <a:pt x="224" y="259"/>
                    </a:lnTo>
                    <a:lnTo>
                      <a:pt x="279" y="288"/>
                    </a:lnTo>
                    <a:lnTo>
                      <a:pt x="338" y="319"/>
                    </a:lnTo>
                    <a:lnTo>
                      <a:pt x="401" y="348"/>
                    </a:lnTo>
                    <a:lnTo>
                      <a:pt x="467" y="375"/>
                    </a:lnTo>
                    <a:lnTo>
                      <a:pt x="537" y="400"/>
                    </a:lnTo>
                    <a:lnTo>
                      <a:pt x="612" y="426"/>
                    </a:lnTo>
                    <a:lnTo>
                      <a:pt x="688" y="450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673"/>
              <p:cNvSpPr/>
              <p:nvPr/>
            </p:nvSpPr>
            <p:spPr>
              <a:xfrm>
                <a:off x="666360" y="4875120"/>
                <a:ext cx="137160" cy="20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07" h="107">
                    <a:moveTo>
                      <a:pt x="707" y="73"/>
                    </a:moveTo>
                    <a:lnTo>
                      <a:pt x="707" y="73"/>
                    </a:lnTo>
                    <a:lnTo>
                      <a:pt x="705" y="78"/>
                    </a:lnTo>
                    <a:lnTo>
                      <a:pt x="700" y="83"/>
                    </a:lnTo>
                    <a:lnTo>
                      <a:pt x="695" y="88"/>
                    </a:lnTo>
                    <a:lnTo>
                      <a:pt x="686" y="93"/>
                    </a:lnTo>
                    <a:lnTo>
                      <a:pt x="678" y="97"/>
                    </a:lnTo>
                    <a:lnTo>
                      <a:pt x="668" y="100"/>
                    </a:lnTo>
                    <a:lnTo>
                      <a:pt x="642" y="104"/>
                    </a:lnTo>
                    <a:lnTo>
                      <a:pt x="610" y="107"/>
                    </a:lnTo>
                    <a:lnTo>
                      <a:pt x="574" y="107"/>
                    </a:lnTo>
                    <a:lnTo>
                      <a:pt x="532" y="105"/>
                    </a:lnTo>
                    <a:lnTo>
                      <a:pt x="486" y="100"/>
                    </a:lnTo>
                    <a:lnTo>
                      <a:pt x="437" y="95"/>
                    </a:lnTo>
                    <a:lnTo>
                      <a:pt x="382" y="87"/>
                    </a:lnTo>
                    <a:lnTo>
                      <a:pt x="326" y="76"/>
                    </a:lnTo>
                    <a:lnTo>
                      <a:pt x="265" y="66"/>
                    </a:lnTo>
                    <a:lnTo>
                      <a:pt x="202" y="51"/>
                    </a:lnTo>
                    <a:lnTo>
                      <a:pt x="136" y="36"/>
                    </a:lnTo>
                    <a:lnTo>
                      <a:pt x="70" y="19"/>
                    </a:lnTo>
                    <a:lnTo>
                      <a:pt x="0" y="0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674"/>
              <p:cNvSpPr/>
              <p:nvPr/>
            </p:nvSpPr>
            <p:spPr>
              <a:xfrm flipH="1">
                <a:off x="660960" y="4506480"/>
                <a:ext cx="114480" cy="397800"/>
              </a:xfrm>
              <a:prstGeom prst="line">
                <a:avLst/>
              </a:prstGeom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675"/>
              <p:cNvSpPr/>
              <p:nvPr/>
            </p:nvSpPr>
            <p:spPr>
              <a:xfrm>
                <a:off x="510120" y="4498200"/>
                <a:ext cx="412200" cy="41112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10"/>
                    </a:lnTo>
                    <a:lnTo>
                      <a:pt x="2041" y="1461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50"/>
                    </a:lnTo>
                    <a:lnTo>
                      <a:pt x="1913" y="1692"/>
                    </a:lnTo>
                    <a:lnTo>
                      <a:pt x="1883" y="1733"/>
                    </a:lnTo>
                    <a:lnTo>
                      <a:pt x="1849" y="1774"/>
                    </a:lnTo>
                    <a:lnTo>
                      <a:pt x="1813" y="1811"/>
                    </a:lnTo>
                    <a:lnTo>
                      <a:pt x="1777" y="1847"/>
                    </a:lnTo>
                    <a:lnTo>
                      <a:pt x="1738" y="1881"/>
                    </a:lnTo>
                    <a:lnTo>
                      <a:pt x="1699" y="1913"/>
                    </a:lnTo>
                    <a:lnTo>
                      <a:pt x="1657" y="1944"/>
                    </a:lnTo>
                    <a:lnTo>
                      <a:pt x="1614" y="1971"/>
                    </a:lnTo>
                    <a:lnTo>
                      <a:pt x="1572" y="1998"/>
                    </a:lnTo>
                    <a:lnTo>
                      <a:pt x="1526" y="2022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6" y="2095"/>
                    </a:lnTo>
                    <a:lnTo>
                      <a:pt x="1286" y="2107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1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7"/>
                    </a:lnTo>
                    <a:lnTo>
                      <a:pt x="766" y="2093"/>
                    </a:lnTo>
                    <a:lnTo>
                      <a:pt x="766" y="2093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7"/>
                    </a:lnTo>
                    <a:lnTo>
                      <a:pt x="568" y="2013"/>
                    </a:lnTo>
                    <a:lnTo>
                      <a:pt x="520" y="1988"/>
                    </a:lnTo>
                    <a:lnTo>
                      <a:pt x="476" y="1961"/>
                    </a:lnTo>
                    <a:lnTo>
                      <a:pt x="433" y="1930"/>
                    </a:lnTo>
                    <a:lnTo>
                      <a:pt x="393" y="1899"/>
                    </a:lnTo>
                    <a:lnTo>
                      <a:pt x="354" y="1865"/>
                    </a:lnTo>
                    <a:lnTo>
                      <a:pt x="316" y="1830"/>
                    </a:lnTo>
                    <a:lnTo>
                      <a:pt x="281" y="1794"/>
                    </a:lnTo>
                    <a:lnTo>
                      <a:pt x="247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8"/>
                    </a:lnTo>
                    <a:lnTo>
                      <a:pt x="51" y="1400"/>
                    </a:lnTo>
                    <a:lnTo>
                      <a:pt x="38" y="1351"/>
                    </a:lnTo>
                    <a:lnTo>
                      <a:pt x="24" y="1300"/>
                    </a:lnTo>
                    <a:lnTo>
                      <a:pt x="15" y="1249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2"/>
                    </a:lnTo>
                    <a:lnTo>
                      <a:pt x="4" y="989"/>
                    </a:lnTo>
                    <a:lnTo>
                      <a:pt x="9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7"/>
                    </a:lnTo>
                    <a:lnTo>
                      <a:pt x="41" y="777"/>
                    </a:lnTo>
                    <a:lnTo>
                      <a:pt x="58" y="724"/>
                    </a:lnTo>
                    <a:lnTo>
                      <a:pt x="77" y="673"/>
                    </a:lnTo>
                    <a:lnTo>
                      <a:pt x="99" y="624"/>
                    </a:lnTo>
                    <a:lnTo>
                      <a:pt x="121" y="576"/>
                    </a:lnTo>
                    <a:lnTo>
                      <a:pt x="146" y="529"/>
                    </a:lnTo>
                    <a:lnTo>
                      <a:pt x="175" y="484"/>
                    </a:lnTo>
                    <a:lnTo>
                      <a:pt x="204" y="442"/>
                    </a:lnTo>
                    <a:lnTo>
                      <a:pt x="236" y="399"/>
                    </a:lnTo>
                    <a:lnTo>
                      <a:pt x="269" y="360"/>
                    </a:lnTo>
                    <a:lnTo>
                      <a:pt x="304" y="323"/>
                    </a:lnTo>
                    <a:lnTo>
                      <a:pt x="340" y="286"/>
                    </a:lnTo>
                    <a:lnTo>
                      <a:pt x="379" y="252"/>
                    </a:lnTo>
                    <a:lnTo>
                      <a:pt x="418" y="219"/>
                    </a:lnTo>
                    <a:lnTo>
                      <a:pt x="461" y="190"/>
                    </a:lnTo>
                    <a:lnTo>
                      <a:pt x="503" y="162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2"/>
                    </a:lnTo>
                    <a:lnTo>
                      <a:pt x="732" y="53"/>
                    </a:lnTo>
                    <a:lnTo>
                      <a:pt x="782" y="39"/>
                    </a:lnTo>
                    <a:lnTo>
                      <a:pt x="831" y="26"/>
                    </a:lnTo>
                    <a:lnTo>
                      <a:pt x="882" y="15"/>
                    </a:lnTo>
                    <a:lnTo>
                      <a:pt x="933" y="9"/>
                    </a:lnTo>
                    <a:lnTo>
                      <a:pt x="984" y="4"/>
                    </a:lnTo>
                    <a:lnTo>
                      <a:pt x="1037" y="0"/>
                    </a:lnTo>
                    <a:lnTo>
                      <a:pt x="1087" y="0"/>
                    </a:lnTo>
                    <a:lnTo>
                      <a:pt x="1140" y="4"/>
                    </a:lnTo>
                    <a:lnTo>
                      <a:pt x="1193" y="9"/>
                    </a:lnTo>
                    <a:lnTo>
                      <a:pt x="1245" y="17"/>
                    </a:lnTo>
                    <a:lnTo>
                      <a:pt x="1300" y="27"/>
                    </a:lnTo>
                    <a:lnTo>
                      <a:pt x="1353" y="41"/>
                    </a:lnTo>
                    <a:lnTo>
                      <a:pt x="1353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21"/>
                    </a:lnTo>
                    <a:lnTo>
                      <a:pt x="1597" y="146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5" y="235"/>
                    </a:lnTo>
                    <a:lnTo>
                      <a:pt x="1764" y="269"/>
                    </a:lnTo>
                    <a:lnTo>
                      <a:pt x="1801" y="303"/>
                    </a:lnTo>
                    <a:lnTo>
                      <a:pt x="1837" y="340"/>
                    </a:lnTo>
                    <a:lnTo>
                      <a:pt x="1871" y="379"/>
                    </a:lnTo>
                    <a:lnTo>
                      <a:pt x="1903" y="418"/>
                    </a:lnTo>
                    <a:lnTo>
                      <a:pt x="1932" y="461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9"/>
                    </a:lnTo>
                    <a:lnTo>
                      <a:pt x="2049" y="685"/>
                    </a:lnTo>
                    <a:lnTo>
                      <a:pt x="2066" y="734"/>
                    </a:lnTo>
                    <a:lnTo>
                      <a:pt x="2081" y="783"/>
                    </a:lnTo>
                    <a:lnTo>
                      <a:pt x="2093" y="833"/>
                    </a:lnTo>
                    <a:lnTo>
                      <a:pt x="2103" y="884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1"/>
                    </a:lnTo>
                    <a:lnTo>
                      <a:pt x="2114" y="1145"/>
                    </a:lnTo>
                    <a:lnTo>
                      <a:pt x="2109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676"/>
              <p:cNvSpPr/>
              <p:nvPr/>
            </p:nvSpPr>
            <p:spPr>
              <a:xfrm>
                <a:off x="511200" y="4498560"/>
                <a:ext cx="412200" cy="41112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08"/>
                    </a:lnTo>
                    <a:lnTo>
                      <a:pt x="2040" y="1459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48"/>
                    </a:lnTo>
                    <a:lnTo>
                      <a:pt x="1913" y="1692"/>
                    </a:lnTo>
                    <a:lnTo>
                      <a:pt x="1882" y="1733"/>
                    </a:lnTo>
                    <a:lnTo>
                      <a:pt x="1848" y="1773"/>
                    </a:lnTo>
                    <a:lnTo>
                      <a:pt x="1813" y="1811"/>
                    </a:lnTo>
                    <a:lnTo>
                      <a:pt x="1777" y="1846"/>
                    </a:lnTo>
                    <a:lnTo>
                      <a:pt x="1738" y="1880"/>
                    </a:lnTo>
                    <a:lnTo>
                      <a:pt x="1699" y="1913"/>
                    </a:lnTo>
                    <a:lnTo>
                      <a:pt x="1656" y="1943"/>
                    </a:lnTo>
                    <a:lnTo>
                      <a:pt x="1614" y="1970"/>
                    </a:lnTo>
                    <a:lnTo>
                      <a:pt x="1570" y="1998"/>
                    </a:lnTo>
                    <a:lnTo>
                      <a:pt x="1526" y="2021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5" y="2094"/>
                    </a:lnTo>
                    <a:lnTo>
                      <a:pt x="1286" y="2106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0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5"/>
                    </a:lnTo>
                    <a:lnTo>
                      <a:pt x="766" y="2091"/>
                    </a:lnTo>
                    <a:lnTo>
                      <a:pt x="766" y="2091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5"/>
                    </a:lnTo>
                    <a:lnTo>
                      <a:pt x="566" y="2013"/>
                    </a:lnTo>
                    <a:lnTo>
                      <a:pt x="520" y="1987"/>
                    </a:lnTo>
                    <a:lnTo>
                      <a:pt x="476" y="1959"/>
                    </a:lnTo>
                    <a:lnTo>
                      <a:pt x="433" y="1930"/>
                    </a:lnTo>
                    <a:lnTo>
                      <a:pt x="392" y="1897"/>
                    </a:lnTo>
                    <a:lnTo>
                      <a:pt x="353" y="1865"/>
                    </a:lnTo>
                    <a:lnTo>
                      <a:pt x="316" y="1829"/>
                    </a:lnTo>
                    <a:lnTo>
                      <a:pt x="280" y="1792"/>
                    </a:lnTo>
                    <a:lnTo>
                      <a:pt x="246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7"/>
                    </a:lnTo>
                    <a:lnTo>
                      <a:pt x="51" y="1398"/>
                    </a:lnTo>
                    <a:lnTo>
                      <a:pt x="37" y="1350"/>
                    </a:lnTo>
                    <a:lnTo>
                      <a:pt x="24" y="1299"/>
                    </a:lnTo>
                    <a:lnTo>
                      <a:pt x="15" y="1248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1"/>
                    </a:lnTo>
                    <a:lnTo>
                      <a:pt x="3" y="989"/>
                    </a:lnTo>
                    <a:lnTo>
                      <a:pt x="8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6"/>
                    </a:lnTo>
                    <a:lnTo>
                      <a:pt x="41" y="776"/>
                    </a:lnTo>
                    <a:lnTo>
                      <a:pt x="58" y="724"/>
                    </a:lnTo>
                    <a:lnTo>
                      <a:pt x="76" y="673"/>
                    </a:lnTo>
                    <a:lnTo>
                      <a:pt x="97" y="623"/>
                    </a:lnTo>
                    <a:lnTo>
                      <a:pt x="121" y="574"/>
                    </a:lnTo>
                    <a:lnTo>
                      <a:pt x="146" y="528"/>
                    </a:lnTo>
                    <a:lnTo>
                      <a:pt x="173" y="484"/>
                    </a:lnTo>
                    <a:lnTo>
                      <a:pt x="204" y="440"/>
                    </a:lnTo>
                    <a:lnTo>
                      <a:pt x="234" y="399"/>
                    </a:lnTo>
                    <a:lnTo>
                      <a:pt x="268" y="360"/>
                    </a:lnTo>
                    <a:lnTo>
                      <a:pt x="304" y="321"/>
                    </a:lnTo>
                    <a:lnTo>
                      <a:pt x="340" y="285"/>
                    </a:lnTo>
                    <a:lnTo>
                      <a:pt x="379" y="251"/>
                    </a:lnTo>
                    <a:lnTo>
                      <a:pt x="418" y="219"/>
                    </a:lnTo>
                    <a:lnTo>
                      <a:pt x="460" y="190"/>
                    </a:lnTo>
                    <a:lnTo>
                      <a:pt x="503" y="161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0"/>
                    </a:lnTo>
                    <a:lnTo>
                      <a:pt x="732" y="53"/>
                    </a:lnTo>
                    <a:lnTo>
                      <a:pt x="781" y="39"/>
                    </a:lnTo>
                    <a:lnTo>
                      <a:pt x="831" y="25"/>
                    </a:lnTo>
                    <a:lnTo>
                      <a:pt x="882" y="15"/>
                    </a:lnTo>
                    <a:lnTo>
                      <a:pt x="933" y="8"/>
                    </a:lnTo>
                    <a:lnTo>
                      <a:pt x="984" y="3"/>
                    </a:lnTo>
                    <a:lnTo>
                      <a:pt x="1036" y="0"/>
                    </a:lnTo>
                    <a:lnTo>
                      <a:pt x="1087" y="0"/>
                    </a:lnTo>
                    <a:lnTo>
                      <a:pt x="1140" y="3"/>
                    </a:lnTo>
                    <a:lnTo>
                      <a:pt x="1193" y="8"/>
                    </a:lnTo>
                    <a:lnTo>
                      <a:pt x="1245" y="15"/>
                    </a:lnTo>
                    <a:lnTo>
                      <a:pt x="1298" y="27"/>
                    </a:lnTo>
                    <a:lnTo>
                      <a:pt x="1351" y="41"/>
                    </a:lnTo>
                    <a:lnTo>
                      <a:pt x="1351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19"/>
                    </a:lnTo>
                    <a:lnTo>
                      <a:pt x="1597" y="144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4" y="234"/>
                    </a:lnTo>
                    <a:lnTo>
                      <a:pt x="1763" y="267"/>
                    </a:lnTo>
                    <a:lnTo>
                      <a:pt x="1801" y="302"/>
                    </a:lnTo>
                    <a:lnTo>
                      <a:pt x="1836" y="340"/>
                    </a:lnTo>
                    <a:lnTo>
                      <a:pt x="1870" y="377"/>
                    </a:lnTo>
                    <a:lnTo>
                      <a:pt x="1901" y="418"/>
                    </a:lnTo>
                    <a:lnTo>
                      <a:pt x="1932" y="459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7"/>
                    </a:lnTo>
                    <a:lnTo>
                      <a:pt x="2049" y="684"/>
                    </a:lnTo>
                    <a:lnTo>
                      <a:pt x="2066" y="734"/>
                    </a:lnTo>
                    <a:lnTo>
                      <a:pt x="2079" y="783"/>
                    </a:lnTo>
                    <a:lnTo>
                      <a:pt x="2093" y="832"/>
                    </a:lnTo>
                    <a:lnTo>
                      <a:pt x="2102" y="883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0"/>
                    </a:lnTo>
                    <a:lnTo>
                      <a:pt x="2113" y="1143"/>
                    </a:lnTo>
                    <a:lnTo>
                      <a:pt x="2108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677"/>
              <p:cNvSpPr/>
              <p:nvPr/>
            </p:nvSpPr>
            <p:spPr>
              <a:xfrm>
                <a:off x="533160" y="4537800"/>
                <a:ext cx="312840" cy="255600"/>
              </a:xfrm>
              <a:custGeom>
                <a:avLst/>
                <a:gdLst>
                  <a:gd name="textAreaLeft" fmla="*/ 0 w 312840"/>
                  <a:gd name="textAreaRight" fmla="*/ 313200 w 31284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609" h="1326">
                    <a:moveTo>
                      <a:pt x="0" y="1326"/>
                    </a:moveTo>
                    <a:lnTo>
                      <a:pt x="0" y="1326"/>
                    </a:lnTo>
                    <a:lnTo>
                      <a:pt x="26" y="1243"/>
                    </a:lnTo>
                    <a:lnTo>
                      <a:pt x="53" y="1162"/>
                    </a:lnTo>
                    <a:lnTo>
                      <a:pt x="83" y="1082"/>
                    </a:lnTo>
                    <a:lnTo>
                      <a:pt x="116" y="1005"/>
                    </a:lnTo>
                    <a:lnTo>
                      <a:pt x="151" y="931"/>
                    </a:lnTo>
                    <a:lnTo>
                      <a:pt x="189" y="858"/>
                    </a:lnTo>
                    <a:lnTo>
                      <a:pt x="228" y="786"/>
                    </a:lnTo>
                    <a:lnTo>
                      <a:pt x="269" y="718"/>
                    </a:lnTo>
                    <a:lnTo>
                      <a:pt x="311" y="654"/>
                    </a:lnTo>
                    <a:lnTo>
                      <a:pt x="357" y="591"/>
                    </a:lnTo>
                    <a:lnTo>
                      <a:pt x="403" y="531"/>
                    </a:lnTo>
                    <a:lnTo>
                      <a:pt x="452" y="474"/>
                    </a:lnTo>
                    <a:lnTo>
                      <a:pt x="501" y="419"/>
                    </a:lnTo>
                    <a:lnTo>
                      <a:pt x="552" y="367"/>
                    </a:lnTo>
                    <a:lnTo>
                      <a:pt x="605" y="319"/>
                    </a:lnTo>
                    <a:lnTo>
                      <a:pt x="658" y="273"/>
                    </a:lnTo>
                    <a:lnTo>
                      <a:pt x="714" y="231"/>
                    </a:lnTo>
                    <a:lnTo>
                      <a:pt x="768" y="192"/>
                    </a:lnTo>
                    <a:lnTo>
                      <a:pt x="826" y="156"/>
                    </a:lnTo>
                    <a:lnTo>
                      <a:pt x="884" y="124"/>
                    </a:lnTo>
                    <a:lnTo>
                      <a:pt x="941" y="97"/>
                    </a:lnTo>
                    <a:lnTo>
                      <a:pt x="1001" y="71"/>
                    </a:lnTo>
                    <a:lnTo>
                      <a:pt x="1060" y="49"/>
                    </a:lnTo>
                    <a:lnTo>
                      <a:pt x="1120" y="32"/>
                    </a:lnTo>
                    <a:lnTo>
                      <a:pt x="1181" y="17"/>
                    </a:lnTo>
                    <a:lnTo>
                      <a:pt x="1242" y="8"/>
                    </a:lnTo>
                    <a:lnTo>
                      <a:pt x="1303" y="1"/>
                    </a:lnTo>
                    <a:lnTo>
                      <a:pt x="1334" y="0"/>
                    </a:lnTo>
                    <a:lnTo>
                      <a:pt x="1364" y="0"/>
                    </a:lnTo>
                    <a:lnTo>
                      <a:pt x="1395" y="0"/>
                    </a:lnTo>
                    <a:lnTo>
                      <a:pt x="1425" y="1"/>
                    </a:lnTo>
                    <a:lnTo>
                      <a:pt x="1456" y="5"/>
                    </a:lnTo>
                    <a:lnTo>
                      <a:pt x="1487" y="8"/>
                    </a:lnTo>
                    <a:lnTo>
                      <a:pt x="1517" y="13"/>
                    </a:lnTo>
                    <a:lnTo>
                      <a:pt x="1548" y="18"/>
                    </a:lnTo>
                    <a:lnTo>
                      <a:pt x="1578" y="25"/>
                    </a:lnTo>
                    <a:lnTo>
                      <a:pt x="1609" y="34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678"/>
              <p:cNvSpPr/>
              <p:nvPr/>
            </p:nvSpPr>
            <p:spPr>
              <a:xfrm>
                <a:off x="693000" y="4500000"/>
                <a:ext cx="158760" cy="3718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817" h="1928">
                    <a:moveTo>
                      <a:pt x="730" y="1928"/>
                    </a:moveTo>
                    <a:lnTo>
                      <a:pt x="730" y="1928"/>
                    </a:lnTo>
                    <a:lnTo>
                      <a:pt x="752" y="1845"/>
                    </a:lnTo>
                    <a:lnTo>
                      <a:pt x="771" y="1762"/>
                    </a:lnTo>
                    <a:lnTo>
                      <a:pt x="786" y="1680"/>
                    </a:lnTo>
                    <a:lnTo>
                      <a:pt x="800" y="1599"/>
                    </a:lnTo>
                    <a:lnTo>
                      <a:pt x="808" y="1517"/>
                    </a:lnTo>
                    <a:lnTo>
                      <a:pt x="813" y="1436"/>
                    </a:lnTo>
                    <a:lnTo>
                      <a:pt x="817" y="1358"/>
                    </a:lnTo>
                    <a:lnTo>
                      <a:pt x="815" y="1278"/>
                    </a:lnTo>
                    <a:lnTo>
                      <a:pt x="812" y="1201"/>
                    </a:lnTo>
                    <a:lnTo>
                      <a:pt x="805" y="1125"/>
                    </a:lnTo>
                    <a:lnTo>
                      <a:pt x="796" y="1050"/>
                    </a:lnTo>
                    <a:lnTo>
                      <a:pt x="783" y="977"/>
                    </a:lnTo>
                    <a:lnTo>
                      <a:pt x="768" y="906"/>
                    </a:lnTo>
                    <a:lnTo>
                      <a:pt x="751" y="836"/>
                    </a:lnTo>
                    <a:lnTo>
                      <a:pt x="729" y="767"/>
                    </a:lnTo>
                    <a:lnTo>
                      <a:pt x="706" y="702"/>
                    </a:lnTo>
                    <a:lnTo>
                      <a:pt x="679" y="637"/>
                    </a:lnTo>
                    <a:lnTo>
                      <a:pt x="650" y="575"/>
                    </a:lnTo>
                    <a:lnTo>
                      <a:pt x="620" y="515"/>
                    </a:lnTo>
                    <a:lnTo>
                      <a:pt x="586" y="457"/>
                    </a:lnTo>
                    <a:lnTo>
                      <a:pt x="548" y="403"/>
                    </a:lnTo>
                    <a:lnTo>
                      <a:pt x="511" y="352"/>
                    </a:lnTo>
                    <a:lnTo>
                      <a:pt x="469" y="301"/>
                    </a:lnTo>
                    <a:lnTo>
                      <a:pt x="426" y="255"/>
                    </a:lnTo>
                    <a:lnTo>
                      <a:pt x="380" y="211"/>
                    </a:lnTo>
                    <a:lnTo>
                      <a:pt x="333" y="172"/>
                    </a:lnTo>
                    <a:lnTo>
                      <a:pt x="282" y="135"/>
                    </a:lnTo>
                    <a:lnTo>
                      <a:pt x="229" y="101"/>
                    </a:lnTo>
                    <a:lnTo>
                      <a:pt x="175" y="70"/>
                    </a:lnTo>
                    <a:lnTo>
                      <a:pt x="147" y="56"/>
                    </a:lnTo>
                    <a:lnTo>
                      <a:pt x="119" y="43"/>
                    </a:lnTo>
                    <a:lnTo>
                      <a:pt x="90" y="31"/>
                    </a:lnTo>
                    <a:lnTo>
                      <a:pt x="61" y="19"/>
                    </a:lnTo>
                    <a:lnTo>
                      <a:pt x="30" y="9"/>
                    </a:lnTo>
                    <a:lnTo>
                      <a:pt x="0" y="0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5" name="组合 133"/>
          <p:cNvGrpSpPr/>
          <p:nvPr/>
        </p:nvGrpSpPr>
        <p:grpSpPr>
          <a:xfrm>
            <a:off x="8238240" y="4387680"/>
            <a:ext cx="647280" cy="647280"/>
            <a:chOff x="8238240" y="4387680"/>
            <a:chExt cx="647280" cy="647280"/>
          </a:xfrm>
        </p:grpSpPr>
        <p:sp>
          <p:nvSpPr>
            <p:cNvPr id="156" name="椭圆 134"/>
            <p:cNvSpPr/>
            <p:nvPr/>
          </p:nvSpPr>
          <p:spPr>
            <a:xfrm>
              <a:off x="8238240" y="4387680"/>
              <a:ext cx="647280" cy="64728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7" name="Freeform 331"/>
            <p:cNvSpPr/>
            <p:nvPr/>
          </p:nvSpPr>
          <p:spPr>
            <a:xfrm>
              <a:off x="8347680" y="4480200"/>
              <a:ext cx="429120" cy="45720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130" h="1202">
                  <a:moveTo>
                    <a:pt x="830" y="1134"/>
                  </a:moveTo>
                  <a:lnTo>
                    <a:pt x="830" y="1134"/>
                  </a:lnTo>
                  <a:lnTo>
                    <a:pt x="794" y="1150"/>
                  </a:lnTo>
                  <a:lnTo>
                    <a:pt x="758" y="1166"/>
                  </a:lnTo>
                  <a:lnTo>
                    <a:pt x="722" y="1178"/>
                  </a:lnTo>
                  <a:lnTo>
                    <a:pt x="684" y="1186"/>
                  </a:lnTo>
                  <a:lnTo>
                    <a:pt x="646" y="1194"/>
                  </a:lnTo>
                  <a:lnTo>
                    <a:pt x="606" y="1198"/>
                  </a:lnTo>
                  <a:lnTo>
                    <a:pt x="566" y="1202"/>
                  </a:lnTo>
                  <a:lnTo>
                    <a:pt x="522" y="1202"/>
                  </a:lnTo>
                  <a:lnTo>
                    <a:pt x="522" y="1202"/>
                  </a:lnTo>
                  <a:lnTo>
                    <a:pt x="496" y="1202"/>
                  </a:lnTo>
                  <a:lnTo>
                    <a:pt x="470" y="1200"/>
                  </a:lnTo>
                  <a:lnTo>
                    <a:pt x="444" y="1196"/>
                  </a:lnTo>
                  <a:lnTo>
                    <a:pt x="418" y="1192"/>
                  </a:lnTo>
                  <a:lnTo>
                    <a:pt x="394" y="1188"/>
                  </a:lnTo>
                  <a:lnTo>
                    <a:pt x="370" y="1180"/>
                  </a:lnTo>
                  <a:lnTo>
                    <a:pt x="346" y="1174"/>
                  </a:lnTo>
                  <a:lnTo>
                    <a:pt x="322" y="1164"/>
                  </a:lnTo>
                  <a:lnTo>
                    <a:pt x="298" y="1154"/>
                  </a:lnTo>
                  <a:lnTo>
                    <a:pt x="276" y="1144"/>
                  </a:lnTo>
                  <a:lnTo>
                    <a:pt x="254" y="1132"/>
                  </a:lnTo>
                  <a:lnTo>
                    <a:pt x="232" y="1120"/>
                  </a:lnTo>
                  <a:lnTo>
                    <a:pt x="212" y="1106"/>
                  </a:lnTo>
                  <a:lnTo>
                    <a:pt x="192" y="1090"/>
                  </a:lnTo>
                  <a:lnTo>
                    <a:pt x="174" y="1074"/>
                  </a:lnTo>
                  <a:lnTo>
                    <a:pt x="154" y="1058"/>
                  </a:lnTo>
                  <a:lnTo>
                    <a:pt x="138" y="1040"/>
                  </a:lnTo>
                  <a:lnTo>
                    <a:pt x="120" y="1020"/>
                  </a:lnTo>
                  <a:lnTo>
                    <a:pt x="106" y="1000"/>
                  </a:lnTo>
                  <a:lnTo>
                    <a:pt x="90" y="980"/>
                  </a:lnTo>
                  <a:lnTo>
                    <a:pt x="76" y="958"/>
                  </a:lnTo>
                  <a:lnTo>
                    <a:pt x="64" y="936"/>
                  </a:lnTo>
                  <a:lnTo>
                    <a:pt x="52" y="912"/>
                  </a:lnTo>
                  <a:lnTo>
                    <a:pt x="42" y="888"/>
                  </a:lnTo>
                  <a:lnTo>
                    <a:pt x="32" y="862"/>
                  </a:lnTo>
                  <a:lnTo>
                    <a:pt x="24" y="836"/>
                  </a:lnTo>
                  <a:lnTo>
                    <a:pt x="16" y="810"/>
                  </a:lnTo>
                  <a:lnTo>
                    <a:pt x="10" y="782"/>
                  </a:lnTo>
                  <a:lnTo>
                    <a:pt x="6" y="754"/>
                  </a:lnTo>
                  <a:lnTo>
                    <a:pt x="2" y="724"/>
                  </a:lnTo>
                  <a:lnTo>
                    <a:pt x="0" y="694"/>
                  </a:lnTo>
                  <a:lnTo>
                    <a:pt x="0" y="664"/>
                  </a:lnTo>
                  <a:lnTo>
                    <a:pt x="0" y="664"/>
                  </a:lnTo>
                  <a:lnTo>
                    <a:pt x="0" y="630"/>
                  </a:lnTo>
                  <a:lnTo>
                    <a:pt x="2" y="598"/>
                  </a:lnTo>
                  <a:lnTo>
                    <a:pt x="6" y="566"/>
                  </a:lnTo>
                  <a:lnTo>
                    <a:pt x="10" y="532"/>
                  </a:lnTo>
                  <a:lnTo>
                    <a:pt x="18" y="502"/>
                  </a:lnTo>
                  <a:lnTo>
                    <a:pt x="24" y="470"/>
                  </a:lnTo>
                  <a:lnTo>
                    <a:pt x="34" y="440"/>
                  </a:lnTo>
                  <a:lnTo>
                    <a:pt x="44" y="410"/>
                  </a:lnTo>
                  <a:lnTo>
                    <a:pt x="56" y="380"/>
                  </a:lnTo>
                  <a:lnTo>
                    <a:pt x="68" y="352"/>
                  </a:lnTo>
                  <a:lnTo>
                    <a:pt x="82" y="324"/>
                  </a:lnTo>
                  <a:lnTo>
                    <a:pt x="98" y="298"/>
                  </a:lnTo>
                  <a:lnTo>
                    <a:pt x="114" y="272"/>
                  </a:lnTo>
                  <a:lnTo>
                    <a:pt x="132" y="246"/>
                  </a:lnTo>
                  <a:lnTo>
                    <a:pt x="150" y="222"/>
                  </a:lnTo>
                  <a:lnTo>
                    <a:pt x="170" y="198"/>
                  </a:lnTo>
                  <a:lnTo>
                    <a:pt x="192" y="176"/>
                  </a:lnTo>
                  <a:lnTo>
                    <a:pt x="214" y="156"/>
                  </a:lnTo>
                  <a:lnTo>
                    <a:pt x="238" y="136"/>
                  </a:lnTo>
                  <a:lnTo>
                    <a:pt x="262" y="116"/>
                  </a:lnTo>
                  <a:lnTo>
                    <a:pt x="288" y="98"/>
                  </a:lnTo>
                  <a:lnTo>
                    <a:pt x="314" y="82"/>
                  </a:lnTo>
                  <a:lnTo>
                    <a:pt x="342" y="68"/>
                  </a:lnTo>
                  <a:lnTo>
                    <a:pt x="370" y="54"/>
                  </a:lnTo>
                  <a:lnTo>
                    <a:pt x="398" y="42"/>
                  </a:lnTo>
                  <a:lnTo>
                    <a:pt x="430" y="32"/>
                  </a:lnTo>
                  <a:lnTo>
                    <a:pt x="460" y="22"/>
                  </a:lnTo>
                  <a:lnTo>
                    <a:pt x="492" y="14"/>
                  </a:lnTo>
                  <a:lnTo>
                    <a:pt x="526" y="8"/>
                  </a:lnTo>
                  <a:lnTo>
                    <a:pt x="560" y="4"/>
                  </a:lnTo>
                  <a:lnTo>
                    <a:pt x="594" y="2"/>
                  </a:lnTo>
                  <a:lnTo>
                    <a:pt x="630" y="0"/>
                  </a:lnTo>
                  <a:lnTo>
                    <a:pt x="630" y="0"/>
                  </a:lnTo>
                  <a:lnTo>
                    <a:pt x="658" y="2"/>
                  </a:lnTo>
                  <a:lnTo>
                    <a:pt x="684" y="2"/>
                  </a:lnTo>
                  <a:lnTo>
                    <a:pt x="712" y="6"/>
                  </a:lnTo>
                  <a:lnTo>
                    <a:pt x="738" y="10"/>
                  </a:lnTo>
                  <a:lnTo>
                    <a:pt x="762" y="16"/>
                  </a:lnTo>
                  <a:lnTo>
                    <a:pt x="788" y="22"/>
                  </a:lnTo>
                  <a:lnTo>
                    <a:pt x="812" y="30"/>
                  </a:lnTo>
                  <a:lnTo>
                    <a:pt x="834" y="38"/>
                  </a:lnTo>
                  <a:lnTo>
                    <a:pt x="858" y="48"/>
                  </a:lnTo>
                  <a:lnTo>
                    <a:pt x="880" y="58"/>
                  </a:lnTo>
                  <a:lnTo>
                    <a:pt x="900" y="70"/>
                  </a:lnTo>
                  <a:lnTo>
                    <a:pt x="920" y="82"/>
                  </a:lnTo>
                  <a:lnTo>
                    <a:pt x="940" y="96"/>
                  </a:lnTo>
                  <a:lnTo>
                    <a:pt x="958" y="110"/>
                  </a:lnTo>
                  <a:lnTo>
                    <a:pt x="976" y="126"/>
                  </a:lnTo>
                  <a:lnTo>
                    <a:pt x="992" y="142"/>
                  </a:lnTo>
                  <a:lnTo>
                    <a:pt x="1008" y="158"/>
                  </a:lnTo>
                  <a:lnTo>
                    <a:pt x="1024" y="176"/>
                  </a:lnTo>
                  <a:lnTo>
                    <a:pt x="1038" y="196"/>
                  </a:lnTo>
                  <a:lnTo>
                    <a:pt x="1052" y="214"/>
                  </a:lnTo>
                  <a:lnTo>
                    <a:pt x="1064" y="236"/>
                  </a:lnTo>
                  <a:lnTo>
                    <a:pt x="1074" y="256"/>
                  </a:lnTo>
                  <a:lnTo>
                    <a:pt x="1094" y="300"/>
                  </a:lnTo>
                  <a:lnTo>
                    <a:pt x="1110" y="346"/>
                  </a:lnTo>
                  <a:lnTo>
                    <a:pt x="1122" y="396"/>
                  </a:lnTo>
                  <a:lnTo>
                    <a:pt x="1128" y="446"/>
                  </a:lnTo>
                  <a:lnTo>
                    <a:pt x="1130" y="500"/>
                  </a:lnTo>
                  <a:lnTo>
                    <a:pt x="1130" y="500"/>
                  </a:lnTo>
                  <a:lnTo>
                    <a:pt x="1128" y="546"/>
                  </a:lnTo>
                  <a:lnTo>
                    <a:pt x="1124" y="592"/>
                  </a:lnTo>
                  <a:lnTo>
                    <a:pt x="1116" y="634"/>
                  </a:lnTo>
                  <a:lnTo>
                    <a:pt x="1106" y="674"/>
                  </a:lnTo>
                  <a:lnTo>
                    <a:pt x="1092" y="710"/>
                  </a:lnTo>
                  <a:lnTo>
                    <a:pt x="1076" y="744"/>
                  </a:lnTo>
                  <a:lnTo>
                    <a:pt x="1058" y="774"/>
                  </a:lnTo>
                  <a:lnTo>
                    <a:pt x="1038" y="802"/>
                  </a:lnTo>
                  <a:lnTo>
                    <a:pt x="1016" y="828"/>
                  </a:lnTo>
                  <a:lnTo>
                    <a:pt x="992" y="848"/>
                  </a:lnTo>
                  <a:lnTo>
                    <a:pt x="968" y="868"/>
                  </a:lnTo>
                  <a:lnTo>
                    <a:pt x="942" y="882"/>
                  </a:lnTo>
                  <a:lnTo>
                    <a:pt x="914" y="894"/>
                  </a:lnTo>
                  <a:lnTo>
                    <a:pt x="884" y="904"/>
                  </a:lnTo>
                  <a:lnTo>
                    <a:pt x="856" y="908"/>
                  </a:lnTo>
                  <a:lnTo>
                    <a:pt x="824" y="910"/>
                  </a:lnTo>
                  <a:lnTo>
                    <a:pt x="824" y="910"/>
                  </a:lnTo>
                  <a:lnTo>
                    <a:pt x="800" y="908"/>
                  </a:lnTo>
                  <a:lnTo>
                    <a:pt x="788" y="906"/>
                  </a:lnTo>
                  <a:lnTo>
                    <a:pt x="776" y="902"/>
                  </a:lnTo>
                  <a:lnTo>
                    <a:pt x="764" y="896"/>
                  </a:lnTo>
                  <a:lnTo>
                    <a:pt x="754" y="890"/>
                  </a:lnTo>
                  <a:lnTo>
                    <a:pt x="744" y="884"/>
                  </a:lnTo>
                  <a:lnTo>
                    <a:pt x="734" y="874"/>
                  </a:lnTo>
                  <a:lnTo>
                    <a:pt x="726" y="864"/>
                  </a:lnTo>
                  <a:lnTo>
                    <a:pt x="718" y="854"/>
                  </a:lnTo>
                  <a:lnTo>
                    <a:pt x="712" y="842"/>
                  </a:lnTo>
                  <a:lnTo>
                    <a:pt x="706" y="828"/>
                  </a:lnTo>
                  <a:lnTo>
                    <a:pt x="702" y="812"/>
                  </a:lnTo>
                  <a:lnTo>
                    <a:pt x="698" y="796"/>
                  </a:lnTo>
                  <a:lnTo>
                    <a:pt x="698" y="778"/>
                  </a:lnTo>
                  <a:lnTo>
                    <a:pt x="698" y="758"/>
                  </a:lnTo>
                  <a:lnTo>
                    <a:pt x="692" y="758"/>
                  </a:lnTo>
                  <a:lnTo>
                    <a:pt x="692" y="758"/>
                  </a:lnTo>
                  <a:lnTo>
                    <a:pt x="668" y="794"/>
                  </a:lnTo>
                  <a:lnTo>
                    <a:pt x="642" y="826"/>
                  </a:lnTo>
                  <a:lnTo>
                    <a:pt x="614" y="852"/>
                  </a:lnTo>
                  <a:lnTo>
                    <a:pt x="600" y="862"/>
                  </a:lnTo>
                  <a:lnTo>
                    <a:pt x="584" y="872"/>
                  </a:lnTo>
                  <a:lnTo>
                    <a:pt x="570" y="882"/>
                  </a:lnTo>
                  <a:lnTo>
                    <a:pt x="554" y="890"/>
                  </a:lnTo>
                  <a:lnTo>
                    <a:pt x="536" y="896"/>
                  </a:lnTo>
                  <a:lnTo>
                    <a:pt x="520" y="902"/>
                  </a:lnTo>
                  <a:lnTo>
                    <a:pt x="502" y="906"/>
                  </a:lnTo>
                  <a:lnTo>
                    <a:pt x="484" y="908"/>
                  </a:lnTo>
                  <a:lnTo>
                    <a:pt x="466" y="910"/>
                  </a:lnTo>
                  <a:lnTo>
                    <a:pt x="446" y="910"/>
                  </a:lnTo>
                  <a:lnTo>
                    <a:pt x="446" y="910"/>
                  </a:lnTo>
                  <a:lnTo>
                    <a:pt x="428" y="910"/>
                  </a:lnTo>
                  <a:lnTo>
                    <a:pt x="410" y="906"/>
                  </a:lnTo>
                  <a:lnTo>
                    <a:pt x="392" y="902"/>
                  </a:lnTo>
                  <a:lnTo>
                    <a:pt x="376" y="896"/>
                  </a:lnTo>
                  <a:lnTo>
                    <a:pt x="360" y="888"/>
                  </a:lnTo>
                  <a:lnTo>
                    <a:pt x="344" y="878"/>
                  </a:lnTo>
                  <a:lnTo>
                    <a:pt x="330" y="866"/>
                  </a:lnTo>
                  <a:lnTo>
                    <a:pt x="316" y="852"/>
                  </a:lnTo>
                  <a:lnTo>
                    <a:pt x="304" y="838"/>
                  </a:lnTo>
                  <a:lnTo>
                    <a:pt x="292" y="822"/>
                  </a:lnTo>
                  <a:lnTo>
                    <a:pt x="284" y="804"/>
                  </a:lnTo>
                  <a:lnTo>
                    <a:pt x="276" y="784"/>
                  </a:lnTo>
                  <a:lnTo>
                    <a:pt x="268" y="764"/>
                  </a:lnTo>
                  <a:lnTo>
                    <a:pt x="264" y="742"/>
                  </a:lnTo>
                  <a:lnTo>
                    <a:pt x="262" y="718"/>
                  </a:lnTo>
                  <a:lnTo>
                    <a:pt x="260" y="692"/>
                  </a:lnTo>
                  <a:lnTo>
                    <a:pt x="260" y="692"/>
                  </a:lnTo>
                  <a:lnTo>
                    <a:pt x="262" y="654"/>
                  </a:lnTo>
                  <a:lnTo>
                    <a:pt x="268" y="614"/>
                  </a:lnTo>
                  <a:lnTo>
                    <a:pt x="278" y="576"/>
                  </a:lnTo>
                  <a:lnTo>
                    <a:pt x="290" y="538"/>
                  </a:lnTo>
                  <a:lnTo>
                    <a:pt x="306" y="504"/>
                  </a:lnTo>
                  <a:lnTo>
                    <a:pt x="326" y="470"/>
                  </a:lnTo>
                  <a:lnTo>
                    <a:pt x="350" y="438"/>
                  </a:lnTo>
                  <a:lnTo>
                    <a:pt x="374" y="408"/>
                  </a:lnTo>
                  <a:lnTo>
                    <a:pt x="404" y="380"/>
                  </a:lnTo>
                  <a:lnTo>
                    <a:pt x="434" y="356"/>
                  </a:lnTo>
                  <a:lnTo>
                    <a:pt x="468" y="336"/>
                  </a:lnTo>
                  <a:lnTo>
                    <a:pt x="504" y="318"/>
                  </a:lnTo>
                  <a:lnTo>
                    <a:pt x="542" y="304"/>
                  </a:lnTo>
                  <a:lnTo>
                    <a:pt x="582" y="292"/>
                  </a:lnTo>
                  <a:lnTo>
                    <a:pt x="626" y="286"/>
                  </a:lnTo>
                  <a:lnTo>
                    <a:pt x="670" y="284"/>
                  </a:lnTo>
                  <a:lnTo>
                    <a:pt x="670" y="284"/>
                  </a:lnTo>
                  <a:lnTo>
                    <a:pt x="696" y="284"/>
                  </a:lnTo>
                  <a:lnTo>
                    <a:pt x="724" y="286"/>
                  </a:lnTo>
                  <a:lnTo>
                    <a:pt x="750" y="290"/>
                  </a:lnTo>
                  <a:lnTo>
                    <a:pt x="774" y="294"/>
                  </a:lnTo>
                  <a:lnTo>
                    <a:pt x="796" y="300"/>
                  </a:lnTo>
                  <a:lnTo>
                    <a:pt x="818" y="306"/>
                  </a:lnTo>
                  <a:lnTo>
                    <a:pt x="836" y="312"/>
                  </a:lnTo>
                  <a:lnTo>
                    <a:pt x="854" y="320"/>
                  </a:lnTo>
                  <a:lnTo>
                    <a:pt x="798" y="632"/>
                  </a:lnTo>
                  <a:lnTo>
                    <a:pt x="798" y="632"/>
                  </a:lnTo>
                  <a:lnTo>
                    <a:pt x="790" y="678"/>
                  </a:lnTo>
                  <a:lnTo>
                    <a:pt x="786" y="718"/>
                  </a:lnTo>
                  <a:lnTo>
                    <a:pt x="786" y="750"/>
                  </a:lnTo>
                  <a:lnTo>
                    <a:pt x="788" y="766"/>
                  </a:lnTo>
                  <a:lnTo>
                    <a:pt x="792" y="778"/>
                  </a:lnTo>
                  <a:lnTo>
                    <a:pt x="794" y="788"/>
                  </a:lnTo>
                  <a:lnTo>
                    <a:pt x="800" y="798"/>
                  </a:lnTo>
                  <a:lnTo>
                    <a:pt x="806" y="806"/>
                  </a:lnTo>
                  <a:lnTo>
                    <a:pt x="812" y="814"/>
                  </a:lnTo>
                  <a:lnTo>
                    <a:pt x="820" y="818"/>
                  </a:lnTo>
                  <a:lnTo>
                    <a:pt x="828" y="822"/>
                  </a:lnTo>
                  <a:lnTo>
                    <a:pt x="838" y="824"/>
                  </a:lnTo>
                  <a:lnTo>
                    <a:pt x="848" y="826"/>
                  </a:lnTo>
                  <a:lnTo>
                    <a:pt x="848" y="826"/>
                  </a:lnTo>
                  <a:lnTo>
                    <a:pt x="864" y="826"/>
                  </a:lnTo>
                  <a:lnTo>
                    <a:pt x="880" y="822"/>
                  </a:lnTo>
                  <a:lnTo>
                    <a:pt x="898" y="816"/>
                  </a:lnTo>
                  <a:lnTo>
                    <a:pt x="914" y="806"/>
                  </a:lnTo>
                  <a:lnTo>
                    <a:pt x="930" y="794"/>
                  </a:lnTo>
                  <a:lnTo>
                    <a:pt x="946" y="780"/>
                  </a:lnTo>
                  <a:lnTo>
                    <a:pt x="960" y="764"/>
                  </a:lnTo>
                  <a:lnTo>
                    <a:pt x="974" y="744"/>
                  </a:lnTo>
                  <a:lnTo>
                    <a:pt x="986" y="724"/>
                  </a:lnTo>
                  <a:lnTo>
                    <a:pt x="998" y="700"/>
                  </a:lnTo>
                  <a:lnTo>
                    <a:pt x="1008" y="674"/>
                  </a:lnTo>
                  <a:lnTo>
                    <a:pt x="1018" y="644"/>
                  </a:lnTo>
                  <a:lnTo>
                    <a:pt x="1024" y="614"/>
                  </a:lnTo>
                  <a:lnTo>
                    <a:pt x="1030" y="582"/>
                  </a:lnTo>
                  <a:lnTo>
                    <a:pt x="1032" y="548"/>
                  </a:lnTo>
                  <a:lnTo>
                    <a:pt x="1034" y="512"/>
                  </a:lnTo>
                  <a:lnTo>
                    <a:pt x="1034" y="512"/>
                  </a:lnTo>
                  <a:lnTo>
                    <a:pt x="1032" y="466"/>
                  </a:lnTo>
                  <a:lnTo>
                    <a:pt x="1026" y="420"/>
                  </a:lnTo>
                  <a:lnTo>
                    <a:pt x="1018" y="378"/>
                  </a:lnTo>
                  <a:lnTo>
                    <a:pt x="1006" y="338"/>
                  </a:lnTo>
                  <a:lnTo>
                    <a:pt x="990" y="300"/>
                  </a:lnTo>
                  <a:lnTo>
                    <a:pt x="972" y="264"/>
                  </a:lnTo>
                  <a:lnTo>
                    <a:pt x="950" y="232"/>
                  </a:lnTo>
                  <a:lnTo>
                    <a:pt x="926" y="202"/>
                  </a:lnTo>
                  <a:lnTo>
                    <a:pt x="898" y="174"/>
                  </a:lnTo>
                  <a:lnTo>
                    <a:pt x="866" y="150"/>
                  </a:lnTo>
                  <a:lnTo>
                    <a:pt x="832" y="130"/>
                  </a:lnTo>
                  <a:lnTo>
                    <a:pt x="794" y="112"/>
                  </a:lnTo>
                  <a:lnTo>
                    <a:pt x="754" y="98"/>
                  </a:lnTo>
                  <a:lnTo>
                    <a:pt x="710" y="88"/>
                  </a:lnTo>
                  <a:lnTo>
                    <a:pt x="664" y="82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590" y="80"/>
                  </a:lnTo>
                  <a:lnTo>
                    <a:pt x="564" y="82"/>
                  </a:lnTo>
                  <a:lnTo>
                    <a:pt x="538" y="86"/>
                  </a:lnTo>
                  <a:lnTo>
                    <a:pt x="512" y="90"/>
                  </a:lnTo>
                  <a:lnTo>
                    <a:pt x="488" y="96"/>
                  </a:lnTo>
                  <a:lnTo>
                    <a:pt x="464" y="102"/>
                  </a:lnTo>
                  <a:lnTo>
                    <a:pt x="440" y="110"/>
                  </a:lnTo>
                  <a:lnTo>
                    <a:pt x="416" y="120"/>
                  </a:lnTo>
                  <a:lnTo>
                    <a:pt x="394" y="130"/>
                  </a:lnTo>
                  <a:lnTo>
                    <a:pt x="372" y="142"/>
                  </a:lnTo>
                  <a:lnTo>
                    <a:pt x="350" y="156"/>
                  </a:lnTo>
                  <a:lnTo>
                    <a:pt x="328" y="168"/>
                  </a:lnTo>
                  <a:lnTo>
                    <a:pt x="308" y="184"/>
                  </a:lnTo>
                  <a:lnTo>
                    <a:pt x="288" y="200"/>
                  </a:lnTo>
                  <a:lnTo>
                    <a:pt x="270" y="218"/>
                  </a:lnTo>
                  <a:lnTo>
                    <a:pt x="252" y="236"/>
                  </a:lnTo>
                  <a:lnTo>
                    <a:pt x="234" y="254"/>
                  </a:lnTo>
                  <a:lnTo>
                    <a:pt x="218" y="274"/>
                  </a:lnTo>
                  <a:lnTo>
                    <a:pt x="202" y="296"/>
                  </a:lnTo>
                  <a:lnTo>
                    <a:pt x="188" y="318"/>
                  </a:lnTo>
                  <a:lnTo>
                    <a:pt x="174" y="342"/>
                  </a:lnTo>
                  <a:lnTo>
                    <a:pt x="162" y="366"/>
                  </a:lnTo>
                  <a:lnTo>
                    <a:pt x="150" y="390"/>
                  </a:lnTo>
                  <a:lnTo>
                    <a:pt x="140" y="416"/>
                  </a:lnTo>
                  <a:lnTo>
                    <a:pt x="130" y="444"/>
                  </a:lnTo>
                  <a:lnTo>
                    <a:pt x="122" y="472"/>
                  </a:lnTo>
                  <a:lnTo>
                    <a:pt x="114" y="500"/>
                  </a:lnTo>
                  <a:lnTo>
                    <a:pt x="108" y="530"/>
                  </a:lnTo>
                  <a:lnTo>
                    <a:pt x="104" y="560"/>
                  </a:lnTo>
                  <a:lnTo>
                    <a:pt x="100" y="590"/>
                  </a:lnTo>
                  <a:lnTo>
                    <a:pt x="98" y="622"/>
                  </a:lnTo>
                  <a:lnTo>
                    <a:pt x="98" y="654"/>
                  </a:lnTo>
                  <a:lnTo>
                    <a:pt x="98" y="654"/>
                  </a:lnTo>
                  <a:lnTo>
                    <a:pt x="100" y="708"/>
                  </a:lnTo>
                  <a:lnTo>
                    <a:pt x="106" y="758"/>
                  </a:lnTo>
                  <a:lnTo>
                    <a:pt x="116" y="804"/>
                  </a:lnTo>
                  <a:lnTo>
                    <a:pt x="132" y="848"/>
                  </a:lnTo>
                  <a:lnTo>
                    <a:pt x="150" y="890"/>
                  </a:lnTo>
                  <a:lnTo>
                    <a:pt x="170" y="928"/>
                  </a:lnTo>
                  <a:lnTo>
                    <a:pt x="196" y="962"/>
                  </a:lnTo>
                  <a:lnTo>
                    <a:pt x="224" y="994"/>
                  </a:lnTo>
                  <a:lnTo>
                    <a:pt x="256" y="1024"/>
                  </a:lnTo>
                  <a:lnTo>
                    <a:pt x="288" y="1048"/>
                  </a:lnTo>
                  <a:lnTo>
                    <a:pt x="326" y="1070"/>
                  </a:lnTo>
                  <a:lnTo>
                    <a:pt x="364" y="1088"/>
                  </a:lnTo>
                  <a:lnTo>
                    <a:pt x="406" y="1102"/>
                  </a:lnTo>
                  <a:lnTo>
                    <a:pt x="450" y="1112"/>
                  </a:lnTo>
                  <a:lnTo>
                    <a:pt x="494" y="1118"/>
                  </a:lnTo>
                  <a:lnTo>
                    <a:pt x="542" y="1120"/>
                  </a:lnTo>
                  <a:lnTo>
                    <a:pt x="542" y="1120"/>
                  </a:lnTo>
                  <a:lnTo>
                    <a:pt x="578" y="1118"/>
                  </a:lnTo>
                  <a:lnTo>
                    <a:pt x="614" y="1116"/>
                  </a:lnTo>
                  <a:lnTo>
                    <a:pt x="650" y="1110"/>
                  </a:lnTo>
                  <a:lnTo>
                    <a:pt x="684" y="1104"/>
                  </a:lnTo>
                  <a:lnTo>
                    <a:pt x="716" y="1096"/>
                  </a:lnTo>
                  <a:lnTo>
                    <a:pt x="746" y="1086"/>
                  </a:lnTo>
                  <a:lnTo>
                    <a:pt x="776" y="1072"/>
                  </a:lnTo>
                  <a:lnTo>
                    <a:pt x="802" y="1060"/>
                  </a:lnTo>
                  <a:lnTo>
                    <a:pt x="830" y="1134"/>
                  </a:lnTo>
                  <a:close/>
                  <a:moveTo>
                    <a:pt x="736" y="390"/>
                  </a:moveTo>
                  <a:lnTo>
                    <a:pt x="736" y="390"/>
                  </a:lnTo>
                  <a:lnTo>
                    <a:pt x="722" y="384"/>
                  </a:lnTo>
                  <a:lnTo>
                    <a:pt x="702" y="380"/>
                  </a:lnTo>
                  <a:lnTo>
                    <a:pt x="678" y="376"/>
                  </a:lnTo>
                  <a:lnTo>
                    <a:pt x="650" y="376"/>
                  </a:lnTo>
                  <a:lnTo>
                    <a:pt x="650" y="376"/>
                  </a:lnTo>
                  <a:lnTo>
                    <a:pt x="622" y="376"/>
                  </a:lnTo>
                  <a:lnTo>
                    <a:pt x="594" y="382"/>
                  </a:lnTo>
                  <a:lnTo>
                    <a:pt x="568" y="390"/>
                  </a:lnTo>
                  <a:lnTo>
                    <a:pt x="542" y="400"/>
                  </a:lnTo>
                  <a:lnTo>
                    <a:pt x="518" y="414"/>
                  </a:lnTo>
                  <a:lnTo>
                    <a:pt x="496" y="430"/>
                  </a:lnTo>
                  <a:lnTo>
                    <a:pt x="474" y="448"/>
                  </a:lnTo>
                  <a:lnTo>
                    <a:pt x="454" y="468"/>
                  </a:lnTo>
                  <a:lnTo>
                    <a:pt x="436" y="490"/>
                  </a:lnTo>
                  <a:lnTo>
                    <a:pt x="422" y="514"/>
                  </a:lnTo>
                  <a:lnTo>
                    <a:pt x="408" y="540"/>
                  </a:lnTo>
                  <a:lnTo>
                    <a:pt x="396" y="566"/>
                  </a:lnTo>
                  <a:lnTo>
                    <a:pt x="386" y="596"/>
                  </a:lnTo>
                  <a:lnTo>
                    <a:pt x="380" y="624"/>
                  </a:lnTo>
                  <a:lnTo>
                    <a:pt x="376" y="654"/>
                  </a:lnTo>
                  <a:lnTo>
                    <a:pt x="374" y="686"/>
                  </a:lnTo>
                  <a:lnTo>
                    <a:pt x="374" y="686"/>
                  </a:lnTo>
                  <a:lnTo>
                    <a:pt x="376" y="714"/>
                  </a:lnTo>
                  <a:lnTo>
                    <a:pt x="382" y="740"/>
                  </a:lnTo>
                  <a:lnTo>
                    <a:pt x="390" y="762"/>
                  </a:lnTo>
                  <a:lnTo>
                    <a:pt x="396" y="772"/>
                  </a:lnTo>
                  <a:lnTo>
                    <a:pt x="402" y="780"/>
                  </a:lnTo>
                  <a:lnTo>
                    <a:pt x="410" y="788"/>
                  </a:lnTo>
                  <a:lnTo>
                    <a:pt x="418" y="796"/>
                  </a:lnTo>
                  <a:lnTo>
                    <a:pt x="428" y="802"/>
                  </a:lnTo>
                  <a:lnTo>
                    <a:pt x="438" y="808"/>
                  </a:lnTo>
                  <a:lnTo>
                    <a:pt x="450" y="812"/>
                  </a:lnTo>
                  <a:lnTo>
                    <a:pt x="462" y="814"/>
                  </a:lnTo>
                  <a:lnTo>
                    <a:pt x="474" y="816"/>
                  </a:lnTo>
                  <a:lnTo>
                    <a:pt x="488" y="818"/>
                  </a:lnTo>
                  <a:lnTo>
                    <a:pt x="488" y="818"/>
                  </a:lnTo>
                  <a:lnTo>
                    <a:pt x="506" y="816"/>
                  </a:lnTo>
                  <a:lnTo>
                    <a:pt x="526" y="812"/>
                  </a:lnTo>
                  <a:lnTo>
                    <a:pt x="544" y="804"/>
                  </a:lnTo>
                  <a:lnTo>
                    <a:pt x="560" y="796"/>
                  </a:lnTo>
                  <a:lnTo>
                    <a:pt x="578" y="784"/>
                  </a:lnTo>
                  <a:lnTo>
                    <a:pt x="594" y="772"/>
                  </a:lnTo>
                  <a:lnTo>
                    <a:pt x="610" y="756"/>
                  </a:lnTo>
                  <a:lnTo>
                    <a:pt x="624" y="740"/>
                  </a:lnTo>
                  <a:lnTo>
                    <a:pt x="638" y="722"/>
                  </a:lnTo>
                  <a:lnTo>
                    <a:pt x="652" y="704"/>
                  </a:lnTo>
                  <a:lnTo>
                    <a:pt x="664" y="684"/>
                  </a:lnTo>
                  <a:lnTo>
                    <a:pt x="674" y="664"/>
                  </a:lnTo>
                  <a:lnTo>
                    <a:pt x="682" y="644"/>
                  </a:lnTo>
                  <a:lnTo>
                    <a:pt x="690" y="624"/>
                  </a:lnTo>
                  <a:lnTo>
                    <a:pt x="696" y="602"/>
                  </a:lnTo>
                  <a:lnTo>
                    <a:pt x="700" y="582"/>
                  </a:lnTo>
                  <a:lnTo>
                    <a:pt x="736" y="390"/>
                  </a:lnTo>
                  <a:close/>
                </a:path>
              </a:pathLst>
            </a:custGeom>
            <a:solidFill>
              <a:schemeClr val="bg1"/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1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矩形 12"/>
          <p:cNvSpPr/>
          <p:nvPr/>
        </p:nvSpPr>
        <p:spPr>
          <a:xfrm>
            <a:off x="464400" y="5385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图片 3"/>
          <p:cNvSpPr/>
          <p:nvPr/>
        </p:nvSpPr>
        <p:spPr>
          <a:xfrm>
            <a:off x="-72360" y="0"/>
            <a:ext cx="9216000" cy="4054320"/>
          </a:xfrm>
          <a:custGeom>
            <a:avLst/>
            <a:gdLst>
              <a:gd name="textAreaLeft" fmla="*/ 0 w 9216000"/>
              <a:gd name="textAreaRight" fmla="*/ 9216360 w 9216000"/>
              <a:gd name="textAreaTop" fmla="*/ 0 h 4054320"/>
              <a:gd name="textAreaBottom" fmla="*/ 4054680 h 4054320"/>
            </a:gdLst>
            <a:ahLst/>
            <a:rect l="textAreaLeft" t="textAreaTop" r="textAreaRight" b="textAreaBottom"/>
            <a:pathLst>
              <a:path w="9218443" h="4054642">
                <a:moveTo>
                  <a:pt x="0" y="0"/>
                </a:moveTo>
                <a:lnTo>
                  <a:pt x="9218443" y="0"/>
                </a:lnTo>
                <a:lnTo>
                  <a:pt x="9218443" y="4054642"/>
                </a:lnTo>
                <a:lnTo>
                  <a:pt x="6115423" y="4054642"/>
                </a:lnTo>
                <a:cubicBezTo>
                  <a:pt x="6115423" y="3243969"/>
                  <a:pt x="5458243" y="2586789"/>
                  <a:pt x="4647570" y="2586789"/>
                </a:cubicBezTo>
                <a:cubicBezTo>
                  <a:pt x="3836897" y="2586789"/>
                  <a:pt x="3179717" y="3243969"/>
                  <a:pt x="3179717" y="4054642"/>
                </a:cubicBezTo>
                <a:lnTo>
                  <a:pt x="0" y="405464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"/>
          <p:cNvSpPr/>
          <p:nvPr/>
        </p:nvSpPr>
        <p:spPr>
          <a:xfrm>
            <a:off x="2199600" y="2477160"/>
            <a:ext cx="47678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高效谈判的</a:t>
            </a:r>
            <a:r>
              <a:rPr b="1" lang="en-US" sz="19900" spc="-1" strike="noStrike">
                <a:solidFill>
                  <a:schemeClr val="accent1">
                    <a:lumMod val="50000"/>
                  </a:schemeClr>
                </a:solidFill>
                <a:latin typeface="Broadway"/>
                <a:ea typeface="微软雅黑"/>
              </a:rPr>
              <a:t>4</a:t>
            </a:r>
            <a:r>
              <a:rPr b="1" lang="zh-CN" sz="32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个基本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13"/>
          <p:cNvSpPr/>
          <p:nvPr/>
        </p:nvSpPr>
        <p:spPr>
          <a:xfrm>
            <a:off x="467640" y="424188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椭圆 14"/>
          <p:cNvSpPr/>
          <p:nvPr/>
        </p:nvSpPr>
        <p:spPr>
          <a:xfrm>
            <a:off x="7812360" y="424584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87" name="组合 15"/>
          <p:cNvGrpSpPr/>
          <p:nvPr/>
        </p:nvGrpSpPr>
        <p:grpSpPr>
          <a:xfrm>
            <a:off x="609120" y="4387680"/>
            <a:ext cx="647280" cy="647280"/>
            <a:chOff x="609120" y="4387680"/>
            <a:chExt cx="647280" cy="647280"/>
          </a:xfrm>
        </p:grpSpPr>
        <p:sp>
          <p:nvSpPr>
            <p:cNvPr id="388" name="椭圆 16"/>
            <p:cNvSpPr/>
            <p:nvPr/>
          </p:nvSpPr>
          <p:spPr>
            <a:xfrm>
              <a:off x="609120" y="4387680"/>
              <a:ext cx="647280" cy="64728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Freeform 140"/>
            <p:cNvSpPr/>
            <p:nvPr/>
          </p:nvSpPr>
          <p:spPr>
            <a:xfrm>
              <a:off x="712800" y="4477320"/>
              <a:ext cx="435240" cy="41544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9909" h="12980">
                  <a:moveTo>
                    <a:pt x="9899" y="5055"/>
                  </a:moveTo>
                  <a:lnTo>
                    <a:pt x="9002" y="8561"/>
                  </a:lnTo>
                  <a:lnTo>
                    <a:pt x="8936" y="8627"/>
                  </a:lnTo>
                  <a:lnTo>
                    <a:pt x="8925" y="8631"/>
                  </a:lnTo>
                  <a:lnTo>
                    <a:pt x="8914" y="8634"/>
                  </a:lnTo>
                  <a:lnTo>
                    <a:pt x="8904" y="8635"/>
                  </a:lnTo>
                  <a:lnTo>
                    <a:pt x="8894" y="8635"/>
                  </a:lnTo>
                  <a:lnTo>
                    <a:pt x="8886" y="8633"/>
                  </a:lnTo>
                  <a:lnTo>
                    <a:pt x="8878" y="8630"/>
                  </a:lnTo>
                  <a:lnTo>
                    <a:pt x="8871" y="8626"/>
                  </a:lnTo>
                  <a:lnTo>
                    <a:pt x="8865" y="8620"/>
                  </a:lnTo>
                  <a:lnTo>
                    <a:pt x="8854" y="8608"/>
                  </a:lnTo>
                  <a:lnTo>
                    <a:pt x="8845" y="8598"/>
                  </a:lnTo>
                  <a:lnTo>
                    <a:pt x="8842" y="8593"/>
                  </a:lnTo>
                  <a:lnTo>
                    <a:pt x="8840" y="8588"/>
                  </a:lnTo>
                  <a:lnTo>
                    <a:pt x="8839" y="8583"/>
                  </a:lnTo>
                  <a:lnTo>
                    <a:pt x="8839" y="8578"/>
                  </a:lnTo>
                  <a:lnTo>
                    <a:pt x="8398" y="7420"/>
                  </a:lnTo>
                  <a:lnTo>
                    <a:pt x="6778" y="9028"/>
                  </a:lnTo>
                  <a:lnTo>
                    <a:pt x="6747" y="9060"/>
                  </a:lnTo>
                  <a:lnTo>
                    <a:pt x="6716" y="9092"/>
                  </a:lnTo>
                  <a:lnTo>
                    <a:pt x="6685" y="9125"/>
                  </a:lnTo>
                  <a:lnTo>
                    <a:pt x="6656" y="9158"/>
                  </a:lnTo>
                  <a:lnTo>
                    <a:pt x="6626" y="9191"/>
                  </a:lnTo>
                  <a:lnTo>
                    <a:pt x="6597" y="9225"/>
                  </a:lnTo>
                  <a:lnTo>
                    <a:pt x="6568" y="9259"/>
                  </a:lnTo>
                  <a:lnTo>
                    <a:pt x="6539" y="9293"/>
                  </a:lnTo>
                  <a:lnTo>
                    <a:pt x="6512" y="9328"/>
                  </a:lnTo>
                  <a:lnTo>
                    <a:pt x="6484" y="9364"/>
                  </a:lnTo>
                  <a:lnTo>
                    <a:pt x="6457" y="9399"/>
                  </a:lnTo>
                  <a:lnTo>
                    <a:pt x="6430" y="9434"/>
                  </a:lnTo>
                  <a:lnTo>
                    <a:pt x="6404" y="9471"/>
                  </a:lnTo>
                  <a:lnTo>
                    <a:pt x="6378" y="9508"/>
                  </a:lnTo>
                  <a:lnTo>
                    <a:pt x="6353" y="9545"/>
                  </a:lnTo>
                  <a:lnTo>
                    <a:pt x="6328" y="9581"/>
                  </a:lnTo>
                  <a:lnTo>
                    <a:pt x="6303" y="9619"/>
                  </a:lnTo>
                  <a:lnTo>
                    <a:pt x="6279" y="9657"/>
                  </a:lnTo>
                  <a:lnTo>
                    <a:pt x="6255" y="9696"/>
                  </a:lnTo>
                  <a:lnTo>
                    <a:pt x="6231" y="9734"/>
                  </a:lnTo>
                  <a:lnTo>
                    <a:pt x="6209" y="9773"/>
                  </a:lnTo>
                  <a:lnTo>
                    <a:pt x="6186" y="9813"/>
                  </a:lnTo>
                  <a:lnTo>
                    <a:pt x="6164" y="9853"/>
                  </a:lnTo>
                  <a:lnTo>
                    <a:pt x="6142" y="9893"/>
                  </a:lnTo>
                  <a:lnTo>
                    <a:pt x="6121" y="9934"/>
                  </a:lnTo>
                  <a:lnTo>
                    <a:pt x="6099" y="9974"/>
                  </a:lnTo>
                  <a:lnTo>
                    <a:pt x="6079" y="10016"/>
                  </a:lnTo>
                  <a:lnTo>
                    <a:pt x="6059" y="10057"/>
                  </a:lnTo>
                  <a:lnTo>
                    <a:pt x="6039" y="10100"/>
                  </a:lnTo>
                  <a:lnTo>
                    <a:pt x="6020" y="10142"/>
                  </a:lnTo>
                  <a:lnTo>
                    <a:pt x="6001" y="10185"/>
                  </a:lnTo>
                  <a:lnTo>
                    <a:pt x="5982" y="10228"/>
                  </a:lnTo>
                  <a:lnTo>
                    <a:pt x="5965" y="10272"/>
                  </a:lnTo>
                  <a:lnTo>
                    <a:pt x="5947" y="10315"/>
                  </a:lnTo>
                  <a:lnTo>
                    <a:pt x="5931" y="10358"/>
                  </a:lnTo>
                  <a:lnTo>
                    <a:pt x="5915" y="10402"/>
                  </a:lnTo>
                  <a:lnTo>
                    <a:pt x="5899" y="10446"/>
                  </a:lnTo>
                  <a:lnTo>
                    <a:pt x="5884" y="10489"/>
                  </a:lnTo>
                  <a:lnTo>
                    <a:pt x="5870" y="10533"/>
                  </a:lnTo>
                  <a:lnTo>
                    <a:pt x="5855" y="10577"/>
                  </a:lnTo>
                  <a:lnTo>
                    <a:pt x="5842" y="10621"/>
                  </a:lnTo>
                  <a:lnTo>
                    <a:pt x="5830" y="10665"/>
                  </a:lnTo>
                  <a:lnTo>
                    <a:pt x="5818" y="10709"/>
                  </a:lnTo>
                  <a:lnTo>
                    <a:pt x="5806" y="10752"/>
                  </a:lnTo>
                  <a:lnTo>
                    <a:pt x="5795" y="10796"/>
                  </a:lnTo>
                  <a:lnTo>
                    <a:pt x="5785" y="10840"/>
                  </a:lnTo>
                  <a:lnTo>
                    <a:pt x="5775" y="10884"/>
                  </a:lnTo>
                  <a:lnTo>
                    <a:pt x="5766" y="10928"/>
                  </a:lnTo>
                  <a:lnTo>
                    <a:pt x="5756" y="10972"/>
                  </a:lnTo>
                  <a:lnTo>
                    <a:pt x="5748" y="11017"/>
                  </a:lnTo>
                  <a:lnTo>
                    <a:pt x="5740" y="11061"/>
                  </a:lnTo>
                  <a:lnTo>
                    <a:pt x="5733" y="11105"/>
                  </a:lnTo>
                  <a:lnTo>
                    <a:pt x="5727" y="11150"/>
                  </a:lnTo>
                  <a:lnTo>
                    <a:pt x="5721" y="11194"/>
                  </a:lnTo>
                  <a:lnTo>
                    <a:pt x="5716" y="11238"/>
                  </a:lnTo>
                  <a:lnTo>
                    <a:pt x="5710" y="11282"/>
                  </a:lnTo>
                  <a:lnTo>
                    <a:pt x="5706" y="11327"/>
                  </a:lnTo>
                  <a:lnTo>
                    <a:pt x="5702" y="11371"/>
                  </a:lnTo>
                  <a:lnTo>
                    <a:pt x="5699" y="11416"/>
                  </a:lnTo>
                  <a:lnTo>
                    <a:pt x="5697" y="11461"/>
                  </a:lnTo>
                  <a:lnTo>
                    <a:pt x="5695" y="11506"/>
                  </a:lnTo>
                  <a:lnTo>
                    <a:pt x="5693" y="11551"/>
                  </a:lnTo>
                  <a:lnTo>
                    <a:pt x="5692" y="11596"/>
                  </a:lnTo>
                  <a:lnTo>
                    <a:pt x="5692" y="11641"/>
                  </a:lnTo>
                  <a:lnTo>
                    <a:pt x="5692" y="12980"/>
                  </a:lnTo>
                  <a:lnTo>
                    <a:pt x="4209" y="12980"/>
                  </a:lnTo>
                  <a:lnTo>
                    <a:pt x="4209" y="11644"/>
                  </a:lnTo>
                  <a:lnTo>
                    <a:pt x="4209" y="11598"/>
                  </a:lnTo>
                  <a:lnTo>
                    <a:pt x="4208" y="11552"/>
                  </a:lnTo>
                  <a:lnTo>
                    <a:pt x="4206" y="11507"/>
                  </a:lnTo>
                  <a:lnTo>
                    <a:pt x="4205" y="11461"/>
                  </a:lnTo>
                  <a:lnTo>
                    <a:pt x="4202" y="11416"/>
                  </a:lnTo>
                  <a:lnTo>
                    <a:pt x="4199" y="11370"/>
                  </a:lnTo>
                  <a:lnTo>
                    <a:pt x="4196" y="11325"/>
                  </a:lnTo>
                  <a:lnTo>
                    <a:pt x="4192" y="11280"/>
                  </a:lnTo>
                  <a:lnTo>
                    <a:pt x="4186" y="11235"/>
                  </a:lnTo>
                  <a:lnTo>
                    <a:pt x="4181" y="11190"/>
                  </a:lnTo>
                  <a:lnTo>
                    <a:pt x="4176" y="11146"/>
                  </a:lnTo>
                  <a:lnTo>
                    <a:pt x="4170" y="11102"/>
                  </a:lnTo>
                  <a:lnTo>
                    <a:pt x="4163" y="11057"/>
                  </a:lnTo>
                  <a:lnTo>
                    <a:pt x="4156" y="11013"/>
                  </a:lnTo>
                  <a:lnTo>
                    <a:pt x="4148" y="10968"/>
                  </a:lnTo>
                  <a:lnTo>
                    <a:pt x="4139" y="10924"/>
                  </a:lnTo>
                  <a:lnTo>
                    <a:pt x="4131" y="10880"/>
                  </a:lnTo>
                  <a:lnTo>
                    <a:pt x="4121" y="10836"/>
                  </a:lnTo>
                  <a:lnTo>
                    <a:pt x="4111" y="10792"/>
                  </a:lnTo>
                  <a:lnTo>
                    <a:pt x="4101" y="10748"/>
                  </a:lnTo>
                  <a:lnTo>
                    <a:pt x="4089" y="10704"/>
                  </a:lnTo>
                  <a:lnTo>
                    <a:pt x="4078" y="10662"/>
                  </a:lnTo>
                  <a:lnTo>
                    <a:pt x="4066" y="10618"/>
                  </a:lnTo>
                  <a:lnTo>
                    <a:pt x="4054" y="10575"/>
                  </a:lnTo>
                  <a:lnTo>
                    <a:pt x="4039" y="10531"/>
                  </a:lnTo>
                  <a:lnTo>
                    <a:pt x="4026" y="10488"/>
                  </a:lnTo>
                  <a:lnTo>
                    <a:pt x="4012" y="10445"/>
                  </a:lnTo>
                  <a:lnTo>
                    <a:pt x="3997" y="10402"/>
                  </a:lnTo>
                  <a:lnTo>
                    <a:pt x="3981" y="10359"/>
                  </a:lnTo>
                  <a:lnTo>
                    <a:pt x="3965" y="10316"/>
                  </a:lnTo>
                  <a:lnTo>
                    <a:pt x="3949" y="10274"/>
                  </a:lnTo>
                  <a:lnTo>
                    <a:pt x="3931" y="10232"/>
                  </a:lnTo>
                  <a:lnTo>
                    <a:pt x="3914" y="10190"/>
                  </a:lnTo>
                  <a:lnTo>
                    <a:pt x="3896" y="10148"/>
                  </a:lnTo>
                  <a:lnTo>
                    <a:pt x="3877" y="10106"/>
                  </a:lnTo>
                  <a:lnTo>
                    <a:pt x="3858" y="10065"/>
                  </a:lnTo>
                  <a:lnTo>
                    <a:pt x="3819" y="9984"/>
                  </a:lnTo>
                  <a:lnTo>
                    <a:pt x="3777" y="9904"/>
                  </a:lnTo>
                  <a:lnTo>
                    <a:pt x="3756" y="9864"/>
                  </a:lnTo>
                  <a:lnTo>
                    <a:pt x="3734" y="9824"/>
                  </a:lnTo>
                  <a:lnTo>
                    <a:pt x="3712" y="9785"/>
                  </a:lnTo>
                  <a:lnTo>
                    <a:pt x="3689" y="9747"/>
                  </a:lnTo>
                  <a:lnTo>
                    <a:pt x="3642" y="9670"/>
                  </a:lnTo>
                  <a:lnTo>
                    <a:pt x="3593" y="9595"/>
                  </a:lnTo>
                  <a:lnTo>
                    <a:pt x="3568" y="9558"/>
                  </a:lnTo>
                  <a:lnTo>
                    <a:pt x="3542" y="9521"/>
                  </a:lnTo>
                  <a:lnTo>
                    <a:pt x="3516" y="9484"/>
                  </a:lnTo>
                  <a:lnTo>
                    <a:pt x="3489" y="9448"/>
                  </a:lnTo>
                  <a:lnTo>
                    <a:pt x="3463" y="9412"/>
                  </a:lnTo>
                  <a:lnTo>
                    <a:pt x="3435" y="9376"/>
                  </a:lnTo>
                  <a:lnTo>
                    <a:pt x="3407" y="9340"/>
                  </a:lnTo>
                  <a:lnTo>
                    <a:pt x="3379" y="9306"/>
                  </a:lnTo>
                  <a:lnTo>
                    <a:pt x="3349" y="9271"/>
                  </a:lnTo>
                  <a:lnTo>
                    <a:pt x="3320" y="9236"/>
                  </a:lnTo>
                  <a:lnTo>
                    <a:pt x="3290" y="9201"/>
                  </a:lnTo>
                  <a:lnTo>
                    <a:pt x="3260" y="9168"/>
                  </a:lnTo>
                  <a:lnTo>
                    <a:pt x="3229" y="9134"/>
                  </a:lnTo>
                  <a:lnTo>
                    <a:pt x="3197" y="9100"/>
                  </a:lnTo>
                  <a:lnTo>
                    <a:pt x="3165" y="9068"/>
                  </a:lnTo>
                  <a:lnTo>
                    <a:pt x="3133" y="9034"/>
                  </a:lnTo>
                  <a:lnTo>
                    <a:pt x="1503" y="7403"/>
                  </a:lnTo>
                  <a:lnTo>
                    <a:pt x="1062" y="8578"/>
                  </a:lnTo>
                  <a:lnTo>
                    <a:pt x="981" y="8627"/>
                  </a:lnTo>
                  <a:lnTo>
                    <a:pt x="899" y="8561"/>
                  </a:lnTo>
                  <a:lnTo>
                    <a:pt x="2" y="5055"/>
                  </a:lnTo>
                  <a:lnTo>
                    <a:pt x="1" y="5045"/>
                  </a:lnTo>
                  <a:lnTo>
                    <a:pt x="0" y="5034"/>
                  </a:lnTo>
                  <a:lnTo>
                    <a:pt x="0" y="5025"/>
                  </a:lnTo>
                  <a:lnTo>
                    <a:pt x="0" y="5015"/>
                  </a:lnTo>
                  <a:lnTo>
                    <a:pt x="1" y="5005"/>
                  </a:lnTo>
                  <a:lnTo>
                    <a:pt x="2" y="4996"/>
                  </a:lnTo>
                  <a:lnTo>
                    <a:pt x="4" y="4986"/>
                  </a:lnTo>
                  <a:lnTo>
                    <a:pt x="7" y="4977"/>
                  </a:lnTo>
                  <a:lnTo>
                    <a:pt x="10" y="4968"/>
                  </a:lnTo>
                  <a:lnTo>
                    <a:pt x="14" y="4959"/>
                  </a:lnTo>
                  <a:lnTo>
                    <a:pt x="20" y="4951"/>
                  </a:lnTo>
                  <a:lnTo>
                    <a:pt x="25" y="4942"/>
                  </a:lnTo>
                  <a:lnTo>
                    <a:pt x="30" y="4933"/>
                  </a:lnTo>
                  <a:lnTo>
                    <a:pt x="37" y="4925"/>
                  </a:lnTo>
                  <a:lnTo>
                    <a:pt x="44" y="4917"/>
                  </a:lnTo>
                  <a:lnTo>
                    <a:pt x="51" y="4909"/>
                  </a:lnTo>
                  <a:lnTo>
                    <a:pt x="59" y="4901"/>
                  </a:lnTo>
                  <a:lnTo>
                    <a:pt x="68" y="4894"/>
                  </a:lnTo>
                  <a:lnTo>
                    <a:pt x="76" y="4887"/>
                  </a:lnTo>
                  <a:lnTo>
                    <a:pt x="84" y="4881"/>
                  </a:lnTo>
                  <a:lnTo>
                    <a:pt x="93" y="4876"/>
                  </a:lnTo>
                  <a:lnTo>
                    <a:pt x="101" y="4872"/>
                  </a:lnTo>
                  <a:lnTo>
                    <a:pt x="110" y="4868"/>
                  </a:lnTo>
                  <a:lnTo>
                    <a:pt x="120" y="4865"/>
                  </a:lnTo>
                  <a:lnTo>
                    <a:pt x="129" y="4862"/>
                  </a:lnTo>
                  <a:lnTo>
                    <a:pt x="138" y="4860"/>
                  </a:lnTo>
                  <a:lnTo>
                    <a:pt x="148" y="4858"/>
                  </a:lnTo>
                  <a:lnTo>
                    <a:pt x="157" y="4857"/>
                  </a:lnTo>
                  <a:lnTo>
                    <a:pt x="168" y="4857"/>
                  </a:lnTo>
                  <a:lnTo>
                    <a:pt x="178" y="4857"/>
                  </a:lnTo>
                  <a:lnTo>
                    <a:pt x="188" y="4858"/>
                  </a:lnTo>
                  <a:lnTo>
                    <a:pt x="198" y="4860"/>
                  </a:lnTo>
                  <a:lnTo>
                    <a:pt x="3704" y="5740"/>
                  </a:lnTo>
                  <a:lnTo>
                    <a:pt x="3708" y="5740"/>
                  </a:lnTo>
                  <a:lnTo>
                    <a:pt x="3712" y="5741"/>
                  </a:lnTo>
                  <a:lnTo>
                    <a:pt x="3716" y="5743"/>
                  </a:lnTo>
                  <a:lnTo>
                    <a:pt x="3720" y="5745"/>
                  </a:lnTo>
                  <a:lnTo>
                    <a:pt x="3728" y="5751"/>
                  </a:lnTo>
                  <a:lnTo>
                    <a:pt x="3736" y="5760"/>
                  </a:lnTo>
                  <a:lnTo>
                    <a:pt x="3743" y="5772"/>
                  </a:lnTo>
                  <a:lnTo>
                    <a:pt x="3752" y="5786"/>
                  </a:lnTo>
                  <a:lnTo>
                    <a:pt x="3760" y="5802"/>
                  </a:lnTo>
                  <a:lnTo>
                    <a:pt x="3769" y="5822"/>
                  </a:lnTo>
                  <a:lnTo>
                    <a:pt x="3772" y="5830"/>
                  </a:lnTo>
                  <a:lnTo>
                    <a:pt x="3774" y="5838"/>
                  </a:lnTo>
                  <a:lnTo>
                    <a:pt x="3775" y="5846"/>
                  </a:lnTo>
                  <a:lnTo>
                    <a:pt x="3775" y="5853"/>
                  </a:lnTo>
                  <a:lnTo>
                    <a:pt x="3774" y="5861"/>
                  </a:lnTo>
                  <a:lnTo>
                    <a:pt x="3771" y="5868"/>
                  </a:lnTo>
                  <a:lnTo>
                    <a:pt x="3767" y="5874"/>
                  </a:lnTo>
                  <a:lnTo>
                    <a:pt x="3762" y="5881"/>
                  </a:lnTo>
                  <a:lnTo>
                    <a:pt x="3756" y="5886"/>
                  </a:lnTo>
                  <a:lnTo>
                    <a:pt x="3750" y="5891"/>
                  </a:lnTo>
                  <a:lnTo>
                    <a:pt x="3743" y="5895"/>
                  </a:lnTo>
                  <a:lnTo>
                    <a:pt x="3738" y="5898"/>
                  </a:lnTo>
                  <a:lnTo>
                    <a:pt x="3733" y="5900"/>
                  </a:lnTo>
                  <a:lnTo>
                    <a:pt x="3728" y="5902"/>
                  </a:lnTo>
                  <a:lnTo>
                    <a:pt x="3724" y="5903"/>
                  </a:lnTo>
                  <a:lnTo>
                    <a:pt x="3720" y="5903"/>
                  </a:lnTo>
                  <a:lnTo>
                    <a:pt x="2579" y="6376"/>
                  </a:lnTo>
                  <a:lnTo>
                    <a:pt x="4209" y="8007"/>
                  </a:lnTo>
                  <a:lnTo>
                    <a:pt x="4209" y="2804"/>
                  </a:lnTo>
                  <a:lnTo>
                    <a:pt x="3084" y="3310"/>
                  </a:lnTo>
                  <a:lnTo>
                    <a:pt x="2986" y="3294"/>
                  </a:lnTo>
                  <a:lnTo>
                    <a:pt x="2983" y="3289"/>
                  </a:lnTo>
                  <a:lnTo>
                    <a:pt x="2979" y="3282"/>
                  </a:lnTo>
                  <a:lnTo>
                    <a:pt x="2977" y="3273"/>
                  </a:lnTo>
                  <a:lnTo>
                    <a:pt x="2974" y="3262"/>
                  </a:lnTo>
                  <a:lnTo>
                    <a:pt x="2972" y="3249"/>
                  </a:lnTo>
                  <a:lnTo>
                    <a:pt x="2971" y="3233"/>
                  </a:lnTo>
                  <a:lnTo>
                    <a:pt x="2970" y="3216"/>
                  </a:lnTo>
                  <a:lnTo>
                    <a:pt x="2970" y="3197"/>
                  </a:lnTo>
                  <a:lnTo>
                    <a:pt x="4829" y="65"/>
                  </a:lnTo>
                  <a:lnTo>
                    <a:pt x="4841" y="51"/>
                  </a:lnTo>
                  <a:lnTo>
                    <a:pt x="4854" y="37"/>
                  </a:lnTo>
                  <a:lnTo>
                    <a:pt x="4861" y="31"/>
                  </a:lnTo>
                  <a:lnTo>
                    <a:pt x="4869" y="26"/>
                  </a:lnTo>
                  <a:lnTo>
                    <a:pt x="4876" y="21"/>
                  </a:lnTo>
                  <a:lnTo>
                    <a:pt x="4885" y="17"/>
                  </a:lnTo>
                  <a:lnTo>
                    <a:pt x="4893" y="13"/>
                  </a:lnTo>
                  <a:lnTo>
                    <a:pt x="4902" y="10"/>
                  </a:lnTo>
                  <a:lnTo>
                    <a:pt x="4910" y="7"/>
                  </a:lnTo>
                  <a:lnTo>
                    <a:pt x="4919" y="4"/>
                  </a:lnTo>
                  <a:lnTo>
                    <a:pt x="4929" y="3"/>
                  </a:lnTo>
                  <a:lnTo>
                    <a:pt x="4939" y="1"/>
                  </a:lnTo>
                  <a:lnTo>
                    <a:pt x="4948" y="1"/>
                  </a:lnTo>
                  <a:lnTo>
                    <a:pt x="4958" y="0"/>
                  </a:lnTo>
                  <a:lnTo>
                    <a:pt x="4972" y="1"/>
                  </a:lnTo>
                  <a:lnTo>
                    <a:pt x="4986" y="1"/>
                  </a:lnTo>
                  <a:lnTo>
                    <a:pt x="4998" y="3"/>
                  </a:lnTo>
                  <a:lnTo>
                    <a:pt x="5009" y="4"/>
                  </a:lnTo>
                  <a:lnTo>
                    <a:pt x="5020" y="7"/>
                  </a:lnTo>
                  <a:lnTo>
                    <a:pt x="5031" y="10"/>
                  </a:lnTo>
                  <a:lnTo>
                    <a:pt x="5040" y="13"/>
                  </a:lnTo>
                  <a:lnTo>
                    <a:pt x="5048" y="17"/>
                  </a:lnTo>
                  <a:lnTo>
                    <a:pt x="5056" y="21"/>
                  </a:lnTo>
                  <a:lnTo>
                    <a:pt x="5063" y="26"/>
                  </a:lnTo>
                  <a:lnTo>
                    <a:pt x="5069" y="31"/>
                  </a:lnTo>
                  <a:lnTo>
                    <a:pt x="5076" y="37"/>
                  </a:lnTo>
                  <a:lnTo>
                    <a:pt x="5080" y="44"/>
                  </a:lnTo>
                  <a:lnTo>
                    <a:pt x="5084" y="51"/>
                  </a:lnTo>
                  <a:lnTo>
                    <a:pt x="5087" y="58"/>
                  </a:lnTo>
                  <a:lnTo>
                    <a:pt x="5089" y="65"/>
                  </a:lnTo>
                  <a:lnTo>
                    <a:pt x="6948" y="3197"/>
                  </a:lnTo>
                  <a:lnTo>
                    <a:pt x="6947" y="3216"/>
                  </a:lnTo>
                  <a:lnTo>
                    <a:pt x="6946" y="3233"/>
                  </a:lnTo>
                  <a:lnTo>
                    <a:pt x="6943" y="3249"/>
                  </a:lnTo>
                  <a:lnTo>
                    <a:pt x="6937" y="3262"/>
                  </a:lnTo>
                  <a:lnTo>
                    <a:pt x="6935" y="3268"/>
                  </a:lnTo>
                  <a:lnTo>
                    <a:pt x="6932" y="3273"/>
                  </a:lnTo>
                  <a:lnTo>
                    <a:pt x="6929" y="3278"/>
                  </a:lnTo>
                  <a:lnTo>
                    <a:pt x="6925" y="3282"/>
                  </a:lnTo>
                  <a:lnTo>
                    <a:pt x="6922" y="3286"/>
                  </a:lnTo>
                  <a:lnTo>
                    <a:pt x="6918" y="3289"/>
                  </a:lnTo>
                  <a:lnTo>
                    <a:pt x="6913" y="3292"/>
                  </a:lnTo>
                  <a:lnTo>
                    <a:pt x="6909" y="3294"/>
                  </a:lnTo>
                  <a:lnTo>
                    <a:pt x="6887" y="3301"/>
                  </a:lnTo>
                  <a:lnTo>
                    <a:pt x="6868" y="3306"/>
                  </a:lnTo>
                  <a:lnTo>
                    <a:pt x="6851" y="3309"/>
                  </a:lnTo>
                  <a:lnTo>
                    <a:pt x="6833" y="3310"/>
                  </a:lnTo>
                  <a:lnTo>
                    <a:pt x="5692" y="2804"/>
                  </a:lnTo>
                  <a:lnTo>
                    <a:pt x="5692" y="8007"/>
                  </a:lnTo>
                  <a:lnTo>
                    <a:pt x="7322" y="6343"/>
                  </a:lnTo>
                  <a:lnTo>
                    <a:pt x="6165" y="5936"/>
                  </a:lnTo>
                  <a:lnTo>
                    <a:pt x="6099" y="5854"/>
                  </a:lnTo>
                  <a:lnTo>
                    <a:pt x="6165" y="5773"/>
                  </a:lnTo>
                  <a:lnTo>
                    <a:pt x="9703" y="4860"/>
                  </a:lnTo>
                  <a:lnTo>
                    <a:pt x="9713" y="4856"/>
                  </a:lnTo>
                  <a:lnTo>
                    <a:pt x="9723" y="4853"/>
                  </a:lnTo>
                  <a:lnTo>
                    <a:pt x="9733" y="4851"/>
                  </a:lnTo>
                  <a:lnTo>
                    <a:pt x="9744" y="4849"/>
                  </a:lnTo>
                  <a:lnTo>
                    <a:pt x="9754" y="4849"/>
                  </a:lnTo>
                  <a:lnTo>
                    <a:pt x="9764" y="4849"/>
                  </a:lnTo>
                  <a:lnTo>
                    <a:pt x="9773" y="4850"/>
                  </a:lnTo>
                  <a:lnTo>
                    <a:pt x="9783" y="4852"/>
                  </a:lnTo>
                  <a:lnTo>
                    <a:pt x="9794" y="4854"/>
                  </a:lnTo>
                  <a:lnTo>
                    <a:pt x="9803" y="4857"/>
                  </a:lnTo>
                  <a:lnTo>
                    <a:pt x="9812" y="4861"/>
                  </a:lnTo>
                  <a:lnTo>
                    <a:pt x="9822" y="4866"/>
                  </a:lnTo>
                  <a:lnTo>
                    <a:pt x="9831" y="4871"/>
                  </a:lnTo>
                  <a:lnTo>
                    <a:pt x="9841" y="4878"/>
                  </a:lnTo>
                  <a:lnTo>
                    <a:pt x="9850" y="4884"/>
                  </a:lnTo>
                  <a:lnTo>
                    <a:pt x="9859" y="4893"/>
                  </a:lnTo>
                  <a:lnTo>
                    <a:pt x="9868" y="4901"/>
                  </a:lnTo>
                  <a:lnTo>
                    <a:pt x="9876" y="4909"/>
                  </a:lnTo>
                  <a:lnTo>
                    <a:pt x="9884" y="4917"/>
                  </a:lnTo>
                  <a:lnTo>
                    <a:pt x="9890" y="4926"/>
                  </a:lnTo>
                  <a:lnTo>
                    <a:pt x="9895" y="4935"/>
                  </a:lnTo>
                  <a:lnTo>
                    <a:pt x="9899" y="4946"/>
                  </a:lnTo>
                  <a:lnTo>
                    <a:pt x="9903" y="4955"/>
                  </a:lnTo>
                  <a:lnTo>
                    <a:pt x="9906" y="4965"/>
                  </a:lnTo>
                  <a:lnTo>
                    <a:pt x="9908" y="4975"/>
                  </a:lnTo>
                  <a:lnTo>
                    <a:pt x="9909" y="4986"/>
                  </a:lnTo>
                  <a:lnTo>
                    <a:pt x="9909" y="4997"/>
                  </a:lnTo>
                  <a:lnTo>
                    <a:pt x="9909" y="5008"/>
                  </a:lnTo>
                  <a:lnTo>
                    <a:pt x="9908" y="5020"/>
                  </a:lnTo>
                  <a:lnTo>
                    <a:pt x="9905" y="5031"/>
                  </a:lnTo>
                  <a:lnTo>
                    <a:pt x="9902" y="5044"/>
                  </a:lnTo>
                  <a:lnTo>
                    <a:pt x="9899" y="505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1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0" name="组合 18"/>
          <p:cNvGrpSpPr/>
          <p:nvPr/>
        </p:nvGrpSpPr>
        <p:grpSpPr>
          <a:xfrm>
            <a:off x="7949880" y="4387680"/>
            <a:ext cx="647280" cy="647280"/>
            <a:chOff x="7949880" y="4387680"/>
            <a:chExt cx="647280" cy="647280"/>
          </a:xfrm>
        </p:grpSpPr>
        <p:sp>
          <p:nvSpPr>
            <p:cNvPr id="391" name="椭圆 19"/>
            <p:cNvSpPr/>
            <p:nvPr/>
          </p:nvSpPr>
          <p:spPr>
            <a:xfrm>
              <a:off x="7949880" y="4387680"/>
              <a:ext cx="647280" cy="64728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92" name="组合 20"/>
            <p:cNvGrpSpPr/>
            <p:nvPr/>
          </p:nvGrpSpPr>
          <p:grpSpPr>
            <a:xfrm>
              <a:off x="8054640" y="4484880"/>
              <a:ext cx="437400" cy="368640"/>
              <a:chOff x="8054640" y="4484880"/>
              <a:chExt cx="437400" cy="368640"/>
            </a:xfrm>
          </p:grpSpPr>
          <p:sp>
            <p:nvSpPr>
              <p:cNvPr id="393" name="Freeform 52"/>
              <p:cNvSpPr/>
              <p:nvPr/>
            </p:nvSpPr>
            <p:spPr>
              <a:xfrm>
                <a:off x="8054640" y="4809600"/>
                <a:ext cx="437400" cy="43920"/>
              </a:xfrm>
              <a:custGeom>
                <a:avLst/>
                <a:gdLst>
                  <a:gd name="textAreaLeft" fmla="*/ 0 w 437400"/>
                  <a:gd name="textAreaRight" fmla="*/ 437760 w 437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146" h="1140">
                    <a:moveTo>
                      <a:pt x="1141" y="1140"/>
                    </a:moveTo>
                    <a:lnTo>
                      <a:pt x="1071" y="1139"/>
                    </a:lnTo>
                    <a:lnTo>
                      <a:pt x="1003" y="1136"/>
                    </a:lnTo>
                    <a:lnTo>
                      <a:pt x="937" y="1130"/>
                    </a:lnTo>
                    <a:lnTo>
                      <a:pt x="873" y="1122"/>
                    </a:lnTo>
                    <a:lnTo>
                      <a:pt x="812" y="1112"/>
                    </a:lnTo>
                    <a:lnTo>
                      <a:pt x="753" y="1100"/>
                    </a:lnTo>
                    <a:lnTo>
                      <a:pt x="697" y="1086"/>
                    </a:lnTo>
                    <a:lnTo>
                      <a:pt x="642" y="1068"/>
                    </a:lnTo>
                    <a:lnTo>
                      <a:pt x="589" y="1049"/>
                    </a:lnTo>
                    <a:lnTo>
                      <a:pt x="539" y="1028"/>
                    </a:lnTo>
                    <a:lnTo>
                      <a:pt x="492" y="1005"/>
                    </a:lnTo>
                    <a:lnTo>
                      <a:pt x="446" y="979"/>
                    </a:lnTo>
                    <a:lnTo>
                      <a:pt x="403" y="952"/>
                    </a:lnTo>
                    <a:lnTo>
                      <a:pt x="361" y="922"/>
                    </a:lnTo>
                    <a:lnTo>
                      <a:pt x="322" y="889"/>
                    </a:lnTo>
                    <a:lnTo>
                      <a:pt x="286" y="855"/>
                    </a:lnTo>
                    <a:lnTo>
                      <a:pt x="251" y="818"/>
                    </a:lnTo>
                    <a:lnTo>
                      <a:pt x="219" y="779"/>
                    </a:lnTo>
                    <a:lnTo>
                      <a:pt x="189" y="738"/>
                    </a:lnTo>
                    <a:lnTo>
                      <a:pt x="161" y="694"/>
                    </a:lnTo>
                    <a:lnTo>
                      <a:pt x="136" y="649"/>
                    </a:lnTo>
                    <a:lnTo>
                      <a:pt x="112" y="601"/>
                    </a:lnTo>
                    <a:lnTo>
                      <a:pt x="91" y="551"/>
                    </a:lnTo>
                    <a:lnTo>
                      <a:pt x="71" y="499"/>
                    </a:lnTo>
                    <a:lnTo>
                      <a:pt x="55" y="444"/>
                    </a:lnTo>
                    <a:lnTo>
                      <a:pt x="40" y="387"/>
                    </a:lnTo>
                    <a:lnTo>
                      <a:pt x="28" y="328"/>
                    </a:lnTo>
                    <a:lnTo>
                      <a:pt x="18" y="267"/>
                    </a:lnTo>
                    <a:lnTo>
                      <a:pt x="10" y="204"/>
                    </a:lnTo>
                    <a:lnTo>
                      <a:pt x="5" y="137"/>
                    </a:lnTo>
                    <a:lnTo>
                      <a:pt x="2" y="70"/>
                    </a:lnTo>
                    <a:lnTo>
                      <a:pt x="0" y="0"/>
                    </a:lnTo>
                    <a:lnTo>
                      <a:pt x="11132" y="0"/>
                    </a:lnTo>
                    <a:lnTo>
                      <a:pt x="11146" y="0"/>
                    </a:lnTo>
                    <a:lnTo>
                      <a:pt x="11144" y="70"/>
                    </a:lnTo>
                    <a:lnTo>
                      <a:pt x="11141" y="137"/>
                    </a:lnTo>
                    <a:lnTo>
                      <a:pt x="11135" y="204"/>
                    </a:lnTo>
                    <a:lnTo>
                      <a:pt x="11128" y="267"/>
                    </a:lnTo>
                    <a:lnTo>
                      <a:pt x="11117" y="328"/>
                    </a:lnTo>
                    <a:lnTo>
                      <a:pt x="11105" y="387"/>
                    </a:lnTo>
                    <a:lnTo>
                      <a:pt x="11090" y="444"/>
                    </a:lnTo>
                    <a:lnTo>
                      <a:pt x="11074" y="499"/>
                    </a:lnTo>
                    <a:lnTo>
                      <a:pt x="11054" y="551"/>
                    </a:lnTo>
                    <a:lnTo>
                      <a:pt x="11032" y="601"/>
                    </a:lnTo>
                    <a:lnTo>
                      <a:pt x="11009" y="649"/>
                    </a:lnTo>
                    <a:lnTo>
                      <a:pt x="10983" y="694"/>
                    </a:lnTo>
                    <a:lnTo>
                      <a:pt x="10955" y="738"/>
                    </a:lnTo>
                    <a:lnTo>
                      <a:pt x="10925" y="779"/>
                    </a:lnTo>
                    <a:lnTo>
                      <a:pt x="10892" y="818"/>
                    </a:lnTo>
                    <a:lnTo>
                      <a:pt x="10858" y="855"/>
                    </a:lnTo>
                    <a:lnTo>
                      <a:pt x="10821" y="889"/>
                    </a:lnTo>
                    <a:lnTo>
                      <a:pt x="10782" y="922"/>
                    </a:lnTo>
                    <a:lnTo>
                      <a:pt x="10739" y="952"/>
                    </a:lnTo>
                    <a:lnTo>
                      <a:pt x="10696" y="979"/>
                    </a:lnTo>
                    <a:lnTo>
                      <a:pt x="10650" y="1005"/>
                    </a:lnTo>
                    <a:lnTo>
                      <a:pt x="10602" y="1028"/>
                    </a:lnTo>
                    <a:lnTo>
                      <a:pt x="10551" y="1049"/>
                    </a:lnTo>
                    <a:lnTo>
                      <a:pt x="10499" y="1068"/>
                    </a:lnTo>
                    <a:lnTo>
                      <a:pt x="10443" y="1086"/>
                    </a:lnTo>
                    <a:lnTo>
                      <a:pt x="10386" y="1100"/>
                    </a:lnTo>
                    <a:lnTo>
                      <a:pt x="10327" y="1112"/>
                    </a:lnTo>
                    <a:lnTo>
                      <a:pt x="10265" y="1122"/>
                    </a:lnTo>
                    <a:lnTo>
                      <a:pt x="10202" y="1130"/>
                    </a:lnTo>
                    <a:lnTo>
                      <a:pt x="10135" y="1136"/>
                    </a:lnTo>
                    <a:lnTo>
                      <a:pt x="10067" y="1139"/>
                    </a:lnTo>
                    <a:lnTo>
                      <a:pt x="9996" y="1140"/>
                    </a:lnTo>
                    <a:lnTo>
                      <a:pt x="1141" y="1140"/>
                    </a:ln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53"/>
              <p:cNvSpPr/>
              <p:nvPr/>
            </p:nvSpPr>
            <p:spPr>
              <a:xfrm>
                <a:off x="8154360" y="4586400"/>
                <a:ext cx="320760" cy="20952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157" h="5347">
                    <a:moveTo>
                      <a:pt x="6058" y="4180"/>
                    </a:moveTo>
                    <a:lnTo>
                      <a:pt x="6058" y="4428"/>
                    </a:lnTo>
                    <a:lnTo>
                      <a:pt x="6057" y="4484"/>
                    </a:lnTo>
                    <a:lnTo>
                      <a:pt x="6055" y="4539"/>
                    </a:lnTo>
                    <a:lnTo>
                      <a:pt x="6050" y="4591"/>
                    </a:lnTo>
                    <a:lnTo>
                      <a:pt x="6044" y="4642"/>
                    </a:lnTo>
                    <a:lnTo>
                      <a:pt x="6035" y="4692"/>
                    </a:lnTo>
                    <a:lnTo>
                      <a:pt x="6025" y="4739"/>
                    </a:lnTo>
                    <a:lnTo>
                      <a:pt x="6013" y="4785"/>
                    </a:lnTo>
                    <a:lnTo>
                      <a:pt x="6000" y="4829"/>
                    </a:lnTo>
                    <a:lnTo>
                      <a:pt x="5984" y="4871"/>
                    </a:lnTo>
                    <a:lnTo>
                      <a:pt x="5967" y="4911"/>
                    </a:lnTo>
                    <a:lnTo>
                      <a:pt x="5947" y="4949"/>
                    </a:lnTo>
                    <a:lnTo>
                      <a:pt x="5926" y="4987"/>
                    </a:lnTo>
                    <a:lnTo>
                      <a:pt x="5903" y="5022"/>
                    </a:lnTo>
                    <a:lnTo>
                      <a:pt x="5878" y="5055"/>
                    </a:lnTo>
                    <a:lnTo>
                      <a:pt x="5851" y="5086"/>
                    </a:lnTo>
                    <a:lnTo>
                      <a:pt x="5822" y="5116"/>
                    </a:lnTo>
                    <a:lnTo>
                      <a:pt x="5792" y="5144"/>
                    </a:lnTo>
                    <a:lnTo>
                      <a:pt x="5760" y="5170"/>
                    </a:lnTo>
                    <a:lnTo>
                      <a:pt x="5726" y="5194"/>
                    </a:lnTo>
                    <a:lnTo>
                      <a:pt x="5690" y="5217"/>
                    </a:lnTo>
                    <a:lnTo>
                      <a:pt x="5652" y="5237"/>
                    </a:lnTo>
                    <a:lnTo>
                      <a:pt x="5612" y="5256"/>
                    </a:lnTo>
                    <a:lnTo>
                      <a:pt x="5571" y="5273"/>
                    </a:lnTo>
                    <a:lnTo>
                      <a:pt x="5527" y="5289"/>
                    </a:lnTo>
                    <a:lnTo>
                      <a:pt x="5482" y="5303"/>
                    </a:lnTo>
                    <a:lnTo>
                      <a:pt x="5435" y="5315"/>
                    </a:lnTo>
                    <a:lnTo>
                      <a:pt x="5386" y="5325"/>
                    </a:lnTo>
                    <a:lnTo>
                      <a:pt x="5335" y="5333"/>
                    </a:lnTo>
                    <a:lnTo>
                      <a:pt x="5283" y="5339"/>
                    </a:lnTo>
                    <a:lnTo>
                      <a:pt x="5227" y="5343"/>
                    </a:lnTo>
                    <a:lnTo>
                      <a:pt x="5171" y="5346"/>
                    </a:lnTo>
                    <a:lnTo>
                      <a:pt x="5113" y="5347"/>
                    </a:lnTo>
                    <a:lnTo>
                      <a:pt x="933" y="5347"/>
                    </a:lnTo>
                    <a:lnTo>
                      <a:pt x="875" y="5346"/>
                    </a:lnTo>
                    <a:lnTo>
                      <a:pt x="820" y="5343"/>
                    </a:lnTo>
                    <a:lnTo>
                      <a:pt x="765" y="5339"/>
                    </a:lnTo>
                    <a:lnTo>
                      <a:pt x="713" y="5333"/>
                    </a:lnTo>
                    <a:lnTo>
                      <a:pt x="663" y="5325"/>
                    </a:lnTo>
                    <a:lnTo>
                      <a:pt x="615" y="5315"/>
                    </a:lnTo>
                    <a:lnTo>
                      <a:pt x="569" y="5303"/>
                    </a:lnTo>
                    <a:lnTo>
                      <a:pt x="524" y="5289"/>
                    </a:lnTo>
                    <a:lnTo>
                      <a:pt x="481" y="5273"/>
                    </a:lnTo>
                    <a:lnTo>
                      <a:pt x="440" y="5256"/>
                    </a:lnTo>
                    <a:lnTo>
                      <a:pt x="401" y="5237"/>
                    </a:lnTo>
                    <a:lnTo>
                      <a:pt x="364" y="5217"/>
                    </a:lnTo>
                    <a:lnTo>
                      <a:pt x="328" y="5194"/>
                    </a:lnTo>
                    <a:lnTo>
                      <a:pt x="295" y="5170"/>
                    </a:lnTo>
                    <a:lnTo>
                      <a:pt x="263" y="5144"/>
                    </a:lnTo>
                    <a:lnTo>
                      <a:pt x="233" y="5116"/>
                    </a:lnTo>
                    <a:lnTo>
                      <a:pt x="204" y="5086"/>
                    </a:lnTo>
                    <a:lnTo>
                      <a:pt x="178" y="5055"/>
                    </a:lnTo>
                    <a:lnTo>
                      <a:pt x="153" y="5022"/>
                    </a:lnTo>
                    <a:lnTo>
                      <a:pt x="131" y="4987"/>
                    </a:lnTo>
                    <a:lnTo>
                      <a:pt x="110" y="4949"/>
                    </a:lnTo>
                    <a:lnTo>
                      <a:pt x="91" y="4911"/>
                    </a:lnTo>
                    <a:lnTo>
                      <a:pt x="74" y="4871"/>
                    </a:lnTo>
                    <a:lnTo>
                      <a:pt x="58" y="4829"/>
                    </a:lnTo>
                    <a:lnTo>
                      <a:pt x="45" y="4785"/>
                    </a:lnTo>
                    <a:lnTo>
                      <a:pt x="33" y="4739"/>
                    </a:lnTo>
                    <a:lnTo>
                      <a:pt x="23" y="4692"/>
                    </a:lnTo>
                    <a:lnTo>
                      <a:pt x="15" y="4642"/>
                    </a:lnTo>
                    <a:lnTo>
                      <a:pt x="8" y="4591"/>
                    </a:lnTo>
                    <a:lnTo>
                      <a:pt x="4" y="4539"/>
                    </a:lnTo>
                    <a:lnTo>
                      <a:pt x="1" y="4484"/>
                    </a:lnTo>
                    <a:lnTo>
                      <a:pt x="0" y="4428"/>
                    </a:lnTo>
                    <a:lnTo>
                      <a:pt x="0" y="0"/>
                    </a:lnTo>
                    <a:lnTo>
                      <a:pt x="6058" y="0"/>
                    </a:lnTo>
                    <a:lnTo>
                      <a:pt x="6111" y="1"/>
                    </a:lnTo>
                    <a:lnTo>
                      <a:pt x="6165" y="3"/>
                    </a:lnTo>
                    <a:lnTo>
                      <a:pt x="6217" y="6"/>
                    </a:lnTo>
                    <a:lnTo>
                      <a:pt x="6269" y="10"/>
                    </a:lnTo>
                    <a:lnTo>
                      <a:pt x="6320" y="15"/>
                    </a:lnTo>
                    <a:lnTo>
                      <a:pt x="6371" y="22"/>
                    </a:lnTo>
                    <a:lnTo>
                      <a:pt x="6421" y="29"/>
                    </a:lnTo>
                    <a:lnTo>
                      <a:pt x="6472" y="38"/>
                    </a:lnTo>
                    <a:lnTo>
                      <a:pt x="6521" y="48"/>
                    </a:lnTo>
                    <a:lnTo>
                      <a:pt x="6570" y="60"/>
                    </a:lnTo>
                    <a:lnTo>
                      <a:pt x="6618" y="72"/>
                    </a:lnTo>
                    <a:lnTo>
                      <a:pt x="6666" y="86"/>
                    </a:lnTo>
                    <a:lnTo>
                      <a:pt x="6714" y="101"/>
                    </a:lnTo>
                    <a:lnTo>
                      <a:pt x="6762" y="117"/>
                    </a:lnTo>
                    <a:lnTo>
                      <a:pt x="6808" y="134"/>
                    </a:lnTo>
                    <a:lnTo>
                      <a:pt x="6855" y="153"/>
                    </a:lnTo>
                    <a:lnTo>
                      <a:pt x="6900" y="172"/>
                    </a:lnTo>
                    <a:lnTo>
                      <a:pt x="6946" y="193"/>
                    </a:lnTo>
                    <a:lnTo>
                      <a:pt x="6990" y="215"/>
                    </a:lnTo>
                    <a:lnTo>
                      <a:pt x="7035" y="240"/>
                    </a:lnTo>
                    <a:lnTo>
                      <a:pt x="7080" y="264"/>
                    </a:lnTo>
                    <a:lnTo>
                      <a:pt x="7123" y="290"/>
                    </a:lnTo>
                    <a:lnTo>
                      <a:pt x="7166" y="317"/>
                    </a:lnTo>
                    <a:lnTo>
                      <a:pt x="7209" y="345"/>
                    </a:lnTo>
                    <a:lnTo>
                      <a:pt x="7251" y="374"/>
                    </a:lnTo>
                    <a:lnTo>
                      <a:pt x="7292" y="405"/>
                    </a:lnTo>
                    <a:lnTo>
                      <a:pt x="7334" y="436"/>
                    </a:lnTo>
                    <a:lnTo>
                      <a:pt x="7376" y="469"/>
                    </a:lnTo>
                    <a:lnTo>
                      <a:pt x="7416" y="504"/>
                    </a:lnTo>
                    <a:lnTo>
                      <a:pt x="7456" y="540"/>
                    </a:lnTo>
                    <a:lnTo>
                      <a:pt x="7495" y="577"/>
                    </a:lnTo>
                    <a:lnTo>
                      <a:pt x="7534" y="614"/>
                    </a:lnTo>
                    <a:lnTo>
                      <a:pt x="7572" y="653"/>
                    </a:lnTo>
                    <a:lnTo>
                      <a:pt x="7609" y="692"/>
                    </a:lnTo>
                    <a:lnTo>
                      <a:pt x="7646" y="732"/>
                    </a:lnTo>
                    <a:lnTo>
                      <a:pt x="7681" y="772"/>
                    </a:lnTo>
                    <a:lnTo>
                      <a:pt x="7714" y="812"/>
                    </a:lnTo>
                    <a:lnTo>
                      <a:pt x="7746" y="854"/>
                    </a:lnTo>
                    <a:lnTo>
                      <a:pt x="7777" y="896"/>
                    </a:lnTo>
                    <a:lnTo>
                      <a:pt x="7807" y="938"/>
                    </a:lnTo>
                    <a:lnTo>
                      <a:pt x="7835" y="980"/>
                    </a:lnTo>
                    <a:lnTo>
                      <a:pt x="7863" y="1023"/>
                    </a:lnTo>
                    <a:lnTo>
                      <a:pt x="7889" y="1066"/>
                    </a:lnTo>
                    <a:lnTo>
                      <a:pt x="7914" y="1110"/>
                    </a:lnTo>
                    <a:lnTo>
                      <a:pt x="7937" y="1155"/>
                    </a:lnTo>
                    <a:lnTo>
                      <a:pt x="7961" y="1200"/>
                    </a:lnTo>
                    <a:lnTo>
                      <a:pt x="7982" y="1246"/>
                    </a:lnTo>
                    <a:lnTo>
                      <a:pt x="8002" y="1291"/>
                    </a:lnTo>
                    <a:lnTo>
                      <a:pt x="8021" y="1338"/>
                    </a:lnTo>
                    <a:lnTo>
                      <a:pt x="8038" y="1384"/>
                    </a:lnTo>
                    <a:lnTo>
                      <a:pt x="8055" y="1433"/>
                    </a:lnTo>
                    <a:lnTo>
                      <a:pt x="8070" y="1480"/>
                    </a:lnTo>
                    <a:lnTo>
                      <a:pt x="8084" y="1529"/>
                    </a:lnTo>
                    <a:lnTo>
                      <a:pt x="8097" y="1577"/>
                    </a:lnTo>
                    <a:lnTo>
                      <a:pt x="8108" y="1627"/>
                    </a:lnTo>
                    <a:lnTo>
                      <a:pt x="8118" y="1676"/>
                    </a:lnTo>
                    <a:lnTo>
                      <a:pt x="8128" y="1728"/>
                    </a:lnTo>
                    <a:lnTo>
                      <a:pt x="8135" y="1778"/>
                    </a:lnTo>
                    <a:lnTo>
                      <a:pt x="8142" y="1830"/>
                    </a:lnTo>
                    <a:lnTo>
                      <a:pt x="8148" y="1882"/>
                    </a:lnTo>
                    <a:lnTo>
                      <a:pt x="8152" y="1934"/>
                    </a:lnTo>
                    <a:lnTo>
                      <a:pt x="8155" y="1987"/>
                    </a:lnTo>
                    <a:lnTo>
                      <a:pt x="8157" y="2041"/>
                    </a:lnTo>
                    <a:lnTo>
                      <a:pt x="8157" y="2095"/>
                    </a:lnTo>
                    <a:lnTo>
                      <a:pt x="8157" y="2149"/>
                    </a:lnTo>
                    <a:lnTo>
                      <a:pt x="8155" y="2203"/>
                    </a:lnTo>
                    <a:lnTo>
                      <a:pt x="8152" y="2257"/>
                    </a:lnTo>
                    <a:lnTo>
                      <a:pt x="8148" y="2311"/>
                    </a:lnTo>
                    <a:lnTo>
                      <a:pt x="8142" y="2364"/>
                    </a:lnTo>
                    <a:lnTo>
                      <a:pt x="8135" y="2415"/>
                    </a:lnTo>
                    <a:lnTo>
                      <a:pt x="8128" y="2467"/>
                    </a:lnTo>
                    <a:lnTo>
                      <a:pt x="8118" y="2518"/>
                    </a:lnTo>
                    <a:lnTo>
                      <a:pt x="8108" y="2568"/>
                    </a:lnTo>
                    <a:lnTo>
                      <a:pt x="8097" y="2619"/>
                    </a:lnTo>
                    <a:lnTo>
                      <a:pt x="8084" y="2668"/>
                    </a:lnTo>
                    <a:lnTo>
                      <a:pt x="8070" y="2717"/>
                    </a:lnTo>
                    <a:lnTo>
                      <a:pt x="8055" y="2765"/>
                    </a:lnTo>
                    <a:lnTo>
                      <a:pt x="8038" y="2812"/>
                    </a:lnTo>
                    <a:lnTo>
                      <a:pt x="8021" y="2860"/>
                    </a:lnTo>
                    <a:lnTo>
                      <a:pt x="8002" y="2907"/>
                    </a:lnTo>
                    <a:lnTo>
                      <a:pt x="7982" y="2953"/>
                    </a:lnTo>
                    <a:lnTo>
                      <a:pt x="7961" y="2998"/>
                    </a:lnTo>
                    <a:lnTo>
                      <a:pt x="7937" y="3043"/>
                    </a:lnTo>
                    <a:lnTo>
                      <a:pt x="7914" y="3088"/>
                    </a:lnTo>
                    <a:lnTo>
                      <a:pt x="7889" y="3132"/>
                    </a:lnTo>
                    <a:lnTo>
                      <a:pt x="7863" y="3175"/>
                    </a:lnTo>
                    <a:lnTo>
                      <a:pt x="7835" y="3218"/>
                    </a:lnTo>
                    <a:lnTo>
                      <a:pt x="7807" y="3261"/>
                    </a:lnTo>
                    <a:lnTo>
                      <a:pt x="7777" y="3302"/>
                    </a:lnTo>
                    <a:lnTo>
                      <a:pt x="7746" y="3343"/>
                    </a:lnTo>
                    <a:lnTo>
                      <a:pt x="7714" y="3384"/>
                    </a:lnTo>
                    <a:lnTo>
                      <a:pt x="7681" y="3424"/>
                    </a:lnTo>
                    <a:lnTo>
                      <a:pt x="7646" y="3463"/>
                    </a:lnTo>
                    <a:lnTo>
                      <a:pt x="7609" y="3503"/>
                    </a:lnTo>
                    <a:lnTo>
                      <a:pt x="7572" y="3542"/>
                    </a:lnTo>
                    <a:lnTo>
                      <a:pt x="7534" y="3579"/>
                    </a:lnTo>
                    <a:lnTo>
                      <a:pt x="7495" y="3616"/>
                    </a:lnTo>
                    <a:lnTo>
                      <a:pt x="7456" y="3652"/>
                    </a:lnTo>
                    <a:lnTo>
                      <a:pt x="7416" y="3687"/>
                    </a:lnTo>
                    <a:lnTo>
                      <a:pt x="7376" y="3720"/>
                    </a:lnTo>
                    <a:lnTo>
                      <a:pt x="7334" y="3753"/>
                    </a:lnTo>
                    <a:lnTo>
                      <a:pt x="7292" y="3784"/>
                    </a:lnTo>
                    <a:lnTo>
                      <a:pt x="7251" y="3815"/>
                    </a:lnTo>
                    <a:lnTo>
                      <a:pt x="7209" y="3843"/>
                    </a:lnTo>
                    <a:lnTo>
                      <a:pt x="7166" y="3871"/>
                    </a:lnTo>
                    <a:lnTo>
                      <a:pt x="7123" y="3897"/>
                    </a:lnTo>
                    <a:lnTo>
                      <a:pt x="7080" y="3922"/>
                    </a:lnTo>
                    <a:lnTo>
                      <a:pt x="7035" y="3946"/>
                    </a:lnTo>
                    <a:lnTo>
                      <a:pt x="6990" y="3969"/>
                    </a:lnTo>
                    <a:lnTo>
                      <a:pt x="6946" y="3991"/>
                    </a:lnTo>
                    <a:lnTo>
                      <a:pt x="6900" y="4011"/>
                    </a:lnTo>
                    <a:lnTo>
                      <a:pt x="6855" y="4030"/>
                    </a:lnTo>
                    <a:lnTo>
                      <a:pt x="6808" y="4048"/>
                    </a:lnTo>
                    <a:lnTo>
                      <a:pt x="6762" y="4065"/>
                    </a:lnTo>
                    <a:lnTo>
                      <a:pt x="6714" y="4081"/>
                    </a:lnTo>
                    <a:lnTo>
                      <a:pt x="6666" y="4097"/>
                    </a:lnTo>
                    <a:lnTo>
                      <a:pt x="6618" y="4110"/>
                    </a:lnTo>
                    <a:lnTo>
                      <a:pt x="6570" y="4122"/>
                    </a:lnTo>
                    <a:lnTo>
                      <a:pt x="6521" y="4133"/>
                    </a:lnTo>
                    <a:lnTo>
                      <a:pt x="6472" y="4143"/>
                    </a:lnTo>
                    <a:lnTo>
                      <a:pt x="6421" y="4152"/>
                    </a:lnTo>
                    <a:lnTo>
                      <a:pt x="6371" y="4160"/>
                    </a:lnTo>
                    <a:lnTo>
                      <a:pt x="6320" y="4166"/>
                    </a:lnTo>
                    <a:lnTo>
                      <a:pt x="6269" y="4171"/>
                    </a:lnTo>
                    <a:lnTo>
                      <a:pt x="6217" y="4175"/>
                    </a:lnTo>
                    <a:lnTo>
                      <a:pt x="6165" y="4178"/>
                    </a:lnTo>
                    <a:lnTo>
                      <a:pt x="6111" y="4180"/>
                    </a:lnTo>
                    <a:lnTo>
                      <a:pt x="6058" y="4180"/>
                    </a:ln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54"/>
              <p:cNvSpPr/>
              <p:nvPr/>
            </p:nvSpPr>
            <p:spPr>
              <a:xfrm>
                <a:off x="8159760" y="4484880"/>
                <a:ext cx="207000" cy="8928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229" h="126">
                    <a:moveTo>
                      <a:pt x="229" y="113"/>
                    </a:moveTo>
                    <a:lnTo>
                      <a:pt x="154" y="126"/>
                    </a:lnTo>
                    <a:lnTo>
                      <a:pt x="155" y="124"/>
                    </a:lnTo>
                    <a:lnTo>
                      <a:pt x="156" y="123"/>
                    </a:lnTo>
                    <a:lnTo>
                      <a:pt x="156" y="121"/>
                    </a:lnTo>
                    <a:lnTo>
                      <a:pt x="156" y="120"/>
                    </a:lnTo>
                    <a:lnTo>
                      <a:pt x="157" y="119"/>
                    </a:lnTo>
                    <a:lnTo>
                      <a:pt x="157" y="117"/>
                    </a:lnTo>
                    <a:lnTo>
                      <a:pt x="157" y="116"/>
                    </a:lnTo>
                    <a:lnTo>
                      <a:pt x="157" y="115"/>
                    </a:lnTo>
                    <a:lnTo>
                      <a:pt x="157" y="113"/>
                    </a:lnTo>
                    <a:lnTo>
                      <a:pt x="157" y="112"/>
                    </a:lnTo>
                    <a:lnTo>
                      <a:pt x="156" y="111"/>
                    </a:lnTo>
                    <a:lnTo>
                      <a:pt x="156" y="110"/>
                    </a:lnTo>
                    <a:lnTo>
                      <a:pt x="156" y="108"/>
                    </a:lnTo>
                    <a:lnTo>
                      <a:pt x="155" y="107"/>
                    </a:lnTo>
                    <a:lnTo>
                      <a:pt x="154" y="106"/>
                    </a:lnTo>
                    <a:lnTo>
                      <a:pt x="154" y="105"/>
                    </a:lnTo>
                    <a:lnTo>
                      <a:pt x="153" y="104"/>
                    </a:lnTo>
                    <a:lnTo>
                      <a:pt x="152" y="103"/>
                    </a:lnTo>
                    <a:lnTo>
                      <a:pt x="151" y="102"/>
                    </a:lnTo>
                    <a:lnTo>
                      <a:pt x="150" y="101"/>
                    </a:lnTo>
                    <a:lnTo>
                      <a:pt x="149" y="100"/>
                    </a:lnTo>
                    <a:lnTo>
                      <a:pt x="147" y="99"/>
                    </a:lnTo>
                    <a:lnTo>
                      <a:pt x="146" y="98"/>
                    </a:lnTo>
                    <a:lnTo>
                      <a:pt x="145" y="97"/>
                    </a:lnTo>
                    <a:lnTo>
                      <a:pt x="143" y="96"/>
                    </a:lnTo>
                    <a:lnTo>
                      <a:pt x="141" y="95"/>
                    </a:lnTo>
                    <a:lnTo>
                      <a:pt x="140" y="95"/>
                    </a:lnTo>
                    <a:lnTo>
                      <a:pt x="138" y="94"/>
                    </a:lnTo>
                    <a:lnTo>
                      <a:pt x="136" y="93"/>
                    </a:lnTo>
                    <a:lnTo>
                      <a:pt x="134" y="92"/>
                    </a:lnTo>
                    <a:lnTo>
                      <a:pt x="132" y="92"/>
                    </a:lnTo>
                    <a:lnTo>
                      <a:pt x="130" y="91"/>
                    </a:lnTo>
                    <a:lnTo>
                      <a:pt x="125" y="90"/>
                    </a:lnTo>
                    <a:lnTo>
                      <a:pt x="121" y="88"/>
                    </a:lnTo>
                    <a:lnTo>
                      <a:pt x="116" y="87"/>
                    </a:lnTo>
                    <a:lnTo>
                      <a:pt x="112" y="86"/>
                    </a:lnTo>
                    <a:lnTo>
                      <a:pt x="107" y="85"/>
                    </a:lnTo>
                    <a:lnTo>
                      <a:pt x="103" y="83"/>
                    </a:lnTo>
                    <a:lnTo>
                      <a:pt x="98" y="82"/>
                    </a:lnTo>
                    <a:lnTo>
                      <a:pt x="94" y="81"/>
                    </a:lnTo>
                    <a:lnTo>
                      <a:pt x="89" y="79"/>
                    </a:lnTo>
                    <a:lnTo>
                      <a:pt x="85" y="78"/>
                    </a:lnTo>
                    <a:lnTo>
                      <a:pt x="80" y="77"/>
                    </a:lnTo>
                    <a:lnTo>
                      <a:pt x="76" y="76"/>
                    </a:lnTo>
                    <a:lnTo>
                      <a:pt x="71" y="75"/>
                    </a:lnTo>
                    <a:lnTo>
                      <a:pt x="66" y="73"/>
                    </a:lnTo>
                    <a:lnTo>
                      <a:pt x="62" y="72"/>
                    </a:lnTo>
                    <a:lnTo>
                      <a:pt x="57" y="71"/>
                    </a:lnTo>
                    <a:lnTo>
                      <a:pt x="53" y="70"/>
                    </a:lnTo>
                    <a:lnTo>
                      <a:pt x="48" y="69"/>
                    </a:lnTo>
                    <a:lnTo>
                      <a:pt x="44" y="67"/>
                    </a:lnTo>
                    <a:lnTo>
                      <a:pt x="40" y="66"/>
                    </a:lnTo>
                    <a:lnTo>
                      <a:pt x="38" y="65"/>
                    </a:lnTo>
                    <a:lnTo>
                      <a:pt x="36" y="65"/>
                    </a:lnTo>
                    <a:lnTo>
                      <a:pt x="34" y="64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29" y="62"/>
                    </a:lnTo>
                    <a:lnTo>
                      <a:pt x="27" y="61"/>
                    </a:lnTo>
                    <a:lnTo>
                      <a:pt x="25" y="60"/>
                    </a:lnTo>
                    <a:lnTo>
                      <a:pt x="24" y="60"/>
                    </a:lnTo>
                    <a:lnTo>
                      <a:pt x="22" y="59"/>
                    </a:lnTo>
                    <a:lnTo>
                      <a:pt x="21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6" y="56"/>
                    </a:lnTo>
                    <a:lnTo>
                      <a:pt x="15" y="55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1" y="52"/>
                    </a:lnTo>
                    <a:lnTo>
                      <a:pt x="10" y="52"/>
                    </a:lnTo>
                    <a:lnTo>
                      <a:pt x="8" y="51"/>
                    </a:lnTo>
                    <a:lnTo>
                      <a:pt x="7" y="50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4" y="47"/>
                    </a:lnTo>
                    <a:lnTo>
                      <a:pt x="3" y="46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1" y="43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3" y="29"/>
                    </a:lnTo>
                    <a:lnTo>
                      <a:pt x="4" y="28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8" y="23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22" y="12"/>
                    </a:lnTo>
                    <a:lnTo>
                      <a:pt x="24" y="10"/>
                    </a:lnTo>
                    <a:lnTo>
                      <a:pt x="27" y="8"/>
                    </a:lnTo>
                    <a:lnTo>
                      <a:pt x="29" y="6"/>
                    </a:lnTo>
                    <a:lnTo>
                      <a:pt x="32" y="4"/>
                    </a:lnTo>
                    <a:lnTo>
                      <a:pt x="35" y="2"/>
                    </a:lnTo>
                    <a:lnTo>
                      <a:pt x="38" y="0"/>
                    </a:lnTo>
                    <a:lnTo>
                      <a:pt x="35" y="2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8" y="8"/>
                    </a:lnTo>
                    <a:lnTo>
                      <a:pt x="25" y="10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5"/>
                    </a:lnTo>
                    <a:lnTo>
                      <a:pt x="18" y="17"/>
                    </a:lnTo>
                    <a:lnTo>
                      <a:pt x="16" y="18"/>
                    </a:lnTo>
                    <a:lnTo>
                      <a:pt x="15" y="20"/>
                    </a:lnTo>
                    <a:lnTo>
                      <a:pt x="14" y="21"/>
                    </a:lnTo>
                    <a:lnTo>
                      <a:pt x="13" y="23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9" y="30"/>
                    </a:lnTo>
                    <a:lnTo>
                      <a:pt x="9" y="31"/>
                    </a:lnTo>
                    <a:lnTo>
                      <a:pt x="9" y="32"/>
                    </a:lnTo>
                    <a:lnTo>
                      <a:pt x="9" y="34"/>
                    </a:lnTo>
                    <a:lnTo>
                      <a:pt x="9" y="35"/>
                    </a:lnTo>
                    <a:lnTo>
                      <a:pt x="10" y="36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9"/>
                    </a:lnTo>
                    <a:lnTo>
                      <a:pt x="12" y="40"/>
                    </a:lnTo>
                    <a:lnTo>
                      <a:pt x="13" y="41"/>
                    </a:lnTo>
                    <a:lnTo>
                      <a:pt x="15" y="42"/>
                    </a:lnTo>
                    <a:lnTo>
                      <a:pt x="16" y="42"/>
                    </a:lnTo>
                    <a:lnTo>
                      <a:pt x="18" y="43"/>
                    </a:lnTo>
                    <a:lnTo>
                      <a:pt x="19" y="44"/>
                    </a:lnTo>
                    <a:lnTo>
                      <a:pt x="23" y="45"/>
                    </a:lnTo>
                    <a:lnTo>
                      <a:pt x="26" y="47"/>
                    </a:lnTo>
                    <a:lnTo>
                      <a:pt x="30" y="48"/>
                    </a:lnTo>
                    <a:lnTo>
                      <a:pt x="34" y="49"/>
                    </a:lnTo>
                    <a:lnTo>
                      <a:pt x="38" y="51"/>
                    </a:lnTo>
                    <a:lnTo>
                      <a:pt x="42" y="52"/>
                    </a:lnTo>
                    <a:lnTo>
                      <a:pt x="46" y="53"/>
                    </a:lnTo>
                    <a:lnTo>
                      <a:pt x="51" y="54"/>
                    </a:lnTo>
                    <a:lnTo>
                      <a:pt x="55" y="55"/>
                    </a:lnTo>
                    <a:lnTo>
                      <a:pt x="60" y="56"/>
                    </a:lnTo>
                    <a:lnTo>
                      <a:pt x="64" y="57"/>
                    </a:lnTo>
                    <a:lnTo>
                      <a:pt x="69" y="59"/>
                    </a:lnTo>
                    <a:lnTo>
                      <a:pt x="74" y="60"/>
                    </a:lnTo>
                    <a:lnTo>
                      <a:pt x="79" y="61"/>
                    </a:lnTo>
                    <a:lnTo>
                      <a:pt x="84" y="62"/>
                    </a:lnTo>
                    <a:lnTo>
                      <a:pt x="90" y="62"/>
                    </a:lnTo>
                    <a:lnTo>
                      <a:pt x="95" y="63"/>
                    </a:lnTo>
                    <a:lnTo>
                      <a:pt x="100" y="64"/>
                    </a:lnTo>
                    <a:lnTo>
                      <a:pt x="105" y="65"/>
                    </a:lnTo>
                    <a:lnTo>
                      <a:pt x="110" y="66"/>
                    </a:lnTo>
                    <a:lnTo>
                      <a:pt x="115" y="67"/>
                    </a:lnTo>
                    <a:lnTo>
                      <a:pt x="120" y="68"/>
                    </a:lnTo>
                    <a:lnTo>
                      <a:pt x="125" y="70"/>
                    </a:lnTo>
                    <a:lnTo>
                      <a:pt x="129" y="71"/>
                    </a:lnTo>
                    <a:lnTo>
                      <a:pt x="134" y="72"/>
                    </a:lnTo>
                    <a:lnTo>
                      <a:pt x="138" y="73"/>
                    </a:lnTo>
                    <a:lnTo>
                      <a:pt x="143" y="74"/>
                    </a:lnTo>
                    <a:lnTo>
                      <a:pt x="147" y="76"/>
                    </a:lnTo>
                    <a:lnTo>
                      <a:pt x="151" y="77"/>
                    </a:lnTo>
                    <a:lnTo>
                      <a:pt x="155" y="78"/>
                    </a:lnTo>
                    <a:lnTo>
                      <a:pt x="159" y="80"/>
                    </a:lnTo>
                    <a:lnTo>
                      <a:pt x="163" y="81"/>
                    </a:lnTo>
                    <a:lnTo>
                      <a:pt x="165" y="82"/>
                    </a:lnTo>
                    <a:lnTo>
                      <a:pt x="166" y="83"/>
                    </a:lnTo>
                    <a:lnTo>
                      <a:pt x="168" y="84"/>
                    </a:lnTo>
                    <a:lnTo>
                      <a:pt x="169" y="85"/>
                    </a:lnTo>
                    <a:lnTo>
                      <a:pt x="171" y="85"/>
                    </a:lnTo>
                    <a:lnTo>
                      <a:pt x="172" y="86"/>
                    </a:lnTo>
                    <a:lnTo>
                      <a:pt x="173" y="87"/>
                    </a:lnTo>
                    <a:lnTo>
                      <a:pt x="174" y="88"/>
                    </a:lnTo>
                    <a:lnTo>
                      <a:pt x="174" y="90"/>
                    </a:lnTo>
                    <a:lnTo>
                      <a:pt x="175" y="91"/>
                    </a:lnTo>
                    <a:lnTo>
                      <a:pt x="175" y="92"/>
                    </a:lnTo>
                    <a:lnTo>
                      <a:pt x="176" y="93"/>
                    </a:lnTo>
                    <a:lnTo>
                      <a:pt x="176" y="94"/>
                    </a:lnTo>
                    <a:lnTo>
                      <a:pt x="176" y="96"/>
                    </a:lnTo>
                    <a:lnTo>
                      <a:pt x="176" y="97"/>
                    </a:lnTo>
                    <a:lnTo>
                      <a:pt x="176" y="98"/>
                    </a:lnTo>
                    <a:lnTo>
                      <a:pt x="175" y="100"/>
                    </a:lnTo>
                    <a:lnTo>
                      <a:pt x="175" y="101"/>
                    </a:lnTo>
                    <a:lnTo>
                      <a:pt x="174" y="103"/>
                    </a:lnTo>
                    <a:lnTo>
                      <a:pt x="174" y="104"/>
                    </a:lnTo>
                    <a:lnTo>
                      <a:pt x="173" y="106"/>
                    </a:lnTo>
                    <a:lnTo>
                      <a:pt x="172" y="107"/>
                    </a:lnTo>
                    <a:lnTo>
                      <a:pt x="171" y="109"/>
                    </a:lnTo>
                    <a:lnTo>
                      <a:pt x="169" y="111"/>
                    </a:lnTo>
                    <a:lnTo>
                      <a:pt x="168" y="113"/>
                    </a:lnTo>
                    <a:lnTo>
                      <a:pt x="166" y="114"/>
                    </a:lnTo>
                    <a:lnTo>
                      <a:pt x="165" y="116"/>
                    </a:lnTo>
                    <a:lnTo>
                      <a:pt x="163" y="118"/>
                    </a:lnTo>
                    <a:lnTo>
                      <a:pt x="161" y="120"/>
                    </a:lnTo>
                    <a:lnTo>
                      <a:pt x="159" y="122"/>
                    </a:lnTo>
                    <a:lnTo>
                      <a:pt x="157" y="124"/>
                    </a:lnTo>
                    <a:lnTo>
                      <a:pt x="154" y="126"/>
                    </a:ln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55"/>
              <p:cNvSpPr/>
              <p:nvPr/>
            </p:nvSpPr>
            <p:spPr>
              <a:xfrm>
                <a:off x="8392320" y="4612320"/>
                <a:ext cx="54720" cy="11016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1401" h="2797">
                    <a:moveTo>
                      <a:pt x="0" y="2797"/>
                    </a:moveTo>
                    <a:lnTo>
                      <a:pt x="0" y="2797"/>
                    </a:lnTo>
                    <a:lnTo>
                      <a:pt x="35" y="2796"/>
                    </a:lnTo>
                    <a:lnTo>
                      <a:pt x="69" y="2795"/>
                    </a:lnTo>
                    <a:lnTo>
                      <a:pt x="104" y="2793"/>
                    </a:lnTo>
                    <a:lnTo>
                      <a:pt x="138" y="2790"/>
                    </a:lnTo>
                    <a:lnTo>
                      <a:pt x="171" y="2787"/>
                    </a:lnTo>
                    <a:lnTo>
                      <a:pt x="205" y="2782"/>
                    </a:lnTo>
                    <a:lnTo>
                      <a:pt x="238" y="2777"/>
                    </a:lnTo>
                    <a:lnTo>
                      <a:pt x="270" y="2771"/>
                    </a:lnTo>
                    <a:lnTo>
                      <a:pt x="303" y="2764"/>
                    </a:lnTo>
                    <a:lnTo>
                      <a:pt x="335" y="2757"/>
                    </a:lnTo>
                    <a:lnTo>
                      <a:pt x="367" y="2749"/>
                    </a:lnTo>
                    <a:lnTo>
                      <a:pt x="400" y="2739"/>
                    </a:lnTo>
                    <a:lnTo>
                      <a:pt x="431" y="2730"/>
                    </a:lnTo>
                    <a:lnTo>
                      <a:pt x="462" y="2719"/>
                    </a:lnTo>
                    <a:lnTo>
                      <a:pt x="493" y="2708"/>
                    </a:lnTo>
                    <a:lnTo>
                      <a:pt x="524" y="2695"/>
                    </a:lnTo>
                    <a:lnTo>
                      <a:pt x="554" y="2682"/>
                    </a:lnTo>
                    <a:lnTo>
                      <a:pt x="584" y="2669"/>
                    </a:lnTo>
                    <a:lnTo>
                      <a:pt x="614" y="2654"/>
                    </a:lnTo>
                    <a:lnTo>
                      <a:pt x="643" y="2639"/>
                    </a:lnTo>
                    <a:lnTo>
                      <a:pt x="672" y="2623"/>
                    </a:lnTo>
                    <a:lnTo>
                      <a:pt x="702" y="2606"/>
                    </a:lnTo>
                    <a:lnTo>
                      <a:pt x="731" y="2588"/>
                    </a:lnTo>
                    <a:lnTo>
                      <a:pt x="760" y="2570"/>
                    </a:lnTo>
                    <a:lnTo>
                      <a:pt x="788" y="2551"/>
                    </a:lnTo>
                    <a:lnTo>
                      <a:pt x="815" y="2531"/>
                    </a:lnTo>
                    <a:lnTo>
                      <a:pt x="843" y="2509"/>
                    </a:lnTo>
                    <a:lnTo>
                      <a:pt x="870" y="2488"/>
                    </a:lnTo>
                    <a:lnTo>
                      <a:pt x="897" y="2466"/>
                    </a:lnTo>
                    <a:lnTo>
                      <a:pt x="924" y="2443"/>
                    </a:lnTo>
                    <a:lnTo>
                      <a:pt x="950" y="2419"/>
                    </a:lnTo>
                    <a:lnTo>
                      <a:pt x="977" y="2395"/>
                    </a:lnTo>
                    <a:lnTo>
                      <a:pt x="1004" y="2369"/>
                    </a:lnTo>
                    <a:lnTo>
                      <a:pt x="1029" y="2344"/>
                    </a:lnTo>
                    <a:lnTo>
                      <a:pt x="1053" y="2318"/>
                    </a:lnTo>
                    <a:lnTo>
                      <a:pt x="1077" y="2291"/>
                    </a:lnTo>
                    <a:lnTo>
                      <a:pt x="1099" y="2265"/>
                    </a:lnTo>
                    <a:lnTo>
                      <a:pt x="1121" y="2238"/>
                    </a:lnTo>
                    <a:lnTo>
                      <a:pt x="1142" y="2209"/>
                    </a:lnTo>
                    <a:lnTo>
                      <a:pt x="1163" y="2182"/>
                    </a:lnTo>
                    <a:lnTo>
                      <a:pt x="1182" y="2153"/>
                    </a:lnTo>
                    <a:lnTo>
                      <a:pt x="1201" y="2125"/>
                    </a:lnTo>
                    <a:lnTo>
                      <a:pt x="1218" y="2096"/>
                    </a:lnTo>
                    <a:lnTo>
                      <a:pt x="1235" y="2067"/>
                    </a:lnTo>
                    <a:lnTo>
                      <a:pt x="1251" y="2038"/>
                    </a:lnTo>
                    <a:lnTo>
                      <a:pt x="1267" y="2008"/>
                    </a:lnTo>
                    <a:lnTo>
                      <a:pt x="1281" y="1978"/>
                    </a:lnTo>
                    <a:lnTo>
                      <a:pt x="1296" y="1947"/>
                    </a:lnTo>
                    <a:lnTo>
                      <a:pt x="1308" y="1916"/>
                    </a:lnTo>
                    <a:lnTo>
                      <a:pt x="1320" y="1884"/>
                    </a:lnTo>
                    <a:lnTo>
                      <a:pt x="1332" y="1853"/>
                    </a:lnTo>
                    <a:lnTo>
                      <a:pt x="1342" y="1821"/>
                    </a:lnTo>
                    <a:lnTo>
                      <a:pt x="1351" y="1789"/>
                    </a:lnTo>
                    <a:lnTo>
                      <a:pt x="1360" y="1756"/>
                    </a:lnTo>
                    <a:lnTo>
                      <a:pt x="1368" y="1723"/>
                    </a:lnTo>
                    <a:lnTo>
                      <a:pt x="1375" y="1690"/>
                    </a:lnTo>
                    <a:lnTo>
                      <a:pt x="1381" y="1656"/>
                    </a:lnTo>
                    <a:lnTo>
                      <a:pt x="1386" y="1622"/>
                    </a:lnTo>
                    <a:lnTo>
                      <a:pt x="1391" y="1587"/>
                    </a:lnTo>
                    <a:lnTo>
                      <a:pt x="1395" y="1552"/>
                    </a:lnTo>
                    <a:lnTo>
                      <a:pt x="1398" y="1517"/>
                    </a:lnTo>
                    <a:lnTo>
                      <a:pt x="1400" y="1482"/>
                    </a:lnTo>
                    <a:lnTo>
                      <a:pt x="1401" y="1446"/>
                    </a:lnTo>
                    <a:lnTo>
                      <a:pt x="1401" y="1410"/>
                    </a:lnTo>
                    <a:lnTo>
                      <a:pt x="1401" y="1375"/>
                    </a:lnTo>
                    <a:lnTo>
                      <a:pt x="1400" y="1341"/>
                    </a:lnTo>
                    <a:lnTo>
                      <a:pt x="1398" y="1306"/>
                    </a:lnTo>
                    <a:lnTo>
                      <a:pt x="1395" y="1272"/>
                    </a:lnTo>
                    <a:lnTo>
                      <a:pt x="1391" y="1239"/>
                    </a:lnTo>
                    <a:lnTo>
                      <a:pt x="1386" y="1205"/>
                    </a:lnTo>
                    <a:lnTo>
                      <a:pt x="1381" y="1172"/>
                    </a:lnTo>
                    <a:lnTo>
                      <a:pt x="1375" y="1139"/>
                    </a:lnTo>
                    <a:lnTo>
                      <a:pt x="1368" y="1107"/>
                    </a:lnTo>
                    <a:lnTo>
                      <a:pt x="1360" y="1075"/>
                    </a:lnTo>
                    <a:lnTo>
                      <a:pt x="1351" y="1043"/>
                    </a:lnTo>
                    <a:lnTo>
                      <a:pt x="1342" y="1010"/>
                    </a:lnTo>
                    <a:lnTo>
                      <a:pt x="1332" y="979"/>
                    </a:lnTo>
                    <a:lnTo>
                      <a:pt x="1320" y="947"/>
                    </a:lnTo>
                    <a:lnTo>
                      <a:pt x="1308" y="917"/>
                    </a:lnTo>
                    <a:lnTo>
                      <a:pt x="1296" y="886"/>
                    </a:lnTo>
                    <a:lnTo>
                      <a:pt x="1281" y="855"/>
                    </a:lnTo>
                    <a:lnTo>
                      <a:pt x="1267" y="825"/>
                    </a:lnTo>
                    <a:lnTo>
                      <a:pt x="1251" y="795"/>
                    </a:lnTo>
                    <a:lnTo>
                      <a:pt x="1235" y="766"/>
                    </a:lnTo>
                    <a:lnTo>
                      <a:pt x="1218" y="736"/>
                    </a:lnTo>
                    <a:lnTo>
                      <a:pt x="1201" y="706"/>
                    </a:lnTo>
                    <a:lnTo>
                      <a:pt x="1182" y="677"/>
                    </a:lnTo>
                    <a:lnTo>
                      <a:pt x="1163" y="649"/>
                    </a:lnTo>
                    <a:lnTo>
                      <a:pt x="1142" y="620"/>
                    </a:lnTo>
                    <a:lnTo>
                      <a:pt x="1121" y="592"/>
                    </a:lnTo>
                    <a:lnTo>
                      <a:pt x="1099" y="564"/>
                    </a:lnTo>
                    <a:lnTo>
                      <a:pt x="1077" y="537"/>
                    </a:lnTo>
                    <a:lnTo>
                      <a:pt x="1053" y="509"/>
                    </a:lnTo>
                    <a:lnTo>
                      <a:pt x="1029" y="482"/>
                    </a:lnTo>
                    <a:lnTo>
                      <a:pt x="1004" y="456"/>
                    </a:lnTo>
                    <a:lnTo>
                      <a:pt x="977" y="428"/>
                    </a:lnTo>
                    <a:lnTo>
                      <a:pt x="950" y="402"/>
                    </a:lnTo>
                    <a:lnTo>
                      <a:pt x="924" y="376"/>
                    </a:lnTo>
                    <a:lnTo>
                      <a:pt x="897" y="351"/>
                    </a:lnTo>
                    <a:lnTo>
                      <a:pt x="870" y="327"/>
                    </a:lnTo>
                    <a:lnTo>
                      <a:pt x="843" y="305"/>
                    </a:lnTo>
                    <a:lnTo>
                      <a:pt x="815" y="282"/>
                    </a:lnTo>
                    <a:lnTo>
                      <a:pt x="788" y="261"/>
                    </a:lnTo>
                    <a:lnTo>
                      <a:pt x="760" y="241"/>
                    </a:lnTo>
                    <a:lnTo>
                      <a:pt x="731" y="221"/>
                    </a:lnTo>
                    <a:lnTo>
                      <a:pt x="702" y="202"/>
                    </a:lnTo>
                    <a:lnTo>
                      <a:pt x="672" y="184"/>
                    </a:lnTo>
                    <a:lnTo>
                      <a:pt x="643" y="167"/>
                    </a:lnTo>
                    <a:lnTo>
                      <a:pt x="614" y="151"/>
                    </a:lnTo>
                    <a:lnTo>
                      <a:pt x="584" y="135"/>
                    </a:lnTo>
                    <a:lnTo>
                      <a:pt x="554" y="120"/>
                    </a:lnTo>
                    <a:lnTo>
                      <a:pt x="524" y="106"/>
                    </a:lnTo>
                    <a:lnTo>
                      <a:pt x="493" y="93"/>
                    </a:lnTo>
                    <a:lnTo>
                      <a:pt x="462" y="81"/>
                    </a:lnTo>
                    <a:lnTo>
                      <a:pt x="431" y="70"/>
                    </a:lnTo>
                    <a:lnTo>
                      <a:pt x="400" y="60"/>
                    </a:lnTo>
                    <a:lnTo>
                      <a:pt x="367" y="50"/>
                    </a:lnTo>
                    <a:lnTo>
                      <a:pt x="335" y="41"/>
                    </a:lnTo>
                    <a:lnTo>
                      <a:pt x="303" y="33"/>
                    </a:lnTo>
                    <a:lnTo>
                      <a:pt x="270" y="26"/>
                    </a:lnTo>
                    <a:lnTo>
                      <a:pt x="238" y="20"/>
                    </a:lnTo>
                    <a:lnTo>
                      <a:pt x="205" y="15"/>
                    </a:lnTo>
                    <a:lnTo>
                      <a:pt x="171" y="10"/>
                    </a:lnTo>
                    <a:lnTo>
                      <a:pt x="138" y="6"/>
                    </a:lnTo>
                    <a:lnTo>
                      <a:pt x="104" y="4"/>
                    </a:lnTo>
                    <a:lnTo>
                      <a:pt x="69" y="1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2797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3"/>
          <p:cNvGrpSpPr/>
          <p:nvPr/>
        </p:nvGrpSpPr>
        <p:grpSpPr>
          <a:xfrm>
            <a:off x="223920" y="0"/>
            <a:ext cx="8919720" cy="624960"/>
            <a:chOff x="223920" y="0"/>
            <a:chExt cx="8919720" cy="624960"/>
          </a:xfrm>
        </p:grpSpPr>
        <p:grpSp>
          <p:nvGrpSpPr>
            <p:cNvPr id="398" name="组合 4"/>
            <p:cNvGrpSpPr/>
            <p:nvPr/>
          </p:nvGrpSpPr>
          <p:grpSpPr>
            <a:xfrm>
              <a:off x="1691640" y="0"/>
              <a:ext cx="7452000" cy="624960"/>
              <a:chOff x="1691640" y="0"/>
              <a:chExt cx="7452000" cy="624960"/>
            </a:xfrm>
          </p:grpSpPr>
          <p:sp>
            <p:nvSpPr>
              <p:cNvPr id="399" name="矩形 6"/>
              <p:cNvSpPr/>
              <p:nvPr/>
            </p:nvSpPr>
            <p:spPr>
              <a:xfrm>
                <a:off x="1691640" y="0"/>
                <a:ext cx="4464000" cy="62496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00" name="矩形 7"/>
              <p:cNvSpPr/>
              <p:nvPr/>
            </p:nvSpPr>
            <p:spPr>
              <a:xfrm>
                <a:off x="3996000" y="0"/>
                <a:ext cx="3849480" cy="624960"/>
              </a:xfrm>
              <a:prstGeom prst="rect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01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0984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2" name="文本框 5"/>
            <p:cNvSpPr/>
            <p:nvPr/>
          </p:nvSpPr>
          <p:spPr>
            <a:xfrm>
              <a:off x="223920" y="101880"/>
              <a:ext cx="1260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accent1">
                      <a:lumMod val="50000"/>
                    </a:schemeClr>
                  </a:solidFill>
                  <a:latin typeface="Broadway"/>
                </a:rPr>
                <a:t>Step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9"/>
          <p:cNvGrpSpPr/>
          <p:nvPr/>
        </p:nvGrpSpPr>
        <p:grpSpPr>
          <a:xfrm>
            <a:off x="1029240" y="101880"/>
            <a:ext cx="3628800" cy="1439640"/>
            <a:chOff x="1029240" y="101880"/>
            <a:chExt cx="3628800" cy="1439640"/>
          </a:xfrm>
        </p:grpSpPr>
        <p:grpSp>
          <p:nvGrpSpPr>
            <p:cNvPr id="404" name="组合 10"/>
            <p:cNvGrpSpPr/>
            <p:nvPr/>
          </p:nvGrpSpPr>
          <p:grpSpPr>
            <a:xfrm>
              <a:off x="1029240" y="204840"/>
              <a:ext cx="3628800" cy="1336680"/>
              <a:chOff x="1029240" y="204840"/>
              <a:chExt cx="3628800" cy="1336680"/>
            </a:xfrm>
          </p:grpSpPr>
          <p:cxnSp>
            <p:nvCxnSpPr>
              <p:cNvPr id="405" name="直接连接符 12"/>
              <p:cNvCxnSpPr/>
              <p:nvPr/>
            </p:nvCxnSpPr>
            <p:spPr>
              <a:xfrm>
                <a:off x="2843640" y="204840"/>
                <a:ext cx="747360" cy="308880"/>
              </a:xfrm>
              <a:prstGeom prst="straightConnector1">
                <a:avLst/>
              </a:prstGeom>
              <a:ln w="38100">
                <a:solidFill>
                  <a:srgbClr val="0e3757"/>
                </a:solidFill>
              </a:ln>
            </p:spPr>
          </p:cxnSp>
          <p:cxnSp>
            <p:nvCxnSpPr>
              <p:cNvPr id="406" name="直接连接符 13"/>
              <p:cNvCxnSpPr/>
              <p:nvPr/>
            </p:nvCxnSpPr>
            <p:spPr>
              <a:xfrm flipH="1">
                <a:off x="2096640" y="204840"/>
                <a:ext cx="747360" cy="308880"/>
              </a:xfrm>
              <a:prstGeom prst="straightConnector1">
                <a:avLst/>
              </a:prstGeom>
              <a:ln w="38100">
                <a:solidFill>
                  <a:srgbClr val="0e3757"/>
                </a:solidFill>
              </a:ln>
            </p:spPr>
          </p:cxnSp>
          <p:sp>
            <p:nvSpPr>
              <p:cNvPr id="407" name="矩形 14"/>
              <p:cNvSpPr/>
              <p:nvPr/>
            </p:nvSpPr>
            <p:spPr>
              <a:xfrm>
                <a:off x="1029240" y="513360"/>
                <a:ext cx="3628800" cy="102816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8" name="矩形 15"/>
              <p:cNvSpPr/>
              <p:nvPr/>
            </p:nvSpPr>
            <p:spPr>
              <a:xfrm>
                <a:off x="1255320" y="622440"/>
                <a:ext cx="3177000" cy="81072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9" name="TextBox 16"/>
              <p:cNvSpPr/>
              <p:nvPr/>
            </p:nvSpPr>
            <p:spPr>
              <a:xfrm>
                <a:off x="1368000" y="772560"/>
                <a:ext cx="31770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准备策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椭圆 11"/>
            <p:cNvSpPr/>
            <p:nvPr/>
          </p:nvSpPr>
          <p:spPr>
            <a:xfrm>
              <a:off x="2751120" y="101880"/>
              <a:ext cx="205200" cy="205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11" name="组合 33"/>
          <p:cNvGrpSpPr/>
          <p:nvPr/>
        </p:nvGrpSpPr>
        <p:grpSpPr>
          <a:xfrm>
            <a:off x="686160" y="2055600"/>
            <a:ext cx="681480" cy="681480"/>
            <a:chOff x="686160" y="2055600"/>
            <a:chExt cx="681480" cy="681480"/>
          </a:xfrm>
        </p:grpSpPr>
        <p:sp>
          <p:nvSpPr>
            <p:cNvPr id="412" name="椭圆 17"/>
            <p:cNvSpPr/>
            <p:nvPr/>
          </p:nvSpPr>
          <p:spPr>
            <a:xfrm>
              <a:off x="686160" y="2055600"/>
              <a:ext cx="681480" cy="681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3" name="椭圆 22"/>
            <p:cNvSpPr/>
            <p:nvPr/>
          </p:nvSpPr>
          <p:spPr>
            <a:xfrm>
              <a:off x="782640" y="2132640"/>
              <a:ext cx="505080" cy="50508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14" name="组合 34"/>
          <p:cNvGrpSpPr/>
          <p:nvPr/>
        </p:nvGrpSpPr>
        <p:grpSpPr>
          <a:xfrm>
            <a:off x="2469240" y="4440240"/>
            <a:ext cx="681480" cy="681480"/>
            <a:chOff x="2469240" y="4440240"/>
            <a:chExt cx="681480" cy="681480"/>
          </a:xfrm>
        </p:grpSpPr>
        <p:sp>
          <p:nvSpPr>
            <p:cNvPr id="415" name="椭圆 21"/>
            <p:cNvSpPr/>
            <p:nvPr/>
          </p:nvSpPr>
          <p:spPr>
            <a:xfrm>
              <a:off x="2469240" y="4440240"/>
              <a:ext cx="681480" cy="681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6" name="椭圆 23"/>
            <p:cNvSpPr/>
            <p:nvPr/>
          </p:nvSpPr>
          <p:spPr>
            <a:xfrm flipV="1">
              <a:off x="2557440" y="4527360"/>
              <a:ext cx="505080" cy="50508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17" name="组合 35"/>
          <p:cNvGrpSpPr/>
          <p:nvPr/>
        </p:nvGrpSpPr>
        <p:grpSpPr>
          <a:xfrm>
            <a:off x="6020280" y="4447800"/>
            <a:ext cx="681480" cy="681480"/>
            <a:chOff x="6020280" y="4447800"/>
            <a:chExt cx="681480" cy="681480"/>
          </a:xfrm>
        </p:grpSpPr>
        <p:sp>
          <p:nvSpPr>
            <p:cNvPr id="418" name="椭圆 20"/>
            <p:cNvSpPr/>
            <p:nvPr/>
          </p:nvSpPr>
          <p:spPr>
            <a:xfrm>
              <a:off x="6020280" y="4447800"/>
              <a:ext cx="681480" cy="681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9" name="椭圆 24"/>
            <p:cNvSpPr/>
            <p:nvPr/>
          </p:nvSpPr>
          <p:spPr>
            <a:xfrm flipV="1">
              <a:off x="6116400" y="4534920"/>
              <a:ext cx="505080" cy="50508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20" name="组合 36"/>
          <p:cNvGrpSpPr/>
          <p:nvPr/>
        </p:nvGrpSpPr>
        <p:grpSpPr>
          <a:xfrm>
            <a:off x="4204440" y="2055600"/>
            <a:ext cx="681480" cy="681480"/>
            <a:chOff x="4204440" y="2055600"/>
            <a:chExt cx="681480" cy="681480"/>
          </a:xfrm>
        </p:grpSpPr>
        <p:sp>
          <p:nvSpPr>
            <p:cNvPr id="421" name="椭圆 19"/>
            <p:cNvSpPr/>
            <p:nvPr/>
          </p:nvSpPr>
          <p:spPr>
            <a:xfrm>
              <a:off x="4204440" y="2055600"/>
              <a:ext cx="681480" cy="681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2" name="椭圆 25"/>
            <p:cNvSpPr/>
            <p:nvPr/>
          </p:nvSpPr>
          <p:spPr>
            <a:xfrm flipV="1">
              <a:off x="4292640" y="2142720"/>
              <a:ext cx="505080" cy="50508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23" name="组合 37"/>
          <p:cNvGrpSpPr/>
          <p:nvPr/>
        </p:nvGrpSpPr>
        <p:grpSpPr>
          <a:xfrm>
            <a:off x="7722720" y="2055600"/>
            <a:ext cx="681480" cy="681480"/>
            <a:chOff x="7722720" y="2055600"/>
            <a:chExt cx="681480" cy="681480"/>
          </a:xfrm>
        </p:grpSpPr>
        <p:sp>
          <p:nvSpPr>
            <p:cNvPr id="424" name="椭圆 18"/>
            <p:cNvSpPr/>
            <p:nvPr/>
          </p:nvSpPr>
          <p:spPr>
            <a:xfrm>
              <a:off x="7722720" y="2055600"/>
              <a:ext cx="681480" cy="681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5" name="椭圆 26"/>
            <p:cNvSpPr/>
            <p:nvPr/>
          </p:nvSpPr>
          <p:spPr>
            <a:xfrm flipV="1">
              <a:off x="7810920" y="2142720"/>
              <a:ext cx="505080" cy="50508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26" name="任意多边形 39"/>
          <p:cNvSpPr/>
          <p:nvPr/>
        </p:nvSpPr>
        <p:spPr>
          <a:xfrm flipH="1">
            <a:off x="992520" y="2759400"/>
            <a:ext cx="1850040" cy="1666080"/>
          </a:xfrm>
          <a:custGeom>
            <a:avLst/>
            <a:gdLst>
              <a:gd name="textAreaLeft" fmla="*/ -360 w 1850040"/>
              <a:gd name="textAreaRight" fmla="*/ 1850040 w 1850040"/>
              <a:gd name="textAreaTop" fmla="*/ 0 h 1666080"/>
              <a:gd name="textAreaBottom" fmla="*/ 1666440 h 1666080"/>
            </a:gdLst>
            <a:ahLst/>
            <a:rect l="textAreaLeft" t="textAreaTop" r="textAreaRight" b="textAreaBottom"/>
            <a:pathLst>
              <a:path w="513901" h="637954">
                <a:moveTo>
                  <a:pt x="0" y="637954"/>
                </a:moveTo>
                <a:cubicBezTo>
                  <a:pt x="0" y="138224"/>
                  <a:pt x="563525" y="520995"/>
                  <a:pt x="510363" y="0"/>
                </a:cubicBezTo>
              </a:path>
            </a:pathLst>
          </a:custGeom>
          <a:noFill/>
          <a:ln w="19050">
            <a:solidFill>
              <a:srgbClr val="5b9bd5">
                <a:lumMod val="50000"/>
              </a:srgbClr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任意多边形 40"/>
          <p:cNvSpPr/>
          <p:nvPr/>
        </p:nvSpPr>
        <p:spPr>
          <a:xfrm flipH="1">
            <a:off x="4509720" y="2759400"/>
            <a:ext cx="1850040" cy="1666080"/>
          </a:xfrm>
          <a:custGeom>
            <a:avLst/>
            <a:gdLst>
              <a:gd name="textAreaLeft" fmla="*/ -360 w 1850040"/>
              <a:gd name="textAreaRight" fmla="*/ 1850040 w 1850040"/>
              <a:gd name="textAreaTop" fmla="*/ 0 h 1666080"/>
              <a:gd name="textAreaBottom" fmla="*/ 1666440 h 1666080"/>
            </a:gdLst>
            <a:ahLst/>
            <a:rect l="textAreaLeft" t="textAreaTop" r="textAreaRight" b="textAreaBottom"/>
            <a:pathLst>
              <a:path w="513901" h="637954">
                <a:moveTo>
                  <a:pt x="0" y="637954"/>
                </a:moveTo>
                <a:cubicBezTo>
                  <a:pt x="0" y="138224"/>
                  <a:pt x="563525" y="520995"/>
                  <a:pt x="510363" y="0"/>
                </a:cubicBezTo>
              </a:path>
            </a:pathLst>
          </a:custGeom>
          <a:noFill/>
          <a:ln w="19050">
            <a:solidFill>
              <a:srgbClr val="5b9bd5">
                <a:lumMod val="50000"/>
              </a:srgbClr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任意多边形 41"/>
          <p:cNvSpPr/>
          <p:nvPr/>
        </p:nvSpPr>
        <p:spPr>
          <a:xfrm flipH="1" rot="5400000">
            <a:off x="2449800" y="3086640"/>
            <a:ext cx="2415960" cy="1013760"/>
          </a:xfrm>
          <a:custGeom>
            <a:avLst/>
            <a:gdLst>
              <a:gd name="textAreaLeft" fmla="*/ -360 w 2415960"/>
              <a:gd name="textAreaRight" fmla="*/ 2415960 w 2415960"/>
              <a:gd name="textAreaTop" fmla="*/ 0 h 1013760"/>
              <a:gd name="textAreaBottom" fmla="*/ 1014120 h 1013760"/>
            </a:gdLst>
            <a:ahLst/>
            <a:rect l="textAreaLeft" t="textAreaTop" r="textAreaRight" b="textAreaBottom"/>
            <a:pathLst>
              <a:path w="513901" h="637954">
                <a:moveTo>
                  <a:pt x="0" y="637954"/>
                </a:moveTo>
                <a:cubicBezTo>
                  <a:pt x="0" y="138224"/>
                  <a:pt x="563525" y="520995"/>
                  <a:pt x="510363" y="0"/>
                </a:cubicBezTo>
              </a:path>
            </a:pathLst>
          </a:custGeom>
          <a:noFill/>
          <a:ln w="19050">
            <a:solidFill>
              <a:srgbClr val="5b9bd5">
                <a:lumMod val="50000"/>
              </a:srgbClr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9" name="任意多边形 42"/>
          <p:cNvSpPr/>
          <p:nvPr/>
        </p:nvSpPr>
        <p:spPr>
          <a:xfrm flipH="1" rot="5400000">
            <a:off x="6000840" y="3073320"/>
            <a:ext cx="2415960" cy="1013760"/>
          </a:xfrm>
          <a:custGeom>
            <a:avLst/>
            <a:gdLst>
              <a:gd name="textAreaLeft" fmla="*/ -360 w 2415960"/>
              <a:gd name="textAreaRight" fmla="*/ 2415960 w 2415960"/>
              <a:gd name="textAreaTop" fmla="*/ 0 h 1013760"/>
              <a:gd name="textAreaBottom" fmla="*/ 1014120 h 1013760"/>
            </a:gdLst>
            <a:ahLst/>
            <a:rect l="textAreaLeft" t="textAreaTop" r="textAreaRight" b="textAreaBottom"/>
            <a:pathLst>
              <a:path w="513901" h="637954">
                <a:moveTo>
                  <a:pt x="0" y="637954"/>
                </a:moveTo>
                <a:cubicBezTo>
                  <a:pt x="0" y="138224"/>
                  <a:pt x="563525" y="520995"/>
                  <a:pt x="510363" y="0"/>
                </a:cubicBezTo>
              </a:path>
            </a:pathLst>
          </a:custGeom>
          <a:noFill/>
          <a:ln w="19050">
            <a:solidFill>
              <a:srgbClr val="5b9bd5">
                <a:lumMod val="50000"/>
              </a:srgbClr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0" name="TextBox 119"/>
          <p:cNvSpPr/>
          <p:nvPr/>
        </p:nvSpPr>
        <p:spPr>
          <a:xfrm>
            <a:off x="1482120" y="2121120"/>
            <a:ext cx="155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根据情境矩阵判断基本情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19"/>
          <p:cNvSpPr/>
          <p:nvPr/>
        </p:nvSpPr>
        <p:spPr>
          <a:xfrm>
            <a:off x="808200" y="4509360"/>
            <a:ext cx="166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谈判情境、风格和策略的匹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19"/>
          <p:cNvSpPr/>
          <p:nvPr/>
        </p:nvSpPr>
        <p:spPr>
          <a:xfrm>
            <a:off x="4988880" y="2100240"/>
            <a:ext cx="15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从对方角度来审视谈判情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9"/>
          <p:cNvSpPr/>
          <p:nvPr/>
        </p:nvSpPr>
        <p:spPr>
          <a:xfrm>
            <a:off x="4204440" y="4545000"/>
            <a:ext cx="182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确定以什么方式与对方交流最合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19"/>
          <p:cNvSpPr/>
          <p:nvPr/>
        </p:nvSpPr>
        <p:spPr>
          <a:xfrm>
            <a:off x="7612200" y="2864880"/>
            <a:ext cx="112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制定你的谈判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5"/>
          <p:cNvSpPr/>
          <p:nvPr/>
        </p:nvSpPr>
        <p:spPr>
          <a:xfrm>
            <a:off x="875160" y="2277360"/>
            <a:ext cx="310680" cy="230760"/>
          </a:xfrm>
          <a:custGeom>
            <a:avLst/>
            <a:gdLst>
              <a:gd name="textAreaLeft" fmla="*/ 0 w 310680"/>
              <a:gd name="textAreaRight" fmla="*/ 311040 w 310680"/>
              <a:gd name="textAreaTop" fmla="*/ 0 h 230760"/>
              <a:gd name="textAreaBottom" fmla="*/ 231120 h 230760"/>
            </a:gdLst>
            <a:ahLst/>
            <a:rect l="textAreaLeft" t="textAreaTop" r="textAreaRight" b="textAreaBottom"/>
            <a:pathLst>
              <a:path w="83" h="82">
                <a:moveTo>
                  <a:pt x="12" y="0"/>
                </a:moveTo>
                <a:cubicBezTo>
                  <a:pt x="14" y="0"/>
                  <a:pt x="14" y="0"/>
                  <a:pt x="14" y="0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4"/>
                  <a:pt x="18" y="28"/>
                  <a:pt x="23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63" y="28"/>
                  <a:pt x="67" y="24"/>
                  <a:pt x="67" y="19"/>
                </a:cubicBezTo>
                <a:cubicBezTo>
                  <a:pt x="67" y="0"/>
                  <a:pt x="67" y="0"/>
                  <a:pt x="67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83" y="16"/>
                  <a:pt x="83" y="16"/>
                  <a:pt x="83" y="16"/>
                </a:cubicBezTo>
                <a:cubicBezTo>
                  <a:pt x="83" y="70"/>
                  <a:pt x="83" y="70"/>
                  <a:pt x="83" y="70"/>
                </a:cubicBezTo>
                <a:cubicBezTo>
                  <a:pt x="83" y="76"/>
                  <a:pt x="77" y="82"/>
                  <a:pt x="71" y="82"/>
                </a:cubicBezTo>
                <a:cubicBezTo>
                  <a:pt x="12" y="82"/>
                  <a:pt x="12" y="82"/>
                  <a:pt x="12" y="82"/>
                </a:cubicBezTo>
                <a:cubicBezTo>
                  <a:pt x="6" y="82"/>
                  <a:pt x="0" y="76"/>
                  <a:pt x="0" y="7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6" y="0"/>
                  <a:pt x="12" y="0"/>
                </a:cubicBezTo>
                <a:close/>
                <a:moveTo>
                  <a:pt x="22" y="4"/>
                </a:moveTo>
                <a:cubicBezTo>
                  <a:pt x="22" y="20"/>
                  <a:pt x="22" y="20"/>
                  <a:pt x="22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4"/>
                  <a:pt x="33" y="4"/>
                  <a:pt x="33" y="4"/>
                </a:cubicBezTo>
                <a:cubicBezTo>
                  <a:pt x="22" y="4"/>
                  <a:pt x="22" y="4"/>
                  <a:pt x="22" y="4"/>
                </a:cubicBezTo>
                <a:close/>
                <a:moveTo>
                  <a:pt x="8" y="67"/>
                </a:moveTo>
                <a:cubicBezTo>
                  <a:pt x="8" y="73"/>
                  <a:pt x="8" y="73"/>
                  <a:pt x="8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13" y="67"/>
                  <a:pt x="13" y="67"/>
                  <a:pt x="13" y="67"/>
                </a:cubicBezTo>
                <a:cubicBezTo>
                  <a:pt x="8" y="67"/>
                  <a:pt x="8" y="67"/>
                  <a:pt x="8" y="67"/>
                </a:cubicBezTo>
                <a:close/>
                <a:moveTo>
                  <a:pt x="69" y="67"/>
                </a:moveTo>
                <a:cubicBezTo>
                  <a:pt x="69" y="73"/>
                  <a:pt x="69" y="73"/>
                  <a:pt x="69" y="73"/>
                </a:cubicBezTo>
                <a:cubicBezTo>
                  <a:pt x="74" y="73"/>
                  <a:pt x="74" y="73"/>
                  <a:pt x="74" y="73"/>
                </a:cubicBezTo>
                <a:cubicBezTo>
                  <a:pt x="74" y="67"/>
                  <a:pt x="74" y="67"/>
                  <a:pt x="74" y="67"/>
                </a:cubicBezTo>
                <a:lnTo>
                  <a:pt x="69" y="67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22"/>
          <p:cNvSpPr/>
          <p:nvPr/>
        </p:nvSpPr>
        <p:spPr>
          <a:xfrm>
            <a:off x="2674080" y="4628880"/>
            <a:ext cx="261720" cy="303120"/>
          </a:xfrm>
          <a:custGeom>
            <a:avLst/>
            <a:gdLst>
              <a:gd name="textAreaLeft" fmla="*/ 0 w 261720"/>
              <a:gd name="textAreaRight" fmla="*/ 262080 w 2617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70" h="108">
                <a:moveTo>
                  <a:pt x="31" y="20"/>
                </a:moveTo>
                <a:cubicBezTo>
                  <a:pt x="33" y="20"/>
                  <a:pt x="34" y="20"/>
                  <a:pt x="36" y="20"/>
                </a:cubicBezTo>
                <a:cubicBezTo>
                  <a:pt x="42" y="22"/>
                  <a:pt x="48" y="26"/>
                  <a:pt x="51" y="32"/>
                </a:cubicBezTo>
                <a:cubicBezTo>
                  <a:pt x="62" y="51"/>
                  <a:pt x="62" y="51"/>
                  <a:pt x="62" y="51"/>
                </a:cubicBezTo>
                <a:cubicBezTo>
                  <a:pt x="65" y="56"/>
                  <a:pt x="66" y="63"/>
                  <a:pt x="64" y="69"/>
                </a:cubicBezTo>
                <a:cubicBezTo>
                  <a:pt x="64" y="71"/>
                  <a:pt x="63" y="73"/>
                  <a:pt x="63" y="74"/>
                </a:cubicBezTo>
                <a:cubicBezTo>
                  <a:pt x="54" y="60"/>
                  <a:pt x="54" y="60"/>
                  <a:pt x="54" y="60"/>
                </a:cubicBezTo>
                <a:cubicBezTo>
                  <a:pt x="53" y="58"/>
                  <a:pt x="51" y="56"/>
                  <a:pt x="49" y="55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39"/>
                  <a:pt x="41" y="37"/>
                  <a:pt x="40" y="34"/>
                </a:cubicBezTo>
                <a:cubicBezTo>
                  <a:pt x="31" y="20"/>
                  <a:pt x="31" y="20"/>
                  <a:pt x="31" y="20"/>
                </a:cubicBezTo>
                <a:close/>
                <a:moveTo>
                  <a:pt x="39" y="60"/>
                </a:moveTo>
                <a:cubicBezTo>
                  <a:pt x="35" y="62"/>
                  <a:pt x="34" y="67"/>
                  <a:pt x="36" y="70"/>
                </a:cubicBezTo>
                <a:cubicBezTo>
                  <a:pt x="54" y="103"/>
                  <a:pt x="54" y="103"/>
                  <a:pt x="54" y="103"/>
                </a:cubicBezTo>
                <a:cubicBezTo>
                  <a:pt x="57" y="107"/>
                  <a:pt x="61" y="108"/>
                  <a:pt x="65" y="106"/>
                </a:cubicBezTo>
                <a:cubicBezTo>
                  <a:pt x="65" y="106"/>
                  <a:pt x="65" y="106"/>
                  <a:pt x="65" y="106"/>
                </a:cubicBezTo>
                <a:cubicBezTo>
                  <a:pt x="69" y="104"/>
                  <a:pt x="70" y="99"/>
                  <a:pt x="68" y="95"/>
                </a:cubicBezTo>
                <a:cubicBezTo>
                  <a:pt x="49" y="63"/>
                  <a:pt x="49" y="63"/>
                  <a:pt x="49" y="63"/>
                </a:cubicBezTo>
                <a:cubicBezTo>
                  <a:pt x="47" y="59"/>
                  <a:pt x="42" y="57"/>
                  <a:pt x="39" y="60"/>
                </a:cubicBezTo>
                <a:cubicBezTo>
                  <a:pt x="39" y="60"/>
                  <a:pt x="39" y="60"/>
                  <a:pt x="39" y="60"/>
                </a:cubicBezTo>
                <a:close/>
                <a:moveTo>
                  <a:pt x="5" y="2"/>
                </a:moveTo>
                <a:cubicBezTo>
                  <a:pt x="2" y="4"/>
                  <a:pt x="0" y="9"/>
                  <a:pt x="2" y="13"/>
                </a:cubicBezTo>
                <a:cubicBezTo>
                  <a:pt x="21" y="45"/>
                  <a:pt x="21" y="45"/>
                  <a:pt x="21" y="45"/>
                </a:cubicBezTo>
                <a:cubicBezTo>
                  <a:pt x="23" y="49"/>
                  <a:pt x="28" y="50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6" y="46"/>
                  <a:pt x="37" y="41"/>
                  <a:pt x="35" y="37"/>
                </a:cubicBezTo>
                <a:cubicBezTo>
                  <a:pt x="16" y="5"/>
                  <a:pt x="16" y="5"/>
                  <a:pt x="16" y="5"/>
                </a:cubicBezTo>
                <a:cubicBezTo>
                  <a:pt x="14" y="1"/>
                  <a:pt x="9" y="0"/>
                  <a:pt x="5" y="2"/>
                </a:cubicBezTo>
                <a:cubicBezTo>
                  <a:pt x="5" y="2"/>
                  <a:pt x="5" y="2"/>
                  <a:pt x="5" y="2"/>
                </a:cubicBezTo>
                <a:close/>
                <a:moveTo>
                  <a:pt x="39" y="88"/>
                </a:moveTo>
                <a:cubicBezTo>
                  <a:pt x="31" y="73"/>
                  <a:pt x="31" y="73"/>
                  <a:pt x="31" y="73"/>
                </a:cubicBezTo>
                <a:cubicBezTo>
                  <a:pt x="30" y="71"/>
                  <a:pt x="29" y="69"/>
                  <a:pt x="29" y="66"/>
                </a:cubicBezTo>
                <a:cubicBezTo>
                  <a:pt x="22" y="53"/>
                  <a:pt x="22" y="53"/>
                  <a:pt x="22" y="53"/>
                </a:cubicBezTo>
                <a:cubicBezTo>
                  <a:pt x="19" y="52"/>
                  <a:pt x="18" y="50"/>
                  <a:pt x="16" y="48"/>
                </a:cubicBezTo>
                <a:cubicBezTo>
                  <a:pt x="8" y="33"/>
                  <a:pt x="8" y="33"/>
                  <a:pt x="8" y="33"/>
                </a:cubicBezTo>
                <a:cubicBezTo>
                  <a:pt x="7" y="34"/>
                  <a:pt x="6" y="36"/>
                  <a:pt x="6" y="38"/>
                </a:cubicBezTo>
                <a:cubicBezTo>
                  <a:pt x="4" y="44"/>
                  <a:pt x="5" y="51"/>
                  <a:pt x="8" y="57"/>
                </a:cubicBezTo>
                <a:cubicBezTo>
                  <a:pt x="19" y="75"/>
                  <a:pt x="19" y="75"/>
                  <a:pt x="19" y="75"/>
                </a:cubicBezTo>
                <a:cubicBezTo>
                  <a:pt x="22" y="81"/>
                  <a:pt x="28" y="85"/>
                  <a:pt x="34" y="87"/>
                </a:cubicBezTo>
                <a:cubicBezTo>
                  <a:pt x="36" y="87"/>
                  <a:pt x="38" y="88"/>
                  <a:pt x="39" y="88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7"/>
          <p:cNvSpPr/>
          <p:nvPr/>
        </p:nvSpPr>
        <p:spPr>
          <a:xfrm>
            <a:off x="6156000" y="4712040"/>
            <a:ext cx="429840" cy="213840"/>
          </a:xfrm>
          <a:custGeom>
            <a:avLst/>
            <a:gdLst>
              <a:gd name="textAreaLeft" fmla="*/ 0 w 429840"/>
              <a:gd name="textAreaRight" fmla="*/ 430200 w 42984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180"/>
          <p:cNvSpPr/>
          <p:nvPr/>
        </p:nvSpPr>
        <p:spPr>
          <a:xfrm>
            <a:off x="4371120" y="2209320"/>
            <a:ext cx="348480" cy="349920"/>
          </a:xfrm>
          <a:custGeom>
            <a:avLst/>
            <a:gdLst>
              <a:gd name="textAreaLeft" fmla="*/ 0 w 348480"/>
              <a:gd name="textAreaRight" fmla="*/ 348840 w 348480"/>
              <a:gd name="textAreaTop" fmla="*/ 0 h 349920"/>
              <a:gd name="textAreaBottom" fmla="*/ 350280 h 349920"/>
            </a:gdLst>
            <a:ahLst/>
            <a:rect l="textAreaLeft" t="textAreaTop" r="textAreaRight" b="textAreaBottom"/>
            <a:pathLst>
              <a:path w="79" h="79">
                <a:moveTo>
                  <a:pt x="57" y="16"/>
                </a:moveTo>
                <a:cubicBezTo>
                  <a:pt x="53" y="30"/>
                  <a:pt x="53" y="30"/>
                  <a:pt x="53" y="30"/>
                </a:cubicBezTo>
                <a:cubicBezTo>
                  <a:pt x="33" y="11"/>
                  <a:pt x="33" y="11"/>
                  <a:pt x="33" y="11"/>
                </a:cubicBezTo>
                <a:cubicBezTo>
                  <a:pt x="41" y="9"/>
                  <a:pt x="48" y="9"/>
                  <a:pt x="57" y="16"/>
                </a:cubicBezTo>
                <a:close/>
                <a:moveTo>
                  <a:pt x="39" y="0"/>
                </a:moveTo>
                <a:cubicBezTo>
                  <a:pt x="28" y="0"/>
                  <a:pt x="19" y="4"/>
                  <a:pt x="11" y="11"/>
                </a:cubicBezTo>
                <a:cubicBezTo>
                  <a:pt x="4" y="18"/>
                  <a:pt x="0" y="28"/>
                  <a:pt x="0" y="39"/>
                </a:cubicBezTo>
                <a:cubicBezTo>
                  <a:pt x="0" y="50"/>
                  <a:pt x="4" y="60"/>
                  <a:pt x="11" y="67"/>
                </a:cubicBezTo>
                <a:cubicBezTo>
                  <a:pt x="19" y="74"/>
                  <a:pt x="28" y="79"/>
                  <a:pt x="39" y="79"/>
                </a:cubicBezTo>
                <a:cubicBezTo>
                  <a:pt x="50" y="79"/>
                  <a:pt x="60" y="74"/>
                  <a:pt x="67" y="67"/>
                </a:cubicBezTo>
                <a:cubicBezTo>
                  <a:pt x="75" y="60"/>
                  <a:pt x="79" y="50"/>
                  <a:pt x="79" y="39"/>
                </a:cubicBezTo>
                <a:cubicBezTo>
                  <a:pt x="79" y="28"/>
                  <a:pt x="75" y="18"/>
                  <a:pt x="67" y="11"/>
                </a:cubicBezTo>
                <a:cubicBezTo>
                  <a:pt x="60" y="4"/>
                  <a:pt x="50" y="0"/>
                  <a:pt x="39" y="0"/>
                </a:cubicBezTo>
                <a:close/>
                <a:moveTo>
                  <a:pt x="63" y="16"/>
                </a:moveTo>
                <a:cubicBezTo>
                  <a:pt x="57" y="10"/>
                  <a:pt x="49" y="6"/>
                  <a:pt x="39" y="6"/>
                </a:cubicBezTo>
                <a:cubicBezTo>
                  <a:pt x="30" y="6"/>
                  <a:pt x="22" y="10"/>
                  <a:pt x="16" y="16"/>
                </a:cubicBezTo>
                <a:cubicBezTo>
                  <a:pt x="10" y="22"/>
                  <a:pt x="6" y="30"/>
                  <a:pt x="6" y="39"/>
                </a:cubicBezTo>
                <a:cubicBezTo>
                  <a:pt x="6" y="48"/>
                  <a:pt x="10" y="57"/>
                  <a:pt x="16" y="63"/>
                </a:cubicBezTo>
                <a:cubicBezTo>
                  <a:pt x="22" y="69"/>
                  <a:pt x="30" y="73"/>
                  <a:pt x="39" y="73"/>
                </a:cubicBezTo>
                <a:cubicBezTo>
                  <a:pt x="49" y="73"/>
                  <a:pt x="57" y="69"/>
                  <a:pt x="63" y="63"/>
                </a:cubicBezTo>
                <a:cubicBezTo>
                  <a:pt x="69" y="57"/>
                  <a:pt x="73" y="48"/>
                  <a:pt x="73" y="39"/>
                </a:cubicBezTo>
                <a:cubicBezTo>
                  <a:pt x="73" y="30"/>
                  <a:pt x="69" y="22"/>
                  <a:pt x="63" y="16"/>
                </a:cubicBezTo>
                <a:close/>
                <a:moveTo>
                  <a:pt x="28" y="13"/>
                </a:moveTo>
                <a:cubicBezTo>
                  <a:pt x="18" y="17"/>
                  <a:pt x="14" y="24"/>
                  <a:pt x="12" y="31"/>
                </a:cubicBezTo>
                <a:cubicBezTo>
                  <a:pt x="40" y="25"/>
                  <a:pt x="40" y="25"/>
                  <a:pt x="40" y="25"/>
                </a:cubicBezTo>
                <a:cubicBezTo>
                  <a:pt x="28" y="13"/>
                  <a:pt x="28" y="13"/>
                  <a:pt x="28" y="13"/>
                </a:cubicBezTo>
                <a:close/>
                <a:moveTo>
                  <a:pt x="11" y="36"/>
                </a:moveTo>
                <a:cubicBezTo>
                  <a:pt x="28" y="32"/>
                  <a:pt x="28" y="32"/>
                  <a:pt x="28" y="32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4"/>
                  <a:pt x="10" y="47"/>
                  <a:pt x="11" y="36"/>
                </a:cubicBezTo>
                <a:close/>
                <a:moveTo>
                  <a:pt x="23" y="63"/>
                </a:moveTo>
                <a:cubicBezTo>
                  <a:pt x="28" y="47"/>
                  <a:pt x="28" y="47"/>
                  <a:pt x="28" y="47"/>
                </a:cubicBezTo>
                <a:cubicBezTo>
                  <a:pt x="47" y="68"/>
                  <a:pt x="47" y="68"/>
                  <a:pt x="47" y="68"/>
                </a:cubicBezTo>
                <a:cubicBezTo>
                  <a:pt x="39" y="69"/>
                  <a:pt x="32" y="69"/>
                  <a:pt x="23" y="63"/>
                </a:cubicBezTo>
                <a:close/>
                <a:moveTo>
                  <a:pt x="51" y="65"/>
                </a:moveTo>
                <a:cubicBezTo>
                  <a:pt x="40" y="54"/>
                  <a:pt x="40" y="54"/>
                  <a:pt x="40" y="54"/>
                </a:cubicBezTo>
                <a:cubicBezTo>
                  <a:pt x="67" y="47"/>
                  <a:pt x="67" y="47"/>
                  <a:pt x="67" y="47"/>
                </a:cubicBezTo>
                <a:cubicBezTo>
                  <a:pt x="65" y="55"/>
                  <a:pt x="61" y="61"/>
                  <a:pt x="51" y="65"/>
                </a:cubicBezTo>
                <a:close/>
                <a:moveTo>
                  <a:pt x="68" y="42"/>
                </a:moveTo>
                <a:cubicBezTo>
                  <a:pt x="69" y="31"/>
                  <a:pt x="66" y="25"/>
                  <a:pt x="61" y="19"/>
                </a:cubicBezTo>
                <a:cubicBezTo>
                  <a:pt x="53" y="46"/>
                  <a:pt x="53" y="46"/>
                  <a:pt x="53" y="46"/>
                </a:cubicBezTo>
                <a:lnTo>
                  <a:pt x="68" y="42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02960" rIns="102960" tIns="51480" bIns="5148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439" name="Freeform 34"/>
          <p:cNvSpPr/>
          <p:nvPr/>
        </p:nvSpPr>
        <p:spPr>
          <a:xfrm>
            <a:off x="7886520" y="2250000"/>
            <a:ext cx="374400" cy="308160"/>
          </a:xfrm>
          <a:custGeom>
            <a:avLst/>
            <a:gdLst>
              <a:gd name="textAreaLeft" fmla="*/ 0 w 374400"/>
              <a:gd name="textAreaRight" fmla="*/ 374760 w 3744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00" h="110">
                <a:moveTo>
                  <a:pt x="23" y="0"/>
                </a:moveTo>
                <a:cubicBezTo>
                  <a:pt x="65" y="0"/>
                  <a:pt x="65" y="0"/>
                  <a:pt x="65" y="0"/>
                </a:cubicBezTo>
                <a:cubicBezTo>
                  <a:pt x="68" y="0"/>
                  <a:pt x="71" y="1"/>
                  <a:pt x="74" y="4"/>
                </a:cubicBezTo>
                <a:cubicBezTo>
                  <a:pt x="76" y="6"/>
                  <a:pt x="77" y="9"/>
                  <a:pt x="77" y="12"/>
                </a:cubicBezTo>
                <a:cubicBezTo>
                  <a:pt x="77" y="35"/>
                  <a:pt x="77" y="35"/>
                  <a:pt x="77" y="35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12"/>
                  <a:pt x="68" y="12"/>
                  <a:pt x="68" y="12"/>
                </a:cubicBezTo>
                <a:cubicBezTo>
                  <a:pt x="68" y="11"/>
                  <a:pt x="68" y="11"/>
                  <a:pt x="67" y="10"/>
                </a:cubicBezTo>
                <a:cubicBezTo>
                  <a:pt x="67" y="10"/>
                  <a:pt x="66" y="9"/>
                  <a:pt x="65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7"/>
                  <a:pt x="28" y="18"/>
                  <a:pt x="28" y="19"/>
                </a:cubicBezTo>
                <a:cubicBezTo>
                  <a:pt x="28" y="21"/>
                  <a:pt x="27" y="23"/>
                  <a:pt x="25" y="24"/>
                </a:cubicBezTo>
                <a:cubicBezTo>
                  <a:pt x="24" y="25"/>
                  <a:pt x="23" y="26"/>
                  <a:pt x="21" y="26"/>
                </a:cubicBezTo>
                <a:cubicBezTo>
                  <a:pt x="20" y="26"/>
                  <a:pt x="19" y="26"/>
                  <a:pt x="18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85"/>
                  <a:pt x="9" y="85"/>
                  <a:pt x="9" y="85"/>
                </a:cubicBezTo>
                <a:cubicBezTo>
                  <a:pt x="9" y="86"/>
                  <a:pt x="10" y="86"/>
                  <a:pt x="10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11" y="87"/>
                  <a:pt x="11" y="88"/>
                  <a:pt x="12" y="88"/>
                </a:cubicBezTo>
                <a:cubicBezTo>
                  <a:pt x="45" y="88"/>
                  <a:pt x="45" y="88"/>
                  <a:pt x="45" y="88"/>
                </a:cubicBezTo>
                <a:cubicBezTo>
                  <a:pt x="44" y="97"/>
                  <a:pt x="44" y="97"/>
                  <a:pt x="44" y="97"/>
                </a:cubicBezTo>
                <a:cubicBezTo>
                  <a:pt x="12" y="97"/>
                  <a:pt x="12" y="97"/>
                  <a:pt x="12" y="97"/>
                </a:cubicBezTo>
                <a:cubicBezTo>
                  <a:pt x="9" y="97"/>
                  <a:pt x="6" y="96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2" y="91"/>
                  <a:pt x="0" y="88"/>
                  <a:pt x="0" y="8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0"/>
                  <a:pt x="0" y="20"/>
                  <a:pt x="0" y="20"/>
                </a:cubicBezTo>
                <a:cubicBezTo>
                  <a:pt x="2" y="19"/>
                  <a:pt x="2" y="19"/>
                  <a:pt x="2" y="19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3" y="0"/>
                  <a:pt x="23" y="0"/>
                </a:cubicBezTo>
                <a:close/>
                <a:moveTo>
                  <a:pt x="90" y="45"/>
                </a:moveTo>
                <a:cubicBezTo>
                  <a:pt x="90" y="43"/>
                  <a:pt x="90" y="43"/>
                  <a:pt x="90" y="43"/>
                </a:cubicBezTo>
                <a:cubicBezTo>
                  <a:pt x="84" y="39"/>
                  <a:pt x="84" y="39"/>
                  <a:pt x="84" y="39"/>
                </a:cubicBezTo>
                <a:cubicBezTo>
                  <a:pt x="75" y="44"/>
                  <a:pt x="75" y="44"/>
                  <a:pt x="75" y="44"/>
                </a:cubicBezTo>
                <a:cubicBezTo>
                  <a:pt x="83" y="47"/>
                  <a:pt x="83" y="47"/>
                  <a:pt x="83" y="47"/>
                </a:cubicBezTo>
                <a:cubicBezTo>
                  <a:pt x="91" y="52"/>
                  <a:pt x="91" y="52"/>
                  <a:pt x="91" y="52"/>
                </a:cubicBezTo>
                <a:cubicBezTo>
                  <a:pt x="94" y="53"/>
                  <a:pt x="94" y="53"/>
                  <a:pt x="94" y="53"/>
                </a:cubicBezTo>
                <a:cubicBezTo>
                  <a:pt x="92" y="62"/>
                  <a:pt x="88" y="70"/>
                  <a:pt x="82" y="77"/>
                </a:cubicBezTo>
                <a:cubicBezTo>
                  <a:pt x="86" y="81"/>
                  <a:pt x="86" y="81"/>
                  <a:pt x="86" y="81"/>
                </a:cubicBezTo>
                <a:cubicBezTo>
                  <a:pt x="93" y="73"/>
                  <a:pt x="98" y="63"/>
                  <a:pt x="10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98" y="50"/>
                  <a:pt x="98" y="50"/>
                  <a:pt x="98" y="50"/>
                </a:cubicBezTo>
                <a:cubicBezTo>
                  <a:pt x="90" y="45"/>
                  <a:pt x="90" y="45"/>
                  <a:pt x="90" y="45"/>
                </a:cubicBezTo>
                <a:close/>
                <a:moveTo>
                  <a:pt x="74" y="47"/>
                </a:moveTo>
                <a:cubicBezTo>
                  <a:pt x="64" y="58"/>
                  <a:pt x="58" y="70"/>
                  <a:pt x="54" y="84"/>
                </a:cubicBezTo>
                <a:cubicBezTo>
                  <a:pt x="59" y="86"/>
                  <a:pt x="64" y="89"/>
                  <a:pt x="70" y="92"/>
                </a:cubicBezTo>
                <a:cubicBezTo>
                  <a:pt x="78" y="81"/>
                  <a:pt x="85" y="68"/>
                  <a:pt x="90" y="55"/>
                </a:cubicBezTo>
                <a:cubicBezTo>
                  <a:pt x="84" y="52"/>
                  <a:pt x="79" y="50"/>
                  <a:pt x="74" y="47"/>
                </a:cubicBezTo>
                <a:close/>
                <a:moveTo>
                  <a:pt x="52" y="87"/>
                </a:moveTo>
                <a:cubicBezTo>
                  <a:pt x="50" y="103"/>
                  <a:pt x="50" y="103"/>
                  <a:pt x="50" y="103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50" y="108"/>
                  <a:pt x="50" y="108"/>
                  <a:pt x="50" y="108"/>
                </a:cubicBezTo>
                <a:cubicBezTo>
                  <a:pt x="52" y="110"/>
                  <a:pt x="52" y="110"/>
                  <a:pt x="52" y="110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68" y="95"/>
                  <a:pt x="68" y="95"/>
                  <a:pt x="68" y="95"/>
                </a:cubicBezTo>
                <a:cubicBezTo>
                  <a:pt x="52" y="87"/>
                  <a:pt x="52" y="87"/>
                  <a:pt x="52" y="87"/>
                </a:cubicBezTo>
                <a:close/>
                <a:moveTo>
                  <a:pt x="18" y="56"/>
                </a:moveTo>
                <a:cubicBezTo>
                  <a:pt x="18" y="60"/>
                  <a:pt x="18" y="60"/>
                  <a:pt x="18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0" y="56"/>
                  <a:pt x="30" y="56"/>
                  <a:pt x="30" y="56"/>
                </a:cubicBezTo>
                <a:cubicBezTo>
                  <a:pt x="18" y="56"/>
                  <a:pt x="18" y="56"/>
                  <a:pt x="18" y="56"/>
                </a:cubicBezTo>
                <a:close/>
                <a:moveTo>
                  <a:pt x="18" y="43"/>
                </a:moveTo>
                <a:cubicBezTo>
                  <a:pt x="18" y="48"/>
                  <a:pt x="18" y="48"/>
                  <a:pt x="18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60" y="43"/>
                  <a:pt x="60" y="43"/>
                  <a:pt x="60" y="43"/>
                </a:cubicBezTo>
                <a:cubicBezTo>
                  <a:pt x="18" y="43"/>
                  <a:pt x="18" y="43"/>
                  <a:pt x="18" y="43"/>
                </a:cubicBezTo>
                <a:close/>
                <a:moveTo>
                  <a:pt x="18" y="31"/>
                </a:moveTo>
                <a:cubicBezTo>
                  <a:pt x="18" y="36"/>
                  <a:pt x="18" y="36"/>
                  <a:pt x="18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0" y="31"/>
                  <a:pt x="60" y="31"/>
                  <a:pt x="60" y="31"/>
                </a:cubicBezTo>
                <a:cubicBezTo>
                  <a:pt x="18" y="31"/>
                  <a:pt x="18" y="31"/>
                  <a:pt x="18" y="31"/>
                </a:cubicBezTo>
                <a:close/>
                <a:moveTo>
                  <a:pt x="37" y="19"/>
                </a:moveTo>
                <a:cubicBezTo>
                  <a:pt x="37" y="24"/>
                  <a:pt x="37" y="24"/>
                  <a:pt x="37" y="24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9"/>
                  <a:pt x="60" y="19"/>
                  <a:pt x="60" y="19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12" y="21"/>
                </a:moveTo>
                <a:cubicBezTo>
                  <a:pt x="14" y="21"/>
                  <a:pt x="14" y="21"/>
                  <a:pt x="14" y="21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19" y="22"/>
                  <a:pt x="19" y="22"/>
                  <a:pt x="20" y="22"/>
                </a:cubicBezTo>
                <a:cubicBezTo>
                  <a:pt x="21" y="22"/>
                  <a:pt x="22" y="21"/>
                  <a:pt x="22" y="20"/>
                </a:cubicBezTo>
                <a:cubicBezTo>
                  <a:pt x="23" y="20"/>
                  <a:pt x="24" y="19"/>
                  <a:pt x="24" y="18"/>
                </a:cubicBezTo>
                <a:cubicBezTo>
                  <a:pt x="24" y="18"/>
                  <a:pt x="24" y="17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6"/>
                  <a:pt x="24" y="16"/>
                  <a:pt x="24" y="16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lnTo>
                  <a:pt x="12" y="21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8"/>
          <p:cNvGrpSpPr/>
          <p:nvPr/>
        </p:nvGrpSpPr>
        <p:grpSpPr>
          <a:xfrm>
            <a:off x="223920" y="0"/>
            <a:ext cx="8919720" cy="624960"/>
            <a:chOff x="223920" y="0"/>
            <a:chExt cx="8919720" cy="624960"/>
          </a:xfrm>
        </p:grpSpPr>
        <p:grpSp>
          <p:nvGrpSpPr>
            <p:cNvPr id="441" name="组合 7"/>
            <p:cNvGrpSpPr/>
            <p:nvPr/>
          </p:nvGrpSpPr>
          <p:grpSpPr>
            <a:xfrm>
              <a:off x="1691640" y="0"/>
              <a:ext cx="7452000" cy="624960"/>
              <a:chOff x="1691640" y="0"/>
              <a:chExt cx="7452000" cy="624960"/>
            </a:xfrm>
          </p:grpSpPr>
          <p:sp>
            <p:nvSpPr>
              <p:cNvPr id="442" name="矩形 5"/>
              <p:cNvSpPr/>
              <p:nvPr/>
            </p:nvSpPr>
            <p:spPr>
              <a:xfrm>
                <a:off x="1691640" y="0"/>
                <a:ext cx="4464000" cy="62496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43" name="矩形 4"/>
              <p:cNvSpPr/>
              <p:nvPr/>
            </p:nvSpPr>
            <p:spPr>
              <a:xfrm>
                <a:off x="3996000" y="0"/>
                <a:ext cx="3849480" cy="624960"/>
              </a:xfrm>
              <a:prstGeom prst="rect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44" name="图片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0984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5" name="文本框 6"/>
            <p:cNvSpPr/>
            <p:nvPr/>
          </p:nvSpPr>
          <p:spPr>
            <a:xfrm>
              <a:off x="223920" y="101880"/>
              <a:ext cx="1260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accent1">
                      <a:lumMod val="50000"/>
                    </a:schemeClr>
                  </a:solidFill>
                  <a:latin typeface="Broadway"/>
                </a:rPr>
                <a:t>Step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矩形 9"/>
          <p:cNvSpPr/>
          <p:nvPr/>
        </p:nvSpPr>
        <p:spPr>
          <a:xfrm>
            <a:off x="158760" y="623880"/>
            <a:ext cx="246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7"/>
          <p:cNvGrpSpPr/>
          <p:nvPr/>
        </p:nvGrpSpPr>
        <p:grpSpPr>
          <a:xfrm>
            <a:off x="1029240" y="101880"/>
            <a:ext cx="3628800" cy="1439640"/>
            <a:chOff x="1029240" y="101880"/>
            <a:chExt cx="3628800" cy="1439640"/>
          </a:xfrm>
        </p:grpSpPr>
        <p:grpSp>
          <p:nvGrpSpPr>
            <p:cNvPr id="448" name="组合 18"/>
            <p:cNvGrpSpPr/>
            <p:nvPr/>
          </p:nvGrpSpPr>
          <p:grpSpPr>
            <a:xfrm>
              <a:off x="1029240" y="204840"/>
              <a:ext cx="3628800" cy="1336680"/>
              <a:chOff x="1029240" y="204840"/>
              <a:chExt cx="3628800" cy="1336680"/>
            </a:xfrm>
          </p:grpSpPr>
          <p:cxnSp>
            <p:nvCxnSpPr>
              <p:cNvPr id="449" name="直接连接符 20"/>
              <p:cNvCxnSpPr/>
              <p:nvPr/>
            </p:nvCxnSpPr>
            <p:spPr>
              <a:xfrm>
                <a:off x="2843640" y="204840"/>
                <a:ext cx="747360" cy="308880"/>
              </a:xfrm>
              <a:prstGeom prst="straightConnector1">
                <a:avLst/>
              </a:prstGeom>
              <a:ln w="38100">
                <a:solidFill>
                  <a:srgbClr val="0e3757"/>
                </a:solidFill>
              </a:ln>
            </p:spPr>
          </p:cxnSp>
          <p:cxnSp>
            <p:nvCxnSpPr>
              <p:cNvPr id="450" name="直接连接符 21"/>
              <p:cNvCxnSpPr/>
              <p:nvPr/>
            </p:nvCxnSpPr>
            <p:spPr>
              <a:xfrm flipH="1">
                <a:off x="2096640" y="204840"/>
                <a:ext cx="747360" cy="308880"/>
              </a:xfrm>
              <a:prstGeom prst="straightConnector1">
                <a:avLst/>
              </a:prstGeom>
              <a:ln w="38100">
                <a:solidFill>
                  <a:srgbClr val="0e3757"/>
                </a:solidFill>
              </a:ln>
            </p:spPr>
          </p:cxnSp>
          <p:sp>
            <p:nvSpPr>
              <p:cNvPr id="451" name="矩形 22"/>
              <p:cNvSpPr/>
              <p:nvPr/>
            </p:nvSpPr>
            <p:spPr>
              <a:xfrm>
                <a:off x="1029240" y="513360"/>
                <a:ext cx="3628800" cy="102816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52" name="矩形 23"/>
              <p:cNvSpPr/>
              <p:nvPr/>
            </p:nvSpPr>
            <p:spPr>
              <a:xfrm>
                <a:off x="1255320" y="622440"/>
                <a:ext cx="3177000" cy="81072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53" name="TextBox 16"/>
              <p:cNvSpPr/>
              <p:nvPr/>
            </p:nvSpPr>
            <p:spPr>
              <a:xfrm>
                <a:off x="1368000" y="772560"/>
                <a:ext cx="31770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准备策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椭圆 19"/>
            <p:cNvSpPr/>
            <p:nvPr/>
          </p:nvSpPr>
          <p:spPr>
            <a:xfrm>
              <a:off x="2751120" y="101880"/>
              <a:ext cx="205200" cy="205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55" name="矩形 25"/>
          <p:cNvSpPr/>
          <p:nvPr/>
        </p:nvSpPr>
        <p:spPr>
          <a:xfrm>
            <a:off x="1687320" y="2791080"/>
            <a:ext cx="3145320" cy="114876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①</a:t>
            </a:r>
            <a:r>
              <a:rPr b="1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平衡考虑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（商业伙伴、合资公司或合并）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最优策略：解决问题或妥协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6"/>
          <p:cNvSpPr/>
          <p:nvPr/>
        </p:nvSpPr>
        <p:spPr>
          <a:xfrm>
            <a:off x="1676880" y="4168080"/>
            <a:ext cx="3145320" cy="114876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③</a:t>
            </a:r>
            <a:r>
              <a:rPr b="1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交易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（离婚、售房或市场交易）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最优策略：竞争、解决问题或妥协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7"/>
          <p:cNvSpPr/>
          <p:nvPr/>
        </p:nvSpPr>
        <p:spPr>
          <a:xfrm>
            <a:off x="5092560" y="2791080"/>
            <a:ext cx="3145320" cy="114876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②</a:t>
            </a:r>
            <a:r>
              <a:rPr b="1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关系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（婚姻、朋友关系或工作团队）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最优策略：迁就、解决问题或妥协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8"/>
          <p:cNvSpPr/>
          <p:nvPr/>
        </p:nvSpPr>
        <p:spPr>
          <a:xfrm>
            <a:off x="5097960" y="4168080"/>
            <a:ext cx="3145320" cy="114876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④</a:t>
            </a:r>
            <a:r>
              <a:rPr b="1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默认协作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（公路十字路口或飞机座位）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最优策略：回避、迁就或妥协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2"/>
          <p:cNvSpPr/>
          <p:nvPr/>
        </p:nvSpPr>
        <p:spPr>
          <a:xfrm flipH="1">
            <a:off x="385920" y="3032640"/>
            <a:ext cx="6134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各方对未来关系重要性的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33"/>
          <p:cNvSpPr/>
          <p:nvPr/>
        </p:nvSpPr>
        <p:spPr>
          <a:xfrm flipH="1">
            <a:off x="3790440" y="1886400"/>
            <a:ext cx="2649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各方对利益冲突的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角三角形 2"/>
          <p:cNvSpPr/>
          <p:nvPr/>
        </p:nvSpPr>
        <p:spPr>
          <a:xfrm rot="10800000">
            <a:off x="1113480" y="2886480"/>
            <a:ext cx="314280" cy="2563920"/>
          </a:xfrm>
          <a:prstGeom prst="rtTriangle">
            <a:avLst/>
          </a:prstGeom>
          <a:pattFill prst="ltUpDiag">
            <a:fgClr>
              <a:srgbClr val="44546a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2" name="直角三角形 34"/>
          <p:cNvSpPr/>
          <p:nvPr/>
        </p:nvSpPr>
        <p:spPr>
          <a:xfrm flipH="1" rot="5400000">
            <a:off x="4798080" y="-859680"/>
            <a:ext cx="307800" cy="6550560"/>
          </a:xfrm>
          <a:prstGeom prst="rtTriangle">
            <a:avLst/>
          </a:prstGeom>
          <a:pattFill prst="ltUpDiag">
            <a:fgClr>
              <a:srgbClr val="44546a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3" name="矩形 1"/>
          <p:cNvSpPr/>
          <p:nvPr/>
        </p:nvSpPr>
        <p:spPr>
          <a:xfrm>
            <a:off x="1084680" y="2206440"/>
            <a:ext cx="424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情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矩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组合 3"/>
          <p:cNvGrpSpPr/>
          <p:nvPr/>
        </p:nvGrpSpPr>
        <p:grpSpPr>
          <a:xfrm>
            <a:off x="223920" y="0"/>
            <a:ext cx="8919720" cy="624960"/>
            <a:chOff x="223920" y="0"/>
            <a:chExt cx="8919720" cy="624960"/>
          </a:xfrm>
        </p:grpSpPr>
        <p:grpSp>
          <p:nvGrpSpPr>
            <p:cNvPr id="465" name="组合 4"/>
            <p:cNvGrpSpPr/>
            <p:nvPr/>
          </p:nvGrpSpPr>
          <p:grpSpPr>
            <a:xfrm>
              <a:off x="1691640" y="0"/>
              <a:ext cx="7452000" cy="624960"/>
              <a:chOff x="1691640" y="0"/>
              <a:chExt cx="7452000" cy="624960"/>
            </a:xfrm>
          </p:grpSpPr>
          <p:sp>
            <p:nvSpPr>
              <p:cNvPr id="466" name="矩形 6"/>
              <p:cNvSpPr/>
              <p:nvPr/>
            </p:nvSpPr>
            <p:spPr>
              <a:xfrm>
                <a:off x="1691640" y="0"/>
                <a:ext cx="4464000" cy="62496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矩形 7"/>
              <p:cNvSpPr/>
              <p:nvPr/>
            </p:nvSpPr>
            <p:spPr>
              <a:xfrm>
                <a:off x="3996000" y="0"/>
                <a:ext cx="3849480" cy="624960"/>
              </a:xfrm>
              <a:prstGeom prst="rect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68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0984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9" name="文本框 5"/>
            <p:cNvSpPr/>
            <p:nvPr/>
          </p:nvSpPr>
          <p:spPr>
            <a:xfrm>
              <a:off x="223920" y="101880"/>
              <a:ext cx="1260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accent1">
                      <a:lumMod val="50000"/>
                    </a:schemeClr>
                  </a:solidFill>
                  <a:latin typeface="Broadway"/>
                </a:rPr>
                <a:t>Step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组合 17"/>
          <p:cNvGrpSpPr/>
          <p:nvPr/>
        </p:nvGrpSpPr>
        <p:grpSpPr>
          <a:xfrm>
            <a:off x="1029240" y="101880"/>
            <a:ext cx="3628800" cy="1439640"/>
            <a:chOff x="1029240" y="101880"/>
            <a:chExt cx="3628800" cy="1439640"/>
          </a:xfrm>
        </p:grpSpPr>
        <p:grpSp>
          <p:nvGrpSpPr>
            <p:cNvPr id="471" name="组合 18"/>
            <p:cNvGrpSpPr/>
            <p:nvPr/>
          </p:nvGrpSpPr>
          <p:grpSpPr>
            <a:xfrm>
              <a:off x="1029240" y="204840"/>
              <a:ext cx="3628800" cy="1336680"/>
              <a:chOff x="1029240" y="204840"/>
              <a:chExt cx="3628800" cy="1336680"/>
            </a:xfrm>
          </p:grpSpPr>
          <p:cxnSp>
            <p:nvCxnSpPr>
              <p:cNvPr id="472" name="直接连接符 20"/>
              <p:cNvCxnSpPr/>
              <p:nvPr/>
            </p:nvCxnSpPr>
            <p:spPr>
              <a:xfrm>
                <a:off x="2843640" y="204840"/>
                <a:ext cx="747360" cy="308880"/>
              </a:xfrm>
              <a:prstGeom prst="straightConnector1">
                <a:avLst/>
              </a:prstGeom>
              <a:ln w="38100">
                <a:solidFill>
                  <a:srgbClr val="0e3757"/>
                </a:solidFill>
              </a:ln>
            </p:spPr>
          </p:cxnSp>
          <p:cxnSp>
            <p:nvCxnSpPr>
              <p:cNvPr id="473" name="直接连接符 21"/>
              <p:cNvCxnSpPr/>
              <p:nvPr/>
            </p:nvCxnSpPr>
            <p:spPr>
              <a:xfrm flipH="1">
                <a:off x="2096640" y="204840"/>
                <a:ext cx="747360" cy="308880"/>
              </a:xfrm>
              <a:prstGeom prst="straightConnector1">
                <a:avLst/>
              </a:prstGeom>
              <a:ln w="38100">
                <a:solidFill>
                  <a:srgbClr val="0e3757"/>
                </a:solidFill>
              </a:ln>
            </p:spPr>
          </p:cxnSp>
          <p:sp>
            <p:nvSpPr>
              <p:cNvPr id="474" name="矩形 22"/>
              <p:cNvSpPr/>
              <p:nvPr/>
            </p:nvSpPr>
            <p:spPr>
              <a:xfrm>
                <a:off x="1029240" y="513360"/>
                <a:ext cx="3628800" cy="102816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5" name="矩形 23"/>
              <p:cNvSpPr/>
              <p:nvPr/>
            </p:nvSpPr>
            <p:spPr>
              <a:xfrm>
                <a:off x="1255320" y="622440"/>
                <a:ext cx="3177000" cy="81072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6" name="TextBox 16"/>
              <p:cNvSpPr/>
              <p:nvPr/>
            </p:nvSpPr>
            <p:spPr>
              <a:xfrm>
                <a:off x="1368000" y="772560"/>
                <a:ext cx="31770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交换信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椭圆 19"/>
            <p:cNvSpPr/>
            <p:nvPr/>
          </p:nvSpPr>
          <p:spPr>
            <a:xfrm>
              <a:off x="2751120" y="101880"/>
              <a:ext cx="205200" cy="205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78" name="空心弧 1"/>
          <p:cNvSpPr/>
          <p:nvPr/>
        </p:nvSpPr>
        <p:spPr>
          <a:xfrm>
            <a:off x="2096640" y="3446640"/>
            <a:ext cx="4750200" cy="4536000"/>
          </a:xfrm>
          <a:prstGeom prst="blockArc">
            <a:avLst>
              <a:gd name="adj1" fmla="val 10815913"/>
              <a:gd name="adj2" fmla="val 21599996"/>
              <a:gd name="adj3" fmla="val 16042"/>
            </a:avLst>
          </a:prstGeom>
          <a:pattFill prst="ltDnDiag">
            <a:fgClr>
              <a:srgbClr val="1f4e79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椭圆 26"/>
          <p:cNvSpPr/>
          <p:nvPr/>
        </p:nvSpPr>
        <p:spPr>
          <a:xfrm>
            <a:off x="1828080" y="390240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0" name="椭圆 29"/>
          <p:cNvSpPr/>
          <p:nvPr/>
        </p:nvSpPr>
        <p:spPr>
          <a:xfrm>
            <a:off x="4011120" y="287640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椭圆 32"/>
          <p:cNvSpPr/>
          <p:nvPr/>
        </p:nvSpPr>
        <p:spPr>
          <a:xfrm>
            <a:off x="6198840" y="390672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TextBox 119"/>
          <p:cNvSpPr/>
          <p:nvPr/>
        </p:nvSpPr>
        <p:spPr>
          <a:xfrm>
            <a:off x="429120" y="3149640"/>
            <a:ext cx="2229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留意谈判桌上的情绪或气氛，营造友好气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19"/>
          <p:cNvSpPr/>
          <p:nvPr/>
        </p:nvSpPr>
        <p:spPr>
          <a:xfrm>
            <a:off x="3543480" y="2077560"/>
            <a:ext cx="2229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获得关于对方的利益、问题和认知的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19"/>
          <p:cNvSpPr/>
          <p:nvPr/>
        </p:nvSpPr>
        <p:spPr>
          <a:xfrm>
            <a:off x="6400080" y="3149640"/>
            <a:ext cx="2229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表明自己的期望和优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19"/>
          <p:cNvSpPr/>
          <p:nvPr/>
        </p:nvSpPr>
        <p:spPr>
          <a:xfrm>
            <a:off x="3621960" y="4505400"/>
            <a:ext cx="1779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在信息交换阶段要达到的三个主要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41"/>
          <p:cNvSpPr/>
          <p:nvPr/>
        </p:nvSpPr>
        <p:spPr>
          <a:xfrm>
            <a:off x="1995840" y="410220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1">
                    <a:lumMod val="50000"/>
                  </a:schemeClr>
                </a:solidFill>
                <a:latin typeface="Broadway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42"/>
          <p:cNvSpPr/>
          <p:nvPr/>
        </p:nvSpPr>
        <p:spPr>
          <a:xfrm>
            <a:off x="4183920" y="305748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1">
                    <a:lumMod val="50000"/>
                  </a:schemeClr>
                </a:solidFill>
                <a:latin typeface="Broadway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43"/>
          <p:cNvSpPr/>
          <p:nvPr/>
        </p:nvSpPr>
        <p:spPr>
          <a:xfrm>
            <a:off x="6366240" y="410220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1">
                    <a:lumMod val="50000"/>
                  </a:schemeClr>
                </a:solidFill>
                <a:latin typeface="Broadway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2"/>
          <a:srcRect l="2757" t="0" r="7208" b="57688"/>
          <a:stretch/>
        </p:blipFill>
        <p:spPr>
          <a:xfrm flipH="1" rot="14400000">
            <a:off x="1403640" y="2785320"/>
            <a:ext cx="2358000" cy="96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" descr=""/>
          <p:cNvPicPr/>
          <p:nvPr/>
        </p:nvPicPr>
        <p:blipFill>
          <a:blip r:embed="rId3"/>
          <a:srcRect l="2757" t="0" r="7208" b="57688"/>
          <a:stretch/>
        </p:blipFill>
        <p:spPr>
          <a:xfrm flipH="1" rot="18000000">
            <a:off x="5088960" y="2784600"/>
            <a:ext cx="2358000" cy="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组合 3"/>
          <p:cNvGrpSpPr/>
          <p:nvPr/>
        </p:nvGrpSpPr>
        <p:grpSpPr>
          <a:xfrm>
            <a:off x="223920" y="0"/>
            <a:ext cx="8919720" cy="624960"/>
            <a:chOff x="223920" y="0"/>
            <a:chExt cx="8919720" cy="624960"/>
          </a:xfrm>
        </p:grpSpPr>
        <p:grpSp>
          <p:nvGrpSpPr>
            <p:cNvPr id="492" name="组合 4"/>
            <p:cNvGrpSpPr/>
            <p:nvPr/>
          </p:nvGrpSpPr>
          <p:grpSpPr>
            <a:xfrm>
              <a:off x="1691640" y="0"/>
              <a:ext cx="7452000" cy="624960"/>
              <a:chOff x="1691640" y="0"/>
              <a:chExt cx="7452000" cy="624960"/>
            </a:xfrm>
          </p:grpSpPr>
          <p:sp>
            <p:nvSpPr>
              <p:cNvPr id="493" name="矩形 6"/>
              <p:cNvSpPr/>
              <p:nvPr/>
            </p:nvSpPr>
            <p:spPr>
              <a:xfrm>
                <a:off x="1691640" y="0"/>
                <a:ext cx="4464000" cy="62496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矩形 7"/>
              <p:cNvSpPr/>
              <p:nvPr/>
            </p:nvSpPr>
            <p:spPr>
              <a:xfrm>
                <a:off x="3996000" y="0"/>
                <a:ext cx="3849480" cy="624960"/>
              </a:xfrm>
              <a:prstGeom prst="rect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95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0984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6" name="文本框 5"/>
            <p:cNvSpPr/>
            <p:nvPr/>
          </p:nvSpPr>
          <p:spPr>
            <a:xfrm>
              <a:off x="223920" y="101880"/>
              <a:ext cx="1260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accent1">
                      <a:lumMod val="50000"/>
                    </a:schemeClr>
                  </a:solidFill>
                  <a:latin typeface="Broadway"/>
                </a:rPr>
                <a:t>Step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1"/>
          <p:cNvGrpSpPr/>
          <p:nvPr/>
        </p:nvGrpSpPr>
        <p:grpSpPr>
          <a:xfrm>
            <a:off x="611640" y="1345320"/>
            <a:ext cx="7857360" cy="3564000"/>
            <a:chOff x="611640" y="1345320"/>
            <a:chExt cx="7857360" cy="3564000"/>
          </a:xfrm>
        </p:grpSpPr>
        <p:sp>
          <p:nvSpPr>
            <p:cNvPr id="498" name="矩形 34"/>
            <p:cNvSpPr/>
            <p:nvPr/>
          </p:nvSpPr>
          <p:spPr>
            <a:xfrm>
              <a:off x="1913040" y="2250000"/>
              <a:ext cx="3145320" cy="114876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充满信心地提要求，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发出可信的威胁展示的选择，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让对方做决定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35"/>
            <p:cNvSpPr/>
            <p:nvPr/>
          </p:nvSpPr>
          <p:spPr>
            <a:xfrm>
              <a:off x="1902240" y="3627000"/>
              <a:ext cx="3145320" cy="114876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向对方表明你在意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发展双方关系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慷慨待人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36"/>
            <p:cNvSpPr/>
            <p:nvPr/>
          </p:nvSpPr>
          <p:spPr>
            <a:xfrm>
              <a:off x="5318280" y="2250000"/>
              <a:ext cx="3145320" cy="114876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强调未来的不确定性虚张声势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（做出实力强大的样子，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尽管实际力量弱小）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37"/>
            <p:cNvSpPr/>
            <p:nvPr/>
          </p:nvSpPr>
          <p:spPr>
            <a:xfrm>
              <a:off x="5323680" y="3627000"/>
              <a:ext cx="3145320" cy="114876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承认对方实力，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强调未来合作的潜在收益，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1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恳求对方的同情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文本框 38"/>
            <p:cNvSpPr/>
            <p:nvPr/>
          </p:nvSpPr>
          <p:spPr>
            <a:xfrm flipH="1">
              <a:off x="611640" y="2491560"/>
              <a:ext cx="61344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你准备如何运用你的优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文本框 39"/>
            <p:cNvSpPr/>
            <p:nvPr/>
          </p:nvSpPr>
          <p:spPr>
            <a:xfrm flipH="1">
              <a:off x="4015800" y="1345320"/>
              <a:ext cx="26496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你的实际优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直角三角形 40"/>
            <p:cNvSpPr/>
            <p:nvPr/>
          </p:nvSpPr>
          <p:spPr>
            <a:xfrm rot="10800000">
              <a:off x="1338840" y="2345400"/>
              <a:ext cx="314280" cy="2563920"/>
            </a:xfrm>
            <a:prstGeom prst="rtTriangle">
              <a:avLst/>
            </a:prstGeom>
            <a:pattFill prst="ltUpDiag">
              <a:fgClr>
                <a:srgbClr val="44546a"/>
              </a:fgClr>
              <a:bgClr>
                <a:srgbClr val="ffffff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5" name="直角三角形 41"/>
            <p:cNvSpPr/>
            <p:nvPr/>
          </p:nvSpPr>
          <p:spPr>
            <a:xfrm flipH="1" rot="5400000">
              <a:off x="5023440" y="-1400760"/>
              <a:ext cx="307800" cy="6550560"/>
            </a:xfrm>
            <a:prstGeom prst="rtTriangle">
              <a:avLst/>
            </a:prstGeom>
            <a:pattFill prst="ltUpDiag">
              <a:fgClr>
                <a:srgbClr val="44546a"/>
              </a:fgClr>
              <a:bgClr>
                <a:srgbClr val="ffffff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06" name="Text Box 9"/>
          <p:cNvSpPr/>
          <p:nvPr/>
        </p:nvSpPr>
        <p:spPr>
          <a:xfrm>
            <a:off x="682200" y="53218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同心圆 46"/>
          <p:cNvSpPr/>
          <p:nvPr/>
        </p:nvSpPr>
        <p:spPr>
          <a:xfrm>
            <a:off x="5733360" y="2484360"/>
            <a:ext cx="2859480" cy="2859480"/>
          </a:xfrm>
          <a:prstGeom prst="donut">
            <a:avLst>
              <a:gd name="adj" fmla="val 7351"/>
            </a:avLst>
          </a:prstGeom>
          <a:pattFill prst="ltUpDiag">
            <a:fgClr>
              <a:srgbClr val="1f4e79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同心圆 45"/>
          <p:cNvSpPr/>
          <p:nvPr/>
        </p:nvSpPr>
        <p:spPr>
          <a:xfrm>
            <a:off x="3117240" y="2482920"/>
            <a:ext cx="2859480" cy="2859480"/>
          </a:xfrm>
          <a:prstGeom prst="donut">
            <a:avLst>
              <a:gd name="adj" fmla="val 7351"/>
            </a:avLst>
          </a:prstGeom>
          <a:pattFill prst="ltUpDiag">
            <a:fgClr>
              <a:srgbClr val="1f4e79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9" name="组合 3"/>
          <p:cNvGrpSpPr/>
          <p:nvPr/>
        </p:nvGrpSpPr>
        <p:grpSpPr>
          <a:xfrm>
            <a:off x="223920" y="0"/>
            <a:ext cx="8919720" cy="624960"/>
            <a:chOff x="223920" y="0"/>
            <a:chExt cx="8919720" cy="624960"/>
          </a:xfrm>
        </p:grpSpPr>
        <p:grpSp>
          <p:nvGrpSpPr>
            <p:cNvPr id="510" name="组合 4"/>
            <p:cNvGrpSpPr/>
            <p:nvPr/>
          </p:nvGrpSpPr>
          <p:grpSpPr>
            <a:xfrm>
              <a:off x="1691640" y="0"/>
              <a:ext cx="7452000" cy="624960"/>
              <a:chOff x="1691640" y="0"/>
              <a:chExt cx="7452000" cy="624960"/>
            </a:xfrm>
          </p:grpSpPr>
          <p:sp>
            <p:nvSpPr>
              <p:cNvPr id="511" name="矩形 6"/>
              <p:cNvSpPr/>
              <p:nvPr/>
            </p:nvSpPr>
            <p:spPr>
              <a:xfrm>
                <a:off x="1691640" y="0"/>
                <a:ext cx="4464000" cy="62496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12" name="矩形 7"/>
              <p:cNvSpPr/>
              <p:nvPr/>
            </p:nvSpPr>
            <p:spPr>
              <a:xfrm>
                <a:off x="3996000" y="0"/>
                <a:ext cx="3849480" cy="624960"/>
              </a:xfrm>
              <a:prstGeom prst="rect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13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0984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4" name="文本框 5"/>
            <p:cNvSpPr/>
            <p:nvPr/>
          </p:nvSpPr>
          <p:spPr>
            <a:xfrm>
              <a:off x="223920" y="101880"/>
              <a:ext cx="1260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accent1">
                      <a:lumMod val="50000"/>
                    </a:schemeClr>
                  </a:solidFill>
                  <a:latin typeface="Broadway"/>
                </a:rPr>
                <a:t>Step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1"/>
          <p:cNvGrpSpPr/>
          <p:nvPr/>
        </p:nvGrpSpPr>
        <p:grpSpPr>
          <a:xfrm>
            <a:off x="1029240" y="101880"/>
            <a:ext cx="3628800" cy="1439640"/>
            <a:chOff x="1029240" y="101880"/>
            <a:chExt cx="3628800" cy="1439640"/>
          </a:xfrm>
        </p:grpSpPr>
        <p:grpSp>
          <p:nvGrpSpPr>
            <p:cNvPr id="516" name="组合 10"/>
            <p:cNvGrpSpPr/>
            <p:nvPr/>
          </p:nvGrpSpPr>
          <p:grpSpPr>
            <a:xfrm>
              <a:off x="1029240" y="204840"/>
              <a:ext cx="3628800" cy="1336680"/>
              <a:chOff x="1029240" y="204840"/>
              <a:chExt cx="3628800" cy="1336680"/>
            </a:xfrm>
          </p:grpSpPr>
          <p:cxnSp>
            <p:nvCxnSpPr>
              <p:cNvPr id="517" name="直接连接符 11"/>
              <p:cNvCxnSpPr/>
              <p:nvPr/>
            </p:nvCxnSpPr>
            <p:spPr>
              <a:xfrm>
                <a:off x="2843640" y="204840"/>
                <a:ext cx="747360" cy="308880"/>
              </a:xfrm>
              <a:prstGeom prst="straightConnector1">
                <a:avLst/>
              </a:prstGeom>
              <a:ln w="38100">
                <a:solidFill>
                  <a:srgbClr val="0e3757"/>
                </a:solidFill>
              </a:ln>
            </p:spPr>
          </p:cxnSp>
          <p:cxnSp>
            <p:nvCxnSpPr>
              <p:cNvPr id="518" name="直接连接符 12"/>
              <p:cNvCxnSpPr/>
              <p:nvPr/>
            </p:nvCxnSpPr>
            <p:spPr>
              <a:xfrm flipH="1">
                <a:off x="2096640" y="204840"/>
                <a:ext cx="747360" cy="308880"/>
              </a:xfrm>
              <a:prstGeom prst="straightConnector1">
                <a:avLst/>
              </a:prstGeom>
              <a:ln w="38100">
                <a:solidFill>
                  <a:srgbClr val="0e3757"/>
                </a:solidFill>
              </a:ln>
            </p:spPr>
          </p:cxnSp>
          <p:sp>
            <p:nvSpPr>
              <p:cNvPr id="519" name="矩形 14"/>
              <p:cNvSpPr/>
              <p:nvPr/>
            </p:nvSpPr>
            <p:spPr>
              <a:xfrm>
                <a:off x="1029240" y="513360"/>
                <a:ext cx="3628800" cy="102816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" name="矩形 15"/>
              <p:cNvSpPr/>
              <p:nvPr/>
            </p:nvSpPr>
            <p:spPr>
              <a:xfrm>
                <a:off x="1255320" y="622440"/>
                <a:ext cx="3177000" cy="81072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" name="TextBox 16"/>
              <p:cNvSpPr/>
              <p:nvPr/>
            </p:nvSpPr>
            <p:spPr>
              <a:xfrm>
                <a:off x="1368000" y="772560"/>
                <a:ext cx="31770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开始谈判和作出让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椭圆 17"/>
            <p:cNvSpPr/>
            <p:nvPr/>
          </p:nvSpPr>
          <p:spPr>
            <a:xfrm>
              <a:off x="2751120" y="101880"/>
              <a:ext cx="205200" cy="205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23" name="同心圆 24"/>
          <p:cNvSpPr/>
          <p:nvPr/>
        </p:nvSpPr>
        <p:spPr>
          <a:xfrm>
            <a:off x="501120" y="2465280"/>
            <a:ext cx="2859480" cy="2859480"/>
          </a:xfrm>
          <a:prstGeom prst="donut">
            <a:avLst>
              <a:gd name="adj" fmla="val 7351"/>
            </a:avLst>
          </a:prstGeom>
          <a:pattFill prst="ltUpDiag">
            <a:fgClr>
              <a:srgbClr val="1f4e79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4" name="组合 42"/>
          <p:cNvGrpSpPr/>
          <p:nvPr/>
        </p:nvGrpSpPr>
        <p:grpSpPr>
          <a:xfrm>
            <a:off x="6202800" y="1717200"/>
            <a:ext cx="1832400" cy="1984320"/>
            <a:chOff x="6202800" y="1717200"/>
            <a:chExt cx="1832400" cy="1984320"/>
          </a:xfrm>
        </p:grpSpPr>
        <p:grpSp>
          <p:nvGrpSpPr>
            <p:cNvPr id="525" name="组合 23"/>
            <p:cNvGrpSpPr/>
            <p:nvPr/>
          </p:nvGrpSpPr>
          <p:grpSpPr>
            <a:xfrm>
              <a:off x="6202800" y="1869120"/>
              <a:ext cx="1832400" cy="1832400"/>
              <a:chOff x="6202800" y="1869120"/>
              <a:chExt cx="1832400" cy="1832400"/>
            </a:xfrm>
          </p:grpSpPr>
          <p:sp>
            <p:nvSpPr>
              <p:cNvPr id="526" name="泪滴形 18"/>
              <p:cNvSpPr/>
              <p:nvPr/>
            </p:nvSpPr>
            <p:spPr>
              <a:xfrm rot="18900000">
                <a:off x="6471000" y="2137320"/>
                <a:ext cx="1295640" cy="1295640"/>
              </a:xfrm>
              <a:prstGeom prst="teardrop">
                <a:avLst>
                  <a:gd name="adj" fmla="val 100000"/>
                </a:avLst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" name="椭圆 22"/>
              <p:cNvSpPr/>
              <p:nvPr/>
            </p:nvSpPr>
            <p:spPr>
              <a:xfrm rot="5400000">
                <a:off x="6658200" y="2324160"/>
                <a:ext cx="922320" cy="92232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28" name="椭圆 25"/>
            <p:cNvSpPr/>
            <p:nvPr/>
          </p:nvSpPr>
          <p:spPr>
            <a:xfrm rot="12600000">
              <a:off x="6999120" y="1764000"/>
              <a:ext cx="257760" cy="2577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198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9" name="文本框 29"/>
            <p:cNvSpPr/>
            <p:nvPr/>
          </p:nvSpPr>
          <p:spPr>
            <a:xfrm>
              <a:off x="6814080" y="2522880"/>
              <a:ext cx="5864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accent1">
                      <a:lumMod val="50000"/>
                    </a:schemeClr>
                  </a:solidFill>
                  <a:latin typeface="Broadway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Box 119"/>
          <p:cNvSpPr/>
          <p:nvPr/>
        </p:nvSpPr>
        <p:spPr>
          <a:xfrm>
            <a:off x="1149840" y="3477600"/>
            <a:ext cx="22294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判断谈判情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交易情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关系情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平衡考虑情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默认协作情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19"/>
          <p:cNvSpPr/>
          <p:nvPr/>
        </p:nvSpPr>
        <p:spPr>
          <a:xfrm>
            <a:off x="3662280" y="3477600"/>
            <a:ext cx="1836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判断双方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你有能力承担更大损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对方有能力承担更大损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19"/>
          <p:cNvSpPr/>
          <p:nvPr/>
        </p:nvSpPr>
        <p:spPr>
          <a:xfrm>
            <a:off x="6257880" y="3501720"/>
            <a:ext cx="22294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判断双方谈判风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竞争型谈判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合作型谈判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41"/>
          <p:cNvGrpSpPr/>
          <p:nvPr/>
        </p:nvGrpSpPr>
        <p:grpSpPr>
          <a:xfrm>
            <a:off x="3617640" y="1693080"/>
            <a:ext cx="1832400" cy="1986840"/>
            <a:chOff x="3617640" y="1693080"/>
            <a:chExt cx="1832400" cy="1986840"/>
          </a:xfrm>
        </p:grpSpPr>
        <p:grpSp>
          <p:nvGrpSpPr>
            <p:cNvPr id="534" name="组合 34"/>
            <p:cNvGrpSpPr/>
            <p:nvPr/>
          </p:nvGrpSpPr>
          <p:grpSpPr>
            <a:xfrm>
              <a:off x="3617640" y="1847520"/>
              <a:ext cx="1832400" cy="1832400"/>
              <a:chOff x="3617640" y="1847520"/>
              <a:chExt cx="1832400" cy="1832400"/>
            </a:xfrm>
          </p:grpSpPr>
          <p:grpSp>
            <p:nvGrpSpPr>
              <p:cNvPr id="535" name="组合 13"/>
              <p:cNvGrpSpPr/>
              <p:nvPr/>
            </p:nvGrpSpPr>
            <p:grpSpPr>
              <a:xfrm>
                <a:off x="3617640" y="1847520"/>
                <a:ext cx="1832400" cy="1832400"/>
                <a:chOff x="3617640" y="1847520"/>
                <a:chExt cx="1832400" cy="1832400"/>
              </a:xfrm>
            </p:grpSpPr>
            <p:sp>
              <p:nvSpPr>
                <p:cNvPr id="536" name="泪滴形 19"/>
                <p:cNvSpPr/>
                <p:nvPr/>
              </p:nvSpPr>
              <p:spPr>
                <a:xfrm rot="18900000">
                  <a:off x="3885840" y="2115720"/>
                  <a:ext cx="1295640" cy="1295640"/>
                </a:xfrm>
                <a:prstGeom prst="teardrop">
                  <a:avLst>
                    <a:gd name="adj" fmla="val 100000"/>
                  </a:avLst>
                </a:prstGeom>
                <a:solidFill>
                  <a:srgbClr val="5b9bd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7" name="椭圆 21"/>
                <p:cNvSpPr/>
                <p:nvPr/>
              </p:nvSpPr>
              <p:spPr>
                <a:xfrm rot="5400000">
                  <a:off x="4073040" y="2302200"/>
                  <a:ext cx="922320" cy="92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fcfcfc"/>
                    </a:gs>
                  </a:gsLst>
                  <a:lin ang="7200000"/>
                </a:gradFill>
                <a:ln>
                  <a:solidFill>
                    <a:srgbClr val="ffffff"/>
                  </a:solidFill>
                </a:ln>
                <a:effectLst>
                  <a:outerShdw algn="tr" blurRad="254160" dir="8155220" dist="126786" rotWithShape="0">
                    <a:srgbClr val="000000">
                      <a:alpha val="34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38" name="文本框 28"/>
              <p:cNvSpPr/>
              <p:nvPr/>
            </p:nvSpPr>
            <p:spPr>
              <a:xfrm>
                <a:off x="4242960" y="249156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chemeClr val="accent1">
                        <a:lumMod val="50000"/>
                      </a:schemeClr>
                    </a:solidFill>
                    <a:latin typeface="Broadway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椭圆 35"/>
            <p:cNvSpPr/>
            <p:nvPr/>
          </p:nvSpPr>
          <p:spPr>
            <a:xfrm rot="12600000">
              <a:off x="4415760" y="1739880"/>
              <a:ext cx="257760" cy="2577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198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40" name="组合 40"/>
          <p:cNvGrpSpPr/>
          <p:nvPr/>
        </p:nvGrpSpPr>
        <p:grpSpPr>
          <a:xfrm>
            <a:off x="1032480" y="1674360"/>
            <a:ext cx="1832400" cy="1983240"/>
            <a:chOff x="1032480" y="1674360"/>
            <a:chExt cx="1832400" cy="1983240"/>
          </a:xfrm>
        </p:grpSpPr>
        <p:grpSp>
          <p:nvGrpSpPr>
            <p:cNvPr id="541" name="组合 39"/>
            <p:cNvGrpSpPr/>
            <p:nvPr/>
          </p:nvGrpSpPr>
          <p:grpSpPr>
            <a:xfrm>
              <a:off x="1032480" y="1825200"/>
              <a:ext cx="1832400" cy="1832400"/>
              <a:chOff x="1032480" y="1825200"/>
              <a:chExt cx="1832400" cy="1832400"/>
            </a:xfrm>
          </p:grpSpPr>
          <p:grpSp>
            <p:nvGrpSpPr>
              <p:cNvPr id="542" name="组合 9"/>
              <p:cNvGrpSpPr/>
              <p:nvPr/>
            </p:nvGrpSpPr>
            <p:grpSpPr>
              <a:xfrm>
                <a:off x="1032480" y="1825200"/>
                <a:ext cx="1832400" cy="1832400"/>
                <a:chOff x="1032480" y="1825200"/>
                <a:chExt cx="1832400" cy="1832400"/>
              </a:xfrm>
            </p:grpSpPr>
            <p:sp>
              <p:nvSpPr>
                <p:cNvPr id="543" name="泪滴形 2"/>
                <p:cNvSpPr/>
                <p:nvPr/>
              </p:nvSpPr>
              <p:spPr>
                <a:xfrm rot="18900000">
                  <a:off x="1300680" y="2093400"/>
                  <a:ext cx="1295640" cy="1295640"/>
                </a:xfrm>
                <a:prstGeom prst="teardrop">
                  <a:avLst>
                    <a:gd name="adj" fmla="val 100000"/>
                  </a:avLst>
                </a:prstGeom>
                <a:solidFill>
                  <a:srgbClr val="5b9bd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4" name="椭圆 20"/>
                <p:cNvSpPr/>
                <p:nvPr/>
              </p:nvSpPr>
              <p:spPr>
                <a:xfrm rot="5400000">
                  <a:off x="1494360" y="2263680"/>
                  <a:ext cx="922320" cy="92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fcfcfc"/>
                    </a:gs>
                  </a:gsLst>
                  <a:lin ang="7200000"/>
                </a:gradFill>
                <a:ln>
                  <a:solidFill>
                    <a:srgbClr val="ffffff"/>
                  </a:solidFill>
                </a:ln>
                <a:effectLst>
                  <a:outerShdw algn="tr" blurRad="254160" dir="8155220" dist="126786" rotWithShape="0">
                    <a:srgbClr val="000000">
                      <a:alpha val="34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5" name="文本框 27"/>
              <p:cNvSpPr/>
              <p:nvPr/>
            </p:nvSpPr>
            <p:spPr>
              <a:xfrm>
                <a:off x="1655640" y="246348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chemeClr val="accent1">
                        <a:lumMod val="50000"/>
                      </a:schemeClr>
                    </a:solidFill>
                    <a:latin typeface="Broadway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椭圆 36"/>
            <p:cNvSpPr/>
            <p:nvPr/>
          </p:nvSpPr>
          <p:spPr>
            <a:xfrm rot="12600000">
              <a:off x="1820160" y="1721160"/>
              <a:ext cx="257760" cy="2577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198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103"/>
          <p:cNvSpPr/>
          <p:nvPr/>
        </p:nvSpPr>
        <p:spPr>
          <a:xfrm>
            <a:off x="6114240" y="1027080"/>
            <a:ext cx="2265480" cy="4367160"/>
          </a:xfrm>
          <a:prstGeom prst="rect">
            <a:avLst/>
          </a:prstGeom>
          <a:solidFill>
            <a:srgbClr val="1f4e7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8" name="矩形 102"/>
          <p:cNvSpPr/>
          <p:nvPr/>
        </p:nvSpPr>
        <p:spPr>
          <a:xfrm>
            <a:off x="3742560" y="1027080"/>
            <a:ext cx="2265480" cy="4367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9" name="矩形 101"/>
          <p:cNvSpPr/>
          <p:nvPr/>
        </p:nvSpPr>
        <p:spPr>
          <a:xfrm>
            <a:off x="1360440" y="1027080"/>
            <a:ext cx="2265480" cy="436716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50" name="组合 3"/>
          <p:cNvGrpSpPr/>
          <p:nvPr/>
        </p:nvGrpSpPr>
        <p:grpSpPr>
          <a:xfrm>
            <a:off x="223920" y="0"/>
            <a:ext cx="8919720" cy="624960"/>
            <a:chOff x="223920" y="0"/>
            <a:chExt cx="8919720" cy="624960"/>
          </a:xfrm>
        </p:grpSpPr>
        <p:grpSp>
          <p:nvGrpSpPr>
            <p:cNvPr id="551" name="组合 4"/>
            <p:cNvGrpSpPr/>
            <p:nvPr/>
          </p:nvGrpSpPr>
          <p:grpSpPr>
            <a:xfrm>
              <a:off x="1691640" y="0"/>
              <a:ext cx="7452000" cy="624960"/>
              <a:chOff x="1691640" y="0"/>
              <a:chExt cx="7452000" cy="624960"/>
            </a:xfrm>
          </p:grpSpPr>
          <p:sp>
            <p:nvSpPr>
              <p:cNvPr id="552" name="矩形 6"/>
              <p:cNvSpPr/>
              <p:nvPr/>
            </p:nvSpPr>
            <p:spPr>
              <a:xfrm>
                <a:off x="1691640" y="0"/>
                <a:ext cx="4464000" cy="62496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53" name="矩形 7"/>
              <p:cNvSpPr/>
              <p:nvPr/>
            </p:nvSpPr>
            <p:spPr>
              <a:xfrm>
                <a:off x="3996000" y="0"/>
                <a:ext cx="3849480" cy="624960"/>
              </a:xfrm>
              <a:prstGeom prst="rect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54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0984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5" name="文本框 5"/>
            <p:cNvSpPr/>
            <p:nvPr/>
          </p:nvSpPr>
          <p:spPr>
            <a:xfrm>
              <a:off x="223920" y="101880"/>
              <a:ext cx="1260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accent1">
                      <a:lumMod val="50000"/>
                    </a:schemeClr>
                  </a:solidFill>
                  <a:latin typeface="Broadway"/>
                </a:rPr>
                <a:t>Step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Box 119"/>
          <p:cNvSpPr/>
          <p:nvPr/>
        </p:nvSpPr>
        <p:spPr>
          <a:xfrm>
            <a:off x="1528920" y="1776240"/>
            <a:ext cx="2043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存有疑虑，保持沉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信息充足，先开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2"/>
          <a:srcRect l="2757" t="0" r="7208" b="57688"/>
          <a:stretch/>
        </p:blipFill>
        <p:spPr>
          <a:xfrm flipH="1" rot="10800000">
            <a:off x="1309680" y="5395320"/>
            <a:ext cx="7056360" cy="1616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19"/>
          <p:cNvSpPr/>
          <p:nvPr/>
        </p:nvSpPr>
        <p:spPr>
          <a:xfrm>
            <a:off x="1525320" y="2755800"/>
            <a:ext cx="2043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存有疑虑，保持沉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信息充足，先开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19"/>
          <p:cNvSpPr/>
          <p:nvPr/>
        </p:nvSpPr>
        <p:spPr>
          <a:xfrm>
            <a:off x="1270800" y="3873240"/>
            <a:ext cx="2229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19"/>
          <p:cNvSpPr/>
          <p:nvPr/>
        </p:nvSpPr>
        <p:spPr>
          <a:xfrm>
            <a:off x="1533960" y="4740480"/>
            <a:ext cx="204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的，可能的话，尽量避免冲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19"/>
          <p:cNvSpPr/>
          <p:nvPr/>
        </p:nvSpPr>
        <p:spPr>
          <a:xfrm>
            <a:off x="3762720" y="1764360"/>
            <a:ext cx="22154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只要有过得去的依据，就可以提出最苛刻的要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19"/>
          <p:cNvSpPr/>
          <p:nvPr/>
        </p:nvSpPr>
        <p:spPr>
          <a:xfrm>
            <a:off x="3791160" y="2783880"/>
            <a:ext cx="2148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如果有坚定的依据，可以提最强硬的要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19"/>
          <p:cNvSpPr/>
          <p:nvPr/>
        </p:nvSpPr>
        <p:spPr>
          <a:xfrm>
            <a:off x="3700800" y="3883680"/>
            <a:ext cx="2229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慷慨待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19"/>
          <p:cNvSpPr/>
          <p:nvPr/>
        </p:nvSpPr>
        <p:spPr>
          <a:xfrm>
            <a:off x="3862440" y="4781880"/>
            <a:ext cx="2077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尽最大的能力解决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19"/>
          <p:cNvSpPr/>
          <p:nvPr/>
        </p:nvSpPr>
        <p:spPr>
          <a:xfrm>
            <a:off x="6181200" y="1776240"/>
            <a:ext cx="2071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慢慢让步，幅度逐步减小，止步于预期水平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19"/>
          <p:cNvSpPr/>
          <p:nvPr/>
        </p:nvSpPr>
        <p:spPr>
          <a:xfrm>
            <a:off x="6181200" y="2759400"/>
            <a:ext cx="221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问题大让步，大问题小让步。提供多个构思巧妙的选项和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19"/>
          <p:cNvSpPr/>
          <p:nvPr/>
        </p:nvSpPr>
        <p:spPr>
          <a:xfrm>
            <a:off x="6129000" y="3883680"/>
            <a:ext cx="221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迁就对方或者公平的解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19"/>
          <p:cNvSpPr/>
          <p:nvPr/>
        </p:nvSpPr>
        <p:spPr>
          <a:xfrm>
            <a:off x="6196320" y="4774320"/>
            <a:ext cx="221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迁就对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98"/>
          <p:cNvSpPr/>
          <p:nvPr/>
        </p:nvSpPr>
        <p:spPr>
          <a:xfrm>
            <a:off x="1360440" y="1027080"/>
            <a:ext cx="2275200" cy="44604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应该先提要求吗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99"/>
          <p:cNvSpPr/>
          <p:nvPr/>
        </p:nvSpPr>
        <p:spPr>
          <a:xfrm>
            <a:off x="3731760" y="1027080"/>
            <a:ext cx="2275200" cy="44604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如何先提要求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00"/>
          <p:cNvSpPr/>
          <p:nvPr/>
        </p:nvSpPr>
        <p:spPr>
          <a:xfrm>
            <a:off x="6111360" y="1029600"/>
            <a:ext cx="2275200" cy="44604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让步策略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04"/>
          <p:cNvSpPr/>
          <p:nvPr/>
        </p:nvSpPr>
        <p:spPr>
          <a:xfrm>
            <a:off x="391320" y="1736280"/>
            <a:ext cx="964440" cy="503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交易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05"/>
          <p:cNvSpPr/>
          <p:nvPr/>
        </p:nvSpPr>
        <p:spPr>
          <a:xfrm>
            <a:off x="391320" y="2743920"/>
            <a:ext cx="964440" cy="503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平衡考虑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06"/>
          <p:cNvSpPr/>
          <p:nvPr/>
        </p:nvSpPr>
        <p:spPr>
          <a:xfrm>
            <a:off x="391320" y="4759560"/>
            <a:ext cx="964440" cy="503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默认协作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07"/>
          <p:cNvSpPr/>
          <p:nvPr/>
        </p:nvSpPr>
        <p:spPr>
          <a:xfrm>
            <a:off x="391320" y="3751920"/>
            <a:ext cx="964440" cy="503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1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关系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圆角矩形 22"/>
          <p:cNvSpPr/>
          <p:nvPr/>
        </p:nvSpPr>
        <p:spPr>
          <a:xfrm>
            <a:off x="1362600" y="3790440"/>
            <a:ext cx="2813400" cy="1350000"/>
          </a:xfrm>
          <a:prstGeom prst="roundRect">
            <a:avLst>
              <a:gd name="adj" fmla="val 16667"/>
            </a:avLst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7" name="圆角矩形 1"/>
          <p:cNvSpPr/>
          <p:nvPr/>
        </p:nvSpPr>
        <p:spPr>
          <a:xfrm>
            <a:off x="1362600" y="2118960"/>
            <a:ext cx="2813400" cy="135000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78" name="组合 3"/>
          <p:cNvGrpSpPr/>
          <p:nvPr/>
        </p:nvGrpSpPr>
        <p:grpSpPr>
          <a:xfrm>
            <a:off x="223920" y="0"/>
            <a:ext cx="8919720" cy="624960"/>
            <a:chOff x="223920" y="0"/>
            <a:chExt cx="8919720" cy="624960"/>
          </a:xfrm>
        </p:grpSpPr>
        <p:grpSp>
          <p:nvGrpSpPr>
            <p:cNvPr id="579" name="组合 4"/>
            <p:cNvGrpSpPr/>
            <p:nvPr/>
          </p:nvGrpSpPr>
          <p:grpSpPr>
            <a:xfrm>
              <a:off x="1691640" y="0"/>
              <a:ext cx="7452000" cy="624960"/>
              <a:chOff x="1691640" y="0"/>
              <a:chExt cx="7452000" cy="624960"/>
            </a:xfrm>
          </p:grpSpPr>
          <p:sp>
            <p:nvSpPr>
              <p:cNvPr id="580" name="矩形 6"/>
              <p:cNvSpPr/>
              <p:nvPr/>
            </p:nvSpPr>
            <p:spPr>
              <a:xfrm>
                <a:off x="1691640" y="0"/>
                <a:ext cx="4464000" cy="62496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1" name="矩形 7"/>
              <p:cNvSpPr/>
              <p:nvPr/>
            </p:nvSpPr>
            <p:spPr>
              <a:xfrm>
                <a:off x="3996000" y="0"/>
                <a:ext cx="3849480" cy="624960"/>
              </a:xfrm>
              <a:prstGeom prst="rect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82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0"/>
                <a:ext cx="4209840" cy="62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3" name="文本框 5"/>
            <p:cNvSpPr/>
            <p:nvPr/>
          </p:nvSpPr>
          <p:spPr>
            <a:xfrm>
              <a:off x="223920" y="101880"/>
              <a:ext cx="1260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accent1">
                      <a:lumMod val="50000"/>
                    </a:schemeClr>
                  </a:solidFill>
                  <a:latin typeface="Broadway"/>
                </a:rPr>
                <a:t>Step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组合 10"/>
          <p:cNvGrpSpPr/>
          <p:nvPr/>
        </p:nvGrpSpPr>
        <p:grpSpPr>
          <a:xfrm>
            <a:off x="1029240" y="103680"/>
            <a:ext cx="3628800" cy="1439640"/>
            <a:chOff x="1029240" y="103680"/>
            <a:chExt cx="3628800" cy="1439640"/>
          </a:xfrm>
        </p:grpSpPr>
        <p:grpSp>
          <p:nvGrpSpPr>
            <p:cNvPr id="585" name="组合 11"/>
            <p:cNvGrpSpPr/>
            <p:nvPr/>
          </p:nvGrpSpPr>
          <p:grpSpPr>
            <a:xfrm>
              <a:off x="1029240" y="206280"/>
              <a:ext cx="3628800" cy="1337040"/>
              <a:chOff x="1029240" y="206280"/>
              <a:chExt cx="3628800" cy="1337040"/>
            </a:xfrm>
          </p:grpSpPr>
          <p:cxnSp>
            <p:nvCxnSpPr>
              <p:cNvPr id="586" name="直接连接符 13"/>
              <p:cNvCxnSpPr/>
              <p:nvPr/>
            </p:nvCxnSpPr>
            <p:spPr>
              <a:xfrm>
                <a:off x="2843640" y="206280"/>
                <a:ext cx="747360" cy="309240"/>
              </a:xfrm>
              <a:prstGeom prst="straightConnector1">
                <a:avLst/>
              </a:prstGeom>
              <a:ln w="38100">
                <a:solidFill>
                  <a:srgbClr val="0e3757"/>
                </a:solidFill>
              </a:ln>
            </p:spPr>
          </p:cxnSp>
          <p:cxnSp>
            <p:nvCxnSpPr>
              <p:cNvPr id="587" name="直接连接符 14"/>
              <p:cNvCxnSpPr/>
              <p:nvPr/>
            </p:nvCxnSpPr>
            <p:spPr>
              <a:xfrm flipH="1">
                <a:off x="2096640" y="206280"/>
                <a:ext cx="747360" cy="309240"/>
              </a:xfrm>
              <a:prstGeom prst="straightConnector1">
                <a:avLst/>
              </a:prstGeom>
              <a:ln w="38100">
                <a:solidFill>
                  <a:srgbClr val="0e3757"/>
                </a:solidFill>
              </a:ln>
            </p:spPr>
          </p:cxnSp>
          <p:sp>
            <p:nvSpPr>
              <p:cNvPr id="588" name="矩形 15"/>
              <p:cNvSpPr/>
              <p:nvPr/>
            </p:nvSpPr>
            <p:spPr>
              <a:xfrm>
                <a:off x="1029240" y="515160"/>
                <a:ext cx="3628800" cy="102816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9" name="矩形 16"/>
              <p:cNvSpPr/>
              <p:nvPr/>
            </p:nvSpPr>
            <p:spPr>
              <a:xfrm>
                <a:off x="1255320" y="624240"/>
                <a:ext cx="3177000" cy="810720"/>
              </a:xfrm>
              <a:prstGeom prst="rect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90" name="TextBox 16"/>
              <p:cNvSpPr/>
              <p:nvPr/>
            </p:nvSpPr>
            <p:spPr>
              <a:xfrm>
                <a:off x="1368000" y="774000"/>
                <a:ext cx="31770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结束谈判并达成协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椭圆 12"/>
            <p:cNvSpPr/>
            <p:nvPr/>
          </p:nvSpPr>
          <p:spPr>
            <a:xfrm>
              <a:off x="2751120" y="103680"/>
              <a:ext cx="205200" cy="205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92" name="椭圆 18"/>
          <p:cNvSpPr/>
          <p:nvPr/>
        </p:nvSpPr>
        <p:spPr>
          <a:xfrm>
            <a:off x="906840" y="195696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交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椭圆 19"/>
          <p:cNvSpPr/>
          <p:nvPr/>
        </p:nvSpPr>
        <p:spPr>
          <a:xfrm>
            <a:off x="906840" y="362880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平衡考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圆角矩形 25"/>
          <p:cNvSpPr/>
          <p:nvPr/>
        </p:nvSpPr>
        <p:spPr>
          <a:xfrm>
            <a:off x="5380560" y="3790440"/>
            <a:ext cx="2813400" cy="135000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5" name="圆角矩形 26"/>
          <p:cNvSpPr/>
          <p:nvPr/>
        </p:nvSpPr>
        <p:spPr>
          <a:xfrm>
            <a:off x="5380560" y="2118960"/>
            <a:ext cx="2813400" cy="1350000"/>
          </a:xfrm>
          <a:prstGeom prst="roundRect">
            <a:avLst>
              <a:gd name="adj" fmla="val 16667"/>
            </a:avLst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6" name="椭圆 27"/>
          <p:cNvSpPr/>
          <p:nvPr/>
        </p:nvSpPr>
        <p:spPr>
          <a:xfrm>
            <a:off x="4924800" y="195696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28"/>
          <p:cNvSpPr/>
          <p:nvPr/>
        </p:nvSpPr>
        <p:spPr>
          <a:xfrm>
            <a:off x="4924800" y="362880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默认协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19"/>
          <p:cNvSpPr/>
          <p:nvPr/>
        </p:nvSpPr>
        <p:spPr>
          <a:xfrm>
            <a:off x="1950840" y="2356560"/>
            <a:ext cx="2071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后期限；退出谈判；最终报价；平分差距；中立的评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19"/>
          <p:cNvSpPr/>
          <p:nvPr/>
        </p:nvSpPr>
        <p:spPr>
          <a:xfrm>
            <a:off x="5966280" y="2356560"/>
            <a:ext cx="2071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分差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迁就对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19"/>
          <p:cNvSpPr/>
          <p:nvPr/>
        </p:nvSpPr>
        <p:spPr>
          <a:xfrm>
            <a:off x="1947240" y="4028400"/>
            <a:ext cx="2071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后期限；退出谈判；最终报价；平分差距；中立的评估；后解决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19"/>
          <p:cNvSpPr/>
          <p:nvPr/>
        </p:nvSpPr>
        <p:spPr>
          <a:xfrm>
            <a:off x="5966280" y="4029120"/>
            <a:ext cx="2071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迁就对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682200" y="53218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3" descr=""/>
          <p:cNvPicPr/>
          <p:nvPr/>
        </p:nvPicPr>
        <p:blipFill>
          <a:blip r:embed="rId1"/>
          <a:srcRect l="0" t="12518" r="611" b="5983"/>
          <a:stretch/>
        </p:blipFill>
        <p:spPr>
          <a:xfrm>
            <a:off x="0" y="0"/>
            <a:ext cx="9143640" cy="4061520"/>
          </a:xfrm>
          <a:prstGeom prst="rect">
            <a:avLst/>
          </a:prstGeom>
          <a:ln w="0">
            <a:noFill/>
          </a:ln>
        </p:spPr>
      </p:pic>
      <p:sp>
        <p:nvSpPr>
          <p:cNvPr id="604" name="文本框 4"/>
          <p:cNvSpPr/>
          <p:nvPr/>
        </p:nvSpPr>
        <p:spPr>
          <a:xfrm>
            <a:off x="2123640" y="1767600"/>
            <a:ext cx="47941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直接连接符 5"/>
          <p:cNvCxnSpPr/>
          <p:nvPr/>
        </p:nvCxnSpPr>
        <p:spPr>
          <a:xfrm>
            <a:off x="809640" y="3001320"/>
            <a:ext cx="767124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606" name="文本框 64"/>
          <p:cNvSpPr/>
          <p:nvPr/>
        </p:nvSpPr>
        <p:spPr>
          <a:xfrm>
            <a:off x="3336120" y="3061080"/>
            <a:ext cx="261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沃顿商学院最实用的谈判课》读书笔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129"/>
          <p:cNvGrpSpPr/>
          <p:nvPr/>
        </p:nvGrpSpPr>
        <p:grpSpPr>
          <a:xfrm>
            <a:off x="4845240" y="4369680"/>
            <a:ext cx="922320" cy="922320"/>
            <a:chOff x="4845240" y="4369680"/>
            <a:chExt cx="922320" cy="922320"/>
          </a:xfrm>
        </p:grpSpPr>
        <p:sp>
          <p:nvSpPr>
            <p:cNvPr id="608" name="椭圆 68"/>
            <p:cNvSpPr/>
            <p:nvPr/>
          </p:nvSpPr>
          <p:spPr>
            <a:xfrm>
              <a:off x="4845240" y="436968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09" name="组合 71"/>
            <p:cNvGrpSpPr/>
            <p:nvPr/>
          </p:nvGrpSpPr>
          <p:grpSpPr>
            <a:xfrm>
              <a:off x="4975920" y="4515480"/>
              <a:ext cx="647280" cy="647280"/>
              <a:chOff x="4975920" y="4515480"/>
              <a:chExt cx="647280" cy="647280"/>
            </a:xfrm>
          </p:grpSpPr>
          <p:sp>
            <p:nvSpPr>
              <p:cNvPr id="610" name="椭圆 72"/>
              <p:cNvSpPr/>
              <p:nvPr/>
            </p:nvSpPr>
            <p:spPr>
              <a:xfrm>
                <a:off x="4975920" y="4515480"/>
                <a:ext cx="647280" cy="647280"/>
              </a:xfrm>
              <a:prstGeom prst="ellipse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611" name="Group 657"/>
              <p:cNvGrpSpPr/>
              <p:nvPr/>
            </p:nvGrpSpPr>
            <p:grpSpPr>
              <a:xfrm>
                <a:off x="5026320" y="4688640"/>
                <a:ext cx="546480" cy="302040"/>
                <a:chOff x="5026320" y="4688640"/>
                <a:chExt cx="546480" cy="302040"/>
              </a:xfrm>
            </p:grpSpPr>
            <p:grpSp>
              <p:nvGrpSpPr>
                <p:cNvPr id="612" name="Group 655"/>
                <p:cNvGrpSpPr/>
                <p:nvPr/>
              </p:nvGrpSpPr>
              <p:grpSpPr>
                <a:xfrm>
                  <a:off x="5026320" y="4688640"/>
                  <a:ext cx="546480" cy="302040"/>
                  <a:chOff x="5026320" y="4688640"/>
                  <a:chExt cx="546480" cy="302040"/>
                </a:xfrm>
              </p:grpSpPr>
              <p:sp>
                <p:nvSpPr>
                  <p:cNvPr id="613" name="Freeform 652"/>
                  <p:cNvSpPr/>
                  <p:nvPr/>
                </p:nvSpPr>
                <p:spPr>
                  <a:xfrm>
                    <a:off x="5026320" y="4688640"/>
                    <a:ext cx="546480" cy="302040"/>
                  </a:xfrm>
                  <a:custGeom>
                    <a:avLst/>
                    <a:gdLst>
                      <a:gd name="textAreaLeft" fmla="*/ 0 w 546480"/>
                      <a:gd name="textAreaRight" fmla="*/ 546840 w 546480"/>
                      <a:gd name="textAreaTop" fmla="*/ 0 h 302040"/>
                      <a:gd name="textAreaBottom" fmla="*/ 302400 h 302040"/>
                    </a:gdLst>
                    <a:ahLst/>
                    <a:rect l="textAreaLeft" t="textAreaTop" r="textAreaRight" b="textAreaBottom"/>
                    <a:pathLst>
                      <a:path w="16875" h="9345">
                        <a:moveTo>
                          <a:pt x="16875" y="4679"/>
                        </a:moveTo>
                        <a:lnTo>
                          <a:pt x="16828" y="4764"/>
                        </a:lnTo>
                        <a:lnTo>
                          <a:pt x="16779" y="4849"/>
                        </a:lnTo>
                        <a:lnTo>
                          <a:pt x="16729" y="4932"/>
                        </a:lnTo>
                        <a:lnTo>
                          <a:pt x="16680" y="5014"/>
                        </a:lnTo>
                        <a:lnTo>
                          <a:pt x="16629" y="5095"/>
                        </a:lnTo>
                        <a:lnTo>
                          <a:pt x="16579" y="5176"/>
                        </a:lnTo>
                        <a:lnTo>
                          <a:pt x="16526" y="5256"/>
                        </a:lnTo>
                        <a:lnTo>
                          <a:pt x="16474" y="5335"/>
                        </a:lnTo>
                        <a:lnTo>
                          <a:pt x="16420" y="5415"/>
                        </a:lnTo>
                        <a:lnTo>
                          <a:pt x="16368" y="5493"/>
                        </a:lnTo>
                        <a:lnTo>
                          <a:pt x="16313" y="5569"/>
                        </a:lnTo>
                        <a:lnTo>
                          <a:pt x="16258" y="5645"/>
                        </a:lnTo>
                        <a:lnTo>
                          <a:pt x="16202" y="5721"/>
                        </a:lnTo>
                        <a:lnTo>
                          <a:pt x="16145" y="5795"/>
                        </a:lnTo>
                        <a:lnTo>
                          <a:pt x="16088" y="5870"/>
                        </a:lnTo>
                        <a:lnTo>
                          <a:pt x="16031" y="5943"/>
                        </a:lnTo>
                        <a:lnTo>
                          <a:pt x="15972" y="6015"/>
                        </a:lnTo>
                        <a:lnTo>
                          <a:pt x="15913" y="6086"/>
                        </a:lnTo>
                        <a:lnTo>
                          <a:pt x="15854" y="6158"/>
                        </a:lnTo>
                        <a:lnTo>
                          <a:pt x="15793" y="6227"/>
                        </a:lnTo>
                        <a:lnTo>
                          <a:pt x="15732" y="6297"/>
                        </a:lnTo>
                        <a:lnTo>
                          <a:pt x="15671" y="6365"/>
                        </a:lnTo>
                        <a:lnTo>
                          <a:pt x="15608" y="6433"/>
                        </a:lnTo>
                        <a:lnTo>
                          <a:pt x="15545" y="6499"/>
                        </a:lnTo>
                        <a:lnTo>
                          <a:pt x="15481" y="6566"/>
                        </a:lnTo>
                        <a:lnTo>
                          <a:pt x="15416" y="6631"/>
                        </a:lnTo>
                        <a:lnTo>
                          <a:pt x="15352" y="6695"/>
                        </a:lnTo>
                        <a:lnTo>
                          <a:pt x="15286" y="6759"/>
                        </a:lnTo>
                        <a:lnTo>
                          <a:pt x="15219" y="6823"/>
                        </a:lnTo>
                        <a:lnTo>
                          <a:pt x="15152" y="6885"/>
                        </a:lnTo>
                        <a:lnTo>
                          <a:pt x="15084" y="6946"/>
                        </a:lnTo>
                        <a:lnTo>
                          <a:pt x="15016" y="7007"/>
                        </a:lnTo>
                        <a:lnTo>
                          <a:pt x="14849" y="7152"/>
                        </a:lnTo>
                        <a:lnTo>
                          <a:pt x="14680" y="7291"/>
                        </a:lnTo>
                        <a:lnTo>
                          <a:pt x="14508" y="7426"/>
                        </a:lnTo>
                        <a:lnTo>
                          <a:pt x="14334" y="7555"/>
                        </a:lnTo>
                        <a:lnTo>
                          <a:pt x="14158" y="7681"/>
                        </a:lnTo>
                        <a:lnTo>
                          <a:pt x="13979" y="7802"/>
                        </a:lnTo>
                        <a:lnTo>
                          <a:pt x="13797" y="7919"/>
                        </a:lnTo>
                        <a:lnTo>
                          <a:pt x="13614" y="8031"/>
                        </a:lnTo>
                        <a:lnTo>
                          <a:pt x="13427" y="8138"/>
                        </a:lnTo>
                        <a:lnTo>
                          <a:pt x="13238" y="8240"/>
                        </a:lnTo>
                        <a:lnTo>
                          <a:pt x="13046" y="8338"/>
                        </a:lnTo>
                        <a:lnTo>
                          <a:pt x="12852" y="8432"/>
                        </a:lnTo>
                        <a:lnTo>
                          <a:pt x="12656" y="8522"/>
                        </a:lnTo>
                        <a:lnTo>
                          <a:pt x="12457" y="8606"/>
                        </a:lnTo>
                        <a:lnTo>
                          <a:pt x="12255" y="8686"/>
                        </a:lnTo>
                        <a:lnTo>
                          <a:pt x="12051" y="8761"/>
                        </a:lnTo>
                        <a:lnTo>
                          <a:pt x="11845" y="8832"/>
                        </a:lnTo>
                        <a:lnTo>
                          <a:pt x="11635" y="8898"/>
                        </a:lnTo>
                        <a:lnTo>
                          <a:pt x="11424" y="8959"/>
                        </a:lnTo>
                        <a:lnTo>
                          <a:pt x="11210" y="9016"/>
                        </a:lnTo>
                        <a:lnTo>
                          <a:pt x="10994" y="9069"/>
                        </a:lnTo>
                        <a:lnTo>
                          <a:pt x="10775" y="9117"/>
                        </a:lnTo>
                        <a:lnTo>
                          <a:pt x="10553" y="9161"/>
                        </a:lnTo>
                        <a:lnTo>
                          <a:pt x="10329" y="9200"/>
                        </a:lnTo>
                        <a:lnTo>
                          <a:pt x="10103" y="9233"/>
                        </a:lnTo>
                        <a:lnTo>
                          <a:pt x="9874" y="9263"/>
                        </a:lnTo>
                        <a:lnTo>
                          <a:pt x="9642" y="9288"/>
                        </a:lnTo>
                        <a:lnTo>
                          <a:pt x="9408" y="9308"/>
                        </a:lnTo>
                        <a:lnTo>
                          <a:pt x="9172" y="9325"/>
                        </a:lnTo>
                        <a:lnTo>
                          <a:pt x="8933" y="9336"/>
                        </a:lnTo>
                        <a:lnTo>
                          <a:pt x="8692" y="9343"/>
                        </a:lnTo>
                        <a:lnTo>
                          <a:pt x="8448" y="9345"/>
                        </a:lnTo>
                        <a:lnTo>
                          <a:pt x="8203" y="9343"/>
                        </a:lnTo>
                        <a:lnTo>
                          <a:pt x="7962" y="9336"/>
                        </a:lnTo>
                        <a:lnTo>
                          <a:pt x="7723" y="9325"/>
                        </a:lnTo>
                        <a:lnTo>
                          <a:pt x="7487" y="9308"/>
                        </a:lnTo>
                        <a:lnTo>
                          <a:pt x="7253" y="9288"/>
                        </a:lnTo>
                        <a:lnTo>
                          <a:pt x="7021" y="9263"/>
                        </a:lnTo>
                        <a:lnTo>
                          <a:pt x="6792" y="9233"/>
                        </a:lnTo>
                        <a:lnTo>
                          <a:pt x="6565" y="9200"/>
                        </a:lnTo>
                        <a:lnTo>
                          <a:pt x="6341" y="9161"/>
                        </a:lnTo>
                        <a:lnTo>
                          <a:pt x="6119" y="9117"/>
                        </a:lnTo>
                        <a:lnTo>
                          <a:pt x="5900" y="9069"/>
                        </a:lnTo>
                        <a:lnTo>
                          <a:pt x="5684" y="9016"/>
                        </a:lnTo>
                        <a:lnTo>
                          <a:pt x="5470" y="8959"/>
                        </a:lnTo>
                        <a:lnTo>
                          <a:pt x="5258" y="8898"/>
                        </a:lnTo>
                        <a:lnTo>
                          <a:pt x="5048" y="8832"/>
                        </a:lnTo>
                        <a:lnTo>
                          <a:pt x="4841" y="8761"/>
                        </a:lnTo>
                        <a:lnTo>
                          <a:pt x="4636" y="8686"/>
                        </a:lnTo>
                        <a:lnTo>
                          <a:pt x="4435" y="8606"/>
                        </a:lnTo>
                        <a:lnTo>
                          <a:pt x="4236" y="8522"/>
                        </a:lnTo>
                        <a:lnTo>
                          <a:pt x="4038" y="8432"/>
                        </a:lnTo>
                        <a:lnTo>
                          <a:pt x="3844" y="8338"/>
                        </a:lnTo>
                        <a:lnTo>
                          <a:pt x="3652" y="8240"/>
                        </a:lnTo>
                        <a:lnTo>
                          <a:pt x="3463" y="8138"/>
                        </a:lnTo>
                        <a:lnTo>
                          <a:pt x="3276" y="8031"/>
                        </a:lnTo>
                        <a:lnTo>
                          <a:pt x="3091" y="7919"/>
                        </a:lnTo>
                        <a:lnTo>
                          <a:pt x="2909" y="7802"/>
                        </a:lnTo>
                        <a:lnTo>
                          <a:pt x="2730" y="7681"/>
                        </a:lnTo>
                        <a:lnTo>
                          <a:pt x="2552" y="7555"/>
                        </a:lnTo>
                        <a:lnTo>
                          <a:pt x="2378" y="7426"/>
                        </a:lnTo>
                        <a:lnTo>
                          <a:pt x="2206" y="7291"/>
                        </a:lnTo>
                        <a:lnTo>
                          <a:pt x="2037" y="7152"/>
                        </a:lnTo>
                        <a:lnTo>
                          <a:pt x="1869" y="7007"/>
                        </a:lnTo>
                        <a:lnTo>
                          <a:pt x="1800" y="6946"/>
                        </a:lnTo>
                        <a:lnTo>
                          <a:pt x="1733" y="6885"/>
                        </a:lnTo>
                        <a:lnTo>
                          <a:pt x="1665" y="6823"/>
                        </a:lnTo>
                        <a:lnTo>
                          <a:pt x="1599" y="6759"/>
                        </a:lnTo>
                        <a:lnTo>
                          <a:pt x="1534" y="6695"/>
                        </a:lnTo>
                        <a:lnTo>
                          <a:pt x="1468" y="6631"/>
                        </a:lnTo>
                        <a:lnTo>
                          <a:pt x="1404" y="6566"/>
                        </a:lnTo>
                        <a:lnTo>
                          <a:pt x="1339" y="6499"/>
                        </a:lnTo>
                        <a:lnTo>
                          <a:pt x="1276" y="6433"/>
                        </a:lnTo>
                        <a:lnTo>
                          <a:pt x="1214" y="6365"/>
                        </a:lnTo>
                        <a:lnTo>
                          <a:pt x="1152" y="6297"/>
                        </a:lnTo>
                        <a:lnTo>
                          <a:pt x="1091" y="6227"/>
                        </a:lnTo>
                        <a:lnTo>
                          <a:pt x="1029" y="6158"/>
                        </a:lnTo>
                        <a:lnTo>
                          <a:pt x="969" y="6086"/>
                        </a:lnTo>
                        <a:lnTo>
                          <a:pt x="910" y="6015"/>
                        </a:lnTo>
                        <a:lnTo>
                          <a:pt x="851" y="5943"/>
                        </a:lnTo>
                        <a:lnTo>
                          <a:pt x="793" y="5870"/>
                        </a:lnTo>
                        <a:lnTo>
                          <a:pt x="736" y="5795"/>
                        </a:lnTo>
                        <a:lnTo>
                          <a:pt x="679" y="5721"/>
                        </a:lnTo>
                        <a:lnTo>
                          <a:pt x="623" y="5645"/>
                        </a:lnTo>
                        <a:lnTo>
                          <a:pt x="567" y="5569"/>
                        </a:lnTo>
                        <a:lnTo>
                          <a:pt x="513" y="5493"/>
                        </a:lnTo>
                        <a:lnTo>
                          <a:pt x="459" y="5415"/>
                        </a:lnTo>
                        <a:lnTo>
                          <a:pt x="405" y="5335"/>
                        </a:lnTo>
                        <a:lnTo>
                          <a:pt x="352" y="5256"/>
                        </a:lnTo>
                        <a:lnTo>
                          <a:pt x="301" y="5176"/>
                        </a:lnTo>
                        <a:lnTo>
                          <a:pt x="249" y="5095"/>
                        </a:lnTo>
                        <a:lnTo>
                          <a:pt x="197" y="5014"/>
                        </a:lnTo>
                        <a:lnTo>
                          <a:pt x="148" y="4932"/>
                        </a:lnTo>
                        <a:lnTo>
                          <a:pt x="97" y="4849"/>
                        </a:lnTo>
                        <a:lnTo>
                          <a:pt x="49" y="4764"/>
                        </a:lnTo>
                        <a:lnTo>
                          <a:pt x="0" y="4679"/>
                        </a:lnTo>
                        <a:lnTo>
                          <a:pt x="49" y="4595"/>
                        </a:lnTo>
                        <a:lnTo>
                          <a:pt x="97" y="4510"/>
                        </a:lnTo>
                        <a:lnTo>
                          <a:pt x="148" y="4426"/>
                        </a:lnTo>
                        <a:lnTo>
                          <a:pt x="197" y="4344"/>
                        </a:lnTo>
                        <a:lnTo>
                          <a:pt x="249" y="4261"/>
                        </a:lnTo>
                        <a:lnTo>
                          <a:pt x="301" y="4180"/>
                        </a:lnTo>
                        <a:lnTo>
                          <a:pt x="352" y="4100"/>
                        </a:lnTo>
                        <a:lnTo>
                          <a:pt x="405" y="4020"/>
                        </a:lnTo>
                        <a:lnTo>
                          <a:pt x="459" y="3941"/>
                        </a:lnTo>
                        <a:lnTo>
                          <a:pt x="513" y="3863"/>
                        </a:lnTo>
                        <a:lnTo>
                          <a:pt x="567" y="3786"/>
                        </a:lnTo>
                        <a:lnTo>
                          <a:pt x="623" y="3709"/>
                        </a:lnTo>
                        <a:lnTo>
                          <a:pt x="679" y="3633"/>
                        </a:lnTo>
                        <a:lnTo>
                          <a:pt x="736" y="3558"/>
                        </a:lnTo>
                        <a:lnTo>
                          <a:pt x="793" y="3484"/>
                        </a:lnTo>
                        <a:lnTo>
                          <a:pt x="851" y="3411"/>
                        </a:lnTo>
                        <a:lnTo>
                          <a:pt x="910" y="3338"/>
                        </a:lnTo>
                        <a:lnTo>
                          <a:pt x="969" y="3265"/>
                        </a:lnTo>
                        <a:lnTo>
                          <a:pt x="1029" y="3195"/>
                        </a:lnTo>
                        <a:lnTo>
                          <a:pt x="1091" y="3124"/>
                        </a:lnTo>
                        <a:lnTo>
                          <a:pt x="1152" y="3055"/>
                        </a:lnTo>
                        <a:lnTo>
                          <a:pt x="1214" y="2986"/>
                        </a:lnTo>
                        <a:lnTo>
                          <a:pt x="1276" y="2918"/>
                        </a:lnTo>
                        <a:lnTo>
                          <a:pt x="1339" y="2850"/>
                        </a:lnTo>
                        <a:lnTo>
                          <a:pt x="1404" y="2784"/>
                        </a:lnTo>
                        <a:lnTo>
                          <a:pt x="1468" y="2717"/>
                        </a:lnTo>
                        <a:lnTo>
                          <a:pt x="1534" y="2652"/>
                        </a:lnTo>
                        <a:lnTo>
                          <a:pt x="1599" y="2588"/>
                        </a:lnTo>
                        <a:lnTo>
                          <a:pt x="1665" y="2524"/>
                        </a:lnTo>
                        <a:lnTo>
                          <a:pt x="1733" y="2461"/>
                        </a:lnTo>
                        <a:lnTo>
                          <a:pt x="1800" y="2399"/>
                        </a:lnTo>
                        <a:lnTo>
                          <a:pt x="1869" y="2338"/>
                        </a:lnTo>
                        <a:lnTo>
                          <a:pt x="2037" y="2194"/>
                        </a:lnTo>
                        <a:lnTo>
                          <a:pt x="2206" y="2054"/>
                        </a:lnTo>
                        <a:lnTo>
                          <a:pt x="2378" y="1919"/>
                        </a:lnTo>
                        <a:lnTo>
                          <a:pt x="2552" y="1790"/>
                        </a:lnTo>
                        <a:lnTo>
                          <a:pt x="2730" y="1664"/>
                        </a:lnTo>
                        <a:lnTo>
                          <a:pt x="2909" y="1543"/>
                        </a:lnTo>
                        <a:lnTo>
                          <a:pt x="3091" y="1426"/>
                        </a:lnTo>
                        <a:lnTo>
                          <a:pt x="3276" y="1314"/>
                        </a:lnTo>
                        <a:lnTo>
                          <a:pt x="3463" y="1207"/>
                        </a:lnTo>
                        <a:lnTo>
                          <a:pt x="3652" y="1105"/>
                        </a:lnTo>
                        <a:lnTo>
                          <a:pt x="3844" y="1007"/>
                        </a:lnTo>
                        <a:lnTo>
                          <a:pt x="4038" y="913"/>
                        </a:lnTo>
                        <a:lnTo>
                          <a:pt x="4236" y="824"/>
                        </a:lnTo>
                        <a:lnTo>
                          <a:pt x="4435" y="739"/>
                        </a:lnTo>
                        <a:lnTo>
                          <a:pt x="4636" y="660"/>
                        </a:lnTo>
                        <a:lnTo>
                          <a:pt x="4841" y="584"/>
                        </a:lnTo>
                        <a:lnTo>
                          <a:pt x="5048" y="513"/>
                        </a:lnTo>
                        <a:lnTo>
                          <a:pt x="5258" y="447"/>
                        </a:lnTo>
                        <a:lnTo>
                          <a:pt x="5470" y="386"/>
                        </a:lnTo>
                        <a:lnTo>
                          <a:pt x="5684" y="329"/>
                        </a:lnTo>
                        <a:lnTo>
                          <a:pt x="5900" y="276"/>
                        </a:lnTo>
                        <a:lnTo>
                          <a:pt x="6119" y="228"/>
                        </a:lnTo>
                        <a:lnTo>
                          <a:pt x="6341" y="184"/>
                        </a:lnTo>
                        <a:lnTo>
                          <a:pt x="6565" y="145"/>
                        </a:lnTo>
                        <a:lnTo>
                          <a:pt x="6792" y="112"/>
                        </a:lnTo>
                        <a:lnTo>
                          <a:pt x="7021" y="82"/>
                        </a:lnTo>
                        <a:lnTo>
                          <a:pt x="7253" y="57"/>
                        </a:lnTo>
                        <a:lnTo>
                          <a:pt x="7487" y="37"/>
                        </a:lnTo>
                        <a:lnTo>
                          <a:pt x="7723" y="20"/>
                        </a:lnTo>
                        <a:lnTo>
                          <a:pt x="7962" y="9"/>
                        </a:lnTo>
                        <a:lnTo>
                          <a:pt x="8203" y="2"/>
                        </a:lnTo>
                        <a:lnTo>
                          <a:pt x="8448" y="0"/>
                        </a:lnTo>
                        <a:lnTo>
                          <a:pt x="8692" y="2"/>
                        </a:lnTo>
                        <a:lnTo>
                          <a:pt x="8933" y="9"/>
                        </a:lnTo>
                        <a:lnTo>
                          <a:pt x="9172" y="20"/>
                        </a:lnTo>
                        <a:lnTo>
                          <a:pt x="9408" y="37"/>
                        </a:lnTo>
                        <a:lnTo>
                          <a:pt x="9642" y="57"/>
                        </a:lnTo>
                        <a:lnTo>
                          <a:pt x="9874" y="82"/>
                        </a:lnTo>
                        <a:lnTo>
                          <a:pt x="10103" y="112"/>
                        </a:lnTo>
                        <a:lnTo>
                          <a:pt x="10329" y="145"/>
                        </a:lnTo>
                        <a:lnTo>
                          <a:pt x="10553" y="184"/>
                        </a:lnTo>
                        <a:lnTo>
                          <a:pt x="10775" y="228"/>
                        </a:lnTo>
                        <a:lnTo>
                          <a:pt x="10994" y="276"/>
                        </a:lnTo>
                        <a:lnTo>
                          <a:pt x="11210" y="329"/>
                        </a:lnTo>
                        <a:lnTo>
                          <a:pt x="11424" y="386"/>
                        </a:lnTo>
                        <a:lnTo>
                          <a:pt x="11635" y="447"/>
                        </a:lnTo>
                        <a:lnTo>
                          <a:pt x="11845" y="513"/>
                        </a:lnTo>
                        <a:lnTo>
                          <a:pt x="12051" y="584"/>
                        </a:lnTo>
                        <a:lnTo>
                          <a:pt x="12255" y="660"/>
                        </a:lnTo>
                        <a:lnTo>
                          <a:pt x="12457" y="739"/>
                        </a:lnTo>
                        <a:lnTo>
                          <a:pt x="12656" y="824"/>
                        </a:lnTo>
                        <a:lnTo>
                          <a:pt x="12852" y="913"/>
                        </a:lnTo>
                        <a:lnTo>
                          <a:pt x="13046" y="1007"/>
                        </a:lnTo>
                        <a:lnTo>
                          <a:pt x="13238" y="1105"/>
                        </a:lnTo>
                        <a:lnTo>
                          <a:pt x="13427" y="1207"/>
                        </a:lnTo>
                        <a:lnTo>
                          <a:pt x="13614" y="1314"/>
                        </a:lnTo>
                        <a:lnTo>
                          <a:pt x="13797" y="1426"/>
                        </a:lnTo>
                        <a:lnTo>
                          <a:pt x="13979" y="1543"/>
                        </a:lnTo>
                        <a:lnTo>
                          <a:pt x="14158" y="1664"/>
                        </a:lnTo>
                        <a:lnTo>
                          <a:pt x="14334" y="1790"/>
                        </a:lnTo>
                        <a:lnTo>
                          <a:pt x="14508" y="1919"/>
                        </a:lnTo>
                        <a:lnTo>
                          <a:pt x="14680" y="2054"/>
                        </a:lnTo>
                        <a:lnTo>
                          <a:pt x="14849" y="2194"/>
                        </a:lnTo>
                        <a:lnTo>
                          <a:pt x="15016" y="2338"/>
                        </a:lnTo>
                        <a:lnTo>
                          <a:pt x="15084" y="2399"/>
                        </a:lnTo>
                        <a:lnTo>
                          <a:pt x="15152" y="2461"/>
                        </a:lnTo>
                        <a:lnTo>
                          <a:pt x="15219" y="2524"/>
                        </a:lnTo>
                        <a:lnTo>
                          <a:pt x="15286" y="2588"/>
                        </a:lnTo>
                        <a:lnTo>
                          <a:pt x="15352" y="2652"/>
                        </a:lnTo>
                        <a:lnTo>
                          <a:pt x="15416" y="2717"/>
                        </a:lnTo>
                        <a:lnTo>
                          <a:pt x="15481" y="2784"/>
                        </a:lnTo>
                        <a:lnTo>
                          <a:pt x="15545" y="2850"/>
                        </a:lnTo>
                        <a:lnTo>
                          <a:pt x="15608" y="2918"/>
                        </a:lnTo>
                        <a:lnTo>
                          <a:pt x="15671" y="2986"/>
                        </a:lnTo>
                        <a:lnTo>
                          <a:pt x="15732" y="3055"/>
                        </a:lnTo>
                        <a:lnTo>
                          <a:pt x="15793" y="3124"/>
                        </a:lnTo>
                        <a:lnTo>
                          <a:pt x="15854" y="3195"/>
                        </a:lnTo>
                        <a:lnTo>
                          <a:pt x="15913" y="3265"/>
                        </a:lnTo>
                        <a:lnTo>
                          <a:pt x="15972" y="3338"/>
                        </a:lnTo>
                        <a:lnTo>
                          <a:pt x="16031" y="3411"/>
                        </a:lnTo>
                        <a:lnTo>
                          <a:pt x="16088" y="3484"/>
                        </a:lnTo>
                        <a:lnTo>
                          <a:pt x="16145" y="3558"/>
                        </a:lnTo>
                        <a:lnTo>
                          <a:pt x="16202" y="3633"/>
                        </a:lnTo>
                        <a:lnTo>
                          <a:pt x="16258" y="3709"/>
                        </a:lnTo>
                        <a:lnTo>
                          <a:pt x="16313" y="3786"/>
                        </a:lnTo>
                        <a:lnTo>
                          <a:pt x="16368" y="3863"/>
                        </a:lnTo>
                        <a:lnTo>
                          <a:pt x="16420" y="3941"/>
                        </a:lnTo>
                        <a:lnTo>
                          <a:pt x="16474" y="4020"/>
                        </a:lnTo>
                        <a:lnTo>
                          <a:pt x="16526" y="4100"/>
                        </a:lnTo>
                        <a:lnTo>
                          <a:pt x="16579" y="4180"/>
                        </a:lnTo>
                        <a:lnTo>
                          <a:pt x="16629" y="4261"/>
                        </a:lnTo>
                        <a:lnTo>
                          <a:pt x="16680" y="4344"/>
                        </a:lnTo>
                        <a:lnTo>
                          <a:pt x="16729" y="4426"/>
                        </a:lnTo>
                        <a:lnTo>
                          <a:pt x="16779" y="4510"/>
                        </a:lnTo>
                        <a:lnTo>
                          <a:pt x="16828" y="4595"/>
                        </a:lnTo>
                        <a:lnTo>
                          <a:pt x="16875" y="4679"/>
                        </a:lnTo>
                        <a:close/>
                        <a:moveTo>
                          <a:pt x="15271" y="4679"/>
                        </a:moveTo>
                        <a:lnTo>
                          <a:pt x="15210" y="4574"/>
                        </a:lnTo>
                        <a:lnTo>
                          <a:pt x="15147" y="4470"/>
                        </a:lnTo>
                        <a:lnTo>
                          <a:pt x="15116" y="4420"/>
                        </a:lnTo>
                        <a:lnTo>
                          <a:pt x="15084" y="4368"/>
                        </a:lnTo>
                        <a:lnTo>
                          <a:pt x="15051" y="4317"/>
                        </a:lnTo>
                        <a:lnTo>
                          <a:pt x="15018" y="4268"/>
                        </a:lnTo>
                        <a:lnTo>
                          <a:pt x="14950" y="4168"/>
                        </a:lnTo>
                        <a:lnTo>
                          <a:pt x="14882" y="4070"/>
                        </a:lnTo>
                        <a:lnTo>
                          <a:pt x="14811" y="3973"/>
                        </a:lnTo>
                        <a:lnTo>
                          <a:pt x="14738" y="3877"/>
                        </a:lnTo>
                        <a:lnTo>
                          <a:pt x="14664" y="3783"/>
                        </a:lnTo>
                        <a:lnTo>
                          <a:pt x="14588" y="3690"/>
                        </a:lnTo>
                        <a:lnTo>
                          <a:pt x="14511" y="3598"/>
                        </a:lnTo>
                        <a:lnTo>
                          <a:pt x="14433" y="3509"/>
                        </a:lnTo>
                        <a:lnTo>
                          <a:pt x="14352" y="3420"/>
                        </a:lnTo>
                        <a:lnTo>
                          <a:pt x="14271" y="3333"/>
                        </a:lnTo>
                        <a:lnTo>
                          <a:pt x="14188" y="3247"/>
                        </a:lnTo>
                        <a:lnTo>
                          <a:pt x="14103" y="3163"/>
                        </a:lnTo>
                        <a:lnTo>
                          <a:pt x="13999" y="3065"/>
                        </a:lnTo>
                        <a:lnTo>
                          <a:pt x="13892" y="2969"/>
                        </a:lnTo>
                        <a:lnTo>
                          <a:pt x="13786" y="2875"/>
                        </a:lnTo>
                        <a:lnTo>
                          <a:pt x="13677" y="2784"/>
                        </a:lnTo>
                        <a:lnTo>
                          <a:pt x="13566" y="2695"/>
                        </a:lnTo>
                        <a:lnTo>
                          <a:pt x="13455" y="2609"/>
                        </a:lnTo>
                        <a:lnTo>
                          <a:pt x="13342" y="2524"/>
                        </a:lnTo>
                        <a:lnTo>
                          <a:pt x="13228" y="2442"/>
                        </a:lnTo>
                        <a:lnTo>
                          <a:pt x="13111" y="2363"/>
                        </a:lnTo>
                        <a:lnTo>
                          <a:pt x="12994" y="2285"/>
                        </a:lnTo>
                        <a:lnTo>
                          <a:pt x="12875" y="2210"/>
                        </a:lnTo>
                        <a:lnTo>
                          <a:pt x="12754" y="2138"/>
                        </a:lnTo>
                        <a:lnTo>
                          <a:pt x="12632" y="2067"/>
                        </a:lnTo>
                        <a:lnTo>
                          <a:pt x="12509" y="1999"/>
                        </a:lnTo>
                        <a:lnTo>
                          <a:pt x="12384" y="1933"/>
                        </a:lnTo>
                        <a:lnTo>
                          <a:pt x="12258" y="1870"/>
                        </a:lnTo>
                        <a:lnTo>
                          <a:pt x="12129" y="1809"/>
                        </a:lnTo>
                        <a:lnTo>
                          <a:pt x="12000" y="1750"/>
                        </a:lnTo>
                        <a:lnTo>
                          <a:pt x="11869" y="1694"/>
                        </a:lnTo>
                        <a:lnTo>
                          <a:pt x="11737" y="1640"/>
                        </a:lnTo>
                        <a:lnTo>
                          <a:pt x="11603" y="1587"/>
                        </a:lnTo>
                        <a:lnTo>
                          <a:pt x="11468" y="1538"/>
                        </a:lnTo>
                        <a:lnTo>
                          <a:pt x="11331" y="1491"/>
                        </a:lnTo>
                        <a:lnTo>
                          <a:pt x="11192" y="1446"/>
                        </a:lnTo>
                        <a:lnTo>
                          <a:pt x="11052" y="1404"/>
                        </a:lnTo>
                        <a:lnTo>
                          <a:pt x="10911" y="1363"/>
                        </a:lnTo>
                        <a:lnTo>
                          <a:pt x="10768" y="1326"/>
                        </a:lnTo>
                        <a:lnTo>
                          <a:pt x="10624" y="1290"/>
                        </a:lnTo>
                        <a:lnTo>
                          <a:pt x="10478" y="1256"/>
                        </a:lnTo>
                        <a:lnTo>
                          <a:pt x="10331" y="1226"/>
                        </a:lnTo>
                        <a:lnTo>
                          <a:pt x="10182" y="1197"/>
                        </a:lnTo>
                        <a:lnTo>
                          <a:pt x="10031" y="1171"/>
                        </a:lnTo>
                        <a:lnTo>
                          <a:pt x="10097" y="1199"/>
                        </a:lnTo>
                        <a:lnTo>
                          <a:pt x="10162" y="1229"/>
                        </a:lnTo>
                        <a:lnTo>
                          <a:pt x="10225" y="1259"/>
                        </a:lnTo>
                        <a:lnTo>
                          <a:pt x="10288" y="1290"/>
                        </a:lnTo>
                        <a:lnTo>
                          <a:pt x="10351" y="1323"/>
                        </a:lnTo>
                        <a:lnTo>
                          <a:pt x="10412" y="1355"/>
                        </a:lnTo>
                        <a:lnTo>
                          <a:pt x="10472" y="1390"/>
                        </a:lnTo>
                        <a:lnTo>
                          <a:pt x="10532" y="1425"/>
                        </a:lnTo>
                        <a:lnTo>
                          <a:pt x="10591" y="1462"/>
                        </a:lnTo>
                        <a:lnTo>
                          <a:pt x="10649" y="1499"/>
                        </a:lnTo>
                        <a:lnTo>
                          <a:pt x="10706" y="1537"/>
                        </a:lnTo>
                        <a:lnTo>
                          <a:pt x="10763" y="1576"/>
                        </a:lnTo>
                        <a:lnTo>
                          <a:pt x="10818" y="1616"/>
                        </a:lnTo>
                        <a:lnTo>
                          <a:pt x="10874" y="1657"/>
                        </a:lnTo>
                        <a:lnTo>
                          <a:pt x="10928" y="1698"/>
                        </a:lnTo>
                        <a:lnTo>
                          <a:pt x="10980" y="1741"/>
                        </a:lnTo>
                        <a:lnTo>
                          <a:pt x="11033" y="1786"/>
                        </a:lnTo>
                        <a:lnTo>
                          <a:pt x="11085" y="1830"/>
                        </a:lnTo>
                        <a:lnTo>
                          <a:pt x="11135" y="1875"/>
                        </a:lnTo>
                        <a:lnTo>
                          <a:pt x="11186" y="1923"/>
                        </a:lnTo>
                        <a:lnTo>
                          <a:pt x="11235" y="1970"/>
                        </a:lnTo>
                        <a:lnTo>
                          <a:pt x="11283" y="2018"/>
                        </a:lnTo>
                        <a:lnTo>
                          <a:pt x="11331" y="2068"/>
                        </a:lnTo>
                        <a:lnTo>
                          <a:pt x="11378" y="2119"/>
                        </a:lnTo>
                        <a:lnTo>
                          <a:pt x="11423" y="2169"/>
                        </a:lnTo>
                        <a:lnTo>
                          <a:pt x="11469" y="2222"/>
                        </a:lnTo>
                        <a:lnTo>
                          <a:pt x="11513" y="2276"/>
                        </a:lnTo>
                        <a:lnTo>
                          <a:pt x="11557" y="2329"/>
                        </a:lnTo>
                        <a:lnTo>
                          <a:pt x="11599" y="2385"/>
                        </a:lnTo>
                        <a:lnTo>
                          <a:pt x="11642" y="2441"/>
                        </a:lnTo>
                        <a:lnTo>
                          <a:pt x="11683" y="2498"/>
                        </a:lnTo>
                        <a:lnTo>
                          <a:pt x="11723" y="2556"/>
                        </a:lnTo>
                        <a:lnTo>
                          <a:pt x="11763" y="2616"/>
                        </a:lnTo>
                        <a:lnTo>
                          <a:pt x="11802" y="2677"/>
                        </a:lnTo>
                        <a:lnTo>
                          <a:pt x="11839" y="2738"/>
                        </a:lnTo>
                        <a:lnTo>
                          <a:pt x="11876" y="2799"/>
                        </a:lnTo>
                        <a:lnTo>
                          <a:pt x="11911" y="2862"/>
                        </a:lnTo>
                        <a:lnTo>
                          <a:pt x="11943" y="2924"/>
                        </a:lnTo>
                        <a:lnTo>
                          <a:pt x="11976" y="2986"/>
                        </a:lnTo>
                        <a:lnTo>
                          <a:pt x="12007" y="3049"/>
                        </a:lnTo>
                        <a:lnTo>
                          <a:pt x="12037" y="3113"/>
                        </a:lnTo>
                        <a:lnTo>
                          <a:pt x="12066" y="3176"/>
                        </a:lnTo>
                        <a:lnTo>
                          <a:pt x="12092" y="3240"/>
                        </a:lnTo>
                        <a:lnTo>
                          <a:pt x="12118" y="3305"/>
                        </a:lnTo>
                        <a:lnTo>
                          <a:pt x="12143" y="3370"/>
                        </a:lnTo>
                        <a:lnTo>
                          <a:pt x="12167" y="3435"/>
                        </a:lnTo>
                        <a:lnTo>
                          <a:pt x="12189" y="3501"/>
                        </a:lnTo>
                        <a:lnTo>
                          <a:pt x="12209" y="3567"/>
                        </a:lnTo>
                        <a:lnTo>
                          <a:pt x="12229" y="3634"/>
                        </a:lnTo>
                        <a:lnTo>
                          <a:pt x="12247" y="3701"/>
                        </a:lnTo>
                        <a:lnTo>
                          <a:pt x="12264" y="3768"/>
                        </a:lnTo>
                        <a:lnTo>
                          <a:pt x="12280" y="3836"/>
                        </a:lnTo>
                        <a:lnTo>
                          <a:pt x="12294" y="3904"/>
                        </a:lnTo>
                        <a:lnTo>
                          <a:pt x="12308" y="3973"/>
                        </a:lnTo>
                        <a:lnTo>
                          <a:pt x="12320" y="4041"/>
                        </a:lnTo>
                        <a:lnTo>
                          <a:pt x="12330" y="4111"/>
                        </a:lnTo>
                        <a:lnTo>
                          <a:pt x="12340" y="4180"/>
                        </a:lnTo>
                        <a:lnTo>
                          <a:pt x="12348" y="4251"/>
                        </a:lnTo>
                        <a:lnTo>
                          <a:pt x="12356" y="4322"/>
                        </a:lnTo>
                        <a:lnTo>
                          <a:pt x="12361" y="4392"/>
                        </a:lnTo>
                        <a:lnTo>
                          <a:pt x="12365" y="4463"/>
                        </a:lnTo>
                        <a:lnTo>
                          <a:pt x="12368" y="4534"/>
                        </a:lnTo>
                        <a:lnTo>
                          <a:pt x="12370" y="4607"/>
                        </a:lnTo>
                        <a:lnTo>
                          <a:pt x="12370" y="4679"/>
                        </a:lnTo>
                        <a:lnTo>
                          <a:pt x="12370" y="4750"/>
                        </a:lnTo>
                        <a:lnTo>
                          <a:pt x="12368" y="4822"/>
                        </a:lnTo>
                        <a:lnTo>
                          <a:pt x="12365" y="4893"/>
                        </a:lnTo>
                        <a:lnTo>
                          <a:pt x="12361" y="4962"/>
                        </a:lnTo>
                        <a:lnTo>
                          <a:pt x="12356" y="5033"/>
                        </a:lnTo>
                        <a:lnTo>
                          <a:pt x="12348" y="5103"/>
                        </a:lnTo>
                        <a:lnTo>
                          <a:pt x="12341" y="5171"/>
                        </a:lnTo>
                        <a:lnTo>
                          <a:pt x="12331" y="5241"/>
                        </a:lnTo>
                        <a:lnTo>
                          <a:pt x="12321" y="5308"/>
                        </a:lnTo>
                        <a:lnTo>
                          <a:pt x="12309" y="5377"/>
                        </a:lnTo>
                        <a:lnTo>
                          <a:pt x="12296" y="5444"/>
                        </a:lnTo>
                        <a:lnTo>
                          <a:pt x="12282" y="5512"/>
                        </a:lnTo>
                        <a:lnTo>
                          <a:pt x="12266" y="5578"/>
                        </a:lnTo>
                        <a:lnTo>
                          <a:pt x="12249" y="5644"/>
                        </a:lnTo>
                        <a:lnTo>
                          <a:pt x="12231" y="5711"/>
                        </a:lnTo>
                        <a:lnTo>
                          <a:pt x="12212" y="5776"/>
                        </a:lnTo>
                        <a:lnTo>
                          <a:pt x="12192" y="5841"/>
                        </a:lnTo>
                        <a:lnTo>
                          <a:pt x="12170" y="5906"/>
                        </a:lnTo>
                        <a:lnTo>
                          <a:pt x="12147" y="5971"/>
                        </a:lnTo>
                        <a:lnTo>
                          <a:pt x="12124" y="6034"/>
                        </a:lnTo>
                        <a:lnTo>
                          <a:pt x="12097" y="6099"/>
                        </a:lnTo>
                        <a:lnTo>
                          <a:pt x="12071" y="6162"/>
                        </a:lnTo>
                        <a:lnTo>
                          <a:pt x="12043" y="6224"/>
                        </a:lnTo>
                        <a:lnTo>
                          <a:pt x="12014" y="6287"/>
                        </a:lnTo>
                        <a:lnTo>
                          <a:pt x="11983" y="6348"/>
                        </a:lnTo>
                        <a:lnTo>
                          <a:pt x="11952" y="6411"/>
                        </a:lnTo>
                        <a:lnTo>
                          <a:pt x="11919" y="6472"/>
                        </a:lnTo>
                        <a:lnTo>
                          <a:pt x="11885" y="6533"/>
                        </a:lnTo>
                        <a:lnTo>
                          <a:pt x="11850" y="6593"/>
                        </a:lnTo>
                        <a:lnTo>
                          <a:pt x="11814" y="6653"/>
                        </a:lnTo>
                        <a:lnTo>
                          <a:pt x="11776" y="6713"/>
                        </a:lnTo>
                        <a:lnTo>
                          <a:pt x="11737" y="6772"/>
                        </a:lnTo>
                        <a:lnTo>
                          <a:pt x="11696" y="6831"/>
                        </a:lnTo>
                        <a:lnTo>
                          <a:pt x="11655" y="6888"/>
                        </a:lnTo>
                        <a:lnTo>
                          <a:pt x="11614" y="6945"/>
                        </a:lnTo>
                        <a:lnTo>
                          <a:pt x="11572" y="7000"/>
                        </a:lnTo>
                        <a:lnTo>
                          <a:pt x="11529" y="7055"/>
                        </a:lnTo>
                        <a:lnTo>
                          <a:pt x="11484" y="7108"/>
                        </a:lnTo>
                        <a:lnTo>
                          <a:pt x="11440" y="7161"/>
                        </a:lnTo>
                        <a:lnTo>
                          <a:pt x="11395" y="7213"/>
                        </a:lnTo>
                        <a:lnTo>
                          <a:pt x="11348" y="7264"/>
                        </a:lnTo>
                        <a:lnTo>
                          <a:pt x="11301" y="7314"/>
                        </a:lnTo>
                        <a:lnTo>
                          <a:pt x="11254" y="7363"/>
                        </a:lnTo>
                        <a:lnTo>
                          <a:pt x="11204" y="7411"/>
                        </a:lnTo>
                        <a:lnTo>
                          <a:pt x="11155" y="7458"/>
                        </a:lnTo>
                        <a:lnTo>
                          <a:pt x="11105" y="7505"/>
                        </a:lnTo>
                        <a:lnTo>
                          <a:pt x="11054" y="7550"/>
                        </a:lnTo>
                        <a:lnTo>
                          <a:pt x="11003" y="7594"/>
                        </a:lnTo>
                        <a:lnTo>
                          <a:pt x="10950" y="7637"/>
                        </a:lnTo>
                        <a:lnTo>
                          <a:pt x="10896" y="7681"/>
                        </a:lnTo>
                        <a:lnTo>
                          <a:pt x="10842" y="7722"/>
                        </a:lnTo>
                        <a:lnTo>
                          <a:pt x="10787" y="7763"/>
                        </a:lnTo>
                        <a:lnTo>
                          <a:pt x="10731" y="7803"/>
                        </a:lnTo>
                        <a:lnTo>
                          <a:pt x="10676" y="7841"/>
                        </a:lnTo>
                        <a:lnTo>
                          <a:pt x="10618" y="7879"/>
                        </a:lnTo>
                        <a:lnTo>
                          <a:pt x="10560" y="7916"/>
                        </a:lnTo>
                        <a:lnTo>
                          <a:pt x="10502" y="7952"/>
                        </a:lnTo>
                        <a:lnTo>
                          <a:pt x="10441" y="7987"/>
                        </a:lnTo>
                        <a:lnTo>
                          <a:pt x="10381" y="8021"/>
                        </a:lnTo>
                        <a:lnTo>
                          <a:pt x="10320" y="8055"/>
                        </a:lnTo>
                        <a:lnTo>
                          <a:pt x="10259" y="8086"/>
                        </a:lnTo>
                        <a:lnTo>
                          <a:pt x="10196" y="8118"/>
                        </a:lnTo>
                        <a:lnTo>
                          <a:pt x="10132" y="8149"/>
                        </a:lnTo>
                        <a:lnTo>
                          <a:pt x="10069" y="8178"/>
                        </a:lnTo>
                        <a:lnTo>
                          <a:pt x="10290" y="8137"/>
                        </a:lnTo>
                        <a:lnTo>
                          <a:pt x="10506" y="8092"/>
                        </a:lnTo>
                        <a:lnTo>
                          <a:pt x="10719" y="8042"/>
                        </a:lnTo>
                        <a:lnTo>
                          <a:pt x="10929" y="7988"/>
                        </a:lnTo>
                        <a:lnTo>
                          <a:pt x="11134" y="7930"/>
                        </a:lnTo>
                        <a:lnTo>
                          <a:pt x="11336" y="7868"/>
                        </a:lnTo>
                        <a:lnTo>
                          <a:pt x="11534" y="7801"/>
                        </a:lnTo>
                        <a:lnTo>
                          <a:pt x="11728" y="7729"/>
                        </a:lnTo>
                        <a:lnTo>
                          <a:pt x="11919" y="7653"/>
                        </a:lnTo>
                        <a:lnTo>
                          <a:pt x="12106" y="7573"/>
                        </a:lnTo>
                        <a:lnTo>
                          <a:pt x="12289" y="7488"/>
                        </a:lnTo>
                        <a:lnTo>
                          <a:pt x="12469" y="7398"/>
                        </a:lnTo>
                        <a:lnTo>
                          <a:pt x="12645" y="7304"/>
                        </a:lnTo>
                        <a:lnTo>
                          <a:pt x="12817" y="7206"/>
                        </a:lnTo>
                        <a:lnTo>
                          <a:pt x="12984" y="7104"/>
                        </a:lnTo>
                        <a:lnTo>
                          <a:pt x="13149" y="6997"/>
                        </a:lnTo>
                        <a:lnTo>
                          <a:pt x="13310" y="6886"/>
                        </a:lnTo>
                        <a:lnTo>
                          <a:pt x="13467" y="6770"/>
                        </a:lnTo>
                        <a:lnTo>
                          <a:pt x="13620" y="6649"/>
                        </a:lnTo>
                        <a:lnTo>
                          <a:pt x="13770" y="6524"/>
                        </a:lnTo>
                        <a:lnTo>
                          <a:pt x="13916" y="6395"/>
                        </a:lnTo>
                        <a:lnTo>
                          <a:pt x="14057" y="6261"/>
                        </a:lnTo>
                        <a:lnTo>
                          <a:pt x="14195" y="6123"/>
                        </a:lnTo>
                        <a:lnTo>
                          <a:pt x="14330" y="5981"/>
                        </a:lnTo>
                        <a:lnTo>
                          <a:pt x="14461" y="5833"/>
                        </a:lnTo>
                        <a:lnTo>
                          <a:pt x="14587" y="5682"/>
                        </a:lnTo>
                        <a:lnTo>
                          <a:pt x="14711" y="5526"/>
                        </a:lnTo>
                        <a:lnTo>
                          <a:pt x="14830" y="5366"/>
                        </a:lnTo>
                        <a:lnTo>
                          <a:pt x="14946" y="5201"/>
                        </a:lnTo>
                        <a:lnTo>
                          <a:pt x="15058" y="5031"/>
                        </a:lnTo>
                        <a:lnTo>
                          <a:pt x="15166" y="4858"/>
                        </a:lnTo>
                        <a:lnTo>
                          <a:pt x="15271" y="4679"/>
                        </a:lnTo>
                        <a:close/>
                        <a:moveTo>
                          <a:pt x="11555" y="4679"/>
                        </a:moveTo>
                        <a:lnTo>
                          <a:pt x="11554" y="4601"/>
                        </a:lnTo>
                        <a:lnTo>
                          <a:pt x="11552" y="4524"/>
                        </a:lnTo>
                        <a:lnTo>
                          <a:pt x="11548" y="4447"/>
                        </a:lnTo>
                        <a:lnTo>
                          <a:pt x="11541" y="4370"/>
                        </a:lnTo>
                        <a:lnTo>
                          <a:pt x="11533" y="4295"/>
                        </a:lnTo>
                        <a:lnTo>
                          <a:pt x="11524" y="4220"/>
                        </a:lnTo>
                        <a:lnTo>
                          <a:pt x="11512" y="4147"/>
                        </a:lnTo>
                        <a:lnTo>
                          <a:pt x="11498" y="4073"/>
                        </a:lnTo>
                        <a:lnTo>
                          <a:pt x="11482" y="4000"/>
                        </a:lnTo>
                        <a:lnTo>
                          <a:pt x="11466" y="3928"/>
                        </a:lnTo>
                        <a:lnTo>
                          <a:pt x="11448" y="3858"/>
                        </a:lnTo>
                        <a:lnTo>
                          <a:pt x="11426" y="3787"/>
                        </a:lnTo>
                        <a:lnTo>
                          <a:pt x="11404" y="3718"/>
                        </a:lnTo>
                        <a:lnTo>
                          <a:pt x="11380" y="3648"/>
                        </a:lnTo>
                        <a:lnTo>
                          <a:pt x="11354" y="3579"/>
                        </a:lnTo>
                        <a:lnTo>
                          <a:pt x="11326" y="3512"/>
                        </a:lnTo>
                        <a:lnTo>
                          <a:pt x="11297" y="3445"/>
                        </a:lnTo>
                        <a:lnTo>
                          <a:pt x="11265" y="3379"/>
                        </a:lnTo>
                        <a:lnTo>
                          <a:pt x="11232" y="3313"/>
                        </a:lnTo>
                        <a:lnTo>
                          <a:pt x="11198" y="3249"/>
                        </a:lnTo>
                        <a:lnTo>
                          <a:pt x="11161" y="3184"/>
                        </a:lnTo>
                        <a:lnTo>
                          <a:pt x="11123" y="3121"/>
                        </a:lnTo>
                        <a:lnTo>
                          <a:pt x="11082" y="3058"/>
                        </a:lnTo>
                        <a:lnTo>
                          <a:pt x="11040" y="2997"/>
                        </a:lnTo>
                        <a:lnTo>
                          <a:pt x="10996" y="2935"/>
                        </a:lnTo>
                        <a:lnTo>
                          <a:pt x="10951" y="2874"/>
                        </a:lnTo>
                        <a:lnTo>
                          <a:pt x="10903" y="2814"/>
                        </a:lnTo>
                        <a:lnTo>
                          <a:pt x="10854" y="2755"/>
                        </a:lnTo>
                        <a:lnTo>
                          <a:pt x="10803" y="2697"/>
                        </a:lnTo>
                        <a:lnTo>
                          <a:pt x="10750" y="2639"/>
                        </a:lnTo>
                        <a:lnTo>
                          <a:pt x="10696" y="2582"/>
                        </a:lnTo>
                        <a:lnTo>
                          <a:pt x="10640" y="2525"/>
                        </a:lnTo>
                        <a:lnTo>
                          <a:pt x="10582" y="2471"/>
                        </a:lnTo>
                        <a:lnTo>
                          <a:pt x="10524" y="2417"/>
                        </a:lnTo>
                        <a:lnTo>
                          <a:pt x="10465" y="2365"/>
                        </a:lnTo>
                        <a:lnTo>
                          <a:pt x="10406" y="2316"/>
                        </a:lnTo>
                        <a:lnTo>
                          <a:pt x="10345" y="2268"/>
                        </a:lnTo>
                        <a:lnTo>
                          <a:pt x="10284" y="2222"/>
                        </a:lnTo>
                        <a:lnTo>
                          <a:pt x="10222" y="2177"/>
                        </a:lnTo>
                        <a:lnTo>
                          <a:pt x="10160" y="2134"/>
                        </a:lnTo>
                        <a:lnTo>
                          <a:pt x="10097" y="2093"/>
                        </a:lnTo>
                        <a:lnTo>
                          <a:pt x="10032" y="2053"/>
                        </a:lnTo>
                        <a:lnTo>
                          <a:pt x="9968" y="2016"/>
                        </a:lnTo>
                        <a:lnTo>
                          <a:pt x="9902" y="1981"/>
                        </a:lnTo>
                        <a:lnTo>
                          <a:pt x="9836" y="1946"/>
                        </a:lnTo>
                        <a:lnTo>
                          <a:pt x="9769" y="1913"/>
                        </a:lnTo>
                        <a:lnTo>
                          <a:pt x="9701" y="1882"/>
                        </a:lnTo>
                        <a:lnTo>
                          <a:pt x="9632" y="1854"/>
                        </a:lnTo>
                        <a:lnTo>
                          <a:pt x="9564" y="1827"/>
                        </a:lnTo>
                        <a:lnTo>
                          <a:pt x="9493" y="1801"/>
                        </a:lnTo>
                        <a:lnTo>
                          <a:pt x="9423" y="1778"/>
                        </a:lnTo>
                        <a:lnTo>
                          <a:pt x="9352" y="1756"/>
                        </a:lnTo>
                        <a:lnTo>
                          <a:pt x="9279" y="1736"/>
                        </a:lnTo>
                        <a:lnTo>
                          <a:pt x="9206" y="1718"/>
                        </a:lnTo>
                        <a:lnTo>
                          <a:pt x="9133" y="1701"/>
                        </a:lnTo>
                        <a:lnTo>
                          <a:pt x="9059" y="1686"/>
                        </a:lnTo>
                        <a:lnTo>
                          <a:pt x="8984" y="1673"/>
                        </a:lnTo>
                        <a:lnTo>
                          <a:pt x="8908" y="1661"/>
                        </a:lnTo>
                        <a:lnTo>
                          <a:pt x="8831" y="1652"/>
                        </a:lnTo>
                        <a:lnTo>
                          <a:pt x="8754" y="1644"/>
                        </a:lnTo>
                        <a:lnTo>
                          <a:pt x="8676" y="1638"/>
                        </a:lnTo>
                        <a:lnTo>
                          <a:pt x="8597" y="1634"/>
                        </a:lnTo>
                        <a:lnTo>
                          <a:pt x="8518" y="1631"/>
                        </a:lnTo>
                        <a:lnTo>
                          <a:pt x="8438" y="1631"/>
                        </a:lnTo>
                        <a:lnTo>
                          <a:pt x="8395" y="1631"/>
                        </a:lnTo>
                        <a:lnTo>
                          <a:pt x="8353" y="1632"/>
                        </a:lnTo>
                        <a:lnTo>
                          <a:pt x="8311" y="1633"/>
                        </a:lnTo>
                        <a:lnTo>
                          <a:pt x="8269" y="1635"/>
                        </a:lnTo>
                        <a:lnTo>
                          <a:pt x="8227" y="1637"/>
                        </a:lnTo>
                        <a:lnTo>
                          <a:pt x="8185" y="1640"/>
                        </a:lnTo>
                        <a:lnTo>
                          <a:pt x="8143" y="1643"/>
                        </a:lnTo>
                        <a:lnTo>
                          <a:pt x="8102" y="1647"/>
                        </a:lnTo>
                        <a:lnTo>
                          <a:pt x="8061" y="1653"/>
                        </a:lnTo>
                        <a:lnTo>
                          <a:pt x="8020" y="1657"/>
                        </a:lnTo>
                        <a:lnTo>
                          <a:pt x="7979" y="1663"/>
                        </a:lnTo>
                        <a:lnTo>
                          <a:pt x="7938" y="1670"/>
                        </a:lnTo>
                        <a:lnTo>
                          <a:pt x="7896" y="1676"/>
                        </a:lnTo>
                        <a:lnTo>
                          <a:pt x="7856" y="1683"/>
                        </a:lnTo>
                        <a:lnTo>
                          <a:pt x="7816" y="1692"/>
                        </a:lnTo>
                        <a:lnTo>
                          <a:pt x="7775" y="1700"/>
                        </a:lnTo>
                        <a:lnTo>
                          <a:pt x="7735" y="1709"/>
                        </a:lnTo>
                        <a:lnTo>
                          <a:pt x="7695" y="1718"/>
                        </a:lnTo>
                        <a:lnTo>
                          <a:pt x="7655" y="1729"/>
                        </a:lnTo>
                        <a:lnTo>
                          <a:pt x="7616" y="1738"/>
                        </a:lnTo>
                        <a:lnTo>
                          <a:pt x="7537" y="1761"/>
                        </a:lnTo>
                        <a:lnTo>
                          <a:pt x="7458" y="1786"/>
                        </a:lnTo>
                        <a:lnTo>
                          <a:pt x="7380" y="1813"/>
                        </a:lnTo>
                        <a:lnTo>
                          <a:pt x="7302" y="1841"/>
                        </a:lnTo>
                        <a:lnTo>
                          <a:pt x="7226" y="1872"/>
                        </a:lnTo>
                        <a:lnTo>
                          <a:pt x="7149" y="1906"/>
                        </a:lnTo>
                        <a:lnTo>
                          <a:pt x="6826" y="1171"/>
                        </a:lnTo>
                        <a:lnTo>
                          <a:pt x="6606" y="1211"/>
                        </a:lnTo>
                        <a:lnTo>
                          <a:pt x="6388" y="1255"/>
                        </a:lnTo>
                        <a:lnTo>
                          <a:pt x="6174" y="1305"/>
                        </a:lnTo>
                        <a:lnTo>
                          <a:pt x="5964" y="1359"/>
                        </a:lnTo>
                        <a:lnTo>
                          <a:pt x="5758" y="1417"/>
                        </a:lnTo>
                        <a:lnTo>
                          <a:pt x="5555" y="1480"/>
                        </a:lnTo>
                        <a:lnTo>
                          <a:pt x="5357" y="1546"/>
                        </a:lnTo>
                        <a:lnTo>
                          <a:pt x="5162" y="1618"/>
                        </a:lnTo>
                        <a:lnTo>
                          <a:pt x="4970" y="1694"/>
                        </a:lnTo>
                        <a:lnTo>
                          <a:pt x="4783" y="1775"/>
                        </a:lnTo>
                        <a:lnTo>
                          <a:pt x="4598" y="1859"/>
                        </a:lnTo>
                        <a:lnTo>
                          <a:pt x="4419" y="1949"/>
                        </a:lnTo>
                        <a:lnTo>
                          <a:pt x="4242" y="2043"/>
                        </a:lnTo>
                        <a:lnTo>
                          <a:pt x="4070" y="2141"/>
                        </a:lnTo>
                        <a:lnTo>
                          <a:pt x="3901" y="2244"/>
                        </a:lnTo>
                        <a:lnTo>
                          <a:pt x="3736" y="2352"/>
                        </a:lnTo>
                        <a:lnTo>
                          <a:pt x="3574" y="2463"/>
                        </a:lnTo>
                        <a:lnTo>
                          <a:pt x="3417" y="2579"/>
                        </a:lnTo>
                        <a:lnTo>
                          <a:pt x="3263" y="2700"/>
                        </a:lnTo>
                        <a:lnTo>
                          <a:pt x="3113" y="2826"/>
                        </a:lnTo>
                        <a:lnTo>
                          <a:pt x="2967" y="2955"/>
                        </a:lnTo>
                        <a:lnTo>
                          <a:pt x="2824" y="3089"/>
                        </a:lnTo>
                        <a:lnTo>
                          <a:pt x="2685" y="3228"/>
                        </a:lnTo>
                        <a:lnTo>
                          <a:pt x="2550" y="3372"/>
                        </a:lnTo>
                        <a:lnTo>
                          <a:pt x="2418" y="3519"/>
                        </a:lnTo>
                        <a:lnTo>
                          <a:pt x="2291" y="3671"/>
                        </a:lnTo>
                        <a:lnTo>
                          <a:pt x="2167" y="3828"/>
                        </a:lnTo>
                        <a:lnTo>
                          <a:pt x="2047" y="3989"/>
                        </a:lnTo>
                        <a:lnTo>
                          <a:pt x="1931" y="4155"/>
                        </a:lnTo>
                        <a:lnTo>
                          <a:pt x="1818" y="4326"/>
                        </a:lnTo>
                        <a:lnTo>
                          <a:pt x="1710" y="4500"/>
                        </a:lnTo>
                        <a:lnTo>
                          <a:pt x="1604" y="4679"/>
                        </a:lnTo>
                        <a:lnTo>
                          <a:pt x="1665" y="4784"/>
                        </a:lnTo>
                        <a:lnTo>
                          <a:pt x="1728" y="4888"/>
                        </a:lnTo>
                        <a:lnTo>
                          <a:pt x="1792" y="4990"/>
                        </a:lnTo>
                        <a:lnTo>
                          <a:pt x="1858" y="5090"/>
                        </a:lnTo>
                        <a:lnTo>
                          <a:pt x="1925" y="5189"/>
                        </a:lnTo>
                        <a:lnTo>
                          <a:pt x="1993" y="5287"/>
                        </a:lnTo>
                        <a:lnTo>
                          <a:pt x="2064" y="5383"/>
                        </a:lnTo>
                        <a:lnTo>
                          <a:pt x="2136" y="5477"/>
                        </a:lnTo>
                        <a:lnTo>
                          <a:pt x="2173" y="5524"/>
                        </a:lnTo>
                        <a:lnTo>
                          <a:pt x="2210" y="5571"/>
                        </a:lnTo>
                        <a:lnTo>
                          <a:pt x="2246" y="5616"/>
                        </a:lnTo>
                        <a:lnTo>
                          <a:pt x="2283" y="5662"/>
                        </a:lnTo>
                        <a:lnTo>
                          <a:pt x="2322" y="5708"/>
                        </a:lnTo>
                        <a:lnTo>
                          <a:pt x="2360" y="5752"/>
                        </a:lnTo>
                        <a:lnTo>
                          <a:pt x="2399" y="5797"/>
                        </a:lnTo>
                        <a:lnTo>
                          <a:pt x="2438" y="5841"/>
                        </a:lnTo>
                        <a:lnTo>
                          <a:pt x="2477" y="5885"/>
                        </a:lnTo>
                        <a:lnTo>
                          <a:pt x="2518" y="5929"/>
                        </a:lnTo>
                        <a:lnTo>
                          <a:pt x="2558" y="5972"/>
                        </a:lnTo>
                        <a:lnTo>
                          <a:pt x="2599" y="6014"/>
                        </a:lnTo>
                        <a:lnTo>
                          <a:pt x="2640" y="6056"/>
                        </a:lnTo>
                        <a:lnTo>
                          <a:pt x="2681" y="6099"/>
                        </a:lnTo>
                        <a:lnTo>
                          <a:pt x="2723" y="6141"/>
                        </a:lnTo>
                        <a:lnTo>
                          <a:pt x="2765" y="6182"/>
                        </a:lnTo>
                        <a:lnTo>
                          <a:pt x="2869" y="6280"/>
                        </a:lnTo>
                        <a:lnTo>
                          <a:pt x="2973" y="6375"/>
                        </a:lnTo>
                        <a:lnTo>
                          <a:pt x="3080" y="6468"/>
                        </a:lnTo>
                        <a:lnTo>
                          <a:pt x="3187" y="6559"/>
                        </a:lnTo>
                        <a:lnTo>
                          <a:pt x="3297" y="6648"/>
                        </a:lnTo>
                        <a:lnTo>
                          <a:pt x="3407" y="6733"/>
                        </a:lnTo>
                        <a:lnTo>
                          <a:pt x="3519" y="6817"/>
                        </a:lnTo>
                        <a:lnTo>
                          <a:pt x="3632" y="6899"/>
                        </a:lnTo>
                        <a:lnTo>
                          <a:pt x="3747" y="6979"/>
                        </a:lnTo>
                        <a:lnTo>
                          <a:pt x="3864" y="7056"/>
                        </a:lnTo>
                        <a:lnTo>
                          <a:pt x="3981" y="7130"/>
                        </a:lnTo>
                        <a:lnTo>
                          <a:pt x="4102" y="7203"/>
                        </a:lnTo>
                        <a:lnTo>
                          <a:pt x="4222" y="7273"/>
                        </a:lnTo>
                        <a:lnTo>
                          <a:pt x="4344" y="7341"/>
                        </a:lnTo>
                        <a:lnTo>
                          <a:pt x="4468" y="7407"/>
                        </a:lnTo>
                        <a:lnTo>
                          <a:pt x="4593" y="7471"/>
                        </a:lnTo>
                        <a:lnTo>
                          <a:pt x="4720" y="7532"/>
                        </a:lnTo>
                        <a:lnTo>
                          <a:pt x="4848" y="7591"/>
                        </a:lnTo>
                        <a:lnTo>
                          <a:pt x="4978" y="7647"/>
                        </a:lnTo>
                        <a:lnTo>
                          <a:pt x="5109" y="7702"/>
                        </a:lnTo>
                        <a:lnTo>
                          <a:pt x="5242" y="7753"/>
                        </a:lnTo>
                        <a:lnTo>
                          <a:pt x="5376" y="7804"/>
                        </a:lnTo>
                        <a:lnTo>
                          <a:pt x="5511" y="7851"/>
                        </a:lnTo>
                        <a:lnTo>
                          <a:pt x="5648" y="7897"/>
                        </a:lnTo>
                        <a:lnTo>
                          <a:pt x="5786" y="7940"/>
                        </a:lnTo>
                        <a:lnTo>
                          <a:pt x="5926" y="7980"/>
                        </a:lnTo>
                        <a:lnTo>
                          <a:pt x="6068" y="8019"/>
                        </a:lnTo>
                        <a:lnTo>
                          <a:pt x="6210" y="8055"/>
                        </a:lnTo>
                        <a:lnTo>
                          <a:pt x="6354" y="8090"/>
                        </a:lnTo>
                        <a:lnTo>
                          <a:pt x="6500" y="8121"/>
                        </a:lnTo>
                        <a:lnTo>
                          <a:pt x="6648" y="8151"/>
                        </a:lnTo>
                        <a:lnTo>
                          <a:pt x="6796" y="8178"/>
                        </a:lnTo>
                        <a:lnTo>
                          <a:pt x="6732" y="8149"/>
                        </a:lnTo>
                        <a:lnTo>
                          <a:pt x="6669" y="8118"/>
                        </a:lnTo>
                        <a:lnTo>
                          <a:pt x="6607" y="8086"/>
                        </a:lnTo>
                        <a:lnTo>
                          <a:pt x="6544" y="8055"/>
                        </a:lnTo>
                        <a:lnTo>
                          <a:pt x="6483" y="8021"/>
                        </a:lnTo>
                        <a:lnTo>
                          <a:pt x="6423" y="7987"/>
                        </a:lnTo>
                        <a:lnTo>
                          <a:pt x="6364" y="7952"/>
                        </a:lnTo>
                        <a:lnTo>
                          <a:pt x="6305" y="7916"/>
                        </a:lnTo>
                        <a:lnTo>
                          <a:pt x="6248" y="7879"/>
                        </a:lnTo>
                        <a:lnTo>
                          <a:pt x="6191" y="7841"/>
                        </a:lnTo>
                        <a:lnTo>
                          <a:pt x="6134" y="7803"/>
                        </a:lnTo>
                        <a:lnTo>
                          <a:pt x="6079" y="7763"/>
                        </a:lnTo>
                        <a:lnTo>
                          <a:pt x="6024" y="7722"/>
                        </a:lnTo>
                        <a:lnTo>
                          <a:pt x="5971" y="7681"/>
                        </a:lnTo>
                        <a:lnTo>
                          <a:pt x="5917" y="7637"/>
                        </a:lnTo>
                        <a:lnTo>
                          <a:pt x="5865" y="7594"/>
                        </a:lnTo>
                        <a:lnTo>
                          <a:pt x="5813" y="7550"/>
                        </a:lnTo>
                        <a:lnTo>
                          <a:pt x="5763" y="7505"/>
                        </a:lnTo>
                        <a:lnTo>
                          <a:pt x="5712" y="7458"/>
                        </a:lnTo>
                        <a:lnTo>
                          <a:pt x="5664" y="7411"/>
                        </a:lnTo>
                        <a:lnTo>
                          <a:pt x="5615" y="7363"/>
                        </a:lnTo>
                        <a:lnTo>
                          <a:pt x="5568" y="7314"/>
                        </a:lnTo>
                        <a:lnTo>
                          <a:pt x="5521" y="7264"/>
                        </a:lnTo>
                        <a:lnTo>
                          <a:pt x="5475" y="7213"/>
                        </a:lnTo>
                        <a:lnTo>
                          <a:pt x="5430" y="7161"/>
                        </a:lnTo>
                        <a:lnTo>
                          <a:pt x="5385" y="7108"/>
                        </a:lnTo>
                        <a:lnTo>
                          <a:pt x="5341" y="7055"/>
                        </a:lnTo>
                        <a:lnTo>
                          <a:pt x="5299" y="7000"/>
                        </a:lnTo>
                        <a:lnTo>
                          <a:pt x="5257" y="6945"/>
                        </a:lnTo>
                        <a:lnTo>
                          <a:pt x="5215" y="6888"/>
                        </a:lnTo>
                        <a:lnTo>
                          <a:pt x="5174" y="6831"/>
                        </a:lnTo>
                        <a:lnTo>
                          <a:pt x="5135" y="6772"/>
                        </a:lnTo>
                        <a:lnTo>
                          <a:pt x="5096" y="6713"/>
                        </a:lnTo>
                        <a:lnTo>
                          <a:pt x="5058" y="6653"/>
                        </a:lnTo>
                        <a:lnTo>
                          <a:pt x="5022" y="6593"/>
                        </a:lnTo>
                        <a:lnTo>
                          <a:pt x="4988" y="6533"/>
                        </a:lnTo>
                        <a:lnTo>
                          <a:pt x="4954" y="6472"/>
                        </a:lnTo>
                        <a:lnTo>
                          <a:pt x="4921" y="6411"/>
                        </a:lnTo>
                        <a:lnTo>
                          <a:pt x="4890" y="6348"/>
                        </a:lnTo>
                        <a:lnTo>
                          <a:pt x="4859" y="6287"/>
                        </a:lnTo>
                        <a:lnTo>
                          <a:pt x="4830" y="6224"/>
                        </a:lnTo>
                        <a:lnTo>
                          <a:pt x="4803" y="6162"/>
                        </a:lnTo>
                        <a:lnTo>
                          <a:pt x="4777" y="6099"/>
                        </a:lnTo>
                        <a:lnTo>
                          <a:pt x="4751" y="6034"/>
                        </a:lnTo>
                        <a:lnTo>
                          <a:pt x="4727" y="5971"/>
                        </a:lnTo>
                        <a:lnTo>
                          <a:pt x="4704" y="5906"/>
                        </a:lnTo>
                        <a:lnTo>
                          <a:pt x="4683" y="5841"/>
                        </a:lnTo>
                        <a:lnTo>
                          <a:pt x="4662" y="5776"/>
                        </a:lnTo>
                        <a:lnTo>
                          <a:pt x="4643" y="5711"/>
                        </a:lnTo>
                        <a:lnTo>
                          <a:pt x="4625" y="5644"/>
                        </a:lnTo>
                        <a:lnTo>
                          <a:pt x="4609" y="5578"/>
                        </a:lnTo>
                        <a:lnTo>
                          <a:pt x="4593" y="5512"/>
                        </a:lnTo>
                        <a:lnTo>
                          <a:pt x="4578" y="5444"/>
                        </a:lnTo>
                        <a:lnTo>
                          <a:pt x="4566" y="5377"/>
                        </a:lnTo>
                        <a:lnTo>
                          <a:pt x="4554" y="5308"/>
                        </a:lnTo>
                        <a:lnTo>
                          <a:pt x="4544" y="5241"/>
                        </a:lnTo>
                        <a:lnTo>
                          <a:pt x="4534" y="5171"/>
                        </a:lnTo>
                        <a:lnTo>
                          <a:pt x="4527" y="5103"/>
                        </a:lnTo>
                        <a:lnTo>
                          <a:pt x="4519" y="5033"/>
                        </a:lnTo>
                        <a:lnTo>
                          <a:pt x="4514" y="4962"/>
                        </a:lnTo>
                        <a:lnTo>
                          <a:pt x="4510" y="4893"/>
                        </a:lnTo>
                        <a:lnTo>
                          <a:pt x="4507" y="4822"/>
                        </a:lnTo>
                        <a:lnTo>
                          <a:pt x="4505" y="4750"/>
                        </a:lnTo>
                        <a:lnTo>
                          <a:pt x="4505" y="4679"/>
                        </a:lnTo>
                        <a:lnTo>
                          <a:pt x="4505" y="4592"/>
                        </a:lnTo>
                        <a:lnTo>
                          <a:pt x="4508" y="4505"/>
                        </a:lnTo>
                        <a:lnTo>
                          <a:pt x="4513" y="4418"/>
                        </a:lnTo>
                        <a:lnTo>
                          <a:pt x="4519" y="4332"/>
                        </a:lnTo>
                        <a:lnTo>
                          <a:pt x="4529" y="4246"/>
                        </a:lnTo>
                        <a:lnTo>
                          <a:pt x="4539" y="4160"/>
                        </a:lnTo>
                        <a:lnTo>
                          <a:pt x="4552" y="4075"/>
                        </a:lnTo>
                        <a:lnTo>
                          <a:pt x="4566" y="3989"/>
                        </a:lnTo>
                        <a:lnTo>
                          <a:pt x="4583" y="3905"/>
                        </a:lnTo>
                        <a:lnTo>
                          <a:pt x="4601" y="3821"/>
                        </a:lnTo>
                        <a:lnTo>
                          <a:pt x="4621" y="3737"/>
                        </a:lnTo>
                        <a:lnTo>
                          <a:pt x="4643" y="3653"/>
                        </a:lnTo>
                        <a:lnTo>
                          <a:pt x="4667" y="3569"/>
                        </a:lnTo>
                        <a:lnTo>
                          <a:pt x="4692" y="3486"/>
                        </a:lnTo>
                        <a:lnTo>
                          <a:pt x="4720" y="3403"/>
                        </a:lnTo>
                        <a:lnTo>
                          <a:pt x="4749" y="3320"/>
                        </a:lnTo>
                        <a:lnTo>
                          <a:pt x="5538" y="3566"/>
                        </a:lnTo>
                        <a:lnTo>
                          <a:pt x="5512" y="3633"/>
                        </a:lnTo>
                        <a:lnTo>
                          <a:pt x="5486" y="3702"/>
                        </a:lnTo>
                        <a:lnTo>
                          <a:pt x="5464" y="3770"/>
                        </a:lnTo>
                        <a:lnTo>
                          <a:pt x="5443" y="3839"/>
                        </a:lnTo>
                        <a:lnTo>
                          <a:pt x="5423" y="3907"/>
                        </a:lnTo>
                        <a:lnTo>
                          <a:pt x="5405" y="3977"/>
                        </a:lnTo>
                        <a:lnTo>
                          <a:pt x="5389" y="4045"/>
                        </a:lnTo>
                        <a:lnTo>
                          <a:pt x="5375" y="4115"/>
                        </a:lnTo>
                        <a:lnTo>
                          <a:pt x="5362" y="4184"/>
                        </a:lnTo>
                        <a:lnTo>
                          <a:pt x="5350" y="4254"/>
                        </a:lnTo>
                        <a:lnTo>
                          <a:pt x="5341" y="4325"/>
                        </a:lnTo>
                        <a:lnTo>
                          <a:pt x="5334" y="4395"/>
                        </a:lnTo>
                        <a:lnTo>
                          <a:pt x="5327" y="4466"/>
                        </a:lnTo>
                        <a:lnTo>
                          <a:pt x="5323" y="4537"/>
                        </a:lnTo>
                        <a:lnTo>
                          <a:pt x="5321" y="4608"/>
                        </a:lnTo>
                        <a:lnTo>
                          <a:pt x="5320" y="4679"/>
                        </a:lnTo>
                        <a:lnTo>
                          <a:pt x="5321" y="4758"/>
                        </a:lnTo>
                        <a:lnTo>
                          <a:pt x="5323" y="4836"/>
                        </a:lnTo>
                        <a:lnTo>
                          <a:pt x="5327" y="4913"/>
                        </a:lnTo>
                        <a:lnTo>
                          <a:pt x="5334" y="4990"/>
                        </a:lnTo>
                        <a:lnTo>
                          <a:pt x="5342" y="5065"/>
                        </a:lnTo>
                        <a:lnTo>
                          <a:pt x="5351" y="5140"/>
                        </a:lnTo>
                        <a:lnTo>
                          <a:pt x="5363" y="5214"/>
                        </a:lnTo>
                        <a:lnTo>
                          <a:pt x="5377" y="5288"/>
                        </a:lnTo>
                        <a:lnTo>
                          <a:pt x="5392" y="5361"/>
                        </a:lnTo>
                        <a:lnTo>
                          <a:pt x="5409" y="5432"/>
                        </a:lnTo>
                        <a:lnTo>
                          <a:pt x="5427" y="5504"/>
                        </a:lnTo>
                        <a:lnTo>
                          <a:pt x="5449" y="5575"/>
                        </a:lnTo>
                        <a:lnTo>
                          <a:pt x="5471" y="5645"/>
                        </a:lnTo>
                        <a:lnTo>
                          <a:pt x="5495" y="5714"/>
                        </a:lnTo>
                        <a:lnTo>
                          <a:pt x="5521" y="5782"/>
                        </a:lnTo>
                        <a:lnTo>
                          <a:pt x="5549" y="5851"/>
                        </a:lnTo>
                        <a:lnTo>
                          <a:pt x="5578" y="5917"/>
                        </a:lnTo>
                        <a:lnTo>
                          <a:pt x="5610" y="5984"/>
                        </a:lnTo>
                        <a:lnTo>
                          <a:pt x="5643" y="6050"/>
                        </a:lnTo>
                        <a:lnTo>
                          <a:pt x="5677" y="6114"/>
                        </a:lnTo>
                        <a:lnTo>
                          <a:pt x="5714" y="6179"/>
                        </a:lnTo>
                        <a:lnTo>
                          <a:pt x="5752" y="6242"/>
                        </a:lnTo>
                        <a:lnTo>
                          <a:pt x="5792" y="6305"/>
                        </a:lnTo>
                        <a:lnTo>
                          <a:pt x="5835" y="6367"/>
                        </a:lnTo>
                        <a:lnTo>
                          <a:pt x="5879" y="6429"/>
                        </a:lnTo>
                        <a:lnTo>
                          <a:pt x="5924" y="6489"/>
                        </a:lnTo>
                        <a:lnTo>
                          <a:pt x="5972" y="6549"/>
                        </a:lnTo>
                        <a:lnTo>
                          <a:pt x="6021" y="6608"/>
                        </a:lnTo>
                        <a:lnTo>
                          <a:pt x="6072" y="6666"/>
                        </a:lnTo>
                        <a:lnTo>
                          <a:pt x="6125" y="6724"/>
                        </a:lnTo>
                        <a:lnTo>
                          <a:pt x="6179" y="6779"/>
                        </a:lnTo>
                        <a:lnTo>
                          <a:pt x="6235" y="6836"/>
                        </a:lnTo>
                        <a:lnTo>
                          <a:pt x="6293" y="6890"/>
                        </a:lnTo>
                        <a:lnTo>
                          <a:pt x="6351" y="6943"/>
                        </a:lnTo>
                        <a:lnTo>
                          <a:pt x="6410" y="6995"/>
                        </a:lnTo>
                        <a:lnTo>
                          <a:pt x="6469" y="7044"/>
                        </a:lnTo>
                        <a:lnTo>
                          <a:pt x="6530" y="7091"/>
                        </a:lnTo>
                        <a:lnTo>
                          <a:pt x="6591" y="7137"/>
                        </a:lnTo>
                        <a:lnTo>
                          <a:pt x="6653" y="7181"/>
                        </a:lnTo>
                        <a:lnTo>
                          <a:pt x="6715" y="7224"/>
                        </a:lnTo>
                        <a:lnTo>
                          <a:pt x="6778" y="7264"/>
                        </a:lnTo>
                        <a:lnTo>
                          <a:pt x="6843" y="7303"/>
                        </a:lnTo>
                        <a:lnTo>
                          <a:pt x="6907" y="7341"/>
                        </a:lnTo>
                        <a:lnTo>
                          <a:pt x="6973" y="7377"/>
                        </a:lnTo>
                        <a:lnTo>
                          <a:pt x="7039" y="7411"/>
                        </a:lnTo>
                        <a:lnTo>
                          <a:pt x="7106" y="7442"/>
                        </a:lnTo>
                        <a:lnTo>
                          <a:pt x="7174" y="7473"/>
                        </a:lnTo>
                        <a:lnTo>
                          <a:pt x="7243" y="7502"/>
                        </a:lnTo>
                        <a:lnTo>
                          <a:pt x="7311" y="7529"/>
                        </a:lnTo>
                        <a:lnTo>
                          <a:pt x="7382" y="7554"/>
                        </a:lnTo>
                        <a:lnTo>
                          <a:pt x="7452" y="7577"/>
                        </a:lnTo>
                        <a:lnTo>
                          <a:pt x="7523" y="7600"/>
                        </a:lnTo>
                        <a:lnTo>
                          <a:pt x="7596" y="7620"/>
                        </a:lnTo>
                        <a:lnTo>
                          <a:pt x="7669" y="7637"/>
                        </a:lnTo>
                        <a:lnTo>
                          <a:pt x="7742" y="7654"/>
                        </a:lnTo>
                        <a:lnTo>
                          <a:pt x="7816" y="7669"/>
                        </a:lnTo>
                        <a:lnTo>
                          <a:pt x="7891" y="7682"/>
                        </a:lnTo>
                        <a:lnTo>
                          <a:pt x="7967" y="7693"/>
                        </a:lnTo>
                        <a:lnTo>
                          <a:pt x="8044" y="7703"/>
                        </a:lnTo>
                        <a:lnTo>
                          <a:pt x="8121" y="7711"/>
                        </a:lnTo>
                        <a:lnTo>
                          <a:pt x="8199" y="7717"/>
                        </a:lnTo>
                        <a:lnTo>
                          <a:pt x="8278" y="7722"/>
                        </a:lnTo>
                        <a:lnTo>
                          <a:pt x="8357" y="7724"/>
                        </a:lnTo>
                        <a:lnTo>
                          <a:pt x="8438" y="7725"/>
                        </a:lnTo>
                        <a:lnTo>
                          <a:pt x="8518" y="7724"/>
                        </a:lnTo>
                        <a:lnTo>
                          <a:pt x="8597" y="7722"/>
                        </a:lnTo>
                        <a:lnTo>
                          <a:pt x="8676" y="7717"/>
                        </a:lnTo>
                        <a:lnTo>
                          <a:pt x="8754" y="7711"/>
                        </a:lnTo>
                        <a:lnTo>
                          <a:pt x="8831" y="7703"/>
                        </a:lnTo>
                        <a:lnTo>
                          <a:pt x="8908" y="7693"/>
                        </a:lnTo>
                        <a:lnTo>
                          <a:pt x="8984" y="7682"/>
                        </a:lnTo>
                        <a:lnTo>
                          <a:pt x="9059" y="7669"/>
                        </a:lnTo>
                        <a:lnTo>
                          <a:pt x="9133" y="7654"/>
                        </a:lnTo>
                        <a:lnTo>
                          <a:pt x="9206" y="7637"/>
                        </a:lnTo>
                        <a:lnTo>
                          <a:pt x="9279" y="7620"/>
                        </a:lnTo>
                        <a:lnTo>
                          <a:pt x="9352" y="7600"/>
                        </a:lnTo>
                        <a:lnTo>
                          <a:pt x="9423" y="7577"/>
                        </a:lnTo>
                        <a:lnTo>
                          <a:pt x="9493" y="7554"/>
                        </a:lnTo>
                        <a:lnTo>
                          <a:pt x="9564" y="7529"/>
                        </a:lnTo>
                        <a:lnTo>
                          <a:pt x="9632" y="7502"/>
                        </a:lnTo>
                        <a:lnTo>
                          <a:pt x="9701" y="7473"/>
                        </a:lnTo>
                        <a:lnTo>
                          <a:pt x="9769" y="7442"/>
                        </a:lnTo>
                        <a:lnTo>
                          <a:pt x="9836" y="7411"/>
                        </a:lnTo>
                        <a:lnTo>
                          <a:pt x="9902" y="7377"/>
                        </a:lnTo>
                        <a:lnTo>
                          <a:pt x="9968" y="7341"/>
                        </a:lnTo>
                        <a:lnTo>
                          <a:pt x="10032" y="7303"/>
                        </a:lnTo>
                        <a:lnTo>
                          <a:pt x="10097" y="7264"/>
                        </a:lnTo>
                        <a:lnTo>
                          <a:pt x="10160" y="7224"/>
                        </a:lnTo>
                        <a:lnTo>
                          <a:pt x="10222" y="7181"/>
                        </a:lnTo>
                        <a:lnTo>
                          <a:pt x="10284" y="7137"/>
                        </a:lnTo>
                        <a:lnTo>
                          <a:pt x="10345" y="7091"/>
                        </a:lnTo>
                        <a:lnTo>
                          <a:pt x="10406" y="7044"/>
                        </a:lnTo>
                        <a:lnTo>
                          <a:pt x="10465" y="6995"/>
                        </a:lnTo>
                        <a:lnTo>
                          <a:pt x="10524" y="6943"/>
                        </a:lnTo>
                        <a:lnTo>
                          <a:pt x="10582" y="6890"/>
                        </a:lnTo>
                        <a:lnTo>
                          <a:pt x="10640" y="6836"/>
                        </a:lnTo>
                        <a:lnTo>
                          <a:pt x="10696" y="6779"/>
                        </a:lnTo>
                        <a:lnTo>
                          <a:pt x="10750" y="6724"/>
                        </a:lnTo>
                        <a:lnTo>
                          <a:pt x="10803" y="6666"/>
                        </a:lnTo>
                        <a:lnTo>
                          <a:pt x="10854" y="6608"/>
                        </a:lnTo>
                        <a:lnTo>
                          <a:pt x="10903" y="6549"/>
                        </a:lnTo>
                        <a:lnTo>
                          <a:pt x="10951" y="6489"/>
                        </a:lnTo>
                        <a:lnTo>
                          <a:pt x="10996" y="6429"/>
                        </a:lnTo>
                        <a:lnTo>
                          <a:pt x="11040" y="6367"/>
                        </a:lnTo>
                        <a:lnTo>
                          <a:pt x="11082" y="6305"/>
                        </a:lnTo>
                        <a:lnTo>
                          <a:pt x="11123" y="6242"/>
                        </a:lnTo>
                        <a:lnTo>
                          <a:pt x="11161" y="6179"/>
                        </a:lnTo>
                        <a:lnTo>
                          <a:pt x="11198" y="6114"/>
                        </a:lnTo>
                        <a:lnTo>
                          <a:pt x="11232" y="6050"/>
                        </a:lnTo>
                        <a:lnTo>
                          <a:pt x="11265" y="5984"/>
                        </a:lnTo>
                        <a:lnTo>
                          <a:pt x="11297" y="5917"/>
                        </a:lnTo>
                        <a:lnTo>
                          <a:pt x="11326" y="5851"/>
                        </a:lnTo>
                        <a:lnTo>
                          <a:pt x="11354" y="5782"/>
                        </a:lnTo>
                        <a:lnTo>
                          <a:pt x="11380" y="5714"/>
                        </a:lnTo>
                        <a:lnTo>
                          <a:pt x="11404" y="5645"/>
                        </a:lnTo>
                        <a:lnTo>
                          <a:pt x="11426" y="5575"/>
                        </a:lnTo>
                        <a:lnTo>
                          <a:pt x="11448" y="5504"/>
                        </a:lnTo>
                        <a:lnTo>
                          <a:pt x="11466" y="5432"/>
                        </a:lnTo>
                        <a:lnTo>
                          <a:pt x="11482" y="5361"/>
                        </a:lnTo>
                        <a:lnTo>
                          <a:pt x="11498" y="5288"/>
                        </a:lnTo>
                        <a:lnTo>
                          <a:pt x="11512" y="5214"/>
                        </a:lnTo>
                        <a:lnTo>
                          <a:pt x="11524" y="5140"/>
                        </a:lnTo>
                        <a:lnTo>
                          <a:pt x="11533" y="5065"/>
                        </a:lnTo>
                        <a:lnTo>
                          <a:pt x="11541" y="4990"/>
                        </a:lnTo>
                        <a:lnTo>
                          <a:pt x="11548" y="4913"/>
                        </a:lnTo>
                        <a:lnTo>
                          <a:pt x="11552" y="4836"/>
                        </a:lnTo>
                        <a:lnTo>
                          <a:pt x="11554" y="4758"/>
                        </a:lnTo>
                        <a:lnTo>
                          <a:pt x="11555" y="4679"/>
                        </a:lnTo>
                        <a:close/>
                        <a:moveTo>
                          <a:pt x="10797" y="4679"/>
                        </a:moveTo>
                        <a:lnTo>
                          <a:pt x="10796" y="4739"/>
                        </a:lnTo>
                        <a:lnTo>
                          <a:pt x="10795" y="4797"/>
                        </a:lnTo>
                        <a:lnTo>
                          <a:pt x="10791" y="4855"/>
                        </a:lnTo>
                        <a:lnTo>
                          <a:pt x="10786" y="4913"/>
                        </a:lnTo>
                        <a:lnTo>
                          <a:pt x="10780" y="4970"/>
                        </a:lnTo>
                        <a:lnTo>
                          <a:pt x="10773" y="5027"/>
                        </a:lnTo>
                        <a:lnTo>
                          <a:pt x="10764" y="5083"/>
                        </a:lnTo>
                        <a:lnTo>
                          <a:pt x="10754" y="5137"/>
                        </a:lnTo>
                        <a:lnTo>
                          <a:pt x="10742" y="5193"/>
                        </a:lnTo>
                        <a:lnTo>
                          <a:pt x="10729" y="5247"/>
                        </a:lnTo>
                        <a:lnTo>
                          <a:pt x="10715" y="5301"/>
                        </a:lnTo>
                        <a:lnTo>
                          <a:pt x="10700" y="5354"/>
                        </a:lnTo>
                        <a:lnTo>
                          <a:pt x="10683" y="5407"/>
                        </a:lnTo>
                        <a:lnTo>
                          <a:pt x="10664" y="5459"/>
                        </a:lnTo>
                        <a:lnTo>
                          <a:pt x="10645" y="5512"/>
                        </a:lnTo>
                        <a:lnTo>
                          <a:pt x="10624" y="5562"/>
                        </a:lnTo>
                        <a:lnTo>
                          <a:pt x="10602" y="5613"/>
                        </a:lnTo>
                        <a:lnTo>
                          <a:pt x="10577" y="5663"/>
                        </a:lnTo>
                        <a:lnTo>
                          <a:pt x="10553" y="5713"/>
                        </a:lnTo>
                        <a:lnTo>
                          <a:pt x="10527" y="5761"/>
                        </a:lnTo>
                        <a:lnTo>
                          <a:pt x="10498" y="5811"/>
                        </a:lnTo>
                        <a:lnTo>
                          <a:pt x="10470" y="5858"/>
                        </a:lnTo>
                        <a:lnTo>
                          <a:pt x="10439" y="5906"/>
                        </a:lnTo>
                        <a:lnTo>
                          <a:pt x="10408" y="5953"/>
                        </a:lnTo>
                        <a:lnTo>
                          <a:pt x="10375" y="6000"/>
                        </a:lnTo>
                        <a:lnTo>
                          <a:pt x="10340" y="6045"/>
                        </a:lnTo>
                        <a:lnTo>
                          <a:pt x="10304" y="6090"/>
                        </a:lnTo>
                        <a:lnTo>
                          <a:pt x="10267" y="6135"/>
                        </a:lnTo>
                        <a:lnTo>
                          <a:pt x="10228" y="6180"/>
                        </a:lnTo>
                        <a:lnTo>
                          <a:pt x="10189" y="6223"/>
                        </a:lnTo>
                        <a:lnTo>
                          <a:pt x="10148" y="6267"/>
                        </a:lnTo>
                        <a:lnTo>
                          <a:pt x="10106" y="6309"/>
                        </a:lnTo>
                        <a:lnTo>
                          <a:pt x="10062" y="6352"/>
                        </a:lnTo>
                        <a:lnTo>
                          <a:pt x="10017" y="6392"/>
                        </a:lnTo>
                        <a:lnTo>
                          <a:pt x="9973" y="6431"/>
                        </a:lnTo>
                        <a:lnTo>
                          <a:pt x="9928" y="6469"/>
                        </a:lnTo>
                        <a:lnTo>
                          <a:pt x="9881" y="6505"/>
                        </a:lnTo>
                        <a:lnTo>
                          <a:pt x="9835" y="6540"/>
                        </a:lnTo>
                        <a:lnTo>
                          <a:pt x="9789" y="6574"/>
                        </a:lnTo>
                        <a:lnTo>
                          <a:pt x="9741" y="6607"/>
                        </a:lnTo>
                        <a:lnTo>
                          <a:pt x="9693" y="6637"/>
                        </a:lnTo>
                        <a:lnTo>
                          <a:pt x="9644" y="6667"/>
                        </a:lnTo>
                        <a:lnTo>
                          <a:pt x="9594" y="6695"/>
                        </a:lnTo>
                        <a:lnTo>
                          <a:pt x="9545" y="6723"/>
                        </a:lnTo>
                        <a:lnTo>
                          <a:pt x="9494" y="6749"/>
                        </a:lnTo>
                        <a:lnTo>
                          <a:pt x="9444" y="6773"/>
                        </a:lnTo>
                        <a:lnTo>
                          <a:pt x="9393" y="6796"/>
                        </a:lnTo>
                        <a:lnTo>
                          <a:pt x="9340" y="6817"/>
                        </a:lnTo>
                        <a:lnTo>
                          <a:pt x="9289" y="6839"/>
                        </a:lnTo>
                        <a:lnTo>
                          <a:pt x="9235" y="6857"/>
                        </a:lnTo>
                        <a:lnTo>
                          <a:pt x="9182" y="6875"/>
                        </a:lnTo>
                        <a:lnTo>
                          <a:pt x="9127" y="6892"/>
                        </a:lnTo>
                        <a:lnTo>
                          <a:pt x="9073" y="6907"/>
                        </a:lnTo>
                        <a:lnTo>
                          <a:pt x="9018" y="6921"/>
                        </a:lnTo>
                        <a:lnTo>
                          <a:pt x="8963" y="6933"/>
                        </a:lnTo>
                        <a:lnTo>
                          <a:pt x="8906" y="6945"/>
                        </a:lnTo>
                        <a:lnTo>
                          <a:pt x="8850" y="6954"/>
                        </a:lnTo>
                        <a:lnTo>
                          <a:pt x="8792" y="6963"/>
                        </a:lnTo>
                        <a:lnTo>
                          <a:pt x="8735" y="6970"/>
                        </a:lnTo>
                        <a:lnTo>
                          <a:pt x="8676" y="6977"/>
                        </a:lnTo>
                        <a:lnTo>
                          <a:pt x="8617" y="6981"/>
                        </a:lnTo>
                        <a:lnTo>
                          <a:pt x="8558" y="6984"/>
                        </a:lnTo>
                        <a:lnTo>
                          <a:pt x="8498" y="6986"/>
                        </a:lnTo>
                        <a:lnTo>
                          <a:pt x="8438" y="6987"/>
                        </a:lnTo>
                        <a:lnTo>
                          <a:pt x="8376" y="6986"/>
                        </a:lnTo>
                        <a:lnTo>
                          <a:pt x="8316" y="6984"/>
                        </a:lnTo>
                        <a:lnTo>
                          <a:pt x="8256" y="6981"/>
                        </a:lnTo>
                        <a:lnTo>
                          <a:pt x="8197" y="6977"/>
                        </a:lnTo>
                        <a:lnTo>
                          <a:pt x="8138" y="6970"/>
                        </a:lnTo>
                        <a:lnTo>
                          <a:pt x="8080" y="6963"/>
                        </a:lnTo>
                        <a:lnTo>
                          <a:pt x="8022" y="6954"/>
                        </a:lnTo>
                        <a:lnTo>
                          <a:pt x="7965" y="6945"/>
                        </a:lnTo>
                        <a:lnTo>
                          <a:pt x="7908" y="6933"/>
                        </a:lnTo>
                        <a:lnTo>
                          <a:pt x="7852" y="6921"/>
                        </a:lnTo>
                        <a:lnTo>
                          <a:pt x="7797" y="6907"/>
                        </a:lnTo>
                        <a:lnTo>
                          <a:pt x="7742" y="6892"/>
                        </a:lnTo>
                        <a:lnTo>
                          <a:pt x="7688" y="6875"/>
                        </a:lnTo>
                        <a:lnTo>
                          <a:pt x="7635" y="6857"/>
                        </a:lnTo>
                        <a:lnTo>
                          <a:pt x="7581" y="6839"/>
                        </a:lnTo>
                        <a:lnTo>
                          <a:pt x="7528" y="6817"/>
                        </a:lnTo>
                        <a:lnTo>
                          <a:pt x="7477" y="6796"/>
                        </a:lnTo>
                        <a:lnTo>
                          <a:pt x="7425" y="6773"/>
                        </a:lnTo>
                        <a:lnTo>
                          <a:pt x="7374" y="6749"/>
                        </a:lnTo>
                        <a:lnTo>
                          <a:pt x="7325" y="6723"/>
                        </a:lnTo>
                        <a:lnTo>
                          <a:pt x="7274" y="6695"/>
                        </a:lnTo>
                        <a:lnTo>
                          <a:pt x="7226" y="6667"/>
                        </a:lnTo>
                        <a:lnTo>
                          <a:pt x="7177" y="6637"/>
                        </a:lnTo>
                        <a:lnTo>
                          <a:pt x="7130" y="6607"/>
                        </a:lnTo>
                        <a:lnTo>
                          <a:pt x="7082" y="6574"/>
                        </a:lnTo>
                        <a:lnTo>
                          <a:pt x="7035" y="6540"/>
                        </a:lnTo>
                        <a:lnTo>
                          <a:pt x="6988" y="6505"/>
                        </a:lnTo>
                        <a:lnTo>
                          <a:pt x="6943" y="6469"/>
                        </a:lnTo>
                        <a:lnTo>
                          <a:pt x="6898" y="6431"/>
                        </a:lnTo>
                        <a:lnTo>
                          <a:pt x="6853" y="6392"/>
                        </a:lnTo>
                        <a:lnTo>
                          <a:pt x="6809" y="6352"/>
                        </a:lnTo>
                        <a:lnTo>
                          <a:pt x="6766" y="6309"/>
                        </a:lnTo>
                        <a:lnTo>
                          <a:pt x="6724" y="6267"/>
                        </a:lnTo>
                        <a:lnTo>
                          <a:pt x="6683" y="6223"/>
                        </a:lnTo>
                        <a:lnTo>
                          <a:pt x="6642" y="6180"/>
                        </a:lnTo>
                        <a:lnTo>
                          <a:pt x="6604" y="6135"/>
                        </a:lnTo>
                        <a:lnTo>
                          <a:pt x="6568" y="6090"/>
                        </a:lnTo>
                        <a:lnTo>
                          <a:pt x="6532" y="6045"/>
                        </a:lnTo>
                        <a:lnTo>
                          <a:pt x="6498" y="6000"/>
                        </a:lnTo>
                        <a:lnTo>
                          <a:pt x="6464" y="5953"/>
                        </a:lnTo>
                        <a:lnTo>
                          <a:pt x="6433" y="5906"/>
                        </a:lnTo>
                        <a:lnTo>
                          <a:pt x="6403" y="5858"/>
                        </a:lnTo>
                        <a:lnTo>
                          <a:pt x="6373" y="5811"/>
                        </a:lnTo>
                        <a:lnTo>
                          <a:pt x="6346" y="5761"/>
                        </a:lnTo>
                        <a:lnTo>
                          <a:pt x="6320" y="5713"/>
                        </a:lnTo>
                        <a:lnTo>
                          <a:pt x="6295" y="5663"/>
                        </a:lnTo>
                        <a:lnTo>
                          <a:pt x="6272" y="5613"/>
                        </a:lnTo>
                        <a:lnTo>
                          <a:pt x="6250" y="5562"/>
                        </a:lnTo>
                        <a:lnTo>
                          <a:pt x="6229" y="5512"/>
                        </a:lnTo>
                        <a:lnTo>
                          <a:pt x="6209" y="5459"/>
                        </a:lnTo>
                        <a:lnTo>
                          <a:pt x="6191" y="5407"/>
                        </a:lnTo>
                        <a:lnTo>
                          <a:pt x="6174" y="5354"/>
                        </a:lnTo>
                        <a:lnTo>
                          <a:pt x="6159" y="5301"/>
                        </a:lnTo>
                        <a:lnTo>
                          <a:pt x="6145" y="5247"/>
                        </a:lnTo>
                        <a:lnTo>
                          <a:pt x="6132" y="5193"/>
                        </a:lnTo>
                        <a:lnTo>
                          <a:pt x="6120" y="5137"/>
                        </a:lnTo>
                        <a:lnTo>
                          <a:pt x="6111" y="5083"/>
                        </a:lnTo>
                        <a:lnTo>
                          <a:pt x="6102" y="5027"/>
                        </a:lnTo>
                        <a:lnTo>
                          <a:pt x="6095" y="4970"/>
                        </a:lnTo>
                        <a:lnTo>
                          <a:pt x="6089" y="4913"/>
                        </a:lnTo>
                        <a:lnTo>
                          <a:pt x="6084" y="4855"/>
                        </a:lnTo>
                        <a:lnTo>
                          <a:pt x="6080" y="4797"/>
                        </a:lnTo>
                        <a:lnTo>
                          <a:pt x="6078" y="4739"/>
                        </a:lnTo>
                        <a:lnTo>
                          <a:pt x="6078" y="4679"/>
                        </a:lnTo>
                        <a:lnTo>
                          <a:pt x="6078" y="4626"/>
                        </a:lnTo>
                        <a:lnTo>
                          <a:pt x="6080" y="4573"/>
                        </a:lnTo>
                        <a:lnTo>
                          <a:pt x="6083" y="4522"/>
                        </a:lnTo>
                        <a:lnTo>
                          <a:pt x="6088" y="4469"/>
                        </a:lnTo>
                        <a:lnTo>
                          <a:pt x="6093" y="4417"/>
                        </a:lnTo>
                        <a:lnTo>
                          <a:pt x="6099" y="4366"/>
                        </a:lnTo>
                        <a:lnTo>
                          <a:pt x="6107" y="4314"/>
                        </a:lnTo>
                        <a:lnTo>
                          <a:pt x="6115" y="4262"/>
                        </a:lnTo>
                        <a:lnTo>
                          <a:pt x="6126" y="4212"/>
                        </a:lnTo>
                        <a:lnTo>
                          <a:pt x="6136" y="4160"/>
                        </a:lnTo>
                        <a:lnTo>
                          <a:pt x="6149" y="4110"/>
                        </a:lnTo>
                        <a:lnTo>
                          <a:pt x="6161" y="4059"/>
                        </a:lnTo>
                        <a:lnTo>
                          <a:pt x="6176" y="4010"/>
                        </a:lnTo>
                        <a:lnTo>
                          <a:pt x="6191" y="3960"/>
                        </a:lnTo>
                        <a:lnTo>
                          <a:pt x="6208" y="3910"/>
                        </a:lnTo>
                        <a:lnTo>
                          <a:pt x="6226" y="3861"/>
                        </a:lnTo>
                        <a:lnTo>
                          <a:pt x="8636" y="4954"/>
                        </a:lnTo>
                        <a:lnTo>
                          <a:pt x="7504" y="2566"/>
                        </a:lnTo>
                        <a:lnTo>
                          <a:pt x="7560" y="2542"/>
                        </a:lnTo>
                        <a:lnTo>
                          <a:pt x="7616" y="2520"/>
                        </a:lnTo>
                        <a:lnTo>
                          <a:pt x="7672" y="2499"/>
                        </a:lnTo>
                        <a:lnTo>
                          <a:pt x="7729" y="2480"/>
                        </a:lnTo>
                        <a:lnTo>
                          <a:pt x="7786" y="2462"/>
                        </a:lnTo>
                        <a:lnTo>
                          <a:pt x="7843" y="2446"/>
                        </a:lnTo>
                        <a:lnTo>
                          <a:pt x="7901" y="2432"/>
                        </a:lnTo>
                        <a:lnTo>
                          <a:pt x="7959" y="2418"/>
                        </a:lnTo>
                        <a:lnTo>
                          <a:pt x="8017" y="2406"/>
                        </a:lnTo>
                        <a:lnTo>
                          <a:pt x="8076" y="2396"/>
                        </a:lnTo>
                        <a:lnTo>
                          <a:pt x="8135" y="2387"/>
                        </a:lnTo>
                        <a:lnTo>
                          <a:pt x="8195" y="2381"/>
                        </a:lnTo>
                        <a:lnTo>
                          <a:pt x="8255" y="2375"/>
                        </a:lnTo>
                        <a:lnTo>
                          <a:pt x="8315" y="2372"/>
                        </a:lnTo>
                        <a:lnTo>
                          <a:pt x="8376" y="2369"/>
                        </a:lnTo>
                        <a:lnTo>
                          <a:pt x="8438" y="2368"/>
                        </a:lnTo>
                        <a:lnTo>
                          <a:pt x="8498" y="2368"/>
                        </a:lnTo>
                        <a:lnTo>
                          <a:pt x="8558" y="2371"/>
                        </a:lnTo>
                        <a:lnTo>
                          <a:pt x="8617" y="2374"/>
                        </a:lnTo>
                        <a:lnTo>
                          <a:pt x="8676" y="2379"/>
                        </a:lnTo>
                        <a:lnTo>
                          <a:pt x="8735" y="2384"/>
                        </a:lnTo>
                        <a:lnTo>
                          <a:pt x="8792" y="2392"/>
                        </a:lnTo>
                        <a:lnTo>
                          <a:pt x="8850" y="2400"/>
                        </a:lnTo>
                        <a:lnTo>
                          <a:pt x="8906" y="2411"/>
                        </a:lnTo>
                        <a:lnTo>
                          <a:pt x="8963" y="2421"/>
                        </a:lnTo>
                        <a:lnTo>
                          <a:pt x="9018" y="2434"/>
                        </a:lnTo>
                        <a:lnTo>
                          <a:pt x="9073" y="2449"/>
                        </a:lnTo>
                        <a:lnTo>
                          <a:pt x="9127" y="2463"/>
                        </a:lnTo>
                        <a:lnTo>
                          <a:pt x="9182" y="2480"/>
                        </a:lnTo>
                        <a:lnTo>
                          <a:pt x="9235" y="2497"/>
                        </a:lnTo>
                        <a:lnTo>
                          <a:pt x="9289" y="2517"/>
                        </a:lnTo>
                        <a:lnTo>
                          <a:pt x="9340" y="2537"/>
                        </a:lnTo>
                        <a:lnTo>
                          <a:pt x="9393" y="2559"/>
                        </a:lnTo>
                        <a:lnTo>
                          <a:pt x="9444" y="2582"/>
                        </a:lnTo>
                        <a:lnTo>
                          <a:pt x="9494" y="2607"/>
                        </a:lnTo>
                        <a:lnTo>
                          <a:pt x="9545" y="2632"/>
                        </a:lnTo>
                        <a:lnTo>
                          <a:pt x="9594" y="2659"/>
                        </a:lnTo>
                        <a:lnTo>
                          <a:pt x="9644" y="2688"/>
                        </a:lnTo>
                        <a:lnTo>
                          <a:pt x="9693" y="2717"/>
                        </a:lnTo>
                        <a:lnTo>
                          <a:pt x="9741" y="2749"/>
                        </a:lnTo>
                        <a:lnTo>
                          <a:pt x="9789" y="2782"/>
                        </a:lnTo>
                        <a:lnTo>
                          <a:pt x="9835" y="2815"/>
                        </a:lnTo>
                        <a:lnTo>
                          <a:pt x="9881" y="2850"/>
                        </a:lnTo>
                        <a:lnTo>
                          <a:pt x="9928" y="2887"/>
                        </a:lnTo>
                        <a:lnTo>
                          <a:pt x="9973" y="2924"/>
                        </a:lnTo>
                        <a:lnTo>
                          <a:pt x="10017" y="2964"/>
                        </a:lnTo>
                        <a:lnTo>
                          <a:pt x="10062" y="3004"/>
                        </a:lnTo>
                        <a:lnTo>
                          <a:pt x="10106" y="3046"/>
                        </a:lnTo>
                        <a:lnTo>
                          <a:pt x="10148" y="3088"/>
                        </a:lnTo>
                        <a:lnTo>
                          <a:pt x="10189" y="3132"/>
                        </a:lnTo>
                        <a:lnTo>
                          <a:pt x="10228" y="3176"/>
                        </a:lnTo>
                        <a:lnTo>
                          <a:pt x="10267" y="3220"/>
                        </a:lnTo>
                        <a:lnTo>
                          <a:pt x="10304" y="3264"/>
                        </a:lnTo>
                        <a:lnTo>
                          <a:pt x="10340" y="3310"/>
                        </a:lnTo>
                        <a:lnTo>
                          <a:pt x="10375" y="3356"/>
                        </a:lnTo>
                        <a:lnTo>
                          <a:pt x="10408" y="3402"/>
                        </a:lnTo>
                        <a:lnTo>
                          <a:pt x="10439" y="3450"/>
                        </a:lnTo>
                        <a:lnTo>
                          <a:pt x="10470" y="3497"/>
                        </a:lnTo>
                        <a:lnTo>
                          <a:pt x="10498" y="3545"/>
                        </a:lnTo>
                        <a:lnTo>
                          <a:pt x="10527" y="3593"/>
                        </a:lnTo>
                        <a:lnTo>
                          <a:pt x="10553" y="3643"/>
                        </a:lnTo>
                        <a:lnTo>
                          <a:pt x="10577" y="3692"/>
                        </a:lnTo>
                        <a:lnTo>
                          <a:pt x="10602" y="3743"/>
                        </a:lnTo>
                        <a:lnTo>
                          <a:pt x="10624" y="3793"/>
                        </a:lnTo>
                        <a:lnTo>
                          <a:pt x="10645" y="3845"/>
                        </a:lnTo>
                        <a:lnTo>
                          <a:pt x="10664" y="3897"/>
                        </a:lnTo>
                        <a:lnTo>
                          <a:pt x="10683" y="3948"/>
                        </a:lnTo>
                        <a:lnTo>
                          <a:pt x="10700" y="4002"/>
                        </a:lnTo>
                        <a:lnTo>
                          <a:pt x="10715" y="4055"/>
                        </a:lnTo>
                        <a:lnTo>
                          <a:pt x="10729" y="4110"/>
                        </a:lnTo>
                        <a:lnTo>
                          <a:pt x="10742" y="4163"/>
                        </a:lnTo>
                        <a:lnTo>
                          <a:pt x="10754" y="4219"/>
                        </a:lnTo>
                        <a:lnTo>
                          <a:pt x="10764" y="4274"/>
                        </a:lnTo>
                        <a:lnTo>
                          <a:pt x="10773" y="4331"/>
                        </a:lnTo>
                        <a:lnTo>
                          <a:pt x="10780" y="4388"/>
                        </a:lnTo>
                        <a:lnTo>
                          <a:pt x="10786" y="4445"/>
                        </a:lnTo>
                        <a:lnTo>
                          <a:pt x="10791" y="4503"/>
                        </a:lnTo>
                        <a:lnTo>
                          <a:pt x="10795" y="4561"/>
                        </a:lnTo>
                        <a:lnTo>
                          <a:pt x="10796" y="4620"/>
                        </a:lnTo>
                        <a:lnTo>
                          <a:pt x="10797" y="4679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41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4" name="Oval 653"/>
                  <p:cNvSpPr/>
                  <p:nvPr/>
                </p:nvSpPr>
                <p:spPr>
                  <a:xfrm>
                    <a:off x="5223600" y="4764960"/>
                    <a:ext cx="155160" cy="155160"/>
                  </a:xfrm>
                  <a:prstGeom prst="ellipse">
                    <a:avLst/>
                  </a:pr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1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5" name="AutoShape 654"/>
                  <p:cNvSpPr/>
                  <p:nvPr/>
                </p:nvSpPr>
                <p:spPr>
                  <a:xfrm>
                    <a:off x="5173920" y="4712400"/>
                    <a:ext cx="255600" cy="255600"/>
                  </a:xfrm>
                  <a:custGeom>
                    <a:avLst/>
                    <a:gdLst>
                      <a:gd name="textAreaLeft" fmla="*/ 37440 w 255600"/>
                      <a:gd name="textAreaRight" fmla="*/ 218160 w 255600"/>
                      <a:gd name="textAreaTop" fmla="*/ 37440 h 255600"/>
                      <a:gd name="textAreaBottom" fmla="*/ 218160 h 255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2582" y="10800"/>
                        </a:moveTo>
                        <a:cubicBezTo>
                          <a:pt x="2582" y="15339"/>
                          <a:pt x="6261" y="19018"/>
                          <a:pt x="10800" y="19018"/>
                        </a:cubicBezTo>
                        <a:cubicBezTo>
                          <a:pt x="15339" y="19018"/>
                          <a:pt x="19018" y="15339"/>
                          <a:pt x="19018" y="10800"/>
                        </a:cubicBezTo>
                        <a:cubicBezTo>
                          <a:pt x="19018" y="6261"/>
                          <a:pt x="15339" y="2582"/>
                          <a:pt x="10800" y="2582"/>
                        </a:cubicBezTo>
                        <a:cubicBezTo>
                          <a:pt x="6261" y="2582"/>
                          <a:pt x="2582" y="6261"/>
                          <a:pt x="2582" y="10800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41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16" name="AutoShape 656"/>
                <p:cNvSpPr/>
                <p:nvPr/>
              </p:nvSpPr>
              <p:spPr>
                <a:xfrm rot="1198200">
                  <a:off x="5267160" y="4776840"/>
                  <a:ext cx="52560" cy="50760"/>
                </a:xfrm>
                <a:prstGeom prst="triangle">
                  <a:avLst>
                    <a:gd name="adj" fmla="val 50000"/>
                  </a:avLst>
                </a:pr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17" name="组合 131"/>
          <p:cNvGrpSpPr/>
          <p:nvPr/>
        </p:nvGrpSpPr>
        <p:grpSpPr>
          <a:xfrm>
            <a:off x="2165040" y="4369680"/>
            <a:ext cx="922320" cy="922320"/>
            <a:chOff x="2165040" y="4369680"/>
            <a:chExt cx="922320" cy="922320"/>
          </a:xfrm>
        </p:grpSpPr>
        <p:sp>
          <p:nvSpPr>
            <p:cNvPr id="618" name="椭圆 66"/>
            <p:cNvSpPr/>
            <p:nvPr/>
          </p:nvSpPr>
          <p:spPr>
            <a:xfrm>
              <a:off x="2165040" y="436968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19" name="组合 79"/>
            <p:cNvGrpSpPr/>
            <p:nvPr/>
          </p:nvGrpSpPr>
          <p:grpSpPr>
            <a:xfrm>
              <a:off x="2306520" y="4515480"/>
              <a:ext cx="647280" cy="647280"/>
              <a:chOff x="2306520" y="4515480"/>
              <a:chExt cx="647280" cy="647280"/>
            </a:xfrm>
          </p:grpSpPr>
          <p:sp>
            <p:nvSpPr>
              <p:cNvPr id="620" name="椭圆 80"/>
              <p:cNvSpPr/>
              <p:nvPr/>
            </p:nvSpPr>
            <p:spPr>
              <a:xfrm>
                <a:off x="2306520" y="4515480"/>
                <a:ext cx="647280" cy="647280"/>
              </a:xfrm>
              <a:prstGeom prst="ellipse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21" name="Freeform 140"/>
              <p:cNvSpPr/>
              <p:nvPr/>
            </p:nvSpPr>
            <p:spPr>
              <a:xfrm>
                <a:off x="2410200" y="4605120"/>
                <a:ext cx="435240" cy="415440"/>
              </a:xfrm>
              <a:custGeom>
                <a:avLst/>
                <a:gdLst>
                  <a:gd name="textAreaLeft" fmla="*/ 0 w 435240"/>
                  <a:gd name="textAreaRight" fmla="*/ 435600 w 435240"/>
                  <a:gd name="textAreaTop" fmla="*/ 0 h 415440"/>
                  <a:gd name="textAreaBottom" fmla="*/ 415800 h 415440"/>
                </a:gdLst>
                <a:ahLst/>
                <a:rect l="textAreaLeft" t="textAreaTop" r="textAreaRight" b="textAreaBottom"/>
                <a:pathLst>
                  <a:path w="9909" h="12980">
                    <a:moveTo>
                      <a:pt x="9899" y="5055"/>
                    </a:moveTo>
                    <a:lnTo>
                      <a:pt x="9002" y="8561"/>
                    </a:lnTo>
                    <a:lnTo>
                      <a:pt x="8936" y="8627"/>
                    </a:lnTo>
                    <a:lnTo>
                      <a:pt x="8925" y="8631"/>
                    </a:lnTo>
                    <a:lnTo>
                      <a:pt x="8914" y="8634"/>
                    </a:lnTo>
                    <a:lnTo>
                      <a:pt x="8904" y="8635"/>
                    </a:lnTo>
                    <a:lnTo>
                      <a:pt x="8894" y="8635"/>
                    </a:lnTo>
                    <a:lnTo>
                      <a:pt x="8886" y="8633"/>
                    </a:lnTo>
                    <a:lnTo>
                      <a:pt x="8878" y="8630"/>
                    </a:lnTo>
                    <a:lnTo>
                      <a:pt x="8871" y="8626"/>
                    </a:lnTo>
                    <a:lnTo>
                      <a:pt x="8865" y="8620"/>
                    </a:lnTo>
                    <a:lnTo>
                      <a:pt x="8854" y="8608"/>
                    </a:lnTo>
                    <a:lnTo>
                      <a:pt x="8845" y="8598"/>
                    </a:lnTo>
                    <a:lnTo>
                      <a:pt x="8842" y="8593"/>
                    </a:lnTo>
                    <a:lnTo>
                      <a:pt x="8840" y="8588"/>
                    </a:lnTo>
                    <a:lnTo>
                      <a:pt x="8839" y="8583"/>
                    </a:lnTo>
                    <a:lnTo>
                      <a:pt x="8839" y="8578"/>
                    </a:lnTo>
                    <a:lnTo>
                      <a:pt x="8398" y="7420"/>
                    </a:lnTo>
                    <a:lnTo>
                      <a:pt x="6778" y="9028"/>
                    </a:lnTo>
                    <a:lnTo>
                      <a:pt x="6747" y="9060"/>
                    </a:lnTo>
                    <a:lnTo>
                      <a:pt x="6716" y="9092"/>
                    </a:lnTo>
                    <a:lnTo>
                      <a:pt x="6685" y="9125"/>
                    </a:lnTo>
                    <a:lnTo>
                      <a:pt x="6656" y="9158"/>
                    </a:lnTo>
                    <a:lnTo>
                      <a:pt x="6626" y="9191"/>
                    </a:lnTo>
                    <a:lnTo>
                      <a:pt x="6597" y="9225"/>
                    </a:lnTo>
                    <a:lnTo>
                      <a:pt x="6568" y="9259"/>
                    </a:lnTo>
                    <a:lnTo>
                      <a:pt x="6539" y="9293"/>
                    </a:lnTo>
                    <a:lnTo>
                      <a:pt x="6512" y="9328"/>
                    </a:lnTo>
                    <a:lnTo>
                      <a:pt x="6484" y="9364"/>
                    </a:lnTo>
                    <a:lnTo>
                      <a:pt x="6457" y="9399"/>
                    </a:lnTo>
                    <a:lnTo>
                      <a:pt x="6430" y="9434"/>
                    </a:lnTo>
                    <a:lnTo>
                      <a:pt x="6404" y="9471"/>
                    </a:lnTo>
                    <a:lnTo>
                      <a:pt x="6378" y="9508"/>
                    </a:lnTo>
                    <a:lnTo>
                      <a:pt x="6353" y="9545"/>
                    </a:lnTo>
                    <a:lnTo>
                      <a:pt x="6328" y="9581"/>
                    </a:lnTo>
                    <a:lnTo>
                      <a:pt x="6303" y="9619"/>
                    </a:lnTo>
                    <a:lnTo>
                      <a:pt x="6279" y="9657"/>
                    </a:lnTo>
                    <a:lnTo>
                      <a:pt x="6255" y="9696"/>
                    </a:lnTo>
                    <a:lnTo>
                      <a:pt x="6231" y="9734"/>
                    </a:lnTo>
                    <a:lnTo>
                      <a:pt x="6209" y="9773"/>
                    </a:lnTo>
                    <a:lnTo>
                      <a:pt x="6186" y="9813"/>
                    </a:lnTo>
                    <a:lnTo>
                      <a:pt x="6164" y="9853"/>
                    </a:lnTo>
                    <a:lnTo>
                      <a:pt x="6142" y="9893"/>
                    </a:lnTo>
                    <a:lnTo>
                      <a:pt x="6121" y="9934"/>
                    </a:lnTo>
                    <a:lnTo>
                      <a:pt x="6099" y="9974"/>
                    </a:lnTo>
                    <a:lnTo>
                      <a:pt x="6079" y="10016"/>
                    </a:lnTo>
                    <a:lnTo>
                      <a:pt x="6059" y="10057"/>
                    </a:lnTo>
                    <a:lnTo>
                      <a:pt x="6039" y="10100"/>
                    </a:lnTo>
                    <a:lnTo>
                      <a:pt x="6020" y="10142"/>
                    </a:lnTo>
                    <a:lnTo>
                      <a:pt x="6001" y="10185"/>
                    </a:lnTo>
                    <a:lnTo>
                      <a:pt x="5982" y="10228"/>
                    </a:lnTo>
                    <a:lnTo>
                      <a:pt x="5965" y="10272"/>
                    </a:lnTo>
                    <a:lnTo>
                      <a:pt x="5947" y="10315"/>
                    </a:lnTo>
                    <a:lnTo>
                      <a:pt x="5931" y="10358"/>
                    </a:lnTo>
                    <a:lnTo>
                      <a:pt x="5915" y="10402"/>
                    </a:lnTo>
                    <a:lnTo>
                      <a:pt x="5899" y="10446"/>
                    </a:lnTo>
                    <a:lnTo>
                      <a:pt x="5884" y="10489"/>
                    </a:lnTo>
                    <a:lnTo>
                      <a:pt x="5870" y="10533"/>
                    </a:lnTo>
                    <a:lnTo>
                      <a:pt x="5855" y="10577"/>
                    </a:lnTo>
                    <a:lnTo>
                      <a:pt x="5842" y="10621"/>
                    </a:lnTo>
                    <a:lnTo>
                      <a:pt x="5830" y="10665"/>
                    </a:lnTo>
                    <a:lnTo>
                      <a:pt x="5818" y="10709"/>
                    </a:lnTo>
                    <a:lnTo>
                      <a:pt x="5806" y="10752"/>
                    </a:lnTo>
                    <a:lnTo>
                      <a:pt x="5795" y="10796"/>
                    </a:lnTo>
                    <a:lnTo>
                      <a:pt x="5785" y="10840"/>
                    </a:lnTo>
                    <a:lnTo>
                      <a:pt x="5775" y="10884"/>
                    </a:lnTo>
                    <a:lnTo>
                      <a:pt x="5766" y="10928"/>
                    </a:lnTo>
                    <a:lnTo>
                      <a:pt x="5756" y="10972"/>
                    </a:lnTo>
                    <a:lnTo>
                      <a:pt x="5748" y="11017"/>
                    </a:lnTo>
                    <a:lnTo>
                      <a:pt x="5740" y="11061"/>
                    </a:lnTo>
                    <a:lnTo>
                      <a:pt x="5733" y="11105"/>
                    </a:lnTo>
                    <a:lnTo>
                      <a:pt x="5727" y="11150"/>
                    </a:lnTo>
                    <a:lnTo>
                      <a:pt x="5721" y="11194"/>
                    </a:lnTo>
                    <a:lnTo>
                      <a:pt x="5716" y="11238"/>
                    </a:lnTo>
                    <a:lnTo>
                      <a:pt x="5710" y="11282"/>
                    </a:lnTo>
                    <a:lnTo>
                      <a:pt x="5706" y="11327"/>
                    </a:lnTo>
                    <a:lnTo>
                      <a:pt x="5702" y="11371"/>
                    </a:lnTo>
                    <a:lnTo>
                      <a:pt x="5699" y="11416"/>
                    </a:lnTo>
                    <a:lnTo>
                      <a:pt x="5697" y="11461"/>
                    </a:lnTo>
                    <a:lnTo>
                      <a:pt x="5695" y="11506"/>
                    </a:lnTo>
                    <a:lnTo>
                      <a:pt x="5693" y="11551"/>
                    </a:lnTo>
                    <a:lnTo>
                      <a:pt x="5692" y="11596"/>
                    </a:lnTo>
                    <a:lnTo>
                      <a:pt x="5692" y="11641"/>
                    </a:lnTo>
                    <a:lnTo>
                      <a:pt x="5692" y="12980"/>
                    </a:lnTo>
                    <a:lnTo>
                      <a:pt x="4209" y="12980"/>
                    </a:lnTo>
                    <a:lnTo>
                      <a:pt x="4209" y="11644"/>
                    </a:lnTo>
                    <a:lnTo>
                      <a:pt x="4209" y="11598"/>
                    </a:lnTo>
                    <a:lnTo>
                      <a:pt x="4208" y="11552"/>
                    </a:lnTo>
                    <a:lnTo>
                      <a:pt x="4206" y="11507"/>
                    </a:lnTo>
                    <a:lnTo>
                      <a:pt x="4205" y="11461"/>
                    </a:lnTo>
                    <a:lnTo>
                      <a:pt x="4202" y="11416"/>
                    </a:lnTo>
                    <a:lnTo>
                      <a:pt x="4199" y="11370"/>
                    </a:lnTo>
                    <a:lnTo>
                      <a:pt x="4196" y="11325"/>
                    </a:lnTo>
                    <a:lnTo>
                      <a:pt x="4192" y="11280"/>
                    </a:lnTo>
                    <a:lnTo>
                      <a:pt x="4186" y="11235"/>
                    </a:lnTo>
                    <a:lnTo>
                      <a:pt x="4181" y="11190"/>
                    </a:lnTo>
                    <a:lnTo>
                      <a:pt x="4176" y="11146"/>
                    </a:lnTo>
                    <a:lnTo>
                      <a:pt x="4170" y="11102"/>
                    </a:lnTo>
                    <a:lnTo>
                      <a:pt x="4163" y="11057"/>
                    </a:lnTo>
                    <a:lnTo>
                      <a:pt x="4156" y="11013"/>
                    </a:lnTo>
                    <a:lnTo>
                      <a:pt x="4148" y="10968"/>
                    </a:lnTo>
                    <a:lnTo>
                      <a:pt x="4139" y="10924"/>
                    </a:lnTo>
                    <a:lnTo>
                      <a:pt x="4131" y="10880"/>
                    </a:lnTo>
                    <a:lnTo>
                      <a:pt x="4121" y="10836"/>
                    </a:lnTo>
                    <a:lnTo>
                      <a:pt x="4111" y="10792"/>
                    </a:lnTo>
                    <a:lnTo>
                      <a:pt x="4101" y="10748"/>
                    </a:lnTo>
                    <a:lnTo>
                      <a:pt x="4089" y="10704"/>
                    </a:lnTo>
                    <a:lnTo>
                      <a:pt x="4078" y="10662"/>
                    </a:lnTo>
                    <a:lnTo>
                      <a:pt x="4066" y="10618"/>
                    </a:lnTo>
                    <a:lnTo>
                      <a:pt x="4054" y="10575"/>
                    </a:lnTo>
                    <a:lnTo>
                      <a:pt x="4039" y="10531"/>
                    </a:lnTo>
                    <a:lnTo>
                      <a:pt x="4026" y="10488"/>
                    </a:lnTo>
                    <a:lnTo>
                      <a:pt x="4012" y="10445"/>
                    </a:lnTo>
                    <a:lnTo>
                      <a:pt x="3997" y="10402"/>
                    </a:lnTo>
                    <a:lnTo>
                      <a:pt x="3981" y="10359"/>
                    </a:lnTo>
                    <a:lnTo>
                      <a:pt x="3965" y="10316"/>
                    </a:lnTo>
                    <a:lnTo>
                      <a:pt x="3949" y="10274"/>
                    </a:lnTo>
                    <a:lnTo>
                      <a:pt x="3931" y="10232"/>
                    </a:lnTo>
                    <a:lnTo>
                      <a:pt x="3914" y="10190"/>
                    </a:lnTo>
                    <a:lnTo>
                      <a:pt x="3896" y="10148"/>
                    </a:lnTo>
                    <a:lnTo>
                      <a:pt x="3877" y="10106"/>
                    </a:lnTo>
                    <a:lnTo>
                      <a:pt x="3858" y="10065"/>
                    </a:lnTo>
                    <a:lnTo>
                      <a:pt x="3819" y="9984"/>
                    </a:lnTo>
                    <a:lnTo>
                      <a:pt x="3777" y="9904"/>
                    </a:lnTo>
                    <a:lnTo>
                      <a:pt x="3756" y="9864"/>
                    </a:lnTo>
                    <a:lnTo>
                      <a:pt x="3734" y="9824"/>
                    </a:lnTo>
                    <a:lnTo>
                      <a:pt x="3712" y="9785"/>
                    </a:lnTo>
                    <a:lnTo>
                      <a:pt x="3689" y="9747"/>
                    </a:lnTo>
                    <a:lnTo>
                      <a:pt x="3642" y="9670"/>
                    </a:lnTo>
                    <a:lnTo>
                      <a:pt x="3593" y="9595"/>
                    </a:lnTo>
                    <a:lnTo>
                      <a:pt x="3568" y="9558"/>
                    </a:lnTo>
                    <a:lnTo>
                      <a:pt x="3542" y="9521"/>
                    </a:lnTo>
                    <a:lnTo>
                      <a:pt x="3516" y="9484"/>
                    </a:lnTo>
                    <a:lnTo>
                      <a:pt x="3489" y="9448"/>
                    </a:lnTo>
                    <a:lnTo>
                      <a:pt x="3463" y="9412"/>
                    </a:lnTo>
                    <a:lnTo>
                      <a:pt x="3435" y="9376"/>
                    </a:lnTo>
                    <a:lnTo>
                      <a:pt x="3407" y="9340"/>
                    </a:lnTo>
                    <a:lnTo>
                      <a:pt x="3379" y="9306"/>
                    </a:lnTo>
                    <a:lnTo>
                      <a:pt x="3349" y="9271"/>
                    </a:lnTo>
                    <a:lnTo>
                      <a:pt x="3320" y="9236"/>
                    </a:lnTo>
                    <a:lnTo>
                      <a:pt x="3290" y="9201"/>
                    </a:lnTo>
                    <a:lnTo>
                      <a:pt x="3260" y="9168"/>
                    </a:lnTo>
                    <a:lnTo>
                      <a:pt x="3229" y="9134"/>
                    </a:lnTo>
                    <a:lnTo>
                      <a:pt x="3197" y="9100"/>
                    </a:lnTo>
                    <a:lnTo>
                      <a:pt x="3165" y="9068"/>
                    </a:lnTo>
                    <a:lnTo>
                      <a:pt x="3133" y="9034"/>
                    </a:lnTo>
                    <a:lnTo>
                      <a:pt x="1503" y="7403"/>
                    </a:lnTo>
                    <a:lnTo>
                      <a:pt x="1062" y="8578"/>
                    </a:lnTo>
                    <a:lnTo>
                      <a:pt x="981" y="8627"/>
                    </a:lnTo>
                    <a:lnTo>
                      <a:pt x="899" y="8561"/>
                    </a:lnTo>
                    <a:lnTo>
                      <a:pt x="2" y="5055"/>
                    </a:lnTo>
                    <a:lnTo>
                      <a:pt x="1" y="5045"/>
                    </a:lnTo>
                    <a:lnTo>
                      <a:pt x="0" y="5034"/>
                    </a:lnTo>
                    <a:lnTo>
                      <a:pt x="0" y="5025"/>
                    </a:lnTo>
                    <a:lnTo>
                      <a:pt x="0" y="5015"/>
                    </a:lnTo>
                    <a:lnTo>
                      <a:pt x="1" y="5005"/>
                    </a:lnTo>
                    <a:lnTo>
                      <a:pt x="2" y="4996"/>
                    </a:lnTo>
                    <a:lnTo>
                      <a:pt x="4" y="4986"/>
                    </a:lnTo>
                    <a:lnTo>
                      <a:pt x="7" y="4977"/>
                    </a:lnTo>
                    <a:lnTo>
                      <a:pt x="10" y="4968"/>
                    </a:lnTo>
                    <a:lnTo>
                      <a:pt x="14" y="4959"/>
                    </a:lnTo>
                    <a:lnTo>
                      <a:pt x="20" y="4951"/>
                    </a:lnTo>
                    <a:lnTo>
                      <a:pt x="25" y="4942"/>
                    </a:lnTo>
                    <a:lnTo>
                      <a:pt x="30" y="4933"/>
                    </a:lnTo>
                    <a:lnTo>
                      <a:pt x="37" y="4925"/>
                    </a:lnTo>
                    <a:lnTo>
                      <a:pt x="44" y="4917"/>
                    </a:lnTo>
                    <a:lnTo>
                      <a:pt x="51" y="4909"/>
                    </a:lnTo>
                    <a:lnTo>
                      <a:pt x="59" y="4901"/>
                    </a:lnTo>
                    <a:lnTo>
                      <a:pt x="68" y="4894"/>
                    </a:lnTo>
                    <a:lnTo>
                      <a:pt x="76" y="4887"/>
                    </a:lnTo>
                    <a:lnTo>
                      <a:pt x="84" y="4881"/>
                    </a:lnTo>
                    <a:lnTo>
                      <a:pt x="93" y="4876"/>
                    </a:lnTo>
                    <a:lnTo>
                      <a:pt x="101" y="4872"/>
                    </a:lnTo>
                    <a:lnTo>
                      <a:pt x="110" y="4868"/>
                    </a:lnTo>
                    <a:lnTo>
                      <a:pt x="120" y="4865"/>
                    </a:lnTo>
                    <a:lnTo>
                      <a:pt x="129" y="4862"/>
                    </a:lnTo>
                    <a:lnTo>
                      <a:pt x="138" y="4860"/>
                    </a:lnTo>
                    <a:lnTo>
                      <a:pt x="148" y="4858"/>
                    </a:lnTo>
                    <a:lnTo>
                      <a:pt x="157" y="4857"/>
                    </a:lnTo>
                    <a:lnTo>
                      <a:pt x="168" y="4857"/>
                    </a:lnTo>
                    <a:lnTo>
                      <a:pt x="178" y="4857"/>
                    </a:lnTo>
                    <a:lnTo>
                      <a:pt x="188" y="4858"/>
                    </a:lnTo>
                    <a:lnTo>
                      <a:pt x="198" y="4860"/>
                    </a:lnTo>
                    <a:lnTo>
                      <a:pt x="3704" y="5740"/>
                    </a:lnTo>
                    <a:lnTo>
                      <a:pt x="3708" y="5740"/>
                    </a:lnTo>
                    <a:lnTo>
                      <a:pt x="3712" y="5741"/>
                    </a:lnTo>
                    <a:lnTo>
                      <a:pt x="3716" y="5743"/>
                    </a:lnTo>
                    <a:lnTo>
                      <a:pt x="3720" y="5745"/>
                    </a:lnTo>
                    <a:lnTo>
                      <a:pt x="3728" y="5751"/>
                    </a:lnTo>
                    <a:lnTo>
                      <a:pt x="3736" y="5760"/>
                    </a:lnTo>
                    <a:lnTo>
                      <a:pt x="3743" y="5772"/>
                    </a:lnTo>
                    <a:lnTo>
                      <a:pt x="3752" y="5786"/>
                    </a:lnTo>
                    <a:lnTo>
                      <a:pt x="3760" y="5802"/>
                    </a:lnTo>
                    <a:lnTo>
                      <a:pt x="3769" y="5822"/>
                    </a:lnTo>
                    <a:lnTo>
                      <a:pt x="3772" y="5830"/>
                    </a:lnTo>
                    <a:lnTo>
                      <a:pt x="3774" y="5838"/>
                    </a:lnTo>
                    <a:lnTo>
                      <a:pt x="3775" y="5846"/>
                    </a:lnTo>
                    <a:lnTo>
                      <a:pt x="3775" y="5853"/>
                    </a:lnTo>
                    <a:lnTo>
                      <a:pt x="3774" y="5861"/>
                    </a:lnTo>
                    <a:lnTo>
                      <a:pt x="3771" y="5868"/>
                    </a:lnTo>
                    <a:lnTo>
                      <a:pt x="3767" y="5874"/>
                    </a:lnTo>
                    <a:lnTo>
                      <a:pt x="3762" y="5881"/>
                    </a:lnTo>
                    <a:lnTo>
                      <a:pt x="3756" y="5886"/>
                    </a:lnTo>
                    <a:lnTo>
                      <a:pt x="3750" y="5891"/>
                    </a:lnTo>
                    <a:lnTo>
                      <a:pt x="3743" y="5895"/>
                    </a:lnTo>
                    <a:lnTo>
                      <a:pt x="3738" y="5898"/>
                    </a:lnTo>
                    <a:lnTo>
                      <a:pt x="3733" y="5900"/>
                    </a:lnTo>
                    <a:lnTo>
                      <a:pt x="3728" y="5902"/>
                    </a:lnTo>
                    <a:lnTo>
                      <a:pt x="3724" y="5903"/>
                    </a:lnTo>
                    <a:lnTo>
                      <a:pt x="3720" y="5903"/>
                    </a:lnTo>
                    <a:lnTo>
                      <a:pt x="2579" y="6376"/>
                    </a:lnTo>
                    <a:lnTo>
                      <a:pt x="4209" y="8007"/>
                    </a:lnTo>
                    <a:lnTo>
                      <a:pt x="4209" y="2804"/>
                    </a:lnTo>
                    <a:lnTo>
                      <a:pt x="3084" y="3310"/>
                    </a:lnTo>
                    <a:lnTo>
                      <a:pt x="2986" y="3294"/>
                    </a:lnTo>
                    <a:lnTo>
                      <a:pt x="2983" y="3289"/>
                    </a:lnTo>
                    <a:lnTo>
                      <a:pt x="2979" y="3282"/>
                    </a:lnTo>
                    <a:lnTo>
                      <a:pt x="2977" y="3273"/>
                    </a:lnTo>
                    <a:lnTo>
                      <a:pt x="2974" y="3262"/>
                    </a:lnTo>
                    <a:lnTo>
                      <a:pt x="2972" y="3249"/>
                    </a:lnTo>
                    <a:lnTo>
                      <a:pt x="2971" y="3233"/>
                    </a:lnTo>
                    <a:lnTo>
                      <a:pt x="2970" y="3216"/>
                    </a:lnTo>
                    <a:lnTo>
                      <a:pt x="2970" y="3197"/>
                    </a:lnTo>
                    <a:lnTo>
                      <a:pt x="4829" y="65"/>
                    </a:lnTo>
                    <a:lnTo>
                      <a:pt x="4841" y="51"/>
                    </a:lnTo>
                    <a:lnTo>
                      <a:pt x="4854" y="37"/>
                    </a:lnTo>
                    <a:lnTo>
                      <a:pt x="4861" y="31"/>
                    </a:lnTo>
                    <a:lnTo>
                      <a:pt x="4869" y="26"/>
                    </a:lnTo>
                    <a:lnTo>
                      <a:pt x="4876" y="21"/>
                    </a:lnTo>
                    <a:lnTo>
                      <a:pt x="4885" y="17"/>
                    </a:lnTo>
                    <a:lnTo>
                      <a:pt x="4893" y="13"/>
                    </a:lnTo>
                    <a:lnTo>
                      <a:pt x="4902" y="10"/>
                    </a:lnTo>
                    <a:lnTo>
                      <a:pt x="4910" y="7"/>
                    </a:lnTo>
                    <a:lnTo>
                      <a:pt x="4919" y="4"/>
                    </a:lnTo>
                    <a:lnTo>
                      <a:pt x="4929" y="3"/>
                    </a:lnTo>
                    <a:lnTo>
                      <a:pt x="4939" y="1"/>
                    </a:lnTo>
                    <a:lnTo>
                      <a:pt x="4948" y="1"/>
                    </a:lnTo>
                    <a:lnTo>
                      <a:pt x="4958" y="0"/>
                    </a:lnTo>
                    <a:lnTo>
                      <a:pt x="4972" y="1"/>
                    </a:lnTo>
                    <a:lnTo>
                      <a:pt x="4986" y="1"/>
                    </a:lnTo>
                    <a:lnTo>
                      <a:pt x="4998" y="3"/>
                    </a:lnTo>
                    <a:lnTo>
                      <a:pt x="5009" y="4"/>
                    </a:lnTo>
                    <a:lnTo>
                      <a:pt x="5020" y="7"/>
                    </a:lnTo>
                    <a:lnTo>
                      <a:pt x="5031" y="10"/>
                    </a:lnTo>
                    <a:lnTo>
                      <a:pt x="5040" y="13"/>
                    </a:lnTo>
                    <a:lnTo>
                      <a:pt x="5048" y="17"/>
                    </a:lnTo>
                    <a:lnTo>
                      <a:pt x="5056" y="21"/>
                    </a:lnTo>
                    <a:lnTo>
                      <a:pt x="5063" y="26"/>
                    </a:lnTo>
                    <a:lnTo>
                      <a:pt x="5069" y="31"/>
                    </a:lnTo>
                    <a:lnTo>
                      <a:pt x="5076" y="37"/>
                    </a:lnTo>
                    <a:lnTo>
                      <a:pt x="5080" y="44"/>
                    </a:lnTo>
                    <a:lnTo>
                      <a:pt x="5084" y="51"/>
                    </a:lnTo>
                    <a:lnTo>
                      <a:pt x="5087" y="58"/>
                    </a:lnTo>
                    <a:lnTo>
                      <a:pt x="5089" y="65"/>
                    </a:lnTo>
                    <a:lnTo>
                      <a:pt x="6948" y="3197"/>
                    </a:lnTo>
                    <a:lnTo>
                      <a:pt x="6947" y="3216"/>
                    </a:lnTo>
                    <a:lnTo>
                      <a:pt x="6946" y="3233"/>
                    </a:lnTo>
                    <a:lnTo>
                      <a:pt x="6943" y="3249"/>
                    </a:lnTo>
                    <a:lnTo>
                      <a:pt x="6937" y="3262"/>
                    </a:lnTo>
                    <a:lnTo>
                      <a:pt x="6935" y="3268"/>
                    </a:lnTo>
                    <a:lnTo>
                      <a:pt x="6932" y="3273"/>
                    </a:lnTo>
                    <a:lnTo>
                      <a:pt x="6929" y="3278"/>
                    </a:lnTo>
                    <a:lnTo>
                      <a:pt x="6925" y="3282"/>
                    </a:lnTo>
                    <a:lnTo>
                      <a:pt x="6922" y="3286"/>
                    </a:lnTo>
                    <a:lnTo>
                      <a:pt x="6918" y="3289"/>
                    </a:lnTo>
                    <a:lnTo>
                      <a:pt x="6913" y="3292"/>
                    </a:lnTo>
                    <a:lnTo>
                      <a:pt x="6909" y="3294"/>
                    </a:lnTo>
                    <a:lnTo>
                      <a:pt x="6887" y="3301"/>
                    </a:lnTo>
                    <a:lnTo>
                      <a:pt x="6868" y="3306"/>
                    </a:lnTo>
                    <a:lnTo>
                      <a:pt x="6851" y="3309"/>
                    </a:lnTo>
                    <a:lnTo>
                      <a:pt x="6833" y="3310"/>
                    </a:lnTo>
                    <a:lnTo>
                      <a:pt x="5692" y="2804"/>
                    </a:lnTo>
                    <a:lnTo>
                      <a:pt x="5692" y="8007"/>
                    </a:lnTo>
                    <a:lnTo>
                      <a:pt x="7322" y="6343"/>
                    </a:lnTo>
                    <a:lnTo>
                      <a:pt x="6165" y="5936"/>
                    </a:lnTo>
                    <a:lnTo>
                      <a:pt x="6099" y="5854"/>
                    </a:lnTo>
                    <a:lnTo>
                      <a:pt x="6165" y="5773"/>
                    </a:lnTo>
                    <a:lnTo>
                      <a:pt x="9703" y="4860"/>
                    </a:lnTo>
                    <a:lnTo>
                      <a:pt x="9713" y="4856"/>
                    </a:lnTo>
                    <a:lnTo>
                      <a:pt x="9723" y="4853"/>
                    </a:lnTo>
                    <a:lnTo>
                      <a:pt x="9733" y="4851"/>
                    </a:lnTo>
                    <a:lnTo>
                      <a:pt x="9744" y="4849"/>
                    </a:lnTo>
                    <a:lnTo>
                      <a:pt x="9754" y="4849"/>
                    </a:lnTo>
                    <a:lnTo>
                      <a:pt x="9764" y="4849"/>
                    </a:lnTo>
                    <a:lnTo>
                      <a:pt x="9773" y="4850"/>
                    </a:lnTo>
                    <a:lnTo>
                      <a:pt x="9783" y="4852"/>
                    </a:lnTo>
                    <a:lnTo>
                      <a:pt x="9794" y="4854"/>
                    </a:lnTo>
                    <a:lnTo>
                      <a:pt x="9803" y="4857"/>
                    </a:lnTo>
                    <a:lnTo>
                      <a:pt x="9812" y="4861"/>
                    </a:lnTo>
                    <a:lnTo>
                      <a:pt x="9822" y="4866"/>
                    </a:lnTo>
                    <a:lnTo>
                      <a:pt x="9831" y="4871"/>
                    </a:lnTo>
                    <a:lnTo>
                      <a:pt x="9841" y="4878"/>
                    </a:lnTo>
                    <a:lnTo>
                      <a:pt x="9850" y="4884"/>
                    </a:lnTo>
                    <a:lnTo>
                      <a:pt x="9859" y="4893"/>
                    </a:lnTo>
                    <a:lnTo>
                      <a:pt x="9868" y="4901"/>
                    </a:lnTo>
                    <a:lnTo>
                      <a:pt x="9876" y="4909"/>
                    </a:lnTo>
                    <a:lnTo>
                      <a:pt x="9884" y="4917"/>
                    </a:lnTo>
                    <a:lnTo>
                      <a:pt x="9890" y="4926"/>
                    </a:lnTo>
                    <a:lnTo>
                      <a:pt x="9895" y="4935"/>
                    </a:lnTo>
                    <a:lnTo>
                      <a:pt x="9899" y="4946"/>
                    </a:lnTo>
                    <a:lnTo>
                      <a:pt x="9903" y="4955"/>
                    </a:lnTo>
                    <a:lnTo>
                      <a:pt x="9906" y="4965"/>
                    </a:lnTo>
                    <a:lnTo>
                      <a:pt x="9908" y="4975"/>
                    </a:lnTo>
                    <a:lnTo>
                      <a:pt x="9909" y="4986"/>
                    </a:lnTo>
                    <a:lnTo>
                      <a:pt x="9909" y="4997"/>
                    </a:lnTo>
                    <a:lnTo>
                      <a:pt x="9909" y="5008"/>
                    </a:lnTo>
                    <a:lnTo>
                      <a:pt x="9908" y="5020"/>
                    </a:lnTo>
                    <a:lnTo>
                      <a:pt x="9905" y="5031"/>
                    </a:lnTo>
                    <a:lnTo>
                      <a:pt x="9902" y="5044"/>
                    </a:lnTo>
                    <a:lnTo>
                      <a:pt x="9899" y="505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2" name="组合 130"/>
          <p:cNvGrpSpPr/>
          <p:nvPr/>
        </p:nvGrpSpPr>
        <p:grpSpPr>
          <a:xfrm>
            <a:off x="3504960" y="4369680"/>
            <a:ext cx="922320" cy="922320"/>
            <a:chOff x="3504960" y="4369680"/>
            <a:chExt cx="922320" cy="922320"/>
          </a:xfrm>
        </p:grpSpPr>
        <p:sp>
          <p:nvSpPr>
            <p:cNvPr id="623" name="椭圆 67"/>
            <p:cNvSpPr/>
            <p:nvPr/>
          </p:nvSpPr>
          <p:spPr>
            <a:xfrm>
              <a:off x="3504960" y="436968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24" name="组合 82"/>
            <p:cNvGrpSpPr/>
            <p:nvPr/>
          </p:nvGrpSpPr>
          <p:grpSpPr>
            <a:xfrm>
              <a:off x="3643920" y="4517280"/>
              <a:ext cx="647280" cy="647280"/>
              <a:chOff x="3643920" y="4517280"/>
              <a:chExt cx="647280" cy="647280"/>
            </a:xfrm>
          </p:grpSpPr>
          <p:sp>
            <p:nvSpPr>
              <p:cNvPr id="625" name="椭圆 83"/>
              <p:cNvSpPr/>
              <p:nvPr/>
            </p:nvSpPr>
            <p:spPr>
              <a:xfrm>
                <a:off x="3643920" y="4517280"/>
                <a:ext cx="647280" cy="64728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626" name="组合 84"/>
              <p:cNvGrpSpPr/>
              <p:nvPr/>
            </p:nvGrpSpPr>
            <p:grpSpPr>
              <a:xfrm>
                <a:off x="3780000" y="4593960"/>
                <a:ext cx="375480" cy="442800"/>
                <a:chOff x="3780000" y="4593960"/>
                <a:chExt cx="375480" cy="442800"/>
              </a:xfrm>
            </p:grpSpPr>
            <p:sp>
              <p:nvSpPr>
                <p:cNvPr id="627" name="Freeform 252"/>
                <p:cNvSpPr/>
                <p:nvPr/>
              </p:nvSpPr>
              <p:spPr>
                <a:xfrm>
                  <a:off x="3944160" y="4741560"/>
                  <a:ext cx="11160" cy="277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217" h="532">
                      <a:moveTo>
                        <a:pt x="217" y="2"/>
                      </a:moveTo>
                      <a:lnTo>
                        <a:pt x="5" y="0"/>
                      </a:lnTo>
                      <a:lnTo>
                        <a:pt x="0" y="530"/>
                      </a:lnTo>
                      <a:lnTo>
                        <a:pt x="212" y="532"/>
                      </a:lnTo>
                      <a:lnTo>
                        <a:pt x="217" y="2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Freeform 253"/>
                <p:cNvSpPr/>
                <p:nvPr/>
              </p:nvSpPr>
              <p:spPr>
                <a:xfrm>
                  <a:off x="3877920" y="4754160"/>
                  <a:ext cx="23400" cy="295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445" h="567">
                      <a:moveTo>
                        <a:pt x="185" y="0"/>
                      </a:moveTo>
                      <a:lnTo>
                        <a:pt x="0" y="104"/>
                      </a:lnTo>
                      <a:lnTo>
                        <a:pt x="260" y="567"/>
                      </a:lnTo>
                      <a:lnTo>
                        <a:pt x="445" y="463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9" name="Freeform 254"/>
                <p:cNvSpPr/>
                <p:nvPr/>
              </p:nvSpPr>
              <p:spPr>
                <a:xfrm>
                  <a:off x="3829680" y="4798800"/>
                  <a:ext cx="29520" cy="2376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566" h="453">
                      <a:moveTo>
                        <a:pt x="109" y="0"/>
                      </a:moveTo>
                      <a:lnTo>
                        <a:pt x="0" y="183"/>
                      </a:lnTo>
                      <a:lnTo>
                        <a:pt x="457" y="453"/>
                      </a:lnTo>
                      <a:lnTo>
                        <a:pt x="566" y="270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0" name="Freeform 255"/>
                <p:cNvSpPr/>
                <p:nvPr/>
              </p:nvSpPr>
              <p:spPr>
                <a:xfrm>
                  <a:off x="3812040" y="4864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33" h="218">
                      <a:moveTo>
                        <a:pt x="2" y="0"/>
                      </a:moveTo>
                      <a:lnTo>
                        <a:pt x="0" y="212"/>
                      </a:lnTo>
                      <a:lnTo>
                        <a:pt x="530" y="218"/>
                      </a:lnTo>
                      <a:lnTo>
                        <a:pt x="533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Freeform 256"/>
                <p:cNvSpPr/>
                <p:nvPr/>
              </p:nvSpPr>
              <p:spPr>
                <a:xfrm>
                  <a:off x="3824640" y="4918320"/>
                  <a:ext cx="29520" cy="2340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567" h="445">
                      <a:moveTo>
                        <a:pt x="0" y="260"/>
                      </a:moveTo>
                      <a:lnTo>
                        <a:pt x="105" y="445"/>
                      </a:lnTo>
                      <a:lnTo>
                        <a:pt x="567" y="185"/>
                      </a:lnTo>
                      <a:lnTo>
                        <a:pt x="463" y="0"/>
                      </a:lnTo>
                      <a:lnTo>
                        <a:pt x="0" y="26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Freeform 257"/>
                <p:cNvSpPr/>
                <p:nvPr/>
              </p:nvSpPr>
              <p:spPr>
                <a:xfrm>
                  <a:off x="3930120" y="4860000"/>
                  <a:ext cx="29520" cy="2952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565" h="565">
                      <a:moveTo>
                        <a:pt x="427" y="38"/>
                      </a:moveTo>
                      <a:lnTo>
                        <a:pt x="388" y="20"/>
                      </a:lnTo>
                      <a:lnTo>
                        <a:pt x="347" y="7"/>
                      </a:lnTo>
                      <a:lnTo>
                        <a:pt x="294" y="0"/>
                      </a:lnTo>
                      <a:lnTo>
                        <a:pt x="252" y="1"/>
                      </a:lnTo>
                      <a:lnTo>
                        <a:pt x="200" y="12"/>
                      </a:lnTo>
                      <a:lnTo>
                        <a:pt x="150" y="33"/>
                      </a:lnTo>
                      <a:lnTo>
                        <a:pt x="93" y="72"/>
                      </a:lnTo>
                      <a:lnTo>
                        <a:pt x="64" y="103"/>
                      </a:lnTo>
                      <a:lnTo>
                        <a:pt x="39" y="139"/>
                      </a:lnTo>
                      <a:lnTo>
                        <a:pt x="15" y="190"/>
                      </a:lnTo>
                      <a:lnTo>
                        <a:pt x="4" y="231"/>
                      </a:lnTo>
                      <a:lnTo>
                        <a:pt x="0" y="272"/>
                      </a:lnTo>
                      <a:lnTo>
                        <a:pt x="3" y="326"/>
                      </a:lnTo>
                      <a:lnTo>
                        <a:pt x="22" y="392"/>
                      </a:lnTo>
                      <a:lnTo>
                        <a:pt x="40" y="428"/>
                      </a:lnTo>
                      <a:lnTo>
                        <a:pt x="73" y="472"/>
                      </a:lnTo>
                      <a:lnTo>
                        <a:pt x="104" y="502"/>
                      </a:lnTo>
                      <a:lnTo>
                        <a:pt x="152" y="534"/>
                      </a:lnTo>
                      <a:lnTo>
                        <a:pt x="204" y="554"/>
                      </a:lnTo>
                      <a:lnTo>
                        <a:pt x="245" y="563"/>
                      </a:lnTo>
                      <a:lnTo>
                        <a:pt x="299" y="565"/>
                      </a:lnTo>
                      <a:lnTo>
                        <a:pt x="353" y="557"/>
                      </a:lnTo>
                      <a:lnTo>
                        <a:pt x="404" y="538"/>
                      </a:lnTo>
                      <a:lnTo>
                        <a:pt x="451" y="510"/>
                      </a:lnTo>
                      <a:lnTo>
                        <a:pt x="493" y="472"/>
                      </a:lnTo>
                      <a:lnTo>
                        <a:pt x="527" y="427"/>
                      </a:lnTo>
                      <a:lnTo>
                        <a:pt x="551" y="375"/>
                      </a:lnTo>
                      <a:lnTo>
                        <a:pt x="565" y="307"/>
                      </a:lnTo>
                      <a:lnTo>
                        <a:pt x="564" y="253"/>
                      </a:lnTo>
                      <a:lnTo>
                        <a:pt x="553" y="199"/>
                      </a:lnTo>
                      <a:lnTo>
                        <a:pt x="532" y="149"/>
                      </a:lnTo>
                      <a:lnTo>
                        <a:pt x="510" y="114"/>
                      </a:lnTo>
                      <a:lnTo>
                        <a:pt x="483" y="82"/>
                      </a:lnTo>
                      <a:lnTo>
                        <a:pt x="427" y="38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Freeform 258"/>
                <p:cNvSpPr/>
                <p:nvPr/>
              </p:nvSpPr>
              <p:spPr>
                <a:xfrm>
                  <a:off x="4009680" y="4674960"/>
                  <a:ext cx="82080" cy="8136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81360"/>
                    <a:gd name="textAreaBottom" fmla="*/ 81720 h 81360"/>
                  </a:gdLst>
                  <a:ahLst/>
                  <a:rect l="textAreaLeft" t="textAreaTop" r="textAreaRight" b="textAreaBottom"/>
                  <a:pathLst>
                    <a:path w="1553" h="1532">
                      <a:moveTo>
                        <a:pt x="1553" y="588"/>
                      </a:moveTo>
                      <a:lnTo>
                        <a:pt x="559" y="0"/>
                      </a:lnTo>
                      <a:lnTo>
                        <a:pt x="567" y="211"/>
                      </a:lnTo>
                      <a:lnTo>
                        <a:pt x="549" y="364"/>
                      </a:lnTo>
                      <a:lnTo>
                        <a:pt x="522" y="469"/>
                      </a:lnTo>
                      <a:lnTo>
                        <a:pt x="481" y="565"/>
                      </a:lnTo>
                      <a:lnTo>
                        <a:pt x="428" y="652"/>
                      </a:lnTo>
                      <a:lnTo>
                        <a:pt x="310" y="779"/>
                      </a:lnTo>
                      <a:lnTo>
                        <a:pt x="220" y="844"/>
                      </a:lnTo>
                      <a:lnTo>
                        <a:pt x="0" y="944"/>
                      </a:lnTo>
                      <a:lnTo>
                        <a:pt x="995" y="1532"/>
                      </a:lnTo>
                      <a:lnTo>
                        <a:pt x="978" y="1354"/>
                      </a:lnTo>
                      <a:lnTo>
                        <a:pt x="982" y="1233"/>
                      </a:lnTo>
                      <a:lnTo>
                        <a:pt x="1002" y="1121"/>
                      </a:lnTo>
                      <a:lnTo>
                        <a:pt x="1036" y="1021"/>
                      </a:lnTo>
                      <a:lnTo>
                        <a:pt x="1084" y="929"/>
                      </a:lnTo>
                      <a:lnTo>
                        <a:pt x="1145" y="846"/>
                      </a:lnTo>
                      <a:lnTo>
                        <a:pt x="1219" y="773"/>
                      </a:lnTo>
                      <a:lnTo>
                        <a:pt x="1337" y="688"/>
                      </a:lnTo>
                      <a:lnTo>
                        <a:pt x="1553" y="588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4" name="Freeform 259"/>
                <p:cNvSpPr/>
                <p:nvPr/>
              </p:nvSpPr>
              <p:spPr>
                <a:xfrm>
                  <a:off x="3898800" y="4774680"/>
                  <a:ext cx="53280" cy="102960"/>
                </a:xfrm>
                <a:custGeom>
                  <a:avLst/>
                  <a:gdLst>
                    <a:gd name="textAreaLeft" fmla="*/ 0 w 53280"/>
                    <a:gd name="textAreaRight" fmla="*/ 53640 w 5328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1013" h="1940">
                      <a:moveTo>
                        <a:pt x="852" y="1940"/>
                      </a:moveTo>
                      <a:lnTo>
                        <a:pt x="0" y="74"/>
                      </a:lnTo>
                      <a:lnTo>
                        <a:pt x="161" y="0"/>
                      </a:lnTo>
                      <a:lnTo>
                        <a:pt x="1013" y="1867"/>
                      </a:lnTo>
                      <a:lnTo>
                        <a:pt x="852" y="194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5" name="Freeform 260"/>
                <p:cNvSpPr/>
                <p:nvPr/>
              </p:nvSpPr>
              <p:spPr>
                <a:xfrm>
                  <a:off x="3869280" y="4960800"/>
                  <a:ext cx="23760" cy="29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453" h="564">
                      <a:moveTo>
                        <a:pt x="0" y="456"/>
                      </a:moveTo>
                      <a:lnTo>
                        <a:pt x="183" y="564"/>
                      </a:lnTo>
                      <a:lnTo>
                        <a:pt x="453" y="107"/>
                      </a:lnTo>
                      <a:lnTo>
                        <a:pt x="270" y="0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6" name="Freeform 261"/>
                <p:cNvSpPr/>
                <p:nvPr/>
              </p:nvSpPr>
              <p:spPr>
                <a:xfrm>
                  <a:off x="3934440" y="4979880"/>
                  <a:ext cx="11160" cy="2808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18" h="534">
                      <a:moveTo>
                        <a:pt x="0" y="530"/>
                      </a:moveTo>
                      <a:lnTo>
                        <a:pt x="213" y="534"/>
                      </a:lnTo>
                      <a:lnTo>
                        <a:pt x="218" y="2"/>
                      </a:lnTo>
                      <a:lnTo>
                        <a:pt x="5" y="0"/>
                      </a:lnTo>
                      <a:lnTo>
                        <a:pt x="0" y="53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262"/>
                <p:cNvSpPr/>
                <p:nvPr/>
              </p:nvSpPr>
              <p:spPr>
                <a:xfrm>
                  <a:off x="3988440" y="4965480"/>
                  <a:ext cx="23400" cy="2988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444" h="566">
                      <a:moveTo>
                        <a:pt x="260" y="566"/>
                      </a:moveTo>
                      <a:lnTo>
                        <a:pt x="444" y="461"/>
                      </a:lnTo>
                      <a:lnTo>
                        <a:pt x="184" y="0"/>
                      </a:lnTo>
                      <a:lnTo>
                        <a:pt x="0" y="104"/>
                      </a:lnTo>
                      <a:lnTo>
                        <a:pt x="260" y="566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8" name="Freeform 263"/>
                <p:cNvSpPr/>
                <p:nvPr/>
              </p:nvSpPr>
              <p:spPr>
                <a:xfrm>
                  <a:off x="4030920" y="4926600"/>
                  <a:ext cx="29520" cy="2376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565" h="452">
                      <a:moveTo>
                        <a:pt x="457" y="452"/>
                      </a:moveTo>
                      <a:lnTo>
                        <a:pt x="565" y="270"/>
                      </a:lnTo>
                      <a:lnTo>
                        <a:pt x="108" y="0"/>
                      </a:lnTo>
                      <a:lnTo>
                        <a:pt x="0" y="183"/>
                      </a:lnTo>
                      <a:lnTo>
                        <a:pt x="457" y="452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9" name="Freeform 264"/>
                <p:cNvSpPr/>
                <p:nvPr/>
              </p:nvSpPr>
              <p:spPr>
                <a:xfrm>
                  <a:off x="4050000" y="4874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32" h="218">
                      <a:moveTo>
                        <a:pt x="530" y="218"/>
                      </a:moveTo>
                      <a:lnTo>
                        <a:pt x="532" y="6"/>
                      </a:lnTo>
                      <a:lnTo>
                        <a:pt x="2" y="0"/>
                      </a:lnTo>
                      <a:lnTo>
                        <a:pt x="0" y="212"/>
                      </a:lnTo>
                      <a:lnTo>
                        <a:pt x="530" y="218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0" name="Freeform 265"/>
                <p:cNvSpPr/>
                <p:nvPr/>
              </p:nvSpPr>
              <p:spPr>
                <a:xfrm>
                  <a:off x="4035600" y="4807800"/>
                  <a:ext cx="29880" cy="230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566" h="445">
                      <a:moveTo>
                        <a:pt x="566" y="185"/>
                      </a:moveTo>
                      <a:lnTo>
                        <a:pt x="462" y="0"/>
                      </a:lnTo>
                      <a:lnTo>
                        <a:pt x="0" y="261"/>
                      </a:lnTo>
                      <a:lnTo>
                        <a:pt x="105" y="445"/>
                      </a:lnTo>
                      <a:lnTo>
                        <a:pt x="566" y="185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1" name="Freeform 266"/>
                <p:cNvSpPr/>
                <p:nvPr/>
              </p:nvSpPr>
              <p:spPr>
                <a:xfrm>
                  <a:off x="3997080" y="4758840"/>
                  <a:ext cx="23760" cy="298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453" h="565">
                      <a:moveTo>
                        <a:pt x="453" y="108"/>
                      </a:moveTo>
                      <a:lnTo>
                        <a:pt x="270" y="0"/>
                      </a:lnTo>
                      <a:lnTo>
                        <a:pt x="0" y="457"/>
                      </a:lnTo>
                      <a:lnTo>
                        <a:pt x="183" y="565"/>
                      </a:lnTo>
                      <a:lnTo>
                        <a:pt x="453" y="108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2" name="Freeform 267"/>
                <p:cNvSpPr/>
                <p:nvPr/>
              </p:nvSpPr>
              <p:spPr>
                <a:xfrm>
                  <a:off x="3940920" y="4839480"/>
                  <a:ext cx="96480" cy="4212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42120"/>
                    <a:gd name="textAreaBottom" fmla="*/ 42480 h 42120"/>
                  </a:gdLst>
                  <a:ahLst/>
                  <a:rect l="textAreaLeft" t="textAreaTop" r="textAreaRight" b="textAreaBottom"/>
                  <a:pathLst>
                    <a:path w="1821" h="799">
                      <a:moveTo>
                        <a:pt x="1821" y="306"/>
                      </a:moveTo>
                      <a:lnTo>
                        <a:pt x="1735" y="0"/>
                      </a:lnTo>
                      <a:lnTo>
                        <a:pt x="0" y="493"/>
                      </a:lnTo>
                      <a:lnTo>
                        <a:pt x="86" y="799"/>
                      </a:lnTo>
                      <a:lnTo>
                        <a:pt x="1821" y="306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3" name="Freeform 268"/>
                <p:cNvSpPr/>
                <p:nvPr/>
              </p:nvSpPr>
              <p:spPr>
                <a:xfrm>
                  <a:off x="4029120" y="4650840"/>
                  <a:ext cx="83520" cy="64080"/>
                </a:xfrm>
                <a:custGeom>
                  <a:avLst/>
                  <a:gdLst>
                    <a:gd name="textAreaLeft" fmla="*/ 0 w 83520"/>
                    <a:gd name="textAreaRight" fmla="*/ 83880 w 8352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1586" h="1215">
                      <a:moveTo>
                        <a:pt x="995" y="274"/>
                      </a:moveTo>
                      <a:lnTo>
                        <a:pt x="516" y="28"/>
                      </a:lnTo>
                      <a:lnTo>
                        <a:pt x="428" y="6"/>
                      </a:lnTo>
                      <a:lnTo>
                        <a:pt x="371" y="0"/>
                      </a:lnTo>
                      <a:lnTo>
                        <a:pt x="317" y="3"/>
                      </a:lnTo>
                      <a:lnTo>
                        <a:pt x="266" y="15"/>
                      </a:lnTo>
                      <a:lnTo>
                        <a:pt x="217" y="35"/>
                      </a:lnTo>
                      <a:lnTo>
                        <a:pt x="171" y="66"/>
                      </a:lnTo>
                      <a:lnTo>
                        <a:pt x="126" y="109"/>
                      </a:lnTo>
                      <a:lnTo>
                        <a:pt x="85" y="162"/>
                      </a:lnTo>
                      <a:lnTo>
                        <a:pt x="32" y="256"/>
                      </a:lnTo>
                      <a:lnTo>
                        <a:pt x="11" y="314"/>
                      </a:lnTo>
                      <a:lnTo>
                        <a:pt x="1" y="367"/>
                      </a:lnTo>
                      <a:lnTo>
                        <a:pt x="0" y="392"/>
                      </a:lnTo>
                      <a:lnTo>
                        <a:pt x="7" y="438"/>
                      </a:lnTo>
                      <a:lnTo>
                        <a:pt x="22" y="482"/>
                      </a:lnTo>
                      <a:lnTo>
                        <a:pt x="48" y="522"/>
                      </a:lnTo>
                      <a:lnTo>
                        <a:pt x="81" y="559"/>
                      </a:lnTo>
                      <a:lnTo>
                        <a:pt x="172" y="632"/>
                      </a:lnTo>
                      <a:lnTo>
                        <a:pt x="1144" y="1181"/>
                      </a:lnTo>
                      <a:lnTo>
                        <a:pt x="1227" y="1206"/>
                      </a:lnTo>
                      <a:lnTo>
                        <a:pt x="1303" y="1215"/>
                      </a:lnTo>
                      <a:lnTo>
                        <a:pt x="1374" y="1204"/>
                      </a:lnTo>
                      <a:lnTo>
                        <a:pt x="1418" y="1184"/>
                      </a:lnTo>
                      <a:lnTo>
                        <a:pt x="1439" y="1171"/>
                      </a:lnTo>
                      <a:lnTo>
                        <a:pt x="1478" y="1136"/>
                      </a:lnTo>
                      <a:lnTo>
                        <a:pt x="1515" y="1089"/>
                      </a:lnTo>
                      <a:lnTo>
                        <a:pt x="1549" y="1033"/>
                      </a:lnTo>
                      <a:lnTo>
                        <a:pt x="1572" y="976"/>
                      </a:lnTo>
                      <a:lnTo>
                        <a:pt x="1584" y="920"/>
                      </a:lnTo>
                      <a:lnTo>
                        <a:pt x="1586" y="866"/>
                      </a:lnTo>
                      <a:lnTo>
                        <a:pt x="1572" y="788"/>
                      </a:lnTo>
                      <a:lnTo>
                        <a:pt x="1537" y="712"/>
                      </a:lnTo>
                      <a:lnTo>
                        <a:pt x="1485" y="640"/>
                      </a:lnTo>
                      <a:lnTo>
                        <a:pt x="1392" y="545"/>
                      </a:lnTo>
                      <a:lnTo>
                        <a:pt x="995" y="274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4" name="Oval 269"/>
                <p:cNvSpPr/>
                <p:nvPr/>
              </p:nvSpPr>
              <p:spPr>
                <a:xfrm>
                  <a:off x="3780000" y="4709520"/>
                  <a:ext cx="326880" cy="327240"/>
                </a:xfrm>
                <a:prstGeom prst="ellipse">
                  <a:avLst/>
                </a:prstGeom>
                <a:noFill/>
                <a:ln w="5715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5" name="Oval 270"/>
                <p:cNvSpPr/>
                <p:nvPr/>
              </p:nvSpPr>
              <p:spPr>
                <a:xfrm>
                  <a:off x="4011480" y="4593960"/>
                  <a:ext cx="144000" cy="144360"/>
                </a:xfrm>
                <a:prstGeom prst="ellipse">
                  <a:avLst/>
                </a:prstGeom>
                <a:noFill/>
                <a:ln w="381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46" name="组合 2"/>
          <p:cNvGrpSpPr/>
          <p:nvPr/>
        </p:nvGrpSpPr>
        <p:grpSpPr>
          <a:xfrm>
            <a:off x="6185520" y="4369680"/>
            <a:ext cx="922320" cy="922320"/>
            <a:chOff x="6185520" y="4369680"/>
            <a:chExt cx="922320" cy="922320"/>
          </a:xfrm>
        </p:grpSpPr>
        <p:sp>
          <p:nvSpPr>
            <p:cNvPr id="647" name="椭圆 69"/>
            <p:cNvSpPr/>
            <p:nvPr/>
          </p:nvSpPr>
          <p:spPr>
            <a:xfrm>
              <a:off x="6185520" y="436968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48" name="组合 104"/>
            <p:cNvGrpSpPr/>
            <p:nvPr/>
          </p:nvGrpSpPr>
          <p:grpSpPr>
            <a:xfrm>
              <a:off x="6323040" y="4511520"/>
              <a:ext cx="647280" cy="647280"/>
              <a:chOff x="6323040" y="4511520"/>
              <a:chExt cx="647280" cy="647280"/>
            </a:xfrm>
          </p:grpSpPr>
          <p:sp>
            <p:nvSpPr>
              <p:cNvPr id="649" name="椭圆 105"/>
              <p:cNvSpPr/>
              <p:nvPr/>
            </p:nvSpPr>
            <p:spPr>
              <a:xfrm>
                <a:off x="6323040" y="4511520"/>
                <a:ext cx="647280" cy="64728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650" name="组合 106"/>
              <p:cNvGrpSpPr/>
              <p:nvPr/>
            </p:nvGrpSpPr>
            <p:grpSpPr>
              <a:xfrm>
                <a:off x="6427800" y="4608720"/>
                <a:ext cx="437400" cy="368640"/>
                <a:chOff x="6427800" y="4608720"/>
                <a:chExt cx="437400" cy="368640"/>
              </a:xfrm>
            </p:grpSpPr>
            <p:sp>
              <p:nvSpPr>
                <p:cNvPr id="651" name="Freeform 52"/>
                <p:cNvSpPr/>
                <p:nvPr/>
              </p:nvSpPr>
              <p:spPr>
                <a:xfrm>
                  <a:off x="6427800" y="4933440"/>
                  <a:ext cx="437400" cy="43920"/>
                </a:xfrm>
                <a:custGeom>
                  <a:avLst/>
                  <a:gdLst>
                    <a:gd name="textAreaLeft" fmla="*/ 0 w 437400"/>
                    <a:gd name="textAreaRight" fmla="*/ 437760 w 437400"/>
                    <a:gd name="textAreaTop" fmla="*/ 0 h 43920"/>
                    <a:gd name="textAreaBottom" fmla="*/ 44280 h 43920"/>
                  </a:gdLst>
                  <a:ahLst/>
                  <a:rect l="textAreaLeft" t="textAreaTop" r="textAreaRight" b="textAreaBottom"/>
                  <a:pathLst>
                    <a:path w="11146" h="1140">
                      <a:moveTo>
                        <a:pt x="1141" y="1140"/>
                      </a:moveTo>
                      <a:lnTo>
                        <a:pt x="1071" y="1139"/>
                      </a:lnTo>
                      <a:lnTo>
                        <a:pt x="1003" y="1136"/>
                      </a:lnTo>
                      <a:lnTo>
                        <a:pt x="937" y="1130"/>
                      </a:lnTo>
                      <a:lnTo>
                        <a:pt x="873" y="1122"/>
                      </a:lnTo>
                      <a:lnTo>
                        <a:pt x="812" y="1112"/>
                      </a:lnTo>
                      <a:lnTo>
                        <a:pt x="753" y="1100"/>
                      </a:lnTo>
                      <a:lnTo>
                        <a:pt x="697" y="1086"/>
                      </a:lnTo>
                      <a:lnTo>
                        <a:pt x="642" y="1068"/>
                      </a:lnTo>
                      <a:lnTo>
                        <a:pt x="589" y="1049"/>
                      </a:lnTo>
                      <a:lnTo>
                        <a:pt x="539" y="1028"/>
                      </a:lnTo>
                      <a:lnTo>
                        <a:pt x="492" y="1005"/>
                      </a:lnTo>
                      <a:lnTo>
                        <a:pt x="446" y="979"/>
                      </a:lnTo>
                      <a:lnTo>
                        <a:pt x="403" y="952"/>
                      </a:lnTo>
                      <a:lnTo>
                        <a:pt x="361" y="922"/>
                      </a:lnTo>
                      <a:lnTo>
                        <a:pt x="322" y="889"/>
                      </a:lnTo>
                      <a:lnTo>
                        <a:pt x="286" y="855"/>
                      </a:lnTo>
                      <a:lnTo>
                        <a:pt x="251" y="818"/>
                      </a:lnTo>
                      <a:lnTo>
                        <a:pt x="219" y="779"/>
                      </a:lnTo>
                      <a:lnTo>
                        <a:pt x="189" y="738"/>
                      </a:lnTo>
                      <a:lnTo>
                        <a:pt x="161" y="694"/>
                      </a:lnTo>
                      <a:lnTo>
                        <a:pt x="136" y="649"/>
                      </a:lnTo>
                      <a:lnTo>
                        <a:pt x="112" y="601"/>
                      </a:lnTo>
                      <a:lnTo>
                        <a:pt x="91" y="551"/>
                      </a:lnTo>
                      <a:lnTo>
                        <a:pt x="71" y="499"/>
                      </a:lnTo>
                      <a:lnTo>
                        <a:pt x="55" y="444"/>
                      </a:lnTo>
                      <a:lnTo>
                        <a:pt x="40" y="387"/>
                      </a:lnTo>
                      <a:lnTo>
                        <a:pt x="28" y="328"/>
                      </a:lnTo>
                      <a:lnTo>
                        <a:pt x="18" y="267"/>
                      </a:lnTo>
                      <a:lnTo>
                        <a:pt x="10" y="204"/>
                      </a:lnTo>
                      <a:lnTo>
                        <a:pt x="5" y="137"/>
                      </a:lnTo>
                      <a:lnTo>
                        <a:pt x="2" y="70"/>
                      </a:lnTo>
                      <a:lnTo>
                        <a:pt x="0" y="0"/>
                      </a:lnTo>
                      <a:lnTo>
                        <a:pt x="11132" y="0"/>
                      </a:lnTo>
                      <a:lnTo>
                        <a:pt x="11146" y="0"/>
                      </a:lnTo>
                      <a:lnTo>
                        <a:pt x="11144" y="70"/>
                      </a:lnTo>
                      <a:lnTo>
                        <a:pt x="11141" y="137"/>
                      </a:lnTo>
                      <a:lnTo>
                        <a:pt x="11135" y="204"/>
                      </a:lnTo>
                      <a:lnTo>
                        <a:pt x="11128" y="267"/>
                      </a:lnTo>
                      <a:lnTo>
                        <a:pt x="11117" y="328"/>
                      </a:lnTo>
                      <a:lnTo>
                        <a:pt x="11105" y="387"/>
                      </a:lnTo>
                      <a:lnTo>
                        <a:pt x="11090" y="444"/>
                      </a:lnTo>
                      <a:lnTo>
                        <a:pt x="11074" y="499"/>
                      </a:lnTo>
                      <a:lnTo>
                        <a:pt x="11054" y="551"/>
                      </a:lnTo>
                      <a:lnTo>
                        <a:pt x="11032" y="601"/>
                      </a:lnTo>
                      <a:lnTo>
                        <a:pt x="11009" y="649"/>
                      </a:lnTo>
                      <a:lnTo>
                        <a:pt x="10983" y="694"/>
                      </a:lnTo>
                      <a:lnTo>
                        <a:pt x="10955" y="738"/>
                      </a:lnTo>
                      <a:lnTo>
                        <a:pt x="10925" y="779"/>
                      </a:lnTo>
                      <a:lnTo>
                        <a:pt x="10892" y="818"/>
                      </a:lnTo>
                      <a:lnTo>
                        <a:pt x="10858" y="855"/>
                      </a:lnTo>
                      <a:lnTo>
                        <a:pt x="10821" y="889"/>
                      </a:lnTo>
                      <a:lnTo>
                        <a:pt x="10782" y="922"/>
                      </a:lnTo>
                      <a:lnTo>
                        <a:pt x="10739" y="952"/>
                      </a:lnTo>
                      <a:lnTo>
                        <a:pt x="10696" y="979"/>
                      </a:lnTo>
                      <a:lnTo>
                        <a:pt x="10650" y="1005"/>
                      </a:lnTo>
                      <a:lnTo>
                        <a:pt x="10602" y="1028"/>
                      </a:lnTo>
                      <a:lnTo>
                        <a:pt x="10551" y="1049"/>
                      </a:lnTo>
                      <a:lnTo>
                        <a:pt x="10499" y="1068"/>
                      </a:lnTo>
                      <a:lnTo>
                        <a:pt x="10443" y="1086"/>
                      </a:lnTo>
                      <a:lnTo>
                        <a:pt x="10386" y="1100"/>
                      </a:lnTo>
                      <a:lnTo>
                        <a:pt x="10327" y="1112"/>
                      </a:lnTo>
                      <a:lnTo>
                        <a:pt x="10265" y="1122"/>
                      </a:lnTo>
                      <a:lnTo>
                        <a:pt x="10202" y="1130"/>
                      </a:lnTo>
                      <a:lnTo>
                        <a:pt x="10135" y="1136"/>
                      </a:lnTo>
                      <a:lnTo>
                        <a:pt x="10067" y="1139"/>
                      </a:lnTo>
                      <a:lnTo>
                        <a:pt x="9996" y="1140"/>
                      </a:lnTo>
                      <a:lnTo>
                        <a:pt x="1141" y="1140"/>
                      </a:lnTo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Freeform 53"/>
                <p:cNvSpPr/>
                <p:nvPr/>
              </p:nvSpPr>
              <p:spPr>
                <a:xfrm>
                  <a:off x="6527520" y="4710240"/>
                  <a:ext cx="320760" cy="20952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157" h="5347">
                      <a:moveTo>
                        <a:pt x="6058" y="4180"/>
                      </a:moveTo>
                      <a:lnTo>
                        <a:pt x="6058" y="4428"/>
                      </a:lnTo>
                      <a:lnTo>
                        <a:pt x="6057" y="4484"/>
                      </a:lnTo>
                      <a:lnTo>
                        <a:pt x="6055" y="4539"/>
                      </a:lnTo>
                      <a:lnTo>
                        <a:pt x="6050" y="4591"/>
                      </a:lnTo>
                      <a:lnTo>
                        <a:pt x="6044" y="4642"/>
                      </a:lnTo>
                      <a:lnTo>
                        <a:pt x="6035" y="4692"/>
                      </a:lnTo>
                      <a:lnTo>
                        <a:pt x="6025" y="4739"/>
                      </a:lnTo>
                      <a:lnTo>
                        <a:pt x="6013" y="4785"/>
                      </a:lnTo>
                      <a:lnTo>
                        <a:pt x="6000" y="4829"/>
                      </a:lnTo>
                      <a:lnTo>
                        <a:pt x="5984" y="4871"/>
                      </a:lnTo>
                      <a:lnTo>
                        <a:pt x="5967" y="4911"/>
                      </a:lnTo>
                      <a:lnTo>
                        <a:pt x="5947" y="4949"/>
                      </a:lnTo>
                      <a:lnTo>
                        <a:pt x="5926" y="4987"/>
                      </a:lnTo>
                      <a:lnTo>
                        <a:pt x="5903" y="5022"/>
                      </a:lnTo>
                      <a:lnTo>
                        <a:pt x="5878" y="5055"/>
                      </a:lnTo>
                      <a:lnTo>
                        <a:pt x="5851" y="5086"/>
                      </a:lnTo>
                      <a:lnTo>
                        <a:pt x="5822" y="5116"/>
                      </a:lnTo>
                      <a:lnTo>
                        <a:pt x="5792" y="5144"/>
                      </a:lnTo>
                      <a:lnTo>
                        <a:pt x="5760" y="5170"/>
                      </a:lnTo>
                      <a:lnTo>
                        <a:pt x="5726" y="5194"/>
                      </a:lnTo>
                      <a:lnTo>
                        <a:pt x="5690" y="5217"/>
                      </a:lnTo>
                      <a:lnTo>
                        <a:pt x="5652" y="5237"/>
                      </a:lnTo>
                      <a:lnTo>
                        <a:pt x="5612" y="5256"/>
                      </a:lnTo>
                      <a:lnTo>
                        <a:pt x="5571" y="5273"/>
                      </a:lnTo>
                      <a:lnTo>
                        <a:pt x="5527" y="5289"/>
                      </a:lnTo>
                      <a:lnTo>
                        <a:pt x="5482" y="5303"/>
                      </a:lnTo>
                      <a:lnTo>
                        <a:pt x="5435" y="5315"/>
                      </a:lnTo>
                      <a:lnTo>
                        <a:pt x="5386" y="5325"/>
                      </a:lnTo>
                      <a:lnTo>
                        <a:pt x="5335" y="5333"/>
                      </a:lnTo>
                      <a:lnTo>
                        <a:pt x="5283" y="5339"/>
                      </a:lnTo>
                      <a:lnTo>
                        <a:pt x="5227" y="5343"/>
                      </a:lnTo>
                      <a:lnTo>
                        <a:pt x="5171" y="5346"/>
                      </a:lnTo>
                      <a:lnTo>
                        <a:pt x="5113" y="5347"/>
                      </a:lnTo>
                      <a:lnTo>
                        <a:pt x="933" y="5347"/>
                      </a:lnTo>
                      <a:lnTo>
                        <a:pt x="875" y="5346"/>
                      </a:lnTo>
                      <a:lnTo>
                        <a:pt x="820" y="5343"/>
                      </a:lnTo>
                      <a:lnTo>
                        <a:pt x="765" y="5339"/>
                      </a:lnTo>
                      <a:lnTo>
                        <a:pt x="713" y="5333"/>
                      </a:lnTo>
                      <a:lnTo>
                        <a:pt x="663" y="5325"/>
                      </a:lnTo>
                      <a:lnTo>
                        <a:pt x="615" y="5315"/>
                      </a:lnTo>
                      <a:lnTo>
                        <a:pt x="569" y="5303"/>
                      </a:lnTo>
                      <a:lnTo>
                        <a:pt x="524" y="5289"/>
                      </a:lnTo>
                      <a:lnTo>
                        <a:pt x="481" y="5273"/>
                      </a:lnTo>
                      <a:lnTo>
                        <a:pt x="440" y="5256"/>
                      </a:lnTo>
                      <a:lnTo>
                        <a:pt x="401" y="5237"/>
                      </a:lnTo>
                      <a:lnTo>
                        <a:pt x="364" y="5217"/>
                      </a:lnTo>
                      <a:lnTo>
                        <a:pt x="328" y="5194"/>
                      </a:lnTo>
                      <a:lnTo>
                        <a:pt x="295" y="5170"/>
                      </a:lnTo>
                      <a:lnTo>
                        <a:pt x="263" y="5144"/>
                      </a:lnTo>
                      <a:lnTo>
                        <a:pt x="233" y="5116"/>
                      </a:lnTo>
                      <a:lnTo>
                        <a:pt x="204" y="5086"/>
                      </a:lnTo>
                      <a:lnTo>
                        <a:pt x="178" y="5055"/>
                      </a:lnTo>
                      <a:lnTo>
                        <a:pt x="153" y="5022"/>
                      </a:lnTo>
                      <a:lnTo>
                        <a:pt x="131" y="4987"/>
                      </a:lnTo>
                      <a:lnTo>
                        <a:pt x="110" y="4949"/>
                      </a:lnTo>
                      <a:lnTo>
                        <a:pt x="91" y="4911"/>
                      </a:lnTo>
                      <a:lnTo>
                        <a:pt x="74" y="4871"/>
                      </a:lnTo>
                      <a:lnTo>
                        <a:pt x="58" y="4829"/>
                      </a:lnTo>
                      <a:lnTo>
                        <a:pt x="45" y="4785"/>
                      </a:lnTo>
                      <a:lnTo>
                        <a:pt x="33" y="4739"/>
                      </a:lnTo>
                      <a:lnTo>
                        <a:pt x="23" y="4692"/>
                      </a:lnTo>
                      <a:lnTo>
                        <a:pt x="15" y="4642"/>
                      </a:lnTo>
                      <a:lnTo>
                        <a:pt x="8" y="4591"/>
                      </a:lnTo>
                      <a:lnTo>
                        <a:pt x="4" y="4539"/>
                      </a:lnTo>
                      <a:lnTo>
                        <a:pt x="1" y="4484"/>
                      </a:lnTo>
                      <a:lnTo>
                        <a:pt x="0" y="4428"/>
                      </a:lnTo>
                      <a:lnTo>
                        <a:pt x="0" y="0"/>
                      </a:lnTo>
                      <a:lnTo>
                        <a:pt x="6058" y="0"/>
                      </a:lnTo>
                      <a:lnTo>
                        <a:pt x="6111" y="1"/>
                      </a:lnTo>
                      <a:lnTo>
                        <a:pt x="6165" y="3"/>
                      </a:lnTo>
                      <a:lnTo>
                        <a:pt x="6217" y="6"/>
                      </a:lnTo>
                      <a:lnTo>
                        <a:pt x="6269" y="10"/>
                      </a:lnTo>
                      <a:lnTo>
                        <a:pt x="6320" y="15"/>
                      </a:lnTo>
                      <a:lnTo>
                        <a:pt x="6371" y="22"/>
                      </a:lnTo>
                      <a:lnTo>
                        <a:pt x="6421" y="29"/>
                      </a:lnTo>
                      <a:lnTo>
                        <a:pt x="6472" y="38"/>
                      </a:lnTo>
                      <a:lnTo>
                        <a:pt x="6521" y="48"/>
                      </a:lnTo>
                      <a:lnTo>
                        <a:pt x="6570" y="60"/>
                      </a:lnTo>
                      <a:lnTo>
                        <a:pt x="6618" y="72"/>
                      </a:lnTo>
                      <a:lnTo>
                        <a:pt x="6666" y="86"/>
                      </a:lnTo>
                      <a:lnTo>
                        <a:pt x="6714" y="101"/>
                      </a:lnTo>
                      <a:lnTo>
                        <a:pt x="6762" y="117"/>
                      </a:lnTo>
                      <a:lnTo>
                        <a:pt x="6808" y="134"/>
                      </a:lnTo>
                      <a:lnTo>
                        <a:pt x="6855" y="153"/>
                      </a:lnTo>
                      <a:lnTo>
                        <a:pt x="6900" y="172"/>
                      </a:lnTo>
                      <a:lnTo>
                        <a:pt x="6946" y="193"/>
                      </a:lnTo>
                      <a:lnTo>
                        <a:pt x="6990" y="215"/>
                      </a:lnTo>
                      <a:lnTo>
                        <a:pt x="7035" y="240"/>
                      </a:lnTo>
                      <a:lnTo>
                        <a:pt x="7080" y="264"/>
                      </a:lnTo>
                      <a:lnTo>
                        <a:pt x="7123" y="290"/>
                      </a:lnTo>
                      <a:lnTo>
                        <a:pt x="7166" y="317"/>
                      </a:lnTo>
                      <a:lnTo>
                        <a:pt x="7209" y="345"/>
                      </a:lnTo>
                      <a:lnTo>
                        <a:pt x="7251" y="374"/>
                      </a:lnTo>
                      <a:lnTo>
                        <a:pt x="7292" y="405"/>
                      </a:lnTo>
                      <a:lnTo>
                        <a:pt x="7334" y="436"/>
                      </a:lnTo>
                      <a:lnTo>
                        <a:pt x="7376" y="469"/>
                      </a:lnTo>
                      <a:lnTo>
                        <a:pt x="7416" y="504"/>
                      </a:lnTo>
                      <a:lnTo>
                        <a:pt x="7456" y="540"/>
                      </a:lnTo>
                      <a:lnTo>
                        <a:pt x="7495" y="577"/>
                      </a:lnTo>
                      <a:lnTo>
                        <a:pt x="7534" y="614"/>
                      </a:lnTo>
                      <a:lnTo>
                        <a:pt x="7572" y="653"/>
                      </a:lnTo>
                      <a:lnTo>
                        <a:pt x="7609" y="692"/>
                      </a:lnTo>
                      <a:lnTo>
                        <a:pt x="7646" y="732"/>
                      </a:lnTo>
                      <a:lnTo>
                        <a:pt x="7681" y="772"/>
                      </a:lnTo>
                      <a:lnTo>
                        <a:pt x="7714" y="812"/>
                      </a:lnTo>
                      <a:lnTo>
                        <a:pt x="7746" y="854"/>
                      </a:lnTo>
                      <a:lnTo>
                        <a:pt x="7777" y="896"/>
                      </a:lnTo>
                      <a:lnTo>
                        <a:pt x="7807" y="938"/>
                      </a:lnTo>
                      <a:lnTo>
                        <a:pt x="7835" y="980"/>
                      </a:lnTo>
                      <a:lnTo>
                        <a:pt x="7863" y="1023"/>
                      </a:lnTo>
                      <a:lnTo>
                        <a:pt x="7889" y="1066"/>
                      </a:lnTo>
                      <a:lnTo>
                        <a:pt x="7914" y="1110"/>
                      </a:lnTo>
                      <a:lnTo>
                        <a:pt x="7937" y="1155"/>
                      </a:lnTo>
                      <a:lnTo>
                        <a:pt x="7961" y="1200"/>
                      </a:lnTo>
                      <a:lnTo>
                        <a:pt x="7982" y="1246"/>
                      </a:lnTo>
                      <a:lnTo>
                        <a:pt x="8002" y="1291"/>
                      </a:lnTo>
                      <a:lnTo>
                        <a:pt x="8021" y="1338"/>
                      </a:lnTo>
                      <a:lnTo>
                        <a:pt x="8038" y="1384"/>
                      </a:lnTo>
                      <a:lnTo>
                        <a:pt x="8055" y="1433"/>
                      </a:lnTo>
                      <a:lnTo>
                        <a:pt x="8070" y="1480"/>
                      </a:lnTo>
                      <a:lnTo>
                        <a:pt x="8084" y="1529"/>
                      </a:lnTo>
                      <a:lnTo>
                        <a:pt x="8097" y="1577"/>
                      </a:lnTo>
                      <a:lnTo>
                        <a:pt x="8108" y="1627"/>
                      </a:lnTo>
                      <a:lnTo>
                        <a:pt x="8118" y="1676"/>
                      </a:lnTo>
                      <a:lnTo>
                        <a:pt x="8128" y="1728"/>
                      </a:lnTo>
                      <a:lnTo>
                        <a:pt x="8135" y="1778"/>
                      </a:lnTo>
                      <a:lnTo>
                        <a:pt x="8142" y="1830"/>
                      </a:lnTo>
                      <a:lnTo>
                        <a:pt x="8148" y="1882"/>
                      </a:lnTo>
                      <a:lnTo>
                        <a:pt x="8152" y="1934"/>
                      </a:lnTo>
                      <a:lnTo>
                        <a:pt x="8155" y="1987"/>
                      </a:lnTo>
                      <a:lnTo>
                        <a:pt x="8157" y="2041"/>
                      </a:lnTo>
                      <a:lnTo>
                        <a:pt x="8157" y="2095"/>
                      </a:lnTo>
                      <a:lnTo>
                        <a:pt x="8157" y="2149"/>
                      </a:lnTo>
                      <a:lnTo>
                        <a:pt x="8155" y="2203"/>
                      </a:lnTo>
                      <a:lnTo>
                        <a:pt x="8152" y="2257"/>
                      </a:lnTo>
                      <a:lnTo>
                        <a:pt x="8148" y="2311"/>
                      </a:lnTo>
                      <a:lnTo>
                        <a:pt x="8142" y="2364"/>
                      </a:lnTo>
                      <a:lnTo>
                        <a:pt x="8135" y="2415"/>
                      </a:lnTo>
                      <a:lnTo>
                        <a:pt x="8128" y="2467"/>
                      </a:lnTo>
                      <a:lnTo>
                        <a:pt x="8118" y="2518"/>
                      </a:lnTo>
                      <a:lnTo>
                        <a:pt x="8108" y="2568"/>
                      </a:lnTo>
                      <a:lnTo>
                        <a:pt x="8097" y="2619"/>
                      </a:lnTo>
                      <a:lnTo>
                        <a:pt x="8084" y="2668"/>
                      </a:lnTo>
                      <a:lnTo>
                        <a:pt x="8070" y="2717"/>
                      </a:lnTo>
                      <a:lnTo>
                        <a:pt x="8055" y="2765"/>
                      </a:lnTo>
                      <a:lnTo>
                        <a:pt x="8038" y="2812"/>
                      </a:lnTo>
                      <a:lnTo>
                        <a:pt x="8021" y="2860"/>
                      </a:lnTo>
                      <a:lnTo>
                        <a:pt x="8002" y="2907"/>
                      </a:lnTo>
                      <a:lnTo>
                        <a:pt x="7982" y="2953"/>
                      </a:lnTo>
                      <a:lnTo>
                        <a:pt x="7961" y="2998"/>
                      </a:lnTo>
                      <a:lnTo>
                        <a:pt x="7937" y="3043"/>
                      </a:lnTo>
                      <a:lnTo>
                        <a:pt x="7914" y="3088"/>
                      </a:lnTo>
                      <a:lnTo>
                        <a:pt x="7889" y="3132"/>
                      </a:lnTo>
                      <a:lnTo>
                        <a:pt x="7863" y="3175"/>
                      </a:lnTo>
                      <a:lnTo>
                        <a:pt x="7835" y="3218"/>
                      </a:lnTo>
                      <a:lnTo>
                        <a:pt x="7807" y="3261"/>
                      </a:lnTo>
                      <a:lnTo>
                        <a:pt x="7777" y="3302"/>
                      </a:lnTo>
                      <a:lnTo>
                        <a:pt x="7746" y="3343"/>
                      </a:lnTo>
                      <a:lnTo>
                        <a:pt x="7714" y="3384"/>
                      </a:lnTo>
                      <a:lnTo>
                        <a:pt x="7681" y="3424"/>
                      </a:lnTo>
                      <a:lnTo>
                        <a:pt x="7646" y="3463"/>
                      </a:lnTo>
                      <a:lnTo>
                        <a:pt x="7609" y="3503"/>
                      </a:lnTo>
                      <a:lnTo>
                        <a:pt x="7572" y="3542"/>
                      </a:lnTo>
                      <a:lnTo>
                        <a:pt x="7534" y="3579"/>
                      </a:lnTo>
                      <a:lnTo>
                        <a:pt x="7495" y="3616"/>
                      </a:lnTo>
                      <a:lnTo>
                        <a:pt x="7456" y="3652"/>
                      </a:lnTo>
                      <a:lnTo>
                        <a:pt x="7416" y="3687"/>
                      </a:lnTo>
                      <a:lnTo>
                        <a:pt x="7376" y="3720"/>
                      </a:lnTo>
                      <a:lnTo>
                        <a:pt x="7334" y="3753"/>
                      </a:lnTo>
                      <a:lnTo>
                        <a:pt x="7292" y="3784"/>
                      </a:lnTo>
                      <a:lnTo>
                        <a:pt x="7251" y="3815"/>
                      </a:lnTo>
                      <a:lnTo>
                        <a:pt x="7209" y="3843"/>
                      </a:lnTo>
                      <a:lnTo>
                        <a:pt x="7166" y="3871"/>
                      </a:lnTo>
                      <a:lnTo>
                        <a:pt x="7123" y="3897"/>
                      </a:lnTo>
                      <a:lnTo>
                        <a:pt x="7080" y="3922"/>
                      </a:lnTo>
                      <a:lnTo>
                        <a:pt x="7035" y="3946"/>
                      </a:lnTo>
                      <a:lnTo>
                        <a:pt x="6990" y="3969"/>
                      </a:lnTo>
                      <a:lnTo>
                        <a:pt x="6946" y="3991"/>
                      </a:lnTo>
                      <a:lnTo>
                        <a:pt x="6900" y="4011"/>
                      </a:lnTo>
                      <a:lnTo>
                        <a:pt x="6855" y="4030"/>
                      </a:lnTo>
                      <a:lnTo>
                        <a:pt x="6808" y="4048"/>
                      </a:lnTo>
                      <a:lnTo>
                        <a:pt x="6762" y="4065"/>
                      </a:lnTo>
                      <a:lnTo>
                        <a:pt x="6714" y="4081"/>
                      </a:lnTo>
                      <a:lnTo>
                        <a:pt x="6666" y="4097"/>
                      </a:lnTo>
                      <a:lnTo>
                        <a:pt x="6618" y="4110"/>
                      </a:lnTo>
                      <a:lnTo>
                        <a:pt x="6570" y="4122"/>
                      </a:lnTo>
                      <a:lnTo>
                        <a:pt x="6521" y="4133"/>
                      </a:lnTo>
                      <a:lnTo>
                        <a:pt x="6472" y="4143"/>
                      </a:lnTo>
                      <a:lnTo>
                        <a:pt x="6421" y="4152"/>
                      </a:lnTo>
                      <a:lnTo>
                        <a:pt x="6371" y="4160"/>
                      </a:lnTo>
                      <a:lnTo>
                        <a:pt x="6320" y="4166"/>
                      </a:lnTo>
                      <a:lnTo>
                        <a:pt x="6269" y="4171"/>
                      </a:lnTo>
                      <a:lnTo>
                        <a:pt x="6217" y="4175"/>
                      </a:lnTo>
                      <a:lnTo>
                        <a:pt x="6165" y="4178"/>
                      </a:lnTo>
                      <a:lnTo>
                        <a:pt x="6111" y="4180"/>
                      </a:lnTo>
                      <a:lnTo>
                        <a:pt x="6058" y="4180"/>
                      </a:lnTo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Freeform 54"/>
                <p:cNvSpPr/>
                <p:nvPr/>
              </p:nvSpPr>
              <p:spPr>
                <a:xfrm>
                  <a:off x="6532920" y="4608720"/>
                  <a:ext cx="207000" cy="89280"/>
                </a:xfrm>
                <a:custGeom>
                  <a:avLst/>
                  <a:gdLst>
                    <a:gd name="textAreaLeft" fmla="*/ 0 w 207000"/>
                    <a:gd name="textAreaRight" fmla="*/ 207360 w 20700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229" h="126">
                      <a:moveTo>
                        <a:pt x="229" y="113"/>
                      </a:moveTo>
                      <a:lnTo>
                        <a:pt x="154" y="126"/>
                      </a:lnTo>
                      <a:lnTo>
                        <a:pt x="155" y="124"/>
                      </a:lnTo>
                      <a:lnTo>
                        <a:pt x="156" y="123"/>
                      </a:lnTo>
                      <a:lnTo>
                        <a:pt x="156" y="121"/>
                      </a:lnTo>
                      <a:lnTo>
                        <a:pt x="156" y="120"/>
                      </a:lnTo>
                      <a:lnTo>
                        <a:pt x="157" y="119"/>
                      </a:lnTo>
                      <a:lnTo>
                        <a:pt x="157" y="117"/>
                      </a:lnTo>
                      <a:lnTo>
                        <a:pt x="157" y="116"/>
                      </a:lnTo>
                      <a:lnTo>
                        <a:pt x="157" y="115"/>
                      </a:lnTo>
                      <a:lnTo>
                        <a:pt x="157" y="113"/>
                      </a:lnTo>
                      <a:lnTo>
                        <a:pt x="157" y="112"/>
                      </a:lnTo>
                      <a:lnTo>
                        <a:pt x="156" y="111"/>
                      </a:lnTo>
                      <a:lnTo>
                        <a:pt x="156" y="110"/>
                      </a:lnTo>
                      <a:lnTo>
                        <a:pt x="156" y="108"/>
                      </a:lnTo>
                      <a:lnTo>
                        <a:pt x="155" y="107"/>
                      </a:lnTo>
                      <a:lnTo>
                        <a:pt x="154" y="106"/>
                      </a:lnTo>
                      <a:lnTo>
                        <a:pt x="154" y="105"/>
                      </a:lnTo>
                      <a:lnTo>
                        <a:pt x="153" y="104"/>
                      </a:lnTo>
                      <a:lnTo>
                        <a:pt x="152" y="103"/>
                      </a:lnTo>
                      <a:lnTo>
                        <a:pt x="151" y="102"/>
                      </a:lnTo>
                      <a:lnTo>
                        <a:pt x="150" y="101"/>
                      </a:lnTo>
                      <a:lnTo>
                        <a:pt x="149" y="100"/>
                      </a:lnTo>
                      <a:lnTo>
                        <a:pt x="147" y="99"/>
                      </a:lnTo>
                      <a:lnTo>
                        <a:pt x="146" y="98"/>
                      </a:lnTo>
                      <a:lnTo>
                        <a:pt x="145" y="97"/>
                      </a:lnTo>
                      <a:lnTo>
                        <a:pt x="143" y="96"/>
                      </a:lnTo>
                      <a:lnTo>
                        <a:pt x="141" y="95"/>
                      </a:lnTo>
                      <a:lnTo>
                        <a:pt x="140" y="95"/>
                      </a:lnTo>
                      <a:lnTo>
                        <a:pt x="138" y="94"/>
                      </a:lnTo>
                      <a:lnTo>
                        <a:pt x="136" y="93"/>
                      </a:lnTo>
                      <a:lnTo>
                        <a:pt x="134" y="92"/>
                      </a:lnTo>
                      <a:lnTo>
                        <a:pt x="132" y="92"/>
                      </a:lnTo>
                      <a:lnTo>
                        <a:pt x="130" y="91"/>
                      </a:lnTo>
                      <a:lnTo>
                        <a:pt x="125" y="90"/>
                      </a:lnTo>
                      <a:lnTo>
                        <a:pt x="121" y="88"/>
                      </a:lnTo>
                      <a:lnTo>
                        <a:pt x="116" y="87"/>
                      </a:lnTo>
                      <a:lnTo>
                        <a:pt x="112" y="86"/>
                      </a:lnTo>
                      <a:lnTo>
                        <a:pt x="107" y="85"/>
                      </a:lnTo>
                      <a:lnTo>
                        <a:pt x="103" y="83"/>
                      </a:lnTo>
                      <a:lnTo>
                        <a:pt x="98" y="82"/>
                      </a:lnTo>
                      <a:lnTo>
                        <a:pt x="94" y="81"/>
                      </a:lnTo>
                      <a:lnTo>
                        <a:pt x="89" y="79"/>
                      </a:lnTo>
                      <a:lnTo>
                        <a:pt x="85" y="78"/>
                      </a:lnTo>
                      <a:lnTo>
                        <a:pt x="80" y="77"/>
                      </a:lnTo>
                      <a:lnTo>
                        <a:pt x="76" y="76"/>
                      </a:lnTo>
                      <a:lnTo>
                        <a:pt x="71" y="75"/>
                      </a:lnTo>
                      <a:lnTo>
                        <a:pt x="66" y="73"/>
                      </a:lnTo>
                      <a:lnTo>
                        <a:pt x="62" y="72"/>
                      </a:lnTo>
                      <a:lnTo>
                        <a:pt x="57" y="71"/>
                      </a:lnTo>
                      <a:lnTo>
                        <a:pt x="53" y="70"/>
                      </a:lnTo>
                      <a:lnTo>
                        <a:pt x="48" y="69"/>
                      </a:lnTo>
                      <a:lnTo>
                        <a:pt x="44" y="67"/>
                      </a:lnTo>
                      <a:lnTo>
                        <a:pt x="40" y="66"/>
                      </a:lnTo>
                      <a:lnTo>
                        <a:pt x="38" y="65"/>
                      </a:lnTo>
                      <a:lnTo>
                        <a:pt x="36" y="65"/>
                      </a:lnTo>
                      <a:lnTo>
                        <a:pt x="34" y="64"/>
                      </a:lnTo>
                      <a:lnTo>
                        <a:pt x="32" y="63"/>
                      </a:lnTo>
                      <a:lnTo>
                        <a:pt x="31" y="63"/>
                      </a:lnTo>
                      <a:lnTo>
                        <a:pt x="29" y="62"/>
                      </a:lnTo>
                      <a:lnTo>
                        <a:pt x="27" y="61"/>
                      </a:lnTo>
                      <a:lnTo>
                        <a:pt x="25" y="60"/>
                      </a:lnTo>
                      <a:lnTo>
                        <a:pt x="24" y="60"/>
                      </a:lnTo>
                      <a:lnTo>
                        <a:pt x="22" y="59"/>
                      </a:lnTo>
                      <a:lnTo>
                        <a:pt x="21" y="58"/>
                      </a:lnTo>
                      <a:lnTo>
                        <a:pt x="19" y="57"/>
                      </a:lnTo>
                      <a:lnTo>
                        <a:pt x="18" y="57"/>
                      </a:lnTo>
                      <a:lnTo>
                        <a:pt x="16" y="56"/>
                      </a:lnTo>
                      <a:lnTo>
                        <a:pt x="15" y="55"/>
                      </a:lnTo>
                      <a:lnTo>
                        <a:pt x="13" y="54"/>
                      </a:lnTo>
                      <a:lnTo>
                        <a:pt x="12" y="53"/>
                      </a:lnTo>
                      <a:lnTo>
                        <a:pt x="11" y="52"/>
                      </a:lnTo>
                      <a:lnTo>
                        <a:pt x="10" y="52"/>
                      </a:lnTo>
                      <a:lnTo>
                        <a:pt x="8" y="51"/>
                      </a:lnTo>
                      <a:lnTo>
                        <a:pt x="7" y="50"/>
                      </a:lnTo>
                      <a:lnTo>
                        <a:pt x="6" y="49"/>
                      </a:lnTo>
                      <a:lnTo>
                        <a:pt x="5" y="48"/>
                      </a:lnTo>
                      <a:lnTo>
                        <a:pt x="4" y="47"/>
                      </a:lnTo>
                      <a:lnTo>
                        <a:pt x="3" y="46"/>
                      </a:lnTo>
                      <a:lnTo>
                        <a:pt x="2" y="45"/>
                      </a:lnTo>
                      <a:lnTo>
                        <a:pt x="2" y="44"/>
                      </a:lnTo>
                      <a:lnTo>
                        <a:pt x="1" y="43"/>
                      </a:lnTo>
                      <a:lnTo>
                        <a:pt x="1" y="42"/>
                      </a:lnTo>
                      <a:lnTo>
                        <a:pt x="0" y="41"/>
                      </a:lnTo>
                      <a:lnTo>
                        <a:pt x="0" y="40"/>
                      </a:lnTo>
                      <a:lnTo>
                        <a:pt x="0" y="39"/>
                      </a:lnTo>
                      <a:lnTo>
                        <a:pt x="0" y="37"/>
                      </a:lnTo>
                      <a:lnTo>
                        <a:pt x="0" y="36"/>
                      </a:lnTo>
                      <a:lnTo>
                        <a:pt x="1" y="35"/>
                      </a:lnTo>
                      <a:lnTo>
                        <a:pt x="1" y="34"/>
                      </a:lnTo>
                      <a:lnTo>
                        <a:pt x="2" y="32"/>
                      </a:lnTo>
                      <a:lnTo>
                        <a:pt x="2" y="31"/>
                      </a:lnTo>
                      <a:lnTo>
                        <a:pt x="3" y="29"/>
                      </a:lnTo>
                      <a:lnTo>
                        <a:pt x="4" y="28"/>
                      </a:lnTo>
                      <a:lnTo>
                        <a:pt x="5" y="27"/>
                      </a:lnTo>
                      <a:lnTo>
                        <a:pt x="7" y="25"/>
                      </a:lnTo>
                      <a:lnTo>
                        <a:pt x="8" y="23"/>
                      </a:lnTo>
                      <a:lnTo>
                        <a:pt x="10" y="22"/>
                      </a:lnTo>
                      <a:lnTo>
                        <a:pt x="11" y="20"/>
                      </a:lnTo>
                      <a:lnTo>
                        <a:pt x="13" y="19"/>
                      </a:lnTo>
                      <a:lnTo>
                        <a:pt x="15" y="17"/>
                      </a:lnTo>
                      <a:lnTo>
                        <a:pt x="17" y="15"/>
                      </a:lnTo>
                      <a:lnTo>
                        <a:pt x="19" y="13"/>
                      </a:lnTo>
                      <a:lnTo>
                        <a:pt x="22" y="12"/>
                      </a:lnTo>
                      <a:lnTo>
                        <a:pt x="24" y="10"/>
                      </a:lnTo>
                      <a:lnTo>
                        <a:pt x="27" y="8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5" y="2"/>
                      </a:lnTo>
                      <a:lnTo>
                        <a:pt x="38" y="0"/>
                      </a:lnTo>
                      <a:lnTo>
                        <a:pt x="35" y="2"/>
                      </a:lnTo>
                      <a:lnTo>
                        <a:pt x="33" y="4"/>
                      </a:lnTo>
                      <a:lnTo>
                        <a:pt x="30" y="6"/>
                      </a:lnTo>
                      <a:lnTo>
                        <a:pt x="28" y="8"/>
                      </a:lnTo>
                      <a:lnTo>
                        <a:pt x="25" y="10"/>
                      </a:lnTo>
                      <a:lnTo>
                        <a:pt x="23" y="11"/>
                      </a:lnTo>
                      <a:lnTo>
                        <a:pt x="21" y="13"/>
                      </a:lnTo>
                      <a:lnTo>
                        <a:pt x="19" y="15"/>
                      </a:lnTo>
                      <a:lnTo>
                        <a:pt x="18" y="17"/>
                      </a:lnTo>
                      <a:lnTo>
                        <a:pt x="16" y="18"/>
                      </a:lnTo>
                      <a:lnTo>
                        <a:pt x="15" y="20"/>
                      </a:lnTo>
                      <a:lnTo>
                        <a:pt x="14" y="21"/>
                      </a:lnTo>
                      <a:lnTo>
                        <a:pt x="13" y="23"/>
                      </a:lnTo>
                      <a:lnTo>
                        <a:pt x="12" y="24"/>
                      </a:lnTo>
                      <a:lnTo>
                        <a:pt x="11" y="26"/>
                      </a:lnTo>
                      <a:lnTo>
                        <a:pt x="10" y="27"/>
                      </a:lnTo>
                      <a:lnTo>
                        <a:pt x="10" y="29"/>
                      </a:lnTo>
                      <a:lnTo>
                        <a:pt x="9" y="30"/>
                      </a:lnTo>
                      <a:lnTo>
                        <a:pt x="9" y="31"/>
                      </a:lnTo>
                      <a:lnTo>
                        <a:pt x="9" y="32"/>
                      </a:lnTo>
                      <a:lnTo>
                        <a:pt x="9" y="34"/>
                      </a:lnTo>
                      <a:lnTo>
                        <a:pt x="9" y="35"/>
                      </a:lnTo>
                      <a:lnTo>
                        <a:pt x="10" y="36"/>
                      </a:lnTo>
                      <a:lnTo>
                        <a:pt x="10" y="37"/>
                      </a:lnTo>
                      <a:lnTo>
                        <a:pt x="11" y="38"/>
                      </a:lnTo>
                      <a:lnTo>
                        <a:pt x="11" y="39"/>
                      </a:lnTo>
                      <a:lnTo>
                        <a:pt x="12" y="40"/>
                      </a:lnTo>
                      <a:lnTo>
                        <a:pt x="13" y="41"/>
                      </a:lnTo>
                      <a:lnTo>
                        <a:pt x="15" y="42"/>
                      </a:lnTo>
                      <a:lnTo>
                        <a:pt x="16" y="42"/>
                      </a:lnTo>
                      <a:lnTo>
                        <a:pt x="18" y="43"/>
                      </a:lnTo>
                      <a:lnTo>
                        <a:pt x="19" y="44"/>
                      </a:lnTo>
                      <a:lnTo>
                        <a:pt x="23" y="45"/>
                      </a:lnTo>
                      <a:lnTo>
                        <a:pt x="26" y="47"/>
                      </a:lnTo>
                      <a:lnTo>
                        <a:pt x="30" y="48"/>
                      </a:lnTo>
                      <a:lnTo>
                        <a:pt x="34" y="49"/>
                      </a:lnTo>
                      <a:lnTo>
                        <a:pt x="38" y="51"/>
                      </a:lnTo>
                      <a:lnTo>
                        <a:pt x="42" y="52"/>
                      </a:lnTo>
                      <a:lnTo>
                        <a:pt x="46" y="53"/>
                      </a:lnTo>
                      <a:lnTo>
                        <a:pt x="51" y="54"/>
                      </a:lnTo>
                      <a:lnTo>
                        <a:pt x="55" y="55"/>
                      </a:lnTo>
                      <a:lnTo>
                        <a:pt x="60" y="56"/>
                      </a:lnTo>
                      <a:lnTo>
                        <a:pt x="64" y="57"/>
                      </a:lnTo>
                      <a:lnTo>
                        <a:pt x="69" y="59"/>
                      </a:lnTo>
                      <a:lnTo>
                        <a:pt x="74" y="60"/>
                      </a:lnTo>
                      <a:lnTo>
                        <a:pt x="79" y="61"/>
                      </a:lnTo>
                      <a:lnTo>
                        <a:pt x="84" y="62"/>
                      </a:lnTo>
                      <a:lnTo>
                        <a:pt x="90" y="62"/>
                      </a:lnTo>
                      <a:lnTo>
                        <a:pt x="95" y="63"/>
                      </a:lnTo>
                      <a:lnTo>
                        <a:pt x="100" y="64"/>
                      </a:lnTo>
                      <a:lnTo>
                        <a:pt x="105" y="65"/>
                      </a:lnTo>
                      <a:lnTo>
                        <a:pt x="110" y="66"/>
                      </a:lnTo>
                      <a:lnTo>
                        <a:pt x="115" y="67"/>
                      </a:lnTo>
                      <a:lnTo>
                        <a:pt x="120" y="68"/>
                      </a:lnTo>
                      <a:lnTo>
                        <a:pt x="125" y="70"/>
                      </a:lnTo>
                      <a:lnTo>
                        <a:pt x="129" y="71"/>
                      </a:lnTo>
                      <a:lnTo>
                        <a:pt x="134" y="72"/>
                      </a:lnTo>
                      <a:lnTo>
                        <a:pt x="138" y="73"/>
                      </a:lnTo>
                      <a:lnTo>
                        <a:pt x="143" y="74"/>
                      </a:lnTo>
                      <a:lnTo>
                        <a:pt x="147" y="76"/>
                      </a:lnTo>
                      <a:lnTo>
                        <a:pt x="151" y="77"/>
                      </a:lnTo>
                      <a:lnTo>
                        <a:pt x="155" y="78"/>
                      </a:lnTo>
                      <a:lnTo>
                        <a:pt x="159" y="80"/>
                      </a:lnTo>
                      <a:lnTo>
                        <a:pt x="163" y="81"/>
                      </a:lnTo>
                      <a:lnTo>
                        <a:pt x="165" y="82"/>
                      </a:lnTo>
                      <a:lnTo>
                        <a:pt x="166" y="83"/>
                      </a:lnTo>
                      <a:lnTo>
                        <a:pt x="168" y="84"/>
                      </a:lnTo>
                      <a:lnTo>
                        <a:pt x="169" y="85"/>
                      </a:lnTo>
                      <a:lnTo>
                        <a:pt x="171" y="85"/>
                      </a:lnTo>
                      <a:lnTo>
                        <a:pt x="172" y="86"/>
                      </a:lnTo>
                      <a:lnTo>
                        <a:pt x="173" y="87"/>
                      </a:lnTo>
                      <a:lnTo>
                        <a:pt x="174" y="88"/>
                      </a:lnTo>
                      <a:lnTo>
                        <a:pt x="174" y="90"/>
                      </a:lnTo>
                      <a:lnTo>
                        <a:pt x="175" y="91"/>
                      </a:lnTo>
                      <a:lnTo>
                        <a:pt x="175" y="92"/>
                      </a:lnTo>
                      <a:lnTo>
                        <a:pt x="176" y="93"/>
                      </a:lnTo>
                      <a:lnTo>
                        <a:pt x="176" y="94"/>
                      </a:lnTo>
                      <a:lnTo>
                        <a:pt x="176" y="96"/>
                      </a:lnTo>
                      <a:lnTo>
                        <a:pt x="176" y="97"/>
                      </a:lnTo>
                      <a:lnTo>
                        <a:pt x="176" y="98"/>
                      </a:lnTo>
                      <a:lnTo>
                        <a:pt x="175" y="100"/>
                      </a:lnTo>
                      <a:lnTo>
                        <a:pt x="175" y="101"/>
                      </a:lnTo>
                      <a:lnTo>
                        <a:pt x="174" y="103"/>
                      </a:lnTo>
                      <a:lnTo>
                        <a:pt x="174" y="104"/>
                      </a:lnTo>
                      <a:lnTo>
                        <a:pt x="173" y="106"/>
                      </a:lnTo>
                      <a:lnTo>
                        <a:pt x="172" y="107"/>
                      </a:lnTo>
                      <a:lnTo>
                        <a:pt x="171" y="109"/>
                      </a:lnTo>
                      <a:lnTo>
                        <a:pt x="169" y="111"/>
                      </a:lnTo>
                      <a:lnTo>
                        <a:pt x="168" y="113"/>
                      </a:lnTo>
                      <a:lnTo>
                        <a:pt x="166" y="114"/>
                      </a:lnTo>
                      <a:lnTo>
                        <a:pt x="165" y="116"/>
                      </a:lnTo>
                      <a:lnTo>
                        <a:pt x="163" y="118"/>
                      </a:lnTo>
                      <a:lnTo>
                        <a:pt x="161" y="120"/>
                      </a:lnTo>
                      <a:lnTo>
                        <a:pt x="159" y="122"/>
                      </a:lnTo>
                      <a:lnTo>
                        <a:pt x="157" y="124"/>
                      </a:lnTo>
                      <a:lnTo>
                        <a:pt x="154" y="126"/>
                      </a:lnTo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Freeform 55"/>
                <p:cNvSpPr/>
                <p:nvPr/>
              </p:nvSpPr>
              <p:spPr>
                <a:xfrm>
                  <a:off x="6765480" y="4736160"/>
                  <a:ext cx="54720" cy="11016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110160"/>
                    <a:gd name="textAreaBottom" fmla="*/ 110520 h 110160"/>
                  </a:gdLst>
                  <a:ahLst/>
                  <a:rect l="textAreaLeft" t="textAreaTop" r="textAreaRight" b="textAreaBottom"/>
                  <a:pathLst>
                    <a:path w="1401" h="2797">
                      <a:moveTo>
                        <a:pt x="0" y="2797"/>
                      </a:moveTo>
                      <a:lnTo>
                        <a:pt x="0" y="2797"/>
                      </a:lnTo>
                      <a:lnTo>
                        <a:pt x="35" y="2796"/>
                      </a:lnTo>
                      <a:lnTo>
                        <a:pt x="69" y="2795"/>
                      </a:lnTo>
                      <a:lnTo>
                        <a:pt x="104" y="2793"/>
                      </a:lnTo>
                      <a:lnTo>
                        <a:pt x="138" y="2790"/>
                      </a:lnTo>
                      <a:lnTo>
                        <a:pt x="171" y="2787"/>
                      </a:lnTo>
                      <a:lnTo>
                        <a:pt x="205" y="2782"/>
                      </a:lnTo>
                      <a:lnTo>
                        <a:pt x="238" y="2777"/>
                      </a:lnTo>
                      <a:lnTo>
                        <a:pt x="270" y="2771"/>
                      </a:lnTo>
                      <a:lnTo>
                        <a:pt x="303" y="2764"/>
                      </a:lnTo>
                      <a:lnTo>
                        <a:pt x="335" y="2757"/>
                      </a:lnTo>
                      <a:lnTo>
                        <a:pt x="367" y="2749"/>
                      </a:lnTo>
                      <a:lnTo>
                        <a:pt x="400" y="2739"/>
                      </a:lnTo>
                      <a:lnTo>
                        <a:pt x="431" y="2730"/>
                      </a:lnTo>
                      <a:lnTo>
                        <a:pt x="462" y="2719"/>
                      </a:lnTo>
                      <a:lnTo>
                        <a:pt x="493" y="2708"/>
                      </a:lnTo>
                      <a:lnTo>
                        <a:pt x="524" y="2695"/>
                      </a:lnTo>
                      <a:lnTo>
                        <a:pt x="554" y="2682"/>
                      </a:lnTo>
                      <a:lnTo>
                        <a:pt x="584" y="2669"/>
                      </a:lnTo>
                      <a:lnTo>
                        <a:pt x="614" y="2654"/>
                      </a:lnTo>
                      <a:lnTo>
                        <a:pt x="643" y="2639"/>
                      </a:lnTo>
                      <a:lnTo>
                        <a:pt x="672" y="2623"/>
                      </a:lnTo>
                      <a:lnTo>
                        <a:pt x="702" y="2606"/>
                      </a:lnTo>
                      <a:lnTo>
                        <a:pt x="731" y="2588"/>
                      </a:lnTo>
                      <a:lnTo>
                        <a:pt x="760" y="2570"/>
                      </a:lnTo>
                      <a:lnTo>
                        <a:pt x="788" y="2551"/>
                      </a:lnTo>
                      <a:lnTo>
                        <a:pt x="815" y="2531"/>
                      </a:lnTo>
                      <a:lnTo>
                        <a:pt x="843" y="2509"/>
                      </a:lnTo>
                      <a:lnTo>
                        <a:pt x="870" y="2488"/>
                      </a:lnTo>
                      <a:lnTo>
                        <a:pt x="897" y="2466"/>
                      </a:lnTo>
                      <a:lnTo>
                        <a:pt x="924" y="2443"/>
                      </a:lnTo>
                      <a:lnTo>
                        <a:pt x="950" y="2419"/>
                      </a:lnTo>
                      <a:lnTo>
                        <a:pt x="977" y="2395"/>
                      </a:lnTo>
                      <a:lnTo>
                        <a:pt x="1004" y="2369"/>
                      </a:lnTo>
                      <a:lnTo>
                        <a:pt x="1029" y="2344"/>
                      </a:lnTo>
                      <a:lnTo>
                        <a:pt x="1053" y="2318"/>
                      </a:lnTo>
                      <a:lnTo>
                        <a:pt x="1077" y="2291"/>
                      </a:lnTo>
                      <a:lnTo>
                        <a:pt x="1099" y="2265"/>
                      </a:lnTo>
                      <a:lnTo>
                        <a:pt x="1121" y="2238"/>
                      </a:lnTo>
                      <a:lnTo>
                        <a:pt x="1142" y="2209"/>
                      </a:lnTo>
                      <a:lnTo>
                        <a:pt x="1163" y="2182"/>
                      </a:lnTo>
                      <a:lnTo>
                        <a:pt x="1182" y="2153"/>
                      </a:lnTo>
                      <a:lnTo>
                        <a:pt x="1201" y="2125"/>
                      </a:lnTo>
                      <a:lnTo>
                        <a:pt x="1218" y="2096"/>
                      </a:lnTo>
                      <a:lnTo>
                        <a:pt x="1235" y="2067"/>
                      </a:lnTo>
                      <a:lnTo>
                        <a:pt x="1251" y="2038"/>
                      </a:lnTo>
                      <a:lnTo>
                        <a:pt x="1267" y="2008"/>
                      </a:lnTo>
                      <a:lnTo>
                        <a:pt x="1281" y="1978"/>
                      </a:lnTo>
                      <a:lnTo>
                        <a:pt x="1296" y="1947"/>
                      </a:lnTo>
                      <a:lnTo>
                        <a:pt x="1308" y="1916"/>
                      </a:lnTo>
                      <a:lnTo>
                        <a:pt x="1320" y="1884"/>
                      </a:lnTo>
                      <a:lnTo>
                        <a:pt x="1332" y="1853"/>
                      </a:lnTo>
                      <a:lnTo>
                        <a:pt x="1342" y="1821"/>
                      </a:lnTo>
                      <a:lnTo>
                        <a:pt x="1351" y="1789"/>
                      </a:lnTo>
                      <a:lnTo>
                        <a:pt x="1360" y="1756"/>
                      </a:lnTo>
                      <a:lnTo>
                        <a:pt x="1368" y="1723"/>
                      </a:lnTo>
                      <a:lnTo>
                        <a:pt x="1375" y="1690"/>
                      </a:lnTo>
                      <a:lnTo>
                        <a:pt x="1381" y="1656"/>
                      </a:lnTo>
                      <a:lnTo>
                        <a:pt x="1386" y="1622"/>
                      </a:lnTo>
                      <a:lnTo>
                        <a:pt x="1391" y="1587"/>
                      </a:lnTo>
                      <a:lnTo>
                        <a:pt x="1395" y="1552"/>
                      </a:lnTo>
                      <a:lnTo>
                        <a:pt x="1398" y="1517"/>
                      </a:lnTo>
                      <a:lnTo>
                        <a:pt x="1400" y="1482"/>
                      </a:lnTo>
                      <a:lnTo>
                        <a:pt x="1401" y="1446"/>
                      </a:lnTo>
                      <a:lnTo>
                        <a:pt x="1401" y="1410"/>
                      </a:lnTo>
                      <a:lnTo>
                        <a:pt x="1401" y="1375"/>
                      </a:lnTo>
                      <a:lnTo>
                        <a:pt x="1400" y="1341"/>
                      </a:lnTo>
                      <a:lnTo>
                        <a:pt x="1398" y="1306"/>
                      </a:lnTo>
                      <a:lnTo>
                        <a:pt x="1395" y="1272"/>
                      </a:lnTo>
                      <a:lnTo>
                        <a:pt x="1391" y="1239"/>
                      </a:lnTo>
                      <a:lnTo>
                        <a:pt x="1386" y="1205"/>
                      </a:lnTo>
                      <a:lnTo>
                        <a:pt x="1381" y="1172"/>
                      </a:lnTo>
                      <a:lnTo>
                        <a:pt x="1375" y="1139"/>
                      </a:lnTo>
                      <a:lnTo>
                        <a:pt x="1368" y="1107"/>
                      </a:lnTo>
                      <a:lnTo>
                        <a:pt x="1360" y="1075"/>
                      </a:lnTo>
                      <a:lnTo>
                        <a:pt x="1351" y="1043"/>
                      </a:lnTo>
                      <a:lnTo>
                        <a:pt x="1342" y="1010"/>
                      </a:lnTo>
                      <a:lnTo>
                        <a:pt x="1332" y="979"/>
                      </a:lnTo>
                      <a:lnTo>
                        <a:pt x="1320" y="947"/>
                      </a:lnTo>
                      <a:lnTo>
                        <a:pt x="1308" y="917"/>
                      </a:lnTo>
                      <a:lnTo>
                        <a:pt x="1296" y="886"/>
                      </a:lnTo>
                      <a:lnTo>
                        <a:pt x="1281" y="855"/>
                      </a:lnTo>
                      <a:lnTo>
                        <a:pt x="1267" y="825"/>
                      </a:lnTo>
                      <a:lnTo>
                        <a:pt x="1251" y="795"/>
                      </a:lnTo>
                      <a:lnTo>
                        <a:pt x="1235" y="766"/>
                      </a:lnTo>
                      <a:lnTo>
                        <a:pt x="1218" y="736"/>
                      </a:lnTo>
                      <a:lnTo>
                        <a:pt x="1201" y="706"/>
                      </a:lnTo>
                      <a:lnTo>
                        <a:pt x="1182" y="677"/>
                      </a:lnTo>
                      <a:lnTo>
                        <a:pt x="1163" y="649"/>
                      </a:lnTo>
                      <a:lnTo>
                        <a:pt x="1142" y="620"/>
                      </a:lnTo>
                      <a:lnTo>
                        <a:pt x="1121" y="592"/>
                      </a:lnTo>
                      <a:lnTo>
                        <a:pt x="1099" y="564"/>
                      </a:lnTo>
                      <a:lnTo>
                        <a:pt x="1077" y="537"/>
                      </a:lnTo>
                      <a:lnTo>
                        <a:pt x="1053" y="509"/>
                      </a:lnTo>
                      <a:lnTo>
                        <a:pt x="1029" y="482"/>
                      </a:lnTo>
                      <a:lnTo>
                        <a:pt x="1004" y="456"/>
                      </a:lnTo>
                      <a:lnTo>
                        <a:pt x="977" y="428"/>
                      </a:lnTo>
                      <a:lnTo>
                        <a:pt x="950" y="402"/>
                      </a:lnTo>
                      <a:lnTo>
                        <a:pt x="924" y="376"/>
                      </a:lnTo>
                      <a:lnTo>
                        <a:pt x="897" y="351"/>
                      </a:lnTo>
                      <a:lnTo>
                        <a:pt x="870" y="327"/>
                      </a:lnTo>
                      <a:lnTo>
                        <a:pt x="843" y="305"/>
                      </a:lnTo>
                      <a:lnTo>
                        <a:pt x="815" y="282"/>
                      </a:lnTo>
                      <a:lnTo>
                        <a:pt x="788" y="261"/>
                      </a:lnTo>
                      <a:lnTo>
                        <a:pt x="760" y="241"/>
                      </a:lnTo>
                      <a:lnTo>
                        <a:pt x="731" y="221"/>
                      </a:lnTo>
                      <a:lnTo>
                        <a:pt x="702" y="202"/>
                      </a:lnTo>
                      <a:lnTo>
                        <a:pt x="672" y="184"/>
                      </a:lnTo>
                      <a:lnTo>
                        <a:pt x="643" y="167"/>
                      </a:lnTo>
                      <a:lnTo>
                        <a:pt x="614" y="151"/>
                      </a:lnTo>
                      <a:lnTo>
                        <a:pt x="584" y="135"/>
                      </a:lnTo>
                      <a:lnTo>
                        <a:pt x="554" y="120"/>
                      </a:lnTo>
                      <a:lnTo>
                        <a:pt x="524" y="106"/>
                      </a:lnTo>
                      <a:lnTo>
                        <a:pt x="493" y="93"/>
                      </a:lnTo>
                      <a:lnTo>
                        <a:pt x="462" y="81"/>
                      </a:lnTo>
                      <a:lnTo>
                        <a:pt x="431" y="70"/>
                      </a:lnTo>
                      <a:lnTo>
                        <a:pt x="400" y="60"/>
                      </a:lnTo>
                      <a:lnTo>
                        <a:pt x="367" y="50"/>
                      </a:lnTo>
                      <a:lnTo>
                        <a:pt x="335" y="41"/>
                      </a:lnTo>
                      <a:lnTo>
                        <a:pt x="303" y="33"/>
                      </a:lnTo>
                      <a:lnTo>
                        <a:pt x="270" y="26"/>
                      </a:lnTo>
                      <a:lnTo>
                        <a:pt x="238" y="20"/>
                      </a:lnTo>
                      <a:lnTo>
                        <a:pt x="205" y="15"/>
                      </a:lnTo>
                      <a:lnTo>
                        <a:pt x="171" y="10"/>
                      </a:lnTo>
                      <a:lnTo>
                        <a:pt x="138" y="6"/>
                      </a:lnTo>
                      <a:lnTo>
                        <a:pt x="104" y="4"/>
                      </a:lnTo>
                      <a:lnTo>
                        <a:pt x="69" y="1"/>
                      </a:lnTo>
                      <a:lnTo>
                        <a:pt x="35" y="0"/>
                      </a:lnTo>
                      <a:lnTo>
                        <a:pt x="0" y="0"/>
                      </a:lnTo>
                      <a:lnTo>
                        <a:pt x="0" y="2797"/>
                      </a:lnTo>
                      <a:close/>
                    </a:path>
                  </a:pathLst>
                </a:custGeom>
                <a:solidFill>
                  <a:schemeClr val="accent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32"/>
          <p:cNvGrpSpPr/>
          <p:nvPr/>
        </p:nvGrpSpPr>
        <p:grpSpPr>
          <a:xfrm>
            <a:off x="824760" y="4369680"/>
            <a:ext cx="922320" cy="922320"/>
            <a:chOff x="824760" y="4369680"/>
            <a:chExt cx="922320" cy="922320"/>
          </a:xfrm>
        </p:grpSpPr>
        <p:sp>
          <p:nvSpPr>
            <p:cNvPr id="656" name="椭圆 65"/>
            <p:cNvSpPr/>
            <p:nvPr/>
          </p:nvSpPr>
          <p:spPr>
            <a:xfrm>
              <a:off x="824760" y="436968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57" name="组合 111"/>
            <p:cNvGrpSpPr/>
            <p:nvPr/>
          </p:nvGrpSpPr>
          <p:grpSpPr>
            <a:xfrm>
              <a:off x="971640" y="4506120"/>
              <a:ext cx="632160" cy="632160"/>
              <a:chOff x="971640" y="4506120"/>
              <a:chExt cx="632160" cy="632160"/>
            </a:xfrm>
          </p:grpSpPr>
          <p:sp>
            <p:nvSpPr>
              <p:cNvPr id="658" name="椭圆 112"/>
              <p:cNvSpPr/>
              <p:nvPr/>
            </p:nvSpPr>
            <p:spPr>
              <a:xfrm>
                <a:off x="971640" y="4506120"/>
                <a:ext cx="632160" cy="63216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659" name="Group 666"/>
              <p:cNvGrpSpPr/>
              <p:nvPr/>
            </p:nvGrpSpPr>
            <p:grpSpPr>
              <a:xfrm>
                <a:off x="1080720" y="4616280"/>
                <a:ext cx="413280" cy="411480"/>
                <a:chOff x="1080720" y="4616280"/>
                <a:chExt cx="413280" cy="411480"/>
              </a:xfrm>
            </p:grpSpPr>
            <p:sp>
              <p:nvSpPr>
                <p:cNvPr id="660" name="Freeform 667"/>
                <p:cNvSpPr/>
                <p:nvPr/>
              </p:nvSpPr>
              <p:spPr>
                <a:xfrm>
                  <a:off x="1228680" y="4616640"/>
                  <a:ext cx="202320" cy="116640"/>
                </a:xfrm>
                <a:custGeom>
                  <a:avLst/>
                  <a:gdLst>
                    <a:gd name="textAreaLeft" fmla="*/ 0 w 202320"/>
                    <a:gd name="textAreaRight" fmla="*/ 202680 w 20232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1039" h="606">
                      <a:moveTo>
                        <a:pt x="1034" y="450"/>
                      </a:moveTo>
                      <a:lnTo>
                        <a:pt x="1034" y="450"/>
                      </a:lnTo>
                      <a:lnTo>
                        <a:pt x="1029" y="464"/>
                      </a:lnTo>
                      <a:lnTo>
                        <a:pt x="1024" y="476"/>
                      </a:lnTo>
                      <a:lnTo>
                        <a:pt x="1016" y="489"/>
                      </a:lnTo>
                      <a:lnTo>
                        <a:pt x="1009" y="501"/>
                      </a:lnTo>
                      <a:lnTo>
                        <a:pt x="999" y="511"/>
                      </a:lnTo>
                      <a:lnTo>
                        <a:pt x="988" y="523"/>
                      </a:lnTo>
                      <a:lnTo>
                        <a:pt x="976" y="532"/>
                      </a:lnTo>
                      <a:lnTo>
                        <a:pt x="965" y="542"/>
                      </a:lnTo>
                      <a:lnTo>
                        <a:pt x="951" y="550"/>
                      </a:lnTo>
                      <a:lnTo>
                        <a:pt x="936" y="559"/>
                      </a:lnTo>
                      <a:lnTo>
                        <a:pt x="903" y="574"/>
                      </a:lnTo>
                      <a:lnTo>
                        <a:pt x="868" y="586"/>
                      </a:lnTo>
                      <a:lnTo>
                        <a:pt x="830" y="594"/>
                      </a:lnTo>
                      <a:lnTo>
                        <a:pt x="788" y="601"/>
                      </a:lnTo>
                      <a:lnTo>
                        <a:pt x="744" y="606"/>
                      </a:lnTo>
                      <a:lnTo>
                        <a:pt x="698" y="606"/>
                      </a:lnTo>
                      <a:lnTo>
                        <a:pt x="650" y="605"/>
                      </a:lnTo>
                      <a:lnTo>
                        <a:pt x="599" y="601"/>
                      </a:lnTo>
                      <a:lnTo>
                        <a:pt x="548" y="593"/>
                      </a:lnTo>
                      <a:lnTo>
                        <a:pt x="497" y="583"/>
                      </a:lnTo>
                      <a:lnTo>
                        <a:pt x="445" y="569"/>
                      </a:lnTo>
                      <a:lnTo>
                        <a:pt x="445" y="569"/>
                      </a:lnTo>
                      <a:lnTo>
                        <a:pt x="392" y="552"/>
                      </a:lnTo>
                      <a:lnTo>
                        <a:pt x="341" y="533"/>
                      </a:lnTo>
                      <a:lnTo>
                        <a:pt x="295" y="513"/>
                      </a:lnTo>
                      <a:lnTo>
                        <a:pt x="249" y="491"/>
                      </a:lnTo>
                      <a:lnTo>
                        <a:pt x="209" y="467"/>
                      </a:lnTo>
                      <a:lnTo>
                        <a:pt x="169" y="442"/>
                      </a:lnTo>
                      <a:lnTo>
                        <a:pt x="134" y="414"/>
                      </a:lnTo>
                      <a:lnTo>
                        <a:pt x="103" y="387"/>
                      </a:lnTo>
                      <a:lnTo>
                        <a:pt x="74" y="358"/>
                      </a:lnTo>
                      <a:lnTo>
                        <a:pt x="51" y="329"/>
                      </a:lnTo>
                      <a:lnTo>
                        <a:pt x="32" y="301"/>
                      </a:lnTo>
                      <a:lnTo>
                        <a:pt x="23" y="285"/>
                      </a:lnTo>
                      <a:lnTo>
                        <a:pt x="17" y="272"/>
                      </a:lnTo>
                      <a:lnTo>
                        <a:pt x="11" y="256"/>
                      </a:lnTo>
                      <a:lnTo>
                        <a:pt x="6" y="243"/>
                      </a:lnTo>
                      <a:lnTo>
                        <a:pt x="3" y="228"/>
                      </a:lnTo>
                      <a:lnTo>
                        <a:pt x="1" y="212"/>
                      </a:lnTo>
                      <a:lnTo>
                        <a:pt x="0" y="199"/>
                      </a:lnTo>
                      <a:lnTo>
                        <a:pt x="1" y="185"/>
                      </a:lnTo>
                      <a:lnTo>
                        <a:pt x="3" y="170"/>
                      </a:lnTo>
                      <a:lnTo>
                        <a:pt x="6" y="156"/>
                      </a:lnTo>
                      <a:lnTo>
                        <a:pt x="6" y="156"/>
                      </a:lnTo>
                      <a:lnTo>
                        <a:pt x="10" y="143"/>
                      </a:lnTo>
                      <a:lnTo>
                        <a:pt x="17" y="131"/>
                      </a:lnTo>
                      <a:lnTo>
                        <a:pt x="23" y="117"/>
                      </a:lnTo>
                      <a:lnTo>
                        <a:pt x="32" y="105"/>
                      </a:lnTo>
                      <a:lnTo>
                        <a:pt x="40" y="95"/>
                      </a:lnTo>
                      <a:lnTo>
                        <a:pt x="51" y="85"/>
                      </a:lnTo>
                      <a:lnTo>
                        <a:pt x="62" y="75"/>
                      </a:lnTo>
                      <a:lnTo>
                        <a:pt x="76" y="64"/>
                      </a:lnTo>
                      <a:lnTo>
                        <a:pt x="90" y="56"/>
                      </a:lnTo>
                      <a:lnTo>
                        <a:pt x="103" y="47"/>
                      </a:lnTo>
                      <a:lnTo>
                        <a:pt x="136" y="32"/>
                      </a:lnTo>
                      <a:lnTo>
                        <a:pt x="171" y="20"/>
                      </a:lnTo>
                      <a:lnTo>
                        <a:pt x="210" y="12"/>
                      </a:lnTo>
                      <a:lnTo>
                        <a:pt x="251" y="5"/>
                      </a:lnTo>
                      <a:lnTo>
                        <a:pt x="295" y="2"/>
                      </a:lnTo>
                      <a:lnTo>
                        <a:pt x="341" y="0"/>
                      </a:lnTo>
                      <a:lnTo>
                        <a:pt x="390" y="2"/>
                      </a:lnTo>
                      <a:lnTo>
                        <a:pt x="440" y="5"/>
                      </a:lnTo>
                      <a:lnTo>
                        <a:pt x="491" y="13"/>
                      </a:lnTo>
                      <a:lnTo>
                        <a:pt x="543" y="24"/>
                      </a:lnTo>
                      <a:lnTo>
                        <a:pt x="596" y="37"/>
                      </a:lnTo>
                      <a:lnTo>
                        <a:pt x="596" y="37"/>
                      </a:lnTo>
                      <a:lnTo>
                        <a:pt x="649" y="54"/>
                      </a:lnTo>
                      <a:lnTo>
                        <a:pt x="698" y="73"/>
                      </a:lnTo>
                      <a:lnTo>
                        <a:pt x="745" y="93"/>
                      </a:lnTo>
                      <a:lnTo>
                        <a:pt x="790" y="115"/>
                      </a:lnTo>
                      <a:lnTo>
                        <a:pt x="832" y="139"/>
                      </a:lnTo>
                      <a:lnTo>
                        <a:pt x="869" y="165"/>
                      </a:lnTo>
                      <a:lnTo>
                        <a:pt x="905" y="192"/>
                      </a:lnTo>
                      <a:lnTo>
                        <a:pt x="937" y="219"/>
                      </a:lnTo>
                      <a:lnTo>
                        <a:pt x="965" y="248"/>
                      </a:lnTo>
                      <a:lnTo>
                        <a:pt x="988" y="277"/>
                      </a:lnTo>
                      <a:lnTo>
                        <a:pt x="1009" y="306"/>
                      </a:lnTo>
                      <a:lnTo>
                        <a:pt x="1016" y="321"/>
                      </a:lnTo>
                      <a:lnTo>
                        <a:pt x="1022" y="335"/>
                      </a:lnTo>
                      <a:lnTo>
                        <a:pt x="1029" y="350"/>
                      </a:lnTo>
                      <a:lnTo>
                        <a:pt x="1033" y="365"/>
                      </a:lnTo>
                      <a:lnTo>
                        <a:pt x="1036" y="379"/>
                      </a:lnTo>
                      <a:lnTo>
                        <a:pt x="1039" y="394"/>
                      </a:lnTo>
                      <a:lnTo>
                        <a:pt x="1039" y="408"/>
                      </a:lnTo>
                      <a:lnTo>
                        <a:pt x="1039" y="423"/>
                      </a:lnTo>
                      <a:lnTo>
                        <a:pt x="1038" y="436"/>
                      </a:lnTo>
                      <a:lnTo>
                        <a:pt x="1034" y="450"/>
                      </a:lnTo>
                      <a:lnTo>
                        <a:pt x="1034" y="450"/>
                      </a:lnTo>
                      <a:close/>
                    </a:path>
                  </a:pathLst>
                </a:custGeom>
                <a:noFill/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1" name="Freeform 668"/>
                <p:cNvSpPr/>
                <p:nvPr/>
              </p:nvSpPr>
              <p:spPr>
                <a:xfrm>
                  <a:off x="1137960" y="4678200"/>
                  <a:ext cx="145800" cy="1440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144000"/>
                    <a:gd name="textAreaBottom" fmla="*/ 144360 h 144000"/>
                  </a:gdLst>
                  <a:ahLst/>
                  <a:rect l="textAreaLeft" t="textAreaTop" r="textAreaRight" b="textAreaBottom"/>
                  <a:pathLst>
                    <a:path w="749" h="747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5" y="25"/>
                      </a:lnTo>
                      <a:lnTo>
                        <a:pt x="2" y="51"/>
                      </a:lnTo>
                      <a:lnTo>
                        <a:pt x="0" y="78"/>
                      </a:lnTo>
                      <a:lnTo>
                        <a:pt x="0" y="105"/>
                      </a:lnTo>
                      <a:lnTo>
                        <a:pt x="3" y="130"/>
                      </a:lnTo>
                      <a:lnTo>
                        <a:pt x="9" y="158"/>
                      </a:lnTo>
                      <a:lnTo>
                        <a:pt x="15" y="185"/>
                      </a:lnTo>
                      <a:lnTo>
                        <a:pt x="26" y="212"/>
                      </a:lnTo>
                      <a:lnTo>
                        <a:pt x="36" y="239"/>
                      </a:lnTo>
                      <a:lnTo>
                        <a:pt x="49" y="266"/>
                      </a:lnTo>
                      <a:lnTo>
                        <a:pt x="65" y="293"/>
                      </a:lnTo>
                      <a:lnTo>
                        <a:pt x="82" y="319"/>
                      </a:lnTo>
                      <a:lnTo>
                        <a:pt x="100" y="346"/>
                      </a:lnTo>
                      <a:lnTo>
                        <a:pt x="122" y="372"/>
                      </a:lnTo>
                      <a:lnTo>
                        <a:pt x="145" y="399"/>
                      </a:lnTo>
                      <a:lnTo>
                        <a:pt x="168" y="424"/>
                      </a:lnTo>
                      <a:lnTo>
                        <a:pt x="194" y="450"/>
                      </a:lnTo>
                      <a:lnTo>
                        <a:pt x="223" y="474"/>
                      </a:lnTo>
                      <a:lnTo>
                        <a:pt x="252" y="497"/>
                      </a:lnTo>
                      <a:lnTo>
                        <a:pt x="282" y="521"/>
                      </a:lnTo>
                      <a:lnTo>
                        <a:pt x="313" y="545"/>
                      </a:lnTo>
                      <a:lnTo>
                        <a:pt x="347" y="567"/>
                      </a:lnTo>
                      <a:lnTo>
                        <a:pt x="382" y="589"/>
                      </a:lnTo>
                      <a:lnTo>
                        <a:pt x="418" y="609"/>
                      </a:lnTo>
                      <a:lnTo>
                        <a:pt x="455" y="630"/>
                      </a:lnTo>
                      <a:lnTo>
                        <a:pt x="494" y="650"/>
                      </a:lnTo>
                      <a:lnTo>
                        <a:pt x="534" y="669"/>
                      </a:lnTo>
                      <a:lnTo>
                        <a:pt x="574" y="686"/>
                      </a:lnTo>
                      <a:lnTo>
                        <a:pt x="617" y="703"/>
                      </a:lnTo>
                      <a:lnTo>
                        <a:pt x="659" y="718"/>
                      </a:lnTo>
                      <a:lnTo>
                        <a:pt x="703" y="733"/>
                      </a:lnTo>
                      <a:lnTo>
                        <a:pt x="749" y="747"/>
                      </a:lnTo>
                    </a:path>
                  </a:pathLst>
                </a:custGeom>
                <a:noFill/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669"/>
                <p:cNvSpPr/>
                <p:nvPr/>
              </p:nvSpPr>
              <p:spPr>
                <a:xfrm>
                  <a:off x="1284120" y="4768560"/>
                  <a:ext cx="201600" cy="6444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64440"/>
                    <a:gd name="textAreaBottom" fmla="*/ 64800 h 64440"/>
                  </a:gdLst>
                  <a:ahLst/>
                  <a:rect l="textAreaLeft" t="textAreaTop" r="textAreaRight" b="textAreaBottom"/>
                  <a:pathLst>
                    <a:path w="1037" h="337">
                      <a:moveTo>
                        <a:pt x="1037" y="0"/>
                      </a:moveTo>
                      <a:lnTo>
                        <a:pt x="1037" y="0"/>
                      </a:lnTo>
                      <a:lnTo>
                        <a:pt x="1028" y="28"/>
                      </a:lnTo>
                      <a:lnTo>
                        <a:pt x="1016" y="53"/>
                      </a:lnTo>
                      <a:lnTo>
                        <a:pt x="1003" y="79"/>
                      </a:lnTo>
                      <a:lnTo>
                        <a:pt x="987" y="102"/>
                      </a:lnTo>
                      <a:lnTo>
                        <a:pt x="970" y="124"/>
                      </a:lnTo>
                      <a:lnTo>
                        <a:pt x="952" y="146"/>
                      </a:lnTo>
                      <a:lnTo>
                        <a:pt x="931" y="167"/>
                      </a:lnTo>
                      <a:lnTo>
                        <a:pt x="908" y="187"/>
                      </a:lnTo>
                      <a:lnTo>
                        <a:pt x="884" y="206"/>
                      </a:lnTo>
                      <a:lnTo>
                        <a:pt x="858" y="223"/>
                      </a:lnTo>
                      <a:lnTo>
                        <a:pt x="829" y="238"/>
                      </a:lnTo>
                      <a:lnTo>
                        <a:pt x="800" y="254"/>
                      </a:lnTo>
                      <a:lnTo>
                        <a:pt x="770" y="267"/>
                      </a:lnTo>
                      <a:lnTo>
                        <a:pt x="738" y="281"/>
                      </a:lnTo>
                      <a:lnTo>
                        <a:pt x="705" y="293"/>
                      </a:lnTo>
                      <a:lnTo>
                        <a:pt x="670" y="301"/>
                      </a:lnTo>
                      <a:lnTo>
                        <a:pt x="634" y="311"/>
                      </a:lnTo>
                      <a:lnTo>
                        <a:pt x="598" y="318"/>
                      </a:lnTo>
                      <a:lnTo>
                        <a:pt x="559" y="325"/>
                      </a:lnTo>
                      <a:lnTo>
                        <a:pt x="520" y="330"/>
                      </a:lnTo>
                      <a:lnTo>
                        <a:pt x="481" y="333"/>
                      </a:lnTo>
                      <a:lnTo>
                        <a:pt x="440" y="335"/>
                      </a:lnTo>
                      <a:lnTo>
                        <a:pt x="400" y="337"/>
                      </a:lnTo>
                      <a:lnTo>
                        <a:pt x="357" y="335"/>
                      </a:lnTo>
                      <a:lnTo>
                        <a:pt x="315" y="333"/>
                      </a:lnTo>
                      <a:lnTo>
                        <a:pt x="270" y="330"/>
                      </a:lnTo>
                      <a:lnTo>
                        <a:pt x="226" y="325"/>
                      </a:lnTo>
                      <a:lnTo>
                        <a:pt x="182" y="320"/>
                      </a:lnTo>
                      <a:lnTo>
                        <a:pt x="136" y="311"/>
                      </a:lnTo>
                      <a:lnTo>
                        <a:pt x="92" y="303"/>
                      </a:lnTo>
                      <a:lnTo>
                        <a:pt x="46" y="291"/>
                      </a:lnTo>
                      <a:lnTo>
                        <a:pt x="0" y="279"/>
                      </a:lnTo>
                    </a:path>
                  </a:pathLst>
                </a:custGeom>
                <a:noFill/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670"/>
                <p:cNvSpPr/>
                <p:nvPr/>
              </p:nvSpPr>
              <p:spPr>
                <a:xfrm>
                  <a:off x="1083240" y="4784760"/>
                  <a:ext cx="174240" cy="13680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897" h="71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1" y="22"/>
                      </a:lnTo>
                      <a:lnTo>
                        <a:pt x="0" y="44"/>
                      </a:lnTo>
                      <a:lnTo>
                        <a:pt x="0" y="68"/>
                      </a:lnTo>
                      <a:lnTo>
                        <a:pt x="3" y="90"/>
                      </a:lnTo>
                      <a:lnTo>
                        <a:pt x="8" y="113"/>
                      </a:lnTo>
                      <a:lnTo>
                        <a:pt x="15" y="137"/>
                      </a:lnTo>
                      <a:lnTo>
                        <a:pt x="25" y="163"/>
                      </a:lnTo>
                      <a:lnTo>
                        <a:pt x="39" y="187"/>
                      </a:lnTo>
                      <a:lnTo>
                        <a:pt x="54" y="210"/>
                      </a:lnTo>
                      <a:lnTo>
                        <a:pt x="71" y="236"/>
                      </a:lnTo>
                      <a:lnTo>
                        <a:pt x="90" y="260"/>
                      </a:lnTo>
                      <a:lnTo>
                        <a:pt x="112" y="285"/>
                      </a:lnTo>
                      <a:lnTo>
                        <a:pt x="134" y="309"/>
                      </a:lnTo>
                      <a:lnTo>
                        <a:pt x="159" y="334"/>
                      </a:lnTo>
                      <a:lnTo>
                        <a:pt x="188" y="358"/>
                      </a:lnTo>
                      <a:lnTo>
                        <a:pt x="217" y="382"/>
                      </a:lnTo>
                      <a:lnTo>
                        <a:pt x="248" y="407"/>
                      </a:lnTo>
                      <a:lnTo>
                        <a:pt x="280" y="431"/>
                      </a:lnTo>
                      <a:lnTo>
                        <a:pt x="316" y="453"/>
                      </a:lnTo>
                      <a:lnTo>
                        <a:pt x="351" y="477"/>
                      </a:lnTo>
                      <a:lnTo>
                        <a:pt x="389" y="499"/>
                      </a:lnTo>
                      <a:lnTo>
                        <a:pt x="430" y="521"/>
                      </a:lnTo>
                      <a:lnTo>
                        <a:pt x="470" y="543"/>
                      </a:lnTo>
                      <a:lnTo>
                        <a:pt x="513" y="565"/>
                      </a:lnTo>
                      <a:lnTo>
                        <a:pt x="555" y="586"/>
                      </a:lnTo>
                      <a:lnTo>
                        <a:pt x="601" y="606"/>
                      </a:lnTo>
                      <a:lnTo>
                        <a:pt x="647" y="625"/>
                      </a:lnTo>
                      <a:lnTo>
                        <a:pt x="695" y="643"/>
                      </a:lnTo>
                      <a:lnTo>
                        <a:pt x="744" y="662"/>
                      </a:lnTo>
                      <a:lnTo>
                        <a:pt x="793" y="679"/>
                      </a:lnTo>
                      <a:lnTo>
                        <a:pt x="844" y="694"/>
                      </a:lnTo>
                      <a:lnTo>
                        <a:pt x="897" y="710"/>
                      </a:lnTo>
                    </a:path>
                  </a:pathLst>
                </a:custGeom>
                <a:noFill/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671"/>
                <p:cNvSpPr/>
                <p:nvPr/>
              </p:nvSpPr>
              <p:spPr>
                <a:xfrm>
                  <a:off x="1258560" y="4896360"/>
                  <a:ext cx="220320" cy="42840"/>
                </a:xfrm>
                <a:custGeom>
                  <a:avLst/>
                  <a:gdLst>
                    <a:gd name="textAreaLeft" fmla="*/ 0 w 220320"/>
                    <a:gd name="textAreaRight" fmla="*/ 220680 w 22032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132" h="224">
                      <a:moveTo>
                        <a:pt x="1132" y="0"/>
                      </a:moveTo>
                      <a:lnTo>
                        <a:pt x="1132" y="0"/>
                      </a:lnTo>
                      <a:lnTo>
                        <a:pt x="1125" y="22"/>
                      </a:lnTo>
                      <a:lnTo>
                        <a:pt x="1115" y="43"/>
                      </a:lnTo>
                      <a:lnTo>
                        <a:pt x="1103" y="61"/>
                      </a:lnTo>
                      <a:lnTo>
                        <a:pt x="1087" y="80"/>
                      </a:lnTo>
                      <a:lnTo>
                        <a:pt x="1070" y="97"/>
                      </a:lnTo>
                      <a:lnTo>
                        <a:pt x="1050" y="114"/>
                      </a:lnTo>
                      <a:lnTo>
                        <a:pt x="1030" y="129"/>
                      </a:lnTo>
                      <a:lnTo>
                        <a:pt x="1006" y="143"/>
                      </a:lnTo>
                      <a:lnTo>
                        <a:pt x="980" y="155"/>
                      </a:lnTo>
                      <a:lnTo>
                        <a:pt x="953" y="167"/>
                      </a:lnTo>
                      <a:lnTo>
                        <a:pt x="923" y="179"/>
                      </a:lnTo>
                      <a:lnTo>
                        <a:pt x="892" y="187"/>
                      </a:lnTo>
                      <a:lnTo>
                        <a:pt x="860" y="196"/>
                      </a:lnTo>
                      <a:lnTo>
                        <a:pt x="824" y="204"/>
                      </a:lnTo>
                      <a:lnTo>
                        <a:pt x="788" y="209"/>
                      </a:lnTo>
                      <a:lnTo>
                        <a:pt x="751" y="214"/>
                      </a:lnTo>
                      <a:lnTo>
                        <a:pt x="712" y="219"/>
                      </a:lnTo>
                      <a:lnTo>
                        <a:pt x="671" y="221"/>
                      </a:lnTo>
                      <a:lnTo>
                        <a:pt x="629" y="223"/>
                      </a:lnTo>
                      <a:lnTo>
                        <a:pt x="586" y="224"/>
                      </a:lnTo>
                      <a:lnTo>
                        <a:pt x="542" y="223"/>
                      </a:lnTo>
                      <a:lnTo>
                        <a:pt x="498" y="221"/>
                      </a:lnTo>
                      <a:lnTo>
                        <a:pt x="450" y="218"/>
                      </a:lnTo>
                      <a:lnTo>
                        <a:pt x="405" y="214"/>
                      </a:lnTo>
                      <a:lnTo>
                        <a:pt x="355" y="207"/>
                      </a:lnTo>
                      <a:lnTo>
                        <a:pt x="306" y="202"/>
                      </a:lnTo>
                      <a:lnTo>
                        <a:pt x="257" y="194"/>
                      </a:lnTo>
                      <a:lnTo>
                        <a:pt x="207" y="184"/>
                      </a:lnTo>
                      <a:lnTo>
                        <a:pt x="156" y="173"/>
                      </a:lnTo>
                      <a:lnTo>
                        <a:pt x="106" y="162"/>
                      </a:lnTo>
                      <a:lnTo>
                        <a:pt x="53" y="15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672"/>
                <p:cNvSpPr/>
                <p:nvPr/>
              </p:nvSpPr>
              <p:spPr>
                <a:xfrm>
                  <a:off x="1104120" y="4906800"/>
                  <a:ext cx="133560" cy="8640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86400"/>
                    <a:gd name="textAreaBottom" fmla="*/ 86760 h 86400"/>
                  </a:gdLst>
                  <a:ahLst/>
                  <a:rect l="textAreaLeft" t="textAreaTop" r="textAreaRight" b="textAreaBottom"/>
                  <a:pathLst>
                    <a:path w="688" h="450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2" y="11"/>
                      </a:lnTo>
                      <a:lnTo>
                        <a:pt x="0" y="25"/>
                      </a:lnTo>
                      <a:lnTo>
                        <a:pt x="2" y="39"/>
                      </a:lnTo>
                      <a:lnTo>
                        <a:pt x="5" y="51"/>
                      </a:lnTo>
                      <a:lnTo>
                        <a:pt x="10" y="66"/>
                      </a:lnTo>
                      <a:lnTo>
                        <a:pt x="17" y="79"/>
                      </a:lnTo>
                      <a:lnTo>
                        <a:pt x="26" y="93"/>
                      </a:lnTo>
                      <a:lnTo>
                        <a:pt x="36" y="108"/>
                      </a:lnTo>
                      <a:lnTo>
                        <a:pt x="48" y="122"/>
                      </a:lnTo>
                      <a:lnTo>
                        <a:pt x="61" y="137"/>
                      </a:lnTo>
                      <a:lnTo>
                        <a:pt x="94" y="168"/>
                      </a:lnTo>
                      <a:lnTo>
                        <a:pt x="133" y="198"/>
                      </a:lnTo>
                      <a:lnTo>
                        <a:pt x="175" y="229"/>
                      </a:lnTo>
                      <a:lnTo>
                        <a:pt x="224" y="259"/>
                      </a:lnTo>
                      <a:lnTo>
                        <a:pt x="279" y="288"/>
                      </a:lnTo>
                      <a:lnTo>
                        <a:pt x="338" y="319"/>
                      </a:lnTo>
                      <a:lnTo>
                        <a:pt x="401" y="348"/>
                      </a:lnTo>
                      <a:lnTo>
                        <a:pt x="467" y="375"/>
                      </a:lnTo>
                      <a:lnTo>
                        <a:pt x="537" y="400"/>
                      </a:lnTo>
                      <a:lnTo>
                        <a:pt x="612" y="426"/>
                      </a:lnTo>
                      <a:lnTo>
                        <a:pt x="688" y="450"/>
                      </a:lnTo>
                    </a:path>
                  </a:pathLst>
                </a:custGeom>
                <a:noFill/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6" name="Freeform 673"/>
                <p:cNvSpPr/>
                <p:nvPr/>
              </p:nvSpPr>
              <p:spPr>
                <a:xfrm>
                  <a:off x="1236960" y="4993200"/>
                  <a:ext cx="137160" cy="2052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707" h="107">
                      <a:moveTo>
                        <a:pt x="707" y="73"/>
                      </a:moveTo>
                      <a:lnTo>
                        <a:pt x="707" y="73"/>
                      </a:lnTo>
                      <a:lnTo>
                        <a:pt x="705" y="78"/>
                      </a:lnTo>
                      <a:lnTo>
                        <a:pt x="700" y="83"/>
                      </a:lnTo>
                      <a:lnTo>
                        <a:pt x="695" y="88"/>
                      </a:lnTo>
                      <a:lnTo>
                        <a:pt x="686" y="93"/>
                      </a:lnTo>
                      <a:lnTo>
                        <a:pt x="678" y="97"/>
                      </a:lnTo>
                      <a:lnTo>
                        <a:pt x="668" y="100"/>
                      </a:lnTo>
                      <a:lnTo>
                        <a:pt x="642" y="104"/>
                      </a:lnTo>
                      <a:lnTo>
                        <a:pt x="610" y="107"/>
                      </a:lnTo>
                      <a:lnTo>
                        <a:pt x="574" y="107"/>
                      </a:lnTo>
                      <a:lnTo>
                        <a:pt x="532" y="105"/>
                      </a:lnTo>
                      <a:lnTo>
                        <a:pt x="486" y="100"/>
                      </a:lnTo>
                      <a:lnTo>
                        <a:pt x="437" y="95"/>
                      </a:lnTo>
                      <a:lnTo>
                        <a:pt x="382" y="87"/>
                      </a:lnTo>
                      <a:lnTo>
                        <a:pt x="326" y="76"/>
                      </a:lnTo>
                      <a:lnTo>
                        <a:pt x="265" y="66"/>
                      </a:lnTo>
                      <a:lnTo>
                        <a:pt x="202" y="51"/>
                      </a:lnTo>
                      <a:lnTo>
                        <a:pt x="136" y="36"/>
                      </a:lnTo>
                      <a:lnTo>
                        <a:pt x="70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7" name="Line 674"/>
                <p:cNvSpPr/>
                <p:nvPr/>
              </p:nvSpPr>
              <p:spPr>
                <a:xfrm flipH="1">
                  <a:off x="1231560" y="4624560"/>
                  <a:ext cx="114480" cy="397800"/>
                </a:xfrm>
                <a:prstGeom prst="line">
                  <a:avLst/>
                </a:prstGeom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Freeform 675"/>
                <p:cNvSpPr/>
                <p:nvPr/>
              </p:nvSpPr>
              <p:spPr>
                <a:xfrm>
                  <a:off x="1080720" y="4616280"/>
                  <a:ext cx="412200" cy="41112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411120"/>
                    <a:gd name="textAreaBottom" fmla="*/ 411480 h 411120"/>
                  </a:gdLst>
                  <a:ahLst/>
                  <a:rect l="textAreaLeft" t="textAreaTop" r="textAreaRight" b="textAreaBottom"/>
                  <a:pathLst>
                    <a:path w="2117" h="2132">
                      <a:moveTo>
                        <a:pt x="2076" y="1357"/>
                      </a:moveTo>
                      <a:lnTo>
                        <a:pt x="2076" y="1357"/>
                      </a:lnTo>
                      <a:lnTo>
                        <a:pt x="2059" y="1410"/>
                      </a:lnTo>
                      <a:lnTo>
                        <a:pt x="2041" y="1461"/>
                      </a:lnTo>
                      <a:lnTo>
                        <a:pt x="2020" y="1510"/>
                      </a:lnTo>
                      <a:lnTo>
                        <a:pt x="1996" y="1558"/>
                      </a:lnTo>
                      <a:lnTo>
                        <a:pt x="1971" y="1604"/>
                      </a:lnTo>
                      <a:lnTo>
                        <a:pt x="1944" y="1650"/>
                      </a:lnTo>
                      <a:lnTo>
                        <a:pt x="1913" y="1692"/>
                      </a:lnTo>
                      <a:lnTo>
                        <a:pt x="1883" y="1733"/>
                      </a:lnTo>
                      <a:lnTo>
                        <a:pt x="1849" y="1774"/>
                      </a:lnTo>
                      <a:lnTo>
                        <a:pt x="1813" y="1811"/>
                      </a:lnTo>
                      <a:lnTo>
                        <a:pt x="1777" y="1847"/>
                      </a:lnTo>
                      <a:lnTo>
                        <a:pt x="1738" y="1881"/>
                      </a:lnTo>
                      <a:lnTo>
                        <a:pt x="1699" y="1913"/>
                      </a:lnTo>
                      <a:lnTo>
                        <a:pt x="1657" y="1944"/>
                      </a:lnTo>
                      <a:lnTo>
                        <a:pt x="1614" y="1971"/>
                      </a:lnTo>
                      <a:lnTo>
                        <a:pt x="1572" y="1998"/>
                      </a:lnTo>
                      <a:lnTo>
                        <a:pt x="1526" y="2022"/>
                      </a:lnTo>
                      <a:lnTo>
                        <a:pt x="1480" y="2042"/>
                      </a:lnTo>
                      <a:lnTo>
                        <a:pt x="1432" y="2062"/>
                      </a:lnTo>
                      <a:lnTo>
                        <a:pt x="1385" y="2079"/>
                      </a:lnTo>
                      <a:lnTo>
                        <a:pt x="1336" y="2095"/>
                      </a:lnTo>
                      <a:lnTo>
                        <a:pt x="1286" y="2107"/>
                      </a:lnTo>
                      <a:lnTo>
                        <a:pt x="1235" y="2117"/>
                      </a:lnTo>
                      <a:lnTo>
                        <a:pt x="1184" y="2125"/>
                      </a:lnTo>
                      <a:lnTo>
                        <a:pt x="1133" y="2130"/>
                      </a:lnTo>
                      <a:lnTo>
                        <a:pt x="1081" y="2132"/>
                      </a:lnTo>
                      <a:lnTo>
                        <a:pt x="1030" y="2132"/>
                      </a:lnTo>
                      <a:lnTo>
                        <a:pt x="977" y="2130"/>
                      </a:lnTo>
                      <a:lnTo>
                        <a:pt x="924" y="2125"/>
                      </a:lnTo>
                      <a:lnTo>
                        <a:pt x="872" y="2117"/>
                      </a:lnTo>
                      <a:lnTo>
                        <a:pt x="819" y="2107"/>
                      </a:lnTo>
                      <a:lnTo>
                        <a:pt x="766" y="2093"/>
                      </a:lnTo>
                      <a:lnTo>
                        <a:pt x="766" y="2093"/>
                      </a:lnTo>
                      <a:lnTo>
                        <a:pt x="714" y="2076"/>
                      </a:lnTo>
                      <a:lnTo>
                        <a:pt x="663" y="2057"/>
                      </a:lnTo>
                      <a:lnTo>
                        <a:pt x="613" y="2037"/>
                      </a:lnTo>
                      <a:lnTo>
                        <a:pt x="568" y="2013"/>
                      </a:lnTo>
                      <a:lnTo>
                        <a:pt x="520" y="1988"/>
                      </a:lnTo>
                      <a:lnTo>
                        <a:pt x="476" y="1961"/>
                      </a:lnTo>
                      <a:lnTo>
                        <a:pt x="433" y="1930"/>
                      </a:lnTo>
                      <a:lnTo>
                        <a:pt x="393" y="1899"/>
                      </a:lnTo>
                      <a:lnTo>
                        <a:pt x="354" y="1865"/>
                      </a:lnTo>
                      <a:lnTo>
                        <a:pt x="316" y="1830"/>
                      </a:lnTo>
                      <a:lnTo>
                        <a:pt x="281" y="1794"/>
                      </a:lnTo>
                      <a:lnTo>
                        <a:pt x="247" y="1755"/>
                      </a:lnTo>
                      <a:lnTo>
                        <a:pt x="216" y="1714"/>
                      </a:lnTo>
                      <a:lnTo>
                        <a:pt x="185" y="1673"/>
                      </a:lnTo>
                      <a:lnTo>
                        <a:pt x="158" y="1631"/>
                      </a:lnTo>
                      <a:lnTo>
                        <a:pt x="133" y="1587"/>
                      </a:lnTo>
                      <a:lnTo>
                        <a:pt x="109" y="1541"/>
                      </a:lnTo>
                      <a:lnTo>
                        <a:pt x="87" y="1495"/>
                      </a:lnTo>
                      <a:lnTo>
                        <a:pt x="68" y="1448"/>
                      </a:lnTo>
                      <a:lnTo>
                        <a:pt x="51" y="1400"/>
                      </a:lnTo>
                      <a:lnTo>
                        <a:pt x="38" y="1351"/>
                      </a:lnTo>
                      <a:lnTo>
                        <a:pt x="24" y="1300"/>
                      </a:lnTo>
                      <a:lnTo>
                        <a:pt x="15" y="1249"/>
                      </a:lnTo>
                      <a:lnTo>
                        <a:pt x="7" y="1198"/>
                      </a:lnTo>
                      <a:lnTo>
                        <a:pt x="2" y="1147"/>
                      </a:lnTo>
                      <a:lnTo>
                        <a:pt x="0" y="1094"/>
                      </a:lnTo>
                      <a:lnTo>
                        <a:pt x="0" y="1042"/>
                      </a:lnTo>
                      <a:lnTo>
                        <a:pt x="4" y="989"/>
                      </a:lnTo>
                      <a:lnTo>
                        <a:pt x="9" y="936"/>
                      </a:lnTo>
                      <a:lnTo>
                        <a:pt x="17" y="882"/>
                      </a:lnTo>
                      <a:lnTo>
                        <a:pt x="27" y="829"/>
                      </a:lnTo>
                      <a:lnTo>
                        <a:pt x="41" y="777"/>
                      </a:lnTo>
                      <a:lnTo>
                        <a:pt x="41" y="777"/>
                      </a:lnTo>
                      <a:lnTo>
                        <a:pt x="58" y="724"/>
                      </a:lnTo>
                      <a:lnTo>
                        <a:pt x="77" y="673"/>
                      </a:lnTo>
                      <a:lnTo>
                        <a:pt x="99" y="624"/>
                      </a:lnTo>
                      <a:lnTo>
                        <a:pt x="121" y="576"/>
                      </a:lnTo>
                      <a:lnTo>
                        <a:pt x="146" y="529"/>
                      </a:lnTo>
                      <a:lnTo>
                        <a:pt x="175" y="484"/>
                      </a:lnTo>
                      <a:lnTo>
                        <a:pt x="204" y="442"/>
                      </a:lnTo>
                      <a:lnTo>
                        <a:pt x="236" y="399"/>
                      </a:lnTo>
                      <a:lnTo>
                        <a:pt x="269" y="360"/>
                      </a:lnTo>
                      <a:lnTo>
                        <a:pt x="304" y="323"/>
                      </a:lnTo>
                      <a:lnTo>
                        <a:pt x="340" y="286"/>
                      </a:lnTo>
                      <a:lnTo>
                        <a:pt x="379" y="252"/>
                      </a:lnTo>
                      <a:lnTo>
                        <a:pt x="418" y="219"/>
                      </a:lnTo>
                      <a:lnTo>
                        <a:pt x="461" y="190"/>
                      </a:lnTo>
                      <a:lnTo>
                        <a:pt x="503" y="162"/>
                      </a:lnTo>
                      <a:lnTo>
                        <a:pt x="547" y="136"/>
                      </a:lnTo>
                      <a:lnTo>
                        <a:pt x="591" y="112"/>
                      </a:lnTo>
                      <a:lnTo>
                        <a:pt x="637" y="90"/>
                      </a:lnTo>
                      <a:lnTo>
                        <a:pt x="685" y="72"/>
                      </a:lnTo>
                      <a:lnTo>
                        <a:pt x="732" y="53"/>
                      </a:lnTo>
                      <a:lnTo>
                        <a:pt x="782" y="39"/>
                      </a:lnTo>
                      <a:lnTo>
                        <a:pt x="831" y="26"/>
                      </a:lnTo>
                      <a:lnTo>
                        <a:pt x="882" y="15"/>
                      </a:lnTo>
                      <a:lnTo>
                        <a:pt x="933" y="9"/>
                      </a:lnTo>
                      <a:lnTo>
                        <a:pt x="984" y="4"/>
                      </a:lnTo>
                      <a:lnTo>
                        <a:pt x="1037" y="0"/>
                      </a:lnTo>
                      <a:lnTo>
                        <a:pt x="1087" y="0"/>
                      </a:lnTo>
                      <a:lnTo>
                        <a:pt x="1140" y="4"/>
                      </a:lnTo>
                      <a:lnTo>
                        <a:pt x="1193" y="9"/>
                      </a:lnTo>
                      <a:lnTo>
                        <a:pt x="1245" y="17"/>
                      </a:lnTo>
                      <a:lnTo>
                        <a:pt x="1300" y="27"/>
                      </a:lnTo>
                      <a:lnTo>
                        <a:pt x="1353" y="41"/>
                      </a:lnTo>
                      <a:lnTo>
                        <a:pt x="1353" y="41"/>
                      </a:lnTo>
                      <a:lnTo>
                        <a:pt x="1403" y="56"/>
                      </a:lnTo>
                      <a:lnTo>
                        <a:pt x="1454" y="75"/>
                      </a:lnTo>
                      <a:lnTo>
                        <a:pt x="1504" y="97"/>
                      </a:lnTo>
                      <a:lnTo>
                        <a:pt x="1551" y="121"/>
                      </a:lnTo>
                      <a:lnTo>
                        <a:pt x="1597" y="146"/>
                      </a:lnTo>
                      <a:lnTo>
                        <a:pt x="1641" y="173"/>
                      </a:lnTo>
                      <a:lnTo>
                        <a:pt x="1684" y="202"/>
                      </a:lnTo>
                      <a:lnTo>
                        <a:pt x="1725" y="235"/>
                      </a:lnTo>
                      <a:lnTo>
                        <a:pt x="1764" y="269"/>
                      </a:lnTo>
                      <a:lnTo>
                        <a:pt x="1801" y="303"/>
                      </a:lnTo>
                      <a:lnTo>
                        <a:pt x="1837" y="340"/>
                      </a:lnTo>
                      <a:lnTo>
                        <a:pt x="1871" y="379"/>
                      </a:lnTo>
                      <a:lnTo>
                        <a:pt x="1903" y="418"/>
                      </a:lnTo>
                      <a:lnTo>
                        <a:pt x="1932" y="461"/>
                      </a:lnTo>
                      <a:lnTo>
                        <a:pt x="1959" y="503"/>
                      </a:lnTo>
                      <a:lnTo>
                        <a:pt x="1984" y="547"/>
                      </a:lnTo>
                      <a:lnTo>
                        <a:pt x="2008" y="591"/>
                      </a:lnTo>
                      <a:lnTo>
                        <a:pt x="2030" y="639"/>
                      </a:lnTo>
                      <a:lnTo>
                        <a:pt x="2049" y="685"/>
                      </a:lnTo>
                      <a:lnTo>
                        <a:pt x="2066" y="734"/>
                      </a:lnTo>
                      <a:lnTo>
                        <a:pt x="2081" y="783"/>
                      </a:lnTo>
                      <a:lnTo>
                        <a:pt x="2093" y="833"/>
                      </a:lnTo>
                      <a:lnTo>
                        <a:pt x="2103" y="884"/>
                      </a:lnTo>
                      <a:lnTo>
                        <a:pt x="2110" y="934"/>
                      </a:lnTo>
                      <a:lnTo>
                        <a:pt x="2115" y="987"/>
                      </a:lnTo>
                      <a:lnTo>
                        <a:pt x="2117" y="1038"/>
                      </a:lnTo>
                      <a:lnTo>
                        <a:pt x="2117" y="1091"/>
                      </a:lnTo>
                      <a:lnTo>
                        <a:pt x="2114" y="1145"/>
                      </a:lnTo>
                      <a:lnTo>
                        <a:pt x="2109" y="1198"/>
                      </a:lnTo>
                      <a:lnTo>
                        <a:pt x="2100" y="1250"/>
                      </a:lnTo>
                      <a:lnTo>
                        <a:pt x="2090" y="1303"/>
                      </a:lnTo>
                      <a:lnTo>
                        <a:pt x="2076" y="1357"/>
                      </a:lnTo>
                      <a:lnTo>
                        <a:pt x="2076" y="1357"/>
                      </a:lnTo>
                      <a:close/>
                    </a:path>
                  </a:pathLst>
                </a:custGeom>
                <a:noFill/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9" name="Freeform 676"/>
                <p:cNvSpPr/>
                <p:nvPr/>
              </p:nvSpPr>
              <p:spPr>
                <a:xfrm>
                  <a:off x="1081800" y="4616640"/>
                  <a:ext cx="412200" cy="41112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411120"/>
                    <a:gd name="textAreaBottom" fmla="*/ 411480 h 411120"/>
                  </a:gdLst>
                  <a:ahLst/>
                  <a:rect l="textAreaLeft" t="textAreaTop" r="textAreaRight" b="textAreaBottom"/>
                  <a:pathLst>
                    <a:path w="2117" h="2132">
                      <a:moveTo>
                        <a:pt x="2076" y="1357"/>
                      </a:moveTo>
                      <a:lnTo>
                        <a:pt x="2076" y="1357"/>
                      </a:lnTo>
                      <a:lnTo>
                        <a:pt x="2059" y="1408"/>
                      </a:lnTo>
                      <a:lnTo>
                        <a:pt x="2040" y="1459"/>
                      </a:lnTo>
                      <a:lnTo>
                        <a:pt x="2020" y="1510"/>
                      </a:lnTo>
                      <a:lnTo>
                        <a:pt x="1996" y="1558"/>
                      </a:lnTo>
                      <a:lnTo>
                        <a:pt x="1971" y="1604"/>
                      </a:lnTo>
                      <a:lnTo>
                        <a:pt x="1944" y="1648"/>
                      </a:lnTo>
                      <a:lnTo>
                        <a:pt x="1913" y="1692"/>
                      </a:lnTo>
                      <a:lnTo>
                        <a:pt x="1882" y="1733"/>
                      </a:lnTo>
                      <a:lnTo>
                        <a:pt x="1848" y="1773"/>
                      </a:lnTo>
                      <a:lnTo>
                        <a:pt x="1813" y="1811"/>
                      </a:lnTo>
                      <a:lnTo>
                        <a:pt x="1777" y="1846"/>
                      </a:lnTo>
                      <a:lnTo>
                        <a:pt x="1738" y="1880"/>
                      </a:lnTo>
                      <a:lnTo>
                        <a:pt x="1699" y="1913"/>
                      </a:lnTo>
                      <a:lnTo>
                        <a:pt x="1656" y="1943"/>
                      </a:lnTo>
                      <a:lnTo>
                        <a:pt x="1614" y="1970"/>
                      </a:lnTo>
                      <a:lnTo>
                        <a:pt x="1570" y="1998"/>
                      </a:lnTo>
                      <a:lnTo>
                        <a:pt x="1526" y="2021"/>
                      </a:lnTo>
                      <a:lnTo>
                        <a:pt x="1480" y="2042"/>
                      </a:lnTo>
                      <a:lnTo>
                        <a:pt x="1432" y="2062"/>
                      </a:lnTo>
                      <a:lnTo>
                        <a:pt x="1385" y="2079"/>
                      </a:lnTo>
                      <a:lnTo>
                        <a:pt x="1335" y="2094"/>
                      </a:lnTo>
                      <a:lnTo>
                        <a:pt x="1286" y="2106"/>
                      </a:lnTo>
                      <a:lnTo>
                        <a:pt x="1235" y="2117"/>
                      </a:lnTo>
                      <a:lnTo>
                        <a:pt x="1184" y="2125"/>
                      </a:lnTo>
                      <a:lnTo>
                        <a:pt x="1133" y="2130"/>
                      </a:lnTo>
                      <a:lnTo>
                        <a:pt x="1080" y="2132"/>
                      </a:lnTo>
                      <a:lnTo>
                        <a:pt x="1030" y="2132"/>
                      </a:lnTo>
                      <a:lnTo>
                        <a:pt x="977" y="2130"/>
                      </a:lnTo>
                      <a:lnTo>
                        <a:pt x="924" y="2125"/>
                      </a:lnTo>
                      <a:lnTo>
                        <a:pt x="872" y="2117"/>
                      </a:lnTo>
                      <a:lnTo>
                        <a:pt x="819" y="2105"/>
                      </a:lnTo>
                      <a:lnTo>
                        <a:pt x="766" y="2091"/>
                      </a:lnTo>
                      <a:lnTo>
                        <a:pt x="766" y="2091"/>
                      </a:lnTo>
                      <a:lnTo>
                        <a:pt x="714" y="2076"/>
                      </a:lnTo>
                      <a:lnTo>
                        <a:pt x="663" y="2057"/>
                      </a:lnTo>
                      <a:lnTo>
                        <a:pt x="613" y="2035"/>
                      </a:lnTo>
                      <a:lnTo>
                        <a:pt x="566" y="2013"/>
                      </a:lnTo>
                      <a:lnTo>
                        <a:pt x="520" y="1987"/>
                      </a:lnTo>
                      <a:lnTo>
                        <a:pt x="476" y="1959"/>
                      </a:lnTo>
                      <a:lnTo>
                        <a:pt x="433" y="1930"/>
                      </a:lnTo>
                      <a:lnTo>
                        <a:pt x="392" y="1897"/>
                      </a:lnTo>
                      <a:lnTo>
                        <a:pt x="353" y="1865"/>
                      </a:lnTo>
                      <a:lnTo>
                        <a:pt x="316" y="1829"/>
                      </a:lnTo>
                      <a:lnTo>
                        <a:pt x="280" y="1792"/>
                      </a:lnTo>
                      <a:lnTo>
                        <a:pt x="246" y="1755"/>
                      </a:lnTo>
                      <a:lnTo>
                        <a:pt x="216" y="1714"/>
                      </a:lnTo>
                      <a:lnTo>
                        <a:pt x="185" y="1673"/>
                      </a:lnTo>
                      <a:lnTo>
                        <a:pt x="158" y="1631"/>
                      </a:lnTo>
                      <a:lnTo>
                        <a:pt x="133" y="1587"/>
                      </a:lnTo>
                      <a:lnTo>
                        <a:pt x="109" y="1541"/>
                      </a:lnTo>
                      <a:lnTo>
                        <a:pt x="87" y="1495"/>
                      </a:lnTo>
                      <a:lnTo>
                        <a:pt x="68" y="1447"/>
                      </a:lnTo>
                      <a:lnTo>
                        <a:pt x="51" y="1398"/>
                      </a:lnTo>
                      <a:lnTo>
                        <a:pt x="37" y="1350"/>
                      </a:lnTo>
                      <a:lnTo>
                        <a:pt x="24" y="1299"/>
                      </a:lnTo>
                      <a:lnTo>
                        <a:pt x="15" y="1248"/>
                      </a:lnTo>
                      <a:lnTo>
                        <a:pt x="7" y="1198"/>
                      </a:lnTo>
                      <a:lnTo>
                        <a:pt x="2" y="1147"/>
                      </a:lnTo>
                      <a:lnTo>
                        <a:pt x="0" y="1094"/>
                      </a:lnTo>
                      <a:lnTo>
                        <a:pt x="0" y="1041"/>
                      </a:lnTo>
                      <a:lnTo>
                        <a:pt x="3" y="989"/>
                      </a:lnTo>
                      <a:lnTo>
                        <a:pt x="8" y="936"/>
                      </a:lnTo>
                      <a:lnTo>
                        <a:pt x="17" y="882"/>
                      </a:lnTo>
                      <a:lnTo>
                        <a:pt x="27" y="829"/>
                      </a:lnTo>
                      <a:lnTo>
                        <a:pt x="41" y="776"/>
                      </a:lnTo>
                      <a:lnTo>
                        <a:pt x="41" y="776"/>
                      </a:lnTo>
                      <a:lnTo>
                        <a:pt x="58" y="724"/>
                      </a:lnTo>
                      <a:lnTo>
                        <a:pt x="76" y="673"/>
                      </a:lnTo>
                      <a:lnTo>
                        <a:pt x="97" y="623"/>
                      </a:lnTo>
                      <a:lnTo>
                        <a:pt x="121" y="574"/>
                      </a:lnTo>
                      <a:lnTo>
                        <a:pt x="146" y="528"/>
                      </a:lnTo>
                      <a:lnTo>
                        <a:pt x="173" y="484"/>
                      </a:lnTo>
                      <a:lnTo>
                        <a:pt x="204" y="440"/>
                      </a:lnTo>
                      <a:lnTo>
                        <a:pt x="234" y="399"/>
                      </a:lnTo>
                      <a:lnTo>
                        <a:pt x="268" y="360"/>
                      </a:lnTo>
                      <a:lnTo>
                        <a:pt x="304" y="321"/>
                      </a:lnTo>
                      <a:lnTo>
                        <a:pt x="340" y="285"/>
                      </a:lnTo>
                      <a:lnTo>
                        <a:pt x="379" y="251"/>
                      </a:lnTo>
                      <a:lnTo>
                        <a:pt x="418" y="219"/>
                      </a:lnTo>
                      <a:lnTo>
                        <a:pt x="460" y="190"/>
                      </a:lnTo>
                      <a:lnTo>
                        <a:pt x="503" y="161"/>
                      </a:lnTo>
                      <a:lnTo>
                        <a:pt x="547" y="136"/>
                      </a:lnTo>
                      <a:lnTo>
                        <a:pt x="591" y="112"/>
                      </a:lnTo>
                      <a:lnTo>
                        <a:pt x="637" y="90"/>
                      </a:lnTo>
                      <a:lnTo>
                        <a:pt x="685" y="70"/>
                      </a:lnTo>
                      <a:lnTo>
                        <a:pt x="732" y="53"/>
                      </a:lnTo>
                      <a:lnTo>
                        <a:pt x="781" y="39"/>
                      </a:lnTo>
                      <a:lnTo>
                        <a:pt x="831" y="25"/>
                      </a:lnTo>
                      <a:lnTo>
                        <a:pt x="882" y="15"/>
                      </a:lnTo>
                      <a:lnTo>
                        <a:pt x="933" y="8"/>
                      </a:lnTo>
                      <a:lnTo>
                        <a:pt x="984" y="3"/>
                      </a:lnTo>
                      <a:lnTo>
                        <a:pt x="1036" y="0"/>
                      </a:lnTo>
                      <a:lnTo>
                        <a:pt x="1087" y="0"/>
                      </a:lnTo>
                      <a:lnTo>
                        <a:pt x="1140" y="3"/>
                      </a:lnTo>
                      <a:lnTo>
                        <a:pt x="1193" y="8"/>
                      </a:lnTo>
                      <a:lnTo>
                        <a:pt x="1245" y="15"/>
                      </a:lnTo>
                      <a:lnTo>
                        <a:pt x="1298" y="27"/>
                      </a:lnTo>
                      <a:lnTo>
                        <a:pt x="1351" y="41"/>
                      </a:lnTo>
                      <a:lnTo>
                        <a:pt x="1351" y="41"/>
                      </a:lnTo>
                      <a:lnTo>
                        <a:pt x="1403" y="56"/>
                      </a:lnTo>
                      <a:lnTo>
                        <a:pt x="1454" y="75"/>
                      </a:lnTo>
                      <a:lnTo>
                        <a:pt x="1504" y="97"/>
                      </a:lnTo>
                      <a:lnTo>
                        <a:pt x="1551" y="119"/>
                      </a:lnTo>
                      <a:lnTo>
                        <a:pt x="1597" y="144"/>
                      </a:lnTo>
                      <a:lnTo>
                        <a:pt x="1641" y="173"/>
                      </a:lnTo>
                      <a:lnTo>
                        <a:pt x="1684" y="202"/>
                      </a:lnTo>
                      <a:lnTo>
                        <a:pt x="1724" y="234"/>
                      </a:lnTo>
                      <a:lnTo>
                        <a:pt x="1763" y="267"/>
                      </a:lnTo>
                      <a:lnTo>
                        <a:pt x="1801" y="302"/>
                      </a:lnTo>
                      <a:lnTo>
                        <a:pt x="1836" y="340"/>
                      </a:lnTo>
                      <a:lnTo>
                        <a:pt x="1870" y="377"/>
                      </a:lnTo>
                      <a:lnTo>
                        <a:pt x="1901" y="418"/>
                      </a:lnTo>
                      <a:lnTo>
                        <a:pt x="1932" y="459"/>
                      </a:lnTo>
                      <a:lnTo>
                        <a:pt x="1959" y="503"/>
                      </a:lnTo>
                      <a:lnTo>
                        <a:pt x="1984" y="547"/>
                      </a:lnTo>
                      <a:lnTo>
                        <a:pt x="2008" y="591"/>
                      </a:lnTo>
                      <a:lnTo>
                        <a:pt x="2030" y="637"/>
                      </a:lnTo>
                      <a:lnTo>
                        <a:pt x="2049" y="684"/>
                      </a:lnTo>
                      <a:lnTo>
                        <a:pt x="2066" y="734"/>
                      </a:lnTo>
                      <a:lnTo>
                        <a:pt x="2079" y="783"/>
                      </a:lnTo>
                      <a:lnTo>
                        <a:pt x="2093" y="832"/>
                      </a:lnTo>
                      <a:lnTo>
                        <a:pt x="2102" y="883"/>
                      </a:lnTo>
                      <a:lnTo>
                        <a:pt x="2110" y="934"/>
                      </a:lnTo>
                      <a:lnTo>
                        <a:pt x="2115" y="987"/>
                      </a:lnTo>
                      <a:lnTo>
                        <a:pt x="2117" y="1038"/>
                      </a:lnTo>
                      <a:lnTo>
                        <a:pt x="2117" y="1090"/>
                      </a:lnTo>
                      <a:lnTo>
                        <a:pt x="2113" y="1143"/>
                      </a:lnTo>
                      <a:lnTo>
                        <a:pt x="2108" y="1198"/>
                      </a:lnTo>
                      <a:lnTo>
                        <a:pt x="2100" y="1250"/>
                      </a:lnTo>
                      <a:lnTo>
                        <a:pt x="2090" y="1303"/>
                      </a:lnTo>
                      <a:lnTo>
                        <a:pt x="2076" y="1357"/>
                      </a:lnTo>
                      <a:lnTo>
                        <a:pt x="2076" y="1357"/>
                      </a:lnTo>
                      <a:close/>
                    </a:path>
                  </a:pathLst>
                </a:custGeom>
                <a:noFill/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0" name="Freeform 677"/>
                <p:cNvSpPr/>
                <p:nvPr/>
              </p:nvSpPr>
              <p:spPr>
                <a:xfrm>
                  <a:off x="1104120" y="4655880"/>
                  <a:ext cx="312840" cy="255600"/>
                </a:xfrm>
                <a:custGeom>
                  <a:avLst/>
                  <a:gdLst>
                    <a:gd name="textAreaLeft" fmla="*/ 0 w 312840"/>
                    <a:gd name="textAreaRight" fmla="*/ 313200 w 31284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w="1609" h="1326">
                      <a:moveTo>
                        <a:pt x="0" y="1326"/>
                      </a:moveTo>
                      <a:lnTo>
                        <a:pt x="0" y="1326"/>
                      </a:lnTo>
                      <a:lnTo>
                        <a:pt x="26" y="1243"/>
                      </a:lnTo>
                      <a:lnTo>
                        <a:pt x="53" y="1162"/>
                      </a:lnTo>
                      <a:lnTo>
                        <a:pt x="83" y="1082"/>
                      </a:lnTo>
                      <a:lnTo>
                        <a:pt x="116" y="1005"/>
                      </a:lnTo>
                      <a:lnTo>
                        <a:pt x="151" y="931"/>
                      </a:lnTo>
                      <a:lnTo>
                        <a:pt x="189" y="858"/>
                      </a:lnTo>
                      <a:lnTo>
                        <a:pt x="228" y="786"/>
                      </a:lnTo>
                      <a:lnTo>
                        <a:pt x="269" y="718"/>
                      </a:lnTo>
                      <a:lnTo>
                        <a:pt x="311" y="654"/>
                      </a:lnTo>
                      <a:lnTo>
                        <a:pt x="357" y="591"/>
                      </a:lnTo>
                      <a:lnTo>
                        <a:pt x="403" y="531"/>
                      </a:lnTo>
                      <a:lnTo>
                        <a:pt x="452" y="474"/>
                      </a:lnTo>
                      <a:lnTo>
                        <a:pt x="501" y="419"/>
                      </a:lnTo>
                      <a:lnTo>
                        <a:pt x="552" y="367"/>
                      </a:lnTo>
                      <a:lnTo>
                        <a:pt x="605" y="319"/>
                      </a:lnTo>
                      <a:lnTo>
                        <a:pt x="658" y="273"/>
                      </a:lnTo>
                      <a:lnTo>
                        <a:pt x="714" y="231"/>
                      </a:lnTo>
                      <a:lnTo>
                        <a:pt x="768" y="192"/>
                      </a:lnTo>
                      <a:lnTo>
                        <a:pt x="826" y="156"/>
                      </a:lnTo>
                      <a:lnTo>
                        <a:pt x="884" y="124"/>
                      </a:lnTo>
                      <a:lnTo>
                        <a:pt x="941" y="97"/>
                      </a:lnTo>
                      <a:lnTo>
                        <a:pt x="1001" y="71"/>
                      </a:lnTo>
                      <a:lnTo>
                        <a:pt x="1060" y="49"/>
                      </a:lnTo>
                      <a:lnTo>
                        <a:pt x="1120" y="32"/>
                      </a:lnTo>
                      <a:lnTo>
                        <a:pt x="1181" y="17"/>
                      </a:lnTo>
                      <a:lnTo>
                        <a:pt x="1242" y="8"/>
                      </a:lnTo>
                      <a:lnTo>
                        <a:pt x="1303" y="1"/>
                      </a:lnTo>
                      <a:lnTo>
                        <a:pt x="1334" y="0"/>
                      </a:lnTo>
                      <a:lnTo>
                        <a:pt x="1364" y="0"/>
                      </a:lnTo>
                      <a:lnTo>
                        <a:pt x="1395" y="0"/>
                      </a:lnTo>
                      <a:lnTo>
                        <a:pt x="1425" y="1"/>
                      </a:lnTo>
                      <a:lnTo>
                        <a:pt x="1456" y="5"/>
                      </a:lnTo>
                      <a:lnTo>
                        <a:pt x="1487" y="8"/>
                      </a:lnTo>
                      <a:lnTo>
                        <a:pt x="1517" y="13"/>
                      </a:lnTo>
                      <a:lnTo>
                        <a:pt x="1548" y="18"/>
                      </a:lnTo>
                      <a:lnTo>
                        <a:pt x="1578" y="25"/>
                      </a:lnTo>
                      <a:lnTo>
                        <a:pt x="1609" y="34"/>
                      </a:lnTo>
                    </a:path>
                  </a:pathLst>
                </a:custGeom>
                <a:noFill/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Freeform 678"/>
                <p:cNvSpPr/>
                <p:nvPr/>
              </p:nvSpPr>
              <p:spPr>
                <a:xfrm>
                  <a:off x="1263600" y="4618080"/>
                  <a:ext cx="158760" cy="37188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371880"/>
                    <a:gd name="textAreaBottom" fmla="*/ 372240 h 371880"/>
                  </a:gdLst>
                  <a:ahLst/>
                  <a:rect l="textAreaLeft" t="textAreaTop" r="textAreaRight" b="textAreaBottom"/>
                  <a:pathLst>
                    <a:path w="817" h="1928">
                      <a:moveTo>
                        <a:pt x="730" y="1928"/>
                      </a:moveTo>
                      <a:lnTo>
                        <a:pt x="730" y="1928"/>
                      </a:lnTo>
                      <a:lnTo>
                        <a:pt x="752" y="1845"/>
                      </a:lnTo>
                      <a:lnTo>
                        <a:pt x="771" y="1762"/>
                      </a:lnTo>
                      <a:lnTo>
                        <a:pt x="786" y="1680"/>
                      </a:lnTo>
                      <a:lnTo>
                        <a:pt x="800" y="1599"/>
                      </a:lnTo>
                      <a:lnTo>
                        <a:pt x="808" y="1517"/>
                      </a:lnTo>
                      <a:lnTo>
                        <a:pt x="813" y="1436"/>
                      </a:lnTo>
                      <a:lnTo>
                        <a:pt x="817" y="1358"/>
                      </a:lnTo>
                      <a:lnTo>
                        <a:pt x="815" y="1278"/>
                      </a:lnTo>
                      <a:lnTo>
                        <a:pt x="812" y="1201"/>
                      </a:lnTo>
                      <a:lnTo>
                        <a:pt x="805" y="1125"/>
                      </a:lnTo>
                      <a:lnTo>
                        <a:pt x="796" y="1050"/>
                      </a:lnTo>
                      <a:lnTo>
                        <a:pt x="783" y="977"/>
                      </a:lnTo>
                      <a:lnTo>
                        <a:pt x="768" y="906"/>
                      </a:lnTo>
                      <a:lnTo>
                        <a:pt x="751" y="836"/>
                      </a:lnTo>
                      <a:lnTo>
                        <a:pt x="729" y="767"/>
                      </a:lnTo>
                      <a:lnTo>
                        <a:pt x="706" y="702"/>
                      </a:lnTo>
                      <a:lnTo>
                        <a:pt x="679" y="637"/>
                      </a:lnTo>
                      <a:lnTo>
                        <a:pt x="650" y="575"/>
                      </a:lnTo>
                      <a:lnTo>
                        <a:pt x="620" y="515"/>
                      </a:lnTo>
                      <a:lnTo>
                        <a:pt x="586" y="457"/>
                      </a:lnTo>
                      <a:lnTo>
                        <a:pt x="548" y="403"/>
                      </a:lnTo>
                      <a:lnTo>
                        <a:pt x="511" y="352"/>
                      </a:lnTo>
                      <a:lnTo>
                        <a:pt x="469" y="301"/>
                      </a:lnTo>
                      <a:lnTo>
                        <a:pt x="426" y="255"/>
                      </a:lnTo>
                      <a:lnTo>
                        <a:pt x="380" y="211"/>
                      </a:lnTo>
                      <a:lnTo>
                        <a:pt x="333" y="172"/>
                      </a:lnTo>
                      <a:lnTo>
                        <a:pt x="282" y="135"/>
                      </a:lnTo>
                      <a:lnTo>
                        <a:pt x="229" y="101"/>
                      </a:lnTo>
                      <a:lnTo>
                        <a:pt x="175" y="70"/>
                      </a:lnTo>
                      <a:lnTo>
                        <a:pt x="147" y="56"/>
                      </a:lnTo>
                      <a:lnTo>
                        <a:pt x="119" y="43"/>
                      </a:lnTo>
                      <a:lnTo>
                        <a:pt x="90" y="31"/>
                      </a:lnTo>
                      <a:lnTo>
                        <a:pt x="61" y="19"/>
                      </a:lnTo>
                      <a:lnTo>
                        <a:pt x="3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857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41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72" name="组合 1"/>
          <p:cNvGrpSpPr/>
          <p:nvPr/>
        </p:nvGrpSpPr>
        <p:grpSpPr>
          <a:xfrm>
            <a:off x="7525800" y="4369680"/>
            <a:ext cx="922320" cy="922320"/>
            <a:chOff x="7525800" y="4369680"/>
            <a:chExt cx="922320" cy="922320"/>
          </a:xfrm>
        </p:grpSpPr>
        <p:sp>
          <p:nvSpPr>
            <p:cNvPr id="673" name="椭圆 70"/>
            <p:cNvSpPr/>
            <p:nvPr/>
          </p:nvSpPr>
          <p:spPr>
            <a:xfrm>
              <a:off x="7525800" y="436968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74" name="组合 126"/>
            <p:cNvGrpSpPr/>
            <p:nvPr/>
          </p:nvGrpSpPr>
          <p:grpSpPr>
            <a:xfrm>
              <a:off x="7663320" y="4515480"/>
              <a:ext cx="647280" cy="647280"/>
              <a:chOff x="7663320" y="4515480"/>
              <a:chExt cx="647280" cy="647280"/>
            </a:xfrm>
          </p:grpSpPr>
          <p:sp>
            <p:nvSpPr>
              <p:cNvPr id="675" name="椭圆 127"/>
              <p:cNvSpPr/>
              <p:nvPr/>
            </p:nvSpPr>
            <p:spPr>
              <a:xfrm>
                <a:off x="7663320" y="4515480"/>
                <a:ext cx="647280" cy="647280"/>
              </a:xfrm>
              <a:prstGeom prst="ellipse">
                <a:avLst/>
              </a:prstGeom>
              <a:solidFill>
                <a:schemeClr val="accent1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6" name="Freeform 331"/>
              <p:cNvSpPr/>
              <p:nvPr/>
            </p:nvSpPr>
            <p:spPr>
              <a:xfrm>
                <a:off x="7772400" y="4607640"/>
                <a:ext cx="429120" cy="457200"/>
              </a:xfrm>
              <a:custGeom>
                <a:avLst/>
                <a:gdLst>
                  <a:gd name="textAreaLeft" fmla="*/ 0 w 429120"/>
                  <a:gd name="textAreaRight" fmla="*/ 429480 w 429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130" h="1202">
                    <a:moveTo>
                      <a:pt x="830" y="1134"/>
                    </a:moveTo>
                    <a:lnTo>
                      <a:pt x="830" y="1134"/>
                    </a:lnTo>
                    <a:lnTo>
                      <a:pt x="794" y="1150"/>
                    </a:lnTo>
                    <a:lnTo>
                      <a:pt x="758" y="1166"/>
                    </a:lnTo>
                    <a:lnTo>
                      <a:pt x="722" y="1178"/>
                    </a:lnTo>
                    <a:lnTo>
                      <a:pt x="684" y="1186"/>
                    </a:lnTo>
                    <a:lnTo>
                      <a:pt x="646" y="1194"/>
                    </a:lnTo>
                    <a:lnTo>
                      <a:pt x="606" y="1198"/>
                    </a:lnTo>
                    <a:lnTo>
                      <a:pt x="566" y="1202"/>
                    </a:lnTo>
                    <a:lnTo>
                      <a:pt x="522" y="1202"/>
                    </a:lnTo>
                    <a:lnTo>
                      <a:pt x="522" y="1202"/>
                    </a:lnTo>
                    <a:lnTo>
                      <a:pt x="496" y="1202"/>
                    </a:lnTo>
                    <a:lnTo>
                      <a:pt x="470" y="1200"/>
                    </a:lnTo>
                    <a:lnTo>
                      <a:pt x="444" y="1196"/>
                    </a:lnTo>
                    <a:lnTo>
                      <a:pt x="418" y="1192"/>
                    </a:lnTo>
                    <a:lnTo>
                      <a:pt x="394" y="1188"/>
                    </a:lnTo>
                    <a:lnTo>
                      <a:pt x="370" y="1180"/>
                    </a:lnTo>
                    <a:lnTo>
                      <a:pt x="346" y="1174"/>
                    </a:lnTo>
                    <a:lnTo>
                      <a:pt x="322" y="1164"/>
                    </a:lnTo>
                    <a:lnTo>
                      <a:pt x="298" y="1154"/>
                    </a:lnTo>
                    <a:lnTo>
                      <a:pt x="276" y="1144"/>
                    </a:lnTo>
                    <a:lnTo>
                      <a:pt x="254" y="1132"/>
                    </a:lnTo>
                    <a:lnTo>
                      <a:pt x="232" y="1120"/>
                    </a:lnTo>
                    <a:lnTo>
                      <a:pt x="212" y="1106"/>
                    </a:lnTo>
                    <a:lnTo>
                      <a:pt x="192" y="1090"/>
                    </a:lnTo>
                    <a:lnTo>
                      <a:pt x="174" y="1074"/>
                    </a:lnTo>
                    <a:lnTo>
                      <a:pt x="154" y="1058"/>
                    </a:lnTo>
                    <a:lnTo>
                      <a:pt x="138" y="1040"/>
                    </a:lnTo>
                    <a:lnTo>
                      <a:pt x="120" y="1020"/>
                    </a:lnTo>
                    <a:lnTo>
                      <a:pt x="106" y="1000"/>
                    </a:lnTo>
                    <a:lnTo>
                      <a:pt x="90" y="980"/>
                    </a:lnTo>
                    <a:lnTo>
                      <a:pt x="76" y="958"/>
                    </a:lnTo>
                    <a:lnTo>
                      <a:pt x="64" y="936"/>
                    </a:lnTo>
                    <a:lnTo>
                      <a:pt x="52" y="912"/>
                    </a:lnTo>
                    <a:lnTo>
                      <a:pt x="42" y="888"/>
                    </a:lnTo>
                    <a:lnTo>
                      <a:pt x="32" y="862"/>
                    </a:lnTo>
                    <a:lnTo>
                      <a:pt x="24" y="836"/>
                    </a:lnTo>
                    <a:lnTo>
                      <a:pt x="16" y="810"/>
                    </a:lnTo>
                    <a:lnTo>
                      <a:pt x="10" y="782"/>
                    </a:lnTo>
                    <a:lnTo>
                      <a:pt x="6" y="754"/>
                    </a:lnTo>
                    <a:lnTo>
                      <a:pt x="2" y="724"/>
                    </a:lnTo>
                    <a:lnTo>
                      <a:pt x="0" y="694"/>
                    </a:lnTo>
                    <a:lnTo>
                      <a:pt x="0" y="664"/>
                    </a:lnTo>
                    <a:lnTo>
                      <a:pt x="0" y="664"/>
                    </a:lnTo>
                    <a:lnTo>
                      <a:pt x="0" y="630"/>
                    </a:lnTo>
                    <a:lnTo>
                      <a:pt x="2" y="598"/>
                    </a:lnTo>
                    <a:lnTo>
                      <a:pt x="6" y="566"/>
                    </a:lnTo>
                    <a:lnTo>
                      <a:pt x="10" y="532"/>
                    </a:lnTo>
                    <a:lnTo>
                      <a:pt x="18" y="502"/>
                    </a:lnTo>
                    <a:lnTo>
                      <a:pt x="24" y="470"/>
                    </a:lnTo>
                    <a:lnTo>
                      <a:pt x="34" y="440"/>
                    </a:lnTo>
                    <a:lnTo>
                      <a:pt x="44" y="410"/>
                    </a:lnTo>
                    <a:lnTo>
                      <a:pt x="56" y="380"/>
                    </a:lnTo>
                    <a:lnTo>
                      <a:pt x="68" y="352"/>
                    </a:lnTo>
                    <a:lnTo>
                      <a:pt x="82" y="324"/>
                    </a:lnTo>
                    <a:lnTo>
                      <a:pt x="98" y="298"/>
                    </a:lnTo>
                    <a:lnTo>
                      <a:pt x="114" y="272"/>
                    </a:lnTo>
                    <a:lnTo>
                      <a:pt x="132" y="246"/>
                    </a:lnTo>
                    <a:lnTo>
                      <a:pt x="150" y="222"/>
                    </a:lnTo>
                    <a:lnTo>
                      <a:pt x="170" y="198"/>
                    </a:lnTo>
                    <a:lnTo>
                      <a:pt x="192" y="176"/>
                    </a:lnTo>
                    <a:lnTo>
                      <a:pt x="214" y="156"/>
                    </a:lnTo>
                    <a:lnTo>
                      <a:pt x="238" y="136"/>
                    </a:lnTo>
                    <a:lnTo>
                      <a:pt x="262" y="116"/>
                    </a:lnTo>
                    <a:lnTo>
                      <a:pt x="288" y="98"/>
                    </a:lnTo>
                    <a:lnTo>
                      <a:pt x="314" y="82"/>
                    </a:lnTo>
                    <a:lnTo>
                      <a:pt x="342" y="68"/>
                    </a:lnTo>
                    <a:lnTo>
                      <a:pt x="370" y="54"/>
                    </a:lnTo>
                    <a:lnTo>
                      <a:pt x="398" y="42"/>
                    </a:lnTo>
                    <a:lnTo>
                      <a:pt x="430" y="32"/>
                    </a:lnTo>
                    <a:lnTo>
                      <a:pt x="460" y="22"/>
                    </a:lnTo>
                    <a:lnTo>
                      <a:pt x="492" y="14"/>
                    </a:lnTo>
                    <a:lnTo>
                      <a:pt x="526" y="8"/>
                    </a:lnTo>
                    <a:lnTo>
                      <a:pt x="560" y="4"/>
                    </a:lnTo>
                    <a:lnTo>
                      <a:pt x="594" y="2"/>
                    </a:lnTo>
                    <a:lnTo>
                      <a:pt x="630" y="0"/>
                    </a:lnTo>
                    <a:lnTo>
                      <a:pt x="630" y="0"/>
                    </a:lnTo>
                    <a:lnTo>
                      <a:pt x="658" y="2"/>
                    </a:lnTo>
                    <a:lnTo>
                      <a:pt x="684" y="2"/>
                    </a:lnTo>
                    <a:lnTo>
                      <a:pt x="712" y="6"/>
                    </a:lnTo>
                    <a:lnTo>
                      <a:pt x="738" y="10"/>
                    </a:lnTo>
                    <a:lnTo>
                      <a:pt x="762" y="16"/>
                    </a:lnTo>
                    <a:lnTo>
                      <a:pt x="788" y="22"/>
                    </a:lnTo>
                    <a:lnTo>
                      <a:pt x="812" y="30"/>
                    </a:lnTo>
                    <a:lnTo>
                      <a:pt x="834" y="38"/>
                    </a:lnTo>
                    <a:lnTo>
                      <a:pt x="858" y="48"/>
                    </a:lnTo>
                    <a:lnTo>
                      <a:pt x="880" y="58"/>
                    </a:lnTo>
                    <a:lnTo>
                      <a:pt x="900" y="70"/>
                    </a:lnTo>
                    <a:lnTo>
                      <a:pt x="920" y="82"/>
                    </a:lnTo>
                    <a:lnTo>
                      <a:pt x="940" y="96"/>
                    </a:lnTo>
                    <a:lnTo>
                      <a:pt x="958" y="110"/>
                    </a:lnTo>
                    <a:lnTo>
                      <a:pt x="976" y="126"/>
                    </a:lnTo>
                    <a:lnTo>
                      <a:pt x="992" y="142"/>
                    </a:lnTo>
                    <a:lnTo>
                      <a:pt x="1008" y="158"/>
                    </a:lnTo>
                    <a:lnTo>
                      <a:pt x="1024" y="176"/>
                    </a:lnTo>
                    <a:lnTo>
                      <a:pt x="1038" y="196"/>
                    </a:lnTo>
                    <a:lnTo>
                      <a:pt x="1052" y="214"/>
                    </a:lnTo>
                    <a:lnTo>
                      <a:pt x="1064" y="236"/>
                    </a:lnTo>
                    <a:lnTo>
                      <a:pt x="1074" y="256"/>
                    </a:lnTo>
                    <a:lnTo>
                      <a:pt x="1094" y="300"/>
                    </a:lnTo>
                    <a:lnTo>
                      <a:pt x="1110" y="346"/>
                    </a:lnTo>
                    <a:lnTo>
                      <a:pt x="1122" y="396"/>
                    </a:lnTo>
                    <a:lnTo>
                      <a:pt x="1128" y="446"/>
                    </a:lnTo>
                    <a:lnTo>
                      <a:pt x="1130" y="500"/>
                    </a:lnTo>
                    <a:lnTo>
                      <a:pt x="1130" y="500"/>
                    </a:lnTo>
                    <a:lnTo>
                      <a:pt x="1128" y="546"/>
                    </a:lnTo>
                    <a:lnTo>
                      <a:pt x="1124" y="592"/>
                    </a:lnTo>
                    <a:lnTo>
                      <a:pt x="1116" y="634"/>
                    </a:lnTo>
                    <a:lnTo>
                      <a:pt x="1106" y="674"/>
                    </a:lnTo>
                    <a:lnTo>
                      <a:pt x="1092" y="710"/>
                    </a:lnTo>
                    <a:lnTo>
                      <a:pt x="1076" y="744"/>
                    </a:lnTo>
                    <a:lnTo>
                      <a:pt x="1058" y="774"/>
                    </a:lnTo>
                    <a:lnTo>
                      <a:pt x="1038" y="802"/>
                    </a:lnTo>
                    <a:lnTo>
                      <a:pt x="1016" y="828"/>
                    </a:lnTo>
                    <a:lnTo>
                      <a:pt x="992" y="848"/>
                    </a:lnTo>
                    <a:lnTo>
                      <a:pt x="968" y="868"/>
                    </a:lnTo>
                    <a:lnTo>
                      <a:pt x="942" y="882"/>
                    </a:lnTo>
                    <a:lnTo>
                      <a:pt x="914" y="894"/>
                    </a:lnTo>
                    <a:lnTo>
                      <a:pt x="884" y="904"/>
                    </a:lnTo>
                    <a:lnTo>
                      <a:pt x="856" y="908"/>
                    </a:lnTo>
                    <a:lnTo>
                      <a:pt x="824" y="910"/>
                    </a:lnTo>
                    <a:lnTo>
                      <a:pt x="824" y="910"/>
                    </a:lnTo>
                    <a:lnTo>
                      <a:pt x="800" y="908"/>
                    </a:lnTo>
                    <a:lnTo>
                      <a:pt x="788" y="906"/>
                    </a:lnTo>
                    <a:lnTo>
                      <a:pt x="776" y="902"/>
                    </a:lnTo>
                    <a:lnTo>
                      <a:pt x="764" y="896"/>
                    </a:lnTo>
                    <a:lnTo>
                      <a:pt x="754" y="890"/>
                    </a:lnTo>
                    <a:lnTo>
                      <a:pt x="744" y="884"/>
                    </a:lnTo>
                    <a:lnTo>
                      <a:pt x="734" y="874"/>
                    </a:lnTo>
                    <a:lnTo>
                      <a:pt x="726" y="864"/>
                    </a:lnTo>
                    <a:lnTo>
                      <a:pt x="718" y="854"/>
                    </a:lnTo>
                    <a:lnTo>
                      <a:pt x="712" y="842"/>
                    </a:lnTo>
                    <a:lnTo>
                      <a:pt x="706" y="828"/>
                    </a:lnTo>
                    <a:lnTo>
                      <a:pt x="702" y="812"/>
                    </a:lnTo>
                    <a:lnTo>
                      <a:pt x="698" y="796"/>
                    </a:lnTo>
                    <a:lnTo>
                      <a:pt x="698" y="778"/>
                    </a:lnTo>
                    <a:lnTo>
                      <a:pt x="698" y="758"/>
                    </a:lnTo>
                    <a:lnTo>
                      <a:pt x="692" y="758"/>
                    </a:lnTo>
                    <a:lnTo>
                      <a:pt x="692" y="758"/>
                    </a:lnTo>
                    <a:lnTo>
                      <a:pt x="668" y="794"/>
                    </a:lnTo>
                    <a:lnTo>
                      <a:pt x="642" y="826"/>
                    </a:lnTo>
                    <a:lnTo>
                      <a:pt x="614" y="852"/>
                    </a:lnTo>
                    <a:lnTo>
                      <a:pt x="600" y="862"/>
                    </a:lnTo>
                    <a:lnTo>
                      <a:pt x="584" y="872"/>
                    </a:lnTo>
                    <a:lnTo>
                      <a:pt x="570" y="882"/>
                    </a:lnTo>
                    <a:lnTo>
                      <a:pt x="554" y="890"/>
                    </a:lnTo>
                    <a:lnTo>
                      <a:pt x="536" y="896"/>
                    </a:lnTo>
                    <a:lnTo>
                      <a:pt x="520" y="902"/>
                    </a:lnTo>
                    <a:lnTo>
                      <a:pt x="502" y="906"/>
                    </a:lnTo>
                    <a:lnTo>
                      <a:pt x="484" y="908"/>
                    </a:lnTo>
                    <a:lnTo>
                      <a:pt x="466" y="910"/>
                    </a:lnTo>
                    <a:lnTo>
                      <a:pt x="446" y="910"/>
                    </a:lnTo>
                    <a:lnTo>
                      <a:pt x="446" y="910"/>
                    </a:lnTo>
                    <a:lnTo>
                      <a:pt x="428" y="910"/>
                    </a:lnTo>
                    <a:lnTo>
                      <a:pt x="410" y="906"/>
                    </a:lnTo>
                    <a:lnTo>
                      <a:pt x="392" y="902"/>
                    </a:lnTo>
                    <a:lnTo>
                      <a:pt x="376" y="896"/>
                    </a:lnTo>
                    <a:lnTo>
                      <a:pt x="360" y="888"/>
                    </a:lnTo>
                    <a:lnTo>
                      <a:pt x="344" y="878"/>
                    </a:lnTo>
                    <a:lnTo>
                      <a:pt x="330" y="866"/>
                    </a:lnTo>
                    <a:lnTo>
                      <a:pt x="316" y="852"/>
                    </a:lnTo>
                    <a:lnTo>
                      <a:pt x="304" y="838"/>
                    </a:lnTo>
                    <a:lnTo>
                      <a:pt x="292" y="822"/>
                    </a:lnTo>
                    <a:lnTo>
                      <a:pt x="284" y="804"/>
                    </a:lnTo>
                    <a:lnTo>
                      <a:pt x="276" y="784"/>
                    </a:lnTo>
                    <a:lnTo>
                      <a:pt x="268" y="764"/>
                    </a:lnTo>
                    <a:lnTo>
                      <a:pt x="264" y="742"/>
                    </a:lnTo>
                    <a:lnTo>
                      <a:pt x="262" y="718"/>
                    </a:lnTo>
                    <a:lnTo>
                      <a:pt x="260" y="692"/>
                    </a:lnTo>
                    <a:lnTo>
                      <a:pt x="260" y="692"/>
                    </a:lnTo>
                    <a:lnTo>
                      <a:pt x="262" y="654"/>
                    </a:lnTo>
                    <a:lnTo>
                      <a:pt x="268" y="614"/>
                    </a:lnTo>
                    <a:lnTo>
                      <a:pt x="278" y="576"/>
                    </a:lnTo>
                    <a:lnTo>
                      <a:pt x="290" y="538"/>
                    </a:lnTo>
                    <a:lnTo>
                      <a:pt x="306" y="504"/>
                    </a:lnTo>
                    <a:lnTo>
                      <a:pt x="326" y="470"/>
                    </a:lnTo>
                    <a:lnTo>
                      <a:pt x="350" y="438"/>
                    </a:lnTo>
                    <a:lnTo>
                      <a:pt x="374" y="408"/>
                    </a:lnTo>
                    <a:lnTo>
                      <a:pt x="404" y="380"/>
                    </a:lnTo>
                    <a:lnTo>
                      <a:pt x="434" y="356"/>
                    </a:lnTo>
                    <a:lnTo>
                      <a:pt x="468" y="336"/>
                    </a:lnTo>
                    <a:lnTo>
                      <a:pt x="504" y="318"/>
                    </a:lnTo>
                    <a:lnTo>
                      <a:pt x="542" y="304"/>
                    </a:lnTo>
                    <a:lnTo>
                      <a:pt x="582" y="292"/>
                    </a:lnTo>
                    <a:lnTo>
                      <a:pt x="626" y="286"/>
                    </a:lnTo>
                    <a:lnTo>
                      <a:pt x="670" y="284"/>
                    </a:lnTo>
                    <a:lnTo>
                      <a:pt x="670" y="284"/>
                    </a:lnTo>
                    <a:lnTo>
                      <a:pt x="696" y="284"/>
                    </a:lnTo>
                    <a:lnTo>
                      <a:pt x="724" y="286"/>
                    </a:lnTo>
                    <a:lnTo>
                      <a:pt x="750" y="290"/>
                    </a:lnTo>
                    <a:lnTo>
                      <a:pt x="774" y="294"/>
                    </a:lnTo>
                    <a:lnTo>
                      <a:pt x="796" y="300"/>
                    </a:lnTo>
                    <a:lnTo>
                      <a:pt x="818" y="306"/>
                    </a:lnTo>
                    <a:lnTo>
                      <a:pt x="836" y="312"/>
                    </a:lnTo>
                    <a:lnTo>
                      <a:pt x="854" y="320"/>
                    </a:lnTo>
                    <a:lnTo>
                      <a:pt x="798" y="632"/>
                    </a:lnTo>
                    <a:lnTo>
                      <a:pt x="798" y="632"/>
                    </a:lnTo>
                    <a:lnTo>
                      <a:pt x="790" y="678"/>
                    </a:lnTo>
                    <a:lnTo>
                      <a:pt x="786" y="718"/>
                    </a:lnTo>
                    <a:lnTo>
                      <a:pt x="786" y="750"/>
                    </a:lnTo>
                    <a:lnTo>
                      <a:pt x="788" y="766"/>
                    </a:lnTo>
                    <a:lnTo>
                      <a:pt x="792" y="778"/>
                    </a:lnTo>
                    <a:lnTo>
                      <a:pt x="794" y="788"/>
                    </a:lnTo>
                    <a:lnTo>
                      <a:pt x="800" y="798"/>
                    </a:lnTo>
                    <a:lnTo>
                      <a:pt x="806" y="806"/>
                    </a:lnTo>
                    <a:lnTo>
                      <a:pt x="812" y="814"/>
                    </a:lnTo>
                    <a:lnTo>
                      <a:pt x="820" y="818"/>
                    </a:lnTo>
                    <a:lnTo>
                      <a:pt x="828" y="822"/>
                    </a:lnTo>
                    <a:lnTo>
                      <a:pt x="838" y="824"/>
                    </a:lnTo>
                    <a:lnTo>
                      <a:pt x="848" y="826"/>
                    </a:lnTo>
                    <a:lnTo>
                      <a:pt x="848" y="826"/>
                    </a:lnTo>
                    <a:lnTo>
                      <a:pt x="864" y="826"/>
                    </a:lnTo>
                    <a:lnTo>
                      <a:pt x="880" y="822"/>
                    </a:lnTo>
                    <a:lnTo>
                      <a:pt x="898" y="816"/>
                    </a:lnTo>
                    <a:lnTo>
                      <a:pt x="914" y="806"/>
                    </a:lnTo>
                    <a:lnTo>
                      <a:pt x="930" y="794"/>
                    </a:lnTo>
                    <a:lnTo>
                      <a:pt x="946" y="780"/>
                    </a:lnTo>
                    <a:lnTo>
                      <a:pt x="960" y="764"/>
                    </a:lnTo>
                    <a:lnTo>
                      <a:pt x="974" y="744"/>
                    </a:lnTo>
                    <a:lnTo>
                      <a:pt x="986" y="724"/>
                    </a:lnTo>
                    <a:lnTo>
                      <a:pt x="998" y="700"/>
                    </a:lnTo>
                    <a:lnTo>
                      <a:pt x="1008" y="674"/>
                    </a:lnTo>
                    <a:lnTo>
                      <a:pt x="1018" y="644"/>
                    </a:lnTo>
                    <a:lnTo>
                      <a:pt x="1024" y="614"/>
                    </a:lnTo>
                    <a:lnTo>
                      <a:pt x="1030" y="582"/>
                    </a:lnTo>
                    <a:lnTo>
                      <a:pt x="1032" y="548"/>
                    </a:lnTo>
                    <a:lnTo>
                      <a:pt x="1034" y="512"/>
                    </a:lnTo>
                    <a:lnTo>
                      <a:pt x="1034" y="512"/>
                    </a:lnTo>
                    <a:lnTo>
                      <a:pt x="1032" y="466"/>
                    </a:lnTo>
                    <a:lnTo>
                      <a:pt x="1026" y="420"/>
                    </a:lnTo>
                    <a:lnTo>
                      <a:pt x="1018" y="378"/>
                    </a:lnTo>
                    <a:lnTo>
                      <a:pt x="1006" y="338"/>
                    </a:lnTo>
                    <a:lnTo>
                      <a:pt x="990" y="300"/>
                    </a:lnTo>
                    <a:lnTo>
                      <a:pt x="972" y="264"/>
                    </a:lnTo>
                    <a:lnTo>
                      <a:pt x="950" y="232"/>
                    </a:lnTo>
                    <a:lnTo>
                      <a:pt x="926" y="202"/>
                    </a:lnTo>
                    <a:lnTo>
                      <a:pt x="898" y="174"/>
                    </a:lnTo>
                    <a:lnTo>
                      <a:pt x="866" y="150"/>
                    </a:lnTo>
                    <a:lnTo>
                      <a:pt x="832" y="130"/>
                    </a:lnTo>
                    <a:lnTo>
                      <a:pt x="794" y="112"/>
                    </a:lnTo>
                    <a:lnTo>
                      <a:pt x="754" y="98"/>
                    </a:lnTo>
                    <a:lnTo>
                      <a:pt x="710" y="88"/>
                    </a:lnTo>
                    <a:lnTo>
                      <a:pt x="664" y="82"/>
                    </a:lnTo>
                    <a:lnTo>
                      <a:pt x="616" y="80"/>
                    </a:lnTo>
                    <a:lnTo>
                      <a:pt x="616" y="80"/>
                    </a:lnTo>
                    <a:lnTo>
                      <a:pt x="590" y="80"/>
                    </a:lnTo>
                    <a:lnTo>
                      <a:pt x="564" y="82"/>
                    </a:lnTo>
                    <a:lnTo>
                      <a:pt x="538" y="86"/>
                    </a:lnTo>
                    <a:lnTo>
                      <a:pt x="512" y="90"/>
                    </a:lnTo>
                    <a:lnTo>
                      <a:pt x="488" y="96"/>
                    </a:lnTo>
                    <a:lnTo>
                      <a:pt x="464" y="102"/>
                    </a:lnTo>
                    <a:lnTo>
                      <a:pt x="440" y="110"/>
                    </a:lnTo>
                    <a:lnTo>
                      <a:pt x="416" y="120"/>
                    </a:lnTo>
                    <a:lnTo>
                      <a:pt x="394" y="130"/>
                    </a:lnTo>
                    <a:lnTo>
                      <a:pt x="372" y="142"/>
                    </a:lnTo>
                    <a:lnTo>
                      <a:pt x="350" y="156"/>
                    </a:lnTo>
                    <a:lnTo>
                      <a:pt x="328" y="168"/>
                    </a:lnTo>
                    <a:lnTo>
                      <a:pt x="308" y="184"/>
                    </a:lnTo>
                    <a:lnTo>
                      <a:pt x="288" y="200"/>
                    </a:lnTo>
                    <a:lnTo>
                      <a:pt x="270" y="218"/>
                    </a:lnTo>
                    <a:lnTo>
                      <a:pt x="252" y="236"/>
                    </a:lnTo>
                    <a:lnTo>
                      <a:pt x="234" y="254"/>
                    </a:lnTo>
                    <a:lnTo>
                      <a:pt x="218" y="274"/>
                    </a:lnTo>
                    <a:lnTo>
                      <a:pt x="202" y="296"/>
                    </a:lnTo>
                    <a:lnTo>
                      <a:pt x="188" y="318"/>
                    </a:lnTo>
                    <a:lnTo>
                      <a:pt x="174" y="342"/>
                    </a:lnTo>
                    <a:lnTo>
                      <a:pt x="162" y="366"/>
                    </a:lnTo>
                    <a:lnTo>
                      <a:pt x="150" y="390"/>
                    </a:lnTo>
                    <a:lnTo>
                      <a:pt x="140" y="416"/>
                    </a:lnTo>
                    <a:lnTo>
                      <a:pt x="130" y="444"/>
                    </a:lnTo>
                    <a:lnTo>
                      <a:pt x="122" y="472"/>
                    </a:lnTo>
                    <a:lnTo>
                      <a:pt x="114" y="500"/>
                    </a:lnTo>
                    <a:lnTo>
                      <a:pt x="108" y="530"/>
                    </a:lnTo>
                    <a:lnTo>
                      <a:pt x="104" y="560"/>
                    </a:lnTo>
                    <a:lnTo>
                      <a:pt x="100" y="590"/>
                    </a:lnTo>
                    <a:lnTo>
                      <a:pt x="98" y="622"/>
                    </a:lnTo>
                    <a:lnTo>
                      <a:pt x="98" y="654"/>
                    </a:lnTo>
                    <a:lnTo>
                      <a:pt x="98" y="654"/>
                    </a:lnTo>
                    <a:lnTo>
                      <a:pt x="100" y="708"/>
                    </a:lnTo>
                    <a:lnTo>
                      <a:pt x="106" y="758"/>
                    </a:lnTo>
                    <a:lnTo>
                      <a:pt x="116" y="804"/>
                    </a:lnTo>
                    <a:lnTo>
                      <a:pt x="132" y="848"/>
                    </a:lnTo>
                    <a:lnTo>
                      <a:pt x="150" y="890"/>
                    </a:lnTo>
                    <a:lnTo>
                      <a:pt x="170" y="928"/>
                    </a:lnTo>
                    <a:lnTo>
                      <a:pt x="196" y="962"/>
                    </a:lnTo>
                    <a:lnTo>
                      <a:pt x="224" y="994"/>
                    </a:lnTo>
                    <a:lnTo>
                      <a:pt x="256" y="1024"/>
                    </a:lnTo>
                    <a:lnTo>
                      <a:pt x="288" y="1048"/>
                    </a:lnTo>
                    <a:lnTo>
                      <a:pt x="326" y="1070"/>
                    </a:lnTo>
                    <a:lnTo>
                      <a:pt x="364" y="1088"/>
                    </a:lnTo>
                    <a:lnTo>
                      <a:pt x="406" y="1102"/>
                    </a:lnTo>
                    <a:lnTo>
                      <a:pt x="450" y="1112"/>
                    </a:lnTo>
                    <a:lnTo>
                      <a:pt x="494" y="1118"/>
                    </a:lnTo>
                    <a:lnTo>
                      <a:pt x="542" y="1120"/>
                    </a:lnTo>
                    <a:lnTo>
                      <a:pt x="542" y="1120"/>
                    </a:lnTo>
                    <a:lnTo>
                      <a:pt x="578" y="1118"/>
                    </a:lnTo>
                    <a:lnTo>
                      <a:pt x="614" y="1116"/>
                    </a:lnTo>
                    <a:lnTo>
                      <a:pt x="650" y="1110"/>
                    </a:lnTo>
                    <a:lnTo>
                      <a:pt x="684" y="1104"/>
                    </a:lnTo>
                    <a:lnTo>
                      <a:pt x="716" y="1096"/>
                    </a:lnTo>
                    <a:lnTo>
                      <a:pt x="746" y="1086"/>
                    </a:lnTo>
                    <a:lnTo>
                      <a:pt x="776" y="1072"/>
                    </a:lnTo>
                    <a:lnTo>
                      <a:pt x="802" y="1060"/>
                    </a:lnTo>
                    <a:lnTo>
                      <a:pt x="830" y="1134"/>
                    </a:lnTo>
                    <a:close/>
                    <a:moveTo>
                      <a:pt x="736" y="390"/>
                    </a:moveTo>
                    <a:lnTo>
                      <a:pt x="736" y="390"/>
                    </a:lnTo>
                    <a:lnTo>
                      <a:pt x="722" y="384"/>
                    </a:lnTo>
                    <a:lnTo>
                      <a:pt x="702" y="380"/>
                    </a:lnTo>
                    <a:lnTo>
                      <a:pt x="678" y="376"/>
                    </a:lnTo>
                    <a:lnTo>
                      <a:pt x="650" y="376"/>
                    </a:lnTo>
                    <a:lnTo>
                      <a:pt x="650" y="376"/>
                    </a:lnTo>
                    <a:lnTo>
                      <a:pt x="622" y="376"/>
                    </a:lnTo>
                    <a:lnTo>
                      <a:pt x="594" y="382"/>
                    </a:lnTo>
                    <a:lnTo>
                      <a:pt x="568" y="390"/>
                    </a:lnTo>
                    <a:lnTo>
                      <a:pt x="542" y="400"/>
                    </a:lnTo>
                    <a:lnTo>
                      <a:pt x="518" y="414"/>
                    </a:lnTo>
                    <a:lnTo>
                      <a:pt x="496" y="430"/>
                    </a:lnTo>
                    <a:lnTo>
                      <a:pt x="474" y="448"/>
                    </a:lnTo>
                    <a:lnTo>
                      <a:pt x="454" y="468"/>
                    </a:lnTo>
                    <a:lnTo>
                      <a:pt x="436" y="490"/>
                    </a:lnTo>
                    <a:lnTo>
                      <a:pt x="422" y="514"/>
                    </a:lnTo>
                    <a:lnTo>
                      <a:pt x="408" y="540"/>
                    </a:lnTo>
                    <a:lnTo>
                      <a:pt x="396" y="566"/>
                    </a:lnTo>
                    <a:lnTo>
                      <a:pt x="386" y="596"/>
                    </a:lnTo>
                    <a:lnTo>
                      <a:pt x="380" y="624"/>
                    </a:lnTo>
                    <a:lnTo>
                      <a:pt x="376" y="654"/>
                    </a:lnTo>
                    <a:lnTo>
                      <a:pt x="374" y="686"/>
                    </a:lnTo>
                    <a:lnTo>
                      <a:pt x="374" y="686"/>
                    </a:lnTo>
                    <a:lnTo>
                      <a:pt x="376" y="714"/>
                    </a:lnTo>
                    <a:lnTo>
                      <a:pt x="382" y="740"/>
                    </a:lnTo>
                    <a:lnTo>
                      <a:pt x="390" y="762"/>
                    </a:lnTo>
                    <a:lnTo>
                      <a:pt x="396" y="772"/>
                    </a:lnTo>
                    <a:lnTo>
                      <a:pt x="402" y="780"/>
                    </a:lnTo>
                    <a:lnTo>
                      <a:pt x="410" y="788"/>
                    </a:lnTo>
                    <a:lnTo>
                      <a:pt x="418" y="796"/>
                    </a:lnTo>
                    <a:lnTo>
                      <a:pt x="428" y="802"/>
                    </a:lnTo>
                    <a:lnTo>
                      <a:pt x="438" y="808"/>
                    </a:lnTo>
                    <a:lnTo>
                      <a:pt x="450" y="812"/>
                    </a:lnTo>
                    <a:lnTo>
                      <a:pt x="462" y="814"/>
                    </a:lnTo>
                    <a:lnTo>
                      <a:pt x="474" y="816"/>
                    </a:lnTo>
                    <a:lnTo>
                      <a:pt x="488" y="818"/>
                    </a:lnTo>
                    <a:lnTo>
                      <a:pt x="488" y="818"/>
                    </a:lnTo>
                    <a:lnTo>
                      <a:pt x="506" y="816"/>
                    </a:lnTo>
                    <a:lnTo>
                      <a:pt x="526" y="812"/>
                    </a:lnTo>
                    <a:lnTo>
                      <a:pt x="544" y="804"/>
                    </a:lnTo>
                    <a:lnTo>
                      <a:pt x="560" y="796"/>
                    </a:lnTo>
                    <a:lnTo>
                      <a:pt x="578" y="784"/>
                    </a:lnTo>
                    <a:lnTo>
                      <a:pt x="594" y="772"/>
                    </a:lnTo>
                    <a:lnTo>
                      <a:pt x="610" y="756"/>
                    </a:lnTo>
                    <a:lnTo>
                      <a:pt x="624" y="740"/>
                    </a:lnTo>
                    <a:lnTo>
                      <a:pt x="638" y="722"/>
                    </a:lnTo>
                    <a:lnTo>
                      <a:pt x="652" y="704"/>
                    </a:lnTo>
                    <a:lnTo>
                      <a:pt x="664" y="684"/>
                    </a:lnTo>
                    <a:lnTo>
                      <a:pt x="674" y="664"/>
                    </a:lnTo>
                    <a:lnTo>
                      <a:pt x="682" y="644"/>
                    </a:lnTo>
                    <a:lnTo>
                      <a:pt x="690" y="624"/>
                    </a:lnTo>
                    <a:lnTo>
                      <a:pt x="696" y="602"/>
                    </a:lnTo>
                    <a:lnTo>
                      <a:pt x="700" y="582"/>
                    </a:lnTo>
                    <a:lnTo>
                      <a:pt x="736" y="390"/>
                    </a:lnTo>
                    <a:close/>
                  </a:path>
                </a:pathLst>
              </a:custGeom>
              <a:solidFill>
                <a:schemeClr val="bg1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251640" y="1345320"/>
            <a:ext cx="3411720" cy="4369320"/>
          </a:xfrm>
          <a:prstGeom prst="rect">
            <a:avLst/>
          </a:prstGeom>
          <a:ln w="0">
            <a:noFill/>
          </a:ln>
        </p:spPr>
      </p:pic>
      <p:sp>
        <p:nvSpPr>
          <p:cNvPr id="160" name="矩形 10"/>
          <p:cNvSpPr/>
          <p:nvPr/>
        </p:nvSpPr>
        <p:spPr>
          <a:xfrm>
            <a:off x="571320" y="5161680"/>
            <a:ext cx="1247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G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查德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52"/>
          <p:cNvGrpSpPr/>
          <p:nvPr/>
        </p:nvGrpSpPr>
        <p:grpSpPr>
          <a:xfrm>
            <a:off x="0" y="0"/>
            <a:ext cx="304560" cy="5714640"/>
            <a:chOff x="0" y="0"/>
            <a:chExt cx="304560" cy="5714640"/>
          </a:xfrm>
        </p:grpSpPr>
        <p:sp>
          <p:nvSpPr>
            <p:cNvPr id="162" name="矩形 53"/>
            <p:cNvSpPr/>
            <p:nvPr/>
          </p:nvSpPr>
          <p:spPr>
            <a:xfrm>
              <a:off x="0" y="1626840"/>
              <a:ext cx="304560" cy="40878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矩形 54"/>
            <p:cNvSpPr/>
            <p:nvPr/>
          </p:nvSpPr>
          <p:spPr>
            <a:xfrm>
              <a:off x="0" y="766080"/>
              <a:ext cx="304560" cy="3974400"/>
            </a:xfrm>
            <a:prstGeom prst="rect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4" name="图片 5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04560" cy="31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矩形 2"/>
          <p:cNvSpPr/>
          <p:nvPr/>
        </p:nvSpPr>
        <p:spPr>
          <a:xfrm>
            <a:off x="3132000" y="769320"/>
            <a:ext cx="561636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这本书就是作为提高谈判实践的指南，而并非能够替代谈判本身。因而，从这里吸取你所发现的知识，建立自己的高效谈判风格的基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将每次谈判机会看做是提高自己技能的实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随着你不断提高的信心、增加经验，你将发现谈判不再饱含焦虑。相反，谈判将变成一种令人愉快而且有利可图的挑战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图片 3"/>
          <p:cNvSpPr/>
          <p:nvPr/>
        </p:nvSpPr>
        <p:spPr>
          <a:xfrm>
            <a:off x="-72360" y="0"/>
            <a:ext cx="9312120" cy="4054320"/>
          </a:xfrm>
          <a:custGeom>
            <a:avLst/>
            <a:gdLst>
              <a:gd name="textAreaLeft" fmla="*/ 0 w 9312120"/>
              <a:gd name="textAreaRight" fmla="*/ 9312480 w 9312120"/>
              <a:gd name="textAreaTop" fmla="*/ 0 h 4054320"/>
              <a:gd name="textAreaBottom" fmla="*/ 4054680 h 4054320"/>
            </a:gdLst>
            <a:ahLst/>
            <a:rect l="textAreaLeft" t="textAreaTop" r="textAreaRight" b="textAreaBottom"/>
            <a:pathLst>
              <a:path w="9218443" h="4054642">
                <a:moveTo>
                  <a:pt x="0" y="0"/>
                </a:moveTo>
                <a:lnTo>
                  <a:pt x="9218443" y="0"/>
                </a:lnTo>
                <a:lnTo>
                  <a:pt x="9218443" y="4054642"/>
                </a:lnTo>
                <a:lnTo>
                  <a:pt x="6115423" y="4054642"/>
                </a:lnTo>
                <a:cubicBezTo>
                  <a:pt x="6115423" y="3243969"/>
                  <a:pt x="5458243" y="2586789"/>
                  <a:pt x="4647570" y="2586789"/>
                </a:cubicBezTo>
                <a:cubicBezTo>
                  <a:pt x="3836897" y="2586789"/>
                  <a:pt x="3179717" y="3243969"/>
                  <a:pt x="3179717" y="4054642"/>
                </a:cubicBezTo>
                <a:lnTo>
                  <a:pt x="0" y="405464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4"/>
          <p:cNvSpPr/>
          <p:nvPr/>
        </p:nvSpPr>
        <p:spPr>
          <a:xfrm>
            <a:off x="2199600" y="2477160"/>
            <a:ext cx="47678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高效谈判的</a:t>
            </a:r>
            <a:r>
              <a:rPr b="1" lang="en-US" sz="19900" spc="-1" strike="noStrike">
                <a:solidFill>
                  <a:schemeClr val="accent1">
                    <a:lumMod val="50000"/>
                  </a:schemeClr>
                </a:solidFill>
                <a:latin typeface="Broadway"/>
                <a:ea typeface="微软雅黑"/>
              </a:rPr>
              <a:t>6</a:t>
            </a:r>
            <a:r>
              <a:rPr b="1" lang="zh-CN" sz="32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个基本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23"/>
          <p:cNvSpPr/>
          <p:nvPr/>
        </p:nvSpPr>
        <p:spPr>
          <a:xfrm>
            <a:off x="480960" y="4251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椭圆 24"/>
          <p:cNvSpPr/>
          <p:nvPr/>
        </p:nvSpPr>
        <p:spPr>
          <a:xfrm>
            <a:off x="7884360" y="4241880"/>
            <a:ext cx="922320" cy="92232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0" name="组合 25"/>
          <p:cNvGrpSpPr/>
          <p:nvPr/>
        </p:nvGrpSpPr>
        <p:grpSpPr>
          <a:xfrm>
            <a:off x="627840" y="4387680"/>
            <a:ext cx="632160" cy="632160"/>
            <a:chOff x="627840" y="4387680"/>
            <a:chExt cx="632160" cy="632160"/>
          </a:xfrm>
        </p:grpSpPr>
        <p:sp>
          <p:nvSpPr>
            <p:cNvPr id="171" name="椭圆 26"/>
            <p:cNvSpPr/>
            <p:nvPr/>
          </p:nvSpPr>
          <p:spPr>
            <a:xfrm>
              <a:off x="627840" y="4387680"/>
              <a:ext cx="632160" cy="63216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72" name="Group 666"/>
            <p:cNvGrpSpPr/>
            <p:nvPr/>
          </p:nvGrpSpPr>
          <p:grpSpPr>
            <a:xfrm>
              <a:off x="736560" y="4498200"/>
              <a:ext cx="413640" cy="411480"/>
              <a:chOff x="736560" y="4498200"/>
              <a:chExt cx="413640" cy="411480"/>
            </a:xfrm>
          </p:grpSpPr>
          <p:sp>
            <p:nvSpPr>
              <p:cNvPr id="173" name="Freeform 667"/>
              <p:cNvSpPr/>
              <p:nvPr/>
            </p:nvSpPr>
            <p:spPr>
              <a:xfrm>
                <a:off x="884880" y="4498560"/>
                <a:ext cx="202320" cy="11664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039" h="606">
                    <a:moveTo>
                      <a:pt x="1034" y="450"/>
                    </a:moveTo>
                    <a:lnTo>
                      <a:pt x="1034" y="450"/>
                    </a:lnTo>
                    <a:lnTo>
                      <a:pt x="1029" y="464"/>
                    </a:lnTo>
                    <a:lnTo>
                      <a:pt x="1024" y="476"/>
                    </a:lnTo>
                    <a:lnTo>
                      <a:pt x="1016" y="489"/>
                    </a:lnTo>
                    <a:lnTo>
                      <a:pt x="1009" y="501"/>
                    </a:lnTo>
                    <a:lnTo>
                      <a:pt x="999" y="511"/>
                    </a:lnTo>
                    <a:lnTo>
                      <a:pt x="988" y="523"/>
                    </a:lnTo>
                    <a:lnTo>
                      <a:pt x="976" y="532"/>
                    </a:lnTo>
                    <a:lnTo>
                      <a:pt x="965" y="542"/>
                    </a:lnTo>
                    <a:lnTo>
                      <a:pt x="951" y="550"/>
                    </a:lnTo>
                    <a:lnTo>
                      <a:pt x="936" y="559"/>
                    </a:lnTo>
                    <a:lnTo>
                      <a:pt x="903" y="574"/>
                    </a:lnTo>
                    <a:lnTo>
                      <a:pt x="868" y="586"/>
                    </a:lnTo>
                    <a:lnTo>
                      <a:pt x="830" y="594"/>
                    </a:lnTo>
                    <a:lnTo>
                      <a:pt x="788" y="601"/>
                    </a:lnTo>
                    <a:lnTo>
                      <a:pt x="744" y="606"/>
                    </a:lnTo>
                    <a:lnTo>
                      <a:pt x="698" y="606"/>
                    </a:lnTo>
                    <a:lnTo>
                      <a:pt x="650" y="605"/>
                    </a:lnTo>
                    <a:lnTo>
                      <a:pt x="599" y="601"/>
                    </a:lnTo>
                    <a:lnTo>
                      <a:pt x="548" y="593"/>
                    </a:lnTo>
                    <a:lnTo>
                      <a:pt x="497" y="583"/>
                    </a:lnTo>
                    <a:lnTo>
                      <a:pt x="445" y="569"/>
                    </a:lnTo>
                    <a:lnTo>
                      <a:pt x="445" y="569"/>
                    </a:lnTo>
                    <a:lnTo>
                      <a:pt x="392" y="552"/>
                    </a:lnTo>
                    <a:lnTo>
                      <a:pt x="341" y="533"/>
                    </a:lnTo>
                    <a:lnTo>
                      <a:pt x="295" y="513"/>
                    </a:lnTo>
                    <a:lnTo>
                      <a:pt x="249" y="491"/>
                    </a:lnTo>
                    <a:lnTo>
                      <a:pt x="209" y="467"/>
                    </a:lnTo>
                    <a:lnTo>
                      <a:pt x="169" y="442"/>
                    </a:lnTo>
                    <a:lnTo>
                      <a:pt x="134" y="414"/>
                    </a:lnTo>
                    <a:lnTo>
                      <a:pt x="103" y="387"/>
                    </a:lnTo>
                    <a:lnTo>
                      <a:pt x="74" y="358"/>
                    </a:lnTo>
                    <a:lnTo>
                      <a:pt x="51" y="329"/>
                    </a:lnTo>
                    <a:lnTo>
                      <a:pt x="32" y="301"/>
                    </a:lnTo>
                    <a:lnTo>
                      <a:pt x="23" y="285"/>
                    </a:lnTo>
                    <a:lnTo>
                      <a:pt x="17" y="272"/>
                    </a:lnTo>
                    <a:lnTo>
                      <a:pt x="11" y="256"/>
                    </a:lnTo>
                    <a:lnTo>
                      <a:pt x="6" y="243"/>
                    </a:lnTo>
                    <a:lnTo>
                      <a:pt x="3" y="228"/>
                    </a:lnTo>
                    <a:lnTo>
                      <a:pt x="1" y="212"/>
                    </a:lnTo>
                    <a:lnTo>
                      <a:pt x="0" y="199"/>
                    </a:lnTo>
                    <a:lnTo>
                      <a:pt x="1" y="185"/>
                    </a:lnTo>
                    <a:lnTo>
                      <a:pt x="3" y="170"/>
                    </a:lnTo>
                    <a:lnTo>
                      <a:pt x="6" y="156"/>
                    </a:lnTo>
                    <a:lnTo>
                      <a:pt x="6" y="156"/>
                    </a:lnTo>
                    <a:lnTo>
                      <a:pt x="10" y="143"/>
                    </a:lnTo>
                    <a:lnTo>
                      <a:pt x="17" y="131"/>
                    </a:lnTo>
                    <a:lnTo>
                      <a:pt x="23" y="117"/>
                    </a:lnTo>
                    <a:lnTo>
                      <a:pt x="32" y="105"/>
                    </a:lnTo>
                    <a:lnTo>
                      <a:pt x="40" y="95"/>
                    </a:lnTo>
                    <a:lnTo>
                      <a:pt x="51" y="85"/>
                    </a:lnTo>
                    <a:lnTo>
                      <a:pt x="62" y="75"/>
                    </a:lnTo>
                    <a:lnTo>
                      <a:pt x="76" y="64"/>
                    </a:lnTo>
                    <a:lnTo>
                      <a:pt x="90" y="56"/>
                    </a:lnTo>
                    <a:lnTo>
                      <a:pt x="103" y="47"/>
                    </a:lnTo>
                    <a:lnTo>
                      <a:pt x="136" y="32"/>
                    </a:lnTo>
                    <a:lnTo>
                      <a:pt x="171" y="20"/>
                    </a:lnTo>
                    <a:lnTo>
                      <a:pt x="210" y="12"/>
                    </a:lnTo>
                    <a:lnTo>
                      <a:pt x="251" y="5"/>
                    </a:lnTo>
                    <a:lnTo>
                      <a:pt x="295" y="2"/>
                    </a:lnTo>
                    <a:lnTo>
                      <a:pt x="341" y="0"/>
                    </a:lnTo>
                    <a:lnTo>
                      <a:pt x="390" y="2"/>
                    </a:lnTo>
                    <a:lnTo>
                      <a:pt x="440" y="5"/>
                    </a:lnTo>
                    <a:lnTo>
                      <a:pt x="491" y="13"/>
                    </a:lnTo>
                    <a:lnTo>
                      <a:pt x="543" y="24"/>
                    </a:lnTo>
                    <a:lnTo>
                      <a:pt x="596" y="37"/>
                    </a:lnTo>
                    <a:lnTo>
                      <a:pt x="596" y="37"/>
                    </a:lnTo>
                    <a:lnTo>
                      <a:pt x="649" y="54"/>
                    </a:lnTo>
                    <a:lnTo>
                      <a:pt x="698" y="73"/>
                    </a:lnTo>
                    <a:lnTo>
                      <a:pt x="745" y="93"/>
                    </a:lnTo>
                    <a:lnTo>
                      <a:pt x="790" y="115"/>
                    </a:lnTo>
                    <a:lnTo>
                      <a:pt x="832" y="139"/>
                    </a:lnTo>
                    <a:lnTo>
                      <a:pt x="869" y="165"/>
                    </a:lnTo>
                    <a:lnTo>
                      <a:pt x="905" y="192"/>
                    </a:lnTo>
                    <a:lnTo>
                      <a:pt x="937" y="219"/>
                    </a:lnTo>
                    <a:lnTo>
                      <a:pt x="965" y="248"/>
                    </a:lnTo>
                    <a:lnTo>
                      <a:pt x="988" y="277"/>
                    </a:lnTo>
                    <a:lnTo>
                      <a:pt x="1009" y="306"/>
                    </a:lnTo>
                    <a:lnTo>
                      <a:pt x="1016" y="321"/>
                    </a:lnTo>
                    <a:lnTo>
                      <a:pt x="1022" y="335"/>
                    </a:lnTo>
                    <a:lnTo>
                      <a:pt x="1029" y="350"/>
                    </a:lnTo>
                    <a:lnTo>
                      <a:pt x="1033" y="365"/>
                    </a:lnTo>
                    <a:lnTo>
                      <a:pt x="1036" y="379"/>
                    </a:lnTo>
                    <a:lnTo>
                      <a:pt x="1039" y="394"/>
                    </a:lnTo>
                    <a:lnTo>
                      <a:pt x="1039" y="408"/>
                    </a:lnTo>
                    <a:lnTo>
                      <a:pt x="1039" y="423"/>
                    </a:lnTo>
                    <a:lnTo>
                      <a:pt x="1038" y="436"/>
                    </a:lnTo>
                    <a:lnTo>
                      <a:pt x="1034" y="450"/>
                    </a:lnTo>
                    <a:lnTo>
                      <a:pt x="1034" y="450"/>
                    </a:lnTo>
                    <a:close/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668"/>
              <p:cNvSpPr/>
              <p:nvPr/>
            </p:nvSpPr>
            <p:spPr>
              <a:xfrm>
                <a:off x="793800" y="4559760"/>
                <a:ext cx="145800" cy="1440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749" h="747">
                    <a:moveTo>
                      <a:pt x="12" y="0"/>
                    </a:moveTo>
                    <a:lnTo>
                      <a:pt x="12" y="0"/>
                    </a:lnTo>
                    <a:lnTo>
                      <a:pt x="5" y="25"/>
                    </a:lnTo>
                    <a:lnTo>
                      <a:pt x="2" y="51"/>
                    </a:lnTo>
                    <a:lnTo>
                      <a:pt x="0" y="78"/>
                    </a:lnTo>
                    <a:lnTo>
                      <a:pt x="0" y="105"/>
                    </a:lnTo>
                    <a:lnTo>
                      <a:pt x="3" y="130"/>
                    </a:lnTo>
                    <a:lnTo>
                      <a:pt x="9" y="158"/>
                    </a:lnTo>
                    <a:lnTo>
                      <a:pt x="15" y="185"/>
                    </a:lnTo>
                    <a:lnTo>
                      <a:pt x="26" y="212"/>
                    </a:lnTo>
                    <a:lnTo>
                      <a:pt x="36" y="239"/>
                    </a:lnTo>
                    <a:lnTo>
                      <a:pt x="49" y="266"/>
                    </a:lnTo>
                    <a:lnTo>
                      <a:pt x="65" y="293"/>
                    </a:lnTo>
                    <a:lnTo>
                      <a:pt x="82" y="319"/>
                    </a:lnTo>
                    <a:lnTo>
                      <a:pt x="100" y="346"/>
                    </a:lnTo>
                    <a:lnTo>
                      <a:pt x="122" y="372"/>
                    </a:lnTo>
                    <a:lnTo>
                      <a:pt x="145" y="399"/>
                    </a:lnTo>
                    <a:lnTo>
                      <a:pt x="168" y="424"/>
                    </a:lnTo>
                    <a:lnTo>
                      <a:pt x="194" y="450"/>
                    </a:lnTo>
                    <a:lnTo>
                      <a:pt x="223" y="474"/>
                    </a:lnTo>
                    <a:lnTo>
                      <a:pt x="252" y="497"/>
                    </a:lnTo>
                    <a:lnTo>
                      <a:pt x="282" y="521"/>
                    </a:lnTo>
                    <a:lnTo>
                      <a:pt x="313" y="545"/>
                    </a:lnTo>
                    <a:lnTo>
                      <a:pt x="347" y="567"/>
                    </a:lnTo>
                    <a:lnTo>
                      <a:pt x="382" y="589"/>
                    </a:lnTo>
                    <a:lnTo>
                      <a:pt x="418" y="609"/>
                    </a:lnTo>
                    <a:lnTo>
                      <a:pt x="455" y="630"/>
                    </a:lnTo>
                    <a:lnTo>
                      <a:pt x="494" y="650"/>
                    </a:lnTo>
                    <a:lnTo>
                      <a:pt x="534" y="669"/>
                    </a:lnTo>
                    <a:lnTo>
                      <a:pt x="574" y="686"/>
                    </a:lnTo>
                    <a:lnTo>
                      <a:pt x="617" y="703"/>
                    </a:lnTo>
                    <a:lnTo>
                      <a:pt x="659" y="718"/>
                    </a:lnTo>
                    <a:lnTo>
                      <a:pt x="703" y="733"/>
                    </a:lnTo>
                    <a:lnTo>
                      <a:pt x="749" y="747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669"/>
              <p:cNvSpPr/>
              <p:nvPr/>
            </p:nvSpPr>
            <p:spPr>
              <a:xfrm>
                <a:off x="939960" y="4650120"/>
                <a:ext cx="201600" cy="6444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037" h="337">
                    <a:moveTo>
                      <a:pt x="1037" y="0"/>
                    </a:moveTo>
                    <a:lnTo>
                      <a:pt x="1037" y="0"/>
                    </a:lnTo>
                    <a:lnTo>
                      <a:pt x="1028" y="28"/>
                    </a:lnTo>
                    <a:lnTo>
                      <a:pt x="1016" y="53"/>
                    </a:lnTo>
                    <a:lnTo>
                      <a:pt x="1003" y="79"/>
                    </a:lnTo>
                    <a:lnTo>
                      <a:pt x="987" y="102"/>
                    </a:lnTo>
                    <a:lnTo>
                      <a:pt x="970" y="124"/>
                    </a:lnTo>
                    <a:lnTo>
                      <a:pt x="952" y="146"/>
                    </a:lnTo>
                    <a:lnTo>
                      <a:pt x="931" y="167"/>
                    </a:lnTo>
                    <a:lnTo>
                      <a:pt x="908" y="187"/>
                    </a:lnTo>
                    <a:lnTo>
                      <a:pt x="884" y="206"/>
                    </a:lnTo>
                    <a:lnTo>
                      <a:pt x="858" y="223"/>
                    </a:lnTo>
                    <a:lnTo>
                      <a:pt x="829" y="238"/>
                    </a:lnTo>
                    <a:lnTo>
                      <a:pt x="800" y="254"/>
                    </a:lnTo>
                    <a:lnTo>
                      <a:pt x="770" y="267"/>
                    </a:lnTo>
                    <a:lnTo>
                      <a:pt x="738" y="281"/>
                    </a:lnTo>
                    <a:lnTo>
                      <a:pt x="705" y="293"/>
                    </a:lnTo>
                    <a:lnTo>
                      <a:pt x="670" y="301"/>
                    </a:lnTo>
                    <a:lnTo>
                      <a:pt x="634" y="311"/>
                    </a:lnTo>
                    <a:lnTo>
                      <a:pt x="598" y="318"/>
                    </a:lnTo>
                    <a:lnTo>
                      <a:pt x="559" y="325"/>
                    </a:lnTo>
                    <a:lnTo>
                      <a:pt x="520" y="330"/>
                    </a:lnTo>
                    <a:lnTo>
                      <a:pt x="481" y="333"/>
                    </a:lnTo>
                    <a:lnTo>
                      <a:pt x="440" y="335"/>
                    </a:lnTo>
                    <a:lnTo>
                      <a:pt x="400" y="337"/>
                    </a:lnTo>
                    <a:lnTo>
                      <a:pt x="357" y="335"/>
                    </a:lnTo>
                    <a:lnTo>
                      <a:pt x="315" y="333"/>
                    </a:lnTo>
                    <a:lnTo>
                      <a:pt x="270" y="330"/>
                    </a:lnTo>
                    <a:lnTo>
                      <a:pt x="226" y="325"/>
                    </a:lnTo>
                    <a:lnTo>
                      <a:pt x="182" y="320"/>
                    </a:lnTo>
                    <a:lnTo>
                      <a:pt x="136" y="311"/>
                    </a:lnTo>
                    <a:lnTo>
                      <a:pt x="92" y="303"/>
                    </a:lnTo>
                    <a:lnTo>
                      <a:pt x="46" y="291"/>
                    </a:lnTo>
                    <a:lnTo>
                      <a:pt x="0" y="279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670"/>
              <p:cNvSpPr/>
              <p:nvPr/>
            </p:nvSpPr>
            <p:spPr>
              <a:xfrm>
                <a:off x="739440" y="4666680"/>
                <a:ext cx="174240" cy="136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897" h="710">
                    <a:moveTo>
                      <a:pt x="7" y="0"/>
                    </a:moveTo>
                    <a:lnTo>
                      <a:pt x="7" y="0"/>
                    </a:lnTo>
                    <a:lnTo>
                      <a:pt x="1" y="22"/>
                    </a:lnTo>
                    <a:lnTo>
                      <a:pt x="0" y="44"/>
                    </a:lnTo>
                    <a:lnTo>
                      <a:pt x="0" y="68"/>
                    </a:lnTo>
                    <a:lnTo>
                      <a:pt x="3" y="90"/>
                    </a:lnTo>
                    <a:lnTo>
                      <a:pt x="8" y="113"/>
                    </a:lnTo>
                    <a:lnTo>
                      <a:pt x="15" y="137"/>
                    </a:lnTo>
                    <a:lnTo>
                      <a:pt x="25" y="163"/>
                    </a:lnTo>
                    <a:lnTo>
                      <a:pt x="39" y="187"/>
                    </a:lnTo>
                    <a:lnTo>
                      <a:pt x="54" y="210"/>
                    </a:lnTo>
                    <a:lnTo>
                      <a:pt x="71" y="236"/>
                    </a:lnTo>
                    <a:lnTo>
                      <a:pt x="90" y="260"/>
                    </a:lnTo>
                    <a:lnTo>
                      <a:pt x="112" y="285"/>
                    </a:lnTo>
                    <a:lnTo>
                      <a:pt x="134" y="309"/>
                    </a:lnTo>
                    <a:lnTo>
                      <a:pt x="159" y="334"/>
                    </a:lnTo>
                    <a:lnTo>
                      <a:pt x="188" y="358"/>
                    </a:lnTo>
                    <a:lnTo>
                      <a:pt x="217" y="382"/>
                    </a:lnTo>
                    <a:lnTo>
                      <a:pt x="248" y="407"/>
                    </a:lnTo>
                    <a:lnTo>
                      <a:pt x="280" y="431"/>
                    </a:lnTo>
                    <a:lnTo>
                      <a:pt x="316" y="453"/>
                    </a:lnTo>
                    <a:lnTo>
                      <a:pt x="351" y="477"/>
                    </a:lnTo>
                    <a:lnTo>
                      <a:pt x="389" y="499"/>
                    </a:lnTo>
                    <a:lnTo>
                      <a:pt x="430" y="521"/>
                    </a:lnTo>
                    <a:lnTo>
                      <a:pt x="470" y="543"/>
                    </a:lnTo>
                    <a:lnTo>
                      <a:pt x="513" y="565"/>
                    </a:lnTo>
                    <a:lnTo>
                      <a:pt x="555" y="586"/>
                    </a:lnTo>
                    <a:lnTo>
                      <a:pt x="601" y="606"/>
                    </a:lnTo>
                    <a:lnTo>
                      <a:pt x="647" y="625"/>
                    </a:lnTo>
                    <a:lnTo>
                      <a:pt x="695" y="643"/>
                    </a:lnTo>
                    <a:lnTo>
                      <a:pt x="744" y="662"/>
                    </a:lnTo>
                    <a:lnTo>
                      <a:pt x="793" y="679"/>
                    </a:lnTo>
                    <a:lnTo>
                      <a:pt x="844" y="694"/>
                    </a:lnTo>
                    <a:lnTo>
                      <a:pt x="897" y="710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671"/>
              <p:cNvSpPr/>
              <p:nvPr/>
            </p:nvSpPr>
            <p:spPr>
              <a:xfrm>
                <a:off x="914760" y="4778280"/>
                <a:ext cx="220320" cy="4284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132" h="224">
                    <a:moveTo>
                      <a:pt x="1132" y="0"/>
                    </a:moveTo>
                    <a:lnTo>
                      <a:pt x="1132" y="0"/>
                    </a:lnTo>
                    <a:lnTo>
                      <a:pt x="1125" y="22"/>
                    </a:lnTo>
                    <a:lnTo>
                      <a:pt x="1115" y="43"/>
                    </a:lnTo>
                    <a:lnTo>
                      <a:pt x="1103" y="61"/>
                    </a:lnTo>
                    <a:lnTo>
                      <a:pt x="1087" y="80"/>
                    </a:lnTo>
                    <a:lnTo>
                      <a:pt x="1070" y="97"/>
                    </a:lnTo>
                    <a:lnTo>
                      <a:pt x="1050" y="114"/>
                    </a:lnTo>
                    <a:lnTo>
                      <a:pt x="1030" y="129"/>
                    </a:lnTo>
                    <a:lnTo>
                      <a:pt x="1006" y="143"/>
                    </a:lnTo>
                    <a:lnTo>
                      <a:pt x="980" y="155"/>
                    </a:lnTo>
                    <a:lnTo>
                      <a:pt x="953" y="167"/>
                    </a:lnTo>
                    <a:lnTo>
                      <a:pt x="923" y="179"/>
                    </a:lnTo>
                    <a:lnTo>
                      <a:pt x="892" y="187"/>
                    </a:lnTo>
                    <a:lnTo>
                      <a:pt x="860" y="196"/>
                    </a:lnTo>
                    <a:lnTo>
                      <a:pt x="824" y="204"/>
                    </a:lnTo>
                    <a:lnTo>
                      <a:pt x="788" y="209"/>
                    </a:lnTo>
                    <a:lnTo>
                      <a:pt x="751" y="214"/>
                    </a:lnTo>
                    <a:lnTo>
                      <a:pt x="712" y="219"/>
                    </a:lnTo>
                    <a:lnTo>
                      <a:pt x="671" y="221"/>
                    </a:lnTo>
                    <a:lnTo>
                      <a:pt x="629" y="223"/>
                    </a:lnTo>
                    <a:lnTo>
                      <a:pt x="586" y="224"/>
                    </a:lnTo>
                    <a:lnTo>
                      <a:pt x="542" y="223"/>
                    </a:lnTo>
                    <a:lnTo>
                      <a:pt x="498" y="221"/>
                    </a:lnTo>
                    <a:lnTo>
                      <a:pt x="450" y="218"/>
                    </a:lnTo>
                    <a:lnTo>
                      <a:pt x="405" y="214"/>
                    </a:lnTo>
                    <a:lnTo>
                      <a:pt x="355" y="207"/>
                    </a:lnTo>
                    <a:lnTo>
                      <a:pt x="306" y="202"/>
                    </a:lnTo>
                    <a:lnTo>
                      <a:pt x="257" y="194"/>
                    </a:lnTo>
                    <a:lnTo>
                      <a:pt x="207" y="184"/>
                    </a:lnTo>
                    <a:lnTo>
                      <a:pt x="156" y="173"/>
                    </a:lnTo>
                    <a:lnTo>
                      <a:pt x="106" y="162"/>
                    </a:lnTo>
                    <a:lnTo>
                      <a:pt x="53" y="150"/>
                    </a:lnTo>
                    <a:lnTo>
                      <a:pt x="0" y="134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672"/>
              <p:cNvSpPr/>
              <p:nvPr/>
            </p:nvSpPr>
            <p:spPr>
              <a:xfrm>
                <a:off x="759960" y="4788360"/>
                <a:ext cx="133560" cy="864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688" h="450">
                    <a:moveTo>
                      <a:pt x="4" y="0"/>
                    </a:moveTo>
                    <a:lnTo>
                      <a:pt x="4" y="0"/>
                    </a:lnTo>
                    <a:lnTo>
                      <a:pt x="2" y="11"/>
                    </a:lnTo>
                    <a:lnTo>
                      <a:pt x="0" y="25"/>
                    </a:lnTo>
                    <a:lnTo>
                      <a:pt x="2" y="39"/>
                    </a:lnTo>
                    <a:lnTo>
                      <a:pt x="5" y="51"/>
                    </a:lnTo>
                    <a:lnTo>
                      <a:pt x="10" y="66"/>
                    </a:lnTo>
                    <a:lnTo>
                      <a:pt x="17" y="79"/>
                    </a:lnTo>
                    <a:lnTo>
                      <a:pt x="26" y="93"/>
                    </a:lnTo>
                    <a:lnTo>
                      <a:pt x="36" y="108"/>
                    </a:lnTo>
                    <a:lnTo>
                      <a:pt x="48" y="122"/>
                    </a:lnTo>
                    <a:lnTo>
                      <a:pt x="61" y="137"/>
                    </a:lnTo>
                    <a:lnTo>
                      <a:pt x="94" y="168"/>
                    </a:lnTo>
                    <a:lnTo>
                      <a:pt x="133" y="198"/>
                    </a:lnTo>
                    <a:lnTo>
                      <a:pt x="175" y="229"/>
                    </a:lnTo>
                    <a:lnTo>
                      <a:pt x="224" y="259"/>
                    </a:lnTo>
                    <a:lnTo>
                      <a:pt x="279" y="288"/>
                    </a:lnTo>
                    <a:lnTo>
                      <a:pt x="338" y="319"/>
                    </a:lnTo>
                    <a:lnTo>
                      <a:pt x="401" y="348"/>
                    </a:lnTo>
                    <a:lnTo>
                      <a:pt x="467" y="375"/>
                    </a:lnTo>
                    <a:lnTo>
                      <a:pt x="537" y="400"/>
                    </a:lnTo>
                    <a:lnTo>
                      <a:pt x="612" y="426"/>
                    </a:lnTo>
                    <a:lnTo>
                      <a:pt x="688" y="450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673"/>
              <p:cNvSpPr/>
              <p:nvPr/>
            </p:nvSpPr>
            <p:spPr>
              <a:xfrm>
                <a:off x="892800" y="4875120"/>
                <a:ext cx="137160" cy="205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07" h="107">
                    <a:moveTo>
                      <a:pt x="707" y="73"/>
                    </a:moveTo>
                    <a:lnTo>
                      <a:pt x="707" y="73"/>
                    </a:lnTo>
                    <a:lnTo>
                      <a:pt x="705" y="78"/>
                    </a:lnTo>
                    <a:lnTo>
                      <a:pt x="700" y="83"/>
                    </a:lnTo>
                    <a:lnTo>
                      <a:pt x="695" y="88"/>
                    </a:lnTo>
                    <a:lnTo>
                      <a:pt x="686" y="93"/>
                    </a:lnTo>
                    <a:lnTo>
                      <a:pt x="678" y="97"/>
                    </a:lnTo>
                    <a:lnTo>
                      <a:pt x="668" y="100"/>
                    </a:lnTo>
                    <a:lnTo>
                      <a:pt x="642" y="104"/>
                    </a:lnTo>
                    <a:lnTo>
                      <a:pt x="610" y="107"/>
                    </a:lnTo>
                    <a:lnTo>
                      <a:pt x="574" y="107"/>
                    </a:lnTo>
                    <a:lnTo>
                      <a:pt x="532" y="105"/>
                    </a:lnTo>
                    <a:lnTo>
                      <a:pt x="486" y="100"/>
                    </a:lnTo>
                    <a:lnTo>
                      <a:pt x="437" y="95"/>
                    </a:lnTo>
                    <a:lnTo>
                      <a:pt x="382" y="87"/>
                    </a:lnTo>
                    <a:lnTo>
                      <a:pt x="326" y="76"/>
                    </a:lnTo>
                    <a:lnTo>
                      <a:pt x="265" y="66"/>
                    </a:lnTo>
                    <a:lnTo>
                      <a:pt x="202" y="51"/>
                    </a:lnTo>
                    <a:lnTo>
                      <a:pt x="136" y="36"/>
                    </a:lnTo>
                    <a:lnTo>
                      <a:pt x="70" y="19"/>
                    </a:lnTo>
                    <a:lnTo>
                      <a:pt x="0" y="0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674"/>
              <p:cNvSpPr/>
              <p:nvPr/>
            </p:nvSpPr>
            <p:spPr>
              <a:xfrm flipH="1">
                <a:off x="887760" y="4506480"/>
                <a:ext cx="114480" cy="397800"/>
              </a:xfrm>
              <a:prstGeom prst="line">
                <a:avLst/>
              </a:prstGeom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675"/>
              <p:cNvSpPr/>
              <p:nvPr/>
            </p:nvSpPr>
            <p:spPr>
              <a:xfrm>
                <a:off x="736560" y="4498200"/>
                <a:ext cx="412200" cy="41112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10"/>
                    </a:lnTo>
                    <a:lnTo>
                      <a:pt x="2041" y="1461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50"/>
                    </a:lnTo>
                    <a:lnTo>
                      <a:pt x="1913" y="1692"/>
                    </a:lnTo>
                    <a:lnTo>
                      <a:pt x="1883" y="1733"/>
                    </a:lnTo>
                    <a:lnTo>
                      <a:pt x="1849" y="1774"/>
                    </a:lnTo>
                    <a:lnTo>
                      <a:pt x="1813" y="1811"/>
                    </a:lnTo>
                    <a:lnTo>
                      <a:pt x="1777" y="1847"/>
                    </a:lnTo>
                    <a:lnTo>
                      <a:pt x="1738" y="1881"/>
                    </a:lnTo>
                    <a:lnTo>
                      <a:pt x="1699" y="1913"/>
                    </a:lnTo>
                    <a:lnTo>
                      <a:pt x="1657" y="1944"/>
                    </a:lnTo>
                    <a:lnTo>
                      <a:pt x="1614" y="1971"/>
                    </a:lnTo>
                    <a:lnTo>
                      <a:pt x="1572" y="1998"/>
                    </a:lnTo>
                    <a:lnTo>
                      <a:pt x="1526" y="2022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6" y="2095"/>
                    </a:lnTo>
                    <a:lnTo>
                      <a:pt x="1286" y="2107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1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7"/>
                    </a:lnTo>
                    <a:lnTo>
                      <a:pt x="766" y="2093"/>
                    </a:lnTo>
                    <a:lnTo>
                      <a:pt x="766" y="2093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7"/>
                    </a:lnTo>
                    <a:lnTo>
                      <a:pt x="568" y="2013"/>
                    </a:lnTo>
                    <a:lnTo>
                      <a:pt x="520" y="1988"/>
                    </a:lnTo>
                    <a:lnTo>
                      <a:pt x="476" y="1961"/>
                    </a:lnTo>
                    <a:lnTo>
                      <a:pt x="433" y="1930"/>
                    </a:lnTo>
                    <a:lnTo>
                      <a:pt x="393" y="1899"/>
                    </a:lnTo>
                    <a:lnTo>
                      <a:pt x="354" y="1865"/>
                    </a:lnTo>
                    <a:lnTo>
                      <a:pt x="316" y="1830"/>
                    </a:lnTo>
                    <a:lnTo>
                      <a:pt x="281" y="1794"/>
                    </a:lnTo>
                    <a:lnTo>
                      <a:pt x="247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8"/>
                    </a:lnTo>
                    <a:lnTo>
                      <a:pt x="51" y="1400"/>
                    </a:lnTo>
                    <a:lnTo>
                      <a:pt x="38" y="1351"/>
                    </a:lnTo>
                    <a:lnTo>
                      <a:pt x="24" y="1300"/>
                    </a:lnTo>
                    <a:lnTo>
                      <a:pt x="15" y="1249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2"/>
                    </a:lnTo>
                    <a:lnTo>
                      <a:pt x="4" y="989"/>
                    </a:lnTo>
                    <a:lnTo>
                      <a:pt x="9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7"/>
                    </a:lnTo>
                    <a:lnTo>
                      <a:pt x="41" y="777"/>
                    </a:lnTo>
                    <a:lnTo>
                      <a:pt x="58" y="724"/>
                    </a:lnTo>
                    <a:lnTo>
                      <a:pt x="77" y="673"/>
                    </a:lnTo>
                    <a:lnTo>
                      <a:pt x="99" y="624"/>
                    </a:lnTo>
                    <a:lnTo>
                      <a:pt x="121" y="576"/>
                    </a:lnTo>
                    <a:lnTo>
                      <a:pt x="146" y="529"/>
                    </a:lnTo>
                    <a:lnTo>
                      <a:pt x="175" y="484"/>
                    </a:lnTo>
                    <a:lnTo>
                      <a:pt x="204" y="442"/>
                    </a:lnTo>
                    <a:lnTo>
                      <a:pt x="236" y="399"/>
                    </a:lnTo>
                    <a:lnTo>
                      <a:pt x="269" y="360"/>
                    </a:lnTo>
                    <a:lnTo>
                      <a:pt x="304" y="323"/>
                    </a:lnTo>
                    <a:lnTo>
                      <a:pt x="340" y="286"/>
                    </a:lnTo>
                    <a:lnTo>
                      <a:pt x="379" y="252"/>
                    </a:lnTo>
                    <a:lnTo>
                      <a:pt x="418" y="219"/>
                    </a:lnTo>
                    <a:lnTo>
                      <a:pt x="461" y="190"/>
                    </a:lnTo>
                    <a:lnTo>
                      <a:pt x="503" y="162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2"/>
                    </a:lnTo>
                    <a:lnTo>
                      <a:pt x="732" y="53"/>
                    </a:lnTo>
                    <a:lnTo>
                      <a:pt x="782" y="39"/>
                    </a:lnTo>
                    <a:lnTo>
                      <a:pt x="831" y="26"/>
                    </a:lnTo>
                    <a:lnTo>
                      <a:pt x="882" y="15"/>
                    </a:lnTo>
                    <a:lnTo>
                      <a:pt x="933" y="9"/>
                    </a:lnTo>
                    <a:lnTo>
                      <a:pt x="984" y="4"/>
                    </a:lnTo>
                    <a:lnTo>
                      <a:pt x="1037" y="0"/>
                    </a:lnTo>
                    <a:lnTo>
                      <a:pt x="1087" y="0"/>
                    </a:lnTo>
                    <a:lnTo>
                      <a:pt x="1140" y="4"/>
                    </a:lnTo>
                    <a:lnTo>
                      <a:pt x="1193" y="9"/>
                    </a:lnTo>
                    <a:lnTo>
                      <a:pt x="1245" y="17"/>
                    </a:lnTo>
                    <a:lnTo>
                      <a:pt x="1300" y="27"/>
                    </a:lnTo>
                    <a:lnTo>
                      <a:pt x="1353" y="41"/>
                    </a:lnTo>
                    <a:lnTo>
                      <a:pt x="1353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21"/>
                    </a:lnTo>
                    <a:lnTo>
                      <a:pt x="1597" y="146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5" y="235"/>
                    </a:lnTo>
                    <a:lnTo>
                      <a:pt x="1764" y="269"/>
                    </a:lnTo>
                    <a:lnTo>
                      <a:pt x="1801" y="303"/>
                    </a:lnTo>
                    <a:lnTo>
                      <a:pt x="1837" y="340"/>
                    </a:lnTo>
                    <a:lnTo>
                      <a:pt x="1871" y="379"/>
                    </a:lnTo>
                    <a:lnTo>
                      <a:pt x="1903" y="418"/>
                    </a:lnTo>
                    <a:lnTo>
                      <a:pt x="1932" y="461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9"/>
                    </a:lnTo>
                    <a:lnTo>
                      <a:pt x="2049" y="685"/>
                    </a:lnTo>
                    <a:lnTo>
                      <a:pt x="2066" y="734"/>
                    </a:lnTo>
                    <a:lnTo>
                      <a:pt x="2081" y="783"/>
                    </a:lnTo>
                    <a:lnTo>
                      <a:pt x="2093" y="833"/>
                    </a:lnTo>
                    <a:lnTo>
                      <a:pt x="2103" y="884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1"/>
                    </a:lnTo>
                    <a:lnTo>
                      <a:pt x="2114" y="1145"/>
                    </a:lnTo>
                    <a:lnTo>
                      <a:pt x="2109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676"/>
              <p:cNvSpPr/>
              <p:nvPr/>
            </p:nvSpPr>
            <p:spPr>
              <a:xfrm>
                <a:off x="738000" y="4498560"/>
                <a:ext cx="412200" cy="41112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08"/>
                    </a:lnTo>
                    <a:lnTo>
                      <a:pt x="2040" y="1459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48"/>
                    </a:lnTo>
                    <a:lnTo>
                      <a:pt x="1913" y="1692"/>
                    </a:lnTo>
                    <a:lnTo>
                      <a:pt x="1882" y="1733"/>
                    </a:lnTo>
                    <a:lnTo>
                      <a:pt x="1848" y="1773"/>
                    </a:lnTo>
                    <a:lnTo>
                      <a:pt x="1813" y="1811"/>
                    </a:lnTo>
                    <a:lnTo>
                      <a:pt x="1777" y="1846"/>
                    </a:lnTo>
                    <a:lnTo>
                      <a:pt x="1738" y="1880"/>
                    </a:lnTo>
                    <a:lnTo>
                      <a:pt x="1699" y="1913"/>
                    </a:lnTo>
                    <a:lnTo>
                      <a:pt x="1656" y="1943"/>
                    </a:lnTo>
                    <a:lnTo>
                      <a:pt x="1614" y="1970"/>
                    </a:lnTo>
                    <a:lnTo>
                      <a:pt x="1570" y="1998"/>
                    </a:lnTo>
                    <a:lnTo>
                      <a:pt x="1526" y="2021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5" y="2094"/>
                    </a:lnTo>
                    <a:lnTo>
                      <a:pt x="1286" y="2106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0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5"/>
                    </a:lnTo>
                    <a:lnTo>
                      <a:pt x="766" y="2091"/>
                    </a:lnTo>
                    <a:lnTo>
                      <a:pt x="766" y="2091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5"/>
                    </a:lnTo>
                    <a:lnTo>
                      <a:pt x="566" y="2013"/>
                    </a:lnTo>
                    <a:lnTo>
                      <a:pt x="520" y="1987"/>
                    </a:lnTo>
                    <a:lnTo>
                      <a:pt x="476" y="1959"/>
                    </a:lnTo>
                    <a:lnTo>
                      <a:pt x="433" y="1930"/>
                    </a:lnTo>
                    <a:lnTo>
                      <a:pt x="392" y="1897"/>
                    </a:lnTo>
                    <a:lnTo>
                      <a:pt x="353" y="1865"/>
                    </a:lnTo>
                    <a:lnTo>
                      <a:pt x="316" y="1829"/>
                    </a:lnTo>
                    <a:lnTo>
                      <a:pt x="280" y="1792"/>
                    </a:lnTo>
                    <a:lnTo>
                      <a:pt x="246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7"/>
                    </a:lnTo>
                    <a:lnTo>
                      <a:pt x="51" y="1398"/>
                    </a:lnTo>
                    <a:lnTo>
                      <a:pt x="37" y="1350"/>
                    </a:lnTo>
                    <a:lnTo>
                      <a:pt x="24" y="1299"/>
                    </a:lnTo>
                    <a:lnTo>
                      <a:pt x="15" y="1248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1"/>
                    </a:lnTo>
                    <a:lnTo>
                      <a:pt x="3" y="989"/>
                    </a:lnTo>
                    <a:lnTo>
                      <a:pt x="8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6"/>
                    </a:lnTo>
                    <a:lnTo>
                      <a:pt x="41" y="776"/>
                    </a:lnTo>
                    <a:lnTo>
                      <a:pt x="58" y="724"/>
                    </a:lnTo>
                    <a:lnTo>
                      <a:pt x="76" y="673"/>
                    </a:lnTo>
                    <a:lnTo>
                      <a:pt x="97" y="623"/>
                    </a:lnTo>
                    <a:lnTo>
                      <a:pt x="121" y="574"/>
                    </a:lnTo>
                    <a:lnTo>
                      <a:pt x="146" y="528"/>
                    </a:lnTo>
                    <a:lnTo>
                      <a:pt x="173" y="484"/>
                    </a:lnTo>
                    <a:lnTo>
                      <a:pt x="204" y="440"/>
                    </a:lnTo>
                    <a:lnTo>
                      <a:pt x="234" y="399"/>
                    </a:lnTo>
                    <a:lnTo>
                      <a:pt x="268" y="360"/>
                    </a:lnTo>
                    <a:lnTo>
                      <a:pt x="304" y="321"/>
                    </a:lnTo>
                    <a:lnTo>
                      <a:pt x="340" y="285"/>
                    </a:lnTo>
                    <a:lnTo>
                      <a:pt x="379" y="251"/>
                    </a:lnTo>
                    <a:lnTo>
                      <a:pt x="418" y="219"/>
                    </a:lnTo>
                    <a:lnTo>
                      <a:pt x="460" y="190"/>
                    </a:lnTo>
                    <a:lnTo>
                      <a:pt x="503" y="161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0"/>
                    </a:lnTo>
                    <a:lnTo>
                      <a:pt x="732" y="53"/>
                    </a:lnTo>
                    <a:lnTo>
                      <a:pt x="781" y="39"/>
                    </a:lnTo>
                    <a:lnTo>
                      <a:pt x="831" y="25"/>
                    </a:lnTo>
                    <a:lnTo>
                      <a:pt x="882" y="15"/>
                    </a:lnTo>
                    <a:lnTo>
                      <a:pt x="933" y="8"/>
                    </a:lnTo>
                    <a:lnTo>
                      <a:pt x="984" y="3"/>
                    </a:lnTo>
                    <a:lnTo>
                      <a:pt x="1036" y="0"/>
                    </a:lnTo>
                    <a:lnTo>
                      <a:pt x="1087" y="0"/>
                    </a:lnTo>
                    <a:lnTo>
                      <a:pt x="1140" y="3"/>
                    </a:lnTo>
                    <a:lnTo>
                      <a:pt x="1193" y="8"/>
                    </a:lnTo>
                    <a:lnTo>
                      <a:pt x="1245" y="15"/>
                    </a:lnTo>
                    <a:lnTo>
                      <a:pt x="1298" y="27"/>
                    </a:lnTo>
                    <a:lnTo>
                      <a:pt x="1351" y="41"/>
                    </a:lnTo>
                    <a:lnTo>
                      <a:pt x="1351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19"/>
                    </a:lnTo>
                    <a:lnTo>
                      <a:pt x="1597" y="144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4" y="234"/>
                    </a:lnTo>
                    <a:lnTo>
                      <a:pt x="1763" y="267"/>
                    </a:lnTo>
                    <a:lnTo>
                      <a:pt x="1801" y="302"/>
                    </a:lnTo>
                    <a:lnTo>
                      <a:pt x="1836" y="340"/>
                    </a:lnTo>
                    <a:lnTo>
                      <a:pt x="1870" y="377"/>
                    </a:lnTo>
                    <a:lnTo>
                      <a:pt x="1901" y="418"/>
                    </a:lnTo>
                    <a:lnTo>
                      <a:pt x="1932" y="459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7"/>
                    </a:lnTo>
                    <a:lnTo>
                      <a:pt x="2049" y="684"/>
                    </a:lnTo>
                    <a:lnTo>
                      <a:pt x="2066" y="734"/>
                    </a:lnTo>
                    <a:lnTo>
                      <a:pt x="2079" y="783"/>
                    </a:lnTo>
                    <a:lnTo>
                      <a:pt x="2093" y="832"/>
                    </a:lnTo>
                    <a:lnTo>
                      <a:pt x="2102" y="883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0"/>
                    </a:lnTo>
                    <a:lnTo>
                      <a:pt x="2113" y="1143"/>
                    </a:lnTo>
                    <a:lnTo>
                      <a:pt x="2108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677"/>
              <p:cNvSpPr/>
              <p:nvPr/>
            </p:nvSpPr>
            <p:spPr>
              <a:xfrm>
                <a:off x="759960" y="4537800"/>
                <a:ext cx="312840" cy="255600"/>
              </a:xfrm>
              <a:custGeom>
                <a:avLst/>
                <a:gdLst>
                  <a:gd name="textAreaLeft" fmla="*/ 0 w 312840"/>
                  <a:gd name="textAreaRight" fmla="*/ 313200 w 31284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609" h="1326">
                    <a:moveTo>
                      <a:pt x="0" y="1326"/>
                    </a:moveTo>
                    <a:lnTo>
                      <a:pt x="0" y="1326"/>
                    </a:lnTo>
                    <a:lnTo>
                      <a:pt x="26" y="1243"/>
                    </a:lnTo>
                    <a:lnTo>
                      <a:pt x="53" y="1162"/>
                    </a:lnTo>
                    <a:lnTo>
                      <a:pt x="83" y="1082"/>
                    </a:lnTo>
                    <a:lnTo>
                      <a:pt x="116" y="1005"/>
                    </a:lnTo>
                    <a:lnTo>
                      <a:pt x="151" y="931"/>
                    </a:lnTo>
                    <a:lnTo>
                      <a:pt x="189" y="858"/>
                    </a:lnTo>
                    <a:lnTo>
                      <a:pt x="228" y="786"/>
                    </a:lnTo>
                    <a:lnTo>
                      <a:pt x="269" y="718"/>
                    </a:lnTo>
                    <a:lnTo>
                      <a:pt x="311" y="654"/>
                    </a:lnTo>
                    <a:lnTo>
                      <a:pt x="357" y="591"/>
                    </a:lnTo>
                    <a:lnTo>
                      <a:pt x="403" y="531"/>
                    </a:lnTo>
                    <a:lnTo>
                      <a:pt x="452" y="474"/>
                    </a:lnTo>
                    <a:lnTo>
                      <a:pt x="501" y="419"/>
                    </a:lnTo>
                    <a:lnTo>
                      <a:pt x="552" y="367"/>
                    </a:lnTo>
                    <a:lnTo>
                      <a:pt x="605" y="319"/>
                    </a:lnTo>
                    <a:lnTo>
                      <a:pt x="658" y="273"/>
                    </a:lnTo>
                    <a:lnTo>
                      <a:pt x="714" y="231"/>
                    </a:lnTo>
                    <a:lnTo>
                      <a:pt x="768" y="192"/>
                    </a:lnTo>
                    <a:lnTo>
                      <a:pt x="826" y="156"/>
                    </a:lnTo>
                    <a:lnTo>
                      <a:pt x="884" y="124"/>
                    </a:lnTo>
                    <a:lnTo>
                      <a:pt x="941" y="97"/>
                    </a:lnTo>
                    <a:lnTo>
                      <a:pt x="1001" y="71"/>
                    </a:lnTo>
                    <a:lnTo>
                      <a:pt x="1060" y="49"/>
                    </a:lnTo>
                    <a:lnTo>
                      <a:pt x="1120" y="32"/>
                    </a:lnTo>
                    <a:lnTo>
                      <a:pt x="1181" y="17"/>
                    </a:lnTo>
                    <a:lnTo>
                      <a:pt x="1242" y="8"/>
                    </a:lnTo>
                    <a:lnTo>
                      <a:pt x="1303" y="1"/>
                    </a:lnTo>
                    <a:lnTo>
                      <a:pt x="1334" y="0"/>
                    </a:lnTo>
                    <a:lnTo>
                      <a:pt x="1364" y="0"/>
                    </a:lnTo>
                    <a:lnTo>
                      <a:pt x="1395" y="0"/>
                    </a:lnTo>
                    <a:lnTo>
                      <a:pt x="1425" y="1"/>
                    </a:lnTo>
                    <a:lnTo>
                      <a:pt x="1456" y="5"/>
                    </a:lnTo>
                    <a:lnTo>
                      <a:pt x="1487" y="8"/>
                    </a:lnTo>
                    <a:lnTo>
                      <a:pt x="1517" y="13"/>
                    </a:lnTo>
                    <a:lnTo>
                      <a:pt x="1548" y="18"/>
                    </a:lnTo>
                    <a:lnTo>
                      <a:pt x="1578" y="25"/>
                    </a:lnTo>
                    <a:lnTo>
                      <a:pt x="1609" y="34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678"/>
              <p:cNvSpPr/>
              <p:nvPr/>
            </p:nvSpPr>
            <p:spPr>
              <a:xfrm>
                <a:off x="919800" y="4500000"/>
                <a:ext cx="158760" cy="3718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817" h="1928">
                    <a:moveTo>
                      <a:pt x="730" y="1928"/>
                    </a:moveTo>
                    <a:lnTo>
                      <a:pt x="730" y="1928"/>
                    </a:lnTo>
                    <a:lnTo>
                      <a:pt x="752" y="1845"/>
                    </a:lnTo>
                    <a:lnTo>
                      <a:pt x="771" y="1762"/>
                    </a:lnTo>
                    <a:lnTo>
                      <a:pt x="786" y="1680"/>
                    </a:lnTo>
                    <a:lnTo>
                      <a:pt x="800" y="1599"/>
                    </a:lnTo>
                    <a:lnTo>
                      <a:pt x="808" y="1517"/>
                    </a:lnTo>
                    <a:lnTo>
                      <a:pt x="813" y="1436"/>
                    </a:lnTo>
                    <a:lnTo>
                      <a:pt x="817" y="1358"/>
                    </a:lnTo>
                    <a:lnTo>
                      <a:pt x="815" y="1278"/>
                    </a:lnTo>
                    <a:lnTo>
                      <a:pt x="812" y="1201"/>
                    </a:lnTo>
                    <a:lnTo>
                      <a:pt x="805" y="1125"/>
                    </a:lnTo>
                    <a:lnTo>
                      <a:pt x="796" y="1050"/>
                    </a:lnTo>
                    <a:lnTo>
                      <a:pt x="783" y="977"/>
                    </a:lnTo>
                    <a:lnTo>
                      <a:pt x="768" y="906"/>
                    </a:lnTo>
                    <a:lnTo>
                      <a:pt x="751" y="836"/>
                    </a:lnTo>
                    <a:lnTo>
                      <a:pt x="729" y="767"/>
                    </a:lnTo>
                    <a:lnTo>
                      <a:pt x="706" y="702"/>
                    </a:lnTo>
                    <a:lnTo>
                      <a:pt x="679" y="637"/>
                    </a:lnTo>
                    <a:lnTo>
                      <a:pt x="650" y="575"/>
                    </a:lnTo>
                    <a:lnTo>
                      <a:pt x="620" y="515"/>
                    </a:lnTo>
                    <a:lnTo>
                      <a:pt x="586" y="457"/>
                    </a:lnTo>
                    <a:lnTo>
                      <a:pt x="548" y="403"/>
                    </a:lnTo>
                    <a:lnTo>
                      <a:pt x="511" y="352"/>
                    </a:lnTo>
                    <a:lnTo>
                      <a:pt x="469" y="301"/>
                    </a:lnTo>
                    <a:lnTo>
                      <a:pt x="426" y="255"/>
                    </a:lnTo>
                    <a:lnTo>
                      <a:pt x="380" y="211"/>
                    </a:lnTo>
                    <a:lnTo>
                      <a:pt x="333" y="172"/>
                    </a:lnTo>
                    <a:lnTo>
                      <a:pt x="282" y="135"/>
                    </a:lnTo>
                    <a:lnTo>
                      <a:pt x="229" y="101"/>
                    </a:lnTo>
                    <a:lnTo>
                      <a:pt x="175" y="70"/>
                    </a:lnTo>
                    <a:lnTo>
                      <a:pt x="147" y="56"/>
                    </a:lnTo>
                    <a:lnTo>
                      <a:pt x="119" y="43"/>
                    </a:lnTo>
                    <a:lnTo>
                      <a:pt x="90" y="31"/>
                    </a:lnTo>
                    <a:lnTo>
                      <a:pt x="61" y="19"/>
                    </a:lnTo>
                    <a:lnTo>
                      <a:pt x="30" y="9"/>
                    </a:lnTo>
                    <a:lnTo>
                      <a:pt x="0" y="0"/>
                    </a:lnTo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组合 40"/>
          <p:cNvGrpSpPr/>
          <p:nvPr/>
        </p:nvGrpSpPr>
        <p:grpSpPr>
          <a:xfrm>
            <a:off x="8021880" y="4387680"/>
            <a:ext cx="647280" cy="647280"/>
            <a:chOff x="8021880" y="4387680"/>
            <a:chExt cx="647280" cy="647280"/>
          </a:xfrm>
        </p:grpSpPr>
        <p:sp>
          <p:nvSpPr>
            <p:cNvPr id="186" name="椭圆 41"/>
            <p:cNvSpPr/>
            <p:nvPr/>
          </p:nvSpPr>
          <p:spPr>
            <a:xfrm>
              <a:off x="8021880" y="4387680"/>
              <a:ext cx="647280" cy="64728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Freeform 331"/>
            <p:cNvSpPr/>
            <p:nvPr/>
          </p:nvSpPr>
          <p:spPr>
            <a:xfrm>
              <a:off x="8130960" y="4480200"/>
              <a:ext cx="429120" cy="45720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130" h="1202">
                  <a:moveTo>
                    <a:pt x="830" y="1134"/>
                  </a:moveTo>
                  <a:lnTo>
                    <a:pt x="830" y="1134"/>
                  </a:lnTo>
                  <a:lnTo>
                    <a:pt x="794" y="1150"/>
                  </a:lnTo>
                  <a:lnTo>
                    <a:pt x="758" y="1166"/>
                  </a:lnTo>
                  <a:lnTo>
                    <a:pt x="722" y="1178"/>
                  </a:lnTo>
                  <a:lnTo>
                    <a:pt x="684" y="1186"/>
                  </a:lnTo>
                  <a:lnTo>
                    <a:pt x="646" y="1194"/>
                  </a:lnTo>
                  <a:lnTo>
                    <a:pt x="606" y="1198"/>
                  </a:lnTo>
                  <a:lnTo>
                    <a:pt x="566" y="1202"/>
                  </a:lnTo>
                  <a:lnTo>
                    <a:pt x="522" y="1202"/>
                  </a:lnTo>
                  <a:lnTo>
                    <a:pt x="522" y="1202"/>
                  </a:lnTo>
                  <a:lnTo>
                    <a:pt x="496" y="1202"/>
                  </a:lnTo>
                  <a:lnTo>
                    <a:pt x="470" y="1200"/>
                  </a:lnTo>
                  <a:lnTo>
                    <a:pt x="444" y="1196"/>
                  </a:lnTo>
                  <a:lnTo>
                    <a:pt x="418" y="1192"/>
                  </a:lnTo>
                  <a:lnTo>
                    <a:pt x="394" y="1188"/>
                  </a:lnTo>
                  <a:lnTo>
                    <a:pt x="370" y="1180"/>
                  </a:lnTo>
                  <a:lnTo>
                    <a:pt x="346" y="1174"/>
                  </a:lnTo>
                  <a:lnTo>
                    <a:pt x="322" y="1164"/>
                  </a:lnTo>
                  <a:lnTo>
                    <a:pt x="298" y="1154"/>
                  </a:lnTo>
                  <a:lnTo>
                    <a:pt x="276" y="1144"/>
                  </a:lnTo>
                  <a:lnTo>
                    <a:pt x="254" y="1132"/>
                  </a:lnTo>
                  <a:lnTo>
                    <a:pt x="232" y="1120"/>
                  </a:lnTo>
                  <a:lnTo>
                    <a:pt x="212" y="1106"/>
                  </a:lnTo>
                  <a:lnTo>
                    <a:pt x="192" y="1090"/>
                  </a:lnTo>
                  <a:lnTo>
                    <a:pt x="174" y="1074"/>
                  </a:lnTo>
                  <a:lnTo>
                    <a:pt x="154" y="1058"/>
                  </a:lnTo>
                  <a:lnTo>
                    <a:pt x="138" y="1040"/>
                  </a:lnTo>
                  <a:lnTo>
                    <a:pt x="120" y="1020"/>
                  </a:lnTo>
                  <a:lnTo>
                    <a:pt x="106" y="1000"/>
                  </a:lnTo>
                  <a:lnTo>
                    <a:pt x="90" y="980"/>
                  </a:lnTo>
                  <a:lnTo>
                    <a:pt x="76" y="958"/>
                  </a:lnTo>
                  <a:lnTo>
                    <a:pt x="64" y="936"/>
                  </a:lnTo>
                  <a:lnTo>
                    <a:pt x="52" y="912"/>
                  </a:lnTo>
                  <a:lnTo>
                    <a:pt x="42" y="888"/>
                  </a:lnTo>
                  <a:lnTo>
                    <a:pt x="32" y="862"/>
                  </a:lnTo>
                  <a:lnTo>
                    <a:pt x="24" y="836"/>
                  </a:lnTo>
                  <a:lnTo>
                    <a:pt x="16" y="810"/>
                  </a:lnTo>
                  <a:lnTo>
                    <a:pt x="10" y="782"/>
                  </a:lnTo>
                  <a:lnTo>
                    <a:pt x="6" y="754"/>
                  </a:lnTo>
                  <a:lnTo>
                    <a:pt x="2" y="724"/>
                  </a:lnTo>
                  <a:lnTo>
                    <a:pt x="0" y="694"/>
                  </a:lnTo>
                  <a:lnTo>
                    <a:pt x="0" y="664"/>
                  </a:lnTo>
                  <a:lnTo>
                    <a:pt x="0" y="664"/>
                  </a:lnTo>
                  <a:lnTo>
                    <a:pt x="0" y="630"/>
                  </a:lnTo>
                  <a:lnTo>
                    <a:pt x="2" y="598"/>
                  </a:lnTo>
                  <a:lnTo>
                    <a:pt x="6" y="566"/>
                  </a:lnTo>
                  <a:lnTo>
                    <a:pt x="10" y="532"/>
                  </a:lnTo>
                  <a:lnTo>
                    <a:pt x="18" y="502"/>
                  </a:lnTo>
                  <a:lnTo>
                    <a:pt x="24" y="470"/>
                  </a:lnTo>
                  <a:lnTo>
                    <a:pt x="34" y="440"/>
                  </a:lnTo>
                  <a:lnTo>
                    <a:pt x="44" y="410"/>
                  </a:lnTo>
                  <a:lnTo>
                    <a:pt x="56" y="380"/>
                  </a:lnTo>
                  <a:lnTo>
                    <a:pt x="68" y="352"/>
                  </a:lnTo>
                  <a:lnTo>
                    <a:pt x="82" y="324"/>
                  </a:lnTo>
                  <a:lnTo>
                    <a:pt x="98" y="298"/>
                  </a:lnTo>
                  <a:lnTo>
                    <a:pt x="114" y="272"/>
                  </a:lnTo>
                  <a:lnTo>
                    <a:pt x="132" y="246"/>
                  </a:lnTo>
                  <a:lnTo>
                    <a:pt x="150" y="222"/>
                  </a:lnTo>
                  <a:lnTo>
                    <a:pt x="170" y="198"/>
                  </a:lnTo>
                  <a:lnTo>
                    <a:pt x="192" y="176"/>
                  </a:lnTo>
                  <a:lnTo>
                    <a:pt x="214" y="156"/>
                  </a:lnTo>
                  <a:lnTo>
                    <a:pt x="238" y="136"/>
                  </a:lnTo>
                  <a:lnTo>
                    <a:pt x="262" y="116"/>
                  </a:lnTo>
                  <a:lnTo>
                    <a:pt x="288" y="98"/>
                  </a:lnTo>
                  <a:lnTo>
                    <a:pt x="314" y="82"/>
                  </a:lnTo>
                  <a:lnTo>
                    <a:pt x="342" y="68"/>
                  </a:lnTo>
                  <a:lnTo>
                    <a:pt x="370" y="54"/>
                  </a:lnTo>
                  <a:lnTo>
                    <a:pt x="398" y="42"/>
                  </a:lnTo>
                  <a:lnTo>
                    <a:pt x="430" y="32"/>
                  </a:lnTo>
                  <a:lnTo>
                    <a:pt x="460" y="22"/>
                  </a:lnTo>
                  <a:lnTo>
                    <a:pt x="492" y="14"/>
                  </a:lnTo>
                  <a:lnTo>
                    <a:pt x="526" y="8"/>
                  </a:lnTo>
                  <a:lnTo>
                    <a:pt x="560" y="4"/>
                  </a:lnTo>
                  <a:lnTo>
                    <a:pt x="594" y="2"/>
                  </a:lnTo>
                  <a:lnTo>
                    <a:pt x="630" y="0"/>
                  </a:lnTo>
                  <a:lnTo>
                    <a:pt x="630" y="0"/>
                  </a:lnTo>
                  <a:lnTo>
                    <a:pt x="658" y="2"/>
                  </a:lnTo>
                  <a:lnTo>
                    <a:pt x="684" y="2"/>
                  </a:lnTo>
                  <a:lnTo>
                    <a:pt x="712" y="6"/>
                  </a:lnTo>
                  <a:lnTo>
                    <a:pt x="738" y="10"/>
                  </a:lnTo>
                  <a:lnTo>
                    <a:pt x="762" y="16"/>
                  </a:lnTo>
                  <a:lnTo>
                    <a:pt x="788" y="22"/>
                  </a:lnTo>
                  <a:lnTo>
                    <a:pt x="812" y="30"/>
                  </a:lnTo>
                  <a:lnTo>
                    <a:pt x="834" y="38"/>
                  </a:lnTo>
                  <a:lnTo>
                    <a:pt x="858" y="48"/>
                  </a:lnTo>
                  <a:lnTo>
                    <a:pt x="880" y="58"/>
                  </a:lnTo>
                  <a:lnTo>
                    <a:pt x="900" y="70"/>
                  </a:lnTo>
                  <a:lnTo>
                    <a:pt x="920" y="82"/>
                  </a:lnTo>
                  <a:lnTo>
                    <a:pt x="940" y="96"/>
                  </a:lnTo>
                  <a:lnTo>
                    <a:pt x="958" y="110"/>
                  </a:lnTo>
                  <a:lnTo>
                    <a:pt x="976" y="126"/>
                  </a:lnTo>
                  <a:lnTo>
                    <a:pt x="992" y="142"/>
                  </a:lnTo>
                  <a:lnTo>
                    <a:pt x="1008" y="158"/>
                  </a:lnTo>
                  <a:lnTo>
                    <a:pt x="1024" y="176"/>
                  </a:lnTo>
                  <a:lnTo>
                    <a:pt x="1038" y="196"/>
                  </a:lnTo>
                  <a:lnTo>
                    <a:pt x="1052" y="214"/>
                  </a:lnTo>
                  <a:lnTo>
                    <a:pt x="1064" y="236"/>
                  </a:lnTo>
                  <a:lnTo>
                    <a:pt x="1074" y="256"/>
                  </a:lnTo>
                  <a:lnTo>
                    <a:pt x="1094" y="300"/>
                  </a:lnTo>
                  <a:lnTo>
                    <a:pt x="1110" y="346"/>
                  </a:lnTo>
                  <a:lnTo>
                    <a:pt x="1122" y="396"/>
                  </a:lnTo>
                  <a:lnTo>
                    <a:pt x="1128" y="446"/>
                  </a:lnTo>
                  <a:lnTo>
                    <a:pt x="1130" y="500"/>
                  </a:lnTo>
                  <a:lnTo>
                    <a:pt x="1130" y="500"/>
                  </a:lnTo>
                  <a:lnTo>
                    <a:pt x="1128" y="546"/>
                  </a:lnTo>
                  <a:lnTo>
                    <a:pt x="1124" y="592"/>
                  </a:lnTo>
                  <a:lnTo>
                    <a:pt x="1116" y="634"/>
                  </a:lnTo>
                  <a:lnTo>
                    <a:pt x="1106" y="674"/>
                  </a:lnTo>
                  <a:lnTo>
                    <a:pt x="1092" y="710"/>
                  </a:lnTo>
                  <a:lnTo>
                    <a:pt x="1076" y="744"/>
                  </a:lnTo>
                  <a:lnTo>
                    <a:pt x="1058" y="774"/>
                  </a:lnTo>
                  <a:lnTo>
                    <a:pt x="1038" y="802"/>
                  </a:lnTo>
                  <a:lnTo>
                    <a:pt x="1016" y="828"/>
                  </a:lnTo>
                  <a:lnTo>
                    <a:pt x="992" y="848"/>
                  </a:lnTo>
                  <a:lnTo>
                    <a:pt x="968" y="868"/>
                  </a:lnTo>
                  <a:lnTo>
                    <a:pt x="942" y="882"/>
                  </a:lnTo>
                  <a:lnTo>
                    <a:pt x="914" y="894"/>
                  </a:lnTo>
                  <a:lnTo>
                    <a:pt x="884" y="904"/>
                  </a:lnTo>
                  <a:lnTo>
                    <a:pt x="856" y="908"/>
                  </a:lnTo>
                  <a:lnTo>
                    <a:pt x="824" y="910"/>
                  </a:lnTo>
                  <a:lnTo>
                    <a:pt x="824" y="910"/>
                  </a:lnTo>
                  <a:lnTo>
                    <a:pt x="800" y="908"/>
                  </a:lnTo>
                  <a:lnTo>
                    <a:pt x="788" y="906"/>
                  </a:lnTo>
                  <a:lnTo>
                    <a:pt x="776" y="902"/>
                  </a:lnTo>
                  <a:lnTo>
                    <a:pt x="764" y="896"/>
                  </a:lnTo>
                  <a:lnTo>
                    <a:pt x="754" y="890"/>
                  </a:lnTo>
                  <a:lnTo>
                    <a:pt x="744" y="884"/>
                  </a:lnTo>
                  <a:lnTo>
                    <a:pt x="734" y="874"/>
                  </a:lnTo>
                  <a:lnTo>
                    <a:pt x="726" y="864"/>
                  </a:lnTo>
                  <a:lnTo>
                    <a:pt x="718" y="854"/>
                  </a:lnTo>
                  <a:lnTo>
                    <a:pt x="712" y="842"/>
                  </a:lnTo>
                  <a:lnTo>
                    <a:pt x="706" y="828"/>
                  </a:lnTo>
                  <a:lnTo>
                    <a:pt x="702" y="812"/>
                  </a:lnTo>
                  <a:lnTo>
                    <a:pt x="698" y="796"/>
                  </a:lnTo>
                  <a:lnTo>
                    <a:pt x="698" y="778"/>
                  </a:lnTo>
                  <a:lnTo>
                    <a:pt x="698" y="758"/>
                  </a:lnTo>
                  <a:lnTo>
                    <a:pt x="692" y="758"/>
                  </a:lnTo>
                  <a:lnTo>
                    <a:pt x="692" y="758"/>
                  </a:lnTo>
                  <a:lnTo>
                    <a:pt x="668" y="794"/>
                  </a:lnTo>
                  <a:lnTo>
                    <a:pt x="642" y="826"/>
                  </a:lnTo>
                  <a:lnTo>
                    <a:pt x="614" y="852"/>
                  </a:lnTo>
                  <a:lnTo>
                    <a:pt x="600" y="862"/>
                  </a:lnTo>
                  <a:lnTo>
                    <a:pt x="584" y="872"/>
                  </a:lnTo>
                  <a:lnTo>
                    <a:pt x="570" y="882"/>
                  </a:lnTo>
                  <a:lnTo>
                    <a:pt x="554" y="890"/>
                  </a:lnTo>
                  <a:lnTo>
                    <a:pt x="536" y="896"/>
                  </a:lnTo>
                  <a:lnTo>
                    <a:pt x="520" y="902"/>
                  </a:lnTo>
                  <a:lnTo>
                    <a:pt x="502" y="906"/>
                  </a:lnTo>
                  <a:lnTo>
                    <a:pt x="484" y="908"/>
                  </a:lnTo>
                  <a:lnTo>
                    <a:pt x="466" y="910"/>
                  </a:lnTo>
                  <a:lnTo>
                    <a:pt x="446" y="910"/>
                  </a:lnTo>
                  <a:lnTo>
                    <a:pt x="446" y="910"/>
                  </a:lnTo>
                  <a:lnTo>
                    <a:pt x="428" y="910"/>
                  </a:lnTo>
                  <a:lnTo>
                    <a:pt x="410" y="906"/>
                  </a:lnTo>
                  <a:lnTo>
                    <a:pt x="392" y="902"/>
                  </a:lnTo>
                  <a:lnTo>
                    <a:pt x="376" y="896"/>
                  </a:lnTo>
                  <a:lnTo>
                    <a:pt x="360" y="888"/>
                  </a:lnTo>
                  <a:lnTo>
                    <a:pt x="344" y="878"/>
                  </a:lnTo>
                  <a:lnTo>
                    <a:pt x="330" y="866"/>
                  </a:lnTo>
                  <a:lnTo>
                    <a:pt x="316" y="852"/>
                  </a:lnTo>
                  <a:lnTo>
                    <a:pt x="304" y="838"/>
                  </a:lnTo>
                  <a:lnTo>
                    <a:pt x="292" y="822"/>
                  </a:lnTo>
                  <a:lnTo>
                    <a:pt x="284" y="804"/>
                  </a:lnTo>
                  <a:lnTo>
                    <a:pt x="276" y="784"/>
                  </a:lnTo>
                  <a:lnTo>
                    <a:pt x="268" y="764"/>
                  </a:lnTo>
                  <a:lnTo>
                    <a:pt x="264" y="742"/>
                  </a:lnTo>
                  <a:lnTo>
                    <a:pt x="262" y="718"/>
                  </a:lnTo>
                  <a:lnTo>
                    <a:pt x="260" y="692"/>
                  </a:lnTo>
                  <a:lnTo>
                    <a:pt x="260" y="692"/>
                  </a:lnTo>
                  <a:lnTo>
                    <a:pt x="262" y="654"/>
                  </a:lnTo>
                  <a:lnTo>
                    <a:pt x="268" y="614"/>
                  </a:lnTo>
                  <a:lnTo>
                    <a:pt x="278" y="576"/>
                  </a:lnTo>
                  <a:lnTo>
                    <a:pt x="290" y="538"/>
                  </a:lnTo>
                  <a:lnTo>
                    <a:pt x="306" y="504"/>
                  </a:lnTo>
                  <a:lnTo>
                    <a:pt x="326" y="470"/>
                  </a:lnTo>
                  <a:lnTo>
                    <a:pt x="350" y="438"/>
                  </a:lnTo>
                  <a:lnTo>
                    <a:pt x="374" y="408"/>
                  </a:lnTo>
                  <a:lnTo>
                    <a:pt x="404" y="380"/>
                  </a:lnTo>
                  <a:lnTo>
                    <a:pt x="434" y="356"/>
                  </a:lnTo>
                  <a:lnTo>
                    <a:pt x="468" y="336"/>
                  </a:lnTo>
                  <a:lnTo>
                    <a:pt x="504" y="318"/>
                  </a:lnTo>
                  <a:lnTo>
                    <a:pt x="542" y="304"/>
                  </a:lnTo>
                  <a:lnTo>
                    <a:pt x="582" y="292"/>
                  </a:lnTo>
                  <a:lnTo>
                    <a:pt x="626" y="286"/>
                  </a:lnTo>
                  <a:lnTo>
                    <a:pt x="670" y="284"/>
                  </a:lnTo>
                  <a:lnTo>
                    <a:pt x="670" y="284"/>
                  </a:lnTo>
                  <a:lnTo>
                    <a:pt x="696" y="284"/>
                  </a:lnTo>
                  <a:lnTo>
                    <a:pt x="724" y="286"/>
                  </a:lnTo>
                  <a:lnTo>
                    <a:pt x="750" y="290"/>
                  </a:lnTo>
                  <a:lnTo>
                    <a:pt x="774" y="294"/>
                  </a:lnTo>
                  <a:lnTo>
                    <a:pt x="796" y="300"/>
                  </a:lnTo>
                  <a:lnTo>
                    <a:pt x="818" y="306"/>
                  </a:lnTo>
                  <a:lnTo>
                    <a:pt x="836" y="312"/>
                  </a:lnTo>
                  <a:lnTo>
                    <a:pt x="854" y="320"/>
                  </a:lnTo>
                  <a:lnTo>
                    <a:pt x="798" y="632"/>
                  </a:lnTo>
                  <a:lnTo>
                    <a:pt x="798" y="632"/>
                  </a:lnTo>
                  <a:lnTo>
                    <a:pt x="790" y="678"/>
                  </a:lnTo>
                  <a:lnTo>
                    <a:pt x="786" y="718"/>
                  </a:lnTo>
                  <a:lnTo>
                    <a:pt x="786" y="750"/>
                  </a:lnTo>
                  <a:lnTo>
                    <a:pt x="788" y="766"/>
                  </a:lnTo>
                  <a:lnTo>
                    <a:pt x="792" y="778"/>
                  </a:lnTo>
                  <a:lnTo>
                    <a:pt x="794" y="788"/>
                  </a:lnTo>
                  <a:lnTo>
                    <a:pt x="800" y="798"/>
                  </a:lnTo>
                  <a:lnTo>
                    <a:pt x="806" y="806"/>
                  </a:lnTo>
                  <a:lnTo>
                    <a:pt x="812" y="814"/>
                  </a:lnTo>
                  <a:lnTo>
                    <a:pt x="820" y="818"/>
                  </a:lnTo>
                  <a:lnTo>
                    <a:pt x="828" y="822"/>
                  </a:lnTo>
                  <a:lnTo>
                    <a:pt x="838" y="824"/>
                  </a:lnTo>
                  <a:lnTo>
                    <a:pt x="848" y="826"/>
                  </a:lnTo>
                  <a:lnTo>
                    <a:pt x="848" y="826"/>
                  </a:lnTo>
                  <a:lnTo>
                    <a:pt x="864" y="826"/>
                  </a:lnTo>
                  <a:lnTo>
                    <a:pt x="880" y="822"/>
                  </a:lnTo>
                  <a:lnTo>
                    <a:pt x="898" y="816"/>
                  </a:lnTo>
                  <a:lnTo>
                    <a:pt x="914" y="806"/>
                  </a:lnTo>
                  <a:lnTo>
                    <a:pt x="930" y="794"/>
                  </a:lnTo>
                  <a:lnTo>
                    <a:pt x="946" y="780"/>
                  </a:lnTo>
                  <a:lnTo>
                    <a:pt x="960" y="764"/>
                  </a:lnTo>
                  <a:lnTo>
                    <a:pt x="974" y="744"/>
                  </a:lnTo>
                  <a:lnTo>
                    <a:pt x="986" y="724"/>
                  </a:lnTo>
                  <a:lnTo>
                    <a:pt x="998" y="700"/>
                  </a:lnTo>
                  <a:lnTo>
                    <a:pt x="1008" y="674"/>
                  </a:lnTo>
                  <a:lnTo>
                    <a:pt x="1018" y="644"/>
                  </a:lnTo>
                  <a:lnTo>
                    <a:pt x="1024" y="614"/>
                  </a:lnTo>
                  <a:lnTo>
                    <a:pt x="1030" y="582"/>
                  </a:lnTo>
                  <a:lnTo>
                    <a:pt x="1032" y="548"/>
                  </a:lnTo>
                  <a:lnTo>
                    <a:pt x="1034" y="512"/>
                  </a:lnTo>
                  <a:lnTo>
                    <a:pt x="1034" y="512"/>
                  </a:lnTo>
                  <a:lnTo>
                    <a:pt x="1032" y="466"/>
                  </a:lnTo>
                  <a:lnTo>
                    <a:pt x="1026" y="420"/>
                  </a:lnTo>
                  <a:lnTo>
                    <a:pt x="1018" y="378"/>
                  </a:lnTo>
                  <a:lnTo>
                    <a:pt x="1006" y="338"/>
                  </a:lnTo>
                  <a:lnTo>
                    <a:pt x="990" y="300"/>
                  </a:lnTo>
                  <a:lnTo>
                    <a:pt x="972" y="264"/>
                  </a:lnTo>
                  <a:lnTo>
                    <a:pt x="950" y="232"/>
                  </a:lnTo>
                  <a:lnTo>
                    <a:pt x="926" y="202"/>
                  </a:lnTo>
                  <a:lnTo>
                    <a:pt x="898" y="174"/>
                  </a:lnTo>
                  <a:lnTo>
                    <a:pt x="866" y="150"/>
                  </a:lnTo>
                  <a:lnTo>
                    <a:pt x="832" y="130"/>
                  </a:lnTo>
                  <a:lnTo>
                    <a:pt x="794" y="112"/>
                  </a:lnTo>
                  <a:lnTo>
                    <a:pt x="754" y="98"/>
                  </a:lnTo>
                  <a:lnTo>
                    <a:pt x="710" y="88"/>
                  </a:lnTo>
                  <a:lnTo>
                    <a:pt x="664" y="82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590" y="80"/>
                  </a:lnTo>
                  <a:lnTo>
                    <a:pt x="564" y="82"/>
                  </a:lnTo>
                  <a:lnTo>
                    <a:pt x="538" y="86"/>
                  </a:lnTo>
                  <a:lnTo>
                    <a:pt x="512" y="90"/>
                  </a:lnTo>
                  <a:lnTo>
                    <a:pt x="488" y="96"/>
                  </a:lnTo>
                  <a:lnTo>
                    <a:pt x="464" y="102"/>
                  </a:lnTo>
                  <a:lnTo>
                    <a:pt x="440" y="110"/>
                  </a:lnTo>
                  <a:lnTo>
                    <a:pt x="416" y="120"/>
                  </a:lnTo>
                  <a:lnTo>
                    <a:pt x="394" y="130"/>
                  </a:lnTo>
                  <a:lnTo>
                    <a:pt x="372" y="142"/>
                  </a:lnTo>
                  <a:lnTo>
                    <a:pt x="350" y="156"/>
                  </a:lnTo>
                  <a:lnTo>
                    <a:pt x="328" y="168"/>
                  </a:lnTo>
                  <a:lnTo>
                    <a:pt x="308" y="184"/>
                  </a:lnTo>
                  <a:lnTo>
                    <a:pt x="288" y="200"/>
                  </a:lnTo>
                  <a:lnTo>
                    <a:pt x="270" y="218"/>
                  </a:lnTo>
                  <a:lnTo>
                    <a:pt x="252" y="236"/>
                  </a:lnTo>
                  <a:lnTo>
                    <a:pt x="234" y="254"/>
                  </a:lnTo>
                  <a:lnTo>
                    <a:pt x="218" y="274"/>
                  </a:lnTo>
                  <a:lnTo>
                    <a:pt x="202" y="296"/>
                  </a:lnTo>
                  <a:lnTo>
                    <a:pt x="188" y="318"/>
                  </a:lnTo>
                  <a:lnTo>
                    <a:pt x="174" y="342"/>
                  </a:lnTo>
                  <a:lnTo>
                    <a:pt x="162" y="366"/>
                  </a:lnTo>
                  <a:lnTo>
                    <a:pt x="150" y="390"/>
                  </a:lnTo>
                  <a:lnTo>
                    <a:pt x="140" y="416"/>
                  </a:lnTo>
                  <a:lnTo>
                    <a:pt x="130" y="444"/>
                  </a:lnTo>
                  <a:lnTo>
                    <a:pt x="122" y="472"/>
                  </a:lnTo>
                  <a:lnTo>
                    <a:pt x="114" y="500"/>
                  </a:lnTo>
                  <a:lnTo>
                    <a:pt x="108" y="530"/>
                  </a:lnTo>
                  <a:lnTo>
                    <a:pt x="104" y="560"/>
                  </a:lnTo>
                  <a:lnTo>
                    <a:pt x="100" y="590"/>
                  </a:lnTo>
                  <a:lnTo>
                    <a:pt x="98" y="622"/>
                  </a:lnTo>
                  <a:lnTo>
                    <a:pt x="98" y="654"/>
                  </a:lnTo>
                  <a:lnTo>
                    <a:pt x="98" y="654"/>
                  </a:lnTo>
                  <a:lnTo>
                    <a:pt x="100" y="708"/>
                  </a:lnTo>
                  <a:lnTo>
                    <a:pt x="106" y="758"/>
                  </a:lnTo>
                  <a:lnTo>
                    <a:pt x="116" y="804"/>
                  </a:lnTo>
                  <a:lnTo>
                    <a:pt x="132" y="848"/>
                  </a:lnTo>
                  <a:lnTo>
                    <a:pt x="150" y="890"/>
                  </a:lnTo>
                  <a:lnTo>
                    <a:pt x="170" y="928"/>
                  </a:lnTo>
                  <a:lnTo>
                    <a:pt x="196" y="962"/>
                  </a:lnTo>
                  <a:lnTo>
                    <a:pt x="224" y="994"/>
                  </a:lnTo>
                  <a:lnTo>
                    <a:pt x="256" y="1024"/>
                  </a:lnTo>
                  <a:lnTo>
                    <a:pt x="288" y="1048"/>
                  </a:lnTo>
                  <a:lnTo>
                    <a:pt x="326" y="1070"/>
                  </a:lnTo>
                  <a:lnTo>
                    <a:pt x="364" y="1088"/>
                  </a:lnTo>
                  <a:lnTo>
                    <a:pt x="406" y="1102"/>
                  </a:lnTo>
                  <a:lnTo>
                    <a:pt x="450" y="1112"/>
                  </a:lnTo>
                  <a:lnTo>
                    <a:pt x="494" y="1118"/>
                  </a:lnTo>
                  <a:lnTo>
                    <a:pt x="542" y="1120"/>
                  </a:lnTo>
                  <a:lnTo>
                    <a:pt x="542" y="1120"/>
                  </a:lnTo>
                  <a:lnTo>
                    <a:pt x="578" y="1118"/>
                  </a:lnTo>
                  <a:lnTo>
                    <a:pt x="614" y="1116"/>
                  </a:lnTo>
                  <a:lnTo>
                    <a:pt x="650" y="1110"/>
                  </a:lnTo>
                  <a:lnTo>
                    <a:pt x="684" y="1104"/>
                  </a:lnTo>
                  <a:lnTo>
                    <a:pt x="716" y="1096"/>
                  </a:lnTo>
                  <a:lnTo>
                    <a:pt x="746" y="1086"/>
                  </a:lnTo>
                  <a:lnTo>
                    <a:pt x="776" y="1072"/>
                  </a:lnTo>
                  <a:lnTo>
                    <a:pt x="802" y="1060"/>
                  </a:lnTo>
                  <a:lnTo>
                    <a:pt x="830" y="1134"/>
                  </a:lnTo>
                  <a:close/>
                  <a:moveTo>
                    <a:pt x="736" y="390"/>
                  </a:moveTo>
                  <a:lnTo>
                    <a:pt x="736" y="390"/>
                  </a:lnTo>
                  <a:lnTo>
                    <a:pt x="722" y="384"/>
                  </a:lnTo>
                  <a:lnTo>
                    <a:pt x="702" y="380"/>
                  </a:lnTo>
                  <a:lnTo>
                    <a:pt x="678" y="376"/>
                  </a:lnTo>
                  <a:lnTo>
                    <a:pt x="650" y="376"/>
                  </a:lnTo>
                  <a:lnTo>
                    <a:pt x="650" y="376"/>
                  </a:lnTo>
                  <a:lnTo>
                    <a:pt x="622" y="376"/>
                  </a:lnTo>
                  <a:lnTo>
                    <a:pt x="594" y="382"/>
                  </a:lnTo>
                  <a:lnTo>
                    <a:pt x="568" y="390"/>
                  </a:lnTo>
                  <a:lnTo>
                    <a:pt x="542" y="400"/>
                  </a:lnTo>
                  <a:lnTo>
                    <a:pt x="518" y="414"/>
                  </a:lnTo>
                  <a:lnTo>
                    <a:pt x="496" y="430"/>
                  </a:lnTo>
                  <a:lnTo>
                    <a:pt x="474" y="448"/>
                  </a:lnTo>
                  <a:lnTo>
                    <a:pt x="454" y="468"/>
                  </a:lnTo>
                  <a:lnTo>
                    <a:pt x="436" y="490"/>
                  </a:lnTo>
                  <a:lnTo>
                    <a:pt x="422" y="514"/>
                  </a:lnTo>
                  <a:lnTo>
                    <a:pt x="408" y="540"/>
                  </a:lnTo>
                  <a:lnTo>
                    <a:pt x="396" y="566"/>
                  </a:lnTo>
                  <a:lnTo>
                    <a:pt x="386" y="596"/>
                  </a:lnTo>
                  <a:lnTo>
                    <a:pt x="380" y="624"/>
                  </a:lnTo>
                  <a:lnTo>
                    <a:pt x="376" y="654"/>
                  </a:lnTo>
                  <a:lnTo>
                    <a:pt x="374" y="686"/>
                  </a:lnTo>
                  <a:lnTo>
                    <a:pt x="374" y="686"/>
                  </a:lnTo>
                  <a:lnTo>
                    <a:pt x="376" y="714"/>
                  </a:lnTo>
                  <a:lnTo>
                    <a:pt x="382" y="740"/>
                  </a:lnTo>
                  <a:lnTo>
                    <a:pt x="390" y="762"/>
                  </a:lnTo>
                  <a:lnTo>
                    <a:pt x="396" y="772"/>
                  </a:lnTo>
                  <a:lnTo>
                    <a:pt x="402" y="780"/>
                  </a:lnTo>
                  <a:lnTo>
                    <a:pt x="410" y="788"/>
                  </a:lnTo>
                  <a:lnTo>
                    <a:pt x="418" y="796"/>
                  </a:lnTo>
                  <a:lnTo>
                    <a:pt x="428" y="802"/>
                  </a:lnTo>
                  <a:lnTo>
                    <a:pt x="438" y="808"/>
                  </a:lnTo>
                  <a:lnTo>
                    <a:pt x="450" y="812"/>
                  </a:lnTo>
                  <a:lnTo>
                    <a:pt x="462" y="814"/>
                  </a:lnTo>
                  <a:lnTo>
                    <a:pt x="474" y="816"/>
                  </a:lnTo>
                  <a:lnTo>
                    <a:pt x="488" y="818"/>
                  </a:lnTo>
                  <a:lnTo>
                    <a:pt x="488" y="818"/>
                  </a:lnTo>
                  <a:lnTo>
                    <a:pt x="506" y="816"/>
                  </a:lnTo>
                  <a:lnTo>
                    <a:pt x="526" y="812"/>
                  </a:lnTo>
                  <a:lnTo>
                    <a:pt x="544" y="804"/>
                  </a:lnTo>
                  <a:lnTo>
                    <a:pt x="560" y="796"/>
                  </a:lnTo>
                  <a:lnTo>
                    <a:pt x="578" y="784"/>
                  </a:lnTo>
                  <a:lnTo>
                    <a:pt x="594" y="772"/>
                  </a:lnTo>
                  <a:lnTo>
                    <a:pt x="610" y="756"/>
                  </a:lnTo>
                  <a:lnTo>
                    <a:pt x="624" y="740"/>
                  </a:lnTo>
                  <a:lnTo>
                    <a:pt x="638" y="722"/>
                  </a:lnTo>
                  <a:lnTo>
                    <a:pt x="652" y="704"/>
                  </a:lnTo>
                  <a:lnTo>
                    <a:pt x="664" y="684"/>
                  </a:lnTo>
                  <a:lnTo>
                    <a:pt x="674" y="664"/>
                  </a:lnTo>
                  <a:lnTo>
                    <a:pt x="682" y="644"/>
                  </a:lnTo>
                  <a:lnTo>
                    <a:pt x="690" y="624"/>
                  </a:lnTo>
                  <a:lnTo>
                    <a:pt x="696" y="602"/>
                  </a:lnTo>
                  <a:lnTo>
                    <a:pt x="700" y="582"/>
                  </a:lnTo>
                  <a:lnTo>
                    <a:pt x="736" y="390"/>
                  </a:lnTo>
                  <a:close/>
                </a:path>
              </a:pathLst>
            </a:custGeom>
            <a:solidFill>
              <a:schemeClr val="bg1"/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1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26"/>
          <p:cNvGrpSpPr/>
          <p:nvPr/>
        </p:nvGrpSpPr>
        <p:grpSpPr>
          <a:xfrm>
            <a:off x="4341960" y="1871280"/>
            <a:ext cx="4801680" cy="4030200"/>
            <a:chOff x="4341960" y="1871280"/>
            <a:chExt cx="4801680" cy="4030200"/>
          </a:xfrm>
        </p:grpSpPr>
        <p:sp>
          <p:nvSpPr>
            <p:cNvPr id="189" name="矩形 2"/>
            <p:cNvSpPr/>
            <p:nvPr/>
          </p:nvSpPr>
          <p:spPr>
            <a:xfrm>
              <a:off x="4499640" y="2145600"/>
              <a:ext cx="4644000" cy="1325880"/>
            </a:xfrm>
            <a:prstGeom prst="rect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任意多边形 36"/>
            <p:cNvSpPr/>
            <p:nvPr/>
          </p:nvSpPr>
          <p:spPr>
            <a:xfrm>
              <a:off x="4492800" y="2147400"/>
              <a:ext cx="4644000" cy="761400"/>
            </a:xfrm>
            <a:custGeom>
              <a:avLst/>
              <a:gdLst>
                <a:gd name="textAreaLeft" fmla="*/ 0 w 4644000"/>
                <a:gd name="textAreaRight" fmla="*/ 4644360 w 4644000"/>
                <a:gd name="textAreaTop" fmla="*/ 0 h 761400"/>
                <a:gd name="textAreaBottom" fmla="*/ 761760 h 761400"/>
              </a:gdLst>
              <a:ahLst/>
              <a:rect l="textAreaLeft" t="textAreaTop" r="textAreaRight" b="textAreaBottom"/>
              <a:pathLst>
                <a:path w="4139952" h="964324">
                  <a:moveTo>
                    <a:pt x="0" y="0"/>
                  </a:moveTo>
                  <a:lnTo>
                    <a:pt x="4139952" y="0"/>
                  </a:lnTo>
                  <a:lnTo>
                    <a:pt x="4139952" y="20539"/>
                  </a:lnTo>
                  <a:lnTo>
                    <a:pt x="4014056" y="159060"/>
                  </a:lnTo>
                  <a:cubicBezTo>
                    <a:pt x="3516522" y="656593"/>
                    <a:pt x="2829186" y="964324"/>
                    <a:pt x="2069976" y="964324"/>
                  </a:cubicBezTo>
                  <a:cubicBezTo>
                    <a:pt x="1310766" y="964324"/>
                    <a:pt x="623430" y="656593"/>
                    <a:pt x="125897" y="159060"/>
                  </a:cubicBezTo>
                  <a:lnTo>
                    <a:pt x="0" y="20539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  <a:effectLst>
              <a:outerShdw algn="t" blurRad="165240" dir="5400000" dist="7632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lt1"/>
                  </a:solidFill>
                  <a:latin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图片 25" descr=""/>
            <p:cNvPicPr/>
            <p:nvPr/>
          </p:nvPicPr>
          <p:blipFill>
            <a:blip r:embed="rId1"/>
            <a:stretch/>
          </p:blipFill>
          <p:spPr>
            <a:xfrm>
              <a:off x="4499640" y="1871280"/>
              <a:ext cx="455544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矩形 52"/>
            <p:cNvSpPr/>
            <p:nvPr/>
          </p:nvSpPr>
          <p:spPr>
            <a:xfrm>
              <a:off x="4499640" y="4782600"/>
              <a:ext cx="4644000" cy="93204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椭圆 55"/>
            <p:cNvSpPr/>
            <p:nvPr/>
          </p:nvSpPr>
          <p:spPr>
            <a:xfrm>
              <a:off x="6391800" y="303912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4" name="椭圆 63"/>
            <p:cNvSpPr/>
            <p:nvPr/>
          </p:nvSpPr>
          <p:spPr>
            <a:xfrm>
              <a:off x="7575840" y="302004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5" name="椭圆 64"/>
            <p:cNvSpPr/>
            <p:nvPr/>
          </p:nvSpPr>
          <p:spPr>
            <a:xfrm>
              <a:off x="5733720" y="444168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椭圆 65"/>
            <p:cNvSpPr/>
            <p:nvPr/>
          </p:nvSpPr>
          <p:spPr>
            <a:xfrm>
              <a:off x="7176960" y="444168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椭圆 54"/>
            <p:cNvSpPr/>
            <p:nvPr/>
          </p:nvSpPr>
          <p:spPr>
            <a:xfrm>
              <a:off x="5148000" y="302004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8" name="文本框 57"/>
            <p:cNvSpPr/>
            <p:nvPr/>
          </p:nvSpPr>
          <p:spPr>
            <a:xfrm>
              <a:off x="5303880" y="3179520"/>
              <a:ext cx="8589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回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策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41"/>
            <p:cNvSpPr/>
            <p:nvPr/>
          </p:nvSpPr>
          <p:spPr>
            <a:xfrm>
              <a:off x="6585840" y="3197880"/>
              <a:ext cx="8589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竞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策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44"/>
            <p:cNvSpPr/>
            <p:nvPr/>
          </p:nvSpPr>
          <p:spPr>
            <a:xfrm>
              <a:off x="7760160" y="3177360"/>
              <a:ext cx="8589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妥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策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7"/>
            <p:cNvSpPr/>
            <p:nvPr/>
          </p:nvSpPr>
          <p:spPr>
            <a:xfrm>
              <a:off x="5906520" y="4610160"/>
              <a:ext cx="8589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迁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策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50"/>
            <p:cNvSpPr/>
            <p:nvPr/>
          </p:nvSpPr>
          <p:spPr>
            <a:xfrm>
              <a:off x="7339680" y="4610880"/>
              <a:ext cx="8589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协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1">
                      <a:lumMod val="50000"/>
                    </a:schemeClr>
                  </a:solidFill>
                  <a:latin typeface="微软雅黑"/>
                  <a:ea typeface="微软雅黑"/>
                </a:rPr>
                <a:t>策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3" descr=""/>
            <p:cNvPicPr/>
            <p:nvPr/>
          </p:nvPicPr>
          <p:blipFill>
            <a:blip r:embed="rId2"/>
            <a:srcRect l="2757" t="0" r="7208" b="57688"/>
            <a:stretch/>
          </p:blipFill>
          <p:spPr>
            <a:xfrm flipH="1" rot="16200000">
              <a:off x="2494440" y="3895200"/>
              <a:ext cx="38534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五边形 7"/>
          <p:cNvSpPr/>
          <p:nvPr/>
        </p:nvSpPr>
        <p:spPr>
          <a:xfrm>
            <a:off x="304920" y="0"/>
            <a:ext cx="1079640" cy="964080"/>
          </a:xfrm>
          <a:prstGeom prst="homePlate">
            <a:avLst>
              <a:gd name="adj" fmla="val 50000"/>
            </a:avLst>
          </a:prstGeom>
          <a:solidFill>
            <a:schemeClr val="accent1">
              <a:lumMod val="50000"/>
            </a:schemeClr>
          </a:solidFill>
          <a:ln>
            <a:noFill/>
          </a:ln>
          <a:effectLst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五边形 9"/>
          <p:cNvSpPr/>
          <p:nvPr/>
        </p:nvSpPr>
        <p:spPr>
          <a:xfrm>
            <a:off x="304920" y="96444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五边形 10"/>
          <p:cNvSpPr/>
          <p:nvPr/>
        </p:nvSpPr>
        <p:spPr>
          <a:xfrm>
            <a:off x="304920" y="192852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五边形 11"/>
          <p:cNvSpPr/>
          <p:nvPr/>
        </p:nvSpPr>
        <p:spPr>
          <a:xfrm>
            <a:off x="304920" y="289296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五边形 12"/>
          <p:cNvSpPr/>
          <p:nvPr/>
        </p:nvSpPr>
        <p:spPr>
          <a:xfrm>
            <a:off x="304920" y="379260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五边形 13"/>
          <p:cNvSpPr/>
          <p:nvPr/>
        </p:nvSpPr>
        <p:spPr>
          <a:xfrm>
            <a:off x="304920" y="475056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文本框 8"/>
          <p:cNvSpPr/>
          <p:nvPr/>
        </p:nvSpPr>
        <p:spPr>
          <a:xfrm>
            <a:off x="432720" y="9756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5"/>
          <p:cNvGrpSpPr/>
          <p:nvPr/>
        </p:nvGrpSpPr>
        <p:grpSpPr>
          <a:xfrm>
            <a:off x="0" y="0"/>
            <a:ext cx="304560" cy="5714640"/>
            <a:chOff x="0" y="0"/>
            <a:chExt cx="304560" cy="5714640"/>
          </a:xfrm>
        </p:grpSpPr>
        <p:sp>
          <p:nvSpPr>
            <p:cNvPr id="212" name="矩形 16"/>
            <p:cNvSpPr/>
            <p:nvPr/>
          </p:nvSpPr>
          <p:spPr>
            <a:xfrm>
              <a:off x="0" y="1626840"/>
              <a:ext cx="304560" cy="40878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矩形 17"/>
            <p:cNvSpPr/>
            <p:nvPr/>
          </p:nvSpPr>
          <p:spPr>
            <a:xfrm>
              <a:off x="0" y="766080"/>
              <a:ext cx="304560" cy="3974400"/>
            </a:xfrm>
            <a:prstGeom prst="rect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4" name="图片 1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04560" cy="31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文本框 19"/>
          <p:cNvSpPr/>
          <p:nvPr/>
        </p:nvSpPr>
        <p:spPr>
          <a:xfrm>
            <a:off x="7551000" y="3834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谈判风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8"/>
          <p:cNvSpPr/>
          <p:nvPr/>
        </p:nvSpPr>
        <p:spPr>
          <a:xfrm>
            <a:off x="6451560" y="1340640"/>
            <a:ext cx="12783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开始学习谈判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要好好认识一下自己，对你来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哪种策略是你最自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最乐于采用的呢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2"/>
          <p:cNvSpPr/>
          <p:nvPr/>
        </p:nvSpPr>
        <p:spPr>
          <a:xfrm>
            <a:off x="1603080" y="1732320"/>
            <a:ext cx="199080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具备做好谈判</a:t>
            </a:r>
            <a:r>
              <a:rPr b="1" lang="zh-CN" sz="28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准备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的意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设定</a:t>
            </a:r>
            <a:r>
              <a:rPr b="1" lang="zh-CN" sz="28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高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期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1" lang="en-US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耐心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去倾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信守人格</a:t>
            </a:r>
            <a:r>
              <a:rPr b="1" lang="zh-CN" sz="28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正直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的承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接连接符 66"/>
          <p:cNvCxnSpPr/>
          <p:nvPr/>
        </p:nvCxnSpPr>
        <p:spPr>
          <a:xfrm>
            <a:off x="4499280" y="955080"/>
            <a:ext cx="4492440" cy="360"/>
          </a:xfrm>
          <a:prstGeom prst="straightConnector1">
            <a:avLst/>
          </a:prstGeom>
          <a:ln w="12700">
            <a:solidFill>
              <a:srgbClr val="00336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圆角矩形 22"/>
          <p:cNvSpPr/>
          <p:nvPr/>
        </p:nvSpPr>
        <p:spPr>
          <a:xfrm>
            <a:off x="5421240" y="2048040"/>
            <a:ext cx="3300120" cy="33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>
            <a:solidFill>
              <a:srgbClr val="ffffff"/>
            </a:solidFill>
          </a:ln>
          <a:effectLst>
            <a:outerShdw algn="tr" blurRad="127080" dir="8169207" dist="3793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rgbClr val="4bc1dc"/>
              </a:solidFill>
              <a:latin typeface="Calibri"/>
            </a:endParaRPr>
          </a:p>
        </p:txBody>
      </p:sp>
      <p:sp>
        <p:nvSpPr>
          <p:cNvPr id="220" name="五边形 7"/>
          <p:cNvSpPr/>
          <p:nvPr/>
        </p:nvSpPr>
        <p:spPr>
          <a:xfrm>
            <a:off x="304920" y="964440"/>
            <a:ext cx="1079640" cy="964080"/>
          </a:xfrm>
          <a:prstGeom prst="homePlate">
            <a:avLst>
              <a:gd name="adj" fmla="val 50000"/>
            </a:avLst>
          </a:prstGeom>
          <a:solidFill>
            <a:schemeClr val="accent1">
              <a:lumMod val="50000"/>
            </a:schemeClr>
          </a:solidFill>
          <a:ln>
            <a:noFill/>
          </a:ln>
          <a:effectLst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五边形 9"/>
          <p:cNvSpPr/>
          <p:nvPr/>
        </p:nvSpPr>
        <p:spPr>
          <a:xfrm>
            <a:off x="304920" y="36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五边形 10"/>
          <p:cNvSpPr/>
          <p:nvPr/>
        </p:nvSpPr>
        <p:spPr>
          <a:xfrm>
            <a:off x="304920" y="192852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五边形 11"/>
          <p:cNvSpPr/>
          <p:nvPr/>
        </p:nvSpPr>
        <p:spPr>
          <a:xfrm>
            <a:off x="304920" y="289296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五边形 12"/>
          <p:cNvSpPr/>
          <p:nvPr/>
        </p:nvSpPr>
        <p:spPr>
          <a:xfrm>
            <a:off x="304920" y="379260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五边形 13"/>
          <p:cNvSpPr/>
          <p:nvPr/>
        </p:nvSpPr>
        <p:spPr>
          <a:xfrm>
            <a:off x="304920" y="475056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文本框 8"/>
          <p:cNvSpPr/>
          <p:nvPr/>
        </p:nvSpPr>
        <p:spPr>
          <a:xfrm>
            <a:off x="432720" y="106200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五边形 14"/>
          <p:cNvSpPr/>
          <p:nvPr/>
        </p:nvSpPr>
        <p:spPr>
          <a:xfrm>
            <a:off x="304920" y="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8" name="组合 15"/>
          <p:cNvGrpSpPr/>
          <p:nvPr/>
        </p:nvGrpSpPr>
        <p:grpSpPr>
          <a:xfrm>
            <a:off x="0" y="0"/>
            <a:ext cx="304560" cy="5714640"/>
            <a:chOff x="0" y="0"/>
            <a:chExt cx="304560" cy="5714640"/>
          </a:xfrm>
        </p:grpSpPr>
        <p:sp>
          <p:nvSpPr>
            <p:cNvPr id="229" name="矩形 16"/>
            <p:cNvSpPr/>
            <p:nvPr/>
          </p:nvSpPr>
          <p:spPr>
            <a:xfrm>
              <a:off x="0" y="1626840"/>
              <a:ext cx="304560" cy="40878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矩形 17"/>
            <p:cNvSpPr/>
            <p:nvPr/>
          </p:nvSpPr>
          <p:spPr>
            <a:xfrm>
              <a:off x="0" y="766080"/>
              <a:ext cx="304560" cy="3974400"/>
            </a:xfrm>
            <a:prstGeom prst="rect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31" name="图片 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04560" cy="31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文本框 20"/>
          <p:cNvSpPr/>
          <p:nvPr/>
        </p:nvSpPr>
        <p:spPr>
          <a:xfrm>
            <a:off x="2163600" y="2402280"/>
            <a:ext cx="205200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仔细思考你真正想要的是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制定一个乐观、合理的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目标要具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写下你的目标，并且坚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带着你的目标进入到谈判中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44"/>
          <p:cNvSpPr/>
          <p:nvPr/>
        </p:nvSpPr>
        <p:spPr>
          <a:xfrm>
            <a:off x="2150280" y="362880"/>
            <a:ext cx="3323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IF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没有瞄准，将永远无法实现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rcRect l="2757" t="0" r="7208" b="57688"/>
          <a:stretch/>
        </p:blipFill>
        <p:spPr>
          <a:xfrm flipH="1" rot="10800000">
            <a:off x="1733760" y="1911600"/>
            <a:ext cx="3141360" cy="129240"/>
          </a:xfrm>
          <a:prstGeom prst="rect">
            <a:avLst/>
          </a:prstGeom>
          <a:ln w="0">
            <a:noFill/>
          </a:ln>
        </p:spPr>
      </p:pic>
      <p:grpSp>
        <p:nvGrpSpPr>
          <p:cNvPr id="235" name="组合 3"/>
          <p:cNvGrpSpPr/>
          <p:nvPr/>
        </p:nvGrpSpPr>
        <p:grpSpPr>
          <a:xfrm>
            <a:off x="5891760" y="2569320"/>
            <a:ext cx="2352600" cy="2351520"/>
            <a:chOff x="5891760" y="2569320"/>
            <a:chExt cx="2352600" cy="2351520"/>
          </a:xfrm>
        </p:grpSpPr>
        <p:grpSp>
          <p:nvGrpSpPr>
            <p:cNvPr id="236" name="组合 45"/>
            <p:cNvGrpSpPr/>
            <p:nvPr/>
          </p:nvGrpSpPr>
          <p:grpSpPr>
            <a:xfrm>
              <a:off x="5891760" y="2569320"/>
              <a:ext cx="2352600" cy="2351520"/>
              <a:chOff x="5891760" y="2569320"/>
              <a:chExt cx="2352600" cy="2351520"/>
            </a:xfrm>
          </p:grpSpPr>
          <p:sp>
            <p:nvSpPr>
              <p:cNvPr id="237" name="任意多边形 42"/>
              <p:cNvSpPr/>
              <p:nvPr/>
            </p:nvSpPr>
            <p:spPr>
              <a:xfrm>
                <a:off x="6361920" y="3040920"/>
                <a:ext cx="1411560" cy="1408320"/>
              </a:xfrm>
              <a:custGeom>
                <a:avLst/>
                <a:gdLst>
                  <a:gd name="textAreaLeft" fmla="*/ 0 w 1411560"/>
                  <a:gd name="textAreaRight" fmla="*/ 1411920 w 1411560"/>
                  <a:gd name="textAreaTop" fmla="*/ 0 h 1408320"/>
                  <a:gd name="textAreaBottom" fmla="*/ 1408680 h 1408320"/>
                </a:gdLst>
                <a:ahLst/>
                <a:rect l="textAreaLeft" t="textAreaTop" r="textAreaRight" b="textAreaBottom"/>
                <a:pathLst>
                  <a:path w="1565011" h="1561367">
                    <a:moveTo>
                      <a:pt x="1318211" y="784392"/>
                    </a:moveTo>
                    <a:lnTo>
                      <a:pt x="1565011" y="784392"/>
                    </a:lnTo>
                    <a:lnTo>
                      <a:pt x="1549483" y="938432"/>
                    </a:lnTo>
                    <a:cubicBezTo>
                      <a:pt x="1485623" y="1250510"/>
                      <a:pt x="1236031" y="1494930"/>
                      <a:pt x="921242" y="1551159"/>
                    </a:cubicBezTo>
                    <a:lnTo>
                      <a:pt x="805549" y="1561367"/>
                    </a:lnTo>
                    <a:lnTo>
                      <a:pt x="805549" y="1314568"/>
                    </a:lnTo>
                    <a:lnTo>
                      <a:pt x="877554" y="1308215"/>
                    </a:lnTo>
                    <a:cubicBezTo>
                      <a:pt x="1093083" y="1269716"/>
                      <a:pt x="1263974" y="1102366"/>
                      <a:pt x="1307697" y="888693"/>
                    </a:cubicBezTo>
                    <a:close/>
                    <a:moveTo>
                      <a:pt x="0" y="780691"/>
                    </a:moveTo>
                    <a:lnTo>
                      <a:pt x="246798" y="780691"/>
                    </a:lnTo>
                    <a:lnTo>
                      <a:pt x="246798" y="780692"/>
                    </a:lnTo>
                    <a:cubicBezTo>
                      <a:pt x="246798" y="1039662"/>
                      <a:pt x="430492" y="1255728"/>
                      <a:pt x="674690" y="1305698"/>
                    </a:cubicBezTo>
                    <a:lnTo>
                      <a:pt x="759830" y="1314281"/>
                    </a:lnTo>
                    <a:lnTo>
                      <a:pt x="759830" y="1561079"/>
                    </a:lnTo>
                    <a:lnTo>
                      <a:pt x="624952" y="1547483"/>
                    </a:lnTo>
                    <a:cubicBezTo>
                      <a:pt x="268293" y="1474500"/>
                      <a:pt x="0" y="1158928"/>
                      <a:pt x="0" y="780692"/>
                    </a:cubicBezTo>
                    <a:close/>
                    <a:moveTo>
                      <a:pt x="759645" y="34"/>
                    </a:moveTo>
                    <a:lnTo>
                      <a:pt x="759645" y="246833"/>
                    </a:lnTo>
                    <a:lnTo>
                      <a:pt x="687829" y="253169"/>
                    </a:lnTo>
                    <a:cubicBezTo>
                      <a:pt x="472300" y="291668"/>
                      <a:pt x="301410" y="459018"/>
                      <a:pt x="257686" y="672691"/>
                    </a:cubicBezTo>
                    <a:lnTo>
                      <a:pt x="251407" y="734972"/>
                    </a:lnTo>
                    <a:lnTo>
                      <a:pt x="4609" y="734972"/>
                    </a:lnTo>
                    <a:lnTo>
                      <a:pt x="15902" y="622952"/>
                    </a:lnTo>
                    <a:cubicBezTo>
                      <a:pt x="79762" y="310875"/>
                      <a:pt x="329355" y="66454"/>
                      <a:pt x="644143" y="10225"/>
                    </a:cubicBezTo>
                    <a:close/>
                    <a:moveTo>
                      <a:pt x="805364" y="0"/>
                    </a:moveTo>
                    <a:lnTo>
                      <a:pt x="921242" y="10225"/>
                    </a:lnTo>
                    <a:cubicBezTo>
                      <a:pt x="1236031" y="66454"/>
                      <a:pt x="1485623" y="310875"/>
                      <a:pt x="1549483" y="622952"/>
                    </a:cubicBezTo>
                    <a:lnTo>
                      <a:pt x="1561148" y="738673"/>
                    </a:lnTo>
                    <a:lnTo>
                      <a:pt x="1314348" y="738673"/>
                    </a:lnTo>
                    <a:lnTo>
                      <a:pt x="1307697" y="672691"/>
                    </a:lnTo>
                    <a:cubicBezTo>
                      <a:pt x="1263974" y="459018"/>
                      <a:pt x="1093083" y="291668"/>
                      <a:pt x="877554" y="253169"/>
                    </a:cubicBezTo>
                    <a:lnTo>
                      <a:pt x="805364" y="246800"/>
                    </a:lnTo>
                    <a:close/>
                  </a:path>
                </a:pathLst>
              </a:cu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任意多边形 43"/>
              <p:cNvSpPr/>
              <p:nvPr/>
            </p:nvSpPr>
            <p:spPr>
              <a:xfrm>
                <a:off x="5891760" y="2569320"/>
                <a:ext cx="2352600" cy="2351520"/>
              </a:xfrm>
              <a:custGeom>
                <a:avLst/>
                <a:gdLst>
                  <a:gd name="textAreaLeft" fmla="*/ 0 w 2352600"/>
                  <a:gd name="textAreaRight" fmla="*/ 2352960 w 2352600"/>
                  <a:gd name="textAreaTop" fmla="*/ 0 h 2351520"/>
                  <a:gd name="textAreaBottom" fmla="*/ 2351880 h 2351520"/>
                </a:gdLst>
                <a:ahLst/>
                <a:rect l="textAreaLeft" t="textAreaTop" r="textAreaRight" b="textAreaBottom"/>
                <a:pathLst>
                  <a:path w="2607795" h="2606808">
                    <a:moveTo>
                      <a:pt x="0" y="1316849"/>
                    </a:moveTo>
                    <a:lnTo>
                      <a:pt x="225345" y="1316849"/>
                    </a:lnTo>
                    <a:lnTo>
                      <a:pt x="243395" y="1507808"/>
                    </a:lnTo>
                    <a:cubicBezTo>
                      <a:pt x="332166" y="1971113"/>
                      <a:pt x="717027" y="2329221"/>
                      <a:pt x="1193449" y="2377604"/>
                    </a:cubicBezTo>
                    <a:lnTo>
                      <a:pt x="1280987" y="2382025"/>
                    </a:lnTo>
                    <a:lnTo>
                      <a:pt x="1280987" y="2606736"/>
                    </a:lnTo>
                    <a:lnTo>
                      <a:pt x="1170473" y="2601155"/>
                    </a:lnTo>
                    <a:cubicBezTo>
                      <a:pt x="553791" y="2538528"/>
                      <a:pt x="64092" y="2046356"/>
                      <a:pt x="5289" y="1428550"/>
                    </a:cubicBezTo>
                    <a:close/>
                    <a:moveTo>
                      <a:pt x="2382546" y="1314096"/>
                    </a:moveTo>
                    <a:lnTo>
                      <a:pt x="2607795" y="1314096"/>
                    </a:lnTo>
                    <a:lnTo>
                      <a:pt x="2601600" y="1436780"/>
                    </a:lnTo>
                    <a:cubicBezTo>
                      <a:pt x="2538973" y="2053463"/>
                      <a:pt x="2046801" y="2543161"/>
                      <a:pt x="1428995" y="2601965"/>
                    </a:cubicBezTo>
                    <a:lnTo>
                      <a:pt x="1326706" y="2606808"/>
                    </a:lnTo>
                    <a:lnTo>
                      <a:pt x="1326706" y="2381162"/>
                    </a:lnTo>
                    <a:lnTo>
                      <a:pt x="1494987" y="2366314"/>
                    </a:lnTo>
                    <a:cubicBezTo>
                      <a:pt x="1929258" y="2288743"/>
                      <a:pt x="2273588" y="1951548"/>
                      <a:pt x="2361687" y="1521016"/>
                    </a:cubicBezTo>
                    <a:close/>
                    <a:moveTo>
                      <a:pt x="1280987" y="1"/>
                    </a:moveTo>
                    <a:lnTo>
                      <a:pt x="1280987" y="225790"/>
                    </a:lnTo>
                    <a:lnTo>
                      <a:pt x="1099446" y="242950"/>
                    </a:lnTo>
                    <a:cubicBezTo>
                      <a:pt x="636141" y="331721"/>
                      <a:pt x="278032" y="716581"/>
                      <a:pt x="229649" y="1193003"/>
                    </a:cubicBezTo>
                    <a:lnTo>
                      <a:pt x="225704" y="1271130"/>
                    </a:lnTo>
                    <a:lnTo>
                      <a:pt x="993" y="1271130"/>
                    </a:lnTo>
                    <a:lnTo>
                      <a:pt x="6098" y="1170028"/>
                    </a:lnTo>
                    <a:cubicBezTo>
                      <a:pt x="68726" y="553345"/>
                      <a:pt x="560897" y="63647"/>
                      <a:pt x="1178703" y="4843"/>
                    </a:cubicBezTo>
                    <a:close/>
                    <a:moveTo>
                      <a:pt x="1326706" y="0"/>
                    </a:moveTo>
                    <a:lnTo>
                      <a:pt x="1428996" y="4843"/>
                    </a:lnTo>
                    <a:cubicBezTo>
                      <a:pt x="2046801" y="63647"/>
                      <a:pt x="2538973" y="553345"/>
                      <a:pt x="2601600" y="1170028"/>
                    </a:cubicBezTo>
                    <a:lnTo>
                      <a:pt x="2606567" y="1268377"/>
                    </a:lnTo>
                    <a:lnTo>
                      <a:pt x="2380093" y="1268377"/>
                    </a:lnTo>
                    <a:lnTo>
                      <a:pt x="2361687" y="1085792"/>
                    </a:lnTo>
                    <a:cubicBezTo>
                      <a:pt x="2273588" y="655261"/>
                      <a:pt x="1929258" y="318066"/>
                      <a:pt x="1494987" y="240494"/>
                    </a:cubicBezTo>
                    <a:lnTo>
                      <a:pt x="1326706" y="225646"/>
                    </a:lnTo>
                    <a:close/>
                  </a:path>
                </a:pathLst>
              </a:cu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1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椭圆 2"/>
            <p:cNvSpPr/>
            <p:nvPr/>
          </p:nvSpPr>
          <p:spPr>
            <a:xfrm>
              <a:off x="6855120" y="3532320"/>
              <a:ext cx="424800" cy="42480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  <a:effectLst>
              <a:outerShdw algn="r" blurRad="254160" dir="8169207" dist="37936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40" name="直接连接符 24"/>
          <p:cNvCxnSpPr/>
          <p:nvPr/>
        </p:nvCxnSpPr>
        <p:spPr>
          <a:xfrm>
            <a:off x="4499280" y="955080"/>
            <a:ext cx="4492440" cy="360"/>
          </a:xfrm>
          <a:prstGeom prst="straightConnector1">
            <a:avLst/>
          </a:prstGeom>
          <a:ln w="12700">
            <a:solidFill>
              <a:srgbClr val="003360"/>
            </a:solidFill>
          </a:ln>
        </p:spPr>
      </p:cxnSp>
      <p:sp>
        <p:nvSpPr>
          <p:cNvPr id="241" name="文本框 25"/>
          <p:cNvSpPr/>
          <p:nvPr/>
        </p:nvSpPr>
        <p:spPr>
          <a:xfrm>
            <a:off x="7276680" y="38448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目标与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椭圆 9"/>
          <p:cNvSpPr/>
          <p:nvPr/>
        </p:nvSpPr>
        <p:spPr>
          <a:xfrm rot="6466800">
            <a:off x="4217760" y="3977280"/>
            <a:ext cx="1082520" cy="541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五边形 7"/>
          <p:cNvSpPr/>
          <p:nvPr/>
        </p:nvSpPr>
        <p:spPr>
          <a:xfrm>
            <a:off x="304920" y="1925280"/>
            <a:ext cx="1079640" cy="964080"/>
          </a:xfrm>
          <a:prstGeom prst="homePlate">
            <a:avLst>
              <a:gd name="adj" fmla="val 50000"/>
            </a:avLst>
          </a:prstGeom>
          <a:solidFill>
            <a:schemeClr val="accent1">
              <a:lumMod val="50000"/>
            </a:schemeClr>
          </a:solidFill>
          <a:ln>
            <a:noFill/>
          </a:ln>
          <a:effectLst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五边形 9"/>
          <p:cNvSpPr/>
          <p:nvPr/>
        </p:nvSpPr>
        <p:spPr>
          <a:xfrm>
            <a:off x="304920" y="96444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五边形 11"/>
          <p:cNvSpPr/>
          <p:nvPr/>
        </p:nvSpPr>
        <p:spPr>
          <a:xfrm>
            <a:off x="304920" y="289296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五边形 12"/>
          <p:cNvSpPr/>
          <p:nvPr/>
        </p:nvSpPr>
        <p:spPr>
          <a:xfrm>
            <a:off x="304920" y="379260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五边形 13"/>
          <p:cNvSpPr/>
          <p:nvPr/>
        </p:nvSpPr>
        <p:spPr>
          <a:xfrm>
            <a:off x="304920" y="475056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文本框 8"/>
          <p:cNvSpPr/>
          <p:nvPr/>
        </p:nvSpPr>
        <p:spPr>
          <a:xfrm>
            <a:off x="432720" y="202284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五边形 14"/>
          <p:cNvSpPr/>
          <p:nvPr/>
        </p:nvSpPr>
        <p:spPr>
          <a:xfrm>
            <a:off x="304920" y="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0" name="组合 15"/>
          <p:cNvGrpSpPr/>
          <p:nvPr/>
        </p:nvGrpSpPr>
        <p:grpSpPr>
          <a:xfrm>
            <a:off x="0" y="0"/>
            <a:ext cx="304560" cy="5714640"/>
            <a:chOff x="0" y="0"/>
            <a:chExt cx="304560" cy="5714640"/>
          </a:xfrm>
        </p:grpSpPr>
        <p:sp>
          <p:nvSpPr>
            <p:cNvPr id="251" name="矩形 16"/>
            <p:cNvSpPr/>
            <p:nvPr/>
          </p:nvSpPr>
          <p:spPr>
            <a:xfrm>
              <a:off x="0" y="1626840"/>
              <a:ext cx="304560" cy="40878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矩形 17"/>
            <p:cNvSpPr/>
            <p:nvPr/>
          </p:nvSpPr>
          <p:spPr>
            <a:xfrm>
              <a:off x="0" y="766080"/>
              <a:ext cx="304560" cy="3974400"/>
            </a:xfrm>
            <a:prstGeom prst="rect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53" name="图片 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04560" cy="31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TextBox 119"/>
          <p:cNvSpPr/>
          <p:nvPr/>
        </p:nvSpPr>
        <p:spPr>
          <a:xfrm>
            <a:off x="1415880" y="1260000"/>
            <a:ext cx="265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1">
                    <a:lumMod val="50000"/>
                  </a:schemeClr>
                </a:solidFill>
                <a:latin typeface="Broadway"/>
                <a:ea typeface="微软雅黑"/>
              </a:rPr>
              <a:t>01  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研究可以应用的标准和规范，确定出对方会认为是合情合理的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9"/>
          <p:cNvSpPr/>
          <p:nvPr/>
        </p:nvSpPr>
        <p:spPr>
          <a:xfrm rot="10800000">
            <a:off x="3326400" y="3268440"/>
            <a:ext cx="1082520" cy="541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椭圆 9"/>
          <p:cNvSpPr/>
          <p:nvPr/>
        </p:nvSpPr>
        <p:spPr>
          <a:xfrm rot="19461000">
            <a:off x="4878000" y="2209680"/>
            <a:ext cx="1082520" cy="541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pattFill prst="ltUpDiag">
            <a:fgClr>
              <a:srgbClr val="29576f"/>
            </a:fgClr>
            <a:bgClr>
              <a:srgbClr val="0e3757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椭圆 9"/>
          <p:cNvSpPr/>
          <p:nvPr/>
        </p:nvSpPr>
        <p:spPr>
          <a:xfrm rot="19461000">
            <a:off x="4878000" y="2209680"/>
            <a:ext cx="1082520" cy="541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椭圆 9"/>
          <p:cNvSpPr/>
          <p:nvPr/>
        </p:nvSpPr>
        <p:spPr>
          <a:xfrm rot="15045600">
            <a:off x="3718080" y="2160720"/>
            <a:ext cx="1082520" cy="541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椭圆 9"/>
          <p:cNvSpPr/>
          <p:nvPr/>
        </p:nvSpPr>
        <p:spPr>
          <a:xfrm rot="6466800">
            <a:off x="4217760" y="3977280"/>
            <a:ext cx="1082520" cy="541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椭圆 9"/>
          <p:cNvSpPr/>
          <p:nvPr/>
        </p:nvSpPr>
        <p:spPr>
          <a:xfrm rot="2164200">
            <a:off x="5220000" y="3335400"/>
            <a:ext cx="1082520" cy="541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pattFill prst="ltUpDiag">
            <a:fgClr>
              <a:srgbClr val="d9d9d9"/>
            </a:fgClr>
            <a:bgClr>
              <a:srgbClr val="bfbfb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椭圆 9"/>
          <p:cNvSpPr/>
          <p:nvPr/>
        </p:nvSpPr>
        <p:spPr>
          <a:xfrm rot="2164200">
            <a:off x="5220000" y="3335400"/>
            <a:ext cx="1082520" cy="541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rcRect l="2757" t="0" r="7208" b="57688"/>
          <a:stretch/>
        </p:blipFill>
        <p:spPr>
          <a:xfrm flipH="1" rot="15060000">
            <a:off x="3537360" y="2305800"/>
            <a:ext cx="1785600" cy="190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3"/>
          <a:srcRect l="2757" t="0" r="7208" b="57688"/>
          <a:stretch/>
        </p:blipFill>
        <p:spPr>
          <a:xfrm flipH="1" rot="19440000">
            <a:off x="4632120" y="2526480"/>
            <a:ext cx="1785600" cy="190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4"/>
          <a:srcRect l="2757" t="0" r="7208" b="57688"/>
          <a:stretch/>
        </p:blipFill>
        <p:spPr>
          <a:xfrm flipH="1" rot="2160000">
            <a:off x="4778280" y="3655800"/>
            <a:ext cx="1785600" cy="190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7"/>
          <p:cNvSpPr/>
          <p:nvPr/>
        </p:nvSpPr>
        <p:spPr>
          <a:xfrm>
            <a:off x="5379480" y="2219040"/>
            <a:ext cx="4402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10" spc="-1" strike="noStrike">
                <a:solidFill>
                  <a:srgbClr val="ffffff"/>
                </a:solidFill>
                <a:latin typeface="Impact"/>
              </a:rPr>
              <a:t>05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3"/>
          <p:cNvSpPr/>
          <p:nvPr/>
        </p:nvSpPr>
        <p:spPr>
          <a:xfrm>
            <a:off x="4010400" y="2051280"/>
            <a:ext cx="4402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1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4"/>
          <p:cNvSpPr/>
          <p:nvPr/>
        </p:nvSpPr>
        <p:spPr>
          <a:xfrm>
            <a:off x="3432600" y="3297960"/>
            <a:ext cx="4402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10" spc="-1" strike="noStrike">
                <a:solidFill>
                  <a:srgbClr val="ffffff"/>
                </a:solidFill>
                <a:latin typeface="Impact"/>
              </a:rPr>
              <a:t>02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95"/>
          <p:cNvSpPr/>
          <p:nvPr/>
        </p:nvSpPr>
        <p:spPr>
          <a:xfrm>
            <a:off x="4473000" y="4211280"/>
            <a:ext cx="4402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1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6"/>
          <p:cNvSpPr/>
          <p:nvPr/>
        </p:nvSpPr>
        <p:spPr>
          <a:xfrm>
            <a:off x="5653440" y="3569040"/>
            <a:ext cx="4402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10" spc="-1" strike="noStrike">
                <a:solidFill>
                  <a:srgbClr val="ffffff"/>
                </a:solidFill>
                <a:latin typeface="Impact"/>
              </a:rPr>
              <a:t>04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23"/>
          <p:cNvSpPr/>
          <p:nvPr/>
        </p:nvSpPr>
        <p:spPr>
          <a:xfrm>
            <a:off x="4353840" y="2991240"/>
            <a:ext cx="8982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rgbClr val="404040"/>
              </a:solidFill>
              <a:latin typeface="Arial Black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5"/>
          <a:srcRect l="2757" t="0" r="7208" b="57688"/>
          <a:stretch/>
        </p:blipFill>
        <p:spPr>
          <a:xfrm flipH="1" rot="10800000">
            <a:off x="2950200" y="3277080"/>
            <a:ext cx="1785600" cy="190080"/>
          </a:xfrm>
          <a:prstGeom prst="rect">
            <a:avLst/>
          </a:prstGeom>
          <a:ln w="0">
            <a:noFill/>
          </a:ln>
        </p:spPr>
      </p:pic>
      <p:sp>
        <p:nvSpPr>
          <p:cNvPr id="272" name="矩形 1"/>
          <p:cNvSpPr/>
          <p:nvPr/>
        </p:nvSpPr>
        <p:spPr>
          <a:xfrm>
            <a:off x="1473840" y="4147200"/>
            <a:ext cx="223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1">
                    <a:lumMod val="50000"/>
                  </a:schemeClr>
                </a:solidFill>
                <a:latin typeface="Broadway"/>
                <a:ea typeface="微软雅黑"/>
              </a:rPr>
              <a:t>02  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准备好支持你方观点的数据和论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66"/>
          <p:cNvSpPr/>
          <p:nvPr/>
        </p:nvSpPr>
        <p:spPr>
          <a:xfrm>
            <a:off x="6544800" y="372240"/>
            <a:ext cx="164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权威的标准与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5212800" y="4443480"/>
            <a:ext cx="3435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1">
                    <a:lumMod val="50000"/>
                  </a:schemeClr>
                </a:solidFill>
                <a:latin typeface="Broadway"/>
                <a:ea typeface="微软雅黑"/>
              </a:rPr>
              <a:t>03  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如果必要的话，可以考虑在同情你方立场的观众面前提出你的观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5"/>
          <p:cNvSpPr/>
          <p:nvPr/>
        </p:nvSpPr>
        <p:spPr>
          <a:xfrm>
            <a:off x="6563880" y="2519280"/>
            <a:ext cx="232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1">
                    <a:lumMod val="50000"/>
                  </a:schemeClr>
                </a:solidFill>
                <a:latin typeface="Broadway"/>
                <a:ea typeface="微软雅黑"/>
              </a:rPr>
              <a:t>04  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准备好自己的立场基调，并预计对方的立场基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6"/>
          <p:cNvSpPr/>
          <p:nvPr/>
        </p:nvSpPr>
        <p:spPr>
          <a:xfrm>
            <a:off x="4882680" y="1333800"/>
            <a:ext cx="2826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1">
                    <a:lumMod val="50000"/>
                  </a:schemeClr>
                </a:solidFill>
                <a:latin typeface="Broadway"/>
                <a:ea typeface="微软雅黑"/>
              </a:rPr>
              <a:t>05  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预计对方可能提出的理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直接连接符 67"/>
          <p:cNvCxnSpPr/>
          <p:nvPr/>
        </p:nvCxnSpPr>
        <p:spPr>
          <a:xfrm>
            <a:off x="4499280" y="955080"/>
            <a:ext cx="4492440" cy="360"/>
          </a:xfrm>
          <a:prstGeom prst="straightConnector1">
            <a:avLst/>
          </a:prstGeom>
          <a:ln w="12700">
            <a:solidFill>
              <a:srgbClr val="003360"/>
            </a:solidFill>
          </a:ln>
        </p:spPr>
      </p:cxnSp>
      <p:pic>
        <p:nvPicPr>
          <p:cNvPr id="278" name="Picture 3" descr=""/>
          <p:cNvPicPr/>
          <p:nvPr/>
        </p:nvPicPr>
        <p:blipFill>
          <a:blip r:embed="rId6"/>
          <a:srcRect l="2757" t="0" r="7208" b="57688"/>
          <a:stretch/>
        </p:blipFill>
        <p:spPr>
          <a:xfrm flipH="1" rot="6480000">
            <a:off x="3677760" y="4134600"/>
            <a:ext cx="1785600" cy="190080"/>
          </a:xfrm>
          <a:prstGeom prst="rect">
            <a:avLst/>
          </a:prstGeom>
          <a:ln w="0">
            <a:noFill/>
          </a:ln>
        </p:spPr>
      </p:pic>
      <p:grpSp>
        <p:nvGrpSpPr>
          <p:cNvPr id="279" name="组合 10"/>
          <p:cNvGrpSpPr/>
          <p:nvPr/>
        </p:nvGrpSpPr>
        <p:grpSpPr>
          <a:xfrm>
            <a:off x="4252680" y="2724480"/>
            <a:ext cx="1100520" cy="1100520"/>
            <a:chOff x="4252680" y="2724480"/>
            <a:chExt cx="1100520" cy="1100520"/>
          </a:xfrm>
        </p:grpSpPr>
        <p:sp>
          <p:nvSpPr>
            <p:cNvPr id="280" name="椭圆 49"/>
            <p:cNvSpPr/>
            <p:nvPr/>
          </p:nvSpPr>
          <p:spPr>
            <a:xfrm>
              <a:off x="4252680" y="2724480"/>
              <a:ext cx="1100520" cy="11005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9050"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椭圆 69"/>
            <p:cNvSpPr/>
            <p:nvPr/>
          </p:nvSpPr>
          <p:spPr>
            <a:xfrm>
              <a:off x="4383720" y="2864880"/>
              <a:ext cx="828720" cy="82872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Freeform 10"/>
            <p:cNvSpPr/>
            <p:nvPr/>
          </p:nvSpPr>
          <p:spPr>
            <a:xfrm>
              <a:off x="4549320" y="3058200"/>
              <a:ext cx="567000" cy="46116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210" h="192">
                  <a:moveTo>
                    <a:pt x="30" y="0"/>
                  </a:moveTo>
                  <a:lnTo>
                    <a:pt x="163" y="0"/>
                  </a:lnTo>
                  <a:lnTo>
                    <a:pt x="172" y="0"/>
                  </a:lnTo>
                  <a:lnTo>
                    <a:pt x="172" y="10"/>
                  </a:lnTo>
                  <a:lnTo>
                    <a:pt x="172" y="41"/>
                  </a:lnTo>
                  <a:lnTo>
                    <a:pt x="156" y="55"/>
                  </a:lnTo>
                  <a:lnTo>
                    <a:pt x="156" y="17"/>
                  </a:lnTo>
                  <a:lnTo>
                    <a:pt x="37" y="17"/>
                  </a:lnTo>
                  <a:lnTo>
                    <a:pt x="37" y="29"/>
                  </a:lnTo>
                  <a:lnTo>
                    <a:pt x="45" y="24"/>
                  </a:lnTo>
                  <a:lnTo>
                    <a:pt x="54" y="22"/>
                  </a:lnTo>
                  <a:lnTo>
                    <a:pt x="59" y="36"/>
                  </a:lnTo>
                  <a:lnTo>
                    <a:pt x="52" y="41"/>
                  </a:lnTo>
                  <a:lnTo>
                    <a:pt x="37" y="45"/>
                  </a:lnTo>
                  <a:lnTo>
                    <a:pt x="37" y="55"/>
                  </a:lnTo>
                  <a:lnTo>
                    <a:pt x="45" y="52"/>
                  </a:lnTo>
                  <a:lnTo>
                    <a:pt x="54" y="48"/>
                  </a:lnTo>
                  <a:lnTo>
                    <a:pt x="59" y="64"/>
                  </a:lnTo>
                  <a:lnTo>
                    <a:pt x="52" y="67"/>
                  </a:lnTo>
                  <a:lnTo>
                    <a:pt x="37" y="74"/>
                  </a:lnTo>
                  <a:lnTo>
                    <a:pt x="37" y="83"/>
                  </a:lnTo>
                  <a:lnTo>
                    <a:pt x="45" y="78"/>
                  </a:lnTo>
                  <a:lnTo>
                    <a:pt x="54" y="76"/>
                  </a:lnTo>
                  <a:lnTo>
                    <a:pt x="59" y="90"/>
                  </a:lnTo>
                  <a:lnTo>
                    <a:pt x="52" y="95"/>
                  </a:lnTo>
                  <a:lnTo>
                    <a:pt x="37" y="100"/>
                  </a:lnTo>
                  <a:lnTo>
                    <a:pt x="37" y="109"/>
                  </a:lnTo>
                  <a:lnTo>
                    <a:pt x="45" y="104"/>
                  </a:lnTo>
                  <a:lnTo>
                    <a:pt x="54" y="102"/>
                  </a:lnTo>
                  <a:lnTo>
                    <a:pt x="59" y="116"/>
                  </a:lnTo>
                  <a:lnTo>
                    <a:pt x="52" y="121"/>
                  </a:lnTo>
                  <a:lnTo>
                    <a:pt x="37" y="128"/>
                  </a:lnTo>
                  <a:lnTo>
                    <a:pt x="37" y="137"/>
                  </a:lnTo>
                  <a:lnTo>
                    <a:pt x="45" y="135"/>
                  </a:lnTo>
                  <a:lnTo>
                    <a:pt x="54" y="130"/>
                  </a:lnTo>
                  <a:lnTo>
                    <a:pt x="59" y="147"/>
                  </a:lnTo>
                  <a:lnTo>
                    <a:pt x="52" y="149"/>
                  </a:lnTo>
                  <a:lnTo>
                    <a:pt x="37" y="156"/>
                  </a:lnTo>
                  <a:lnTo>
                    <a:pt x="37" y="170"/>
                  </a:lnTo>
                  <a:lnTo>
                    <a:pt x="37" y="175"/>
                  </a:lnTo>
                  <a:lnTo>
                    <a:pt x="156" y="175"/>
                  </a:lnTo>
                  <a:lnTo>
                    <a:pt x="156" y="137"/>
                  </a:lnTo>
                  <a:lnTo>
                    <a:pt x="172" y="123"/>
                  </a:lnTo>
                  <a:lnTo>
                    <a:pt x="172" y="182"/>
                  </a:lnTo>
                  <a:lnTo>
                    <a:pt x="172" y="192"/>
                  </a:lnTo>
                  <a:lnTo>
                    <a:pt x="163" y="192"/>
                  </a:lnTo>
                  <a:lnTo>
                    <a:pt x="30" y="192"/>
                  </a:lnTo>
                  <a:lnTo>
                    <a:pt x="21" y="192"/>
                  </a:lnTo>
                  <a:lnTo>
                    <a:pt x="21" y="182"/>
                  </a:lnTo>
                  <a:lnTo>
                    <a:pt x="21" y="170"/>
                  </a:lnTo>
                  <a:lnTo>
                    <a:pt x="4" y="170"/>
                  </a:lnTo>
                  <a:lnTo>
                    <a:pt x="0" y="154"/>
                  </a:lnTo>
                  <a:lnTo>
                    <a:pt x="21" y="144"/>
                  </a:lnTo>
                  <a:lnTo>
                    <a:pt x="21" y="140"/>
                  </a:lnTo>
                  <a:lnTo>
                    <a:pt x="4" y="140"/>
                  </a:lnTo>
                  <a:lnTo>
                    <a:pt x="0" y="126"/>
                  </a:lnTo>
                  <a:lnTo>
                    <a:pt x="21" y="116"/>
                  </a:lnTo>
                  <a:lnTo>
                    <a:pt x="21" y="114"/>
                  </a:lnTo>
                  <a:lnTo>
                    <a:pt x="4" y="114"/>
                  </a:lnTo>
                  <a:lnTo>
                    <a:pt x="0" y="97"/>
                  </a:lnTo>
                  <a:lnTo>
                    <a:pt x="21" y="90"/>
                  </a:lnTo>
                  <a:lnTo>
                    <a:pt x="21" y="88"/>
                  </a:lnTo>
                  <a:lnTo>
                    <a:pt x="4" y="88"/>
                  </a:lnTo>
                  <a:lnTo>
                    <a:pt x="0" y="71"/>
                  </a:lnTo>
                  <a:lnTo>
                    <a:pt x="21" y="62"/>
                  </a:lnTo>
                  <a:lnTo>
                    <a:pt x="21" y="59"/>
                  </a:lnTo>
                  <a:lnTo>
                    <a:pt x="4" y="59"/>
                  </a:lnTo>
                  <a:lnTo>
                    <a:pt x="0" y="45"/>
                  </a:lnTo>
                  <a:lnTo>
                    <a:pt x="21" y="36"/>
                  </a:lnTo>
                  <a:lnTo>
                    <a:pt x="21" y="1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0" y="0"/>
                  </a:lnTo>
                  <a:close/>
                  <a:moveTo>
                    <a:pt x="73" y="92"/>
                  </a:moveTo>
                  <a:lnTo>
                    <a:pt x="73" y="102"/>
                  </a:lnTo>
                  <a:lnTo>
                    <a:pt x="96" y="102"/>
                  </a:lnTo>
                  <a:lnTo>
                    <a:pt x="96" y="92"/>
                  </a:lnTo>
                  <a:lnTo>
                    <a:pt x="73" y="92"/>
                  </a:lnTo>
                  <a:lnTo>
                    <a:pt x="73" y="92"/>
                  </a:lnTo>
                  <a:close/>
                  <a:moveTo>
                    <a:pt x="73" y="71"/>
                  </a:moveTo>
                  <a:lnTo>
                    <a:pt x="73" y="81"/>
                  </a:lnTo>
                  <a:lnTo>
                    <a:pt x="115" y="81"/>
                  </a:lnTo>
                  <a:lnTo>
                    <a:pt x="115" y="71"/>
                  </a:lnTo>
                  <a:lnTo>
                    <a:pt x="73" y="71"/>
                  </a:lnTo>
                  <a:lnTo>
                    <a:pt x="73" y="71"/>
                  </a:lnTo>
                  <a:close/>
                  <a:moveTo>
                    <a:pt x="73" y="52"/>
                  </a:moveTo>
                  <a:lnTo>
                    <a:pt x="73" y="62"/>
                  </a:lnTo>
                  <a:lnTo>
                    <a:pt x="134" y="62"/>
                  </a:lnTo>
                  <a:lnTo>
                    <a:pt x="134" y="52"/>
                  </a:lnTo>
                  <a:lnTo>
                    <a:pt x="73" y="52"/>
                  </a:lnTo>
                  <a:lnTo>
                    <a:pt x="73" y="52"/>
                  </a:lnTo>
                  <a:close/>
                  <a:moveTo>
                    <a:pt x="73" y="33"/>
                  </a:moveTo>
                  <a:lnTo>
                    <a:pt x="73" y="41"/>
                  </a:lnTo>
                  <a:lnTo>
                    <a:pt x="134" y="41"/>
                  </a:lnTo>
                  <a:lnTo>
                    <a:pt x="134" y="33"/>
                  </a:lnTo>
                  <a:lnTo>
                    <a:pt x="73" y="33"/>
                  </a:lnTo>
                  <a:lnTo>
                    <a:pt x="73" y="33"/>
                  </a:lnTo>
                  <a:close/>
                  <a:moveTo>
                    <a:pt x="96" y="152"/>
                  </a:moveTo>
                  <a:lnTo>
                    <a:pt x="111" y="152"/>
                  </a:lnTo>
                  <a:lnTo>
                    <a:pt x="122" y="152"/>
                  </a:lnTo>
                  <a:lnTo>
                    <a:pt x="111" y="137"/>
                  </a:lnTo>
                  <a:lnTo>
                    <a:pt x="99" y="126"/>
                  </a:lnTo>
                  <a:lnTo>
                    <a:pt x="99" y="140"/>
                  </a:lnTo>
                  <a:lnTo>
                    <a:pt x="96" y="152"/>
                  </a:lnTo>
                  <a:lnTo>
                    <a:pt x="96" y="152"/>
                  </a:lnTo>
                  <a:close/>
                  <a:moveTo>
                    <a:pt x="186" y="43"/>
                  </a:moveTo>
                  <a:lnTo>
                    <a:pt x="111" y="116"/>
                  </a:lnTo>
                  <a:lnTo>
                    <a:pt x="134" y="140"/>
                  </a:lnTo>
                  <a:lnTo>
                    <a:pt x="210" y="67"/>
                  </a:lnTo>
                  <a:lnTo>
                    <a:pt x="186" y="4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1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弦形 38"/>
          <p:cNvSpPr/>
          <p:nvPr/>
        </p:nvSpPr>
        <p:spPr>
          <a:xfrm rot="13500000">
            <a:off x="6900120" y="3366000"/>
            <a:ext cx="1968120" cy="1968120"/>
          </a:xfrm>
          <a:prstGeom prst="chord">
            <a:avLst>
              <a:gd name="adj1" fmla="val 7749127"/>
              <a:gd name="adj2" fmla="val 16200000"/>
            </a:avLst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弦形 37"/>
          <p:cNvSpPr/>
          <p:nvPr/>
        </p:nvSpPr>
        <p:spPr>
          <a:xfrm rot="13500000">
            <a:off x="4327920" y="3428280"/>
            <a:ext cx="1968120" cy="1968120"/>
          </a:xfrm>
          <a:prstGeom prst="chord">
            <a:avLst>
              <a:gd name="adj1" fmla="val 7749127"/>
              <a:gd name="adj2" fmla="val 16200000"/>
            </a:avLst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弦形 11"/>
          <p:cNvSpPr/>
          <p:nvPr/>
        </p:nvSpPr>
        <p:spPr>
          <a:xfrm rot="13500000">
            <a:off x="1685520" y="3396960"/>
            <a:ext cx="1968120" cy="1968120"/>
          </a:xfrm>
          <a:prstGeom prst="chord">
            <a:avLst>
              <a:gd name="adj1" fmla="val 7749127"/>
              <a:gd name="adj2" fmla="val 16200000"/>
            </a:avLst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椭圆 32"/>
          <p:cNvSpPr/>
          <p:nvPr/>
        </p:nvSpPr>
        <p:spPr>
          <a:xfrm>
            <a:off x="4288680" y="3376440"/>
            <a:ext cx="2000880" cy="2000880"/>
          </a:xfrm>
          <a:prstGeom prst="ellipse">
            <a:avLst/>
          </a:prstGeom>
          <a:noFill/>
          <a:ln w="19050">
            <a:solidFill>
              <a:srgbClr val="5b9bd5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椭圆 33"/>
          <p:cNvSpPr/>
          <p:nvPr/>
        </p:nvSpPr>
        <p:spPr>
          <a:xfrm>
            <a:off x="6858720" y="3313440"/>
            <a:ext cx="2000880" cy="2000880"/>
          </a:xfrm>
          <a:prstGeom prst="ellipse">
            <a:avLst/>
          </a:prstGeom>
          <a:noFill/>
          <a:ln w="19050">
            <a:solidFill>
              <a:srgbClr val="5b9bd5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椭圆 2"/>
          <p:cNvSpPr/>
          <p:nvPr/>
        </p:nvSpPr>
        <p:spPr>
          <a:xfrm>
            <a:off x="1660320" y="3351240"/>
            <a:ext cx="2000880" cy="2000880"/>
          </a:xfrm>
          <a:prstGeom prst="ellipse">
            <a:avLst/>
          </a:prstGeom>
          <a:noFill/>
          <a:ln w="19050">
            <a:solidFill>
              <a:srgbClr val="5b9bd5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五边形 9"/>
          <p:cNvSpPr/>
          <p:nvPr/>
        </p:nvSpPr>
        <p:spPr>
          <a:xfrm>
            <a:off x="304920" y="96444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五边形 10"/>
          <p:cNvSpPr/>
          <p:nvPr/>
        </p:nvSpPr>
        <p:spPr>
          <a:xfrm>
            <a:off x="304920" y="192852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五边形 12"/>
          <p:cNvSpPr/>
          <p:nvPr/>
        </p:nvSpPr>
        <p:spPr>
          <a:xfrm>
            <a:off x="304920" y="379260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五边形 13"/>
          <p:cNvSpPr/>
          <p:nvPr/>
        </p:nvSpPr>
        <p:spPr>
          <a:xfrm>
            <a:off x="304920" y="475056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93" name="组合 1"/>
          <p:cNvGrpSpPr/>
          <p:nvPr/>
        </p:nvGrpSpPr>
        <p:grpSpPr>
          <a:xfrm>
            <a:off x="275400" y="2860560"/>
            <a:ext cx="1079640" cy="964080"/>
            <a:chOff x="275400" y="2860560"/>
            <a:chExt cx="1079640" cy="964080"/>
          </a:xfrm>
        </p:grpSpPr>
        <p:sp>
          <p:nvSpPr>
            <p:cNvPr id="294" name="五边形 7"/>
            <p:cNvSpPr/>
            <p:nvPr/>
          </p:nvSpPr>
          <p:spPr>
            <a:xfrm>
              <a:off x="275400" y="2860560"/>
              <a:ext cx="1079640" cy="964080"/>
            </a:xfrm>
            <a:prstGeom prst="homePlate">
              <a:avLst>
                <a:gd name="adj" fmla="val 50000"/>
              </a:avLst>
            </a:prstGeom>
            <a:solidFill>
              <a:schemeClr val="accent1">
                <a:lumMod val="50000"/>
              </a:schemeClr>
            </a:solidFill>
            <a:ln>
              <a:noFill/>
            </a:ln>
            <a:effectLst>
              <a:reflection algn="bl" blurRad="6350" dir="5400000" endA="300" endPos="35000" rotWithShape="0" stA="52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文本框 8"/>
            <p:cNvSpPr/>
            <p:nvPr/>
          </p:nvSpPr>
          <p:spPr>
            <a:xfrm>
              <a:off x="386280" y="2958120"/>
              <a:ext cx="501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五边形 14"/>
          <p:cNvSpPr/>
          <p:nvPr/>
        </p:nvSpPr>
        <p:spPr>
          <a:xfrm>
            <a:off x="304920" y="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97" name="组合 15"/>
          <p:cNvGrpSpPr/>
          <p:nvPr/>
        </p:nvGrpSpPr>
        <p:grpSpPr>
          <a:xfrm>
            <a:off x="0" y="0"/>
            <a:ext cx="304560" cy="5714640"/>
            <a:chOff x="0" y="0"/>
            <a:chExt cx="304560" cy="5714640"/>
          </a:xfrm>
        </p:grpSpPr>
        <p:sp>
          <p:nvSpPr>
            <p:cNvPr id="298" name="矩形 16"/>
            <p:cNvSpPr/>
            <p:nvPr/>
          </p:nvSpPr>
          <p:spPr>
            <a:xfrm>
              <a:off x="0" y="1626840"/>
              <a:ext cx="304560" cy="40878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" name="矩形 17"/>
            <p:cNvSpPr/>
            <p:nvPr/>
          </p:nvSpPr>
          <p:spPr>
            <a:xfrm>
              <a:off x="0" y="766080"/>
              <a:ext cx="304560" cy="3974400"/>
            </a:xfrm>
            <a:prstGeom prst="rect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00" name="图片 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04560" cy="31305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01" name="直接连接符 20"/>
          <p:cNvCxnSpPr/>
          <p:nvPr/>
        </p:nvCxnSpPr>
        <p:spPr>
          <a:xfrm>
            <a:off x="4499280" y="955080"/>
            <a:ext cx="4492440" cy="360"/>
          </a:xfrm>
          <a:prstGeom prst="straightConnector1">
            <a:avLst/>
          </a:prstGeom>
          <a:ln w="12700">
            <a:solidFill>
              <a:srgbClr val="003360"/>
            </a:solidFill>
          </a:ln>
        </p:spPr>
      </p:cxnSp>
      <p:sp>
        <p:nvSpPr>
          <p:cNvPr id="302" name="文本框 22"/>
          <p:cNvSpPr/>
          <p:nvPr/>
        </p:nvSpPr>
        <p:spPr>
          <a:xfrm>
            <a:off x="8010720" y="36792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23"/>
          <p:cNvSpPr/>
          <p:nvPr/>
        </p:nvSpPr>
        <p:spPr>
          <a:xfrm>
            <a:off x="1620000" y="1131120"/>
            <a:ext cx="702396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通过关系网获得渠道和可信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采用诸如礼物、善意、透露或者妥协等小步骤与谈判对手建立工作关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避免互惠与关系的圈套，诸如过快信任对方，让对方使你感觉内疚以及将私人友谊和大宗买卖混淆在一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24"/>
          <p:cNvSpPr/>
          <p:nvPr/>
        </p:nvSpPr>
        <p:spPr>
          <a:xfrm>
            <a:off x="4736160" y="2804400"/>
            <a:ext cx="12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互惠原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4"/>
          <p:cNvGrpSpPr/>
          <p:nvPr/>
        </p:nvGrpSpPr>
        <p:grpSpPr>
          <a:xfrm>
            <a:off x="1325160" y="4435200"/>
            <a:ext cx="922320" cy="922320"/>
            <a:chOff x="1325160" y="4435200"/>
            <a:chExt cx="922320" cy="922320"/>
          </a:xfrm>
        </p:grpSpPr>
        <p:sp>
          <p:nvSpPr>
            <p:cNvPr id="306" name="椭圆 26"/>
            <p:cNvSpPr/>
            <p:nvPr/>
          </p:nvSpPr>
          <p:spPr>
            <a:xfrm>
              <a:off x="1325160" y="443520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7" name="Freeform 38"/>
            <p:cNvSpPr/>
            <p:nvPr/>
          </p:nvSpPr>
          <p:spPr>
            <a:xfrm>
              <a:off x="1552680" y="4699440"/>
              <a:ext cx="456840" cy="3607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104" h="100">
                  <a:moveTo>
                    <a:pt x="15" y="30"/>
                  </a:moveTo>
                  <a:cubicBezTo>
                    <a:pt x="39" y="30"/>
                    <a:pt x="39" y="30"/>
                    <a:pt x="39" y="30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69" y="30"/>
                    <a:pt x="69" y="30"/>
                    <a:pt x="6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104" y="53"/>
                    <a:pt x="104" y="53"/>
                    <a:pt x="104" y="53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3" y="65"/>
                    <a:pt x="93" y="65"/>
                    <a:pt x="93" y="65"/>
                  </a:cubicBezTo>
                  <a:cubicBezTo>
                    <a:pt x="90" y="100"/>
                    <a:pt x="90" y="100"/>
                    <a:pt x="90" y="100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4" y="100"/>
                    <a:pt x="74" y="100"/>
                    <a:pt x="74" y="100"/>
                  </a:cubicBezTo>
                  <a:cubicBezTo>
                    <a:pt x="67" y="100"/>
                    <a:pt x="67" y="100"/>
                    <a:pt x="67" y="100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48"/>
                    <a:pt x="69" y="48"/>
                    <a:pt x="69" y="48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37" y="100"/>
                    <a:pt x="37" y="100"/>
                    <a:pt x="37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27" y="68"/>
                    <a:pt x="27" y="68"/>
                    <a:pt x="27" y="68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10" y="89"/>
                    <a:pt x="10" y="89"/>
                    <a:pt x="1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5" y="30"/>
                    <a:pt x="15" y="30"/>
                    <a:pt x="15" y="30"/>
                  </a:cubicBezTo>
                  <a:close/>
                  <a:moveTo>
                    <a:pt x="86" y="4"/>
                  </a:moveTo>
                  <a:cubicBezTo>
                    <a:pt x="80" y="0"/>
                    <a:pt x="73" y="2"/>
                    <a:pt x="70" y="8"/>
                  </a:cubicBezTo>
                  <a:cubicBezTo>
                    <a:pt x="67" y="13"/>
                    <a:pt x="68" y="20"/>
                    <a:pt x="74" y="24"/>
                  </a:cubicBezTo>
                  <a:cubicBezTo>
                    <a:pt x="79" y="27"/>
                    <a:pt x="87" y="25"/>
                    <a:pt x="90" y="20"/>
                  </a:cubicBezTo>
                  <a:cubicBezTo>
                    <a:pt x="93" y="14"/>
                    <a:pt x="91" y="7"/>
                    <a:pt x="86" y="4"/>
                  </a:cubicBezTo>
                  <a:close/>
                  <a:moveTo>
                    <a:pt x="22" y="4"/>
                  </a:moveTo>
                  <a:cubicBezTo>
                    <a:pt x="28" y="0"/>
                    <a:pt x="35" y="2"/>
                    <a:pt x="38" y="8"/>
                  </a:cubicBezTo>
                  <a:cubicBezTo>
                    <a:pt x="41" y="13"/>
                    <a:pt x="40" y="20"/>
                    <a:pt x="34" y="24"/>
                  </a:cubicBezTo>
                  <a:cubicBezTo>
                    <a:pt x="29" y="27"/>
                    <a:pt x="21" y="25"/>
                    <a:pt x="18" y="20"/>
                  </a:cubicBezTo>
                  <a:cubicBezTo>
                    <a:pt x="15" y="14"/>
                    <a:pt x="17" y="7"/>
                    <a:pt x="22" y="4"/>
                  </a:cubicBezTo>
                  <a:close/>
                </a:path>
              </a:pathLst>
            </a:custGeom>
            <a:solidFill>
              <a:schemeClr val="accent1">
                <a:lumMod val="50000"/>
              </a:schemeClr>
            </a:solidFill>
            <a:ln w="0">
              <a:solidFill>
                <a:srgbClr val="5b9bd5">
                  <a:lumMod val="5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1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组合 5"/>
          <p:cNvGrpSpPr/>
          <p:nvPr/>
        </p:nvGrpSpPr>
        <p:grpSpPr>
          <a:xfrm>
            <a:off x="4050720" y="4412520"/>
            <a:ext cx="922320" cy="922320"/>
            <a:chOff x="4050720" y="4412520"/>
            <a:chExt cx="922320" cy="922320"/>
          </a:xfrm>
        </p:grpSpPr>
        <p:sp>
          <p:nvSpPr>
            <p:cNvPr id="309" name="椭圆 27"/>
            <p:cNvSpPr/>
            <p:nvPr/>
          </p:nvSpPr>
          <p:spPr>
            <a:xfrm>
              <a:off x="4050720" y="441252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任意多边形 30"/>
            <p:cNvSpPr/>
            <p:nvPr/>
          </p:nvSpPr>
          <p:spPr>
            <a:xfrm>
              <a:off x="4287960" y="4665960"/>
              <a:ext cx="447840" cy="4132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13280"/>
                <a:gd name="textAreaBottom" fmla="*/ 413640 h 413280"/>
              </a:gdLst>
              <a:ahLst/>
              <a:rect l="textAreaLeft" t="textAreaTop" r="textAreaRight" b="textAreaBottom"/>
              <a:pathLst>
                <a:path w="1985244" h="1704097">
                  <a:moveTo>
                    <a:pt x="1627991" y="122960"/>
                  </a:moveTo>
                  <a:lnTo>
                    <a:pt x="1381115" y="550561"/>
                  </a:lnTo>
                  <a:lnTo>
                    <a:pt x="1873311" y="547867"/>
                  </a:lnTo>
                  <a:close/>
                  <a:moveTo>
                    <a:pt x="355222" y="120101"/>
                  </a:moveTo>
                  <a:lnTo>
                    <a:pt x="103444" y="556192"/>
                  </a:lnTo>
                  <a:lnTo>
                    <a:pt x="605413" y="553445"/>
                  </a:lnTo>
                  <a:close/>
                  <a:moveTo>
                    <a:pt x="985531" y="0"/>
                  </a:moveTo>
                  <a:cubicBezTo>
                    <a:pt x="1025121" y="0"/>
                    <a:pt x="1059089" y="24070"/>
                    <a:pt x="1073599" y="58375"/>
                  </a:cubicBezTo>
                  <a:lnTo>
                    <a:pt x="1076495" y="72718"/>
                  </a:lnTo>
                  <a:lnTo>
                    <a:pt x="1748106" y="72718"/>
                  </a:lnTo>
                  <a:lnTo>
                    <a:pt x="1748106" y="118437"/>
                  </a:lnTo>
                  <a:lnTo>
                    <a:pt x="1678171" y="118437"/>
                  </a:lnTo>
                  <a:lnTo>
                    <a:pt x="1925937" y="547579"/>
                  </a:lnTo>
                  <a:lnTo>
                    <a:pt x="1985223" y="547255"/>
                  </a:lnTo>
                  <a:cubicBezTo>
                    <a:pt x="1986636" y="676347"/>
                    <a:pt x="1918824" y="796314"/>
                    <a:pt x="1807495" y="861677"/>
                  </a:cubicBezTo>
                  <a:cubicBezTo>
                    <a:pt x="1696166" y="927041"/>
                    <a:pt x="1558362" y="927795"/>
                    <a:pt x="1446324" y="863653"/>
                  </a:cubicBezTo>
                  <a:cubicBezTo>
                    <a:pt x="1334286" y="799512"/>
                    <a:pt x="1265165" y="680294"/>
                    <a:pt x="1265165" y="551195"/>
                  </a:cubicBezTo>
                  <a:lnTo>
                    <a:pt x="1328156" y="550850"/>
                  </a:lnTo>
                  <a:lnTo>
                    <a:pt x="1577810" y="118437"/>
                  </a:lnTo>
                  <a:lnTo>
                    <a:pt x="1076495" y="118437"/>
                  </a:lnTo>
                  <a:lnTo>
                    <a:pt x="1073599" y="132783"/>
                  </a:lnTo>
                  <a:cubicBezTo>
                    <a:pt x="1063926" y="155653"/>
                    <a:pt x="1045605" y="173974"/>
                    <a:pt x="1022735" y="183647"/>
                  </a:cubicBezTo>
                  <a:lnTo>
                    <a:pt x="1015482" y="185111"/>
                  </a:lnTo>
                  <a:lnTo>
                    <a:pt x="1015482" y="1520172"/>
                  </a:lnTo>
                  <a:lnTo>
                    <a:pt x="1777617" y="1704097"/>
                  </a:lnTo>
                  <a:lnTo>
                    <a:pt x="193441" y="1704097"/>
                  </a:lnTo>
                  <a:lnTo>
                    <a:pt x="969763" y="1516748"/>
                  </a:lnTo>
                  <a:lnTo>
                    <a:pt x="969763" y="187975"/>
                  </a:lnTo>
                  <a:lnTo>
                    <a:pt x="948327" y="183647"/>
                  </a:lnTo>
                  <a:cubicBezTo>
                    <a:pt x="925458" y="173974"/>
                    <a:pt x="907136" y="155653"/>
                    <a:pt x="897463" y="132783"/>
                  </a:cubicBezTo>
                  <a:lnTo>
                    <a:pt x="894567" y="118437"/>
                  </a:lnTo>
                  <a:lnTo>
                    <a:pt x="407053" y="118437"/>
                  </a:lnTo>
                  <a:lnTo>
                    <a:pt x="658039" y="553157"/>
                  </a:lnTo>
                  <a:lnTo>
                    <a:pt x="720058" y="552818"/>
                  </a:lnTo>
                  <a:cubicBezTo>
                    <a:pt x="721471" y="681910"/>
                    <a:pt x="653659" y="801877"/>
                    <a:pt x="542330" y="867240"/>
                  </a:cubicBezTo>
                  <a:cubicBezTo>
                    <a:pt x="431001" y="932604"/>
                    <a:pt x="293197" y="933358"/>
                    <a:pt x="181159" y="869216"/>
                  </a:cubicBezTo>
                  <a:cubicBezTo>
                    <a:pt x="69121" y="805075"/>
                    <a:pt x="0" y="685857"/>
                    <a:pt x="0" y="556758"/>
                  </a:cubicBezTo>
                  <a:lnTo>
                    <a:pt x="57084" y="556446"/>
                  </a:lnTo>
                  <a:lnTo>
                    <a:pt x="52151" y="553597"/>
                  </a:lnTo>
                  <a:lnTo>
                    <a:pt x="303391" y="118437"/>
                  </a:lnTo>
                  <a:lnTo>
                    <a:pt x="222953" y="118437"/>
                  </a:lnTo>
                  <a:lnTo>
                    <a:pt x="222953" y="72718"/>
                  </a:lnTo>
                  <a:lnTo>
                    <a:pt x="894568" y="72718"/>
                  </a:lnTo>
                  <a:lnTo>
                    <a:pt x="897463" y="58375"/>
                  </a:lnTo>
                  <a:cubicBezTo>
                    <a:pt x="911973" y="24070"/>
                    <a:pt x="945941" y="0"/>
                    <a:pt x="985531" y="0"/>
                  </a:cubicBezTo>
                  <a:close/>
                </a:path>
              </a:pathLst>
            </a:custGeom>
            <a:solidFill>
              <a:schemeClr val="accent1">
                <a:lumMod val="50000"/>
              </a:schemeClr>
            </a:solidFill>
            <a:ln>
              <a:solidFill>
                <a:srgbClr val="5b9bd5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1" name="组合 6"/>
          <p:cNvGrpSpPr/>
          <p:nvPr/>
        </p:nvGrpSpPr>
        <p:grpSpPr>
          <a:xfrm>
            <a:off x="6638040" y="4435200"/>
            <a:ext cx="922320" cy="922320"/>
            <a:chOff x="6638040" y="4435200"/>
            <a:chExt cx="922320" cy="922320"/>
          </a:xfrm>
        </p:grpSpPr>
        <p:sp>
          <p:nvSpPr>
            <p:cNvPr id="312" name="椭圆 28"/>
            <p:cNvSpPr/>
            <p:nvPr/>
          </p:nvSpPr>
          <p:spPr>
            <a:xfrm>
              <a:off x="6638040" y="4435200"/>
              <a:ext cx="922320" cy="92232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3" name="Freeform 49"/>
            <p:cNvSpPr/>
            <p:nvPr/>
          </p:nvSpPr>
          <p:spPr>
            <a:xfrm>
              <a:off x="6934320" y="4632120"/>
              <a:ext cx="480600" cy="416880"/>
            </a:xfrm>
            <a:custGeom>
              <a:avLst/>
              <a:gdLst>
                <a:gd name="textAreaLeft" fmla="*/ 0 w 480600"/>
                <a:gd name="textAreaRight" fmla="*/ 480960 w 48060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128" h="111">
                  <a:moveTo>
                    <a:pt x="63" y="0"/>
                  </a:moveTo>
                  <a:cubicBezTo>
                    <a:pt x="111" y="0"/>
                    <a:pt x="111" y="0"/>
                    <a:pt x="111" y="0"/>
                  </a:cubicBezTo>
                  <a:cubicBezTo>
                    <a:pt x="120" y="0"/>
                    <a:pt x="128" y="8"/>
                    <a:pt x="128" y="18"/>
                  </a:cubicBezTo>
                  <a:cubicBezTo>
                    <a:pt x="128" y="42"/>
                    <a:pt x="128" y="42"/>
                    <a:pt x="128" y="42"/>
                  </a:cubicBezTo>
                  <a:cubicBezTo>
                    <a:pt x="128" y="52"/>
                    <a:pt x="120" y="60"/>
                    <a:pt x="111" y="60"/>
                  </a:cubicBezTo>
                  <a:cubicBezTo>
                    <a:pt x="89" y="60"/>
                    <a:pt x="67" y="60"/>
                    <a:pt x="46" y="60"/>
                  </a:cubicBezTo>
                  <a:cubicBezTo>
                    <a:pt x="46" y="46"/>
                    <a:pt x="46" y="32"/>
                    <a:pt x="46" y="18"/>
                  </a:cubicBezTo>
                  <a:cubicBezTo>
                    <a:pt x="46" y="8"/>
                    <a:pt x="53" y="0"/>
                    <a:pt x="63" y="0"/>
                  </a:cubicBezTo>
                  <a:close/>
                  <a:moveTo>
                    <a:pt x="28" y="54"/>
                  </a:moveTo>
                  <a:cubicBezTo>
                    <a:pt x="19" y="54"/>
                    <a:pt x="12" y="61"/>
                    <a:pt x="12" y="70"/>
                  </a:cubicBezTo>
                  <a:cubicBezTo>
                    <a:pt x="12" y="79"/>
                    <a:pt x="19" y="86"/>
                    <a:pt x="28" y="86"/>
                  </a:cubicBezTo>
                  <a:cubicBezTo>
                    <a:pt x="37" y="86"/>
                    <a:pt x="44" y="79"/>
                    <a:pt x="44" y="70"/>
                  </a:cubicBezTo>
                  <a:cubicBezTo>
                    <a:pt x="44" y="61"/>
                    <a:pt x="37" y="54"/>
                    <a:pt x="28" y="54"/>
                  </a:cubicBezTo>
                  <a:close/>
                  <a:moveTo>
                    <a:pt x="55" y="111"/>
                  </a:moveTo>
                  <a:cubicBezTo>
                    <a:pt x="50" y="90"/>
                    <a:pt x="50" y="90"/>
                    <a:pt x="50" y="90"/>
                  </a:cubicBezTo>
                  <a:cubicBezTo>
                    <a:pt x="30" y="90"/>
                    <a:pt x="30" y="90"/>
                    <a:pt x="30" y="90"/>
                  </a:cubicBezTo>
                  <a:cubicBezTo>
                    <a:pt x="32" y="92"/>
                    <a:pt x="32" y="92"/>
                    <a:pt x="32" y="92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55" y="111"/>
                    <a:pt x="55" y="111"/>
                    <a:pt x="55" y="111"/>
                  </a:cubicBezTo>
                  <a:close/>
                  <a:moveTo>
                    <a:pt x="23" y="111"/>
                  </a:moveTo>
                  <a:cubicBezTo>
                    <a:pt x="25" y="96"/>
                    <a:pt x="25" y="96"/>
                    <a:pt x="25" y="96"/>
                  </a:cubicBezTo>
                  <a:cubicBezTo>
                    <a:pt x="24" y="92"/>
                    <a:pt x="24" y="92"/>
                    <a:pt x="24" y="92"/>
                  </a:cubicBezTo>
                  <a:cubicBezTo>
                    <a:pt x="25" y="90"/>
                    <a:pt x="25" y="90"/>
                    <a:pt x="25" y="90"/>
                  </a:cubicBezTo>
                  <a:cubicBezTo>
                    <a:pt x="5" y="90"/>
                    <a:pt x="5" y="90"/>
                    <a:pt x="5" y="90"/>
                  </a:cubicBezTo>
                  <a:cubicBezTo>
                    <a:pt x="0" y="111"/>
                    <a:pt x="0" y="111"/>
                    <a:pt x="0" y="111"/>
                  </a:cubicBezTo>
                  <a:lnTo>
                    <a:pt x="23" y="111"/>
                  </a:lnTo>
                  <a:close/>
                </a:path>
              </a:pathLst>
            </a:custGeom>
            <a:solidFill>
              <a:schemeClr val="accent1">
                <a:lumMod val="50000"/>
              </a:schemeClr>
            </a:solidFill>
            <a:ln w="0">
              <a:solidFill>
                <a:srgbClr val="5b9bd5">
                  <a:lumMod val="5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1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文本框 3"/>
          <p:cNvSpPr/>
          <p:nvPr/>
        </p:nvSpPr>
        <p:spPr>
          <a:xfrm>
            <a:off x="2193480" y="3688200"/>
            <a:ext cx="127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要让别人觉得你可靠，值得信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34"/>
          <p:cNvSpPr/>
          <p:nvPr/>
        </p:nvSpPr>
        <p:spPr>
          <a:xfrm>
            <a:off x="4870080" y="3688200"/>
            <a:ext cx="127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公平的对待那些公平对待你的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35"/>
          <p:cNvSpPr/>
          <p:nvPr/>
        </p:nvSpPr>
        <p:spPr>
          <a:xfrm>
            <a:off x="7425360" y="3688200"/>
            <a:ext cx="1270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当对方对你不公平时，要让他们知道这一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五边形 9"/>
          <p:cNvSpPr/>
          <p:nvPr/>
        </p:nvSpPr>
        <p:spPr>
          <a:xfrm>
            <a:off x="304920" y="96444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五边形 10"/>
          <p:cNvSpPr/>
          <p:nvPr/>
        </p:nvSpPr>
        <p:spPr>
          <a:xfrm>
            <a:off x="304920" y="192852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五边形 11"/>
          <p:cNvSpPr/>
          <p:nvPr/>
        </p:nvSpPr>
        <p:spPr>
          <a:xfrm>
            <a:off x="304920" y="289296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五边形 12"/>
          <p:cNvSpPr/>
          <p:nvPr/>
        </p:nvSpPr>
        <p:spPr>
          <a:xfrm>
            <a:off x="304920" y="252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五边形 13"/>
          <p:cNvSpPr/>
          <p:nvPr/>
        </p:nvSpPr>
        <p:spPr>
          <a:xfrm>
            <a:off x="304920" y="475056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2" name="组合 1"/>
          <p:cNvGrpSpPr/>
          <p:nvPr/>
        </p:nvGrpSpPr>
        <p:grpSpPr>
          <a:xfrm>
            <a:off x="304920" y="3822480"/>
            <a:ext cx="1079640" cy="964080"/>
            <a:chOff x="304920" y="3822480"/>
            <a:chExt cx="1079640" cy="964080"/>
          </a:xfrm>
        </p:grpSpPr>
        <p:sp>
          <p:nvSpPr>
            <p:cNvPr id="323" name="五边形 7"/>
            <p:cNvSpPr/>
            <p:nvPr/>
          </p:nvSpPr>
          <p:spPr>
            <a:xfrm>
              <a:off x="304920" y="3822480"/>
              <a:ext cx="1079640" cy="964080"/>
            </a:xfrm>
            <a:prstGeom prst="homePlate">
              <a:avLst>
                <a:gd name="adj" fmla="val 50000"/>
              </a:avLst>
            </a:prstGeom>
            <a:solidFill>
              <a:schemeClr val="accent1">
                <a:lumMod val="50000"/>
              </a:schemeClr>
            </a:solidFill>
            <a:ln>
              <a:noFill/>
            </a:ln>
            <a:effectLst>
              <a:reflection algn="bl" blurRad="6350" dir="5400000" endA="300" endPos="35000" rotWithShape="0" stA="52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4" name="文本框 8"/>
            <p:cNvSpPr/>
            <p:nvPr/>
          </p:nvSpPr>
          <p:spPr>
            <a:xfrm>
              <a:off x="419760" y="3942000"/>
              <a:ext cx="501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Broadway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14"/>
          <p:cNvGrpSpPr/>
          <p:nvPr/>
        </p:nvGrpSpPr>
        <p:grpSpPr>
          <a:xfrm>
            <a:off x="0" y="0"/>
            <a:ext cx="304560" cy="5714640"/>
            <a:chOff x="0" y="0"/>
            <a:chExt cx="304560" cy="5714640"/>
          </a:xfrm>
        </p:grpSpPr>
        <p:sp>
          <p:nvSpPr>
            <p:cNvPr id="326" name="矩形 15"/>
            <p:cNvSpPr/>
            <p:nvPr/>
          </p:nvSpPr>
          <p:spPr>
            <a:xfrm>
              <a:off x="0" y="1626840"/>
              <a:ext cx="304560" cy="40878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7" name="矩形 16"/>
            <p:cNvSpPr/>
            <p:nvPr/>
          </p:nvSpPr>
          <p:spPr>
            <a:xfrm>
              <a:off x="0" y="766080"/>
              <a:ext cx="304560" cy="3974400"/>
            </a:xfrm>
            <a:prstGeom prst="rect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28" name="图片 1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04560" cy="31305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29" name="直接连接符 19"/>
          <p:cNvCxnSpPr/>
          <p:nvPr/>
        </p:nvCxnSpPr>
        <p:spPr>
          <a:xfrm>
            <a:off x="4499280" y="955080"/>
            <a:ext cx="4492440" cy="360"/>
          </a:xfrm>
          <a:prstGeom prst="straightConnector1">
            <a:avLst/>
          </a:prstGeom>
          <a:ln w="12700">
            <a:solidFill>
              <a:srgbClr val="003360"/>
            </a:solidFill>
          </a:ln>
        </p:spPr>
      </p:cxnSp>
      <p:sp>
        <p:nvSpPr>
          <p:cNvPr id="330" name="文本框 20"/>
          <p:cNvSpPr/>
          <p:nvPr/>
        </p:nvSpPr>
        <p:spPr>
          <a:xfrm>
            <a:off x="7334280" y="37224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对方的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5"/>
          <p:cNvSpPr/>
          <p:nvPr/>
        </p:nvSpPr>
        <p:spPr>
          <a:xfrm flipH="1">
            <a:off x="1901520" y="1987560"/>
            <a:ext cx="1088280" cy="970920"/>
          </a:xfrm>
          <a:custGeom>
            <a:avLst/>
            <a:gdLst>
              <a:gd name="textAreaLeft" fmla="*/ -360 w 1088280"/>
              <a:gd name="textAreaRight" fmla="*/ 1088280 w 1088280"/>
              <a:gd name="textAreaTop" fmla="*/ 0 h 970920"/>
              <a:gd name="textAreaBottom" fmla="*/ 971280 h 970920"/>
            </a:gdLst>
            <a:ahLst/>
            <a:rect l="textAreaLeft" t="textAreaTop" r="textAreaRight" b="textAreaBottom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4"/>
          <p:cNvSpPr/>
          <p:nvPr/>
        </p:nvSpPr>
        <p:spPr>
          <a:xfrm>
            <a:off x="1726200" y="774000"/>
            <a:ext cx="1767960" cy="2184120"/>
          </a:xfrm>
          <a:prstGeom prst="rect">
            <a:avLst/>
          </a:prstGeom>
          <a:gradFill rotWithShape="0">
            <a:gsLst>
              <a:gs pos="11000">
                <a:srgbClr val="d9d9d9">
                  <a:alpha val="18039"/>
                </a:srgbClr>
              </a:gs>
              <a:gs pos="100000">
                <a:srgbClr val="ffffff">
                  <a:alpha val="31372"/>
                </a:srgbClr>
              </a:gs>
            </a:gsLst>
            <a:lin ang="8100000"/>
          </a:gradFill>
          <a:ln w="76200">
            <a:solidFill>
              <a:srgbClr val="5b9bd5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3" name="Freeform 45"/>
          <p:cNvSpPr/>
          <p:nvPr/>
        </p:nvSpPr>
        <p:spPr>
          <a:xfrm>
            <a:off x="2446560" y="1222920"/>
            <a:ext cx="1880280" cy="1788120"/>
          </a:xfrm>
          <a:custGeom>
            <a:avLst/>
            <a:gdLst>
              <a:gd name="textAreaLeft" fmla="*/ 0 w 1880280"/>
              <a:gd name="textAreaRight" fmla="*/ 1880640 w 1880280"/>
              <a:gd name="textAreaTop" fmla="*/ 0 h 1788120"/>
              <a:gd name="textAreaBottom" fmla="*/ 1788480 h 1788120"/>
            </a:gdLst>
            <a:ahLst/>
            <a:rect l="textAreaLeft" t="textAreaTop" r="textAreaRight" b="textAreaBottom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chemeClr val="accent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2"/>
          <a:srcRect l="2757" t="0" r="7208" b="57688"/>
          <a:stretch/>
        </p:blipFill>
        <p:spPr>
          <a:xfrm flipH="1" rot="10800000">
            <a:off x="1547640" y="3001320"/>
            <a:ext cx="7056360" cy="12924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29"/>
          <p:cNvSpPr/>
          <p:nvPr/>
        </p:nvSpPr>
        <p:spPr>
          <a:xfrm>
            <a:off x="1726200" y="3376800"/>
            <a:ext cx="698724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确定决策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如何能够既服务于对方利益又帮助你实现自己的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为什么对方会说“不”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f4e79"/>
              </a:buClr>
              <a:buFont typeface="Wingdings" charset="2"/>
              <a:buChar char=""/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什么样的低成本方案将排除对方的反对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0"/>
          <p:cNvSpPr/>
          <p:nvPr/>
        </p:nvSpPr>
        <p:spPr>
          <a:xfrm>
            <a:off x="5000760" y="1727280"/>
            <a:ext cx="36878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高效谈判者都表现出一个重要特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具备从</a:t>
            </a:r>
            <a:r>
              <a:rPr b="1" lang="zh-CN" sz="28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对方角度</a:t>
            </a: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看待问题的能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五边形 9"/>
          <p:cNvSpPr/>
          <p:nvPr/>
        </p:nvSpPr>
        <p:spPr>
          <a:xfrm>
            <a:off x="304920" y="96444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五边形 10"/>
          <p:cNvSpPr/>
          <p:nvPr/>
        </p:nvSpPr>
        <p:spPr>
          <a:xfrm>
            <a:off x="304920" y="192852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五边形 11"/>
          <p:cNvSpPr/>
          <p:nvPr/>
        </p:nvSpPr>
        <p:spPr>
          <a:xfrm>
            <a:off x="304920" y="289296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0" name="五边形 12"/>
          <p:cNvSpPr/>
          <p:nvPr/>
        </p:nvSpPr>
        <p:spPr>
          <a:xfrm>
            <a:off x="304920" y="379260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五边形 13"/>
          <p:cNvSpPr/>
          <p:nvPr/>
        </p:nvSpPr>
        <p:spPr>
          <a:xfrm>
            <a:off x="304920" y="0"/>
            <a:ext cx="378360" cy="9640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1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42" name="组合 3"/>
          <p:cNvGrpSpPr/>
          <p:nvPr/>
        </p:nvGrpSpPr>
        <p:grpSpPr>
          <a:xfrm>
            <a:off x="0" y="0"/>
            <a:ext cx="304560" cy="5714640"/>
            <a:chOff x="0" y="0"/>
            <a:chExt cx="304560" cy="5714640"/>
          </a:xfrm>
        </p:grpSpPr>
        <p:sp>
          <p:nvSpPr>
            <p:cNvPr id="343" name="矩形 4"/>
            <p:cNvSpPr/>
            <p:nvPr/>
          </p:nvSpPr>
          <p:spPr>
            <a:xfrm>
              <a:off x="0" y="1626840"/>
              <a:ext cx="304560" cy="40878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4" name="矩形 5"/>
            <p:cNvSpPr/>
            <p:nvPr/>
          </p:nvSpPr>
          <p:spPr>
            <a:xfrm>
              <a:off x="0" y="766080"/>
              <a:ext cx="304560" cy="3974400"/>
            </a:xfrm>
            <a:prstGeom prst="rect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45" name="图片 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04560" cy="313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组合 1"/>
          <p:cNvGrpSpPr/>
          <p:nvPr/>
        </p:nvGrpSpPr>
        <p:grpSpPr>
          <a:xfrm>
            <a:off x="304920" y="4745880"/>
            <a:ext cx="1079640" cy="964080"/>
            <a:chOff x="304920" y="4745880"/>
            <a:chExt cx="1079640" cy="964080"/>
          </a:xfrm>
        </p:grpSpPr>
        <p:sp>
          <p:nvSpPr>
            <p:cNvPr id="347" name="五边形 7"/>
            <p:cNvSpPr/>
            <p:nvPr/>
          </p:nvSpPr>
          <p:spPr>
            <a:xfrm>
              <a:off x="304920" y="4745880"/>
              <a:ext cx="1079640" cy="964080"/>
            </a:xfrm>
            <a:prstGeom prst="homePlate">
              <a:avLst>
                <a:gd name="adj" fmla="val 50000"/>
              </a:avLst>
            </a:prstGeom>
            <a:solidFill>
              <a:schemeClr val="accent1">
                <a:lumMod val="50000"/>
              </a:schemeClr>
            </a:solidFill>
            <a:ln>
              <a:noFill/>
            </a:ln>
            <a:effectLst>
              <a:reflection algn="bl" blurRad="6350" dir="5400000" endA="300" endPos="35000" rotWithShape="0" stA="52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文本框 8"/>
            <p:cNvSpPr/>
            <p:nvPr/>
          </p:nvSpPr>
          <p:spPr>
            <a:xfrm>
              <a:off x="419760" y="4865040"/>
              <a:ext cx="501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ff"/>
                  </a:solidFill>
                  <a:latin typeface="Broadway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16"/>
          <p:cNvSpPr/>
          <p:nvPr/>
        </p:nvSpPr>
        <p:spPr>
          <a:xfrm>
            <a:off x="8010720" y="37224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17"/>
          <p:cNvGrpSpPr/>
          <p:nvPr/>
        </p:nvGrpSpPr>
        <p:grpSpPr>
          <a:xfrm>
            <a:off x="3182760" y="2167560"/>
            <a:ext cx="3202200" cy="2446920"/>
            <a:chOff x="3182760" y="2167560"/>
            <a:chExt cx="3202200" cy="2446920"/>
          </a:xfrm>
        </p:grpSpPr>
        <p:sp>
          <p:nvSpPr>
            <p:cNvPr id="351" name="空心弧 2"/>
            <p:cNvSpPr/>
            <p:nvPr/>
          </p:nvSpPr>
          <p:spPr>
            <a:xfrm>
              <a:off x="4869720" y="2167560"/>
              <a:ext cx="943920" cy="948600"/>
            </a:xfrm>
            <a:custGeom>
              <a:avLst/>
              <a:gdLst>
                <a:gd name="textAreaLeft" fmla="*/ 0 w 943920"/>
                <a:gd name="textAreaRight" fmla="*/ 944280 w 943920"/>
                <a:gd name="textAreaTop" fmla="*/ 0 h 948600"/>
                <a:gd name="textAreaBottom" fmla="*/ 948960 h 948600"/>
              </a:gdLst>
              <a:ahLst/>
              <a:rect l="textAreaLeft" t="textAreaTop" r="textAreaRight" b="textAreaBottom"/>
              <a:pathLst>
                <a:path w="892379" h="922713">
                  <a:moveTo>
                    <a:pt x="0" y="0"/>
                  </a:moveTo>
                  <a:cubicBezTo>
                    <a:pt x="160168" y="9608"/>
                    <a:pt x="314383" y="51836"/>
                    <a:pt x="453426" y="123570"/>
                  </a:cubicBezTo>
                  <a:lnTo>
                    <a:pt x="604345" y="36837"/>
                  </a:lnTo>
                  <a:lnTo>
                    <a:pt x="604694" y="212831"/>
                  </a:lnTo>
                  <a:cubicBezTo>
                    <a:pt x="715765" y="290557"/>
                    <a:pt x="813361" y="388350"/>
                    <a:pt x="892379" y="502645"/>
                  </a:cubicBezTo>
                  <a:lnTo>
                    <a:pt x="207443" y="922713"/>
                  </a:lnTo>
                  <a:cubicBezTo>
                    <a:pt x="153410" y="860704"/>
                    <a:pt x="80429" y="818732"/>
                    <a:pt x="0" y="802318"/>
                  </a:cubicBezTo>
                  <a:close/>
                </a:path>
              </a:pathLst>
            </a:custGeom>
            <a:solidFill>
              <a:schemeClr val="accent1">
                <a:lumMod val="50000"/>
              </a:schemeClr>
            </a:solidFill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Broadway"/>
              </a:endParaRPr>
            </a:p>
          </p:txBody>
        </p:sp>
        <p:sp>
          <p:nvSpPr>
            <p:cNvPr id="352" name="空心弧 2"/>
            <p:cNvSpPr/>
            <p:nvPr/>
          </p:nvSpPr>
          <p:spPr>
            <a:xfrm flipH="1">
              <a:off x="3747960" y="2167560"/>
              <a:ext cx="943920" cy="948600"/>
            </a:xfrm>
            <a:custGeom>
              <a:avLst/>
              <a:gdLst>
                <a:gd name="textAreaLeft" fmla="*/ 360 w 943920"/>
                <a:gd name="textAreaRight" fmla="*/ 944640 w 943920"/>
                <a:gd name="textAreaTop" fmla="*/ 0 h 948600"/>
                <a:gd name="textAreaBottom" fmla="*/ 948960 h 948600"/>
              </a:gdLst>
              <a:ahLst/>
              <a:rect l="textAreaLeft" t="textAreaTop" r="textAreaRight" b="textAreaBottom"/>
              <a:pathLst>
                <a:path w="892379" h="922713">
                  <a:moveTo>
                    <a:pt x="0" y="0"/>
                  </a:moveTo>
                  <a:lnTo>
                    <a:pt x="0" y="802318"/>
                  </a:lnTo>
                  <a:cubicBezTo>
                    <a:pt x="80429" y="818732"/>
                    <a:pt x="153410" y="860704"/>
                    <a:pt x="207443" y="922713"/>
                  </a:cubicBezTo>
                  <a:lnTo>
                    <a:pt x="892379" y="502645"/>
                  </a:lnTo>
                  <a:cubicBezTo>
                    <a:pt x="810691" y="384489"/>
                    <a:pt x="709150" y="283968"/>
                    <a:pt x="593122" y="205428"/>
                  </a:cubicBezTo>
                  <a:lnTo>
                    <a:pt x="592787" y="36837"/>
                  </a:lnTo>
                  <a:lnTo>
                    <a:pt x="447197" y="120508"/>
                  </a:lnTo>
                  <a:cubicBezTo>
                    <a:pt x="309813" y="50592"/>
                    <a:pt x="157796" y="9466"/>
                    <a:pt x="0" y="0"/>
                  </a:cubicBezTo>
                  <a:close/>
                </a:path>
              </a:pathLst>
            </a:custGeom>
            <a:solidFill>
              <a:schemeClr val="accent1"/>
            </a:solidFill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Broadway"/>
              </a:endParaRPr>
            </a:p>
          </p:txBody>
        </p:sp>
        <p:sp>
          <p:nvSpPr>
            <p:cNvPr id="353" name="空心弧 2"/>
            <p:cNvSpPr/>
            <p:nvPr/>
          </p:nvSpPr>
          <p:spPr>
            <a:xfrm flipH="1" rot="18030600">
              <a:off x="3377160" y="2996640"/>
              <a:ext cx="917640" cy="975960"/>
            </a:xfrm>
            <a:custGeom>
              <a:avLst/>
              <a:gdLst>
                <a:gd name="textAreaLeft" fmla="*/ -360 w 917640"/>
                <a:gd name="textAreaRight" fmla="*/ 917640 w 91764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892379" h="922713">
                  <a:moveTo>
                    <a:pt x="0" y="0"/>
                  </a:moveTo>
                  <a:lnTo>
                    <a:pt x="0" y="802318"/>
                  </a:lnTo>
                  <a:cubicBezTo>
                    <a:pt x="80429" y="818732"/>
                    <a:pt x="153410" y="860704"/>
                    <a:pt x="207443" y="922713"/>
                  </a:cubicBezTo>
                  <a:lnTo>
                    <a:pt x="892379" y="502645"/>
                  </a:lnTo>
                  <a:cubicBezTo>
                    <a:pt x="808327" y="381070"/>
                    <a:pt x="703256" y="278165"/>
                    <a:pt x="582884" y="198879"/>
                  </a:cubicBezTo>
                  <a:lnTo>
                    <a:pt x="584113" y="18918"/>
                  </a:lnTo>
                  <a:lnTo>
                    <a:pt x="423962" y="109089"/>
                  </a:lnTo>
                  <a:cubicBezTo>
                    <a:pt x="292751" y="46081"/>
                    <a:pt x="148949" y="8935"/>
                    <a:pt x="0" y="0"/>
                  </a:cubicBezTo>
                  <a:close/>
                </a:path>
              </a:pathLst>
            </a:custGeom>
            <a:solidFill>
              <a:schemeClr val="accent1">
                <a:lumMod val="50000"/>
              </a:schemeClr>
            </a:solidFill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Broadway"/>
              </a:endParaRPr>
            </a:p>
          </p:txBody>
        </p:sp>
        <p:sp>
          <p:nvSpPr>
            <p:cNvPr id="354" name="空心弧 2"/>
            <p:cNvSpPr/>
            <p:nvPr/>
          </p:nvSpPr>
          <p:spPr>
            <a:xfrm rot="3569400">
              <a:off x="5272560" y="2996640"/>
              <a:ext cx="917640" cy="97596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892379" h="922713">
                  <a:moveTo>
                    <a:pt x="0" y="0"/>
                  </a:moveTo>
                  <a:cubicBezTo>
                    <a:pt x="151721" y="9102"/>
                    <a:pt x="298101" y="47473"/>
                    <a:pt x="431244" y="112668"/>
                  </a:cubicBezTo>
                  <a:lnTo>
                    <a:pt x="577343" y="30408"/>
                  </a:lnTo>
                  <a:lnTo>
                    <a:pt x="576222" y="194617"/>
                  </a:lnTo>
                  <a:cubicBezTo>
                    <a:pt x="699400" y="274403"/>
                    <a:pt x="806788" y="378844"/>
                    <a:pt x="892379" y="502645"/>
                  </a:cubicBezTo>
                  <a:lnTo>
                    <a:pt x="207443" y="922713"/>
                  </a:lnTo>
                  <a:cubicBezTo>
                    <a:pt x="153410" y="860704"/>
                    <a:pt x="80429" y="818732"/>
                    <a:pt x="0" y="802318"/>
                  </a:cubicBezTo>
                  <a:close/>
                </a:path>
              </a:pathLst>
            </a:custGeom>
            <a:solidFill>
              <a:schemeClr val="accent1"/>
            </a:solidFill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Broadway"/>
              </a:endParaRPr>
            </a:p>
          </p:txBody>
        </p:sp>
        <p:sp>
          <p:nvSpPr>
            <p:cNvPr id="355" name="空心弧 2"/>
            <p:cNvSpPr/>
            <p:nvPr/>
          </p:nvSpPr>
          <p:spPr>
            <a:xfrm flipV="1">
              <a:off x="4869720" y="3665520"/>
              <a:ext cx="943920" cy="948600"/>
            </a:xfrm>
            <a:custGeom>
              <a:avLst/>
              <a:gdLst>
                <a:gd name="textAreaLeft" fmla="*/ 0 w 943920"/>
                <a:gd name="textAreaRight" fmla="*/ 944280 w 943920"/>
                <a:gd name="textAreaTop" fmla="*/ -360 h 948600"/>
                <a:gd name="textAreaBottom" fmla="*/ 948600 h 948600"/>
              </a:gdLst>
              <a:ahLst/>
              <a:rect l="textAreaLeft" t="textAreaTop" r="textAreaRight" b="textAreaBottom"/>
              <a:pathLst>
                <a:path w="892379" h="922713">
                  <a:moveTo>
                    <a:pt x="207443" y="922713"/>
                  </a:moveTo>
                  <a:lnTo>
                    <a:pt x="892379" y="502645"/>
                  </a:lnTo>
                  <a:cubicBezTo>
                    <a:pt x="813365" y="388357"/>
                    <a:pt x="715776" y="290568"/>
                    <a:pt x="604713" y="212844"/>
                  </a:cubicBezTo>
                  <a:lnTo>
                    <a:pt x="604345" y="27002"/>
                  </a:lnTo>
                  <a:lnTo>
                    <a:pt x="444202" y="119036"/>
                  </a:lnTo>
                  <a:cubicBezTo>
                    <a:pt x="307615" y="49999"/>
                    <a:pt x="156655" y="9398"/>
                    <a:pt x="0" y="0"/>
                  </a:cubicBezTo>
                  <a:lnTo>
                    <a:pt x="0" y="802318"/>
                  </a:lnTo>
                  <a:cubicBezTo>
                    <a:pt x="80429" y="818732"/>
                    <a:pt x="153410" y="860704"/>
                    <a:pt x="207443" y="922713"/>
                  </a:cubicBezTo>
                  <a:close/>
                </a:path>
              </a:pathLst>
            </a:custGeom>
            <a:solidFill>
              <a:schemeClr val="accent1">
                <a:lumMod val="50000"/>
              </a:schemeClr>
            </a:solidFill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Broadway"/>
              </a:endParaRPr>
            </a:p>
          </p:txBody>
        </p:sp>
        <p:sp>
          <p:nvSpPr>
            <p:cNvPr id="356" name="空心弧 2"/>
            <p:cNvSpPr/>
            <p:nvPr/>
          </p:nvSpPr>
          <p:spPr>
            <a:xfrm flipH="1" flipV="1">
              <a:off x="3747960" y="3665520"/>
              <a:ext cx="943920" cy="948600"/>
            </a:xfrm>
            <a:custGeom>
              <a:avLst/>
              <a:gdLst>
                <a:gd name="textAreaLeft" fmla="*/ 360 w 943920"/>
                <a:gd name="textAreaRight" fmla="*/ 944640 w 943920"/>
                <a:gd name="textAreaTop" fmla="*/ -360 h 948600"/>
                <a:gd name="textAreaBottom" fmla="*/ 948600 h 948600"/>
              </a:gdLst>
              <a:ahLst/>
              <a:rect l="textAreaLeft" t="textAreaTop" r="textAreaRight" b="textAreaBottom"/>
              <a:pathLst>
                <a:path w="892379" h="922713">
                  <a:moveTo>
                    <a:pt x="207443" y="922713"/>
                  </a:moveTo>
                  <a:cubicBezTo>
                    <a:pt x="153410" y="860704"/>
                    <a:pt x="80429" y="818732"/>
                    <a:pt x="0" y="802318"/>
                  </a:cubicBezTo>
                  <a:lnTo>
                    <a:pt x="0" y="0"/>
                  </a:lnTo>
                  <a:cubicBezTo>
                    <a:pt x="154283" y="9255"/>
                    <a:pt x="303042" y="48777"/>
                    <a:pt x="437972" y="115975"/>
                  </a:cubicBezTo>
                  <a:lnTo>
                    <a:pt x="592787" y="27002"/>
                  </a:lnTo>
                  <a:lnTo>
                    <a:pt x="593141" y="205441"/>
                  </a:lnTo>
                  <a:cubicBezTo>
                    <a:pt x="709161" y="283979"/>
                    <a:pt x="810696" y="384496"/>
                    <a:pt x="892379" y="502645"/>
                  </a:cubicBezTo>
                  <a:close/>
                </a:path>
              </a:pathLst>
            </a:custGeom>
            <a:solidFill>
              <a:schemeClr val="accent1"/>
            </a:solidFill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Broadway"/>
              </a:endParaRPr>
            </a:p>
          </p:txBody>
        </p:sp>
        <p:sp>
          <p:nvSpPr>
            <p:cNvPr id="357" name="TextBox 23"/>
            <p:cNvSpPr/>
            <p:nvPr/>
          </p:nvSpPr>
          <p:spPr>
            <a:xfrm>
              <a:off x="4997880" y="2354760"/>
              <a:ext cx="4730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10" spc="-1" strike="noStrike">
                  <a:solidFill>
                    <a:schemeClr val="accent1"/>
                  </a:solidFill>
                  <a:latin typeface="Broadway"/>
                </a:rPr>
                <a:t>01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Box 30"/>
            <p:cNvSpPr/>
            <p:nvPr/>
          </p:nvSpPr>
          <p:spPr>
            <a:xfrm>
              <a:off x="5532480" y="3197520"/>
              <a:ext cx="4730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10" spc="-1" strike="noStrike">
                  <a:solidFill>
                    <a:schemeClr val="accent1">
                      <a:lumMod val="50000"/>
                    </a:schemeClr>
                  </a:solidFill>
                  <a:latin typeface="Broadway"/>
                </a:rPr>
                <a:t>02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31"/>
            <p:cNvSpPr/>
            <p:nvPr/>
          </p:nvSpPr>
          <p:spPr>
            <a:xfrm>
              <a:off x="5046480" y="4090320"/>
              <a:ext cx="4730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10" spc="-1" strike="noStrike">
                  <a:solidFill>
                    <a:schemeClr val="accent1"/>
                  </a:solidFill>
                  <a:latin typeface="Broadway"/>
                </a:rPr>
                <a:t>03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32"/>
            <p:cNvSpPr/>
            <p:nvPr/>
          </p:nvSpPr>
          <p:spPr>
            <a:xfrm>
              <a:off x="4023720" y="4090320"/>
              <a:ext cx="4730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10" spc="-1" strike="noStrike">
                  <a:solidFill>
                    <a:schemeClr val="accent1">
                      <a:lumMod val="50000"/>
                    </a:schemeClr>
                  </a:solidFill>
                  <a:latin typeface="Broadway"/>
                </a:rPr>
                <a:t>04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33"/>
            <p:cNvSpPr/>
            <p:nvPr/>
          </p:nvSpPr>
          <p:spPr>
            <a:xfrm>
              <a:off x="4030560" y="2354760"/>
              <a:ext cx="4730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10" spc="-1" strike="noStrike">
                  <a:solidFill>
                    <a:schemeClr val="accent1">
                      <a:lumMod val="50000"/>
                    </a:schemeClr>
                  </a:solidFill>
                  <a:latin typeface="Broadway"/>
                </a:rPr>
                <a:t>06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34"/>
            <p:cNvSpPr/>
            <p:nvPr/>
          </p:nvSpPr>
          <p:spPr>
            <a:xfrm>
              <a:off x="3550320" y="3197520"/>
              <a:ext cx="4730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10" spc="-1" strike="noStrike">
                  <a:solidFill>
                    <a:schemeClr val="accent1"/>
                  </a:solidFill>
                  <a:latin typeface="Broadway"/>
                </a:rPr>
                <a:t>05</a:t>
              </a:r>
              <a:endParaRPr b="0" lang="en-US" sz="141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Box 119"/>
          <p:cNvSpPr/>
          <p:nvPr/>
        </p:nvSpPr>
        <p:spPr>
          <a:xfrm>
            <a:off x="5127840" y="1441800"/>
            <a:ext cx="186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交易失败的情况下哪一方损失最大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19"/>
          <p:cNvSpPr/>
          <p:nvPr/>
        </p:nvSpPr>
        <p:spPr>
          <a:xfrm>
            <a:off x="5099760" y="4825800"/>
            <a:ext cx="1874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时间对谁更关键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19"/>
          <p:cNvSpPr/>
          <p:nvPr/>
        </p:nvSpPr>
        <p:spPr>
          <a:xfrm>
            <a:off x="6268320" y="3130920"/>
            <a:ext cx="2506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我可以改进自己的替代方案或让对方现状恶化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9"/>
          <p:cNvSpPr/>
          <p:nvPr/>
        </p:nvSpPr>
        <p:spPr>
          <a:xfrm>
            <a:off x="2558880" y="4815000"/>
            <a:ext cx="170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我可以控制对方谋者所需资源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9"/>
          <p:cNvSpPr/>
          <p:nvPr/>
        </p:nvSpPr>
        <p:spPr>
          <a:xfrm>
            <a:off x="1245960" y="3124080"/>
            <a:ext cx="212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我可以用有利于我的准则来约束对方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19"/>
          <p:cNvSpPr/>
          <p:nvPr/>
        </p:nvSpPr>
        <p:spPr>
          <a:xfrm>
            <a:off x="2734200" y="1441800"/>
            <a:ext cx="191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我可以组建联盟以提高我的地位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03"/>
          <p:cNvSpPr/>
          <p:nvPr/>
        </p:nvSpPr>
        <p:spPr>
          <a:xfrm>
            <a:off x="4289040" y="2658960"/>
            <a:ext cx="323280" cy="278640"/>
          </a:xfrm>
          <a:custGeom>
            <a:avLst/>
            <a:gdLst>
              <a:gd name="textAreaLeft" fmla="*/ 0 w 323280"/>
              <a:gd name="textAreaRight" fmla="*/ 323640 w 323280"/>
              <a:gd name="textAreaTop" fmla="*/ 0 h 278640"/>
              <a:gd name="textAreaBottom" fmla="*/ 279000 h 278640"/>
            </a:gdLst>
            <a:ahLst/>
            <a:rect l="textAreaLeft" t="textAreaTop" r="textAreaRight" b="textAreaBottom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chemeClr val="accent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61"/>
          <p:cNvSpPr/>
          <p:nvPr/>
        </p:nvSpPr>
        <p:spPr>
          <a:xfrm>
            <a:off x="5324040" y="3261240"/>
            <a:ext cx="270360" cy="268920"/>
          </a:xfrm>
          <a:custGeom>
            <a:avLst/>
            <a:gdLst>
              <a:gd name="textAreaLeft" fmla="*/ 0 w 270360"/>
              <a:gd name="textAreaRight" fmla="*/ 270720 w 270360"/>
              <a:gd name="textAreaTop" fmla="*/ 0 h 268920"/>
              <a:gd name="textAreaBottom" fmla="*/ 269280 h 268920"/>
            </a:gdLst>
            <a:ahLst/>
            <a:rect l="textAreaLeft" t="textAreaTop" r="textAreaRight" b="textAreaBottom"/>
            <a:pathLst>
              <a:path w="87" h="115">
                <a:moveTo>
                  <a:pt x="0" y="79"/>
                </a:moveTo>
                <a:cubicBezTo>
                  <a:pt x="8" y="69"/>
                  <a:pt x="24" y="74"/>
                  <a:pt x="35" y="66"/>
                </a:cubicBezTo>
                <a:cubicBezTo>
                  <a:pt x="41" y="66"/>
                  <a:pt x="47" y="66"/>
                  <a:pt x="53" y="66"/>
                </a:cubicBezTo>
                <a:cubicBezTo>
                  <a:pt x="64" y="74"/>
                  <a:pt x="80" y="69"/>
                  <a:pt x="87" y="79"/>
                </a:cubicBezTo>
                <a:cubicBezTo>
                  <a:pt x="87" y="84"/>
                  <a:pt x="87" y="99"/>
                  <a:pt x="87" y="104"/>
                </a:cubicBezTo>
                <a:cubicBezTo>
                  <a:pt x="80" y="105"/>
                  <a:pt x="69" y="106"/>
                  <a:pt x="57" y="107"/>
                </a:cubicBezTo>
                <a:cubicBezTo>
                  <a:pt x="56" y="108"/>
                  <a:pt x="56" y="108"/>
                  <a:pt x="56" y="108"/>
                </a:cubicBezTo>
                <a:cubicBezTo>
                  <a:pt x="46" y="114"/>
                  <a:pt x="46" y="114"/>
                  <a:pt x="46" y="114"/>
                </a:cubicBezTo>
                <a:cubicBezTo>
                  <a:pt x="44" y="115"/>
                  <a:pt x="44" y="115"/>
                  <a:pt x="44" y="115"/>
                </a:cubicBezTo>
                <a:cubicBezTo>
                  <a:pt x="43" y="114"/>
                  <a:pt x="43" y="114"/>
                  <a:pt x="43" y="114"/>
                </a:cubicBezTo>
                <a:cubicBezTo>
                  <a:pt x="33" y="108"/>
                  <a:pt x="33" y="108"/>
                  <a:pt x="33" y="108"/>
                </a:cubicBezTo>
                <a:cubicBezTo>
                  <a:pt x="32" y="107"/>
                  <a:pt x="32" y="107"/>
                  <a:pt x="32" y="107"/>
                </a:cubicBezTo>
                <a:cubicBezTo>
                  <a:pt x="20" y="107"/>
                  <a:pt x="9" y="105"/>
                  <a:pt x="0" y="104"/>
                </a:cubicBezTo>
                <a:cubicBezTo>
                  <a:pt x="0" y="99"/>
                  <a:pt x="0" y="84"/>
                  <a:pt x="0" y="79"/>
                </a:cubicBezTo>
                <a:close/>
                <a:moveTo>
                  <a:pt x="42" y="11"/>
                </a:moveTo>
                <a:cubicBezTo>
                  <a:pt x="34" y="15"/>
                  <a:pt x="34" y="15"/>
                  <a:pt x="34" y="15"/>
                </a:cubicBezTo>
                <a:cubicBezTo>
                  <a:pt x="25" y="19"/>
                  <a:pt x="25" y="19"/>
                  <a:pt x="25" y="19"/>
                </a:cubicBezTo>
                <a:cubicBezTo>
                  <a:pt x="25" y="14"/>
                  <a:pt x="25" y="14"/>
                  <a:pt x="25" y="14"/>
                </a:cubicBezTo>
                <a:cubicBezTo>
                  <a:pt x="15" y="16"/>
                  <a:pt x="8" y="23"/>
                  <a:pt x="9" y="36"/>
                </a:cubicBezTo>
                <a:cubicBezTo>
                  <a:pt x="7" y="20"/>
                  <a:pt x="12" y="7"/>
                  <a:pt x="26" y="4"/>
                </a:cubicBezTo>
                <a:cubicBezTo>
                  <a:pt x="26" y="0"/>
                  <a:pt x="26" y="0"/>
                  <a:pt x="26" y="0"/>
                </a:cubicBezTo>
                <a:cubicBezTo>
                  <a:pt x="34" y="5"/>
                  <a:pt x="34" y="5"/>
                  <a:pt x="34" y="5"/>
                </a:cubicBezTo>
                <a:cubicBezTo>
                  <a:pt x="42" y="11"/>
                  <a:pt x="42" y="11"/>
                  <a:pt x="42" y="11"/>
                </a:cubicBezTo>
                <a:close/>
                <a:moveTo>
                  <a:pt x="40" y="51"/>
                </a:moveTo>
                <a:cubicBezTo>
                  <a:pt x="47" y="57"/>
                  <a:pt x="47" y="57"/>
                  <a:pt x="47" y="57"/>
                </a:cubicBezTo>
                <a:cubicBezTo>
                  <a:pt x="54" y="64"/>
                  <a:pt x="54" y="64"/>
                  <a:pt x="54" y="64"/>
                </a:cubicBezTo>
                <a:cubicBezTo>
                  <a:pt x="55" y="60"/>
                  <a:pt x="55" y="60"/>
                  <a:pt x="55" y="60"/>
                </a:cubicBezTo>
                <a:cubicBezTo>
                  <a:pt x="69" y="60"/>
                  <a:pt x="77" y="48"/>
                  <a:pt x="77" y="32"/>
                </a:cubicBezTo>
                <a:cubicBezTo>
                  <a:pt x="76" y="45"/>
                  <a:pt x="67" y="50"/>
                  <a:pt x="57" y="50"/>
                </a:cubicBezTo>
                <a:cubicBezTo>
                  <a:pt x="58" y="45"/>
                  <a:pt x="58" y="45"/>
                  <a:pt x="58" y="45"/>
                </a:cubicBezTo>
                <a:cubicBezTo>
                  <a:pt x="49" y="48"/>
                  <a:pt x="49" y="48"/>
                  <a:pt x="49" y="48"/>
                </a:cubicBezTo>
                <a:cubicBezTo>
                  <a:pt x="40" y="51"/>
                  <a:pt x="40" y="51"/>
                  <a:pt x="40" y="51"/>
                </a:cubicBezTo>
                <a:close/>
                <a:moveTo>
                  <a:pt x="46" y="62"/>
                </a:moveTo>
                <a:cubicBezTo>
                  <a:pt x="40" y="56"/>
                  <a:pt x="40" y="56"/>
                  <a:pt x="40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9" y="56"/>
                  <a:pt x="38" y="56"/>
                  <a:pt x="37" y="56"/>
                </a:cubicBezTo>
                <a:cubicBezTo>
                  <a:pt x="36" y="55"/>
                  <a:pt x="35" y="55"/>
                  <a:pt x="34" y="55"/>
                </a:cubicBezTo>
                <a:cubicBezTo>
                  <a:pt x="34" y="55"/>
                  <a:pt x="34" y="55"/>
                  <a:pt x="34" y="55"/>
                </a:cubicBezTo>
                <a:cubicBezTo>
                  <a:pt x="31" y="53"/>
                  <a:pt x="28" y="52"/>
                  <a:pt x="26" y="49"/>
                </a:cubicBezTo>
                <a:cubicBezTo>
                  <a:pt x="21" y="45"/>
                  <a:pt x="19" y="39"/>
                  <a:pt x="19" y="32"/>
                </a:cubicBezTo>
                <a:cubicBezTo>
                  <a:pt x="19" y="30"/>
                  <a:pt x="19" y="27"/>
                  <a:pt x="20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4"/>
                  <a:pt x="20" y="23"/>
                  <a:pt x="21" y="22"/>
                </a:cubicBezTo>
                <a:cubicBezTo>
                  <a:pt x="21" y="20"/>
                  <a:pt x="21" y="20"/>
                  <a:pt x="21" y="20"/>
                </a:cubicBezTo>
                <a:cubicBezTo>
                  <a:pt x="15" y="22"/>
                  <a:pt x="12" y="28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5" y="44"/>
                  <a:pt x="17" y="49"/>
                  <a:pt x="22" y="53"/>
                </a:cubicBezTo>
                <a:cubicBezTo>
                  <a:pt x="26" y="58"/>
                  <a:pt x="32" y="61"/>
                  <a:pt x="39" y="62"/>
                </a:cubicBezTo>
                <a:cubicBezTo>
                  <a:pt x="39" y="62"/>
                  <a:pt x="39" y="62"/>
                  <a:pt x="39" y="62"/>
                </a:cubicBezTo>
                <a:cubicBezTo>
                  <a:pt x="39" y="62"/>
                  <a:pt x="39" y="62"/>
                  <a:pt x="39" y="62"/>
                </a:cubicBezTo>
                <a:cubicBezTo>
                  <a:pt x="42" y="62"/>
                  <a:pt x="44" y="62"/>
                  <a:pt x="46" y="62"/>
                </a:cubicBezTo>
                <a:close/>
                <a:moveTo>
                  <a:pt x="43" y="27"/>
                </a:moveTo>
                <a:cubicBezTo>
                  <a:pt x="43" y="27"/>
                  <a:pt x="42" y="27"/>
                  <a:pt x="42" y="27"/>
                </a:cubicBezTo>
                <a:cubicBezTo>
                  <a:pt x="39" y="22"/>
                  <a:pt x="39" y="21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3" y="18"/>
                  <a:pt x="33" y="18"/>
                  <a:pt x="33" y="18"/>
                </a:cubicBezTo>
                <a:cubicBezTo>
                  <a:pt x="35" y="23"/>
                  <a:pt x="36" y="25"/>
                  <a:pt x="39" y="29"/>
                </a:cubicBezTo>
                <a:cubicBezTo>
                  <a:pt x="39" y="30"/>
                  <a:pt x="39" y="31"/>
                  <a:pt x="39" y="32"/>
                </a:cubicBezTo>
                <a:cubicBezTo>
                  <a:pt x="39" y="35"/>
                  <a:pt x="41" y="37"/>
                  <a:pt x="43" y="37"/>
                </a:cubicBezTo>
                <a:cubicBezTo>
                  <a:pt x="46" y="37"/>
                  <a:pt x="48" y="35"/>
                  <a:pt x="48" y="32"/>
                </a:cubicBezTo>
                <a:cubicBezTo>
                  <a:pt x="48" y="32"/>
                  <a:pt x="48" y="31"/>
                  <a:pt x="48" y="31"/>
                </a:cubicBezTo>
                <a:cubicBezTo>
                  <a:pt x="51" y="28"/>
                  <a:pt x="51" y="28"/>
                  <a:pt x="54" y="24"/>
                </a:cubicBezTo>
                <a:cubicBezTo>
                  <a:pt x="53" y="23"/>
                  <a:pt x="52" y="23"/>
                  <a:pt x="52" y="22"/>
                </a:cubicBezTo>
                <a:cubicBezTo>
                  <a:pt x="49" y="24"/>
                  <a:pt x="48" y="25"/>
                  <a:pt x="45" y="28"/>
                </a:cubicBezTo>
                <a:cubicBezTo>
                  <a:pt x="45" y="27"/>
                  <a:pt x="44" y="27"/>
                  <a:pt x="43" y="27"/>
                </a:cubicBezTo>
                <a:close/>
                <a:moveTo>
                  <a:pt x="47" y="2"/>
                </a:moveTo>
                <a:cubicBezTo>
                  <a:pt x="44" y="1"/>
                  <a:pt x="40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45" y="8"/>
                  <a:pt x="45" y="8"/>
                  <a:pt x="45" y="8"/>
                </a:cubicBezTo>
                <a:cubicBezTo>
                  <a:pt x="45" y="8"/>
                  <a:pt x="46" y="8"/>
                  <a:pt x="46" y="8"/>
                </a:cubicBezTo>
                <a:cubicBezTo>
                  <a:pt x="46" y="8"/>
                  <a:pt x="46" y="8"/>
                  <a:pt x="46" y="8"/>
                </a:cubicBezTo>
                <a:cubicBezTo>
                  <a:pt x="47" y="8"/>
                  <a:pt x="48" y="8"/>
                  <a:pt x="49" y="9"/>
                </a:cubicBezTo>
                <a:cubicBezTo>
                  <a:pt x="51" y="9"/>
                  <a:pt x="53" y="10"/>
                  <a:pt x="54" y="10"/>
                </a:cubicBezTo>
                <a:cubicBezTo>
                  <a:pt x="54" y="10"/>
                  <a:pt x="54" y="10"/>
                  <a:pt x="54" y="10"/>
                </a:cubicBezTo>
                <a:cubicBezTo>
                  <a:pt x="54" y="10"/>
                  <a:pt x="54" y="10"/>
                  <a:pt x="54" y="10"/>
                </a:cubicBezTo>
                <a:cubicBezTo>
                  <a:pt x="57" y="12"/>
                  <a:pt x="59" y="13"/>
                  <a:pt x="60" y="15"/>
                </a:cubicBezTo>
                <a:cubicBezTo>
                  <a:pt x="61" y="16"/>
                  <a:pt x="62" y="16"/>
                  <a:pt x="62" y="17"/>
                </a:cubicBezTo>
                <a:cubicBezTo>
                  <a:pt x="63" y="18"/>
                  <a:pt x="64" y="19"/>
                  <a:pt x="64" y="20"/>
                </a:cubicBezTo>
                <a:cubicBezTo>
                  <a:pt x="65" y="22"/>
                  <a:pt x="66" y="24"/>
                  <a:pt x="67" y="27"/>
                </a:cubicBezTo>
                <a:cubicBezTo>
                  <a:pt x="67" y="27"/>
                  <a:pt x="67" y="27"/>
                  <a:pt x="67" y="27"/>
                </a:cubicBezTo>
                <a:cubicBezTo>
                  <a:pt x="67" y="27"/>
                  <a:pt x="67" y="27"/>
                  <a:pt x="67" y="27"/>
                </a:cubicBezTo>
                <a:cubicBezTo>
                  <a:pt x="67" y="29"/>
                  <a:pt x="67" y="30"/>
                  <a:pt x="67" y="32"/>
                </a:cubicBezTo>
                <a:cubicBezTo>
                  <a:pt x="67" y="33"/>
                  <a:pt x="67" y="34"/>
                  <a:pt x="67" y="35"/>
                </a:cubicBezTo>
                <a:cubicBezTo>
                  <a:pt x="67" y="35"/>
                  <a:pt x="67" y="35"/>
                  <a:pt x="67" y="35"/>
                </a:cubicBezTo>
                <a:cubicBezTo>
                  <a:pt x="67" y="36"/>
                  <a:pt x="67" y="37"/>
                  <a:pt x="67" y="38"/>
                </a:cubicBezTo>
                <a:cubicBezTo>
                  <a:pt x="66" y="41"/>
                  <a:pt x="65" y="43"/>
                  <a:pt x="64" y="45"/>
                </a:cubicBezTo>
                <a:cubicBezTo>
                  <a:pt x="69" y="43"/>
                  <a:pt x="72" y="39"/>
                  <a:pt x="73" y="32"/>
                </a:cubicBezTo>
                <a:cubicBezTo>
                  <a:pt x="73" y="29"/>
                  <a:pt x="73" y="29"/>
                  <a:pt x="73" y="29"/>
                </a:cubicBezTo>
                <a:cubicBezTo>
                  <a:pt x="73" y="28"/>
                  <a:pt x="73" y="27"/>
                  <a:pt x="73" y="26"/>
                </a:cubicBezTo>
                <a:cubicBezTo>
                  <a:pt x="73" y="26"/>
                  <a:pt x="73" y="26"/>
                  <a:pt x="73" y="26"/>
                </a:cubicBezTo>
                <a:cubicBezTo>
                  <a:pt x="73" y="26"/>
                  <a:pt x="73" y="26"/>
                  <a:pt x="73" y="26"/>
                </a:cubicBezTo>
                <a:cubicBezTo>
                  <a:pt x="72" y="21"/>
                  <a:pt x="70" y="17"/>
                  <a:pt x="67" y="14"/>
                </a:cubicBezTo>
                <a:cubicBezTo>
                  <a:pt x="64" y="10"/>
                  <a:pt x="61" y="7"/>
                  <a:pt x="57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4" y="3"/>
                  <a:pt x="51" y="2"/>
                  <a:pt x="47" y="2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2"/>
                  <a:pt x="47" y="2"/>
                  <a:pt x="47" y="2"/>
                </a:cubicBezTo>
                <a:close/>
                <a:moveTo>
                  <a:pt x="57" y="18"/>
                </a:moveTo>
                <a:cubicBezTo>
                  <a:pt x="59" y="16"/>
                  <a:pt x="59" y="16"/>
                  <a:pt x="59" y="16"/>
                </a:cubicBezTo>
                <a:cubicBezTo>
                  <a:pt x="60" y="16"/>
                  <a:pt x="60" y="16"/>
                  <a:pt x="60" y="16"/>
                </a:cubicBezTo>
                <a:cubicBezTo>
                  <a:pt x="58" y="18"/>
                  <a:pt x="58" y="18"/>
                  <a:pt x="58" y="18"/>
                </a:cubicBezTo>
                <a:cubicBezTo>
                  <a:pt x="57" y="18"/>
                  <a:pt x="57" y="18"/>
                  <a:pt x="57" y="18"/>
                </a:cubicBezTo>
                <a:close/>
                <a:moveTo>
                  <a:pt x="59" y="31"/>
                </a:moveTo>
                <a:cubicBezTo>
                  <a:pt x="66" y="31"/>
                  <a:pt x="66" y="31"/>
                  <a:pt x="66" y="31"/>
                </a:cubicBezTo>
                <a:cubicBezTo>
                  <a:pt x="66" y="33"/>
                  <a:pt x="66" y="33"/>
                  <a:pt x="66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1"/>
                  <a:pt x="59" y="31"/>
                  <a:pt x="59" y="31"/>
                </a:cubicBezTo>
                <a:close/>
                <a:moveTo>
                  <a:pt x="20" y="31"/>
                </a:moveTo>
                <a:cubicBezTo>
                  <a:pt x="20" y="33"/>
                  <a:pt x="20" y="33"/>
                  <a:pt x="20" y="33"/>
                </a:cubicBezTo>
                <a:cubicBezTo>
                  <a:pt x="26" y="33"/>
                  <a:pt x="26" y="33"/>
                  <a:pt x="26" y="33"/>
                </a:cubicBezTo>
                <a:cubicBezTo>
                  <a:pt x="26" y="31"/>
                  <a:pt x="26" y="31"/>
                  <a:pt x="26" y="31"/>
                </a:cubicBezTo>
                <a:cubicBezTo>
                  <a:pt x="20" y="31"/>
                  <a:pt x="20" y="31"/>
                  <a:pt x="20" y="31"/>
                </a:cubicBezTo>
                <a:close/>
                <a:moveTo>
                  <a:pt x="29" y="46"/>
                </a:move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8" y="46"/>
                  <a:pt x="28" y="46"/>
                  <a:pt x="28" y="46"/>
                </a:cubicBezTo>
                <a:cubicBezTo>
                  <a:pt x="29" y="46"/>
                  <a:pt x="29" y="46"/>
                  <a:pt x="29" y="46"/>
                </a:cubicBezTo>
                <a:close/>
                <a:moveTo>
                  <a:pt x="41" y="71"/>
                </a:moveTo>
                <a:cubicBezTo>
                  <a:pt x="39" y="74"/>
                  <a:pt x="39" y="74"/>
                  <a:pt x="39" y="74"/>
                </a:cubicBezTo>
                <a:cubicBezTo>
                  <a:pt x="42" y="79"/>
                  <a:pt x="42" y="79"/>
                  <a:pt x="42" y="79"/>
                </a:cubicBezTo>
                <a:cubicBezTo>
                  <a:pt x="42" y="79"/>
                  <a:pt x="42" y="79"/>
                  <a:pt x="42" y="79"/>
                </a:cubicBezTo>
                <a:cubicBezTo>
                  <a:pt x="42" y="80"/>
                  <a:pt x="42" y="80"/>
                  <a:pt x="42" y="80"/>
                </a:cubicBezTo>
                <a:cubicBezTo>
                  <a:pt x="37" y="105"/>
                  <a:pt x="37" y="105"/>
                  <a:pt x="37" y="105"/>
                </a:cubicBezTo>
                <a:cubicBezTo>
                  <a:pt x="44" y="110"/>
                  <a:pt x="44" y="110"/>
                  <a:pt x="44" y="110"/>
                </a:cubicBezTo>
                <a:cubicBezTo>
                  <a:pt x="53" y="105"/>
                  <a:pt x="53" y="105"/>
                  <a:pt x="53" y="105"/>
                </a:cubicBezTo>
                <a:cubicBezTo>
                  <a:pt x="47" y="80"/>
                  <a:pt x="47" y="80"/>
                  <a:pt x="47" y="80"/>
                </a:cubicBezTo>
                <a:cubicBezTo>
                  <a:pt x="46" y="79"/>
                  <a:pt x="46" y="79"/>
                  <a:pt x="46" y="79"/>
                </a:cubicBezTo>
                <a:cubicBezTo>
                  <a:pt x="47" y="79"/>
                  <a:pt x="47" y="79"/>
                  <a:pt x="47" y="79"/>
                </a:cubicBezTo>
                <a:cubicBezTo>
                  <a:pt x="50" y="74"/>
                  <a:pt x="50" y="74"/>
                  <a:pt x="50" y="74"/>
                </a:cubicBezTo>
                <a:cubicBezTo>
                  <a:pt x="48" y="71"/>
                  <a:pt x="48" y="71"/>
                  <a:pt x="48" y="71"/>
                </a:cubicBezTo>
                <a:lnTo>
                  <a:pt x="41" y="71"/>
                </a:lnTo>
                <a:close/>
              </a:path>
            </a:pathLst>
          </a:custGeom>
          <a:solidFill>
            <a:schemeClr val="accent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67"/>
          <p:cNvSpPr/>
          <p:nvPr/>
        </p:nvSpPr>
        <p:spPr>
          <a:xfrm>
            <a:off x="4955400" y="2649600"/>
            <a:ext cx="288720" cy="275760"/>
          </a:xfrm>
          <a:custGeom>
            <a:avLst/>
            <a:gdLst>
              <a:gd name="textAreaLeft" fmla="*/ 0 w 288720"/>
              <a:gd name="textAreaRight" fmla="*/ 289080 w 28872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w="77" h="98">
                <a:moveTo>
                  <a:pt x="22" y="33"/>
                </a:moveTo>
                <a:cubicBezTo>
                  <a:pt x="11" y="49"/>
                  <a:pt x="4" y="66"/>
                  <a:pt x="0" y="85"/>
                </a:cubicBezTo>
                <a:cubicBezTo>
                  <a:pt x="1" y="91"/>
                  <a:pt x="5" y="96"/>
                  <a:pt x="11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1" y="98"/>
                  <a:pt x="31" y="98"/>
                  <a:pt x="31" y="98"/>
                </a:cubicBezTo>
                <a:cubicBezTo>
                  <a:pt x="31" y="98"/>
                  <a:pt x="31" y="98"/>
                  <a:pt x="31" y="98"/>
                </a:cubicBezTo>
                <a:cubicBezTo>
                  <a:pt x="32" y="98"/>
                  <a:pt x="32" y="98"/>
                  <a:pt x="32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4" y="98"/>
                  <a:pt x="34" y="98"/>
                  <a:pt x="34" y="98"/>
                </a:cubicBezTo>
                <a:cubicBezTo>
                  <a:pt x="34" y="98"/>
                  <a:pt x="34" y="98"/>
                  <a:pt x="34" y="98"/>
                </a:cubicBezTo>
                <a:cubicBezTo>
                  <a:pt x="34" y="98"/>
                  <a:pt x="34" y="98"/>
                  <a:pt x="34" y="98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98"/>
                  <a:pt x="35" y="98"/>
                  <a:pt x="35" y="98"/>
                </a:cubicBezTo>
                <a:cubicBezTo>
                  <a:pt x="36" y="98"/>
                  <a:pt x="36" y="98"/>
                  <a:pt x="36" y="98"/>
                </a:cubicBezTo>
                <a:cubicBezTo>
                  <a:pt x="37" y="98"/>
                  <a:pt x="37" y="98"/>
                  <a:pt x="37" y="98"/>
                </a:cubicBezTo>
                <a:cubicBezTo>
                  <a:pt x="37" y="98"/>
                  <a:pt x="37" y="98"/>
                  <a:pt x="37" y="98"/>
                </a:cubicBezTo>
                <a:cubicBezTo>
                  <a:pt x="37" y="98"/>
                  <a:pt x="37" y="98"/>
                  <a:pt x="37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9" y="98"/>
                  <a:pt x="39" y="98"/>
                  <a:pt x="39" y="98"/>
                </a:cubicBezTo>
                <a:cubicBezTo>
                  <a:pt x="39" y="98"/>
                  <a:pt x="39" y="98"/>
                  <a:pt x="39" y="98"/>
                </a:cubicBezTo>
                <a:cubicBezTo>
                  <a:pt x="40" y="98"/>
                  <a:pt x="40" y="98"/>
                  <a:pt x="40" y="98"/>
                </a:cubicBezTo>
                <a:cubicBezTo>
                  <a:pt x="40" y="98"/>
                  <a:pt x="40" y="98"/>
                  <a:pt x="40" y="98"/>
                </a:cubicBezTo>
                <a:cubicBezTo>
                  <a:pt x="41" y="98"/>
                  <a:pt x="41" y="98"/>
                  <a:pt x="41" y="98"/>
                </a:cubicBezTo>
                <a:cubicBezTo>
                  <a:pt x="41" y="98"/>
                  <a:pt x="41" y="98"/>
                  <a:pt x="41" y="98"/>
                </a:cubicBezTo>
                <a:cubicBezTo>
                  <a:pt x="42" y="98"/>
                  <a:pt x="42" y="98"/>
                  <a:pt x="42" y="98"/>
                </a:cubicBezTo>
                <a:cubicBezTo>
                  <a:pt x="42" y="98"/>
                  <a:pt x="42" y="98"/>
                  <a:pt x="42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4" y="98"/>
                  <a:pt x="44" y="98"/>
                  <a:pt x="44" y="98"/>
                </a:cubicBezTo>
                <a:cubicBezTo>
                  <a:pt x="45" y="98"/>
                  <a:pt x="45" y="98"/>
                  <a:pt x="45" y="98"/>
                </a:cubicBezTo>
                <a:cubicBezTo>
                  <a:pt x="45" y="98"/>
                  <a:pt x="45" y="98"/>
                  <a:pt x="45" y="98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98"/>
                  <a:pt x="46" y="98"/>
                  <a:pt x="46" y="98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98"/>
                  <a:pt x="47" y="98"/>
                  <a:pt x="47" y="98"/>
                </a:cubicBezTo>
                <a:cubicBezTo>
                  <a:pt x="66" y="98"/>
                  <a:pt x="66" y="98"/>
                  <a:pt x="66" y="98"/>
                </a:cubicBezTo>
                <a:cubicBezTo>
                  <a:pt x="72" y="96"/>
                  <a:pt x="75" y="91"/>
                  <a:pt x="77" y="85"/>
                </a:cubicBezTo>
                <a:cubicBezTo>
                  <a:pt x="72" y="66"/>
                  <a:pt x="66" y="49"/>
                  <a:pt x="55" y="33"/>
                </a:cubicBezTo>
                <a:cubicBezTo>
                  <a:pt x="44" y="33"/>
                  <a:pt x="33" y="33"/>
                  <a:pt x="22" y="33"/>
                </a:cubicBezTo>
                <a:close/>
                <a:moveTo>
                  <a:pt x="50" y="20"/>
                </a:moveTo>
                <a:cubicBezTo>
                  <a:pt x="42" y="20"/>
                  <a:pt x="34" y="20"/>
                  <a:pt x="25" y="20"/>
                </a:cubicBezTo>
                <a:cubicBezTo>
                  <a:pt x="16" y="1"/>
                  <a:pt x="16" y="1"/>
                  <a:pt x="16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6"/>
                  <a:pt x="25" y="6"/>
                  <a:pt x="25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6"/>
                  <a:pt x="36" y="6"/>
                  <a:pt x="36" y="6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0"/>
                  <a:pt x="40" y="0"/>
                  <a:pt x="4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6"/>
                  <a:pt x="48" y="6"/>
                  <a:pt x="48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3" y="0"/>
                  <a:pt x="53" y="0"/>
                  <a:pt x="53" y="0"/>
                </a:cubicBezTo>
                <a:cubicBezTo>
                  <a:pt x="59" y="1"/>
                  <a:pt x="59" y="1"/>
                  <a:pt x="59" y="1"/>
                </a:cubicBezTo>
                <a:cubicBezTo>
                  <a:pt x="50" y="20"/>
                  <a:pt x="50" y="20"/>
                  <a:pt x="50" y="20"/>
                </a:cubicBezTo>
                <a:close/>
                <a:moveTo>
                  <a:pt x="18" y="31"/>
                </a:moveTo>
                <a:cubicBezTo>
                  <a:pt x="16" y="31"/>
                  <a:pt x="14" y="29"/>
                  <a:pt x="14" y="26"/>
                </a:cubicBezTo>
                <a:cubicBezTo>
                  <a:pt x="14" y="24"/>
                  <a:pt x="16" y="22"/>
                  <a:pt x="18" y="22"/>
                </a:cubicBezTo>
                <a:cubicBezTo>
                  <a:pt x="59" y="22"/>
                  <a:pt x="59" y="22"/>
                  <a:pt x="59" y="22"/>
                </a:cubicBezTo>
                <a:cubicBezTo>
                  <a:pt x="61" y="22"/>
                  <a:pt x="63" y="24"/>
                  <a:pt x="63" y="26"/>
                </a:cubicBezTo>
                <a:cubicBezTo>
                  <a:pt x="63" y="29"/>
                  <a:pt x="61" y="31"/>
                  <a:pt x="59" y="31"/>
                </a:cubicBezTo>
                <a:cubicBezTo>
                  <a:pt x="18" y="31"/>
                  <a:pt x="18" y="31"/>
                  <a:pt x="18" y="31"/>
                </a:cubicBezTo>
                <a:close/>
                <a:moveTo>
                  <a:pt x="43" y="84"/>
                </a:moveTo>
                <a:cubicBezTo>
                  <a:pt x="43" y="86"/>
                  <a:pt x="43" y="86"/>
                  <a:pt x="43" y="86"/>
                </a:cubicBezTo>
                <a:cubicBezTo>
                  <a:pt x="35" y="86"/>
                  <a:pt x="35" y="86"/>
                  <a:pt x="35" y="86"/>
                </a:cubicBezTo>
                <a:cubicBezTo>
                  <a:pt x="35" y="84"/>
                  <a:pt x="35" y="84"/>
                  <a:pt x="35" y="84"/>
                </a:cubicBezTo>
                <a:cubicBezTo>
                  <a:pt x="32" y="83"/>
                  <a:pt x="30" y="81"/>
                  <a:pt x="30" y="77"/>
                </a:cubicBezTo>
                <a:cubicBezTo>
                  <a:pt x="30" y="69"/>
                  <a:pt x="30" y="69"/>
                  <a:pt x="30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78"/>
                  <a:pt x="37" y="78"/>
                  <a:pt x="37" y="78"/>
                </a:cubicBezTo>
                <a:cubicBezTo>
                  <a:pt x="37" y="78"/>
                  <a:pt x="38" y="79"/>
                  <a:pt x="39" y="79"/>
                </a:cubicBezTo>
                <a:cubicBezTo>
                  <a:pt x="40" y="79"/>
                  <a:pt x="40" y="78"/>
                  <a:pt x="40" y="78"/>
                </a:cubicBezTo>
                <a:cubicBezTo>
                  <a:pt x="40" y="73"/>
                  <a:pt x="40" y="73"/>
                  <a:pt x="40" y="73"/>
                </a:cubicBezTo>
                <a:cubicBezTo>
                  <a:pt x="40" y="72"/>
                  <a:pt x="40" y="71"/>
                  <a:pt x="39" y="70"/>
                </a:cubicBezTo>
                <a:cubicBezTo>
                  <a:pt x="38" y="69"/>
                  <a:pt x="36" y="67"/>
                  <a:pt x="32" y="63"/>
                </a:cubicBezTo>
                <a:cubicBezTo>
                  <a:pt x="31" y="61"/>
                  <a:pt x="30" y="59"/>
                  <a:pt x="30" y="57"/>
                </a:cubicBezTo>
                <a:cubicBezTo>
                  <a:pt x="30" y="53"/>
                  <a:pt x="30" y="53"/>
                  <a:pt x="30" y="53"/>
                </a:cubicBezTo>
                <a:cubicBezTo>
                  <a:pt x="30" y="49"/>
                  <a:pt x="32" y="47"/>
                  <a:pt x="35" y="46"/>
                </a:cubicBezTo>
                <a:cubicBezTo>
                  <a:pt x="35" y="44"/>
                  <a:pt x="35" y="44"/>
                  <a:pt x="35" y="44"/>
                </a:cubicBezTo>
                <a:cubicBezTo>
                  <a:pt x="43" y="44"/>
                  <a:pt x="43" y="44"/>
                  <a:pt x="43" y="44"/>
                </a:cubicBezTo>
                <a:cubicBezTo>
                  <a:pt x="43" y="46"/>
                  <a:pt x="43" y="46"/>
                  <a:pt x="43" y="46"/>
                </a:cubicBezTo>
                <a:cubicBezTo>
                  <a:pt x="46" y="47"/>
                  <a:pt x="48" y="49"/>
                  <a:pt x="48" y="53"/>
                </a:cubicBezTo>
                <a:cubicBezTo>
                  <a:pt x="48" y="59"/>
                  <a:pt x="48" y="59"/>
                  <a:pt x="48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40" y="52"/>
                  <a:pt x="40" y="52"/>
                  <a:pt x="40" y="52"/>
                </a:cubicBezTo>
                <a:cubicBezTo>
                  <a:pt x="40" y="51"/>
                  <a:pt x="40" y="51"/>
                  <a:pt x="39" y="51"/>
                </a:cubicBezTo>
                <a:cubicBezTo>
                  <a:pt x="38" y="51"/>
                  <a:pt x="38" y="52"/>
                  <a:pt x="38" y="53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7"/>
                  <a:pt x="39" y="59"/>
                  <a:pt x="41" y="61"/>
                </a:cubicBezTo>
                <a:cubicBezTo>
                  <a:pt x="44" y="64"/>
                  <a:pt x="47" y="67"/>
                  <a:pt x="47" y="68"/>
                </a:cubicBezTo>
                <a:cubicBezTo>
                  <a:pt x="48" y="69"/>
                  <a:pt x="49" y="71"/>
                  <a:pt x="49" y="72"/>
                </a:cubicBezTo>
                <a:cubicBezTo>
                  <a:pt x="49" y="77"/>
                  <a:pt x="49" y="77"/>
                  <a:pt x="49" y="77"/>
                </a:cubicBezTo>
                <a:cubicBezTo>
                  <a:pt x="49" y="81"/>
                  <a:pt x="47" y="83"/>
                  <a:pt x="43" y="8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34"/>
          <p:cNvSpPr/>
          <p:nvPr/>
        </p:nvSpPr>
        <p:spPr>
          <a:xfrm>
            <a:off x="3978720" y="3268800"/>
            <a:ext cx="306000" cy="308160"/>
          </a:xfrm>
          <a:custGeom>
            <a:avLst/>
            <a:gdLst>
              <a:gd name="textAreaLeft" fmla="*/ 0 w 306000"/>
              <a:gd name="textAreaRight" fmla="*/ 306360 w 3060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00" h="110">
                <a:moveTo>
                  <a:pt x="23" y="0"/>
                </a:moveTo>
                <a:cubicBezTo>
                  <a:pt x="65" y="0"/>
                  <a:pt x="65" y="0"/>
                  <a:pt x="65" y="0"/>
                </a:cubicBezTo>
                <a:cubicBezTo>
                  <a:pt x="68" y="0"/>
                  <a:pt x="71" y="1"/>
                  <a:pt x="74" y="4"/>
                </a:cubicBezTo>
                <a:cubicBezTo>
                  <a:pt x="76" y="6"/>
                  <a:pt x="77" y="9"/>
                  <a:pt x="77" y="12"/>
                </a:cubicBezTo>
                <a:cubicBezTo>
                  <a:pt x="77" y="35"/>
                  <a:pt x="77" y="35"/>
                  <a:pt x="77" y="35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12"/>
                  <a:pt x="68" y="12"/>
                  <a:pt x="68" y="12"/>
                </a:cubicBezTo>
                <a:cubicBezTo>
                  <a:pt x="68" y="11"/>
                  <a:pt x="68" y="11"/>
                  <a:pt x="67" y="10"/>
                </a:cubicBezTo>
                <a:cubicBezTo>
                  <a:pt x="67" y="10"/>
                  <a:pt x="66" y="9"/>
                  <a:pt x="65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7"/>
                  <a:pt x="28" y="18"/>
                  <a:pt x="28" y="19"/>
                </a:cubicBezTo>
                <a:cubicBezTo>
                  <a:pt x="28" y="21"/>
                  <a:pt x="27" y="23"/>
                  <a:pt x="25" y="24"/>
                </a:cubicBezTo>
                <a:cubicBezTo>
                  <a:pt x="24" y="25"/>
                  <a:pt x="23" y="26"/>
                  <a:pt x="21" y="26"/>
                </a:cubicBezTo>
                <a:cubicBezTo>
                  <a:pt x="20" y="26"/>
                  <a:pt x="19" y="26"/>
                  <a:pt x="18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85"/>
                  <a:pt x="9" y="85"/>
                  <a:pt x="9" y="85"/>
                </a:cubicBezTo>
                <a:cubicBezTo>
                  <a:pt x="9" y="86"/>
                  <a:pt x="10" y="86"/>
                  <a:pt x="10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11" y="87"/>
                  <a:pt x="11" y="88"/>
                  <a:pt x="12" y="88"/>
                </a:cubicBezTo>
                <a:cubicBezTo>
                  <a:pt x="45" y="88"/>
                  <a:pt x="45" y="88"/>
                  <a:pt x="45" y="88"/>
                </a:cubicBezTo>
                <a:cubicBezTo>
                  <a:pt x="44" y="97"/>
                  <a:pt x="44" y="97"/>
                  <a:pt x="44" y="97"/>
                </a:cubicBezTo>
                <a:cubicBezTo>
                  <a:pt x="12" y="97"/>
                  <a:pt x="12" y="97"/>
                  <a:pt x="12" y="97"/>
                </a:cubicBezTo>
                <a:cubicBezTo>
                  <a:pt x="9" y="97"/>
                  <a:pt x="6" y="96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2" y="91"/>
                  <a:pt x="0" y="88"/>
                  <a:pt x="0" y="8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0"/>
                  <a:pt x="0" y="20"/>
                  <a:pt x="0" y="20"/>
                </a:cubicBezTo>
                <a:cubicBezTo>
                  <a:pt x="2" y="19"/>
                  <a:pt x="2" y="19"/>
                  <a:pt x="2" y="19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3" y="0"/>
                  <a:pt x="23" y="0"/>
                </a:cubicBezTo>
                <a:close/>
                <a:moveTo>
                  <a:pt x="90" y="45"/>
                </a:moveTo>
                <a:cubicBezTo>
                  <a:pt x="90" y="43"/>
                  <a:pt x="90" y="43"/>
                  <a:pt x="90" y="43"/>
                </a:cubicBezTo>
                <a:cubicBezTo>
                  <a:pt x="84" y="39"/>
                  <a:pt x="84" y="39"/>
                  <a:pt x="84" y="39"/>
                </a:cubicBezTo>
                <a:cubicBezTo>
                  <a:pt x="75" y="44"/>
                  <a:pt x="75" y="44"/>
                  <a:pt x="75" y="44"/>
                </a:cubicBezTo>
                <a:cubicBezTo>
                  <a:pt x="83" y="47"/>
                  <a:pt x="83" y="47"/>
                  <a:pt x="83" y="47"/>
                </a:cubicBezTo>
                <a:cubicBezTo>
                  <a:pt x="91" y="52"/>
                  <a:pt x="91" y="52"/>
                  <a:pt x="91" y="52"/>
                </a:cubicBezTo>
                <a:cubicBezTo>
                  <a:pt x="94" y="53"/>
                  <a:pt x="94" y="53"/>
                  <a:pt x="94" y="53"/>
                </a:cubicBezTo>
                <a:cubicBezTo>
                  <a:pt x="92" y="62"/>
                  <a:pt x="88" y="70"/>
                  <a:pt x="82" y="77"/>
                </a:cubicBezTo>
                <a:cubicBezTo>
                  <a:pt x="86" y="81"/>
                  <a:pt x="86" y="81"/>
                  <a:pt x="86" y="81"/>
                </a:cubicBezTo>
                <a:cubicBezTo>
                  <a:pt x="93" y="73"/>
                  <a:pt x="98" y="63"/>
                  <a:pt x="10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98" y="50"/>
                  <a:pt x="98" y="50"/>
                  <a:pt x="98" y="50"/>
                </a:cubicBezTo>
                <a:cubicBezTo>
                  <a:pt x="90" y="45"/>
                  <a:pt x="90" y="45"/>
                  <a:pt x="90" y="45"/>
                </a:cubicBezTo>
                <a:close/>
                <a:moveTo>
                  <a:pt x="74" y="47"/>
                </a:moveTo>
                <a:cubicBezTo>
                  <a:pt x="64" y="58"/>
                  <a:pt x="58" y="70"/>
                  <a:pt x="54" y="84"/>
                </a:cubicBezTo>
                <a:cubicBezTo>
                  <a:pt x="59" y="86"/>
                  <a:pt x="64" y="89"/>
                  <a:pt x="70" y="92"/>
                </a:cubicBezTo>
                <a:cubicBezTo>
                  <a:pt x="78" y="81"/>
                  <a:pt x="85" y="68"/>
                  <a:pt x="90" y="55"/>
                </a:cubicBezTo>
                <a:cubicBezTo>
                  <a:pt x="84" y="52"/>
                  <a:pt x="79" y="50"/>
                  <a:pt x="74" y="47"/>
                </a:cubicBezTo>
                <a:close/>
                <a:moveTo>
                  <a:pt x="52" y="87"/>
                </a:moveTo>
                <a:cubicBezTo>
                  <a:pt x="50" y="103"/>
                  <a:pt x="50" y="103"/>
                  <a:pt x="50" y="103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50" y="108"/>
                  <a:pt x="50" y="108"/>
                  <a:pt x="50" y="108"/>
                </a:cubicBezTo>
                <a:cubicBezTo>
                  <a:pt x="52" y="110"/>
                  <a:pt x="52" y="110"/>
                  <a:pt x="52" y="110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68" y="95"/>
                  <a:pt x="68" y="95"/>
                  <a:pt x="68" y="95"/>
                </a:cubicBezTo>
                <a:cubicBezTo>
                  <a:pt x="52" y="87"/>
                  <a:pt x="52" y="87"/>
                  <a:pt x="52" y="87"/>
                </a:cubicBezTo>
                <a:close/>
                <a:moveTo>
                  <a:pt x="18" y="56"/>
                </a:moveTo>
                <a:cubicBezTo>
                  <a:pt x="18" y="60"/>
                  <a:pt x="18" y="60"/>
                  <a:pt x="18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0" y="56"/>
                  <a:pt x="30" y="56"/>
                  <a:pt x="30" y="56"/>
                </a:cubicBezTo>
                <a:cubicBezTo>
                  <a:pt x="18" y="56"/>
                  <a:pt x="18" y="56"/>
                  <a:pt x="18" y="56"/>
                </a:cubicBezTo>
                <a:close/>
                <a:moveTo>
                  <a:pt x="18" y="43"/>
                </a:moveTo>
                <a:cubicBezTo>
                  <a:pt x="18" y="48"/>
                  <a:pt x="18" y="48"/>
                  <a:pt x="18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60" y="43"/>
                  <a:pt x="60" y="43"/>
                  <a:pt x="60" y="43"/>
                </a:cubicBezTo>
                <a:cubicBezTo>
                  <a:pt x="18" y="43"/>
                  <a:pt x="18" y="43"/>
                  <a:pt x="18" y="43"/>
                </a:cubicBezTo>
                <a:close/>
                <a:moveTo>
                  <a:pt x="18" y="31"/>
                </a:moveTo>
                <a:cubicBezTo>
                  <a:pt x="18" y="36"/>
                  <a:pt x="18" y="36"/>
                  <a:pt x="18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0" y="31"/>
                  <a:pt x="60" y="31"/>
                  <a:pt x="60" y="31"/>
                </a:cubicBezTo>
                <a:cubicBezTo>
                  <a:pt x="18" y="31"/>
                  <a:pt x="18" y="31"/>
                  <a:pt x="18" y="31"/>
                </a:cubicBezTo>
                <a:close/>
                <a:moveTo>
                  <a:pt x="37" y="19"/>
                </a:moveTo>
                <a:cubicBezTo>
                  <a:pt x="37" y="24"/>
                  <a:pt x="37" y="24"/>
                  <a:pt x="37" y="24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9"/>
                  <a:pt x="60" y="19"/>
                  <a:pt x="60" y="19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12" y="21"/>
                </a:moveTo>
                <a:cubicBezTo>
                  <a:pt x="14" y="21"/>
                  <a:pt x="14" y="21"/>
                  <a:pt x="14" y="21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19" y="22"/>
                  <a:pt x="19" y="22"/>
                  <a:pt x="20" y="22"/>
                </a:cubicBezTo>
                <a:cubicBezTo>
                  <a:pt x="21" y="22"/>
                  <a:pt x="22" y="21"/>
                  <a:pt x="22" y="20"/>
                </a:cubicBezTo>
                <a:cubicBezTo>
                  <a:pt x="23" y="20"/>
                  <a:pt x="24" y="19"/>
                  <a:pt x="24" y="18"/>
                </a:cubicBezTo>
                <a:cubicBezTo>
                  <a:pt x="24" y="18"/>
                  <a:pt x="24" y="17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6"/>
                  <a:pt x="24" y="16"/>
                  <a:pt x="24" y="16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lnTo>
                  <a:pt x="12" y="21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45"/>
          <p:cNvSpPr/>
          <p:nvPr/>
        </p:nvSpPr>
        <p:spPr>
          <a:xfrm>
            <a:off x="4353120" y="3822120"/>
            <a:ext cx="221760" cy="267480"/>
          </a:xfrm>
          <a:custGeom>
            <a:avLst/>
            <a:gdLst>
              <a:gd name="textAreaLeft" fmla="*/ 0 w 221760"/>
              <a:gd name="textAreaRight" fmla="*/ 222120 w 221760"/>
              <a:gd name="textAreaTop" fmla="*/ 0 h 267480"/>
              <a:gd name="textAreaBottom" fmla="*/ 267840 h 267480"/>
            </a:gdLst>
            <a:ahLst/>
            <a:rect l="textAreaLeft" t="textAreaTop" r="textAreaRight" b="textAreaBottom"/>
            <a:pathLst>
              <a:path w="59" h="95">
                <a:moveTo>
                  <a:pt x="14" y="6"/>
                </a:moveTo>
                <a:cubicBezTo>
                  <a:pt x="19" y="6"/>
                  <a:pt x="19" y="6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6"/>
                  <a:pt x="40" y="6"/>
                  <a:pt x="40" y="6"/>
                </a:cubicBezTo>
                <a:cubicBezTo>
                  <a:pt x="45" y="6"/>
                  <a:pt x="45" y="6"/>
                  <a:pt x="45" y="6"/>
                </a:cubicBezTo>
                <a:cubicBezTo>
                  <a:pt x="49" y="6"/>
                  <a:pt x="52" y="7"/>
                  <a:pt x="55" y="10"/>
                </a:cubicBezTo>
                <a:cubicBezTo>
                  <a:pt x="57" y="12"/>
                  <a:pt x="59" y="15"/>
                  <a:pt x="59" y="19"/>
                </a:cubicBezTo>
                <a:cubicBezTo>
                  <a:pt x="59" y="81"/>
                  <a:pt x="59" y="81"/>
                  <a:pt x="59" y="81"/>
                </a:cubicBezTo>
                <a:cubicBezTo>
                  <a:pt x="59" y="85"/>
                  <a:pt x="57" y="88"/>
                  <a:pt x="55" y="91"/>
                </a:cubicBezTo>
                <a:cubicBezTo>
                  <a:pt x="55" y="91"/>
                  <a:pt x="55" y="91"/>
                  <a:pt x="55" y="91"/>
                </a:cubicBezTo>
                <a:cubicBezTo>
                  <a:pt x="52" y="93"/>
                  <a:pt x="49" y="95"/>
                  <a:pt x="45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0" y="95"/>
                  <a:pt x="7" y="93"/>
                  <a:pt x="4" y="91"/>
                </a:cubicBezTo>
                <a:cubicBezTo>
                  <a:pt x="2" y="88"/>
                  <a:pt x="0" y="85"/>
                  <a:pt x="0" y="81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5"/>
                  <a:pt x="2" y="12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7" y="7"/>
                  <a:pt x="10" y="6"/>
                  <a:pt x="14" y="6"/>
                </a:cubicBezTo>
                <a:close/>
                <a:moveTo>
                  <a:pt x="19" y="23"/>
                </a:moveTo>
                <a:cubicBezTo>
                  <a:pt x="19" y="28"/>
                  <a:pt x="19" y="28"/>
                  <a:pt x="19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36"/>
                  <a:pt x="27" y="36"/>
                  <a:pt x="27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28"/>
                  <a:pt x="31" y="28"/>
                  <a:pt x="31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39" y="23"/>
                  <a:pt x="39" y="23"/>
                  <a:pt x="39" y="23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15"/>
                  <a:pt x="31" y="15"/>
                  <a:pt x="31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23"/>
                  <a:pt x="27" y="23"/>
                  <a:pt x="27" y="23"/>
                </a:cubicBezTo>
                <a:cubicBezTo>
                  <a:pt x="19" y="23"/>
                  <a:pt x="19" y="23"/>
                  <a:pt x="19" y="23"/>
                </a:cubicBezTo>
                <a:close/>
                <a:moveTo>
                  <a:pt x="13" y="38"/>
                </a:moveTo>
                <a:cubicBezTo>
                  <a:pt x="13" y="44"/>
                  <a:pt x="13" y="44"/>
                  <a:pt x="13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5" y="38"/>
                  <a:pt x="45" y="38"/>
                  <a:pt x="45" y="38"/>
                </a:cubicBezTo>
                <a:cubicBezTo>
                  <a:pt x="13" y="38"/>
                  <a:pt x="13" y="38"/>
                  <a:pt x="13" y="38"/>
                </a:cubicBezTo>
                <a:close/>
                <a:moveTo>
                  <a:pt x="13" y="46"/>
                </a:moveTo>
                <a:cubicBezTo>
                  <a:pt x="13" y="53"/>
                  <a:pt x="13" y="53"/>
                  <a:pt x="13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45" y="46"/>
                  <a:pt x="45" y="46"/>
                  <a:pt x="45" y="46"/>
                </a:cubicBezTo>
                <a:cubicBezTo>
                  <a:pt x="13" y="46"/>
                  <a:pt x="13" y="46"/>
                  <a:pt x="13" y="46"/>
                </a:cubicBezTo>
                <a:close/>
                <a:moveTo>
                  <a:pt x="13" y="55"/>
                </a:moveTo>
                <a:cubicBezTo>
                  <a:pt x="13" y="62"/>
                  <a:pt x="13" y="62"/>
                  <a:pt x="13" y="62"/>
                </a:cubicBezTo>
                <a:cubicBezTo>
                  <a:pt x="45" y="62"/>
                  <a:pt x="45" y="62"/>
                  <a:pt x="45" y="62"/>
                </a:cubicBezTo>
                <a:cubicBezTo>
                  <a:pt x="45" y="55"/>
                  <a:pt x="45" y="55"/>
                  <a:pt x="45" y="55"/>
                </a:cubicBezTo>
                <a:cubicBezTo>
                  <a:pt x="13" y="55"/>
                  <a:pt x="13" y="55"/>
                  <a:pt x="13" y="55"/>
                </a:cubicBezTo>
                <a:close/>
                <a:moveTo>
                  <a:pt x="13" y="65"/>
                </a:moveTo>
                <a:cubicBezTo>
                  <a:pt x="13" y="71"/>
                  <a:pt x="13" y="71"/>
                  <a:pt x="13" y="71"/>
                </a:cubicBezTo>
                <a:cubicBezTo>
                  <a:pt x="45" y="71"/>
                  <a:pt x="45" y="71"/>
                  <a:pt x="45" y="71"/>
                </a:cubicBezTo>
                <a:cubicBezTo>
                  <a:pt x="45" y="65"/>
                  <a:pt x="45" y="65"/>
                  <a:pt x="45" y="65"/>
                </a:cubicBezTo>
                <a:cubicBezTo>
                  <a:pt x="13" y="65"/>
                  <a:pt x="13" y="65"/>
                  <a:pt x="13" y="65"/>
                </a:cubicBezTo>
                <a:close/>
                <a:moveTo>
                  <a:pt x="13" y="74"/>
                </a:moveTo>
                <a:cubicBezTo>
                  <a:pt x="13" y="80"/>
                  <a:pt x="13" y="80"/>
                  <a:pt x="13" y="80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74"/>
                  <a:pt x="45" y="74"/>
                  <a:pt x="45" y="74"/>
                </a:cubicBezTo>
                <a:cubicBezTo>
                  <a:pt x="13" y="74"/>
                  <a:pt x="13" y="74"/>
                  <a:pt x="13" y="74"/>
                </a:cubicBezTo>
                <a:close/>
                <a:moveTo>
                  <a:pt x="45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2" y="14"/>
                  <a:pt x="11" y="14"/>
                  <a:pt x="10" y="15"/>
                </a:cubicBezTo>
                <a:cubicBezTo>
                  <a:pt x="10" y="15"/>
                  <a:pt x="10" y="15"/>
                  <a:pt x="10" y="15"/>
                </a:cubicBezTo>
                <a:cubicBezTo>
                  <a:pt x="9" y="16"/>
                  <a:pt x="8" y="18"/>
                  <a:pt x="8" y="19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83"/>
                  <a:pt x="9" y="84"/>
                  <a:pt x="10" y="85"/>
                </a:cubicBezTo>
                <a:cubicBezTo>
                  <a:pt x="11" y="86"/>
                  <a:pt x="12" y="87"/>
                  <a:pt x="14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7" y="87"/>
                  <a:pt x="48" y="86"/>
                  <a:pt x="49" y="85"/>
                </a:cubicBezTo>
                <a:cubicBezTo>
                  <a:pt x="50" y="84"/>
                  <a:pt x="51" y="83"/>
                  <a:pt x="51" y="81"/>
                </a:cubicBezTo>
                <a:cubicBezTo>
                  <a:pt x="51" y="19"/>
                  <a:pt x="51" y="19"/>
                  <a:pt x="51" y="19"/>
                </a:cubicBezTo>
                <a:cubicBezTo>
                  <a:pt x="51" y="18"/>
                  <a:pt x="50" y="16"/>
                  <a:pt x="49" y="15"/>
                </a:cubicBezTo>
                <a:cubicBezTo>
                  <a:pt x="48" y="14"/>
                  <a:pt x="47" y="14"/>
                  <a:pt x="45" y="14"/>
                </a:cubicBezTo>
                <a:close/>
              </a:path>
            </a:pathLst>
          </a:custGeom>
          <a:solidFill>
            <a:schemeClr val="accent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103"/>
          <p:cNvSpPr/>
          <p:nvPr/>
        </p:nvSpPr>
        <p:spPr>
          <a:xfrm>
            <a:off x="5007240" y="3821760"/>
            <a:ext cx="345600" cy="247320"/>
          </a:xfrm>
          <a:custGeom>
            <a:avLst/>
            <a:gdLst>
              <a:gd name="textAreaLeft" fmla="*/ 0 w 345600"/>
              <a:gd name="textAreaRight" fmla="*/ 345960 w 3456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218" h="208">
                <a:moveTo>
                  <a:pt x="88" y="43"/>
                </a:moveTo>
                <a:lnTo>
                  <a:pt x="36" y="43"/>
                </a:lnTo>
                <a:lnTo>
                  <a:pt x="26" y="57"/>
                </a:lnTo>
                <a:lnTo>
                  <a:pt x="36" y="71"/>
                </a:lnTo>
                <a:lnTo>
                  <a:pt x="88" y="71"/>
                </a:lnTo>
                <a:lnTo>
                  <a:pt x="88" y="43"/>
                </a:lnTo>
                <a:lnTo>
                  <a:pt x="88" y="43"/>
                </a:lnTo>
                <a:close/>
                <a:moveTo>
                  <a:pt x="125" y="71"/>
                </a:moveTo>
                <a:lnTo>
                  <a:pt x="187" y="71"/>
                </a:lnTo>
                <a:lnTo>
                  <a:pt x="194" y="71"/>
                </a:lnTo>
                <a:lnTo>
                  <a:pt x="196" y="76"/>
                </a:lnTo>
                <a:lnTo>
                  <a:pt x="213" y="102"/>
                </a:lnTo>
                <a:lnTo>
                  <a:pt x="218" y="109"/>
                </a:lnTo>
                <a:lnTo>
                  <a:pt x="213" y="113"/>
                </a:lnTo>
                <a:lnTo>
                  <a:pt x="196" y="139"/>
                </a:lnTo>
                <a:lnTo>
                  <a:pt x="194" y="147"/>
                </a:lnTo>
                <a:lnTo>
                  <a:pt x="187" y="147"/>
                </a:lnTo>
                <a:lnTo>
                  <a:pt x="125" y="147"/>
                </a:lnTo>
                <a:lnTo>
                  <a:pt x="125" y="180"/>
                </a:lnTo>
                <a:lnTo>
                  <a:pt x="180" y="180"/>
                </a:lnTo>
                <a:lnTo>
                  <a:pt x="180" y="208"/>
                </a:lnTo>
                <a:lnTo>
                  <a:pt x="40" y="208"/>
                </a:lnTo>
                <a:lnTo>
                  <a:pt x="40" y="180"/>
                </a:lnTo>
                <a:lnTo>
                  <a:pt x="90" y="180"/>
                </a:lnTo>
                <a:lnTo>
                  <a:pt x="90" y="95"/>
                </a:lnTo>
                <a:lnTo>
                  <a:pt x="29" y="95"/>
                </a:lnTo>
                <a:lnTo>
                  <a:pt x="22" y="95"/>
                </a:lnTo>
                <a:lnTo>
                  <a:pt x="19" y="87"/>
                </a:lnTo>
                <a:lnTo>
                  <a:pt x="3" y="61"/>
                </a:lnTo>
                <a:lnTo>
                  <a:pt x="0" y="57"/>
                </a:lnTo>
                <a:lnTo>
                  <a:pt x="3" y="50"/>
                </a:lnTo>
                <a:lnTo>
                  <a:pt x="19" y="24"/>
                </a:lnTo>
                <a:lnTo>
                  <a:pt x="22" y="19"/>
                </a:lnTo>
                <a:lnTo>
                  <a:pt x="29" y="19"/>
                </a:lnTo>
                <a:lnTo>
                  <a:pt x="90" y="19"/>
                </a:lnTo>
                <a:lnTo>
                  <a:pt x="90" y="14"/>
                </a:lnTo>
                <a:lnTo>
                  <a:pt x="109" y="0"/>
                </a:lnTo>
                <a:lnTo>
                  <a:pt x="125" y="14"/>
                </a:lnTo>
                <a:lnTo>
                  <a:pt x="125" y="71"/>
                </a:lnTo>
                <a:lnTo>
                  <a:pt x="125" y="71"/>
                </a:lnTo>
                <a:close/>
                <a:moveTo>
                  <a:pt x="182" y="92"/>
                </a:moveTo>
                <a:lnTo>
                  <a:pt x="128" y="92"/>
                </a:lnTo>
                <a:lnTo>
                  <a:pt x="128" y="123"/>
                </a:lnTo>
                <a:lnTo>
                  <a:pt x="182" y="123"/>
                </a:lnTo>
                <a:lnTo>
                  <a:pt x="192" y="109"/>
                </a:lnTo>
                <a:lnTo>
                  <a:pt x="182" y="92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41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5" name="直接连接符 70"/>
          <p:cNvCxnSpPr/>
          <p:nvPr/>
        </p:nvCxnSpPr>
        <p:spPr>
          <a:xfrm>
            <a:off x="2800080" y="2314800"/>
            <a:ext cx="3998520" cy="2216160"/>
          </a:xfrm>
          <a:prstGeom prst="straightConnector1">
            <a:avLst/>
          </a:prstGeom>
          <a:ln w="12700">
            <a:solidFill>
              <a:srgbClr val="003360"/>
            </a:solidFill>
          </a:ln>
        </p:spPr>
      </p:cxnSp>
      <p:cxnSp>
        <p:nvCxnSpPr>
          <p:cNvPr id="376" name="直接连接符 71"/>
          <p:cNvCxnSpPr/>
          <p:nvPr/>
        </p:nvCxnSpPr>
        <p:spPr>
          <a:xfrm flipV="1">
            <a:off x="2836800" y="2274120"/>
            <a:ext cx="3986640" cy="2192400"/>
          </a:xfrm>
          <a:prstGeom prst="straightConnector1">
            <a:avLst/>
          </a:prstGeom>
          <a:ln w="12700">
            <a:solidFill>
              <a:srgbClr val="003360"/>
            </a:solidFill>
          </a:ln>
        </p:spPr>
      </p:cxnSp>
      <p:cxnSp>
        <p:nvCxnSpPr>
          <p:cNvPr id="377" name="直接连接符 72"/>
          <p:cNvCxnSpPr/>
          <p:nvPr/>
        </p:nvCxnSpPr>
        <p:spPr>
          <a:xfrm flipH="1">
            <a:off x="4766040" y="1580760"/>
            <a:ext cx="10080" cy="3819240"/>
          </a:xfrm>
          <a:prstGeom prst="straightConnector1">
            <a:avLst/>
          </a:prstGeom>
          <a:ln w="12700">
            <a:solidFill>
              <a:srgbClr val="003360"/>
            </a:solidFill>
          </a:ln>
        </p:spPr>
      </p:cxnSp>
      <p:grpSp>
        <p:nvGrpSpPr>
          <p:cNvPr id="378" name="组合 73"/>
          <p:cNvGrpSpPr/>
          <p:nvPr/>
        </p:nvGrpSpPr>
        <p:grpSpPr>
          <a:xfrm>
            <a:off x="4434480" y="3036960"/>
            <a:ext cx="681480" cy="681480"/>
            <a:chOff x="4434480" y="3036960"/>
            <a:chExt cx="681480" cy="681480"/>
          </a:xfrm>
        </p:grpSpPr>
        <p:sp>
          <p:nvSpPr>
            <p:cNvPr id="379" name="椭圆 74"/>
            <p:cNvSpPr/>
            <p:nvPr/>
          </p:nvSpPr>
          <p:spPr>
            <a:xfrm>
              <a:off x="4434480" y="3036960"/>
              <a:ext cx="681480" cy="681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0" name="椭圆 75"/>
            <p:cNvSpPr/>
            <p:nvPr/>
          </p:nvSpPr>
          <p:spPr>
            <a:xfrm>
              <a:off x="4530600" y="3114000"/>
              <a:ext cx="505080" cy="50508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381" name="直接连接符 76"/>
          <p:cNvCxnSpPr/>
          <p:nvPr/>
        </p:nvCxnSpPr>
        <p:spPr>
          <a:xfrm>
            <a:off x="4499280" y="955080"/>
            <a:ext cx="4492440" cy="360"/>
          </a:xfrm>
          <a:prstGeom prst="straightConnector1">
            <a:avLst/>
          </a:prstGeom>
          <a:ln w="12700">
            <a:solidFill>
              <a:srgbClr val="003360"/>
            </a:solidFill>
          </a:ln>
        </p:spPr>
      </p:cxnSp>
      <p:sp>
        <p:nvSpPr>
          <p:cNvPr id="382" name="Text Box 9"/>
          <p:cNvSpPr/>
          <p:nvPr/>
        </p:nvSpPr>
        <p:spPr>
          <a:xfrm>
            <a:off x="682200" y="53218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439</TotalTime>
  <Application>LibreOffice/7.4.7.2$Linux_X86_64 LibreOffice_project/40$Build-2</Application>
  <AppVersion>15.0000</AppVersion>
  <Words>1067</Words>
  <Paragraphs>20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7:35:39Z</dcterms:created>
  <dc:creator>admin</dc:creator>
  <dc:description/>
  <dc:language>en-US</dc:language>
  <cp:lastModifiedBy>王玉清</cp:lastModifiedBy>
  <dcterms:modified xsi:type="dcterms:W3CDTF">2016-02-23T02:44:43Z</dcterms:modified>
  <cp:revision>1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16:10)</vt:lpwstr>
  </property>
  <property fmtid="{D5CDD505-2E9C-101B-9397-08002B2CF9AE}" pid="4" name="Slides">
    <vt:r8>18</vt:r8>
  </property>
</Properties>
</file>