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7B7-3083-4F44-9F55-007A3EF5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871-8EA6-40F5-B251-92D341FB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C32-5154-4CBB-AAB7-38D19B09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ABC-AB11-44A6-AF21-474B9845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107-D066-4769-99AF-1DA342A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71B-1F46-4607-AAEF-75252BB2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BEC-DC61-41D5-8DA6-0A186AC9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FB4-57C3-4CFE-B99F-325DA286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09B-7C96-47EC-86DC-FE6934DC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D9A-0F1A-4705-BEE5-9E866D7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D2C-6EAB-4638-87DF-43D1B8D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C80-B695-46E5-B398-A3DD94A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ndara"/>
                <a:ea typeface="华文细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49C3-A0AB-4C40-BC47-8F912329AF65}" type="datetime">
              <a:rPr b="0" lang="zh-CN" sz="1200" spc="-1" strike="noStrike">
                <a:solidFill>
                  <a:srgbClr val="ffffff"/>
                </a:solidFill>
                <a:latin typeface="Candara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ndara"/>
                <a:ea typeface="华文细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CA1E-4758-41BB-863F-EF523A038EEC}" type="slidenum">
              <a:rPr b="0" lang="zh-CN" sz="1200" spc="-1" strike="noStrike">
                <a:solidFill>
                  <a:srgbClr val="ffffff"/>
                </a:solidFill>
                <a:latin typeface="Candara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6000" y="222264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25520" y="4762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竞聘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186000" y="2133720"/>
            <a:ext cx="27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WHA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HOW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284720" y="2852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3924360" y="4048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ndara"/>
                <a:ea typeface="华文细黑"/>
              </a:rPr>
              <a:t>电子数据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635280" y="242100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专业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3851280" y="10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ndara"/>
                <a:ea typeface="华文细黑"/>
              </a:rPr>
              <a:t>定期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左大括号 7"/>
          <p:cNvSpPr/>
          <p:nvPr/>
        </p:nvSpPr>
        <p:spPr>
          <a:xfrm>
            <a:off x="3132000" y="1341360"/>
            <a:ext cx="360360" cy="29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40 h 2951280"/>
              <a:gd name="textAreaBottom" fmla="*/ 294264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10"/>
                </a:cubicBezTo>
                <a:lnTo>
                  <a:pt x="10800" y="10590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10"/>
                </a:cubicBezTo>
                <a:lnTo>
                  <a:pt x="10800" y="21390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580000" y="9828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部员分组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\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邀请家教中心宣传组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\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6084720" y="364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共享资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6084720" y="4581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内部资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左大括号 11"/>
          <p:cNvSpPr/>
          <p:nvPr/>
        </p:nvSpPr>
        <p:spPr>
          <a:xfrm>
            <a:off x="5651640" y="38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9"/>
                  <a:pt x="10800" y="578"/>
                </a:cubicBezTo>
                <a:lnTo>
                  <a:pt x="10800" y="10222"/>
                </a:lnTo>
                <a:cubicBezTo>
                  <a:pt x="10800" y="10511"/>
                  <a:pt x="5400" y="10800"/>
                  <a:pt x="0" y="10800"/>
                </a:cubicBezTo>
                <a:cubicBezTo>
                  <a:pt x="5400" y="10800"/>
                  <a:pt x="10800" y="11089"/>
                  <a:pt x="10800" y="11378"/>
                </a:cubicBezTo>
                <a:lnTo>
                  <a:pt x="10800" y="21022"/>
                </a:lnTo>
                <a:cubicBezTo>
                  <a:pt x="10800" y="213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067280" y="4202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完善制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3672000" y="2708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ndara"/>
                <a:ea typeface="华文细黑"/>
              </a:rPr>
              <a:t>规范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067280" y="1998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写你所做，做你所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067280" y="2813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完善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VI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067280" y="1484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ISO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标准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左大括号 6"/>
          <p:cNvSpPr/>
          <p:nvPr/>
        </p:nvSpPr>
        <p:spPr>
          <a:xfrm>
            <a:off x="3419640" y="1700280"/>
            <a:ext cx="288720" cy="2808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808360"/>
              <a:gd name="textAreaBottom" fmla="*/ 28011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7"/>
                </a:cubicBezTo>
                <a:lnTo>
                  <a:pt x="10800" y="10623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7"/>
                </a:cubicBezTo>
                <a:lnTo>
                  <a:pt x="10800" y="21423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140360" y="3429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标志、标准字组合规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140360" y="3789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制作桌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530208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7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8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1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2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2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3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5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6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7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5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6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203640" y="20923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华文细黑"/>
              </a:rPr>
              <a:t>Well , my speech i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79640" y="256536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华文细黑"/>
              </a:rPr>
              <a:t>One last thing , I want to tell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403280" y="3068640"/>
            <a:ext cx="63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谢谢大家一年来的照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♥ </a:t>
            </a: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love you all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 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THANK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03640" y="20923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华文细黑"/>
              </a:rPr>
              <a:t>Well , my speech i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879640" y="256536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华文细黑"/>
              </a:rPr>
              <a:t>One last thing , I want to tell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403280" y="3068640"/>
            <a:ext cx="63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谢谢大家一年来的照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♥ </a:t>
            </a: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love you all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 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THANK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6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6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6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51E-85DF-4587-80F7-4F28563462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627280" y="1427040"/>
            <a:ext cx="1692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708360" y="206064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种风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组合 7"/>
          <p:cNvGrpSpPr/>
          <p:nvPr/>
        </p:nvGrpSpPr>
        <p:grpSpPr>
          <a:xfrm>
            <a:off x="3850920" y="3068280"/>
            <a:ext cx="2376360" cy="1008360"/>
            <a:chOff x="3850920" y="3068280"/>
            <a:chExt cx="2376360" cy="1008360"/>
          </a:xfrm>
        </p:grpSpPr>
        <p:sp>
          <p:nvSpPr>
            <p:cNvPr id="47" name="矩形 5"/>
            <p:cNvSpPr/>
            <p:nvPr/>
          </p:nvSpPr>
          <p:spPr>
            <a:xfrm flipH="1" flipV="1">
              <a:off x="3850560" y="3648240"/>
              <a:ext cx="237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矩形 3"/>
            <p:cNvSpPr/>
            <p:nvPr/>
          </p:nvSpPr>
          <p:spPr>
            <a:xfrm flipH="1" flipV="1">
              <a:off x="3850560" y="3428280"/>
              <a:ext cx="2376360" cy="40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矩形 4"/>
            <p:cNvSpPr/>
            <p:nvPr/>
          </p:nvSpPr>
          <p:spPr>
            <a:xfrm flipH="1" flipV="1">
              <a:off x="3850560" y="3213000"/>
              <a:ext cx="23763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矩形 6"/>
            <p:cNvSpPr/>
            <p:nvPr/>
          </p:nvSpPr>
          <p:spPr>
            <a:xfrm flipH="1" flipV="1">
              <a:off x="3850560" y="3067920"/>
              <a:ext cx="2376360" cy="431640"/>
            </a:xfrm>
            <a:prstGeom prst="rect">
              <a:avLst/>
            </a:prstGeom>
            <a:solidFill>
              <a:srgbClr val="1e0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627280" y="2060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有始有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C:\Users\Gin.Gin-PC\AppData\Local\Microsoft\Windows\Temporary Internet Files\Content.IE5\VDY2ADMX\MC900023467[1].wmf"/>
          <p:cNvPicPr/>
          <p:nvPr/>
        </p:nvPicPr>
        <p:blipFill>
          <a:blip r:embed="rId1">
            <a:lum bright="88000"/>
          </a:blip>
          <a:stretch/>
        </p:blipFill>
        <p:spPr>
          <a:xfrm>
            <a:off x="3716280" y="3500280"/>
            <a:ext cx="171144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23920" y="2496960"/>
            <a:ext cx="5096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ndara"/>
                <a:ea typeface="华文细黑"/>
              </a:rPr>
              <a:t>办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Candara"/>
                <a:ea typeface="华文细黑"/>
              </a:rPr>
              <a:t>总</a:t>
            </a:r>
            <a:r>
              <a:rPr b="0" lang="zh-CN" sz="4000" spc="-1" strike="noStrike">
                <a:solidFill>
                  <a:srgbClr val="ffffff"/>
                </a:solidFill>
                <a:latin typeface="Candara"/>
                <a:ea typeface="华文细黑"/>
              </a:rPr>
              <a:t>比困难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图片 3" descr="20120923121625550_easyicon_cn_256.png"/>
          <p:cNvPicPr/>
          <p:nvPr/>
        </p:nvPicPr>
        <p:blipFill>
          <a:blip r:embed="rId1"/>
          <a:stretch/>
        </p:blipFill>
        <p:spPr>
          <a:xfrm>
            <a:off x="4932360" y="231624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340000" y="400536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懂得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倾听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别人的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忠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C:\Users\Gin.Gin-PC\AppData\Local\Microsoft\Windows\Temporary Internet Files\Content.IE5\ZIBP3TT4\MC900078738[1].wmf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3887640" y="2048040"/>
            <a:ext cx="1368720" cy="1452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268360" y="1236600"/>
            <a:ext cx="46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专心</a:t>
            </a:r>
            <a:r>
              <a:rPr b="0" lang="zh-CN" sz="3600" spc="-1" strike="noStrike">
                <a:solidFill>
                  <a:srgbClr val="ffffff"/>
                </a:solidFill>
                <a:latin typeface="Candara"/>
                <a:ea typeface="华文细黑"/>
              </a:rPr>
              <a:t>地</a:t>
            </a: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工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尽情</a:t>
            </a:r>
            <a:r>
              <a:rPr b="0" lang="zh-CN" sz="3600" spc="-1" strike="noStrike">
                <a:solidFill>
                  <a:srgbClr val="ffffff"/>
                </a:solidFill>
                <a:latin typeface="Candara"/>
                <a:ea typeface="华文细黑"/>
              </a:rPr>
              <a:t>地</a:t>
            </a:r>
            <a:r>
              <a:rPr b="0" lang="zh-CN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 rot="19123800">
            <a:off x="4784760" y="2534760"/>
            <a:ext cx="5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zuka Gothic Pro R"/>
                <a:ea typeface="Kozuka Gothic Pro R"/>
              </a:rPr>
              <a:t>&amp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763640" y="141300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一个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人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的努力，是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加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法效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一个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团队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的努力，是</a:t>
            </a:r>
            <a:r>
              <a:rPr b="0" lang="zh-CN" sz="4800" spc="-1" strike="noStrike">
                <a:solidFill>
                  <a:srgbClr val="ffffff"/>
                </a:solidFill>
                <a:latin typeface="Candara"/>
                <a:ea typeface="华文细黑"/>
              </a:rPr>
              <a:t>乘</a:t>
            </a:r>
            <a:r>
              <a:rPr b="0" lang="zh-CN" sz="2800" spc="-1" strike="noStrike">
                <a:solidFill>
                  <a:srgbClr val="ffffff"/>
                </a:solidFill>
                <a:latin typeface="Candara"/>
                <a:ea typeface="华文细黑"/>
              </a:rPr>
              <a:t>法效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图片 7" descr="iconmonstr-user-14-icon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932360" y="3284640"/>
            <a:ext cx="2735280" cy="2736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8" descr="iconmonstr-user-11-icon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422604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9" descr="iconmonstr-user-icon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717640" y="4221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63" name="不等于号 5"/>
          <p:cNvSpPr/>
          <p:nvPr/>
        </p:nvSpPr>
        <p:spPr>
          <a:xfrm>
            <a:off x="3753000" y="4653000"/>
            <a:ext cx="1223640" cy="43164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519280" y="4653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ndara"/>
                <a:ea typeface="华文细黑"/>
              </a:rPr>
              <a:t>今天的工作都是在为明天的工作做准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3311640" y="3716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工作规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C:\Users\Gin.Gin-PC\AppData\Local\Microsoft\Windows\Temporary Internet Files\Content.IE5\PVZAIK6M\MC900434804[1].png"/>
          <p:cNvPicPr/>
          <p:nvPr/>
        </p:nvPicPr>
        <p:blipFill>
          <a:blip r:embed="rId1"/>
          <a:stretch/>
        </p:blipFill>
        <p:spPr>
          <a:xfrm>
            <a:off x="3635280" y="17445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2448000" y="3044880"/>
            <a:ext cx="26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发展方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79600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ndara"/>
                <a:ea typeface="华文细黑"/>
              </a:rPr>
              <a:t>专业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796000" y="49417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ndara"/>
                <a:ea typeface="华文细黑"/>
              </a:rPr>
              <a:t>规范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左大括号 5"/>
          <p:cNvSpPr/>
          <p:nvPr/>
        </p:nvSpPr>
        <p:spPr>
          <a:xfrm>
            <a:off x="5003640" y="1628640"/>
            <a:ext cx="216000" cy="360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 h 3600720"/>
              <a:gd name="textAreaBottom" fmla="*/ 359568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3469E-006 L -0.10833 2.53469E-006 E">
                                      <p:cBhvr>
                                        <p:cTn id="6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09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52:04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