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9D744-173A-4463-A3D5-79756B8A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5367-CB8B-47CD-8D11-695A0DD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0C133-23F0-4A70-8CB7-5BD72B2B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BB58-A227-4FC1-A0D6-C34181C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3394B-D2F5-4F1E-A098-43D3949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C584-B6BF-4800-867B-C0D9892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542A3-9059-49D9-81A6-2631988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824E3-9685-4FEB-93A9-56D20D5A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CEAD-8A10-401D-B0E2-334130A8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B566-1990-4410-9F0D-167B1F0A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4A8A-7DE8-4B4D-9907-0AA2357E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8E7B1-74B1-46E7-AC55-3703A113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7511-064A-4130-AED1-0C9FEC09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7F267-6FA9-450D-A4ED-E8AF1BBD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BB225-58C3-4342-ABDE-8BBA9C1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71CF4-438E-48DF-BD95-AA45121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73EE4-BE66-4252-86BB-032C24A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BD7A6-545B-4A82-86F8-9327816B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BC353-F56F-4382-9A3A-58927EE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F9210-A583-430D-8D5E-DD280018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F5DB-9D0A-4166-B125-79D3C0F2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FE3AE-DA18-4E24-8A5A-2E456F9D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4F5AF-8D4A-434E-A9E6-1830CE18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3D036-BC19-4D27-BCD2-8AFCE6BF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E99B1-A79E-4796-B488-BAA6773C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4E2D3-27CA-45F9-A85D-C661BB9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31B45-65BE-4C9B-8C0A-A87B3662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5B46C-0AC3-428E-AA34-0B08CD8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BA1AC-D31B-4A5F-84B9-FC1765CD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2A9B0-33B4-4FA2-81D7-AA7B052E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11D-1918-4633-9749-5228A20B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C2278-2DDD-462F-8BD0-3976437E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253DF-052E-444E-978C-EA65F768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22C0F-6B9C-43D3-8DD4-7498958A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85438-CCCA-4138-9D54-B9FD906F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51F10-917F-4156-8AE8-9A4C1562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0FBC6-0166-44BA-A094-FD31F43F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B444B-31E8-42B7-82DA-7ED9C2A1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3D110-80CA-452B-AAAC-BA5D7F8C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6C9CB-F660-4AF8-B2A1-5EAAED39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558BD-D5DC-4CB5-8ED3-11B3336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EE1-DC3B-4C45-B112-13698A90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1FE85-0C41-4AD9-B6E2-FF76854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1F00-4602-4D24-A722-902576AC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E95A7-48E3-49A7-A9D7-F6AC93A6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C1930-F58F-42D1-8740-19D52A12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01AC6-3490-4E7A-B60B-058C2E2F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313B3-7AEA-422A-B462-FA81EDC1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8F05C-6FFF-46DE-9B23-D9A388D2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78427-86B4-4836-B80D-09B39D5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E9E3F-AE2D-42FE-8037-5F06F9E4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DFCBC-DD80-4047-9100-405F3A1C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AC5-9871-4EB2-9539-0ACF60E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E6CB4-23D0-4D16-92BF-C56FDE5C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4873C-5D17-4972-A06D-91713F1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E4051-CBA6-45EB-B71B-40779C26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9F062-498F-4703-816E-D388CE5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44DD0-8409-460D-BC77-716A0414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1A0F3-BD52-4078-9142-C1978788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41875-EDC7-41FE-B09B-F04C2307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793-56E5-4C0A-9812-387491D6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75E-A4EF-44C0-A51E-B2194D34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4CF-7CF1-4AD4-97D9-305F124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06B-4EE1-41B6-92DB-BDC236C9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6FA-9E1F-4FDA-B5E0-FA9A6BD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2D1-071D-4EB7-BE18-3E07AA6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A78-27C9-4F8C-BB42-BC4416B0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0D0-CFDD-4CB3-B7E6-8CBBB295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B45-3FAA-4BEE-8E73-A81219E6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661D-6180-4086-9DBD-40E80CFE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EE94-7715-4691-80F2-64C99C06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B48A-B384-4058-BC0E-2C4902D8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B5A0-7CAA-434C-82FD-EAF3A904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0792-863D-482C-B54C-0796F854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F242-D488-4527-A1E8-E8D0C348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BBBD-61B7-4DA8-88F0-45A06DAA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3C9B-97D2-4DCC-B3E0-733D420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0218-C450-4529-AC0E-D98263EC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50E3-7CF0-4020-806E-C9C58213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E89A-82C4-4E0A-825F-6C4036AD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5CDC-BCC4-4479-8527-C89FA081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5572-B52B-4A18-AC24-2F0B7595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D52A-DE43-4B4C-9E16-0DE7361A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F98E-241F-435E-814D-D82DFED9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8D3E-1B97-44EE-8E69-0298B84B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92C4-B3C4-46D4-8813-822435E7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7D16-A905-4DF9-BA56-52E5349C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B8C3-9F00-4D09-81C4-778B08BA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42DC-F80C-4208-AE7B-D4AF7DF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76FDB-BA2C-4D5A-897F-01BF72FD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2327-E716-4F3E-9E3E-5D1002AD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C501-9F28-4627-9B65-3F3B10F8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B71B8-23FE-40E6-9375-013B342F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3D87-DE31-4713-A285-DA95CE39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9027-E00D-496F-86DA-9634B5B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8F688-FA78-4388-89CF-E0FE2495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CBEA-0040-42A0-A99F-4E80E034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A2C2-0515-48B4-ADD9-2241F3E4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AB30-6DBB-4768-A421-79ABF24F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A174-A953-46F2-9247-B125D6E7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4D59-1D2B-4DCD-942D-1515F36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8D2A-B563-4250-8969-5D22672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EF30-853B-4F2B-8EB0-431AD2E9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46F8-AAD6-42F0-94C1-177C5726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25C3-309A-4C87-A3B2-16505FC9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9C64-1120-4D57-A7A2-23C216FF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90058-7E5E-43F0-BAEA-72454838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49D2-A4DB-4D39-A7E7-DFD599B1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9CA5-707B-47C7-8535-474230F6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1EAA3-D717-4282-AE75-9138459F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F584E-83E2-433B-8DF6-89FFABC6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05625-1243-4A85-8281-5428315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28BC-747B-4031-9133-1DD04B9E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716B5-B759-4A65-9E55-B04C747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C2B1-DF75-4835-B47A-14037E60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7AF7-AA27-4078-9C5A-8DED7EAC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7730-07E2-4998-975C-087C3000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4DBB-B94F-456B-B1C9-7BD59E25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34E08-1302-4D5C-8DE1-8A2B5192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6562-9EA0-41EC-9614-906B7675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8A97-E833-4A4D-8637-60A6613C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A43CC-23D9-4442-92E3-39047E21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A4417-20DA-46A9-B218-D9D7E280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8AFA-5B39-421A-ACF9-5B62C068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31A55-E83E-40BB-84B7-82BFB300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89F66-7311-476E-BE4B-241C594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2BDC-7C45-4E3D-847F-F67ADD62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DE31-9510-45D8-BBD9-ADD706C1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9E490-44DE-45BA-A393-25FB9525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D06CA-AED2-4090-A1F1-97433C8D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AF761-EA10-4826-A8A3-1AB6A3F4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09FB4-0677-4031-9E3E-005C9905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5" descr="小房"/>
          <p:cNvPicPr/>
          <p:nvPr/>
        </p:nvPicPr>
        <p:blipFill>
          <a:blip r:embed="rId3"/>
          <a:stretch/>
        </p:blipFill>
        <p:spPr>
          <a:xfrm>
            <a:off x="457200" y="22860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2" descr="90弧形蒙版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D188-4BEB-46A9-B427-B4B49A3CF5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A470-CA0C-4599-8E99-639C91C87E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880B-B518-42E7-B246-A6FE2B39BE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9C72-5992-464B-AC95-F1E730A9F1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B1DD-CBA7-47E1-A18F-B975B5A1BC2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5338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5338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5338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A66A-7A27-4C6B-B34E-6D0674D4C8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6926-FD02-48FA-9CEF-C17E2299EE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3B3-FC15-468D-931C-3B7F50AF491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F6B1-AF85-48F7-A363-54F122A2E0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A442-A93A-4414-BC4B-F491E19673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3F28-7FE8-47E2-ADC9-41F04DFB41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矩形 4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815680" cy="688680"/>
          </a:xfrm>
          <a:prstGeom prst="rect">
            <a:avLst/>
          </a:prstGeom>
          <a:ln w="0">
            <a:noFill/>
          </a:ln>
        </p:spPr>
      </p:pic>
      <p:sp>
        <p:nvSpPr>
          <p:cNvPr id="5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52317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52317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52317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1599840" y="2217600"/>
            <a:ext cx="6297840" cy="3878280"/>
            <a:chOff x="1599840" y="2217600"/>
            <a:chExt cx="6297840" cy="3878280"/>
          </a:xfrm>
        </p:grpSpPr>
        <p:sp>
          <p:nvSpPr>
            <p:cNvPr id="530" name="Line 3"/>
            <p:cNvSpPr/>
            <p:nvPr/>
          </p:nvSpPr>
          <p:spPr>
            <a:xfrm flipH="1">
              <a:off x="1599840" y="6091200"/>
              <a:ext cx="1660680" cy="144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 flipH="1">
              <a:off x="1599840" y="5310000"/>
              <a:ext cx="2143080" cy="180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 flipH="1">
              <a:off x="1599840" y="4500360"/>
              <a:ext cx="2516040" cy="180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 flipH="1">
              <a:off x="1600200" y="3703680"/>
              <a:ext cx="2944800" cy="144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 flipH="1">
              <a:off x="1599840" y="2901960"/>
              <a:ext cx="3373560" cy="144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5" name="Line 8"/>
            <p:cNvSpPr/>
            <p:nvPr/>
          </p:nvSpPr>
          <p:spPr>
            <a:xfrm flipH="1">
              <a:off x="1599840" y="2217600"/>
              <a:ext cx="3747960" cy="1440"/>
            </a:xfrm>
            <a:prstGeom prst="line">
              <a:avLst/>
            </a:prstGeom>
            <a:ln cap="rnd" w="19080">
              <a:solidFill>
                <a:srgbClr val="33533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>
              <a:off x="1812960" y="2217600"/>
              <a:ext cx="1440" cy="68436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1812960" y="2901960"/>
              <a:ext cx="1440" cy="80964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1812960" y="3711600"/>
              <a:ext cx="1440" cy="80964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9" name="Line 12"/>
            <p:cNvSpPr/>
            <p:nvPr/>
          </p:nvSpPr>
          <p:spPr>
            <a:xfrm>
              <a:off x="1812960" y="4521240"/>
              <a:ext cx="1440" cy="80928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0" name="Line 13"/>
            <p:cNvSpPr/>
            <p:nvPr/>
          </p:nvSpPr>
          <p:spPr>
            <a:xfrm>
              <a:off x="1812960" y="5330520"/>
              <a:ext cx="1440" cy="746280"/>
            </a:xfrm>
            <a:prstGeom prst="line">
              <a:avLst/>
            </a:prstGeom>
            <a:ln w="9360">
              <a:solidFill>
                <a:srgbClr val="3353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1866240" y="2408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1866240" y="3200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3" name="Text Box 16"/>
            <p:cNvSpPr/>
            <p:nvPr/>
          </p:nvSpPr>
          <p:spPr>
            <a:xfrm>
              <a:off x="1866240" y="3989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4" name="Text Box 17"/>
            <p:cNvSpPr/>
            <p:nvPr/>
          </p:nvSpPr>
          <p:spPr>
            <a:xfrm>
              <a:off x="1866240" y="4781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1866240" y="5572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7094520" y="4905360"/>
              <a:ext cx="803160" cy="1189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7" name="Freeform 20"/>
            <p:cNvSpPr/>
            <p:nvPr/>
          </p:nvSpPr>
          <p:spPr>
            <a:xfrm>
              <a:off x="3711600" y="4905360"/>
              <a:ext cx="3738600" cy="506160"/>
            </a:xfrm>
            <a:custGeom>
              <a:avLst/>
              <a:gdLst>
                <a:gd name="textAreaLeft" fmla="*/ 0 w 3738600"/>
                <a:gd name="textAreaRight" fmla="*/ 3738960 w 37386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8" name="Freeform 21"/>
            <p:cNvSpPr/>
            <p:nvPr/>
          </p:nvSpPr>
          <p:spPr>
            <a:xfrm>
              <a:off x="3348000" y="5410080"/>
              <a:ext cx="4127400" cy="685800"/>
            </a:xfrm>
            <a:custGeom>
              <a:avLst/>
              <a:gdLst>
                <a:gd name="textAreaLeft" fmla="*/ 0 w 4127400"/>
                <a:gd name="textAreaRight" fmla="*/ 4127760 w 41274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9" name="Freeform 22"/>
            <p:cNvSpPr/>
            <p:nvPr/>
          </p:nvSpPr>
          <p:spPr>
            <a:xfrm>
              <a:off x="6676920" y="4232160"/>
              <a:ext cx="708120" cy="107640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0" name="Freeform 23"/>
            <p:cNvSpPr/>
            <p:nvPr/>
          </p:nvSpPr>
          <p:spPr>
            <a:xfrm>
              <a:off x="4137120" y="4232160"/>
              <a:ext cx="2808360" cy="37944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1" name="Freeform 24"/>
            <p:cNvSpPr/>
            <p:nvPr/>
          </p:nvSpPr>
          <p:spPr>
            <a:xfrm>
              <a:off x="3781440" y="4609800"/>
              <a:ext cx="3260880" cy="698760"/>
            </a:xfrm>
            <a:custGeom>
              <a:avLst/>
              <a:gdLst>
                <a:gd name="textAreaLeft" fmla="*/ 0 w 3260880"/>
                <a:gd name="textAreaRight" fmla="*/ 3261240 w 326088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2" name="Freeform 25"/>
            <p:cNvSpPr/>
            <p:nvPr/>
          </p:nvSpPr>
          <p:spPr>
            <a:xfrm>
              <a:off x="6257880" y="3566880"/>
              <a:ext cx="620640" cy="9352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3" name="Freeform 26"/>
            <p:cNvSpPr/>
            <p:nvPr/>
          </p:nvSpPr>
          <p:spPr>
            <a:xfrm>
              <a:off x="4559400" y="3566880"/>
              <a:ext cx="1874880" cy="252360"/>
            </a:xfrm>
            <a:custGeom>
              <a:avLst/>
              <a:gdLst>
                <a:gd name="textAreaLeft" fmla="*/ 0 w 1874880"/>
                <a:gd name="textAreaRight" fmla="*/ 1875240 w 187488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4" name="Freeform 27"/>
            <p:cNvSpPr/>
            <p:nvPr/>
          </p:nvSpPr>
          <p:spPr>
            <a:xfrm>
              <a:off x="4197240" y="3817800"/>
              <a:ext cx="2427480" cy="684360"/>
            </a:xfrm>
            <a:custGeom>
              <a:avLst/>
              <a:gdLst>
                <a:gd name="textAreaLeft" fmla="*/ 0 w 2427480"/>
                <a:gd name="textAreaRight" fmla="*/ 2427840 w 24274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5" name="Freeform 28"/>
            <p:cNvSpPr/>
            <p:nvPr/>
          </p:nvSpPr>
          <p:spPr>
            <a:xfrm>
              <a:off x="5834160" y="2892240"/>
              <a:ext cx="533160" cy="812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6" name="Freeform 29"/>
            <p:cNvSpPr/>
            <p:nvPr/>
          </p:nvSpPr>
          <p:spPr>
            <a:xfrm>
              <a:off x="4987800" y="2892240"/>
              <a:ext cx="936720" cy="12240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7" name="Freeform 30"/>
            <p:cNvSpPr/>
            <p:nvPr/>
          </p:nvSpPr>
          <p:spPr>
            <a:xfrm>
              <a:off x="4619520" y="3012840"/>
              <a:ext cx="1581120" cy="69228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692280"/>
                <a:gd name="textAreaBottom" fmla="*/ 692280 h 69228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8" name="Freeform 31"/>
            <p:cNvSpPr/>
            <p:nvPr/>
          </p:nvSpPr>
          <p:spPr>
            <a:xfrm>
              <a:off x="5407200" y="2217600"/>
              <a:ext cx="450720" cy="68904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59" name="Freeform 32"/>
            <p:cNvSpPr/>
            <p:nvPr/>
          </p:nvSpPr>
          <p:spPr>
            <a:xfrm>
              <a:off x="5040360" y="2217600"/>
              <a:ext cx="733320" cy="68904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0" name="Text Box 33"/>
            <p:cNvSpPr/>
            <p:nvPr/>
          </p:nvSpPr>
          <p:spPr>
            <a:xfrm>
              <a:off x="5146920" y="25844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1" name="Text Box 34"/>
            <p:cNvSpPr/>
            <p:nvPr/>
          </p:nvSpPr>
          <p:spPr>
            <a:xfrm>
              <a:off x="5146920" y="3309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2" name="Text Box 35"/>
            <p:cNvSpPr/>
            <p:nvPr/>
          </p:nvSpPr>
          <p:spPr>
            <a:xfrm>
              <a:off x="5146920" y="4100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3" name="Text Box 36"/>
            <p:cNvSpPr/>
            <p:nvPr/>
          </p:nvSpPr>
          <p:spPr>
            <a:xfrm>
              <a:off x="5146920" y="4890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4" name="Text Box 37"/>
            <p:cNvSpPr/>
            <p:nvPr/>
          </p:nvSpPr>
          <p:spPr>
            <a:xfrm>
              <a:off x="5146920" y="5681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Arial"/>
                  <a:ea typeface="宋体"/>
                </a:rPr>
                <a:t>Text</a:t>
              </a:r>
              <a:endParaRPr b="1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565" name="Text Box 38"/>
          <p:cNvSpPr/>
          <p:nvPr/>
        </p:nvSpPr>
        <p:spPr>
          <a:xfrm>
            <a:off x="1143000" y="2286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在此处输入标题内容</a:t>
            </a:r>
            <a:endParaRPr b="1" lang="en-US" sz="2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WordArt 3"/>
          <p:cNvSpPr txBox="1"/>
          <p:nvPr/>
        </p:nvSpPr>
        <p:spPr>
          <a:xfrm>
            <a:off x="533520" y="2133720"/>
            <a:ext cx="3733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33"/>
                </a:solidFill>
                <a:latin typeface="华文行楷"/>
              </a:rPr>
              <a:t>谢谢观赏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33"/>
              </a:solidFill>
              <a:latin typeface="华文行楷"/>
              <a:ea typeface="华文行楷"/>
            </a:endParaRPr>
          </a:p>
        </p:txBody>
      </p:sp>
      <p:sp>
        <p:nvSpPr>
          <p:cNvPr id="567" name="矩形 3"/>
          <p:cNvSpPr/>
          <p:nvPr/>
        </p:nvSpPr>
        <p:spPr>
          <a:xfrm>
            <a:off x="3936960" y="5486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6:30:40Z</dcterms:created>
  <dc:creator>Sung Ha, Park</dc:creator>
  <dc:description/>
  <cp:keywords/>
  <dc:language>en-US</dc:language>
  <cp:lastModifiedBy>王玉清</cp:lastModifiedBy>
  <dcterms:modified xsi:type="dcterms:W3CDTF">2016-02-21T03:31:32Z</dcterms:modified>
  <cp:revision>18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